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68832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560" y="4901040"/>
            <a:ext cx="68832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560" y="490104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52840" y="490104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52960" y="358092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0360" y="358092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560" y="490104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352960" y="490104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680360" y="490104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560" y="3580920"/>
            <a:ext cx="688320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68832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480" y="14400"/>
            <a:ext cx="90486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560" y="490104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52840" y="490104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560" y="4901040"/>
            <a:ext cx="68832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2840" cy="68454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560" y="3580920"/>
            <a:ext cx="68832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17040" indent="-205560">
              <a:spcBef>
                <a:spcPts val="751"/>
              </a:spcBef>
              <a:buClr>
                <a:srgbClr val="fe9b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2" marL="1028520" indent="-205560">
              <a:spcBef>
                <a:spcPts val="7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388520" indent="-154080">
              <a:spcBef>
                <a:spcPts val="751"/>
              </a:spcBef>
              <a:buClr>
                <a:srgbClr val="51d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4" marL="1800000" indent="-154080">
              <a:spcBef>
                <a:spcPts val="751"/>
              </a:spcBef>
              <a:buClr>
                <a:srgbClr val="51d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5" marL="1800000" indent="-154080">
              <a:spcBef>
                <a:spcPts val="7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6" marL="1800000" indent="-154080">
              <a:spcBef>
                <a:spcPts val="7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533520"/>
            <a:ext cx="90550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lgèbre de Bool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68832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4800" y="646200"/>
            <a:ext cx="7880400" cy="59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éfinitions :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f0e30"/>
                </a:solidFill>
                <a:latin typeface="Arial"/>
              </a:rPr>
              <a:t>Les circuits combinatoires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ont des circuits idéalisés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signaux de sortie ne dépendent que des signaux d’entrée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La fonction logique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’un circuit combinatoire peut se définir par un tableau de correspondance (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able de vérité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) entre les états d’entrée et les états de sortie. Un état est la combinaison des valeurs prises par les entrées (resp.. sortie)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table de vérité d’une fonction de n variables a autant de lignes que d’états d’entrée, soit 2</a:t>
            </a:r>
            <a:r>
              <a:rPr b="0" lang="fr-FR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minterm (maxterm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st le produit (somme) logique de toutes les variables d’entrée 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onctions logiques de 2 variabl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4360" y="1311120"/>
          <a:ext cx="7651440" cy="40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11120"/>
                    <a:ext cx="76514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7149960" y="1390680"/>
            <a:ext cx="158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40560" y="1390680"/>
            <a:ext cx="4824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4520" y="1390680"/>
            <a:ext cx="158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40360" y="1390680"/>
            <a:ext cx="158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30920" y="1390680"/>
            <a:ext cx="158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59200" y="1390680"/>
            <a:ext cx="4824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1880" y="129528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Théorèmes fondamentaux de l’algèbre de Bool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38080" y="1295280"/>
            <a:ext cx="7232400" cy="4324320"/>
            <a:chOff x="838080" y="1295280"/>
            <a:chExt cx="7232400" cy="4324320"/>
          </a:xfrm>
        </p:grpSpPr>
        <p:graphicFrame>
          <p:nvGraphicFramePr>
            <p:cNvPr id="55" name=""/>
            <p:cNvGraphicFramePr/>
            <p:nvPr/>
          </p:nvGraphicFramePr>
          <p:xfrm>
            <a:off x="838080" y="1295280"/>
            <a:ext cx="7224480" cy="43243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295280"/>
                      <a:ext cx="7224480" cy="4324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414141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7205400" y="1733400"/>
              <a:ext cx="190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545240" y="4910040"/>
              <a:ext cx="1890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87760" y="1733400"/>
              <a:ext cx="188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70240" y="4910040"/>
              <a:ext cx="190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81840" y="4910040"/>
              <a:ext cx="188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14880" y="4910040"/>
              <a:ext cx="392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27400" y="4910040"/>
              <a:ext cx="682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454720" y="4896000"/>
            <a:ext cx="3110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9T18:16:06Z</dcterms:created>
  <dc:creator>dupont</dc:creator>
  <dc:description/>
  <dc:language>en-US</dc:language>
  <cp:lastModifiedBy>Denis Dupont</cp:lastModifiedBy>
  <cp:lastPrinted>2000-02-04T14:13:27Z</cp:lastPrinted>
  <dcterms:modified xsi:type="dcterms:W3CDTF">2004-01-29T13:17:44Z</dcterms:modified>
  <cp:revision>19</cp:revision>
  <dc:subject/>
  <dc:title>Les fonctions logiques : simplification</dc:title>
</cp:coreProperties>
</file>