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560" y="490104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5284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529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3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5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3529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6803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480" y="14400"/>
            <a:ext cx="90486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284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2840" cy="6845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17040" indent="-205560">
              <a:spcBef>
                <a:spcPts val="751"/>
              </a:spcBef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388520" indent="-154080">
              <a:spcBef>
                <a:spcPts val="75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4" marL="1800000" indent="-154080">
              <a:spcBef>
                <a:spcPts val="75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5" marL="1800000" indent="-15408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6" marL="1800000" indent="-15408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533520"/>
            <a:ext cx="90550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14640" y="901800"/>
            <a:ext cx="2895480" cy="25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emultiplexe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ultiplexe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écode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de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Démultiplexeur à 4 sorti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230440" y="243360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229360" y="3517920"/>
            <a:ext cx="1009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238360" y="457524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444920" y="1549440"/>
            <a:ext cx="3175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238360" y="140976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847680" y="1320840"/>
            <a:ext cx="917640" cy="554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342880" y="2692440"/>
            <a:ext cx="102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74720" y="24620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00480" y="593244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375080" y="5162400"/>
            <a:ext cx="177840" cy="304920"/>
            <a:chOff x="4375080" y="5162400"/>
            <a:chExt cx="177840" cy="304920"/>
          </a:xfrm>
        </p:grpSpPr>
        <p:sp>
          <p:nvSpPr>
            <p:cNvPr id="453" name=""/>
            <p:cNvSpPr/>
            <p:nvPr/>
          </p:nvSpPr>
          <p:spPr>
            <a:xfrm>
              <a:off x="4375080" y="52513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25840" y="51624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886200" y="1320480"/>
            <a:ext cx="0" cy="38480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790800" y="5137200"/>
            <a:ext cx="177840" cy="304920"/>
            <a:chOff x="3790800" y="5137200"/>
            <a:chExt cx="177840" cy="304920"/>
          </a:xfrm>
        </p:grpSpPr>
        <p:sp>
          <p:nvSpPr>
            <p:cNvPr id="462" name=""/>
            <p:cNvSpPr/>
            <p:nvPr/>
          </p:nvSpPr>
          <p:spPr>
            <a:xfrm>
              <a:off x="3790800" y="52261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41920" y="51372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98840" y="56008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3873600" y="54543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57880" y="1574640"/>
            <a:ext cx="0" cy="3543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95800" y="263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95800" y="32068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95800" y="211464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1080" y="592920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01240" y="21319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26440" y="3205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94760" y="42973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07360" y="1122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2920" y="60948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rifions le fonct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Démultiplexeur à 4 sorti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230440" y="243360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229360" y="3517920"/>
            <a:ext cx="1009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238360" y="457524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444920" y="1549440"/>
            <a:ext cx="3175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219280" y="1409760"/>
            <a:ext cx="104796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3847680" y="1320840"/>
            <a:ext cx="917640" cy="554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344400" y="1155600"/>
            <a:ext cx="1430280" cy="504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52680" y="1193760"/>
            <a:ext cx="0" cy="312408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323800" y="2692440"/>
            <a:ext cx="106668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4720" y="24620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00480" y="593244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375080" y="5162400"/>
            <a:ext cx="177840" cy="304920"/>
            <a:chOff x="4375080" y="5162400"/>
            <a:chExt cx="177840" cy="304920"/>
          </a:xfrm>
        </p:grpSpPr>
        <p:sp>
          <p:nvSpPr>
            <p:cNvPr id="513" name=""/>
            <p:cNvSpPr/>
            <p:nvPr/>
          </p:nvSpPr>
          <p:spPr>
            <a:xfrm>
              <a:off x="4375080" y="52513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25840" y="51624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886200" y="1320480"/>
            <a:ext cx="0" cy="38480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790800" y="5137200"/>
            <a:ext cx="177840" cy="304920"/>
            <a:chOff x="3790800" y="5137200"/>
            <a:chExt cx="177840" cy="304920"/>
          </a:xfrm>
        </p:grpSpPr>
        <p:sp>
          <p:nvSpPr>
            <p:cNvPr id="522" name=""/>
            <p:cNvSpPr/>
            <p:nvPr/>
          </p:nvSpPr>
          <p:spPr>
            <a:xfrm>
              <a:off x="3790800" y="52261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41920" y="51372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98840" y="56008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873600" y="54543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57880" y="1574640"/>
            <a:ext cx="0" cy="3543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95800" y="263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95800" y="32068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95800" y="211464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1080" y="592920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501240" y="21319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26440" y="32050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94760" y="42973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07360" y="1122480"/>
            <a:ext cx="93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S1=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ultiplex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7760" y="824040"/>
            <a:ext cx="80708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finition : On appelle multiplexeur tout système combinatoire réalisant la fonction universelle de n variables qui correspondent aux n lignes de sé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sortie sélectionne une seule des entr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 flipV="1">
            <a:off x="2833560" y="215532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833560" y="323964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33560" y="4308480"/>
            <a:ext cx="1617840" cy="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33560" y="1143000"/>
            <a:ext cx="16178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ultiplexeur à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464000" y="15494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866760" y="13399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00480" y="59324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375080" y="5162400"/>
            <a:ext cx="177840" cy="304920"/>
            <a:chOff x="4375080" y="5162400"/>
            <a:chExt cx="177840" cy="304920"/>
          </a:xfrm>
        </p:grpSpPr>
        <p:sp>
          <p:nvSpPr>
            <p:cNvPr id="573" name=""/>
            <p:cNvSpPr/>
            <p:nvPr/>
          </p:nvSpPr>
          <p:spPr>
            <a:xfrm>
              <a:off x="4375080" y="52513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25840" y="51624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886200" y="13395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790800" y="5137200"/>
            <a:ext cx="177840" cy="304920"/>
            <a:chOff x="3790800" y="5137200"/>
            <a:chExt cx="177840" cy="304920"/>
          </a:xfrm>
        </p:grpSpPr>
        <p:sp>
          <p:nvSpPr>
            <p:cNvPr id="582" name=""/>
            <p:cNvSpPr/>
            <p:nvPr/>
          </p:nvSpPr>
          <p:spPr>
            <a:xfrm>
              <a:off x="3790800" y="52261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1920" y="51372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98840" y="56008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873600" y="54543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57880" y="15559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0720" y="5929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48120" y="96516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90120" y="2911320"/>
            <a:ext cx="2101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x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71960" y="1954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97520" y="30272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65840" y="4119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78440" y="9446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551640" y="26654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87880" y="28954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5280" y="7254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e ex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5800" y="34686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93680" y="3429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12040" y="6135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ô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V="1">
            <a:off x="2833560" y="215532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833560" y="323964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33560" y="4308480"/>
            <a:ext cx="1617840" cy="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33560" y="1143000"/>
            <a:ext cx="16178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ultiplexeur à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64000" y="15494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3866760" y="13399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00480" y="593244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886200" y="13395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57880" y="15559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60720" y="5929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48120" y="96516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71960" y="1954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97520" y="30272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b03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265840" y="4119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78440" y="9446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1640" y="26654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87880" y="28954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61080" y="592920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9080" y="5857920"/>
            <a:ext cx="1527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70000" y="6121440"/>
            <a:ext cx="965160" cy="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390120" y="2911320"/>
            <a:ext cx="2101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x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 flipV="1">
            <a:off x="2833560" y="215532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833560" y="323964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33560" y="4308480"/>
            <a:ext cx="1617840" cy="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52640" y="1143000"/>
            <a:ext cx="1579680" cy="468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ultiplexeur à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464000" y="15494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3866760" y="13399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300480" y="593244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3886200" y="13395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57880" y="15559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0720" y="5929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8120" y="96516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78440" y="9446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551640" y="26654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06960" y="2895480"/>
            <a:ext cx="45720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61080" y="592920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9080" y="5857920"/>
            <a:ext cx="1527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070000" y="6121440"/>
            <a:ext cx="965160" cy="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086280" y="1168560"/>
            <a:ext cx="2895480" cy="1701720"/>
          </a:xfrm>
          <a:prstGeom prst="line">
            <a:avLst/>
          </a:prstGeom>
          <a:ln w="50760">
            <a:solidFill>
              <a:srgbClr val="ff50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71960" y="1954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97520" y="30272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b03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65840" y="4119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390120" y="2911320"/>
            <a:ext cx="2101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x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 flipV="1">
            <a:off x="2833560" y="215532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833560" y="323964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33560" y="4308480"/>
            <a:ext cx="1617840" cy="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33560" y="1143000"/>
            <a:ext cx="16178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ultiplexeur à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4464000" y="15494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3866760" y="13399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300480" y="593244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3886200" y="13395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57880" y="15559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60720" y="5929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48120" y="96516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78440" y="9446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51640" y="26654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987880" y="28954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1080" y="592920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9080" y="5857920"/>
            <a:ext cx="1527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070000" y="6121440"/>
            <a:ext cx="965160" cy="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271960" y="1954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97520" y="30272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b03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65840" y="4119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390120" y="2911320"/>
            <a:ext cx="2101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x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 flipV="1">
            <a:off x="2852640" y="2136240"/>
            <a:ext cx="1579680" cy="55800"/>
          </a:xfrm>
          <a:prstGeom prst="line">
            <a:avLst/>
          </a:prstGeom>
          <a:ln w="5076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2833560" y="323964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833560" y="4308480"/>
            <a:ext cx="1617840" cy="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33560" y="1143000"/>
            <a:ext cx="16178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ultiplexeur à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4464000" y="15494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 flipV="1">
            <a:off x="3866760" y="13399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00480" y="593244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3886200" y="13395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457880" y="15559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0720" y="5929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48120" y="96516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551640" y="26654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06960" y="2895480"/>
            <a:ext cx="457200" cy="0"/>
          </a:xfrm>
          <a:prstGeom prst="line">
            <a:avLst/>
          </a:prstGeom>
          <a:ln w="5076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61080" y="592920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69080" y="5857920"/>
            <a:ext cx="1527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70000" y="6121440"/>
            <a:ext cx="965160" cy="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073320" y="2184480"/>
            <a:ext cx="2882880" cy="673200"/>
          </a:xfrm>
          <a:prstGeom prst="line">
            <a:avLst/>
          </a:prstGeom>
          <a:ln w="50760">
            <a:solidFill>
              <a:srgbClr val="4141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78440" y="9446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71960" y="1954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297520" y="30272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b03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65840" y="4119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390120" y="2911320"/>
            <a:ext cx="2101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x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ultiplexeur à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468680" y="20336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022000" y="2543040"/>
            <a:ext cx="940680" cy="704880"/>
            <a:chOff x="5022000" y="2543040"/>
            <a:chExt cx="940680" cy="704880"/>
          </a:xfrm>
        </p:grpSpPr>
        <p:sp>
          <p:nvSpPr>
            <p:cNvPr id="820" name=""/>
            <p:cNvSpPr/>
            <p:nvPr/>
          </p:nvSpPr>
          <p:spPr>
            <a:xfrm>
              <a:off x="5022000" y="2543040"/>
              <a:ext cx="92592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0800000">
              <a:off x="5035680" y="254988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 flipH="1">
            <a:off x="3790800" y="2560680"/>
            <a:ext cx="66528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549240" y="2362320"/>
            <a:ext cx="9097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67240" y="31179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016520" y="31194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10800000">
            <a:off x="4030920" y="31262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4184640" y="36450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3206520" y="34354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76600" y="41752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26600" y="41767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10800000">
            <a:off x="4040280" y="41835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3816000" y="4692600"/>
            <a:ext cx="6476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206520" y="4503600"/>
            <a:ext cx="126036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76600" y="10098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026600" y="10112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0800000">
            <a:off x="4040280" y="10180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4184640" y="15368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587400" y="13273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833560" y="215532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833560" y="323964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33560" y="4308480"/>
            <a:ext cx="1617840" cy="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33560" y="1143000"/>
            <a:ext cx="16178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021120" y="5919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095720" y="5149800"/>
            <a:ext cx="177840" cy="304920"/>
            <a:chOff x="4095720" y="5149800"/>
            <a:chExt cx="177840" cy="304920"/>
          </a:xfrm>
        </p:grpSpPr>
        <p:sp>
          <p:nvSpPr>
            <p:cNvPr id="845" name=""/>
            <p:cNvSpPr/>
            <p:nvPr/>
          </p:nvSpPr>
          <p:spPr>
            <a:xfrm>
              <a:off x="4095720" y="52387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46480" y="51498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797280" y="25718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549600" y="23176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740040" y="46544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03760" y="56134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4178160" y="54669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3606840" y="13269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511440" y="5124600"/>
            <a:ext cx="177840" cy="304560"/>
            <a:chOff x="3511440" y="5124600"/>
            <a:chExt cx="177840" cy="304560"/>
          </a:xfrm>
        </p:grpSpPr>
        <p:sp>
          <p:nvSpPr>
            <p:cNvPr id="854" name=""/>
            <p:cNvSpPr/>
            <p:nvPr/>
          </p:nvSpPr>
          <p:spPr>
            <a:xfrm>
              <a:off x="3511440" y="5213520"/>
              <a:ext cx="177840" cy="21564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62200" y="5124600"/>
              <a:ext cx="6372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3213000" y="3448080"/>
            <a:ext cx="0" cy="248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121280" y="358776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19480" y="558792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3594240" y="54417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78160" y="1542960"/>
            <a:ext cx="0" cy="358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156120" y="445140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681360" y="59166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551640" y="26654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018680" y="2035080"/>
            <a:ext cx="940680" cy="704880"/>
            <a:chOff x="4018680" y="2035080"/>
            <a:chExt cx="940680" cy="704880"/>
          </a:xfrm>
        </p:grpSpPr>
        <p:sp>
          <p:nvSpPr>
            <p:cNvPr id="865" name=""/>
            <p:cNvSpPr/>
            <p:nvPr/>
          </p:nvSpPr>
          <p:spPr>
            <a:xfrm>
              <a:off x="4018680" y="2035080"/>
              <a:ext cx="92592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10800000">
              <a:off x="4032360" y="204192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101200" y="2543040"/>
            <a:ext cx="628200" cy="704880"/>
            <a:chOff x="5101200" y="2543040"/>
            <a:chExt cx="628200" cy="704880"/>
          </a:xfrm>
        </p:grpSpPr>
        <p:sp>
          <p:nvSpPr>
            <p:cNvPr id="868" name=""/>
            <p:cNvSpPr/>
            <p:nvPr/>
          </p:nvSpPr>
          <p:spPr>
            <a:xfrm>
              <a:off x="5101200" y="2543040"/>
              <a:ext cx="61488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10800000">
              <a:off x="5113440" y="2549880"/>
              <a:ext cx="61596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22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228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4975200" y="2378160"/>
            <a:ext cx="301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984920" y="1320840"/>
            <a:ext cx="38088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295960" y="23814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378400" y="275904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5372280" y="1317600"/>
            <a:ext cx="0" cy="1434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5289480" y="294948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4950000" y="3505320"/>
            <a:ext cx="32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4959000" y="4559400"/>
            <a:ext cx="40644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5270400" y="2939760"/>
            <a:ext cx="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91000" y="3035160"/>
            <a:ext cx="266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5359320" y="304128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289480" y="284472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987880" y="28954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271960" y="1954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97520" y="30272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65840" y="4119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78440" y="9446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16000" y="7254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e in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5800" y="34686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393680" y="3429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12040" y="6135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ô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ultiplexeur à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68680" y="20336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022000" y="2543040"/>
            <a:ext cx="940680" cy="704880"/>
            <a:chOff x="5022000" y="2543040"/>
            <a:chExt cx="940680" cy="704880"/>
          </a:xfrm>
        </p:grpSpPr>
        <p:sp>
          <p:nvSpPr>
            <p:cNvPr id="894" name=""/>
            <p:cNvSpPr/>
            <p:nvPr/>
          </p:nvSpPr>
          <p:spPr>
            <a:xfrm>
              <a:off x="5022000" y="2543040"/>
              <a:ext cx="92592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0800000">
              <a:off x="5035680" y="254988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 flipH="1">
            <a:off x="3790800" y="2560680"/>
            <a:ext cx="66528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3549240" y="2362320"/>
            <a:ext cx="9097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467240" y="31179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016520" y="31194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rot="10800000">
            <a:off x="4030920" y="31262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184640" y="36450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3206520" y="34354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476600" y="41752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026600" y="41767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10800000">
            <a:off x="4040280" y="41835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 flipV="1">
            <a:off x="3816000" y="4692600"/>
            <a:ext cx="6476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3206520" y="4503600"/>
            <a:ext cx="126036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76600" y="10098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026600" y="10112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rot="10800000">
            <a:off x="4040280" y="10180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4184640" y="15368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3587400" y="13273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021120" y="5919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4095720" y="5149800"/>
            <a:ext cx="177840" cy="304920"/>
            <a:chOff x="4095720" y="5149800"/>
            <a:chExt cx="177840" cy="304920"/>
          </a:xfrm>
        </p:grpSpPr>
        <p:sp>
          <p:nvSpPr>
            <p:cNvPr id="915" name=""/>
            <p:cNvSpPr/>
            <p:nvPr/>
          </p:nvSpPr>
          <p:spPr>
            <a:xfrm>
              <a:off x="4095720" y="52387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46480" y="51498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3797280" y="25718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549600" y="23176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740040" y="46544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03760" y="56134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178160" y="54669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3606840" y="13269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3511440" y="5124600"/>
            <a:ext cx="177840" cy="304560"/>
            <a:chOff x="3511440" y="5124600"/>
            <a:chExt cx="177840" cy="304560"/>
          </a:xfrm>
        </p:grpSpPr>
        <p:sp>
          <p:nvSpPr>
            <p:cNvPr id="924" name=""/>
            <p:cNvSpPr/>
            <p:nvPr/>
          </p:nvSpPr>
          <p:spPr>
            <a:xfrm>
              <a:off x="3511440" y="5213520"/>
              <a:ext cx="177840" cy="21564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562200" y="5124600"/>
              <a:ext cx="6372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3213000" y="3448080"/>
            <a:ext cx="0" cy="248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121280" y="358776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19480" y="558792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3594240" y="54417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78160" y="1542960"/>
            <a:ext cx="0" cy="358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156120" y="445140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681360" y="59166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551640" y="26654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4018680" y="2035080"/>
            <a:ext cx="940680" cy="704880"/>
            <a:chOff x="4018680" y="2035080"/>
            <a:chExt cx="940680" cy="704880"/>
          </a:xfrm>
        </p:grpSpPr>
        <p:sp>
          <p:nvSpPr>
            <p:cNvPr id="935" name=""/>
            <p:cNvSpPr/>
            <p:nvPr/>
          </p:nvSpPr>
          <p:spPr>
            <a:xfrm>
              <a:off x="4018680" y="2035080"/>
              <a:ext cx="92592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10800000">
              <a:off x="4032360" y="204192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5101200" y="2543040"/>
            <a:ext cx="628200" cy="704880"/>
            <a:chOff x="5101200" y="2543040"/>
            <a:chExt cx="628200" cy="704880"/>
          </a:xfrm>
        </p:grpSpPr>
        <p:sp>
          <p:nvSpPr>
            <p:cNvPr id="938" name=""/>
            <p:cNvSpPr/>
            <p:nvPr/>
          </p:nvSpPr>
          <p:spPr>
            <a:xfrm>
              <a:off x="5101200" y="2543040"/>
              <a:ext cx="61488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0800000">
              <a:off x="5113440" y="2549880"/>
              <a:ext cx="61596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22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228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4975200" y="2378160"/>
            <a:ext cx="301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984920" y="1320840"/>
            <a:ext cx="38088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5295960" y="23814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5378400" y="275904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5372280" y="1317600"/>
            <a:ext cx="0" cy="1434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5289480" y="294948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4950000" y="3505320"/>
            <a:ext cx="32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4959000" y="4559400"/>
            <a:ext cx="40644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5270400" y="2939760"/>
            <a:ext cx="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91000" y="3035160"/>
            <a:ext cx="266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359320" y="304128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289480" y="284472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987880" y="28954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2833560" y="215532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2833560" y="323964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33560" y="4308480"/>
            <a:ext cx="1617840" cy="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33560" y="1143000"/>
            <a:ext cx="1617840" cy="4680"/>
          </a:xfrm>
          <a:prstGeom prst="line">
            <a:avLst/>
          </a:prstGeom>
          <a:ln w="1260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278440" y="9446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71960" y="1954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97520" y="30272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b03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265840" y="4119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32920" y="60948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rifions le fonct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bjectif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tudier des circuits élémentaires indispensables à la construction du chemin de données d ’un ordinateur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ultiplexeur à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468680" y="20336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5022000" y="2543040"/>
            <a:ext cx="940680" cy="704880"/>
            <a:chOff x="5022000" y="2543040"/>
            <a:chExt cx="940680" cy="704880"/>
          </a:xfrm>
        </p:grpSpPr>
        <p:sp>
          <p:nvSpPr>
            <p:cNvPr id="965" name=""/>
            <p:cNvSpPr/>
            <p:nvPr/>
          </p:nvSpPr>
          <p:spPr>
            <a:xfrm>
              <a:off x="5022000" y="2543040"/>
              <a:ext cx="92592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10800000">
              <a:off x="5035680" y="254988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 flipH="1">
            <a:off x="3790800" y="2560680"/>
            <a:ext cx="66528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549240" y="2362320"/>
            <a:ext cx="9097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67240" y="31179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016520" y="31194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rot="10800000">
            <a:off x="4030920" y="31262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184640" y="36450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206520" y="34354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476600" y="41752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026600" y="41767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rot="10800000">
            <a:off x="4040280" y="41835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3816000" y="4692600"/>
            <a:ext cx="6476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206520" y="4503600"/>
            <a:ext cx="126036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76600" y="10098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026600" y="10112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10800000">
            <a:off x="4040280" y="10180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165560" y="1536840"/>
            <a:ext cx="3175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3568320" y="1308240"/>
            <a:ext cx="917640" cy="554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833560" y="1143000"/>
            <a:ext cx="1617840" cy="4680"/>
          </a:xfrm>
          <a:prstGeom prst="line">
            <a:avLst/>
          </a:prstGeom>
          <a:ln w="1260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4095720" y="5149800"/>
            <a:ext cx="177840" cy="304920"/>
            <a:chOff x="4095720" y="5149800"/>
            <a:chExt cx="177840" cy="304920"/>
          </a:xfrm>
        </p:grpSpPr>
        <p:sp>
          <p:nvSpPr>
            <p:cNvPr id="986" name=""/>
            <p:cNvSpPr/>
            <p:nvPr/>
          </p:nvSpPr>
          <p:spPr>
            <a:xfrm>
              <a:off x="4095720" y="52387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46480" y="51498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3797280" y="25718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549600" y="23176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40040" y="46544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03760" y="56134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4178160" y="54669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606840" y="1307880"/>
            <a:ext cx="0" cy="38480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511440" y="5124600"/>
            <a:ext cx="177840" cy="304560"/>
            <a:chOff x="3511440" y="5124600"/>
            <a:chExt cx="177840" cy="304560"/>
          </a:xfrm>
        </p:grpSpPr>
        <p:sp>
          <p:nvSpPr>
            <p:cNvPr id="995" name=""/>
            <p:cNvSpPr/>
            <p:nvPr/>
          </p:nvSpPr>
          <p:spPr>
            <a:xfrm>
              <a:off x="3511440" y="5213520"/>
              <a:ext cx="177840" cy="21564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62200" y="5124600"/>
              <a:ext cx="6372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3213000" y="3448080"/>
            <a:ext cx="0" cy="248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21280" y="358776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219480" y="558792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3594240" y="54417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178160" y="1562040"/>
            <a:ext cx="0" cy="3543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156120" y="445140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551640" y="26654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4018680" y="2035080"/>
            <a:ext cx="940680" cy="704880"/>
            <a:chOff x="4018680" y="2035080"/>
            <a:chExt cx="940680" cy="704880"/>
          </a:xfrm>
        </p:grpSpPr>
        <p:sp>
          <p:nvSpPr>
            <p:cNvPr id="1005" name=""/>
            <p:cNvSpPr/>
            <p:nvPr/>
          </p:nvSpPr>
          <p:spPr>
            <a:xfrm>
              <a:off x="4018680" y="2035080"/>
              <a:ext cx="92592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10800000">
              <a:off x="4032360" y="204192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5101200" y="2543040"/>
            <a:ext cx="628200" cy="704880"/>
            <a:chOff x="5101200" y="2543040"/>
            <a:chExt cx="628200" cy="704880"/>
          </a:xfrm>
        </p:grpSpPr>
        <p:sp>
          <p:nvSpPr>
            <p:cNvPr id="1008" name=""/>
            <p:cNvSpPr/>
            <p:nvPr/>
          </p:nvSpPr>
          <p:spPr>
            <a:xfrm>
              <a:off x="5101200" y="2543040"/>
              <a:ext cx="61488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0800000">
              <a:off x="5113440" y="2549880"/>
              <a:ext cx="61596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22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228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4975200" y="2378160"/>
            <a:ext cx="301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984920" y="1320840"/>
            <a:ext cx="38088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295960" y="23814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378400" y="275904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372280" y="1317600"/>
            <a:ext cx="0" cy="1434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5289480" y="294948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4950000" y="3505320"/>
            <a:ext cx="32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4959000" y="4559400"/>
            <a:ext cx="40644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270400" y="2939760"/>
            <a:ext cx="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391000" y="3035160"/>
            <a:ext cx="266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359320" y="304128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289480" y="284472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987880" y="28954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046680" y="588168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83240" y="587844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9080" y="5857920"/>
            <a:ext cx="1527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070000" y="6121440"/>
            <a:ext cx="965160" cy="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2833560" y="215532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2833560" y="323964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33560" y="4308480"/>
            <a:ext cx="1617840" cy="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278440" y="9446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71960" y="1954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97520" y="30272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b03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265840" y="4119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ultiplexeur à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468680" y="20336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022000" y="2543040"/>
            <a:ext cx="940680" cy="704880"/>
            <a:chOff x="5022000" y="2543040"/>
            <a:chExt cx="940680" cy="704880"/>
          </a:xfrm>
        </p:grpSpPr>
        <p:sp>
          <p:nvSpPr>
            <p:cNvPr id="1037" name=""/>
            <p:cNvSpPr/>
            <p:nvPr/>
          </p:nvSpPr>
          <p:spPr>
            <a:xfrm>
              <a:off x="5022000" y="2543040"/>
              <a:ext cx="92592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10800000">
              <a:off x="5035680" y="254988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H="1">
            <a:off x="3790800" y="2560680"/>
            <a:ext cx="66528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3549240" y="2362320"/>
            <a:ext cx="9097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467240" y="31179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016520" y="31194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0800000">
            <a:off x="4030920" y="31262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4184640" y="36450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 flipV="1">
            <a:off x="3206520" y="34354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476600" y="41752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026600" y="41767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0800000">
            <a:off x="4040280" y="41835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3816000" y="4692600"/>
            <a:ext cx="6476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3206520" y="4503600"/>
            <a:ext cx="126036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476600" y="10098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26600" y="10112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rot="10800000">
            <a:off x="4040280" y="10180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4165560" y="1536840"/>
            <a:ext cx="3175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 flipV="1">
            <a:off x="3568320" y="1308240"/>
            <a:ext cx="917640" cy="554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852640" y="1143000"/>
            <a:ext cx="1579680" cy="468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4095720" y="5149800"/>
            <a:ext cx="177840" cy="304920"/>
            <a:chOff x="4095720" y="5149800"/>
            <a:chExt cx="177840" cy="304920"/>
          </a:xfrm>
        </p:grpSpPr>
        <p:sp>
          <p:nvSpPr>
            <p:cNvPr id="1058" name=""/>
            <p:cNvSpPr/>
            <p:nvPr/>
          </p:nvSpPr>
          <p:spPr>
            <a:xfrm>
              <a:off x="4095720" y="52387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46480" y="51498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3797280" y="25718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49600" y="23176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40040" y="46544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03760" y="56134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78160" y="54669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3606840" y="1307880"/>
            <a:ext cx="0" cy="38480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3511440" y="5124600"/>
            <a:ext cx="177840" cy="304560"/>
            <a:chOff x="3511440" y="5124600"/>
            <a:chExt cx="177840" cy="304560"/>
          </a:xfrm>
        </p:grpSpPr>
        <p:sp>
          <p:nvSpPr>
            <p:cNvPr id="1067" name=""/>
            <p:cNvSpPr/>
            <p:nvPr/>
          </p:nvSpPr>
          <p:spPr>
            <a:xfrm>
              <a:off x="3511440" y="5213520"/>
              <a:ext cx="177840" cy="21564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62200" y="5124600"/>
              <a:ext cx="6372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3213000" y="3448080"/>
            <a:ext cx="0" cy="248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121280" y="358776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19480" y="558792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3594240" y="54417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78160" y="1562040"/>
            <a:ext cx="0" cy="3543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156120" y="445140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551640" y="26654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4018680" y="2035080"/>
            <a:ext cx="940680" cy="704880"/>
            <a:chOff x="4018680" y="2035080"/>
            <a:chExt cx="940680" cy="704880"/>
          </a:xfrm>
        </p:grpSpPr>
        <p:sp>
          <p:nvSpPr>
            <p:cNvPr id="1077" name=""/>
            <p:cNvSpPr/>
            <p:nvPr/>
          </p:nvSpPr>
          <p:spPr>
            <a:xfrm>
              <a:off x="4018680" y="2035080"/>
              <a:ext cx="92592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0800000">
              <a:off x="4032360" y="204192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5101200" y="2543040"/>
            <a:ext cx="628200" cy="704880"/>
            <a:chOff x="5101200" y="2543040"/>
            <a:chExt cx="628200" cy="704880"/>
          </a:xfrm>
        </p:grpSpPr>
        <p:sp>
          <p:nvSpPr>
            <p:cNvPr id="1080" name=""/>
            <p:cNvSpPr/>
            <p:nvPr/>
          </p:nvSpPr>
          <p:spPr>
            <a:xfrm>
              <a:off x="5101200" y="2543040"/>
              <a:ext cx="61488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0800000">
              <a:off x="5113440" y="2549880"/>
              <a:ext cx="61596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22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228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975200" y="2378160"/>
            <a:ext cx="301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003640" y="1320840"/>
            <a:ext cx="343080" cy="324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295960" y="23814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5358960" y="2759040"/>
            <a:ext cx="33012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72280" y="1298520"/>
            <a:ext cx="0" cy="147312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5289480" y="294948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4950000" y="3505320"/>
            <a:ext cx="32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959000" y="4559400"/>
            <a:ext cx="40644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270400" y="2939760"/>
            <a:ext cx="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391000" y="3035160"/>
            <a:ext cx="266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5359320" y="304128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289480" y="284472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006960" y="2895480"/>
            <a:ext cx="45720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46680" y="588168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83240" y="587844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69080" y="5857920"/>
            <a:ext cx="1527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070000" y="6121440"/>
            <a:ext cx="965160" cy="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833560" y="215532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2833560" y="3239640"/>
            <a:ext cx="1617840" cy="1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33560" y="4308480"/>
            <a:ext cx="1617840" cy="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78440" y="9446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271960" y="1954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97520" y="30272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b03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65840" y="4119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écod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47760" y="824040"/>
            <a:ext cx="8070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finition : on appelle décodeur un système combinatoire qui fait correspondre à un code en entrée (sur n lignes) une seule sortie active parmi les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rties possi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écodeur 2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468680" y="20336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467240" y="31179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016520" y="31194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0800000">
            <a:off x="4030920" y="31262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476600" y="41752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026600" y="41767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rot="10800000">
            <a:off x="4040280" y="41835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476600" y="10098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26600" y="10112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10800000">
            <a:off x="4040280" y="10180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4018680" y="2035080"/>
            <a:ext cx="940680" cy="704880"/>
            <a:chOff x="4018680" y="2035080"/>
            <a:chExt cx="940680" cy="704880"/>
          </a:xfrm>
        </p:grpSpPr>
        <p:sp>
          <p:nvSpPr>
            <p:cNvPr id="1121" name=""/>
            <p:cNvSpPr/>
            <p:nvPr/>
          </p:nvSpPr>
          <p:spPr>
            <a:xfrm>
              <a:off x="4018680" y="2035080"/>
              <a:ext cx="92592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10800000">
              <a:off x="4032360" y="204192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3943440" y="2654280"/>
            <a:ext cx="53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549600" y="2146320"/>
            <a:ext cx="9144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84640" y="3733920"/>
            <a:ext cx="26676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295800" y="3225960"/>
            <a:ext cx="11430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43440" y="476244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295800" y="4254480"/>
            <a:ext cx="1143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197240" y="1587600"/>
            <a:ext cx="254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549600" y="1079640"/>
            <a:ext cx="8892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4949640" y="1311120"/>
            <a:ext cx="847800" cy="3225960"/>
            <a:chOff x="4949640" y="1311120"/>
            <a:chExt cx="847800" cy="3225960"/>
          </a:xfrm>
        </p:grpSpPr>
        <p:sp>
          <p:nvSpPr>
            <p:cNvPr id="1132" name=""/>
            <p:cNvSpPr/>
            <p:nvPr/>
          </p:nvSpPr>
          <p:spPr>
            <a:xfrm flipH="1">
              <a:off x="4949640" y="3505320"/>
              <a:ext cx="79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994280" y="453708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025960" y="131112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994280" y="237816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2317680" y="907920"/>
            <a:ext cx="1225800" cy="4229280"/>
            <a:chOff x="2317680" y="907920"/>
            <a:chExt cx="1225800" cy="4229280"/>
          </a:xfrm>
        </p:grpSpPr>
        <p:grpSp>
          <p:nvGrpSpPr>
            <p:cNvPr id="1137" name=""/>
            <p:cNvGrpSpPr/>
            <p:nvPr/>
          </p:nvGrpSpPr>
          <p:grpSpPr>
            <a:xfrm>
              <a:off x="2762280" y="2851200"/>
              <a:ext cx="304920" cy="177840"/>
              <a:chOff x="2762280" y="2851200"/>
              <a:chExt cx="304920" cy="177840"/>
            </a:xfrm>
          </p:grpSpPr>
          <p:sp>
            <p:nvSpPr>
              <p:cNvPr id="1138" name=""/>
              <p:cNvSpPr/>
              <p:nvPr/>
            </p:nvSpPr>
            <p:spPr>
              <a:xfrm rot="5400000">
                <a:off x="2781360" y="2832120"/>
                <a:ext cx="177840" cy="21600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003480" y="2901960"/>
                <a:ext cx="63720" cy="63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3105000" y="2933640"/>
              <a:ext cx="41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317680" y="293364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3480" y="920880"/>
              <a:ext cx="0" cy="41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2577960" y="2533320"/>
              <a:ext cx="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84440" y="2540160"/>
              <a:ext cx="7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301920" y="907920"/>
              <a:ext cx="0" cy="422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2317680" y="293364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36960" y="907920"/>
            <a:ext cx="0" cy="417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2317680" y="3511080"/>
            <a:ext cx="1879560" cy="495720"/>
            <a:chOff x="2317680" y="3511080"/>
            <a:chExt cx="1879560" cy="495720"/>
          </a:xfrm>
        </p:grpSpPr>
        <p:grpSp>
          <p:nvGrpSpPr>
            <p:cNvPr id="1149" name=""/>
            <p:cNvGrpSpPr/>
            <p:nvPr/>
          </p:nvGrpSpPr>
          <p:grpSpPr>
            <a:xfrm>
              <a:off x="2762280" y="3828960"/>
              <a:ext cx="304920" cy="177840"/>
              <a:chOff x="2762280" y="3828960"/>
              <a:chExt cx="304920" cy="177840"/>
            </a:xfrm>
          </p:grpSpPr>
          <p:sp>
            <p:nvSpPr>
              <p:cNvPr id="1150" name=""/>
              <p:cNvSpPr/>
              <p:nvPr/>
            </p:nvSpPr>
            <p:spPr>
              <a:xfrm rot="5400000">
                <a:off x="2781360" y="3809880"/>
                <a:ext cx="177840" cy="21600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003480" y="3879720"/>
                <a:ext cx="63720" cy="63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>
              <a:off x="3105000" y="3911760"/>
              <a:ext cx="109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317680" y="391176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2577960" y="3511080"/>
              <a:ext cx="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84440" y="3517920"/>
              <a:ext cx="1359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4191120" y="895320"/>
            <a:ext cx="0" cy="422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2108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92680" y="470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244680" y="41972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879720" y="3473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338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21280" y="36640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44680" y="318132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244680" y="248292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48624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92680" y="259704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498840" y="20890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86240" y="10476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46480" y="15303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210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839960" y="26398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878120" y="36561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923440" y="1109520"/>
            <a:ext cx="585000" cy="3629880"/>
            <a:chOff x="5923440" y="1109520"/>
            <a:chExt cx="585000" cy="3629880"/>
          </a:xfrm>
        </p:grpSpPr>
        <p:sp>
          <p:nvSpPr>
            <p:cNvPr id="1174" name=""/>
            <p:cNvSpPr/>
            <p:nvPr/>
          </p:nvSpPr>
          <p:spPr>
            <a:xfrm>
              <a:off x="5929560" y="2119320"/>
              <a:ext cx="55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55120" y="3192480"/>
              <a:ext cx="55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23440" y="4284720"/>
              <a:ext cx="55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36040" y="1109520"/>
              <a:ext cx="55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425680" y="86364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45880" y="2962440"/>
            <a:ext cx="1725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od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15280" y="7254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e ex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95800" y="34686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393680" y="342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écodeur 2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8680" y="20336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67240" y="31179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016520" y="31194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10800000">
            <a:off x="4030920" y="31262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476600" y="41752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026600" y="41767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10800000">
            <a:off x="4040280" y="41835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476600" y="10098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026600" y="10112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0800000">
            <a:off x="4040280" y="10180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4018680" y="2035080"/>
            <a:ext cx="940680" cy="704880"/>
            <a:chOff x="4018680" y="2035080"/>
            <a:chExt cx="940680" cy="704880"/>
          </a:xfrm>
        </p:grpSpPr>
        <p:sp>
          <p:nvSpPr>
            <p:cNvPr id="1195" name=""/>
            <p:cNvSpPr/>
            <p:nvPr/>
          </p:nvSpPr>
          <p:spPr>
            <a:xfrm>
              <a:off x="4018680" y="2035080"/>
              <a:ext cx="92592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10800000">
              <a:off x="4032360" y="204192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3943440" y="2654280"/>
            <a:ext cx="53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549600" y="2146320"/>
            <a:ext cx="9144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84640" y="3733920"/>
            <a:ext cx="26676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95800" y="3225960"/>
            <a:ext cx="11430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943440" y="476244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295800" y="4254480"/>
            <a:ext cx="1143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197240" y="1587600"/>
            <a:ext cx="254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49600" y="1079640"/>
            <a:ext cx="8892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4949640" y="1311120"/>
            <a:ext cx="847800" cy="3225960"/>
            <a:chOff x="4949640" y="1311120"/>
            <a:chExt cx="847800" cy="3225960"/>
          </a:xfrm>
        </p:grpSpPr>
        <p:sp>
          <p:nvSpPr>
            <p:cNvPr id="1206" name=""/>
            <p:cNvSpPr/>
            <p:nvPr/>
          </p:nvSpPr>
          <p:spPr>
            <a:xfrm flipH="1">
              <a:off x="4949640" y="3505320"/>
              <a:ext cx="79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994280" y="453708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025960" y="131112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94280" y="237816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2317680" y="907920"/>
            <a:ext cx="1225800" cy="4229280"/>
            <a:chOff x="2317680" y="907920"/>
            <a:chExt cx="1225800" cy="4229280"/>
          </a:xfrm>
        </p:grpSpPr>
        <p:grpSp>
          <p:nvGrpSpPr>
            <p:cNvPr id="1211" name=""/>
            <p:cNvGrpSpPr/>
            <p:nvPr/>
          </p:nvGrpSpPr>
          <p:grpSpPr>
            <a:xfrm>
              <a:off x="2762280" y="2851200"/>
              <a:ext cx="304920" cy="177840"/>
              <a:chOff x="2762280" y="2851200"/>
              <a:chExt cx="304920" cy="177840"/>
            </a:xfrm>
          </p:grpSpPr>
          <p:sp>
            <p:nvSpPr>
              <p:cNvPr id="1212" name=""/>
              <p:cNvSpPr/>
              <p:nvPr/>
            </p:nvSpPr>
            <p:spPr>
              <a:xfrm rot="5400000">
                <a:off x="2781360" y="2832120"/>
                <a:ext cx="177840" cy="21600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003480" y="2901960"/>
                <a:ext cx="63720" cy="63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3105000" y="2933640"/>
              <a:ext cx="41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17680" y="293364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43480" y="920880"/>
              <a:ext cx="0" cy="41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577960" y="2533320"/>
              <a:ext cx="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584440" y="2540160"/>
              <a:ext cx="7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301920" y="907920"/>
              <a:ext cx="0" cy="422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2317680" y="293364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936960" y="907920"/>
            <a:ext cx="0" cy="417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2317680" y="3511080"/>
            <a:ext cx="1879560" cy="495720"/>
            <a:chOff x="2317680" y="3511080"/>
            <a:chExt cx="1879560" cy="495720"/>
          </a:xfrm>
        </p:grpSpPr>
        <p:grpSp>
          <p:nvGrpSpPr>
            <p:cNvPr id="1223" name=""/>
            <p:cNvGrpSpPr/>
            <p:nvPr/>
          </p:nvGrpSpPr>
          <p:grpSpPr>
            <a:xfrm>
              <a:off x="2762280" y="3828960"/>
              <a:ext cx="304920" cy="177840"/>
              <a:chOff x="2762280" y="3828960"/>
              <a:chExt cx="304920" cy="177840"/>
            </a:xfrm>
          </p:grpSpPr>
          <p:sp>
            <p:nvSpPr>
              <p:cNvPr id="1224" name=""/>
              <p:cNvSpPr/>
              <p:nvPr/>
            </p:nvSpPr>
            <p:spPr>
              <a:xfrm rot="5400000">
                <a:off x="2781360" y="3809880"/>
                <a:ext cx="177840" cy="21600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003480" y="3879720"/>
                <a:ext cx="63720" cy="63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>
              <a:off x="3105000" y="3911760"/>
              <a:ext cx="109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317680" y="391176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2577960" y="3511080"/>
              <a:ext cx="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584440" y="3517920"/>
              <a:ext cx="1359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4191120" y="895320"/>
            <a:ext cx="0" cy="422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52108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892680" y="470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244680" y="41972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79720" y="3473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338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121280" y="36640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244680" y="318132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244680" y="248292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48624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892680" y="259704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498840" y="20890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86240" y="10476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146480" y="15303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5210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46480" y="263988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46480" y="365616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929560" y="21193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955120" y="3192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923440" y="42847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36040" y="11095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25680" y="86364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45880" y="2962440"/>
            <a:ext cx="1725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od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65040" y="575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écodeur 2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468680" y="20336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467240" y="31179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016520" y="31194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rot="10800000">
            <a:off x="4030920" y="31262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476600" y="41752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026600" y="41767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rot="10800000">
            <a:off x="4040280" y="41835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76600" y="10098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026600" y="10112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rot="10800000">
            <a:off x="4040280" y="10180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4018680" y="2035080"/>
            <a:ext cx="940680" cy="704880"/>
            <a:chOff x="4018680" y="2035080"/>
            <a:chExt cx="940680" cy="704880"/>
          </a:xfrm>
        </p:grpSpPr>
        <p:sp>
          <p:nvSpPr>
            <p:cNvPr id="1266" name=""/>
            <p:cNvSpPr/>
            <p:nvPr/>
          </p:nvSpPr>
          <p:spPr>
            <a:xfrm>
              <a:off x="4018680" y="2035080"/>
              <a:ext cx="92592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0800000">
              <a:off x="4032360" y="204192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3943440" y="2654280"/>
            <a:ext cx="53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549600" y="2146320"/>
            <a:ext cx="9144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84640" y="3733920"/>
            <a:ext cx="26676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295800" y="3225960"/>
            <a:ext cx="11430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943440" y="476244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95800" y="4254480"/>
            <a:ext cx="1143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197240" y="1587600"/>
            <a:ext cx="254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49600" y="1079640"/>
            <a:ext cx="8892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4949640" y="3505320"/>
            <a:ext cx="79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994280" y="45370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045040" y="1311120"/>
            <a:ext cx="73332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994280" y="237816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2317680" y="907920"/>
            <a:ext cx="1225800" cy="4229280"/>
            <a:chOff x="2317680" y="907920"/>
            <a:chExt cx="1225800" cy="4229280"/>
          </a:xfrm>
        </p:grpSpPr>
        <p:grpSp>
          <p:nvGrpSpPr>
            <p:cNvPr id="1281" name=""/>
            <p:cNvGrpSpPr/>
            <p:nvPr/>
          </p:nvGrpSpPr>
          <p:grpSpPr>
            <a:xfrm>
              <a:off x="2762280" y="2851200"/>
              <a:ext cx="304920" cy="177840"/>
              <a:chOff x="2762280" y="2851200"/>
              <a:chExt cx="304920" cy="177840"/>
            </a:xfrm>
          </p:grpSpPr>
          <p:sp>
            <p:nvSpPr>
              <p:cNvPr id="1282" name=""/>
              <p:cNvSpPr/>
              <p:nvPr/>
            </p:nvSpPr>
            <p:spPr>
              <a:xfrm rot="5400000">
                <a:off x="2781360" y="2832120"/>
                <a:ext cx="177840" cy="21600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003480" y="2901960"/>
                <a:ext cx="63720" cy="63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3105000" y="2933640"/>
              <a:ext cx="41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17680" y="293364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43480" y="920880"/>
              <a:ext cx="0" cy="41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2577960" y="2533320"/>
              <a:ext cx="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584440" y="2540160"/>
              <a:ext cx="7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301920" y="907920"/>
              <a:ext cx="0" cy="422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2336760" y="2933640"/>
            <a:ext cx="38088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936960" y="907920"/>
            <a:ext cx="0" cy="417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2781360" y="3848040"/>
            <a:ext cx="266760" cy="139680"/>
            <a:chOff x="2781360" y="3848040"/>
            <a:chExt cx="266760" cy="139680"/>
          </a:xfrm>
        </p:grpSpPr>
        <p:sp>
          <p:nvSpPr>
            <p:cNvPr id="1293" name=""/>
            <p:cNvSpPr/>
            <p:nvPr/>
          </p:nvSpPr>
          <p:spPr>
            <a:xfrm rot="5400000">
              <a:off x="2800440" y="3828960"/>
              <a:ext cx="139680" cy="177840"/>
            </a:xfrm>
            <a:prstGeom prst="triangle">
              <a:avLst>
                <a:gd name="adj" fmla="val 49995"/>
              </a:avLst>
            </a:prstGeom>
            <a:noFill/>
            <a:ln w="5076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22560" y="3898800"/>
              <a:ext cx="25560" cy="25560"/>
            </a:xfrm>
            <a:prstGeom prst="ellipse">
              <a:avLst/>
            </a:prstGeom>
            <a:noFill/>
            <a:ln w="5076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3124080" y="3911760"/>
            <a:ext cx="105408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336760" y="3911760"/>
            <a:ext cx="38088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2577960" y="3492000"/>
            <a:ext cx="0" cy="44460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603520" y="3517920"/>
            <a:ext cx="132084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191120" y="895320"/>
            <a:ext cx="0" cy="422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52108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92680" y="470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244680" y="41972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79720" y="3473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338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21280" y="36640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244680" y="318132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244680" y="248292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48624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892680" y="259704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498840" y="20890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486240" y="10476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146480" y="15303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5210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446480" y="263988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446480" y="365616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29560" y="21193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955120" y="31924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923440" y="42847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936040" y="11095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S1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425680" y="86364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2629080" y="1333080"/>
            <a:ext cx="2616120" cy="1955880"/>
          </a:xfrm>
          <a:prstGeom prst="line">
            <a:avLst/>
          </a:prstGeom>
          <a:ln w="50760">
            <a:solidFill>
              <a:srgbClr val="ff50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945880" y="2962440"/>
            <a:ext cx="1725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od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écodeur 2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468680" y="20336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67240" y="31179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016520" y="31194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rot="10800000">
            <a:off x="4030920" y="31262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76600" y="41752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026600" y="41767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0800000">
            <a:off x="4040280" y="41835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76600" y="10098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026600" y="10112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rot="10800000">
            <a:off x="4040280" y="10180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4018680" y="2035080"/>
            <a:ext cx="940680" cy="704880"/>
            <a:chOff x="4018680" y="2035080"/>
            <a:chExt cx="940680" cy="704880"/>
          </a:xfrm>
        </p:grpSpPr>
        <p:sp>
          <p:nvSpPr>
            <p:cNvPr id="1335" name=""/>
            <p:cNvSpPr/>
            <p:nvPr/>
          </p:nvSpPr>
          <p:spPr>
            <a:xfrm>
              <a:off x="4018680" y="2035080"/>
              <a:ext cx="92592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rot="10800000">
              <a:off x="4032360" y="204192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3943440" y="2654280"/>
            <a:ext cx="53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549600" y="2146320"/>
            <a:ext cx="9144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84640" y="3733920"/>
            <a:ext cx="26676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295800" y="3225960"/>
            <a:ext cx="11430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943440" y="476244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295800" y="4254480"/>
            <a:ext cx="1143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97240" y="1587600"/>
            <a:ext cx="254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549600" y="1079640"/>
            <a:ext cx="8892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4949640" y="1311120"/>
            <a:ext cx="847800" cy="3225960"/>
            <a:chOff x="4949640" y="1311120"/>
            <a:chExt cx="847800" cy="3225960"/>
          </a:xfrm>
        </p:grpSpPr>
        <p:sp>
          <p:nvSpPr>
            <p:cNvPr id="1346" name=""/>
            <p:cNvSpPr/>
            <p:nvPr/>
          </p:nvSpPr>
          <p:spPr>
            <a:xfrm flipH="1">
              <a:off x="4949640" y="3505320"/>
              <a:ext cx="79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994280" y="453708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025960" y="131112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94280" y="237816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2317680" y="907920"/>
            <a:ext cx="1225800" cy="4229280"/>
            <a:chOff x="2317680" y="907920"/>
            <a:chExt cx="1225800" cy="4229280"/>
          </a:xfrm>
        </p:grpSpPr>
        <p:grpSp>
          <p:nvGrpSpPr>
            <p:cNvPr id="1351" name=""/>
            <p:cNvGrpSpPr/>
            <p:nvPr/>
          </p:nvGrpSpPr>
          <p:grpSpPr>
            <a:xfrm>
              <a:off x="2762280" y="2851200"/>
              <a:ext cx="304920" cy="177840"/>
              <a:chOff x="2762280" y="2851200"/>
              <a:chExt cx="304920" cy="177840"/>
            </a:xfrm>
          </p:grpSpPr>
          <p:sp>
            <p:nvSpPr>
              <p:cNvPr id="1352" name=""/>
              <p:cNvSpPr/>
              <p:nvPr/>
            </p:nvSpPr>
            <p:spPr>
              <a:xfrm rot="5400000">
                <a:off x="2781360" y="2832120"/>
                <a:ext cx="177840" cy="21600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003480" y="2901960"/>
                <a:ext cx="63720" cy="63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>
              <a:off x="3105000" y="2933640"/>
              <a:ext cx="41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317680" y="293364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543480" y="920880"/>
              <a:ext cx="0" cy="41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2577960" y="2533320"/>
              <a:ext cx="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584440" y="2540160"/>
              <a:ext cx="7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301920" y="907920"/>
              <a:ext cx="0" cy="422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317680" y="293364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936960" y="907920"/>
            <a:ext cx="0" cy="417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2317680" y="3511080"/>
            <a:ext cx="1879560" cy="495720"/>
            <a:chOff x="2317680" y="3511080"/>
            <a:chExt cx="1879560" cy="495720"/>
          </a:xfrm>
        </p:grpSpPr>
        <p:grpSp>
          <p:nvGrpSpPr>
            <p:cNvPr id="1363" name=""/>
            <p:cNvGrpSpPr/>
            <p:nvPr/>
          </p:nvGrpSpPr>
          <p:grpSpPr>
            <a:xfrm>
              <a:off x="2762280" y="3828960"/>
              <a:ext cx="304920" cy="177840"/>
              <a:chOff x="2762280" y="3828960"/>
              <a:chExt cx="304920" cy="177840"/>
            </a:xfrm>
          </p:grpSpPr>
          <p:sp>
            <p:nvSpPr>
              <p:cNvPr id="1364" name=""/>
              <p:cNvSpPr/>
              <p:nvPr/>
            </p:nvSpPr>
            <p:spPr>
              <a:xfrm rot="5400000">
                <a:off x="2781360" y="3809880"/>
                <a:ext cx="177840" cy="21600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003480" y="3879720"/>
                <a:ext cx="63720" cy="63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6" name=""/>
            <p:cNvSpPr/>
            <p:nvPr/>
          </p:nvSpPr>
          <p:spPr>
            <a:xfrm>
              <a:off x="3105000" y="3911760"/>
              <a:ext cx="109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317680" y="391176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2577960" y="3511080"/>
              <a:ext cx="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584440" y="3517920"/>
              <a:ext cx="1359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4191120" y="895320"/>
            <a:ext cx="0" cy="422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52108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892680" y="470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244680" y="41972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879720" y="3473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1338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21280" y="36640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44680" y="318132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244680" y="248292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48624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92680" y="259704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98840" y="20890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486240" y="10476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146480" y="15303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5210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446480" y="263988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a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446480" y="365616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929560" y="21193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955120" y="3192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923440" y="42847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36040" y="11095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425680" y="86364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945880" y="2962440"/>
            <a:ext cx="1725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od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écodeur 2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468680" y="20336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467240" y="31179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016520" y="31194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rot="10800000">
            <a:off x="4030920" y="31262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476600" y="41752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026600" y="41767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rot="10800000">
            <a:off x="4040280" y="41835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76600" y="10098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026600" y="10112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rot="10800000">
            <a:off x="4040280" y="10180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4018680" y="2035080"/>
            <a:ext cx="940680" cy="704880"/>
            <a:chOff x="4018680" y="2035080"/>
            <a:chExt cx="940680" cy="704880"/>
          </a:xfrm>
        </p:grpSpPr>
        <p:sp>
          <p:nvSpPr>
            <p:cNvPr id="1405" name=""/>
            <p:cNvSpPr/>
            <p:nvPr/>
          </p:nvSpPr>
          <p:spPr>
            <a:xfrm>
              <a:off x="4018680" y="2035080"/>
              <a:ext cx="92592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10800000">
              <a:off x="4032360" y="204192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3943440" y="2654280"/>
            <a:ext cx="53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549600" y="2146320"/>
            <a:ext cx="9144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84640" y="3733920"/>
            <a:ext cx="26676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295800" y="3225960"/>
            <a:ext cx="11430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943440" y="476244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95800" y="4254480"/>
            <a:ext cx="1143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97240" y="1587600"/>
            <a:ext cx="254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549600" y="1079640"/>
            <a:ext cx="8892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4930560" y="3505320"/>
            <a:ext cx="83484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994280" y="45370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025960" y="131112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994280" y="237816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2317680" y="907920"/>
            <a:ext cx="1225800" cy="4229280"/>
            <a:chOff x="2317680" y="907920"/>
            <a:chExt cx="1225800" cy="4229280"/>
          </a:xfrm>
        </p:grpSpPr>
        <p:grpSp>
          <p:nvGrpSpPr>
            <p:cNvPr id="1420" name=""/>
            <p:cNvGrpSpPr/>
            <p:nvPr/>
          </p:nvGrpSpPr>
          <p:grpSpPr>
            <a:xfrm>
              <a:off x="2762280" y="2851200"/>
              <a:ext cx="304920" cy="177840"/>
              <a:chOff x="2762280" y="2851200"/>
              <a:chExt cx="304920" cy="177840"/>
            </a:xfrm>
          </p:grpSpPr>
          <p:sp>
            <p:nvSpPr>
              <p:cNvPr id="1421" name=""/>
              <p:cNvSpPr/>
              <p:nvPr/>
            </p:nvSpPr>
            <p:spPr>
              <a:xfrm rot="5400000">
                <a:off x="2781360" y="2832120"/>
                <a:ext cx="177840" cy="21600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003480" y="2901960"/>
                <a:ext cx="63720" cy="63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3105000" y="2933640"/>
              <a:ext cx="41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17680" y="293364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543480" y="920880"/>
              <a:ext cx="0" cy="41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2577960" y="2533320"/>
              <a:ext cx="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584440" y="2540160"/>
              <a:ext cx="7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301920" y="907920"/>
              <a:ext cx="0" cy="422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2336760" y="2933640"/>
            <a:ext cx="38088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36960" y="907920"/>
            <a:ext cx="0" cy="417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2336760" y="3492000"/>
            <a:ext cx="1841400" cy="495720"/>
            <a:chOff x="2336760" y="3492000"/>
            <a:chExt cx="1841400" cy="495720"/>
          </a:xfrm>
        </p:grpSpPr>
        <p:grpSp>
          <p:nvGrpSpPr>
            <p:cNvPr id="1432" name=""/>
            <p:cNvGrpSpPr/>
            <p:nvPr/>
          </p:nvGrpSpPr>
          <p:grpSpPr>
            <a:xfrm>
              <a:off x="2781360" y="3848040"/>
              <a:ext cx="266760" cy="139680"/>
              <a:chOff x="2781360" y="3848040"/>
              <a:chExt cx="266760" cy="139680"/>
            </a:xfrm>
          </p:grpSpPr>
          <p:sp>
            <p:nvSpPr>
              <p:cNvPr id="1433" name=""/>
              <p:cNvSpPr/>
              <p:nvPr/>
            </p:nvSpPr>
            <p:spPr>
              <a:xfrm rot="5400000">
                <a:off x="2800440" y="3828960"/>
                <a:ext cx="139680" cy="177840"/>
              </a:xfrm>
              <a:prstGeom prst="triangle">
                <a:avLst>
                  <a:gd name="adj" fmla="val 49995"/>
                </a:avLst>
              </a:prstGeom>
              <a:noFill/>
              <a:ln w="5076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022560" y="3898800"/>
                <a:ext cx="25560" cy="25560"/>
              </a:xfrm>
              <a:prstGeom prst="ellipse">
                <a:avLst/>
              </a:prstGeom>
              <a:noFill/>
              <a:ln w="5076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>
              <a:off x="3124080" y="3911760"/>
              <a:ext cx="1054080" cy="0"/>
            </a:xfrm>
            <a:prstGeom prst="line">
              <a:avLst/>
            </a:prstGeom>
            <a:ln w="5076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336760" y="3911760"/>
              <a:ext cx="380880" cy="0"/>
            </a:xfrm>
            <a:prstGeom prst="line">
              <a:avLst/>
            </a:prstGeom>
            <a:ln w="5076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2577960" y="3492000"/>
              <a:ext cx="0" cy="444600"/>
            </a:xfrm>
            <a:prstGeom prst="line">
              <a:avLst/>
            </a:prstGeom>
            <a:ln w="5076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603520" y="3517920"/>
              <a:ext cx="1320840" cy="0"/>
            </a:xfrm>
            <a:prstGeom prst="line">
              <a:avLst/>
            </a:prstGeom>
            <a:ln w="5076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4191120" y="895320"/>
            <a:ext cx="0" cy="422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52108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892680" y="470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244680" y="41972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879720" y="3473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338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121280" y="36640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244680" y="318132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244680" y="248292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48624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892680" y="259704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98840" y="20890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86240" y="10476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146480" y="15303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5210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446480" y="263988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a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446480" y="365616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929560" y="21193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55120" y="31924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S3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923440" y="42847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36040" y="11095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425680" y="86364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552760" y="3352680"/>
            <a:ext cx="2679480" cy="139680"/>
          </a:xfrm>
          <a:prstGeom prst="line">
            <a:avLst/>
          </a:prstGeom>
          <a:ln w="50760">
            <a:solidFill>
              <a:srgbClr val="ff50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945880" y="2962440"/>
            <a:ext cx="1725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od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écodeur 2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468680" y="20336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67240" y="31179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016520" y="31194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rot="10800000">
            <a:off x="4030920" y="31262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476600" y="41752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026600" y="41767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rot="10800000">
            <a:off x="4040280" y="41835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476600" y="10098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026600" y="10112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rot="10800000">
            <a:off x="4040280" y="10180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4018680" y="2035080"/>
            <a:ext cx="940680" cy="704880"/>
            <a:chOff x="4018680" y="2035080"/>
            <a:chExt cx="940680" cy="704880"/>
          </a:xfrm>
        </p:grpSpPr>
        <p:sp>
          <p:nvSpPr>
            <p:cNvPr id="1475" name=""/>
            <p:cNvSpPr/>
            <p:nvPr/>
          </p:nvSpPr>
          <p:spPr>
            <a:xfrm>
              <a:off x="4018680" y="2035080"/>
              <a:ext cx="92592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0800000">
              <a:off x="4032360" y="204192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3943440" y="2654280"/>
            <a:ext cx="53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549600" y="2146320"/>
            <a:ext cx="9144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84640" y="3733920"/>
            <a:ext cx="26676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295800" y="3225960"/>
            <a:ext cx="11430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43440" y="476244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295800" y="4254480"/>
            <a:ext cx="1143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197240" y="1587600"/>
            <a:ext cx="254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549600" y="1079640"/>
            <a:ext cx="8892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4949640" y="1311120"/>
            <a:ext cx="847800" cy="3225960"/>
            <a:chOff x="4949640" y="1311120"/>
            <a:chExt cx="847800" cy="3225960"/>
          </a:xfrm>
        </p:grpSpPr>
        <p:sp>
          <p:nvSpPr>
            <p:cNvPr id="1486" name=""/>
            <p:cNvSpPr/>
            <p:nvPr/>
          </p:nvSpPr>
          <p:spPr>
            <a:xfrm flipH="1">
              <a:off x="4949640" y="3505320"/>
              <a:ext cx="79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94280" y="453708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025960" y="131112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994280" y="2378160"/>
              <a:ext cx="77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2317680" y="907920"/>
            <a:ext cx="1225800" cy="4229280"/>
            <a:chOff x="2317680" y="907920"/>
            <a:chExt cx="1225800" cy="4229280"/>
          </a:xfrm>
        </p:grpSpPr>
        <p:grpSp>
          <p:nvGrpSpPr>
            <p:cNvPr id="1491" name=""/>
            <p:cNvGrpSpPr/>
            <p:nvPr/>
          </p:nvGrpSpPr>
          <p:grpSpPr>
            <a:xfrm>
              <a:off x="2762280" y="2851200"/>
              <a:ext cx="304920" cy="177840"/>
              <a:chOff x="2762280" y="2851200"/>
              <a:chExt cx="304920" cy="177840"/>
            </a:xfrm>
          </p:grpSpPr>
          <p:sp>
            <p:nvSpPr>
              <p:cNvPr id="1492" name=""/>
              <p:cNvSpPr/>
              <p:nvPr/>
            </p:nvSpPr>
            <p:spPr>
              <a:xfrm rot="5400000">
                <a:off x="2781360" y="2832120"/>
                <a:ext cx="177840" cy="21600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003480" y="2901960"/>
                <a:ext cx="63720" cy="63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>
              <a:off x="3105000" y="2933640"/>
              <a:ext cx="419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317680" y="293364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543480" y="920880"/>
              <a:ext cx="0" cy="41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2577960" y="2533320"/>
              <a:ext cx="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584440" y="2540160"/>
              <a:ext cx="7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01920" y="907920"/>
              <a:ext cx="0" cy="4229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0" name=""/>
          <p:cNvSpPr/>
          <p:nvPr/>
        </p:nvSpPr>
        <p:spPr>
          <a:xfrm>
            <a:off x="2317680" y="293364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936960" y="907920"/>
            <a:ext cx="0" cy="417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2317680" y="3511080"/>
            <a:ext cx="1879560" cy="495720"/>
            <a:chOff x="2317680" y="3511080"/>
            <a:chExt cx="1879560" cy="495720"/>
          </a:xfrm>
        </p:grpSpPr>
        <p:grpSp>
          <p:nvGrpSpPr>
            <p:cNvPr id="1503" name=""/>
            <p:cNvGrpSpPr/>
            <p:nvPr/>
          </p:nvGrpSpPr>
          <p:grpSpPr>
            <a:xfrm>
              <a:off x="2762280" y="3828960"/>
              <a:ext cx="304920" cy="177840"/>
              <a:chOff x="2762280" y="3828960"/>
              <a:chExt cx="304920" cy="177840"/>
            </a:xfrm>
          </p:grpSpPr>
          <p:sp>
            <p:nvSpPr>
              <p:cNvPr id="1504" name=""/>
              <p:cNvSpPr/>
              <p:nvPr/>
            </p:nvSpPr>
            <p:spPr>
              <a:xfrm rot="5400000">
                <a:off x="2781360" y="3809880"/>
                <a:ext cx="177840" cy="21600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003480" y="3879720"/>
                <a:ext cx="63720" cy="63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6" name=""/>
            <p:cNvSpPr/>
            <p:nvPr/>
          </p:nvSpPr>
          <p:spPr>
            <a:xfrm>
              <a:off x="3105000" y="3911760"/>
              <a:ext cx="109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317680" y="391176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2577960" y="3511080"/>
              <a:ext cx="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584440" y="3517920"/>
              <a:ext cx="1359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4191120" y="895320"/>
            <a:ext cx="0" cy="422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52108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892680" y="470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244680" y="41972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879720" y="3473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1338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21280" y="36640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244680" y="318132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244680" y="248292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48624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92680" y="259704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498840" y="20890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486240" y="10476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146480" y="153036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5210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839960" y="26398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878120" y="36561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5923440" y="1109520"/>
            <a:ext cx="585000" cy="3629880"/>
            <a:chOff x="5923440" y="1109520"/>
            <a:chExt cx="585000" cy="3629880"/>
          </a:xfrm>
        </p:grpSpPr>
        <p:sp>
          <p:nvSpPr>
            <p:cNvPr id="1528" name=""/>
            <p:cNvSpPr/>
            <p:nvPr/>
          </p:nvSpPr>
          <p:spPr>
            <a:xfrm>
              <a:off x="5929560" y="2119320"/>
              <a:ext cx="55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955120" y="3192480"/>
              <a:ext cx="55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923440" y="4284720"/>
              <a:ext cx="55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936040" y="1109520"/>
              <a:ext cx="55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2" name=""/>
          <p:cNvSpPr/>
          <p:nvPr/>
        </p:nvSpPr>
        <p:spPr>
          <a:xfrm>
            <a:off x="216000" y="7254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e in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95800" y="34686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393680" y="342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écodeur 2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468680" y="20336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467240" y="31179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016520" y="31194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rot="10800000">
            <a:off x="4030920" y="31262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476600" y="41752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026600" y="41767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rot="10800000">
            <a:off x="4040280" y="41835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476600" y="10098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026600" y="10112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rot="10800000">
            <a:off x="4040280" y="10180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4018680" y="2035080"/>
            <a:ext cx="940680" cy="704880"/>
            <a:chOff x="4018680" y="2035080"/>
            <a:chExt cx="940680" cy="704880"/>
          </a:xfrm>
        </p:grpSpPr>
        <p:sp>
          <p:nvSpPr>
            <p:cNvPr id="1547" name=""/>
            <p:cNvSpPr/>
            <p:nvPr/>
          </p:nvSpPr>
          <p:spPr>
            <a:xfrm>
              <a:off x="4018680" y="2035080"/>
              <a:ext cx="92592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rot="10800000">
              <a:off x="4032360" y="2041920"/>
              <a:ext cx="92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22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22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9" name=""/>
          <p:cNvSpPr/>
          <p:nvPr/>
        </p:nvSpPr>
        <p:spPr>
          <a:xfrm>
            <a:off x="3943440" y="2654280"/>
            <a:ext cx="5331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549600" y="2146320"/>
            <a:ext cx="9144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84640" y="3733920"/>
            <a:ext cx="26676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295800" y="3225960"/>
            <a:ext cx="11430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943440" y="476244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295800" y="4254480"/>
            <a:ext cx="1143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216320" y="1587600"/>
            <a:ext cx="216000" cy="324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568680" y="1079640"/>
            <a:ext cx="851040" cy="288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949640" y="3505320"/>
            <a:ext cx="79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994280" y="453708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045040" y="1311120"/>
            <a:ext cx="73332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94280" y="237816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2762280" y="2851200"/>
            <a:ext cx="304920" cy="177840"/>
            <a:chOff x="2762280" y="2851200"/>
            <a:chExt cx="304920" cy="177840"/>
          </a:xfrm>
        </p:grpSpPr>
        <p:sp>
          <p:nvSpPr>
            <p:cNvPr id="1562" name=""/>
            <p:cNvSpPr/>
            <p:nvPr/>
          </p:nvSpPr>
          <p:spPr>
            <a:xfrm rot="5400000">
              <a:off x="2781360" y="28321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003480" y="2901960"/>
              <a:ext cx="6372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3124080" y="2933640"/>
            <a:ext cx="38124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317680" y="293364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43480" y="939960"/>
            <a:ext cx="0" cy="414000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2577960" y="2533320"/>
            <a:ext cx="0" cy="406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584440" y="2540160"/>
            <a:ext cx="71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301920" y="907920"/>
            <a:ext cx="0" cy="422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317680" y="293364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36960" y="907920"/>
            <a:ext cx="0" cy="417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2762280" y="3828960"/>
            <a:ext cx="304920" cy="177840"/>
            <a:chOff x="2762280" y="3828960"/>
            <a:chExt cx="304920" cy="177840"/>
          </a:xfrm>
        </p:grpSpPr>
        <p:sp>
          <p:nvSpPr>
            <p:cNvPr id="1573" name=""/>
            <p:cNvSpPr/>
            <p:nvPr/>
          </p:nvSpPr>
          <p:spPr>
            <a:xfrm rot="5400000">
              <a:off x="2781360" y="380988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003480" y="387972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124080" y="3911760"/>
            <a:ext cx="105408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317680" y="391176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2577960" y="3511080"/>
            <a:ext cx="0" cy="406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584440" y="351792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191120" y="914400"/>
            <a:ext cx="0" cy="419112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521080" y="28764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892680" y="470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244680" y="419724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79720" y="3473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133880" y="3854520"/>
            <a:ext cx="114120" cy="114120"/>
          </a:xfrm>
          <a:prstGeom prst="ellipse">
            <a:avLst/>
          </a:prstGeom>
          <a:solidFill>
            <a:srgbClr val="ff500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121280" y="36640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244680" y="318132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244680" y="248292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86240" y="2876400"/>
            <a:ext cx="114120" cy="114480"/>
          </a:xfrm>
          <a:prstGeom prst="ellipse">
            <a:avLst/>
          </a:prstGeom>
          <a:solidFill>
            <a:srgbClr val="ff500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92680" y="259704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498840" y="20890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486240" y="1047600"/>
            <a:ext cx="114120" cy="114480"/>
          </a:xfrm>
          <a:prstGeom prst="ellipse">
            <a:avLst/>
          </a:prstGeom>
          <a:solidFill>
            <a:srgbClr val="ff500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46480" y="1530360"/>
            <a:ext cx="114480" cy="114120"/>
          </a:xfrm>
          <a:prstGeom prst="ellipse">
            <a:avLst/>
          </a:prstGeom>
          <a:solidFill>
            <a:srgbClr val="ff500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521080" y="385452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497240" y="263988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535040" y="365616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29560" y="21193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955120" y="31924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923440" y="42847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936040" y="11095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S1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320" y="60948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rifions le fonct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Démultiplex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760" y="824040"/>
            <a:ext cx="80708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éfinition : On appelle démultiplexeur tout système combinatoire réalisant les 2</a:t>
            </a:r>
            <a:r>
              <a:rPr b="0" lang="fr-FR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minterms de n variables qui correspondent aux n lignes de sél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trée est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aiguillé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sur une des so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deu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47760" y="824040"/>
            <a:ext cx="8070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finition : on appelle codeur un système combinatoire qui fait correspondre en sortie, à une entrée active, parmi les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rées, un code sur n lig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/>
          <p:nvPr/>
        </p:nvSpPr>
        <p:spPr>
          <a:xfrm>
            <a:off x="3524400" y="3479760"/>
            <a:ext cx="1143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21280" y="278136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4102200" y="2787480"/>
            <a:ext cx="0" cy="81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619360" y="3594240"/>
            <a:ext cx="147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583000" y="251460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deur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102200" y="34020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rot="10800000">
            <a:off x="4116600" y="340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816360" y="3987720"/>
            <a:ext cx="85104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070600" y="376236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4353120" y="3389400"/>
            <a:ext cx="398160" cy="704880"/>
            <a:chOff x="4353120" y="3389400"/>
            <a:chExt cx="398160" cy="704880"/>
          </a:xfrm>
        </p:grpSpPr>
        <p:sp>
          <p:nvSpPr>
            <p:cNvPr id="1615" name=""/>
            <p:cNvSpPr/>
            <p:nvPr/>
          </p:nvSpPr>
          <p:spPr>
            <a:xfrm>
              <a:off x="4353120" y="3389400"/>
              <a:ext cx="38664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rot="10800000">
              <a:off x="4364280" y="3396240"/>
              <a:ext cx="38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18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182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4064760" y="21956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rot="10800000">
            <a:off x="4078440" y="2201400"/>
            <a:ext cx="92700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41920" y="2273400"/>
            <a:ext cx="7873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032440" y="255600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4315320" y="2182680"/>
            <a:ext cx="397800" cy="704880"/>
            <a:chOff x="4315320" y="2182680"/>
            <a:chExt cx="397800" cy="704880"/>
          </a:xfrm>
        </p:grpSpPr>
        <p:sp>
          <p:nvSpPr>
            <p:cNvPr id="1622" name=""/>
            <p:cNvSpPr/>
            <p:nvPr/>
          </p:nvSpPr>
          <p:spPr>
            <a:xfrm>
              <a:off x="4315320" y="2182680"/>
              <a:ext cx="38664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rot="10800000">
              <a:off x="4326120" y="2189520"/>
              <a:ext cx="38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18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182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5948640" y="23162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948640" y="35542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865520" y="334476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833840" y="443700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492360" y="2508120"/>
            <a:ext cx="0" cy="9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70040" y="149868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46280" y="4686480"/>
            <a:ext cx="1282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3835440" y="2266920"/>
            <a:ext cx="0" cy="242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846800" y="126216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840320" y="227160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778200" y="39304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692440" y="86364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320" y="2936880"/>
            <a:ext cx="1348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15280" y="7254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e ex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95800" y="34686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393680" y="342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3524400" y="3479760"/>
            <a:ext cx="1143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121280" y="278136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4102200" y="2787480"/>
            <a:ext cx="0" cy="81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619360" y="3594240"/>
            <a:ext cx="147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583000" y="251460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deur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102200" y="34020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rot="10800000">
            <a:off x="4116600" y="340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816360" y="3987720"/>
            <a:ext cx="85104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070600" y="376236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4353120" y="3389400"/>
            <a:ext cx="398160" cy="704880"/>
            <a:chOff x="4353120" y="3389400"/>
            <a:chExt cx="398160" cy="704880"/>
          </a:xfrm>
        </p:grpSpPr>
        <p:sp>
          <p:nvSpPr>
            <p:cNvPr id="1651" name=""/>
            <p:cNvSpPr/>
            <p:nvPr/>
          </p:nvSpPr>
          <p:spPr>
            <a:xfrm>
              <a:off x="4353120" y="3389400"/>
              <a:ext cx="38664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rot="10800000">
              <a:off x="4364280" y="3396240"/>
              <a:ext cx="38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18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182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4064760" y="21956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rot="10800000">
            <a:off x="4078440" y="2201400"/>
            <a:ext cx="92700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841920" y="2273400"/>
            <a:ext cx="7873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032440" y="255600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4315320" y="2182680"/>
            <a:ext cx="397800" cy="704880"/>
            <a:chOff x="4315320" y="2182680"/>
            <a:chExt cx="397800" cy="704880"/>
          </a:xfrm>
        </p:grpSpPr>
        <p:sp>
          <p:nvSpPr>
            <p:cNvPr id="1658" name=""/>
            <p:cNvSpPr/>
            <p:nvPr/>
          </p:nvSpPr>
          <p:spPr>
            <a:xfrm>
              <a:off x="4315320" y="2182680"/>
              <a:ext cx="38664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10800000">
              <a:off x="4326120" y="2189520"/>
              <a:ext cx="38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18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182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3492360" y="2508120"/>
            <a:ext cx="0" cy="9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570040" y="149868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546280" y="4686480"/>
            <a:ext cx="1282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3835440" y="2266920"/>
            <a:ext cx="0" cy="242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580040" y="124920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1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778200" y="39304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92440" y="86364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865520" y="334476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3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833840" y="443700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4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840320" y="227160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2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8640" y="231624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8640" y="35542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352320" y="2936880"/>
            <a:ext cx="1348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/>
          <p:nvPr/>
        </p:nvSpPr>
        <p:spPr>
          <a:xfrm>
            <a:off x="3524400" y="3479760"/>
            <a:ext cx="1143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21280" y="278136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4102200" y="2787480"/>
            <a:ext cx="0" cy="81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619360" y="3594240"/>
            <a:ext cx="147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583000" y="251460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deur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102200" y="34020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rot="10800000">
            <a:off x="4116600" y="340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16360" y="3987720"/>
            <a:ext cx="85104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070600" y="376236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4353120" y="3389400"/>
            <a:ext cx="398160" cy="704880"/>
            <a:chOff x="4353120" y="3389400"/>
            <a:chExt cx="398160" cy="704880"/>
          </a:xfrm>
        </p:grpSpPr>
        <p:sp>
          <p:nvSpPr>
            <p:cNvPr id="1684" name=""/>
            <p:cNvSpPr/>
            <p:nvPr/>
          </p:nvSpPr>
          <p:spPr>
            <a:xfrm>
              <a:off x="4353120" y="3389400"/>
              <a:ext cx="38664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10800000">
              <a:off x="4364280" y="3396240"/>
              <a:ext cx="38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18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182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4064760" y="21956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rot="10800000">
            <a:off x="4078440" y="2201400"/>
            <a:ext cx="92700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841920" y="2273400"/>
            <a:ext cx="7873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032440" y="255600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0" name=""/>
          <p:cNvGrpSpPr/>
          <p:nvPr/>
        </p:nvGrpSpPr>
        <p:grpSpPr>
          <a:xfrm>
            <a:off x="4315320" y="2182680"/>
            <a:ext cx="397800" cy="704880"/>
            <a:chOff x="4315320" y="2182680"/>
            <a:chExt cx="397800" cy="704880"/>
          </a:xfrm>
        </p:grpSpPr>
        <p:sp>
          <p:nvSpPr>
            <p:cNvPr id="1691" name=""/>
            <p:cNvSpPr/>
            <p:nvPr/>
          </p:nvSpPr>
          <p:spPr>
            <a:xfrm>
              <a:off x="4315320" y="2182680"/>
              <a:ext cx="38664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rot="10800000">
              <a:off x="4326120" y="2189520"/>
              <a:ext cx="38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18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182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3" name=""/>
          <p:cNvSpPr/>
          <p:nvPr/>
        </p:nvSpPr>
        <p:spPr>
          <a:xfrm>
            <a:off x="5948640" y="231624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S1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948640" y="35542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S2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492360" y="2508120"/>
            <a:ext cx="0" cy="9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570040" y="149868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546280" y="4686480"/>
            <a:ext cx="1282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3835440" y="2266920"/>
            <a:ext cx="0" cy="242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580040" y="227160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2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778200" y="39304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692440" y="86364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865520" y="334476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3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833840" y="443700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4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846800" y="126216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1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352320" y="2936880"/>
            <a:ext cx="1348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3524400" y="3479760"/>
            <a:ext cx="11430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121280" y="278136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4102200" y="2787480"/>
            <a:ext cx="0" cy="81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619360" y="3594240"/>
            <a:ext cx="147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583000" y="251460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deur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4102200" y="34020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rot="10800000">
            <a:off x="4116600" y="340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816360" y="3987720"/>
            <a:ext cx="85104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070600" y="376236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4353120" y="3389400"/>
            <a:ext cx="398160" cy="704880"/>
            <a:chOff x="4353120" y="3389400"/>
            <a:chExt cx="398160" cy="704880"/>
          </a:xfrm>
        </p:grpSpPr>
        <p:sp>
          <p:nvSpPr>
            <p:cNvPr id="1717" name=""/>
            <p:cNvSpPr/>
            <p:nvPr/>
          </p:nvSpPr>
          <p:spPr>
            <a:xfrm>
              <a:off x="4353120" y="3389400"/>
              <a:ext cx="38664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rot="10800000">
              <a:off x="4364280" y="3396240"/>
              <a:ext cx="38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18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182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4064760" y="21956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rot="10800000">
            <a:off x="4078440" y="2201400"/>
            <a:ext cx="92700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841920" y="2273400"/>
            <a:ext cx="7873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032440" y="255600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4315320" y="2182680"/>
            <a:ext cx="397800" cy="704880"/>
            <a:chOff x="4315320" y="2182680"/>
            <a:chExt cx="397800" cy="704880"/>
          </a:xfrm>
        </p:grpSpPr>
        <p:sp>
          <p:nvSpPr>
            <p:cNvPr id="1724" name=""/>
            <p:cNvSpPr/>
            <p:nvPr/>
          </p:nvSpPr>
          <p:spPr>
            <a:xfrm>
              <a:off x="4315320" y="2182680"/>
              <a:ext cx="38664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rot="10800000">
              <a:off x="4326120" y="2189520"/>
              <a:ext cx="38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18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182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6" name=""/>
          <p:cNvSpPr/>
          <p:nvPr/>
        </p:nvSpPr>
        <p:spPr>
          <a:xfrm>
            <a:off x="5948640" y="23162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948640" y="35542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865520" y="334476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833840" y="443700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92360" y="2508120"/>
            <a:ext cx="0" cy="9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570040" y="149868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546280" y="4686480"/>
            <a:ext cx="1282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3835440" y="2266920"/>
            <a:ext cx="0" cy="242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846800" y="126216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840320" y="227160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778200" y="39304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16000" y="7254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e in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95800" y="34686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93680" y="342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/>
          <p:nvPr/>
        </p:nvSpPr>
        <p:spPr>
          <a:xfrm>
            <a:off x="3543480" y="3479760"/>
            <a:ext cx="1104840" cy="324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121280" y="2781360"/>
            <a:ext cx="5079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4102200" y="2787480"/>
            <a:ext cx="0" cy="81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619360" y="3594240"/>
            <a:ext cx="147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602080" y="2514600"/>
            <a:ext cx="86508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deur 4 entré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4102200" y="340200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rot="10800000">
            <a:off x="4116600" y="340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816360" y="3987720"/>
            <a:ext cx="85104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089680" y="3762360"/>
            <a:ext cx="73332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0" name=""/>
          <p:cNvGrpSpPr/>
          <p:nvPr/>
        </p:nvGrpSpPr>
        <p:grpSpPr>
          <a:xfrm>
            <a:off x="4353120" y="3389400"/>
            <a:ext cx="398160" cy="704880"/>
            <a:chOff x="4353120" y="3389400"/>
            <a:chExt cx="398160" cy="704880"/>
          </a:xfrm>
        </p:grpSpPr>
        <p:sp>
          <p:nvSpPr>
            <p:cNvPr id="1751" name=""/>
            <p:cNvSpPr/>
            <p:nvPr/>
          </p:nvSpPr>
          <p:spPr>
            <a:xfrm>
              <a:off x="4353120" y="3389400"/>
              <a:ext cx="38664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rot="10800000">
              <a:off x="4364280" y="3396240"/>
              <a:ext cx="38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18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182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3" name=""/>
          <p:cNvSpPr/>
          <p:nvPr/>
        </p:nvSpPr>
        <p:spPr>
          <a:xfrm>
            <a:off x="4064760" y="21956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0800000">
            <a:off x="4078440" y="2201400"/>
            <a:ext cx="92700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841920" y="2273400"/>
            <a:ext cx="7873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032440" y="2556000"/>
            <a:ext cx="7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4315320" y="2182680"/>
            <a:ext cx="397800" cy="704880"/>
            <a:chOff x="4315320" y="2182680"/>
            <a:chExt cx="397800" cy="704880"/>
          </a:xfrm>
        </p:grpSpPr>
        <p:sp>
          <p:nvSpPr>
            <p:cNvPr id="1758" name=""/>
            <p:cNvSpPr/>
            <p:nvPr/>
          </p:nvSpPr>
          <p:spPr>
            <a:xfrm>
              <a:off x="4315320" y="2182680"/>
              <a:ext cx="386640" cy="69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rot="10800000">
              <a:off x="4326120" y="2189520"/>
              <a:ext cx="38700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18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182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5948640" y="231624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S1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948640" y="35542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S2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492360" y="2527200"/>
            <a:ext cx="0" cy="92736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570040" y="1498680"/>
            <a:ext cx="90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546280" y="4686480"/>
            <a:ext cx="1282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3835440" y="2266920"/>
            <a:ext cx="0" cy="242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580040" y="227160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2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778200" y="39304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865520" y="334476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3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1833840" y="443700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4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846800" y="126216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1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17080" y="72540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rifions le fonct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Démultiplexeur à 4 sorti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230440" y="243360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229360" y="3517920"/>
            <a:ext cx="1009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238360" y="457524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464000" y="15494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38360" y="140976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866760" y="13399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342880" y="2692440"/>
            <a:ext cx="102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4720" y="24620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00480" y="59324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375080" y="5162400"/>
            <a:ext cx="177840" cy="304920"/>
            <a:chOff x="4375080" y="5162400"/>
            <a:chExt cx="177840" cy="304920"/>
          </a:xfrm>
        </p:grpSpPr>
        <p:sp>
          <p:nvSpPr>
            <p:cNvPr id="80" name=""/>
            <p:cNvSpPr/>
            <p:nvPr/>
          </p:nvSpPr>
          <p:spPr>
            <a:xfrm>
              <a:off x="4375080" y="52513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25840" y="51624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886200" y="13395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790800" y="5137200"/>
            <a:ext cx="177840" cy="304920"/>
            <a:chOff x="3790800" y="5137200"/>
            <a:chExt cx="177840" cy="304920"/>
          </a:xfrm>
        </p:grpSpPr>
        <p:sp>
          <p:nvSpPr>
            <p:cNvPr id="89" name=""/>
            <p:cNvSpPr/>
            <p:nvPr/>
          </p:nvSpPr>
          <p:spPr>
            <a:xfrm>
              <a:off x="3790800" y="52261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41920" y="51372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98840" y="56008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873600" y="54543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57880" y="15559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95800" y="263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95800" y="32068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95800" y="211464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0720" y="5929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01240" y="21319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26440" y="3205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4760" y="42973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07360" y="1122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96516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85920" y="2911320"/>
            <a:ext cx="255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ultiplex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5280" y="7254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e ex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800" y="34686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93680" y="3429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12040" y="6135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ô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Démultiplexeur à 4 sorti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30440" y="243360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229360" y="3517920"/>
            <a:ext cx="1009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38360" y="457524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64000" y="15494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238360" y="140976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866760" y="13399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42880" y="2692440"/>
            <a:ext cx="102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4720" y="24620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00480" y="593244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375080" y="5162400"/>
            <a:ext cx="177840" cy="304920"/>
            <a:chOff x="4375080" y="5162400"/>
            <a:chExt cx="177840" cy="304920"/>
          </a:xfrm>
        </p:grpSpPr>
        <p:sp>
          <p:nvSpPr>
            <p:cNvPr id="145" name=""/>
            <p:cNvSpPr/>
            <p:nvPr/>
          </p:nvSpPr>
          <p:spPr>
            <a:xfrm>
              <a:off x="4375080" y="52513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5840" y="51624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886200" y="13395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790800" y="5137200"/>
            <a:ext cx="177840" cy="304920"/>
            <a:chOff x="3790800" y="5137200"/>
            <a:chExt cx="177840" cy="304920"/>
          </a:xfrm>
        </p:grpSpPr>
        <p:sp>
          <p:nvSpPr>
            <p:cNvPr id="154" name=""/>
            <p:cNvSpPr/>
            <p:nvPr/>
          </p:nvSpPr>
          <p:spPr>
            <a:xfrm>
              <a:off x="3790800" y="52261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41920" y="51372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98840" y="56008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73600" y="54543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57880" y="15559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95800" y="263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95800" y="32068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95800" y="211464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1080" y="592920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01240" y="21319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6440" y="3205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94760" y="42973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07000" y="1122480"/>
            <a:ext cx="14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1 = E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96516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5920" y="2911320"/>
            <a:ext cx="255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ultiplex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9080" y="5857920"/>
            <a:ext cx="1527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70000" y="6121440"/>
            <a:ext cx="965160" cy="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15160" y="115560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7320" y="115560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Démultiplexeur à 4 sorti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230440" y="243360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229360" y="3517920"/>
            <a:ext cx="1009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238360" y="457524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464000" y="15494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219280" y="1409760"/>
            <a:ext cx="104796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866760" y="13399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323800" y="2692440"/>
            <a:ext cx="106668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4720" y="24620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86200" y="13395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57880" y="15559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95800" y="263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95800" y="32068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95800" y="211464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01240" y="21319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26440" y="32050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94760" y="42973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96516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073320" y="1371240"/>
            <a:ext cx="2895840" cy="1346040"/>
          </a:xfrm>
          <a:prstGeom prst="line">
            <a:avLst/>
          </a:prstGeom>
          <a:ln w="50760">
            <a:solidFill>
              <a:srgbClr val="ff50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93244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1080" y="592920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9080" y="5857920"/>
            <a:ext cx="1527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70000" y="6121440"/>
            <a:ext cx="965160" cy="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07000" y="1122480"/>
            <a:ext cx="14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5008"/>
                </a:solidFill>
                <a:latin typeface="Arial"/>
              </a:rPr>
              <a:t>S1 = E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15160" y="1155600"/>
            <a:ext cx="114480" cy="0"/>
          </a:xfrm>
          <a:prstGeom prst="line">
            <a:avLst/>
          </a:prstGeom>
          <a:ln w="1260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37320" y="1155600"/>
            <a:ext cx="114480" cy="0"/>
          </a:xfrm>
          <a:prstGeom prst="line">
            <a:avLst/>
          </a:prstGeom>
          <a:ln w="1260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85920" y="2911320"/>
            <a:ext cx="255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ultiplex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Démultiplexeur à 4 sorti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211360" y="2433600"/>
            <a:ext cx="104796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29360" y="3517920"/>
            <a:ext cx="1009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238360" y="457524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464000" y="15494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238360" y="140976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3866760" y="13399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323800" y="2692440"/>
            <a:ext cx="1066680" cy="0"/>
          </a:xfrm>
          <a:prstGeom prst="line">
            <a:avLst/>
          </a:prstGeom>
          <a:ln w="5076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4720" y="24620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00480" y="593244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375080" y="5162400"/>
            <a:ext cx="177840" cy="304920"/>
            <a:chOff x="4375080" y="5162400"/>
            <a:chExt cx="177840" cy="304920"/>
          </a:xfrm>
        </p:grpSpPr>
        <p:sp>
          <p:nvSpPr>
            <p:cNvPr id="266" name=""/>
            <p:cNvSpPr/>
            <p:nvPr/>
          </p:nvSpPr>
          <p:spPr>
            <a:xfrm>
              <a:off x="4375080" y="52513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25840" y="51624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886200" y="13395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790800" y="5137200"/>
            <a:ext cx="177840" cy="304920"/>
            <a:chOff x="3790800" y="5137200"/>
            <a:chExt cx="177840" cy="304920"/>
          </a:xfrm>
        </p:grpSpPr>
        <p:sp>
          <p:nvSpPr>
            <p:cNvPr id="275" name=""/>
            <p:cNvSpPr/>
            <p:nvPr/>
          </p:nvSpPr>
          <p:spPr>
            <a:xfrm>
              <a:off x="3790800" y="52261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41920" y="51372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98840" y="560088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873600" y="5454360"/>
            <a:ext cx="0" cy="152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57880" y="15559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95800" y="263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95800" y="32068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95800" y="211464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1080" y="5929200"/>
            <a:ext cx="69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b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00880" y="2131920"/>
            <a:ext cx="14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5008"/>
                </a:solidFill>
                <a:latin typeface="Arial"/>
              </a:rPr>
              <a:t>S2 = E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26440" y="32050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94760" y="429732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07360" y="1122480"/>
            <a:ext cx="90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96516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0880" y="5857920"/>
            <a:ext cx="1824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ontrôl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70000" y="6121440"/>
            <a:ext cx="965160" cy="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073320" y="2413080"/>
            <a:ext cx="2895840" cy="304560"/>
          </a:xfrm>
          <a:prstGeom prst="line">
            <a:avLst/>
          </a:prstGeom>
          <a:ln w="50760">
            <a:solidFill>
              <a:srgbClr val="ff50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12120" y="2209680"/>
            <a:ext cx="114120" cy="0"/>
          </a:xfrm>
          <a:prstGeom prst="line">
            <a:avLst/>
          </a:prstGeom>
          <a:ln w="1260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85920" y="2911320"/>
            <a:ext cx="255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ultiplex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Démultiplexeur à 4 sorti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230440" y="243360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229360" y="3517920"/>
            <a:ext cx="1009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238360" y="457524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464000" y="15494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238360" y="140976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3866760" y="13399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342880" y="2692440"/>
            <a:ext cx="102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4720" y="24620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00480" y="59324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375080" y="5162400"/>
            <a:ext cx="177840" cy="304920"/>
            <a:chOff x="4375080" y="5162400"/>
            <a:chExt cx="177840" cy="304920"/>
          </a:xfrm>
        </p:grpSpPr>
        <p:sp>
          <p:nvSpPr>
            <p:cNvPr id="331" name=""/>
            <p:cNvSpPr/>
            <p:nvPr/>
          </p:nvSpPr>
          <p:spPr>
            <a:xfrm>
              <a:off x="4375080" y="52513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25840" y="51624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886200" y="13395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790800" y="5137200"/>
            <a:ext cx="177840" cy="304920"/>
            <a:chOff x="3790800" y="5137200"/>
            <a:chExt cx="177840" cy="304920"/>
          </a:xfrm>
        </p:grpSpPr>
        <p:sp>
          <p:nvSpPr>
            <p:cNvPr id="340" name=""/>
            <p:cNvSpPr/>
            <p:nvPr/>
          </p:nvSpPr>
          <p:spPr>
            <a:xfrm>
              <a:off x="3790800" y="52261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41920" y="51372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98840" y="56008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873600" y="54543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57880" y="15559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95800" y="263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95800" y="32068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95800" y="211464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0720" y="5929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01240" y="21319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26440" y="3205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94760" y="42973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07360" y="1122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965160"/>
            <a:ext cx="2933640" cy="476892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85920" y="2911320"/>
            <a:ext cx="255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ultiplex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6400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entrées de contrôle permettent de sélectionner  une sort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Démultiplexeur à 4 sorti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48040" y="20462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98040" y="20480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0800000">
            <a:off x="4311720" y="205452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070160" y="2573280"/>
            <a:ext cx="66492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230440" y="243360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828600" y="2374920"/>
            <a:ext cx="90972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3363480" y="216864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46600" y="313056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95880" y="3132000"/>
            <a:ext cx="92664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0800000">
            <a:off x="4310280" y="313884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464000" y="3657600"/>
            <a:ext cx="27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229360" y="3517920"/>
            <a:ext cx="1009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485880" y="3448080"/>
            <a:ext cx="12510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3362040" y="3252960"/>
            <a:ext cx="138420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56320" y="418788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05960" y="418932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0800000">
            <a:off x="4319640" y="419616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4095360" y="4704840"/>
            <a:ext cx="647640" cy="1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238360" y="457524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485880" y="4516560"/>
            <a:ext cx="12603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346560" y="4321080"/>
            <a:ext cx="140976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56320" y="102240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05960" y="1023840"/>
            <a:ext cx="92592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0800000">
            <a:off x="4319640" y="1030680"/>
            <a:ext cx="92700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464000" y="154944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238360" y="1409760"/>
            <a:ext cx="100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3866760" y="1339920"/>
            <a:ext cx="879480" cy="1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363840" y="1155600"/>
            <a:ext cx="1392480" cy="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52680" y="117468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342880" y="2692440"/>
            <a:ext cx="102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4720" y="24620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00480" y="59324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375080" y="5162400"/>
            <a:ext cx="177840" cy="304920"/>
            <a:chOff x="4375080" y="5162400"/>
            <a:chExt cx="177840" cy="304920"/>
          </a:xfrm>
        </p:grpSpPr>
        <p:sp>
          <p:nvSpPr>
            <p:cNvPr id="393" name=""/>
            <p:cNvSpPr/>
            <p:nvPr/>
          </p:nvSpPr>
          <p:spPr>
            <a:xfrm>
              <a:off x="4375080" y="52513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25840" y="5162400"/>
              <a:ext cx="63720" cy="63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076640" y="2584440"/>
            <a:ext cx="0" cy="339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28960" y="2330280"/>
            <a:ext cx="11448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19400" y="4667400"/>
            <a:ext cx="11448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83120" y="56260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457880" y="547992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886200" y="133956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790800" y="5137200"/>
            <a:ext cx="177840" cy="304920"/>
            <a:chOff x="3790800" y="5137200"/>
            <a:chExt cx="177840" cy="304920"/>
          </a:xfrm>
        </p:grpSpPr>
        <p:sp>
          <p:nvSpPr>
            <p:cNvPr id="402" name=""/>
            <p:cNvSpPr/>
            <p:nvPr/>
          </p:nvSpPr>
          <p:spPr>
            <a:xfrm>
              <a:off x="3790800" y="5226120"/>
              <a:ext cx="177840" cy="21600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41920" y="5137200"/>
              <a:ext cx="63360" cy="63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3492360" y="3460680"/>
            <a:ext cx="0" cy="2489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00640" y="360036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98840" y="560088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873600" y="54543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57880" y="1555920"/>
            <a:ext cx="0" cy="358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95800" y="26352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35480" y="4464000"/>
            <a:ext cx="114120" cy="114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95800" y="320688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95800" y="2114640"/>
            <a:ext cx="114120" cy="114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0720" y="5929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01240" y="21319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26440" y="3205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94760" y="42973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07360" y="11224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8280" y="1487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e in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9T18:16:06Z</dcterms:created>
  <dc:creator>dupont</dc:creator>
  <dc:description/>
  <dc:language>en-US</dc:language>
  <cp:lastModifiedBy>Denis Dupont</cp:lastModifiedBy>
  <dcterms:modified xsi:type="dcterms:W3CDTF">2003-02-28T10:48:08Z</dcterms:modified>
  <cp:revision>28</cp:revision>
  <dc:subject/>
  <dc:title>Les fonctions logiques : simplification</dc:title>
</cp:coreProperties>
</file>