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92913" cy="9958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3200" cy="99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06480" y="4730400"/>
            <a:ext cx="4981680" cy="41972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9600" bIns="396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"/>
          <p:cNvSpPr/>
          <p:nvPr/>
        </p:nvSpPr>
        <p:spPr>
          <a:xfrm>
            <a:off x="5110560" y="9448920"/>
            <a:ext cx="130104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Book Antiqua"/>
              </a:rPr>
              <a:t>Copirate D. Dupo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72640" y="866880"/>
            <a:ext cx="5048280" cy="349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06480" y="4730400"/>
            <a:ext cx="4981680" cy="41972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9600" bIns="396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ook Antiqua"/>
              </a:rPr>
              <a:t>Exposant biaise :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ook Antiqua"/>
              </a:rPr>
              <a:t>Exemple avec 4 bites on peut representer 2*4=16 valeurs de l’exposant qui vont de 0 à 15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ook Antiqua"/>
              </a:rPr>
              <a:t>On peut faire représenter les 8 premieères valeurs de E (0 à 7) à un exposant négatif, les huit suivantes (de 8 à 15) à un exposant positif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ook Antiqua"/>
              </a:rPr>
              <a:t>Un exposant nul est donc représenté par la valeur 8., 1 par la valeur9 un exposant de valeur -1 par la valeur 7. On dit que le biaais est égal à 8. C’est la valeur qu’il faut soustraire à lexposant biaisé (de 0 à 15) pour obtenir l’exposant effectif (de -8 à 7)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ook Antiqua"/>
              </a:rPr>
              <a:t>L’addition de la valeur à l’exposant evite de traiter des nombre négatif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ldImg"/>
          </p:nvPr>
        </p:nvSpPr>
        <p:spPr>
          <a:xfrm>
            <a:off x="873000" y="866880"/>
            <a:ext cx="5048280" cy="3495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3000" y="866880"/>
            <a:ext cx="5048280" cy="3495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30400"/>
            <a:ext cx="4981680" cy="41972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9600" bIns="396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0160" y="882720"/>
            <a:ext cx="953424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0160" y="3862800"/>
            <a:ext cx="953424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0160" y="882720"/>
            <a:ext cx="465264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85720" y="882720"/>
            <a:ext cx="465264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0160" y="3862800"/>
            <a:ext cx="465264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85720" y="3862800"/>
            <a:ext cx="465264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0160" y="882720"/>
            <a:ext cx="306972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3600" y="882720"/>
            <a:ext cx="306972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47400" y="882720"/>
            <a:ext cx="306972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00160" y="3862800"/>
            <a:ext cx="306972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23600" y="3862800"/>
            <a:ext cx="306972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47400" y="3862800"/>
            <a:ext cx="306972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00160" y="882720"/>
            <a:ext cx="9534240" cy="57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00160" y="882720"/>
            <a:ext cx="9534240" cy="57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0160" y="882720"/>
            <a:ext cx="4652640" cy="57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85720" y="882720"/>
            <a:ext cx="4652640" cy="57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080" y="14400"/>
            <a:ext cx="9802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0160" y="882720"/>
            <a:ext cx="465264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85720" y="882720"/>
            <a:ext cx="4652640" cy="57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00160" y="3862800"/>
            <a:ext cx="465264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0160" y="882720"/>
            <a:ext cx="4652640" cy="57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5720" y="882720"/>
            <a:ext cx="465264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85720" y="3862800"/>
            <a:ext cx="465264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0160" y="882720"/>
            <a:ext cx="465264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5720" y="882720"/>
            <a:ext cx="465264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0160" y="3862800"/>
            <a:ext cx="9534240" cy="27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0160" y="882720"/>
            <a:ext cx="9534240" cy="57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5840">
              <a:spcBef>
                <a:spcPts val="901"/>
              </a:spcBef>
              <a:buClr>
                <a:srgbClr val="cf0e3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858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858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858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858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480" y="533520"/>
            <a:ext cx="9810720" cy="0"/>
          </a:xfrm>
          <a:prstGeom prst="line">
            <a:avLst/>
          </a:prstGeom>
          <a:ln w="12600">
            <a:solidFill>
              <a:srgbClr val="5675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029200"/>
            <a:ext cx="99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Le codage de l ’information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24120" y="12193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présentation des nom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opérations de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présentation à virgule flot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rrection par codage de H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1019016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Passage des bases Hexadécimale à octal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55600" y="2209680"/>
            <a:ext cx="7120080" cy="3600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2840" y="801720"/>
            <a:ext cx="9345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nombre de bits nécessaires pour coder un nombre binaire dans une base est :  n=Log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39520" y="2362320"/>
            <a:ext cx="848160" cy="155700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07932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 n=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 n=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Le complément à Deux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0160" y="882360"/>
            <a:ext cx="9534240" cy="25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obtenir le complément à deux d ’un nomb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- complémenter bit à bit (0 en 1 et 1 en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- Ajou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mme du nb et de son complément = 2 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Représentation des nombres 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17600" y="882720"/>
            <a:ext cx="72882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Les opérations élémentaires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04840" y="1190520"/>
            <a:ext cx="77961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Le complément à Deux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0160" y="882360"/>
            <a:ext cx="9534240" cy="25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représentation en complément à deux est très employée. Pas besoin de savoir soustraire pour faire une soustraction, merci B. Pascal :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e en base 10 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- 6 = 04 + (93 + 1) = 98 = 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rque : Ceci permet d ’éviter le test des opéran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représentation en complément on code évidemment autant de chiffres mais réduit la valeur absolue du plus grand nombre cod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Représentation en virgule flottante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70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nombre réel est représenté sous la forme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 r=mB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ourier New"/>
              </a:rPr>
              <a:t>exp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ù m est la mantisse, exp est l ’exposant et B la base de l ’expo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- Convertir le nombre en bi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b- Normal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- Calculer la représentation de l’expos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- Convertir l’exposant en bi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- Calculer le bit de sig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7040" y="3886200"/>
            <a:ext cx="4248000" cy="27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 32 bits, 8 bits pour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,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1*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1+127=12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100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e=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90480" y="4572000"/>
            <a:ext cx="3337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Code détecteurs et correction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0160" y="882720"/>
            <a:ext cx="9534240" cy="57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informations subissent lors du stockage ou de leurs transmissions des modifications. Des codes de détections et de corrections peuvent être alors employ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codes qui permettent la détection des erreurs sont des codes </a:t>
            </a:r>
            <a:r>
              <a:rPr b="0" lang="fr-FR" sz="2400" spc="-1" strike="noStrike">
                <a:solidFill>
                  <a:srgbClr val="5675c8"/>
                </a:solidFill>
                <a:latin typeface="Arial"/>
              </a:rPr>
              <a:t>autovérificateur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les codes qui permettent la détection et la correction sont des codes </a:t>
            </a:r>
            <a:r>
              <a:rPr b="0" lang="fr-FR" sz="2400" spc="-1" strike="noStrike">
                <a:solidFill>
                  <a:srgbClr val="5675c8"/>
                </a:solidFill>
                <a:latin typeface="Arial"/>
              </a:rPr>
              <a:t>autocorrecte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de de </a:t>
            </a:r>
            <a:r>
              <a:rPr b="0" lang="fr-FR" sz="2400" spc="-1" strike="noStrike">
                <a:solidFill>
                  <a:srgbClr val="5675c8"/>
                </a:solidFill>
                <a:latin typeface="Arial"/>
              </a:rPr>
              <a:t>Hamming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 un code autocorrecteur, basé sur le test de parité. k bits doivent indiquer les n+1 possibilités d ’erreurs ou de non err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675c8"/>
                </a:solidFill>
                <a:latin typeface="Arial"/>
              </a:rPr>
              <a:t>Correction par codage de Hamming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0160" y="882360"/>
            <a:ext cx="9534240" cy="25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x m bits d ’information on ajou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 de contrôle de parité. Puisque k bits doivent indiquer l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sibilités d ’erreurs et de non erreur, ains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n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Courier New"/>
              </a:rPr>
              <a:t>1 2 3 4 5 6 7 8 9 10 11 12 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Courier New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Courier New"/>
              </a:rPr>
              <a:t>1 2 2 3 3 3 3 4 4  4  4  4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au donnant le nombre de bits de correction en fonction de la taille des mo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4720" y="3905280"/>
            <a:ext cx="394956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lle du m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s de corr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549600"/>
            <a:ext cx="95346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675c8"/>
                </a:solidFill>
                <a:latin typeface="Arial"/>
              </a:rPr>
              <a:t>Construction du code de Hamming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1160" y="837720"/>
            <a:ext cx="9534600" cy="570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bit de parité 1 vérifie les bits : 1 3 5 7 9 11 13 15 17 19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bit de parité 2 vérifie les bits : 2 3 6 7 10 11 14 15 18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bit de parité 4 vérifie les bits : 4 5 6 7 12 13 14 15 20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bit de parité 8 vérifie les bits : 8 9 10 11 12 13 14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bit de parité 16 vérifie les bits : 16 17 18 19 20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f0e30"/>
                </a:solidFill>
                <a:latin typeface="Arial"/>
              </a:rPr>
              <a:t>1    3    5    7    9      11      13      15      17      19     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cf0e30"/>
                </a:solidFill>
                <a:uFillTx/>
                <a:latin typeface="Arial"/>
              </a:rPr>
              <a:t>1</a:t>
            </a:r>
            <a:r>
              <a:rPr b="1" i="1" lang="fr-FR" sz="2400" spc="-1" strike="noStrike" u="sng">
                <a:solidFill>
                  <a:srgbClr val="5675c8"/>
                </a:solidFill>
                <a:uFillTx/>
                <a:latin typeface="Arial"/>
              </a:rPr>
              <a:t> </a:t>
            </a:r>
            <a:r>
              <a:rPr b="0" lang="fr-FR" sz="2400" spc="-1" strike="noStrike" u="sng">
                <a:solidFill>
                  <a:srgbClr val="5675c8"/>
                </a:solidFill>
                <a:uFillTx/>
                <a:latin typeface="Arial"/>
              </a:rPr>
              <a:t>2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fr-FR" sz="2400" spc="-1" strike="noStrike" u="sng">
                <a:solidFill>
                  <a:srgbClr val="5675c8"/>
                </a:solidFill>
                <a:uFillTx/>
                <a:latin typeface="Arial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5 6 7 </a:t>
            </a:r>
            <a:r>
              <a:rPr b="0" lang="fr-FR" sz="2400" spc="-1" strike="noStrike" u="sng">
                <a:solidFill>
                  <a:srgbClr val="5675c8"/>
                </a:solidFill>
                <a:uFillTx/>
                <a:latin typeface="Arial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9 10 11 12 13 14 15 </a:t>
            </a:r>
            <a:r>
              <a:rPr b="0" lang="fr-FR" sz="2400" spc="-1" strike="noStrike" u="sng">
                <a:solidFill>
                  <a:srgbClr val="5675c8"/>
                </a:solidFill>
                <a:uFillTx/>
                <a:latin typeface="Arial"/>
              </a:rPr>
              <a:t>16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7 18 19 20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09120" y="5257800"/>
            <a:ext cx="4725000" cy="1374120"/>
            <a:chOff x="609120" y="5257800"/>
            <a:chExt cx="4725000" cy="1374120"/>
          </a:xfrm>
        </p:grpSpPr>
        <p:sp>
          <p:nvSpPr>
            <p:cNvPr id="112" name=""/>
            <p:cNvSpPr/>
            <p:nvPr/>
          </p:nvSpPr>
          <p:spPr>
            <a:xfrm>
              <a:off x="3143880" y="6172200"/>
              <a:ext cx="19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ts de parité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09120" y="5257800"/>
              <a:ext cx="35816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761760" y="5257800"/>
              <a:ext cx="34290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295280" y="5257800"/>
              <a:ext cx="28958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2286000" y="5257800"/>
              <a:ext cx="1905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257800"/>
              <a:ext cx="11430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H="1">
            <a:off x="609480" y="4114800"/>
            <a:ext cx="68580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09480" y="4114800"/>
            <a:ext cx="6019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9120" y="4114800"/>
            <a:ext cx="52578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85440" y="4114800"/>
            <a:ext cx="42670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09120" y="4114800"/>
            <a:ext cx="35053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33520" y="4114800"/>
            <a:ext cx="27432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33160" y="4038480"/>
            <a:ext cx="19810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09480" y="4114800"/>
            <a:ext cx="13716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9480" y="4114800"/>
            <a:ext cx="9144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9480" y="411480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114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675c8"/>
                </a:solidFill>
                <a:latin typeface="Arial"/>
              </a:rPr>
              <a:t>Construction du code de Hamming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1160" y="837720"/>
            <a:ext cx="9534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bit incorrect est donné par la somme des bits de par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t mémoire 111100001010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75c8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5675c8"/>
                </a:solidFill>
                <a:latin typeface="Arial"/>
              </a:rPr>
              <a:t>0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fr-FR" sz="2400" spc="-1" strike="noStrike">
                <a:solidFill>
                  <a:srgbClr val="5675c8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 1 </a:t>
            </a:r>
            <a:r>
              <a:rPr b="0" lang="fr-FR" sz="2400" spc="-1" strike="noStrike">
                <a:solidFill>
                  <a:srgbClr val="5675c8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0   0   0   0   1   0   1   </a:t>
            </a:r>
            <a:r>
              <a:rPr b="0" lang="fr-FR" sz="2400" spc="-1" strike="noStrike">
                <a:solidFill>
                  <a:srgbClr val="5675c8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0   1   1   1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 2 3 4 5 6 7 8 9 10 11 12 13 14 15 16 17 18 19 20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67560" y="4724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 de par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533520" y="3809520"/>
            <a:ext cx="358128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5440" y="3809520"/>
            <a:ext cx="34290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218960" y="3809520"/>
            <a:ext cx="289548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209680" y="3809520"/>
            <a:ext cx="19051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114800" y="3809520"/>
            <a:ext cx="11430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6840" y="5373720"/>
            <a:ext cx="67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bits de contrôle 1 et 4 sont incorrect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bit 5 (4+1) est à corrig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Times New Roman"/>
              </a:rPr>
              <a:t>0 0 1 0 </a:t>
            </a:r>
            <a:r>
              <a:rPr b="0" lang="en-US" sz="2400" spc="-1" strike="noStrike" u="sng">
                <a:solidFill>
                  <a:srgbClr val="cf0e30"/>
                </a:solidFill>
                <a:uFillTx/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</a:rPr>
              <a:t> 1 1 0 0   0   0   0   1   0   1   1   0   1   1   1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Objectifs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0160" y="882720"/>
            <a:ext cx="9534240" cy="57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s verrons comment les instructions et les données sont représentées dans l ’ordinat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s apprendrons à représenter les nombres dans différentes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s verrons un codage permettant de corriger un cod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1160" y="914040"/>
            <a:ext cx="9534600" cy="570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es principes fondamentaux de l ’informatique est que : Toute information (instructions ou donnée) est représentée dans un ordinateur par des nom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s nombres sont des nombres bin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information élémentaire correspond à un chiffre binaire (0 ou 1) appelé 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dage de l ’information permet d ’établir une correspondance entre la représentation externe de l ’information et sa représentation bin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Codage de l’information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99360" y="932040"/>
            <a:ext cx="251784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5200" y="1820880"/>
            <a:ext cx="6940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DONN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S EN CODE MACH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67120" y="3236760"/>
            <a:ext cx="556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NUME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8640" y="4572000"/>
            <a:ext cx="882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 ENTIERS POSITIFS   NB FRACTIONNAIRES  NB ENTIERS NEGATI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5977080"/>
            <a:ext cx="495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GULE FIXE     VIRGULE FLOT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12000" y="3666960"/>
            <a:ext cx="237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CD ASCII EBCD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743200" y="3687840"/>
            <a:ext cx="782640" cy="457200"/>
          </a:xfrm>
          <a:prstGeom prst="line">
            <a:avLst/>
          </a:prstGeom>
          <a:ln w="50760">
            <a:solidFill>
              <a:srgbClr val="5675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862440" y="1494000"/>
            <a:ext cx="782640" cy="457200"/>
          </a:xfrm>
          <a:prstGeom prst="line">
            <a:avLst/>
          </a:prstGeom>
          <a:ln w="50760">
            <a:solidFill>
              <a:srgbClr val="5675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522760" y="2552760"/>
            <a:ext cx="782640" cy="457200"/>
          </a:xfrm>
          <a:prstGeom prst="line">
            <a:avLst/>
          </a:prstGeom>
          <a:ln w="50760">
            <a:solidFill>
              <a:srgbClr val="5675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998880" y="8601120"/>
            <a:ext cx="782640" cy="457200"/>
          </a:xfrm>
          <a:prstGeom prst="line">
            <a:avLst/>
          </a:prstGeom>
          <a:ln w="507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83400" y="2541600"/>
            <a:ext cx="671400" cy="457200"/>
          </a:xfrm>
          <a:prstGeom prst="line">
            <a:avLst/>
          </a:prstGeom>
          <a:ln w="50760">
            <a:solidFill>
              <a:srgbClr val="5675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86240" y="1469880"/>
            <a:ext cx="673200" cy="457200"/>
          </a:xfrm>
          <a:prstGeom prst="line">
            <a:avLst/>
          </a:prstGeom>
          <a:ln w="50760">
            <a:solidFill>
              <a:srgbClr val="5675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67120" y="3708360"/>
            <a:ext cx="15840" cy="792360"/>
          </a:xfrm>
          <a:prstGeom prst="line">
            <a:avLst/>
          </a:prstGeom>
          <a:ln w="50760">
            <a:solidFill>
              <a:srgbClr val="5675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18320" y="3701880"/>
            <a:ext cx="672840" cy="457200"/>
          </a:xfrm>
          <a:prstGeom prst="line">
            <a:avLst/>
          </a:prstGeom>
          <a:ln w="50760">
            <a:solidFill>
              <a:srgbClr val="5675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929040" y="5183280"/>
            <a:ext cx="782640" cy="457200"/>
          </a:xfrm>
          <a:prstGeom prst="line">
            <a:avLst/>
          </a:prstGeom>
          <a:ln w="50760">
            <a:solidFill>
              <a:srgbClr val="5675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91120" y="5172120"/>
            <a:ext cx="671400" cy="457200"/>
          </a:xfrm>
          <a:prstGeom prst="line">
            <a:avLst/>
          </a:prstGeom>
          <a:ln w="50760">
            <a:solidFill>
              <a:srgbClr val="5675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240" y="4578480"/>
            <a:ext cx="3090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13320" y="4578480"/>
            <a:ext cx="31132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06600" y="4578480"/>
            <a:ext cx="28958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Représentation d ’un nombre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4840" y="2514600"/>
            <a:ext cx="1984320" cy="51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33400" y="2286000"/>
          <a:ext cx="76536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2286000"/>
                    <a:ext cx="7653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481320" y="1106640"/>
            <a:ext cx="71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t nombre peut se décomposer dans une bas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33400" y="1905120"/>
            <a:ext cx="6845400" cy="39621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Passage d ’un nombre décimal à un binaire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280" y="725400"/>
            <a:ext cx="73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nombre décimal est divisé successivement par 2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280360" y="4876920"/>
            <a:ext cx="608040" cy="906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457800" y="579132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ds 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Passage de la base deux à la base 10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0160" y="882720"/>
            <a:ext cx="9534240" cy="570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nombre binaire est successivement multiplié par 2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73160" y="1600200"/>
            <a:ext cx="81500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Généralisation 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8185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080" y="14400"/>
            <a:ext cx="980280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5675c8"/>
                </a:solidFill>
                <a:latin typeface="Arial"/>
              </a:rPr>
              <a:t>Quelques chiffres</a:t>
            </a:r>
            <a:endParaRPr b="0" lang="en-US" sz="3200" spc="-1" strike="noStrike">
              <a:solidFill>
                <a:srgbClr val="5675c8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4880" y="1123920"/>
            <a:ext cx="38066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9T18:16:06Z</dcterms:created>
  <dc:creator>dupont</dc:creator>
  <dc:description/>
  <dc:language>en-US</dc:language>
  <cp:lastModifiedBy>Denis Dupont</cp:lastModifiedBy>
  <cp:lastPrinted>2000-02-07T09:33:23Z</cp:lastPrinted>
  <dcterms:modified xsi:type="dcterms:W3CDTF">2004-02-25T12:16:16Z</dcterms:modified>
  <cp:revision>62</cp:revision>
  <dc:subject/>
  <dc:title>Les fonctions logiques : simplification</dc:title>
</cp:coreProperties>
</file>