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68835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9520" y="3843360"/>
            <a:ext cx="68835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716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9520" y="384336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827160" y="384336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26920" y="100980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4320" y="100980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9520" y="384336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626920" y="384336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54320" y="3843360"/>
            <a:ext cx="2216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9520" y="1009800"/>
            <a:ext cx="688356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68835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33591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827160" y="1009800"/>
            <a:ext cx="33591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27160" y="1009800"/>
            <a:ext cx="33591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9520" y="384336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33591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2716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27160" y="384336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27160" y="1009800"/>
            <a:ext cx="33591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9520" y="3843360"/>
            <a:ext cx="6883560" cy="25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9520" y="1009800"/>
            <a:ext cx="688356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542960" indent="-17136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2000160" indent="-17136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2000160" indent="-17136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2000160" indent="-17136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circuits séquentiel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352320" y="13716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 ’additionneur 4 b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nalyse des périodes d ’activité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es automat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a synthèse des automat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84960" y="2538360"/>
            <a:ext cx="5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441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450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459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5040" y="11826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ons le fonctionnement en fonction des intervalles de te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84960" y="2538360"/>
            <a:ext cx="5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24040" y="1620720"/>
            <a:ext cx="6174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Arial"/>
              </a:rPr>
              <a:t>r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501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510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afd00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afd00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519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4040" y="1620720"/>
            <a:ext cx="6174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Arial"/>
              </a:rPr>
              <a:t>r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86040" y="1620720"/>
            <a:ext cx="478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562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571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afd00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afd00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580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afd00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24040" y="16365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a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623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632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641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24040" y="16365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a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960640" y="3609720"/>
            <a:ext cx="3860280" cy="1353960"/>
            <a:chOff x="2960640" y="3609720"/>
            <a:chExt cx="3860280" cy="1353960"/>
          </a:xfrm>
        </p:grpSpPr>
        <p:sp>
          <p:nvSpPr>
            <p:cNvPr id="668" name=""/>
            <p:cNvSpPr/>
            <p:nvPr/>
          </p:nvSpPr>
          <p:spPr>
            <a:xfrm>
              <a:off x="2960640" y="3884400"/>
              <a:ext cx="3860280" cy="10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0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0126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75400" y="3609720"/>
              <a:ext cx="3732840" cy="135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687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696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705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9720" y="95400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tenue doit être disponible en entr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24040" y="162072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a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386040" y="1620720"/>
            <a:ext cx="478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750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759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768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8588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24040" y="16365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812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821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830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8588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24040" y="16365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960640" y="3609720"/>
            <a:ext cx="3860280" cy="1353960"/>
            <a:chOff x="2960640" y="3609720"/>
            <a:chExt cx="3860280" cy="1353960"/>
          </a:xfrm>
        </p:grpSpPr>
        <p:sp>
          <p:nvSpPr>
            <p:cNvPr id="859" name=""/>
            <p:cNvSpPr/>
            <p:nvPr/>
          </p:nvSpPr>
          <p:spPr>
            <a:xfrm>
              <a:off x="2960640" y="3884400"/>
              <a:ext cx="3860280" cy="10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0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0126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5400" y="3609720"/>
              <a:ext cx="3732840" cy="135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877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886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895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8588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24040" y="15987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386040" y="1620720"/>
            <a:ext cx="478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1672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96400" y="581040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28800" y="581040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20284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22280" y="5522760"/>
            <a:ext cx="136224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16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956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20880" y="58104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97800" y="57229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5880" y="552276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2104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00720" y="5810400"/>
            <a:ext cx="425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937040" y="5522760"/>
            <a:ext cx="136548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34000" y="6207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11880" y="581040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720800" y="5419800"/>
            <a:ext cx="6086520" cy="71280"/>
            <a:chOff x="1720800" y="5419800"/>
            <a:chExt cx="6086520" cy="71280"/>
          </a:xfrm>
        </p:grpSpPr>
        <p:sp>
          <p:nvSpPr>
            <p:cNvPr id="940" name=""/>
            <p:cNvSpPr/>
            <p:nvPr/>
          </p:nvSpPr>
          <p:spPr>
            <a:xfrm>
              <a:off x="71229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0732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20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0516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2584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1308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370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22800" y="541980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1514520" y="5072040"/>
            <a:ext cx="6521040" cy="363240"/>
            <a:chOff x="1514520" y="5072040"/>
            <a:chExt cx="6521040" cy="363240"/>
          </a:xfrm>
        </p:grpSpPr>
        <p:sp>
          <p:nvSpPr>
            <p:cNvPr id="949" name=""/>
            <p:cNvSpPr/>
            <p:nvPr/>
          </p:nvSpPr>
          <p:spPr>
            <a:xfrm flipH="1">
              <a:off x="691632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60068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514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2198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a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33192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00500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303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816160" y="5072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823760" y="6323040"/>
            <a:ext cx="5824440" cy="363240"/>
            <a:chOff x="1823760" y="6323040"/>
            <a:chExt cx="5824440" cy="363240"/>
          </a:xfrm>
        </p:grpSpPr>
        <p:sp>
          <p:nvSpPr>
            <p:cNvPr id="958" name=""/>
            <p:cNvSpPr/>
            <p:nvPr/>
          </p:nvSpPr>
          <p:spPr>
            <a:xfrm flipH="1">
              <a:off x="722556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34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2844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439600" y="63230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08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H="1">
            <a:off x="628632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501800" y="55339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718000" y="554364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8516160" y="5603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45708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28912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25400" y="575460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24800" y="5532480"/>
            <a:ext cx="1365120" cy="673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092720" y="578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434960" y="6730920"/>
            <a:ext cx="7147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29100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4272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75076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85880" y="6302520"/>
            <a:ext cx="4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386040" y="2540160"/>
            <a:ext cx="558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24040" y="1598760"/>
            <a:ext cx="577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75c8"/>
                </a:solidFill>
                <a:latin typeface="Arial"/>
              </a:rPr>
              <a:t>a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75c8"/>
                </a:solidFill>
                <a:latin typeface="Arial"/>
              </a:rPr>
              <a:t>b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Arial"/>
              </a:rPr>
              <a:t>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263920" y="5302080"/>
            <a:ext cx="94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247560" y="5345280"/>
            <a:ext cx="12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60880" y="3952800"/>
            <a:ext cx="496800" cy="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00680" y="4699080"/>
            <a:ext cx="1635120" cy="1238040"/>
          </a:xfrm>
          <a:prstGeom prst="rect">
            <a:avLst/>
          </a:prstGeom>
          <a:gradFill rotWithShape="0">
            <a:gsLst>
              <a:gs pos="0">
                <a:srgbClr val="feb89b"/>
              </a:gs>
              <a:gs pos="100000">
                <a:srgbClr val="ff50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222960" y="4102200"/>
            <a:ext cx="0" cy="12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254400" y="3962160"/>
            <a:ext cx="0" cy="13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286160" y="495000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4857840" y="59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08840" y="6364440"/>
            <a:ext cx="124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lo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2960640" y="3609720"/>
            <a:ext cx="3860280" cy="1353960"/>
            <a:chOff x="2960640" y="3609720"/>
            <a:chExt cx="3860280" cy="1353960"/>
          </a:xfrm>
        </p:grpSpPr>
        <p:sp>
          <p:nvSpPr>
            <p:cNvPr id="998" name=""/>
            <p:cNvSpPr/>
            <p:nvPr/>
          </p:nvSpPr>
          <p:spPr>
            <a:xfrm>
              <a:off x="2960640" y="3884400"/>
              <a:ext cx="3860280" cy="10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0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0126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75400" y="3609720"/>
              <a:ext cx="3732840" cy="135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878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 ’utilisation ici d ’un registre permet de mémoriser la retenue t-1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bjectif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838692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allons découvrir comment synthétiser une fonction à partir d ’un circuit séquentiel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263920" y="5302080"/>
            <a:ext cx="94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247560" y="5345280"/>
            <a:ext cx="12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60880" y="3952800"/>
            <a:ext cx="496800" cy="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000680" y="4699080"/>
            <a:ext cx="1635120" cy="1238040"/>
          </a:xfrm>
          <a:prstGeom prst="rect">
            <a:avLst/>
          </a:prstGeom>
          <a:gradFill rotWithShape="0">
            <a:gsLst>
              <a:gs pos="0">
                <a:srgbClr val="feb89b"/>
              </a:gs>
              <a:gs pos="100000">
                <a:srgbClr val="ff50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22960" y="4102200"/>
            <a:ext cx="0" cy="12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254400" y="3962160"/>
            <a:ext cx="0" cy="13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86160" y="495000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857840" y="59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08840" y="6364440"/>
            <a:ext cx="124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lo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3000" y="1030320"/>
            <a:ext cx="84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alisation d ’un additionneur à partir d ’un circuit séquenti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circuits séquentiel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99880" y="1009800"/>
            <a:ext cx="823464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Un circuit séquentiel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t un circuit dont les sorties dépendant des entrées et de l ’état du système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 : ce qu’il faut mémoriser de l’histoire du passé, c-a-d jusqu’à l’instant t+1, pour pouvoir déterminer les sorties présentes S(t)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 flipH="1">
            <a:off x="5263920" y="5302080"/>
            <a:ext cx="94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247560" y="5345280"/>
            <a:ext cx="12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automates d’états fini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00360" y="2603520"/>
            <a:ext cx="1973160" cy="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71520" y="2949480"/>
            <a:ext cx="163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950240" y="2381400"/>
            <a:ext cx="118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008"/>
                </a:solidFill>
                <a:latin typeface="Arial"/>
              </a:rPr>
              <a:t>s(ti+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60880" y="3952800"/>
            <a:ext cx="496800" cy="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61840" y="1684440"/>
            <a:ext cx="7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008"/>
                </a:solidFill>
                <a:latin typeface="Arial"/>
              </a:rPr>
              <a:t>e(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00680" y="4699080"/>
            <a:ext cx="1635120" cy="1238040"/>
          </a:xfrm>
          <a:prstGeom prst="rect">
            <a:avLst/>
          </a:prstGeom>
          <a:gradFill rotWithShape="0">
            <a:gsLst>
              <a:gs pos="0">
                <a:srgbClr val="feb89b"/>
              </a:gs>
              <a:gs pos="100000">
                <a:srgbClr val="ff50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22960" y="4102200"/>
            <a:ext cx="0" cy="12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4400" y="3962160"/>
            <a:ext cx="0" cy="13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94720" y="4950000"/>
            <a:ext cx="1355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uto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4857840" y="59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08840" y="6364440"/>
            <a:ext cx="124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lo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22360" y="3510000"/>
            <a:ext cx="795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ae00"/>
                </a:solidFill>
                <a:latin typeface="Arial"/>
              </a:rPr>
              <a:t>q(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75880" y="3619440"/>
            <a:ext cx="12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ae00"/>
                </a:solidFill>
                <a:latin typeface="Arial"/>
              </a:rPr>
              <a:t>q(ti+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869080" y="2646360"/>
            <a:ext cx="2157480" cy="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642000" y="2295000"/>
            <a:ext cx="511200" cy="60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006720" y="4311360"/>
            <a:ext cx="511200" cy="60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514600" y="2295000"/>
            <a:ext cx="511200" cy="60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943600" y="4311360"/>
            <a:ext cx="511200" cy="60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 flipH="1">
            <a:off x="5251320" y="5302080"/>
            <a:ext cx="102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34960" y="5334120"/>
            <a:ext cx="122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automates d’états fini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846760" y="4086360"/>
            <a:ext cx="347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911920" y="2612880"/>
            <a:ext cx="2082600" cy="82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832040" y="2603520"/>
            <a:ext cx="1909800" cy="6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71520" y="2949480"/>
            <a:ext cx="163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73480" y="3952800"/>
            <a:ext cx="47160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61840" y="1684440"/>
            <a:ext cx="7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008"/>
                </a:solidFill>
                <a:latin typeface="Arial"/>
              </a:rPr>
              <a:t>e(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000680" y="4699080"/>
            <a:ext cx="1635120" cy="1238040"/>
          </a:xfrm>
          <a:prstGeom prst="rect">
            <a:avLst/>
          </a:prstGeom>
          <a:gradFill rotWithShape="0">
            <a:gsLst>
              <a:gs pos="0">
                <a:srgbClr val="feb89b"/>
              </a:gs>
              <a:gs pos="100000">
                <a:srgbClr val="ff50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222960" y="4114800"/>
            <a:ext cx="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254400" y="3949200"/>
            <a:ext cx="0" cy="141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4720" y="4950000"/>
            <a:ext cx="1355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uto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57840" y="59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08840" y="6364440"/>
            <a:ext cx="124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lo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322360" y="3510000"/>
            <a:ext cx="795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ae00"/>
                </a:solidFill>
                <a:latin typeface="Arial"/>
              </a:rPr>
              <a:t>q(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5880" y="3619440"/>
            <a:ext cx="12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ae00"/>
                </a:solidFill>
                <a:latin typeface="Arial"/>
              </a:rPr>
              <a:t>q(ti+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06800" y="1746360"/>
            <a:ext cx="5254560" cy="4556160"/>
          </a:xfrm>
          <a:prstGeom prst="rect">
            <a:avLst/>
          </a:prstGeom>
          <a:gradFill rotWithShape="0">
            <a:gsLst>
              <a:gs pos="0">
                <a:srgbClr val="dce2f3"/>
              </a:gs>
              <a:gs pos="100000">
                <a:srgbClr val="5675c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43240" y="3570120"/>
            <a:ext cx="309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 d’états f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50240" y="2381400"/>
            <a:ext cx="118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008"/>
                </a:solidFill>
                <a:latin typeface="Arial"/>
              </a:rPr>
              <a:t>s(ti+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automates d ’états fini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299520" y="1009800"/>
            <a:ext cx="831060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Un autom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 un être mathématique dont la réponse à un stimulus extérieur dépend de ce stimulus et de l 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’ét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 de l ’automate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automate fini a un nombre fini d ’états internes. Les stimulus sont susceptibles de faire passer l ’automate d ’un état à un autre état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 ’automate est entièrement déterminé par la donnée de ses fonctions de transition qui fournissent le nouvel état et la réponse en fonction de l ’ancien état et du stimuli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circuit séquentie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99880" y="1009800"/>
            <a:ext cx="8637840" cy="54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our réaliser la synthèse d’un circuit séquentiel il faut :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déterminer le graphe des états (diagramme de transitions) ;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déterminer le nombre de bascules ;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construire la table d’états ;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réaliser les circuits combinatoires associés aux entrées des bascules et aux sortie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3640" y="12589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allons tenter de réaliser la synthèse d ’un additionneur à l ’aide d ’un circuit séquenti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9480" y="3697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exter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agramme de transition : graphe d’ét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782760" y="222084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7058160" y="3136680"/>
            <a:ext cx="473040" cy="393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767000" y="3413160"/>
            <a:ext cx="992160" cy="51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afd00"/>
                </a:solidFill>
                <a:latin typeface="Arial"/>
              </a:rPr>
              <a:t>Et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00040" y="492912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7200720" y="3968640"/>
            <a:ext cx="323640" cy="470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600" y="838080"/>
            <a:ext cx="8915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at : ce qu’il faut mémoriser de l’histoire du passé, c-a-d jusqu’à l’instant t+1, pour pouvoir déterminer les sorties présentes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65040" y="209700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ans notre exemple , il y a deux états internes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1 = Retenue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2 = Pasreten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10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00040" y="492912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44120" y="3413160"/>
            <a:ext cx="1744920" cy="51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048360" y="2660400"/>
            <a:ext cx="0" cy="742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83040" y="1371600"/>
            <a:ext cx="2062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/sor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67000" y="3413160"/>
            <a:ext cx="992160" cy="51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afd00"/>
                </a:solidFill>
                <a:latin typeface="Arial"/>
              </a:rPr>
              <a:t>Et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200720" y="3968640"/>
            <a:ext cx="323640" cy="470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 flipV="1">
            <a:off x="7058160" y="3136680"/>
            <a:ext cx="473040" cy="393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82760" y="222084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3120" y="6095880"/>
            <a:ext cx="294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présentation Mealey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2760" y="7254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ès avoir défini les états, il faut compléter le graphe par les transitions du systè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2760" y="209700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fonction de transition définit l ’évolution d ’un automate sous l ’effet d ’un stimulus exter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13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14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14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15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15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15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7200" y="137160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i le graphe de transition complet de l ’additionn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allons vérifier son comportement à partir d ’un certains nombres de stimulus d ’entré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1 bi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400" y="695160"/>
            <a:ext cx="2132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576680" y="3767040"/>
            <a:ext cx="30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9280" y="6176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720960" y="5432400"/>
            <a:ext cx="177840" cy="304920"/>
            <a:chOff x="3720960" y="5432400"/>
            <a:chExt cx="177840" cy="304920"/>
          </a:xfrm>
        </p:grpSpPr>
        <p:sp>
          <p:nvSpPr>
            <p:cNvPr id="49" name=""/>
            <p:cNvSpPr/>
            <p:nvPr/>
          </p:nvSpPr>
          <p:spPr>
            <a:xfrm>
              <a:off x="3720960" y="552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72080" y="54324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429000" y="589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03760" y="57495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21240" y="5432400"/>
            <a:ext cx="177840" cy="304920"/>
            <a:chOff x="4521240" y="5432400"/>
            <a:chExt cx="177840" cy="304920"/>
          </a:xfrm>
        </p:grpSpPr>
        <p:sp>
          <p:nvSpPr>
            <p:cNvPr id="54" name=""/>
            <p:cNvSpPr/>
            <p:nvPr/>
          </p:nvSpPr>
          <p:spPr>
            <a:xfrm>
              <a:off x="4521240" y="552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0" y="54324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229280" y="589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03680" y="57495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971800" y="5432400"/>
            <a:ext cx="177840" cy="304920"/>
            <a:chOff x="2971800" y="5432400"/>
            <a:chExt cx="177840" cy="304920"/>
          </a:xfrm>
        </p:grpSpPr>
        <p:sp>
          <p:nvSpPr>
            <p:cNvPr id="59" name=""/>
            <p:cNvSpPr/>
            <p:nvPr/>
          </p:nvSpPr>
          <p:spPr>
            <a:xfrm>
              <a:off x="2971800" y="552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2560" y="543240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679840" y="589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54240" y="57495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2520" y="836640"/>
            <a:ext cx="0" cy="540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2800" y="836640"/>
            <a:ext cx="0" cy="540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73360" y="836640"/>
            <a:ext cx="0" cy="540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54240" y="816120"/>
            <a:ext cx="1549440" cy="4606920"/>
            <a:chOff x="3054240" y="816120"/>
            <a:chExt cx="1549440" cy="4606920"/>
          </a:xfrm>
        </p:grpSpPr>
        <p:sp>
          <p:nvSpPr>
            <p:cNvPr id="67" name=""/>
            <p:cNvSpPr/>
            <p:nvPr/>
          </p:nvSpPr>
          <p:spPr>
            <a:xfrm>
              <a:off x="3803760" y="816120"/>
              <a:ext cx="0" cy="460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03680" y="816120"/>
              <a:ext cx="0" cy="460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54240" y="816120"/>
              <a:ext cx="0" cy="460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306600" y="618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51080" y="61898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2320" y="149868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99040" y="1555920"/>
            <a:ext cx="6984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51480" y="371016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772080" y="3551400"/>
            <a:ext cx="1087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6120" y="329400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679480" y="3351240"/>
            <a:ext cx="219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4440" y="3492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03520" y="47293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57520" y="4778280"/>
            <a:ext cx="219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871520" y="3959280"/>
            <a:ext cx="1764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8080" y="3960720"/>
            <a:ext cx="5457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632480" y="4017960"/>
            <a:ext cx="53964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977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977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3560" y="4222800"/>
            <a:ext cx="82800" cy="9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873680" y="3240000"/>
            <a:ext cx="1728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0240" y="3241800"/>
            <a:ext cx="545040" cy="7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4634640" y="3298680"/>
            <a:ext cx="53856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977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977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5360" y="3503520"/>
            <a:ext cx="82440" cy="98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91520" y="1486080"/>
            <a:ext cx="482040" cy="433080"/>
            <a:chOff x="4691520" y="1486080"/>
            <a:chExt cx="482040" cy="433080"/>
          </a:xfrm>
        </p:grpSpPr>
        <p:sp>
          <p:nvSpPr>
            <p:cNvPr id="90" name=""/>
            <p:cNvSpPr/>
            <p:nvPr/>
          </p:nvSpPr>
          <p:spPr>
            <a:xfrm flipH="1">
              <a:off x="4881600" y="1486080"/>
              <a:ext cx="1584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91520" y="1487520"/>
              <a:ext cx="41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701960" y="1524240"/>
              <a:ext cx="4093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24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13440" y="1644480"/>
              <a:ext cx="60120" cy="54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>
            <a:off x="4863600" y="4695840"/>
            <a:ext cx="1764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0160" y="4697280"/>
            <a:ext cx="5457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4624560" y="4754520"/>
            <a:ext cx="53964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977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977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5640" y="4959360"/>
            <a:ext cx="82800" cy="9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03720" y="5222880"/>
            <a:ext cx="66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8160" y="51656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72080" y="4305240"/>
            <a:ext cx="10872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54440" y="42465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1160" y="40449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052800" y="4086360"/>
            <a:ext cx="18352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196880" y="4479840"/>
            <a:ext cx="677880" cy="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8280" y="44244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65640" y="49626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16040" y="5019840"/>
            <a:ext cx="1460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55840" y="3154320"/>
            <a:ext cx="19080" cy="107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26440" y="3156120"/>
            <a:ext cx="704160" cy="11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642280" y="3246480"/>
            <a:ext cx="698040" cy="98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33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33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45360" y="3646440"/>
            <a:ext cx="104760" cy="109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62440" y="327492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68920" y="281124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6360" y="28177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400" y="1690560"/>
            <a:ext cx="69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68960" y="4265640"/>
            <a:ext cx="24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16640" y="37767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22760" y="3782880"/>
            <a:ext cx="42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68960" y="50022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03840" y="4098600"/>
            <a:ext cx="0" cy="9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0320" y="4105440"/>
            <a:ext cx="24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68960" y="3546360"/>
            <a:ext cx="69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5640" y="27608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16040" y="2817720"/>
            <a:ext cx="1460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96880" y="3031920"/>
            <a:ext cx="677880" cy="1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1160" y="2546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38400" y="2598840"/>
            <a:ext cx="184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48280" y="297648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981760" y="1386000"/>
            <a:ext cx="1728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8320" y="1387440"/>
            <a:ext cx="54504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5742720" y="1444680"/>
            <a:ext cx="53856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977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977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83440" y="1649520"/>
            <a:ext cx="82440" cy="9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65640" y="9651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90480" y="1014480"/>
            <a:ext cx="1506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57520" y="1785960"/>
            <a:ext cx="223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08200" y="173196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91520" y="944640"/>
            <a:ext cx="482040" cy="433080"/>
            <a:chOff x="4691520" y="944640"/>
            <a:chExt cx="482040" cy="433080"/>
          </a:xfrm>
        </p:grpSpPr>
        <p:sp>
          <p:nvSpPr>
            <p:cNvPr id="138" name=""/>
            <p:cNvSpPr/>
            <p:nvPr/>
          </p:nvSpPr>
          <p:spPr>
            <a:xfrm flipH="1">
              <a:off x="4881600" y="944640"/>
              <a:ext cx="1584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1520" y="946080"/>
              <a:ext cx="41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4701960" y="983160"/>
              <a:ext cx="4093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24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3440" y="1103400"/>
              <a:ext cx="60120" cy="54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365640" y="2016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00560" y="2073240"/>
            <a:ext cx="14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71680" y="229392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5560" y="22399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91520" y="2003400"/>
            <a:ext cx="482040" cy="433080"/>
            <a:chOff x="4691520" y="2003400"/>
            <a:chExt cx="482040" cy="433080"/>
          </a:xfrm>
        </p:grpSpPr>
        <p:sp>
          <p:nvSpPr>
            <p:cNvPr id="147" name=""/>
            <p:cNvSpPr/>
            <p:nvPr/>
          </p:nvSpPr>
          <p:spPr>
            <a:xfrm flipH="1">
              <a:off x="4881600" y="2003400"/>
              <a:ext cx="1584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91520" y="2004840"/>
              <a:ext cx="41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4701960" y="2041920"/>
              <a:ext cx="4093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24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3440" y="2162160"/>
              <a:ext cx="60120" cy="54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4871520" y="2494080"/>
            <a:ext cx="1764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18080" y="2495520"/>
            <a:ext cx="5457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632480" y="2552760"/>
            <a:ext cx="53964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977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977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3560" y="2757600"/>
            <a:ext cx="82800" cy="9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57520" y="1235160"/>
            <a:ext cx="223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11811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02240" y="150660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08720" y="113472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172120" y="1141560"/>
            <a:ext cx="34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76800" y="1674720"/>
            <a:ext cx="800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02240" y="1870200"/>
            <a:ext cx="48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0800" y="1868400"/>
            <a:ext cx="0" cy="30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72120" y="2174760"/>
            <a:ext cx="33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0640" y="3706920"/>
            <a:ext cx="69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73520" y="13730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83320" y="3405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704880"/>
            <a:ext cx="4130640" cy="52578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7000" y="2808360"/>
            <a:ext cx="189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18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19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19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20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20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20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3660840" y="3438360"/>
            <a:ext cx="1174680" cy="50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984320" y="404820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39080" y="3008160"/>
            <a:ext cx="367920" cy="316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237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241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246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251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255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25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28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29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29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30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30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30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3660840" y="2787480"/>
            <a:ext cx="1174680" cy="50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84320" y="339732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6961320" y="4784400"/>
            <a:ext cx="1792080" cy="693360"/>
            <a:chOff x="6961320" y="4784400"/>
            <a:chExt cx="1792080" cy="693360"/>
          </a:xfrm>
        </p:grpSpPr>
        <p:sp>
          <p:nvSpPr>
            <p:cNvPr id="1337" name=""/>
            <p:cNvSpPr/>
            <p:nvPr/>
          </p:nvSpPr>
          <p:spPr>
            <a:xfrm rot="10800000">
              <a:off x="7855200" y="4812120"/>
              <a:ext cx="898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85080" y="4849920"/>
              <a:ext cx="84096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9" y="0"/>
                  </a:moveTo>
                  <a:arcTo wR="10800" hR="10800" stAng="-5412948" swAng="5412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9" y="0"/>
                  </a:moveTo>
                  <a:arcTo wR="10800" hR="10800" stAng="-5412948" swAng="5412948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961320" y="4784400"/>
              <a:ext cx="1761480" cy="66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341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346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351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355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35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386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391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396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400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404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418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3660840" y="216864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984320" y="277812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10800000">
            <a:off x="6835680" y="1367280"/>
            <a:ext cx="380160" cy="320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437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441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446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451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455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45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48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49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49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50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50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50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3660840" y="154944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984320" y="215892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53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54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54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55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6913800" y="2006280"/>
            <a:ext cx="1792080" cy="693360"/>
            <a:chOff x="6913800" y="2006280"/>
            <a:chExt cx="1792080" cy="693360"/>
          </a:xfrm>
        </p:grpSpPr>
        <p:sp>
          <p:nvSpPr>
            <p:cNvPr id="1554" name=""/>
            <p:cNvSpPr/>
            <p:nvPr/>
          </p:nvSpPr>
          <p:spPr>
            <a:xfrm rot="10800000">
              <a:off x="7807680" y="2034000"/>
              <a:ext cx="898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837560" y="2071800"/>
              <a:ext cx="84096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9" y="0"/>
                  </a:moveTo>
                  <a:arcTo wR="10800" hR="10800" stAng="-5412948" swAng="5412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9" y="0"/>
                  </a:moveTo>
                  <a:arcTo wR="10800" hR="10800" stAng="-5412948" swAng="5412948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13800" y="2006280"/>
              <a:ext cx="1761480" cy="66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55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58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59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59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60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60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60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3660840" y="930240"/>
            <a:ext cx="117468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84320" y="1539720"/>
            <a:ext cx="1174680" cy="50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63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64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6510600" y="1204560"/>
            <a:ext cx="1225080" cy="685440"/>
            <a:chOff x="6510600" y="1204560"/>
            <a:chExt cx="1225080" cy="685440"/>
          </a:xfrm>
        </p:grpSpPr>
        <p:sp>
          <p:nvSpPr>
            <p:cNvPr id="1645" name=""/>
            <p:cNvSpPr/>
            <p:nvPr/>
          </p:nvSpPr>
          <p:spPr>
            <a:xfrm>
              <a:off x="6550200" y="1268280"/>
              <a:ext cx="7801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10800000">
              <a:off x="6510600" y="1224360"/>
              <a:ext cx="122508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534720" y="1262160"/>
              <a:ext cx="114840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119000" y="1204560"/>
              <a:ext cx="560880" cy="65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50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65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654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669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4 bits à propag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248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516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440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677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084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22680" y="349884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384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4664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98148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19924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0840" y="2941560"/>
            <a:ext cx="13572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35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131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892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2320" y="34988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4022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084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5998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068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940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2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1168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8776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200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8512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9840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2444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071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167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896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28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0058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83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034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26616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87760" y="293364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0972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569080" y="325296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495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544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31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396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87804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allons analyser les séquences d ’activités des additionneurs 1 bit en fonction du te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graphe d’état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539720" y="4952880"/>
            <a:ext cx="2159280" cy="1254240"/>
          </a:xfrm>
          <a:prstGeom prst="rect">
            <a:avLst/>
          </a:prstGeom>
          <a:gradFill rotWithShape="0">
            <a:gsLst>
              <a:gs pos="0">
                <a:srgbClr val="fddfb2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17600" y="1008000"/>
            <a:ext cx="4008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97240" y="44989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739960" y="452448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571840" y="6213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577960" y="6524640"/>
            <a:ext cx="17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4302000" y="448632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828800" y="53467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n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686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690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695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700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704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708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table des états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727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731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736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741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745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74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2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514200" y="201456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569640" y="473868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44360" y="1157400"/>
            <a:ext cx="4727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’ai vérifié sur un jeu d’entrée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n exhausti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e graphe semble bien correspondre au comportement attendu de mon systè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struction du graphe est l ’étape la plus dél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résentation sous forme de tab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769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773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778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783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787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791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958440" y="217332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98680" y="49291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39640" y="2057400"/>
            <a:ext cx="433728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ut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17680" y="2535120"/>
            <a:ext cx="434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06800" y="2068560"/>
            <a:ext cx="0" cy="370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0" y="6858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synthétiser mon circuit, on représente ce graphe par une table des éta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age des éta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814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818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823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828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832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836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958080" y="21733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034040" y="4929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94360" y="1173240"/>
            <a:ext cx="2975040" cy="82044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age des é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mbre de bas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23880" y="2316240"/>
            <a:ext cx="44863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y a deux éta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ucune retenu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t codé 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t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une retenu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t codé 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nombre de bascules est donnée pa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</a:rPr>
              <a:t>nbB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&gt;= nb E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b B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a table des éta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007400" y="297648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rot="10800000">
            <a:off x="683604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6929280" y="4752720"/>
            <a:ext cx="1887480" cy="757080"/>
            <a:chOff x="6929280" y="4752720"/>
            <a:chExt cx="1887480" cy="757080"/>
          </a:xfrm>
        </p:grpSpPr>
        <p:sp>
          <p:nvSpPr>
            <p:cNvPr id="1857" name=""/>
            <p:cNvSpPr/>
            <p:nvPr/>
          </p:nvSpPr>
          <p:spPr>
            <a:xfrm rot="10800000">
              <a:off x="7855200" y="481212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50520" y="4818240"/>
              <a:ext cx="9072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29280" y="475272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6646680" y="5722920"/>
            <a:ext cx="1296720" cy="732960"/>
            <a:chOff x="6646680" y="5722920"/>
            <a:chExt cx="1296720" cy="732960"/>
          </a:xfrm>
        </p:grpSpPr>
        <p:sp>
          <p:nvSpPr>
            <p:cNvPr id="1861" name=""/>
            <p:cNvSpPr/>
            <p:nvPr/>
          </p:nvSpPr>
          <p:spPr>
            <a:xfrm rot="10800000">
              <a:off x="6647400" y="5834520"/>
              <a:ext cx="8434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54960" y="581508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10800000">
              <a:off x="6646680" y="572292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10800000">
              <a:off x="7230960" y="573876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6503040" y="1173240"/>
            <a:ext cx="1296360" cy="748800"/>
            <a:chOff x="6503040" y="1173240"/>
            <a:chExt cx="1296360" cy="748800"/>
          </a:xfrm>
        </p:grpSpPr>
        <p:sp>
          <p:nvSpPr>
            <p:cNvPr id="1866" name=""/>
            <p:cNvSpPr/>
            <p:nvPr/>
          </p:nvSpPr>
          <p:spPr>
            <a:xfrm>
              <a:off x="6518160" y="12366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10800000">
              <a:off x="6510240" y="122436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503040" y="123048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086960" y="11732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5470920" y="4705200"/>
            <a:ext cx="1886400" cy="757440"/>
            <a:chOff x="5470920" y="4705200"/>
            <a:chExt cx="1886400" cy="757440"/>
          </a:xfrm>
        </p:grpSpPr>
        <p:sp>
          <p:nvSpPr>
            <p:cNvPr id="1871" name=""/>
            <p:cNvSpPr/>
            <p:nvPr/>
          </p:nvSpPr>
          <p:spPr>
            <a:xfrm rot="10800000">
              <a:off x="5470920" y="47646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2480" y="477036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2480" y="47052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6882120" y="1974600"/>
            <a:ext cx="1887120" cy="757440"/>
            <a:chOff x="6882120" y="1974600"/>
            <a:chExt cx="1887120" cy="757440"/>
          </a:xfrm>
        </p:grpSpPr>
        <p:sp>
          <p:nvSpPr>
            <p:cNvPr id="1875" name=""/>
            <p:cNvSpPr/>
            <p:nvPr/>
          </p:nvSpPr>
          <p:spPr>
            <a:xfrm rot="10800000">
              <a:off x="7807680" y="203400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803000" y="203976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82120" y="197460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470920" y="1911240"/>
            <a:ext cx="1886400" cy="756720"/>
            <a:chOff x="5470920" y="1911240"/>
            <a:chExt cx="1886400" cy="756720"/>
          </a:xfrm>
        </p:grpSpPr>
        <p:sp>
          <p:nvSpPr>
            <p:cNvPr id="1879" name=""/>
            <p:cNvSpPr/>
            <p:nvPr/>
          </p:nvSpPr>
          <p:spPr>
            <a:xfrm rot="10800000">
              <a:off x="5470920" y="196992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532480" y="197640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32480" y="1911240"/>
              <a:ext cx="18248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783480" y="792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021360" y="3554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52924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999560" y="56498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618320" y="3548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52924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888240" y="6389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999560" y="15382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562800" y="461016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515280" y="18637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958080" y="21733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034040" y="4929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09400" y="1681200"/>
            <a:ext cx="433728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ut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87440" y="2158920"/>
            <a:ext cx="434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076560" y="1692360"/>
            <a:ext cx="0" cy="370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30400" y="83808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remplace le nom de l ’état par son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0880" y="567072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tir de cette table il est facile de déterminer les fonctions logique donnant la sortie et l ’ét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schéma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265400" y="1684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243080" y="2506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898800" y="3840120"/>
            <a:ext cx="114480" cy="171360"/>
            <a:chOff x="3898800" y="3840120"/>
            <a:chExt cx="114480" cy="171360"/>
          </a:xfrm>
        </p:grpSpPr>
        <p:sp>
          <p:nvSpPr>
            <p:cNvPr id="1903" name=""/>
            <p:cNvSpPr/>
            <p:nvPr/>
          </p:nvSpPr>
          <p:spPr>
            <a:xfrm>
              <a:off x="3898800" y="3890880"/>
              <a:ext cx="11448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932280" y="3840120"/>
              <a:ext cx="3960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3703680" y="4106880"/>
            <a:ext cx="2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395280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4435560" y="3840120"/>
            <a:ext cx="114120" cy="171360"/>
            <a:chOff x="4435560" y="3840120"/>
            <a:chExt cx="114120" cy="171360"/>
          </a:xfrm>
        </p:grpSpPr>
        <p:sp>
          <p:nvSpPr>
            <p:cNvPr id="1908" name=""/>
            <p:cNvSpPr/>
            <p:nvPr/>
          </p:nvSpPr>
          <p:spPr>
            <a:xfrm>
              <a:off x="4435560" y="3890880"/>
              <a:ext cx="11412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68680" y="3840120"/>
              <a:ext cx="3816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0" name=""/>
          <p:cNvSpPr/>
          <p:nvPr/>
        </p:nvSpPr>
        <p:spPr>
          <a:xfrm>
            <a:off x="4240080" y="4106880"/>
            <a:ext cx="241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448776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3397320" y="3840120"/>
            <a:ext cx="114120" cy="171360"/>
            <a:chOff x="3397320" y="3840120"/>
            <a:chExt cx="114120" cy="171360"/>
          </a:xfrm>
        </p:grpSpPr>
        <p:sp>
          <p:nvSpPr>
            <p:cNvPr id="1913" name=""/>
            <p:cNvSpPr/>
            <p:nvPr/>
          </p:nvSpPr>
          <p:spPr>
            <a:xfrm>
              <a:off x="3397320" y="3890880"/>
              <a:ext cx="11412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30440" y="3840120"/>
              <a:ext cx="3816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3200400" y="4106880"/>
            <a:ext cx="2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344952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697200" y="1171440"/>
            <a:ext cx="324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233960" y="1171440"/>
            <a:ext cx="0" cy="293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3182400" y="1171440"/>
            <a:ext cx="17640" cy="293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3449520" y="1158840"/>
            <a:ext cx="1038240" cy="2670120"/>
            <a:chOff x="3449520" y="1158840"/>
            <a:chExt cx="1038240" cy="2670120"/>
          </a:xfrm>
        </p:grpSpPr>
        <p:sp>
          <p:nvSpPr>
            <p:cNvPr id="1921" name=""/>
            <p:cNvSpPr/>
            <p:nvPr/>
          </p:nvSpPr>
          <p:spPr>
            <a:xfrm>
              <a:off x="395280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4952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3152880" y="2865600"/>
            <a:ext cx="3597840" cy="862560"/>
            <a:chOff x="3152880" y="2865600"/>
            <a:chExt cx="3597840" cy="862560"/>
          </a:xfrm>
        </p:grpSpPr>
        <p:sp>
          <p:nvSpPr>
            <p:cNvPr id="1925" name=""/>
            <p:cNvSpPr/>
            <p:nvPr/>
          </p:nvSpPr>
          <p:spPr>
            <a:xfrm>
              <a:off x="4194000" y="3187800"/>
              <a:ext cx="730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4214880" y="3218040"/>
              <a:ext cx="47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4549680" y="3179880"/>
              <a:ext cx="319320" cy="245520"/>
              <a:chOff x="4549680" y="3179880"/>
              <a:chExt cx="319320" cy="245520"/>
            </a:xfrm>
          </p:grpSpPr>
          <p:sp>
            <p:nvSpPr>
              <p:cNvPr id="1928" name=""/>
              <p:cNvSpPr/>
              <p:nvPr/>
            </p:nvSpPr>
            <p:spPr>
              <a:xfrm flipH="1">
                <a:off x="4672080" y="3179880"/>
                <a:ext cx="15840" cy="21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549680" y="3181320"/>
                <a:ext cx="272880" cy="24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4" y="1"/>
                    </a:moveTo>
                    <a:arcTo wR="10800" hR="10800" stAng="-5440205" swAng="54402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4" y="1"/>
                    </a:moveTo>
                    <a:arcTo wR="10800" hR="10800" stAng="-5440205" swAng="544020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0800000">
                <a:off x="4560120" y="320688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30"/>
                    </a:moveTo>
                    <a:arcTo wR="10800" hR="10800" stAng="-10745867" swAng="5305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30"/>
                    </a:moveTo>
                    <a:arcTo wR="10800" hR="10800" stAng="-10745867" swAng="530574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32280" y="3271680"/>
                <a:ext cx="36720" cy="25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5686560" y="3295800"/>
              <a:ext cx="45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5410080" y="3121200"/>
              <a:ext cx="15840" cy="37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243760" y="3122640"/>
              <a:ext cx="361440" cy="41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0800000">
              <a:off x="5259600" y="3161160"/>
              <a:ext cx="355320" cy="3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0"/>
                  </a:moveTo>
                  <a:arcTo wR="10800" hR="10800" stAng="-10768163" swAng="5337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0"/>
                  </a:moveTo>
                  <a:arcTo wR="10800" hR="10800" stAng="-10768163" swAng="533774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616720" y="3274920"/>
              <a:ext cx="50760" cy="50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660840" y="2876400"/>
              <a:ext cx="7128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3673440" y="2903400"/>
              <a:ext cx="101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180960" y="3351240"/>
              <a:ext cx="150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152880" y="3322800"/>
              <a:ext cx="730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4549680" y="2865600"/>
              <a:ext cx="319320" cy="245520"/>
              <a:chOff x="4549680" y="2865600"/>
              <a:chExt cx="319320" cy="245520"/>
            </a:xfrm>
          </p:grpSpPr>
          <p:sp>
            <p:nvSpPr>
              <p:cNvPr id="1942" name=""/>
              <p:cNvSpPr/>
              <p:nvPr/>
            </p:nvSpPr>
            <p:spPr>
              <a:xfrm flipH="1">
                <a:off x="4672080" y="2865600"/>
                <a:ext cx="15840" cy="21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549680" y="2867040"/>
                <a:ext cx="272880" cy="24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4" y="1"/>
                    </a:moveTo>
                    <a:arcTo wR="10800" hR="10800" stAng="-5440205" swAng="54402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4" y="1"/>
                    </a:moveTo>
                    <a:arcTo wR="10800" hR="10800" stAng="-5440205" swAng="544020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0800000">
                <a:off x="4560120" y="289260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30"/>
                    </a:moveTo>
                    <a:arcTo wR="10800" hR="10800" stAng="-10745867" swAng="5305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30"/>
                    </a:moveTo>
                    <a:arcTo wR="10800" hR="10800" stAng="-10745867" swAng="530574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32280" y="2957400"/>
                <a:ext cx="36720" cy="25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6" name=""/>
            <p:cNvSpPr/>
            <p:nvPr/>
          </p:nvSpPr>
          <p:spPr>
            <a:xfrm>
              <a:off x="3660840" y="3487680"/>
              <a:ext cx="7128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3679920" y="3517920"/>
              <a:ext cx="1001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4196880" y="3646440"/>
              <a:ext cx="484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197240" y="3618000"/>
              <a:ext cx="7164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4553280" y="3479760"/>
              <a:ext cx="315720" cy="248400"/>
              <a:chOff x="4553280" y="3479760"/>
              <a:chExt cx="315720" cy="248400"/>
            </a:xfrm>
          </p:grpSpPr>
          <p:sp>
            <p:nvSpPr>
              <p:cNvPr id="1951" name=""/>
              <p:cNvSpPr/>
              <p:nvPr/>
            </p:nvSpPr>
            <p:spPr>
              <a:xfrm flipH="1">
                <a:off x="4672080" y="3479760"/>
                <a:ext cx="1584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553280" y="3481560"/>
                <a:ext cx="2692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5" y="1"/>
                    </a:moveTo>
                    <a:arcTo wR="10800" hR="10800" stAng="-5439948" swAng="5395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5" y="1"/>
                    </a:moveTo>
                    <a:arcTo wR="10800" hR="10800" stAng="-5439948" swAng="5395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0800000">
                <a:off x="4560120" y="350712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59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5955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832280" y="3571920"/>
                <a:ext cx="36720" cy="27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 flipH="1">
              <a:off x="3180960" y="3030480"/>
              <a:ext cx="150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152880" y="3002040"/>
              <a:ext cx="7308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5089680" y="3189240"/>
              <a:ext cx="33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5095800" y="2970360"/>
              <a:ext cx="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4866840" y="2976480"/>
              <a:ext cx="235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875120" y="3286080"/>
              <a:ext cx="532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5089320" y="3400560"/>
              <a:ext cx="33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089680" y="340200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4866840" y="35766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314760" y="3092400"/>
              <a:ext cx="43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5" name=""/>
          <p:cNvSpPr/>
          <p:nvPr/>
        </p:nvSpPr>
        <p:spPr>
          <a:xfrm flipH="1">
            <a:off x="4468680" y="1865160"/>
            <a:ext cx="20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56080" y="1835280"/>
            <a:ext cx="7164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3928680" y="1739880"/>
            <a:ext cx="733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05160" y="3753000"/>
            <a:ext cx="730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 flipV="1">
            <a:off x="2612520" y="3787920"/>
            <a:ext cx="1600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921120" y="170820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149640" y="24271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3180960" y="2452680"/>
            <a:ext cx="147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4665600" y="1979640"/>
            <a:ext cx="15840" cy="36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500360" y="1981080"/>
            <a:ext cx="361800" cy="41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rot="10800000">
            <a:off x="4515120" y="201960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871880" y="2131920"/>
            <a:ext cx="52560" cy="52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500360" y="1563840"/>
            <a:ext cx="36180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rot="10800000">
            <a:off x="4516920" y="1602000"/>
            <a:ext cx="35460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873680" y="1714680"/>
            <a:ext cx="50760" cy="5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494960" y="2408400"/>
            <a:ext cx="36072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rot="10800000">
            <a:off x="4510440" y="244656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867200" y="2560680"/>
            <a:ext cx="5076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4217760" y="2709720"/>
            <a:ext cx="44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205160" y="267984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3928680" y="2178000"/>
            <a:ext cx="7333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21120" y="21463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403440" y="2028960"/>
            <a:ext cx="7164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 flipV="1">
            <a:off x="3446640" y="2048040"/>
            <a:ext cx="123480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 flipV="1">
            <a:off x="4212720" y="2276280"/>
            <a:ext cx="459000" cy="1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84640" y="224964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660840" y="2562120"/>
            <a:ext cx="712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3690720" y="2592360"/>
            <a:ext cx="98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75360" y="1514520"/>
            <a:ext cx="46944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rot="10800000">
            <a:off x="5189760" y="1568520"/>
            <a:ext cx="46332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64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645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657760" y="1798560"/>
            <a:ext cx="66600" cy="57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H="1">
            <a:off x="5195520" y="157968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5202360" y="13078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H="1">
            <a:off x="4924080" y="1314360"/>
            <a:ext cx="284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937040" y="2154240"/>
            <a:ext cx="1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100480" y="186840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106960" y="18748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937040" y="258300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5226120" y="2055960"/>
            <a:ext cx="0" cy="53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232240" y="2062080"/>
            <a:ext cx="1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937040" y="1736640"/>
            <a:ext cx="45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60840" y="1284120"/>
            <a:ext cx="712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3690720" y="1314360"/>
            <a:ext cx="98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4212720" y="1434960"/>
            <a:ext cx="459000" cy="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403440" y="1158840"/>
            <a:ext cx="7164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436560" y="1187280"/>
            <a:ext cx="12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184640" y="1409760"/>
            <a:ext cx="730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4665600" y="1128600"/>
            <a:ext cx="15840" cy="37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500360" y="1130400"/>
            <a:ext cx="36180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rot="10800000">
            <a:off x="4515120" y="116856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871880" y="1281240"/>
            <a:ext cx="52560" cy="5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5742000" y="1819440"/>
            <a:ext cx="21096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8040600" y="1557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676760" y="1562040"/>
            <a:ext cx="3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672080" y="2417760"/>
            <a:ext cx="3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403960" y="1512720"/>
            <a:ext cx="0" cy="62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157560" y="15937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196800" y="162396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57560" y="18637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1688760" y="190980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959280" y="4721400"/>
            <a:ext cx="1066680" cy="1241280"/>
          </a:xfrm>
          <a:prstGeom prst="rect">
            <a:avLst/>
          </a:prstGeom>
          <a:solidFill>
            <a:srgbClr val="41414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291200" y="4761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175440" y="3308400"/>
            <a:ext cx="0" cy="1622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5025960" y="493704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H="1">
            <a:off x="2597040" y="4952880"/>
            <a:ext cx="136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4492800" y="59659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65520" y="272088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 flipV="1">
            <a:off x="1739520" y="2755440"/>
            <a:ext cx="193356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2603520" y="3787920"/>
            <a:ext cx="0" cy="117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337720" y="5189400"/>
            <a:ext cx="250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at à mémor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60" y="609480"/>
            <a:ext cx="86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quations sont réalisées à l ’aide de circuits combinatoi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nthèse d’un additionneur (schéma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265400" y="1684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243080" y="2506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3898800" y="3840120"/>
            <a:ext cx="114480" cy="171360"/>
            <a:chOff x="3898800" y="3840120"/>
            <a:chExt cx="114480" cy="171360"/>
          </a:xfrm>
        </p:grpSpPr>
        <p:sp>
          <p:nvSpPr>
            <p:cNvPr id="2040" name=""/>
            <p:cNvSpPr/>
            <p:nvPr/>
          </p:nvSpPr>
          <p:spPr>
            <a:xfrm>
              <a:off x="3898800" y="3890880"/>
              <a:ext cx="11448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32280" y="3840120"/>
              <a:ext cx="3960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3703680" y="4106880"/>
            <a:ext cx="2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395280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4435560" y="3840120"/>
            <a:ext cx="114120" cy="171360"/>
            <a:chOff x="4435560" y="3840120"/>
            <a:chExt cx="114120" cy="171360"/>
          </a:xfrm>
        </p:grpSpPr>
        <p:sp>
          <p:nvSpPr>
            <p:cNvPr id="2045" name=""/>
            <p:cNvSpPr/>
            <p:nvPr/>
          </p:nvSpPr>
          <p:spPr>
            <a:xfrm>
              <a:off x="4435560" y="3890880"/>
              <a:ext cx="11412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468680" y="3840120"/>
              <a:ext cx="3816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4240080" y="4106880"/>
            <a:ext cx="241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448776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3397320" y="3840120"/>
            <a:ext cx="114120" cy="171360"/>
            <a:chOff x="3397320" y="3840120"/>
            <a:chExt cx="114120" cy="171360"/>
          </a:xfrm>
        </p:grpSpPr>
        <p:sp>
          <p:nvSpPr>
            <p:cNvPr id="2050" name=""/>
            <p:cNvSpPr/>
            <p:nvPr/>
          </p:nvSpPr>
          <p:spPr>
            <a:xfrm>
              <a:off x="3397320" y="3890880"/>
              <a:ext cx="114120" cy="120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430440" y="3840120"/>
              <a:ext cx="38160" cy="31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2" name=""/>
          <p:cNvSpPr/>
          <p:nvPr/>
        </p:nvSpPr>
        <p:spPr>
          <a:xfrm>
            <a:off x="3200400" y="4106880"/>
            <a:ext cx="2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3449520" y="40176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697200" y="1171440"/>
            <a:ext cx="324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33960" y="1171440"/>
            <a:ext cx="0" cy="293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3182400" y="1171440"/>
            <a:ext cx="17640" cy="293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3449520" y="1158840"/>
            <a:ext cx="1038240" cy="2670120"/>
            <a:chOff x="3449520" y="1158840"/>
            <a:chExt cx="1038240" cy="2670120"/>
          </a:xfrm>
        </p:grpSpPr>
        <p:sp>
          <p:nvSpPr>
            <p:cNvPr id="2058" name=""/>
            <p:cNvSpPr/>
            <p:nvPr/>
          </p:nvSpPr>
          <p:spPr>
            <a:xfrm>
              <a:off x="395280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8776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449520" y="1158840"/>
              <a:ext cx="0" cy="267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3152880" y="2865600"/>
            <a:ext cx="3597840" cy="862560"/>
            <a:chOff x="3152880" y="2865600"/>
            <a:chExt cx="3597840" cy="862560"/>
          </a:xfrm>
        </p:grpSpPr>
        <p:sp>
          <p:nvSpPr>
            <p:cNvPr id="2062" name=""/>
            <p:cNvSpPr/>
            <p:nvPr/>
          </p:nvSpPr>
          <p:spPr>
            <a:xfrm>
              <a:off x="4194000" y="3187800"/>
              <a:ext cx="730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214880" y="3218040"/>
              <a:ext cx="47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4" name=""/>
            <p:cNvGrpSpPr/>
            <p:nvPr/>
          </p:nvGrpSpPr>
          <p:grpSpPr>
            <a:xfrm>
              <a:off x="4549680" y="3179880"/>
              <a:ext cx="319320" cy="245520"/>
              <a:chOff x="4549680" y="3179880"/>
              <a:chExt cx="319320" cy="245520"/>
            </a:xfrm>
          </p:grpSpPr>
          <p:sp>
            <p:nvSpPr>
              <p:cNvPr id="2065" name=""/>
              <p:cNvSpPr/>
              <p:nvPr/>
            </p:nvSpPr>
            <p:spPr>
              <a:xfrm flipH="1">
                <a:off x="4672080" y="3179880"/>
                <a:ext cx="15840" cy="21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549680" y="3181320"/>
                <a:ext cx="272880" cy="24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4" y="1"/>
                    </a:moveTo>
                    <a:arcTo wR="10800" hR="10800" stAng="-5440205" swAng="54402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4" y="1"/>
                    </a:moveTo>
                    <a:arcTo wR="10800" hR="10800" stAng="-5440205" swAng="544020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10800000">
                <a:off x="4560120" y="320688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30"/>
                    </a:moveTo>
                    <a:arcTo wR="10800" hR="10800" stAng="-10745867" swAng="5305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30"/>
                    </a:moveTo>
                    <a:arcTo wR="10800" hR="10800" stAng="-10745867" swAng="530574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32280" y="3271680"/>
                <a:ext cx="36720" cy="25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5686560" y="3295800"/>
              <a:ext cx="45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5410080" y="3121200"/>
              <a:ext cx="15840" cy="37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243760" y="3122640"/>
              <a:ext cx="361440" cy="41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0800000">
              <a:off x="5259600" y="3161160"/>
              <a:ext cx="355320" cy="3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0"/>
                  </a:moveTo>
                  <a:arcTo wR="10800" hR="10800" stAng="-10768163" swAng="5337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0"/>
                  </a:moveTo>
                  <a:arcTo wR="10800" hR="10800" stAng="-10768163" swAng="533774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16720" y="3274920"/>
              <a:ext cx="50760" cy="50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60840" y="2876400"/>
              <a:ext cx="7128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3673440" y="2903400"/>
              <a:ext cx="101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3180960" y="3351240"/>
              <a:ext cx="150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52880" y="3322800"/>
              <a:ext cx="730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8" name=""/>
            <p:cNvGrpSpPr/>
            <p:nvPr/>
          </p:nvGrpSpPr>
          <p:grpSpPr>
            <a:xfrm>
              <a:off x="4549680" y="2865600"/>
              <a:ext cx="319320" cy="245520"/>
              <a:chOff x="4549680" y="2865600"/>
              <a:chExt cx="319320" cy="245520"/>
            </a:xfrm>
          </p:grpSpPr>
          <p:sp>
            <p:nvSpPr>
              <p:cNvPr id="2079" name=""/>
              <p:cNvSpPr/>
              <p:nvPr/>
            </p:nvSpPr>
            <p:spPr>
              <a:xfrm flipH="1">
                <a:off x="4672080" y="2865600"/>
                <a:ext cx="15840" cy="21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49680" y="2867040"/>
                <a:ext cx="272880" cy="24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4" y="1"/>
                    </a:moveTo>
                    <a:arcTo wR="10800" hR="10800" stAng="-5440205" swAng="54402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4" y="1"/>
                    </a:moveTo>
                    <a:arcTo wR="10800" hR="10800" stAng="-5440205" swAng="544020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10800000">
                <a:off x="4560120" y="289260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30"/>
                    </a:moveTo>
                    <a:arcTo wR="10800" hR="10800" stAng="-10745867" swAng="5305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30"/>
                    </a:moveTo>
                    <a:arcTo wR="10800" hR="10800" stAng="-10745867" swAng="530574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832280" y="2957400"/>
                <a:ext cx="36720" cy="25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660840" y="3487680"/>
              <a:ext cx="7128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3679920" y="3517920"/>
              <a:ext cx="1001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196880" y="3646440"/>
              <a:ext cx="484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197240" y="3618000"/>
              <a:ext cx="7164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4553280" y="3479760"/>
              <a:ext cx="315720" cy="248400"/>
              <a:chOff x="4553280" y="3479760"/>
              <a:chExt cx="315720" cy="248400"/>
            </a:xfrm>
          </p:grpSpPr>
          <p:sp>
            <p:nvSpPr>
              <p:cNvPr id="2088" name=""/>
              <p:cNvSpPr/>
              <p:nvPr/>
            </p:nvSpPr>
            <p:spPr>
              <a:xfrm flipH="1">
                <a:off x="4672080" y="3479760"/>
                <a:ext cx="1584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53280" y="3481560"/>
                <a:ext cx="2692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5" y="1"/>
                    </a:moveTo>
                    <a:arcTo wR="10800" hR="10800" stAng="-5439948" swAng="5395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5" y="1"/>
                    </a:moveTo>
                    <a:arcTo wR="10800" hR="10800" stAng="-5439948" swAng="5395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0800000">
                <a:off x="4560120" y="3507120"/>
                <a:ext cx="268920" cy="19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59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5955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832280" y="3571920"/>
                <a:ext cx="36720" cy="27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2" name=""/>
            <p:cNvSpPr/>
            <p:nvPr/>
          </p:nvSpPr>
          <p:spPr>
            <a:xfrm flipH="1">
              <a:off x="3180960" y="3030480"/>
              <a:ext cx="150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152880" y="3002040"/>
              <a:ext cx="7308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5089680" y="3189240"/>
              <a:ext cx="33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5095800" y="2970360"/>
              <a:ext cx="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4866840" y="2976480"/>
              <a:ext cx="235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875120" y="3286080"/>
              <a:ext cx="532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089320" y="3400560"/>
              <a:ext cx="33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089680" y="340200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4866840" y="35766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14760" y="3092400"/>
              <a:ext cx="43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 flipH="1">
            <a:off x="4468680" y="1865160"/>
            <a:ext cx="20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456080" y="1835280"/>
            <a:ext cx="7164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928680" y="1739880"/>
            <a:ext cx="733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205160" y="3753000"/>
            <a:ext cx="730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 flipV="1">
            <a:off x="2612520" y="3787920"/>
            <a:ext cx="1600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921120" y="170820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149640" y="24271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3180960" y="2452680"/>
            <a:ext cx="147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4665600" y="1979640"/>
            <a:ext cx="15840" cy="36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500360" y="1981080"/>
            <a:ext cx="361800" cy="41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rot="10800000">
            <a:off x="4515120" y="201960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71880" y="2131920"/>
            <a:ext cx="52560" cy="52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500360" y="1563840"/>
            <a:ext cx="36180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10800000">
            <a:off x="4516920" y="1602000"/>
            <a:ext cx="35460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873680" y="1714680"/>
            <a:ext cx="50760" cy="5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94960" y="2408400"/>
            <a:ext cx="36072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rot="10800000">
            <a:off x="4510440" y="244656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867200" y="2560680"/>
            <a:ext cx="5076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4217760" y="2709720"/>
            <a:ext cx="44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05160" y="267984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3928680" y="2178000"/>
            <a:ext cx="7333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921120" y="21463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403440" y="2028960"/>
            <a:ext cx="7164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 flipV="1">
            <a:off x="3446640" y="2048040"/>
            <a:ext cx="123480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 flipV="1">
            <a:off x="4212720" y="2276280"/>
            <a:ext cx="459000" cy="1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184640" y="2249640"/>
            <a:ext cx="7308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660840" y="2562120"/>
            <a:ext cx="712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3690720" y="2592360"/>
            <a:ext cx="98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175360" y="1514520"/>
            <a:ext cx="46944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rot="10800000">
            <a:off x="5189760" y="1568520"/>
            <a:ext cx="46332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64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645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657760" y="1798560"/>
            <a:ext cx="66600" cy="57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5195520" y="157968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5202360" y="13078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4924080" y="1314360"/>
            <a:ext cx="284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937040" y="2154240"/>
            <a:ext cx="1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5100480" y="186840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106960" y="18748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937040" y="258300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5226120" y="2055960"/>
            <a:ext cx="0" cy="53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232240" y="2062080"/>
            <a:ext cx="1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937040" y="1736640"/>
            <a:ext cx="45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0840" y="1284120"/>
            <a:ext cx="712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3690720" y="1314360"/>
            <a:ext cx="98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 flipV="1">
            <a:off x="4212720" y="1434960"/>
            <a:ext cx="459000" cy="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403440" y="1158840"/>
            <a:ext cx="7164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3436560" y="1187280"/>
            <a:ext cx="12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184640" y="1409760"/>
            <a:ext cx="730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4665600" y="1128600"/>
            <a:ext cx="15840" cy="37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00360" y="1130400"/>
            <a:ext cx="36180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736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7365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rot="10800000">
            <a:off x="4515120" y="1168560"/>
            <a:ext cx="35532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0"/>
                </a:moveTo>
                <a:arcTo wR="10800" hR="10800" stAng="-10768163" swAng="5337748"/>
                <a:lnTo>
                  <a:pt x="10800" y="10800"/>
                </a:lnTo>
                <a:close/>
              </a:path>
              <a:path fill="none" w="21600" h="21600">
                <a:moveTo>
                  <a:pt x="0" y="10700"/>
                </a:moveTo>
                <a:arcTo wR="10800" hR="10800" stAng="-10768163" swAng="5337748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871880" y="1281240"/>
            <a:ext cx="52560" cy="5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5742000" y="1819440"/>
            <a:ext cx="21096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040600" y="1557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676760" y="1562040"/>
            <a:ext cx="3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672080" y="2417760"/>
            <a:ext cx="3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403960" y="1512720"/>
            <a:ext cx="0" cy="62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157560" y="15937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3196800" y="162396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157560" y="186372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1688760" y="190980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959280" y="4721400"/>
            <a:ext cx="1066680" cy="1241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291200" y="4761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175440" y="3308400"/>
            <a:ext cx="0" cy="1622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5025960" y="493704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597040" y="4952880"/>
            <a:ext cx="136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4492800" y="59659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665520" y="2720880"/>
            <a:ext cx="730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 flipV="1">
            <a:off x="1739520" y="2755440"/>
            <a:ext cx="193356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V="1">
            <a:off x="2603520" y="3787920"/>
            <a:ext cx="0" cy="117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52720" y="1047600"/>
            <a:ext cx="2809800" cy="317520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505320" y="4667400"/>
            <a:ext cx="1622160" cy="1238040"/>
          </a:xfrm>
          <a:prstGeom prst="rect">
            <a:avLst/>
          </a:prstGeom>
          <a:gradFill rotWithShape="0">
            <a:gsLst>
              <a:gs pos="0">
                <a:srgbClr val="feb89b"/>
              </a:gs>
              <a:gs pos="100000">
                <a:srgbClr val="ff50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306960" y="2093760"/>
            <a:ext cx="1924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576240" y="4903920"/>
            <a:ext cx="1467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gis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e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"/>
          <p:cNvSpPr/>
          <p:nvPr/>
        </p:nvSpPr>
        <p:spPr>
          <a:xfrm>
            <a:off x="1816200" y="2022480"/>
            <a:ext cx="1241280" cy="11462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Remarques : Mealey/Moo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8579160" y="2913120"/>
            <a:ext cx="431280" cy="322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rot="10800000">
            <a:off x="8661600" y="130356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230200" y="4911480"/>
            <a:ext cx="1887840" cy="757440"/>
            <a:chOff x="2230200" y="4911480"/>
            <a:chExt cx="1887840" cy="757440"/>
          </a:xfrm>
        </p:grpSpPr>
        <p:sp>
          <p:nvSpPr>
            <p:cNvPr id="2180" name=""/>
            <p:cNvSpPr/>
            <p:nvPr/>
          </p:nvSpPr>
          <p:spPr>
            <a:xfrm rot="10800000">
              <a:off x="3156480" y="497088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151080" y="4976640"/>
              <a:ext cx="90792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30200" y="491148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1947600" y="5881680"/>
            <a:ext cx="1296720" cy="732960"/>
            <a:chOff x="1947600" y="5881680"/>
            <a:chExt cx="1296720" cy="732960"/>
          </a:xfrm>
        </p:grpSpPr>
        <p:sp>
          <p:nvSpPr>
            <p:cNvPr id="2184" name=""/>
            <p:cNvSpPr/>
            <p:nvPr/>
          </p:nvSpPr>
          <p:spPr>
            <a:xfrm rot="10800000">
              <a:off x="1947960" y="599328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55880" y="597384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rot="10800000">
              <a:off x="1947600" y="5881680"/>
              <a:ext cx="121284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rot="10800000">
              <a:off x="2531880" y="589752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7912800" y="1268640"/>
            <a:ext cx="1296000" cy="748440"/>
            <a:chOff x="7912800" y="1268640"/>
            <a:chExt cx="1296000" cy="748440"/>
          </a:xfrm>
        </p:grpSpPr>
        <p:sp>
          <p:nvSpPr>
            <p:cNvPr id="2189" name=""/>
            <p:cNvSpPr/>
            <p:nvPr/>
          </p:nvSpPr>
          <p:spPr>
            <a:xfrm>
              <a:off x="7927920" y="13320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rot="10800000">
              <a:off x="7920360" y="1319040"/>
              <a:ext cx="128844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912800" y="132552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496720" y="1268640"/>
              <a:ext cx="6246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771840" y="4863960"/>
            <a:ext cx="1887120" cy="757440"/>
            <a:chOff x="771840" y="4863960"/>
            <a:chExt cx="1887120" cy="757440"/>
          </a:xfrm>
        </p:grpSpPr>
        <p:sp>
          <p:nvSpPr>
            <p:cNvPr id="2194" name=""/>
            <p:cNvSpPr/>
            <p:nvPr/>
          </p:nvSpPr>
          <p:spPr>
            <a:xfrm rot="10800000">
              <a:off x="771840" y="492336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33400" y="4929120"/>
              <a:ext cx="9075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33400" y="486396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7" name=""/>
          <p:cNvGrpSpPr/>
          <p:nvPr/>
        </p:nvGrpSpPr>
        <p:grpSpPr>
          <a:xfrm>
            <a:off x="2182680" y="2133360"/>
            <a:ext cx="1887480" cy="757440"/>
            <a:chOff x="2182680" y="2133360"/>
            <a:chExt cx="1887480" cy="757440"/>
          </a:xfrm>
        </p:grpSpPr>
        <p:sp>
          <p:nvSpPr>
            <p:cNvPr id="2198" name=""/>
            <p:cNvSpPr/>
            <p:nvPr/>
          </p:nvSpPr>
          <p:spPr>
            <a:xfrm rot="10800000">
              <a:off x="3108600" y="2192760"/>
              <a:ext cx="9615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103920" y="2198520"/>
              <a:ext cx="90720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041" swAng="5412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041" swAng="541204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182680" y="213336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771840" y="2070000"/>
            <a:ext cx="1887120" cy="756720"/>
            <a:chOff x="771840" y="2070000"/>
            <a:chExt cx="1887120" cy="756720"/>
          </a:xfrm>
        </p:grpSpPr>
        <p:sp>
          <p:nvSpPr>
            <p:cNvPr id="2202" name=""/>
            <p:cNvSpPr/>
            <p:nvPr/>
          </p:nvSpPr>
          <p:spPr>
            <a:xfrm rot="10800000">
              <a:off x="771840" y="2128680"/>
              <a:ext cx="96156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33400" y="2135160"/>
              <a:ext cx="9075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95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33400" y="2070000"/>
              <a:ext cx="18255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5" name=""/>
          <p:cNvSpPr/>
          <p:nvPr/>
        </p:nvSpPr>
        <p:spPr>
          <a:xfrm>
            <a:off x="2084400" y="9507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322280" y="37130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830160" y="58086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300480" y="58086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919240" y="37069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830160" y="16970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300480" y="16970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863720" y="476892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626080" y="410220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814760" y="217332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167920" y="489744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721640" y="1943280"/>
            <a:ext cx="1241280" cy="1145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721640" y="4181400"/>
            <a:ext cx="124128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530680" y="1974960"/>
            <a:ext cx="1241640" cy="114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rot="10800000">
            <a:off x="2136960" y="146232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rot="10800000">
            <a:off x="5432400" y="1154520"/>
            <a:ext cx="44352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308320" y="3135240"/>
            <a:ext cx="431280" cy="322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925960" y="4284720"/>
            <a:ext cx="73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19680" y="2157480"/>
            <a:ext cx="73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999560" y="2103480"/>
            <a:ext cx="73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983360" y="4341960"/>
            <a:ext cx="73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1803960" y="1332000"/>
            <a:ext cx="1296360" cy="748800"/>
            <a:chOff x="1803960" y="1332000"/>
            <a:chExt cx="1296360" cy="748800"/>
          </a:xfrm>
        </p:grpSpPr>
        <p:sp>
          <p:nvSpPr>
            <p:cNvPr id="2227" name=""/>
            <p:cNvSpPr/>
            <p:nvPr/>
          </p:nvSpPr>
          <p:spPr>
            <a:xfrm>
              <a:off x="1819440" y="139536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rot="10800000">
              <a:off x="1811160" y="138312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03960" y="1389240"/>
              <a:ext cx="121176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387520" y="133200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5514120" y="5148000"/>
            <a:ext cx="1307880" cy="742680"/>
            <a:chOff x="5514120" y="5148000"/>
            <a:chExt cx="1307880" cy="742680"/>
          </a:xfrm>
        </p:grpSpPr>
        <p:sp>
          <p:nvSpPr>
            <p:cNvPr id="2232" name=""/>
            <p:cNvSpPr/>
            <p:nvPr/>
          </p:nvSpPr>
          <p:spPr>
            <a:xfrm rot="10860000">
              <a:off x="5970960" y="527184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rot="60000">
              <a:off x="5519160" y="5248800"/>
              <a:ext cx="128844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rot="10860000">
              <a:off x="5604120" y="5158080"/>
              <a:ext cx="1211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rot="10860000">
              <a:off x="5608080" y="516780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391720" y="1300320"/>
            <a:ext cx="1296360" cy="749160"/>
            <a:chOff x="5391720" y="1300320"/>
            <a:chExt cx="1296360" cy="749160"/>
          </a:xfrm>
        </p:grpSpPr>
        <p:sp>
          <p:nvSpPr>
            <p:cNvPr id="2237" name=""/>
            <p:cNvSpPr/>
            <p:nvPr/>
          </p:nvSpPr>
          <p:spPr>
            <a:xfrm>
              <a:off x="5407200" y="136368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10800000">
              <a:off x="5398920" y="1351440"/>
              <a:ext cx="128916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391720" y="1357200"/>
              <a:ext cx="1211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75280" y="1300320"/>
              <a:ext cx="6253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7825680" y="5332320"/>
            <a:ext cx="1307880" cy="742680"/>
            <a:chOff x="7825680" y="5332320"/>
            <a:chExt cx="1307880" cy="742680"/>
          </a:xfrm>
        </p:grpSpPr>
        <p:sp>
          <p:nvSpPr>
            <p:cNvPr id="2242" name=""/>
            <p:cNvSpPr/>
            <p:nvPr/>
          </p:nvSpPr>
          <p:spPr>
            <a:xfrm rot="10860000">
              <a:off x="8282160" y="5455800"/>
              <a:ext cx="8442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rot="60000">
              <a:off x="7830720" y="5433120"/>
              <a:ext cx="1288440" cy="5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rot="10860000">
              <a:off x="7914960" y="5342400"/>
              <a:ext cx="121248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rot="10860000">
              <a:off x="7920000" y="5352480"/>
              <a:ext cx="62532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6" name=""/>
          <p:cNvSpPr/>
          <p:nvPr/>
        </p:nvSpPr>
        <p:spPr>
          <a:xfrm rot="13800000">
            <a:off x="7377840" y="1318680"/>
            <a:ext cx="44424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rot="18600000">
            <a:off x="7760160" y="2399040"/>
            <a:ext cx="44388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rot="3000000">
            <a:off x="6135480" y="2351520"/>
            <a:ext cx="443520" cy="326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308920" y="2674800"/>
            <a:ext cx="431280" cy="322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894640" y="8715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745520" y="34844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094880" y="5262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rot="5400000">
            <a:off x="6644160" y="4175280"/>
            <a:ext cx="621360" cy="150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548840" y="3240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4 bits à propag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248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516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40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677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084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49884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8384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4664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8148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19924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0840" y="2941560"/>
            <a:ext cx="1357200" cy="130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035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131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892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2320" y="34988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4022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084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5998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0068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1940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2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168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776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00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88512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39840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2444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071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167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896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28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058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883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034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6616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87760" y="293364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0972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569080" y="325296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495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531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2396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0200" y="110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le 0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81600" y="545004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4 bits à propag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248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516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440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677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084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2680" y="349884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78384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4664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98148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19924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20840" y="2941560"/>
            <a:ext cx="13572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035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31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892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22320" y="34988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4022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084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998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0068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19400" y="2941560"/>
            <a:ext cx="1359000" cy="130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2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776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200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88512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39840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2444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071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167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896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928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058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6883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034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26616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87760" y="293364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0972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569080" y="325296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95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531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2396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81600" y="545004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0200" y="110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le 2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4 bits à propag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248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516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440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677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084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22680" y="349884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8384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4664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98148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19924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20840" y="2941560"/>
            <a:ext cx="13572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035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131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892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22320" y="34988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2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084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5998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0068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1940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2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168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8776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00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88512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39840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2941560"/>
            <a:ext cx="1359000" cy="130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71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167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896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928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0058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6883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2034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6616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87760" y="293364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0972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569080" y="325296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495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7544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531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2396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81600" y="545004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0200" y="110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le 4-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 4 bits à propag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02480" y="2941560"/>
            <a:ext cx="1359000" cy="130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516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440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677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084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22680" y="349884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78384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4664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98148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19924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20840" y="2941560"/>
            <a:ext cx="13572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035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131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892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22320" y="34988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4022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84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998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00680" y="326880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1940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2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168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860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8776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2007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88512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39840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24440" y="2941560"/>
            <a:ext cx="1359000" cy="130824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0712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16720" y="426564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89680" y="261000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92800" y="3498840"/>
            <a:ext cx="42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00580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688360" y="2158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203440" y="465120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26616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487760" y="293364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709720" y="2949480"/>
            <a:ext cx="4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569080" y="325296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495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7544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5312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3960" y="336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80880" y="545004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0200" y="110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le 6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dditionn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34160" y="408636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263200" y="318924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46520" y="2413080"/>
            <a:ext cx="1995480" cy="1757160"/>
          </a:xfrm>
          <a:prstGeom prst="rect">
            <a:avLst/>
          </a:prstGeom>
          <a:gradFill rotWithShape="0">
            <a:gsLst>
              <a:gs pos="0">
                <a:srgbClr val="fdd699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800680" y="2819160"/>
            <a:ext cx="352440" cy="1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98760" y="2610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84960" y="2538360"/>
            <a:ext cx="5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82920" y="39592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98760" y="332424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54560" y="3092400"/>
            <a:ext cx="6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7680" y="11066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 chaque intervalle de temps un seul additionneur est actif, il doit être possible de réaliser un circuit avec une seul additionn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9880" y="484020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allons tenter de voir comment réaliser ce circu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8:16:06Z</dcterms:created>
  <dc:creator>dupont</dc:creator>
  <dc:description/>
  <dc:language>en-US</dc:language>
  <cp:lastModifiedBy>Denis Dupont</cp:lastModifiedBy>
  <cp:lastPrinted>2000-02-04T14:34:36Z</cp:lastPrinted>
  <dcterms:modified xsi:type="dcterms:W3CDTF">2004-03-22T10:54:54Z</dcterms:modified>
  <cp:revision>70</cp:revision>
  <dc:subject/>
  <dc:title>Les fonctions logiques : simplification</dc:title>
</cp:coreProperties>
</file>