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icro-Instruction%20chargement.ppt" TargetMode="External"/><Relationship Id="rId2" Type="http://schemas.openxmlformats.org/officeDocument/2006/relationships/hyperlink" Target="file:///Micro-Instruction%20Bipush.ppt" TargetMode="External"/><Relationship Id="rId3" Type="http://schemas.openxmlformats.org/officeDocument/2006/relationships/hyperlink" Target="file:///Micro-Instruction%20IADD.ppt" TargetMode="External"/><Relationship Id="rId4" Type="http://schemas.openxmlformats.org/officeDocument/2006/relationships/hyperlink" Target="file:///Micro-Instruction%20ISTORE.ppt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ue faut-il que le contrôleur fasse pour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ger une instruction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er une instruction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er une instruction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er une instruction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d’exécution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e instruction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e instruction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e instruction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">
            <a:hlinkClick r:id="rId1"/>
          </p:cNvPr>
          <p:cNvSpPr/>
          <p:nvPr/>
        </p:nvSpPr>
        <p:spPr>
          <a:xfrm>
            <a:off x="685800" y="1312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685800" y="17701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685800" y="2174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30220" y="0"/>
                </a:lnTo>
                <a:lnTo>
                  <a:pt x="0" y="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30220" y="21600"/>
                </a:lnTo>
                <a:lnTo>
                  <a:pt x="30220" y="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20" y="216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20" h="21600">
                <a:moveTo>
                  <a:pt x="15110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20" h="21600">
                <a:moveTo>
                  <a:pt x="15110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20" h="21600">
                <a:moveTo>
                  <a:pt x="12150" y="7840"/>
                </a:moveTo>
                <a:lnTo>
                  <a:pt x="16590" y="7840"/>
                </a:lnTo>
                <a:lnTo>
                  <a:pt x="16590" y="15880"/>
                </a:lnTo>
                <a:lnTo>
                  <a:pt x="18070" y="15880"/>
                </a:lnTo>
                <a:lnTo>
                  <a:pt x="18070" y="16940"/>
                </a:lnTo>
                <a:lnTo>
                  <a:pt x="12150" y="16940"/>
                </a:lnTo>
                <a:lnTo>
                  <a:pt x="12150" y="15880"/>
                </a:lnTo>
                <a:lnTo>
                  <a:pt x="13630" y="15880"/>
                </a:lnTo>
                <a:lnTo>
                  <a:pt x="13630" y="8880"/>
                </a:lnTo>
                <a:lnTo>
                  <a:pt x="12150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/>
          </p:cNvPr>
          <p:cNvSpPr/>
          <p:nvPr/>
        </p:nvSpPr>
        <p:spPr>
          <a:xfrm>
            <a:off x="685800" y="261468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95604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324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81824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30248" y="0"/>
                </a:lnTo>
                <a:lnTo>
                  <a:pt x="0" y="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30248" y="21600"/>
                </a:lnTo>
                <a:lnTo>
                  <a:pt x="30248" y="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248" y="216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248" h="21600">
                <a:moveTo>
                  <a:pt x="15124" y="2750"/>
                </a:moveTo>
                <a:arcTo wR="8050" hR="8050" stAng="16200000" swAng="-5400000"/>
                <a:arcTo wR="8050" hR="8050" stAng="10800000" swAng="-5400000"/>
                <a:arcTo wR="8050" hR="8050" stAng="5400000" swAng="-5400000"/>
                <a:arcTo wR="8050" hR="8050" stAng="0" swAng="-5400000"/>
                <a:close/>
              </a:path>
              <a:path fill="lighten" w="30248" h="21600">
                <a:moveTo>
                  <a:pt x="15124" y="3180"/>
                </a:moveTo>
                <a:arcTo wR="2060" hR="2060" stAng="16200000" swAng="-5400000"/>
                <a:arcTo wR="2060" hR="2060" stAng="10800000" swAng="-5400000"/>
                <a:arcTo wR="2060" hR="2060" stAng="5400000" swAng="-5400000"/>
                <a:arcTo wR="2060" hR="2060" stAng="0" swAng="-5400000"/>
                <a:close/>
              </a:path>
              <a:path fill="lighten" w="30248" h="21600">
                <a:moveTo>
                  <a:pt x="12164" y="7840"/>
                </a:moveTo>
                <a:lnTo>
                  <a:pt x="16604" y="7840"/>
                </a:lnTo>
                <a:lnTo>
                  <a:pt x="16604" y="15880"/>
                </a:lnTo>
                <a:lnTo>
                  <a:pt x="18084" y="15880"/>
                </a:lnTo>
                <a:lnTo>
                  <a:pt x="18084" y="16940"/>
                </a:lnTo>
                <a:lnTo>
                  <a:pt x="12164" y="16940"/>
                </a:lnTo>
                <a:lnTo>
                  <a:pt x="12164" y="15880"/>
                </a:lnTo>
                <a:lnTo>
                  <a:pt x="13644" y="15880"/>
                </a:lnTo>
                <a:lnTo>
                  <a:pt x="13644" y="8880"/>
                </a:lnTo>
                <a:lnTo>
                  <a:pt x="12164" y="88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érieur d’un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838080"/>
          <a:ext cx="8458200" cy="5791320"/>
        </p:xfrm>
        <a:graphic>
          <a:graphicData uri="http://schemas.openxmlformats.org/drawingml/2006/table">
            <a:tbl>
              <a:tblPr/>
              <a:tblGrid>
                <a:gridCol w="1374840"/>
                <a:gridCol w="70833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é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=PC+1 ;fetch;goto (MB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=SP=S-1; r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=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=TOS=MDR+H;wr;goto 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=MAR=SP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=PC+1 ; 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=TOS=MBR;wr; goto 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=L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=MBRU + H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=TOS;w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=MAR=SP-1;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=PC+1;fetch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=MDR;goto Main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éma du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95480"/>
            <a:ext cx="1143000" cy="243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3720" y="2452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3400" y="2514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968400"/>
            <a:ext cx="749160" cy="139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960480"/>
            <a:ext cx="749160" cy="139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968400"/>
            <a:ext cx="749160" cy="1393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6"/>
            <a:endCxn id="51" idx="0"/>
          </p:cNvCxnSpPr>
          <p:nvPr/>
        </p:nvCxnSpPr>
        <p:spPr>
          <a:xfrm flipH="1">
            <a:off x="570960" y="1665000"/>
            <a:ext cx="6121800" cy="1230840"/>
          </a:xfrm>
          <a:prstGeom prst="bentConnector4">
            <a:avLst>
              <a:gd name="adj1" fmla="val -3734"/>
              <a:gd name="adj2" fmla="val -834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6"/>
            <a:endCxn id="54" idx="2"/>
          </p:cNvCxnSpPr>
          <p:nvPr/>
        </p:nvCxnSpPr>
        <p:spPr>
          <a:xfrm flipV="1">
            <a:off x="1142640" y="1665360"/>
            <a:ext cx="1220040" cy="24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6"/>
            <a:endCxn id="55" idx="2"/>
          </p:cNvCxnSpPr>
          <p:nvPr/>
        </p:nvCxnSpPr>
        <p:spPr>
          <a:xfrm flipV="1">
            <a:off x="3111120" y="1657080"/>
            <a:ext cx="10036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6"/>
            <a:endCxn id="56" idx="2"/>
          </p:cNvCxnSpPr>
          <p:nvPr/>
        </p:nvCxnSpPr>
        <p:spPr>
          <a:xfrm>
            <a:off x="4863600" y="1657440"/>
            <a:ext cx="1080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286000" y="2590920"/>
            <a:ext cx="74916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733840"/>
            <a:ext cx="749160" cy="1393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32520" y="2590920"/>
            <a:ext cx="749160" cy="167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6"/>
            <a:endCxn id="62" idx="2"/>
          </p:cNvCxnSpPr>
          <p:nvPr/>
        </p:nvCxnSpPr>
        <p:spPr>
          <a:xfrm>
            <a:off x="3034800" y="3429000"/>
            <a:ext cx="1080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6"/>
            <a:endCxn id="63" idx="2"/>
          </p:cNvCxnSpPr>
          <p:nvPr/>
        </p:nvCxnSpPr>
        <p:spPr>
          <a:xfrm flipV="1">
            <a:off x="4863960" y="3428640"/>
            <a:ext cx="1169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3" idx="6"/>
            <a:endCxn id="51" idx="0"/>
          </p:cNvCxnSpPr>
          <p:nvPr/>
        </p:nvCxnSpPr>
        <p:spPr>
          <a:xfrm flipH="1" flipV="1">
            <a:off x="571320" y="2895120"/>
            <a:ext cx="6210720" cy="534240"/>
          </a:xfrm>
          <a:prstGeom prst="bentConnector4">
            <a:avLst>
              <a:gd name="adj1" fmla="val -12167"/>
              <a:gd name="adj2" fmla="val 523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1" idx="6"/>
            <a:endCxn id="61" idx="2"/>
          </p:cNvCxnSpPr>
          <p:nvPr/>
        </p:nvCxnSpPr>
        <p:spPr>
          <a:xfrm flipV="1">
            <a:off x="1142640" y="342828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1437480" y="351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1" idx="6"/>
            <a:endCxn id="70" idx="2"/>
          </p:cNvCxnSpPr>
          <p:nvPr/>
        </p:nvCxnSpPr>
        <p:spPr>
          <a:xfrm>
            <a:off x="1142640" y="4114800"/>
            <a:ext cx="1143720" cy="10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1382400" y="44607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1" idx="6"/>
          </p:cNvCxnSpPr>
          <p:nvPr/>
        </p:nvCxnSpPr>
        <p:spPr>
          <a:xfrm>
            <a:off x="1142640" y="4114440"/>
            <a:ext cx="68652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852560" y="605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5" idx="6"/>
            <a:endCxn id="51" idx="0"/>
          </p:cNvCxnSpPr>
          <p:nvPr/>
        </p:nvCxnSpPr>
        <p:spPr>
          <a:xfrm flipH="1" flipV="1">
            <a:off x="571320" y="2894760"/>
            <a:ext cx="7658640" cy="2267640"/>
          </a:xfrm>
          <a:prstGeom prst="bentConnector4">
            <a:avLst>
              <a:gd name="adj1" fmla="val -2985"/>
              <a:gd name="adj2" fmla="val 199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286000" y="4619520"/>
            <a:ext cx="484200" cy="108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9480" y="4594320"/>
            <a:ext cx="533520" cy="113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0" idx="6"/>
            <a:endCxn id="76" idx="2"/>
          </p:cNvCxnSpPr>
          <p:nvPr/>
        </p:nvCxnSpPr>
        <p:spPr>
          <a:xfrm flipV="1">
            <a:off x="2770200" y="5159160"/>
            <a:ext cx="450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6" idx="6"/>
            <a:endCxn id="79" idx="2"/>
          </p:cNvCxnSpPr>
          <p:nvPr/>
        </p:nvCxnSpPr>
        <p:spPr>
          <a:xfrm>
            <a:off x="3752640" y="5159160"/>
            <a:ext cx="44028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2560" y="4567320"/>
            <a:ext cx="538200" cy="11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6"/>
            <a:endCxn id="81" idx="2"/>
          </p:cNvCxnSpPr>
          <p:nvPr/>
        </p:nvCxnSpPr>
        <p:spPr>
          <a:xfrm flipV="1">
            <a:off x="4730400" y="5163840"/>
            <a:ext cx="461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5191200" y="4384800"/>
            <a:ext cx="646200" cy="15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4695840"/>
            <a:ext cx="652680" cy="94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6"/>
            <a:endCxn id="82" idx="2"/>
          </p:cNvCxnSpPr>
          <p:nvPr/>
        </p:nvCxnSpPr>
        <p:spPr>
          <a:xfrm>
            <a:off x="5837040" y="5163840"/>
            <a:ext cx="487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583400" y="4781520"/>
            <a:ext cx="646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6"/>
            <a:endCxn id="75" idx="2"/>
          </p:cNvCxnSpPr>
          <p:nvPr/>
        </p:nvCxnSpPr>
        <p:spPr>
          <a:xfrm flipV="1">
            <a:off x="6977160" y="5162040"/>
            <a:ext cx="6069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9:23:36Z</dcterms:created>
  <dc:creator>Chateigner</dc:creator>
  <dc:description/>
  <dc:language>en-US</dc:language>
  <cp:lastModifiedBy>Chateigner</cp:lastModifiedBy>
  <dcterms:modified xsi:type="dcterms:W3CDTF">2002-01-30T10:45:44Z</dcterms:modified>
  <cp:revision>153</cp:revision>
  <dc:subject/>
  <dc:title>Présentation PowerPoint</dc:title>
</cp:coreProperties>
</file>