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1600" y="382284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412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292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424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9160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292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424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612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412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552600"/>
            <a:ext cx="91440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emple chargement d’une instruc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463760" y="3683160"/>
            <a:ext cx="5445000" cy="1450800"/>
            <a:chOff x="1463760" y="3683160"/>
            <a:chExt cx="5445000" cy="1450800"/>
          </a:xfrm>
        </p:grpSpPr>
        <p:sp>
          <p:nvSpPr>
            <p:cNvPr id="63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1463760" y="3683160"/>
              <a:ext cx="5445000" cy="1450800"/>
              <a:chOff x="1463760" y="3683160"/>
              <a:chExt cx="5445000" cy="1450800"/>
            </a:xfrm>
          </p:grpSpPr>
          <p:sp>
            <p:nvSpPr>
              <p:cNvPr id="65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" name=""/>
              <p:cNvCxnSpPr>
                <a:stCxn id="65" idx="0"/>
                <a:endCxn id="66" idx="0"/>
              </p:cNvCxnSpPr>
              <p:nvPr/>
            </p:nvCxnSpPr>
            <p:spPr>
              <a:xfrm flipH="1" flipV="1" rot="5400000">
                <a:off x="3536280" y="1761840"/>
                <a:ext cx="1299600" cy="544536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68" name=""/>
          <p:cNvGrpSpPr/>
          <p:nvPr/>
        </p:nvGrpSpPr>
        <p:grpSpPr>
          <a:xfrm>
            <a:off x="1390680" y="3683160"/>
            <a:ext cx="5575320" cy="1025280"/>
            <a:chOff x="1390680" y="3683160"/>
            <a:chExt cx="5575320" cy="1025280"/>
          </a:xfrm>
        </p:grpSpPr>
        <p:grpSp>
          <p:nvGrpSpPr>
            <p:cNvPr id="69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70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71" idx="0"/>
              <a:endCxn id="72" idx="0"/>
            </p:cNvCxnSpPr>
            <p:nvPr/>
          </p:nvCxnSpPr>
          <p:spPr>
            <a:xfrm flipH="1" flipV="1" rot="5400000">
              <a:off x="3741120" y="1483920"/>
              <a:ext cx="874080" cy="55756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74" name=""/>
          <p:cNvGrpSpPr/>
          <p:nvPr/>
        </p:nvGrpSpPr>
        <p:grpSpPr>
          <a:xfrm>
            <a:off x="1322280" y="3683160"/>
            <a:ext cx="5713560" cy="601560"/>
            <a:chOff x="1322280" y="3683160"/>
            <a:chExt cx="5713560" cy="601560"/>
          </a:xfrm>
        </p:grpSpPr>
        <p:grpSp>
          <p:nvGrpSpPr>
            <p:cNvPr id="75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76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" name=""/>
            <p:cNvCxnSpPr>
              <a:stCxn id="77" idx="0"/>
              <a:endCxn id="78" idx="0"/>
            </p:cNvCxnSpPr>
            <p:nvPr/>
          </p:nvCxnSpPr>
          <p:spPr>
            <a:xfrm flipH="1" flipV="1" rot="5400000">
              <a:off x="3953880" y="1203120"/>
              <a:ext cx="450360" cy="57139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0" name=""/>
          <p:cNvGrpSpPr/>
          <p:nvPr/>
        </p:nvGrpSpPr>
        <p:grpSpPr>
          <a:xfrm>
            <a:off x="1252080" y="3630240"/>
            <a:ext cx="5837760" cy="228600"/>
            <a:chOff x="1252080" y="3630240"/>
            <a:chExt cx="5837760" cy="228600"/>
          </a:xfrm>
        </p:grpSpPr>
        <p:grpSp>
          <p:nvGrpSpPr>
            <p:cNvPr id="81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" name=""/>
            <p:cNvCxnSpPr>
              <a:stCxn id="83" idx="0"/>
              <a:endCxn id="84" idx="0"/>
            </p:cNvCxnSpPr>
            <p:nvPr/>
          </p:nvCxnSpPr>
          <p:spPr>
            <a:xfrm flipH="1" flipV="1" rot="5400000">
              <a:off x="4158720" y="927720"/>
              <a:ext cx="24480" cy="5838120"/>
            </a:xfrm>
            <a:prstGeom prst="bentConnector4">
              <a:avLst>
                <a:gd name="adj1" fmla="val 947761"/>
                <a:gd name="adj2" fmla="val 5891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6" name=""/>
          <p:cNvGrpSpPr/>
          <p:nvPr/>
        </p:nvGrpSpPr>
        <p:grpSpPr>
          <a:xfrm>
            <a:off x="1133280" y="2835360"/>
            <a:ext cx="6077160" cy="1000080"/>
            <a:chOff x="1133280" y="2835360"/>
            <a:chExt cx="6077160" cy="1000080"/>
          </a:xfrm>
        </p:grpSpPr>
        <p:grpSp>
          <p:nvGrpSpPr>
            <p:cNvPr id="87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88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1" name=""/>
            <p:cNvCxnSpPr>
              <a:stCxn id="89" idx="0"/>
              <a:endCxn id="90" idx="0"/>
            </p:cNvCxnSpPr>
            <p:nvPr/>
          </p:nvCxnSpPr>
          <p:spPr>
            <a:xfrm flipH="1" rot="16200000">
              <a:off x="3753000" y="377280"/>
              <a:ext cx="837720" cy="6077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92" name=""/>
          <p:cNvGrpSpPr/>
          <p:nvPr/>
        </p:nvGrpSpPr>
        <p:grpSpPr>
          <a:xfrm>
            <a:off x="1204560" y="3258720"/>
            <a:ext cx="5939280" cy="576720"/>
            <a:chOff x="1204560" y="3258720"/>
            <a:chExt cx="5939280" cy="576720"/>
          </a:xfrm>
        </p:grpSpPr>
        <p:grpSp>
          <p:nvGrpSpPr>
            <p:cNvPr id="93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94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7" name=""/>
            <p:cNvCxnSpPr>
              <a:stCxn id="95" idx="0"/>
              <a:endCxn id="96" idx="0"/>
            </p:cNvCxnSpPr>
            <p:nvPr/>
          </p:nvCxnSpPr>
          <p:spPr>
            <a:xfrm flipH="1" rot="16200000">
              <a:off x="3967200" y="658080"/>
              <a:ext cx="414360" cy="593964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98" name=""/>
          <p:cNvGrpSpPr/>
          <p:nvPr/>
        </p:nvGrpSpPr>
        <p:grpSpPr>
          <a:xfrm>
            <a:off x="834840" y="1991880"/>
            <a:ext cx="6432840" cy="1843560"/>
            <a:chOff x="834840" y="1991880"/>
            <a:chExt cx="6432840" cy="1843560"/>
          </a:xfrm>
        </p:grpSpPr>
        <p:grpSp>
          <p:nvGrpSpPr>
            <p:cNvPr id="99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00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" name=""/>
            <p:cNvCxnSpPr>
              <a:stCxn id="101" idx="0"/>
              <a:endCxn id="102" idx="0"/>
            </p:cNvCxnSpPr>
            <p:nvPr/>
          </p:nvCxnSpPr>
          <p:spPr>
            <a:xfrm flipH="1" flipV="1" rot="10800000">
              <a:off x="1062000" y="2144160"/>
              <a:ext cx="6206040" cy="1690560"/>
            </a:xfrm>
            <a:prstGeom prst="bentConnector3">
              <a:avLst>
                <a:gd name="adj1" fmla="val -3660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104" name=""/>
          <p:cNvGrpSpPr/>
          <p:nvPr/>
        </p:nvGrpSpPr>
        <p:grpSpPr>
          <a:xfrm>
            <a:off x="990360" y="1539360"/>
            <a:ext cx="6347160" cy="2296080"/>
            <a:chOff x="990360" y="1539360"/>
            <a:chExt cx="6347160" cy="2296080"/>
          </a:xfrm>
        </p:grpSpPr>
        <p:grpSp>
          <p:nvGrpSpPr>
            <p:cNvPr id="105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06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" name=""/>
            <p:cNvCxnSpPr>
              <a:stCxn id="107" idx="0"/>
              <a:endCxn id="108" idx="0"/>
            </p:cNvCxnSpPr>
            <p:nvPr/>
          </p:nvCxnSpPr>
          <p:spPr>
            <a:xfrm flipH="1" rot="16200000">
              <a:off x="3097440" y="-405720"/>
              <a:ext cx="2133360" cy="6347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0" name=""/>
          <p:cNvGrpSpPr/>
          <p:nvPr/>
        </p:nvGrpSpPr>
        <p:grpSpPr>
          <a:xfrm>
            <a:off x="914400" y="1116000"/>
            <a:ext cx="6473880" cy="2719440"/>
            <a:chOff x="914400" y="1116000"/>
            <a:chExt cx="6473880" cy="2719440"/>
          </a:xfrm>
        </p:grpSpPr>
        <p:sp>
          <p:nvSpPr>
            <p:cNvPr id="111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914400" y="1116000"/>
              <a:ext cx="6473880" cy="2718720"/>
              <a:chOff x="914400" y="1116000"/>
              <a:chExt cx="6473880" cy="2718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14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16" name=""/>
              <p:cNvCxnSpPr>
                <a:stCxn id="115" idx="0"/>
                <a:endCxn id="111" idx="0"/>
              </p:cNvCxnSpPr>
              <p:nvPr/>
            </p:nvCxnSpPr>
            <p:spPr>
              <a:xfrm flipH="1" rot="16200000">
                <a:off x="2870640" y="-683280"/>
                <a:ext cx="2561760" cy="647424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17" name=""/>
          <p:cNvGrpSpPr/>
          <p:nvPr/>
        </p:nvGrpSpPr>
        <p:grpSpPr>
          <a:xfrm>
            <a:off x="2342880" y="534960"/>
            <a:ext cx="5159520" cy="3381120"/>
            <a:chOff x="2342880" y="534960"/>
            <a:chExt cx="5159520" cy="3381120"/>
          </a:xfrm>
        </p:grpSpPr>
        <p:sp>
          <p:nvSpPr>
            <p:cNvPr id="118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9" name=""/>
            <p:cNvCxnSpPr>
              <a:stCxn id="56" idx="2"/>
              <a:endCxn id="41" idx="0"/>
            </p:cNvCxnSpPr>
            <p:nvPr/>
          </p:nvCxnSpPr>
          <p:spPr>
            <a:xfrm flipV="1" rot="16200000">
              <a:off x="3488400" y="-329400"/>
              <a:ext cx="2868840" cy="5159880"/>
            </a:xfrm>
            <a:prstGeom prst="bentConnector5">
              <a:avLst>
                <a:gd name="adj1" fmla="val -8069"/>
                <a:gd name="adj2" fmla="val 39198"/>
                <a:gd name="adj3" fmla="val 108408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120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743200" y="1228680"/>
            <a:ext cx="1006560" cy="487440"/>
            <a:chOff x="2743200" y="1228680"/>
            <a:chExt cx="1006560" cy="487440"/>
          </a:xfrm>
        </p:grpSpPr>
        <p:sp>
          <p:nvSpPr>
            <p:cNvPr id="128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0" name=""/>
            <p:cNvCxnSpPr>
              <a:stCxn id="129" idx="0"/>
              <a:endCxn id="128" idx="0"/>
            </p:cNvCxnSpPr>
            <p:nvPr/>
          </p:nvCxnSpPr>
          <p:spPr>
            <a:xfrm flipV="1">
              <a:off x="2743200" y="1304640"/>
              <a:ext cx="1006920" cy="411120"/>
            </a:xfrm>
            <a:prstGeom prst="bentConnector3">
              <a:avLst>
                <a:gd name="adj1" fmla="val 5178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1" name=""/>
          <p:cNvGrpSpPr/>
          <p:nvPr/>
        </p:nvGrpSpPr>
        <p:grpSpPr>
          <a:xfrm>
            <a:off x="2523960" y="1228680"/>
            <a:ext cx="1298520" cy="925200"/>
            <a:chOff x="2523960" y="1228680"/>
            <a:chExt cx="1298520" cy="925200"/>
          </a:xfrm>
        </p:grpSpPr>
        <p:sp>
          <p:nvSpPr>
            <p:cNvPr id="132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" name=""/>
            <p:cNvCxnSpPr>
              <a:stCxn id="133" idx="0"/>
              <a:endCxn id="132" idx="0"/>
            </p:cNvCxnSpPr>
            <p:nvPr/>
          </p:nvCxnSpPr>
          <p:spPr>
            <a:xfrm flipV="1">
              <a:off x="2523960" y="1304640"/>
              <a:ext cx="1298880" cy="848880"/>
            </a:xfrm>
            <a:prstGeom prst="bentConnector3">
              <a:avLst>
                <a:gd name="adj1" fmla="val 51095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135" name=""/>
          <p:cNvGrpSpPr/>
          <p:nvPr/>
        </p:nvGrpSpPr>
        <p:grpSpPr>
          <a:xfrm>
            <a:off x="2747880" y="1231920"/>
            <a:ext cx="1312560" cy="1750680"/>
            <a:chOff x="2747880" y="1231920"/>
            <a:chExt cx="1312560" cy="1750680"/>
          </a:xfrm>
        </p:grpSpPr>
        <p:sp>
          <p:nvSpPr>
            <p:cNvPr id="136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8" name=""/>
            <p:cNvCxnSpPr>
              <a:stCxn id="137" idx="0"/>
              <a:endCxn id="136" idx="0"/>
            </p:cNvCxnSpPr>
            <p:nvPr/>
          </p:nvCxnSpPr>
          <p:spPr>
            <a:xfrm flipV="1">
              <a:off x="2747880" y="1307880"/>
              <a:ext cx="1312920" cy="1674360"/>
            </a:xfrm>
            <a:prstGeom prst="bentConnector3">
              <a:avLst>
                <a:gd name="adj1" fmla="val 5137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9" name=""/>
          <p:cNvGrpSpPr/>
          <p:nvPr/>
        </p:nvGrpSpPr>
        <p:grpSpPr>
          <a:xfrm>
            <a:off x="2752560" y="1228680"/>
            <a:ext cx="1228680" cy="1335240"/>
            <a:chOff x="2752560" y="1228680"/>
            <a:chExt cx="1228680" cy="1335240"/>
          </a:xfrm>
        </p:grpSpPr>
        <p:sp>
          <p:nvSpPr>
            <p:cNvPr id="140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>
              <a:stCxn id="141" idx="0"/>
              <a:endCxn id="140" idx="0"/>
            </p:cNvCxnSpPr>
            <p:nvPr/>
          </p:nvCxnSpPr>
          <p:spPr>
            <a:xfrm flipV="1">
              <a:off x="2752560" y="1304640"/>
              <a:ext cx="1229040" cy="1258920"/>
            </a:xfrm>
            <a:prstGeom prst="bentConnector3">
              <a:avLst>
                <a:gd name="adj1" fmla="val 514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43" name=""/>
          <p:cNvGrpSpPr/>
          <p:nvPr/>
        </p:nvGrpSpPr>
        <p:grpSpPr>
          <a:xfrm>
            <a:off x="2878200" y="1228680"/>
            <a:ext cx="1030320" cy="1477080"/>
            <a:chOff x="2878200" y="1228680"/>
            <a:chExt cx="1030320" cy="1477080"/>
          </a:xfrm>
        </p:grpSpPr>
        <p:sp>
          <p:nvSpPr>
            <p:cNvPr id="144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6" name=""/>
            <p:cNvCxnSpPr>
              <a:stCxn id="145" idx="0"/>
              <a:endCxn id="144" idx="0"/>
            </p:cNvCxnSpPr>
            <p:nvPr/>
          </p:nvCxnSpPr>
          <p:spPr>
            <a:xfrm flipH="1" flipV="1" rot="5400000">
              <a:off x="2811600" y="1370880"/>
              <a:ext cx="1163520" cy="1030680"/>
            </a:xfrm>
            <a:prstGeom prst="bentConnector3">
              <a:avLst>
                <a:gd name="adj1" fmla="val -2045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47" name=""/>
          <p:cNvGrpSpPr/>
          <p:nvPr/>
        </p:nvGrpSpPr>
        <p:grpSpPr>
          <a:xfrm>
            <a:off x="2747880" y="1231920"/>
            <a:ext cx="1385640" cy="2174400"/>
            <a:chOff x="2747880" y="1231920"/>
            <a:chExt cx="1385640" cy="2174400"/>
          </a:xfrm>
        </p:grpSpPr>
        <p:sp>
          <p:nvSpPr>
            <p:cNvPr id="148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49" idx="0"/>
              <a:endCxn id="148" idx="0"/>
            </p:cNvCxnSpPr>
            <p:nvPr/>
          </p:nvCxnSpPr>
          <p:spPr>
            <a:xfrm flipV="1">
              <a:off x="2747880" y="1307880"/>
              <a:ext cx="1386000" cy="2098080"/>
            </a:xfrm>
            <a:prstGeom prst="bentConnector3">
              <a:avLst>
                <a:gd name="adj1" fmla="val 5131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1" name=""/>
          <p:cNvGrpSpPr/>
          <p:nvPr/>
        </p:nvGrpSpPr>
        <p:grpSpPr>
          <a:xfrm>
            <a:off x="2747880" y="1231920"/>
            <a:ext cx="1471320" cy="2612520"/>
            <a:chOff x="2747880" y="1231920"/>
            <a:chExt cx="1471320" cy="2612520"/>
          </a:xfrm>
        </p:grpSpPr>
        <p:sp>
          <p:nvSpPr>
            <p:cNvPr id="152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" name=""/>
            <p:cNvCxnSpPr>
              <a:stCxn id="153" idx="0"/>
              <a:endCxn id="152" idx="0"/>
            </p:cNvCxnSpPr>
            <p:nvPr/>
          </p:nvCxnSpPr>
          <p:spPr>
            <a:xfrm flipV="1">
              <a:off x="2747880" y="1307880"/>
              <a:ext cx="1471680" cy="2536200"/>
            </a:xfrm>
            <a:prstGeom prst="bentConnector3">
              <a:avLst>
                <a:gd name="adj1" fmla="val 51235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5" name=""/>
          <p:cNvGrpSpPr/>
          <p:nvPr/>
        </p:nvGrpSpPr>
        <p:grpSpPr>
          <a:xfrm>
            <a:off x="2695680" y="1231920"/>
            <a:ext cx="1596960" cy="3007800"/>
            <a:chOff x="2695680" y="1231920"/>
            <a:chExt cx="1596960" cy="3007800"/>
          </a:xfrm>
        </p:grpSpPr>
        <p:sp>
          <p:nvSpPr>
            <p:cNvPr id="156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7" idx="0"/>
              <a:endCxn id="156" idx="0"/>
            </p:cNvCxnSpPr>
            <p:nvPr/>
          </p:nvCxnSpPr>
          <p:spPr>
            <a:xfrm flipV="1">
              <a:off x="2696760" y="1307880"/>
              <a:ext cx="1596240" cy="2931840"/>
            </a:xfrm>
            <a:prstGeom prst="bentConnector3">
              <a:avLst>
                <a:gd name="adj1" fmla="val 511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9" name=""/>
          <p:cNvGrpSpPr/>
          <p:nvPr/>
        </p:nvGrpSpPr>
        <p:grpSpPr>
          <a:xfrm>
            <a:off x="2752560" y="1235160"/>
            <a:ext cx="1609560" cy="3448080"/>
            <a:chOff x="2752560" y="1235160"/>
            <a:chExt cx="1609560" cy="3448080"/>
          </a:xfrm>
        </p:grpSpPr>
        <p:sp>
          <p:nvSpPr>
            <p:cNvPr id="160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2" name=""/>
            <p:cNvCxnSpPr>
              <a:stCxn id="161" idx="0"/>
              <a:endCxn id="160" idx="0"/>
            </p:cNvCxnSpPr>
            <p:nvPr/>
          </p:nvCxnSpPr>
          <p:spPr>
            <a:xfrm flipV="1">
              <a:off x="2752560" y="1310400"/>
              <a:ext cx="1609920" cy="3372480"/>
            </a:xfrm>
            <a:prstGeom prst="bentConnector3">
              <a:avLst>
                <a:gd name="adj1" fmla="val 5112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63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78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79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0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81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448080" y="5130720"/>
            <a:ext cx="1352520" cy="762120"/>
            <a:chOff x="3448080" y="5130720"/>
            <a:chExt cx="1352520" cy="762120"/>
          </a:xfrm>
        </p:grpSpPr>
        <p:grpSp>
          <p:nvGrpSpPr>
            <p:cNvPr id="183" name=""/>
            <p:cNvGrpSpPr/>
            <p:nvPr/>
          </p:nvGrpSpPr>
          <p:grpSpPr>
            <a:xfrm>
              <a:off x="3448080" y="5369040"/>
              <a:ext cx="1352520" cy="523800"/>
              <a:chOff x="3448080" y="5369040"/>
              <a:chExt cx="1352520" cy="523800"/>
            </a:xfrm>
          </p:grpSpPr>
          <p:sp>
            <p:nvSpPr>
              <p:cNvPr id="184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5" name=""/>
              <p:cNvCxnSpPr>
                <a:stCxn id="184" idx="0"/>
                <a:endCxn id="166" idx="2"/>
              </p:cNvCxnSpPr>
              <p:nvPr/>
            </p:nvCxnSpPr>
            <p:spPr>
              <a:xfrm flipH="1" flipV="1" rot="5400000">
                <a:off x="4052520" y="4916160"/>
                <a:ext cx="295560" cy="1201320"/>
              </a:xfrm>
              <a:prstGeom prst="bentConnector3">
                <a:avLst>
                  <a:gd name="adj1" fmla="val -7743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86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7" name=""/>
          <p:cNvCxnSpPr>
            <a:stCxn id="59" idx="0"/>
            <a:endCxn id="168" idx="2"/>
          </p:cNvCxnSpPr>
          <p:nvPr/>
        </p:nvCxnSpPr>
        <p:spPr>
          <a:xfrm flipV="1">
            <a:off x="4705200" y="1663560"/>
            <a:ext cx="360" cy="308664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88" name=""/>
          <p:cNvGrpSpPr/>
          <p:nvPr/>
        </p:nvGrpSpPr>
        <p:grpSpPr>
          <a:xfrm>
            <a:off x="5114880" y="2054160"/>
            <a:ext cx="1104840" cy="1437840"/>
            <a:chOff x="5114880" y="2054160"/>
            <a:chExt cx="1104840" cy="1437840"/>
          </a:xfrm>
        </p:grpSpPr>
        <p:cxnSp>
          <p:nvCxnSpPr>
            <p:cNvPr id="189" name=""/>
            <p:cNvCxnSpPr>
              <a:stCxn id="190" idx="0"/>
              <a:endCxn id="164" idx="3"/>
            </p:cNvCxnSpPr>
            <p:nvPr/>
          </p:nvCxnSpPr>
          <p:spPr>
            <a:xfrm flipV="1" rot="16200000">
              <a:off x="4605120" y="2563560"/>
              <a:ext cx="1286280" cy="267120"/>
            </a:xfrm>
            <a:prstGeom prst="bentConnector2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grpSp>
          <p:nvGrpSpPr>
            <p:cNvPr id="191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192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64" idx="0"/>
            <a:endCxn id="196" idx="1"/>
          </p:cNvCxnSpPr>
          <p:nvPr/>
        </p:nvCxnSpPr>
        <p:spPr>
          <a:xfrm flipH="1" flipV="1">
            <a:off x="4753080" y="1676520"/>
            <a:ext cx="285840" cy="302040"/>
          </a:xfrm>
          <a:prstGeom prst="straightConnector1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048280" y="914400"/>
            <a:ext cx="2673000" cy="2998080"/>
            <a:chOff x="5048280" y="914400"/>
            <a:chExt cx="2673000" cy="2998080"/>
          </a:xfrm>
        </p:grpSpPr>
        <p:cxnSp>
          <p:nvCxnSpPr>
            <p:cNvPr id="210" name=""/>
            <p:cNvCxnSpPr>
              <a:stCxn id="61" idx="2"/>
              <a:endCxn id="57" idx="3"/>
            </p:cNvCxnSpPr>
            <p:nvPr/>
          </p:nvCxnSpPr>
          <p:spPr>
            <a:xfrm flipV="1" rot="16200000">
              <a:off x="5041800" y="1001520"/>
              <a:ext cx="2686320" cy="2673360"/>
            </a:xfrm>
            <a:prstGeom prst="bentConnector4">
              <a:avLst>
                <a:gd name="adj1" fmla="val -8604"/>
                <a:gd name="adj2" fmla="val 52134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211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353200" y="1554120"/>
            <a:ext cx="1352520" cy="538200"/>
            <a:chOff x="5353200" y="1554120"/>
            <a:chExt cx="1352520" cy="538200"/>
          </a:xfrm>
        </p:grpSpPr>
        <p:cxnSp>
          <p:nvCxnSpPr>
            <p:cNvPr id="214" name=""/>
            <p:cNvCxnSpPr>
              <a:stCxn id="176" idx="3"/>
              <a:endCxn id="163" idx="0"/>
            </p:cNvCxnSpPr>
            <p:nvPr/>
          </p:nvCxnSpPr>
          <p:spPr>
            <a:xfrm>
              <a:off x="5353200" y="1625400"/>
              <a:ext cx="1352880" cy="467280"/>
            </a:xfrm>
            <a:prstGeom prst="bentConnector2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sp>
          <p:nvSpPr>
            <p:cNvPr id="215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838240" y="1949400"/>
            <a:ext cx="2124360" cy="231840"/>
            <a:chOff x="2838240" y="1949400"/>
            <a:chExt cx="2124360" cy="231840"/>
          </a:xfrm>
        </p:grpSpPr>
        <p:cxnSp>
          <p:nvCxnSpPr>
            <p:cNvPr id="218" name=""/>
            <p:cNvCxnSpPr>
              <a:stCxn id="194" idx="0"/>
              <a:endCxn id="164" idx="1"/>
            </p:cNvCxnSpPr>
            <p:nvPr/>
          </p:nvCxnSpPr>
          <p:spPr>
            <a:xfrm flipH="1" flipV="1" rot="5400000">
              <a:off x="3836520" y="1055520"/>
              <a:ext cx="127440" cy="2124720"/>
            </a:xfrm>
            <a:prstGeom prst="bentConnector4">
              <a:avLst>
                <a:gd name="adj1" fmla="val 182436"/>
                <a:gd name="adj2" fmla="val 52685"/>
              </a:avLst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sp>
          <p:nvSpPr>
            <p:cNvPr id="219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933800" y="3684600"/>
            <a:ext cx="1279440" cy="1325520"/>
            <a:chOff x="4933800" y="3684600"/>
            <a:chExt cx="1279440" cy="1325520"/>
          </a:xfrm>
        </p:grpSpPr>
        <p:cxnSp>
          <p:nvCxnSpPr>
            <p:cNvPr id="222" name=""/>
            <p:cNvCxnSpPr>
              <a:stCxn id="55" idx="2"/>
              <a:endCxn id="59" idx="3"/>
            </p:cNvCxnSpPr>
            <p:nvPr/>
          </p:nvCxnSpPr>
          <p:spPr>
            <a:xfrm rot="5400000">
              <a:off x="4945680" y="3672720"/>
              <a:ext cx="1256040" cy="127980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3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416400" y="3683160"/>
            <a:ext cx="3089160" cy="2547720"/>
            <a:chOff x="3416400" y="3683160"/>
            <a:chExt cx="3089160" cy="2547720"/>
          </a:xfrm>
        </p:grpSpPr>
        <p:grpSp>
          <p:nvGrpSpPr>
            <p:cNvPr id="226" name=""/>
            <p:cNvGrpSpPr/>
            <p:nvPr/>
          </p:nvGrpSpPr>
          <p:grpSpPr>
            <a:xfrm>
              <a:off x="3416400" y="3683160"/>
              <a:ext cx="3089160" cy="2492280"/>
              <a:chOff x="3416400" y="3683160"/>
              <a:chExt cx="3089160" cy="2492280"/>
            </a:xfrm>
          </p:grpSpPr>
          <p:sp>
            <p:nvSpPr>
              <p:cNvPr id="227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28" name=""/>
              <p:cNvCxnSpPr>
                <a:stCxn id="227" idx="0"/>
                <a:endCxn id="229" idx="3"/>
              </p:cNvCxnSpPr>
              <p:nvPr/>
            </p:nvCxnSpPr>
            <p:spPr>
              <a:xfrm flipV="1" rot="10800000">
                <a:off x="3416040" y="3834720"/>
                <a:ext cx="3089520" cy="2341080"/>
              </a:xfrm>
              <a:prstGeom prst="bentConnector3">
                <a:avLst>
                  <a:gd name="adj1" fmla="val 49947"/>
                </a:avLst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30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847880" y="3683160"/>
            <a:ext cx="4851360" cy="1955520"/>
            <a:chOff x="1847880" y="3683160"/>
            <a:chExt cx="4851360" cy="1955520"/>
          </a:xfrm>
        </p:grpSpPr>
        <p:grpSp>
          <p:nvGrpSpPr>
            <p:cNvPr id="233" name=""/>
            <p:cNvGrpSpPr/>
            <p:nvPr/>
          </p:nvGrpSpPr>
          <p:grpSpPr>
            <a:xfrm>
              <a:off x="1847880" y="3683160"/>
              <a:ext cx="4851360" cy="1885680"/>
              <a:chOff x="1847880" y="3683160"/>
              <a:chExt cx="4851360" cy="1885680"/>
            </a:xfrm>
          </p:grpSpPr>
          <p:sp>
            <p:nvSpPr>
              <p:cNvPr id="234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6" name=""/>
              <p:cNvCxnSpPr>
                <a:stCxn id="235" idx="0"/>
                <a:endCxn id="234" idx="0"/>
              </p:cNvCxnSpPr>
              <p:nvPr/>
            </p:nvCxnSpPr>
            <p:spPr>
              <a:xfrm flipH="1" flipV="1" rot="5400000">
                <a:off x="3406320" y="2275920"/>
                <a:ext cx="1734480" cy="4851720"/>
              </a:xfrm>
              <a:prstGeom prst="bentConnector2">
                <a:avLst/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  <p:sp>
          <p:nvSpPr>
            <p:cNvPr id="237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959360" y="2130480"/>
            <a:ext cx="873000" cy="1785600"/>
            <a:chOff x="4959360" y="2130480"/>
            <a:chExt cx="873000" cy="1785600"/>
          </a:xfrm>
        </p:grpSpPr>
        <p:cxnSp>
          <p:nvCxnSpPr>
            <p:cNvPr id="240" name=""/>
            <p:cNvCxnSpPr>
              <a:stCxn id="53" idx="2"/>
              <a:endCxn id="164" idx="2"/>
            </p:cNvCxnSpPr>
            <p:nvPr/>
          </p:nvCxnSpPr>
          <p:spPr>
            <a:xfrm flipV="1" rot="16200000">
              <a:off x="4658400" y="2510280"/>
              <a:ext cx="1554480" cy="794160"/>
            </a:xfrm>
            <a:prstGeom prst="bentConnector3">
              <a:avLst>
                <a:gd name="adj1" fmla="val -14894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1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252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4280" y="204624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943600" y="2438280"/>
            <a:ext cx="45720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0080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47920" y="2819520"/>
            <a:ext cx="4343400" cy="2209680"/>
          </a:xfrm>
          <a:prstGeom prst="wedgeEllipseCallout">
            <a:avLst>
              <a:gd name="adj1" fmla="val 65458"/>
              <a:gd name="adj2" fmla="val -70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maginons que l’instruction que nous venons de charger est  BIPUSH 0x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(PC=PC+1;fetch ;goto bipush3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4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1487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8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1489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491" name=""/>
              <p:cNvCxnSpPr>
                <a:stCxn id="1489" idx="0"/>
                <a:endCxn id="1490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492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1493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1494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6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7" name=""/>
            <p:cNvCxnSpPr>
              <a:stCxn id="1495" idx="0"/>
              <a:endCxn id="1496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498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1499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1500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2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3" name=""/>
            <p:cNvCxnSpPr>
              <a:stCxn id="1501" idx="0"/>
              <a:endCxn id="1502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04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1505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1506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8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9" name=""/>
            <p:cNvCxnSpPr>
              <a:stCxn id="1507" idx="0"/>
              <a:endCxn id="1508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10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1511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1512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4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5" name=""/>
            <p:cNvCxnSpPr>
              <a:stCxn id="1513" idx="0"/>
              <a:endCxn id="1514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16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1517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1518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0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1" name=""/>
            <p:cNvCxnSpPr>
              <a:stCxn id="1519" idx="0"/>
              <a:endCxn id="1520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22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1523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524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6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7" name=""/>
            <p:cNvCxnSpPr>
              <a:stCxn id="1525" idx="0"/>
              <a:endCxn id="1526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28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1529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530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2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3" name=""/>
            <p:cNvCxnSpPr>
              <a:stCxn id="1531" idx="0"/>
              <a:endCxn id="1532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34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1535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6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1537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538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540" name=""/>
              <p:cNvCxnSpPr>
                <a:stCxn id="1539" idx="0"/>
                <a:endCxn id="1535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541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1542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3" name=""/>
            <p:cNvCxnSpPr>
              <a:stCxn id="1480" idx="2"/>
              <a:endCxn id="1465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44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1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1552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4" name=""/>
            <p:cNvCxnSpPr>
              <a:stCxn id="1553" idx="0"/>
              <a:endCxn id="1552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55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1556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8" name=""/>
            <p:cNvCxnSpPr>
              <a:stCxn id="1557" idx="0"/>
              <a:endCxn id="1556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59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1560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2" name=""/>
            <p:cNvCxnSpPr>
              <a:stCxn id="1561" idx="0"/>
              <a:endCxn id="1560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63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1564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6" name=""/>
            <p:cNvCxnSpPr>
              <a:stCxn id="1565" idx="0"/>
              <a:endCxn id="1564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67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1568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70" name=""/>
            <p:cNvCxnSpPr>
              <a:stCxn id="1569" idx="0"/>
              <a:endCxn id="1568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71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1572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74" name=""/>
            <p:cNvCxnSpPr>
              <a:stCxn id="1573" idx="0"/>
              <a:endCxn id="1572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75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1576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78" name=""/>
            <p:cNvCxnSpPr>
              <a:stCxn id="1577" idx="0"/>
              <a:endCxn id="1576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79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1580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2" name=""/>
            <p:cNvCxnSpPr>
              <a:stCxn id="1581" idx="0"/>
              <a:endCxn id="1580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83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1584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6" name=""/>
            <p:cNvCxnSpPr>
              <a:stCxn id="1585" idx="0"/>
              <a:endCxn id="1584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587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1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602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603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04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605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6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1607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1608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09" name=""/>
              <p:cNvCxnSpPr>
                <a:stCxn id="1608" idx="0"/>
                <a:endCxn id="1590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610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11" name=""/>
          <p:cNvCxnSpPr>
            <a:stCxn id="1483" idx="0"/>
            <a:endCxn id="1592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12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1613" name=""/>
            <p:cNvCxnSpPr>
              <a:stCxn id="1614" idx="0"/>
              <a:endCxn id="1588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615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1616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18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1" name=""/>
          <p:cNvCxnSpPr>
            <a:stCxn id="1588" idx="0"/>
            <a:endCxn id="1620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2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1634" name=""/>
            <p:cNvCxnSpPr>
              <a:stCxn id="1485" idx="2"/>
              <a:endCxn id="1481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5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7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1638" name=""/>
            <p:cNvCxnSpPr>
              <a:stCxn id="1600" idx="3"/>
              <a:endCxn id="1587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9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1642" name=""/>
            <p:cNvCxnSpPr>
              <a:stCxn id="1618" idx="0"/>
              <a:endCxn id="1588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43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4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5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1646" name=""/>
            <p:cNvCxnSpPr>
              <a:stCxn id="1479" idx="2"/>
              <a:endCxn id="1483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47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8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9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1650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1651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52" name=""/>
              <p:cNvCxnSpPr>
                <a:stCxn id="1651" idx="0"/>
                <a:endCxn id="1653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654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1657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1658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60" name=""/>
              <p:cNvCxnSpPr>
                <a:stCxn id="1659" idx="0"/>
                <a:endCxn id="1658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661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2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1664" name=""/>
            <p:cNvCxnSpPr>
              <a:stCxn id="1477" idx="2"/>
              <a:endCxn id="1588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5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6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5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1676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3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943600" y="2438280"/>
            <a:ext cx="45720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40080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858000" y="2438280"/>
            <a:ext cx="45720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(PC=PC+1;fetch ;goto bipush3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96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8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1719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0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1721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723" name=""/>
              <p:cNvCxnSpPr>
                <a:stCxn id="1721" idx="0"/>
                <a:endCxn id="1722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724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1725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1726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8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9" name=""/>
            <p:cNvCxnSpPr>
              <a:stCxn id="1727" idx="0"/>
              <a:endCxn id="1728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30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1731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1732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4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35" name=""/>
            <p:cNvCxnSpPr>
              <a:stCxn id="1733" idx="0"/>
              <a:endCxn id="1734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36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1737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1738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0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41" name=""/>
            <p:cNvCxnSpPr>
              <a:stCxn id="1739" idx="0"/>
              <a:endCxn id="1740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42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1743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1744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6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47" name=""/>
            <p:cNvCxnSpPr>
              <a:stCxn id="1745" idx="0"/>
              <a:endCxn id="1746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48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1749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1750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2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53" name=""/>
            <p:cNvCxnSpPr>
              <a:stCxn id="1751" idx="0"/>
              <a:endCxn id="1752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54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1755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756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8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59" name=""/>
            <p:cNvCxnSpPr>
              <a:stCxn id="1757" idx="0"/>
              <a:endCxn id="1758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1760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1761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762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4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65" name=""/>
            <p:cNvCxnSpPr>
              <a:stCxn id="1763" idx="0"/>
              <a:endCxn id="1764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66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1767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8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1769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770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772" name=""/>
              <p:cNvCxnSpPr>
                <a:stCxn id="1771" idx="0"/>
                <a:endCxn id="1767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773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1774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75" name=""/>
            <p:cNvCxnSpPr>
              <a:stCxn id="1712" idx="2"/>
              <a:endCxn id="1697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1776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3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1784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86" name=""/>
            <p:cNvCxnSpPr>
              <a:stCxn id="1785" idx="0"/>
              <a:endCxn id="1784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87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1788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90" name=""/>
            <p:cNvCxnSpPr>
              <a:stCxn id="1789" idx="0"/>
              <a:endCxn id="1788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1791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1792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94" name=""/>
            <p:cNvCxnSpPr>
              <a:stCxn id="1793" idx="0"/>
              <a:endCxn id="1792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95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1796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98" name=""/>
            <p:cNvCxnSpPr>
              <a:stCxn id="1797" idx="0"/>
              <a:endCxn id="1796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99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1800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2" name=""/>
            <p:cNvCxnSpPr>
              <a:stCxn id="1801" idx="0"/>
              <a:endCxn id="1800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03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1804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6" name=""/>
            <p:cNvCxnSpPr>
              <a:stCxn id="1805" idx="0"/>
              <a:endCxn id="1804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07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1808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0" name=""/>
            <p:cNvCxnSpPr>
              <a:stCxn id="1809" idx="0"/>
              <a:endCxn id="1808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11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1812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4" name=""/>
            <p:cNvCxnSpPr>
              <a:stCxn id="1813" idx="0"/>
              <a:endCxn id="1812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15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1816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8" name=""/>
            <p:cNvCxnSpPr>
              <a:stCxn id="1817" idx="0"/>
              <a:endCxn id="1816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819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3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834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835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36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837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1839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1840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41" name=""/>
              <p:cNvCxnSpPr>
                <a:stCxn id="1840" idx="0"/>
                <a:endCxn id="1822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842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43" name=""/>
          <p:cNvCxnSpPr>
            <a:stCxn id="1715" idx="0"/>
            <a:endCxn id="1824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844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1845" name=""/>
            <p:cNvCxnSpPr>
              <a:stCxn id="1846" idx="0"/>
              <a:endCxn id="1820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847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1848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0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3" name=""/>
          <p:cNvCxnSpPr>
            <a:stCxn id="1820" idx="0"/>
            <a:endCxn id="1852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854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5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1866" name=""/>
            <p:cNvCxnSpPr>
              <a:stCxn id="1717" idx="2"/>
              <a:endCxn id="1713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867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8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9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1870" name=""/>
            <p:cNvCxnSpPr>
              <a:stCxn id="1832" idx="3"/>
              <a:endCxn id="1819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871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2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1874" name=""/>
            <p:cNvCxnSpPr>
              <a:stCxn id="1850" idx="0"/>
              <a:endCxn id="1820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75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6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7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1878" name=""/>
            <p:cNvCxnSpPr>
              <a:stCxn id="1711" idx="2"/>
              <a:endCxn id="1715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79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0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1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1882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1883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84" name=""/>
              <p:cNvCxnSpPr>
                <a:stCxn id="1883" idx="0"/>
                <a:endCxn id="1885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886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7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8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1889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1890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92" name=""/>
              <p:cNvCxnSpPr>
                <a:stCxn id="1891" idx="0"/>
                <a:endCxn id="1890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  <p:sp>
          <p:nvSpPr>
            <p:cNvPr id="1893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4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5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1896" name=""/>
            <p:cNvCxnSpPr>
              <a:stCxn id="1709" idx="2"/>
              <a:endCxn id="1820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897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8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1908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5943600" y="2438280"/>
            <a:ext cx="45720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40080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858000" y="2438280"/>
            <a:ext cx="45720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Bipus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n résumé nous venons de faire les opérations suivant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PC= PC+1; fetch ; goto bipush3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929" name=""/>
          <p:cNvGraphicFramePr/>
          <p:nvPr/>
        </p:nvGraphicFramePr>
        <p:xfrm>
          <a:off x="228600" y="2057400"/>
          <a:ext cx="8613720" cy="2590920"/>
        </p:xfrm>
        <a:graphic>
          <a:graphicData uri="http://schemas.openxmlformats.org/drawingml/2006/table">
            <a:tbl>
              <a:tblPr/>
              <a:tblGrid>
                <a:gridCol w="1600200"/>
                <a:gridCol w="304920"/>
                <a:gridCol w="304560"/>
                <a:gridCol w="228600"/>
                <a:gridCol w="252360"/>
                <a:gridCol w="228600"/>
                <a:gridCol w="333720"/>
                <a:gridCol w="352080"/>
                <a:gridCol w="263520"/>
                <a:gridCol w="228600"/>
                <a:gridCol w="211320"/>
                <a:gridCol w="193680"/>
                <a:gridCol w="228600"/>
                <a:gridCol w="263520"/>
                <a:gridCol w="245880"/>
                <a:gridCol w="223920"/>
                <a:gridCol w="250920"/>
                <a:gridCol w="263520"/>
                <a:gridCol w="193680"/>
                <a:gridCol w="228600"/>
                <a:gridCol w="228600"/>
                <a:gridCol w="263520"/>
                <a:gridCol w="345960"/>
                <a:gridCol w="304920"/>
                <a:gridCol w="1069920"/>
              </a:tblGrid>
              <a:tr h="82332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_A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mo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M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A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A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LL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R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D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E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ipush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x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struisons le contrôleu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31" name=""/>
          <p:cNvSpPr/>
          <p:nvPr/>
        </p:nvSpPr>
        <p:spPr>
          <a:xfrm>
            <a:off x="228600" y="1523880"/>
            <a:ext cx="1668600" cy="266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=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668160" y="1219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905120" y="2743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2135160" y="22096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3200400" y="1447920"/>
            <a:ext cx="166860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=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3576600" y="11430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4876920" y="2743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4979880" y="22860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9" name=""/>
          <p:cNvGrpSpPr/>
          <p:nvPr/>
        </p:nvGrpSpPr>
        <p:grpSpPr>
          <a:xfrm>
            <a:off x="6095880" y="1143000"/>
            <a:ext cx="2620800" cy="3048120"/>
            <a:chOff x="6095880" y="1143000"/>
            <a:chExt cx="2620800" cy="3048120"/>
          </a:xfrm>
        </p:grpSpPr>
        <p:sp>
          <p:nvSpPr>
            <p:cNvPr id="1940" name=""/>
            <p:cNvSpPr/>
            <p:nvPr/>
          </p:nvSpPr>
          <p:spPr>
            <a:xfrm>
              <a:off x="6095880" y="1523880"/>
              <a:ext cx="1668600" cy="266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=0x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446880" y="114300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push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772400" y="27432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773840" y="228600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push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emple Bipus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45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7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1968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9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1970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72" name=""/>
              <p:cNvCxnSpPr>
                <a:stCxn id="1970" idx="0"/>
                <a:endCxn id="1971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973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1974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1975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7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8" name=""/>
            <p:cNvCxnSpPr>
              <a:stCxn id="1976" idx="0"/>
              <a:endCxn id="1977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979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1980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1981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3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84" name=""/>
            <p:cNvCxnSpPr>
              <a:stCxn id="1982" idx="0"/>
              <a:endCxn id="1983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985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1986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1987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9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90" name=""/>
            <p:cNvCxnSpPr>
              <a:stCxn id="1988" idx="0"/>
              <a:endCxn id="1989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991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1992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1993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5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96" name=""/>
            <p:cNvCxnSpPr>
              <a:stCxn id="1994" idx="0"/>
              <a:endCxn id="1995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997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1998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1999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1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02" name=""/>
            <p:cNvCxnSpPr>
              <a:stCxn id="2000" idx="0"/>
              <a:endCxn id="2001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03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2004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2005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7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08" name=""/>
            <p:cNvCxnSpPr>
              <a:stCxn id="2006" idx="0"/>
              <a:endCxn id="2007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09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2010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2011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3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14" name=""/>
            <p:cNvCxnSpPr>
              <a:stCxn id="2012" idx="0"/>
              <a:endCxn id="2013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15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2016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7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2018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2019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021" name=""/>
              <p:cNvCxnSpPr>
                <a:stCxn id="2020" idx="0"/>
                <a:endCxn id="2016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022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2023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24" name=""/>
            <p:cNvCxnSpPr>
              <a:stCxn id="1961" idx="2"/>
              <a:endCxn id="1946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025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2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2033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35" name=""/>
            <p:cNvCxnSpPr>
              <a:stCxn id="2034" idx="0"/>
              <a:endCxn id="2033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36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2037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39" name=""/>
            <p:cNvCxnSpPr>
              <a:stCxn id="2038" idx="0"/>
              <a:endCxn id="2037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40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2041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43" name=""/>
            <p:cNvCxnSpPr>
              <a:stCxn id="2042" idx="0"/>
              <a:endCxn id="2041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44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2045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47" name=""/>
            <p:cNvCxnSpPr>
              <a:stCxn id="2046" idx="0"/>
              <a:endCxn id="2045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48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2049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51" name=""/>
            <p:cNvCxnSpPr>
              <a:stCxn id="2050" idx="0"/>
              <a:endCxn id="2049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52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2053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55" name=""/>
            <p:cNvCxnSpPr>
              <a:stCxn id="2054" idx="0"/>
              <a:endCxn id="2053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56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2057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59" name=""/>
            <p:cNvCxnSpPr>
              <a:stCxn id="2058" idx="0"/>
              <a:endCxn id="2057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60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2061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3" name=""/>
            <p:cNvCxnSpPr>
              <a:stCxn id="2062" idx="0"/>
              <a:endCxn id="2061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064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2065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7" name=""/>
            <p:cNvCxnSpPr>
              <a:stCxn id="2066" idx="0"/>
              <a:endCxn id="2065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2068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2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2083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2084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85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086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7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2088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2089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90" name=""/>
              <p:cNvCxnSpPr>
                <a:stCxn id="2089" idx="0"/>
                <a:endCxn id="2071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091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92" name=""/>
          <p:cNvCxnSpPr>
            <a:stCxn id="1964" idx="0"/>
            <a:endCxn id="2073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93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2094" name=""/>
            <p:cNvCxnSpPr>
              <a:stCxn id="2095" idx="0"/>
              <a:endCxn id="2069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096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2097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9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2" name=""/>
          <p:cNvCxnSpPr>
            <a:stCxn id="2069" idx="0"/>
            <a:endCxn id="2101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3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2115" name=""/>
            <p:cNvCxnSpPr>
              <a:stCxn id="1966" idx="2"/>
              <a:endCxn id="1962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16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7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8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2119" name=""/>
            <p:cNvCxnSpPr>
              <a:stCxn id="2081" idx="3"/>
              <a:endCxn id="2068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20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1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2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2123" name=""/>
            <p:cNvCxnSpPr>
              <a:stCxn id="2099" idx="0"/>
              <a:endCxn id="2069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24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5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6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2127" name=""/>
            <p:cNvCxnSpPr>
              <a:stCxn id="1960" idx="2"/>
              <a:endCxn id="1964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28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9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0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2131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2132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33" name=""/>
              <p:cNvCxnSpPr>
                <a:stCxn id="2132" idx="0"/>
                <a:endCxn id="2134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135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6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7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2138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2139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41" name=""/>
              <p:cNvCxnSpPr>
                <a:stCxn id="2140" idx="0"/>
                <a:endCxn id="2139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42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3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4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2145" name=""/>
            <p:cNvCxnSpPr>
              <a:stCxn id="1958" idx="2"/>
              <a:endCxn id="2069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46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7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6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2157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4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905120" y="2057400"/>
            <a:ext cx="990360" cy="45720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 rot="5163600">
            <a:off x="2081160" y="2360520"/>
            <a:ext cx="2144520" cy="1652400"/>
          </a:xfrm>
          <a:custGeom>
            <a:avLst/>
            <a:gdLst>
              <a:gd name="textAreaLeft" fmla="*/ 0 w 2144520"/>
              <a:gd name="textAreaRight" fmla="*/ 2144880 w 2144520"/>
              <a:gd name="textAreaTop" fmla="*/ 0 h 1652400"/>
              <a:gd name="textAreaBottom" fmla="*/ 1652760 h 1652400"/>
            </a:gdLst>
            <a:ahLst/>
            <a:rect l="textAreaLeft" t="textAreaTop" r="textAreaRight" b="textAreaBottom"/>
            <a:pathLst>
              <a:path w="21600" h="21600">
                <a:moveTo>
                  <a:pt x="3628" y="10110"/>
                </a:moveTo>
                <a:arcTo wR="-7205" hR="-7205" stAng="-10470278" swAng="-11129722"/>
                <a:lnTo>
                  <a:pt x="0" y="10800"/>
                </a:lnTo>
                <a:arcTo wR="10800" hR="10800" stAng="10800000" swAng="11129722"/>
                <a:lnTo>
                  <a:pt x="24238" y="12093"/>
                </a:lnTo>
                <a:lnTo>
                  <a:pt x="19330" y="16139"/>
                </a:lnTo>
                <a:lnTo>
                  <a:pt x="15284" y="11231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V="1" rot="16436400">
            <a:off x="2616840" y="1076400"/>
            <a:ext cx="1066680" cy="165276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652760"/>
              <a:gd name="textAreaBottom" fmla="*/ 1652760 h 1652760"/>
            </a:gdLst>
            <a:ahLst/>
            <a:rect l="textAreaLeft" t="textAreaTop" r="textAreaRight" b="textAreaBottom"/>
            <a:pathLst>
              <a:path w="21600" h="21600">
                <a:moveTo>
                  <a:pt x="3628" y="10110"/>
                </a:moveTo>
                <a:arcTo wR="-7205" hR="-7205" stAng="-10470278" swAng="-11129722"/>
                <a:lnTo>
                  <a:pt x="0" y="10800"/>
                </a:lnTo>
                <a:arcTo wR="10800" hR="10800" stAng="10800000" swAng="11129722"/>
                <a:lnTo>
                  <a:pt x="24238" y="12093"/>
                </a:lnTo>
                <a:lnTo>
                  <a:pt x="19330" y="16139"/>
                </a:lnTo>
                <a:lnTo>
                  <a:pt x="15284" y="11231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5715000" y="2362320"/>
            <a:ext cx="30492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6324480" y="2362320"/>
            <a:ext cx="30492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662940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6934320" y="2362320"/>
            <a:ext cx="30456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723888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Bipush (MDR=TOS=MBR; Wr ; Goto Main1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83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5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2206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7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2208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210" name=""/>
              <p:cNvCxnSpPr>
                <a:stCxn id="2208" idx="0"/>
                <a:endCxn id="2209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211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2212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2213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5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16" name=""/>
            <p:cNvCxnSpPr>
              <a:stCxn id="2214" idx="0"/>
              <a:endCxn id="2215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17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2218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2219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1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22" name=""/>
            <p:cNvCxnSpPr>
              <a:stCxn id="2220" idx="0"/>
              <a:endCxn id="2221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23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2224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2225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7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28" name=""/>
            <p:cNvCxnSpPr>
              <a:stCxn id="2226" idx="0"/>
              <a:endCxn id="2227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29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2230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2231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3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4" name=""/>
            <p:cNvCxnSpPr>
              <a:stCxn id="2232" idx="0"/>
              <a:endCxn id="2233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35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2236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2237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9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0" name=""/>
            <p:cNvCxnSpPr>
              <a:stCxn id="2238" idx="0"/>
              <a:endCxn id="2239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41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2242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2243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5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6" name=""/>
            <p:cNvCxnSpPr>
              <a:stCxn id="2244" idx="0"/>
              <a:endCxn id="2245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47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2248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2249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1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52" name=""/>
            <p:cNvCxnSpPr>
              <a:stCxn id="2250" idx="0"/>
              <a:endCxn id="2251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53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2254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5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2256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2257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259" name=""/>
              <p:cNvCxnSpPr>
                <a:stCxn id="2258" idx="0"/>
                <a:endCxn id="2254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260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2261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2" name=""/>
            <p:cNvCxnSpPr>
              <a:stCxn id="2199" idx="2"/>
              <a:endCxn id="2184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263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0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2271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73" name=""/>
            <p:cNvCxnSpPr>
              <a:stCxn id="2272" idx="0"/>
              <a:endCxn id="2271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74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2275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77" name=""/>
            <p:cNvCxnSpPr>
              <a:stCxn id="2276" idx="0"/>
              <a:endCxn id="2275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78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2279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81" name=""/>
            <p:cNvCxnSpPr>
              <a:stCxn id="2280" idx="0"/>
              <a:endCxn id="2279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82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2283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85" name=""/>
            <p:cNvCxnSpPr>
              <a:stCxn id="2284" idx="0"/>
              <a:endCxn id="2283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86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2287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89" name=""/>
            <p:cNvCxnSpPr>
              <a:stCxn id="2288" idx="0"/>
              <a:endCxn id="2287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90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2291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93" name=""/>
            <p:cNvCxnSpPr>
              <a:stCxn id="2292" idx="0"/>
              <a:endCxn id="2291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94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2295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97" name=""/>
            <p:cNvCxnSpPr>
              <a:stCxn id="2296" idx="0"/>
              <a:endCxn id="2295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298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2299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01" name=""/>
            <p:cNvCxnSpPr>
              <a:stCxn id="2300" idx="0"/>
              <a:endCxn id="2299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302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2303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05" name=""/>
            <p:cNvCxnSpPr>
              <a:stCxn id="2304" idx="0"/>
              <a:endCxn id="2303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2306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2321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2322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23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324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5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2326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2327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28" name=""/>
              <p:cNvCxnSpPr>
                <a:stCxn id="2327" idx="0"/>
                <a:endCxn id="2309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329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30" name=""/>
          <p:cNvCxnSpPr>
            <a:stCxn id="2202" idx="0"/>
            <a:endCxn id="2311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331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2332" name=""/>
            <p:cNvCxnSpPr>
              <a:stCxn id="2333" idx="0"/>
              <a:endCxn id="2307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334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2335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7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0" name=""/>
          <p:cNvCxnSpPr>
            <a:stCxn id="2307" idx="0"/>
            <a:endCxn id="2339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1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2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2353" name=""/>
            <p:cNvCxnSpPr>
              <a:stCxn id="2204" idx="2"/>
              <a:endCxn id="2200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54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5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6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2357" name=""/>
            <p:cNvCxnSpPr>
              <a:stCxn id="2319" idx="3"/>
              <a:endCxn id="2306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58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9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0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2361" name=""/>
            <p:cNvCxnSpPr>
              <a:stCxn id="2337" idx="0"/>
              <a:endCxn id="2307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62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3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4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2365" name=""/>
            <p:cNvCxnSpPr>
              <a:stCxn id="2198" idx="2"/>
              <a:endCxn id="2202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66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7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8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2369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2370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71" name=""/>
              <p:cNvCxnSpPr>
                <a:stCxn id="2370" idx="0"/>
                <a:endCxn id="2372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373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4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5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2376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2377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79" name=""/>
              <p:cNvCxnSpPr>
                <a:stCxn id="2378" idx="0"/>
                <a:endCxn id="2377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380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1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2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2383" name=""/>
            <p:cNvCxnSpPr>
              <a:stCxn id="2196" idx="2"/>
              <a:endCxn id="2307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84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5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4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2395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2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5715000" y="2362320"/>
            <a:ext cx="30492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6324480" y="2362320"/>
            <a:ext cx="30492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662940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6934320" y="2362320"/>
            <a:ext cx="30456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723888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Bipush (MDR=TOS=MBR; Wr ; Goto Main1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8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0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2441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2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2443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45" name=""/>
              <p:cNvCxnSpPr>
                <a:stCxn id="2443" idx="0"/>
                <a:endCxn id="2444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446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2447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2448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0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1" name=""/>
            <p:cNvCxnSpPr>
              <a:stCxn id="2449" idx="0"/>
              <a:endCxn id="2450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452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2453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2454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6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7" name=""/>
            <p:cNvCxnSpPr>
              <a:stCxn id="2455" idx="0"/>
              <a:endCxn id="2456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2458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2459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2460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2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63" name=""/>
            <p:cNvCxnSpPr>
              <a:stCxn id="2461" idx="0"/>
              <a:endCxn id="2462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464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2465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2466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8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69" name=""/>
            <p:cNvCxnSpPr>
              <a:stCxn id="2467" idx="0"/>
              <a:endCxn id="2468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470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2471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2472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4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75" name=""/>
            <p:cNvCxnSpPr>
              <a:stCxn id="2473" idx="0"/>
              <a:endCxn id="2474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476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2477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2478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0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81" name=""/>
            <p:cNvCxnSpPr>
              <a:stCxn id="2479" idx="0"/>
              <a:endCxn id="2480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482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2483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2484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6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87" name=""/>
            <p:cNvCxnSpPr>
              <a:stCxn id="2485" idx="0"/>
              <a:endCxn id="2486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2488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2489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0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2491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2492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494" name=""/>
              <p:cNvCxnSpPr>
                <a:stCxn id="2493" idx="0"/>
                <a:endCxn id="2489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495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2496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97" name=""/>
            <p:cNvCxnSpPr>
              <a:stCxn id="2434" idx="2"/>
              <a:endCxn id="2419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2498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5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2506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08" name=""/>
            <p:cNvCxnSpPr>
              <a:stCxn id="2507" idx="0"/>
              <a:endCxn id="2506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09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2510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12" name=""/>
            <p:cNvCxnSpPr>
              <a:stCxn id="2511" idx="0"/>
              <a:endCxn id="2510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13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2514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16" name=""/>
            <p:cNvCxnSpPr>
              <a:stCxn id="2515" idx="0"/>
              <a:endCxn id="2514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17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2518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0" name=""/>
            <p:cNvCxnSpPr>
              <a:stCxn id="2519" idx="0"/>
              <a:endCxn id="2518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2521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2522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4" name=""/>
            <p:cNvCxnSpPr>
              <a:stCxn id="2523" idx="0"/>
              <a:endCxn id="2522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25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2526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8" name=""/>
            <p:cNvCxnSpPr>
              <a:stCxn id="2527" idx="0"/>
              <a:endCxn id="2526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29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2530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32" name=""/>
            <p:cNvCxnSpPr>
              <a:stCxn id="2531" idx="0"/>
              <a:endCxn id="2530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33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2534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36" name=""/>
            <p:cNvCxnSpPr>
              <a:stCxn id="2535" idx="0"/>
              <a:endCxn id="2534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537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2538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40" name=""/>
            <p:cNvCxnSpPr>
              <a:stCxn id="2539" idx="0"/>
              <a:endCxn id="2538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2541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5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2556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2557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58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559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0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2561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2562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63" name=""/>
              <p:cNvCxnSpPr>
                <a:stCxn id="2562" idx="0"/>
                <a:endCxn id="2544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564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65" name=""/>
          <p:cNvCxnSpPr>
            <a:stCxn id="2437" idx="0"/>
            <a:endCxn id="2546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66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2567" name=""/>
            <p:cNvCxnSpPr>
              <a:stCxn id="2568" idx="0"/>
              <a:endCxn id="2542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569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2570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2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5" name=""/>
          <p:cNvCxnSpPr>
            <a:stCxn id="2542" idx="0"/>
            <a:endCxn id="2574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6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7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2588" name=""/>
            <p:cNvCxnSpPr>
              <a:stCxn id="2439" idx="2"/>
              <a:endCxn id="2435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2589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0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1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2592" name=""/>
            <p:cNvCxnSpPr>
              <a:stCxn id="2554" idx="3"/>
              <a:endCxn id="2541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2593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4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5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2596" name=""/>
            <p:cNvCxnSpPr>
              <a:stCxn id="2572" idx="0"/>
              <a:endCxn id="2542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97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8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9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2600" name=""/>
            <p:cNvCxnSpPr>
              <a:stCxn id="2433" idx="2"/>
              <a:endCxn id="2437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01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2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3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2604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2605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06" name=""/>
              <p:cNvCxnSpPr>
                <a:stCxn id="2605" idx="0"/>
                <a:endCxn id="2607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608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9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0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2611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2612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14" name=""/>
              <p:cNvCxnSpPr>
                <a:stCxn id="2613" idx="0"/>
                <a:endCxn id="2612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  <p:sp>
          <p:nvSpPr>
            <p:cNvPr id="2615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6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7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2618" name=""/>
            <p:cNvCxnSpPr>
              <a:stCxn id="2431" idx="2"/>
              <a:endCxn id="2542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2619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0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9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2630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7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5715000" y="2362320"/>
            <a:ext cx="30492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6324480" y="2362320"/>
            <a:ext cx="30492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662940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6934320" y="2362320"/>
            <a:ext cx="30456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723888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Bipus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n résumé nous venons de faire les opérations suivant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MDR=TOS=MBR; Wr ; Goto Main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654" name=""/>
          <p:cNvGraphicFramePr/>
          <p:nvPr/>
        </p:nvGraphicFramePr>
        <p:xfrm>
          <a:off x="228600" y="2057400"/>
          <a:ext cx="8613720" cy="2590920"/>
        </p:xfrm>
        <a:graphic>
          <a:graphicData uri="http://schemas.openxmlformats.org/drawingml/2006/table">
            <a:tbl>
              <a:tblPr/>
              <a:tblGrid>
                <a:gridCol w="1600200"/>
                <a:gridCol w="304920"/>
                <a:gridCol w="304560"/>
                <a:gridCol w="228600"/>
                <a:gridCol w="252360"/>
                <a:gridCol w="228600"/>
                <a:gridCol w="333720"/>
                <a:gridCol w="352080"/>
                <a:gridCol w="263520"/>
                <a:gridCol w="228600"/>
                <a:gridCol w="211320"/>
                <a:gridCol w="193680"/>
                <a:gridCol w="228600"/>
                <a:gridCol w="263520"/>
                <a:gridCol w="245880"/>
                <a:gridCol w="223920"/>
                <a:gridCol w="250920"/>
                <a:gridCol w="263520"/>
                <a:gridCol w="193680"/>
                <a:gridCol w="228600"/>
                <a:gridCol w="228600"/>
                <a:gridCol w="263520"/>
                <a:gridCol w="345960"/>
                <a:gridCol w="304920"/>
                <a:gridCol w="1069920"/>
              </a:tblGrid>
              <a:tr h="82332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_A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mo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M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A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A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LL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R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D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E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in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x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Construisons le contrôleu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56" name=""/>
          <p:cNvSpPr/>
          <p:nvPr/>
        </p:nvSpPr>
        <p:spPr>
          <a:xfrm>
            <a:off x="685800" y="2133720"/>
            <a:ext cx="1143000" cy="2438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=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887400" y="18288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 flipV="1">
            <a:off x="1828800" y="3317400"/>
            <a:ext cx="7826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1819440" y="28954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2666880" y="2133720"/>
            <a:ext cx="1143000" cy="2438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=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2744640" y="17524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3809880" y="3317760"/>
            <a:ext cx="7826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3811680" y="28954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4724280" y="2133720"/>
            <a:ext cx="1143000" cy="2438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=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4802040" y="17812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5867280" y="3276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5840280" y="285444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8" name=""/>
          <p:cNvGrpSpPr/>
          <p:nvPr/>
        </p:nvGrpSpPr>
        <p:grpSpPr>
          <a:xfrm>
            <a:off x="6718320" y="1752480"/>
            <a:ext cx="1143000" cy="2819520"/>
            <a:chOff x="6718320" y="1752480"/>
            <a:chExt cx="1143000" cy="2819520"/>
          </a:xfrm>
        </p:grpSpPr>
        <p:sp>
          <p:nvSpPr>
            <p:cNvPr id="2669" name=""/>
            <p:cNvSpPr/>
            <p:nvPr/>
          </p:nvSpPr>
          <p:spPr>
            <a:xfrm>
              <a:off x="6718320" y="2133720"/>
              <a:ext cx="1143000" cy="243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B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=0x0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6783480" y="175248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push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71" name=""/>
          <p:cNvCxnSpPr>
            <a:stCxn id="2669" idx="6"/>
            <a:endCxn id="2656" idx="4"/>
          </p:cNvCxnSpPr>
          <p:nvPr/>
        </p:nvCxnSpPr>
        <p:spPr>
          <a:xfrm flipH="1">
            <a:off x="1257120" y="3352320"/>
            <a:ext cx="6604560" cy="1220040"/>
          </a:xfrm>
          <a:prstGeom prst="bentConnector4">
            <a:avLst>
              <a:gd name="adj1" fmla="val -3461"/>
              <a:gd name="adj2" fmla="val 1187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emple Bipus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73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5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2696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7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2698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700" name=""/>
              <p:cNvCxnSpPr>
                <a:stCxn id="2698" idx="0"/>
                <a:endCxn id="2699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701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2702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2703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5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6" name=""/>
            <p:cNvCxnSpPr>
              <a:stCxn id="2704" idx="0"/>
              <a:endCxn id="2705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07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2708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2709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1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12" name=""/>
            <p:cNvCxnSpPr>
              <a:stCxn id="2710" idx="0"/>
              <a:endCxn id="2711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13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2714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2715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7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18" name=""/>
            <p:cNvCxnSpPr>
              <a:stCxn id="2716" idx="0"/>
              <a:endCxn id="2717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19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2720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2721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3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24" name=""/>
            <p:cNvCxnSpPr>
              <a:stCxn id="2722" idx="0"/>
              <a:endCxn id="2723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25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2726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2727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9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30" name=""/>
            <p:cNvCxnSpPr>
              <a:stCxn id="2728" idx="0"/>
              <a:endCxn id="2729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31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2732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2733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5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36" name=""/>
            <p:cNvCxnSpPr>
              <a:stCxn id="2734" idx="0"/>
              <a:endCxn id="2735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37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2738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2739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1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2" name=""/>
            <p:cNvCxnSpPr>
              <a:stCxn id="2740" idx="0"/>
              <a:endCxn id="2741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43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2744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5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2746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2747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749" name=""/>
              <p:cNvCxnSpPr>
                <a:stCxn id="2748" idx="0"/>
                <a:endCxn id="2744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750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2751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52" name=""/>
            <p:cNvCxnSpPr>
              <a:stCxn id="2689" idx="2"/>
              <a:endCxn id="2674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753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0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2761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63" name=""/>
            <p:cNvCxnSpPr>
              <a:stCxn id="2762" idx="0"/>
              <a:endCxn id="2761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64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2765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67" name=""/>
            <p:cNvCxnSpPr>
              <a:stCxn id="2766" idx="0"/>
              <a:endCxn id="2765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68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2769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71" name=""/>
            <p:cNvCxnSpPr>
              <a:stCxn id="2770" idx="0"/>
              <a:endCxn id="2769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72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2773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75" name=""/>
            <p:cNvCxnSpPr>
              <a:stCxn id="2774" idx="0"/>
              <a:endCxn id="2773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76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2777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79" name=""/>
            <p:cNvCxnSpPr>
              <a:stCxn id="2778" idx="0"/>
              <a:endCxn id="2777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80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2781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83" name=""/>
            <p:cNvCxnSpPr>
              <a:stCxn id="2782" idx="0"/>
              <a:endCxn id="2781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84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2785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87" name=""/>
            <p:cNvCxnSpPr>
              <a:stCxn id="2786" idx="0"/>
              <a:endCxn id="2785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88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2789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1" name=""/>
            <p:cNvCxnSpPr>
              <a:stCxn id="2790" idx="0"/>
              <a:endCxn id="2789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2792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2793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5" name=""/>
            <p:cNvCxnSpPr>
              <a:stCxn id="2794" idx="0"/>
              <a:endCxn id="2793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2796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0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2811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2812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813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814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5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2816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2817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818" name=""/>
              <p:cNvCxnSpPr>
                <a:stCxn id="2817" idx="0"/>
                <a:endCxn id="2799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819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20" name=""/>
          <p:cNvCxnSpPr>
            <a:stCxn id="2692" idx="0"/>
            <a:endCxn id="2801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821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2822" name=""/>
            <p:cNvCxnSpPr>
              <a:stCxn id="2823" idx="0"/>
              <a:endCxn id="2797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824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2825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7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0" name=""/>
          <p:cNvCxnSpPr>
            <a:stCxn id="2797" idx="0"/>
            <a:endCxn id="2829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1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2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2843" name=""/>
            <p:cNvCxnSpPr>
              <a:stCxn id="2694" idx="2"/>
              <a:endCxn id="2690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44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5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6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2847" name=""/>
            <p:cNvCxnSpPr>
              <a:stCxn id="2809" idx="3"/>
              <a:endCxn id="2796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48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9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0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2851" name=""/>
            <p:cNvCxnSpPr>
              <a:stCxn id="2827" idx="0"/>
              <a:endCxn id="2797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52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3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4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2855" name=""/>
            <p:cNvCxnSpPr>
              <a:stCxn id="2688" idx="2"/>
              <a:endCxn id="2692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56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7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8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2859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2860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861" name=""/>
              <p:cNvCxnSpPr>
                <a:stCxn id="2860" idx="0"/>
                <a:endCxn id="2862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863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4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5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2866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2867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869" name=""/>
              <p:cNvCxnSpPr>
                <a:stCxn id="2868" idx="0"/>
                <a:endCxn id="2867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870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1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2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2873" name=""/>
            <p:cNvCxnSpPr>
              <a:stCxn id="2686" idx="2"/>
              <a:endCxn id="2797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4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5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4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2885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2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6095880" y="2438280"/>
            <a:ext cx="1526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624852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6400800" y="2438280"/>
            <a:ext cx="1522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6705720" y="2438280"/>
            <a:ext cx="1522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7010280" y="2438280"/>
            <a:ext cx="1526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65530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68580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8" name=""/>
          <p:cNvCxnSpPr>
            <a:stCxn id="2905" idx="6"/>
            <a:endCxn id="2901" idx="2"/>
          </p:cNvCxnSpPr>
          <p:nvPr/>
        </p:nvCxnSpPr>
        <p:spPr>
          <a:xfrm flipH="1">
            <a:off x="6095520" y="2590920"/>
            <a:ext cx="1067760" cy="2160"/>
          </a:xfrm>
          <a:prstGeom prst="bentConnector5">
            <a:avLst>
              <a:gd name="adj1" fmla="val -21416"/>
              <a:gd name="adj2" fmla="val -24000000"/>
              <a:gd name="adj3" fmla="val 1214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mment faire un Bipus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ettre à jour le pointeur de Pile SP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vancer le « Conteur de Programme » car l’instruction Bipush est codée sur 2 byte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ettre à jour le registre « TOS » contenant l’élément en haut de la pile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tocker en mémoire à l’adresse de « SP » la nouvelle valeur de la pile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emple Bipus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5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298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300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2" name=""/>
              <p:cNvCxnSpPr>
                <a:stCxn id="300" idx="0"/>
                <a:endCxn id="301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03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304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305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>
              <a:stCxn id="306" idx="0"/>
              <a:endCxn id="307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09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310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311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4" name=""/>
            <p:cNvCxnSpPr>
              <a:stCxn id="312" idx="0"/>
              <a:endCxn id="313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15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316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317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0" name=""/>
            <p:cNvCxnSpPr>
              <a:stCxn id="318" idx="0"/>
              <a:endCxn id="319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21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322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6" name=""/>
            <p:cNvCxnSpPr>
              <a:stCxn id="324" idx="0"/>
              <a:endCxn id="325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27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328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329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2" name=""/>
            <p:cNvCxnSpPr>
              <a:stCxn id="330" idx="0"/>
              <a:endCxn id="331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33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334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335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8" name=""/>
            <p:cNvCxnSpPr>
              <a:stCxn id="336" idx="0"/>
              <a:endCxn id="337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39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340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341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4" name=""/>
            <p:cNvCxnSpPr>
              <a:stCxn id="342" idx="0"/>
              <a:endCxn id="343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45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346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349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51" name=""/>
              <p:cNvCxnSpPr>
                <a:stCxn id="350" idx="0"/>
                <a:endCxn id="346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52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353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4" name=""/>
            <p:cNvCxnSpPr>
              <a:stCxn id="291" idx="2"/>
              <a:endCxn id="276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55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363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5" name=""/>
            <p:cNvCxnSpPr>
              <a:stCxn id="364" idx="0"/>
              <a:endCxn id="363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66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367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9" name=""/>
            <p:cNvCxnSpPr>
              <a:stCxn id="368" idx="0"/>
              <a:endCxn id="367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70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371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3" name=""/>
            <p:cNvCxnSpPr>
              <a:stCxn id="372" idx="0"/>
              <a:endCxn id="371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74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375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7" name=""/>
            <p:cNvCxnSpPr>
              <a:stCxn id="376" idx="0"/>
              <a:endCxn id="375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78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379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1" name=""/>
            <p:cNvCxnSpPr>
              <a:stCxn id="380" idx="0"/>
              <a:endCxn id="379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82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383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0"/>
              <a:endCxn id="383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86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387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9" name=""/>
            <p:cNvCxnSpPr>
              <a:stCxn id="388" idx="0"/>
              <a:endCxn id="387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90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391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3" name=""/>
            <p:cNvCxnSpPr>
              <a:stCxn id="392" idx="0"/>
              <a:endCxn id="391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94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395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7" name=""/>
            <p:cNvCxnSpPr>
              <a:stCxn id="396" idx="0"/>
              <a:endCxn id="395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398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413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414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5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16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418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419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20" name=""/>
              <p:cNvCxnSpPr>
                <a:stCxn id="419" idx="0"/>
                <a:endCxn id="401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21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22" name=""/>
          <p:cNvCxnSpPr>
            <a:stCxn id="294" idx="0"/>
            <a:endCxn id="403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23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424" name=""/>
            <p:cNvCxnSpPr>
              <a:stCxn id="425" idx="0"/>
              <a:endCxn id="399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426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427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9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2" name=""/>
          <p:cNvCxnSpPr>
            <a:stCxn id="399" idx="0"/>
            <a:endCxn id="431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445" name=""/>
            <p:cNvCxnSpPr>
              <a:stCxn id="296" idx="2"/>
              <a:endCxn id="292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6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449" name=""/>
            <p:cNvCxnSpPr>
              <a:stCxn id="411" idx="3"/>
              <a:endCxn id="398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0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453" name=""/>
            <p:cNvCxnSpPr>
              <a:stCxn id="429" idx="0"/>
              <a:endCxn id="399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4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457" name=""/>
            <p:cNvCxnSpPr>
              <a:stCxn id="290" idx="2"/>
              <a:endCxn id="294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8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461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462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63" name=""/>
              <p:cNvCxnSpPr>
                <a:stCxn id="462" idx="0"/>
                <a:endCxn id="464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465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468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469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71" name=""/>
              <p:cNvCxnSpPr>
                <a:stCxn id="470" idx="0"/>
                <a:endCxn id="469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72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475" name=""/>
            <p:cNvCxnSpPr>
              <a:stCxn id="288" idx="2"/>
              <a:endCxn id="399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6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487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5943600" y="2343240"/>
            <a:ext cx="1036440" cy="628560"/>
            <a:chOff x="5943600" y="2343240"/>
            <a:chExt cx="1036440" cy="628560"/>
          </a:xfrm>
        </p:grpSpPr>
        <p:sp>
          <p:nvSpPr>
            <p:cNvPr id="504" name=""/>
            <p:cNvSpPr/>
            <p:nvPr/>
          </p:nvSpPr>
          <p:spPr>
            <a:xfrm>
              <a:off x="6342120" y="234324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x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43600" y="2438280"/>
              <a:ext cx="45720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400800" y="266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971800" y="2590920"/>
            <a:ext cx="685800" cy="2666880"/>
            <a:chOff x="2971800" y="2590920"/>
            <a:chExt cx="685800" cy="2666880"/>
          </a:xfrm>
        </p:grpSpPr>
        <p:sp>
          <p:nvSpPr>
            <p:cNvPr id="508" name=""/>
            <p:cNvSpPr/>
            <p:nvPr/>
          </p:nvSpPr>
          <p:spPr>
            <a:xfrm>
              <a:off x="2971800" y="2608200"/>
              <a:ext cx="533520" cy="228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124080" y="2590920"/>
              <a:ext cx="533520" cy="2666880"/>
            </a:xfrm>
            <a:prstGeom prst="downArrow">
              <a:avLst>
                <a:gd name="adj1" fmla="val 43454"/>
                <a:gd name="adj2" fmla="val 55911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 flipV="1">
            <a:off x="2254320" y="2742480"/>
            <a:ext cx="533160" cy="2701800"/>
          </a:xfrm>
          <a:prstGeom prst="downArrow">
            <a:avLst>
              <a:gd name="adj1" fmla="val 43454"/>
              <a:gd name="adj2" fmla="val 56681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362320" y="5334120"/>
            <a:ext cx="990360" cy="53316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905120" y="1066680"/>
            <a:ext cx="533160" cy="4378320"/>
          </a:xfrm>
          <a:prstGeom prst="downArrow">
            <a:avLst>
              <a:gd name="adj1" fmla="val 43454"/>
              <a:gd name="adj2" fmla="val 91853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81080" y="2438280"/>
            <a:ext cx="990720" cy="53352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Bipush (SP= MAR=SP+1;goto bipush2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5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538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540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42" name=""/>
              <p:cNvCxnSpPr>
                <a:stCxn id="540" idx="0"/>
                <a:endCxn id="541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543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544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545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8" name=""/>
            <p:cNvCxnSpPr>
              <a:stCxn id="546" idx="0"/>
              <a:endCxn id="547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49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550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551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4" name=""/>
            <p:cNvCxnSpPr>
              <a:stCxn id="552" idx="0"/>
              <a:endCxn id="553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55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556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557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0" name=""/>
            <p:cNvCxnSpPr>
              <a:stCxn id="558" idx="0"/>
              <a:endCxn id="559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61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562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563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6" name=""/>
            <p:cNvCxnSpPr>
              <a:stCxn id="564" idx="0"/>
              <a:endCxn id="565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67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568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569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2" name=""/>
            <p:cNvCxnSpPr>
              <a:stCxn id="570" idx="0"/>
              <a:endCxn id="571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73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574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575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7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8" name=""/>
            <p:cNvCxnSpPr>
              <a:stCxn id="576" idx="0"/>
              <a:endCxn id="577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79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580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581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4" name=""/>
            <p:cNvCxnSpPr>
              <a:stCxn id="582" idx="0"/>
              <a:endCxn id="583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85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586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589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591" name=""/>
              <p:cNvCxnSpPr>
                <a:stCxn id="590" idx="0"/>
                <a:endCxn id="586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592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593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4" name=""/>
            <p:cNvCxnSpPr>
              <a:stCxn id="531" idx="2"/>
              <a:endCxn id="516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95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603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5" name=""/>
            <p:cNvCxnSpPr>
              <a:stCxn id="604" idx="0"/>
              <a:endCxn id="603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06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607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9" name=""/>
            <p:cNvCxnSpPr>
              <a:stCxn id="608" idx="0"/>
              <a:endCxn id="607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10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611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3" name=""/>
            <p:cNvCxnSpPr>
              <a:stCxn id="612" idx="0"/>
              <a:endCxn id="611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14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615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7" name=""/>
            <p:cNvCxnSpPr>
              <a:stCxn id="616" idx="0"/>
              <a:endCxn id="615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18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619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1" name=""/>
            <p:cNvCxnSpPr>
              <a:stCxn id="620" idx="0"/>
              <a:endCxn id="619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22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623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5" name=""/>
            <p:cNvCxnSpPr>
              <a:stCxn id="624" idx="0"/>
              <a:endCxn id="623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26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627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9" name=""/>
            <p:cNvCxnSpPr>
              <a:stCxn id="628" idx="0"/>
              <a:endCxn id="627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30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631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3" name=""/>
            <p:cNvCxnSpPr>
              <a:stCxn id="632" idx="0"/>
              <a:endCxn id="631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34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635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6" idx="0"/>
              <a:endCxn id="635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638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653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654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55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656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658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659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60" name=""/>
              <p:cNvCxnSpPr>
                <a:stCxn id="659" idx="0"/>
                <a:endCxn id="641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661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2" name=""/>
          <p:cNvCxnSpPr>
            <a:stCxn id="534" idx="0"/>
            <a:endCxn id="643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63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664" name=""/>
            <p:cNvCxnSpPr>
              <a:stCxn id="665" idx="0"/>
              <a:endCxn id="639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666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667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2" name=""/>
          <p:cNvCxnSpPr>
            <a:stCxn id="639" idx="0"/>
            <a:endCxn id="671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3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685" name=""/>
            <p:cNvCxnSpPr>
              <a:stCxn id="536" idx="2"/>
              <a:endCxn id="532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6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689" name=""/>
            <p:cNvCxnSpPr>
              <a:stCxn id="651" idx="3"/>
              <a:endCxn id="638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0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693" name=""/>
            <p:cNvCxnSpPr>
              <a:stCxn id="669" idx="0"/>
              <a:endCxn id="639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697" name=""/>
            <p:cNvCxnSpPr>
              <a:stCxn id="530" idx="2"/>
              <a:endCxn id="534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8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701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702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03" name=""/>
              <p:cNvCxnSpPr>
                <a:stCxn id="702" idx="0"/>
                <a:endCxn id="704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705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708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709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11" name=""/>
              <p:cNvCxnSpPr>
                <a:stCxn id="710" idx="0"/>
                <a:endCxn id="709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712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715" name=""/>
            <p:cNvCxnSpPr>
              <a:stCxn id="528" idx="2"/>
              <a:endCxn id="639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6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727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5867280" y="2286000"/>
            <a:ext cx="1036440" cy="628560"/>
            <a:chOff x="5867280" y="2286000"/>
            <a:chExt cx="1036440" cy="628560"/>
          </a:xfrm>
        </p:grpSpPr>
        <p:sp>
          <p:nvSpPr>
            <p:cNvPr id="744" name=""/>
            <p:cNvSpPr/>
            <p:nvPr/>
          </p:nvSpPr>
          <p:spPr>
            <a:xfrm>
              <a:off x="6265800" y="2286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x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867280" y="2381040"/>
              <a:ext cx="45720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324480" y="26096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Bipush (SP= MAR=SP+1;goto bipush2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8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771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773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75" name=""/>
              <p:cNvCxnSpPr>
                <a:stCxn id="773" idx="0"/>
                <a:endCxn id="774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776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777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778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1" name=""/>
            <p:cNvCxnSpPr>
              <a:stCxn id="779" idx="0"/>
              <a:endCxn id="780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782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783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784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6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7" name=""/>
            <p:cNvCxnSpPr>
              <a:stCxn id="785" idx="0"/>
              <a:endCxn id="786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788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789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790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2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3" name=""/>
            <p:cNvCxnSpPr>
              <a:stCxn id="791" idx="0"/>
              <a:endCxn id="792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794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795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796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8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7" idx="0"/>
              <a:endCxn id="798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800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801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802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4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5" name=""/>
            <p:cNvCxnSpPr>
              <a:stCxn id="803" idx="0"/>
              <a:endCxn id="804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06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807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808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1" name=""/>
            <p:cNvCxnSpPr>
              <a:stCxn id="809" idx="0"/>
              <a:endCxn id="810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12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813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814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6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7" name=""/>
            <p:cNvCxnSpPr>
              <a:stCxn id="815" idx="0"/>
              <a:endCxn id="816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18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819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821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822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824" name=""/>
              <p:cNvCxnSpPr>
                <a:stCxn id="823" idx="0"/>
                <a:endCxn id="819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8160">
                <a:solidFill>
                  <a:srgbClr val="ff3300"/>
                </a:solidFill>
                <a:miter/>
              </a:ln>
            </p:spPr>
          </p:cxnSp>
        </p:grpSp>
      </p:grpSp>
      <p:grpSp>
        <p:nvGrpSpPr>
          <p:cNvPr id="825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826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7" name=""/>
            <p:cNvCxnSpPr>
              <a:stCxn id="764" idx="2"/>
              <a:endCxn id="749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28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836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8" name=""/>
            <p:cNvCxnSpPr>
              <a:stCxn id="837" idx="0"/>
              <a:endCxn id="836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39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840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42" name=""/>
            <p:cNvCxnSpPr>
              <a:stCxn id="841" idx="0"/>
              <a:endCxn id="840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43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844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46" name=""/>
            <p:cNvCxnSpPr>
              <a:stCxn id="845" idx="0"/>
              <a:endCxn id="844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847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848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0" name=""/>
            <p:cNvCxnSpPr>
              <a:stCxn id="849" idx="0"/>
              <a:endCxn id="848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51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852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4" name=""/>
            <p:cNvCxnSpPr>
              <a:stCxn id="853" idx="0"/>
              <a:endCxn id="852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55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856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8" name=""/>
            <p:cNvCxnSpPr>
              <a:stCxn id="857" idx="0"/>
              <a:endCxn id="856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59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860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62" name=""/>
            <p:cNvCxnSpPr>
              <a:stCxn id="861" idx="0"/>
              <a:endCxn id="860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63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864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66" name=""/>
            <p:cNvCxnSpPr>
              <a:stCxn id="865" idx="0"/>
              <a:endCxn id="864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67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868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70" name=""/>
            <p:cNvCxnSpPr>
              <a:stCxn id="869" idx="0"/>
              <a:endCxn id="868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871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886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887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88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889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891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892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93" name=""/>
              <p:cNvCxnSpPr>
                <a:stCxn id="892" idx="0"/>
                <a:endCxn id="874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894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5" name=""/>
          <p:cNvCxnSpPr>
            <a:stCxn id="767" idx="0"/>
            <a:endCxn id="876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96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897" name=""/>
            <p:cNvCxnSpPr>
              <a:stCxn id="898" idx="0"/>
              <a:endCxn id="872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899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900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2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5" name=""/>
          <p:cNvCxnSpPr>
            <a:stCxn id="872" idx="0"/>
            <a:endCxn id="904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906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918" name=""/>
            <p:cNvCxnSpPr>
              <a:stCxn id="769" idx="2"/>
              <a:endCxn id="765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919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922" name=""/>
            <p:cNvCxnSpPr>
              <a:stCxn id="884" idx="3"/>
              <a:endCxn id="871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923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926" name=""/>
            <p:cNvCxnSpPr>
              <a:stCxn id="902" idx="0"/>
              <a:endCxn id="872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7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930" name=""/>
            <p:cNvCxnSpPr>
              <a:stCxn id="763" idx="2"/>
              <a:endCxn id="767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1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934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935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36" name=""/>
              <p:cNvCxnSpPr>
                <a:stCxn id="935" idx="0"/>
                <a:endCxn id="937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938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941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942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44" name=""/>
              <p:cNvCxnSpPr>
                <a:stCxn id="943" idx="0"/>
                <a:endCxn id="942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  <p:sp>
          <p:nvSpPr>
            <p:cNvPr id="945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948" name=""/>
            <p:cNvCxnSpPr>
              <a:stCxn id="761" idx="2"/>
              <a:endCxn id="872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949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960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342120" y="23432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943600" y="2438280"/>
            <a:ext cx="45720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0080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Bipus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n résumé nous venons de faire les opérations suivant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SP= MAR=SP+1;goto bipush2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228600" y="2057400"/>
          <a:ext cx="8613720" cy="2590920"/>
        </p:xfrm>
        <a:graphic>
          <a:graphicData uri="http://schemas.openxmlformats.org/drawingml/2006/table">
            <a:tbl>
              <a:tblPr/>
              <a:tblGrid>
                <a:gridCol w="1600200"/>
                <a:gridCol w="304920"/>
                <a:gridCol w="304560"/>
                <a:gridCol w="228600"/>
                <a:gridCol w="252360"/>
                <a:gridCol w="228600"/>
                <a:gridCol w="333720"/>
                <a:gridCol w="352080"/>
                <a:gridCol w="263520"/>
                <a:gridCol w="228600"/>
                <a:gridCol w="211320"/>
                <a:gridCol w="193680"/>
                <a:gridCol w="228600"/>
                <a:gridCol w="263520"/>
                <a:gridCol w="245880"/>
                <a:gridCol w="223920"/>
                <a:gridCol w="250920"/>
                <a:gridCol w="263520"/>
                <a:gridCol w="193680"/>
                <a:gridCol w="228600"/>
                <a:gridCol w="228600"/>
                <a:gridCol w="263520"/>
                <a:gridCol w="345960"/>
                <a:gridCol w="304920"/>
                <a:gridCol w="1069920"/>
              </a:tblGrid>
              <a:tr h="82332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_A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mo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M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A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JA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LL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R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N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D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E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ipush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x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Construisons le contrôleur pour l’instruction Bipus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3" name=""/>
          <p:cNvSpPr/>
          <p:nvPr/>
        </p:nvSpPr>
        <p:spPr>
          <a:xfrm>
            <a:off x="1295280" y="1523880"/>
            <a:ext cx="1668600" cy="266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=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734840" y="1219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971800" y="2743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202200" y="22096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4267080" y="1143000"/>
            <a:ext cx="2971800" cy="2971800"/>
            <a:chOff x="4267080" y="1143000"/>
            <a:chExt cx="2971800" cy="2971800"/>
          </a:xfrm>
        </p:grpSpPr>
        <p:sp>
          <p:nvSpPr>
            <p:cNvPr id="988" name=""/>
            <p:cNvSpPr/>
            <p:nvPr/>
          </p:nvSpPr>
          <p:spPr>
            <a:xfrm>
              <a:off x="4267080" y="1447920"/>
              <a:ext cx="1668600" cy="266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=0x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643280" y="114300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push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943600" y="27432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046560" y="228600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push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emple Bipus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3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1016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7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1018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20" name=""/>
              <p:cNvCxnSpPr>
                <a:stCxn id="1018" idx="0"/>
                <a:endCxn id="1019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021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1022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1023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26" name=""/>
            <p:cNvCxnSpPr>
              <a:stCxn id="1024" idx="0"/>
              <a:endCxn id="1025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27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1028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1029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1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2" name=""/>
            <p:cNvCxnSpPr>
              <a:stCxn id="1030" idx="0"/>
              <a:endCxn id="1031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33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1034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1035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7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8" name=""/>
            <p:cNvCxnSpPr>
              <a:stCxn id="1036" idx="0"/>
              <a:endCxn id="1037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39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1040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1041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3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4" name=""/>
            <p:cNvCxnSpPr>
              <a:stCxn id="1042" idx="0"/>
              <a:endCxn id="1043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45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1046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1047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0" name=""/>
            <p:cNvCxnSpPr>
              <a:stCxn id="1048" idx="0"/>
              <a:endCxn id="1049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51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1052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053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5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6" name=""/>
            <p:cNvCxnSpPr>
              <a:stCxn id="1054" idx="0"/>
              <a:endCxn id="1055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57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1058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059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1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2" name=""/>
            <p:cNvCxnSpPr>
              <a:stCxn id="1060" idx="0"/>
              <a:endCxn id="1061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63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1064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5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1066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067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069" name=""/>
              <p:cNvCxnSpPr>
                <a:stCxn id="1068" idx="0"/>
                <a:endCxn id="1064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070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1071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2" name=""/>
            <p:cNvCxnSpPr>
              <a:stCxn id="1009" idx="2"/>
              <a:endCxn id="994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73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1081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83" name=""/>
            <p:cNvCxnSpPr>
              <a:stCxn id="1082" idx="0"/>
              <a:endCxn id="1081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84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1085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87" name=""/>
            <p:cNvCxnSpPr>
              <a:stCxn id="1086" idx="0"/>
              <a:endCxn id="1085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88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1089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1" name=""/>
            <p:cNvCxnSpPr>
              <a:stCxn id="1090" idx="0"/>
              <a:endCxn id="1089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92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1093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5" name=""/>
            <p:cNvCxnSpPr>
              <a:stCxn id="1094" idx="0"/>
              <a:endCxn id="1093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96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1097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9" name=""/>
            <p:cNvCxnSpPr>
              <a:stCxn id="1098" idx="0"/>
              <a:endCxn id="1097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00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1101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3" name=""/>
            <p:cNvCxnSpPr>
              <a:stCxn id="1102" idx="0"/>
              <a:endCxn id="1101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04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1105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7" name=""/>
            <p:cNvCxnSpPr>
              <a:stCxn id="1106" idx="0"/>
              <a:endCxn id="1105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08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1109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1" name=""/>
            <p:cNvCxnSpPr>
              <a:stCxn id="1110" idx="0"/>
              <a:endCxn id="1109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12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1113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5" name=""/>
            <p:cNvCxnSpPr>
              <a:stCxn id="1114" idx="0"/>
              <a:endCxn id="1113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116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131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132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33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134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1136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1137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38" name=""/>
              <p:cNvCxnSpPr>
                <a:stCxn id="1137" idx="0"/>
                <a:endCxn id="1119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139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40" name=""/>
          <p:cNvCxnSpPr>
            <a:stCxn id="1012" idx="0"/>
            <a:endCxn id="1121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141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1142" name=""/>
            <p:cNvCxnSpPr>
              <a:stCxn id="1143" idx="0"/>
              <a:endCxn id="1117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144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1145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7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0" name=""/>
          <p:cNvCxnSpPr>
            <a:stCxn id="1117" idx="0"/>
            <a:endCxn id="1149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1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1163" name=""/>
            <p:cNvCxnSpPr>
              <a:stCxn id="1014" idx="2"/>
              <a:endCxn id="1010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4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1167" name=""/>
            <p:cNvCxnSpPr>
              <a:stCxn id="1129" idx="3"/>
              <a:endCxn id="1116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8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1171" name=""/>
            <p:cNvCxnSpPr>
              <a:stCxn id="1147" idx="0"/>
              <a:endCxn id="1117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2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3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4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1175" name=""/>
            <p:cNvCxnSpPr>
              <a:stCxn id="1008" idx="2"/>
              <a:endCxn id="1012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6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7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1179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1180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81" name=""/>
              <p:cNvCxnSpPr>
                <a:stCxn id="1180" idx="0"/>
                <a:endCxn id="1182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183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1186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1187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89" name=""/>
              <p:cNvCxnSpPr>
                <a:stCxn id="1188" idx="0"/>
                <a:endCxn id="1187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190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1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1193" name=""/>
            <p:cNvCxnSpPr>
              <a:stCxn id="1006" idx="2"/>
              <a:endCxn id="1117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94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1205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943600" y="2438280"/>
            <a:ext cx="45720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40080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048120" y="2438280"/>
            <a:ext cx="3962160" cy="1752840"/>
          </a:xfrm>
          <a:prstGeom prst="wedgeEllipseCallout">
            <a:avLst>
              <a:gd name="adj1" fmla="val -60939"/>
              <a:gd name="adj2" fmla="val -551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rrivée de la donnée demandée il y a deux cy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858000" y="2438280"/>
            <a:ext cx="45720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emple Bipus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6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1249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0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1251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53" name=""/>
              <p:cNvCxnSpPr>
                <a:stCxn id="1251" idx="0"/>
                <a:endCxn id="1252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254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1255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1256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8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59" name=""/>
            <p:cNvCxnSpPr>
              <a:stCxn id="1257" idx="0"/>
              <a:endCxn id="1258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60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1261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1262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4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65" name=""/>
            <p:cNvCxnSpPr>
              <a:stCxn id="1263" idx="0"/>
              <a:endCxn id="1264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66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1267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1268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0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1" name=""/>
            <p:cNvCxnSpPr>
              <a:stCxn id="1269" idx="0"/>
              <a:endCxn id="1270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72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1273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1274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6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7" name=""/>
            <p:cNvCxnSpPr>
              <a:stCxn id="1275" idx="0"/>
              <a:endCxn id="1276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78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1279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1280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2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3" name=""/>
            <p:cNvCxnSpPr>
              <a:stCxn id="1281" idx="0"/>
              <a:endCxn id="1282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84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1285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286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9" name=""/>
            <p:cNvCxnSpPr>
              <a:stCxn id="1287" idx="0"/>
              <a:endCxn id="1288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90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1291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292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4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5" name=""/>
            <p:cNvCxnSpPr>
              <a:stCxn id="1293" idx="0"/>
              <a:endCxn id="1294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96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1297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8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1299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300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302" name=""/>
              <p:cNvCxnSpPr>
                <a:stCxn id="1301" idx="0"/>
                <a:endCxn id="1297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303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1304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05" name=""/>
            <p:cNvCxnSpPr>
              <a:stCxn id="1242" idx="2"/>
              <a:endCxn id="1227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306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3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1314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6" name=""/>
            <p:cNvCxnSpPr>
              <a:stCxn id="1315" idx="0"/>
              <a:endCxn id="1314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17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1318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20" name=""/>
            <p:cNvCxnSpPr>
              <a:stCxn id="1319" idx="0"/>
              <a:endCxn id="1318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21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1322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24" name=""/>
            <p:cNvCxnSpPr>
              <a:stCxn id="1323" idx="0"/>
              <a:endCxn id="1322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25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1326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28" name=""/>
            <p:cNvCxnSpPr>
              <a:stCxn id="1327" idx="0"/>
              <a:endCxn id="1326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29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1330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32" name=""/>
            <p:cNvCxnSpPr>
              <a:stCxn id="1331" idx="0"/>
              <a:endCxn id="1330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33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1334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36" name=""/>
            <p:cNvCxnSpPr>
              <a:stCxn id="1335" idx="0"/>
              <a:endCxn id="1334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37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1338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0" name=""/>
            <p:cNvCxnSpPr>
              <a:stCxn id="1339" idx="0"/>
              <a:endCxn id="1338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41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1342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4" name=""/>
            <p:cNvCxnSpPr>
              <a:stCxn id="1343" idx="0"/>
              <a:endCxn id="1342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45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1346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8" name=""/>
            <p:cNvCxnSpPr>
              <a:stCxn id="1347" idx="0"/>
              <a:endCxn id="1346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349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3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364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365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66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367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8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1369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1370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71" name=""/>
              <p:cNvCxnSpPr>
                <a:stCxn id="1370" idx="0"/>
                <a:endCxn id="1352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372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73" name=""/>
          <p:cNvCxnSpPr>
            <a:stCxn id="1245" idx="0"/>
            <a:endCxn id="1354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74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1375" name=""/>
            <p:cNvCxnSpPr>
              <a:stCxn id="1376" idx="0"/>
              <a:endCxn id="1350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377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1378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0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3" name=""/>
          <p:cNvCxnSpPr>
            <a:stCxn id="1350" idx="0"/>
            <a:endCxn id="1382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4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1396" name=""/>
            <p:cNvCxnSpPr>
              <a:stCxn id="1247" idx="2"/>
              <a:endCxn id="1243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97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8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1400" name=""/>
            <p:cNvCxnSpPr>
              <a:stCxn id="1362" idx="3"/>
              <a:endCxn id="1349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01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2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3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1404" name=""/>
            <p:cNvCxnSpPr>
              <a:stCxn id="1380" idx="0"/>
              <a:endCxn id="1350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05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6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1408" name=""/>
            <p:cNvCxnSpPr>
              <a:stCxn id="1241" idx="2"/>
              <a:endCxn id="1245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09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0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1412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1413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414" name=""/>
              <p:cNvCxnSpPr>
                <a:stCxn id="1413" idx="0"/>
                <a:endCxn id="1415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416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7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8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1419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1420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422" name=""/>
              <p:cNvCxnSpPr>
                <a:stCxn id="1421" idx="0"/>
                <a:endCxn id="1420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423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4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1426" name=""/>
            <p:cNvCxnSpPr>
              <a:stCxn id="1239" idx="2"/>
              <a:endCxn id="1350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27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8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1438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5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943600" y="2438280"/>
            <a:ext cx="45720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40080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6" name=""/>
          <p:cNvGrpSpPr/>
          <p:nvPr/>
        </p:nvGrpSpPr>
        <p:grpSpPr>
          <a:xfrm>
            <a:off x="2895480" y="1752480"/>
            <a:ext cx="685800" cy="3505320"/>
            <a:chOff x="2895480" y="1752480"/>
            <a:chExt cx="685800" cy="3505320"/>
          </a:xfrm>
        </p:grpSpPr>
        <p:sp>
          <p:nvSpPr>
            <p:cNvPr id="1457" name=""/>
            <p:cNvSpPr/>
            <p:nvPr/>
          </p:nvSpPr>
          <p:spPr>
            <a:xfrm>
              <a:off x="2895480" y="1770120"/>
              <a:ext cx="533520" cy="228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048120" y="1752480"/>
              <a:ext cx="533160" cy="3505320"/>
            </a:xfrm>
            <a:prstGeom prst="downArrow">
              <a:avLst>
                <a:gd name="adj1" fmla="val 43454"/>
                <a:gd name="adj2" fmla="val 735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9" name=""/>
          <p:cNvSpPr/>
          <p:nvPr/>
        </p:nvSpPr>
        <p:spPr>
          <a:xfrm flipV="1">
            <a:off x="2057400" y="1905120"/>
            <a:ext cx="533520" cy="3504960"/>
          </a:xfrm>
          <a:prstGeom prst="downArrow">
            <a:avLst>
              <a:gd name="adj1" fmla="val 43454"/>
              <a:gd name="adj2" fmla="val 73481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151000" y="1735200"/>
            <a:ext cx="609840" cy="30456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514600" y="5334120"/>
            <a:ext cx="990720" cy="53316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858000" y="2438280"/>
            <a:ext cx="45720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8:22:42Z</dcterms:created>
  <dc:creator>Chateigner</dc:creator>
  <dc:description/>
  <dc:language>en-US</dc:language>
  <cp:lastModifiedBy>Chateigner</cp:lastModifiedBy>
  <dcterms:modified xsi:type="dcterms:W3CDTF">2002-01-30T10:32:05Z</dcterms:modified>
  <cp:revision>11</cp:revision>
  <dc:subject/>
  <dc:title>Exemple chargement d’une instruction</dc:title>
</cp:coreProperties>
</file>