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92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4240" y="83772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60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92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4240" y="3822840"/>
            <a:ext cx="277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612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82284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837720"/>
            <a:ext cx="42019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1600" y="3822840"/>
            <a:ext cx="86108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83772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d’exécution d’un program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911880" y="2689200"/>
            <a:ext cx="3250080" cy="2311200"/>
            <a:chOff x="911880" y="2689200"/>
            <a:chExt cx="3250080" cy="2311200"/>
          </a:xfrm>
        </p:grpSpPr>
        <p:sp>
          <p:nvSpPr>
            <p:cNvPr id="41" name=""/>
            <p:cNvSpPr/>
            <p:nvPr/>
          </p:nvSpPr>
          <p:spPr>
            <a:xfrm>
              <a:off x="1314360" y="326052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AD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11880" y="2689200"/>
              <a:ext cx="32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eux d’instructions de la 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3124080" y="1698480"/>
            <a:ext cx="4640400" cy="3321000"/>
            <a:chOff x="3124080" y="1698480"/>
            <a:chExt cx="4640400" cy="3321000"/>
          </a:xfrm>
        </p:grpSpPr>
        <p:grpSp>
          <p:nvGrpSpPr>
            <p:cNvPr id="44" name=""/>
            <p:cNvGrpSpPr/>
            <p:nvPr/>
          </p:nvGrpSpPr>
          <p:grpSpPr>
            <a:xfrm>
              <a:off x="3124080" y="1698480"/>
              <a:ext cx="4105800" cy="1359000"/>
              <a:chOff x="3124080" y="1698480"/>
              <a:chExt cx="4105800" cy="1359000"/>
            </a:xfrm>
          </p:grpSpPr>
          <p:sp>
            <p:nvSpPr>
              <p:cNvPr id="45" name=""/>
              <p:cNvSpPr/>
              <p:nvPr/>
            </p:nvSpPr>
            <p:spPr>
              <a:xfrm>
                <a:off x="3124080" y="1698480"/>
                <a:ext cx="3714840" cy="990720"/>
              </a:xfrm>
              <a:custGeom>
                <a:avLst/>
                <a:gdLst>
                  <a:gd name="textAreaLeft" fmla="*/ 717480 w 3714840"/>
                  <a:gd name="textAreaRight" fmla="*/ 2671920 w 3714840"/>
                  <a:gd name="textAreaTop" fmla="*/ 132480 h 990720"/>
                  <a:gd name="textAreaBottom" fmla="*/ 8582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344" hR="21600" stAng="10800000" swAng="5400000"/>
                    <a:lnTo>
                      <a:pt x="11365" y="0"/>
                    </a:lnTo>
                    <a:arcTo wR="8344" hR="21600" stAng="-5400000" swAng="2851940"/>
                    <a:lnTo>
                      <a:pt x="21123" y="14400"/>
                    </a:lnTo>
                    <a:lnTo>
                      <a:pt x="18198" y="21600"/>
                    </a:lnTo>
                    <a:lnTo>
                      <a:pt x="14318" y="14400"/>
                    </a:lnTo>
                    <a:lnTo>
                      <a:pt x="16210" y="14400"/>
                    </a:lnTo>
                    <a:arcTo wR="8344" hR="21600" stAng="-2548060" swAng="-2607908"/>
                    <a:lnTo>
                      <a:pt x="9854" y="357"/>
                    </a:lnTo>
                    <a:arcTo wR="8344" hR="21600" stAng="-5644032" swAng="-5155968"/>
                    <a:close/>
                  </a:path>
                  <a:path fill="darkenLess" w="21600" h="21600">
                    <a:moveTo>
                      <a:pt x="0" y="21600"/>
                    </a:moveTo>
                    <a:arcTo wR="8344" hR="21600" stAng="10800000" swAng="5400000"/>
                    <a:lnTo>
                      <a:pt x="8344" y="0"/>
                    </a:lnTo>
                    <a:arcTo wR="8344" hR="21600" stAng="-5400000" swAng="244032"/>
                    <a:lnTo>
                      <a:pt x="9854" y="357"/>
                    </a:lnTo>
                    <a:arcTo wR="8344" hR="21600" stAng="-5644032" swAng="-5155968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78320" y="268920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Traduction en hex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315040" y="3279600"/>
              <a:ext cx="244944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État Initi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" name=""/>
              <p:cNvCxnSpPr>
                <a:stCxn id="74" idx="0"/>
                <a:endCxn id="7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7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80" idx="0"/>
              <a:endCxn id="8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8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6" idx="0"/>
              <a:endCxn id="8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9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2" idx="0"/>
              <a:endCxn id="9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9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9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8" idx="0"/>
              <a:endCxn id="9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4" idx="0"/>
              <a:endCxn id="10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10" idx="0"/>
              <a:endCxn id="11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1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6" idx="0"/>
              <a:endCxn id="11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2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5" name=""/>
              <p:cNvCxnSpPr>
                <a:stCxn id="124" idx="0"/>
                <a:endCxn id="12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2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65" idx="2"/>
              <a:endCxn id="5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8" idx="0"/>
              <a:endCxn id="13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4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42" idx="0"/>
              <a:endCxn id="14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4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46" idx="0"/>
              <a:endCxn id="14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4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0"/>
              <a:endCxn id="14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5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0"/>
              <a:endCxn id="15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5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8" idx="0"/>
              <a:endCxn id="15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6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0"/>
              <a:endCxn id="16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6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0"/>
              <a:endCxn id="16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6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7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8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8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9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9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4" name=""/>
              <p:cNvCxnSpPr>
                <a:stCxn id="193" idx="0"/>
                <a:endCxn id="17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9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68" idx="0"/>
            <a:endCxn id="17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98" name=""/>
            <p:cNvCxnSpPr>
              <a:stCxn id="199" idx="0"/>
              <a:endCxn id="17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73" idx="0"/>
            <a:endCxn id="20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219" name=""/>
            <p:cNvCxnSpPr>
              <a:stCxn id="70" idx="2"/>
              <a:endCxn id="6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223" name=""/>
            <p:cNvCxnSpPr>
              <a:stCxn id="185" idx="3"/>
              <a:endCxn id="17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227" name=""/>
            <p:cNvCxnSpPr>
              <a:stCxn id="203" idx="0"/>
              <a:endCxn id="17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231" name=""/>
            <p:cNvCxnSpPr>
              <a:stCxn id="64" idx="2"/>
              <a:endCxn id="6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23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23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36" idx="0"/>
                <a:endCxn id="23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24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24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5" name=""/>
              <p:cNvCxnSpPr>
                <a:stCxn id="244" idx="0"/>
                <a:endCxn id="24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4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249" name=""/>
            <p:cNvCxnSpPr>
              <a:stCxn id="62" idx="2"/>
              <a:endCxn id="17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261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6"/>
            <a:endCxn id="277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emple chargement d’une instru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309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311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3" name=""/>
              <p:cNvCxnSpPr>
                <a:stCxn id="311" idx="0"/>
                <a:endCxn id="312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14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315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7" idx="0"/>
              <a:endCxn id="318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0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321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stCxn id="323" idx="0"/>
              <a:endCxn id="324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26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327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9" idx="0"/>
              <a:endCxn id="330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333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5" idx="0"/>
              <a:endCxn id="336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339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stCxn id="341" idx="0"/>
              <a:endCxn id="342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44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345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>
              <a:stCxn id="347" idx="0"/>
              <a:endCxn id="348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50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351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352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3" idx="0"/>
              <a:endCxn id="354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56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357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360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2" name=""/>
              <p:cNvCxnSpPr>
                <a:stCxn id="361" idx="0"/>
                <a:endCxn id="357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364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02" idx="2"/>
              <a:endCxn id="287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66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374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75" idx="0"/>
              <a:endCxn id="374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77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378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9" idx="0"/>
              <a:endCxn id="378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382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  <a:endCxn id="382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5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386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0"/>
              <a:endCxn id="386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89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390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91" idx="0"/>
              <a:endCxn id="390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3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394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"/>
            <p:cNvCxnSpPr>
              <a:stCxn id="395" idx="0"/>
              <a:endCxn id="394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397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398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99" idx="0"/>
              <a:endCxn id="398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1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402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403" idx="0"/>
              <a:endCxn id="402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405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406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" name=""/>
            <p:cNvCxnSpPr>
              <a:stCxn id="407" idx="0"/>
              <a:endCxn id="406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409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424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425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6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27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429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430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1" name=""/>
              <p:cNvCxnSpPr>
                <a:stCxn id="430" idx="0"/>
                <a:endCxn id="412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32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3" name=""/>
          <p:cNvCxnSpPr>
            <a:stCxn id="305" idx="0"/>
            <a:endCxn id="414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4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435" name=""/>
            <p:cNvCxnSpPr>
              <a:stCxn id="436" idx="0"/>
              <a:endCxn id="410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grpSp>
          <p:nvGrpSpPr>
            <p:cNvPr id="437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438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54440" y="5851440"/>
            <a:ext cx="231840" cy="203400"/>
          </a:xfrm>
          <a:prstGeom prst="downArrow">
            <a:avLst>
              <a:gd name="adj1" fmla="val 30139"/>
              <a:gd name="adj2" fmla="val 42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0" idx="0"/>
            <a:endCxn id="442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456" name=""/>
            <p:cNvCxnSpPr>
              <a:stCxn id="307" idx="2"/>
              <a:endCxn id="303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457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460" name=""/>
            <p:cNvCxnSpPr>
              <a:stCxn id="422" idx="3"/>
              <a:endCxn id="409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464" name=""/>
            <p:cNvCxnSpPr>
              <a:stCxn id="440" idx="0"/>
              <a:endCxn id="410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5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468" name=""/>
            <p:cNvCxnSpPr>
              <a:stCxn id="301" idx="2"/>
              <a:endCxn id="305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472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473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4" name=""/>
              <p:cNvCxnSpPr>
                <a:stCxn id="473" idx="0"/>
                <a:endCxn id="475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76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479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480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2" name=""/>
              <p:cNvCxnSpPr>
                <a:stCxn id="481" idx="0"/>
                <a:endCxn id="480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483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486" name=""/>
            <p:cNvCxnSpPr>
              <a:stCxn id="299" idx="2"/>
              <a:endCxn id="410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600200" y="853920"/>
            <a:ext cx="1371600" cy="5546880"/>
            <a:chOff x="1600200" y="853920"/>
            <a:chExt cx="1371600" cy="5546880"/>
          </a:xfrm>
        </p:grpSpPr>
        <p:sp>
          <p:nvSpPr>
            <p:cNvPr id="498" name=""/>
            <p:cNvSpPr/>
            <p:nvPr/>
          </p:nvSpPr>
          <p:spPr>
            <a:xfrm>
              <a:off x="1600200" y="8539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00200" y="126684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17524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00200" y="26496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00200" y="304812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00200" y="34876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00200" y="394488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00200" y="434340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00200" y="4782960"/>
              <a:ext cx="380880" cy="169920"/>
            </a:xfrm>
            <a:prstGeom prst="rightArrow">
              <a:avLst>
                <a:gd name="adj1" fmla="val 50000"/>
                <a:gd name="adj2" fmla="val 5603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00200" y="912960"/>
              <a:ext cx="76320" cy="5486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00200" y="6324480"/>
              <a:ext cx="1371600" cy="763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5480" y="6172200"/>
              <a:ext cx="7632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6"/>
            <a:endCxn id="514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AR=SP=SP-1; Rd ; Goto iadd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546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548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50" name=""/>
              <p:cNvCxnSpPr>
                <a:stCxn id="548" idx="0"/>
                <a:endCxn id="549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551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552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6" name=""/>
            <p:cNvCxnSpPr>
              <a:stCxn id="554" idx="0"/>
              <a:endCxn id="555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558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60" idx="0"/>
              <a:endCxn id="561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564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"/>
            <p:cNvCxnSpPr>
              <a:stCxn id="566" idx="0"/>
              <a:endCxn id="567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69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570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"/>
            <p:cNvCxnSpPr>
              <a:stCxn id="572" idx="0"/>
              <a:endCxn id="573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576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0" name=""/>
            <p:cNvCxnSpPr>
              <a:stCxn id="578" idx="0"/>
              <a:endCxn id="579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1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582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4" idx="0"/>
              <a:endCxn id="585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87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588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589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0" idx="0"/>
              <a:endCxn id="591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593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594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597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599" name=""/>
              <p:cNvCxnSpPr>
                <a:stCxn id="598" idx="0"/>
                <a:endCxn id="594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600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601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2" name=""/>
            <p:cNvCxnSpPr>
              <a:stCxn id="539" idx="2"/>
              <a:endCxn id="524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603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611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12" idx="0"/>
              <a:endCxn id="611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4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615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"/>
            <p:cNvCxnSpPr>
              <a:stCxn id="616" idx="0"/>
              <a:endCxn id="615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18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619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" name=""/>
            <p:cNvCxnSpPr>
              <a:stCxn id="620" idx="0"/>
              <a:endCxn id="619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622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623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0"/>
              <a:endCxn id="623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26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627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9" name=""/>
            <p:cNvCxnSpPr>
              <a:stCxn id="628" idx="0"/>
              <a:endCxn id="627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0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631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32" idx="0"/>
              <a:endCxn id="631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635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6" idx="0"/>
              <a:endCxn id="635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639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1" name=""/>
            <p:cNvCxnSpPr>
              <a:stCxn id="640" idx="0"/>
              <a:endCxn id="639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643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5" name=""/>
            <p:cNvCxnSpPr>
              <a:stCxn id="644" idx="0"/>
              <a:endCxn id="643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646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661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662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3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64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666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667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8" name=""/>
              <p:cNvCxnSpPr>
                <a:stCxn id="667" idx="0"/>
                <a:endCxn id="649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69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0" name=""/>
          <p:cNvCxnSpPr>
            <a:stCxn id="542" idx="0"/>
            <a:endCxn id="651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71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672" name=""/>
            <p:cNvCxnSpPr>
              <a:stCxn id="673" idx="0"/>
              <a:endCxn id="647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74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47" idx="0"/>
            <a:endCxn id="678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692" name=""/>
            <p:cNvCxnSpPr>
              <a:stCxn id="544" idx="2"/>
              <a:endCxn id="540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93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696" name=""/>
            <p:cNvCxnSpPr>
              <a:stCxn id="659" idx="3"/>
              <a:endCxn id="646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97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700" name=""/>
            <p:cNvCxnSpPr>
              <a:stCxn id="677" idx="0"/>
              <a:endCxn id="647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704" name=""/>
            <p:cNvCxnSpPr>
              <a:stCxn id="538" idx="2"/>
              <a:endCxn id="542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708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709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0" name=""/>
              <p:cNvCxnSpPr>
                <a:stCxn id="709" idx="0"/>
                <a:endCxn id="711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12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715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716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8" name=""/>
              <p:cNvCxnSpPr>
                <a:stCxn id="717" idx="0"/>
                <a:endCxn id="716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719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722" name=""/>
            <p:cNvCxnSpPr>
              <a:stCxn id="536" idx="2"/>
              <a:endCxn id="647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723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734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736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58" idx="6"/>
            <a:endCxn id="752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H=TOS ; Goto iadd3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1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784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786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88" name=""/>
              <p:cNvCxnSpPr>
                <a:stCxn id="786" idx="0"/>
                <a:endCxn id="787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</p:grpSp>
      <p:grpSp>
        <p:nvGrpSpPr>
          <p:cNvPr id="789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790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791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4" name=""/>
            <p:cNvCxnSpPr>
              <a:stCxn id="792" idx="0"/>
              <a:endCxn id="793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795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796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797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0" name=""/>
            <p:cNvCxnSpPr>
              <a:stCxn id="798" idx="0"/>
              <a:endCxn id="799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1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802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4" idx="0"/>
              <a:endCxn id="805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808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2" name=""/>
            <p:cNvCxnSpPr>
              <a:stCxn id="810" idx="0"/>
              <a:endCxn id="811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3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814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815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16" idx="0"/>
              <a:endCxn id="817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19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820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821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4" name=""/>
            <p:cNvCxnSpPr>
              <a:stCxn id="822" idx="0"/>
              <a:endCxn id="823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25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826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0" name=""/>
            <p:cNvCxnSpPr>
              <a:stCxn id="828" idx="0"/>
              <a:endCxn id="829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31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832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835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7" name=""/>
              <p:cNvCxnSpPr>
                <a:stCxn id="836" idx="0"/>
                <a:endCxn id="832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838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839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0" name=""/>
            <p:cNvCxnSpPr>
              <a:stCxn id="777" idx="2"/>
              <a:endCxn id="762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41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849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1" name=""/>
            <p:cNvCxnSpPr>
              <a:stCxn id="850" idx="0"/>
              <a:endCxn id="849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2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853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5" name=""/>
            <p:cNvCxnSpPr>
              <a:stCxn id="854" idx="0"/>
              <a:endCxn id="853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56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857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9" name=""/>
            <p:cNvCxnSpPr>
              <a:stCxn id="858" idx="0"/>
              <a:endCxn id="857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0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861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3" name=""/>
            <p:cNvCxnSpPr>
              <a:stCxn id="862" idx="0"/>
              <a:endCxn id="861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4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865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7" name=""/>
            <p:cNvCxnSpPr>
              <a:stCxn id="866" idx="0"/>
              <a:endCxn id="865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68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869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1" name=""/>
            <p:cNvCxnSpPr>
              <a:stCxn id="870" idx="0"/>
              <a:endCxn id="869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2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873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5" name=""/>
            <p:cNvCxnSpPr>
              <a:stCxn id="874" idx="0"/>
              <a:endCxn id="873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876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877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9" name=""/>
            <p:cNvCxnSpPr>
              <a:stCxn id="878" idx="0"/>
              <a:endCxn id="877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880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881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82" idx="0"/>
              <a:endCxn id="881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884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899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900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1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2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904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905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6" name=""/>
              <p:cNvCxnSpPr>
                <a:stCxn id="905" idx="0"/>
                <a:endCxn id="887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7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780" idx="0"/>
            <a:endCxn id="889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09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910" name=""/>
            <p:cNvCxnSpPr>
              <a:stCxn id="911" idx="0"/>
              <a:endCxn id="885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12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913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5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885" idx="0"/>
            <a:endCxn id="916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930" name=""/>
            <p:cNvCxnSpPr>
              <a:stCxn id="782" idx="2"/>
              <a:endCxn id="778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31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934" name=""/>
            <p:cNvCxnSpPr>
              <a:stCxn id="897" idx="3"/>
              <a:endCxn id="884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35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938" name=""/>
            <p:cNvCxnSpPr>
              <a:stCxn id="915" idx="0"/>
              <a:endCxn id="885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9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942" name=""/>
            <p:cNvCxnSpPr>
              <a:stCxn id="776" idx="2"/>
              <a:endCxn id="780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946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947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8" name=""/>
              <p:cNvCxnSpPr>
                <a:stCxn id="947" idx="0"/>
                <a:endCxn id="949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50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953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954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6" name=""/>
              <p:cNvCxnSpPr>
                <a:stCxn id="955" idx="0"/>
                <a:endCxn id="954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957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960" name=""/>
            <p:cNvCxnSpPr>
              <a:stCxn id="774" idx="2"/>
              <a:endCxn id="885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972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974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7" name=""/>
          <p:cNvCxnSpPr>
            <a:stCxn id="996" idx="6"/>
            <a:endCxn id="990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8" name=""/>
          <p:cNvSpPr/>
          <p:nvPr/>
        </p:nvSpPr>
        <p:spPr>
          <a:xfrm>
            <a:off x="3657600" y="2666880"/>
            <a:ext cx="4876920" cy="1752840"/>
          </a:xfrm>
          <a:prstGeom prst="wedgeEllipseCallout">
            <a:avLst>
              <a:gd name="adj1" fmla="val -65722"/>
              <a:gd name="adj2" fmla="val -71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valeur de la prochain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Exemple IADD (MDR=TOS=MDR+H ;Wr ;Goto Main1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0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023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025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27" name=""/>
              <p:cNvCxnSpPr>
                <a:stCxn id="1025" idx="0"/>
                <a:endCxn id="1026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28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029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030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3" name=""/>
            <p:cNvCxnSpPr>
              <a:stCxn id="1031" idx="0"/>
              <a:endCxn id="1032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34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035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036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9" name=""/>
            <p:cNvCxnSpPr>
              <a:stCxn id="1037" idx="0"/>
              <a:endCxn id="1038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40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041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5" name=""/>
            <p:cNvCxnSpPr>
              <a:stCxn id="1043" idx="0"/>
              <a:endCxn id="1044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46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047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048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0"/>
              <a:endCxn id="1050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053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054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7" name=""/>
            <p:cNvCxnSpPr>
              <a:stCxn id="1055" idx="0"/>
              <a:endCxn id="1056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58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059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060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3" name=""/>
            <p:cNvCxnSpPr>
              <a:stCxn id="1061" idx="0"/>
              <a:endCxn id="1062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64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065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066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9" name=""/>
            <p:cNvCxnSpPr>
              <a:stCxn id="1067" idx="0"/>
              <a:endCxn id="1068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70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071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074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076" name=""/>
              <p:cNvCxnSpPr>
                <a:stCxn id="1075" idx="0"/>
                <a:endCxn id="1071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77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078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16" idx="2"/>
              <a:endCxn id="1001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080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088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0" name=""/>
            <p:cNvCxnSpPr>
              <a:stCxn id="1089" idx="0"/>
              <a:endCxn id="1088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28440">
              <a:solidFill>
                <a:srgbClr val="ff3300"/>
              </a:solidFill>
              <a:miter/>
            </a:ln>
          </p:spPr>
        </p:cxnSp>
      </p:grpSp>
      <p:grpSp>
        <p:nvGrpSpPr>
          <p:cNvPr id="1091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092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4" name=""/>
            <p:cNvCxnSpPr>
              <a:stCxn id="1093" idx="0"/>
              <a:endCxn id="1092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5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096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8" name=""/>
            <p:cNvCxnSpPr>
              <a:stCxn id="1097" idx="0"/>
              <a:endCxn id="1096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099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100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101" idx="0"/>
              <a:endCxn id="1100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3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104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6" name=""/>
            <p:cNvCxnSpPr>
              <a:stCxn id="1105" idx="0"/>
              <a:endCxn id="1104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07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108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0" name=""/>
            <p:cNvCxnSpPr>
              <a:stCxn id="1109" idx="0"/>
              <a:endCxn id="1108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1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112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4" name=""/>
            <p:cNvCxnSpPr>
              <a:stCxn id="1113" idx="0"/>
              <a:endCxn id="1112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5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116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8" name=""/>
            <p:cNvCxnSpPr>
              <a:stCxn id="1117" idx="0"/>
              <a:endCxn id="1116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119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120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2" name=""/>
            <p:cNvCxnSpPr>
              <a:stCxn id="1121" idx="0"/>
              <a:endCxn id="1120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123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138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139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0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1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143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144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5" name=""/>
              <p:cNvCxnSpPr>
                <a:stCxn id="1144" idx="0"/>
                <a:endCxn id="1126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46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7" name=""/>
          <p:cNvCxnSpPr>
            <a:stCxn id="1019" idx="0"/>
            <a:endCxn id="1128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8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149" name=""/>
            <p:cNvCxnSpPr>
              <a:stCxn id="1150" idx="0"/>
              <a:endCxn id="1124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51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152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4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6" name=""/>
          <p:cNvCxnSpPr>
            <a:stCxn id="1124" idx="0"/>
            <a:endCxn id="1155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57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169" name=""/>
            <p:cNvCxnSpPr>
              <a:stCxn id="1021" idx="2"/>
              <a:endCxn id="1017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70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173" name=""/>
            <p:cNvCxnSpPr>
              <a:stCxn id="1136" idx="3"/>
              <a:endCxn id="1123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174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177" name=""/>
            <p:cNvCxnSpPr>
              <a:stCxn id="1154" idx="0"/>
              <a:endCxn id="1124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181" name=""/>
            <p:cNvCxnSpPr>
              <a:stCxn id="1015" idx="2"/>
              <a:endCxn id="1019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185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186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87" name=""/>
              <p:cNvCxnSpPr>
                <a:stCxn id="1186" idx="0"/>
                <a:endCxn id="1188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89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192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5" name=""/>
              <p:cNvCxnSpPr>
                <a:stCxn id="1194" idx="0"/>
                <a:endCxn id="1193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28440">
                <a:solidFill>
                  <a:srgbClr val="ff3300"/>
                </a:solidFill>
                <a:miter/>
              </a:ln>
            </p:spPr>
          </p:cxnSp>
        </p:grpSp>
        <p:sp>
          <p:nvSpPr>
            <p:cNvPr id="1196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199" name=""/>
            <p:cNvCxnSpPr>
              <a:stCxn id="1013" idx="2"/>
              <a:endCxn id="1124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200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211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213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6" name=""/>
          <p:cNvCxnSpPr>
            <a:stCxn id="1235" idx="6"/>
            <a:endCxn id="1229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7" name=""/>
          <p:cNvSpPr/>
          <p:nvPr/>
        </p:nvSpPr>
        <p:spPr>
          <a:xfrm>
            <a:off x="3352680" y="3733920"/>
            <a:ext cx="5105520" cy="1143000"/>
          </a:xfrm>
          <a:prstGeom prst="wedgeEllipseCallout">
            <a:avLst>
              <a:gd name="adj1" fmla="val -57305"/>
              <a:gd name="adj2" fmla="val -252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ée de la valeur de l’adresse mémoire 0x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9" name=""/>
          <p:cNvSpPr/>
          <p:nvPr/>
        </p:nvSpPr>
        <p:spPr>
          <a:xfrm>
            <a:off x="2592360" y="639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23920" y="816120"/>
            <a:ext cx="243828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016000" y="879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016000" y="13050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013120" y="1778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038320" y="21877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81080" y="26035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6000" y="30290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016000" y="34704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16000" y="391176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016000" y="4308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016000" y="474984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x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49560" y="5315040"/>
            <a:ext cx="161604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lnTo>
                  <a:pt x="336" y="0"/>
                </a:lnTo>
                <a:lnTo>
                  <a:pt x="384" y="96"/>
                </a:lnTo>
                <a:lnTo>
                  <a:pt x="528" y="96"/>
                </a:lnTo>
                <a:lnTo>
                  <a:pt x="624" y="0"/>
                </a:lnTo>
                <a:lnTo>
                  <a:pt x="960" y="0"/>
                </a:lnTo>
                <a:lnTo>
                  <a:pt x="672" y="336"/>
                </a:lnTo>
                <a:lnTo>
                  <a:pt x="240" y="336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5600" y="3483000"/>
            <a:ext cx="53352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15120" y="3486240"/>
            <a:ext cx="5428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912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388280" y="3483000"/>
            <a:ext cx="22860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676680" y="762120"/>
            <a:ext cx="137160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to 1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71680" y="4987800"/>
            <a:ext cx="231840" cy="314280"/>
          </a:xfrm>
          <a:prstGeom prst="downArrow">
            <a:avLst>
              <a:gd name="adj1" fmla="val 38352"/>
              <a:gd name="adj2" fmla="val 356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76600" y="47498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51520" y="3481560"/>
            <a:ext cx="542880" cy="2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07160" y="3489480"/>
            <a:ext cx="2286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1463400" y="3683160"/>
            <a:ext cx="5445360" cy="2813040"/>
            <a:chOff x="1463400" y="3683160"/>
            <a:chExt cx="5445360" cy="2813040"/>
          </a:xfrm>
        </p:grpSpPr>
        <p:sp>
          <p:nvSpPr>
            <p:cNvPr id="1262" name=""/>
            <p:cNvSpPr/>
            <p:nvPr/>
          </p:nvSpPr>
          <p:spPr>
            <a:xfrm flipV="1">
              <a:off x="2292480" y="497808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1463400" y="3683160"/>
              <a:ext cx="5445360" cy="2813040"/>
              <a:chOff x="1463400" y="3683160"/>
              <a:chExt cx="5445360" cy="2813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1463760" y="513396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9087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66" name=""/>
              <p:cNvCxnSpPr>
                <a:stCxn id="1264" idx="0"/>
                <a:endCxn id="1265" idx="0"/>
              </p:cNvCxnSpPr>
              <p:nvPr/>
            </p:nvCxnSpPr>
            <p:spPr>
              <a:xfrm flipH="1" flipV="1" rot="5400000">
                <a:off x="3546000" y="1761480"/>
                <a:ext cx="1280520" cy="5445720"/>
              </a:xfrm>
              <a:prstGeom prst="bentConnector3">
                <a:avLst>
                  <a:gd name="adj1" fmla="val -107170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67" name=""/>
          <p:cNvGrpSpPr/>
          <p:nvPr/>
        </p:nvGrpSpPr>
        <p:grpSpPr>
          <a:xfrm>
            <a:off x="1390320" y="3683160"/>
            <a:ext cx="5575680" cy="2853360"/>
            <a:chOff x="1390320" y="3683160"/>
            <a:chExt cx="5575680" cy="2853360"/>
          </a:xfrm>
        </p:grpSpPr>
        <p:grpSp>
          <p:nvGrpSpPr>
            <p:cNvPr id="1268" name=""/>
            <p:cNvGrpSpPr/>
            <p:nvPr/>
          </p:nvGrpSpPr>
          <p:grpSpPr>
            <a:xfrm>
              <a:off x="1390680" y="4555800"/>
              <a:ext cx="914400" cy="152640"/>
              <a:chOff x="1390680" y="4555800"/>
              <a:chExt cx="914400" cy="152640"/>
            </a:xfrm>
          </p:grpSpPr>
          <p:sp>
            <p:nvSpPr>
              <p:cNvPr id="1269" name=""/>
              <p:cNvSpPr/>
              <p:nvPr/>
            </p:nvSpPr>
            <p:spPr>
              <a:xfrm flipV="1">
                <a:off x="2295720" y="455580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390680" y="4708440"/>
                <a:ext cx="9144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696600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2" name=""/>
            <p:cNvCxnSpPr>
              <a:stCxn id="1270" idx="0"/>
              <a:endCxn id="1271" idx="0"/>
            </p:cNvCxnSpPr>
            <p:nvPr/>
          </p:nvCxnSpPr>
          <p:spPr>
            <a:xfrm flipH="1" flipV="1" rot="5400000">
              <a:off x="3750840" y="1483560"/>
              <a:ext cx="855000" cy="5576040"/>
            </a:xfrm>
            <a:prstGeom prst="bentConnector3">
              <a:avLst>
                <a:gd name="adj1" fmla="val -21503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3" name=""/>
          <p:cNvGrpSpPr/>
          <p:nvPr/>
        </p:nvGrpSpPr>
        <p:grpSpPr>
          <a:xfrm>
            <a:off x="1321920" y="3683160"/>
            <a:ext cx="5713920" cy="2890440"/>
            <a:chOff x="1321920" y="3683160"/>
            <a:chExt cx="5713920" cy="2890440"/>
          </a:xfrm>
        </p:grpSpPr>
        <p:grpSp>
          <p:nvGrpSpPr>
            <p:cNvPr id="1274" name=""/>
            <p:cNvGrpSpPr/>
            <p:nvPr/>
          </p:nvGrpSpPr>
          <p:grpSpPr>
            <a:xfrm>
              <a:off x="1322280" y="4132080"/>
              <a:ext cx="990720" cy="152640"/>
              <a:chOff x="1322280" y="4132080"/>
              <a:chExt cx="990720" cy="152640"/>
            </a:xfrm>
          </p:grpSpPr>
          <p:sp>
            <p:nvSpPr>
              <p:cNvPr id="1275" name=""/>
              <p:cNvSpPr/>
              <p:nvPr/>
            </p:nvSpPr>
            <p:spPr>
              <a:xfrm flipV="1">
                <a:off x="2301840" y="41320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22280" y="4284720"/>
                <a:ext cx="99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7" name=""/>
            <p:cNvSpPr/>
            <p:nvPr/>
          </p:nvSpPr>
          <p:spPr>
            <a:xfrm>
              <a:off x="7035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8" name=""/>
            <p:cNvCxnSpPr>
              <a:stCxn id="1276" idx="0"/>
              <a:endCxn id="1277" idx="0"/>
            </p:cNvCxnSpPr>
            <p:nvPr/>
          </p:nvCxnSpPr>
          <p:spPr>
            <a:xfrm flipH="1" flipV="1" rot="5400000">
              <a:off x="3963600" y="1202400"/>
              <a:ext cx="430920" cy="5714280"/>
            </a:xfrm>
            <a:prstGeom prst="bentConnector3">
              <a:avLst>
                <a:gd name="adj1" fmla="val -533946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79" name=""/>
          <p:cNvGrpSpPr/>
          <p:nvPr/>
        </p:nvGrpSpPr>
        <p:grpSpPr>
          <a:xfrm>
            <a:off x="1252080" y="3683160"/>
            <a:ext cx="5838120" cy="2955960"/>
            <a:chOff x="1252080" y="3683160"/>
            <a:chExt cx="5838120" cy="2955960"/>
          </a:xfrm>
        </p:grpSpPr>
        <p:grpSp>
          <p:nvGrpSpPr>
            <p:cNvPr id="1280" name=""/>
            <p:cNvGrpSpPr/>
            <p:nvPr/>
          </p:nvGrpSpPr>
          <p:grpSpPr>
            <a:xfrm>
              <a:off x="1252080" y="3696840"/>
              <a:ext cx="1042920" cy="162000"/>
              <a:chOff x="1252080" y="3696840"/>
              <a:chExt cx="1042920" cy="162000"/>
            </a:xfrm>
          </p:grpSpPr>
          <p:sp>
            <p:nvSpPr>
              <p:cNvPr id="1281" name=""/>
              <p:cNvSpPr/>
              <p:nvPr/>
            </p:nvSpPr>
            <p:spPr>
              <a:xfrm flipV="1">
                <a:off x="2285640" y="369684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1252080" y="3858840"/>
                <a:ext cx="1042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>
              <a:off x="7089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4" name=""/>
            <p:cNvCxnSpPr>
              <a:stCxn id="1282" idx="0"/>
              <a:endCxn id="1283" idx="0"/>
            </p:cNvCxnSpPr>
            <p:nvPr/>
          </p:nvCxnSpPr>
          <p:spPr>
            <a:xfrm flipH="1" flipV="1" rot="5400000">
              <a:off x="4159800" y="938520"/>
              <a:ext cx="24480" cy="5836320"/>
            </a:xfrm>
            <a:prstGeom prst="bentConnector3">
              <a:avLst>
                <a:gd name="adj1" fmla="val -11486567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85" name=""/>
          <p:cNvGrpSpPr/>
          <p:nvPr/>
        </p:nvGrpSpPr>
        <p:grpSpPr>
          <a:xfrm>
            <a:off x="1133280" y="2835360"/>
            <a:ext cx="6077520" cy="3853800"/>
            <a:chOff x="1133280" y="2835360"/>
            <a:chExt cx="6077520" cy="3853800"/>
          </a:xfrm>
        </p:grpSpPr>
        <p:grpSp>
          <p:nvGrpSpPr>
            <p:cNvPr id="1286" name=""/>
            <p:cNvGrpSpPr/>
            <p:nvPr/>
          </p:nvGrpSpPr>
          <p:grpSpPr>
            <a:xfrm>
              <a:off x="1133280" y="2835360"/>
              <a:ext cx="1166760" cy="162000"/>
              <a:chOff x="1133280" y="2835360"/>
              <a:chExt cx="1166760" cy="162000"/>
            </a:xfrm>
          </p:grpSpPr>
          <p:sp>
            <p:nvSpPr>
              <p:cNvPr id="1287" name=""/>
              <p:cNvSpPr/>
              <p:nvPr/>
            </p:nvSpPr>
            <p:spPr>
              <a:xfrm flipV="1">
                <a:off x="2290680" y="283536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1133280" y="2997360"/>
                <a:ext cx="1166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72104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0" name=""/>
            <p:cNvCxnSpPr>
              <a:stCxn id="1288" idx="0"/>
              <a:endCxn id="1289" idx="0"/>
            </p:cNvCxnSpPr>
            <p:nvPr/>
          </p:nvCxnSpPr>
          <p:spPr>
            <a:xfrm flipH="1" rot="16200000">
              <a:off x="3753720" y="387720"/>
              <a:ext cx="838800" cy="6076080"/>
            </a:xfrm>
            <a:prstGeom prst="bentConnector3">
              <a:avLst>
                <a:gd name="adj1" fmla="val 439201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1" name=""/>
          <p:cNvGrpSpPr/>
          <p:nvPr/>
        </p:nvGrpSpPr>
        <p:grpSpPr>
          <a:xfrm>
            <a:off x="1204560" y="3258720"/>
            <a:ext cx="5939280" cy="3389400"/>
            <a:chOff x="1204560" y="3258720"/>
            <a:chExt cx="5939280" cy="3389400"/>
          </a:xfrm>
        </p:grpSpPr>
        <p:grpSp>
          <p:nvGrpSpPr>
            <p:cNvPr id="1292" name=""/>
            <p:cNvGrpSpPr/>
            <p:nvPr/>
          </p:nvGrpSpPr>
          <p:grpSpPr>
            <a:xfrm>
              <a:off x="1204560" y="3258720"/>
              <a:ext cx="1096920" cy="162000"/>
              <a:chOff x="1204560" y="3258720"/>
              <a:chExt cx="1096920" cy="162000"/>
            </a:xfrm>
          </p:grpSpPr>
          <p:sp>
            <p:nvSpPr>
              <p:cNvPr id="1293" name=""/>
              <p:cNvSpPr/>
              <p:nvPr/>
            </p:nvSpPr>
            <p:spPr>
              <a:xfrm flipV="1">
                <a:off x="2290680" y="3258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1204560" y="3420720"/>
                <a:ext cx="1096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714384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6" name=""/>
            <p:cNvCxnSpPr>
              <a:stCxn id="1294" idx="0"/>
              <a:endCxn id="1295" idx="0"/>
            </p:cNvCxnSpPr>
            <p:nvPr/>
          </p:nvCxnSpPr>
          <p:spPr>
            <a:xfrm flipH="1" rot="16200000">
              <a:off x="3958200" y="659160"/>
              <a:ext cx="434160" cy="5938200"/>
            </a:xfrm>
            <a:prstGeom prst="bentConnector5">
              <a:avLst>
                <a:gd name="adj1" fmla="val 746141"/>
                <a:gd name="adj2" fmla="val 99993"/>
                <a:gd name="adj3" fmla="val 15053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297" name=""/>
          <p:cNvGrpSpPr/>
          <p:nvPr/>
        </p:nvGrpSpPr>
        <p:grpSpPr>
          <a:xfrm>
            <a:off x="1062000" y="1991880"/>
            <a:ext cx="6207120" cy="4733640"/>
            <a:chOff x="1062000" y="1991880"/>
            <a:chExt cx="6207120" cy="4733640"/>
          </a:xfrm>
        </p:grpSpPr>
        <p:grpSp>
          <p:nvGrpSpPr>
            <p:cNvPr id="1298" name=""/>
            <p:cNvGrpSpPr/>
            <p:nvPr/>
          </p:nvGrpSpPr>
          <p:grpSpPr>
            <a:xfrm>
              <a:off x="1062000" y="1991880"/>
              <a:ext cx="1233360" cy="157320"/>
              <a:chOff x="1062000" y="1991880"/>
              <a:chExt cx="1233360" cy="15732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2285640" y="199188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062000" y="2144520"/>
                <a:ext cx="1233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72676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2" name=""/>
            <p:cNvCxnSpPr>
              <a:stCxn id="1300" idx="0"/>
              <a:endCxn id="1301" idx="0"/>
            </p:cNvCxnSpPr>
            <p:nvPr/>
          </p:nvCxnSpPr>
          <p:spPr>
            <a:xfrm flipH="1" rot="16200000">
              <a:off x="3309840" y="-114120"/>
              <a:ext cx="1710360" cy="6206400"/>
            </a:xfrm>
            <a:prstGeom prst="bentConnector5">
              <a:avLst>
                <a:gd name="adj1" fmla="val 268505"/>
                <a:gd name="adj2" fmla="val 100017"/>
                <a:gd name="adj3" fmla="val 13517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3" name=""/>
          <p:cNvGrpSpPr/>
          <p:nvPr/>
        </p:nvGrpSpPr>
        <p:grpSpPr>
          <a:xfrm>
            <a:off x="990360" y="1539360"/>
            <a:ext cx="6347520" cy="5222160"/>
            <a:chOff x="990360" y="1539360"/>
            <a:chExt cx="6347520" cy="5222160"/>
          </a:xfrm>
        </p:grpSpPr>
        <p:grpSp>
          <p:nvGrpSpPr>
            <p:cNvPr id="1304" name=""/>
            <p:cNvGrpSpPr/>
            <p:nvPr/>
          </p:nvGrpSpPr>
          <p:grpSpPr>
            <a:xfrm>
              <a:off x="990360" y="1539360"/>
              <a:ext cx="1314360" cy="162360"/>
              <a:chOff x="990360" y="1539360"/>
              <a:chExt cx="1314360" cy="162360"/>
            </a:xfrm>
          </p:grpSpPr>
          <p:sp>
            <p:nvSpPr>
              <p:cNvPr id="1305" name=""/>
              <p:cNvSpPr/>
              <p:nvPr/>
            </p:nvSpPr>
            <p:spPr>
              <a:xfrm flipV="1">
                <a:off x="2295720" y="15393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990360" y="1701720"/>
                <a:ext cx="1314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733752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8" name=""/>
            <p:cNvCxnSpPr>
              <a:stCxn id="1306" idx="0"/>
              <a:endCxn id="1307" idx="0"/>
            </p:cNvCxnSpPr>
            <p:nvPr/>
          </p:nvCxnSpPr>
          <p:spPr>
            <a:xfrm flipH="1" rot="16200000">
              <a:off x="3097440" y="-395640"/>
              <a:ext cx="2134080" cy="6347520"/>
            </a:xfrm>
            <a:prstGeom prst="bentConnector3">
              <a:avLst>
                <a:gd name="adj1" fmla="val 2366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09" name=""/>
          <p:cNvGrpSpPr/>
          <p:nvPr/>
        </p:nvGrpSpPr>
        <p:grpSpPr>
          <a:xfrm>
            <a:off x="913320" y="1116000"/>
            <a:ext cx="6474960" cy="5683320"/>
            <a:chOff x="913320" y="1116000"/>
            <a:chExt cx="6474960" cy="5683320"/>
          </a:xfrm>
        </p:grpSpPr>
        <p:sp>
          <p:nvSpPr>
            <p:cNvPr id="1310" name=""/>
            <p:cNvSpPr/>
            <p:nvPr/>
          </p:nvSpPr>
          <p:spPr>
            <a:xfrm>
              <a:off x="7388280" y="3683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913320" y="1116000"/>
              <a:ext cx="6474240" cy="5683320"/>
              <a:chOff x="913320" y="1116000"/>
              <a:chExt cx="6474240" cy="568332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914400" y="1116000"/>
                <a:ext cx="1371600" cy="157320"/>
                <a:chOff x="914400" y="1116000"/>
                <a:chExt cx="1371600" cy="157320"/>
              </a:xfrm>
            </p:grpSpPr>
            <p:sp>
              <p:nvSpPr>
                <p:cNvPr id="1313" name=""/>
                <p:cNvSpPr/>
                <p:nvPr/>
              </p:nvSpPr>
              <p:spPr>
                <a:xfrm flipV="1">
                  <a:off x="2276640" y="1116000"/>
                  <a:ext cx="0" cy="152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914400" y="1273320"/>
                  <a:ext cx="13716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5" name=""/>
              <p:cNvCxnSpPr>
                <a:stCxn id="1314" idx="0"/>
                <a:endCxn id="1310" idx="0"/>
              </p:cNvCxnSpPr>
              <p:nvPr/>
            </p:nvCxnSpPr>
            <p:spPr>
              <a:xfrm flipH="1" rot="16200000">
                <a:off x="2869200" y="-673560"/>
                <a:ext cx="2562840" cy="6474600"/>
              </a:xfrm>
              <a:prstGeom prst="bentConnector3">
                <a:avLst>
                  <a:gd name="adj1" fmla="val 21529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316" name=""/>
          <p:cNvGrpSpPr/>
          <p:nvPr/>
        </p:nvGrpSpPr>
        <p:grpSpPr>
          <a:xfrm>
            <a:off x="2342520" y="534960"/>
            <a:ext cx="5684760" cy="3378240"/>
            <a:chOff x="2342520" y="534960"/>
            <a:chExt cx="5684760" cy="3378240"/>
          </a:xfrm>
        </p:grpSpPr>
        <p:sp>
          <p:nvSpPr>
            <p:cNvPr id="1317" name=""/>
            <p:cNvSpPr/>
            <p:nvPr/>
          </p:nvSpPr>
          <p:spPr>
            <a:xfrm flipH="1">
              <a:off x="2705040" y="53496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8" name=""/>
            <p:cNvCxnSpPr>
              <a:stCxn id="1255" idx="2"/>
              <a:endCxn id="1240" idx="0"/>
            </p:cNvCxnSpPr>
            <p:nvPr/>
          </p:nvCxnSpPr>
          <p:spPr>
            <a:xfrm flipV="1" rot="16200000">
              <a:off x="3480840" y="-336960"/>
              <a:ext cx="2883600" cy="5159880"/>
            </a:xfrm>
            <a:prstGeom prst="bentConnector5">
              <a:avLst>
                <a:gd name="adj1" fmla="val -7928"/>
                <a:gd name="adj2" fmla="val -10180"/>
                <a:gd name="adj3" fmla="val 106817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19" name=""/>
          <p:cNvSpPr/>
          <p:nvPr/>
        </p:nvSpPr>
        <p:spPr>
          <a:xfrm>
            <a:off x="443556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2124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94320" y="123516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7352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660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3228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05360" y="123840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2743200" y="1228680"/>
            <a:ext cx="1006920" cy="498240"/>
            <a:chOff x="2743200" y="1228680"/>
            <a:chExt cx="1006920" cy="498240"/>
          </a:xfrm>
        </p:grpSpPr>
        <p:sp>
          <p:nvSpPr>
            <p:cNvPr id="1327" name=""/>
            <p:cNvSpPr/>
            <p:nvPr/>
          </p:nvSpPr>
          <p:spPr>
            <a:xfrm>
              <a:off x="374976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2743200" y="153972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9" name=""/>
            <p:cNvCxnSpPr>
              <a:stCxn id="1328" idx="0"/>
              <a:endCxn id="1327" idx="0"/>
            </p:cNvCxnSpPr>
            <p:nvPr/>
          </p:nvCxnSpPr>
          <p:spPr>
            <a:xfrm flipH="1" flipV="1" rot="5400000">
              <a:off x="3039840" y="1017000"/>
              <a:ext cx="413640" cy="1007280"/>
            </a:xfrm>
            <a:prstGeom prst="bentConnector3">
              <a:avLst>
                <a:gd name="adj1" fmla="val 304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0" name=""/>
          <p:cNvGrpSpPr/>
          <p:nvPr/>
        </p:nvGrpSpPr>
        <p:grpSpPr>
          <a:xfrm>
            <a:off x="2522880" y="1228680"/>
            <a:ext cx="1299600" cy="934560"/>
            <a:chOff x="2522880" y="1228680"/>
            <a:chExt cx="1299600" cy="934560"/>
          </a:xfrm>
        </p:grpSpPr>
        <p:sp>
          <p:nvSpPr>
            <p:cNvPr id="1331" name=""/>
            <p:cNvSpPr/>
            <p:nvPr/>
          </p:nvSpPr>
          <p:spPr>
            <a:xfrm>
              <a:off x="382248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2523960" y="2001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3" name=""/>
            <p:cNvCxnSpPr>
              <a:stCxn id="1332" idx="0"/>
              <a:endCxn id="1331" idx="0"/>
            </p:cNvCxnSpPr>
            <p:nvPr/>
          </p:nvCxnSpPr>
          <p:spPr>
            <a:xfrm flipH="1" flipV="1" rot="5400000">
              <a:off x="2747520" y="1089000"/>
              <a:ext cx="849960" cy="1299240"/>
            </a:xfrm>
            <a:prstGeom prst="bentConnector3">
              <a:avLst>
                <a:gd name="adj1" fmla="val 165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4" name=""/>
          <p:cNvGrpSpPr/>
          <p:nvPr/>
        </p:nvGrpSpPr>
        <p:grpSpPr>
          <a:xfrm>
            <a:off x="2747880" y="1231920"/>
            <a:ext cx="1312920" cy="1760400"/>
            <a:chOff x="2747880" y="1231920"/>
            <a:chExt cx="1312920" cy="1760400"/>
          </a:xfrm>
        </p:grpSpPr>
        <p:sp>
          <p:nvSpPr>
            <p:cNvPr id="1335" name=""/>
            <p:cNvSpPr/>
            <p:nvPr/>
          </p:nvSpPr>
          <p:spPr>
            <a:xfrm>
              <a:off x="40604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747880" y="283032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7" name=""/>
            <p:cNvCxnSpPr>
              <a:stCxn id="1336" idx="0"/>
              <a:endCxn id="1335" idx="0"/>
            </p:cNvCxnSpPr>
            <p:nvPr/>
          </p:nvCxnSpPr>
          <p:spPr>
            <a:xfrm flipH="1" flipV="1" rot="5400000">
              <a:off x="2566440" y="1498320"/>
              <a:ext cx="1675440" cy="1313280"/>
            </a:xfrm>
            <a:prstGeom prst="bentConnector3">
              <a:avLst>
                <a:gd name="adj1" fmla="val 0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38" name=""/>
          <p:cNvGrpSpPr/>
          <p:nvPr/>
        </p:nvGrpSpPr>
        <p:grpSpPr>
          <a:xfrm>
            <a:off x="2751480" y="1228680"/>
            <a:ext cx="1229760" cy="1344240"/>
            <a:chOff x="2751480" y="1228680"/>
            <a:chExt cx="1229760" cy="1344240"/>
          </a:xfrm>
        </p:grpSpPr>
        <p:sp>
          <p:nvSpPr>
            <p:cNvPr id="1339" name=""/>
            <p:cNvSpPr/>
            <p:nvPr/>
          </p:nvSpPr>
          <p:spPr>
            <a:xfrm>
              <a:off x="398124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752560" y="241128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1" name=""/>
            <p:cNvCxnSpPr>
              <a:stCxn id="1340" idx="0"/>
              <a:endCxn id="1339" idx="0"/>
            </p:cNvCxnSpPr>
            <p:nvPr/>
          </p:nvCxnSpPr>
          <p:spPr>
            <a:xfrm flipH="1" flipV="1" rot="5400000">
              <a:off x="2736360" y="1328760"/>
              <a:ext cx="1259640" cy="1229400"/>
            </a:xfrm>
            <a:prstGeom prst="bentConnector3">
              <a:avLst>
                <a:gd name="adj1" fmla="val 228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2" name=""/>
          <p:cNvGrpSpPr/>
          <p:nvPr/>
        </p:nvGrpSpPr>
        <p:grpSpPr>
          <a:xfrm>
            <a:off x="2878200" y="1228680"/>
            <a:ext cx="1030680" cy="1307880"/>
            <a:chOff x="2878200" y="1228680"/>
            <a:chExt cx="1030680" cy="1307880"/>
          </a:xfrm>
        </p:grpSpPr>
        <p:sp>
          <p:nvSpPr>
            <p:cNvPr id="1343" name=""/>
            <p:cNvSpPr/>
            <p:nvPr/>
          </p:nvSpPr>
          <p:spPr>
            <a:xfrm>
              <a:off x="3908520" y="122868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2878200" y="2401560"/>
              <a:ext cx="324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5" name=""/>
            <p:cNvCxnSpPr>
              <a:stCxn id="1344" idx="0"/>
              <a:endCxn id="1343" idx="0"/>
            </p:cNvCxnSpPr>
            <p:nvPr/>
          </p:nvCxnSpPr>
          <p:spPr>
            <a:xfrm flipH="1" flipV="1" rot="5400000">
              <a:off x="2815920" y="1375920"/>
              <a:ext cx="1154880" cy="1031040"/>
            </a:xfrm>
            <a:prstGeom prst="bentConnector3">
              <a:avLst>
                <a:gd name="adj1" fmla="val -589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46" name=""/>
          <p:cNvGrpSpPr/>
          <p:nvPr/>
        </p:nvGrpSpPr>
        <p:grpSpPr>
          <a:xfrm>
            <a:off x="2746800" y="1231920"/>
            <a:ext cx="1386720" cy="2201760"/>
            <a:chOff x="2746800" y="1231920"/>
            <a:chExt cx="1386720" cy="2201760"/>
          </a:xfrm>
        </p:grpSpPr>
        <p:sp>
          <p:nvSpPr>
            <p:cNvPr id="1347" name=""/>
            <p:cNvSpPr/>
            <p:nvPr/>
          </p:nvSpPr>
          <p:spPr>
            <a:xfrm>
              <a:off x="413352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747880" y="325404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9" name=""/>
            <p:cNvCxnSpPr>
              <a:stCxn id="1348" idx="0"/>
              <a:endCxn id="1347" idx="0"/>
            </p:cNvCxnSpPr>
            <p:nvPr/>
          </p:nvCxnSpPr>
          <p:spPr>
            <a:xfrm flipH="1" flipV="1" rot="5400000">
              <a:off x="2389680" y="1674000"/>
              <a:ext cx="2099520" cy="1386000"/>
            </a:xfrm>
            <a:prstGeom prst="bentConnector3">
              <a:avLst>
                <a:gd name="adj1" fmla="val -82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0" name=""/>
          <p:cNvGrpSpPr/>
          <p:nvPr/>
        </p:nvGrpSpPr>
        <p:grpSpPr>
          <a:xfrm>
            <a:off x="2746800" y="1231920"/>
            <a:ext cx="1472400" cy="2622240"/>
            <a:chOff x="2746800" y="1231920"/>
            <a:chExt cx="1472400" cy="2622240"/>
          </a:xfrm>
        </p:grpSpPr>
        <p:sp>
          <p:nvSpPr>
            <p:cNvPr id="1351" name=""/>
            <p:cNvSpPr/>
            <p:nvPr/>
          </p:nvSpPr>
          <p:spPr>
            <a:xfrm>
              <a:off x="421920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2747880" y="369216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3" name=""/>
            <p:cNvCxnSpPr>
              <a:stCxn id="1352" idx="0"/>
              <a:endCxn id="1351" idx="0"/>
            </p:cNvCxnSpPr>
            <p:nvPr/>
          </p:nvCxnSpPr>
          <p:spPr>
            <a:xfrm flipH="1" flipV="1" rot="5400000">
              <a:off x="2214000" y="1849680"/>
              <a:ext cx="2537640" cy="1472040"/>
            </a:xfrm>
            <a:prstGeom prst="bentConnector3">
              <a:avLst>
                <a:gd name="adj1" fmla="val 113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4" name=""/>
          <p:cNvGrpSpPr/>
          <p:nvPr/>
        </p:nvGrpSpPr>
        <p:grpSpPr>
          <a:xfrm>
            <a:off x="2695680" y="1231920"/>
            <a:ext cx="1596960" cy="3050640"/>
            <a:chOff x="2695680" y="1231920"/>
            <a:chExt cx="1596960" cy="3050640"/>
          </a:xfrm>
        </p:grpSpPr>
        <p:sp>
          <p:nvSpPr>
            <p:cNvPr id="1355" name=""/>
            <p:cNvSpPr/>
            <p:nvPr/>
          </p:nvSpPr>
          <p:spPr>
            <a:xfrm>
              <a:off x="4292640" y="1231920"/>
              <a:ext cx="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 flipV="1">
              <a:off x="2695680" y="4140000"/>
              <a:ext cx="1440" cy="9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7" name=""/>
            <p:cNvCxnSpPr>
              <a:stCxn id="1356" idx="0"/>
              <a:endCxn id="1355" idx="0"/>
            </p:cNvCxnSpPr>
            <p:nvPr/>
          </p:nvCxnSpPr>
          <p:spPr>
            <a:xfrm flipH="1" flipV="1" rot="5400000">
              <a:off x="2027880" y="1986840"/>
              <a:ext cx="2934360" cy="1594440"/>
            </a:xfrm>
            <a:prstGeom prst="bentConnector3">
              <a:avLst>
                <a:gd name="adj1" fmla="val -1079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grpSp>
        <p:nvGrpSpPr>
          <p:cNvPr id="1358" name=""/>
          <p:cNvGrpSpPr/>
          <p:nvPr/>
        </p:nvGrpSpPr>
        <p:grpSpPr>
          <a:xfrm>
            <a:off x="2751480" y="1235160"/>
            <a:ext cx="1610640" cy="3457440"/>
            <a:chOff x="2751480" y="1235160"/>
            <a:chExt cx="1610640" cy="3457440"/>
          </a:xfrm>
        </p:grpSpPr>
        <p:sp>
          <p:nvSpPr>
            <p:cNvPr id="1359" name=""/>
            <p:cNvSpPr/>
            <p:nvPr/>
          </p:nvSpPr>
          <p:spPr>
            <a:xfrm>
              <a:off x="4362120" y="1235160"/>
              <a:ext cx="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2752560" y="453060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1" name=""/>
            <p:cNvCxnSpPr>
              <a:stCxn id="1360" idx="0"/>
              <a:endCxn id="1359" idx="0"/>
            </p:cNvCxnSpPr>
            <p:nvPr/>
          </p:nvCxnSpPr>
          <p:spPr>
            <a:xfrm flipH="1" flipV="1" rot="5400000">
              <a:off x="1870200" y="2201400"/>
              <a:ext cx="3372480" cy="1610280"/>
            </a:xfrm>
            <a:prstGeom prst="bentConnector3">
              <a:avLst>
                <a:gd name="adj1" fmla="val 42"/>
              </a:avLst>
            </a:prstGeom>
            <a:ln w="3240">
              <a:solidFill>
                <a:srgbClr val="000000"/>
              </a:solidFill>
              <a:miter/>
            </a:ln>
          </p:spPr>
        </p:cxnSp>
      </p:grpSp>
      <p:sp>
        <p:nvSpPr>
          <p:cNvPr id="1362" name=""/>
          <p:cNvSpPr/>
          <p:nvPr/>
        </p:nvSpPr>
        <p:spPr>
          <a:xfrm>
            <a:off x="5600880" y="209232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62600" y="1978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591080" y="528336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62440" y="529272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553080" y="3092400"/>
            <a:ext cx="219240" cy="380880"/>
          </a:xfrm>
          <a:prstGeom prst="downArrow">
            <a:avLst>
              <a:gd name="adj1" fmla="val 50000"/>
              <a:gd name="adj2" fmla="val 434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6674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433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8196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8960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719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0482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24600" y="1587600"/>
            <a:ext cx="7596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0056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276880" y="158760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" name=""/>
          <p:cNvGrpSpPr/>
          <p:nvPr/>
        </p:nvGrpSpPr>
        <p:grpSpPr>
          <a:xfrm>
            <a:off x="3600360" y="5130720"/>
            <a:ext cx="1029240" cy="381240"/>
            <a:chOff x="3600360" y="5130720"/>
            <a:chExt cx="1029240" cy="381240"/>
          </a:xfrm>
        </p:grpSpPr>
        <p:grpSp>
          <p:nvGrpSpPr>
            <p:cNvPr id="1377" name=""/>
            <p:cNvGrpSpPr/>
            <p:nvPr/>
          </p:nvGrpSpPr>
          <p:grpSpPr>
            <a:xfrm>
              <a:off x="3600360" y="5358960"/>
              <a:ext cx="1029240" cy="153000"/>
              <a:chOff x="3600360" y="5358960"/>
              <a:chExt cx="1029240" cy="153000"/>
            </a:xfrm>
          </p:grpSpPr>
          <p:sp>
            <p:nvSpPr>
              <p:cNvPr id="1378" name=""/>
              <p:cNvSpPr/>
              <p:nvPr/>
            </p:nvSpPr>
            <p:spPr>
              <a:xfrm>
                <a:off x="3600360" y="5502240"/>
                <a:ext cx="152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9" name=""/>
              <p:cNvCxnSpPr/>
              <p:nvPr/>
            </p:nvCxnSpPr>
            <p:spPr>
              <a:xfrm flipH="1" flipV="1" rot="5400000">
                <a:off x="4114440" y="4997160"/>
                <a:ext cx="153360" cy="876960"/>
              </a:xfrm>
              <a:prstGeom prst="bentConnector3">
                <a:avLst>
                  <a:gd name="adj1" fmla="val 6117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0" name=""/>
            <p:cNvSpPr/>
            <p:nvPr/>
          </p:nvSpPr>
          <p:spPr>
            <a:xfrm flipV="1">
              <a:off x="462924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3448080" y="5130720"/>
            <a:ext cx="1352880" cy="542880"/>
            <a:chOff x="3448080" y="5130720"/>
            <a:chExt cx="1352880" cy="542880"/>
          </a:xfrm>
        </p:grpSpPr>
        <p:grpSp>
          <p:nvGrpSpPr>
            <p:cNvPr id="1382" name=""/>
            <p:cNvGrpSpPr/>
            <p:nvPr/>
          </p:nvGrpSpPr>
          <p:grpSpPr>
            <a:xfrm>
              <a:off x="3448080" y="5368680"/>
              <a:ext cx="1352880" cy="304920"/>
              <a:chOff x="3448080" y="5368680"/>
              <a:chExt cx="1352880" cy="304920"/>
            </a:xfrm>
          </p:grpSpPr>
          <p:sp>
            <p:nvSpPr>
              <p:cNvPr id="1383" name=""/>
              <p:cNvSpPr/>
              <p:nvPr/>
            </p:nvSpPr>
            <p:spPr>
              <a:xfrm>
                <a:off x="3448080" y="5664240"/>
                <a:ext cx="152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84" name=""/>
              <p:cNvCxnSpPr>
                <a:stCxn id="1383" idx="0"/>
                <a:endCxn id="1365" idx="2"/>
              </p:cNvCxnSpPr>
              <p:nvPr/>
            </p:nvCxnSpPr>
            <p:spPr>
              <a:xfrm flipH="1" flipV="1" rot="5400000">
                <a:off x="4047840" y="4920840"/>
                <a:ext cx="305280" cy="1200960"/>
              </a:xfrm>
              <a:prstGeom prst="bentConnector3">
                <a:avLst>
                  <a:gd name="adj1" fmla="val 3069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85" name=""/>
            <p:cNvSpPr/>
            <p:nvPr/>
          </p:nvSpPr>
          <p:spPr>
            <a:xfrm flipV="1">
              <a:off x="4800600" y="5130720"/>
              <a:ext cx="0" cy="15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6" name=""/>
          <p:cNvCxnSpPr>
            <a:stCxn id="1258" idx="0"/>
            <a:endCxn id="1367" idx="2"/>
          </p:cNvCxnSpPr>
          <p:nvPr/>
        </p:nvCxnSpPr>
        <p:spPr>
          <a:xfrm flipV="1">
            <a:off x="4704840" y="1662840"/>
            <a:ext cx="1080" cy="3087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87" name=""/>
          <p:cNvGrpSpPr/>
          <p:nvPr/>
        </p:nvGrpSpPr>
        <p:grpSpPr>
          <a:xfrm>
            <a:off x="5114520" y="2053440"/>
            <a:ext cx="1105200" cy="1438560"/>
            <a:chOff x="5114520" y="2053440"/>
            <a:chExt cx="1105200" cy="1438560"/>
          </a:xfrm>
        </p:grpSpPr>
        <p:cxnSp>
          <p:nvCxnSpPr>
            <p:cNvPr id="1388" name=""/>
            <p:cNvCxnSpPr>
              <a:stCxn id="1389" idx="0"/>
              <a:endCxn id="1363" idx="3"/>
            </p:cNvCxnSpPr>
            <p:nvPr/>
          </p:nvCxnSpPr>
          <p:spPr>
            <a:xfrm flipV="1" rot="16200000">
              <a:off x="4599720" y="2567880"/>
              <a:ext cx="1296360" cy="267120"/>
            </a:xfrm>
            <a:prstGeom prst="bentConnector4">
              <a:avLst>
                <a:gd name="adj1" fmla="val 722"/>
                <a:gd name="adj2" fmla="val 32658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90" name=""/>
            <p:cNvGrpSpPr/>
            <p:nvPr/>
          </p:nvGrpSpPr>
          <p:grpSpPr>
            <a:xfrm>
              <a:off x="5381640" y="3339720"/>
              <a:ext cx="838080" cy="152280"/>
              <a:chOff x="5381640" y="3339720"/>
              <a:chExt cx="838080" cy="152280"/>
            </a:xfrm>
          </p:grpSpPr>
          <p:sp>
            <p:nvSpPr>
              <p:cNvPr id="1391" name=""/>
              <p:cNvSpPr/>
              <p:nvPr/>
            </p:nvSpPr>
            <p:spPr>
              <a:xfrm flipV="1">
                <a:off x="6210360" y="333972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5381640" y="3340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3" name=""/>
          <p:cNvSpPr/>
          <p:nvPr/>
        </p:nvSpPr>
        <p:spPr>
          <a:xfrm>
            <a:off x="2724120" y="218124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rot="5400000">
            <a:off x="4976640" y="1452600"/>
            <a:ext cx="142920" cy="59040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90400"/>
              <a:gd name="textAreaBottom" fmla="*/ 57744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8"/>
                </a:cubicBezTo>
                <a:lnTo>
                  <a:pt x="10800" y="9675"/>
                </a:lnTo>
                <a:cubicBezTo>
                  <a:pt x="10800" y="10434"/>
                  <a:pt x="16200" y="11193"/>
                  <a:pt x="21600" y="11193"/>
                </a:cubicBezTo>
                <a:cubicBezTo>
                  <a:pt x="16200" y="11193"/>
                  <a:pt x="10800" y="11952"/>
                  <a:pt x="10800" y="12711"/>
                </a:cubicBezTo>
                <a:lnTo>
                  <a:pt x="10800" y="20082"/>
                </a:lnTo>
                <a:cubicBezTo>
                  <a:pt x="10800" y="2084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5" name=""/>
          <p:cNvCxnSpPr>
            <a:stCxn id="1363" idx="0"/>
            <a:endCxn id="1394" idx="1"/>
          </p:cNvCxnSpPr>
          <p:nvPr/>
        </p:nvCxnSpPr>
        <p:spPr>
          <a:xfrm flipH="1" flipV="1">
            <a:off x="5036760" y="1817280"/>
            <a:ext cx="2160" cy="161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6" name=""/>
          <p:cNvSpPr/>
          <p:nvPr/>
        </p:nvSpPr>
        <p:spPr>
          <a:xfrm>
            <a:off x="4714560" y="1319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4680" y="888840"/>
            <a:ext cx="231840" cy="4403880"/>
          </a:xfrm>
          <a:prstGeom prst="downArrow">
            <a:avLst>
              <a:gd name="adj1" fmla="val 30139"/>
              <a:gd name="adj2" fmla="val 301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40120" y="13557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32200" y="18273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60640" y="21607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963880" y="229716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36880" y="26542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36880" y="307512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32200" y="351648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32200" y="3960720"/>
            <a:ext cx="380880" cy="133560"/>
          </a:xfrm>
          <a:prstGeom prst="rightArrow">
            <a:avLst>
              <a:gd name="adj1" fmla="val 50000"/>
              <a:gd name="adj2" fmla="val 784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40120" y="4346640"/>
            <a:ext cx="380880" cy="133200"/>
          </a:xfrm>
          <a:prstGeom prst="rightArrow">
            <a:avLst>
              <a:gd name="adj1" fmla="val 50000"/>
              <a:gd name="adj2" fmla="val 786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5047920" y="914400"/>
            <a:ext cx="2878560" cy="2917440"/>
            <a:chOff x="5047920" y="914400"/>
            <a:chExt cx="2878560" cy="2917440"/>
          </a:xfrm>
        </p:grpSpPr>
        <p:cxnSp>
          <p:nvCxnSpPr>
            <p:cNvPr id="1408" name=""/>
            <p:cNvCxnSpPr>
              <a:stCxn id="1260" idx="2"/>
              <a:endCxn id="1256" idx="3"/>
            </p:cNvCxnSpPr>
            <p:nvPr/>
          </p:nvCxnSpPr>
          <p:spPr>
            <a:xfrm flipV="1" rot="16200000">
              <a:off x="5041440" y="1000800"/>
              <a:ext cx="2686680" cy="2674080"/>
            </a:xfrm>
            <a:prstGeom prst="bentConnector4">
              <a:avLst>
                <a:gd name="adj1" fmla="val -5615"/>
                <a:gd name="adj2" fmla="val -7661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9" name=""/>
            <p:cNvSpPr/>
            <p:nvPr/>
          </p:nvSpPr>
          <p:spPr>
            <a:xfrm flipH="1">
              <a:off x="7038720" y="91440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926040" y="1019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5352840" y="1554120"/>
            <a:ext cx="1352880" cy="538560"/>
            <a:chOff x="5352840" y="1554120"/>
            <a:chExt cx="1352880" cy="538560"/>
          </a:xfrm>
        </p:grpSpPr>
        <p:cxnSp>
          <p:nvCxnSpPr>
            <p:cNvPr id="1412" name=""/>
            <p:cNvCxnSpPr>
              <a:stCxn id="1375" idx="3"/>
              <a:endCxn id="1362" idx="0"/>
            </p:cNvCxnSpPr>
            <p:nvPr/>
          </p:nvCxnSpPr>
          <p:spPr>
            <a:xfrm>
              <a:off x="5352840" y="1625760"/>
              <a:ext cx="1353240" cy="4672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3" name=""/>
            <p:cNvSpPr/>
            <p:nvPr/>
          </p:nvSpPr>
          <p:spPr>
            <a:xfrm flipH="1">
              <a:off x="6162480" y="1554120"/>
              <a:ext cx="7596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049800" y="1658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838600" y="1982880"/>
            <a:ext cx="2124360" cy="198000"/>
            <a:chOff x="2838600" y="1982880"/>
            <a:chExt cx="2124360" cy="198000"/>
          </a:xfrm>
        </p:grpSpPr>
        <p:cxnSp>
          <p:nvCxnSpPr>
            <p:cNvPr id="1416" name=""/>
            <p:cNvCxnSpPr>
              <a:stCxn id="1393" idx="0"/>
              <a:endCxn id="1363" idx="1"/>
            </p:cNvCxnSpPr>
            <p:nvPr/>
          </p:nvCxnSpPr>
          <p:spPr>
            <a:xfrm flipH="1" flipV="1" rot="5400000">
              <a:off x="3836880" y="1055160"/>
              <a:ext cx="127800" cy="2124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7" name=""/>
            <p:cNvSpPr/>
            <p:nvPr/>
          </p:nvSpPr>
          <p:spPr>
            <a:xfrm flipH="1">
              <a:off x="4514760" y="198288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4402080" y="20876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933080" y="3684600"/>
            <a:ext cx="1280160" cy="1325520"/>
            <a:chOff x="4933080" y="3684600"/>
            <a:chExt cx="1280160" cy="1325520"/>
          </a:xfrm>
        </p:grpSpPr>
        <p:cxnSp>
          <p:nvCxnSpPr>
            <p:cNvPr id="1420" name=""/>
            <p:cNvCxnSpPr>
              <a:stCxn id="1254" idx="2"/>
              <a:endCxn id="1258" idx="3"/>
            </p:cNvCxnSpPr>
            <p:nvPr/>
          </p:nvCxnSpPr>
          <p:spPr>
            <a:xfrm rot="5400000">
              <a:off x="4944960" y="3672360"/>
              <a:ext cx="1256400" cy="12805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1" name=""/>
            <p:cNvSpPr/>
            <p:nvPr/>
          </p:nvSpPr>
          <p:spPr>
            <a:xfrm flipH="1">
              <a:off x="5521320" y="485784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5408640" y="496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3415680" y="3683160"/>
            <a:ext cx="3089880" cy="2547720"/>
            <a:chOff x="3415680" y="3683160"/>
            <a:chExt cx="3089880" cy="2547720"/>
          </a:xfrm>
        </p:grpSpPr>
        <p:grpSp>
          <p:nvGrpSpPr>
            <p:cNvPr id="1424" name=""/>
            <p:cNvGrpSpPr/>
            <p:nvPr/>
          </p:nvGrpSpPr>
          <p:grpSpPr>
            <a:xfrm>
              <a:off x="3415680" y="3683160"/>
              <a:ext cx="3089880" cy="2492640"/>
              <a:chOff x="3415680" y="3683160"/>
              <a:chExt cx="3089880" cy="2492640"/>
            </a:xfrm>
          </p:grpSpPr>
          <p:sp>
            <p:nvSpPr>
              <p:cNvPr id="1425" name=""/>
              <p:cNvSpPr/>
              <p:nvPr/>
            </p:nvSpPr>
            <p:spPr>
              <a:xfrm>
                <a:off x="650556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26" name=""/>
              <p:cNvCxnSpPr>
                <a:stCxn id="1425" idx="0"/>
                <a:endCxn id="1427" idx="3"/>
              </p:cNvCxnSpPr>
              <p:nvPr/>
            </p:nvCxnSpPr>
            <p:spPr>
              <a:xfrm rot="5400000">
                <a:off x="3794760" y="3465360"/>
                <a:ext cx="2331360" cy="3089880"/>
              </a:xfrm>
              <a:prstGeom prst="bentConnector2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28" name=""/>
            <p:cNvSpPr/>
            <p:nvPr/>
          </p:nvSpPr>
          <p:spPr>
            <a:xfrm flipH="1">
              <a:off x="4029120" y="60786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3916440" y="61833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847880" y="3683160"/>
            <a:ext cx="4851720" cy="2768400"/>
            <a:chOff x="1847880" y="3683160"/>
            <a:chExt cx="4851720" cy="2768400"/>
          </a:xfrm>
        </p:grpSpPr>
        <p:grpSp>
          <p:nvGrpSpPr>
            <p:cNvPr id="1431" name=""/>
            <p:cNvGrpSpPr/>
            <p:nvPr/>
          </p:nvGrpSpPr>
          <p:grpSpPr>
            <a:xfrm>
              <a:off x="1847880" y="3683160"/>
              <a:ext cx="4851720" cy="2768400"/>
              <a:chOff x="1847880" y="3683160"/>
              <a:chExt cx="4851720" cy="2768400"/>
            </a:xfrm>
          </p:grpSpPr>
          <p:sp>
            <p:nvSpPr>
              <p:cNvPr id="1432" name=""/>
              <p:cNvSpPr/>
              <p:nvPr/>
            </p:nvSpPr>
            <p:spPr>
              <a:xfrm>
                <a:off x="6699240" y="3683160"/>
                <a:ext cx="0" cy="15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847880" y="5568840"/>
                <a:ext cx="52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34" name=""/>
              <p:cNvCxnSpPr>
                <a:stCxn id="1433" idx="0"/>
                <a:endCxn id="1432" idx="0"/>
              </p:cNvCxnSpPr>
              <p:nvPr/>
            </p:nvCxnSpPr>
            <p:spPr>
              <a:xfrm flipH="1" flipV="1" rot="5400000">
                <a:off x="3416040" y="2275920"/>
                <a:ext cx="1715400" cy="4852080"/>
              </a:xfrm>
              <a:prstGeom prst="bentConnector3">
                <a:avLst>
                  <a:gd name="adj1" fmla="val -52036"/>
                </a:avLst>
              </a:prstGeom>
              <a:ln w="32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435" name=""/>
            <p:cNvSpPr/>
            <p:nvPr/>
          </p:nvSpPr>
          <p:spPr>
            <a:xfrm flipH="1">
              <a:off x="2016000" y="5486400"/>
              <a:ext cx="7632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1903320" y="5591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959360" y="2129760"/>
            <a:ext cx="872640" cy="1783080"/>
            <a:chOff x="4959360" y="2129760"/>
            <a:chExt cx="872640" cy="1783080"/>
          </a:xfrm>
        </p:grpSpPr>
        <p:cxnSp>
          <p:nvCxnSpPr>
            <p:cNvPr id="1438" name=""/>
            <p:cNvCxnSpPr>
              <a:stCxn id="1252" idx="2"/>
              <a:endCxn id="1363" idx="2"/>
            </p:cNvCxnSpPr>
            <p:nvPr/>
          </p:nvCxnSpPr>
          <p:spPr>
            <a:xfrm flipV="1" rot="16200000">
              <a:off x="4657680" y="2509920"/>
              <a:ext cx="1554840" cy="794520"/>
            </a:xfrm>
            <a:prstGeom prst="bentConnector3">
              <a:avLst>
                <a:gd name="adj1" fmla="val -14705"/>
              </a:avLst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9" name=""/>
            <p:cNvSpPr/>
            <p:nvPr/>
          </p:nvSpPr>
          <p:spPr>
            <a:xfrm flipH="1">
              <a:off x="4959360" y="2514600"/>
              <a:ext cx="14616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4754520" y="243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367080" y="47624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595160" y="60580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135400" y="56196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emory control signals (rd,wr,fet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24640" y="5268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24280" y="561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488000" y="32115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452920" y="309420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M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059440" y="4307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MN/JAM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600200" y="853920"/>
            <a:ext cx="1486080" cy="5546880"/>
            <a:chOff x="1600200" y="853920"/>
            <a:chExt cx="1486080" cy="5546880"/>
          </a:xfrm>
        </p:grpSpPr>
        <p:sp>
          <p:nvSpPr>
            <p:cNvPr id="1450" name=""/>
            <p:cNvSpPr/>
            <p:nvPr/>
          </p:nvSpPr>
          <p:spPr>
            <a:xfrm>
              <a:off x="2854440" y="5851440"/>
              <a:ext cx="231840" cy="203400"/>
            </a:xfrm>
            <a:prstGeom prst="downArrow">
              <a:avLst>
                <a:gd name="adj1" fmla="val 30139"/>
                <a:gd name="adj2" fmla="val 42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1" name=""/>
            <p:cNvGrpSpPr/>
            <p:nvPr/>
          </p:nvGrpSpPr>
          <p:grpSpPr>
            <a:xfrm>
              <a:off x="1600200" y="853920"/>
              <a:ext cx="1371600" cy="5546880"/>
              <a:chOff x="1600200" y="853920"/>
              <a:chExt cx="1371600" cy="5546880"/>
            </a:xfrm>
          </p:grpSpPr>
          <p:sp>
            <p:nvSpPr>
              <p:cNvPr id="1452" name=""/>
              <p:cNvSpPr/>
              <p:nvPr/>
            </p:nvSpPr>
            <p:spPr>
              <a:xfrm>
                <a:off x="1600200" y="8539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600200" y="126684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600200" y="17524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600200" y="26496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600200" y="304812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600200" y="34876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600200" y="394488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600200" y="434340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600200" y="4782960"/>
                <a:ext cx="380880" cy="169920"/>
              </a:xfrm>
              <a:prstGeom prst="rightArrow">
                <a:avLst>
                  <a:gd name="adj1" fmla="val 50000"/>
                  <a:gd name="adj2" fmla="val 560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600200" y="912960"/>
                <a:ext cx="76320" cy="548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600200" y="6324480"/>
                <a:ext cx="137160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95480" y="6172200"/>
                <a:ext cx="763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7" name=""/>
          <p:cNvSpPr/>
          <p:nvPr/>
        </p:nvSpPr>
        <p:spPr>
          <a:xfrm>
            <a:off x="2502000" y="6054840"/>
            <a:ext cx="9144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1259640" y="188748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1259640" y="990720"/>
            <a:ext cx="762120" cy="128520"/>
          </a:xfrm>
          <a:prstGeom prst="rightArrow">
            <a:avLst>
              <a:gd name="adj1" fmla="val 50000"/>
              <a:gd name="adj2" fmla="val 1482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60360" y="143028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278000" y="2251080"/>
            <a:ext cx="761760" cy="128520"/>
          </a:xfrm>
          <a:prstGeom prst="rightArrow">
            <a:avLst>
              <a:gd name="adj1" fmla="val 50000"/>
              <a:gd name="adj2" fmla="val 1481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918040" y="2438280"/>
            <a:ext cx="22860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614664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324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553080" y="2631960"/>
            <a:ext cx="2034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75648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6985080" y="2631960"/>
            <a:ext cx="2030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162920" y="2438280"/>
            <a:ext cx="228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5" name=""/>
          <p:cNvCxnSpPr>
            <a:stCxn id="1474" idx="6"/>
            <a:endCxn id="1468" idx="2"/>
          </p:cNvCxnSpPr>
          <p:nvPr/>
        </p:nvCxnSpPr>
        <p:spPr>
          <a:xfrm flipH="1">
            <a:off x="5917320" y="2629080"/>
            <a:ext cx="1474200" cy="2160"/>
          </a:xfrm>
          <a:prstGeom prst="bentConnector5">
            <a:avLst>
              <a:gd name="adj1" fmla="val -15510"/>
              <a:gd name="adj2" fmla="val -20000000"/>
              <a:gd name="adj3" fmla="val 1073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4:05:50Z</dcterms:created>
  <dc:creator>Chateigner</dc:creator>
  <dc:description/>
  <dc:language>en-US</dc:language>
  <cp:lastModifiedBy>Chateigner</cp:lastModifiedBy>
  <dcterms:modified xsi:type="dcterms:W3CDTF">2002-01-28T09:57:14Z</dcterms:modified>
  <cp:revision>4</cp:revision>
  <dc:subject/>
  <dc:title>Exemple d’exécution d’un programme</dc:title>
</cp:coreProperties>
</file>