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40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63760" y="3683160"/>
            <a:ext cx="5445000" cy="1450800"/>
            <a:chOff x="1463760" y="3683160"/>
            <a:chExt cx="5445000" cy="1450800"/>
          </a:xfrm>
        </p:grpSpPr>
        <p:sp>
          <p:nvSpPr>
            <p:cNvPr id="6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63760" y="3683160"/>
              <a:ext cx="5445000" cy="1450800"/>
              <a:chOff x="1463760" y="3683160"/>
              <a:chExt cx="5445000" cy="1450800"/>
            </a:xfrm>
          </p:grpSpPr>
          <p:sp>
            <p:nvSpPr>
              <p:cNvPr id="6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" name=""/>
              <p:cNvCxnSpPr>
                <a:stCxn id="68" idx="0"/>
                <a:endCxn id="69" idx="0"/>
              </p:cNvCxnSpPr>
              <p:nvPr/>
            </p:nvCxnSpPr>
            <p:spPr>
              <a:xfrm flipH="1" flipV="1" rot="5400000">
                <a:off x="3536280" y="1761840"/>
                <a:ext cx="1299600" cy="544536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1" name=""/>
          <p:cNvGrpSpPr/>
          <p:nvPr/>
        </p:nvGrpSpPr>
        <p:grpSpPr>
          <a:xfrm>
            <a:off x="1390680" y="3683160"/>
            <a:ext cx="5575320" cy="1025280"/>
            <a:chOff x="1390680" y="3683160"/>
            <a:chExt cx="5575320" cy="1025280"/>
          </a:xfrm>
        </p:grpSpPr>
        <p:grpSp>
          <p:nvGrpSpPr>
            <p:cNvPr id="7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4" idx="0"/>
              <a:endCxn id="75" idx="0"/>
            </p:cNvCxnSpPr>
            <p:nvPr/>
          </p:nvCxnSpPr>
          <p:spPr>
            <a:xfrm flipH="1" flipV="1" rot="5400000">
              <a:off x="3741120" y="1483920"/>
              <a:ext cx="874080" cy="5575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7" name=""/>
          <p:cNvGrpSpPr/>
          <p:nvPr/>
        </p:nvGrpSpPr>
        <p:grpSpPr>
          <a:xfrm>
            <a:off x="1322280" y="3683160"/>
            <a:ext cx="5713560" cy="601560"/>
            <a:chOff x="1322280" y="3683160"/>
            <a:chExt cx="5713560" cy="601560"/>
          </a:xfrm>
        </p:grpSpPr>
        <p:grpSp>
          <p:nvGrpSpPr>
            <p:cNvPr id="7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80" idx="0"/>
              <a:endCxn id="81" idx="0"/>
            </p:cNvCxnSpPr>
            <p:nvPr/>
          </p:nvCxnSpPr>
          <p:spPr>
            <a:xfrm flipH="1" flipV="1" rot="5400000">
              <a:off x="3953880" y="1203120"/>
              <a:ext cx="450360" cy="57139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1252080" y="3630240"/>
            <a:ext cx="5837760" cy="228600"/>
            <a:chOff x="1252080" y="3630240"/>
            <a:chExt cx="5837760" cy="228600"/>
          </a:xfrm>
        </p:grpSpPr>
        <p:grpSp>
          <p:nvGrpSpPr>
            <p:cNvPr id="8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6" idx="0"/>
              <a:endCxn id="87" idx="0"/>
            </p:cNvCxnSpPr>
            <p:nvPr/>
          </p:nvCxnSpPr>
          <p:spPr>
            <a:xfrm flipH="1" flipV="1" rot="5400000">
              <a:off x="4158720" y="927720"/>
              <a:ext cx="24480" cy="5838120"/>
            </a:xfrm>
            <a:prstGeom prst="bentConnector4">
              <a:avLst>
                <a:gd name="adj1" fmla="val 947761"/>
                <a:gd name="adj2" fmla="val 5891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1133280" y="2835360"/>
            <a:ext cx="6077160" cy="1000080"/>
            <a:chOff x="1133280" y="2835360"/>
            <a:chExt cx="6077160" cy="1000080"/>
          </a:xfrm>
        </p:grpSpPr>
        <p:grpSp>
          <p:nvGrpSpPr>
            <p:cNvPr id="9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2" idx="0"/>
              <a:endCxn id="93" idx="0"/>
            </p:cNvCxnSpPr>
            <p:nvPr/>
          </p:nvCxnSpPr>
          <p:spPr>
            <a:xfrm flipH="1" rot="16200000">
              <a:off x="3753000" y="377280"/>
              <a:ext cx="837720" cy="607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5" name=""/>
          <p:cNvGrpSpPr/>
          <p:nvPr/>
        </p:nvGrpSpPr>
        <p:grpSpPr>
          <a:xfrm>
            <a:off x="1204560" y="3258720"/>
            <a:ext cx="5939280" cy="576720"/>
            <a:chOff x="1204560" y="3258720"/>
            <a:chExt cx="5939280" cy="576720"/>
          </a:xfrm>
        </p:grpSpPr>
        <p:grpSp>
          <p:nvGrpSpPr>
            <p:cNvPr id="9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8" idx="0"/>
              <a:endCxn id="99" idx="0"/>
            </p:cNvCxnSpPr>
            <p:nvPr/>
          </p:nvCxnSpPr>
          <p:spPr>
            <a:xfrm flipH="1" rot="16200000">
              <a:off x="3967200" y="658080"/>
              <a:ext cx="414360" cy="593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834840" y="1991880"/>
            <a:ext cx="6432840" cy="1843560"/>
            <a:chOff x="834840" y="1991880"/>
            <a:chExt cx="6432840" cy="1843560"/>
          </a:xfrm>
        </p:grpSpPr>
        <p:grpSp>
          <p:nvGrpSpPr>
            <p:cNvPr id="10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4" idx="0"/>
              <a:endCxn id="105" idx="0"/>
            </p:cNvCxnSpPr>
            <p:nvPr/>
          </p:nvCxnSpPr>
          <p:spPr>
            <a:xfrm flipH="1" flipV="1" rot="10800000">
              <a:off x="1062000" y="2144160"/>
              <a:ext cx="6206040" cy="1690560"/>
            </a:xfrm>
            <a:prstGeom prst="bentConnector3">
              <a:avLst>
                <a:gd name="adj1" fmla="val -366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990360" y="1539360"/>
            <a:ext cx="6347160" cy="2296080"/>
            <a:chOff x="990360" y="1539360"/>
            <a:chExt cx="6347160" cy="2296080"/>
          </a:xfrm>
        </p:grpSpPr>
        <p:grpSp>
          <p:nvGrpSpPr>
            <p:cNvPr id="10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0" idx="0"/>
              <a:endCxn id="111" idx="0"/>
            </p:cNvCxnSpPr>
            <p:nvPr/>
          </p:nvCxnSpPr>
          <p:spPr>
            <a:xfrm flipH="1" rot="16200000">
              <a:off x="3097440" y="-405720"/>
              <a:ext cx="2133360" cy="634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914400" y="1116000"/>
            <a:ext cx="6473880" cy="2719440"/>
            <a:chOff x="914400" y="1116000"/>
            <a:chExt cx="6473880" cy="2719440"/>
          </a:xfrm>
        </p:grpSpPr>
        <p:sp>
          <p:nvSpPr>
            <p:cNvPr id="11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914400" y="1116000"/>
              <a:ext cx="6473880" cy="2718720"/>
              <a:chOff x="914400" y="1116000"/>
              <a:chExt cx="6473880" cy="27187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9" name=""/>
              <p:cNvCxnSpPr>
                <a:stCxn id="118" idx="0"/>
                <a:endCxn id="114" idx="0"/>
              </p:cNvCxnSpPr>
              <p:nvPr/>
            </p:nvCxnSpPr>
            <p:spPr>
              <a:xfrm flipH="1" rot="16200000">
                <a:off x="2870640" y="-683280"/>
                <a:ext cx="2561760" cy="647424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0" name=""/>
          <p:cNvGrpSpPr/>
          <p:nvPr/>
        </p:nvGrpSpPr>
        <p:grpSpPr>
          <a:xfrm>
            <a:off x="2342880" y="534960"/>
            <a:ext cx="5159520" cy="3381120"/>
            <a:chOff x="2342880" y="534960"/>
            <a:chExt cx="5159520" cy="3381120"/>
          </a:xfrm>
        </p:grpSpPr>
        <p:sp>
          <p:nvSpPr>
            <p:cNvPr id="12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59" idx="2"/>
              <a:endCxn id="44" idx="0"/>
            </p:cNvCxnSpPr>
            <p:nvPr/>
          </p:nvCxnSpPr>
          <p:spPr>
            <a:xfrm flipV="1" rot="16200000">
              <a:off x="3488400" y="-329400"/>
              <a:ext cx="2868840" cy="5159880"/>
            </a:xfrm>
            <a:prstGeom prst="bentConnector5">
              <a:avLst>
                <a:gd name="adj1" fmla="val -8069"/>
                <a:gd name="adj2" fmla="val 39198"/>
                <a:gd name="adj3" fmla="val 10840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2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1228680"/>
            <a:ext cx="1006560" cy="487440"/>
            <a:chOff x="2743200" y="1228680"/>
            <a:chExt cx="1006560" cy="487440"/>
          </a:xfrm>
        </p:grpSpPr>
        <p:sp>
          <p:nvSpPr>
            <p:cNvPr id="13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2" idx="0"/>
              <a:endCxn id="131" idx="0"/>
            </p:cNvCxnSpPr>
            <p:nvPr/>
          </p:nvCxnSpPr>
          <p:spPr>
            <a:xfrm flipV="1">
              <a:off x="2743200" y="1304640"/>
              <a:ext cx="1006920" cy="411120"/>
            </a:xfrm>
            <a:prstGeom prst="bentConnector3">
              <a:avLst>
                <a:gd name="adj1" fmla="val 5178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2523960" y="1228680"/>
            <a:ext cx="1298520" cy="925200"/>
            <a:chOff x="2523960" y="1228680"/>
            <a:chExt cx="1298520" cy="925200"/>
          </a:xfrm>
        </p:grpSpPr>
        <p:sp>
          <p:nvSpPr>
            <p:cNvPr id="13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0"/>
              <a:endCxn id="135" idx="0"/>
            </p:cNvCxnSpPr>
            <p:nvPr/>
          </p:nvCxnSpPr>
          <p:spPr>
            <a:xfrm flipV="1">
              <a:off x="2523960" y="1304640"/>
              <a:ext cx="1298880" cy="848880"/>
            </a:xfrm>
            <a:prstGeom prst="bentConnector3">
              <a:avLst>
                <a:gd name="adj1" fmla="val 51095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8" name=""/>
          <p:cNvGrpSpPr/>
          <p:nvPr/>
        </p:nvGrpSpPr>
        <p:grpSpPr>
          <a:xfrm>
            <a:off x="2747880" y="1231920"/>
            <a:ext cx="1312560" cy="1750680"/>
            <a:chOff x="2747880" y="1231920"/>
            <a:chExt cx="1312560" cy="1750680"/>
          </a:xfrm>
        </p:grpSpPr>
        <p:sp>
          <p:nvSpPr>
            <p:cNvPr id="13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40" idx="0"/>
              <a:endCxn id="139" idx="0"/>
            </p:cNvCxnSpPr>
            <p:nvPr/>
          </p:nvCxnSpPr>
          <p:spPr>
            <a:xfrm flipV="1">
              <a:off x="2747880" y="1307880"/>
              <a:ext cx="1312920" cy="1674360"/>
            </a:xfrm>
            <a:prstGeom prst="bentConnector3">
              <a:avLst>
                <a:gd name="adj1" fmla="val 5137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752560" y="1228680"/>
            <a:ext cx="1228680" cy="1335240"/>
            <a:chOff x="2752560" y="1228680"/>
            <a:chExt cx="1228680" cy="1335240"/>
          </a:xfrm>
        </p:grpSpPr>
        <p:sp>
          <p:nvSpPr>
            <p:cNvPr id="14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4" idx="0"/>
              <a:endCxn id="143" idx="0"/>
            </p:cNvCxnSpPr>
            <p:nvPr/>
          </p:nvCxnSpPr>
          <p:spPr>
            <a:xfrm flipV="1">
              <a:off x="2752560" y="1304640"/>
              <a:ext cx="1229040" cy="1258920"/>
            </a:xfrm>
            <a:prstGeom prst="bentConnector3">
              <a:avLst>
                <a:gd name="adj1" fmla="val 514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6" name=""/>
          <p:cNvGrpSpPr/>
          <p:nvPr/>
        </p:nvGrpSpPr>
        <p:grpSpPr>
          <a:xfrm>
            <a:off x="2878200" y="1228680"/>
            <a:ext cx="1030320" cy="1477080"/>
            <a:chOff x="2878200" y="1228680"/>
            <a:chExt cx="1030320" cy="1477080"/>
          </a:xfrm>
        </p:grpSpPr>
        <p:sp>
          <p:nvSpPr>
            <p:cNvPr id="14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8" idx="0"/>
              <a:endCxn id="147" idx="0"/>
            </p:cNvCxnSpPr>
            <p:nvPr/>
          </p:nvCxnSpPr>
          <p:spPr>
            <a:xfrm flipH="1" flipV="1" rot="5400000">
              <a:off x="2811600" y="1370880"/>
              <a:ext cx="1163520" cy="1030680"/>
            </a:xfrm>
            <a:prstGeom prst="bentConnector3">
              <a:avLst>
                <a:gd name="adj1" fmla="val -2045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47880" y="1231920"/>
            <a:ext cx="1385640" cy="2174400"/>
            <a:chOff x="2747880" y="1231920"/>
            <a:chExt cx="1385640" cy="2174400"/>
          </a:xfrm>
        </p:grpSpPr>
        <p:sp>
          <p:nvSpPr>
            <p:cNvPr id="15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52" idx="0"/>
              <a:endCxn id="151" idx="0"/>
            </p:cNvCxnSpPr>
            <p:nvPr/>
          </p:nvCxnSpPr>
          <p:spPr>
            <a:xfrm flipV="1">
              <a:off x="2747880" y="1307880"/>
              <a:ext cx="1386000" cy="2098080"/>
            </a:xfrm>
            <a:prstGeom prst="bentConnector3">
              <a:avLst>
                <a:gd name="adj1" fmla="val 5131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" name=""/>
          <p:cNvGrpSpPr/>
          <p:nvPr/>
        </p:nvGrpSpPr>
        <p:grpSpPr>
          <a:xfrm>
            <a:off x="2747880" y="1231920"/>
            <a:ext cx="1471320" cy="2612520"/>
            <a:chOff x="2747880" y="1231920"/>
            <a:chExt cx="1471320" cy="2612520"/>
          </a:xfrm>
        </p:grpSpPr>
        <p:sp>
          <p:nvSpPr>
            <p:cNvPr id="15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6" idx="0"/>
              <a:endCxn id="155" idx="0"/>
            </p:cNvCxnSpPr>
            <p:nvPr/>
          </p:nvCxnSpPr>
          <p:spPr>
            <a:xfrm flipV="1">
              <a:off x="2747880" y="1307880"/>
              <a:ext cx="1471680" cy="2536200"/>
            </a:xfrm>
            <a:prstGeom prst="bentConnector3">
              <a:avLst>
                <a:gd name="adj1" fmla="val 51235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" name=""/>
          <p:cNvGrpSpPr/>
          <p:nvPr/>
        </p:nvGrpSpPr>
        <p:grpSpPr>
          <a:xfrm>
            <a:off x="2695680" y="1231920"/>
            <a:ext cx="1596960" cy="3007800"/>
            <a:chOff x="2695680" y="1231920"/>
            <a:chExt cx="1596960" cy="3007800"/>
          </a:xfrm>
        </p:grpSpPr>
        <p:sp>
          <p:nvSpPr>
            <p:cNvPr id="15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0"/>
              <a:endCxn id="159" idx="0"/>
            </p:cNvCxnSpPr>
            <p:nvPr/>
          </p:nvCxnSpPr>
          <p:spPr>
            <a:xfrm flipV="1">
              <a:off x="2696760" y="1307880"/>
              <a:ext cx="1596240" cy="2931840"/>
            </a:xfrm>
            <a:prstGeom prst="bentConnector3">
              <a:avLst>
                <a:gd name="adj1" fmla="val 511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2" name=""/>
          <p:cNvGrpSpPr/>
          <p:nvPr/>
        </p:nvGrpSpPr>
        <p:grpSpPr>
          <a:xfrm>
            <a:off x="2752560" y="1235160"/>
            <a:ext cx="1609560" cy="3448080"/>
            <a:chOff x="2752560" y="1235160"/>
            <a:chExt cx="1609560" cy="3448080"/>
          </a:xfrm>
        </p:grpSpPr>
        <p:sp>
          <p:nvSpPr>
            <p:cNvPr id="16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4" idx="0"/>
              <a:endCxn id="163" idx="0"/>
            </p:cNvCxnSpPr>
            <p:nvPr/>
          </p:nvCxnSpPr>
          <p:spPr>
            <a:xfrm flipV="1">
              <a:off x="2752560" y="1310400"/>
              <a:ext cx="1609920" cy="3372480"/>
            </a:xfrm>
            <a:prstGeom prst="bentConnector3">
              <a:avLst>
                <a:gd name="adj1" fmla="val 5112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48080" y="5130720"/>
            <a:ext cx="1352520" cy="762120"/>
            <a:chOff x="3448080" y="5130720"/>
            <a:chExt cx="1352520" cy="762120"/>
          </a:xfrm>
        </p:grpSpPr>
        <p:grpSp>
          <p:nvGrpSpPr>
            <p:cNvPr id="186" name=""/>
            <p:cNvGrpSpPr/>
            <p:nvPr/>
          </p:nvGrpSpPr>
          <p:grpSpPr>
            <a:xfrm>
              <a:off x="3448080" y="5369040"/>
              <a:ext cx="1352520" cy="523800"/>
              <a:chOff x="3448080" y="5369040"/>
              <a:chExt cx="1352520" cy="523800"/>
            </a:xfrm>
          </p:grpSpPr>
          <p:sp>
            <p:nvSpPr>
              <p:cNvPr id="18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7" idx="0"/>
                <a:endCxn id="169" idx="2"/>
              </p:cNvCxnSpPr>
              <p:nvPr/>
            </p:nvCxnSpPr>
            <p:spPr>
              <a:xfrm flipH="1" flipV="1" rot="5400000">
                <a:off x="4052520" y="4916160"/>
                <a:ext cx="295560" cy="1201320"/>
              </a:xfrm>
              <a:prstGeom prst="bentConnector3">
                <a:avLst>
                  <a:gd name="adj1" fmla="val -7743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62" idx="0"/>
            <a:endCxn id="171" idx="2"/>
          </p:cNvCxnSpPr>
          <p:nvPr/>
        </p:nvCxnSpPr>
        <p:spPr>
          <a:xfrm flipV="1">
            <a:off x="4705200" y="1663560"/>
            <a:ext cx="360" cy="308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"/>
          <p:cNvGrpSpPr/>
          <p:nvPr/>
        </p:nvGrpSpPr>
        <p:grpSpPr>
          <a:xfrm>
            <a:off x="5114880" y="2054160"/>
            <a:ext cx="1104840" cy="1437840"/>
            <a:chOff x="5114880" y="2054160"/>
            <a:chExt cx="1104840" cy="1437840"/>
          </a:xfrm>
        </p:grpSpPr>
        <p:cxnSp>
          <p:nvCxnSpPr>
            <p:cNvPr id="192" name=""/>
            <p:cNvCxnSpPr>
              <a:stCxn id="193" idx="0"/>
              <a:endCxn id="167" idx="3"/>
            </p:cNvCxnSpPr>
            <p:nvPr/>
          </p:nvCxnSpPr>
          <p:spPr>
            <a:xfrm flipV="1" rot="16200000">
              <a:off x="4605120" y="2563560"/>
              <a:ext cx="1286280" cy="26712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9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67" idx="0"/>
            <a:endCxn id="199" idx="1"/>
          </p:cNvCxnSpPr>
          <p:nvPr/>
        </p:nvCxnSpPr>
        <p:spPr>
          <a:xfrm flipH="1" flipV="1">
            <a:off x="4753080" y="1676520"/>
            <a:ext cx="285840" cy="30204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048280" y="914400"/>
            <a:ext cx="2673000" cy="2998080"/>
            <a:chOff x="5048280" y="914400"/>
            <a:chExt cx="2673000" cy="2998080"/>
          </a:xfrm>
        </p:grpSpPr>
        <p:cxnSp>
          <p:nvCxnSpPr>
            <p:cNvPr id="213" name=""/>
            <p:cNvCxnSpPr>
              <a:stCxn id="64" idx="2"/>
              <a:endCxn id="60" idx="3"/>
            </p:cNvCxnSpPr>
            <p:nvPr/>
          </p:nvCxnSpPr>
          <p:spPr>
            <a:xfrm flipV="1" rot="16200000">
              <a:off x="5041800" y="1001520"/>
              <a:ext cx="2686320" cy="2673360"/>
            </a:xfrm>
            <a:prstGeom prst="bentConnector4">
              <a:avLst>
                <a:gd name="adj1" fmla="val -8604"/>
                <a:gd name="adj2" fmla="val 52134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53200" y="1554120"/>
            <a:ext cx="1352520" cy="538200"/>
            <a:chOff x="5353200" y="1554120"/>
            <a:chExt cx="1352520" cy="538200"/>
          </a:xfrm>
        </p:grpSpPr>
        <p:cxnSp>
          <p:nvCxnSpPr>
            <p:cNvPr id="217" name=""/>
            <p:cNvCxnSpPr>
              <a:stCxn id="179" idx="3"/>
              <a:endCxn id="166" idx="0"/>
            </p:cNvCxnSpPr>
            <p:nvPr/>
          </p:nvCxnSpPr>
          <p:spPr>
            <a:xfrm>
              <a:off x="5353200" y="1625400"/>
              <a:ext cx="135288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38240" y="1949400"/>
            <a:ext cx="2124360" cy="231840"/>
            <a:chOff x="2838240" y="1949400"/>
            <a:chExt cx="2124360" cy="231840"/>
          </a:xfrm>
        </p:grpSpPr>
        <p:cxnSp>
          <p:nvCxnSpPr>
            <p:cNvPr id="221" name=""/>
            <p:cNvCxnSpPr>
              <a:stCxn id="197" idx="0"/>
              <a:endCxn id="167" idx="1"/>
            </p:cNvCxnSpPr>
            <p:nvPr/>
          </p:nvCxnSpPr>
          <p:spPr>
            <a:xfrm flipH="1" flipV="1" rot="5400000">
              <a:off x="3836520" y="1055520"/>
              <a:ext cx="127440" cy="2124720"/>
            </a:xfrm>
            <a:prstGeom prst="bentConnector4">
              <a:avLst>
                <a:gd name="adj1" fmla="val 182436"/>
                <a:gd name="adj2" fmla="val 52685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33800" y="3684600"/>
            <a:ext cx="1279440" cy="1325520"/>
            <a:chOff x="4933800" y="3684600"/>
            <a:chExt cx="1279440" cy="1325520"/>
          </a:xfrm>
        </p:grpSpPr>
        <p:cxnSp>
          <p:nvCxnSpPr>
            <p:cNvPr id="225" name=""/>
            <p:cNvCxnSpPr>
              <a:stCxn id="58" idx="2"/>
              <a:endCxn id="62" idx="3"/>
            </p:cNvCxnSpPr>
            <p:nvPr/>
          </p:nvCxnSpPr>
          <p:spPr>
            <a:xfrm rot="5400000">
              <a:off x="4945680" y="3672720"/>
              <a:ext cx="1256040" cy="1279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16400" y="3683160"/>
            <a:ext cx="3089160" cy="2547720"/>
            <a:chOff x="3416400" y="3683160"/>
            <a:chExt cx="3089160" cy="2547720"/>
          </a:xfrm>
        </p:grpSpPr>
        <p:grpSp>
          <p:nvGrpSpPr>
            <p:cNvPr id="229" name=""/>
            <p:cNvGrpSpPr/>
            <p:nvPr/>
          </p:nvGrpSpPr>
          <p:grpSpPr>
            <a:xfrm>
              <a:off x="3416400" y="3683160"/>
              <a:ext cx="3089160" cy="2492280"/>
              <a:chOff x="3416400" y="3683160"/>
              <a:chExt cx="3089160" cy="2492280"/>
            </a:xfrm>
          </p:grpSpPr>
          <p:sp>
            <p:nvSpPr>
              <p:cNvPr id="23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1" name=""/>
              <p:cNvCxnSpPr>
                <a:stCxn id="230" idx="0"/>
                <a:endCxn id="232" idx="3"/>
              </p:cNvCxnSpPr>
              <p:nvPr/>
            </p:nvCxnSpPr>
            <p:spPr>
              <a:xfrm flipV="1" rot="10800000">
                <a:off x="3416040" y="3834720"/>
                <a:ext cx="3089520" cy="2341080"/>
              </a:xfrm>
              <a:prstGeom prst="bentConnector3">
                <a:avLst>
                  <a:gd name="adj1" fmla="val 49947"/>
                </a:avLst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47880" y="3683160"/>
            <a:ext cx="4851360" cy="1955520"/>
            <a:chOff x="1847880" y="3683160"/>
            <a:chExt cx="4851360" cy="1955520"/>
          </a:xfrm>
        </p:grpSpPr>
        <p:grpSp>
          <p:nvGrpSpPr>
            <p:cNvPr id="236" name=""/>
            <p:cNvGrpSpPr/>
            <p:nvPr/>
          </p:nvGrpSpPr>
          <p:grpSpPr>
            <a:xfrm>
              <a:off x="1847880" y="3683160"/>
              <a:ext cx="4851360" cy="1885680"/>
              <a:chOff x="1847880" y="3683160"/>
              <a:chExt cx="4851360" cy="1885680"/>
            </a:xfrm>
          </p:grpSpPr>
          <p:sp>
            <p:nvSpPr>
              <p:cNvPr id="23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9" name=""/>
              <p:cNvCxnSpPr>
                <a:stCxn id="238" idx="0"/>
                <a:endCxn id="237" idx="0"/>
              </p:cNvCxnSpPr>
              <p:nvPr/>
            </p:nvCxnSpPr>
            <p:spPr>
              <a:xfrm flipH="1" flipV="1" rot="5400000">
                <a:off x="3406320" y="2275920"/>
                <a:ext cx="1734480" cy="4851720"/>
              </a:xfrm>
              <a:prstGeom prst="bentConnector2">
                <a:avLst/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4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959360" y="2130480"/>
            <a:ext cx="873000" cy="1785600"/>
            <a:chOff x="4959360" y="2130480"/>
            <a:chExt cx="873000" cy="1785600"/>
          </a:xfrm>
        </p:grpSpPr>
        <p:cxnSp>
          <p:nvCxnSpPr>
            <p:cNvPr id="243" name=""/>
            <p:cNvCxnSpPr>
              <a:stCxn id="56" idx="2"/>
              <a:endCxn id="167" idx="2"/>
            </p:cNvCxnSpPr>
            <p:nvPr/>
          </p:nvCxnSpPr>
          <p:spPr>
            <a:xfrm flipV="1" rot="16200000">
              <a:off x="4658400" y="2510280"/>
              <a:ext cx="1554480" cy="794160"/>
            </a:xfrm>
            <a:prstGeom prst="bentConnector3">
              <a:avLst>
                <a:gd name="adj1" fmla="val -1489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44280" y="2046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2590920"/>
            <a:ext cx="4343400" cy="2209680"/>
          </a:xfrm>
          <a:prstGeom prst="wedgeEllipseCallout">
            <a:avLst>
              <a:gd name="adj1" fmla="val 65458"/>
              <a:gd name="adj2" fmla="val -7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aginons que l’instruction que nous venons de charger est  IADD 0x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1473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858000" y="2438280"/>
            <a:ext cx="914400" cy="533520"/>
            <a:chOff x="6858000" y="2438280"/>
            <a:chExt cx="914400" cy="533520"/>
          </a:xfrm>
        </p:grpSpPr>
        <p:sp>
          <p:nvSpPr>
            <p:cNvPr id="1476" name=""/>
            <p:cNvSpPr/>
            <p:nvPr/>
          </p:nvSpPr>
          <p:spPr>
            <a:xfrm>
              <a:off x="68580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3152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H=TOS ; Goto iadd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50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50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06" name=""/>
              <p:cNvCxnSpPr>
                <a:stCxn id="1504" idx="0"/>
                <a:endCxn id="150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150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50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50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2" name=""/>
            <p:cNvCxnSpPr>
              <a:stCxn id="1510" idx="0"/>
              <a:endCxn id="151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51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51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8" name=""/>
            <p:cNvCxnSpPr>
              <a:stCxn id="1516" idx="0"/>
              <a:endCxn id="151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52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52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4" name=""/>
            <p:cNvCxnSpPr>
              <a:stCxn id="1522" idx="0"/>
              <a:endCxn id="152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52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52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28" idx="0"/>
              <a:endCxn id="152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53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6" name=""/>
            <p:cNvCxnSpPr>
              <a:stCxn id="1534" idx="0"/>
              <a:endCxn id="153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53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2" name=""/>
            <p:cNvCxnSpPr>
              <a:stCxn id="1540" idx="0"/>
              <a:endCxn id="154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4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4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8" name=""/>
            <p:cNvCxnSpPr>
              <a:stCxn id="1546" idx="0"/>
              <a:endCxn id="154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5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5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5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55" name=""/>
              <p:cNvCxnSpPr>
                <a:stCxn id="1554" idx="0"/>
                <a:endCxn id="155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5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5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8" name=""/>
            <p:cNvCxnSpPr>
              <a:stCxn id="1495" idx="2"/>
              <a:endCxn id="148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5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56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9" name=""/>
            <p:cNvCxnSpPr>
              <a:stCxn id="1568" idx="0"/>
              <a:endCxn id="156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57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3" name=""/>
            <p:cNvCxnSpPr>
              <a:stCxn id="1572" idx="0"/>
              <a:endCxn id="157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57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7" name=""/>
            <p:cNvCxnSpPr>
              <a:stCxn id="1576" idx="0"/>
              <a:endCxn id="157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57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1" name=""/>
            <p:cNvCxnSpPr>
              <a:stCxn id="1580" idx="0"/>
              <a:endCxn id="157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8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5" name=""/>
            <p:cNvCxnSpPr>
              <a:stCxn id="1584" idx="0"/>
              <a:endCxn id="158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8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9" name=""/>
            <p:cNvCxnSpPr>
              <a:stCxn id="1588" idx="0"/>
              <a:endCxn id="158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9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3" name=""/>
            <p:cNvCxnSpPr>
              <a:stCxn id="1592" idx="0"/>
              <a:endCxn id="159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59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7" name=""/>
            <p:cNvCxnSpPr>
              <a:stCxn id="1596" idx="0"/>
              <a:endCxn id="159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59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59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1" name=""/>
            <p:cNvCxnSpPr>
              <a:stCxn id="1600" idx="0"/>
              <a:endCxn id="159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0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61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61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2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62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62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4" name=""/>
              <p:cNvCxnSpPr>
                <a:stCxn id="1623" idx="0"/>
                <a:endCxn id="160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2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6" name=""/>
          <p:cNvCxnSpPr>
            <a:stCxn id="1498" idx="0"/>
            <a:endCxn id="160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628" name=""/>
            <p:cNvCxnSpPr>
              <a:stCxn id="1629" idx="0"/>
              <a:endCxn id="160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3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63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5" name=""/>
          <p:cNvCxnSpPr>
            <a:stCxn id="1603" idx="0"/>
            <a:endCxn id="163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63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48" name=""/>
            <p:cNvCxnSpPr>
              <a:stCxn id="1500" idx="2"/>
              <a:endCxn id="149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4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52" name=""/>
            <p:cNvCxnSpPr>
              <a:stCxn id="1615" idx="3"/>
              <a:endCxn id="160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5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56" name=""/>
            <p:cNvCxnSpPr>
              <a:stCxn id="1633" idx="0"/>
              <a:endCxn id="160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60" name=""/>
            <p:cNvCxnSpPr>
              <a:stCxn id="1494" idx="2"/>
              <a:endCxn id="149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6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6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6" name=""/>
              <p:cNvCxnSpPr>
                <a:stCxn id="1665" idx="0"/>
                <a:endCxn id="166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67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67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74" name=""/>
              <p:cNvCxnSpPr>
                <a:stCxn id="1673" idx="0"/>
                <a:endCxn id="167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67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678" name=""/>
            <p:cNvCxnSpPr>
              <a:stCxn id="1492" idx="2"/>
              <a:endCxn id="160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69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69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394320" y="2046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H=TOS ; Goto iadd3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711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3" name=""/>
          <p:cNvSpPr/>
          <p:nvPr/>
        </p:nvSpPr>
        <p:spPr>
          <a:xfrm>
            <a:off x="304920" y="1828800"/>
            <a:ext cx="166824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44480" y="1523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9810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250360" y="2514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200400" y="1752480"/>
            <a:ext cx="174456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91800" y="144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95288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095080" y="2590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5943600" y="1386000"/>
            <a:ext cx="3048120" cy="3109680"/>
            <a:chOff x="5943600" y="1386000"/>
            <a:chExt cx="3048120" cy="3109680"/>
          </a:xfrm>
        </p:grpSpPr>
        <p:sp>
          <p:nvSpPr>
            <p:cNvPr id="1722" name=""/>
            <p:cNvSpPr/>
            <p:nvPr/>
          </p:nvSpPr>
          <p:spPr>
            <a:xfrm>
              <a:off x="5943600" y="1676520"/>
              <a:ext cx="1744560" cy="28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447600" y="1386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696080" y="30481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838280" y="25909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7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750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752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54" name=""/>
              <p:cNvCxnSpPr>
                <a:stCxn id="1752" idx="0"/>
                <a:endCxn id="1753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55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756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757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9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0" name=""/>
            <p:cNvCxnSpPr>
              <a:stCxn id="1758" idx="0"/>
              <a:endCxn id="1759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1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762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763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6" name=""/>
            <p:cNvCxnSpPr>
              <a:stCxn id="1764" idx="0"/>
              <a:endCxn id="1765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7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768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769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2" name=""/>
            <p:cNvCxnSpPr>
              <a:stCxn id="1770" idx="0"/>
              <a:endCxn id="1771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3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774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775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7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8" name=""/>
            <p:cNvCxnSpPr>
              <a:stCxn id="1776" idx="0"/>
              <a:endCxn id="1777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79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780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781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4" name=""/>
            <p:cNvCxnSpPr>
              <a:stCxn id="1782" idx="0"/>
              <a:endCxn id="1783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5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786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787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0" name=""/>
            <p:cNvCxnSpPr>
              <a:stCxn id="1788" idx="0"/>
              <a:endCxn id="1789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1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792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793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6" name=""/>
            <p:cNvCxnSpPr>
              <a:stCxn id="1794" idx="0"/>
              <a:endCxn id="1795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7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798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9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801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803" name=""/>
              <p:cNvCxnSpPr>
                <a:stCxn id="1802" idx="0"/>
                <a:endCxn id="1798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804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805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6" name=""/>
            <p:cNvCxnSpPr>
              <a:stCxn id="1743" idx="2"/>
              <a:endCxn id="1728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7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815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7" name=""/>
            <p:cNvCxnSpPr>
              <a:stCxn id="1816" idx="0"/>
              <a:endCxn id="1815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8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819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1" name=""/>
            <p:cNvCxnSpPr>
              <a:stCxn id="1820" idx="0"/>
              <a:endCxn id="1819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2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823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5" name=""/>
            <p:cNvCxnSpPr>
              <a:stCxn id="1824" idx="0"/>
              <a:endCxn id="1823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6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827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9" name=""/>
            <p:cNvCxnSpPr>
              <a:stCxn id="1828" idx="0"/>
              <a:endCxn id="1827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30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831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3" name=""/>
            <p:cNvCxnSpPr>
              <a:stCxn id="1832" idx="0"/>
              <a:endCxn id="1831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34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835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7" name=""/>
            <p:cNvCxnSpPr>
              <a:stCxn id="1836" idx="0"/>
              <a:endCxn id="1835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38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839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1" name=""/>
            <p:cNvCxnSpPr>
              <a:stCxn id="1840" idx="0"/>
              <a:endCxn id="1839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42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843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5" name=""/>
            <p:cNvCxnSpPr>
              <a:stCxn id="1844" idx="0"/>
              <a:endCxn id="1843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46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847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9" name=""/>
            <p:cNvCxnSpPr>
              <a:stCxn id="1848" idx="0"/>
              <a:endCxn id="1847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850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65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66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67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8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870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871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2" name=""/>
              <p:cNvCxnSpPr>
                <a:stCxn id="1871" idx="0"/>
                <a:endCxn id="1853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73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4" name=""/>
          <p:cNvCxnSpPr>
            <a:stCxn id="1746" idx="0"/>
            <a:endCxn id="1855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5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876" name=""/>
            <p:cNvCxnSpPr>
              <a:stCxn id="1877" idx="0"/>
              <a:endCxn id="1851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78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879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1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3" name=""/>
          <p:cNvCxnSpPr>
            <a:stCxn id="1851" idx="0"/>
            <a:endCxn id="188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896" name=""/>
            <p:cNvCxnSpPr>
              <a:stCxn id="1748" idx="2"/>
              <a:endCxn id="1744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9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900" name=""/>
            <p:cNvCxnSpPr>
              <a:stCxn id="1863" idx="3"/>
              <a:endCxn id="1850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904" name=""/>
            <p:cNvCxnSpPr>
              <a:stCxn id="1881" idx="0"/>
              <a:endCxn id="1851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908" name=""/>
            <p:cNvCxnSpPr>
              <a:stCxn id="1742" idx="2"/>
              <a:endCxn id="1746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91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91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14" name=""/>
              <p:cNvCxnSpPr>
                <a:stCxn id="1913" idx="0"/>
                <a:endCxn id="191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91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91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92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22" name=""/>
              <p:cNvCxnSpPr>
                <a:stCxn id="1921" idx="0"/>
                <a:endCxn id="192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2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926" name=""/>
            <p:cNvCxnSpPr>
              <a:stCxn id="1740" idx="2"/>
              <a:endCxn id="1851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938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9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940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057400" y="1143000"/>
            <a:ext cx="114300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124080" y="1371600"/>
            <a:ext cx="457200" cy="4191120"/>
          </a:xfrm>
          <a:prstGeom prst="downArrow">
            <a:avLst>
              <a:gd name="adj1" fmla="val 45454"/>
              <a:gd name="adj2" fmla="val 7639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523880" y="1447920"/>
            <a:ext cx="457200" cy="4038480"/>
          </a:xfrm>
          <a:prstGeom prst="upArrow">
            <a:avLst>
              <a:gd name="adj1" fmla="val 43231"/>
              <a:gd name="adj2" fmla="val 883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905120" y="4267080"/>
            <a:ext cx="380880" cy="1219320"/>
          </a:xfrm>
          <a:prstGeom prst="upArrow">
            <a:avLst>
              <a:gd name="adj1" fmla="val 49481"/>
              <a:gd name="adj2" fmla="val 4342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981080" y="4572000"/>
            <a:ext cx="114300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362320" y="51055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752480" y="5562720"/>
            <a:ext cx="1981440" cy="68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DR+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5791320" y="2438280"/>
            <a:ext cx="1752480" cy="457200"/>
            <a:chOff x="5791320" y="2438280"/>
            <a:chExt cx="1752480" cy="457200"/>
          </a:xfrm>
        </p:grpSpPr>
        <p:sp>
          <p:nvSpPr>
            <p:cNvPr id="1964" name=""/>
            <p:cNvSpPr/>
            <p:nvPr/>
          </p:nvSpPr>
          <p:spPr>
            <a:xfrm>
              <a:off x="5791320" y="2438280"/>
              <a:ext cx="3427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13728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40080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6746760" y="2653920"/>
              <a:ext cx="203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99444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34076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>
            <a:off x="3657600" y="2666880"/>
            <a:ext cx="4876920" cy="1752840"/>
          </a:xfrm>
          <a:prstGeom prst="wedgeEllipseCallout">
            <a:avLst>
              <a:gd name="adj1" fmla="val -63898"/>
              <a:gd name="adj2" fmla="val -121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valeur de l’adresse mémoire 0x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DR=TOS=MDR+H ;Wr ;Goto Main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99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99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99" name=""/>
              <p:cNvCxnSpPr>
                <a:stCxn id="1997" idx="0"/>
                <a:endCxn id="199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00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00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00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5" name=""/>
            <p:cNvCxnSpPr>
              <a:stCxn id="2003" idx="0"/>
              <a:endCxn id="200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00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1" name=""/>
            <p:cNvCxnSpPr>
              <a:stCxn id="2009" idx="0"/>
              <a:endCxn id="201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01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01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7" name=""/>
            <p:cNvCxnSpPr>
              <a:stCxn id="2015" idx="0"/>
              <a:endCxn id="201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01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02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3" name=""/>
            <p:cNvCxnSpPr>
              <a:stCxn id="2021" idx="0"/>
              <a:endCxn id="202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2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02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9" name=""/>
            <p:cNvCxnSpPr>
              <a:stCxn id="2027" idx="0"/>
              <a:endCxn id="202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3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03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03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5" name=""/>
            <p:cNvCxnSpPr>
              <a:stCxn id="2033" idx="0"/>
              <a:endCxn id="203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3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03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03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1" name=""/>
            <p:cNvCxnSpPr>
              <a:stCxn id="2039" idx="0"/>
              <a:endCxn id="204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04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04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04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048" name=""/>
              <p:cNvCxnSpPr>
                <a:stCxn id="2047" idx="0"/>
                <a:endCxn id="204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04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05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1" name=""/>
            <p:cNvCxnSpPr>
              <a:stCxn id="1988" idx="2"/>
              <a:endCxn id="197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5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06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2" name=""/>
            <p:cNvCxnSpPr>
              <a:stCxn id="2061" idx="0"/>
              <a:endCxn id="206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06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6" name=""/>
            <p:cNvCxnSpPr>
              <a:stCxn id="2065" idx="0"/>
              <a:endCxn id="206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06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0" name=""/>
            <p:cNvCxnSpPr>
              <a:stCxn id="2069" idx="0"/>
              <a:endCxn id="206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7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07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4" name=""/>
            <p:cNvCxnSpPr>
              <a:stCxn id="2073" idx="0"/>
              <a:endCxn id="207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7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07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8" name=""/>
            <p:cNvCxnSpPr>
              <a:stCxn id="2077" idx="0"/>
              <a:endCxn id="207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7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08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2" name=""/>
            <p:cNvCxnSpPr>
              <a:stCxn id="2081" idx="0"/>
              <a:endCxn id="208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8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08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6" name=""/>
            <p:cNvCxnSpPr>
              <a:stCxn id="2085" idx="0"/>
              <a:endCxn id="208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8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08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0" name=""/>
            <p:cNvCxnSpPr>
              <a:stCxn id="2089" idx="0"/>
              <a:endCxn id="208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9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09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4" name=""/>
            <p:cNvCxnSpPr>
              <a:stCxn id="2093" idx="0"/>
              <a:endCxn id="209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09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11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11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1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11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11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17" name=""/>
              <p:cNvCxnSpPr>
                <a:stCxn id="2116" idx="0"/>
                <a:endCxn id="209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9" name=""/>
          <p:cNvCxnSpPr>
            <a:stCxn id="1991" idx="0"/>
            <a:endCxn id="210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2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121" name=""/>
            <p:cNvCxnSpPr>
              <a:stCxn id="2122" idx="0"/>
              <a:endCxn id="209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12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12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8" name=""/>
          <p:cNvCxnSpPr>
            <a:stCxn id="2096" idx="0"/>
            <a:endCxn id="212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41" name=""/>
            <p:cNvCxnSpPr>
              <a:stCxn id="1993" idx="2"/>
              <a:endCxn id="198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145" name=""/>
            <p:cNvCxnSpPr>
              <a:stCxn id="2108" idx="3"/>
              <a:endCxn id="209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149" name=""/>
            <p:cNvCxnSpPr>
              <a:stCxn id="2126" idx="0"/>
              <a:endCxn id="209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153" name=""/>
            <p:cNvCxnSpPr>
              <a:stCxn id="1987" idx="2"/>
              <a:endCxn id="199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15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9" name=""/>
              <p:cNvCxnSpPr>
                <a:stCxn id="2158" idx="0"/>
                <a:endCxn id="216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16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16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16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67" name=""/>
              <p:cNvCxnSpPr>
                <a:stCxn id="2166" idx="0"/>
                <a:endCxn id="216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171" name=""/>
            <p:cNvCxnSpPr>
              <a:stCxn id="1985" idx="2"/>
              <a:endCxn id="209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183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185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5791320" y="2438280"/>
            <a:ext cx="1752480" cy="457200"/>
            <a:chOff x="5791320" y="2438280"/>
            <a:chExt cx="1752480" cy="457200"/>
          </a:xfrm>
        </p:grpSpPr>
        <p:sp>
          <p:nvSpPr>
            <p:cNvPr id="2202" name=""/>
            <p:cNvSpPr/>
            <p:nvPr/>
          </p:nvSpPr>
          <p:spPr>
            <a:xfrm>
              <a:off x="5791320" y="2438280"/>
              <a:ext cx="3427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613728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40080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6746760" y="2653920"/>
              <a:ext cx="203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99444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734076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DR=TOS=MDR+H ;Wr ;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23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23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36" name=""/>
              <p:cNvCxnSpPr>
                <a:stCxn id="2234" idx="0"/>
                <a:endCxn id="223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3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23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23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2" name=""/>
            <p:cNvCxnSpPr>
              <a:stCxn id="2240" idx="0"/>
              <a:endCxn id="224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24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24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8" name=""/>
            <p:cNvCxnSpPr>
              <a:stCxn id="2246" idx="0"/>
              <a:endCxn id="224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24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25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25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4" name=""/>
            <p:cNvCxnSpPr>
              <a:stCxn id="2252" idx="0"/>
              <a:endCxn id="225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25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25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0" name=""/>
            <p:cNvCxnSpPr>
              <a:stCxn id="2258" idx="0"/>
              <a:endCxn id="225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6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26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26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6" name=""/>
            <p:cNvCxnSpPr>
              <a:stCxn id="2264" idx="0"/>
              <a:endCxn id="226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6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26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26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2" name=""/>
            <p:cNvCxnSpPr>
              <a:stCxn id="2270" idx="0"/>
              <a:endCxn id="227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7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27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27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8" name=""/>
            <p:cNvCxnSpPr>
              <a:stCxn id="2276" idx="0"/>
              <a:endCxn id="227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27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28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28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28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285" name=""/>
              <p:cNvCxnSpPr>
                <a:stCxn id="2284" idx="0"/>
                <a:endCxn id="228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8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28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8" name=""/>
            <p:cNvCxnSpPr>
              <a:stCxn id="2225" idx="2"/>
              <a:endCxn id="221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228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29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9" name=""/>
            <p:cNvCxnSpPr>
              <a:stCxn id="2298" idx="0"/>
              <a:endCxn id="229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30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30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3" name=""/>
            <p:cNvCxnSpPr>
              <a:stCxn id="2302" idx="0"/>
              <a:endCxn id="230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0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30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7" name=""/>
            <p:cNvCxnSpPr>
              <a:stCxn id="2306" idx="0"/>
              <a:endCxn id="230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0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30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1" name=""/>
            <p:cNvCxnSpPr>
              <a:stCxn id="2310" idx="0"/>
              <a:endCxn id="230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1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31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5" name=""/>
            <p:cNvCxnSpPr>
              <a:stCxn id="2314" idx="0"/>
              <a:endCxn id="231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1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31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9" name=""/>
            <p:cNvCxnSpPr>
              <a:stCxn id="2318" idx="0"/>
              <a:endCxn id="231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2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32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3" name=""/>
            <p:cNvCxnSpPr>
              <a:stCxn id="2322" idx="0"/>
              <a:endCxn id="232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2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32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7" name=""/>
            <p:cNvCxnSpPr>
              <a:stCxn id="2326" idx="0"/>
              <a:endCxn id="232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2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32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1" name=""/>
            <p:cNvCxnSpPr>
              <a:stCxn id="2330" idx="0"/>
              <a:endCxn id="232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33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34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34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5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35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35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54" name=""/>
              <p:cNvCxnSpPr>
                <a:stCxn id="2353" idx="0"/>
                <a:endCxn id="233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5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56" name=""/>
          <p:cNvCxnSpPr>
            <a:stCxn id="2228" idx="0"/>
            <a:endCxn id="233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5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358" name=""/>
            <p:cNvCxnSpPr>
              <a:stCxn id="2359" idx="0"/>
              <a:endCxn id="233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6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36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5" name=""/>
          <p:cNvCxnSpPr>
            <a:stCxn id="2333" idx="0"/>
            <a:endCxn id="236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6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378" name=""/>
            <p:cNvCxnSpPr>
              <a:stCxn id="2230" idx="2"/>
              <a:endCxn id="222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7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382" name=""/>
            <p:cNvCxnSpPr>
              <a:stCxn id="2345" idx="3"/>
              <a:endCxn id="233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38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386" name=""/>
            <p:cNvCxnSpPr>
              <a:stCxn id="2363" idx="0"/>
              <a:endCxn id="233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90" name=""/>
            <p:cNvCxnSpPr>
              <a:stCxn id="2224" idx="2"/>
              <a:endCxn id="222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9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9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96" name=""/>
              <p:cNvCxnSpPr>
                <a:stCxn id="2395" idx="0"/>
                <a:endCxn id="239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9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40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40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04" name=""/>
              <p:cNvCxnSpPr>
                <a:stCxn id="2403" idx="0"/>
                <a:endCxn id="240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40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408" name=""/>
            <p:cNvCxnSpPr>
              <a:stCxn id="2222" idx="2"/>
              <a:endCxn id="233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40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42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42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5791320" y="2438280"/>
            <a:ext cx="1752480" cy="457200"/>
            <a:chOff x="5791320" y="2438280"/>
            <a:chExt cx="1752480" cy="457200"/>
          </a:xfrm>
        </p:grpSpPr>
        <p:sp>
          <p:nvSpPr>
            <p:cNvPr id="2439" name=""/>
            <p:cNvSpPr/>
            <p:nvPr/>
          </p:nvSpPr>
          <p:spPr>
            <a:xfrm>
              <a:off x="5791320" y="2438280"/>
              <a:ext cx="34272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613728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40080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6746760" y="2653920"/>
              <a:ext cx="203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994440" y="2438280"/>
              <a:ext cx="3430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7340760" y="2653920"/>
              <a:ext cx="2030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MDR=TOS=MDR+H ;Wr ;Goto Main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47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9" name=""/>
          <p:cNvSpPr/>
          <p:nvPr/>
        </p:nvSpPr>
        <p:spPr>
          <a:xfrm>
            <a:off x="304920" y="1828800"/>
            <a:ext cx="121896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09480" y="1523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831320" y="2514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666880" y="1752480"/>
            <a:ext cx="114300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839320" y="1441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041000" y="243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105520" y="1752480"/>
            <a:ext cx="1143000" cy="281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228280" y="144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447600" y="252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8" name=""/>
          <p:cNvCxnSpPr>
            <a:stCxn id="2449" idx="6"/>
            <a:endCxn id="2452" idx="2"/>
          </p:cNvCxnSpPr>
          <p:nvPr/>
        </p:nvCxnSpPr>
        <p:spPr>
          <a:xfrm>
            <a:off x="1523520" y="316188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9" name=""/>
          <p:cNvCxnSpPr>
            <a:stCxn id="2452" idx="6"/>
            <a:endCxn id="2455" idx="2"/>
          </p:cNvCxnSpPr>
          <p:nvPr/>
        </p:nvCxnSpPr>
        <p:spPr>
          <a:xfrm>
            <a:off x="3809520" y="31618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60" name=""/>
          <p:cNvGrpSpPr/>
          <p:nvPr/>
        </p:nvGrpSpPr>
        <p:grpSpPr>
          <a:xfrm>
            <a:off x="7315200" y="1447920"/>
            <a:ext cx="1143000" cy="3124080"/>
            <a:chOff x="7315200" y="1447920"/>
            <a:chExt cx="1143000" cy="3124080"/>
          </a:xfrm>
        </p:grpSpPr>
        <p:sp>
          <p:nvSpPr>
            <p:cNvPr id="2461" name=""/>
            <p:cNvSpPr/>
            <p:nvPr/>
          </p:nvSpPr>
          <p:spPr>
            <a:xfrm>
              <a:off x="7315200" y="1752480"/>
              <a:ext cx="1143000" cy="28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470000" y="14479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63" name=""/>
          <p:cNvCxnSpPr>
            <a:stCxn id="2455" idx="6"/>
            <a:endCxn id="2461" idx="2"/>
          </p:cNvCxnSpPr>
          <p:nvPr/>
        </p:nvCxnSpPr>
        <p:spPr>
          <a:xfrm>
            <a:off x="6248160" y="316188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4" name=""/>
          <p:cNvCxnSpPr>
            <a:stCxn id="2461" idx="6"/>
            <a:endCxn id="2449" idx="2"/>
          </p:cNvCxnSpPr>
          <p:nvPr/>
        </p:nvCxnSpPr>
        <p:spPr>
          <a:xfrm flipH="1">
            <a:off x="304560" y="3161880"/>
            <a:ext cx="8154000" cy="2520"/>
          </a:xfrm>
          <a:prstGeom prst="bentConnector5">
            <a:avLst>
              <a:gd name="adj1" fmla="val -2803"/>
              <a:gd name="adj2" fmla="val -117300000"/>
              <a:gd name="adj3" fmla="val 102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48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49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93" name=""/>
              <p:cNvCxnSpPr>
                <a:stCxn id="2491" idx="0"/>
                <a:endCxn id="249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9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49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49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9" name=""/>
            <p:cNvCxnSpPr>
              <a:stCxn id="2497" idx="0"/>
              <a:endCxn id="249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50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50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5" name=""/>
            <p:cNvCxnSpPr>
              <a:stCxn id="2503" idx="0"/>
              <a:endCxn id="250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50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50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1" name=""/>
            <p:cNvCxnSpPr>
              <a:stCxn id="2509" idx="0"/>
              <a:endCxn id="251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51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51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7" name=""/>
            <p:cNvCxnSpPr>
              <a:stCxn id="2515" idx="0"/>
              <a:endCxn id="251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51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52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3" name=""/>
            <p:cNvCxnSpPr>
              <a:stCxn id="2521" idx="0"/>
              <a:endCxn id="252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2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52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52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9" name=""/>
            <p:cNvCxnSpPr>
              <a:stCxn id="2527" idx="0"/>
              <a:endCxn id="252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3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53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53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35" name=""/>
            <p:cNvCxnSpPr>
              <a:stCxn id="2533" idx="0"/>
              <a:endCxn id="253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3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53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54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542" name=""/>
              <p:cNvCxnSpPr>
                <a:stCxn id="2541" idx="0"/>
                <a:endCxn id="253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54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54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5" name=""/>
            <p:cNvCxnSpPr>
              <a:stCxn id="2482" idx="2"/>
              <a:endCxn id="246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4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55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6" name=""/>
            <p:cNvCxnSpPr>
              <a:stCxn id="2555" idx="0"/>
              <a:endCxn id="255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5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55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0" name=""/>
            <p:cNvCxnSpPr>
              <a:stCxn id="2559" idx="0"/>
              <a:endCxn id="255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56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4" name=""/>
            <p:cNvCxnSpPr>
              <a:stCxn id="2563" idx="0"/>
              <a:endCxn id="256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56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8" name=""/>
            <p:cNvCxnSpPr>
              <a:stCxn id="2567" idx="0"/>
              <a:endCxn id="256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6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57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2" name=""/>
            <p:cNvCxnSpPr>
              <a:stCxn id="2571" idx="0"/>
              <a:endCxn id="257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7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57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6" name=""/>
            <p:cNvCxnSpPr>
              <a:stCxn id="2575" idx="0"/>
              <a:endCxn id="257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7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57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0" name=""/>
            <p:cNvCxnSpPr>
              <a:stCxn id="2579" idx="0"/>
              <a:endCxn id="257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8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58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4" name=""/>
            <p:cNvCxnSpPr>
              <a:stCxn id="2583" idx="0"/>
              <a:endCxn id="258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8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58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8" name=""/>
            <p:cNvCxnSpPr>
              <a:stCxn id="2587" idx="0"/>
              <a:endCxn id="258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58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60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60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60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60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61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1" name=""/>
              <p:cNvCxnSpPr>
                <a:stCxn id="2610" idx="0"/>
                <a:endCxn id="259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61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3" name=""/>
          <p:cNvCxnSpPr>
            <a:stCxn id="2485" idx="0"/>
            <a:endCxn id="259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1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615" name=""/>
            <p:cNvCxnSpPr>
              <a:stCxn id="2616" idx="0"/>
              <a:endCxn id="259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1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61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2" name=""/>
          <p:cNvCxnSpPr>
            <a:stCxn id="2590" idx="0"/>
            <a:endCxn id="262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635" name=""/>
            <p:cNvCxnSpPr>
              <a:stCxn id="2487" idx="2"/>
              <a:endCxn id="248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639" name=""/>
            <p:cNvCxnSpPr>
              <a:stCxn id="2602" idx="3"/>
              <a:endCxn id="258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643" name=""/>
            <p:cNvCxnSpPr>
              <a:stCxn id="2620" idx="0"/>
              <a:endCxn id="259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647" name=""/>
            <p:cNvCxnSpPr>
              <a:stCxn id="2481" idx="2"/>
              <a:endCxn id="248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65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65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53" name=""/>
              <p:cNvCxnSpPr>
                <a:stCxn id="2652" idx="0"/>
                <a:endCxn id="265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5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65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65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61" name=""/>
              <p:cNvCxnSpPr>
                <a:stCxn id="2660" idx="0"/>
                <a:endCxn id="265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66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665" name=""/>
            <p:cNvCxnSpPr>
              <a:stCxn id="2479" idx="2"/>
              <a:endCxn id="259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6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2677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8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2679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2" name=""/>
          <p:cNvCxnSpPr>
            <a:stCxn id="2701" idx="6"/>
            <a:endCxn id="2695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ent faire un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Mettre à jour « SP »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Prendre en mémoire les éléments à additionn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éplacer une donnée dans le registre 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Additionner les deux valeu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Mettre à jour la tête de la pile  « TOS » et la mémoir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276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0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0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6" name=""/>
              <p:cNvCxnSpPr>
                <a:stCxn id="304" idx="0"/>
                <a:endCxn id="30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0" idx="0"/>
              <a:endCxn id="31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1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6" idx="0"/>
              <a:endCxn id="31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2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2" idx="0"/>
              <a:endCxn id="32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8" idx="0"/>
              <a:endCxn id="32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3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>
              <a:stCxn id="334" idx="0"/>
              <a:endCxn id="33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40" idx="0"/>
              <a:endCxn id="34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4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8" name=""/>
            <p:cNvCxnSpPr>
              <a:stCxn id="346" idx="0"/>
              <a:endCxn id="34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5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5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5" name=""/>
              <p:cNvCxnSpPr>
                <a:stCxn id="354" idx="0"/>
                <a:endCxn id="35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295" idx="2"/>
              <a:endCxn id="28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0"/>
              <a:endCxn id="36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7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0"/>
              <a:endCxn id="37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7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0"/>
              <a:endCxn id="37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80" idx="0"/>
              <a:endCxn id="37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8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0"/>
              <a:endCxn id="38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8" idx="0"/>
              <a:endCxn id="38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9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stCxn id="392" idx="0"/>
              <a:endCxn id="39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9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7" name=""/>
            <p:cNvCxnSpPr>
              <a:stCxn id="396" idx="0"/>
              <a:endCxn id="39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" name=""/>
            <p:cNvCxnSpPr>
              <a:stCxn id="400" idx="0"/>
              <a:endCxn id="39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0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2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2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4" name=""/>
              <p:cNvCxnSpPr>
                <a:stCxn id="423" idx="0"/>
                <a:endCxn id="40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6" name=""/>
          <p:cNvCxnSpPr>
            <a:stCxn id="298" idx="0"/>
            <a:endCxn id="40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8" name=""/>
            <p:cNvCxnSpPr>
              <a:stCxn id="429" idx="0"/>
              <a:endCxn id="40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3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03" idx="0"/>
            <a:endCxn id="43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8" name=""/>
            <p:cNvCxnSpPr>
              <a:stCxn id="300" idx="2"/>
              <a:endCxn id="29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52" name=""/>
            <p:cNvCxnSpPr>
              <a:stCxn id="415" idx="3"/>
              <a:endCxn id="40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6" name=""/>
            <p:cNvCxnSpPr>
              <a:stCxn id="433" idx="0"/>
              <a:endCxn id="40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60" name=""/>
            <p:cNvCxnSpPr>
              <a:stCxn id="294" idx="2"/>
              <a:endCxn id="29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6" name=""/>
              <p:cNvCxnSpPr>
                <a:stCxn id="465" idx="0"/>
                <a:endCxn id="46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7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7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4" name=""/>
              <p:cNvCxnSpPr>
                <a:stCxn id="473" idx="0"/>
                <a:endCxn id="47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7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8" name=""/>
            <p:cNvCxnSpPr>
              <a:stCxn id="292" idx="2"/>
              <a:endCxn id="40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49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94320" y="2046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514600"/>
            <a:ext cx="1066680" cy="4572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762120"/>
            <a:ext cx="4343400" cy="1752480"/>
          </a:xfrm>
          <a:prstGeom prst="wedgeEllipseCallout">
            <a:avLst>
              <a:gd name="adj1" fmla="val -54935"/>
              <a:gd name="adj2" fmla="val 60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écessaire d’obtenir l’avant dernier élément de la 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2666880"/>
            <a:ext cx="381240" cy="2667240"/>
          </a:xfrm>
          <a:prstGeom prst="downArrow">
            <a:avLst>
              <a:gd name="adj1" fmla="val 50463"/>
              <a:gd name="adj2" fmla="val 9363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38320" y="5410080"/>
            <a:ext cx="1523880" cy="4572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P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90640" y="1065960"/>
            <a:ext cx="457200" cy="4248360"/>
          </a:xfrm>
          <a:prstGeom prst="downArrow">
            <a:avLst>
              <a:gd name="adj1" fmla="val 42370"/>
              <a:gd name="adj2" fmla="val 9279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057400" y="2819520"/>
            <a:ext cx="457200" cy="2495520"/>
          </a:xfrm>
          <a:prstGeom prst="downArrow">
            <a:avLst>
              <a:gd name="adj1" fmla="val 42370"/>
              <a:gd name="adj2" fmla="val 5450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AR=SP=SP-1; Rd ; Goto iadd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3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4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3" name=""/>
              <p:cNvCxnSpPr>
                <a:stCxn id="541" idx="0"/>
                <a:endCxn id="54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4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4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4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47" idx="0"/>
              <a:endCxn id="54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5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5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5" name=""/>
            <p:cNvCxnSpPr>
              <a:stCxn id="553" idx="0"/>
              <a:endCxn id="55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5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"/>
            <p:cNvCxnSpPr>
              <a:stCxn id="559" idx="0"/>
              <a:endCxn id="56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6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"/>
            <p:cNvCxnSpPr>
              <a:stCxn id="565" idx="0"/>
              <a:endCxn id="56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6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7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3" name=""/>
            <p:cNvCxnSpPr>
              <a:stCxn id="571" idx="0"/>
              <a:endCxn id="57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7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7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7" idx="0"/>
              <a:endCxn id="57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8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8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5" name=""/>
            <p:cNvCxnSpPr>
              <a:stCxn id="583" idx="0"/>
              <a:endCxn id="58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8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9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92" name=""/>
              <p:cNvCxnSpPr>
                <a:stCxn id="591" idx="0"/>
                <a:endCxn id="58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9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9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>
              <a:stCxn id="532" idx="2"/>
              <a:endCxn id="51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9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0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6" name=""/>
            <p:cNvCxnSpPr>
              <a:stCxn id="605" idx="0"/>
              <a:endCxn id="60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0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9" idx="0"/>
              <a:endCxn id="60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1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13" idx="0"/>
              <a:endCxn id="61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1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" name=""/>
            <p:cNvCxnSpPr>
              <a:stCxn id="617" idx="0"/>
              <a:endCxn id="61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2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" name=""/>
            <p:cNvCxnSpPr>
              <a:stCxn id="621" idx="0"/>
              <a:endCxn id="62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2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"/>
            <p:cNvCxnSpPr>
              <a:stCxn id="625" idx="0"/>
              <a:endCxn id="62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2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0" name=""/>
            <p:cNvCxnSpPr>
              <a:stCxn id="629" idx="0"/>
              <a:endCxn id="62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3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4" name=""/>
            <p:cNvCxnSpPr>
              <a:stCxn id="633" idx="0"/>
              <a:endCxn id="63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3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" name=""/>
            <p:cNvCxnSpPr>
              <a:stCxn id="637" idx="0"/>
              <a:endCxn id="63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3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5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5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5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6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1" name=""/>
              <p:cNvCxnSpPr>
                <a:stCxn id="660" idx="0"/>
                <a:endCxn id="64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6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3" name=""/>
          <p:cNvCxnSpPr>
            <a:stCxn id="535" idx="0"/>
            <a:endCxn id="64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65" name=""/>
            <p:cNvCxnSpPr>
              <a:stCxn id="666" idx="0"/>
              <a:endCxn id="64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6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6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40" idx="0"/>
            <a:endCxn id="67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85" name=""/>
            <p:cNvCxnSpPr>
              <a:stCxn id="537" idx="2"/>
              <a:endCxn id="53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89" name=""/>
            <p:cNvCxnSpPr>
              <a:stCxn id="652" idx="3"/>
              <a:endCxn id="63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93" name=""/>
            <p:cNvCxnSpPr>
              <a:stCxn id="670" idx="0"/>
              <a:endCxn id="64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97" name=""/>
            <p:cNvCxnSpPr>
              <a:stCxn id="531" idx="2"/>
              <a:endCxn id="53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70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70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3" name=""/>
              <p:cNvCxnSpPr>
                <a:stCxn id="702" idx="0"/>
                <a:endCxn id="70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0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0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0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1" name=""/>
              <p:cNvCxnSpPr>
                <a:stCxn id="710" idx="0"/>
                <a:endCxn id="70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1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15" name=""/>
            <p:cNvCxnSpPr>
              <a:stCxn id="529" idx="2"/>
              <a:endCxn id="64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727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729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746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AR=SP=SP-1; Rd ; Goto iadd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7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7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6" name=""/>
              <p:cNvCxnSpPr>
                <a:stCxn id="774" idx="0"/>
                <a:endCxn id="77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7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7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"/>
            <p:cNvCxnSpPr>
              <a:stCxn id="780" idx="0"/>
              <a:endCxn id="78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8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8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8" name=""/>
            <p:cNvCxnSpPr>
              <a:stCxn id="786" idx="0"/>
              <a:endCxn id="78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79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79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4" name=""/>
            <p:cNvCxnSpPr>
              <a:stCxn id="792" idx="0"/>
              <a:endCxn id="79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79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79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0" name=""/>
            <p:cNvCxnSpPr>
              <a:stCxn id="798" idx="0"/>
              <a:endCxn id="79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0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80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4" idx="0"/>
              <a:endCxn id="80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0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2" name=""/>
            <p:cNvCxnSpPr>
              <a:stCxn id="810" idx="0"/>
              <a:endCxn id="81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1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1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16" idx="0"/>
              <a:endCxn id="81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2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2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25" name=""/>
              <p:cNvCxnSpPr>
                <a:stCxn id="824" idx="0"/>
                <a:endCxn id="82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82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2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8" name=""/>
            <p:cNvCxnSpPr>
              <a:stCxn id="765" idx="2"/>
              <a:endCxn id="75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82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3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9" name=""/>
            <p:cNvCxnSpPr>
              <a:stCxn id="838" idx="0"/>
              <a:endCxn id="83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4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3" name=""/>
            <p:cNvCxnSpPr>
              <a:stCxn id="842" idx="0"/>
              <a:endCxn id="84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4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7" name=""/>
            <p:cNvCxnSpPr>
              <a:stCxn id="846" idx="0"/>
              <a:endCxn id="84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4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4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50" idx="0"/>
              <a:endCxn id="84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5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5" name=""/>
            <p:cNvCxnSpPr>
              <a:stCxn id="854" idx="0"/>
              <a:endCxn id="85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5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9" name=""/>
            <p:cNvCxnSpPr>
              <a:stCxn id="858" idx="0"/>
              <a:endCxn id="85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6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3" name=""/>
            <p:cNvCxnSpPr>
              <a:stCxn id="862" idx="0"/>
              <a:endCxn id="86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6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7" name=""/>
            <p:cNvCxnSpPr>
              <a:stCxn id="866" idx="0"/>
              <a:endCxn id="86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6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1" name=""/>
            <p:cNvCxnSpPr>
              <a:stCxn id="870" idx="0"/>
              <a:endCxn id="86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7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8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88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9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89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89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4" name=""/>
              <p:cNvCxnSpPr>
                <a:stCxn id="893" idx="0"/>
                <a:endCxn id="87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9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768" idx="0"/>
            <a:endCxn id="87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898" name=""/>
            <p:cNvCxnSpPr>
              <a:stCxn id="899" idx="0"/>
              <a:endCxn id="87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0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90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873" idx="0"/>
            <a:endCxn id="90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0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18" name=""/>
            <p:cNvCxnSpPr>
              <a:stCxn id="770" idx="2"/>
              <a:endCxn id="76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22" name=""/>
            <p:cNvCxnSpPr>
              <a:stCxn id="885" idx="3"/>
              <a:endCxn id="87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2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26" name=""/>
            <p:cNvCxnSpPr>
              <a:stCxn id="903" idx="0"/>
              <a:endCxn id="87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30" name=""/>
            <p:cNvCxnSpPr>
              <a:stCxn id="764" idx="2"/>
              <a:endCxn id="76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3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3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6" name=""/>
              <p:cNvCxnSpPr>
                <a:stCxn id="935" idx="0"/>
                <a:endCxn id="93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3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4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4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4" name=""/>
              <p:cNvCxnSpPr>
                <a:stCxn id="943" idx="0"/>
                <a:endCxn id="94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4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48" name=""/>
            <p:cNvCxnSpPr>
              <a:stCxn id="762" idx="2"/>
              <a:endCxn id="87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4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96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96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979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MAR=SP=SP-1; Rd ; Goto iadd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5" name=""/>
          <p:cNvSpPr/>
          <p:nvPr/>
        </p:nvSpPr>
        <p:spPr>
          <a:xfrm>
            <a:off x="1295280" y="1523880"/>
            <a:ext cx="166860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34840" y="1219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718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41080" y="2209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191120" y="1143000"/>
            <a:ext cx="3047760" cy="3124080"/>
            <a:chOff x="4191120" y="1143000"/>
            <a:chExt cx="3047760" cy="3124080"/>
          </a:xfrm>
        </p:grpSpPr>
        <p:sp>
          <p:nvSpPr>
            <p:cNvPr id="990" name=""/>
            <p:cNvSpPr/>
            <p:nvPr/>
          </p:nvSpPr>
          <p:spPr>
            <a:xfrm>
              <a:off x="4191120" y="1447920"/>
              <a:ext cx="1744560" cy="28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82160" y="1143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2743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85800" y="2286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995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858000" y="2438280"/>
            <a:ext cx="914400" cy="533520"/>
            <a:chOff x="6858000" y="2438280"/>
            <a:chExt cx="914400" cy="533520"/>
          </a:xfrm>
        </p:grpSpPr>
        <p:sp>
          <p:nvSpPr>
            <p:cNvPr id="998" name=""/>
            <p:cNvSpPr/>
            <p:nvPr/>
          </p:nvSpPr>
          <p:spPr>
            <a:xfrm>
              <a:off x="68580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152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IADD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2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28" name=""/>
              <p:cNvCxnSpPr>
                <a:stCxn id="1026" idx="0"/>
                <a:endCxn id="102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2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3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4" name=""/>
            <p:cNvCxnSpPr>
              <a:stCxn id="1032" idx="0"/>
              <a:endCxn id="103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3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0" name=""/>
            <p:cNvCxnSpPr>
              <a:stCxn id="1038" idx="0"/>
              <a:endCxn id="103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4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4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6" name=""/>
            <p:cNvCxnSpPr>
              <a:stCxn id="1044" idx="0"/>
              <a:endCxn id="104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4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4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2" name=""/>
            <p:cNvCxnSpPr>
              <a:stCxn id="1050" idx="0"/>
              <a:endCxn id="105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5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5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8" name=""/>
            <p:cNvCxnSpPr>
              <a:stCxn id="1056" idx="0"/>
              <a:endCxn id="105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6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6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4" name=""/>
            <p:cNvCxnSpPr>
              <a:stCxn id="1062" idx="0"/>
              <a:endCxn id="106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6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0" name=""/>
            <p:cNvCxnSpPr>
              <a:stCxn id="1068" idx="0"/>
              <a:endCxn id="106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7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7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7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77" name=""/>
              <p:cNvCxnSpPr>
                <a:stCxn id="1076" idx="0"/>
                <a:endCxn id="107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7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7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0" name=""/>
            <p:cNvCxnSpPr>
              <a:stCxn id="1017" idx="2"/>
              <a:endCxn id="100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8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8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90" idx="0"/>
              <a:endCxn id="108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9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5" name=""/>
            <p:cNvCxnSpPr>
              <a:stCxn id="1094" idx="0"/>
              <a:endCxn id="109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9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098" idx="0"/>
              <a:endCxn id="109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10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3" name=""/>
            <p:cNvCxnSpPr>
              <a:stCxn id="1102" idx="0"/>
              <a:endCxn id="110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10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7" name=""/>
            <p:cNvCxnSpPr>
              <a:stCxn id="1106" idx="0"/>
              <a:endCxn id="110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10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1" name=""/>
            <p:cNvCxnSpPr>
              <a:stCxn id="1110" idx="0"/>
              <a:endCxn id="110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11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114" idx="0"/>
              <a:endCxn id="111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1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9" name=""/>
            <p:cNvCxnSpPr>
              <a:stCxn id="1118" idx="0"/>
              <a:endCxn id="111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2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2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3" name=""/>
            <p:cNvCxnSpPr>
              <a:stCxn id="1122" idx="0"/>
              <a:endCxn id="112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2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3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4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4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4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6" name=""/>
              <p:cNvCxnSpPr>
                <a:stCxn id="1145" idx="0"/>
                <a:endCxn id="112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8" name=""/>
          <p:cNvCxnSpPr>
            <a:stCxn id="1020" idx="0"/>
            <a:endCxn id="112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50" name=""/>
            <p:cNvCxnSpPr>
              <a:stCxn id="1151" idx="0"/>
              <a:endCxn id="112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5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5" idx="0"/>
            <a:endCxn id="115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70" name=""/>
            <p:cNvCxnSpPr>
              <a:stCxn id="1022" idx="2"/>
              <a:endCxn id="101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74" name=""/>
            <p:cNvCxnSpPr>
              <a:stCxn id="1137" idx="3"/>
              <a:endCxn id="112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78" name=""/>
            <p:cNvCxnSpPr>
              <a:stCxn id="1155" idx="0"/>
              <a:endCxn id="112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82" name=""/>
            <p:cNvCxnSpPr>
              <a:stCxn id="1016" idx="2"/>
              <a:endCxn id="102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8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8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8" name=""/>
              <p:cNvCxnSpPr>
                <a:stCxn id="1187" idx="0"/>
                <a:endCxn id="118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9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9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6" name=""/>
              <p:cNvCxnSpPr>
                <a:stCxn id="1195" idx="0"/>
                <a:endCxn id="119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9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200" name=""/>
            <p:cNvCxnSpPr>
              <a:stCxn id="1014" idx="2"/>
              <a:endCxn id="112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212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3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214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981080" y="3790800"/>
            <a:ext cx="1067040" cy="4572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124080" y="4038480"/>
            <a:ext cx="228600" cy="1276560"/>
          </a:xfrm>
          <a:prstGeom prst="downArrow">
            <a:avLst>
              <a:gd name="adj1" fmla="val 50463"/>
              <a:gd name="adj2" fmla="val 7474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209680" y="5410080"/>
            <a:ext cx="1524240" cy="4572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2114640" y="4915080"/>
            <a:ext cx="457200" cy="590400"/>
          </a:xfrm>
          <a:prstGeom prst="downArrow">
            <a:avLst>
              <a:gd name="adj1" fmla="val 34731"/>
              <a:gd name="adj2" fmla="val 4964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343400" y="533520"/>
            <a:ext cx="4191120" cy="1828800"/>
          </a:xfrm>
          <a:prstGeom prst="wedgeEllipseCallout">
            <a:avLst>
              <a:gd name="adj1" fmla="val -89699"/>
              <a:gd name="adj2" fmla="val 46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procha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09880" y="2743200"/>
            <a:ext cx="5029200" cy="1828800"/>
          </a:xfrm>
          <a:prstGeom prst="wedgeEllipseCallout">
            <a:avLst>
              <a:gd name="adj1" fmla="val -69699"/>
              <a:gd name="adj2" fmla="val 62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e opération binaire ne peut être effectuée qu’en utilisant le registr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5943600" y="2438280"/>
            <a:ext cx="914400" cy="533520"/>
            <a:chOff x="5943600" y="2438280"/>
            <a:chExt cx="914400" cy="533520"/>
          </a:xfrm>
        </p:grpSpPr>
        <p:sp>
          <p:nvSpPr>
            <p:cNvPr id="1237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6858000" y="2438280"/>
            <a:ext cx="914400" cy="533520"/>
            <a:chOff x="6858000" y="2438280"/>
            <a:chExt cx="914400" cy="533520"/>
          </a:xfrm>
        </p:grpSpPr>
        <p:sp>
          <p:nvSpPr>
            <p:cNvPr id="1240" name=""/>
            <p:cNvSpPr/>
            <p:nvPr/>
          </p:nvSpPr>
          <p:spPr>
            <a:xfrm>
              <a:off x="68580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152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H=TOS ; Goto iadd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6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6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70" name=""/>
              <p:cNvCxnSpPr>
                <a:stCxn id="1268" idx="0"/>
                <a:endCxn id="126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7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7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7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6" name=""/>
            <p:cNvCxnSpPr>
              <a:stCxn id="1274" idx="0"/>
              <a:endCxn id="127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7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7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2" name=""/>
            <p:cNvCxnSpPr>
              <a:stCxn id="1280" idx="0"/>
              <a:endCxn id="128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8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8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8" name=""/>
            <p:cNvCxnSpPr>
              <a:stCxn id="1286" idx="0"/>
              <a:endCxn id="128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9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9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4" name=""/>
            <p:cNvCxnSpPr>
              <a:stCxn id="1292" idx="0"/>
              <a:endCxn id="129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9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9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0" name=""/>
            <p:cNvCxnSpPr>
              <a:stCxn id="1298" idx="0"/>
              <a:endCxn id="129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30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30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6" name=""/>
            <p:cNvCxnSpPr>
              <a:stCxn id="1304" idx="0"/>
              <a:endCxn id="130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30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30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2" name=""/>
            <p:cNvCxnSpPr>
              <a:stCxn id="1310" idx="0"/>
              <a:endCxn id="131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31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1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9" name=""/>
              <p:cNvCxnSpPr>
                <a:stCxn id="1318" idx="0"/>
                <a:endCxn id="131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2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2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2" name=""/>
            <p:cNvCxnSpPr>
              <a:stCxn id="1259" idx="2"/>
              <a:endCxn id="124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2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3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3" name=""/>
            <p:cNvCxnSpPr>
              <a:stCxn id="1332" idx="0"/>
              <a:endCxn id="133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3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7" name=""/>
            <p:cNvCxnSpPr>
              <a:stCxn id="1336" idx="0"/>
              <a:endCxn id="133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3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1" name=""/>
            <p:cNvCxnSpPr>
              <a:stCxn id="1340" idx="0"/>
              <a:endCxn id="133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4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5" name=""/>
            <p:cNvCxnSpPr>
              <a:stCxn id="1344" idx="0"/>
              <a:endCxn id="134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4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9" name=""/>
            <p:cNvCxnSpPr>
              <a:stCxn id="1348" idx="0"/>
              <a:endCxn id="134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5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3" name=""/>
            <p:cNvCxnSpPr>
              <a:stCxn id="1352" idx="0"/>
              <a:endCxn id="135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5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7" name=""/>
            <p:cNvCxnSpPr>
              <a:stCxn id="1356" idx="0"/>
              <a:endCxn id="135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5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1" name=""/>
            <p:cNvCxnSpPr>
              <a:stCxn id="1360" idx="0"/>
              <a:endCxn id="135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6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6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5" name=""/>
            <p:cNvCxnSpPr>
              <a:stCxn id="1364" idx="0"/>
              <a:endCxn id="136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6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8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8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8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8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8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88" name=""/>
              <p:cNvCxnSpPr>
                <a:stCxn id="1387" idx="0"/>
                <a:endCxn id="136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0" name=""/>
          <p:cNvCxnSpPr>
            <a:stCxn id="1262" idx="0"/>
            <a:endCxn id="137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9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92" name=""/>
            <p:cNvCxnSpPr>
              <a:stCxn id="1393" idx="0"/>
              <a:endCxn id="136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9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9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9" name=""/>
          <p:cNvCxnSpPr>
            <a:stCxn id="1367" idx="0"/>
            <a:endCxn id="139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412" name=""/>
            <p:cNvCxnSpPr>
              <a:stCxn id="1264" idx="2"/>
              <a:endCxn id="126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16" name=""/>
            <p:cNvCxnSpPr>
              <a:stCxn id="1379" idx="3"/>
              <a:endCxn id="136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20" name=""/>
            <p:cNvCxnSpPr>
              <a:stCxn id="1397" idx="0"/>
              <a:endCxn id="136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24" name=""/>
            <p:cNvCxnSpPr>
              <a:stCxn id="1258" idx="2"/>
              <a:endCxn id="126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2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2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30" name=""/>
              <p:cNvCxnSpPr>
                <a:stCxn id="1429" idx="0"/>
                <a:endCxn id="143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3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3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3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38" name=""/>
              <p:cNvCxnSpPr>
                <a:stCxn id="1437" idx="0"/>
                <a:endCxn id="143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3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42" name=""/>
            <p:cNvCxnSpPr>
              <a:stCxn id="1256" idx="2"/>
              <a:endCxn id="136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45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45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8:30:00Z</dcterms:created>
  <dc:creator>Chateigner</dc:creator>
  <dc:description/>
  <dc:language>en-US</dc:language>
  <cp:lastModifiedBy>Chateigner</cp:lastModifiedBy>
  <dcterms:modified xsi:type="dcterms:W3CDTF">2002-01-30T10:33:29Z</dcterms:modified>
  <cp:revision>13</cp:revision>
  <dc:subject/>
  <dc:title>Exemple</dc:title>
</cp:coreProperties>
</file>