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911880" y="2689200"/>
            <a:ext cx="3250080" cy="2311200"/>
            <a:chOff x="911880" y="2689200"/>
            <a:chExt cx="3250080" cy="2311200"/>
          </a:xfrm>
        </p:grpSpPr>
        <p:sp>
          <p:nvSpPr>
            <p:cNvPr id="41" name=""/>
            <p:cNvSpPr/>
            <p:nvPr/>
          </p:nvSpPr>
          <p:spPr>
            <a:xfrm>
              <a:off x="1314360" y="3260520"/>
              <a:ext cx="244944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PUSH 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1880" y="2689200"/>
              <a:ext cx="32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eux d’instructions de la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3124080" y="1698480"/>
            <a:ext cx="4640400" cy="3321000"/>
            <a:chOff x="3124080" y="1698480"/>
            <a:chExt cx="4640400" cy="3321000"/>
          </a:xfrm>
        </p:grpSpPr>
        <p:grpSp>
          <p:nvGrpSpPr>
            <p:cNvPr id="44" name=""/>
            <p:cNvGrpSpPr/>
            <p:nvPr/>
          </p:nvGrpSpPr>
          <p:grpSpPr>
            <a:xfrm>
              <a:off x="3124080" y="1698480"/>
              <a:ext cx="4105800" cy="1359000"/>
              <a:chOff x="3124080" y="1698480"/>
              <a:chExt cx="4105800" cy="1359000"/>
            </a:xfrm>
          </p:grpSpPr>
          <p:sp>
            <p:nvSpPr>
              <p:cNvPr id="45" name=""/>
              <p:cNvSpPr/>
              <p:nvPr/>
            </p:nvSpPr>
            <p:spPr>
              <a:xfrm>
                <a:off x="3124080" y="1698480"/>
                <a:ext cx="3714840" cy="990720"/>
              </a:xfrm>
              <a:custGeom>
                <a:avLst/>
                <a:gdLst>
                  <a:gd name="textAreaLeft" fmla="*/ 717480 w 3714840"/>
                  <a:gd name="textAreaRight" fmla="*/ 2671920 w 3714840"/>
                  <a:gd name="textAreaTop" fmla="*/ 132480 h 990720"/>
                  <a:gd name="textAreaBottom" fmla="*/ 8582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344" hR="21600" stAng="10800000" swAng="5400000"/>
                    <a:lnTo>
                      <a:pt x="11365" y="0"/>
                    </a:lnTo>
                    <a:arcTo wR="8344" hR="21600" stAng="-5400000" swAng="2851940"/>
                    <a:lnTo>
                      <a:pt x="21123" y="14400"/>
                    </a:lnTo>
                    <a:lnTo>
                      <a:pt x="18198" y="21600"/>
                    </a:lnTo>
                    <a:lnTo>
                      <a:pt x="14318" y="14400"/>
                    </a:lnTo>
                    <a:lnTo>
                      <a:pt x="16210" y="14400"/>
                    </a:lnTo>
                    <a:arcTo wR="8344" hR="21600" stAng="-2548060" swAng="-2607908"/>
                    <a:lnTo>
                      <a:pt x="9854" y="357"/>
                    </a:lnTo>
                    <a:arcTo wR="8344" hR="21600" stAng="-5644032" swAng="-5155968"/>
                    <a:close/>
                  </a:path>
                  <a:path fill="darkenLess" w="21600" h="21600">
                    <a:moveTo>
                      <a:pt x="0" y="21600"/>
                    </a:moveTo>
                    <a:arcTo wR="8344" hR="21600" stAng="10800000" swAng="5400000"/>
                    <a:lnTo>
                      <a:pt x="8344" y="0"/>
                    </a:lnTo>
                    <a:arcTo wR="8344" hR="21600" stAng="-5400000" swAng="244032"/>
                    <a:lnTo>
                      <a:pt x="9854" y="357"/>
                    </a:lnTo>
                    <a:arcTo wR="8344" hR="21600" stAng="-5644032" swAng="-5155968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78320" y="268920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Traduction en hex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315040" y="3279600"/>
              <a:ext cx="244944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x10 0x0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État Initi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" name=""/>
              <p:cNvCxnSpPr>
                <a:stCxn id="74" idx="0"/>
                <a:endCxn id="7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80" idx="0"/>
              <a:endCxn id="8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8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6" idx="0"/>
              <a:endCxn id="8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9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2" idx="0"/>
              <a:endCxn id="9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9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8" idx="0"/>
              <a:endCxn id="9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4" idx="0"/>
              <a:endCxn id="10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0" idx="0"/>
              <a:endCxn id="11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1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6" idx="0"/>
              <a:endCxn id="11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2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2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5" name=""/>
              <p:cNvCxnSpPr>
                <a:stCxn id="124" idx="0"/>
                <a:endCxn id="12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2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65" idx="2"/>
              <a:endCxn id="5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8" idx="0"/>
              <a:endCxn id="13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4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42" idx="0"/>
              <a:endCxn id="14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4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6" idx="0"/>
              <a:endCxn id="14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4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0"/>
              <a:endCxn id="14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0"/>
              <a:endCxn id="15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8" idx="0"/>
              <a:endCxn id="15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6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0"/>
              <a:endCxn id="16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6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6" idx="0"/>
              <a:endCxn id="16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6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7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9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9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4" name=""/>
              <p:cNvCxnSpPr>
                <a:stCxn id="193" idx="0"/>
                <a:endCxn id="17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68" idx="0"/>
            <a:endCxn id="17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98" name=""/>
            <p:cNvCxnSpPr>
              <a:stCxn id="199" idx="0"/>
              <a:endCxn id="17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73" idx="0"/>
            <a:endCxn id="20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9" name=""/>
            <p:cNvCxnSpPr>
              <a:stCxn id="70" idx="2"/>
              <a:endCxn id="6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23" name=""/>
            <p:cNvCxnSpPr>
              <a:stCxn id="185" idx="3"/>
              <a:endCxn id="17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27" name=""/>
            <p:cNvCxnSpPr>
              <a:stCxn id="203" idx="0"/>
              <a:endCxn id="17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1" name=""/>
            <p:cNvCxnSpPr>
              <a:stCxn id="64" idx="2"/>
              <a:endCxn id="6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" name=""/>
              <p:cNvCxnSpPr>
                <a:stCxn id="236" idx="0"/>
                <a:endCxn id="23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4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4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5" name=""/>
              <p:cNvCxnSpPr>
                <a:stCxn id="244" idx="0"/>
                <a:endCxn id="24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4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49" name=""/>
            <p:cNvCxnSpPr>
              <a:stCxn id="62" idx="2"/>
              <a:endCxn id="17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61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6"/>
            <a:endCxn id="277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ion  (CP=CP+1;fetch;Goto (MBR)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0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1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3" name=""/>
              <p:cNvCxnSpPr>
                <a:stCxn id="311" idx="0"/>
                <a:endCxn id="31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1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1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7" idx="0"/>
              <a:endCxn id="31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2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23" idx="0"/>
              <a:endCxn id="32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2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9" idx="0"/>
              <a:endCxn id="33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3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5" idx="0"/>
              <a:endCxn id="33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3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>
              <a:stCxn id="341" idx="0"/>
              <a:endCxn id="34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4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>
              <a:stCxn id="347" idx="0"/>
              <a:endCxn id="34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5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5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5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3" idx="0"/>
              <a:endCxn id="35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5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6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2" name=""/>
              <p:cNvCxnSpPr>
                <a:stCxn id="361" idx="0"/>
                <a:endCxn id="35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6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02" idx="2"/>
              <a:endCxn id="28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6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7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75" idx="0"/>
              <a:endCxn id="37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7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9" idx="0"/>
              <a:endCxn id="37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8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0"/>
              <a:endCxn id="38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8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0"/>
              <a:endCxn id="38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9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>
              <a:stCxn id="391" idx="0"/>
              <a:endCxn id="39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9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6" name=""/>
            <p:cNvCxnSpPr>
              <a:stCxn id="395" idx="0"/>
              <a:endCxn id="39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9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99" idx="0"/>
              <a:endCxn id="39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0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403" idx="0"/>
              <a:endCxn id="40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0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8" name=""/>
            <p:cNvCxnSpPr>
              <a:stCxn id="407" idx="0"/>
              <a:endCxn id="40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0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2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2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2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3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1" name=""/>
              <p:cNvCxnSpPr>
                <a:stCxn id="430" idx="0"/>
                <a:endCxn id="41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3" name=""/>
          <p:cNvCxnSpPr>
            <a:stCxn id="305" idx="0"/>
            <a:endCxn id="41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35" name=""/>
            <p:cNvCxnSpPr>
              <a:stCxn id="436" idx="0"/>
              <a:endCxn id="41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43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3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0" idx="0"/>
            <a:endCxn id="44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56" name=""/>
            <p:cNvCxnSpPr>
              <a:stCxn id="307" idx="2"/>
              <a:endCxn id="30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5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60" name=""/>
            <p:cNvCxnSpPr>
              <a:stCxn id="422" idx="3"/>
              <a:endCxn id="40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64" name=""/>
            <p:cNvCxnSpPr>
              <a:stCxn id="440" idx="0"/>
              <a:endCxn id="41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68" name=""/>
            <p:cNvCxnSpPr>
              <a:stCxn id="301" idx="2"/>
              <a:endCxn id="30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7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7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4" name=""/>
              <p:cNvCxnSpPr>
                <a:stCxn id="473" idx="0"/>
                <a:endCxn id="47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7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7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8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2" name=""/>
              <p:cNvCxnSpPr>
                <a:stCxn id="481" idx="0"/>
                <a:endCxn id="48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48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86" name=""/>
            <p:cNvCxnSpPr>
              <a:stCxn id="299" idx="2"/>
              <a:endCxn id="41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9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94320" y="20462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19" idx="6"/>
            <a:endCxn id="515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ion (SP= MAR=SP+1;Goto bipush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47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49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1" name=""/>
              <p:cNvCxnSpPr>
                <a:stCxn id="549" idx="0"/>
                <a:endCxn id="550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52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53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0"/>
              <a:endCxn id="556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8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59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60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"/>
            <p:cNvCxnSpPr>
              <a:stCxn id="561" idx="0"/>
              <a:endCxn id="562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4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65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66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9" name=""/>
            <p:cNvCxnSpPr>
              <a:stCxn id="567" idx="0"/>
              <a:endCxn id="568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71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72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" name=""/>
            <p:cNvCxnSpPr>
              <a:stCxn id="573" idx="0"/>
              <a:endCxn id="574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576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77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78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"/>
            <p:cNvCxnSpPr>
              <a:stCxn id="579" idx="0"/>
              <a:endCxn id="580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2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83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84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7" name=""/>
            <p:cNvCxnSpPr>
              <a:stCxn id="585" idx="0"/>
              <a:endCxn id="586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8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89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3" name=""/>
            <p:cNvCxnSpPr>
              <a:stCxn id="591" idx="0"/>
              <a:endCxn id="592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4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95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98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0" name=""/>
              <p:cNvCxnSpPr>
                <a:stCxn id="599" idx="0"/>
                <a:endCxn id="595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601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602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3" name=""/>
            <p:cNvCxnSpPr>
              <a:stCxn id="540" idx="2"/>
              <a:endCxn id="525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04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12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4" name=""/>
            <p:cNvCxnSpPr>
              <a:stCxn id="613" idx="0"/>
              <a:endCxn id="612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5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16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8" name=""/>
            <p:cNvCxnSpPr>
              <a:stCxn id="617" idx="0"/>
              <a:endCxn id="616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9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20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" name=""/>
            <p:cNvCxnSpPr>
              <a:stCxn id="621" idx="0"/>
              <a:endCxn id="620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623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24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"/>
            <p:cNvCxnSpPr>
              <a:stCxn id="625" idx="0"/>
              <a:endCxn id="624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7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28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0" name=""/>
            <p:cNvCxnSpPr>
              <a:stCxn id="629" idx="0"/>
              <a:endCxn id="628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32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4" name=""/>
            <p:cNvCxnSpPr>
              <a:stCxn id="633" idx="0"/>
              <a:endCxn id="632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5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36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8" name=""/>
            <p:cNvCxnSpPr>
              <a:stCxn id="637" idx="0"/>
              <a:endCxn id="636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9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40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2" name=""/>
            <p:cNvCxnSpPr>
              <a:stCxn id="641" idx="0"/>
              <a:endCxn id="640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3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44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" name=""/>
            <p:cNvCxnSpPr>
              <a:stCxn id="645" idx="0"/>
              <a:endCxn id="644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47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62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63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65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67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68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8" idx="0"/>
                <a:endCxn id="650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70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1" name=""/>
          <p:cNvCxnSpPr>
            <a:stCxn id="543" idx="0"/>
            <a:endCxn id="652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72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73" name=""/>
            <p:cNvCxnSpPr>
              <a:stCxn id="674" idx="0"/>
              <a:endCxn id="648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75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76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48" idx="0"/>
            <a:endCxn id="68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94" name=""/>
            <p:cNvCxnSpPr>
              <a:stCxn id="545" idx="2"/>
              <a:endCxn id="541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9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98" name=""/>
            <p:cNvCxnSpPr>
              <a:stCxn id="660" idx="3"/>
              <a:endCxn id="647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702" name=""/>
            <p:cNvCxnSpPr>
              <a:stCxn id="678" idx="0"/>
              <a:endCxn id="648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706" name=""/>
            <p:cNvCxnSpPr>
              <a:stCxn id="539" idx="2"/>
              <a:endCxn id="543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71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71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2" name=""/>
              <p:cNvCxnSpPr>
                <a:stCxn id="711" idx="0"/>
                <a:endCxn id="71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1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1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1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20" name=""/>
              <p:cNvCxnSpPr>
                <a:stCxn id="719" idx="0"/>
                <a:endCxn id="71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72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24" name=""/>
            <p:cNvCxnSpPr>
              <a:stCxn id="537" idx="2"/>
              <a:endCxn id="648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72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736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56" idx="6"/>
            <a:endCxn id="752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8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8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88" name=""/>
              <p:cNvCxnSpPr>
                <a:stCxn id="786" idx="0"/>
                <a:endCxn id="78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8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9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9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4" name=""/>
            <p:cNvCxnSpPr>
              <a:stCxn id="792" idx="0"/>
              <a:endCxn id="79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9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9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0" name=""/>
            <p:cNvCxnSpPr>
              <a:stCxn id="798" idx="0"/>
              <a:endCxn id="79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80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4" idx="0"/>
              <a:endCxn id="80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80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2" name=""/>
            <p:cNvCxnSpPr>
              <a:stCxn id="810" idx="0"/>
              <a:endCxn id="81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81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81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>
              <a:stCxn id="816" idx="0"/>
              <a:endCxn id="81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82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2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4" name=""/>
            <p:cNvCxnSpPr>
              <a:stCxn id="822" idx="0"/>
              <a:endCxn id="82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2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2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0" name=""/>
            <p:cNvCxnSpPr>
              <a:stCxn id="828" idx="0"/>
              <a:endCxn id="82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3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3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7" name=""/>
              <p:cNvCxnSpPr>
                <a:stCxn id="836" idx="0"/>
                <a:endCxn id="83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3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3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0" name=""/>
            <p:cNvCxnSpPr>
              <a:stCxn id="777" idx="2"/>
              <a:endCxn id="76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4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4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50" idx="0"/>
              <a:endCxn id="84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5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5" name=""/>
            <p:cNvCxnSpPr>
              <a:stCxn id="854" idx="0"/>
              <a:endCxn id="85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5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9" name=""/>
            <p:cNvCxnSpPr>
              <a:stCxn id="858" idx="0"/>
              <a:endCxn id="85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6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3" name=""/>
            <p:cNvCxnSpPr>
              <a:stCxn id="862" idx="0"/>
              <a:endCxn id="86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6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7" name=""/>
            <p:cNvCxnSpPr>
              <a:stCxn id="866" idx="0"/>
              <a:endCxn id="86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6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1" name=""/>
            <p:cNvCxnSpPr>
              <a:stCxn id="870" idx="0"/>
              <a:endCxn id="86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7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7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5" name=""/>
            <p:cNvCxnSpPr>
              <a:stCxn id="874" idx="0"/>
              <a:endCxn id="87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7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7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9" name=""/>
            <p:cNvCxnSpPr>
              <a:stCxn id="878" idx="0"/>
              <a:endCxn id="87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8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8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82" idx="0"/>
              <a:endCxn id="88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8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9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90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0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90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90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6" name=""/>
              <p:cNvCxnSpPr>
                <a:stCxn id="905" idx="0"/>
                <a:endCxn id="88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0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780" idx="0"/>
            <a:endCxn id="88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0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910" name=""/>
            <p:cNvCxnSpPr>
              <a:stCxn id="911" idx="0"/>
              <a:endCxn id="88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1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91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8" name=""/>
          <p:cNvCxnSpPr>
            <a:stCxn id="885" idx="0"/>
            <a:endCxn id="91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31" name=""/>
            <p:cNvCxnSpPr>
              <a:stCxn id="782" idx="2"/>
              <a:endCxn id="77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35" name=""/>
            <p:cNvCxnSpPr>
              <a:stCxn id="897" idx="3"/>
              <a:endCxn id="88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39" name=""/>
            <p:cNvCxnSpPr>
              <a:stCxn id="915" idx="0"/>
              <a:endCxn id="88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43" name=""/>
            <p:cNvCxnSpPr>
              <a:stCxn id="776" idx="2"/>
              <a:endCxn id="78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4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4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9" name=""/>
              <p:cNvCxnSpPr>
                <a:stCxn id="948" idx="0"/>
                <a:endCxn id="95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5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5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5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7" name=""/>
              <p:cNvCxnSpPr>
                <a:stCxn id="956" idx="0"/>
                <a:endCxn id="95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5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61" name=""/>
            <p:cNvCxnSpPr>
              <a:stCxn id="774" idx="2"/>
              <a:endCxn id="88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973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3" idx="6"/>
            <a:endCxn id="989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"/>
          <p:cNvSpPr/>
          <p:nvPr/>
        </p:nvSpPr>
        <p:spPr>
          <a:xfrm>
            <a:off x="3048120" y="2438280"/>
            <a:ext cx="3962160" cy="1752840"/>
          </a:xfrm>
          <a:prstGeom prst="wedgeEllipseCallout">
            <a:avLst>
              <a:gd name="adj1" fmla="val -60939"/>
              <a:gd name="adj2" fmla="val -55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donnée demandé il y a deux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ion (PC=PC+1;fetch ;Goto bipush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02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02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26" name=""/>
              <p:cNvCxnSpPr>
                <a:stCxn id="1024" idx="0"/>
                <a:endCxn id="102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2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02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2" name=""/>
            <p:cNvCxnSpPr>
              <a:stCxn id="1030" idx="0"/>
              <a:endCxn id="103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3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3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8" name=""/>
            <p:cNvCxnSpPr>
              <a:stCxn id="1036" idx="0"/>
              <a:endCxn id="103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4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4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4" name=""/>
            <p:cNvCxnSpPr>
              <a:stCxn id="1042" idx="0"/>
              <a:endCxn id="104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4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4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0" name=""/>
            <p:cNvCxnSpPr>
              <a:stCxn id="1048" idx="0"/>
              <a:endCxn id="104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5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5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6" name=""/>
            <p:cNvCxnSpPr>
              <a:stCxn id="1054" idx="0"/>
              <a:endCxn id="105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5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5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2" name=""/>
            <p:cNvCxnSpPr>
              <a:stCxn id="1060" idx="0"/>
              <a:endCxn id="106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6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6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8" name=""/>
            <p:cNvCxnSpPr>
              <a:stCxn id="1066" idx="0"/>
              <a:endCxn id="106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7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7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075" name=""/>
              <p:cNvCxnSpPr>
                <a:stCxn id="1074" idx="0"/>
                <a:endCxn id="107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7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07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8" name=""/>
            <p:cNvCxnSpPr>
              <a:stCxn id="1015" idx="2"/>
              <a:endCxn id="100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07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08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9" name=""/>
            <p:cNvCxnSpPr>
              <a:stCxn id="1088" idx="0"/>
              <a:endCxn id="108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09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3" name=""/>
            <p:cNvCxnSpPr>
              <a:stCxn id="1092" idx="0"/>
              <a:endCxn id="109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9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09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7" name=""/>
            <p:cNvCxnSpPr>
              <a:stCxn id="1096" idx="0"/>
              <a:endCxn id="109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09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1" name=""/>
            <p:cNvCxnSpPr>
              <a:stCxn id="1100" idx="0"/>
              <a:endCxn id="109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10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5" name=""/>
            <p:cNvCxnSpPr>
              <a:stCxn id="1104" idx="0"/>
              <a:endCxn id="110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10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9" name=""/>
            <p:cNvCxnSpPr>
              <a:stCxn id="1108" idx="0"/>
              <a:endCxn id="110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11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3" name=""/>
            <p:cNvCxnSpPr>
              <a:stCxn id="1112" idx="0"/>
              <a:endCxn id="111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11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7" name=""/>
            <p:cNvCxnSpPr>
              <a:stCxn id="1116" idx="0"/>
              <a:endCxn id="111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11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1120" idx="0"/>
              <a:endCxn id="111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12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3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3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3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4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4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4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4" name=""/>
              <p:cNvCxnSpPr>
                <a:stCxn id="1143" idx="0"/>
                <a:endCxn id="112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4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46" name=""/>
          <p:cNvCxnSpPr>
            <a:stCxn id="1018" idx="0"/>
            <a:endCxn id="112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48" name=""/>
            <p:cNvCxnSpPr>
              <a:stCxn id="1149" idx="0"/>
              <a:endCxn id="112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5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5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6" name=""/>
          <p:cNvCxnSpPr>
            <a:stCxn id="1123" idx="0"/>
            <a:endCxn id="115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5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69" name=""/>
            <p:cNvCxnSpPr>
              <a:stCxn id="1020" idx="2"/>
              <a:endCxn id="101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7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73" name=""/>
            <p:cNvCxnSpPr>
              <a:stCxn id="1135" idx="3"/>
              <a:endCxn id="112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7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177" name=""/>
            <p:cNvCxnSpPr>
              <a:stCxn id="1153" idx="0"/>
              <a:endCxn id="112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181" name=""/>
            <p:cNvCxnSpPr>
              <a:stCxn id="1014" idx="2"/>
              <a:endCxn id="101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18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18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7" name=""/>
              <p:cNvCxnSpPr>
                <a:stCxn id="1186" idx="0"/>
                <a:endCxn id="118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8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19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19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5" name=""/>
              <p:cNvCxnSpPr>
                <a:stCxn id="1194" idx="0"/>
                <a:endCxn id="119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19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199" name=""/>
            <p:cNvCxnSpPr>
              <a:stCxn id="1012" idx="2"/>
              <a:endCxn id="112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20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211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4" name=""/>
          <p:cNvCxnSpPr>
            <a:stCxn id="1231" idx="6"/>
            <a:endCxn id="1227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écution (MDR=TOS=MBR; Wr ; 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5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63" name=""/>
              <p:cNvCxnSpPr>
                <a:stCxn id="1261" idx="0"/>
                <a:endCxn id="126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6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6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6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9" name=""/>
            <p:cNvCxnSpPr>
              <a:stCxn id="1267" idx="0"/>
              <a:endCxn id="126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27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27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5" name=""/>
            <p:cNvCxnSpPr>
              <a:stCxn id="1273" idx="0"/>
              <a:endCxn id="127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27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27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27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1" name=""/>
            <p:cNvCxnSpPr>
              <a:stCxn id="1279" idx="0"/>
              <a:endCxn id="128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28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28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7" name=""/>
            <p:cNvCxnSpPr>
              <a:stCxn id="1285" idx="0"/>
              <a:endCxn id="128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28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29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3" name=""/>
            <p:cNvCxnSpPr>
              <a:stCxn id="1291" idx="0"/>
              <a:endCxn id="129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29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29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9" name=""/>
            <p:cNvCxnSpPr>
              <a:stCxn id="1297" idx="0"/>
              <a:endCxn id="129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30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30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5" name=""/>
            <p:cNvCxnSpPr>
              <a:stCxn id="1303" idx="0"/>
              <a:endCxn id="130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0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30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30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31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2" name=""/>
              <p:cNvCxnSpPr>
                <a:stCxn id="1311" idx="0"/>
                <a:endCxn id="130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1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31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5" name=""/>
            <p:cNvCxnSpPr>
              <a:stCxn id="1252" idx="2"/>
              <a:endCxn id="123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31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2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6" name=""/>
            <p:cNvCxnSpPr>
              <a:stCxn id="1325" idx="0"/>
              <a:endCxn id="132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2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0" name=""/>
            <p:cNvCxnSpPr>
              <a:stCxn id="1329" idx="0"/>
              <a:endCxn id="132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33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4" name=""/>
            <p:cNvCxnSpPr>
              <a:stCxn id="1333" idx="0"/>
              <a:endCxn id="133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33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8" name=""/>
            <p:cNvCxnSpPr>
              <a:stCxn id="1337" idx="0"/>
              <a:endCxn id="133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3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4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2" name=""/>
            <p:cNvCxnSpPr>
              <a:stCxn id="1341" idx="0"/>
              <a:endCxn id="134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4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6" name=""/>
            <p:cNvCxnSpPr>
              <a:stCxn id="1345" idx="0"/>
              <a:endCxn id="134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4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0" name=""/>
            <p:cNvCxnSpPr>
              <a:stCxn id="1349" idx="0"/>
              <a:endCxn id="134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5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4" name=""/>
            <p:cNvCxnSpPr>
              <a:stCxn id="1353" idx="0"/>
              <a:endCxn id="135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5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8" name=""/>
            <p:cNvCxnSpPr>
              <a:stCxn id="1357" idx="0"/>
              <a:endCxn id="135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5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37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37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7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37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38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81" name=""/>
              <p:cNvCxnSpPr>
                <a:stCxn id="1380" idx="0"/>
                <a:endCxn id="136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8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3" name=""/>
          <p:cNvCxnSpPr>
            <a:stCxn id="1255" idx="0"/>
            <a:endCxn id="136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8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385" name=""/>
            <p:cNvCxnSpPr>
              <a:stCxn id="1386" idx="0"/>
              <a:endCxn id="136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8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38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"/>
          <p:cNvCxnSpPr>
            <a:stCxn id="1360" idx="0"/>
            <a:endCxn id="139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406" name=""/>
            <p:cNvCxnSpPr>
              <a:stCxn id="1257" idx="2"/>
              <a:endCxn id="125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40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410" name=""/>
            <p:cNvCxnSpPr>
              <a:stCxn id="1372" idx="3"/>
              <a:endCxn id="135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41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414" name=""/>
            <p:cNvCxnSpPr>
              <a:stCxn id="1390" idx="0"/>
              <a:endCxn id="136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418" name=""/>
            <p:cNvCxnSpPr>
              <a:stCxn id="1251" idx="2"/>
              <a:endCxn id="125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42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42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24" name=""/>
              <p:cNvCxnSpPr>
                <a:stCxn id="1423" idx="0"/>
                <a:endCxn id="142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2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42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43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32" name=""/>
              <p:cNvCxnSpPr>
                <a:stCxn id="1431" idx="0"/>
                <a:endCxn id="143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43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436" name=""/>
            <p:cNvCxnSpPr>
              <a:stCxn id="1249" idx="2"/>
              <a:endCxn id="136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43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44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1" name=""/>
          <p:cNvCxnSpPr>
            <a:stCxn id="1468" idx="6"/>
            <a:endCxn id="1464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49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49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00" name=""/>
              <p:cNvCxnSpPr>
                <a:stCxn id="1498" idx="0"/>
                <a:endCxn id="149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0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50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50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6" name=""/>
            <p:cNvCxnSpPr>
              <a:stCxn id="1504" idx="0"/>
              <a:endCxn id="150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0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50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50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2" name=""/>
            <p:cNvCxnSpPr>
              <a:stCxn id="1510" idx="0"/>
              <a:endCxn id="151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51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51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8" name=""/>
            <p:cNvCxnSpPr>
              <a:stCxn id="1516" idx="0"/>
              <a:endCxn id="151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1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52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52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4" name=""/>
            <p:cNvCxnSpPr>
              <a:stCxn id="1522" idx="0"/>
              <a:endCxn id="152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52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52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28" idx="0"/>
              <a:endCxn id="152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53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6" name=""/>
            <p:cNvCxnSpPr>
              <a:stCxn id="1534" idx="0"/>
              <a:endCxn id="153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3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53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2" name=""/>
            <p:cNvCxnSpPr>
              <a:stCxn id="1540" idx="0"/>
              <a:endCxn id="154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54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54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49" name=""/>
              <p:cNvCxnSpPr>
                <a:stCxn id="1548" idx="0"/>
                <a:endCxn id="154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5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55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2" name=""/>
            <p:cNvCxnSpPr>
              <a:stCxn id="1489" idx="2"/>
              <a:endCxn id="147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5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56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3" name=""/>
            <p:cNvCxnSpPr>
              <a:stCxn id="1562" idx="0"/>
              <a:endCxn id="156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56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7" name=""/>
            <p:cNvCxnSpPr>
              <a:stCxn id="1566" idx="0"/>
              <a:endCxn id="156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56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1" name=""/>
            <p:cNvCxnSpPr>
              <a:stCxn id="1570" idx="0"/>
              <a:endCxn id="156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57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5" name=""/>
            <p:cNvCxnSpPr>
              <a:stCxn id="1574" idx="0"/>
              <a:endCxn id="157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7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9" name=""/>
            <p:cNvCxnSpPr>
              <a:stCxn id="1578" idx="0"/>
              <a:endCxn id="157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8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3" name=""/>
            <p:cNvCxnSpPr>
              <a:stCxn id="1582" idx="0"/>
              <a:endCxn id="158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58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7" name=""/>
            <p:cNvCxnSpPr>
              <a:stCxn id="1586" idx="0"/>
              <a:endCxn id="158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58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1" name=""/>
            <p:cNvCxnSpPr>
              <a:stCxn id="1590" idx="0"/>
              <a:endCxn id="158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9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59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5" name=""/>
            <p:cNvCxnSpPr>
              <a:stCxn id="1594" idx="0"/>
              <a:endCxn id="159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59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61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61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1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61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61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18" name=""/>
              <p:cNvCxnSpPr>
                <a:stCxn id="1617" idx="0"/>
                <a:endCxn id="159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1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0" name=""/>
          <p:cNvCxnSpPr>
            <a:stCxn id="1492" idx="0"/>
            <a:endCxn id="160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622" name=""/>
            <p:cNvCxnSpPr>
              <a:stCxn id="1623" idx="0"/>
              <a:endCxn id="159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2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62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0" name=""/>
          <p:cNvCxnSpPr>
            <a:stCxn id="1597" idx="0"/>
            <a:endCxn id="1629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1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643" name=""/>
            <p:cNvCxnSpPr>
              <a:stCxn id="1494" idx="2"/>
              <a:endCxn id="149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4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647" name=""/>
            <p:cNvCxnSpPr>
              <a:stCxn id="1609" idx="3"/>
              <a:endCxn id="159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8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651" name=""/>
            <p:cNvCxnSpPr>
              <a:stCxn id="1627" idx="0"/>
              <a:endCxn id="159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2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655" name=""/>
            <p:cNvCxnSpPr>
              <a:stCxn id="1488" idx="2"/>
              <a:endCxn id="149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6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659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660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1" name=""/>
              <p:cNvCxnSpPr>
                <a:stCxn id="1660" idx="0"/>
                <a:endCxn id="1662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3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5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666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667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9" name=""/>
              <p:cNvCxnSpPr>
                <a:stCxn id="1668" idx="0"/>
                <a:endCxn id="1667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70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1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673" name=""/>
            <p:cNvCxnSpPr>
              <a:stCxn id="1486" idx="2"/>
              <a:endCxn id="159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4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1685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5880" y="2438280"/>
            <a:ext cx="15264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24852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40080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705720" y="2438280"/>
            <a:ext cx="1522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010280" y="2438280"/>
            <a:ext cx="1526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5530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858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8" name=""/>
          <p:cNvCxnSpPr>
            <a:stCxn id="1705" idx="6"/>
            <a:endCxn id="1701" idx="2"/>
          </p:cNvCxnSpPr>
          <p:nvPr/>
        </p:nvCxnSpPr>
        <p:spPr>
          <a:xfrm flipH="1">
            <a:off x="6095520" y="2590920"/>
            <a:ext cx="1067760" cy="2160"/>
          </a:xfrm>
          <a:prstGeom prst="bentConnector5">
            <a:avLst>
              <a:gd name="adj1" fmla="val -21416"/>
              <a:gd name="adj2" fmla="val -24000000"/>
              <a:gd name="adj3" fmla="val 1214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9" name=""/>
          <p:cNvSpPr/>
          <p:nvPr/>
        </p:nvSpPr>
        <p:spPr>
          <a:xfrm>
            <a:off x="1981080" y="3886200"/>
            <a:ext cx="6248520" cy="1523880"/>
          </a:xfrm>
          <a:prstGeom prst="wedgeEllipseCallout">
            <a:avLst>
              <a:gd name="adj1" fmla="val -39861"/>
              <a:gd name="adj2" fmla="val -150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e à jour de M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demandée il y a deux cy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8:35:08Z</dcterms:created>
  <dc:creator>Chateigner</dc:creator>
  <dc:description/>
  <dc:language>en-US</dc:language>
  <cp:lastModifiedBy>Chateigner</cp:lastModifiedBy>
  <dcterms:modified xsi:type="dcterms:W3CDTF">2002-01-25T09:34:52Z</dcterms:modified>
  <cp:revision>13</cp:revision>
  <dc:subject/>
  <dc:title>Exemple</dc:title>
</cp:coreProperties>
</file>