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63760" y="3683160"/>
            <a:ext cx="5445000" cy="1450800"/>
            <a:chOff x="1463760" y="3683160"/>
            <a:chExt cx="5445000" cy="1450800"/>
          </a:xfrm>
        </p:grpSpPr>
        <p:sp>
          <p:nvSpPr>
            <p:cNvPr id="6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463760" y="3683160"/>
              <a:ext cx="5445000" cy="1450800"/>
              <a:chOff x="1463760" y="3683160"/>
              <a:chExt cx="5445000" cy="1450800"/>
            </a:xfrm>
          </p:grpSpPr>
          <p:sp>
            <p:nvSpPr>
              <p:cNvPr id="6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5" idx="0"/>
                <a:endCxn id="66" idx="0"/>
              </p:cNvCxnSpPr>
              <p:nvPr/>
            </p:nvCxnSpPr>
            <p:spPr>
              <a:xfrm flipH="1" flipV="1" rot="5400000">
                <a:off x="3536280" y="1761840"/>
                <a:ext cx="1299600" cy="544536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8" name=""/>
          <p:cNvGrpSpPr/>
          <p:nvPr/>
        </p:nvGrpSpPr>
        <p:grpSpPr>
          <a:xfrm>
            <a:off x="1390680" y="3683160"/>
            <a:ext cx="5575320" cy="1025280"/>
            <a:chOff x="1390680" y="3683160"/>
            <a:chExt cx="5575320" cy="1025280"/>
          </a:xfrm>
        </p:grpSpPr>
        <p:grpSp>
          <p:nvGrpSpPr>
            <p:cNvPr id="6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1" idx="0"/>
              <a:endCxn id="72" idx="0"/>
            </p:cNvCxnSpPr>
            <p:nvPr/>
          </p:nvCxnSpPr>
          <p:spPr>
            <a:xfrm flipH="1" flipV="1" rot="5400000">
              <a:off x="3741120" y="1483920"/>
              <a:ext cx="874080" cy="55756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1322280" y="3683160"/>
            <a:ext cx="5713560" cy="601560"/>
            <a:chOff x="1322280" y="3683160"/>
            <a:chExt cx="5713560" cy="601560"/>
          </a:xfrm>
        </p:grpSpPr>
        <p:grpSp>
          <p:nvGrpSpPr>
            <p:cNvPr id="7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77" idx="0"/>
              <a:endCxn id="78" idx="0"/>
            </p:cNvCxnSpPr>
            <p:nvPr/>
          </p:nvCxnSpPr>
          <p:spPr>
            <a:xfrm flipH="1" flipV="1" rot="5400000">
              <a:off x="3953880" y="1203120"/>
              <a:ext cx="450360" cy="57139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1252080" y="3630240"/>
            <a:ext cx="5837760" cy="228600"/>
            <a:chOff x="1252080" y="3630240"/>
            <a:chExt cx="5837760" cy="228600"/>
          </a:xfrm>
        </p:grpSpPr>
        <p:grpSp>
          <p:nvGrpSpPr>
            <p:cNvPr id="8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3" idx="0"/>
              <a:endCxn id="84" idx="0"/>
            </p:cNvCxnSpPr>
            <p:nvPr/>
          </p:nvCxnSpPr>
          <p:spPr>
            <a:xfrm flipH="1" flipV="1" rot="5400000">
              <a:off x="4158720" y="927720"/>
              <a:ext cx="24480" cy="5838120"/>
            </a:xfrm>
            <a:prstGeom prst="bentConnector4">
              <a:avLst>
                <a:gd name="adj1" fmla="val 947761"/>
                <a:gd name="adj2" fmla="val 5891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1133280" y="2835360"/>
            <a:ext cx="6077160" cy="1000080"/>
            <a:chOff x="1133280" y="2835360"/>
            <a:chExt cx="6077160" cy="1000080"/>
          </a:xfrm>
        </p:grpSpPr>
        <p:grpSp>
          <p:nvGrpSpPr>
            <p:cNvPr id="8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" name=""/>
            <p:cNvCxnSpPr>
              <a:stCxn id="89" idx="0"/>
              <a:endCxn id="90" idx="0"/>
            </p:cNvCxnSpPr>
            <p:nvPr/>
          </p:nvCxnSpPr>
          <p:spPr>
            <a:xfrm flipH="1" rot="16200000">
              <a:off x="3753000" y="377280"/>
              <a:ext cx="837720" cy="607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1204560" y="3258720"/>
            <a:ext cx="5939280" cy="576720"/>
            <a:chOff x="1204560" y="3258720"/>
            <a:chExt cx="5939280" cy="576720"/>
          </a:xfrm>
        </p:grpSpPr>
        <p:grpSp>
          <p:nvGrpSpPr>
            <p:cNvPr id="9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9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5" idx="0"/>
              <a:endCxn id="96" idx="0"/>
            </p:cNvCxnSpPr>
            <p:nvPr/>
          </p:nvCxnSpPr>
          <p:spPr>
            <a:xfrm flipH="1" rot="16200000">
              <a:off x="3967200" y="658080"/>
              <a:ext cx="414360" cy="59396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834840" y="1991880"/>
            <a:ext cx="6432840" cy="1843560"/>
            <a:chOff x="834840" y="1991880"/>
            <a:chExt cx="6432840" cy="1843560"/>
          </a:xfrm>
        </p:grpSpPr>
        <p:grpSp>
          <p:nvGrpSpPr>
            <p:cNvPr id="9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1" idx="0"/>
              <a:endCxn id="102" idx="0"/>
            </p:cNvCxnSpPr>
            <p:nvPr/>
          </p:nvCxnSpPr>
          <p:spPr>
            <a:xfrm flipH="1" flipV="1" rot="10800000">
              <a:off x="1062000" y="2144160"/>
              <a:ext cx="6206040" cy="1690560"/>
            </a:xfrm>
            <a:prstGeom prst="bentConnector3">
              <a:avLst>
                <a:gd name="adj1" fmla="val -366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990360" y="1539360"/>
            <a:ext cx="6347160" cy="2296080"/>
            <a:chOff x="990360" y="1539360"/>
            <a:chExt cx="6347160" cy="2296080"/>
          </a:xfrm>
        </p:grpSpPr>
        <p:grpSp>
          <p:nvGrpSpPr>
            <p:cNvPr id="10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7" idx="0"/>
              <a:endCxn id="108" idx="0"/>
            </p:cNvCxnSpPr>
            <p:nvPr/>
          </p:nvCxnSpPr>
          <p:spPr>
            <a:xfrm flipH="1" rot="16200000">
              <a:off x="3097440" y="-405720"/>
              <a:ext cx="2133360" cy="634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914400" y="1116000"/>
            <a:ext cx="6473880" cy="2719440"/>
            <a:chOff x="914400" y="1116000"/>
            <a:chExt cx="6473880" cy="2719440"/>
          </a:xfrm>
        </p:grpSpPr>
        <p:sp>
          <p:nvSpPr>
            <p:cNvPr id="11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914400" y="1116000"/>
              <a:ext cx="6473880" cy="2718720"/>
              <a:chOff x="914400" y="1116000"/>
              <a:chExt cx="6473880" cy="2718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6" name=""/>
              <p:cNvCxnSpPr>
                <a:stCxn id="115" idx="0"/>
                <a:endCxn id="111" idx="0"/>
              </p:cNvCxnSpPr>
              <p:nvPr/>
            </p:nvCxnSpPr>
            <p:spPr>
              <a:xfrm flipH="1" rot="16200000">
                <a:off x="2870640" y="-683280"/>
                <a:ext cx="2561760" cy="647424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17" name=""/>
          <p:cNvGrpSpPr/>
          <p:nvPr/>
        </p:nvGrpSpPr>
        <p:grpSpPr>
          <a:xfrm>
            <a:off x="2342880" y="534960"/>
            <a:ext cx="5159520" cy="3381120"/>
            <a:chOff x="2342880" y="534960"/>
            <a:chExt cx="5159520" cy="3381120"/>
          </a:xfrm>
        </p:grpSpPr>
        <p:sp>
          <p:nvSpPr>
            <p:cNvPr id="11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56" idx="2"/>
              <a:endCxn id="41" idx="0"/>
            </p:cNvCxnSpPr>
            <p:nvPr/>
          </p:nvCxnSpPr>
          <p:spPr>
            <a:xfrm flipV="1" rot="16200000">
              <a:off x="3488400" y="-329400"/>
              <a:ext cx="2868840" cy="5159880"/>
            </a:xfrm>
            <a:prstGeom prst="bentConnector5">
              <a:avLst>
                <a:gd name="adj1" fmla="val -8069"/>
                <a:gd name="adj2" fmla="val 39198"/>
                <a:gd name="adj3" fmla="val 10840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43200" y="1228680"/>
            <a:ext cx="1006560" cy="487440"/>
            <a:chOff x="2743200" y="1228680"/>
            <a:chExt cx="1006560" cy="487440"/>
          </a:xfrm>
        </p:grpSpPr>
        <p:sp>
          <p:nvSpPr>
            <p:cNvPr id="12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0"/>
              <a:endCxn id="128" idx="0"/>
            </p:cNvCxnSpPr>
            <p:nvPr/>
          </p:nvCxnSpPr>
          <p:spPr>
            <a:xfrm flipV="1">
              <a:off x="2743200" y="1304640"/>
              <a:ext cx="1006920" cy="411120"/>
            </a:xfrm>
            <a:prstGeom prst="bentConnector3">
              <a:avLst>
                <a:gd name="adj1" fmla="val 5178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2523960" y="1228680"/>
            <a:ext cx="1298520" cy="925200"/>
            <a:chOff x="2523960" y="1228680"/>
            <a:chExt cx="1298520" cy="925200"/>
          </a:xfrm>
        </p:grpSpPr>
        <p:sp>
          <p:nvSpPr>
            <p:cNvPr id="13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0"/>
              <a:endCxn id="132" idx="0"/>
            </p:cNvCxnSpPr>
            <p:nvPr/>
          </p:nvCxnSpPr>
          <p:spPr>
            <a:xfrm flipV="1">
              <a:off x="2523960" y="1304640"/>
              <a:ext cx="1298880" cy="848880"/>
            </a:xfrm>
            <a:prstGeom prst="bentConnector3">
              <a:avLst>
                <a:gd name="adj1" fmla="val 5140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747880" y="1231920"/>
            <a:ext cx="1312560" cy="1750680"/>
            <a:chOff x="2747880" y="1231920"/>
            <a:chExt cx="1312560" cy="1750680"/>
          </a:xfrm>
        </p:grpSpPr>
        <p:sp>
          <p:nvSpPr>
            <p:cNvPr id="13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7" idx="0"/>
              <a:endCxn id="136" idx="0"/>
            </p:cNvCxnSpPr>
            <p:nvPr/>
          </p:nvCxnSpPr>
          <p:spPr>
            <a:xfrm flipV="1">
              <a:off x="2747880" y="1307880"/>
              <a:ext cx="1312920" cy="1674360"/>
            </a:xfrm>
            <a:prstGeom prst="bentConnector3">
              <a:avLst>
                <a:gd name="adj1" fmla="val 5137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752560" y="1228680"/>
            <a:ext cx="1228680" cy="1335240"/>
            <a:chOff x="2752560" y="1228680"/>
            <a:chExt cx="1228680" cy="1335240"/>
          </a:xfrm>
        </p:grpSpPr>
        <p:sp>
          <p:nvSpPr>
            <p:cNvPr id="14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0"/>
              <a:endCxn id="140" idx="0"/>
            </p:cNvCxnSpPr>
            <p:nvPr/>
          </p:nvCxnSpPr>
          <p:spPr>
            <a:xfrm flipV="1">
              <a:off x="2752560" y="1304640"/>
              <a:ext cx="1229040" cy="1258920"/>
            </a:xfrm>
            <a:prstGeom prst="bentConnector3">
              <a:avLst>
                <a:gd name="adj1" fmla="val 514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2878200" y="1228680"/>
            <a:ext cx="1030320" cy="1477080"/>
            <a:chOff x="2878200" y="1228680"/>
            <a:chExt cx="1030320" cy="1477080"/>
          </a:xfrm>
        </p:grpSpPr>
        <p:sp>
          <p:nvSpPr>
            <p:cNvPr id="14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0"/>
              <a:endCxn id="144" idx="0"/>
            </p:cNvCxnSpPr>
            <p:nvPr/>
          </p:nvCxnSpPr>
          <p:spPr>
            <a:xfrm flipH="1" flipV="1" rot="5400000">
              <a:off x="2811600" y="1370880"/>
              <a:ext cx="1163520" cy="1030680"/>
            </a:xfrm>
            <a:prstGeom prst="bentConnector3">
              <a:avLst>
                <a:gd name="adj1" fmla="val -2045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2747880" y="1231920"/>
            <a:ext cx="1385640" cy="2174400"/>
            <a:chOff x="2747880" y="1231920"/>
            <a:chExt cx="1385640" cy="2174400"/>
          </a:xfrm>
        </p:grpSpPr>
        <p:sp>
          <p:nvSpPr>
            <p:cNvPr id="14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  <a:endCxn id="148" idx="0"/>
            </p:cNvCxnSpPr>
            <p:nvPr/>
          </p:nvCxnSpPr>
          <p:spPr>
            <a:xfrm flipV="1">
              <a:off x="2747880" y="1307880"/>
              <a:ext cx="1386000" cy="2098080"/>
            </a:xfrm>
            <a:prstGeom prst="bentConnector3">
              <a:avLst>
                <a:gd name="adj1" fmla="val 5131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747880" y="1231920"/>
            <a:ext cx="1471320" cy="2612520"/>
            <a:chOff x="2747880" y="1231920"/>
            <a:chExt cx="1471320" cy="2612520"/>
          </a:xfrm>
        </p:grpSpPr>
        <p:sp>
          <p:nvSpPr>
            <p:cNvPr id="15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52" idx="0"/>
            </p:cNvCxnSpPr>
            <p:nvPr/>
          </p:nvCxnSpPr>
          <p:spPr>
            <a:xfrm flipV="1">
              <a:off x="2747880" y="1307880"/>
              <a:ext cx="1471680" cy="2536200"/>
            </a:xfrm>
            <a:prstGeom prst="bentConnector3">
              <a:avLst>
                <a:gd name="adj1" fmla="val 51235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2695680" y="1231920"/>
            <a:ext cx="1596960" cy="3007800"/>
            <a:chOff x="2695680" y="1231920"/>
            <a:chExt cx="1596960" cy="3007800"/>
          </a:xfrm>
        </p:grpSpPr>
        <p:sp>
          <p:nvSpPr>
            <p:cNvPr id="15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56" idx="0"/>
            </p:cNvCxnSpPr>
            <p:nvPr/>
          </p:nvCxnSpPr>
          <p:spPr>
            <a:xfrm flipV="1">
              <a:off x="2696760" y="1307880"/>
              <a:ext cx="1596240" cy="2931840"/>
            </a:xfrm>
            <a:prstGeom prst="bentConnector3">
              <a:avLst>
                <a:gd name="adj1" fmla="val 511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2752560" y="1235160"/>
            <a:ext cx="1609560" cy="3448080"/>
            <a:chOff x="2752560" y="1235160"/>
            <a:chExt cx="1609560" cy="3448080"/>
          </a:xfrm>
        </p:grpSpPr>
        <p:sp>
          <p:nvSpPr>
            <p:cNvPr id="16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1" idx="0"/>
              <a:endCxn id="160" idx="0"/>
            </p:cNvCxnSpPr>
            <p:nvPr/>
          </p:nvCxnSpPr>
          <p:spPr>
            <a:xfrm flipV="1">
              <a:off x="2752560" y="1310400"/>
              <a:ext cx="1609920" cy="3372480"/>
            </a:xfrm>
            <a:prstGeom prst="bentConnector3">
              <a:avLst>
                <a:gd name="adj1" fmla="val 5112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7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48080" y="5130720"/>
            <a:ext cx="1352520" cy="762120"/>
            <a:chOff x="3448080" y="5130720"/>
            <a:chExt cx="1352520" cy="762120"/>
          </a:xfrm>
        </p:grpSpPr>
        <p:grpSp>
          <p:nvGrpSpPr>
            <p:cNvPr id="183" name=""/>
            <p:cNvGrpSpPr/>
            <p:nvPr/>
          </p:nvGrpSpPr>
          <p:grpSpPr>
            <a:xfrm>
              <a:off x="3448080" y="5369040"/>
              <a:ext cx="1352520" cy="523800"/>
              <a:chOff x="3448080" y="5369040"/>
              <a:chExt cx="1352520" cy="523800"/>
            </a:xfrm>
          </p:grpSpPr>
          <p:sp>
            <p:nvSpPr>
              <p:cNvPr id="18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84" idx="0"/>
                <a:endCxn id="166" idx="2"/>
              </p:cNvCxnSpPr>
              <p:nvPr/>
            </p:nvCxnSpPr>
            <p:spPr>
              <a:xfrm flipH="1" flipV="1" rot="5400000">
                <a:off x="4052520" y="4916160"/>
                <a:ext cx="295560" cy="1201320"/>
              </a:xfrm>
              <a:prstGeom prst="bentConnector3">
                <a:avLst>
                  <a:gd name="adj1" fmla="val -7743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" name=""/>
          <p:cNvCxnSpPr>
            <a:stCxn id="59" idx="0"/>
            <a:endCxn id="168" idx="2"/>
          </p:cNvCxnSpPr>
          <p:nvPr/>
        </p:nvCxnSpPr>
        <p:spPr>
          <a:xfrm flipV="1">
            <a:off x="4705200" y="1663560"/>
            <a:ext cx="360" cy="308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5114880" y="2054160"/>
            <a:ext cx="1104840" cy="1437840"/>
            <a:chOff x="5114880" y="2054160"/>
            <a:chExt cx="1104840" cy="1437840"/>
          </a:xfrm>
        </p:grpSpPr>
        <p:cxnSp>
          <p:nvCxnSpPr>
            <p:cNvPr id="189" name=""/>
            <p:cNvCxnSpPr>
              <a:stCxn id="190" idx="0"/>
              <a:endCxn id="164" idx="3"/>
            </p:cNvCxnSpPr>
            <p:nvPr/>
          </p:nvCxnSpPr>
          <p:spPr>
            <a:xfrm flipV="1" rot="16200000">
              <a:off x="4605120" y="2563560"/>
              <a:ext cx="1286280" cy="2671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64" idx="0"/>
            <a:endCxn id="196" idx="1"/>
          </p:cNvCxnSpPr>
          <p:nvPr/>
        </p:nvCxnSpPr>
        <p:spPr>
          <a:xfrm flipH="1" flipV="1">
            <a:off x="4753080" y="1676520"/>
            <a:ext cx="285840" cy="3020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048280" y="914400"/>
            <a:ext cx="2673000" cy="2998080"/>
            <a:chOff x="5048280" y="914400"/>
            <a:chExt cx="2673000" cy="2998080"/>
          </a:xfrm>
        </p:grpSpPr>
        <p:cxnSp>
          <p:nvCxnSpPr>
            <p:cNvPr id="210" name=""/>
            <p:cNvCxnSpPr>
              <a:stCxn id="61" idx="2"/>
              <a:endCxn id="57" idx="3"/>
            </p:cNvCxnSpPr>
            <p:nvPr/>
          </p:nvCxnSpPr>
          <p:spPr>
            <a:xfrm flipV="1" rot="16200000">
              <a:off x="5041800" y="1001520"/>
              <a:ext cx="2686320" cy="2673360"/>
            </a:xfrm>
            <a:prstGeom prst="bentConnector4">
              <a:avLst>
                <a:gd name="adj1" fmla="val -8604"/>
                <a:gd name="adj2" fmla="val 5213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53200" y="1554120"/>
            <a:ext cx="1352520" cy="538200"/>
            <a:chOff x="5353200" y="1554120"/>
            <a:chExt cx="1352520" cy="538200"/>
          </a:xfrm>
        </p:grpSpPr>
        <p:cxnSp>
          <p:nvCxnSpPr>
            <p:cNvPr id="214" name=""/>
            <p:cNvCxnSpPr>
              <a:stCxn id="176" idx="3"/>
              <a:endCxn id="163" idx="0"/>
            </p:cNvCxnSpPr>
            <p:nvPr/>
          </p:nvCxnSpPr>
          <p:spPr>
            <a:xfrm>
              <a:off x="5353200" y="1625400"/>
              <a:ext cx="135288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38240" y="1949400"/>
            <a:ext cx="2124360" cy="231840"/>
            <a:chOff x="2838240" y="1949400"/>
            <a:chExt cx="2124360" cy="231840"/>
          </a:xfrm>
        </p:grpSpPr>
        <p:cxnSp>
          <p:nvCxnSpPr>
            <p:cNvPr id="218" name=""/>
            <p:cNvCxnSpPr>
              <a:stCxn id="194" idx="0"/>
              <a:endCxn id="164" idx="1"/>
            </p:cNvCxnSpPr>
            <p:nvPr/>
          </p:nvCxnSpPr>
          <p:spPr>
            <a:xfrm flipH="1" flipV="1" rot="5400000">
              <a:off x="3836520" y="1055520"/>
              <a:ext cx="127440" cy="2124720"/>
            </a:xfrm>
            <a:prstGeom prst="bentConnector4">
              <a:avLst>
                <a:gd name="adj1" fmla="val 182436"/>
                <a:gd name="adj2" fmla="val 5268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933800" y="3684600"/>
            <a:ext cx="1279440" cy="1325520"/>
            <a:chOff x="4933800" y="3684600"/>
            <a:chExt cx="1279440" cy="1325520"/>
          </a:xfrm>
        </p:grpSpPr>
        <p:cxnSp>
          <p:nvCxnSpPr>
            <p:cNvPr id="222" name=""/>
            <p:cNvCxnSpPr>
              <a:stCxn id="55" idx="2"/>
              <a:endCxn id="59" idx="3"/>
            </p:cNvCxnSpPr>
            <p:nvPr/>
          </p:nvCxnSpPr>
          <p:spPr>
            <a:xfrm rot="5400000">
              <a:off x="4945680" y="3672720"/>
              <a:ext cx="1256040" cy="12798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416400" y="3683160"/>
            <a:ext cx="3089160" cy="2547720"/>
            <a:chOff x="3416400" y="3683160"/>
            <a:chExt cx="3089160" cy="2547720"/>
          </a:xfrm>
        </p:grpSpPr>
        <p:grpSp>
          <p:nvGrpSpPr>
            <p:cNvPr id="226" name=""/>
            <p:cNvGrpSpPr/>
            <p:nvPr/>
          </p:nvGrpSpPr>
          <p:grpSpPr>
            <a:xfrm>
              <a:off x="3416400" y="3683160"/>
              <a:ext cx="3089160" cy="2492280"/>
              <a:chOff x="3416400" y="3683160"/>
              <a:chExt cx="3089160" cy="2492280"/>
            </a:xfrm>
          </p:grpSpPr>
          <p:sp>
            <p:nvSpPr>
              <p:cNvPr id="22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8" name=""/>
              <p:cNvCxnSpPr>
                <a:stCxn id="227" idx="0"/>
                <a:endCxn id="229" idx="3"/>
              </p:cNvCxnSpPr>
              <p:nvPr/>
            </p:nvCxnSpPr>
            <p:spPr>
              <a:xfrm flipV="1" rot="10800000">
                <a:off x="3416040" y="3834720"/>
                <a:ext cx="3089520" cy="2341080"/>
              </a:xfrm>
              <a:prstGeom prst="bentConnector3">
                <a:avLst>
                  <a:gd name="adj1" fmla="val 49947"/>
                </a:avLst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47880" y="3683160"/>
            <a:ext cx="4851360" cy="1955520"/>
            <a:chOff x="1847880" y="3683160"/>
            <a:chExt cx="4851360" cy="1955520"/>
          </a:xfrm>
        </p:grpSpPr>
        <p:grpSp>
          <p:nvGrpSpPr>
            <p:cNvPr id="233" name=""/>
            <p:cNvGrpSpPr/>
            <p:nvPr/>
          </p:nvGrpSpPr>
          <p:grpSpPr>
            <a:xfrm>
              <a:off x="1847880" y="3683160"/>
              <a:ext cx="4851360" cy="1885680"/>
              <a:chOff x="1847880" y="3683160"/>
              <a:chExt cx="4851360" cy="1885680"/>
            </a:xfrm>
          </p:grpSpPr>
          <p:sp>
            <p:nvSpPr>
              <p:cNvPr id="23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" name=""/>
              <p:cNvCxnSpPr>
                <a:stCxn id="235" idx="0"/>
                <a:endCxn id="234" idx="0"/>
              </p:cNvCxnSpPr>
              <p:nvPr/>
            </p:nvCxnSpPr>
            <p:spPr>
              <a:xfrm flipH="1" flipV="1" rot="5400000">
                <a:off x="3406320" y="2275920"/>
                <a:ext cx="1734480" cy="485172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959360" y="2130480"/>
            <a:ext cx="873000" cy="1785600"/>
            <a:chOff x="4959360" y="2130480"/>
            <a:chExt cx="873000" cy="1785600"/>
          </a:xfrm>
        </p:grpSpPr>
        <p:cxnSp>
          <p:nvCxnSpPr>
            <p:cNvPr id="240" name=""/>
            <p:cNvCxnSpPr>
              <a:stCxn id="53" idx="2"/>
              <a:endCxn id="164" idx="2"/>
            </p:cNvCxnSpPr>
            <p:nvPr/>
          </p:nvCxnSpPr>
          <p:spPr>
            <a:xfrm flipV="1" rot="16200000">
              <a:off x="4658400" y="2510280"/>
              <a:ext cx="1554480" cy="794160"/>
            </a:xfrm>
            <a:prstGeom prst="bentConnector3">
              <a:avLst>
                <a:gd name="adj1" fmla="val -1489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52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81080" y="2057400"/>
            <a:ext cx="3657600" cy="457200"/>
            <a:chOff x="1981080" y="2057400"/>
            <a:chExt cx="3657600" cy="457200"/>
          </a:xfrm>
        </p:grpSpPr>
        <p:sp>
          <p:nvSpPr>
            <p:cNvPr id="269" name=""/>
            <p:cNvSpPr/>
            <p:nvPr/>
          </p:nvSpPr>
          <p:spPr>
            <a:xfrm>
              <a:off x="1981080" y="2133720"/>
              <a:ext cx="762120" cy="3045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9520" y="2057400"/>
              <a:ext cx="2819160" cy="457200"/>
            </a:xfrm>
            <a:prstGeom prst="rightArrow">
              <a:avLst>
                <a:gd name="adj1" fmla="val 34722"/>
                <a:gd name="adj2" fmla="val 111105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62120" y="3200400"/>
            <a:ext cx="5105160" cy="2590920"/>
          </a:xfrm>
          <a:prstGeom prst="wedgeEllipseCallout">
            <a:avLst>
              <a:gd name="adj1" fmla="val -12717"/>
              <a:gd name="adj2" fmla="val -78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uelque soit l’instruction le contrôleur doit la connaître, pour savoir ce qu’il doit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304920"/>
            <a:ext cx="4648320" cy="1752480"/>
          </a:xfrm>
          <a:prstGeom prst="wedgeEllipseCallout">
            <a:avLst>
              <a:gd name="adj1" fmla="val -56046"/>
              <a:gd name="adj2" fmla="val 3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nser à l’instruction suivante car il faut attendre un cycle pour qu’elle ar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9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9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99" idx="0"/>
                <a:endCxn id="30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0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0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"/>
            <p:cNvCxnSpPr>
              <a:stCxn id="305" idx="0"/>
              <a:endCxn id="30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0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1" idx="0"/>
              <a:endCxn id="31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1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7" idx="0"/>
              <a:endCxn id="31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2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23" idx="0"/>
              <a:endCxn id="32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2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9" idx="0"/>
              <a:endCxn id="33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5" idx="0"/>
              <a:endCxn id="33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3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>
              <a:stCxn id="341" idx="0"/>
              <a:endCxn id="34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4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4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0" name=""/>
              <p:cNvCxnSpPr>
                <a:stCxn id="349" idx="0"/>
                <a:endCxn id="34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3" name=""/>
            <p:cNvCxnSpPr>
              <a:stCxn id="290" idx="2"/>
              <a:endCxn id="27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63" idx="0"/>
              <a:endCxn id="36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6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" name=""/>
            <p:cNvCxnSpPr>
              <a:stCxn id="367" idx="0"/>
              <a:endCxn id="36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7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2" name=""/>
            <p:cNvCxnSpPr>
              <a:stCxn id="371" idx="0"/>
              <a:endCxn id="37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75" idx="0"/>
              <a:endCxn id="37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7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9" idx="0"/>
              <a:endCxn id="37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8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0"/>
              <a:endCxn id="38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8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0"/>
              <a:endCxn id="38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9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>
              <a:stCxn id="391" idx="0"/>
              <a:endCxn id="39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6" name=""/>
            <p:cNvCxnSpPr>
              <a:stCxn id="395" idx="0"/>
              <a:endCxn id="39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9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1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1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9" name=""/>
              <p:cNvCxnSpPr>
                <a:stCxn id="418" idx="0"/>
                <a:endCxn id="40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"/>
          <p:cNvCxnSpPr>
            <a:stCxn id="293" idx="0"/>
            <a:endCxn id="40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23" name=""/>
            <p:cNvCxnSpPr>
              <a:stCxn id="424" idx="0"/>
              <a:endCxn id="39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2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98" idx="0"/>
            <a:endCxn id="43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4" name=""/>
            <p:cNvCxnSpPr>
              <a:stCxn id="295" idx="2"/>
              <a:endCxn id="29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48" name=""/>
            <p:cNvCxnSpPr>
              <a:stCxn id="410" idx="3"/>
              <a:endCxn id="39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52" name=""/>
            <p:cNvCxnSpPr>
              <a:stCxn id="428" idx="0"/>
              <a:endCxn id="39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56" name=""/>
            <p:cNvCxnSpPr>
              <a:stCxn id="289" idx="2"/>
              <a:endCxn id="29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6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2" name=""/>
              <p:cNvCxnSpPr>
                <a:stCxn id="461" idx="0"/>
                <a:endCxn id="46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6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0" name=""/>
              <p:cNvCxnSpPr>
                <a:stCxn id="469" idx="0"/>
                <a:endCxn id="46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7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74" name=""/>
            <p:cNvCxnSpPr>
              <a:stCxn id="287" idx="2"/>
              <a:endCxn id="39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86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81080" y="2133720"/>
            <a:ext cx="762120" cy="3045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2057400"/>
            <a:ext cx="2819160" cy="457200"/>
          </a:xfrm>
          <a:prstGeom prst="rightArrow">
            <a:avLst>
              <a:gd name="adj1" fmla="val 34722"/>
              <a:gd name="adj2" fmla="val 11110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304920"/>
            <a:ext cx="4648320" cy="1752480"/>
          </a:xfrm>
          <a:prstGeom prst="wedgeEllipseCallout">
            <a:avLst>
              <a:gd name="adj1" fmla="val -56046"/>
              <a:gd name="adj2" fmla="val 3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nser à l’instruction suivante car il faut attendre un cycle pour qu’elle ar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1770120"/>
            <a:ext cx="533520" cy="228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8120" y="1752480"/>
            <a:ext cx="533160" cy="3505320"/>
          </a:xfrm>
          <a:prstGeom prst="downArrow">
            <a:avLst>
              <a:gd name="adj1" fmla="val 43454"/>
              <a:gd name="adj2" fmla="val 7353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057400" y="1940040"/>
            <a:ext cx="533520" cy="3504960"/>
          </a:xfrm>
          <a:prstGeom prst="downArrow">
            <a:avLst>
              <a:gd name="adj1" fmla="val 43454"/>
              <a:gd name="adj2" fmla="val 7348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51000" y="1735200"/>
            <a:ext cx="609840" cy="3045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5334120"/>
            <a:ext cx="99072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3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3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8" name=""/>
              <p:cNvCxnSpPr>
                <a:stCxn id="536" idx="0"/>
                <a:endCxn id="53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3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4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42" idx="0"/>
              <a:endCxn id="54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4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0" name=""/>
            <p:cNvCxnSpPr>
              <a:stCxn id="548" idx="0"/>
              <a:endCxn id="54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5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6" name=""/>
            <p:cNvCxnSpPr>
              <a:stCxn id="554" idx="0"/>
              <a:endCxn id="55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5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>
              <a:stCxn id="560" idx="0"/>
              <a:endCxn id="56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6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"/>
            <p:cNvCxnSpPr>
              <a:stCxn id="566" idx="0"/>
              <a:endCxn id="56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7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7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"/>
            <p:cNvCxnSpPr>
              <a:stCxn id="572" idx="0"/>
              <a:endCxn id="57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7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0" name=""/>
            <p:cNvCxnSpPr>
              <a:stCxn id="578" idx="0"/>
              <a:endCxn id="57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8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8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87" name=""/>
              <p:cNvCxnSpPr>
                <a:stCxn id="586" idx="0"/>
                <a:endCxn id="58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8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8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0" name=""/>
            <p:cNvCxnSpPr>
              <a:stCxn id="527" idx="2"/>
              <a:endCxn id="51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9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59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1" name=""/>
            <p:cNvCxnSpPr>
              <a:stCxn id="600" idx="0"/>
              <a:endCxn id="59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0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5" name=""/>
            <p:cNvCxnSpPr>
              <a:stCxn id="604" idx="0"/>
              <a:endCxn id="60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0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9" name=""/>
            <p:cNvCxnSpPr>
              <a:stCxn id="608" idx="0"/>
              <a:endCxn id="60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1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12" idx="0"/>
              <a:endCxn id="61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1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"/>
            <p:cNvCxnSpPr>
              <a:stCxn id="616" idx="0"/>
              <a:endCxn id="61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1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" name=""/>
            <p:cNvCxnSpPr>
              <a:stCxn id="620" idx="0"/>
              <a:endCxn id="61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2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4" idx="0"/>
              <a:endCxn id="62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2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9" name=""/>
            <p:cNvCxnSpPr>
              <a:stCxn id="628" idx="0"/>
              <a:endCxn id="62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3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32" idx="0"/>
              <a:endCxn id="63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3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4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5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5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5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6" name=""/>
              <p:cNvCxnSpPr>
                <a:stCxn id="655" idx="0"/>
                <a:endCxn id="63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530" idx="0"/>
            <a:endCxn id="63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60" name=""/>
            <p:cNvCxnSpPr>
              <a:stCxn id="661" idx="0"/>
              <a:endCxn id="63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6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35" idx="0"/>
            <a:endCxn id="66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81" name=""/>
            <p:cNvCxnSpPr>
              <a:stCxn id="532" idx="2"/>
              <a:endCxn id="52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85" name=""/>
            <p:cNvCxnSpPr>
              <a:stCxn id="647" idx="3"/>
              <a:endCxn id="63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89" name=""/>
            <p:cNvCxnSpPr>
              <a:stCxn id="665" idx="0"/>
              <a:endCxn id="63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69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93" name=""/>
            <p:cNvCxnSpPr>
              <a:stCxn id="526" idx="2"/>
              <a:endCxn id="53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69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69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9" name=""/>
              <p:cNvCxnSpPr>
                <a:stCxn id="698" idx="0"/>
                <a:endCxn id="70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0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0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0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7" name=""/>
              <p:cNvCxnSpPr>
                <a:stCxn id="706" idx="0"/>
                <a:endCxn id="70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0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11" name=""/>
            <p:cNvCxnSpPr>
              <a:stCxn id="524" idx="2"/>
              <a:endCxn id="63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72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344280" y="2046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6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6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8" name=""/>
              <p:cNvCxnSpPr>
                <a:stCxn id="766" idx="0"/>
                <a:endCxn id="76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6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7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>
              <a:stCxn id="772" idx="0"/>
              <a:endCxn id="77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7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7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8" idx="0"/>
              <a:endCxn id="77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78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6" name=""/>
            <p:cNvCxnSpPr>
              <a:stCxn id="784" idx="0"/>
              <a:endCxn id="78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78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2" name=""/>
            <p:cNvCxnSpPr>
              <a:stCxn id="790" idx="0"/>
              <a:endCxn id="79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79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79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8" name=""/>
            <p:cNvCxnSpPr>
              <a:stCxn id="796" idx="0"/>
              <a:endCxn id="79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80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0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"/>
            <p:cNvCxnSpPr>
              <a:stCxn id="802" idx="0"/>
              <a:endCxn id="80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0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0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0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0" name=""/>
            <p:cNvCxnSpPr>
              <a:stCxn id="808" idx="0"/>
              <a:endCxn id="80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1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1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17" name=""/>
              <p:cNvCxnSpPr>
                <a:stCxn id="816" idx="0"/>
                <a:endCxn id="81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1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1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0" name=""/>
            <p:cNvCxnSpPr>
              <a:stCxn id="757" idx="2"/>
              <a:endCxn id="74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82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2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1" name=""/>
            <p:cNvCxnSpPr>
              <a:stCxn id="830" idx="0"/>
              <a:endCxn id="82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3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5" name=""/>
            <p:cNvCxnSpPr>
              <a:stCxn id="834" idx="0"/>
              <a:endCxn id="83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3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3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9" name=""/>
            <p:cNvCxnSpPr>
              <a:stCxn id="838" idx="0"/>
              <a:endCxn id="83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4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3" name=""/>
            <p:cNvCxnSpPr>
              <a:stCxn id="842" idx="0"/>
              <a:endCxn id="84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4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7" name=""/>
            <p:cNvCxnSpPr>
              <a:stCxn id="846" idx="0"/>
              <a:endCxn id="84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4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50" idx="0"/>
              <a:endCxn id="84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5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5" name=""/>
            <p:cNvCxnSpPr>
              <a:stCxn id="854" idx="0"/>
              <a:endCxn id="85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5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9" name=""/>
            <p:cNvCxnSpPr>
              <a:stCxn id="858" idx="0"/>
              <a:endCxn id="85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6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3" name=""/>
            <p:cNvCxnSpPr>
              <a:stCxn id="862" idx="0"/>
              <a:endCxn id="86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6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7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88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88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6" name=""/>
              <p:cNvCxnSpPr>
                <a:stCxn id="885" idx="0"/>
                <a:endCxn id="86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760" idx="0"/>
            <a:endCxn id="86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890" name=""/>
            <p:cNvCxnSpPr>
              <a:stCxn id="891" idx="0"/>
              <a:endCxn id="86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89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8" name=""/>
          <p:cNvCxnSpPr>
            <a:stCxn id="865" idx="0"/>
            <a:endCxn id="89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89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11" name=""/>
            <p:cNvCxnSpPr>
              <a:stCxn id="762" idx="2"/>
              <a:endCxn id="75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1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15" name=""/>
            <p:cNvCxnSpPr>
              <a:stCxn id="877" idx="3"/>
              <a:endCxn id="86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91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19" name=""/>
            <p:cNvCxnSpPr>
              <a:stCxn id="895" idx="0"/>
              <a:endCxn id="86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92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23" name=""/>
            <p:cNvCxnSpPr>
              <a:stCxn id="756" idx="2"/>
              <a:endCxn id="76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2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2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9" name=""/>
              <p:cNvCxnSpPr>
                <a:stCxn id="928" idx="0"/>
                <a:endCxn id="93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3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3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3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7" name=""/>
              <p:cNvCxnSpPr>
                <a:stCxn id="936" idx="0"/>
                <a:endCxn id="93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93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41" name=""/>
            <p:cNvCxnSpPr>
              <a:stCxn id="754" idx="2"/>
              <a:endCxn id="86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95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344280" y="2046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PC= PC+1; fetch ; goto (MB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truisons le contrôleur pour 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4" name=""/>
          <p:cNvSpPr/>
          <p:nvPr/>
        </p:nvSpPr>
        <p:spPr>
          <a:xfrm>
            <a:off x="2514600" y="1828800"/>
            <a:ext cx="29718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82720" y="15177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8640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937480" y="2816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8:21:35Z</dcterms:created>
  <dc:creator>Chateigner</dc:creator>
  <dc:description/>
  <dc:language>en-US</dc:language>
  <cp:lastModifiedBy>Chateigner</cp:lastModifiedBy>
  <dcterms:modified xsi:type="dcterms:W3CDTF">2002-01-30T10:32:41Z</dcterms:modified>
  <cp:revision>5</cp:revision>
  <dc:subject/>
  <dc:title>Exemple chargement d’une instruction</dc:title>
</cp:coreProperties>
</file>