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92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424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60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92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424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612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Fonctionnement%20machine%20a%20pile.ppt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r&#233;sentation%20de%20l&apos;architecture.ppt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Fonctionnement%20du%20Controleur.ppt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BS02009_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5818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chine à P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incipe de fonctionnement d’une machine à p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2" name="BD04934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58960" y="1695600"/>
            <a:ext cx="382428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ésentation de la  micro-architectur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67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69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1" name=""/>
              <p:cNvCxnSpPr>
                <a:stCxn id="69" idx="0"/>
                <a:endCxn id="70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72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73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4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5" idx="0"/>
              <a:endCxn id="76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8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79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80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1" idx="0"/>
              <a:endCxn id="82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85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86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7" idx="0"/>
              <a:endCxn id="88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0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91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" name=""/>
            <p:cNvCxnSpPr>
              <a:stCxn id="93" idx="0"/>
              <a:endCxn id="94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6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97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9" idx="0"/>
              <a:endCxn id="100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2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03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4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>
              <a:stCxn id="105" idx="0"/>
              <a:endCxn id="106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8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09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10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1" idx="0"/>
              <a:endCxn id="112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4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15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18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0" name=""/>
              <p:cNvCxnSpPr>
                <a:stCxn id="119" idx="0"/>
                <a:endCxn id="115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1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22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" name=""/>
            <p:cNvCxnSpPr>
              <a:stCxn id="60" idx="2"/>
              <a:endCxn id="45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4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32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3" idx="0"/>
              <a:endCxn id="132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5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36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7" idx="0"/>
              <a:endCxn id="136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40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0"/>
              <a:endCxn id="140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44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5" idx="0"/>
              <a:endCxn id="144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7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48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0"/>
              <a:endCxn id="148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52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3" idx="0"/>
              <a:endCxn id="152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56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0"/>
              <a:endCxn id="156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9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60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1" idx="0"/>
              <a:endCxn id="160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3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64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5" idx="0"/>
              <a:endCxn id="164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67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82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83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4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5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87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88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9" name=""/>
              <p:cNvCxnSpPr>
                <a:stCxn id="188" idx="0"/>
                <a:endCxn id="170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90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1" name=""/>
          <p:cNvCxnSpPr>
            <a:stCxn id="63" idx="0"/>
            <a:endCxn id="172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2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93" name=""/>
            <p:cNvCxnSpPr>
              <a:stCxn id="194" idx="0"/>
              <a:endCxn id="168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95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68" idx="0"/>
            <a:endCxn id="20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15" name=""/>
            <p:cNvCxnSpPr>
              <a:stCxn id="65" idx="2"/>
              <a:endCxn id="61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19" name=""/>
            <p:cNvCxnSpPr>
              <a:stCxn id="180" idx="3"/>
              <a:endCxn id="167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23" name=""/>
            <p:cNvCxnSpPr>
              <a:stCxn id="198" idx="0"/>
              <a:endCxn id="168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27" name=""/>
            <p:cNvCxnSpPr>
              <a:stCxn id="59" idx="2"/>
              <a:endCxn id="63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31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32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3" name=""/>
              <p:cNvCxnSpPr>
                <a:stCxn id="232" idx="0"/>
                <a:endCxn id="234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5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38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39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1" name=""/>
              <p:cNvCxnSpPr>
                <a:stCxn id="240" idx="0"/>
                <a:endCxn id="239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42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45" name=""/>
            <p:cNvCxnSpPr>
              <a:stCxn id="57" idx="2"/>
              <a:endCxn id="168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6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57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762120"/>
            <a:ext cx="49464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ésentation du micro-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9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0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2" name=""/>
              <p:cNvCxnSpPr>
                <a:stCxn id="300" idx="0"/>
                <a:endCxn id="30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0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0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>
              <a:stCxn id="306" idx="0"/>
              <a:endCxn id="30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1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1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4" name=""/>
            <p:cNvCxnSpPr>
              <a:stCxn id="312" idx="0"/>
              <a:endCxn id="31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1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0" name=""/>
            <p:cNvCxnSpPr>
              <a:stCxn id="318" idx="0"/>
              <a:endCxn id="31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2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6" name=""/>
            <p:cNvCxnSpPr>
              <a:stCxn id="324" idx="0"/>
              <a:endCxn id="32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2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2" name=""/>
            <p:cNvCxnSpPr>
              <a:stCxn id="330" idx="0"/>
              <a:endCxn id="33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3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3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8" name=""/>
            <p:cNvCxnSpPr>
              <a:stCxn id="336" idx="0"/>
              <a:endCxn id="33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4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4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4" name=""/>
            <p:cNvCxnSpPr>
              <a:stCxn id="342" idx="0"/>
              <a:endCxn id="34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4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4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51" name=""/>
              <p:cNvCxnSpPr>
                <a:stCxn id="350" idx="0"/>
                <a:endCxn id="34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5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5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4" name=""/>
            <p:cNvCxnSpPr>
              <a:stCxn id="291" idx="2"/>
              <a:endCxn id="27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6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5" name=""/>
            <p:cNvCxnSpPr>
              <a:stCxn id="364" idx="0"/>
              <a:endCxn id="36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6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9" name=""/>
            <p:cNvCxnSpPr>
              <a:stCxn id="368" idx="0"/>
              <a:endCxn id="36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7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0"/>
              <a:endCxn id="37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7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6" idx="0"/>
              <a:endCxn id="37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7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1" name=""/>
            <p:cNvCxnSpPr>
              <a:stCxn id="380" idx="0"/>
              <a:endCxn id="37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8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0"/>
              <a:endCxn id="38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8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8" idx="0"/>
              <a:endCxn id="38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9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3" name=""/>
            <p:cNvCxnSpPr>
              <a:stCxn id="392" idx="0"/>
              <a:endCxn id="39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9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7" name=""/>
            <p:cNvCxnSpPr>
              <a:stCxn id="396" idx="0"/>
              <a:endCxn id="39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9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1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1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1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1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0" name=""/>
              <p:cNvCxnSpPr>
                <a:stCxn id="419" idx="0"/>
                <a:endCxn id="40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2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2" name=""/>
          <p:cNvCxnSpPr>
            <a:stCxn id="294" idx="0"/>
            <a:endCxn id="40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2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24" name=""/>
            <p:cNvCxnSpPr>
              <a:stCxn id="425" idx="0"/>
              <a:endCxn id="39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2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2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399" idx="0"/>
            <a:endCxn id="431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46" name=""/>
            <p:cNvCxnSpPr>
              <a:stCxn id="296" idx="2"/>
              <a:endCxn id="29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7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50" name=""/>
            <p:cNvCxnSpPr>
              <a:stCxn id="411" idx="3"/>
              <a:endCxn id="39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54" name=""/>
            <p:cNvCxnSpPr>
              <a:stCxn id="429" idx="0"/>
              <a:endCxn id="39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5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58" name=""/>
            <p:cNvCxnSpPr>
              <a:stCxn id="290" idx="2"/>
              <a:endCxn id="29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9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62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63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4" name=""/>
              <p:cNvCxnSpPr>
                <a:stCxn id="463" idx="0"/>
                <a:endCxn id="465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66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69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70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2" name=""/>
              <p:cNvCxnSpPr>
                <a:stCxn id="471" idx="0"/>
                <a:endCxn id="470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73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76" name=""/>
            <p:cNvCxnSpPr>
              <a:stCxn id="288" idx="2"/>
              <a:endCxn id="39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7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488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BD06111_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1166760"/>
            <a:ext cx="19908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55:56Z</dcterms:created>
  <dc:creator>Chateigner</dc:creator>
  <dc:description/>
  <dc:language>en-US</dc:language>
  <cp:lastModifiedBy>Chateigner</cp:lastModifiedBy>
  <dcterms:modified xsi:type="dcterms:W3CDTF">2002-01-30T10:45:48Z</dcterms:modified>
  <cp:revision>5</cp:revision>
  <dc:subject/>
  <dc:title>Machine à Pile</dc:title>
</cp:coreProperties>
</file>