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63760" y="3683160"/>
            <a:ext cx="5445000" cy="1450800"/>
            <a:chOff x="1463760" y="3683160"/>
            <a:chExt cx="5445000" cy="1450800"/>
          </a:xfrm>
        </p:grpSpPr>
        <p:sp>
          <p:nvSpPr>
            <p:cNvPr id="6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463760" y="3683160"/>
              <a:ext cx="5445000" cy="1450800"/>
              <a:chOff x="1463760" y="3683160"/>
              <a:chExt cx="5445000" cy="1450800"/>
            </a:xfrm>
          </p:grpSpPr>
          <p:sp>
            <p:nvSpPr>
              <p:cNvPr id="6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5" idx="0"/>
                <a:endCxn id="66" idx="0"/>
              </p:cNvCxnSpPr>
              <p:nvPr/>
            </p:nvCxnSpPr>
            <p:spPr>
              <a:xfrm flipH="1" flipV="1" rot="5400000">
                <a:off x="3536280" y="1761840"/>
                <a:ext cx="1299600" cy="544536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8" name=""/>
          <p:cNvGrpSpPr/>
          <p:nvPr/>
        </p:nvGrpSpPr>
        <p:grpSpPr>
          <a:xfrm>
            <a:off x="1390680" y="3683160"/>
            <a:ext cx="5575320" cy="1025280"/>
            <a:chOff x="1390680" y="3683160"/>
            <a:chExt cx="5575320" cy="1025280"/>
          </a:xfrm>
        </p:grpSpPr>
        <p:grpSp>
          <p:nvGrpSpPr>
            <p:cNvPr id="6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1" idx="0"/>
              <a:endCxn id="72" idx="0"/>
            </p:cNvCxnSpPr>
            <p:nvPr/>
          </p:nvCxnSpPr>
          <p:spPr>
            <a:xfrm flipH="1" flipV="1" rot="5400000">
              <a:off x="3741120" y="1483920"/>
              <a:ext cx="874080" cy="55756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4" name=""/>
          <p:cNvGrpSpPr/>
          <p:nvPr/>
        </p:nvGrpSpPr>
        <p:grpSpPr>
          <a:xfrm>
            <a:off x="1322280" y="3683160"/>
            <a:ext cx="5713560" cy="601560"/>
            <a:chOff x="1322280" y="3683160"/>
            <a:chExt cx="5713560" cy="601560"/>
          </a:xfrm>
        </p:grpSpPr>
        <p:grpSp>
          <p:nvGrpSpPr>
            <p:cNvPr id="7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77" idx="0"/>
              <a:endCxn id="78" idx="0"/>
            </p:cNvCxnSpPr>
            <p:nvPr/>
          </p:nvCxnSpPr>
          <p:spPr>
            <a:xfrm flipH="1" flipV="1" rot="5400000">
              <a:off x="3953880" y="1203120"/>
              <a:ext cx="450360" cy="57139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" name=""/>
          <p:cNvGrpSpPr/>
          <p:nvPr/>
        </p:nvGrpSpPr>
        <p:grpSpPr>
          <a:xfrm>
            <a:off x="1252080" y="3630240"/>
            <a:ext cx="5837760" cy="228600"/>
            <a:chOff x="1252080" y="3630240"/>
            <a:chExt cx="5837760" cy="228600"/>
          </a:xfrm>
        </p:grpSpPr>
        <p:grpSp>
          <p:nvGrpSpPr>
            <p:cNvPr id="8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3" idx="0"/>
              <a:endCxn id="84" idx="0"/>
            </p:cNvCxnSpPr>
            <p:nvPr/>
          </p:nvCxnSpPr>
          <p:spPr>
            <a:xfrm flipH="1" flipV="1" rot="5400000">
              <a:off x="4158720" y="927720"/>
              <a:ext cx="24480" cy="5838120"/>
            </a:xfrm>
            <a:prstGeom prst="bentConnector4">
              <a:avLst>
                <a:gd name="adj1" fmla="val 947761"/>
                <a:gd name="adj2" fmla="val 5891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" name=""/>
          <p:cNvGrpSpPr/>
          <p:nvPr/>
        </p:nvGrpSpPr>
        <p:grpSpPr>
          <a:xfrm>
            <a:off x="1133280" y="2835360"/>
            <a:ext cx="6077160" cy="1000080"/>
            <a:chOff x="1133280" y="2835360"/>
            <a:chExt cx="6077160" cy="1000080"/>
          </a:xfrm>
        </p:grpSpPr>
        <p:grpSp>
          <p:nvGrpSpPr>
            <p:cNvPr id="8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" name=""/>
            <p:cNvCxnSpPr>
              <a:stCxn id="89" idx="0"/>
              <a:endCxn id="90" idx="0"/>
            </p:cNvCxnSpPr>
            <p:nvPr/>
          </p:nvCxnSpPr>
          <p:spPr>
            <a:xfrm flipH="1" rot="16200000">
              <a:off x="3753000" y="377280"/>
              <a:ext cx="837720" cy="607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1204560" y="3258720"/>
            <a:ext cx="5939280" cy="576720"/>
            <a:chOff x="1204560" y="3258720"/>
            <a:chExt cx="5939280" cy="576720"/>
          </a:xfrm>
        </p:grpSpPr>
        <p:grpSp>
          <p:nvGrpSpPr>
            <p:cNvPr id="9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9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5" idx="0"/>
              <a:endCxn id="96" idx="0"/>
            </p:cNvCxnSpPr>
            <p:nvPr/>
          </p:nvCxnSpPr>
          <p:spPr>
            <a:xfrm flipH="1" rot="16200000">
              <a:off x="3967200" y="658080"/>
              <a:ext cx="414360" cy="59396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8" name=""/>
          <p:cNvGrpSpPr/>
          <p:nvPr/>
        </p:nvGrpSpPr>
        <p:grpSpPr>
          <a:xfrm>
            <a:off x="834840" y="1991880"/>
            <a:ext cx="6432840" cy="1843560"/>
            <a:chOff x="834840" y="1991880"/>
            <a:chExt cx="6432840" cy="1843560"/>
          </a:xfrm>
        </p:grpSpPr>
        <p:grpSp>
          <p:nvGrpSpPr>
            <p:cNvPr id="9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1" idx="0"/>
              <a:endCxn id="102" idx="0"/>
            </p:cNvCxnSpPr>
            <p:nvPr/>
          </p:nvCxnSpPr>
          <p:spPr>
            <a:xfrm flipH="1" flipV="1" rot="10800000">
              <a:off x="1062000" y="2144160"/>
              <a:ext cx="6206040" cy="1690560"/>
            </a:xfrm>
            <a:prstGeom prst="bentConnector3">
              <a:avLst>
                <a:gd name="adj1" fmla="val -366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990360" y="1539360"/>
            <a:ext cx="6347160" cy="2296080"/>
            <a:chOff x="990360" y="1539360"/>
            <a:chExt cx="6347160" cy="2296080"/>
          </a:xfrm>
        </p:grpSpPr>
        <p:grpSp>
          <p:nvGrpSpPr>
            <p:cNvPr id="10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7" idx="0"/>
              <a:endCxn id="108" idx="0"/>
            </p:cNvCxnSpPr>
            <p:nvPr/>
          </p:nvCxnSpPr>
          <p:spPr>
            <a:xfrm flipH="1" rot="16200000">
              <a:off x="3097440" y="-405720"/>
              <a:ext cx="2133360" cy="634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914400" y="1116000"/>
            <a:ext cx="6473880" cy="2719440"/>
            <a:chOff x="914400" y="1116000"/>
            <a:chExt cx="6473880" cy="2719440"/>
          </a:xfrm>
        </p:grpSpPr>
        <p:sp>
          <p:nvSpPr>
            <p:cNvPr id="11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914400" y="1116000"/>
              <a:ext cx="6473880" cy="2718720"/>
              <a:chOff x="914400" y="1116000"/>
              <a:chExt cx="6473880" cy="2718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6" name=""/>
              <p:cNvCxnSpPr>
                <a:stCxn id="115" idx="0"/>
                <a:endCxn id="111" idx="0"/>
              </p:cNvCxnSpPr>
              <p:nvPr/>
            </p:nvCxnSpPr>
            <p:spPr>
              <a:xfrm flipH="1" rot="16200000">
                <a:off x="2870640" y="-683280"/>
                <a:ext cx="2561760" cy="647424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17" name=""/>
          <p:cNvGrpSpPr/>
          <p:nvPr/>
        </p:nvGrpSpPr>
        <p:grpSpPr>
          <a:xfrm>
            <a:off x="2342880" y="534960"/>
            <a:ext cx="5159520" cy="3381120"/>
            <a:chOff x="2342880" y="534960"/>
            <a:chExt cx="5159520" cy="3381120"/>
          </a:xfrm>
        </p:grpSpPr>
        <p:sp>
          <p:nvSpPr>
            <p:cNvPr id="11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56" idx="2"/>
              <a:endCxn id="41" idx="0"/>
            </p:cNvCxnSpPr>
            <p:nvPr/>
          </p:nvCxnSpPr>
          <p:spPr>
            <a:xfrm flipV="1" rot="16200000">
              <a:off x="3488400" y="-329400"/>
              <a:ext cx="2868840" cy="5159880"/>
            </a:xfrm>
            <a:prstGeom prst="bentConnector5">
              <a:avLst>
                <a:gd name="adj1" fmla="val -8069"/>
                <a:gd name="adj2" fmla="val 39198"/>
                <a:gd name="adj3" fmla="val 108408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2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43200" y="1228680"/>
            <a:ext cx="1006560" cy="487440"/>
            <a:chOff x="2743200" y="1228680"/>
            <a:chExt cx="1006560" cy="487440"/>
          </a:xfrm>
        </p:grpSpPr>
        <p:sp>
          <p:nvSpPr>
            <p:cNvPr id="12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0"/>
              <a:endCxn id="128" idx="0"/>
            </p:cNvCxnSpPr>
            <p:nvPr/>
          </p:nvCxnSpPr>
          <p:spPr>
            <a:xfrm flipV="1">
              <a:off x="2743200" y="1304640"/>
              <a:ext cx="1006920" cy="411120"/>
            </a:xfrm>
            <a:prstGeom prst="bentConnector3">
              <a:avLst>
                <a:gd name="adj1" fmla="val 5178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" name=""/>
          <p:cNvGrpSpPr/>
          <p:nvPr/>
        </p:nvGrpSpPr>
        <p:grpSpPr>
          <a:xfrm>
            <a:off x="2523960" y="1228680"/>
            <a:ext cx="1298520" cy="925200"/>
            <a:chOff x="2523960" y="1228680"/>
            <a:chExt cx="1298520" cy="925200"/>
          </a:xfrm>
        </p:grpSpPr>
        <p:sp>
          <p:nvSpPr>
            <p:cNvPr id="13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0"/>
              <a:endCxn id="132" idx="0"/>
            </p:cNvCxnSpPr>
            <p:nvPr/>
          </p:nvCxnSpPr>
          <p:spPr>
            <a:xfrm flipV="1">
              <a:off x="2523960" y="1304640"/>
              <a:ext cx="1298880" cy="848880"/>
            </a:xfrm>
            <a:prstGeom prst="bentConnector3">
              <a:avLst>
                <a:gd name="adj1" fmla="val 51095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2747880" y="1231920"/>
            <a:ext cx="1312560" cy="1750680"/>
            <a:chOff x="2747880" y="1231920"/>
            <a:chExt cx="1312560" cy="1750680"/>
          </a:xfrm>
        </p:grpSpPr>
        <p:sp>
          <p:nvSpPr>
            <p:cNvPr id="13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7" idx="0"/>
              <a:endCxn id="136" idx="0"/>
            </p:cNvCxnSpPr>
            <p:nvPr/>
          </p:nvCxnSpPr>
          <p:spPr>
            <a:xfrm flipV="1">
              <a:off x="2747880" y="1307880"/>
              <a:ext cx="1312920" cy="1674360"/>
            </a:xfrm>
            <a:prstGeom prst="bentConnector3">
              <a:avLst>
                <a:gd name="adj1" fmla="val 5137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752560" y="1228680"/>
            <a:ext cx="1228680" cy="1335240"/>
            <a:chOff x="2752560" y="1228680"/>
            <a:chExt cx="1228680" cy="1335240"/>
          </a:xfrm>
        </p:grpSpPr>
        <p:sp>
          <p:nvSpPr>
            <p:cNvPr id="14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0"/>
              <a:endCxn id="140" idx="0"/>
            </p:cNvCxnSpPr>
            <p:nvPr/>
          </p:nvCxnSpPr>
          <p:spPr>
            <a:xfrm flipV="1">
              <a:off x="2752560" y="1304640"/>
              <a:ext cx="1229040" cy="1258920"/>
            </a:xfrm>
            <a:prstGeom prst="bentConnector3">
              <a:avLst>
                <a:gd name="adj1" fmla="val 514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2878200" y="1228680"/>
            <a:ext cx="1030320" cy="1477080"/>
            <a:chOff x="2878200" y="1228680"/>
            <a:chExt cx="1030320" cy="1477080"/>
          </a:xfrm>
        </p:grpSpPr>
        <p:sp>
          <p:nvSpPr>
            <p:cNvPr id="14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0"/>
              <a:endCxn id="144" idx="0"/>
            </p:cNvCxnSpPr>
            <p:nvPr/>
          </p:nvCxnSpPr>
          <p:spPr>
            <a:xfrm flipH="1" flipV="1" rot="5400000">
              <a:off x="2811600" y="1370880"/>
              <a:ext cx="1163520" cy="1030680"/>
            </a:xfrm>
            <a:prstGeom prst="bentConnector3">
              <a:avLst>
                <a:gd name="adj1" fmla="val -2045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2747880" y="1231920"/>
            <a:ext cx="1385640" cy="2174400"/>
            <a:chOff x="2747880" y="1231920"/>
            <a:chExt cx="1385640" cy="2174400"/>
          </a:xfrm>
        </p:grpSpPr>
        <p:sp>
          <p:nvSpPr>
            <p:cNvPr id="14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0"/>
              <a:endCxn id="148" idx="0"/>
            </p:cNvCxnSpPr>
            <p:nvPr/>
          </p:nvCxnSpPr>
          <p:spPr>
            <a:xfrm flipV="1">
              <a:off x="2747880" y="1307880"/>
              <a:ext cx="1386000" cy="2098080"/>
            </a:xfrm>
            <a:prstGeom prst="bentConnector3">
              <a:avLst>
                <a:gd name="adj1" fmla="val 5131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2747880" y="1231920"/>
            <a:ext cx="1471320" cy="2612520"/>
            <a:chOff x="2747880" y="1231920"/>
            <a:chExt cx="1471320" cy="2612520"/>
          </a:xfrm>
        </p:grpSpPr>
        <p:sp>
          <p:nvSpPr>
            <p:cNvPr id="15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0"/>
              <a:endCxn id="152" idx="0"/>
            </p:cNvCxnSpPr>
            <p:nvPr/>
          </p:nvCxnSpPr>
          <p:spPr>
            <a:xfrm flipV="1">
              <a:off x="2747880" y="1307880"/>
              <a:ext cx="1471680" cy="2536200"/>
            </a:xfrm>
            <a:prstGeom prst="bentConnector3">
              <a:avLst>
                <a:gd name="adj1" fmla="val 51235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2695680" y="1231920"/>
            <a:ext cx="1596960" cy="3007800"/>
            <a:chOff x="2695680" y="1231920"/>
            <a:chExt cx="1596960" cy="3007800"/>
          </a:xfrm>
        </p:grpSpPr>
        <p:sp>
          <p:nvSpPr>
            <p:cNvPr id="15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0"/>
              <a:endCxn id="156" idx="0"/>
            </p:cNvCxnSpPr>
            <p:nvPr/>
          </p:nvCxnSpPr>
          <p:spPr>
            <a:xfrm flipV="1">
              <a:off x="2696760" y="1307880"/>
              <a:ext cx="1596240" cy="2931840"/>
            </a:xfrm>
            <a:prstGeom prst="bentConnector3">
              <a:avLst>
                <a:gd name="adj1" fmla="val 511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2752560" y="1235160"/>
            <a:ext cx="1609560" cy="3448080"/>
            <a:chOff x="2752560" y="1235160"/>
            <a:chExt cx="1609560" cy="3448080"/>
          </a:xfrm>
        </p:grpSpPr>
        <p:sp>
          <p:nvSpPr>
            <p:cNvPr id="16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1" idx="0"/>
              <a:endCxn id="160" idx="0"/>
            </p:cNvCxnSpPr>
            <p:nvPr/>
          </p:nvCxnSpPr>
          <p:spPr>
            <a:xfrm flipV="1">
              <a:off x="2752560" y="1310400"/>
              <a:ext cx="1609920" cy="3372480"/>
            </a:xfrm>
            <a:prstGeom prst="bentConnector3">
              <a:avLst>
                <a:gd name="adj1" fmla="val 5112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7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48080" y="5130720"/>
            <a:ext cx="1352520" cy="762120"/>
            <a:chOff x="3448080" y="5130720"/>
            <a:chExt cx="1352520" cy="762120"/>
          </a:xfrm>
        </p:grpSpPr>
        <p:grpSp>
          <p:nvGrpSpPr>
            <p:cNvPr id="183" name=""/>
            <p:cNvGrpSpPr/>
            <p:nvPr/>
          </p:nvGrpSpPr>
          <p:grpSpPr>
            <a:xfrm>
              <a:off x="3448080" y="5369040"/>
              <a:ext cx="1352520" cy="523800"/>
              <a:chOff x="3448080" y="5369040"/>
              <a:chExt cx="1352520" cy="523800"/>
            </a:xfrm>
          </p:grpSpPr>
          <p:sp>
            <p:nvSpPr>
              <p:cNvPr id="18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>
                <a:stCxn id="184" idx="0"/>
                <a:endCxn id="166" idx="2"/>
              </p:cNvCxnSpPr>
              <p:nvPr/>
            </p:nvCxnSpPr>
            <p:spPr>
              <a:xfrm flipH="1" flipV="1" rot="5400000">
                <a:off x="4052520" y="4916160"/>
                <a:ext cx="295560" cy="1201320"/>
              </a:xfrm>
              <a:prstGeom prst="bentConnector3">
                <a:avLst>
                  <a:gd name="adj1" fmla="val -7743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" name=""/>
          <p:cNvCxnSpPr>
            <a:stCxn id="59" idx="0"/>
            <a:endCxn id="168" idx="2"/>
          </p:cNvCxnSpPr>
          <p:nvPr/>
        </p:nvCxnSpPr>
        <p:spPr>
          <a:xfrm flipV="1">
            <a:off x="4705200" y="1663560"/>
            <a:ext cx="360" cy="3086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5114880" y="2054160"/>
            <a:ext cx="1104840" cy="1437840"/>
            <a:chOff x="5114880" y="2054160"/>
            <a:chExt cx="1104840" cy="1437840"/>
          </a:xfrm>
        </p:grpSpPr>
        <p:cxnSp>
          <p:nvCxnSpPr>
            <p:cNvPr id="189" name=""/>
            <p:cNvCxnSpPr>
              <a:stCxn id="190" idx="0"/>
              <a:endCxn id="164" idx="3"/>
            </p:cNvCxnSpPr>
            <p:nvPr/>
          </p:nvCxnSpPr>
          <p:spPr>
            <a:xfrm flipV="1" rot="16200000">
              <a:off x="4605120" y="2563560"/>
              <a:ext cx="1286280" cy="26712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19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64" idx="0"/>
            <a:endCxn id="196" idx="1"/>
          </p:cNvCxnSpPr>
          <p:nvPr/>
        </p:nvCxnSpPr>
        <p:spPr>
          <a:xfrm flipH="1" flipV="1">
            <a:off x="4753080" y="1676520"/>
            <a:ext cx="285840" cy="30204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048280" y="914400"/>
            <a:ext cx="2673000" cy="2998080"/>
            <a:chOff x="5048280" y="914400"/>
            <a:chExt cx="2673000" cy="2998080"/>
          </a:xfrm>
        </p:grpSpPr>
        <p:cxnSp>
          <p:nvCxnSpPr>
            <p:cNvPr id="210" name=""/>
            <p:cNvCxnSpPr>
              <a:stCxn id="61" idx="2"/>
              <a:endCxn id="57" idx="3"/>
            </p:cNvCxnSpPr>
            <p:nvPr/>
          </p:nvCxnSpPr>
          <p:spPr>
            <a:xfrm flipV="1" rot="16200000">
              <a:off x="5041800" y="1001520"/>
              <a:ext cx="2686320" cy="2673360"/>
            </a:xfrm>
            <a:prstGeom prst="bentConnector4">
              <a:avLst>
                <a:gd name="adj1" fmla="val -8604"/>
                <a:gd name="adj2" fmla="val 52134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53200" y="1554120"/>
            <a:ext cx="1352520" cy="538200"/>
            <a:chOff x="5353200" y="1554120"/>
            <a:chExt cx="1352520" cy="538200"/>
          </a:xfrm>
        </p:grpSpPr>
        <p:cxnSp>
          <p:nvCxnSpPr>
            <p:cNvPr id="214" name=""/>
            <p:cNvCxnSpPr>
              <a:stCxn id="176" idx="3"/>
              <a:endCxn id="163" idx="0"/>
            </p:cNvCxnSpPr>
            <p:nvPr/>
          </p:nvCxnSpPr>
          <p:spPr>
            <a:xfrm>
              <a:off x="5353200" y="1625400"/>
              <a:ext cx="135288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38240" y="1949400"/>
            <a:ext cx="2124360" cy="231840"/>
            <a:chOff x="2838240" y="1949400"/>
            <a:chExt cx="2124360" cy="231840"/>
          </a:xfrm>
        </p:grpSpPr>
        <p:cxnSp>
          <p:nvCxnSpPr>
            <p:cNvPr id="218" name=""/>
            <p:cNvCxnSpPr>
              <a:stCxn id="194" idx="0"/>
              <a:endCxn id="164" idx="1"/>
            </p:cNvCxnSpPr>
            <p:nvPr/>
          </p:nvCxnSpPr>
          <p:spPr>
            <a:xfrm flipH="1" flipV="1" rot="5400000">
              <a:off x="3836520" y="1055520"/>
              <a:ext cx="127440" cy="2124720"/>
            </a:xfrm>
            <a:prstGeom prst="bentConnector4">
              <a:avLst>
                <a:gd name="adj1" fmla="val 182436"/>
                <a:gd name="adj2" fmla="val 52685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933800" y="3684600"/>
            <a:ext cx="1279440" cy="1325520"/>
            <a:chOff x="4933800" y="3684600"/>
            <a:chExt cx="1279440" cy="1325520"/>
          </a:xfrm>
        </p:grpSpPr>
        <p:cxnSp>
          <p:nvCxnSpPr>
            <p:cNvPr id="222" name=""/>
            <p:cNvCxnSpPr>
              <a:stCxn id="55" idx="2"/>
              <a:endCxn id="59" idx="3"/>
            </p:cNvCxnSpPr>
            <p:nvPr/>
          </p:nvCxnSpPr>
          <p:spPr>
            <a:xfrm rot="5400000">
              <a:off x="4945680" y="3672720"/>
              <a:ext cx="1256040" cy="12798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416400" y="3683160"/>
            <a:ext cx="3089160" cy="2547720"/>
            <a:chOff x="3416400" y="3683160"/>
            <a:chExt cx="3089160" cy="2547720"/>
          </a:xfrm>
        </p:grpSpPr>
        <p:grpSp>
          <p:nvGrpSpPr>
            <p:cNvPr id="226" name=""/>
            <p:cNvGrpSpPr/>
            <p:nvPr/>
          </p:nvGrpSpPr>
          <p:grpSpPr>
            <a:xfrm>
              <a:off x="3416400" y="3683160"/>
              <a:ext cx="3089160" cy="2492280"/>
              <a:chOff x="3416400" y="3683160"/>
              <a:chExt cx="3089160" cy="2492280"/>
            </a:xfrm>
          </p:grpSpPr>
          <p:sp>
            <p:nvSpPr>
              <p:cNvPr id="22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8" name=""/>
              <p:cNvCxnSpPr>
                <a:stCxn id="227" idx="0"/>
                <a:endCxn id="229" idx="3"/>
              </p:cNvCxnSpPr>
              <p:nvPr/>
            </p:nvCxnSpPr>
            <p:spPr>
              <a:xfrm flipV="1" rot="10800000">
                <a:off x="3416040" y="3834720"/>
                <a:ext cx="3089520" cy="2341080"/>
              </a:xfrm>
              <a:prstGeom prst="bentConnector3">
                <a:avLst>
                  <a:gd name="adj1" fmla="val 49947"/>
                </a:avLst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47880" y="3683160"/>
            <a:ext cx="4851360" cy="1955520"/>
            <a:chOff x="1847880" y="3683160"/>
            <a:chExt cx="4851360" cy="1955520"/>
          </a:xfrm>
        </p:grpSpPr>
        <p:grpSp>
          <p:nvGrpSpPr>
            <p:cNvPr id="233" name=""/>
            <p:cNvGrpSpPr/>
            <p:nvPr/>
          </p:nvGrpSpPr>
          <p:grpSpPr>
            <a:xfrm>
              <a:off x="1847880" y="3683160"/>
              <a:ext cx="4851360" cy="1885680"/>
              <a:chOff x="1847880" y="3683160"/>
              <a:chExt cx="4851360" cy="1885680"/>
            </a:xfrm>
          </p:grpSpPr>
          <p:sp>
            <p:nvSpPr>
              <p:cNvPr id="23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" name=""/>
              <p:cNvCxnSpPr>
                <a:stCxn id="235" idx="0"/>
                <a:endCxn id="234" idx="0"/>
              </p:cNvCxnSpPr>
              <p:nvPr/>
            </p:nvCxnSpPr>
            <p:spPr>
              <a:xfrm flipH="1" flipV="1" rot="5400000">
                <a:off x="3406320" y="2275920"/>
                <a:ext cx="1734480" cy="4851720"/>
              </a:xfrm>
              <a:prstGeom prst="bentConnector2">
                <a:avLst/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23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959360" y="2130480"/>
            <a:ext cx="873000" cy="1785600"/>
            <a:chOff x="4959360" y="2130480"/>
            <a:chExt cx="873000" cy="1785600"/>
          </a:xfrm>
        </p:grpSpPr>
        <p:cxnSp>
          <p:nvCxnSpPr>
            <p:cNvPr id="240" name=""/>
            <p:cNvCxnSpPr>
              <a:stCxn id="53" idx="2"/>
              <a:endCxn id="164" idx="2"/>
            </p:cNvCxnSpPr>
            <p:nvPr/>
          </p:nvCxnSpPr>
          <p:spPr>
            <a:xfrm flipV="1" rot="16200000">
              <a:off x="4658400" y="2510280"/>
              <a:ext cx="1554480" cy="794160"/>
            </a:xfrm>
            <a:prstGeom prst="bentConnector3">
              <a:avLst>
                <a:gd name="adj1" fmla="val -14894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52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4280" y="2046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9" idx="6"/>
          </p:cNvCxnSpPr>
          <p:nvPr/>
        </p:nvCxnSpPr>
        <p:spPr>
          <a:xfrm>
            <a:off x="6089760" y="2632320"/>
            <a:ext cx="720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1676520" y="2590920"/>
            <a:ext cx="4343400" cy="2209680"/>
          </a:xfrm>
          <a:prstGeom prst="wedgeEllipseCallout">
            <a:avLst>
              <a:gd name="adj1" fmla="val 65458"/>
              <a:gd name="adj2" fmla="val -7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aginons que l’instruction que nous venons de charger est  ISTORE 0x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MAR=MBRU+H; Goto Istore3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697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9" name=""/>
          <p:cNvSpPr/>
          <p:nvPr/>
        </p:nvSpPr>
        <p:spPr>
          <a:xfrm>
            <a:off x="228600" y="1828800"/>
            <a:ext cx="16686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68160" y="1523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982520" y="27576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124080" y="1752480"/>
            <a:ext cx="1744920" cy="281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00640" y="1447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903920" y="2590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5" name=""/>
          <p:cNvCxnSpPr>
            <a:stCxn id="1699" idx="6"/>
            <a:endCxn id="1702" idx="2"/>
          </p:cNvCxnSpPr>
          <p:nvPr/>
        </p:nvCxnSpPr>
        <p:spPr>
          <a:xfrm>
            <a:off x="1897200" y="3161880"/>
            <a:ext cx="122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6" name=""/>
          <p:cNvCxnSpPr>
            <a:stCxn id="1702" idx="6"/>
            <a:endCxn id="1707" idx="2"/>
          </p:cNvCxnSpPr>
          <p:nvPr/>
        </p:nvCxnSpPr>
        <p:spPr>
          <a:xfrm>
            <a:off x="4869000" y="3161880"/>
            <a:ext cx="130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08" name=""/>
          <p:cNvGrpSpPr/>
          <p:nvPr/>
        </p:nvGrpSpPr>
        <p:grpSpPr>
          <a:xfrm>
            <a:off x="6172200" y="1447920"/>
            <a:ext cx="2893680" cy="3124080"/>
            <a:chOff x="6172200" y="1447920"/>
            <a:chExt cx="2893680" cy="3124080"/>
          </a:xfrm>
        </p:grpSpPr>
        <p:sp>
          <p:nvSpPr>
            <p:cNvPr id="1707" name=""/>
            <p:cNvSpPr/>
            <p:nvPr/>
          </p:nvSpPr>
          <p:spPr>
            <a:xfrm>
              <a:off x="6172200" y="1752480"/>
              <a:ext cx="1744560" cy="28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523200" y="14479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0" name=""/>
            <p:cNvCxnSpPr>
              <a:stCxn id="1707" idx="6"/>
            </p:cNvCxnSpPr>
            <p:nvPr/>
          </p:nvCxnSpPr>
          <p:spPr>
            <a:xfrm flipV="1">
              <a:off x="7916400" y="3155400"/>
              <a:ext cx="52416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1" name=""/>
            <p:cNvSpPr/>
            <p:nvPr/>
          </p:nvSpPr>
          <p:spPr>
            <a:xfrm>
              <a:off x="7970760" y="26668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73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73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40" name=""/>
              <p:cNvCxnSpPr>
                <a:stCxn id="1738" idx="0"/>
                <a:endCxn id="173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4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74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74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6" name=""/>
            <p:cNvCxnSpPr>
              <a:stCxn id="1744" idx="0"/>
              <a:endCxn id="174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4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74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74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2" name=""/>
            <p:cNvCxnSpPr>
              <a:stCxn id="1750" idx="0"/>
              <a:endCxn id="175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5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75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75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8" name=""/>
            <p:cNvCxnSpPr>
              <a:stCxn id="1756" idx="0"/>
              <a:endCxn id="175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5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76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76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4" name=""/>
            <p:cNvCxnSpPr>
              <a:stCxn id="1762" idx="0"/>
              <a:endCxn id="176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6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76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76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0" name=""/>
            <p:cNvCxnSpPr>
              <a:stCxn id="1768" idx="0"/>
              <a:endCxn id="176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7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77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77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6" name=""/>
            <p:cNvCxnSpPr>
              <a:stCxn id="1774" idx="0"/>
              <a:endCxn id="177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7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77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77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2" name=""/>
            <p:cNvCxnSpPr>
              <a:stCxn id="1780" idx="0"/>
              <a:endCxn id="178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8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78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78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89" name=""/>
              <p:cNvCxnSpPr>
                <a:stCxn id="1788" idx="0"/>
                <a:endCxn id="178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9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79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2" name=""/>
            <p:cNvCxnSpPr>
              <a:stCxn id="1729" idx="2"/>
              <a:endCxn id="171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9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80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3" name=""/>
            <p:cNvCxnSpPr>
              <a:stCxn id="1802" idx="0"/>
              <a:endCxn id="180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0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80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7" name=""/>
            <p:cNvCxnSpPr>
              <a:stCxn id="1806" idx="0"/>
              <a:endCxn id="180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0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80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1" name=""/>
            <p:cNvCxnSpPr>
              <a:stCxn id="1810" idx="0"/>
              <a:endCxn id="180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1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81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5" name=""/>
            <p:cNvCxnSpPr>
              <a:stCxn id="1814" idx="0"/>
              <a:endCxn id="181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1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81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9" name=""/>
            <p:cNvCxnSpPr>
              <a:stCxn id="1818" idx="0"/>
              <a:endCxn id="181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2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82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3" name=""/>
            <p:cNvCxnSpPr>
              <a:stCxn id="1822" idx="0"/>
              <a:endCxn id="182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2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82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7" name=""/>
            <p:cNvCxnSpPr>
              <a:stCxn id="1826" idx="0"/>
              <a:endCxn id="182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2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82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1" name=""/>
            <p:cNvCxnSpPr>
              <a:stCxn id="1830" idx="0"/>
              <a:endCxn id="182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3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83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5" name=""/>
            <p:cNvCxnSpPr>
              <a:stCxn id="1834" idx="0"/>
              <a:endCxn id="183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83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5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5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5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85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85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8" name=""/>
              <p:cNvCxnSpPr>
                <a:stCxn id="1857" idx="0"/>
                <a:endCxn id="183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5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0" name=""/>
          <p:cNvCxnSpPr>
            <a:stCxn id="1732" idx="0"/>
            <a:endCxn id="184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6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862" name=""/>
            <p:cNvCxnSpPr>
              <a:stCxn id="1863" idx="0"/>
              <a:endCxn id="183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6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9" name=""/>
          <p:cNvCxnSpPr>
            <a:stCxn id="1837" idx="0"/>
            <a:endCxn id="186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882" name=""/>
            <p:cNvCxnSpPr>
              <a:stCxn id="1734" idx="2"/>
              <a:endCxn id="173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886" name=""/>
            <p:cNvCxnSpPr>
              <a:stCxn id="1849" idx="3"/>
              <a:endCxn id="183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890" name=""/>
            <p:cNvCxnSpPr>
              <a:stCxn id="1867" idx="0"/>
              <a:endCxn id="183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9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894" name=""/>
            <p:cNvCxnSpPr>
              <a:stCxn id="1728" idx="2"/>
              <a:endCxn id="173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9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89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89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00" name=""/>
              <p:cNvCxnSpPr>
                <a:stCxn id="1899" idx="0"/>
                <a:endCxn id="190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90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90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90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08" name=""/>
              <p:cNvCxnSpPr>
                <a:stCxn id="1907" idx="0"/>
                <a:endCxn id="190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0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912" name=""/>
            <p:cNvCxnSpPr>
              <a:stCxn id="1726" idx="2"/>
              <a:endCxn id="183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1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924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926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828800" y="3733920"/>
            <a:ext cx="1295280" cy="533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209680" y="1523880"/>
            <a:ext cx="457200" cy="2133720"/>
          </a:xfrm>
          <a:prstGeom prst="upArrow">
            <a:avLst>
              <a:gd name="adj1" fmla="val 50000"/>
              <a:gd name="adj2" fmla="val 11667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5" name=""/>
          <p:cNvCxnSpPr>
            <a:stCxn id="1944" idx="6"/>
            <a:endCxn id="1946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7" name=""/>
          <p:cNvCxnSpPr>
            <a:stCxn id="1948" idx="6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9" name=""/>
          <p:cNvCxnSpPr>
            <a:stCxn id="1946" idx="6"/>
            <a:endCxn id="1948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6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343400" y="1295280"/>
            <a:ext cx="4267080" cy="2286000"/>
          </a:xfrm>
          <a:prstGeom prst="wedgeEllipseCallout">
            <a:avLst>
              <a:gd name="adj1" fmla="val -86384"/>
              <a:gd name="adj2" fmla="val -42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 va donc envoyer l’élément de tête de pile dans la mém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DR=TOS;Wr; Goto Istore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97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97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79" name=""/>
              <p:cNvCxnSpPr>
                <a:stCxn id="1977" idx="0"/>
                <a:endCxn id="197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98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98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98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5" name=""/>
            <p:cNvCxnSpPr>
              <a:stCxn id="1983" idx="0"/>
              <a:endCxn id="198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8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98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98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1" name=""/>
            <p:cNvCxnSpPr>
              <a:stCxn id="1989" idx="0"/>
              <a:endCxn id="199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9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99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99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7" name=""/>
            <p:cNvCxnSpPr>
              <a:stCxn id="1995" idx="0"/>
              <a:endCxn id="199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9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99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00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3" name=""/>
            <p:cNvCxnSpPr>
              <a:stCxn id="2001" idx="0"/>
              <a:endCxn id="200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0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00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00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9" name=""/>
            <p:cNvCxnSpPr>
              <a:stCxn id="2007" idx="0"/>
              <a:endCxn id="200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1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01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01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5" name=""/>
            <p:cNvCxnSpPr>
              <a:stCxn id="2013" idx="0"/>
              <a:endCxn id="201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1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01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01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1" name=""/>
            <p:cNvCxnSpPr>
              <a:stCxn id="2019" idx="0"/>
              <a:endCxn id="202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2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02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02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028" name=""/>
              <p:cNvCxnSpPr>
                <a:stCxn id="2027" idx="0"/>
                <a:endCxn id="202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02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03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1" name=""/>
            <p:cNvCxnSpPr>
              <a:stCxn id="1968" idx="2"/>
              <a:endCxn id="195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3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04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2" name=""/>
            <p:cNvCxnSpPr>
              <a:stCxn id="2041" idx="0"/>
              <a:endCxn id="204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4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04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6" name=""/>
            <p:cNvCxnSpPr>
              <a:stCxn id="2045" idx="0"/>
              <a:endCxn id="204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4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04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0" name=""/>
            <p:cNvCxnSpPr>
              <a:stCxn id="2049" idx="0"/>
              <a:endCxn id="204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5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05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4" name=""/>
            <p:cNvCxnSpPr>
              <a:stCxn id="2053" idx="0"/>
              <a:endCxn id="205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5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05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8" name=""/>
            <p:cNvCxnSpPr>
              <a:stCxn id="2057" idx="0"/>
              <a:endCxn id="205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5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06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2" name=""/>
            <p:cNvCxnSpPr>
              <a:stCxn id="2061" idx="0"/>
              <a:endCxn id="206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6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06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6" name=""/>
            <p:cNvCxnSpPr>
              <a:stCxn id="2065" idx="0"/>
              <a:endCxn id="206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6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06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0" name=""/>
            <p:cNvCxnSpPr>
              <a:stCxn id="2069" idx="0"/>
              <a:endCxn id="206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7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07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4" name=""/>
            <p:cNvCxnSpPr>
              <a:stCxn id="2073" idx="0"/>
              <a:endCxn id="207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07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09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09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9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9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09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09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97" name=""/>
              <p:cNvCxnSpPr>
                <a:stCxn id="2096" idx="0"/>
                <a:endCxn id="207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9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99" name=""/>
          <p:cNvCxnSpPr>
            <a:stCxn id="1971" idx="0"/>
            <a:endCxn id="208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0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101" name=""/>
            <p:cNvCxnSpPr>
              <a:stCxn id="2102" idx="0"/>
              <a:endCxn id="207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10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10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8" name=""/>
          <p:cNvCxnSpPr>
            <a:stCxn id="2076" idx="0"/>
            <a:endCxn id="210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121" name=""/>
            <p:cNvCxnSpPr>
              <a:stCxn id="1973" idx="2"/>
              <a:endCxn id="196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125" name=""/>
            <p:cNvCxnSpPr>
              <a:stCxn id="2088" idx="3"/>
              <a:endCxn id="207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129" name=""/>
            <p:cNvCxnSpPr>
              <a:stCxn id="2106" idx="0"/>
              <a:endCxn id="207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133" name=""/>
            <p:cNvCxnSpPr>
              <a:stCxn id="1967" idx="2"/>
              <a:endCxn id="197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13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13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39" name=""/>
              <p:cNvCxnSpPr>
                <a:stCxn id="2138" idx="0"/>
                <a:endCxn id="214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14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14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14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47" name=""/>
              <p:cNvCxnSpPr>
                <a:stCxn id="2146" idx="0"/>
                <a:endCxn id="214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151" name=""/>
            <p:cNvCxnSpPr>
              <a:stCxn id="1965" idx="2"/>
              <a:endCxn id="207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2163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4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2165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2" name=""/>
          <p:cNvCxnSpPr>
            <a:stCxn id="2181" idx="6"/>
            <a:endCxn id="2183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4" name=""/>
          <p:cNvCxnSpPr>
            <a:stCxn id="2185" idx="6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6" name=""/>
          <p:cNvCxnSpPr>
            <a:stCxn id="2183" idx="6"/>
            <a:endCxn id="2185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3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DR=TOS;Wr; Goto Istore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21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21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15" name=""/>
              <p:cNvCxnSpPr>
                <a:stCxn id="2213" idx="0"/>
                <a:endCxn id="221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21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21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21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1" name=""/>
            <p:cNvCxnSpPr>
              <a:stCxn id="2219" idx="0"/>
              <a:endCxn id="222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2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22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22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7" name=""/>
            <p:cNvCxnSpPr>
              <a:stCxn id="2225" idx="0"/>
              <a:endCxn id="222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2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22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23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3" name=""/>
            <p:cNvCxnSpPr>
              <a:stCxn id="2231" idx="0"/>
              <a:endCxn id="223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3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23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23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9" name=""/>
            <p:cNvCxnSpPr>
              <a:stCxn id="2237" idx="0"/>
              <a:endCxn id="223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4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24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24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5" name=""/>
            <p:cNvCxnSpPr>
              <a:stCxn id="2243" idx="0"/>
              <a:endCxn id="224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4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24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24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1" name=""/>
            <p:cNvCxnSpPr>
              <a:stCxn id="2249" idx="0"/>
              <a:endCxn id="225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5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25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25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7" name=""/>
            <p:cNvCxnSpPr>
              <a:stCxn id="2255" idx="0"/>
              <a:endCxn id="225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25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25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26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26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264" name=""/>
              <p:cNvCxnSpPr>
                <a:stCxn id="2263" idx="0"/>
                <a:endCxn id="225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26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26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7" name=""/>
            <p:cNvCxnSpPr>
              <a:stCxn id="2204" idx="2"/>
              <a:endCxn id="218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226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27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8" name=""/>
            <p:cNvCxnSpPr>
              <a:stCxn id="2277" idx="0"/>
              <a:endCxn id="227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7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28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2" name=""/>
            <p:cNvCxnSpPr>
              <a:stCxn id="2281" idx="0"/>
              <a:endCxn id="228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8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28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6" name=""/>
            <p:cNvCxnSpPr>
              <a:stCxn id="2285" idx="0"/>
              <a:endCxn id="228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8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28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0" name=""/>
            <p:cNvCxnSpPr>
              <a:stCxn id="2289" idx="0"/>
              <a:endCxn id="228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9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29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4" name=""/>
            <p:cNvCxnSpPr>
              <a:stCxn id="2293" idx="0"/>
              <a:endCxn id="229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9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29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8" name=""/>
            <p:cNvCxnSpPr>
              <a:stCxn id="2297" idx="0"/>
              <a:endCxn id="229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9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30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2" name=""/>
            <p:cNvCxnSpPr>
              <a:stCxn id="2301" idx="0"/>
              <a:endCxn id="230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0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30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6" name=""/>
            <p:cNvCxnSpPr>
              <a:stCxn id="2305" idx="0"/>
              <a:endCxn id="230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30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30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0" name=""/>
            <p:cNvCxnSpPr>
              <a:stCxn id="2309" idx="0"/>
              <a:endCxn id="230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31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32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32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2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2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33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33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33" name=""/>
              <p:cNvCxnSpPr>
                <a:stCxn id="2332" idx="0"/>
                <a:endCxn id="231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3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35" name=""/>
          <p:cNvCxnSpPr>
            <a:stCxn id="2207" idx="0"/>
            <a:endCxn id="231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3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337" name=""/>
            <p:cNvCxnSpPr>
              <a:stCxn id="2338" idx="0"/>
              <a:endCxn id="231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33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34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4" name=""/>
          <p:cNvCxnSpPr>
            <a:stCxn id="2312" idx="0"/>
            <a:endCxn id="2343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45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357" name=""/>
            <p:cNvCxnSpPr>
              <a:stCxn id="2209" idx="2"/>
              <a:endCxn id="220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358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9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361" name=""/>
            <p:cNvCxnSpPr>
              <a:stCxn id="2324" idx="3"/>
              <a:endCxn id="231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362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3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4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365" name=""/>
            <p:cNvCxnSpPr>
              <a:stCxn id="2342" idx="0"/>
              <a:endCxn id="231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6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369" name=""/>
            <p:cNvCxnSpPr>
              <a:stCxn id="2203" idx="2"/>
              <a:endCxn id="220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70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1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2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73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74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5" name=""/>
              <p:cNvCxnSpPr>
                <a:stCxn id="2374" idx="0"/>
                <a:endCxn id="2376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77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9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380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381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83" name=""/>
              <p:cNvCxnSpPr>
                <a:stCxn id="2382" idx="0"/>
                <a:endCxn id="2381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2384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387" name=""/>
            <p:cNvCxnSpPr>
              <a:stCxn id="2201" idx="2"/>
              <a:endCxn id="231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388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2399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0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2401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6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8" name=""/>
          <p:cNvCxnSpPr>
            <a:stCxn id="2417" idx="6"/>
            <a:endCxn id="2419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0" name=""/>
          <p:cNvCxnSpPr>
            <a:stCxn id="2421" idx="6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2" name=""/>
          <p:cNvCxnSpPr>
            <a:stCxn id="2419" idx="6"/>
            <a:endCxn id="2421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9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DR=TOS;Wr; Goto Istore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MDR=TOS;Wr; Goto Istore4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25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7" name=""/>
          <p:cNvSpPr/>
          <p:nvPr/>
        </p:nvSpPr>
        <p:spPr>
          <a:xfrm>
            <a:off x="228600" y="1828800"/>
            <a:ext cx="10666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63240" y="14479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30320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362320" y="1752480"/>
            <a:ext cx="838080" cy="281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255760" y="1371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278160" y="2666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3" name=""/>
          <p:cNvCxnSpPr>
            <a:stCxn id="2427" idx="6"/>
            <a:endCxn id="2430" idx="2"/>
          </p:cNvCxnSpPr>
          <p:nvPr/>
        </p:nvCxnSpPr>
        <p:spPr>
          <a:xfrm>
            <a:off x="1295280" y="316188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4" name=""/>
          <p:cNvSpPr/>
          <p:nvPr/>
        </p:nvSpPr>
        <p:spPr>
          <a:xfrm>
            <a:off x="4419720" y="1752480"/>
            <a:ext cx="838080" cy="281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5" name=""/>
          <p:cNvCxnSpPr>
            <a:stCxn id="2430" idx="6"/>
            <a:endCxn id="2434" idx="2"/>
          </p:cNvCxnSpPr>
          <p:nvPr/>
        </p:nvCxnSpPr>
        <p:spPr>
          <a:xfrm>
            <a:off x="3200040" y="3161880"/>
            <a:ext cx="12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6" name=""/>
          <p:cNvSpPr/>
          <p:nvPr/>
        </p:nvSpPr>
        <p:spPr>
          <a:xfrm>
            <a:off x="4268880" y="1371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7" name=""/>
          <p:cNvCxnSpPr>
            <a:stCxn id="2434" idx="6"/>
            <a:endCxn id="2438" idx="2"/>
          </p:cNvCxnSpPr>
          <p:nvPr/>
        </p:nvCxnSpPr>
        <p:spPr>
          <a:xfrm>
            <a:off x="5257440" y="316188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9" name=""/>
          <p:cNvSpPr/>
          <p:nvPr/>
        </p:nvSpPr>
        <p:spPr>
          <a:xfrm>
            <a:off x="5335560" y="2666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6294600" y="1371600"/>
            <a:ext cx="2193480" cy="3200400"/>
            <a:chOff x="6294600" y="1371600"/>
            <a:chExt cx="2193480" cy="3200400"/>
          </a:xfrm>
        </p:grpSpPr>
        <p:sp>
          <p:nvSpPr>
            <p:cNvPr id="2438" name=""/>
            <p:cNvSpPr/>
            <p:nvPr/>
          </p:nvSpPr>
          <p:spPr>
            <a:xfrm>
              <a:off x="6400800" y="1752480"/>
              <a:ext cx="838080" cy="28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1" name=""/>
            <p:cNvCxnSpPr>
              <a:stCxn id="2438" idx="6"/>
            </p:cNvCxnSpPr>
            <p:nvPr/>
          </p:nvCxnSpPr>
          <p:spPr>
            <a:xfrm flipV="1">
              <a:off x="7238520" y="3160440"/>
              <a:ext cx="893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2" name=""/>
            <p:cNvSpPr/>
            <p:nvPr/>
          </p:nvSpPr>
          <p:spPr>
            <a:xfrm>
              <a:off x="7392960" y="26668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294600" y="13716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5" name=""/>
          <p:cNvCxnSpPr>
            <a:stCxn id="2444" idx="6"/>
            <a:endCxn id="2446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7" name=""/>
          <p:cNvCxnSpPr>
            <a:stCxn id="2448" idx="6"/>
            <a:endCxn id="2449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0" name=""/>
          <p:cNvCxnSpPr>
            <a:stCxn id="2446" idx="6"/>
            <a:endCxn id="2448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1" name=""/>
          <p:cNvCxnSpPr>
            <a:stCxn id="2449" idx="6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6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47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47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80" name=""/>
              <p:cNvCxnSpPr>
                <a:stCxn id="2478" idx="0"/>
                <a:endCxn id="247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48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48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48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6" name=""/>
            <p:cNvCxnSpPr>
              <a:stCxn id="2484" idx="0"/>
              <a:endCxn id="248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8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48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48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2" name=""/>
            <p:cNvCxnSpPr>
              <a:stCxn id="2490" idx="0"/>
              <a:endCxn id="249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9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49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49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8" name=""/>
            <p:cNvCxnSpPr>
              <a:stCxn id="2496" idx="0"/>
              <a:endCxn id="249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9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50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50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4" name=""/>
            <p:cNvCxnSpPr>
              <a:stCxn id="2502" idx="0"/>
              <a:endCxn id="250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0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50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50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0" name=""/>
            <p:cNvCxnSpPr>
              <a:stCxn id="2508" idx="0"/>
              <a:endCxn id="250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1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51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51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6" name=""/>
            <p:cNvCxnSpPr>
              <a:stCxn id="2514" idx="0"/>
              <a:endCxn id="251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1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51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51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2" name=""/>
            <p:cNvCxnSpPr>
              <a:stCxn id="2520" idx="0"/>
              <a:endCxn id="252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2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52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52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52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529" name=""/>
              <p:cNvCxnSpPr>
                <a:stCxn id="2528" idx="0"/>
                <a:endCxn id="252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53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53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32" name=""/>
            <p:cNvCxnSpPr>
              <a:stCxn id="2469" idx="2"/>
              <a:endCxn id="245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3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54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3" name=""/>
            <p:cNvCxnSpPr>
              <a:stCxn id="2542" idx="0"/>
              <a:endCxn id="254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4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54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7" name=""/>
            <p:cNvCxnSpPr>
              <a:stCxn id="2546" idx="0"/>
              <a:endCxn id="254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4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54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1" name=""/>
            <p:cNvCxnSpPr>
              <a:stCxn id="2550" idx="0"/>
              <a:endCxn id="254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5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55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5" name=""/>
            <p:cNvCxnSpPr>
              <a:stCxn id="2554" idx="0"/>
              <a:endCxn id="255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5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55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9" name=""/>
            <p:cNvCxnSpPr>
              <a:stCxn id="2558" idx="0"/>
              <a:endCxn id="255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6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56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3" name=""/>
            <p:cNvCxnSpPr>
              <a:stCxn id="2562" idx="0"/>
              <a:endCxn id="256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6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56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7" name=""/>
            <p:cNvCxnSpPr>
              <a:stCxn id="2566" idx="0"/>
              <a:endCxn id="256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6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56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1" name=""/>
            <p:cNvCxnSpPr>
              <a:stCxn id="2570" idx="0"/>
              <a:endCxn id="256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7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57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5" name=""/>
            <p:cNvCxnSpPr>
              <a:stCxn id="2574" idx="0"/>
              <a:endCxn id="257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57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59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59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9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9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59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59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98" name=""/>
              <p:cNvCxnSpPr>
                <a:stCxn id="2597" idx="0"/>
                <a:endCxn id="257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9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00" name=""/>
          <p:cNvCxnSpPr>
            <a:stCxn id="2472" idx="0"/>
            <a:endCxn id="258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0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602" name=""/>
            <p:cNvCxnSpPr>
              <a:stCxn id="2603" idx="0"/>
              <a:endCxn id="257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0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60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9" name=""/>
          <p:cNvCxnSpPr>
            <a:stCxn id="2577" idx="0"/>
            <a:endCxn id="260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622" name=""/>
            <p:cNvCxnSpPr>
              <a:stCxn id="2474" idx="2"/>
              <a:endCxn id="247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626" name=""/>
            <p:cNvCxnSpPr>
              <a:stCxn id="2589" idx="3"/>
              <a:endCxn id="257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630" name=""/>
            <p:cNvCxnSpPr>
              <a:stCxn id="2607" idx="0"/>
              <a:endCxn id="257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634" name=""/>
            <p:cNvCxnSpPr>
              <a:stCxn id="2468" idx="2"/>
              <a:endCxn id="247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63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63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40" name=""/>
              <p:cNvCxnSpPr>
                <a:stCxn id="2639" idx="0"/>
                <a:endCxn id="264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4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64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64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48" name=""/>
              <p:cNvCxnSpPr>
                <a:stCxn id="2647" idx="0"/>
                <a:endCxn id="264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64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652" name=""/>
            <p:cNvCxnSpPr>
              <a:stCxn id="2466" idx="2"/>
              <a:endCxn id="257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5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3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2664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2666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1787400" y="2462040"/>
            <a:ext cx="129564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7400" y="2895480"/>
            <a:ext cx="304920" cy="2438640"/>
          </a:xfrm>
          <a:prstGeom prst="upArrow">
            <a:avLst>
              <a:gd name="adj1" fmla="val 40833"/>
              <a:gd name="adj2" fmla="val 10570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828800" y="990720"/>
            <a:ext cx="304920" cy="4343400"/>
          </a:xfrm>
          <a:prstGeom prst="upArrow">
            <a:avLst>
              <a:gd name="adj1" fmla="val 40833"/>
              <a:gd name="adj2" fmla="val 10571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V="1">
            <a:off x="3124080" y="2895480"/>
            <a:ext cx="304920" cy="2438640"/>
          </a:xfrm>
          <a:prstGeom prst="upArrow">
            <a:avLst>
              <a:gd name="adj1" fmla="val 40833"/>
              <a:gd name="adj2" fmla="val 10570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09680" y="5334120"/>
            <a:ext cx="1295640" cy="533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P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3809880" y="457200"/>
            <a:ext cx="5105520" cy="5105520"/>
          </a:xfrm>
          <a:prstGeom prst="wedgeEllipseCallout">
            <a:avLst>
              <a:gd name="adj1" fmla="val -68222"/>
              <a:gd name="adj2" fmla="val -4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l faut mettre les registres gérant la pile à jour.On commence par décrémenter le haut de la pile et on va chercher dans la mémoire le nouvelle élément qui sera la tête de la p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DR=TOS;Wr; Goto Istore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71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71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6" name=""/>
              <p:cNvCxnSpPr>
                <a:stCxn id="2714" idx="0"/>
                <a:endCxn id="271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71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71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71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2" name=""/>
            <p:cNvCxnSpPr>
              <a:stCxn id="2720" idx="0"/>
              <a:endCxn id="272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2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72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72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8" name=""/>
            <p:cNvCxnSpPr>
              <a:stCxn id="2726" idx="0"/>
              <a:endCxn id="272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2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73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73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4" name=""/>
            <p:cNvCxnSpPr>
              <a:stCxn id="2732" idx="0"/>
              <a:endCxn id="273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3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73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73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0" name=""/>
            <p:cNvCxnSpPr>
              <a:stCxn id="2738" idx="0"/>
              <a:endCxn id="273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4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74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74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6" name=""/>
            <p:cNvCxnSpPr>
              <a:stCxn id="2744" idx="0"/>
              <a:endCxn id="274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4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74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74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52" name=""/>
            <p:cNvCxnSpPr>
              <a:stCxn id="2750" idx="0"/>
              <a:endCxn id="275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5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75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75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58" name=""/>
            <p:cNvCxnSpPr>
              <a:stCxn id="2756" idx="0"/>
              <a:endCxn id="275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5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76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76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76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765" name=""/>
              <p:cNvCxnSpPr>
                <a:stCxn id="2764" idx="0"/>
                <a:endCxn id="276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76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76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68" name=""/>
            <p:cNvCxnSpPr>
              <a:stCxn id="2705" idx="2"/>
              <a:endCxn id="269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76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77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9" name=""/>
            <p:cNvCxnSpPr>
              <a:stCxn id="2778" idx="0"/>
              <a:endCxn id="277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8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78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83" name=""/>
            <p:cNvCxnSpPr>
              <a:stCxn id="2782" idx="0"/>
              <a:endCxn id="278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8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78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87" name=""/>
            <p:cNvCxnSpPr>
              <a:stCxn id="2786" idx="0"/>
              <a:endCxn id="278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8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78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1" name=""/>
            <p:cNvCxnSpPr>
              <a:stCxn id="2790" idx="0"/>
              <a:endCxn id="278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9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79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5" name=""/>
            <p:cNvCxnSpPr>
              <a:stCxn id="2794" idx="0"/>
              <a:endCxn id="279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9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79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9" name=""/>
            <p:cNvCxnSpPr>
              <a:stCxn id="2798" idx="0"/>
              <a:endCxn id="279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80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80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3" name=""/>
            <p:cNvCxnSpPr>
              <a:stCxn id="2802" idx="0"/>
              <a:endCxn id="280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80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80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7" name=""/>
            <p:cNvCxnSpPr>
              <a:stCxn id="2806" idx="0"/>
              <a:endCxn id="280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80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80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1" name=""/>
            <p:cNvCxnSpPr>
              <a:stCxn id="2810" idx="0"/>
              <a:endCxn id="280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81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82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82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3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83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83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34" name=""/>
              <p:cNvCxnSpPr>
                <a:stCxn id="2833" idx="0"/>
                <a:endCxn id="281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3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36" name=""/>
          <p:cNvCxnSpPr>
            <a:stCxn id="2708" idx="0"/>
            <a:endCxn id="281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3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838" name=""/>
            <p:cNvCxnSpPr>
              <a:stCxn id="2839" idx="0"/>
              <a:endCxn id="281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84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84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5" name=""/>
          <p:cNvCxnSpPr>
            <a:stCxn id="2813" idx="0"/>
            <a:endCxn id="284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858" name=""/>
            <p:cNvCxnSpPr>
              <a:stCxn id="2710" idx="2"/>
              <a:endCxn id="270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5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862" name=""/>
            <p:cNvCxnSpPr>
              <a:stCxn id="2825" idx="3"/>
              <a:endCxn id="281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866" name=""/>
            <p:cNvCxnSpPr>
              <a:stCxn id="2843" idx="0"/>
              <a:endCxn id="281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870" name=""/>
            <p:cNvCxnSpPr>
              <a:stCxn id="2704" idx="2"/>
              <a:endCxn id="270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87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87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76" name=""/>
              <p:cNvCxnSpPr>
                <a:stCxn id="2875" idx="0"/>
                <a:endCxn id="287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7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88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88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84" name=""/>
              <p:cNvCxnSpPr>
                <a:stCxn id="2883" idx="0"/>
                <a:endCxn id="288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8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888" name=""/>
            <p:cNvCxnSpPr>
              <a:stCxn id="2702" idx="2"/>
              <a:endCxn id="281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2900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1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2902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9" name=""/>
          <p:cNvCxnSpPr>
            <a:stCxn id="2918" idx="6"/>
            <a:endCxn id="2920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1" name=""/>
          <p:cNvCxnSpPr>
            <a:stCxn id="2922" idx="6"/>
            <a:endCxn id="2923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4" name=""/>
          <p:cNvCxnSpPr>
            <a:stCxn id="2920" idx="6"/>
            <a:endCxn id="2922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5" name=""/>
          <p:cNvCxnSpPr>
            <a:stCxn id="2923" idx="6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0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DR=TOS;Wr; Goto Istore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7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9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950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1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952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54" name=""/>
              <p:cNvCxnSpPr>
                <a:stCxn id="2952" idx="0"/>
                <a:endCxn id="2953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955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956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957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9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0" name=""/>
            <p:cNvCxnSpPr>
              <a:stCxn id="2958" idx="0"/>
              <a:endCxn id="2959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61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962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963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5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6" name=""/>
            <p:cNvCxnSpPr>
              <a:stCxn id="2964" idx="0"/>
              <a:endCxn id="2965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67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968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969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1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72" name=""/>
            <p:cNvCxnSpPr>
              <a:stCxn id="2970" idx="0"/>
              <a:endCxn id="2971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73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974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975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7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78" name=""/>
            <p:cNvCxnSpPr>
              <a:stCxn id="2976" idx="0"/>
              <a:endCxn id="2977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979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980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981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3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4" name=""/>
            <p:cNvCxnSpPr>
              <a:stCxn id="2982" idx="0"/>
              <a:endCxn id="2983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85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986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987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0" name=""/>
            <p:cNvCxnSpPr>
              <a:stCxn id="2988" idx="0"/>
              <a:endCxn id="2989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91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992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993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5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6" name=""/>
            <p:cNvCxnSpPr>
              <a:stCxn id="2994" idx="0"/>
              <a:endCxn id="2995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997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998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9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000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001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03" name=""/>
              <p:cNvCxnSpPr>
                <a:stCxn id="3002" idx="0"/>
                <a:endCxn id="2998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3004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005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6" name=""/>
            <p:cNvCxnSpPr>
              <a:stCxn id="2943" idx="2"/>
              <a:endCxn id="2928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007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4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015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7" name=""/>
            <p:cNvCxnSpPr>
              <a:stCxn id="3016" idx="0"/>
              <a:endCxn id="3015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18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019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1" name=""/>
            <p:cNvCxnSpPr>
              <a:stCxn id="3020" idx="0"/>
              <a:endCxn id="3019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22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023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5" name=""/>
            <p:cNvCxnSpPr>
              <a:stCxn id="3024" idx="0"/>
              <a:endCxn id="3023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3026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027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9" name=""/>
            <p:cNvCxnSpPr>
              <a:stCxn id="3028" idx="0"/>
              <a:endCxn id="3027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30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031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3" name=""/>
            <p:cNvCxnSpPr>
              <a:stCxn id="3032" idx="0"/>
              <a:endCxn id="3031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34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035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7" name=""/>
            <p:cNvCxnSpPr>
              <a:stCxn id="3036" idx="0"/>
              <a:endCxn id="3035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38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039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1" name=""/>
            <p:cNvCxnSpPr>
              <a:stCxn id="3040" idx="0"/>
              <a:endCxn id="3039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42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043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5" name=""/>
            <p:cNvCxnSpPr>
              <a:stCxn id="3044" idx="0"/>
              <a:endCxn id="3043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46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047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9" name=""/>
            <p:cNvCxnSpPr>
              <a:stCxn id="3048" idx="0"/>
              <a:endCxn id="3047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050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4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065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066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67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68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9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070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071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72" name=""/>
              <p:cNvCxnSpPr>
                <a:stCxn id="3071" idx="0"/>
                <a:endCxn id="3053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73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4" name=""/>
          <p:cNvCxnSpPr>
            <a:stCxn id="2946" idx="0"/>
            <a:endCxn id="3055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5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076" name=""/>
            <p:cNvCxnSpPr>
              <a:stCxn id="3077" idx="0"/>
              <a:endCxn id="3051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078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079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1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3" name=""/>
          <p:cNvCxnSpPr>
            <a:stCxn id="3051" idx="0"/>
            <a:endCxn id="308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08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096" name=""/>
            <p:cNvCxnSpPr>
              <a:stCxn id="2948" idx="2"/>
              <a:endCxn id="2944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309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100" name=""/>
            <p:cNvCxnSpPr>
              <a:stCxn id="3063" idx="3"/>
              <a:endCxn id="3050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310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104" name=""/>
            <p:cNvCxnSpPr>
              <a:stCxn id="3081" idx="0"/>
              <a:endCxn id="3051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0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108" name=""/>
            <p:cNvCxnSpPr>
              <a:stCxn id="2942" idx="2"/>
              <a:endCxn id="2946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0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11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11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14" name=""/>
              <p:cNvCxnSpPr>
                <a:stCxn id="3113" idx="0"/>
                <a:endCxn id="311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11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12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22" name=""/>
              <p:cNvCxnSpPr>
                <a:stCxn id="3121" idx="0"/>
                <a:endCxn id="312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312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126" name=""/>
            <p:cNvCxnSpPr>
              <a:stCxn id="2940" idx="2"/>
              <a:endCxn id="3051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312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7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3138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9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3140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7" name=""/>
          <p:cNvCxnSpPr>
            <a:stCxn id="3156" idx="6"/>
            <a:endCxn id="3158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9" name=""/>
          <p:cNvCxnSpPr>
            <a:stCxn id="3160" idx="6"/>
            <a:endCxn id="3161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2" name=""/>
          <p:cNvCxnSpPr>
            <a:stCxn id="3158" idx="6"/>
            <a:endCxn id="3160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3" name=""/>
          <p:cNvCxnSpPr>
            <a:stCxn id="3161" idx="6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8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9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9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0" name=""/>
              <p:cNvCxnSpPr>
                <a:stCxn id="298" idx="0"/>
                <a:endCxn id="29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0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0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>
              <a:stCxn id="304" idx="0"/>
              <a:endCxn id="30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0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0" idx="0"/>
              <a:endCxn id="31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1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stCxn id="316" idx="0"/>
              <a:endCxn id="31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2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4" name=""/>
            <p:cNvCxnSpPr>
              <a:stCxn id="322" idx="0"/>
              <a:endCxn id="32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2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8" idx="0"/>
              <a:endCxn id="32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3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6" name=""/>
            <p:cNvCxnSpPr>
              <a:stCxn id="334" idx="0"/>
              <a:endCxn id="33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3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3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40" idx="0"/>
              <a:endCxn id="34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4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49" name=""/>
              <p:cNvCxnSpPr>
                <a:stCxn id="348" idx="0"/>
                <a:endCxn id="34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5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" name=""/>
            <p:cNvCxnSpPr>
              <a:stCxn id="289" idx="2"/>
              <a:endCxn id="27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6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0"/>
              <a:endCxn id="36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6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6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6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1" name=""/>
            <p:cNvCxnSpPr>
              <a:stCxn id="370" idx="0"/>
              <a:endCxn id="36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7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" name=""/>
            <p:cNvCxnSpPr>
              <a:stCxn id="374" idx="0"/>
              <a:endCxn id="37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7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78" idx="0"/>
              <a:endCxn id="37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8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82" idx="0"/>
              <a:endCxn id="38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8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7" name=""/>
            <p:cNvCxnSpPr>
              <a:stCxn id="386" idx="0"/>
              <a:endCxn id="38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8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" name=""/>
            <p:cNvCxnSpPr>
              <a:stCxn id="390" idx="0"/>
              <a:endCxn id="38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9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5" name=""/>
            <p:cNvCxnSpPr>
              <a:stCxn id="394" idx="0"/>
              <a:endCxn id="39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9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1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1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1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1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8" name=""/>
              <p:cNvCxnSpPr>
                <a:stCxn id="417" idx="0"/>
                <a:endCxn id="39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0" name=""/>
          <p:cNvCxnSpPr>
            <a:stCxn id="292" idx="0"/>
            <a:endCxn id="40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22" name=""/>
            <p:cNvCxnSpPr>
              <a:stCxn id="423" idx="0"/>
              <a:endCxn id="39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397" idx="0"/>
            <a:endCxn id="42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42" name=""/>
            <p:cNvCxnSpPr>
              <a:stCxn id="294" idx="2"/>
              <a:endCxn id="29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46" name=""/>
            <p:cNvCxnSpPr>
              <a:stCxn id="409" idx="3"/>
              <a:endCxn id="39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50" name=""/>
            <p:cNvCxnSpPr>
              <a:stCxn id="427" idx="0"/>
              <a:endCxn id="39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54" name=""/>
            <p:cNvCxnSpPr>
              <a:stCxn id="288" idx="2"/>
              <a:endCxn id="29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5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5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0" name=""/>
              <p:cNvCxnSpPr>
                <a:stCxn id="459" idx="0"/>
                <a:endCxn id="46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6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6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8" name=""/>
              <p:cNvCxnSpPr>
                <a:stCxn id="467" idx="0"/>
                <a:endCxn id="46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6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72" name=""/>
            <p:cNvCxnSpPr>
              <a:stCxn id="286" idx="2"/>
              <a:endCxn id="39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484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486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3429000"/>
            <a:ext cx="457200" cy="1447920"/>
          </a:xfrm>
          <a:prstGeom prst="downArrow">
            <a:avLst>
              <a:gd name="adj1" fmla="val 50000"/>
              <a:gd name="adj2" fmla="val 7917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2895480"/>
            <a:ext cx="106704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4" idx="6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3505320" y="685800"/>
            <a:ext cx="5562360" cy="4419720"/>
          </a:xfrm>
          <a:prstGeom prst="wedgeEllipseCallout">
            <a:avLst>
              <a:gd name="adj1" fmla="val -65041"/>
              <a:gd name="adj2" fmla="val 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ur sauvegarder un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 mémoire, il faut avant 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lculer son adre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ette étape prépare le calcu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dr var =LV +num de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SP=MAR=SP-1;Rd; Goto Istore5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166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8" name=""/>
          <p:cNvSpPr/>
          <p:nvPr/>
        </p:nvSpPr>
        <p:spPr>
          <a:xfrm>
            <a:off x="76320" y="1928880"/>
            <a:ext cx="10666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10960" y="1547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144440" y="2843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2057400" y="2081160"/>
            <a:ext cx="7621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906560" y="16239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2789280" y="2843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4" name=""/>
          <p:cNvCxnSpPr>
            <a:stCxn id="3168" idx="6"/>
            <a:endCxn id="3171" idx="2"/>
          </p:cNvCxnSpPr>
          <p:nvPr/>
        </p:nvCxnSpPr>
        <p:spPr>
          <a:xfrm>
            <a:off x="1143000" y="326196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5" name=""/>
          <p:cNvSpPr/>
          <p:nvPr/>
        </p:nvSpPr>
        <p:spPr>
          <a:xfrm>
            <a:off x="3751200" y="2081160"/>
            <a:ext cx="7621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6" name=""/>
          <p:cNvCxnSpPr>
            <a:stCxn id="3171" idx="6"/>
            <a:endCxn id="3175" idx="2"/>
          </p:cNvCxnSpPr>
          <p:nvPr/>
        </p:nvCxnSpPr>
        <p:spPr>
          <a:xfrm>
            <a:off x="2819520" y="3261960"/>
            <a:ext cx="93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7" name=""/>
          <p:cNvSpPr/>
          <p:nvPr/>
        </p:nvSpPr>
        <p:spPr>
          <a:xfrm>
            <a:off x="3551400" y="16239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8" name=""/>
          <p:cNvCxnSpPr>
            <a:stCxn id="3175" idx="6"/>
            <a:endCxn id="3179" idx="2"/>
          </p:cNvCxnSpPr>
          <p:nvPr/>
        </p:nvCxnSpPr>
        <p:spPr>
          <a:xfrm>
            <a:off x="4512960" y="3261960"/>
            <a:ext cx="9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0" name=""/>
          <p:cNvSpPr/>
          <p:nvPr/>
        </p:nvSpPr>
        <p:spPr>
          <a:xfrm>
            <a:off x="4465800" y="2843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5486400" y="2081160"/>
            <a:ext cx="7621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1" name=""/>
          <p:cNvCxnSpPr>
            <a:stCxn id="3179" idx="6"/>
            <a:endCxn id="3182" idx="2"/>
          </p:cNvCxnSpPr>
          <p:nvPr/>
        </p:nvCxnSpPr>
        <p:spPr>
          <a:xfrm flipV="1">
            <a:off x="6248520" y="3258360"/>
            <a:ext cx="9849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3" name=""/>
          <p:cNvSpPr/>
          <p:nvPr/>
        </p:nvSpPr>
        <p:spPr>
          <a:xfrm>
            <a:off x="6218280" y="2843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5335560" y="16239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5" name=""/>
          <p:cNvGrpSpPr/>
          <p:nvPr/>
        </p:nvGrpSpPr>
        <p:grpSpPr>
          <a:xfrm>
            <a:off x="7132680" y="1333440"/>
            <a:ext cx="2085840" cy="3467160"/>
            <a:chOff x="7132680" y="1333440"/>
            <a:chExt cx="2085840" cy="3467160"/>
          </a:xfrm>
        </p:grpSpPr>
        <p:sp>
          <p:nvSpPr>
            <p:cNvPr id="3182" name=""/>
            <p:cNvSpPr/>
            <p:nvPr/>
          </p:nvSpPr>
          <p:spPr>
            <a:xfrm>
              <a:off x="7232760" y="1717560"/>
              <a:ext cx="914400" cy="308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153280" y="3224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123400" y="28432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132680" y="133344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2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21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4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21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17" name=""/>
              <p:cNvCxnSpPr>
                <a:stCxn id="3215" idx="0"/>
                <a:endCxn id="3216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218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21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22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23" name=""/>
            <p:cNvCxnSpPr>
              <a:stCxn id="3221" idx="0"/>
              <a:endCxn id="3222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24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22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22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29" name=""/>
            <p:cNvCxnSpPr>
              <a:stCxn id="3227" idx="0"/>
              <a:endCxn id="3228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30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23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23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35" name=""/>
            <p:cNvCxnSpPr>
              <a:stCxn id="3233" idx="0"/>
              <a:endCxn id="3234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36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23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23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41" name=""/>
            <p:cNvCxnSpPr>
              <a:stCxn id="3239" idx="0"/>
              <a:endCxn id="3240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42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24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24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47" name=""/>
            <p:cNvCxnSpPr>
              <a:stCxn id="3245" idx="0"/>
              <a:endCxn id="3246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48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24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25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3" name=""/>
            <p:cNvCxnSpPr>
              <a:stCxn id="3251" idx="0"/>
              <a:endCxn id="3252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54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25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25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9" name=""/>
            <p:cNvCxnSpPr>
              <a:stCxn id="3257" idx="0"/>
              <a:endCxn id="3258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60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26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2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26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26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266" name=""/>
              <p:cNvCxnSpPr>
                <a:stCxn id="3265" idx="0"/>
                <a:endCxn id="3261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267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26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69" name=""/>
            <p:cNvCxnSpPr>
              <a:stCxn id="3206" idx="2"/>
              <a:endCxn id="3191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27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27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0" name=""/>
            <p:cNvCxnSpPr>
              <a:stCxn id="3279" idx="0"/>
              <a:endCxn id="3278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81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28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4" name=""/>
            <p:cNvCxnSpPr>
              <a:stCxn id="3283" idx="0"/>
              <a:endCxn id="3282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85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28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8" name=""/>
            <p:cNvCxnSpPr>
              <a:stCxn id="3287" idx="0"/>
              <a:endCxn id="3286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89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29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92" name=""/>
            <p:cNvCxnSpPr>
              <a:stCxn id="3291" idx="0"/>
              <a:endCxn id="3290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93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29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96" name=""/>
            <p:cNvCxnSpPr>
              <a:stCxn id="3295" idx="0"/>
              <a:endCxn id="3294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97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29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0" name=""/>
            <p:cNvCxnSpPr>
              <a:stCxn id="3299" idx="0"/>
              <a:endCxn id="3298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01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30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4" name=""/>
            <p:cNvCxnSpPr>
              <a:stCxn id="3303" idx="0"/>
              <a:endCxn id="3302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05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30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8" name=""/>
            <p:cNvCxnSpPr>
              <a:stCxn id="3307" idx="0"/>
              <a:endCxn id="3306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09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31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2" name=""/>
            <p:cNvCxnSpPr>
              <a:stCxn id="3311" idx="0"/>
              <a:endCxn id="3310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31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32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32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33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333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33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5" name=""/>
              <p:cNvCxnSpPr>
                <a:stCxn id="3334" idx="0"/>
                <a:endCxn id="3316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33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37" name=""/>
          <p:cNvCxnSpPr>
            <a:stCxn id="3209" idx="0"/>
            <a:endCxn id="3318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38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339" name=""/>
            <p:cNvCxnSpPr>
              <a:stCxn id="3340" idx="0"/>
              <a:endCxn id="3314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4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34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6" name=""/>
          <p:cNvCxnSpPr>
            <a:stCxn id="3314" idx="0"/>
            <a:endCxn id="334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359" name=""/>
            <p:cNvCxnSpPr>
              <a:stCxn id="3211" idx="2"/>
              <a:endCxn id="3207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363" name=""/>
            <p:cNvCxnSpPr>
              <a:stCxn id="3326" idx="3"/>
              <a:endCxn id="3313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367" name=""/>
            <p:cNvCxnSpPr>
              <a:stCxn id="3344" idx="0"/>
              <a:endCxn id="3314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371" name=""/>
            <p:cNvCxnSpPr>
              <a:stCxn id="3205" idx="2"/>
              <a:endCxn id="3209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37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37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77" name=""/>
              <p:cNvCxnSpPr>
                <a:stCxn id="3376" idx="0"/>
                <a:endCxn id="337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37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38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38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85" name=""/>
              <p:cNvCxnSpPr>
                <a:stCxn id="3384" idx="0"/>
                <a:endCxn id="338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38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389" name=""/>
            <p:cNvCxnSpPr>
              <a:stCxn id="3203" idx="2"/>
              <a:endCxn id="3314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9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0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3401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2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3403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28800" y="1676520"/>
            <a:ext cx="1295280" cy="533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28800" y="1828800"/>
            <a:ext cx="304920" cy="3505320"/>
          </a:xfrm>
          <a:prstGeom prst="upArrow">
            <a:avLst>
              <a:gd name="adj1" fmla="val 40833"/>
              <a:gd name="adj2" fmla="val 853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3124080" y="1904400"/>
            <a:ext cx="304920" cy="3429000"/>
          </a:xfrm>
          <a:prstGeom prst="upArrow">
            <a:avLst>
              <a:gd name="adj1" fmla="val 40833"/>
              <a:gd name="adj2" fmla="val 14863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209680" y="5334120"/>
            <a:ext cx="1295640" cy="533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4" name=""/>
          <p:cNvCxnSpPr>
            <a:stCxn id="3423" idx="6"/>
            <a:endCxn id="3425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6" name=""/>
          <p:cNvCxnSpPr>
            <a:stCxn id="3427" idx="6"/>
            <a:endCxn id="3428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9" name=""/>
          <p:cNvCxnSpPr>
            <a:stCxn id="3425" idx="6"/>
            <a:endCxn id="3427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0" name=""/>
          <p:cNvCxnSpPr>
            <a:stCxn id="3428" idx="6"/>
            <a:endCxn id="3431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2" name=""/>
          <p:cNvCxnSpPr>
            <a:stCxn id="3431" idx="6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5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3886200" y="2514600"/>
            <a:ext cx="4876920" cy="2362320"/>
          </a:xfrm>
          <a:prstGeom prst="wedgeEllipseCallout">
            <a:avLst>
              <a:gd name="adj1" fmla="val -67805"/>
              <a:gd name="adj2" fmla="val -7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 incrémente le compteur de programme car l’instruction ISTORE est codée sur 2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PC=PC+1;fetch; Goto Istore6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45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46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62" name=""/>
              <p:cNvCxnSpPr>
                <a:stCxn id="3460" idx="0"/>
                <a:endCxn id="346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46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46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46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68" name=""/>
            <p:cNvCxnSpPr>
              <a:stCxn id="3466" idx="0"/>
              <a:endCxn id="346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6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47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47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74" name=""/>
            <p:cNvCxnSpPr>
              <a:stCxn id="3472" idx="0"/>
              <a:endCxn id="347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7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47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47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80" name=""/>
            <p:cNvCxnSpPr>
              <a:stCxn id="3478" idx="0"/>
              <a:endCxn id="347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8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48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48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86" name=""/>
            <p:cNvCxnSpPr>
              <a:stCxn id="3484" idx="0"/>
              <a:endCxn id="348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8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48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48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92" name=""/>
            <p:cNvCxnSpPr>
              <a:stCxn id="3490" idx="0"/>
              <a:endCxn id="349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9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49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49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98" name=""/>
            <p:cNvCxnSpPr>
              <a:stCxn id="3496" idx="0"/>
              <a:endCxn id="349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9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50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50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04" name=""/>
            <p:cNvCxnSpPr>
              <a:stCxn id="3502" idx="0"/>
              <a:endCxn id="350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0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50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50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50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11" name=""/>
              <p:cNvCxnSpPr>
                <a:stCxn id="3510" idx="0"/>
                <a:endCxn id="350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1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51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4" name=""/>
            <p:cNvCxnSpPr>
              <a:stCxn id="3451" idx="2"/>
              <a:endCxn id="343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1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52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5" name=""/>
            <p:cNvCxnSpPr>
              <a:stCxn id="3524" idx="0"/>
              <a:endCxn id="352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2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52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29" name=""/>
            <p:cNvCxnSpPr>
              <a:stCxn id="3528" idx="0"/>
              <a:endCxn id="352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3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53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33" name=""/>
            <p:cNvCxnSpPr>
              <a:stCxn id="3532" idx="0"/>
              <a:endCxn id="353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3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53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37" name=""/>
            <p:cNvCxnSpPr>
              <a:stCxn id="3536" idx="0"/>
              <a:endCxn id="353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3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53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1" name=""/>
            <p:cNvCxnSpPr>
              <a:stCxn id="3540" idx="0"/>
              <a:endCxn id="353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4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54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5" name=""/>
            <p:cNvCxnSpPr>
              <a:stCxn id="3544" idx="0"/>
              <a:endCxn id="354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4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54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9" name=""/>
            <p:cNvCxnSpPr>
              <a:stCxn id="3548" idx="0"/>
              <a:endCxn id="354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5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55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3" name=""/>
            <p:cNvCxnSpPr>
              <a:stCxn id="3552" idx="0"/>
              <a:endCxn id="355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5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55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7" name=""/>
            <p:cNvCxnSpPr>
              <a:stCxn id="3556" idx="0"/>
              <a:endCxn id="355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55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57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57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7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57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57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57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80" name=""/>
              <p:cNvCxnSpPr>
                <a:stCxn id="3579" idx="0"/>
                <a:endCxn id="356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58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82" name=""/>
          <p:cNvCxnSpPr>
            <a:stCxn id="3454" idx="0"/>
            <a:endCxn id="356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8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584" name=""/>
            <p:cNvCxnSpPr>
              <a:stCxn id="3585" idx="0"/>
              <a:endCxn id="355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58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58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1" name=""/>
          <p:cNvCxnSpPr>
            <a:stCxn id="3559" idx="0"/>
            <a:endCxn id="359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604" name=""/>
            <p:cNvCxnSpPr>
              <a:stCxn id="3456" idx="2"/>
              <a:endCxn id="345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0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608" name=""/>
            <p:cNvCxnSpPr>
              <a:stCxn id="3571" idx="3"/>
              <a:endCxn id="355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0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612" name=""/>
            <p:cNvCxnSpPr>
              <a:stCxn id="3589" idx="0"/>
              <a:endCxn id="355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616" name=""/>
            <p:cNvCxnSpPr>
              <a:stCxn id="3450" idx="2"/>
              <a:endCxn id="345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62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62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622" name=""/>
              <p:cNvCxnSpPr>
                <a:stCxn id="3621" idx="0"/>
                <a:endCxn id="362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62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62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62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630" name=""/>
              <p:cNvCxnSpPr>
                <a:stCxn id="3629" idx="0"/>
                <a:endCxn id="362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63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634" name=""/>
            <p:cNvCxnSpPr>
              <a:stCxn id="3448" idx="2"/>
              <a:endCxn id="355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5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3646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7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3648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5" name=""/>
          <p:cNvCxnSpPr>
            <a:stCxn id="3664" idx="6"/>
            <a:endCxn id="3666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7" name=""/>
          <p:cNvCxnSpPr>
            <a:stCxn id="3668" idx="6"/>
            <a:endCxn id="3669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0" name=""/>
          <p:cNvCxnSpPr>
            <a:stCxn id="3666" idx="6"/>
            <a:endCxn id="3668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1" name=""/>
          <p:cNvCxnSpPr>
            <a:stCxn id="3669" idx="6"/>
            <a:endCxn id="3672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3" name=""/>
          <p:cNvCxnSpPr>
            <a:stCxn id="3672" idx="6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6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PC=PC+1;fetch; Goto Istore6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69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70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02" name=""/>
              <p:cNvCxnSpPr>
                <a:stCxn id="3700" idx="0"/>
                <a:endCxn id="370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70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70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70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8" name=""/>
            <p:cNvCxnSpPr>
              <a:stCxn id="3706" idx="0"/>
              <a:endCxn id="370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0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71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71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14" name=""/>
            <p:cNvCxnSpPr>
              <a:stCxn id="3712" idx="0"/>
              <a:endCxn id="371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1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71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71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20" name=""/>
            <p:cNvCxnSpPr>
              <a:stCxn id="3718" idx="0"/>
              <a:endCxn id="371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2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72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72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26" name=""/>
            <p:cNvCxnSpPr>
              <a:stCxn id="3724" idx="0"/>
              <a:endCxn id="372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2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72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72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2" name=""/>
            <p:cNvCxnSpPr>
              <a:stCxn id="3730" idx="0"/>
              <a:endCxn id="373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3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73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73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8" name=""/>
            <p:cNvCxnSpPr>
              <a:stCxn id="3736" idx="0"/>
              <a:endCxn id="373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373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74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74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44" name=""/>
            <p:cNvCxnSpPr>
              <a:stCxn id="3742" idx="0"/>
              <a:endCxn id="374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4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74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74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74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51" name=""/>
              <p:cNvCxnSpPr>
                <a:stCxn id="3750" idx="0"/>
                <a:endCxn id="374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75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75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4" name=""/>
            <p:cNvCxnSpPr>
              <a:stCxn id="3691" idx="2"/>
              <a:endCxn id="367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75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76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5" name=""/>
            <p:cNvCxnSpPr>
              <a:stCxn id="3764" idx="0"/>
              <a:endCxn id="376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6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76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9" name=""/>
            <p:cNvCxnSpPr>
              <a:stCxn id="3768" idx="0"/>
              <a:endCxn id="376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377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77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3" name=""/>
            <p:cNvCxnSpPr>
              <a:stCxn id="3772" idx="0"/>
              <a:endCxn id="377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7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77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7" name=""/>
            <p:cNvCxnSpPr>
              <a:stCxn id="3776" idx="0"/>
              <a:endCxn id="377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7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77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1" name=""/>
            <p:cNvCxnSpPr>
              <a:stCxn id="3780" idx="0"/>
              <a:endCxn id="377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8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78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5" name=""/>
            <p:cNvCxnSpPr>
              <a:stCxn id="3784" idx="0"/>
              <a:endCxn id="378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8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78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9" name=""/>
            <p:cNvCxnSpPr>
              <a:stCxn id="3788" idx="0"/>
              <a:endCxn id="378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9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79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3" name=""/>
            <p:cNvCxnSpPr>
              <a:stCxn id="3792" idx="0"/>
              <a:endCxn id="379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9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79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7" name=""/>
            <p:cNvCxnSpPr>
              <a:stCxn id="3796" idx="0"/>
              <a:endCxn id="379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79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381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381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1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81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381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381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20" name=""/>
              <p:cNvCxnSpPr>
                <a:stCxn id="3819" idx="0"/>
                <a:endCxn id="380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82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2" name=""/>
          <p:cNvCxnSpPr>
            <a:stCxn id="3694" idx="0"/>
            <a:endCxn id="380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2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3824" name=""/>
            <p:cNvCxnSpPr>
              <a:stCxn id="3825" idx="0"/>
              <a:endCxn id="379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382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1" name=""/>
          <p:cNvCxnSpPr>
            <a:stCxn id="3799" idx="0"/>
            <a:endCxn id="383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83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3844" name=""/>
            <p:cNvCxnSpPr>
              <a:stCxn id="3696" idx="2"/>
              <a:endCxn id="369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384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3848" name=""/>
            <p:cNvCxnSpPr>
              <a:stCxn id="3811" idx="3"/>
              <a:endCxn id="379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384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3852" name=""/>
            <p:cNvCxnSpPr>
              <a:stCxn id="3829" idx="0"/>
              <a:endCxn id="379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3856" name=""/>
            <p:cNvCxnSpPr>
              <a:stCxn id="3690" idx="2"/>
              <a:endCxn id="369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386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386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62" name=""/>
              <p:cNvCxnSpPr>
                <a:stCxn id="3861" idx="0"/>
                <a:endCxn id="386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86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386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70" name=""/>
              <p:cNvCxnSpPr>
                <a:stCxn id="3869" idx="0"/>
                <a:endCxn id="386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387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3874" name=""/>
            <p:cNvCxnSpPr>
              <a:stCxn id="3688" idx="2"/>
              <a:endCxn id="379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387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5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3886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7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3888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5" name=""/>
          <p:cNvCxnSpPr>
            <a:stCxn id="3904" idx="6"/>
            <a:endCxn id="3906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7" name=""/>
          <p:cNvCxnSpPr>
            <a:stCxn id="3908" idx="6"/>
            <a:endCxn id="3909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0" name=""/>
          <p:cNvCxnSpPr>
            <a:stCxn id="3906" idx="6"/>
            <a:endCxn id="3908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1" name=""/>
          <p:cNvCxnSpPr>
            <a:stCxn id="3909" idx="6"/>
            <a:endCxn id="3912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3" name=""/>
          <p:cNvCxnSpPr>
            <a:stCxn id="3912" idx="6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6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PC=PC+1;fetch; Goto Istore6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916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18" name=""/>
          <p:cNvSpPr/>
          <p:nvPr/>
        </p:nvSpPr>
        <p:spPr>
          <a:xfrm>
            <a:off x="901800" y="2274840"/>
            <a:ext cx="753840" cy="19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1093680" y="199224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1665720" y="303696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2333520" y="2732040"/>
            <a:ext cx="484200" cy="108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2268720" y="2503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2808360" y="30369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4" name=""/>
          <p:cNvCxnSpPr>
            <a:stCxn id="3918" idx="6"/>
            <a:endCxn id="3921" idx="2"/>
          </p:cNvCxnSpPr>
          <p:nvPr/>
        </p:nvCxnSpPr>
        <p:spPr>
          <a:xfrm>
            <a:off x="1655280" y="3271320"/>
            <a:ext cx="678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5" name=""/>
          <p:cNvSpPr/>
          <p:nvPr/>
        </p:nvSpPr>
        <p:spPr>
          <a:xfrm>
            <a:off x="3449520" y="2620800"/>
            <a:ext cx="430200" cy="130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6" name=""/>
          <p:cNvCxnSpPr>
            <a:stCxn id="3921" idx="6"/>
            <a:endCxn id="3925" idx="2"/>
          </p:cNvCxnSpPr>
          <p:nvPr/>
        </p:nvCxnSpPr>
        <p:spPr>
          <a:xfrm>
            <a:off x="2817360" y="3273480"/>
            <a:ext cx="63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7" name=""/>
          <p:cNvSpPr/>
          <p:nvPr/>
        </p:nvSpPr>
        <p:spPr>
          <a:xfrm>
            <a:off x="3341880" y="24112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8" name=""/>
          <p:cNvCxnSpPr>
            <a:stCxn id="3925" idx="6"/>
            <a:endCxn id="3929" idx="2"/>
          </p:cNvCxnSpPr>
          <p:nvPr/>
        </p:nvCxnSpPr>
        <p:spPr>
          <a:xfrm>
            <a:off x="3879720" y="3274560"/>
            <a:ext cx="681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0" name=""/>
          <p:cNvSpPr/>
          <p:nvPr/>
        </p:nvSpPr>
        <p:spPr>
          <a:xfrm>
            <a:off x="3875400" y="30369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4560840" y="2679840"/>
            <a:ext cx="538200" cy="119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1" name=""/>
          <p:cNvCxnSpPr>
            <a:stCxn id="3929" idx="6"/>
            <a:endCxn id="3932" idx="2"/>
          </p:cNvCxnSpPr>
          <p:nvPr/>
        </p:nvCxnSpPr>
        <p:spPr>
          <a:xfrm flipV="1">
            <a:off x="5098680" y="3276360"/>
            <a:ext cx="68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3" name=""/>
          <p:cNvSpPr/>
          <p:nvPr/>
        </p:nvSpPr>
        <p:spPr>
          <a:xfrm>
            <a:off x="5116680" y="30369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4484880" y="24271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778360" y="2344680"/>
            <a:ext cx="646200" cy="18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390000" y="30369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6751800" y="395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5774040" y="21067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8" name=""/>
          <p:cNvGrpSpPr/>
          <p:nvPr/>
        </p:nvGrpSpPr>
        <p:grpSpPr>
          <a:xfrm>
            <a:off x="7075800" y="2104920"/>
            <a:ext cx="1304280" cy="2102040"/>
            <a:chOff x="7075800" y="2104920"/>
            <a:chExt cx="1304280" cy="2102040"/>
          </a:xfrm>
        </p:grpSpPr>
        <p:sp>
          <p:nvSpPr>
            <p:cNvPr id="3939" name=""/>
            <p:cNvSpPr/>
            <p:nvPr/>
          </p:nvSpPr>
          <p:spPr>
            <a:xfrm>
              <a:off x="7080120" y="2343240"/>
              <a:ext cx="646200" cy="18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=0x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738920" y="3265560"/>
              <a:ext cx="48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7691760" y="3019320"/>
              <a:ext cx="68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STORE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7075800" y="2104920"/>
              <a:ext cx="68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STORE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43" name=""/>
          <p:cNvCxnSpPr>
            <a:stCxn id="3932" idx="6"/>
            <a:endCxn id="3939" idx="2"/>
          </p:cNvCxnSpPr>
          <p:nvPr/>
        </p:nvCxnSpPr>
        <p:spPr>
          <a:xfrm flipV="1">
            <a:off x="6424200" y="3274200"/>
            <a:ext cx="656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96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97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72" name=""/>
              <p:cNvCxnSpPr>
                <a:stCxn id="3970" idx="0"/>
                <a:endCxn id="397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97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97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97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78" name=""/>
            <p:cNvCxnSpPr>
              <a:stCxn id="3976" idx="0"/>
              <a:endCxn id="397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7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98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98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84" name=""/>
            <p:cNvCxnSpPr>
              <a:stCxn id="3982" idx="0"/>
              <a:endCxn id="398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8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98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98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0" name=""/>
            <p:cNvCxnSpPr>
              <a:stCxn id="3988" idx="0"/>
              <a:endCxn id="398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9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99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99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6" name=""/>
            <p:cNvCxnSpPr>
              <a:stCxn id="3994" idx="0"/>
              <a:endCxn id="399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9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99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99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2" name=""/>
            <p:cNvCxnSpPr>
              <a:stCxn id="4000" idx="0"/>
              <a:endCxn id="400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0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00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00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8" name=""/>
            <p:cNvCxnSpPr>
              <a:stCxn id="4006" idx="0"/>
              <a:endCxn id="400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0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01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01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14" name=""/>
            <p:cNvCxnSpPr>
              <a:stCxn id="4012" idx="0"/>
              <a:endCxn id="401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1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01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01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01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021" name=""/>
              <p:cNvCxnSpPr>
                <a:stCxn id="4020" idx="0"/>
                <a:endCxn id="401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02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02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24" name=""/>
            <p:cNvCxnSpPr>
              <a:stCxn id="3961" idx="2"/>
              <a:endCxn id="394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2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03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5" name=""/>
            <p:cNvCxnSpPr>
              <a:stCxn id="4034" idx="0"/>
              <a:endCxn id="403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3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03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9" name=""/>
            <p:cNvCxnSpPr>
              <a:stCxn id="4038" idx="0"/>
              <a:endCxn id="403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4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04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3" name=""/>
            <p:cNvCxnSpPr>
              <a:stCxn id="4042" idx="0"/>
              <a:endCxn id="404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4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04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7" name=""/>
            <p:cNvCxnSpPr>
              <a:stCxn id="4046" idx="0"/>
              <a:endCxn id="404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4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04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51" name=""/>
            <p:cNvCxnSpPr>
              <a:stCxn id="4050" idx="0"/>
              <a:endCxn id="404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5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05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55" name=""/>
            <p:cNvCxnSpPr>
              <a:stCxn id="4054" idx="0"/>
              <a:endCxn id="405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5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05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59" name=""/>
            <p:cNvCxnSpPr>
              <a:stCxn id="4058" idx="0"/>
              <a:endCxn id="405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6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06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63" name=""/>
            <p:cNvCxnSpPr>
              <a:stCxn id="4062" idx="0"/>
              <a:endCxn id="406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6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06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67" name=""/>
            <p:cNvCxnSpPr>
              <a:stCxn id="4066" idx="0"/>
              <a:endCxn id="406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06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08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08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8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08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08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08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90" name=""/>
              <p:cNvCxnSpPr>
                <a:stCxn id="4089" idx="0"/>
                <a:endCxn id="407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09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2" name=""/>
          <p:cNvCxnSpPr>
            <a:stCxn id="3964" idx="0"/>
            <a:endCxn id="407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09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094" name=""/>
            <p:cNvCxnSpPr>
              <a:stCxn id="4095" idx="0"/>
              <a:endCxn id="406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09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09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1" name=""/>
          <p:cNvCxnSpPr>
            <a:stCxn id="4069" idx="0"/>
            <a:endCxn id="410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114" name=""/>
            <p:cNvCxnSpPr>
              <a:stCxn id="3966" idx="2"/>
              <a:endCxn id="396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1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118" name=""/>
            <p:cNvCxnSpPr>
              <a:stCxn id="4081" idx="3"/>
              <a:endCxn id="406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1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122" name=""/>
            <p:cNvCxnSpPr>
              <a:stCxn id="4099" idx="0"/>
              <a:endCxn id="406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2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126" name=""/>
            <p:cNvCxnSpPr>
              <a:stCxn id="3960" idx="2"/>
              <a:endCxn id="396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2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13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13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32" name=""/>
              <p:cNvCxnSpPr>
                <a:stCxn id="4131" idx="0"/>
                <a:endCxn id="413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13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13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13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40" name=""/>
              <p:cNvCxnSpPr>
                <a:stCxn id="4139" idx="0"/>
                <a:endCxn id="413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4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144" name=""/>
            <p:cNvCxnSpPr>
              <a:stCxn id="3958" idx="2"/>
              <a:endCxn id="406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4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5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4156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7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4158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3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1828800" y="1143000"/>
            <a:ext cx="129528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 flipV="1">
            <a:off x="2362320" y="1675800"/>
            <a:ext cx="228600" cy="2361960"/>
          </a:xfrm>
          <a:prstGeom prst="upArrow">
            <a:avLst>
              <a:gd name="adj1" fmla="val 40833"/>
              <a:gd name="adj2" fmla="val 13656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4038480" y="3886200"/>
            <a:ext cx="4343400" cy="2133720"/>
          </a:xfrm>
          <a:prstGeom prst="wedgeEllipseCallout">
            <a:avLst>
              <a:gd name="adj1" fmla="val -78509"/>
              <a:gd name="adj2" fmla="val -4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 met a jour la tête de la pile qui vient d’arriver en mém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8" name=""/>
          <p:cNvCxnSpPr>
            <a:stCxn id="4177" idx="6"/>
            <a:endCxn id="4179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0" name=""/>
          <p:cNvCxnSpPr>
            <a:stCxn id="4181" idx="6"/>
            <a:endCxn id="4182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3" name=""/>
          <p:cNvCxnSpPr>
            <a:stCxn id="4179" idx="6"/>
            <a:endCxn id="4181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4" name=""/>
          <p:cNvCxnSpPr>
            <a:stCxn id="4182" idx="6"/>
            <a:endCxn id="4185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6" name=""/>
          <p:cNvCxnSpPr>
            <a:stCxn id="4185" idx="6"/>
            <a:endCxn id="4187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8" name=""/>
          <p:cNvCxnSpPr>
            <a:stCxn id="4187" idx="6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9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3886200" y="1371600"/>
            <a:ext cx="4267080" cy="2057400"/>
          </a:xfrm>
          <a:prstGeom prst="wedgeEllipseCallout">
            <a:avLst>
              <a:gd name="adj1" fmla="val -78759"/>
              <a:gd name="adj2" fmla="val -48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donné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Lecture déclenché dans Istor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TOS=MDR; 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21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21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18" name=""/>
              <p:cNvCxnSpPr>
                <a:stCxn id="4216" idx="0"/>
                <a:endCxn id="421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21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22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22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24" name=""/>
            <p:cNvCxnSpPr>
              <a:stCxn id="4222" idx="0"/>
              <a:endCxn id="422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2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22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22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30" name=""/>
            <p:cNvCxnSpPr>
              <a:stCxn id="4228" idx="0"/>
              <a:endCxn id="422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3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23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423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36" name=""/>
            <p:cNvCxnSpPr>
              <a:stCxn id="4234" idx="0"/>
              <a:endCxn id="423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3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423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423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2" name=""/>
            <p:cNvCxnSpPr>
              <a:stCxn id="4240" idx="0"/>
              <a:endCxn id="424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4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424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424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8" name=""/>
            <p:cNvCxnSpPr>
              <a:stCxn id="4246" idx="0"/>
              <a:endCxn id="424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4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25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25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54" name=""/>
            <p:cNvCxnSpPr>
              <a:stCxn id="4252" idx="0"/>
              <a:endCxn id="425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5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25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25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60" name=""/>
            <p:cNvCxnSpPr>
              <a:stCxn id="4258" idx="0"/>
              <a:endCxn id="425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6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26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26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26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267" name=""/>
              <p:cNvCxnSpPr>
                <a:stCxn id="4266" idx="0"/>
                <a:endCxn id="426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26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26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0" name=""/>
            <p:cNvCxnSpPr>
              <a:stCxn id="4207" idx="2"/>
              <a:endCxn id="419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27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27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81" name=""/>
            <p:cNvCxnSpPr>
              <a:stCxn id="4280" idx="0"/>
              <a:endCxn id="427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8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28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85" name=""/>
            <p:cNvCxnSpPr>
              <a:stCxn id="4284" idx="0"/>
              <a:endCxn id="428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8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28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89" name=""/>
            <p:cNvCxnSpPr>
              <a:stCxn id="4288" idx="0"/>
              <a:endCxn id="428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9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29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3" name=""/>
            <p:cNvCxnSpPr>
              <a:stCxn id="4292" idx="0"/>
              <a:endCxn id="429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9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29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7" name=""/>
            <p:cNvCxnSpPr>
              <a:stCxn id="4296" idx="0"/>
              <a:endCxn id="429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29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29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1" name=""/>
            <p:cNvCxnSpPr>
              <a:stCxn id="4300" idx="0"/>
              <a:endCxn id="429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0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30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5" name=""/>
            <p:cNvCxnSpPr>
              <a:stCxn id="4304" idx="0"/>
              <a:endCxn id="430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0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30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9" name=""/>
            <p:cNvCxnSpPr>
              <a:stCxn id="4308" idx="0"/>
              <a:endCxn id="430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31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31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3" name=""/>
            <p:cNvCxnSpPr>
              <a:stCxn id="4312" idx="0"/>
              <a:endCxn id="431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31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32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33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3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3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33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33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36" name=""/>
              <p:cNvCxnSpPr>
                <a:stCxn id="4335" idx="0"/>
                <a:endCxn id="431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3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38" name=""/>
          <p:cNvCxnSpPr>
            <a:stCxn id="4210" idx="0"/>
            <a:endCxn id="431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3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340" name=""/>
            <p:cNvCxnSpPr>
              <a:stCxn id="4341" idx="0"/>
              <a:endCxn id="431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34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34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4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7" name=""/>
          <p:cNvCxnSpPr>
            <a:stCxn id="4315" idx="0"/>
            <a:endCxn id="434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9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360" name=""/>
            <p:cNvCxnSpPr>
              <a:stCxn id="4212" idx="2"/>
              <a:endCxn id="420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6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364" name=""/>
            <p:cNvCxnSpPr>
              <a:stCxn id="4327" idx="3"/>
              <a:endCxn id="431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6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7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368" name=""/>
            <p:cNvCxnSpPr>
              <a:stCxn id="4345" idx="0"/>
              <a:endCxn id="431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6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1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372" name=""/>
            <p:cNvCxnSpPr>
              <a:stCxn id="4206" idx="2"/>
              <a:endCxn id="421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7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5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376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37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8" name=""/>
              <p:cNvCxnSpPr>
                <a:stCxn id="4377" idx="0"/>
                <a:endCxn id="4379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38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383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38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86" name=""/>
              <p:cNvCxnSpPr>
                <a:stCxn id="4385" idx="0"/>
                <a:endCxn id="4384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8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9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390" name=""/>
            <p:cNvCxnSpPr>
              <a:stCxn id="4204" idx="2"/>
              <a:endCxn id="431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9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1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4402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3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4404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7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6394320" y="20462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2" name=""/>
          <p:cNvCxnSpPr>
            <a:stCxn id="4421" idx="6"/>
            <a:endCxn id="4423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4" name=""/>
          <p:cNvCxnSpPr>
            <a:stCxn id="4425" idx="6"/>
            <a:endCxn id="4426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7" name=""/>
          <p:cNvCxnSpPr>
            <a:stCxn id="4423" idx="6"/>
            <a:endCxn id="4425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8" name=""/>
          <p:cNvCxnSpPr>
            <a:stCxn id="4426" idx="6"/>
            <a:endCxn id="4429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0" name=""/>
          <p:cNvCxnSpPr>
            <a:stCxn id="4429" idx="6"/>
            <a:endCxn id="4431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2" name=""/>
          <p:cNvCxnSpPr>
            <a:stCxn id="4431" idx="6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3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TOS=MDR; 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45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45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461" name=""/>
              <p:cNvCxnSpPr>
                <a:stCxn id="4459" idx="0"/>
                <a:endCxn id="446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46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46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46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7" name=""/>
            <p:cNvCxnSpPr>
              <a:stCxn id="4465" idx="0"/>
              <a:endCxn id="446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46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46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47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73" name=""/>
            <p:cNvCxnSpPr>
              <a:stCxn id="4471" idx="0"/>
              <a:endCxn id="447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447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47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447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79" name=""/>
            <p:cNvCxnSpPr>
              <a:stCxn id="4477" idx="0"/>
              <a:endCxn id="447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48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448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448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85" name=""/>
            <p:cNvCxnSpPr>
              <a:stCxn id="4483" idx="0"/>
              <a:endCxn id="448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48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448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448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1" name=""/>
            <p:cNvCxnSpPr>
              <a:stCxn id="4489" idx="0"/>
              <a:endCxn id="449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49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49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49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7" name=""/>
            <p:cNvCxnSpPr>
              <a:stCxn id="4495" idx="0"/>
              <a:endCxn id="449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49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49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50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03" name=""/>
            <p:cNvCxnSpPr>
              <a:stCxn id="4501" idx="0"/>
              <a:endCxn id="450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0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50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50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50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10" name=""/>
              <p:cNvCxnSpPr>
                <a:stCxn id="4509" idx="0"/>
                <a:endCxn id="450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51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51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13" name=""/>
            <p:cNvCxnSpPr>
              <a:stCxn id="4450" idx="2"/>
              <a:endCxn id="443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1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52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24" name=""/>
            <p:cNvCxnSpPr>
              <a:stCxn id="4523" idx="0"/>
              <a:endCxn id="452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452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52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28" name=""/>
            <p:cNvCxnSpPr>
              <a:stCxn id="4527" idx="0"/>
              <a:endCxn id="452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2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53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2" name=""/>
            <p:cNvCxnSpPr>
              <a:stCxn id="4531" idx="0"/>
              <a:endCxn id="453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3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53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6" name=""/>
            <p:cNvCxnSpPr>
              <a:stCxn id="4535" idx="0"/>
              <a:endCxn id="453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3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53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0" name=""/>
            <p:cNvCxnSpPr>
              <a:stCxn id="4539" idx="0"/>
              <a:endCxn id="453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4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54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4" name=""/>
            <p:cNvCxnSpPr>
              <a:stCxn id="4543" idx="0"/>
              <a:endCxn id="454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4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54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8" name=""/>
            <p:cNvCxnSpPr>
              <a:stCxn id="4547" idx="0"/>
              <a:endCxn id="454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4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55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2" name=""/>
            <p:cNvCxnSpPr>
              <a:stCxn id="4551" idx="0"/>
              <a:endCxn id="455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55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55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6" name=""/>
            <p:cNvCxnSpPr>
              <a:stCxn id="4555" idx="0"/>
              <a:endCxn id="455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55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57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57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57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57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57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57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579" name=""/>
              <p:cNvCxnSpPr>
                <a:stCxn id="4578" idx="0"/>
                <a:endCxn id="456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58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81" name=""/>
          <p:cNvCxnSpPr>
            <a:stCxn id="4453" idx="0"/>
            <a:endCxn id="456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583" name=""/>
            <p:cNvCxnSpPr>
              <a:stCxn id="4584" idx="0"/>
              <a:endCxn id="455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58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58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0" name=""/>
          <p:cNvCxnSpPr>
            <a:stCxn id="4558" idx="0"/>
            <a:endCxn id="458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59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603" name=""/>
            <p:cNvCxnSpPr>
              <a:stCxn id="4455" idx="2"/>
              <a:endCxn id="445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60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607" name=""/>
            <p:cNvCxnSpPr>
              <a:stCxn id="4570" idx="3"/>
              <a:endCxn id="455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60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611" name=""/>
            <p:cNvCxnSpPr>
              <a:stCxn id="4588" idx="0"/>
              <a:endCxn id="455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1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615" name=""/>
            <p:cNvCxnSpPr>
              <a:stCxn id="4449" idx="2"/>
              <a:endCxn id="445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1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61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62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21" name=""/>
              <p:cNvCxnSpPr>
                <a:stCxn id="4620" idx="0"/>
                <a:endCxn id="462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2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62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62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29" name=""/>
              <p:cNvCxnSpPr>
                <a:stCxn id="4628" idx="0"/>
                <a:endCxn id="462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463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633" name=""/>
            <p:cNvCxnSpPr>
              <a:stCxn id="4447" idx="2"/>
              <a:endCxn id="455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63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4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4645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6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4647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4" name=""/>
          <p:cNvCxnSpPr>
            <a:stCxn id="4663" idx="6"/>
            <a:endCxn id="4665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6" name=""/>
          <p:cNvCxnSpPr>
            <a:stCxn id="4667" idx="6"/>
            <a:endCxn id="4668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9" name=""/>
          <p:cNvCxnSpPr>
            <a:stCxn id="4665" idx="6"/>
            <a:endCxn id="4667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0" name=""/>
          <p:cNvCxnSpPr>
            <a:stCxn id="4668" idx="6"/>
            <a:endCxn id="4671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2" name=""/>
          <p:cNvCxnSpPr>
            <a:stCxn id="4671" idx="6"/>
            <a:endCxn id="4673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4" name=""/>
          <p:cNvCxnSpPr>
            <a:stCxn id="4673" idx="6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5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H=LV; Goto Istore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3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3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5" name=""/>
              <p:cNvCxnSpPr>
                <a:stCxn id="533" idx="0"/>
                <a:endCxn id="53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3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3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3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1" name=""/>
            <p:cNvCxnSpPr>
              <a:stCxn id="539" idx="0"/>
              <a:endCxn id="54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4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7" name=""/>
            <p:cNvCxnSpPr>
              <a:stCxn id="545" idx="0"/>
              <a:endCxn id="54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4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3" name=""/>
            <p:cNvCxnSpPr>
              <a:stCxn id="551" idx="0"/>
              <a:endCxn id="55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5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5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>
              <a:stCxn id="557" idx="0"/>
              <a:endCxn id="55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6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6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5" name=""/>
            <p:cNvCxnSpPr>
              <a:stCxn id="563" idx="0"/>
              <a:endCxn id="56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6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" name=""/>
            <p:cNvCxnSpPr>
              <a:stCxn id="569" idx="0"/>
              <a:endCxn id="57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7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7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"/>
            <p:cNvCxnSpPr>
              <a:stCxn id="575" idx="0"/>
              <a:endCxn id="57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7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8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84" name=""/>
              <p:cNvCxnSpPr>
                <a:stCxn id="583" idx="0"/>
                <a:endCxn id="57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8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8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7" name=""/>
            <p:cNvCxnSpPr>
              <a:stCxn id="524" idx="2"/>
              <a:endCxn id="50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8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9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" name=""/>
            <p:cNvCxnSpPr>
              <a:stCxn id="597" idx="0"/>
              <a:endCxn id="59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0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2" name=""/>
            <p:cNvCxnSpPr>
              <a:stCxn id="601" idx="0"/>
              <a:endCxn id="60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0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6" name=""/>
            <p:cNvCxnSpPr>
              <a:stCxn id="605" idx="0"/>
              <a:endCxn id="60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0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9" idx="0"/>
              <a:endCxn id="60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1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4" name=""/>
            <p:cNvCxnSpPr>
              <a:stCxn id="613" idx="0"/>
              <a:endCxn id="61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1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8" name=""/>
            <p:cNvCxnSpPr>
              <a:stCxn id="617" idx="0"/>
              <a:endCxn id="61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2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" name=""/>
            <p:cNvCxnSpPr>
              <a:stCxn id="621" idx="0"/>
              <a:endCxn id="62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2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"/>
            <p:cNvCxnSpPr>
              <a:stCxn id="625" idx="0"/>
              <a:endCxn id="62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2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0" name=""/>
            <p:cNvCxnSpPr>
              <a:stCxn id="629" idx="0"/>
              <a:endCxn id="62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3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4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4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4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5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5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3" name=""/>
              <p:cNvCxnSpPr>
                <a:stCxn id="652" idx="0"/>
                <a:endCxn id="63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5" name=""/>
          <p:cNvCxnSpPr>
            <a:stCxn id="527" idx="0"/>
            <a:endCxn id="63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57" name=""/>
            <p:cNvCxnSpPr>
              <a:stCxn id="658" idx="0"/>
              <a:endCxn id="63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5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6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32" idx="0"/>
            <a:endCxn id="663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5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77" name=""/>
            <p:cNvCxnSpPr>
              <a:stCxn id="529" idx="2"/>
              <a:endCxn id="52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8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81" name=""/>
            <p:cNvCxnSpPr>
              <a:stCxn id="644" idx="3"/>
              <a:endCxn id="63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85" name=""/>
            <p:cNvCxnSpPr>
              <a:stCxn id="662" idx="0"/>
              <a:endCxn id="63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89" name=""/>
            <p:cNvCxnSpPr>
              <a:stCxn id="523" idx="2"/>
              <a:endCxn id="52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0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693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95" name=""/>
              <p:cNvCxnSpPr>
                <a:stCxn id="694" idx="0"/>
                <a:endCxn id="696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97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700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701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3" name=""/>
              <p:cNvCxnSpPr>
                <a:stCxn id="702" idx="0"/>
                <a:endCxn id="701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04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07" name=""/>
            <p:cNvCxnSpPr>
              <a:stCxn id="521" idx="2"/>
              <a:endCxn id="63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8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719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721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7" idx="6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TOS=MDR; Goto Main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677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i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9" name=""/>
          <p:cNvSpPr/>
          <p:nvPr/>
        </p:nvSpPr>
        <p:spPr>
          <a:xfrm>
            <a:off x="561960" y="2590920"/>
            <a:ext cx="754200" cy="199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753840" y="230832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>
            <a:off x="1326240" y="335268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1994040" y="3048120"/>
            <a:ext cx="484200" cy="10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1928880" y="28195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2468880" y="33526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5" name=""/>
          <p:cNvCxnSpPr>
            <a:stCxn id="4679" idx="6"/>
            <a:endCxn id="4682" idx="2"/>
          </p:cNvCxnSpPr>
          <p:nvPr/>
        </p:nvCxnSpPr>
        <p:spPr>
          <a:xfrm>
            <a:off x="1315800" y="3587760"/>
            <a:ext cx="678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6" name=""/>
          <p:cNvSpPr/>
          <p:nvPr/>
        </p:nvSpPr>
        <p:spPr>
          <a:xfrm>
            <a:off x="3110040" y="2936880"/>
            <a:ext cx="430200" cy="130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7" name=""/>
          <p:cNvCxnSpPr>
            <a:stCxn id="4682" idx="6"/>
            <a:endCxn id="4686" idx="2"/>
          </p:cNvCxnSpPr>
          <p:nvPr/>
        </p:nvCxnSpPr>
        <p:spPr>
          <a:xfrm>
            <a:off x="2477880" y="3588840"/>
            <a:ext cx="63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8" name=""/>
          <p:cNvSpPr/>
          <p:nvPr/>
        </p:nvSpPr>
        <p:spPr>
          <a:xfrm>
            <a:off x="3002040" y="27273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9" name=""/>
          <p:cNvCxnSpPr>
            <a:stCxn id="4686" idx="6"/>
            <a:endCxn id="4690" idx="2"/>
          </p:cNvCxnSpPr>
          <p:nvPr/>
        </p:nvCxnSpPr>
        <p:spPr>
          <a:xfrm>
            <a:off x="3539880" y="3590640"/>
            <a:ext cx="6814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1" name=""/>
          <p:cNvSpPr/>
          <p:nvPr/>
        </p:nvSpPr>
        <p:spPr>
          <a:xfrm>
            <a:off x="3535560" y="33526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4221000" y="2995560"/>
            <a:ext cx="538200" cy="11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2" name=""/>
          <p:cNvCxnSpPr>
            <a:stCxn id="4690" idx="6"/>
            <a:endCxn id="4693" idx="2"/>
          </p:cNvCxnSpPr>
          <p:nvPr/>
        </p:nvCxnSpPr>
        <p:spPr>
          <a:xfrm flipV="1">
            <a:off x="4759200" y="3591720"/>
            <a:ext cx="680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4" name=""/>
          <p:cNvSpPr/>
          <p:nvPr/>
        </p:nvSpPr>
        <p:spPr>
          <a:xfrm>
            <a:off x="4776840" y="33526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4145040" y="27432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5438880" y="2660760"/>
            <a:ext cx="645840" cy="18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6050160" y="33526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5434200" y="2422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6740640" y="2658960"/>
            <a:ext cx="645840" cy="18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=0x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7351920" y="33354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6735960" y="24210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1" name=""/>
          <p:cNvCxnSpPr>
            <a:stCxn id="4693" idx="6"/>
            <a:endCxn id="4698" idx="2"/>
          </p:cNvCxnSpPr>
          <p:nvPr/>
        </p:nvCxnSpPr>
        <p:spPr>
          <a:xfrm flipV="1">
            <a:off x="6084720" y="3590640"/>
            <a:ext cx="65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702" name=""/>
          <p:cNvGrpSpPr/>
          <p:nvPr/>
        </p:nvGrpSpPr>
        <p:grpSpPr>
          <a:xfrm>
            <a:off x="7993080" y="2432160"/>
            <a:ext cx="691560" cy="2089080"/>
            <a:chOff x="7993080" y="2432160"/>
            <a:chExt cx="691560" cy="2089080"/>
          </a:xfrm>
        </p:grpSpPr>
        <p:sp>
          <p:nvSpPr>
            <p:cNvPr id="4703" name=""/>
            <p:cNvSpPr/>
            <p:nvPr/>
          </p:nvSpPr>
          <p:spPr>
            <a:xfrm>
              <a:off x="7993080" y="2657520"/>
              <a:ext cx="646200" cy="18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=0x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996320" y="2432160"/>
              <a:ext cx="68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STORE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05" name=""/>
          <p:cNvCxnSpPr>
            <a:stCxn id="4698" idx="6"/>
            <a:endCxn id="4703" idx="2"/>
          </p:cNvCxnSpPr>
          <p:nvPr/>
        </p:nvCxnSpPr>
        <p:spPr>
          <a:xfrm flipV="1">
            <a:off x="7386120" y="3588480"/>
            <a:ext cx="607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6" name=""/>
          <p:cNvCxnSpPr>
            <a:stCxn id="4703" idx="6"/>
            <a:endCxn id="4679" idx="2"/>
          </p:cNvCxnSpPr>
          <p:nvPr/>
        </p:nvCxnSpPr>
        <p:spPr>
          <a:xfrm flipH="1" flipV="1">
            <a:off x="561240" y="3587400"/>
            <a:ext cx="8078040" cy="2160"/>
          </a:xfrm>
          <a:prstGeom prst="bentConnector5">
            <a:avLst>
              <a:gd name="adj1" fmla="val -2825"/>
              <a:gd name="adj2" fmla="val 77300000"/>
              <a:gd name="adj3" fmla="val 102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7" name=""/>
          <p:cNvSpPr/>
          <p:nvPr/>
        </p:nvSpPr>
        <p:spPr>
          <a:xfrm>
            <a:off x="801720" y="39736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5481720" y="40878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6783480" y="40863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TORE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473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473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38" name=""/>
              <p:cNvCxnSpPr>
                <a:stCxn id="4736" idx="0"/>
                <a:endCxn id="473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73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474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474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44" name=""/>
            <p:cNvCxnSpPr>
              <a:stCxn id="4742" idx="0"/>
              <a:endCxn id="474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4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474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474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0" name=""/>
            <p:cNvCxnSpPr>
              <a:stCxn id="4748" idx="0"/>
              <a:endCxn id="474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5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475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475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6" name=""/>
            <p:cNvCxnSpPr>
              <a:stCxn id="4754" idx="0"/>
              <a:endCxn id="475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5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475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475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62" name=""/>
            <p:cNvCxnSpPr>
              <a:stCxn id="4760" idx="0"/>
              <a:endCxn id="476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6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476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476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68" name=""/>
            <p:cNvCxnSpPr>
              <a:stCxn id="4766" idx="0"/>
              <a:endCxn id="476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6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477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477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74" name=""/>
            <p:cNvCxnSpPr>
              <a:stCxn id="4772" idx="0"/>
              <a:endCxn id="477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7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477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477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0" name=""/>
            <p:cNvCxnSpPr>
              <a:stCxn id="4778" idx="0"/>
              <a:endCxn id="477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78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478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478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478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787" name=""/>
              <p:cNvCxnSpPr>
                <a:stCxn id="4786" idx="0"/>
                <a:endCxn id="478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78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478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0" name=""/>
            <p:cNvCxnSpPr>
              <a:stCxn id="4727" idx="2"/>
              <a:endCxn id="471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9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479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1" name=""/>
            <p:cNvCxnSpPr>
              <a:stCxn id="4800" idx="0"/>
              <a:endCxn id="479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0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480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5" name=""/>
            <p:cNvCxnSpPr>
              <a:stCxn id="4804" idx="0"/>
              <a:endCxn id="480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0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480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9" name=""/>
            <p:cNvCxnSpPr>
              <a:stCxn id="4808" idx="0"/>
              <a:endCxn id="480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1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481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13" name=""/>
            <p:cNvCxnSpPr>
              <a:stCxn id="4812" idx="0"/>
              <a:endCxn id="481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1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481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17" name=""/>
            <p:cNvCxnSpPr>
              <a:stCxn id="4816" idx="0"/>
              <a:endCxn id="481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1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81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1" name=""/>
            <p:cNvCxnSpPr>
              <a:stCxn id="4820" idx="0"/>
              <a:endCxn id="481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2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82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5" name=""/>
            <p:cNvCxnSpPr>
              <a:stCxn id="4824" idx="0"/>
              <a:endCxn id="482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2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82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9" name=""/>
            <p:cNvCxnSpPr>
              <a:stCxn id="4828" idx="0"/>
              <a:endCxn id="482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83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83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3" name=""/>
            <p:cNvCxnSpPr>
              <a:stCxn id="4832" idx="0"/>
              <a:endCxn id="483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83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84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85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5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85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85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85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56" name=""/>
              <p:cNvCxnSpPr>
                <a:stCxn id="4855" idx="0"/>
                <a:endCxn id="483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85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58" name=""/>
          <p:cNvCxnSpPr>
            <a:stCxn id="4730" idx="0"/>
            <a:endCxn id="483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5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860" name=""/>
            <p:cNvCxnSpPr>
              <a:stCxn id="4861" idx="0"/>
              <a:endCxn id="483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86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86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7" name=""/>
          <p:cNvCxnSpPr>
            <a:stCxn id="4835" idx="0"/>
            <a:endCxn id="486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9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880" name=""/>
            <p:cNvCxnSpPr>
              <a:stCxn id="4732" idx="2"/>
              <a:endCxn id="472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3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884" name=""/>
            <p:cNvCxnSpPr>
              <a:stCxn id="4847" idx="3"/>
              <a:endCxn id="483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7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888" name=""/>
            <p:cNvCxnSpPr>
              <a:stCxn id="4865" idx="0"/>
              <a:endCxn id="483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1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892" name=""/>
            <p:cNvCxnSpPr>
              <a:stCxn id="4726" idx="2"/>
              <a:endCxn id="473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9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5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896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89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98" name=""/>
              <p:cNvCxnSpPr>
                <a:stCxn id="4897" idx="0"/>
                <a:endCxn id="4899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90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2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903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90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06" name=""/>
              <p:cNvCxnSpPr>
                <a:stCxn id="4905" idx="0"/>
                <a:endCxn id="4904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90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9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910" name=""/>
            <p:cNvCxnSpPr>
              <a:stCxn id="4724" idx="2"/>
              <a:endCxn id="483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1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4922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3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4924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1" name=""/>
          <p:cNvCxnSpPr>
            <a:stCxn id="4940" idx="6"/>
            <a:endCxn id="4942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3" name=""/>
          <p:cNvCxnSpPr>
            <a:stCxn id="4944" idx="6"/>
            <a:endCxn id="4945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6" name=""/>
          <p:cNvCxnSpPr>
            <a:stCxn id="4942" idx="6"/>
            <a:endCxn id="4944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7" name=""/>
          <p:cNvCxnSpPr>
            <a:stCxn id="4945" idx="6"/>
            <a:endCxn id="4948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9" name=""/>
          <p:cNvCxnSpPr>
            <a:stCxn id="4948" idx="6"/>
            <a:endCxn id="4950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1" name=""/>
          <p:cNvCxnSpPr>
            <a:stCxn id="4950" idx="6"/>
            <a:endCxn id="4952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3" name=""/>
          <p:cNvCxnSpPr>
            <a:stCxn id="4952" idx="6"/>
            <a:endCxn id="4940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2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3581280" y="3886200"/>
            <a:ext cx="5257800" cy="1295280"/>
          </a:xfrm>
          <a:prstGeom prst="wedgeEllipseCallout">
            <a:avLst>
              <a:gd name="adj1" fmla="val -66333"/>
              <a:gd name="adj2" fmla="val -172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prochaine instruc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H=LV; Goto Istore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6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6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67" name=""/>
              <p:cNvCxnSpPr>
                <a:stCxn id="765" idx="0"/>
                <a:endCxn id="766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768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6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7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3" name=""/>
            <p:cNvCxnSpPr>
              <a:stCxn id="771" idx="0"/>
              <a:endCxn id="772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74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7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7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9" name=""/>
            <p:cNvCxnSpPr>
              <a:stCxn id="777" idx="0"/>
              <a:endCxn id="778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0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78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78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5" name=""/>
            <p:cNvCxnSpPr>
              <a:stCxn id="783" idx="0"/>
              <a:endCxn id="784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6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78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78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1" name=""/>
            <p:cNvCxnSpPr>
              <a:stCxn id="789" idx="0"/>
              <a:endCxn id="790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2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79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79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7" name=""/>
            <p:cNvCxnSpPr>
              <a:stCxn id="795" idx="0"/>
              <a:endCxn id="796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8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79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80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3" name=""/>
            <p:cNvCxnSpPr>
              <a:stCxn id="801" idx="0"/>
              <a:endCxn id="802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4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0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0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9" name=""/>
            <p:cNvCxnSpPr>
              <a:stCxn id="807" idx="0"/>
              <a:endCxn id="808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0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1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1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16" name=""/>
              <p:cNvCxnSpPr>
                <a:stCxn id="815" idx="0"/>
                <a:endCxn id="811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17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1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756" idx="2"/>
              <a:endCxn id="741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2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2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0" name=""/>
            <p:cNvCxnSpPr>
              <a:stCxn id="829" idx="0"/>
              <a:endCxn id="828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1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3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4" name=""/>
            <p:cNvCxnSpPr>
              <a:stCxn id="833" idx="0"/>
              <a:endCxn id="832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5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3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8" name=""/>
            <p:cNvCxnSpPr>
              <a:stCxn id="837" idx="0"/>
              <a:endCxn id="836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9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4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2" name=""/>
            <p:cNvCxnSpPr>
              <a:stCxn id="841" idx="0"/>
              <a:endCxn id="840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3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4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6" name=""/>
            <p:cNvCxnSpPr>
              <a:stCxn id="845" idx="0"/>
              <a:endCxn id="844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7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4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0" name=""/>
            <p:cNvCxnSpPr>
              <a:stCxn id="849" idx="0"/>
              <a:endCxn id="848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51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5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4" name=""/>
            <p:cNvCxnSpPr>
              <a:stCxn id="853" idx="0"/>
              <a:endCxn id="852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5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5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8" name=""/>
            <p:cNvCxnSpPr>
              <a:stCxn id="857" idx="0"/>
              <a:endCxn id="856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9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86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2" name=""/>
            <p:cNvCxnSpPr>
              <a:stCxn id="861" idx="0"/>
              <a:endCxn id="860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86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87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87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883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88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5" name=""/>
              <p:cNvCxnSpPr>
                <a:stCxn id="884" idx="0"/>
                <a:endCxn id="866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7" name=""/>
          <p:cNvCxnSpPr>
            <a:stCxn id="759" idx="0"/>
            <a:endCxn id="868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8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889" name=""/>
            <p:cNvCxnSpPr>
              <a:stCxn id="890" idx="0"/>
              <a:endCxn id="864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9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6" name=""/>
          <p:cNvCxnSpPr>
            <a:stCxn id="864" idx="0"/>
            <a:endCxn id="89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9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09" name=""/>
            <p:cNvCxnSpPr>
              <a:stCxn id="761" idx="2"/>
              <a:endCxn id="757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1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13" name=""/>
            <p:cNvCxnSpPr>
              <a:stCxn id="876" idx="3"/>
              <a:endCxn id="863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1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17" name=""/>
            <p:cNvCxnSpPr>
              <a:stCxn id="894" idx="0"/>
              <a:endCxn id="864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21" name=""/>
            <p:cNvCxnSpPr>
              <a:stCxn id="755" idx="2"/>
              <a:endCxn id="759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2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2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7" name=""/>
              <p:cNvCxnSpPr>
                <a:stCxn id="926" idx="0"/>
                <a:endCxn id="92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2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3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3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5" name=""/>
              <p:cNvCxnSpPr>
                <a:stCxn id="934" idx="0"/>
                <a:endCxn id="93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93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39" name=""/>
            <p:cNvCxnSpPr>
              <a:stCxn id="753" idx="2"/>
              <a:endCxn id="864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4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951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953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69" idx="6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H=LV; Goto Istore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H=LV; Goto Istore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5" name=""/>
          <p:cNvSpPr/>
          <p:nvPr/>
        </p:nvSpPr>
        <p:spPr>
          <a:xfrm>
            <a:off x="1600200" y="2133720"/>
            <a:ext cx="16686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39760" y="1828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54120" y="3062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4495680" y="1752480"/>
            <a:ext cx="3047760" cy="3124080"/>
            <a:chOff x="4495680" y="1752480"/>
            <a:chExt cx="3047760" cy="3124080"/>
          </a:xfrm>
        </p:grpSpPr>
        <p:sp>
          <p:nvSpPr>
            <p:cNvPr id="979" name=""/>
            <p:cNvSpPr/>
            <p:nvPr/>
          </p:nvSpPr>
          <p:spPr>
            <a:xfrm>
              <a:off x="4495680" y="2057400"/>
              <a:ext cx="1744560" cy="28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871880" y="17524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48160" y="3352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275160" y="28954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3" name=""/>
          <p:cNvCxnSpPr>
            <a:stCxn id="975" idx="6"/>
            <a:endCxn id="979" idx="2"/>
          </p:cNvCxnSpPr>
          <p:nvPr/>
        </p:nvCxnSpPr>
        <p:spPr>
          <a:xfrm>
            <a:off x="3268800" y="3466800"/>
            <a:ext cx="122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00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01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12" name=""/>
              <p:cNvCxnSpPr>
                <a:stCxn id="1010" idx="0"/>
                <a:endCxn id="101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1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01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01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8" name=""/>
            <p:cNvCxnSpPr>
              <a:stCxn id="1016" idx="0"/>
              <a:endCxn id="101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1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02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02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4" name=""/>
            <p:cNvCxnSpPr>
              <a:stCxn id="1022" idx="0"/>
              <a:endCxn id="102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2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02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02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0" name=""/>
            <p:cNvCxnSpPr>
              <a:stCxn id="1028" idx="0"/>
              <a:endCxn id="102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03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03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6" name=""/>
            <p:cNvCxnSpPr>
              <a:stCxn id="1034" idx="0"/>
              <a:endCxn id="103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3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3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2" name=""/>
            <p:cNvCxnSpPr>
              <a:stCxn id="1040" idx="0"/>
              <a:endCxn id="104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4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4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8" name=""/>
            <p:cNvCxnSpPr>
              <a:stCxn id="1046" idx="0"/>
              <a:endCxn id="104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5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5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2" idx="0"/>
              <a:endCxn id="105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05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061" name=""/>
              <p:cNvCxnSpPr>
                <a:stCxn id="1060" idx="0"/>
                <a:endCxn id="105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6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06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4" name=""/>
            <p:cNvCxnSpPr>
              <a:stCxn id="1001" idx="2"/>
              <a:endCxn id="98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6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07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5" name=""/>
            <p:cNvCxnSpPr>
              <a:stCxn id="1074" idx="0"/>
              <a:endCxn id="107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07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0"/>
              <a:endCxn id="107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08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3" name=""/>
            <p:cNvCxnSpPr>
              <a:stCxn id="1082" idx="0"/>
              <a:endCxn id="108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08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7" name=""/>
            <p:cNvCxnSpPr>
              <a:stCxn id="1086" idx="0"/>
              <a:endCxn id="108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08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1" name=""/>
            <p:cNvCxnSpPr>
              <a:stCxn id="1090" idx="0"/>
              <a:endCxn id="108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09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5" name=""/>
            <p:cNvCxnSpPr>
              <a:stCxn id="1094" idx="0"/>
              <a:endCxn id="109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09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9" name=""/>
            <p:cNvCxnSpPr>
              <a:stCxn id="1098" idx="0"/>
              <a:endCxn id="109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10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3" name=""/>
            <p:cNvCxnSpPr>
              <a:stCxn id="1102" idx="0"/>
              <a:endCxn id="110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10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7" name=""/>
            <p:cNvCxnSpPr>
              <a:stCxn id="1106" idx="0"/>
              <a:endCxn id="110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10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12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12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2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12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12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30" name=""/>
              <p:cNvCxnSpPr>
                <a:stCxn id="1129" idx="0"/>
                <a:endCxn id="111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3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32" name=""/>
          <p:cNvCxnSpPr>
            <a:stCxn id="1004" idx="0"/>
            <a:endCxn id="111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3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134" name=""/>
            <p:cNvCxnSpPr>
              <a:stCxn id="1135" idx="0"/>
              <a:endCxn id="110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3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13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"/>
          <p:cNvCxnSpPr>
            <a:stCxn id="1109" idx="0"/>
            <a:endCxn id="114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154" name=""/>
            <p:cNvCxnSpPr>
              <a:stCxn id="1006" idx="2"/>
              <a:endCxn id="100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158" name=""/>
            <p:cNvCxnSpPr>
              <a:stCxn id="1121" idx="3"/>
              <a:endCxn id="110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162" name=""/>
            <p:cNvCxnSpPr>
              <a:stCxn id="1139" idx="0"/>
              <a:endCxn id="110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166" name=""/>
            <p:cNvCxnSpPr>
              <a:stCxn id="1000" idx="2"/>
              <a:endCxn id="100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17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17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2" name=""/>
              <p:cNvCxnSpPr>
                <a:stCxn id="1171" idx="0"/>
                <a:endCxn id="117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7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17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17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0" name=""/>
              <p:cNvCxnSpPr>
                <a:stCxn id="1179" idx="0"/>
                <a:endCxn id="117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8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184" name=""/>
            <p:cNvCxnSpPr>
              <a:stCxn id="998" idx="2"/>
              <a:endCxn id="110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196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198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394320" y="20462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35160" y="2473200"/>
            <a:ext cx="304920" cy="2895840"/>
          </a:xfrm>
          <a:prstGeom prst="downArrow">
            <a:avLst>
              <a:gd name="adj1" fmla="val 50000"/>
              <a:gd name="adj2" fmla="val 11352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981080" y="2039760"/>
            <a:ext cx="129564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05120" y="4572000"/>
            <a:ext cx="106668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0" y="5105520"/>
            <a:ext cx="380880" cy="380880"/>
          </a:xfrm>
          <a:prstGeom prst="downArrow">
            <a:avLst>
              <a:gd name="adj1" fmla="val 34028"/>
              <a:gd name="adj2" fmla="val 4426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133720" y="5410080"/>
            <a:ext cx="167616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BRU+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1981080" y="990000"/>
            <a:ext cx="381240" cy="4530600"/>
          </a:xfrm>
          <a:prstGeom prst="downArrow">
            <a:avLst>
              <a:gd name="adj1" fmla="val 45009"/>
              <a:gd name="adj2" fmla="val 11828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581280" y="3886200"/>
            <a:ext cx="5562720" cy="1676520"/>
          </a:xfrm>
          <a:prstGeom prst="wedgeEllipseCallout">
            <a:avLst>
              <a:gd name="adj1" fmla="val -66694"/>
              <a:gd name="adj2" fmla="val -143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donné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Lecture déclenché dans le Main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3" name=""/>
          <p:cNvCxnSpPr>
            <a:stCxn id="1222" idx="6"/>
            <a:endCxn id="1224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24" idx="6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4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62520" y="1371600"/>
            <a:ext cx="4343400" cy="1447920"/>
          </a:xfrm>
          <a:prstGeom prst="wedgeEllipseCallout">
            <a:avLst>
              <a:gd name="adj1" fmla="val -72222"/>
              <a:gd name="adj2" fmla="val -75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’adresse de la variable est calcul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AR=MBRU+H; Goto Istore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25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25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55" name=""/>
              <p:cNvCxnSpPr>
                <a:stCxn id="1253" idx="0"/>
                <a:endCxn id="125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5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25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25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1" name=""/>
            <p:cNvCxnSpPr>
              <a:stCxn id="1259" idx="0"/>
              <a:endCxn id="126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6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26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26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7" name=""/>
            <p:cNvCxnSpPr>
              <a:stCxn id="1265" idx="0"/>
              <a:endCxn id="126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6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26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27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3" name=""/>
            <p:cNvCxnSpPr>
              <a:stCxn id="1271" idx="0"/>
              <a:endCxn id="127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7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27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27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9" name=""/>
            <p:cNvCxnSpPr>
              <a:stCxn id="1277" idx="0"/>
              <a:endCxn id="127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28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28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5" name=""/>
            <p:cNvCxnSpPr>
              <a:stCxn id="1283" idx="0"/>
              <a:endCxn id="128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28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28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1" name=""/>
            <p:cNvCxnSpPr>
              <a:stCxn id="1289" idx="0"/>
              <a:endCxn id="129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29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29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7" name=""/>
            <p:cNvCxnSpPr>
              <a:stCxn id="1295" idx="0"/>
              <a:endCxn id="129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29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30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04" name=""/>
              <p:cNvCxnSpPr>
                <a:stCxn id="1303" idx="0"/>
                <a:endCxn id="129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0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30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7" name=""/>
            <p:cNvCxnSpPr>
              <a:stCxn id="1244" idx="2"/>
              <a:endCxn id="122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0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1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8" name=""/>
            <p:cNvCxnSpPr>
              <a:stCxn id="1317" idx="0"/>
              <a:endCxn id="131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32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2" name=""/>
            <p:cNvCxnSpPr>
              <a:stCxn id="1321" idx="0"/>
              <a:endCxn id="132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32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6" name=""/>
            <p:cNvCxnSpPr>
              <a:stCxn id="1325" idx="0"/>
              <a:endCxn id="132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32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0" name=""/>
            <p:cNvCxnSpPr>
              <a:stCxn id="1329" idx="0"/>
              <a:endCxn id="132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33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4" name=""/>
            <p:cNvCxnSpPr>
              <a:stCxn id="1333" idx="0"/>
              <a:endCxn id="133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33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8" name=""/>
            <p:cNvCxnSpPr>
              <a:stCxn id="1337" idx="0"/>
              <a:endCxn id="133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34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2" name=""/>
            <p:cNvCxnSpPr>
              <a:stCxn id="1341" idx="0"/>
              <a:endCxn id="134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34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6" name=""/>
            <p:cNvCxnSpPr>
              <a:stCxn id="1345" idx="0"/>
              <a:endCxn id="134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34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0" name=""/>
            <p:cNvCxnSpPr>
              <a:stCxn id="1349" idx="0"/>
              <a:endCxn id="134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35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36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6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6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37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37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73" name=""/>
              <p:cNvCxnSpPr>
                <a:stCxn id="1372" idx="0"/>
                <a:endCxn id="135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7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5" name=""/>
          <p:cNvCxnSpPr>
            <a:stCxn id="1247" idx="0"/>
            <a:endCxn id="135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7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377" name=""/>
            <p:cNvCxnSpPr>
              <a:stCxn id="1378" idx="0"/>
              <a:endCxn id="135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7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38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4" name=""/>
          <p:cNvCxnSpPr>
            <a:stCxn id="1352" idx="0"/>
            <a:endCxn id="1383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5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397" name=""/>
            <p:cNvCxnSpPr>
              <a:stCxn id="1249" idx="2"/>
              <a:endCxn id="124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8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401" name=""/>
            <p:cNvCxnSpPr>
              <a:stCxn id="1364" idx="3"/>
              <a:endCxn id="135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2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3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405" name=""/>
            <p:cNvCxnSpPr>
              <a:stCxn id="1382" idx="0"/>
              <a:endCxn id="135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6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409" name=""/>
            <p:cNvCxnSpPr>
              <a:stCxn id="1243" idx="2"/>
              <a:endCxn id="124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0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413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15" name=""/>
              <p:cNvCxnSpPr>
                <a:stCxn id="1414" idx="0"/>
                <a:endCxn id="1416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17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420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23" name=""/>
              <p:cNvCxnSpPr>
                <a:stCxn id="1422" idx="0"/>
                <a:endCxn id="1421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24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427" name=""/>
            <p:cNvCxnSpPr>
              <a:stCxn id="1241" idx="2"/>
              <a:endCxn id="135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8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439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441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6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8" name=""/>
          <p:cNvCxnSpPr>
            <a:stCxn id="1457" idx="6"/>
            <a:endCxn id="1459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0" name=""/>
          <p:cNvCxnSpPr>
            <a:stCxn id="1459" idx="6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9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AR=MBRU+H; Goto Istore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48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48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89" name=""/>
              <p:cNvCxnSpPr>
                <a:stCxn id="1487" idx="0"/>
                <a:endCxn id="148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49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49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49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93" idx="0"/>
              <a:endCxn id="149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9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49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49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1" name=""/>
            <p:cNvCxnSpPr>
              <a:stCxn id="1499" idx="0"/>
              <a:endCxn id="150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0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50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50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7" name=""/>
            <p:cNvCxnSpPr>
              <a:stCxn id="1505" idx="0"/>
              <a:endCxn id="150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0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50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51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3" name=""/>
            <p:cNvCxnSpPr>
              <a:stCxn id="1511" idx="0"/>
              <a:endCxn id="151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51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51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7" idx="0"/>
              <a:endCxn id="151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52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52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5" name=""/>
            <p:cNvCxnSpPr>
              <a:stCxn id="1523" idx="0"/>
              <a:endCxn id="152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52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52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1" name=""/>
            <p:cNvCxnSpPr>
              <a:stCxn id="1529" idx="0"/>
              <a:endCxn id="153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53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53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53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38" name=""/>
              <p:cNvCxnSpPr>
                <a:stCxn id="1537" idx="0"/>
                <a:endCxn id="153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153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54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1" name=""/>
            <p:cNvCxnSpPr>
              <a:stCxn id="1478" idx="2"/>
              <a:endCxn id="146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55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2" name=""/>
            <p:cNvCxnSpPr>
              <a:stCxn id="1551" idx="0"/>
              <a:endCxn id="155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55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6" name=""/>
            <p:cNvCxnSpPr>
              <a:stCxn id="1555" idx="0"/>
              <a:endCxn id="155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55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0" name=""/>
            <p:cNvCxnSpPr>
              <a:stCxn id="1559" idx="0"/>
              <a:endCxn id="155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56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4" name=""/>
            <p:cNvCxnSpPr>
              <a:stCxn id="1563" idx="0"/>
              <a:endCxn id="156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6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8" name=""/>
            <p:cNvCxnSpPr>
              <a:stCxn id="1567" idx="0"/>
              <a:endCxn id="156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56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7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2" name=""/>
            <p:cNvCxnSpPr>
              <a:stCxn id="1571" idx="0"/>
              <a:endCxn id="157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57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6" name=""/>
            <p:cNvCxnSpPr>
              <a:stCxn id="1575" idx="0"/>
              <a:endCxn id="157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57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0" name=""/>
            <p:cNvCxnSpPr>
              <a:stCxn id="1579" idx="0"/>
              <a:endCxn id="157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58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4" name=""/>
            <p:cNvCxnSpPr>
              <a:stCxn id="1583" idx="0"/>
              <a:endCxn id="158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58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60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60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0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0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60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60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07" name=""/>
              <p:cNvCxnSpPr>
                <a:stCxn id="1606" idx="0"/>
                <a:endCxn id="158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0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09" name=""/>
          <p:cNvCxnSpPr>
            <a:stCxn id="1481" idx="0"/>
            <a:endCxn id="159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1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611" name=""/>
            <p:cNvCxnSpPr>
              <a:stCxn id="1612" idx="0"/>
              <a:endCxn id="158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1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61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8" name=""/>
          <p:cNvCxnSpPr>
            <a:stCxn id="1586" idx="0"/>
            <a:endCxn id="161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61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631" name=""/>
            <p:cNvCxnSpPr>
              <a:stCxn id="1483" idx="2"/>
              <a:endCxn id="147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3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635" name=""/>
            <p:cNvCxnSpPr>
              <a:stCxn id="1598" idx="3"/>
              <a:endCxn id="158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3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639" name=""/>
            <p:cNvCxnSpPr>
              <a:stCxn id="1616" idx="0"/>
              <a:endCxn id="158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643" name=""/>
            <p:cNvCxnSpPr>
              <a:stCxn id="1477" idx="2"/>
              <a:endCxn id="148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64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64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49" name=""/>
              <p:cNvCxnSpPr>
                <a:stCxn id="1648" idx="0"/>
                <a:endCxn id="165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5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65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65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57" name=""/>
              <p:cNvCxnSpPr>
                <a:stCxn id="1656" idx="0"/>
                <a:endCxn id="165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65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661" name=""/>
            <p:cNvCxnSpPr>
              <a:stCxn id="1475" idx="2"/>
              <a:endCxn id="158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6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673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675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2" name=""/>
          <p:cNvCxnSpPr>
            <a:stCxn id="1691" idx="6"/>
            <a:endCxn id="1693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4" name=""/>
          <p:cNvCxnSpPr>
            <a:stCxn id="1693" idx="6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3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8:31:57Z</dcterms:created>
  <dc:creator>Chateigner</dc:creator>
  <dc:description/>
  <dc:language>en-US</dc:language>
  <cp:lastModifiedBy>Chateigner</cp:lastModifiedBy>
  <dcterms:modified xsi:type="dcterms:W3CDTF">2002-01-28T11:01:52Z</dcterms:modified>
  <cp:revision>24</cp:revision>
  <dc:subject/>
  <dc:title>Exemple chargement d’une instruction</dc:title>
</cp:coreProperties>
</file>