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63760" y="3683160"/>
            <a:ext cx="5445000" cy="1450800"/>
            <a:chOff x="1463760" y="3683160"/>
            <a:chExt cx="5445000" cy="1450800"/>
          </a:xfrm>
        </p:grpSpPr>
        <p:sp>
          <p:nvSpPr>
            <p:cNvPr id="6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463760" y="3683160"/>
              <a:ext cx="5445000" cy="1450800"/>
              <a:chOff x="1463760" y="3683160"/>
              <a:chExt cx="5445000" cy="1450800"/>
            </a:xfrm>
          </p:grpSpPr>
          <p:sp>
            <p:nvSpPr>
              <p:cNvPr id="6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5" idx="0"/>
                <a:endCxn id="66" idx="0"/>
              </p:cNvCxnSpPr>
              <p:nvPr/>
            </p:nvCxnSpPr>
            <p:spPr>
              <a:xfrm flipH="1" flipV="1" rot="5400000">
                <a:off x="3536280" y="1761840"/>
                <a:ext cx="1299600" cy="544536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68" name=""/>
          <p:cNvGrpSpPr/>
          <p:nvPr/>
        </p:nvGrpSpPr>
        <p:grpSpPr>
          <a:xfrm>
            <a:off x="1390680" y="3683160"/>
            <a:ext cx="5575320" cy="1025280"/>
            <a:chOff x="1390680" y="3683160"/>
            <a:chExt cx="5575320" cy="1025280"/>
          </a:xfrm>
        </p:grpSpPr>
        <p:grpSp>
          <p:nvGrpSpPr>
            <p:cNvPr id="6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71" idx="0"/>
              <a:endCxn id="72" idx="0"/>
            </p:cNvCxnSpPr>
            <p:nvPr/>
          </p:nvCxnSpPr>
          <p:spPr>
            <a:xfrm flipH="1" flipV="1" rot="5400000">
              <a:off x="3741120" y="1483920"/>
              <a:ext cx="874080" cy="55756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4" name=""/>
          <p:cNvGrpSpPr/>
          <p:nvPr/>
        </p:nvGrpSpPr>
        <p:grpSpPr>
          <a:xfrm>
            <a:off x="1322280" y="3683160"/>
            <a:ext cx="5713560" cy="601560"/>
            <a:chOff x="1322280" y="3683160"/>
            <a:chExt cx="5713560" cy="601560"/>
          </a:xfrm>
        </p:grpSpPr>
        <p:grpSp>
          <p:nvGrpSpPr>
            <p:cNvPr id="7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>
              <a:stCxn id="77" idx="0"/>
              <a:endCxn id="78" idx="0"/>
            </p:cNvCxnSpPr>
            <p:nvPr/>
          </p:nvCxnSpPr>
          <p:spPr>
            <a:xfrm flipH="1" flipV="1" rot="5400000">
              <a:off x="3953880" y="1203120"/>
              <a:ext cx="450360" cy="57139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" name=""/>
          <p:cNvGrpSpPr/>
          <p:nvPr/>
        </p:nvGrpSpPr>
        <p:grpSpPr>
          <a:xfrm>
            <a:off x="1252080" y="3630240"/>
            <a:ext cx="5837760" cy="228600"/>
            <a:chOff x="1252080" y="3630240"/>
            <a:chExt cx="5837760" cy="228600"/>
          </a:xfrm>
        </p:grpSpPr>
        <p:grpSp>
          <p:nvGrpSpPr>
            <p:cNvPr id="8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3" idx="0"/>
              <a:endCxn id="84" idx="0"/>
            </p:cNvCxnSpPr>
            <p:nvPr/>
          </p:nvCxnSpPr>
          <p:spPr>
            <a:xfrm flipH="1" flipV="1" rot="5400000">
              <a:off x="4158720" y="927720"/>
              <a:ext cx="24480" cy="5838120"/>
            </a:xfrm>
            <a:prstGeom prst="bentConnector4">
              <a:avLst>
                <a:gd name="adj1" fmla="val 947761"/>
                <a:gd name="adj2" fmla="val 5891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" name=""/>
          <p:cNvGrpSpPr/>
          <p:nvPr/>
        </p:nvGrpSpPr>
        <p:grpSpPr>
          <a:xfrm>
            <a:off x="1133280" y="2835360"/>
            <a:ext cx="6077160" cy="1000080"/>
            <a:chOff x="1133280" y="2835360"/>
            <a:chExt cx="6077160" cy="1000080"/>
          </a:xfrm>
        </p:grpSpPr>
        <p:grpSp>
          <p:nvGrpSpPr>
            <p:cNvPr id="8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" name=""/>
            <p:cNvCxnSpPr>
              <a:stCxn id="89" idx="0"/>
              <a:endCxn id="90" idx="0"/>
            </p:cNvCxnSpPr>
            <p:nvPr/>
          </p:nvCxnSpPr>
          <p:spPr>
            <a:xfrm flipH="1" rot="16200000">
              <a:off x="3753000" y="377280"/>
              <a:ext cx="837720" cy="607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1204560" y="3258720"/>
            <a:ext cx="5939280" cy="576720"/>
            <a:chOff x="1204560" y="3258720"/>
            <a:chExt cx="5939280" cy="576720"/>
          </a:xfrm>
        </p:grpSpPr>
        <p:grpSp>
          <p:nvGrpSpPr>
            <p:cNvPr id="9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9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" name=""/>
            <p:cNvCxnSpPr>
              <a:stCxn id="95" idx="0"/>
              <a:endCxn id="96" idx="0"/>
            </p:cNvCxnSpPr>
            <p:nvPr/>
          </p:nvCxnSpPr>
          <p:spPr>
            <a:xfrm flipH="1" rot="16200000">
              <a:off x="3967200" y="658080"/>
              <a:ext cx="414360" cy="593964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8" name=""/>
          <p:cNvGrpSpPr/>
          <p:nvPr/>
        </p:nvGrpSpPr>
        <p:grpSpPr>
          <a:xfrm>
            <a:off x="834840" y="1991880"/>
            <a:ext cx="6432840" cy="1843560"/>
            <a:chOff x="834840" y="1991880"/>
            <a:chExt cx="6432840" cy="1843560"/>
          </a:xfrm>
        </p:grpSpPr>
        <p:grpSp>
          <p:nvGrpSpPr>
            <p:cNvPr id="9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1" idx="0"/>
              <a:endCxn id="102" idx="0"/>
            </p:cNvCxnSpPr>
            <p:nvPr/>
          </p:nvCxnSpPr>
          <p:spPr>
            <a:xfrm flipH="1" flipV="1" rot="10800000">
              <a:off x="1062000" y="2144160"/>
              <a:ext cx="6206040" cy="1690560"/>
            </a:xfrm>
            <a:prstGeom prst="bentConnector3">
              <a:avLst>
                <a:gd name="adj1" fmla="val -366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4" name=""/>
          <p:cNvGrpSpPr/>
          <p:nvPr/>
        </p:nvGrpSpPr>
        <p:grpSpPr>
          <a:xfrm>
            <a:off x="990360" y="1539360"/>
            <a:ext cx="6347160" cy="2296080"/>
            <a:chOff x="990360" y="1539360"/>
            <a:chExt cx="6347160" cy="2296080"/>
          </a:xfrm>
        </p:grpSpPr>
        <p:grpSp>
          <p:nvGrpSpPr>
            <p:cNvPr id="10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7" idx="0"/>
              <a:endCxn id="108" idx="0"/>
            </p:cNvCxnSpPr>
            <p:nvPr/>
          </p:nvCxnSpPr>
          <p:spPr>
            <a:xfrm flipH="1" rot="16200000">
              <a:off x="3097440" y="-405720"/>
              <a:ext cx="2133360" cy="634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914400" y="1116000"/>
            <a:ext cx="6473880" cy="2719440"/>
            <a:chOff x="914400" y="1116000"/>
            <a:chExt cx="6473880" cy="2719440"/>
          </a:xfrm>
        </p:grpSpPr>
        <p:sp>
          <p:nvSpPr>
            <p:cNvPr id="11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914400" y="1116000"/>
              <a:ext cx="6473880" cy="2718720"/>
              <a:chOff x="914400" y="1116000"/>
              <a:chExt cx="6473880" cy="2718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6" name=""/>
              <p:cNvCxnSpPr>
                <a:stCxn id="115" idx="0"/>
                <a:endCxn id="111" idx="0"/>
              </p:cNvCxnSpPr>
              <p:nvPr/>
            </p:nvCxnSpPr>
            <p:spPr>
              <a:xfrm flipH="1" rot="16200000">
                <a:off x="2870640" y="-683280"/>
                <a:ext cx="2561760" cy="647424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17" name=""/>
          <p:cNvGrpSpPr/>
          <p:nvPr/>
        </p:nvGrpSpPr>
        <p:grpSpPr>
          <a:xfrm>
            <a:off x="2342880" y="534960"/>
            <a:ext cx="5159520" cy="3381120"/>
            <a:chOff x="2342880" y="534960"/>
            <a:chExt cx="5159520" cy="3381120"/>
          </a:xfrm>
        </p:grpSpPr>
        <p:sp>
          <p:nvSpPr>
            <p:cNvPr id="11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56" idx="2"/>
              <a:endCxn id="41" idx="0"/>
            </p:cNvCxnSpPr>
            <p:nvPr/>
          </p:nvCxnSpPr>
          <p:spPr>
            <a:xfrm flipV="1" rot="16200000">
              <a:off x="3488400" y="-329400"/>
              <a:ext cx="2868840" cy="5159880"/>
            </a:xfrm>
            <a:prstGeom prst="bentConnector5">
              <a:avLst>
                <a:gd name="adj1" fmla="val -8069"/>
                <a:gd name="adj2" fmla="val 39198"/>
                <a:gd name="adj3" fmla="val 10840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43200" y="1228680"/>
            <a:ext cx="1006560" cy="487440"/>
            <a:chOff x="2743200" y="1228680"/>
            <a:chExt cx="1006560" cy="487440"/>
          </a:xfrm>
        </p:grpSpPr>
        <p:sp>
          <p:nvSpPr>
            <p:cNvPr id="12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9" idx="0"/>
              <a:endCxn id="128" idx="0"/>
            </p:cNvCxnSpPr>
            <p:nvPr/>
          </p:nvCxnSpPr>
          <p:spPr>
            <a:xfrm flipV="1">
              <a:off x="2743200" y="1304640"/>
              <a:ext cx="1006920" cy="411120"/>
            </a:xfrm>
            <a:prstGeom prst="bentConnector3">
              <a:avLst>
                <a:gd name="adj1" fmla="val 5178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" name=""/>
          <p:cNvGrpSpPr/>
          <p:nvPr/>
        </p:nvGrpSpPr>
        <p:grpSpPr>
          <a:xfrm>
            <a:off x="2523960" y="1228680"/>
            <a:ext cx="1298520" cy="925200"/>
            <a:chOff x="2523960" y="1228680"/>
            <a:chExt cx="1298520" cy="925200"/>
          </a:xfrm>
        </p:grpSpPr>
        <p:sp>
          <p:nvSpPr>
            <p:cNvPr id="13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3" idx="0"/>
              <a:endCxn id="132" idx="0"/>
            </p:cNvCxnSpPr>
            <p:nvPr/>
          </p:nvCxnSpPr>
          <p:spPr>
            <a:xfrm flipV="1">
              <a:off x="2523960" y="1304640"/>
              <a:ext cx="1298880" cy="848880"/>
            </a:xfrm>
            <a:prstGeom prst="bentConnector3">
              <a:avLst>
                <a:gd name="adj1" fmla="val 5140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" name=""/>
          <p:cNvGrpSpPr/>
          <p:nvPr/>
        </p:nvGrpSpPr>
        <p:grpSpPr>
          <a:xfrm>
            <a:off x="2747880" y="1231920"/>
            <a:ext cx="1312560" cy="1750680"/>
            <a:chOff x="2747880" y="1231920"/>
            <a:chExt cx="1312560" cy="1750680"/>
          </a:xfrm>
        </p:grpSpPr>
        <p:sp>
          <p:nvSpPr>
            <p:cNvPr id="13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7" idx="0"/>
              <a:endCxn id="136" idx="0"/>
            </p:cNvCxnSpPr>
            <p:nvPr/>
          </p:nvCxnSpPr>
          <p:spPr>
            <a:xfrm flipV="1">
              <a:off x="2747880" y="1307880"/>
              <a:ext cx="1312920" cy="1674360"/>
            </a:xfrm>
            <a:prstGeom prst="bentConnector3">
              <a:avLst>
                <a:gd name="adj1" fmla="val 5137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2752560" y="1228680"/>
            <a:ext cx="1228680" cy="1335240"/>
            <a:chOff x="2752560" y="1228680"/>
            <a:chExt cx="1228680" cy="1335240"/>
          </a:xfrm>
        </p:grpSpPr>
        <p:sp>
          <p:nvSpPr>
            <p:cNvPr id="14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0"/>
              <a:endCxn id="140" idx="0"/>
            </p:cNvCxnSpPr>
            <p:nvPr/>
          </p:nvCxnSpPr>
          <p:spPr>
            <a:xfrm flipV="1">
              <a:off x="2752560" y="1304640"/>
              <a:ext cx="1229040" cy="1258920"/>
            </a:xfrm>
            <a:prstGeom prst="bentConnector3">
              <a:avLst>
                <a:gd name="adj1" fmla="val 514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2878200" y="1228680"/>
            <a:ext cx="1030320" cy="1477080"/>
            <a:chOff x="2878200" y="1228680"/>
            <a:chExt cx="1030320" cy="1477080"/>
          </a:xfrm>
        </p:grpSpPr>
        <p:sp>
          <p:nvSpPr>
            <p:cNvPr id="14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5" idx="0"/>
              <a:endCxn id="144" idx="0"/>
            </p:cNvCxnSpPr>
            <p:nvPr/>
          </p:nvCxnSpPr>
          <p:spPr>
            <a:xfrm flipH="1" flipV="1" rot="5400000">
              <a:off x="2811600" y="1370880"/>
              <a:ext cx="1163520" cy="1030680"/>
            </a:xfrm>
            <a:prstGeom prst="bentConnector3">
              <a:avLst>
                <a:gd name="adj1" fmla="val -2045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7" name=""/>
          <p:cNvGrpSpPr/>
          <p:nvPr/>
        </p:nvGrpSpPr>
        <p:grpSpPr>
          <a:xfrm>
            <a:off x="2747880" y="1231920"/>
            <a:ext cx="1385640" cy="2174400"/>
            <a:chOff x="2747880" y="1231920"/>
            <a:chExt cx="1385640" cy="2174400"/>
          </a:xfrm>
        </p:grpSpPr>
        <p:sp>
          <p:nvSpPr>
            <p:cNvPr id="14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0"/>
              <a:endCxn id="148" idx="0"/>
            </p:cNvCxnSpPr>
            <p:nvPr/>
          </p:nvCxnSpPr>
          <p:spPr>
            <a:xfrm flipV="1">
              <a:off x="2747880" y="1307880"/>
              <a:ext cx="1386000" cy="2098080"/>
            </a:xfrm>
            <a:prstGeom prst="bentConnector3">
              <a:avLst>
                <a:gd name="adj1" fmla="val 5131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2747880" y="1231920"/>
            <a:ext cx="1471320" cy="2612520"/>
            <a:chOff x="2747880" y="1231920"/>
            <a:chExt cx="1471320" cy="2612520"/>
          </a:xfrm>
        </p:grpSpPr>
        <p:sp>
          <p:nvSpPr>
            <p:cNvPr id="15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0"/>
              <a:endCxn id="152" idx="0"/>
            </p:cNvCxnSpPr>
            <p:nvPr/>
          </p:nvCxnSpPr>
          <p:spPr>
            <a:xfrm flipV="1">
              <a:off x="2747880" y="1307880"/>
              <a:ext cx="1471680" cy="2536200"/>
            </a:xfrm>
            <a:prstGeom prst="bentConnector3">
              <a:avLst>
                <a:gd name="adj1" fmla="val 51235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2695680" y="1231920"/>
            <a:ext cx="1596960" cy="3007800"/>
            <a:chOff x="2695680" y="1231920"/>
            <a:chExt cx="1596960" cy="3007800"/>
          </a:xfrm>
        </p:grpSpPr>
        <p:sp>
          <p:nvSpPr>
            <p:cNvPr id="15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0"/>
              <a:endCxn id="156" idx="0"/>
            </p:cNvCxnSpPr>
            <p:nvPr/>
          </p:nvCxnSpPr>
          <p:spPr>
            <a:xfrm flipV="1">
              <a:off x="2696760" y="1307880"/>
              <a:ext cx="1596240" cy="2931840"/>
            </a:xfrm>
            <a:prstGeom prst="bentConnector3">
              <a:avLst>
                <a:gd name="adj1" fmla="val 511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9" name=""/>
          <p:cNvGrpSpPr/>
          <p:nvPr/>
        </p:nvGrpSpPr>
        <p:grpSpPr>
          <a:xfrm>
            <a:off x="2752560" y="1235160"/>
            <a:ext cx="1609560" cy="3448080"/>
            <a:chOff x="2752560" y="1235160"/>
            <a:chExt cx="1609560" cy="3448080"/>
          </a:xfrm>
        </p:grpSpPr>
        <p:sp>
          <p:nvSpPr>
            <p:cNvPr id="16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1" idx="0"/>
              <a:endCxn id="160" idx="0"/>
            </p:cNvCxnSpPr>
            <p:nvPr/>
          </p:nvCxnSpPr>
          <p:spPr>
            <a:xfrm flipV="1">
              <a:off x="2752560" y="1310400"/>
              <a:ext cx="1609920" cy="3372480"/>
            </a:xfrm>
            <a:prstGeom prst="bentConnector3">
              <a:avLst>
                <a:gd name="adj1" fmla="val 5112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6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7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7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448080" y="5130720"/>
            <a:ext cx="1352520" cy="762120"/>
            <a:chOff x="3448080" y="5130720"/>
            <a:chExt cx="1352520" cy="762120"/>
          </a:xfrm>
        </p:grpSpPr>
        <p:grpSp>
          <p:nvGrpSpPr>
            <p:cNvPr id="183" name=""/>
            <p:cNvGrpSpPr/>
            <p:nvPr/>
          </p:nvGrpSpPr>
          <p:grpSpPr>
            <a:xfrm>
              <a:off x="3448080" y="5369040"/>
              <a:ext cx="1352520" cy="523800"/>
              <a:chOff x="3448080" y="5369040"/>
              <a:chExt cx="1352520" cy="523800"/>
            </a:xfrm>
          </p:grpSpPr>
          <p:sp>
            <p:nvSpPr>
              <p:cNvPr id="18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>
                <a:stCxn id="184" idx="0"/>
                <a:endCxn id="166" idx="2"/>
              </p:cNvCxnSpPr>
              <p:nvPr/>
            </p:nvCxnSpPr>
            <p:spPr>
              <a:xfrm flipH="1" flipV="1" rot="5400000">
                <a:off x="4052520" y="4916160"/>
                <a:ext cx="295560" cy="1201320"/>
              </a:xfrm>
              <a:prstGeom prst="bentConnector3">
                <a:avLst>
                  <a:gd name="adj1" fmla="val -7743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" name=""/>
          <p:cNvCxnSpPr>
            <a:stCxn id="59" idx="0"/>
            <a:endCxn id="168" idx="2"/>
          </p:cNvCxnSpPr>
          <p:nvPr/>
        </p:nvCxnSpPr>
        <p:spPr>
          <a:xfrm flipV="1">
            <a:off x="4705200" y="1663560"/>
            <a:ext cx="360" cy="3086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5114880" y="2054160"/>
            <a:ext cx="1104840" cy="1437840"/>
            <a:chOff x="5114880" y="2054160"/>
            <a:chExt cx="1104840" cy="1437840"/>
          </a:xfrm>
        </p:grpSpPr>
        <p:cxnSp>
          <p:nvCxnSpPr>
            <p:cNvPr id="189" name=""/>
            <p:cNvCxnSpPr>
              <a:stCxn id="190" idx="0"/>
              <a:endCxn id="164" idx="3"/>
            </p:cNvCxnSpPr>
            <p:nvPr/>
          </p:nvCxnSpPr>
          <p:spPr>
            <a:xfrm flipV="1" rot="16200000">
              <a:off x="4605120" y="2563560"/>
              <a:ext cx="1286280" cy="2671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64" idx="0"/>
            <a:endCxn id="196" idx="1"/>
          </p:cNvCxnSpPr>
          <p:nvPr/>
        </p:nvCxnSpPr>
        <p:spPr>
          <a:xfrm flipH="1" flipV="1">
            <a:off x="4753080" y="1676520"/>
            <a:ext cx="285840" cy="3020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48280" y="914400"/>
            <a:ext cx="2673000" cy="2998080"/>
            <a:chOff x="5048280" y="914400"/>
            <a:chExt cx="2673000" cy="2998080"/>
          </a:xfrm>
        </p:grpSpPr>
        <p:cxnSp>
          <p:nvCxnSpPr>
            <p:cNvPr id="211" name=""/>
            <p:cNvCxnSpPr>
              <a:stCxn id="61" idx="2"/>
              <a:endCxn id="57" idx="3"/>
            </p:cNvCxnSpPr>
            <p:nvPr/>
          </p:nvCxnSpPr>
          <p:spPr>
            <a:xfrm flipV="1" rot="16200000">
              <a:off x="5041800" y="1001520"/>
              <a:ext cx="2686320" cy="2673360"/>
            </a:xfrm>
            <a:prstGeom prst="bentConnector4">
              <a:avLst>
                <a:gd name="adj1" fmla="val -8604"/>
                <a:gd name="adj2" fmla="val 52134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353200" y="1554120"/>
            <a:ext cx="1352520" cy="538200"/>
            <a:chOff x="5353200" y="1554120"/>
            <a:chExt cx="1352520" cy="538200"/>
          </a:xfrm>
        </p:grpSpPr>
        <p:cxnSp>
          <p:nvCxnSpPr>
            <p:cNvPr id="215" name=""/>
            <p:cNvCxnSpPr>
              <a:stCxn id="176" idx="3"/>
              <a:endCxn id="163" idx="0"/>
            </p:cNvCxnSpPr>
            <p:nvPr/>
          </p:nvCxnSpPr>
          <p:spPr>
            <a:xfrm>
              <a:off x="5353200" y="1625400"/>
              <a:ext cx="135288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838240" y="1949400"/>
            <a:ext cx="2124360" cy="231840"/>
            <a:chOff x="2838240" y="1949400"/>
            <a:chExt cx="2124360" cy="231840"/>
          </a:xfrm>
        </p:grpSpPr>
        <p:cxnSp>
          <p:nvCxnSpPr>
            <p:cNvPr id="219" name=""/>
            <p:cNvCxnSpPr>
              <a:stCxn id="194" idx="0"/>
              <a:endCxn id="164" idx="1"/>
            </p:cNvCxnSpPr>
            <p:nvPr/>
          </p:nvCxnSpPr>
          <p:spPr>
            <a:xfrm flipH="1" flipV="1" rot="5400000">
              <a:off x="3836520" y="1055520"/>
              <a:ext cx="127440" cy="2124720"/>
            </a:xfrm>
            <a:prstGeom prst="bentConnector4">
              <a:avLst>
                <a:gd name="adj1" fmla="val 182436"/>
                <a:gd name="adj2" fmla="val 5268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33800" y="3684600"/>
            <a:ext cx="1279440" cy="1325520"/>
            <a:chOff x="4933800" y="3684600"/>
            <a:chExt cx="1279440" cy="1325520"/>
          </a:xfrm>
        </p:grpSpPr>
        <p:cxnSp>
          <p:nvCxnSpPr>
            <p:cNvPr id="223" name=""/>
            <p:cNvCxnSpPr>
              <a:stCxn id="55" idx="2"/>
              <a:endCxn id="59" idx="3"/>
            </p:cNvCxnSpPr>
            <p:nvPr/>
          </p:nvCxnSpPr>
          <p:spPr>
            <a:xfrm rot="5400000">
              <a:off x="4945680" y="3672720"/>
              <a:ext cx="1256040" cy="12798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416400" y="3683160"/>
            <a:ext cx="3089160" cy="2547720"/>
            <a:chOff x="3416400" y="3683160"/>
            <a:chExt cx="3089160" cy="2547720"/>
          </a:xfrm>
        </p:grpSpPr>
        <p:grpSp>
          <p:nvGrpSpPr>
            <p:cNvPr id="227" name=""/>
            <p:cNvGrpSpPr/>
            <p:nvPr/>
          </p:nvGrpSpPr>
          <p:grpSpPr>
            <a:xfrm>
              <a:off x="3416400" y="3683160"/>
              <a:ext cx="3089160" cy="2492280"/>
              <a:chOff x="3416400" y="3683160"/>
              <a:chExt cx="3089160" cy="2492280"/>
            </a:xfrm>
          </p:grpSpPr>
          <p:sp>
            <p:nvSpPr>
              <p:cNvPr id="22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9" name=""/>
              <p:cNvCxnSpPr>
                <a:stCxn id="228" idx="0"/>
                <a:endCxn id="230" idx="3"/>
              </p:cNvCxnSpPr>
              <p:nvPr/>
            </p:nvCxnSpPr>
            <p:spPr>
              <a:xfrm flipV="1" rot="10800000">
                <a:off x="3416040" y="3834720"/>
                <a:ext cx="3089520" cy="2341080"/>
              </a:xfrm>
              <a:prstGeom prst="bentConnector3">
                <a:avLst>
                  <a:gd name="adj1" fmla="val 49947"/>
                </a:avLst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847880" y="3683160"/>
            <a:ext cx="4851360" cy="1955520"/>
            <a:chOff x="1847880" y="3683160"/>
            <a:chExt cx="4851360" cy="1955520"/>
          </a:xfrm>
        </p:grpSpPr>
        <p:grpSp>
          <p:nvGrpSpPr>
            <p:cNvPr id="234" name=""/>
            <p:cNvGrpSpPr/>
            <p:nvPr/>
          </p:nvGrpSpPr>
          <p:grpSpPr>
            <a:xfrm>
              <a:off x="1847880" y="3683160"/>
              <a:ext cx="4851360" cy="1885680"/>
              <a:chOff x="1847880" y="3683160"/>
              <a:chExt cx="4851360" cy="1885680"/>
            </a:xfrm>
          </p:grpSpPr>
          <p:sp>
            <p:nvSpPr>
              <p:cNvPr id="23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7" name=""/>
              <p:cNvCxnSpPr>
                <a:stCxn id="236" idx="0"/>
                <a:endCxn id="235" idx="0"/>
              </p:cNvCxnSpPr>
              <p:nvPr/>
            </p:nvCxnSpPr>
            <p:spPr>
              <a:xfrm flipH="1" flipV="1" rot="5400000">
                <a:off x="3406320" y="2275920"/>
                <a:ext cx="1734480" cy="485172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959360" y="2130480"/>
            <a:ext cx="873000" cy="1785600"/>
            <a:chOff x="4959360" y="2130480"/>
            <a:chExt cx="873000" cy="1785600"/>
          </a:xfrm>
        </p:grpSpPr>
        <p:cxnSp>
          <p:nvCxnSpPr>
            <p:cNvPr id="241" name=""/>
            <p:cNvCxnSpPr>
              <a:stCxn id="53" idx="2"/>
              <a:endCxn id="164" idx="2"/>
            </p:cNvCxnSpPr>
            <p:nvPr/>
          </p:nvCxnSpPr>
          <p:spPr>
            <a:xfrm flipV="1" rot="16200000">
              <a:off x="4658400" y="2510280"/>
              <a:ext cx="1554480" cy="794160"/>
            </a:xfrm>
            <a:prstGeom prst="bentConnector3">
              <a:avLst>
                <a:gd name="adj1" fmla="val -14894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53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1523880"/>
            <a:ext cx="4952880" cy="1524240"/>
          </a:xfrm>
          <a:prstGeom prst="wedgeEllipseCallout">
            <a:avLst>
              <a:gd name="adj1" fmla="val -66601"/>
              <a:gd name="adj2" fmla="val 688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R, MDR, PC, MBR, S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V, CPP, TOS, OPC,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nt des registres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685800"/>
            <a:ext cx="1295280" cy="44956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2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925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6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927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29" name=""/>
              <p:cNvCxnSpPr>
                <a:stCxn id="1927" idx="0"/>
                <a:endCxn id="1928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930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931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932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5" name=""/>
            <p:cNvCxnSpPr>
              <a:stCxn id="1933" idx="0"/>
              <a:endCxn id="1934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36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937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938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0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41" name=""/>
            <p:cNvCxnSpPr>
              <a:stCxn id="1939" idx="0"/>
              <a:endCxn id="1940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42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943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6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47" name=""/>
            <p:cNvCxnSpPr>
              <a:stCxn id="1945" idx="0"/>
              <a:endCxn id="1946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48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949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950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2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3" name=""/>
            <p:cNvCxnSpPr>
              <a:stCxn id="1951" idx="0"/>
              <a:endCxn id="1952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54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955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956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9" name=""/>
            <p:cNvCxnSpPr>
              <a:stCxn id="1957" idx="0"/>
              <a:endCxn id="1958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60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961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962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4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65" name=""/>
            <p:cNvCxnSpPr>
              <a:stCxn id="1963" idx="0"/>
              <a:endCxn id="1964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66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967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968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1" name=""/>
            <p:cNvCxnSpPr>
              <a:stCxn id="1969" idx="0"/>
              <a:endCxn id="1970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72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973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976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78" name=""/>
              <p:cNvCxnSpPr>
                <a:stCxn id="1977" idx="0"/>
                <a:endCxn id="1973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979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980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1" name=""/>
            <p:cNvCxnSpPr>
              <a:stCxn id="1918" idx="2"/>
              <a:endCxn id="1903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82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990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2" name=""/>
            <p:cNvCxnSpPr>
              <a:stCxn id="1991" idx="0"/>
              <a:endCxn id="1990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93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994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6" name=""/>
            <p:cNvCxnSpPr>
              <a:stCxn id="1995" idx="0"/>
              <a:endCxn id="1994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97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998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0" name=""/>
            <p:cNvCxnSpPr>
              <a:stCxn id="1999" idx="0"/>
              <a:endCxn id="1998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01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002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4" name=""/>
            <p:cNvCxnSpPr>
              <a:stCxn id="2003" idx="0"/>
              <a:endCxn id="2002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05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006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8" name=""/>
            <p:cNvCxnSpPr>
              <a:stCxn id="2007" idx="0"/>
              <a:endCxn id="2006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09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010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2" name=""/>
            <p:cNvCxnSpPr>
              <a:stCxn id="2011" idx="0"/>
              <a:endCxn id="2010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13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014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6" name=""/>
            <p:cNvCxnSpPr>
              <a:stCxn id="2015" idx="0"/>
              <a:endCxn id="2014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17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018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0" name=""/>
            <p:cNvCxnSpPr>
              <a:stCxn id="2019" idx="0"/>
              <a:endCxn id="2018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21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022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4" name=""/>
            <p:cNvCxnSpPr>
              <a:stCxn id="2023" idx="0"/>
              <a:endCxn id="2022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025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040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041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42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043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4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045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046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47" name=""/>
              <p:cNvCxnSpPr>
                <a:stCxn id="2046" idx="0"/>
                <a:endCxn id="2028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048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49" name=""/>
          <p:cNvCxnSpPr>
            <a:stCxn id="1921" idx="0"/>
            <a:endCxn id="2030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50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051" name=""/>
            <p:cNvCxnSpPr>
              <a:stCxn id="2052" idx="0"/>
              <a:endCxn id="2026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053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054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6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9" name=""/>
          <p:cNvCxnSpPr>
            <a:stCxn id="2026" idx="0"/>
            <a:endCxn id="205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2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073" name=""/>
            <p:cNvCxnSpPr>
              <a:stCxn id="1923" idx="2"/>
              <a:endCxn id="1919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077" name=""/>
            <p:cNvCxnSpPr>
              <a:stCxn id="2038" idx="3"/>
              <a:endCxn id="2025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081" name=""/>
            <p:cNvCxnSpPr>
              <a:stCxn id="2056" idx="0"/>
              <a:endCxn id="2026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4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085" name=""/>
            <p:cNvCxnSpPr>
              <a:stCxn id="1917" idx="2"/>
              <a:endCxn id="1921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089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09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91" name=""/>
              <p:cNvCxnSpPr>
                <a:stCxn id="2090" idx="0"/>
                <a:endCxn id="2092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09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096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09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99" name=""/>
              <p:cNvCxnSpPr>
                <a:stCxn id="2098" idx="0"/>
                <a:endCxn id="2097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0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2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103" name=""/>
            <p:cNvCxnSpPr>
              <a:stCxn id="1915" idx="2"/>
              <a:endCxn id="2026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115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1523880"/>
            <a:ext cx="4952880" cy="4876920"/>
          </a:xfrm>
          <a:prstGeom prst="wedgeEllipseCallout">
            <a:avLst>
              <a:gd name="adj1" fmla="val -69935"/>
              <a:gd name="adj2" fmla="val -25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P contient un poin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u dernier élément empi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2" name=""/>
          <p:cNvGrpSpPr/>
          <p:nvPr/>
        </p:nvGrpSpPr>
        <p:grpSpPr>
          <a:xfrm>
            <a:off x="6248520" y="3533760"/>
            <a:ext cx="1752480" cy="2057400"/>
            <a:chOff x="6248520" y="3533760"/>
            <a:chExt cx="1752480" cy="2057400"/>
          </a:xfrm>
        </p:grpSpPr>
        <p:sp>
          <p:nvSpPr>
            <p:cNvPr id="2133" name=""/>
            <p:cNvSpPr/>
            <p:nvPr/>
          </p:nvSpPr>
          <p:spPr>
            <a:xfrm>
              <a:off x="6248520" y="35337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248520" y="55911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001000" y="35337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6" name=""/>
          <p:cNvSpPr/>
          <p:nvPr/>
        </p:nvSpPr>
        <p:spPr>
          <a:xfrm>
            <a:off x="6248520" y="522756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248520" y="41958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248520" y="380988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248520" y="457200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030640" y="52340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1" name=""/>
          <p:cNvCxnSpPr>
            <a:stCxn id="2140" idx="3"/>
            <a:endCxn id="2136" idx="1"/>
          </p:cNvCxnSpPr>
          <p:nvPr/>
        </p:nvCxnSpPr>
        <p:spPr>
          <a:xfrm flipV="1">
            <a:off x="5517720" y="5416200"/>
            <a:ext cx="731160" cy="216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142" name=""/>
          <p:cNvSpPr/>
          <p:nvPr/>
        </p:nvSpPr>
        <p:spPr>
          <a:xfrm>
            <a:off x="5042520" y="3821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3" name=""/>
          <p:cNvCxnSpPr>
            <a:stCxn id="2142" idx="3"/>
            <a:endCxn id="2138" idx="1"/>
          </p:cNvCxnSpPr>
          <p:nvPr/>
        </p:nvCxnSpPr>
        <p:spPr>
          <a:xfrm flipV="1">
            <a:off x="5478120" y="3998520"/>
            <a:ext cx="770760" cy="7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144" name=""/>
          <p:cNvSpPr/>
          <p:nvPr/>
        </p:nvSpPr>
        <p:spPr>
          <a:xfrm>
            <a:off x="4945320" y="4414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934320" y="383868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6" name=""/>
          <p:cNvCxnSpPr>
            <a:stCxn id="2144" idx="3"/>
            <a:endCxn id="2145" idx="2"/>
          </p:cNvCxnSpPr>
          <p:nvPr/>
        </p:nvCxnSpPr>
        <p:spPr>
          <a:xfrm flipV="1">
            <a:off x="5559120" y="3990240"/>
            <a:ext cx="1375560" cy="60876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8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171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2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173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5" name=""/>
              <p:cNvCxnSpPr>
                <a:stCxn id="2173" idx="0"/>
                <a:endCxn id="2174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176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177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178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1" name=""/>
            <p:cNvCxnSpPr>
              <a:stCxn id="2179" idx="0"/>
              <a:endCxn id="2180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182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183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184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6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7" name=""/>
            <p:cNvCxnSpPr>
              <a:stCxn id="2185" idx="0"/>
              <a:endCxn id="2186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188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189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190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2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3" name=""/>
            <p:cNvCxnSpPr>
              <a:stCxn id="2191" idx="0"/>
              <a:endCxn id="2192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194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195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196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8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9" name=""/>
            <p:cNvCxnSpPr>
              <a:stCxn id="2197" idx="0"/>
              <a:endCxn id="2198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00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201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202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4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5" name=""/>
            <p:cNvCxnSpPr>
              <a:stCxn id="2203" idx="0"/>
              <a:endCxn id="2204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06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207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208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0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1" name=""/>
            <p:cNvCxnSpPr>
              <a:stCxn id="2209" idx="0"/>
              <a:endCxn id="2210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12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213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214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6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7" name=""/>
            <p:cNvCxnSpPr>
              <a:stCxn id="2215" idx="0"/>
              <a:endCxn id="2216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18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219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0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221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222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224" name=""/>
              <p:cNvCxnSpPr>
                <a:stCxn id="2223" idx="0"/>
                <a:endCxn id="2219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225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226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7" name=""/>
            <p:cNvCxnSpPr>
              <a:stCxn id="2164" idx="2"/>
              <a:endCxn id="2149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228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236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8" name=""/>
            <p:cNvCxnSpPr>
              <a:stCxn id="2237" idx="0"/>
              <a:endCxn id="2236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39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240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2" name=""/>
            <p:cNvCxnSpPr>
              <a:stCxn id="2241" idx="0"/>
              <a:endCxn id="2240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43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244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6" name=""/>
            <p:cNvCxnSpPr>
              <a:stCxn id="2245" idx="0"/>
              <a:endCxn id="2244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47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248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0" name=""/>
            <p:cNvCxnSpPr>
              <a:stCxn id="2249" idx="0"/>
              <a:endCxn id="2248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51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252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4" name=""/>
            <p:cNvCxnSpPr>
              <a:stCxn id="2253" idx="0"/>
              <a:endCxn id="2252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55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256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8" name=""/>
            <p:cNvCxnSpPr>
              <a:stCxn id="2257" idx="0"/>
              <a:endCxn id="2256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59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260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2" name=""/>
            <p:cNvCxnSpPr>
              <a:stCxn id="2261" idx="0"/>
              <a:endCxn id="2260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63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264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6" name=""/>
            <p:cNvCxnSpPr>
              <a:stCxn id="2265" idx="0"/>
              <a:endCxn id="2264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67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268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0" name=""/>
            <p:cNvCxnSpPr>
              <a:stCxn id="2269" idx="0"/>
              <a:endCxn id="2268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271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5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286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287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88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289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291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292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93" name=""/>
              <p:cNvCxnSpPr>
                <a:stCxn id="2292" idx="0"/>
                <a:endCxn id="2274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294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95" name=""/>
          <p:cNvCxnSpPr>
            <a:stCxn id="2167" idx="0"/>
            <a:endCxn id="2276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96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297" name=""/>
            <p:cNvCxnSpPr>
              <a:stCxn id="2298" idx="0"/>
              <a:endCxn id="2272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299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300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2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5" name=""/>
          <p:cNvCxnSpPr>
            <a:stCxn id="2272" idx="0"/>
            <a:endCxn id="230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319" name=""/>
            <p:cNvCxnSpPr>
              <a:stCxn id="2169" idx="2"/>
              <a:endCxn id="2165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0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1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2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323" name=""/>
            <p:cNvCxnSpPr>
              <a:stCxn id="2284" idx="3"/>
              <a:endCxn id="2271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4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5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6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327" name=""/>
            <p:cNvCxnSpPr>
              <a:stCxn id="2302" idx="0"/>
              <a:endCxn id="2272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8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0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331" name=""/>
            <p:cNvCxnSpPr>
              <a:stCxn id="2163" idx="2"/>
              <a:endCxn id="2167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32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3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4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335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336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37" name=""/>
              <p:cNvCxnSpPr>
                <a:stCxn id="2336" idx="0"/>
                <a:endCxn id="2338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39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0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1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342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343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45" name=""/>
              <p:cNvCxnSpPr>
                <a:stCxn id="2344" idx="0"/>
                <a:endCxn id="2343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46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7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8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349" name=""/>
            <p:cNvCxnSpPr>
              <a:stCxn id="2161" idx="2"/>
              <a:endCxn id="2272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50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1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361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962520" y="1523880"/>
            <a:ext cx="4952880" cy="4876920"/>
          </a:xfrm>
          <a:prstGeom prst="wedgeEllipseCallout">
            <a:avLst>
              <a:gd name="adj1" fmla="val -69935"/>
              <a:gd name="adj2" fmla="val -16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V contient un poin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u premier élément empi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8" name=""/>
          <p:cNvGrpSpPr/>
          <p:nvPr/>
        </p:nvGrpSpPr>
        <p:grpSpPr>
          <a:xfrm>
            <a:off x="6248520" y="3533760"/>
            <a:ext cx="1752480" cy="2057400"/>
            <a:chOff x="6248520" y="3533760"/>
            <a:chExt cx="1752480" cy="2057400"/>
          </a:xfrm>
        </p:grpSpPr>
        <p:sp>
          <p:nvSpPr>
            <p:cNvPr id="2379" name=""/>
            <p:cNvSpPr/>
            <p:nvPr/>
          </p:nvSpPr>
          <p:spPr>
            <a:xfrm>
              <a:off x="6248520" y="35337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48520" y="55911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001000" y="35337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2" name=""/>
          <p:cNvSpPr/>
          <p:nvPr/>
        </p:nvSpPr>
        <p:spPr>
          <a:xfrm>
            <a:off x="6248520" y="522756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248520" y="41958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248520" y="380988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248520" y="457200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5030640" y="52340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7" name=""/>
          <p:cNvCxnSpPr>
            <a:stCxn id="2386" idx="3"/>
            <a:endCxn id="2382" idx="1"/>
          </p:cNvCxnSpPr>
          <p:nvPr/>
        </p:nvCxnSpPr>
        <p:spPr>
          <a:xfrm flipV="1">
            <a:off x="5517720" y="5416200"/>
            <a:ext cx="731160" cy="216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388" name=""/>
          <p:cNvSpPr/>
          <p:nvPr/>
        </p:nvSpPr>
        <p:spPr>
          <a:xfrm>
            <a:off x="5042520" y="3821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9" name=""/>
          <p:cNvCxnSpPr>
            <a:stCxn id="2388" idx="3"/>
            <a:endCxn id="2384" idx="1"/>
          </p:cNvCxnSpPr>
          <p:nvPr/>
        </p:nvCxnSpPr>
        <p:spPr>
          <a:xfrm flipV="1">
            <a:off x="5478120" y="3998520"/>
            <a:ext cx="770760" cy="7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390" name=""/>
          <p:cNvSpPr/>
          <p:nvPr/>
        </p:nvSpPr>
        <p:spPr>
          <a:xfrm>
            <a:off x="4945320" y="4414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34320" y="383868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2" name=""/>
          <p:cNvCxnSpPr>
            <a:stCxn id="2390" idx="3"/>
            <a:endCxn id="2391" idx="2"/>
          </p:cNvCxnSpPr>
          <p:nvPr/>
        </p:nvCxnSpPr>
        <p:spPr>
          <a:xfrm flipV="1">
            <a:off x="5559120" y="3990240"/>
            <a:ext cx="1375560" cy="60876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4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417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8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419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21" name=""/>
              <p:cNvCxnSpPr>
                <a:stCxn id="2419" idx="0"/>
                <a:endCxn id="2420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422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423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424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27" name=""/>
            <p:cNvCxnSpPr>
              <a:stCxn id="2425" idx="0"/>
              <a:endCxn id="2426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28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429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430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2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3" name=""/>
            <p:cNvCxnSpPr>
              <a:stCxn id="2431" idx="0"/>
              <a:endCxn id="2432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34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435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436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9" name=""/>
            <p:cNvCxnSpPr>
              <a:stCxn id="2437" idx="0"/>
              <a:endCxn id="2438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40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441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442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4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45" name=""/>
            <p:cNvCxnSpPr>
              <a:stCxn id="2443" idx="0"/>
              <a:endCxn id="2444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46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447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448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0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1" name=""/>
            <p:cNvCxnSpPr>
              <a:stCxn id="2449" idx="0"/>
              <a:endCxn id="2450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52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453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454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6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7" name=""/>
            <p:cNvCxnSpPr>
              <a:stCxn id="2455" idx="0"/>
              <a:endCxn id="2456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58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459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460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3" name=""/>
            <p:cNvCxnSpPr>
              <a:stCxn id="2461" idx="0"/>
              <a:endCxn id="2462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64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465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6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467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468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470" name=""/>
              <p:cNvCxnSpPr>
                <a:stCxn id="2469" idx="0"/>
                <a:endCxn id="2465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471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472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3" name=""/>
            <p:cNvCxnSpPr>
              <a:stCxn id="2410" idx="2"/>
              <a:endCxn id="2395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74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482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4" name=""/>
            <p:cNvCxnSpPr>
              <a:stCxn id="2483" idx="0"/>
              <a:endCxn id="2482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85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486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8" name=""/>
            <p:cNvCxnSpPr>
              <a:stCxn id="2487" idx="0"/>
              <a:endCxn id="2486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89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490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2" name=""/>
            <p:cNvCxnSpPr>
              <a:stCxn id="2491" idx="0"/>
              <a:endCxn id="2490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93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494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6" name=""/>
            <p:cNvCxnSpPr>
              <a:stCxn id="2495" idx="0"/>
              <a:endCxn id="2494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97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498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0" name=""/>
            <p:cNvCxnSpPr>
              <a:stCxn id="2499" idx="0"/>
              <a:endCxn id="2498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01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502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4" name=""/>
            <p:cNvCxnSpPr>
              <a:stCxn id="2503" idx="0"/>
              <a:endCxn id="2502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05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506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8" name=""/>
            <p:cNvCxnSpPr>
              <a:stCxn id="2507" idx="0"/>
              <a:endCxn id="2506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09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510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2" name=""/>
            <p:cNvCxnSpPr>
              <a:stCxn id="2511" idx="0"/>
              <a:endCxn id="2510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13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514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6" name=""/>
            <p:cNvCxnSpPr>
              <a:stCxn id="2515" idx="0"/>
              <a:endCxn id="2514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517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532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533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34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35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537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538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39" name=""/>
              <p:cNvCxnSpPr>
                <a:stCxn id="2538" idx="0"/>
                <a:endCxn id="2520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40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1" name=""/>
          <p:cNvCxnSpPr>
            <a:stCxn id="2413" idx="0"/>
            <a:endCxn id="2522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42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543" name=""/>
            <p:cNvCxnSpPr>
              <a:stCxn id="2544" idx="0"/>
              <a:endCxn id="2518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545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546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8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1" name=""/>
          <p:cNvCxnSpPr>
            <a:stCxn id="2518" idx="0"/>
            <a:endCxn id="255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565" name=""/>
            <p:cNvCxnSpPr>
              <a:stCxn id="2415" idx="2"/>
              <a:endCxn id="2411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6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569" name=""/>
            <p:cNvCxnSpPr>
              <a:stCxn id="2530" idx="3"/>
              <a:endCxn id="2517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7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573" name=""/>
            <p:cNvCxnSpPr>
              <a:stCxn id="2548" idx="0"/>
              <a:endCxn id="2518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7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577" name=""/>
            <p:cNvCxnSpPr>
              <a:stCxn id="2409" idx="2"/>
              <a:endCxn id="2413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7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58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58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83" name=""/>
              <p:cNvCxnSpPr>
                <a:stCxn id="2582" idx="0"/>
                <a:endCxn id="258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58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58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58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91" name=""/>
              <p:cNvCxnSpPr>
                <a:stCxn id="2590" idx="0"/>
                <a:endCxn id="258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9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595" name=""/>
            <p:cNvCxnSpPr>
              <a:stCxn id="2407" idx="2"/>
              <a:endCxn id="2518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9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6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607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962520" y="1523880"/>
            <a:ext cx="4952880" cy="4876920"/>
          </a:xfrm>
          <a:prstGeom prst="wedgeEllipseCallout">
            <a:avLst>
              <a:gd name="adj1" fmla="val -70287"/>
              <a:gd name="adj2" fmla="val 1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S (Top Of St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ient la valeur du dern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élément empi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4" name=""/>
          <p:cNvGrpSpPr/>
          <p:nvPr/>
        </p:nvGrpSpPr>
        <p:grpSpPr>
          <a:xfrm>
            <a:off x="6248520" y="3533760"/>
            <a:ext cx="1752480" cy="2057400"/>
            <a:chOff x="6248520" y="3533760"/>
            <a:chExt cx="1752480" cy="2057400"/>
          </a:xfrm>
        </p:grpSpPr>
        <p:sp>
          <p:nvSpPr>
            <p:cNvPr id="2625" name=""/>
            <p:cNvSpPr/>
            <p:nvPr/>
          </p:nvSpPr>
          <p:spPr>
            <a:xfrm>
              <a:off x="6248520" y="35337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248520" y="55911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001000" y="35337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8" name=""/>
          <p:cNvSpPr/>
          <p:nvPr/>
        </p:nvSpPr>
        <p:spPr>
          <a:xfrm>
            <a:off x="6248520" y="522756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248520" y="41958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248520" y="380988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6248520" y="457200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5030640" y="52340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3" name=""/>
          <p:cNvCxnSpPr>
            <a:stCxn id="2632" idx="3"/>
            <a:endCxn id="2628" idx="1"/>
          </p:cNvCxnSpPr>
          <p:nvPr/>
        </p:nvCxnSpPr>
        <p:spPr>
          <a:xfrm flipV="1">
            <a:off x="5517720" y="5416200"/>
            <a:ext cx="731160" cy="216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634" name=""/>
          <p:cNvSpPr/>
          <p:nvPr/>
        </p:nvSpPr>
        <p:spPr>
          <a:xfrm>
            <a:off x="5042520" y="3821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5" name=""/>
          <p:cNvCxnSpPr>
            <a:stCxn id="2634" idx="3"/>
            <a:endCxn id="2630" idx="1"/>
          </p:cNvCxnSpPr>
          <p:nvPr/>
        </p:nvCxnSpPr>
        <p:spPr>
          <a:xfrm flipV="1">
            <a:off x="5478120" y="3998520"/>
            <a:ext cx="770760" cy="7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636" name=""/>
          <p:cNvSpPr/>
          <p:nvPr/>
        </p:nvSpPr>
        <p:spPr>
          <a:xfrm>
            <a:off x="4945320" y="4414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934320" y="383868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8" name=""/>
          <p:cNvCxnSpPr>
            <a:stCxn id="2636" idx="3"/>
            <a:endCxn id="2637" idx="2"/>
          </p:cNvCxnSpPr>
          <p:nvPr/>
        </p:nvCxnSpPr>
        <p:spPr>
          <a:xfrm flipV="1">
            <a:off x="5559120" y="3990240"/>
            <a:ext cx="1375560" cy="60876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U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4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2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66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4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66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67" name=""/>
              <p:cNvCxnSpPr>
                <a:stCxn id="2665" idx="0"/>
                <a:endCxn id="2666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668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66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67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3" name=""/>
            <p:cNvCxnSpPr>
              <a:stCxn id="2671" idx="0"/>
              <a:endCxn id="2672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674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67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67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9" name=""/>
            <p:cNvCxnSpPr>
              <a:stCxn id="2677" idx="0"/>
              <a:endCxn id="2678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680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68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68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5" name=""/>
            <p:cNvCxnSpPr>
              <a:stCxn id="2683" idx="0"/>
              <a:endCxn id="2684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686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68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68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1" name=""/>
            <p:cNvCxnSpPr>
              <a:stCxn id="2689" idx="0"/>
              <a:endCxn id="2690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692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69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69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7" name=""/>
            <p:cNvCxnSpPr>
              <a:stCxn id="2695" idx="0"/>
              <a:endCxn id="2696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698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69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70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3" name=""/>
            <p:cNvCxnSpPr>
              <a:stCxn id="2701" idx="0"/>
              <a:endCxn id="2702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04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70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70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9" name=""/>
            <p:cNvCxnSpPr>
              <a:stCxn id="2707" idx="0"/>
              <a:endCxn id="2708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10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71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2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71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71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716" name=""/>
              <p:cNvCxnSpPr>
                <a:stCxn id="2715" idx="0"/>
                <a:endCxn id="2711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717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71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9" name=""/>
            <p:cNvCxnSpPr>
              <a:stCxn id="2656" idx="2"/>
              <a:endCxn id="2641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72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7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72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0" name=""/>
            <p:cNvCxnSpPr>
              <a:stCxn id="2729" idx="0"/>
              <a:endCxn id="2728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31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73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4" name=""/>
            <p:cNvCxnSpPr>
              <a:stCxn id="2733" idx="0"/>
              <a:endCxn id="2732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35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73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8" name=""/>
            <p:cNvCxnSpPr>
              <a:stCxn id="2737" idx="0"/>
              <a:endCxn id="2736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39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74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2" name=""/>
            <p:cNvCxnSpPr>
              <a:stCxn id="2741" idx="0"/>
              <a:endCxn id="2740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43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74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6" name=""/>
            <p:cNvCxnSpPr>
              <a:stCxn id="2745" idx="0"/>
              <a:endCxn id="2744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47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74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50" name=""/>
            <p:cNvCxnSpPr>
              <a:stCxn id="2749" idx="0"/>
              <a:endCxn id="2748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51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75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54" name=""/>
            <p:cNvCxnSpPr>
              <a:stCxn id="2753" idx="0"/>
              <a:endCxn id="2752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55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75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58" name=""/>
            <p:cNvCxnSpPr>
              <a:stCxn id="2757" idx="0"/>
              <a:endCxn id="2756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59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76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62" name=""/>
            <p:cNvCxnSpPr>
              <a:stCxn id="2761" idx="0"/>
              <a:endCxn id="2760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76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77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77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8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78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2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783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78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85" name=""/>
              <p:cNvCxnSpPr>
                <a:stCxn id="2784" idx="0"/>
                <a:endCxn id="2766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78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7" name=""/>
          <p:cNvCxnSpPr>
            <a:stCxn id="2659" idx="0"/>
            <a:endCxn id="2768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88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789" name=""/>
            <p:cNvCxnSpPr>
              <a:stCxn id="2790" idx="0"/>
              <a:endCxn id="2764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79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79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7" name=""/>
          <p:cNvCxnSpPr>
            <a:stCxn id="2764" idx="0"/>
            <a:endCxn id="2796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811" name=""/>
            <p:cNvCxnSpPr>
              <a:stCxn id="2661" idx="2"/>
              <a:endCxn id="2657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815" name=""/>
            <p:cNvCxnSpPr>
              <a:stCxn id="2776" idx="3"/>
              <a:endCxn id="2763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819" name=""/>
            <p:cNvCxnSpPr>
              <a:stCxn id="2794" idx="0"/>
              <a:endCxn id="2764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823" name=""/>
            <p:cNvCxnSpPr>
              <a:stCxn id="2655" idx="2"/>
              <a:endCxn id="2659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82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82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29" name=""/>
              <p:cNvCxnSpPr>
                <a:stCxn id="2828" idx="0"/>
                <a:endCxn id="283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3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83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83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37" name=""/>
              <p:cNvCxnSpPr>
                <a:stCxn id="2836" idx="0"/>
                <a:endCxn id="283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3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841" name=""/>
            <p:cNvCxnSpPr>
              <a:stCxn id="2653" idx="2"/>
              <a:endCxn id="2764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853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352680" y="609480"/>
            <a:ext cx="5334120" cy="4800600"/>
          </a:xfrm>
          <a:prstGeom prst="wedgeRoundRectCallout">
            <a:avLst>
              <a:gd name="adj1" fmla="val -50805"/>
              <a:gd name="adj2" fmla="val 56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0" name=""/>
          <p:cNvGraphicFramePr/>
          <p:nvPr/>
        </p:nvGraphicFramePr>
        <p:xfrm>
          <a:off x="3962520" y="914400"/>
          <a:ext cx="4114800" cy="4128840"/>
        </p:xfrm>
        <a:graphic>
          <a:graphicData uri="http://schemas.openxmlformats.org/drawingml/2006/table">
            <a:tbl>
              <a:tblPr/>
              <a:tblGrid>
                <a:gridCol w="379440"/>
                <a:gridCol w="377640"/>
                <a:gridCol w="444600"/>
                <a:gridCol w="528480"/>
                <a:gridCol w="620640"/>
                <a:gridCol w="615960"/>
                <a:gridCol w="1148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un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/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+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+B+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+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+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-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and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o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U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72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4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895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6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897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99" name=""/>
              <p:cNvCxnSpPr>
                <a:stCxn id="2897" idx="0"/>
                <a:endCxn id="2898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900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901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902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4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5" name=""/>
            <p:cNvCxnSpPr>
              <a:stCxn id="2903" idx="0"/>
              <a:endCxn id="2904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06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907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908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0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1" name=""/>
            <p:cNvCxnSpPr>
              <a:stCxn id="2909" idx="0"/>
              <a:endCxn id="2910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12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913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914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6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7" name=""/>
            <p:cNvCxnSpPr>
              <a:stCxn id="2915" idx="0"/>
              <a:endCxn id="2916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18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919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920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2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3" name=""/>
            <p:cNvCxnSpPr>
              <a:stCxn id="2921" idx="0"/>
              <a:endCxn id="2922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24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925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926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8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9" name=""/>
            <p:cNvCxnSpPr>
              <a:stCxn id="2927" idx="0"/>
              <a:endCxn id="2928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30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931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932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4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35" name=""/>
            <p:cNvCxnSpPr>
              <a:stCxn id="2933" idx="0"/>
              <a:endCxn id="2934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36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937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938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0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1" name=""/>
            <p:cNvCxnSpPr>
              <a:stCxn id="2939" idx="0"/>
              <a:endCxn id="2940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42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943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4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945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946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48" name=""/>
              <p:cNvCxnSpPr>
                <a:stCxn id="2947" idx="0"/>
                <a:endCxn id="2943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949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950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1" name=""/>
            <p:cNvCxnSpPr>
              <a:stCxn id="2888" idx="2"/>
              <a:endCxn id="2873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52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9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960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2" name=""/>
            <p:cNvCxnSpPr>
              <a:stCxn id="2961" idx="0"/>
              <a:endCxn id="2960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63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964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6" name=""/>
            <p:cNvCxnSpPr>
              <a:stCxn id="2965" idx="0"/>
              <a:endCxn id="2964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67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968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70" name=""/>
            <p:cNvCxnSpPr>
              <a:stCxn id="2969" idx="0"/>
              <a:endCxn id="2968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71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972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74" name=""/>
            <p:cNvCxnSpPr>
              <a:stCxn id="2973" idx="0"/>
              <a:endCxn id="2972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75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976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78" name=""/>
            <p:cNvCxnSpPr>
              <a:stCxn id="2977" idx="0"/>
              <a:endCxn id="2976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79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980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2" name=""/>
            <p:cNvCxnSpPr>
              <a:stCxn id="2981" idx="0"/>
              <a:endCxn id="2980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83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984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6" name=""/>
            <p:cNvCxnSpPr>
              <a:stCxn id="2985" idx="0"/>
              <a:endCxn id="2984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87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988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0" name=""/>
            <p:cNvCxnSpPr>
              <a:stCxn id="2989" idx="0"/>
              <a:endCxn id="2988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91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992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4" name=""/>
            <p:cNvCxnSpPr>
              <a:stCxn id="2993" idx="0"/>
              <a:endCxn id="2992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995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9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3010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3011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2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13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3015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3016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7" name=""/>
              <p:cNvCxnSpPr>
                <a:stCxn id="3016" idx="0"/>
                <a:endCxn id="2998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18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19" name=""/>
          <p:cNvCxnSpPr>
            <a:stCxn id="2891" idx="0"/>
            <a:endCxn id="3000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20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3021" name=""/>
            <p:cNvCxnSpPr>
              <a:stCxn id="3022" idx="0"/>
              <a:endCxn id="2996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023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3024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6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9" name=""/>
          <p:cNvCxnSpPr>
            <a:stCxn id="2996" idx="0"/>
            <a:endCxn id="302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2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3043" name=""/>
            <p:cNvCxnSpPr>
              <a:stCxn id="2893" idx="2"/>
              <a:endCxn id="2889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4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6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3047" name=""/>
            <p:cNvCxnSpPr>
              <a:stCxn id="3008" idx="3"/>
              <a:endCxn id="2995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4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0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3051" name=""/>
            <p:cNvCxnSpPr>
              <a:stCxn id="3026" idx="0"/>
              <a:endCxn id="2996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5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4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3055" name=""/>
            <p:cNvCxnSpPr>
              <a:stCxn id="2887" idx="2"/>
              <a:endCxn id="2891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5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8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3059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306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61" name=""/>
              <p:cNvCxnSpPr>
                <a:stCxn id="3060" idx="0"/>
                <a:endCxn id="3062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06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3066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306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69" name=""/>
              <p:cNvCxnSpPr>
                <a:stCxn id="3068" idx="0"/>
                <a:endCxn id="3067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7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3073" name=""/>
            <p:cNvCxnSpPr>
              <a:stCxn id="2885" idx="2"/>
              <a:endCxn id="2996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4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3085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2971800" y="3581280"/>
            <a:ext cx="5791320" cy="2438640"/>
          </a:xfrm>
          <a:prstGeom prst="wedgeEllipseCallout">
            <a:avLst>
              <a:gd name="adj1" fmla="val -42791"/>
              <a:gd name="adj2" fmla="val 54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rmet de décaler de deux bits vers la gauch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e qui permet de convertir simplement des adresses de words en adresses de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0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12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12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30" name=""/>
              <p:cNvCxnSpPr>
                <a:stCxn id="3128" idx="0"/>
                <a:endCxn id="312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13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13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13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6" name=""/>
            <p:cNvCxnSpPr>
              <a:stCxn id="3134" idx="0"/>
              <a:endCxn id="313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3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13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13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42" name=""/>
            <p:cNvCxnSpPr>
              <a:stCxn id="3140" idx="0"/>
              <a:endCxn id="314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4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14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14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48" name=""/>
            <p:cNvCxnSpPr>
              <a:stCxn id="3146" idx="0"/>
              <a:endCxn id="314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4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15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15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4" name=""/>
            <p:cNvCxnSpPr>
              <a:stCxn id="3152" idx="0"/>
              <a:endCxn id="315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5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15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15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60" name=""/>
            <p:cNvCxnSpPr>
              <a:stCxn id="3158" idx="0"/>
              <a:endCxn id="315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6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16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16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66" name=""/>
            <p:cNvCxnSpPr>
              <a:stCxn id="3164" idx="0"/>
              <a:endCxn id="316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6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16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16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2" name=""/>
            <p:cNvCxnSpPr>
              <a:stCxn id="3170" idx="0"/>
              <a:endCxn id="317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7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17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17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17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79" name=""/>
              <p:cNvCxnSpPr>
                <a:stCxn id="3178" idx="0"/>
                <a:endCxn id="317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18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18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82" name=""/>
            <p:cNvCxnSpPr>
              <a:stCxn id="3119" idx="2"/>
              <a:endCxn id="310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18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19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3" name=""/>
            <p:cNvCxnSpPr>
              <a:stCxn id="3192" idx="0"/>
              <a:endCxn id="319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9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19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7" name=""/>
            <p:cNvCxnSpPr>
              <a:stCxn id="3196" idx="0"/>
              <a:endCxn id="319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9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19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01" name=""/>
            <p:cNvCxnSpPr>
              <a:stCxn id="3200" idx="0"/>
              <a:endCxn id="319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0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20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05" name=""/>
            <p:cNvCxnSpPr>
              <a:stCxn id="3204" idx="0"/>
              <a:endCxn id="320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0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20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09" name=""/>
            <p:cNvCxnSpPr>
              <a:stCxn id="3208" idx="0"/>
              <a:endCxn id="320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1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21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13" name=""/>
            <p:cNvCxnSpPr>
              <a:stCxn id="3212" idx="0"/>
              <a:endCxn id="321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1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21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17" name=""/>
            <p:cNvCxnSpPr>
              <a:stCxn id="3216" idx="0"/>
              <a:endCxn id="321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1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21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21" name=""/>
            <p:cNvCxnSpPr>
              <a:stCxn id="3220" idx="0"/>
              <a:endCxn id="321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2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22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25" name=""/>
            <p:cNvCxnSpPr>
              <a:stCxn id="3224" idx="0"/>
              <a:endCxn id="322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22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324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324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24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324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324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8" name=""/>
              <p:cNvCxnSpPr>
                <a:stCxn id="3247" idx="0"/>
                <a:endCxn id="322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24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50" name=""/>
          <p:cNvCxnSpPr>
            <a:stCxn id="3122" idx="0"/>
            <a:endCxn id="323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5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3252" name=""/>
            <p:cNvCxnSpPr>
              <a:stCxn id="3253" idx="0"/>
              <a:endCxn id="322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5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325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0" name=""/>
          <p:cNvCxnSpPr>
            <a:stCxn id="3227" idx="0"/>
            <a:endCxn id="3259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1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3274" name=""/>
            <p:cNvCxnSpPr>
              <a:stCxn id="3124" idx="2"/>
              <a:endCxn id="312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7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3278" name=""/>
            <p:cNvCxnSpPr>
              <a:stCxn id="3239" idx="3"/>
              <a:endCxn id="322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7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3282" name=""/>
            <p:cNvCxnSpPr>
              <a:stCxn id="3257" idx="0"/>
              <a:endCxn id="322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8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3286" name=""/>
            <p:cNvCxnSpPr>
              <a:stCxn id="3118" idx="2"/>
              <a:endCxn id="312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8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329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92" name=""/>
              <p:cNvCxnSpPr>
                <a:stCxn id="3291" idx="0"/>
                <a:endCxn id="329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29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329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329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0" name=""/>
              <p:cNvCxnSpPr>
                <a:stCxn id="3299" idx="0"/>
                <a:endCxn id="329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30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3304" name=""/>
            <p:cNvCxnSpPr>
              <a:stCxn id="3116" idx="2"/>
              <a:endCxn id="322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0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5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3316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228600" y="990720"/>
            <a:ext cx="4800600" cy="2666880"/>
          </a:xfrm>
          <a:prstGeom prst="wedgeEllipseCallout">
            <a:avLst>
              <a:gd name="adj1" fmla="val 62828"/>
              <a:gd name="adj2" fmla="val 12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 contrôleur est une sorte de policier qui va réguler la circulation dans toute cett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3" name="slide0090_image324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195408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35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36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2" name=""/>
              <p:cNvCxnSpPr>
                <a:stCxn id="3360" idx="0"/>
                <a:endCxn id="336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36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36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36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68" name=""/>
            <p:cNvCxnSpPr>
              <a:stCxn id="3366" idx="0"/>
              <a:endCxn id="336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6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37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37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4" name=""/>
            <p:cNvCxnSpPr>
              <a:stCxn id="3372" idx="0"/>
              <a:endCxn id="337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7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37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37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80" name=""/>
            <p:cNvCxnSpPr>
              <a:stCxn id="3378" idx="0"/>
              <a:endCxn id="337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8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38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38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86" name=""/>
            <p:cNvCxnSpPr>
              <a:stCxn id="3384" idx="0"/>
              <a:endCxn id="338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8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38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38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2" name=""/>
            <p:cNvCxnSpPr>
              <a:stCxn id="3390" idx="0"/>
              <a:endCxn id="339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9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39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39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8" name=""/>
            <p:cNvCxnSpPr>
              <a:stCxn id="3396" idx="0"/>
              <a:endCxn id="339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9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40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40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04" name=""/>
            <p:cNvCxnSpPr>
              <a:stCxn id="3402" idx="0"/>
              <a:endCxn id="340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0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40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40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40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411" name=""/>
              <p:cNvCxnSpPr>
                <a:stCxn id="3410" idx="0"/>
                <a:endCxn id="340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41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41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4" name=""/>
            <p:cNvCxnSpPr>
              <a:stCxn id="3351" idx="2"/>
              <a:endCxn id="333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1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42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5" name=""/>
            <p:cNvCxnSpPr>
              <a:stCxn id="3424" idx="0"/>
              <a:endCxn id="342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2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42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9" name=""/>
            <p:cNvCxnSpPr>
              <a:stCxn id="3428" idx="0"/>
              <a:endCxn id="342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3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43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3" name=""/>
            <p:cNvCxnSpPr>
              <a:stCxn id="3432" idx="0"/>
              <a:endCxn id="343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3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43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7" name=""/>
            <p:cNvCxnSpPr>
              <a:stCxn id="3436" idx="0"/>
              <a:endCxn id="343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3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43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1" name=""/>
            <p:cNvCxnSpPr>
              <a:stCxn id="3440" idx="0"/>
              <a:endCxn id="343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4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44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5" name=""/>
            <p:cNvCxnSpPr>
              <a:stCxn id="3444" idx="0"/>
              <a:endCxn id="344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4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44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9" name=""/>
            <p:cNvCxnSpPr>
              <a:stCxn id="3448" idx="0"/>
              <a:endCxn id="344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5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45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53" name=""/>
            <p:cNvCxnSpPr>
              <a:stCxn id="3452" idx="0"/>
              <a:endCxn id="345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5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45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57" name=""/>
            <p:cNvCxnSpPr>
              <a:stCxn id="3456" idx="0"/>
              <a:endCxn id="345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45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347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347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47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347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347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80" name=""/>
              <p:cNvCxnSpPr>
                <a:stCxn id="3479" idx="0"/>
                <a:endCxn id="346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48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2" name=""/>
          <p:cNvCxnSpPr>
            <a:stCxn id="3354" idx="0"/>
            <a:endCxn id="346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8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3484" name=""/>
            <p:cNvCxnSpPr>
              <a:stCxn id="3485" idx="0"/>
              <a:endCxn id="345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48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348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2" name=""/>
          <p:cNvCxnSpPr>
            <a:stCxn id="3459" idx="0"/>
            <a:endCxn id="349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3506" name=""/>
            <p:cNvCxnSpPr>
              <a:stCxn id="3356" idx="2"/>
              <a:endCxn id="335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0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3510" name=""/>
            <p:cNvCxnSpPr>
              <a:stCxn id="3471" idx="3"/>
              <a:endCxn id="345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3514" name=""/>
            <p:cNvCxnSpPr>
              <a:stCxn id="3489" idx="0"/>
              <a:endCxn id="345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3518" name=""/>
            <p:cNvCxnSpPr>
              <a:stCxn id="3350" idx="2"/>
              <a:endCxn id="335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352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352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24" name=""/>
              <p:cNvCxnSpPr>
                <a:stCxn id="3523" idx="0"/>
                <a:endCxn id="352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52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352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353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2" name=""/>
              <p:cNvCxnSpPr>
                <a:stCxn id="3531" idx="0"/>
                <a:endCxn id="353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53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3536" name=""/>
            <p:cNvCxnSpPr>
              <a:stCxn id="3348" idx="2"/>
              <a:endCxn id="345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3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7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3548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228600" y="990720"/>
            <a:ext cx="4800600" cy="2666880"/>
          </a:xfrm>
          <a:prstGeom prst="wedgeEllipseCallout">
            <a:avLst>
              <a:gd name="adj1" fmla="val 62828"/>
              <a:gd name="adj2" fmla="val 12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 contrôler est une sorte de policier qui va réguler la circulation dans toute cett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5" name="Policier%20retourne" descr=""/>
          <p:cNvPicPr/>
          <p:nvPr/>
        </p:nvPicPr>
        <p:blipFill>
          <a:blip r:embed="rId1"/>
          <a:stretch/>
        </p:blipFill>
        <p:spPr>
          <a:xfrm>
            <a:off x="6477120" y="1905120"/>
            <a:ext cx="195408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7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9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590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592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94" name=""/>
              <p:cNvCxnSpPr>
                <a:stCxn id="3592" idx="0"/>
                <a:endCxn id="3593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595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596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597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9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0" name=""/>
            <p:cNvCxnSpPr>
              <a:stCxn id="3598" idx="0"/>
              <a:endCxn id="3599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01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602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603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5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6" name=""/>
            <p:cNvCxnSpPr>
              <a:stCxn id="3604" idx="0"/>
              <a:endCxn id="3605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07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608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609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1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2" name=""/>
            <p:cNvCxnSpPr>
              <a:stCxn id="3610" idx="0"/>
              <a:endCxn id="3611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13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614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615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7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8" name=""/>
            <p:cNvCxnSpPr>
              <a:stCxn id="3616" idx="0"/>
              <a:endCxn id="3617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19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620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621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3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24" name=""/>
            <p:cNvCxnSpPr>
              <a:stCxn id="3622" idx="0"/>
              <a:endCxn id="3623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25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626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627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9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0" name=""/>
            <p:cNvCxnSpPr>
              <a:stCxn id="3628" idx="0"/>
              <a:endCxn id="3629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31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632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633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5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6" name=""/>
            <p:cNvCxnSpPr>
              <a:stCxn id="3634" idx="0"/>
              <a:endCxn id="3635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37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638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640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641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43" name=""/>
              <p:cNvCxnSpPr>
                <a:stCxn id="3642" idx="0"/>
                <a:endCxn id="3638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644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645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6" name=""/>
            <p:cNvCxnSpPr>
              <a:stCxn id="3583" idx="2"/>
              <a:endCxn id="3568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647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4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655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57" name=""/>
            <p:cNvCxnSpPr>
              <a:stCxn id="3656" idx="0"/>
              <a:endCxn id="3655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58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659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1" name=""/>
            <p:cNvCxnSpPr>
              <a:stCxn id="3660" idx="0"/>
              <a:endCxn id="3659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62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663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5" name=""/>
            <p:cNvCxnSpPr>
              <a:stCxn id="3664" idx="0"/>
              <a:endCxn id="3663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66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667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9" name=""/>
            <p:cNvCxnSpPr>
              <a:stCxn id="3668" idx="0"/>
              <a:endCxn id="3667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70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671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3" name=""/>
            <p:cNvCxnSpPr>
              <a:stCxn id="3672" idx="0"/>
              <a:endCxn id="3671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74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675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7" name=""/>
            <p:cNvCxnSpPr>
              <a:stCxn id="3676" idx="0"/>
              <a:endCxn id="3675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78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679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81" name=""/>
            <p:cNvCxnSpPr>
              <a:stCxn id="3680" idx="0"/>
              <a:endCxn id="3679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82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683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85" name=""/>
            <p:cNvCxnSpPr>
              <a:stCxn id="3684" idx="0"/>
              <a:endCxn id="3683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86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687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89" name=""/>
            <p:cNvCxnSpPr>
              <a:stCxn id="3688" idx="0"/>
              <a:endCxn id="3687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690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4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3705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3706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07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708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9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3710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3711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12" name=""/>
              <p:cNvCxnSpPr>
                <a:stCxn id="3711" idx="0"/>
                <a:endCxn id="3693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713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4" name=""/>
          <p:cNvCxnSpPr>
            <a:stCxn id="3586" idx="0"/>
            <a:endCxn id="3695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15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3716" name=""/>
            <p:cNvCxnSpPr>
              <a:stCxn id="3717" idx="0"/>
              <a:endCxn id="3691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718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3719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1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4" name=""/>
          <p:cNvCxnSpPr>
            <a:stCxn id="3691" idx="0"/>
            <a:endCxn id="3723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5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3738" name=""/>
            <p:cNvCxnSpPr>
              <a:stCxn id="3588" idx="2"/>
              <a:endCxn id="3584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3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3742" name=""/>
            <p:cNvCxnSpPr>
              <a:stCxn id="3703" idx="3"/>
              <a:endCxn id="3690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3746" name=""/>
            <p:cNvCxnSpPr>
              <a:stCxn id="3721" idx="0"/>
              <a:endCxn id="3691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3750" name=""/>
            <p:cNvCxnSpPr>
              <a:stCxn id="3582" idx="2"/>
              <a:endCxn id="3586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5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375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375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56" name=""/>
              <p:cNvCxnSpPr>
                <a:stCxn id="3755" idx="0"/>
                <a:endCxn id="375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75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376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376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64" name=""/>
              <p:cNvCxnSpPr>
                <a:stCxn id="3763" idx="0"/>
                <a:endCxn id="376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76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3768" name=""/>
            <p:cNvCxnSpPr>
              <a:stCxn id="3580" idx="2"/>
              <a:endCxn id="3691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9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3780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4114800" y="4495680"/>
            <a:ext cx="4648320" cy="1828800"/>
          </a:xfrm>
          <a:prstGeom prst="wedgeEllipseCallout">
            <a:avLst>
              <a:gd name="adj1" fmla="val -62976"/>
              <a:gd name="adj2" fmla="val 34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 controler décide quelles opérations doivent être effectu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3124080" y="5867280"/>
            <a:ext cx="685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82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82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26" name=""/>
              <p:cNvCxnSpPr>
                <a:stCxn id="3824" idx="0"/>
                <a:endCxn id="382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82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82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82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2" name=""/>
            <p:cNvCxnSpPr>
              <a:stCxn id="3830" idx="0"/>
              <a:endCxn id="383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3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83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83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8" name=""/>
            <p:cNvCxnSpPr>
              <a:stCxn id="3836" idx="0"/>
              <a:endCxn id="383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3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84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84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4" name=""/>
            <p:cNvCxnSpPr>
              <a:stCxn id="3842" idx="0"/>
              <a:endCxn id="384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4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84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84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0" name=""/>
            <p:cNvCxnSpPr>
              <a:stCxn id="3848" idx="0"/>
              <a:endCxn id="384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5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85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85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6" name=""/>
            <p:cNvCxnSpPr>
              <a:stCxn id="3854" idx="0"/>
              <a:endCxn id="385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5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85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85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2" name=""/>
            <p:cNvCxnSpPr>
              <a:stCxn id="3860" idx="0"/>
              <a:endCxn id="386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6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86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86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8" name=""/>
            <p:cNvCxnSpPr>
              <a:stCxn id="3866" idx="0"/>
              <a:endCxn id="386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6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87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87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87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875" name=""/>
              <p:cNvCxnSpPr>
                <a:stCxn id="3874" idx="0"/>
                <a:endCxn id="387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87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87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8" name=""/>
            <p:cNvCxnSpPr>
              <a:stCxn id="3815" idx="2"/>
              <a:endCxn id="380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87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88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9" name=""/>
            <p:cNvCxnSpPr>
              <a:stCxn id="3888" idx="0"/>
              <a:endCxn id="388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9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89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93" name=""/>
            <p:cNvCxnSpPr>
              <a:stCxn id="3892" idx="0"/>
              <a:endCxn id="389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9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89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97" name=""/>
            <p:cNvCxnSpPr>
              <a:stCxn id="3896" idx="0"/>
              <a:endCxn id="389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9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89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1" name=""/>
            <p:cNvCxnSpPr>
              <a:stCxn id="3900" idx="0"/>
              <a:endCxn id="389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0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90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5" name=""/>
            <p:cNvCxnSpPr>
              <a:stCxn id="3904" idx="0"/>
              <a:endCxn id="390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0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90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9" name=""/>
            <p:cNvCxnSpPr>
              <a:stCxn id="3908" idx="0"/>
              <a:endCxn id="390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1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91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13" name=""/>
            <p:cNvCxnSpPr>
              <a:stCxn id="3912" idx="0"/>
              <a:endCxn id="391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1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91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17" name=""/>
            <p:cNvCxnSpPr>
              <a:stCxn id="3916" idx="0"/>
              <a:endCxn id="391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1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91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21" name=""/>
            <p:cNvCxnSpPr>
              <a:stCxn id="3920" idx="0"/>
              <a:endCxn id="391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92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393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393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3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94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394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394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44" name=""/>
              <p:cNvCxnSpPr>
                <a:stCxn id="3943" idx="0"/>
                <a:endCxn id="392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94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46" name=""/>
          <p:cNvCxnSpPr>
            <a:stCxn id="3818" idx="0"/>
            <a:endCxn id="392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94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3948" name=""/>
            <p:cNvCxnSpPr>
              <a:stCxn id="3949" idx="0"/>
              <a:endCxn id="392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95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395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6" name=""/>
          <p:cNvCxnSpPr>
            <a:stCxn id="3923" idx="0"/>
            <a:endCxn id="3955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7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9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3970" name=""/>
            <p:cNvCxnSpPr>
              <a:stCxn id="3820" idx="2"/>
              <a:endCxn id="381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7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3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3974" name=""/>
            <p:cNvCxnSpPr>
              <a:stCxn id="3935" idx="3"/>
              <a:endCxn id="392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7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7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3978" name=""/>
            <p:cNvCxnSpPr>
              <a:stCxn id="3953" idx="0"/>
              <a:endCxn id="392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7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1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3982" name=""/>
            <p:cNvCxnSpPr>
              <a:stCxn id="3814" idx="2"/>
              <a:endCxn id="381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3986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398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88" name=""/>
              <p:cNvCxnSpPr>
                <a:stCxn id="3987" idx="0"/>
                <a:endCxn id="3989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99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2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3993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399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96" name=""/>
              <p:cNvCxnSpPr>
                <a:stCxn id="3995" idx="0"/>
                <a:endCxn id="3994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99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9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000" name=""/>
            <p:cNvCxnSpPr>
              <a:stCxn id="3812" idx="2"/>
              <a:endCxn id="392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0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1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012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1981080" y="5257800"/>
            <a:ext cx="685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4114800" y="4495680"/>
            <a:ext cx="4648320" cy="1828800"/>
          </a:xfrm>
          <a:prstGeom prst="wedgeEllipseCallout">
            <a:avLst>
              <a:gd name="adj1" fmla="val -86509"/>
              <a:gd name="adj2" fmla="val 7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 controler décide quelles opérations doivent être effectu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405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405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58" name=""/>
              <p:cNvCxnSpPr>
                <a:stCxn id="4056" idx="0"/>
                <a:endCxn id="405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05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406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406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64" name=""/>
            <p:cNvCxnSpPr>
              <a:stCxn id="4062" idx="0"/>
              <a:endCxn id="406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6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406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406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0" name=""/>
            <p:cNvCxnSpPr>
              <a:stCxn id="4068" idx="0"/>
              <a:endCxn id="406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7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407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407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6" name=""/>
            <p:cNvCxnSpPr>
              <a:stCxn id="4074" idx="0"/>
              <a:endCxn id="407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7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407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407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82" name=""/>
            <p:cNvCxnSpPr>
              <a:stCxn id="4080" idx="0"/>
              <a:endCxn id="408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8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408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408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88" name=""/>
            <p:cNvCxnSpPr>
              <a:stCxn id="4086" idx="0"/>
              <a:endCxn id="408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8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409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409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94" name=""/>
            <p:cNvCxnSpPr>
              <a:stCxn id="4092" idx="0"/>
              <a:endCxn id="409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9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409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409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00" name=""/>
            <p:cNvCxnSpPr>
              <a:stCxn id="4098" idx="0"/>
              <a:endCxn id="409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0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410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410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410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107" name=""/>
              <p:cNvCxnSpPr>
                <a:stCxn id="4106" idx="0"/>
                <a:endCxn id="410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10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410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10" name=""/>
            <p:cNvCxnSpPr>
              <a:stCxn id="4047" idx="2"/>
              <a:endCxn id="403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1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411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21" name=""/>
            <p:cNvCxnSpPr>
              <a:stCxn id="4120" idx="0"/>
              <a:endCxn id="411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2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412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25" name=""/>
            <p:cNvCxnSpPr>
              <a:stCxn id="4124" idx="0"/>
              <a:endCxn id="412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2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412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29" name=""/>
            <p:cNvCxnSpPr>
              <a:stCxn id="4128" idx="0"/>
              <a:endCxn id="412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3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413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33" name=""/>
            <p:cNvCxnSpPr>
              <a:stCxn id="4132" idx="0"/>
              <a:endCxn id="413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3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413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37" name=""/>
            <p:cNvCxnSpPr>
              <a:stCxn id="4136" idx="0"/>
              <a:endCxn id="413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3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413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41" name=""/>
            <p:cNvCxnSpPr>
              <a:stCxn id="4140" idx="0"/>
              <a:endCxn id="413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4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414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45" name=""/>
            <p:cNvCxnSpPr>
              <a:stCxn id="4144" idx="0"/>
              <a:endCxn id="414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4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14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49" name=""/>
            <p:cNvCxnSpPr>
              <a:stCxn id="4148" idx="0"/>
              <a:endCxn id="414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5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15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53" name=""/>
            <p:cNvCxnSpPr>
              <a:stCxn id="4152" idx="0"/>
              <a:endCxn id="415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15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16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17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7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7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17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17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76" name=""/>
              <p:cNvCxnSpPr>
                <a:stCxn id="4175" idx="0"/>
                <a:endCxn id="415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7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8" name=""/>
          <p:cNvCxnSpPr>
            <a:stCxn id="4050" idx="0"/>
            <a:endCxn id="415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7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180" name=""/>
            <p:cNvCxnSpPr>
              <a:stCxn id="4181" idx="0"/>
              <a:endCxn id="415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18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18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8" name=""/>
          <p:cNvCxnSpPr>
            <a:stCxn id="4155" idx="0"/>
            <a:endCxn id="4187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9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1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202" name=""/>
            <p:cNvCxnSpPr>
              <a:stCxn id="4052" idx="2"/>
              <a:endCxn id="404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03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4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5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206" name=""/>
            <p:cNvCxnSpPr>
              <a:stCxn id="4167" idx="3"/>
              <a:endCxn id="415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07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8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9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210" name=""/>
            <p:cNvCxnSpPr>
              <a:stCxn id="4185" idx="0"/>
              <a:endCxn id="415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11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2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3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214" name=""/>
            <p:cNvCxnSpPr>
              <a:stCxn id="4046" idx="2"/>
              <a:endCxn id="405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15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6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7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218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219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20" name=""/>
              <p:cNvCxnSpPr>
                <a:stCxn id="4219" idx="0"/>
                <a:endCxn id="4221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222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3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4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225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226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28" name=""/>
              <p:cNvCxnSpPr>
                <a:stCxn id="4227" idx="0"/>
                <a:endCxn id="4226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229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0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1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232" name=""/>
            <p:cNvCxnSpPr>
              <a:stCxn id="4044" idx="2"/>
              <a:endCxn id="415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33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4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3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244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1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4114800" y="3429000"/>
            <a:ext cx="4800600" cy="2666880"/>
          </a:xfrm>
          <a:prstGeom prst="wedgeEllipseCallout">
            <a:avLst>
              <a:gd name="adj1" fmla="val -76787"/>
              <a:gd name="adj2" fmla="val -6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 controler régule cette circulation à l’aide de « robinets » qui permette à l’information de passer ou de ne pas p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2438280" y="4343400"/>
            <a:ext cx="685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2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95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97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9" name=""/>
              <p:cNvCxnSpPr>
                <a:stCxn id="297" idx="0"/>
                <a:endCxn id="298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00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01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02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" name=""/>
            <p:cNvCxnSpPr>
              <a:stCxn id="303" idx="0"/>
              <a:endCxn id="304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6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07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08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1" name=""/>
            <p:cNvCxnSpPr>
              <a:stCxn id="309" idx="0"/>
              <a:endCxn id="310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2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13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5" idx="0"/>
              <a:endCxn id="316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8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19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3" name=""/>
            <p:cNvCxnSpPr>
              <a:stCxn id="321" idx="0"/>
              <a:endCxn id="322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4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25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26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27" idx="0"/>
              <a:endCxn id="328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0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31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5" name=""/>
            <p:cNvCxnSpPr>
              <a:stCxn id="333" idx="0"/>
              <a:endCxn id="334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6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37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38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9" idx="0"/>
              <a:endCxn id="340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2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43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46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48" name=""/>
              <p:cNvCxnSpPr>
                <a:stCxn id="347" idx="0"/>
                <a:endCxn id="343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49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50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"/>
            <p:cNvCxnSpPr>
              <a:stCxn id="288" idx="2"/>
              <a:endCxn id="273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2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60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2" name=""/>
            <p:cNvCxnSpPr>
              <a:stCxn id="361" idx="0"/>
              <a:endCxn id="360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3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64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" name=""/>
            <p:cNvCxnSpPr>
              <a:stCxn id="365" idx="0"/>
              <a:endCxn id="364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7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68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69" idx="0"/>
              <a:endCxn id="368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1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72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4" name=""/>
            <p:cNvCxnSpPr>
              <a:stCxn id="373" idx="0"/>
              <a:endCxn id="372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76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" name=""/>
            <p:cNvCxnSpPr>
              <a:stCxn id="377" idx="0"/>
              <a:endCxn id="376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9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80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2" name=""/>
            <p:cNvCxnSpPr>
              <a:stCxn id="381" idx="0"/>
              <a:endCxn id="380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3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84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5" idx="0"/>
              <a:endCxn id="384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88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9" idx="0"/>
              <a:endCxn id="388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1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92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4" name=""/>
            <p:cNvCxnSpPr>
              <a:stCxn id="393" idx="0"/>
              <a:endCxn id="392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95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10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11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2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3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15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16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7" name=""/>
              <p:cNvCxnSpPr>
                <a:stCxn id="416" idx="0"/>
                <a:endCxn id="398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8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9" name=""/>
          <p:cNvCxnSpPr>
            <a:stCxn id="291" idx="0"/>
            <a:endCxn id="400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20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21" name=""/>
            <p:cNvCxnSpPr>
              <a:stCxn id="422" idx="0"/>
              <a:endCxn id="396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23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24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396" idx="0"/>
            <a:endCxn id="42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43" name=""/>
            <p:cNvCxnSpPr>
              <a:stCxn id="293" idx="2"/>
              <a:endCxn id="289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47" name=""/>
            <p:cNvCxnSpPr>
              <a:stCxn id="408" idx="3"/>
              <a:endCxn id="395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51" name=""/>
            <p:cNvCxnSpPr>
              <a:stCxn id="426" idx="0"/>
              <a:endCxn id="396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55" name=""/>
            <p:cNvCxnSpPr>
              <a:stCxn id="287" idx="2"/>
              <a:endCxn id="291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59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6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1" name=""/>
              <p:cNvCxnSpPr>
                <a:stCxn id="460" idx="0"/>
                <a:endCxn id="462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66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6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9" name=""/>
              <p:cNvCxnSpPr>
                <a:stCxn id="468" idx="0"/>
                <a:endCxn id="467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7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73" name=""/>
            <p:cNvCxnSpPr>
              <a:stCxn id="285" idx="2"/>
              <a:endCxn id="396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85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1523880"/>
            <a:ext cx="4952880" cy="1905120"/>
          </a:xfrm>
          <a:prstGeom prst="wedgeEllipseCallout">
            <a:avLst>
              <a:gd name="adj1" fmla="val -66250"/>
              <a:gd name="adj2" fmla="val -38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MAR, MDR, PC, MBR permettent l’accès à la mémoire de l’ordinat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8800" y="685800"/>
            <a:ext cx="1295280" cy="190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428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428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90" name=""/>
              <p:cNvCxnSpPr>
                <a:stCxn id="4288" idx="0"/>
                <a:endCxn id="428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29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429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429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96" name=""/>
            <p:cNvCxnSpPr>
              <a:stCxn id="4294" idx="0"/>
              <a:endCxn id="429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9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429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429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02" name=""/>
            <p:cNvCxnSpPr>
              <a:stCxn id="4300" idx="0"/>
              <a:endCxn id="430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0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430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430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08" name=""/>
            <p:cNvCxnSpPr>
              <a:stCxn id="4306" idx="0"/>
              <a:endCxn id="430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0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431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431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14" name=""/>
            <p:cNvCxnSpPr>
              <a:stCxn id="4312" idx="0"/>
              <a:endCxn id="431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1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431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431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20" name=""/>
            <p:cNvCxnSpPr>
              <a:stCxn id="4318" idx="0"/>
              <a:endCxn id="431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2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432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432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26" name=""/>
            <p:cNvCxnSpPr>
              <a:stCxn id="4324" idx="0"/>
              <a:endCxn id="432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2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432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432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2" name=""/>
            <p:cNvCxnSpPr>
              <a:stCxn id="4330" idx="0"/>
              <a:endCxn id="433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3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433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433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433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39" name=""/>
              <p:cNvCxnSpPr>
                <a:stCxn id="4338" idx="0"/>
                <a:endCxn id="433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34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434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42" name=""/>
            <p:cNvCxnSpPr>
              <a:stCxn id="4279" idx="2"/>
              <a:endCxn id="426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34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435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53" name=""/>
            <p:cNvCxnSpPr>
              <a:stCxn id="4352" idx="0"/>
              <a:endCxn id="435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5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435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57" name=""/>
            <p:cNvCxnSpPr>
              <a:stCxn id="4356" idx="0"/>
              <a:endCxn id="435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5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435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61" name=""/>
            <p:cNvCxnSpPr>
              <a:stCxn id="4360" idx="0"/>
              <a:endCxn id="435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6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436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65" name=""/>
            <p:cNvCxnSpPr>
              <a:stCxn id="4364" idx="0"/>
              <a:endCxn id="436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6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436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69" name=""/>
            <p:cNvCxnSpPr>
              <a:stCxn id="4368" idx="0"/>
              <a:endCxn id="436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7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437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73" name=""/>
            <p:cNvCxnSpPr>
              <a:stCxn id="4372" idx="0"/>
              <a:endCxn id="437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7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437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77" name=""/>
            <p:cNvCxnSpPr>
              <a:stCxn id="4376" idx="0"/>
              <a:endCxn id="437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7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37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81" name=""/>
            <p:cNvCxnSpPr>
              <a:stCxn id="4380" idx="0"/>
              <a:endCxn id="437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8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38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85" name=""/>
            <p:cNvCxnSpPr>
              <a:stCxn id="4384" idx="0"/>
              <a:endCxn id="438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38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40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40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40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40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40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40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408" name=""/>
              <p:cNvCxnSpPr>
                <a:stCxn id="4407" idx="0"/>
                <a:endCxn id="438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40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10" name=""/>
          <p:cNvCxnSpPr>
            <a:stCxn id="4282" idx="0"/>
            <a:endCxn id="439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1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412" name=""/>
            <p:cNvCxnSpPr>
              <a:stCxn id="4413" idx="0"/>
              <a:endCxn id="438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41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41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0" name=""/>
          <p:cNvCxnSpPr>
            <a:stCxn id="4387" idx="0"/>
            <a:endCxn id="4419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1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434" name=""/>
            <p:cNvCxnSpPr>
              <a:stCxn id="4284" idx="2"/>
              <a:endCxn id="428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3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438" name=""/>
            <p:cNvCxnSpPr>
              <a:stCxn id="4399" idx="3"/>
              <a:endCxn id="438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3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442" name=""/>
            <p:cNvCxnSpPr>
              <a:stCxn id="4417" idx="0"/>
              <a:endCxn id="438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4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446" name=""/>
            <p:cNvCxnSpPr>
              <a:stCxn id="4278" idx="2"/>
              <a:endCxn id="428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4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45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45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452" name=""/>
              <p:cNvCxnSpPr>
                <a:stCxn id="4451" idx="0"/>
                <a:endCxn id="445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45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45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45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460" name=""/>
              <p:cNvCxnSpPr>
                <a:stCxn id="4459" idx="0"/>
                <a:endCxn id="445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46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464" name=""/>
            <p:cNvCxnSpPr>
              <a:stCxn id="4276" idx="2"/>
              <a:endCxn id="438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6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5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476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1981080" y="4343400"/>
            <a:ext cx="685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3505320" y="3429000"/>
            <a:ext cx="4800600" cy="2666880"/>
          </a:xfrm>
          <a:prstGeom prst="wedgeEllipseCallout">
            <a:avLst>
              <a:gd name="adj1" fmla="val -73050"/>
              <a:gd name="adj2" fmla="val -6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 controler régule cette circulation à l’aide de « robinets » qui permette à l’information de passer ou de ne pas p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9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451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452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522" name=""/>
              <p:cNvCxnSpPr>
                <a:stCxn id="4520" idx="0"/>
                <a:endCxn id="452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52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452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452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28" name=""/>
            <p:cNvCxnSpPr>
              <a:stCxn id="4526" idx="0"/>
              <a:endCxn id="452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2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453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453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4" name=""/>
            <p:cNvCxnSpPr>
              <a:stCxn id="4532" idx="0"/>
              <a:endCxn id="453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3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453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453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0" name=""/>
            <p:cNvCxnSpPr>
              <a:stCxn id="4538" idx="0"/>
              <a:endCxn id="453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4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454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454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6" name=""/>
            <p:cNvCxnSpPr>
              <a:stCxn id="4544" idx="0"/>
              <a:endCxn id="454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4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454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454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2" name=""/>
            <p:cNvCxnSpPr>
              <a:stCxn id="4550" idx="0"/>
              <a:endCxn id="455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5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455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455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8" name=""/>
            <p:cNvCxnSpPr>
              <a:stCxn id="4556" idx="0"/>
              <a:endCxn id="455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5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456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456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64" name=""/>
            <p:cNvCxnSpPr>
              <a:stCxn id="4562" idx="0"/>
              <a:endCxn id="456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6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456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456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456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71" name=""/>
              <p:cNvCxnSpPr>
                <a:stCxn id="4570" idx="0"/>
                <a:endCxn id="456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57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457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4" name=""/>
            <p:cNvCxnSpPr>
              <a:stCxn id="4511" idx="2"/>
              <a:endCxn id="449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7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458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85" name=""/>
            <p:cNvCxnSpPr>
              <a:stCxn id="4584" idx="0"/>
              <a:endCxn id="458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8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458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89" name=""/>
            <p:cNvCxnSpPr>
              <a:stCxn id="4588" idx="0"/>
              <a:endCxn id="458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9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459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93" name=""/>
            <p:cNvCxnSpPr>
              <a:stCxn id="4592" idx="0"/>
              <a:endCxn id="459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9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459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97" name=""/>
            <p:cNvCxnSpPr>
              <a:stCxn id="4596" idx="0"/>
              <a:endCxn id="459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9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459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01" name=""/>
            <p:cNvCxnSpPr>
              <a:stCxn id="4600" idx="0"/>
              <a:endCxn id="459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60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460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05" name=""/>
            <p:cNvCxnSpPr>
              <a:stCxn id="4604" idx="0"/>
              <a:endCxn id="460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60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460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09" name=""/>
            <p:cNvCxnSpPr>
              <a:stCxn id="4608" idx="0"/>
              <a:endCxn id="460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61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61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13" name=""/>
            <p:cNvCxnSpPr>
              <a:stCxn id="4612" idx="0"/>
              <a:endCxn id="461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61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61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17" name=""/>
            <p:cNvCxnSpPr>
              <a:stCxn id="4616" idx="0"/>
              <a:endCxn id="461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61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63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63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3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63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63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63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40" name=""/>
              <p:cNvCxnSpPr>
                <a:stCxn id="4639" idx="0"/>
                <a:endCxn id="462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64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42" name=""/>
          <p:cNvCxnSpPr>
            <a:stCxn id="4514" idx="0"/>
            <a:endCxn id="462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64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644" name=""/>
            <p:cNvCxnSpPr>
              <a:stCxn id="4645" idx="0"/>
              <a:endCxn id="461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64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64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2" name=""/>
          <p:cNvCxnSpPr>
            <a:stCxn id="4619" idx="0"/>
            <a:endCxn id="465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666" name=""/>
            <p:cNvCxnSpPr>
              <a:stCxn id="4516" idx="2"/>
              <a:endCxn id="451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670" name=""/>
            <p:cNvCxnSpPr>
              <a:stCxn id="4631" idx="3"/>
              <a:endCxn id="461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7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674" name=""/>
            <p:cNvCxnSpPr>
              <a:stCxn id="4649" idx="0"/>
              <a:endCxn id="461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7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678" name=""/>
            <p:cNvCxnSpPr>
              <a:stCxn id="4510" idx="2"/>
              <a:endCxn id="451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7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68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68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84" name=""/>
              <p:cNvCxnSpPr>
                <a:stCxn id="4683" idx="0"/>
                <a:endCxn id="468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8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68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69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92" name=""/>
              <p:cNvCxnSpPr>
                <a:stCxn id="4691" idx="0"/>
                <a:endCxn id="469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69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696" name=""/>
            <p:cNvCxnSpPr>
              <a:stCxn id="4508" idx="2"/>
              <a:endCxn id="461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9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7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708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4876920" y="1905120"/>
            <a:ext cx="533160" cy="304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228600" y="2438280"/>
            <a:ext cx="4800600" cy="2667240"/>
          </a:xfrm>
          <a:prstGeom prst="wedgeEllipseCallout">
            <a:avLst>
              <a:gd name="adj1" fmla="val 52712"/>
              <a:gd name="adj2" fmla="val -62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 controler régule cette circulation à l’aide de « robinets » qui permette à l’information de passer ou de ne pas p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7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9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4750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1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4752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54" name=""/>
              <p:cNvCxnSpPr>
                <a:stCxn id="4752" idx="0"/>
                <a:endCxn id="4753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755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4756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4757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9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60" name=""/>
            <p:cNvCxnSpPr>
              <a:stCxn id="4758" idx="0"/>
              <a:endCxn id="4759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61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4762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4763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5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66" name=""/>
            <p:cNvCxnSpPr>
              <a:stCxn id="4764" idx="0"/>
              <a:endCxn id="4765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67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4768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4769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1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72" name=""/>
            <p:cNvCxnSpPr>
              <a:stCxn id="4770" idx="0"/>
              <a:endCxn id="4771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73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4774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4775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7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78" name=""/>
            <p:cNvCxnSpPr>
              <a:stCxn id="4776" idx="0"/>
              <a:endCxn id="4777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79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4780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4781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3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4" name=""/>
            <p:cNvCxnSpPr>
              <a:stCxn id="4782" idx="0"/>
              <a:endCxn id="4783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85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4786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4787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9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0" name=""/>
            <p:cNvCxnSpPr>
              <a:stCxn id="4788" idx="0"/>
              <a:endCxn id="4789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91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4792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4793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5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6" name=""/>
            <p:cNvCxnSpPr>
              <a:stCxn id="4794" idx="0"/>
              <a:endCxn id="4795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97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4798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9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4800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4801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803" name=""/>
              <p:cNvCxnSpPr>
                <a:stCxn id="4802" idx="0"/>
                <a:endCxn id="4798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804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4805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6" name=""/>
            <p:cNvCxnSpPr>
              <a:stCxn id="4743" idx="2"/>
              <a:endCxn id="4728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807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4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4815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17" name=""/>
            <p:cNvCxnSpPr>
              <a:stCxn id="4816" idx="0"/>
              <a:endCxn id="4815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18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4819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1" name=""/>
            <p:cNvCxnSpPr>
              <a:stCxn id="4820" idx="0"/>
              <a:endCxn id="4819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22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4823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5" name=""/>
            <p:cNvCxnSpPr>
              <a:stCxn id="4824" idx="0"/>
              <a:endCxn id="4823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26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4827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9" name=""/>
            <p:cNvCxnSpPr>
              <a:stCxn id="4828" idx="0"/>
              <a:endCxn id="4827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30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4831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3" name=""/>
            <p:cNvCxnSpPr>
              <a:stCxn id="4832" idx="0"/>
              <a:endCxn id="4831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34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4835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7" name=""/>
            <p:cNvCxnSpPr>
              <a:stCxn id="4836" idx="0"/>
              <a:endCxn id="4835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38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4839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41" name=""/>
            <p:cNvCxnSpPr>
              <a:stCxn id="4840" idx="0"/>
              <a:endCxn id="4839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42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843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45" name=""/>
            <p:cNvCxnSpPr>
              <a:stCxn id="4844" idx="0"/>
              <a:endCxn id="4843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46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847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49" name=""/>
            <p:cNvCxnSpPr>
              <a:stCxn id="4848" idx="0"/>
              <a:endCxn id="4847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850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4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865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866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67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868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9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870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871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72" name=""/>
              <p:cNvCxnSpPr>
                <a:stCxn id="4871" idx="0"/>
                <a:endCxn id="4853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873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74" name=""/>
          <p:cNvCxnSpPr>
            <a:stCxn id="4746" idx="0"/>
            <a:endCxn id="4855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75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876" name=""/>
            <p:cNvCxnSpPr>
              <a:stCxn id="4877" idx="0"/>
              <a:endCxn id="4851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878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879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1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4" name=""/>
          <p:cNvCxnSpPr>
            <a:stCxn id="4851" idx="0"/>
            <a:endCxn id="4883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5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898" name=""/>
            <p:cNvCxnSpPr>
              <a:stCxn id="4748" idx="2"/>
              <a:endCxn id="4744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9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902" name=""/>
            <p:cNvCxnSpPr>
              <a:stCxn id="4863" idx="3"/>
              <a:endCxn id="4850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906" name=""/>
            <p:cNvCxnSpPr>
              <a:stCxn id="4881" idx="0"/>
              <a:endCxn id="4851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910" name=""/>
            <p:cNvCxnSpPr>
              <a:stCxn id="4742" idx="2"/>
              <a:endCxn id="4746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1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91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91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916" name=""/>
              <p:cNvCxnSpPr>
                <a:stCxn id="4915" idx="0"/>
                <a:endCxn id="491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91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92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92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924" name=""/>
              <p:cNvCxnSpPr>
                <a:stCxn id="4923" idx="0"/>
                <a:endCxn id="492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92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928" name=""/>
            <p:cNvCxnSpPr>
              <a:stCxn id="4740" idx="2"/>
              <a:endCxn id="4851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9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940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0" y="2743200"/>
            <a:ext cx="4800600" cy="2286000"/>
          </a:xfrm>
          <a:prstGeom prst="wedgeEllipseCallout">
            <a:avLst>
              <a:gd name="adj1" fmla="val 71361"/>
              <a:gd name="adj2" fmla="val -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Next_Adress : 8 bits indique la prochaine micro-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58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4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0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4981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2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4983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985" name=""/>
              <p:cNvCxnSpPr>
                <a:stCxn id="4983" idx="0"/>
                <a:endCxn id="4984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986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4987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4988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0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91" name=""/>
            <p:cNvCxnSpPr>
              <a:stCxn id="4989" idx="0"/>
              <a:endCxn id="4990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992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4993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4994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6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97" name=""/>
            <p:cNvCxnSpPr>
              <a:stCxn id="4995" idx="0"/>
              <a:endCxn id="4996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998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4999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000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2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3" name=""/>
            <p:cNvCxnSpPr>
              <a:stCxn id="5001" idx="0"/>
              <a:endCxn id="5002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04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005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006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8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9" name=""/>
            <p:cNvCxnSpPr>
              <a:stCxn id="5007" idx="0"/>
              <a:endCxn id="5008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10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011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012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4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15" name=""/>
            <p:cNvCxnSpPr>
              <a:stCxn id="5013" idx="0"/>
              <a:endCxn id="5014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16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017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018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0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1" name=""/>
            <p:cNvCxnSpPr>
              <a:stCxn id="5019" idx="0"/>
              <a:endCxn id="5020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22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023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024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6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7" name=""/>
            <p:cNvCxnSpPr>
              <a:stCxn id="5025" idx="0"/>
              <a:endCxn id="5026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28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029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0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031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032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034" name=""/>
              <p:cNvCxnSpPr>
                <a:stCxn id="5033" idx="0"/>
                <a:endCxn id="5029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035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036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37" name=""/>
            <p:cNvCxnSpPr>
              <a:stCxn id="4974" idx="2"/>
              <a:endCxn id="4959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038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5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5046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48" name=""/>
            <p:cNvCxnSpPr>
              <a:stCxn id="5047" idx="0"/>
              <a:endCxn id="5046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49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5050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2" name=""/>
            <p:cNvCxnSpPr>
              <a:stCxn id="5051" idx="0"/>
              <a:endCxn id="5050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53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5054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6" name=""/>
            <p:cNvCxnSpPr>
              <a:stCxn id="5055" idx="0"/>
              <a:endCxn id="5054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57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5058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60" name=""/>
            <p:cNvCxnSpPr>
              <a:stCxn id="5059" idx="0"/>
              <a:endCxn id="5058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61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5062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64" name=""/>
            <p:cNvCxnSpPr>
              <a:stCxn id="5063" idx="0"/>
              <a:endCxn id="5062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65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5066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68" name=""/>
            <p:cNvCxnSpPr>
              <a:stCxn id="5067" idx="0"/>
              <a:endCxn id="5066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69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5070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2" name=""/>
            <p:cNvCxnSpPr>
              <a:stCxn id="5071" idx="0"/>
              <a:endCxn id="5070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73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5074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6" name=""/>
            <p:cNvCxnSpPr>
              <a:stCxn id="5075" idx="0"/>
              <a:endCxn id="5074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077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5078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80" name=""/>
            <p:cNvCxnSpPr>
              <a:stCxn id="5079" idx="0"/>
              <a:endCxn id="5078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5081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5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5096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5097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098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099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0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5101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5102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103" name=""/>
              <p:cNvCxnSpPr>
                <a:stCxn id="5102" idx="0"/>
                <a:endCxn id="5084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104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05" name=""/>
          <p:cNvCxnSpPr>
            <a:stCxn id="4977" idx="0"/>
            <a:endCxn id="5086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106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5107" name=""/>
            <p:cNvCxnSpPr>
              <a:stCxn id="5108" idx="0"/>
              <a:endCxn id="5082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109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5110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2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5" name=""/>
          <p:cNvCxnSpPr>
            <a:stCxn id="5082" idx="0"/>
            <a:endCxn id="511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8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5129" name=""/>
            <p:cNvCxnSpPr>
              <a:stCxn id="4979" idx="2"/>
              <a:endCxn id="4975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30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1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2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5133" name=""/>
            <p:cNvCxnSpPr>
              <a:stCxn id="5094" idx="3"/>
              <a:endCxn id="5081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34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5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6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5137" name=""/>
            <p:cNvCxnSpPr>
              <a:stCxn id="5112" idx="0"/>
              <a:endCxn id="5082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38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9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0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5141" name=""/>
            <p:cNvCxnSpPr>
              <a:stCxn id="4973" idx="2"/>
              <a:endCxn id="4977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42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3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4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5145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5146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147" name=""/>
              <p:cNvCxnSpPr>
                <a:stCxn id="5146" idx="0"/>
                <a:endCxn id="5148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149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0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1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5152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5153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155" name=""/>
              <p:cNvCxnSpPr>
                <a:stCxn id="5154" idx="0"/>
                <a:endCxn id="5153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156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7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8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5159" name=""/>
            <p:cNvCxnSpPr>
              <a:stCxn id="4971" idx="2"/>
              <a:endCxn id="5082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60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1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0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5171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8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6400800" y="1905120"/>
            <a:ext cx="533520" cy="304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1371600" y="1676520"/>
            <a:ext cx="3886200" cy="2133360"/>
          </a:xfrm>
          <a:prstGeom prst="wedgeEllipseCallout">
            <a:avLst>
              <a:gd name="adj1" fmla="val 86685"/>
              <a:gd name="adj2" fmla="val -3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dique la future micro-instruction à exéc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9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2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21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4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21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217" name=""/>
              <p:cNvCxnSpPr>
                <a:stCxn id="5215" idx="0"/>
                <a:endCxn id="5216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218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21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22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3" name=""/>
            <p:cNvCxnSpPr>
              <a:stCxn id="5221" idx="0"/>
              <a:endCxn id="5222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24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22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22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9" name=""/>
            <p:cNvCxnSpPr>
              <a:stCxn id="5227" idx="0"/>
              <a:endCxn id="5228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30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23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23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35" name=""/>
            <p:cNvCxnSpPr>
              <a:stCxn id="5233" idx="0"/>
              <a:endCxn id="5234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36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23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23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41" name=""/>
            <p:cNvCxnSpPr>
              <a:stCxn id="5239" idx="0"/>
              <a:endCxn id="5240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42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24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24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47" name=""/>
            <p:cNvCxnSpPr>
              <a:stCxn id="5245" idx="0"/>
              <a:endCxn id="5246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48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24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25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53" name=""/>
            <p:cNvCxnSpPr>
              <a:stCxn id="5251" idx="0"/>
              <a:endCxn id="5252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54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25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25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59" name=""/>
            <p:cNvCxnSpPr>
              <a:stCxn id="5257" idx="0"/>
              <a:endCxn id="5258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60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26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2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26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26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266" name=""/>
              <p:cNvCxnSpPr>
                <a:stCxn id="5265" idx="0"/>
                <a:endCxn id="5261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267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26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69" name=""/>
            <p:cNvCxnSpPr>
              <a:stCxn id="5206" idx="2"/>
              <a:endCxn id="5191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27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7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527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80" name=""/>
            <p:cNvCxnSpPr>
              <a:stCxn id="5279" idx="0"/>
              <a:endCxn id="5278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81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528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84" name=""/>
            <p:cNvCxnSpPr>
              <a:stCxn id="5283" idx="0"/>
              <a:endCxn id="5282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85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528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88" name=""/>
            <p:cNvCxnSpPr>
              <a:stCxn id="5287" idx="0"/>
              <a:endCxn id="5286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89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529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2" name=""/>
            <p:cNvCxnSpPr>
              <a:stCxn id="5291" idx="0"/>
              <a:endCxn id="5290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93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529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6" name=""/>
            <p:cNvCxnSpPr>
              <a:stCxn id="5295" idx="0"/>
              <a:endCxn id="5294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297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529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00" name=""/>
            <p:cNvCxnSpPr>
              <a:stCxn id="5299" idx="0"/>
              <a:endCxn id="5298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301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530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04" name=""/>
            <p:cNvCxnSpPr>
              <a:stCxn id="5303" idx="0"/>
              <a:endCxn id="5302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305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530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08" name=""/>
            <p:cNvCxnSpPr>
              <a:stCxn id="5307" idx="0"/>
              <a:endCxn id="5306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309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531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12" name=""/>
            <p:cNvCxnSpPr>
              <a:stCxn id="5311" idx="0"/>
              <a:endCxn id="5310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531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532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532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33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33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2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5333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533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335" name=""/>
              <p:cNvCxnSpPr>
                <a:stCxn id="5334" idx="0"/>
                <a:endCxn id="5316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33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37" name=""/>
          <p:cNvCxnSpPr>
            <a:stCxn id="5209" idx="0"/>
            <a:endCxn id="5318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38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5339" name=""/>
            <p:cNvCxnSpPr>
              <a:stCxn id="5340" idx="0"/>
              <a:endCxn id="5314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4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534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4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7" name=""/>
          <p:cNvCxnSpPr>
            <a:stCxn id="5314" idx="0"/>
            <a:endCxn id="5346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5361" name=""/>
            <p:cNvCxnSpPr>
              <a:stCxn id="5211" idx="2"/>
              <a:endCxn id="5207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6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5365" name=""/>
            <p:cNvCxnSpPr>
              <a:stCxn id="5326" idx="3"/>
              <a:endCxn id="5313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6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5369" name=""/>
            <p:cNvCxnSpPr>
              <a:stCxn id="5344" idx="0"/>
              <a:endCxn id="5314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7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5373" name=""/>
            <p:cNvCxnSpPr>
              <a:stCxn id="5205" idx="2"/>
              <a:endCxn id="5209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7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537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537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379" name=""/>
              <p:cNvCxnSpPr>
                <a:stCxn id="5378" idx="0"/>
                <a:endCxn id="538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38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538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538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387" name=""/>
              <p:cNvCxnSpPr>
                <a:stCxn id="5386" idx="0"/>
                <a:endCxn id="538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38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5391" name=""/>
            <p:cNvCxnSpPr>
              <a:stCxn id="5203" idx="2"/>
              <a:endCxn id="5314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9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2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5403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2438280" y="4267080"/>
            <a:ext cx="6324840" cy="1752840"/>
          </a:xfrm>
          <a:prstGeom prst="wedgeEllipseCallout">
            <a:avLst>
              <a:gd name="adj1" fmla="val 8935"/>
              <a:gd name="adj2" fmla="val -83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étermine de la prochaine  micro-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2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44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44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448" name=""/>
              <p:cNvCxnSpPr>
                <a:stCxn id="5446" idx="0"/>
                <a:endCxn id="544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44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45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45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54" name=""/>
            <p:cNvCxnSpPr>
              <a:stCxn id="5452" idx="0"/>
              <a:endCxn id="545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5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45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45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60" name=""/>
            <p:cNvCxnSpPr>
              <a:stCxn id="5458" idx="0"/>
              <a:endCxn id="545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6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46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46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66" name=""/>
            <p:cNvCxnSpPr>
              <a:stCxn id="5464" idx="0"/>
              <a:endCxn id="546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6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46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46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72" name=""/>
            <p:cNvCxnSpPr>
              <a:stCxn id="5470" idx="0"/>
              <a:endCxn id="547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7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47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47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78" name=""/>
            <p:cNvCxnSpPr>
              <a:stCxn id="5476" idx="0"/>
              <a:endCxn id="547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7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48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48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84" name=""/>
            <p:cNvCxnSpPr>
              <a:stCxn id="5482" idx="0"/>
              <a:endCxn id="548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8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48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48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90" name=""/>
            <p:cNvCxnSpPr>
              <a:stCxn id="5488" idx="0"/>
              <a:endCxn id="548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9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49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49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49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497" name=""/>
              <p:cNvCxnSpPr>
                <a:stCxn id="5496" idx="0"/>
                <a:endCxn id="549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49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49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00" name=""/>
            <p:cNvCxnSpPr>
              <a:stCxn id="5437" idx="2"/>
              <a:endCxn id="542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50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550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11" name=""/>
            <p:cNvCxnSpPr>
              <a:stCxn id="5510" idx="0"/>
              <a:endCxn id="550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1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551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15" name=""/>
            <p:cNvCxnSpPr>
              <a:stCxn id="5514" idx="0"/>
              <a:endCxn id="551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1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551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19" name=""/>
            <p:cNvCxnSpPr>
              <a:stCxn id="5518" idx="0"/>
              <a:endCxn id="551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2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552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23" name=""/>
            <p:cNvCxnSpPr>
              <a:stCxn id="5522" idx="0"/>
              <a:endCxn id="552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2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552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27" name=""/>
            <p:cNvCxnSpPr>
              <a:stCxn id="5526" idx="0"/>
              <a:endCxn id="552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2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552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31" name=""/>
            <p:cNvCxnSpPr>
              <a:stCxn id="5530" idx="0"/>
              <a:endCxn id="552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3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553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35" name=""/>
            <p:cNvCxnSpPr>
              <a:stCxn id="5534" idx="0"/>
              <a:endCxn id="553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3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553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39" name=""/>
            <p:cNvCxnSpPr>
              <a:stCxn id="5538" idx="0"/>
              <a:endCxn id="553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4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554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43" name=""/>
            <p:cNvCxnSpPr>
              <a:stCxn id="5542" idx="0"/>
              <a:endCxn id="554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554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555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556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56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56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556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556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566" name=""/>
              <p:cNvCxnSpPr>
                <a:stCxn id="5565" idx="0"/>
                <a:endCxn id="554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56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68" name=""/>
          <p:cNvCxnSpPr>
            <a:stCxn id="5440" idx="0"/>
            <a:endCxn id="554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56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5570" name=""/>
            <p:cNvCxnSpPr>
              <a:stCxn id="5571" idx="0"/>
              <a:endCxn id="554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57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557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8" name=""/>
          <p:cNvCxnSpPr>
            <a:stCxn id="5545" idx="0"/>
            <a:endCxn id="5577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9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1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5592" name=""/>
            <p:cNvCxnSpPr>
              <a:stCxn id="5442" idx="2"/>
              <a:endCxn id="543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93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4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5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5596" name=""/>
            <p:cNvCxnSpPr>
              <a:stCxn id="5557" idx="3"/>
              <a:endCxn id="554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97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8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9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5600" name=""/>
            <p:cNvCxnSpPr>
              <a:stCxn id="5575" idx="0"/>
              <a:endCxn id="554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01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2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3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5604" name=""/>
            <p:cNvCxnSpPr>
              <a:stCxn id="5436" idx="2"/>
              <a:endCxn id="544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05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6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7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5608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5609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10" name=""/>
              <p:cNvCxnSpPr>
                <a:stCxn id="5609" idx="0"/>
                <a:endCxn id="5611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612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3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4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5615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5616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18" name=""/>
              <p:cNvCxnSpPr>
                <a:stCxn id="5617" idx="0"/>
                <a:endCxn id="5616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619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0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1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5622" name=""/>
            <p:cNvCxnSpPr>
              <a:stCxn id="5434" idx="2"/>
              <a:endCxn id="554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23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4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3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5634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1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0" y="2209680"/>
            <a:ext cx="5181480" cy="1676520"/>
          </a:xfrm>
          <a:prstGeom prst="wedgeEllipseCallout">
            <a:avLst>
              <a:gd name="adj1" fmla="val 75921"/>
              <a:gd name="adj2" fmla="val 25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U / SHIFTER : 8 bits indique l’opération à effect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52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4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675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6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677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79" name=""/>
              <p:cNvCxnSpPr>
                <a:stCxn id="5677" idx="0"/>
                <a:endCxn id="5678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680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681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682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4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5" name=""/>
            <p:cNvCxnSpPr>
              <a:stCxn id="5683" idx="0"/>
              <a:endCxn id="5684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86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687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688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0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91" name=""/>
            <p:cNvCxnSpPr>
              <a:stCxn id="5689" idx="0"/>
              <a:endCxn id="5690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92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693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694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6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97" name=""/>
            <p:cNvCxnSpPr>
              <a:stCxn id="5695" idx="0"/>
              <a:endCxn id="5696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98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699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700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2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3" name=""/>
            <p:cNvCxnSpPr>
              <a:stCxn id="5701" idx="0"/>
              <a:endCxn id="5702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04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705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706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8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9" name=""/>
            <p:cNvCxnSpPr>
              <a:stCxn id="5707" idx="0"/>
              <a:endCxn id="5708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10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711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712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4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15" name=""/>
            <p:cNvCxnSpPr>
              <a:stCxn id="5713" idx="0"/>
              <a:endCxn id="5714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16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717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718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0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1" name=""/>
            <p:cNvCxnSpPr>
              <a:stCxn id="5719" idx="0"/>
              <a:endCxn id="5720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22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723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4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725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726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7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728" name=""/>
              <p:cNvCxnSpPr>
                <a:stCxn id="5727" idx="0"/>
                <a:endCxn id="5723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729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730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31" name=""/>
            <p:cNvCxnSpPr>
              <a:stCxn id="5668" idx="2"/>
              <a:endCxn id="5653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32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9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5740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2" name=""/>
            <p:cNvCxnSpPr>
              <a:stCxn id="5741" idx="0"/>
              <a:endCxn id="5740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43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5744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6" name=""/>
            <p:cNvCxnSpPr>
              <a:stCxn id="5745" idx="0"/>
              <a:endCxn id="5744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47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5748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50" name=""/>
            <p:cNvCxnSpPr>
              <a:stCxn id="5749" idx="0"/>
              <a:endCxn id="5748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51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5752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54" name=""/>
            <p:cNvCxnSpPr>
              <a:stCxn id="5753" idx="0"/>
              <a:endCxn id="5752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55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5756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58" name=""/>
            <p:cNvCxnSpPr>
              <a:stCxn id="5757" idx="0"/>
              <a:endCxn id="5756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59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5760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62" name=""/>
            <p:cNvCxnSpPr>
              <a:stCxn id="5761" idx="0"/>
              <a:endCxn id="5760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63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5764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66" name=""/>
            <p:cNvCxnSpPr>
              <a:stCxn id="5765" idx="0"/>
              <a:endCxn id="5764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67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5768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0" name=""/>
            <p:cNvCxnSpPr>
              <a:stCxn id="5769" idx="0"/>
              <a:endCxn id="5768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71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5772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4" name=""/>
            <p:cNvCxnSpPr>
              <a:stCxn id="5773" idx="0"/>
              <a:endCxn id="5772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5775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9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5790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5791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792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793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4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5795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5796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797" name=""/>
              <p:cNvCxnSpPr>
                <a:stCxn id="5796" idx="0"/>
                <a:endCxn id="5778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798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99" name=""/>
          <p:cNvCxnSpPr>
            <a:stCxn id="5671" idx="0"/>
            <a:endCxn id="5780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00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5801" name=""/>
            <p:cNvCxnSpPr>
              <a:stCxn id="5802" idx="0"/>
              <a:endCxn id="5776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803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5804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6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9" name=""/>
          <p:cNvCxnSpPr>
            <a:stCxn id="5776" idx="0"/>
            <a:endCxn id="580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2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5823" name=""/>
            <p:cNvCxnSpPr>
              <a:stCxn id="5673" idx="2"/>
              <a:endCxn id="5669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2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6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5827" name=""/>
            <p:cNvCxnSpPr>
              <a:stCxn id="5788" idx="3"/>
              <a:endCxn id="5775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2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0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5831" name=""/>
            <p:cNvCxnSpPr>
              <a:stCxn id="5806" idx="0"/>
              <a:endCxn id="5776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3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4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5835" name=""/>
            <p:cNvCxnSpPr>
              <a:stCxn id="5667" idx="2"/>
              <a:endCxn id="5671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3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5839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584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41" name=""/>
              <p:cNvCxnSpPr>
                <a:stCxn id="5840" idx="0"/>
                <a:endCxn id="5842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84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5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5846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584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49" name=""/>
              <p:cNvCxnSpPr>
                <a:stCxn id="5848" idx="0"/>
                <a:endCxn id="5847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85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2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5853" name=""/>
            <p:cNvCxnSpPr>
              <a:stCxn id="5665" idx="2"/>
              <a:endCxn id="5776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5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4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5865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3505320" y="685800"/>
            <a:ext cx="5181480" cy="2362320"/>
          </a:xfrm>
          <a:prstGeom prst="wedgeEllipseCallout">
            <a:avLst>
              <a:gd name="adj1" fmla="val 18597"/>
              <a:gd name="adj2" fmla="val 68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S C :9 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dique dans quel(s) registre(s) le Bus C doit écr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8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9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90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90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10" name=""/>
              <p:cNvCxnSpPr>
                <a:stCxn id="5908" idx="0"/>
                <a:endCxn id="590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91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91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91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16" name=""/>
            <p:cNvCxnSpPr>
              <a:stCxn id="5914" idx="0"/>
              <a:endCxn id="591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1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91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91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2" name=""/>
            <p:cNvCxnSpPr>
              <a:stCxn id="5920" idx="0"/>
              <a:endCxn id="592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2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92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92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8" name=""/>
            <p:cNvCxnSpPr>
              <a:stCxn id="5926" idx="0"/>
              <a:endCxn id="592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2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93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93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34" name=""/>
            <p:cNvCxnSpPr>
              <a:stCxn id="5932" idx="0"/>
              <a:endCxn id="593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3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93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93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0" name=""/>
            <p:cNvCxnSpPr>
              <a:stCxn id="5938" idx="0"/>
              <a:endCxn id="593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4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94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94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6" name=""/>
            <p:cNvCxnSpPr>
              <a:stCxn id="5944" idx="0"/>
              <a:endCxn id="594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4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94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94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52" name=""/>
            <p:cNvCxnSpPr>
              <a:stCxn id="5950" idx="0"/>
              <a:endCxn id="595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5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95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95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95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959" name=""/>
              <p:cNvCxnSpPr>
                <a:stCxn id="5958" idx="0"/>
                <a:endCxn id="595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96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96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62" name=""/>
            <p:cNvCxnSpPr>
              <a:stCxn id="5899" idx="2"/>
              <a:endCxn id="588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96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597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73" name=""/>
            <p:cNvCxnSpPr>
              <a:stCxn id="5972" idx="0"/>
              <a:endCxn id="597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7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597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77" name=""/>
            <p:cNvCxnSpPr>
              <a:stCxn id="5976" idx="0"/>
              <a:endCxn id="597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7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597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1" name=""/>
            <p:cNvCxnSpPr>
              <a:stCxn id="5980" idx="0"/>
              <a:endCxn id="597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8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598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5" name=""/>
            <p:cNvCxnSpPr>
              <a:stCxn id="5984" idx="0"/>
              <a:endCxn id="598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8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598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9" name=""/>
            <p:cNvCxnSpPr>
              <a:stCxn id="5988" idx="0"/>
              <a:endCxn id="598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9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599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93" name=""/>
            <p:cNvCxnSpPr>
              <a:stCxn id="5992" idx="0"/>
              <a:endCxn id="599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9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599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97" name=""/>
            <p:cNvCxnSpPr>
              <a:stCxn id="5996" idx="0"/>
              <a:endCxn id="599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9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599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01" name=""/>
            <p:cNvCxnSpPr>
              <a:stCxn id="6000" idx="0"/>
              <a:endCxn id="599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0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00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05" name=""/>
            <p:cNvCxnSpPr>
              <a:stCxn id="6004" idx="0"/>
              <a:endCxn id="600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00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02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02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02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02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02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02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028" name=""/>
              <p:cNvCxnSpPr>
                <a:stCxn id="6027" idx="0"/>
                <a:endCxn id="600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02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30" name=""/>
          <p:cNvCxnSpPr>
            <a:stCxn id="5902" idx="0"/>
            <a:endCxn id="601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03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032" name=""/>
            <p:cNvCxnSpPr>
              <a:stCxn id="6033" idx="0"/>
              <a:endCxn id="600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03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03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3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0" name=""/>
          <p:cNvCxnSpPr>
            <a:stCxn id="6007" idx="0"/>
            <a:endCxn id="6039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1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054" name=""/>
            <p:cNvCxnSpPr>
              <a:stCxn id="5904" idx="2"/>
              <a:endCxn id="590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5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058" name=""/>
            <p:cNvCxnSpPr>
              <a:stCxn id="6019" idx="3"/>
              <a:endCxn id="600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5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6062" name=""/>
            <p:cNvCxnSpPr>
              <a:stCxn id="6037" idx="0"/>
              <a:endCxn id="600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6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6066" name=""/>
            <p:cNvCxnSpPr>
              <a:stCxn id="5898" idx="2"/>
              <a:endCxn id="590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6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607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607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072" name=""/>
              <p:cNvCxnSpPr>
                <a:stCxn id="6071" idx="0"/>
                <a:endCxn id="607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07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607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607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080" name=""/>
              <p:cNvCxnSpPr>
                <a:stCxn id="6079" idx="0"/>
                <a:endCxn id="607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08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6084" name=""/>
            <p:cNvCxnSpPr>
              <a:stCxn id="5896" idx="2"/>
              <a:endCxn id="600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8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5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6096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3733920" y="4495680"/>
            <a:ext cx="5181480" cy="1905120"/>
          </a:xfrm>
          <a:prstGeom prst="wedgeEllipseCallout">
            <a:avLst>
              <a:gd name="adj1" fmla="val 22152"/>
              <a:gd name="adj2" fmla="val -92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MEMOIRE :3 bits indique l’opération de la mémoire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Read ,Write,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14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6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6137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8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6139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141" name=""/>
              <p:cNvCxnSpPr>
                <a:stCxn id="6139" idx="0"/>
                <a:endCxn id="6140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6142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6143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6144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6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47" name=""/>
            <p:cNvCxnSpPr>
              <a:stCxn id="6145" idx="0"/>
              <a:endCxn id="6146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48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6149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6150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2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53" name=""/>
            <p:cNvCxnSpPr>
              <a:stCxn id="6151" idx="0"/>
              <a:endCxn id="6152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54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6155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6156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8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59" name=""/>
            <p:cNvCxnSpPr>
              <a:stCxn id="6157" idx="0"/>
              <a:endCxn id="6158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60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6161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6162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4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65" name=""/>
            <p:cNvCxnSpPr>
              <a:stCxn id="6163" idx="0"/>
              <a:endCxn id="6164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66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6167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6168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0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71" name=""/>
            <p:cNvCxnSpPr>
              <a:stCxn id="6169" idx="0"/>
              <a:endCxn id="6170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72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6173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6174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6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77" name=""/>
            <p:cNvCxnSpPr>
              <a:stCxn id="6175" idx="0"/>
              <a:endCxn id="6176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78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6179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6180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2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83" name=""/>
            <p:cNvCxnSpPr>
              <a:stCxn id="6181" idx="0"/>
              <a:endCxn id="6182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84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6185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6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6187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6188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9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190" name=""/>
              <p:cNvCxnSpPr>
                <a:stCxn id="6189" idx="0"/>
                <a:endCxn id="6185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6191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6192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93" name=""/>
            <p:cNvCxnSpPr>
              <a:stCxn id="6130" idx="2"/>
              <a:endCxn id="6115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94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1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6202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4" name=""/>
            <p:cNvCxnSpPr>
              <a:stCxn id="6203" idx="0"/>
              <a:endCxn id="6202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05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6206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8" name=""/>
            <p:cNvCxnSpPr>
              <a:stCxn id="6207" idx="0"/>
              <a:endCxn id="6206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09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210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12" name=""/>
            <p:cNvCxnSpPr>
              <a:stCxn id="6211" idx="0"/>
              <a:endCxn id="6210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13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214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16" name=""/>
            <p:cNvCxnSpPr>
              <a:stCxn id="6215" idx="0"/>
              <a:endCxn id="6214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17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218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20" name=""/>
            <p:cNvCxnSpPr>
              <a:stCxn id="6219" idx="0"/>
              <a:endCxn id="6218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21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222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24" name=""/>
            <p:cNvCxnSpPr>
              <a:stCxn id="6223" idx="0"/>
              <a:endCxn id="6222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25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226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28" name=""/>
            <p:cNvCxnSpPr>
              <a:stCxn id="6227" idx="0"/>
              <a:endCxn id="6226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29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230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2" name=""/>
            <p:cNvCxnSpPr>
              <a:stCxn id="6231" idx="0"/>
              <a:endCxn id="6230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33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234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6" name=""/>
            <p:cNvCxnSpPr>
              <a:stCxn id="6235" idx="0"/>
              <a:endCxn id="6234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237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1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252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253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254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255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6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257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258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259" name=""/>
              <p:cNvCxnSpPr>
                <a:stCxn id="6258" idx="0"/>
                <a:endCxn id="6240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260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61" name=""/>
          <p:cNvCxnSpPr>
            <a:stCxn id="6133" idx="0"/>
            <a:endCxn id="6242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262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263" name=""/>
            <p:cNvCxnSpPr>
              <a:stCxn id="6264" idx="0"/>
              <a:endCxn id="6238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265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266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8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1" name=""/>
          <p:cNvCxnSpPr>
            <a:stCxn id="6238" idx="0"/>
            <a:endCxn id="627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285" name=""/>
            <p:cNvCxnSpPr>
              <a:stCxn id="6135" idx="2"/>
              <a:endCxn id="6131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8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289" name=""/>
            <p:cNvCxnSpPr>
              <a:stCxn id="6250" idx="3"/>
              <a:endCxn id="6237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9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6293" name=""/>
            <p:cNvCxnSpPr>
              <a:stCxn id="6268" idx="0"/>
              <a:endCxn id="6238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9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6297" name=""/>
            <p:cNvCxnSpPr>
              <a:stCxn id="6129" idx="2"/>
              <a:endCxn id="6133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9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630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630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03" name=""/>
              <p:cNvCxnSpPr>
                <a:stCxn id="6302" idx="0"/>
                <a:endCxn id="630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0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630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630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11" name=""/>
              <p:cNvCxnSpPr>
                <a:stCxn id="6310" idx="0"/>
                <a:endCxn id="630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31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6315" name=""/>
            <p:cNvCxnSpPr>
              <a:stCxn id="6127" idx="2"/>
              <a:endCxn id="6238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1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6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6327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3200400" y="914400"/>
            <a:ext cx="4952880" cy="2590920"/>
          </a:xfrm>
          <a:prstGeom prst="wedgeEllipseCallout">
            <a:avLst>
              <a:gd name="adj1" fmla="val -63944"/>
              <a:gd name="adj2" fmla="val -57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Opérations mém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RD : Read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(M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WR: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Fetch :Read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(M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2057400" y="380880"/>
            <a:ext cx="685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ôle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4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636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637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73" name=""/>
              <p:cNvCxnSpPr>
                <a:stCxn id="6371" idx="0"/>
                <a:endCxn id="637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637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637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637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9" name=""/>
            <p:cNvCxnSpPr>
              <a:stCxn id="6377" idx="0"/>
              <a:endCxn id="637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8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638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638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85" name=""/>
            <p:cNvCxnSpPr>
              <a:stCxn id="6383" idx="0"/>
              <a:endCxn id="638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8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638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638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91" name=""/>
            <p:cNvCxnSpPr>
              <a:stCxn id="6389" idx="0"/>
              <a:endCxn id="639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9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639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639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97" name=""/>
            <p:cNvCxnSpPr>
              <a:stCxn id="6395" idx="0"/>
              <a:endCxn id="639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9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639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640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03" name=""/>
            <p:cNvCxnSpPr>
              <a:stCxn id="6401" idx="0"/>
              <a:endCxn id="640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0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640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640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09" name=""/>
            <p:cNvCxnSpPr>
              <a:stCxn id="6407" idx="0"/>
              <a:endCxn id="640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1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641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641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15" name=""/>
            <p:cNvCxnSpPr>
              <a:stCxn id="6413" idx="0"/>
              <a:endCxn id="641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1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641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641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642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422" name=""/>
              <p:cNvCxnSpPr>
                <a:stCxn id="6421" idx="0"/>
                <a:endCxn id="641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642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642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25" name=""/>
            <p:cNvCxnSpPr>
              <a:stCxn id="6362" idx="2"/>
              <a:endCxn id="634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42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643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6" name=""/>
            <p:cNvCxnSpPr>
              <a:stCxn id="6435" idx="0"/>
              <a:endCxn id="643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3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643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40" name=""/>
            <p:cNvCxnSpPr>
              <a:stCxn id="6439" idx="0"/>
              <a:endCxn id="643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4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44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44" name=""/>
            <p:cNvCxnSpPr>
              <a:stCxn id="6443" idx="0"/>
              <a:endCxn id="644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4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44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48" name=""/>
            <p:cNvCxnSpPr>
              <a:stCxn id="6447" idx="0"/>
              <a:endCxn id="644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4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45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52" name=""/>
            <p:cNvCxnSpPr>
              <a:stCxn id="6451" idx="0"/>
              <a:endCxn id="645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5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45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56" name=""/>
            <p:cNvCxnSpPr>
              <a:stCxn id="6455" idx="0"/>
              <a:endCxn id="645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5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45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60" name=""/>
            <p:cNvCxnSpPr>
              <a:stCxn id="6459" idx="0"/>
              <a:endCxn id="645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6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46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64" name=""/>
            <p:cNvCxnSpPr>
              <a:stCxn id="6463" idx="0"/>
              <a:endCxn id="646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6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46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68" name=""/>
            <p:cNvCxnSpPr>
              <a:stCxn id="6467" idx="0"/>
              <a:endCxn id="646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46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48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48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8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48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48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49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91" name=""/>
              <p:cNvCxnSpPr>
                <a:stCxn id="6490" idx="0"/>
                <a:endCxn id="647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49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3" name=""/>
          <p:cNvCxnSpPr>
            <a:stCxn id="6365" idx="0"/>
            <a:endCxn id="647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9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495" name=""/>
            <p:cNvCxnSpPr>
              <a:stCxn id="6496" idx="0"/>
              <a:endCxn id="647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49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49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0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03" name=""/>
          <p:cNvCxnSpPr>
            <a:stCxn id="6470" idx="0"/>
            <a:endCxn id="6502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4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6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517" name=""/>
            <p:cNvCxnSpPr>
              <a:stCxn id="6367" idx="2"/>
              <a:endCxn id="636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18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9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0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521" name=""/>
            <p:cNvCxnSpPr>
              <a:stCxn id="6482" idx="3"/>
              <a:endCxn id="646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2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3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4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6525" name=""/>
            <p:cNvCxnSpPr>
              <a:stCxn id="6500" idx="0"/>
              <a:endCxn id="647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6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7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8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6529" name=""/>
            <p:cNvCxnSpPr>
              <a:stCxn id="6361" idx="2"/>
              <a:endCxn id="636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30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1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2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6533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6534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35" name=""/>
              <p:cNvCxnSpPr>
                <a:stCxn id="6534" idx="0"/>
                <a:endCxn id="6536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537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8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9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6540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6541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43" name=""/>
              <p:cNvCxnSpPr>
                <a:stCxn id="6542" idx="0"/>
                <a:endCxn id="6541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544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5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6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6547" name=""/>
            <p:cNvCxnSpPr>
              <a:stCxn id="6359" idx="2"/>
              <a:endCxn id="647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48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9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8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6559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6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3733920" y="4495680"/>
            <a:ext cx="5181480" cy="1905120"/>
          </a:xfrm>
          <a:prstGeom prst="wedgeEllipseCallout">
            <a:avLst>
              <a:gd name="adj1" fmla="val 26990"/>
              <a:gd name="adj2" fmla="val -9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S B :4 bits Indique quel registre doit être 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4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27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29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31" name=""/>
              <p:cNvCxnSpPr>
                <a:stCxn id="529" idx="0"/>
                <a:endCxn id="530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32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33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34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35" idx="0"/>
              <a:endCxn id="536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38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39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3" name=""/>
            <p:cNvCxnSpPr>
              <a:stCxn id="541" idx="0"/>
              <a:endCxn id="542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4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45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46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9" name=""/>
            <p:cNvCxnSpPr>
              <a:stCxn id="547" idx="0"/>
              <a:endCxn id="548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0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51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52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5" name=""/>
            <p:cNvCxnSpPr>
              <a:stCxn id="553" idx="0"/>
              <a:endCxn id="554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6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57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58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"/>
            <p:cNvCxnSpPr>
              <a:stCxn id="559" idx="0"/>
              <a:endCxn id="560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2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63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"/>
            <p:cNvCxnSpPr>
              <a:stCxn id="565" idx="0"/>
              <a:endCxn id="566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8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69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70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3" name=""/>
            <p:cNvCxnSpPr>
              <a:stCxn id="571" idx="0"/>
              <a:endCxn id="572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4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75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78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80" name=""/>
              <p:cNvCxnSpPr>
                <a:stCxn id="579" idx="0"/>
                <a:endCxn id="575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81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82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20" idx="2"/>
              <a:endCxn id="505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84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592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"/>
            <p:cNvCxnSpPr>
              <a:stCxn id="593" idx="0"/>
              <a:endCxn id="592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5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596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" name=""/>
            <p:cNvCxnSpPr>
              <a:stCxn id="597" idx="0"/>
              <a:endCxn id="596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00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2" name=""/>
            <p:cNvCxnSpPr>
              <a:stCxn id="601" idx="0"/>
              <a:endCxn id="600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3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04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6" name=""/>
            <p:cNvCxnSpPr>
              <a:stCxn id="605" idx="0"/>
              <a:endCxn id="604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7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08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9" idx="0"/>
              <a:endCxn id="608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1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12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4" name=""/>
            <p:cNvCxnSpPr>
              <a:stCxn id="613" idx="0"/>
              <a:endCxn id="612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5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16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8" name=""/>
            <p:cNvCxnSpPr>
              <a:stCxn id="617" idx="0"/>
              <a:endCxn id="616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9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20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2" name=""/>
            <p:cNvCxnSpPr>
              <a:stCxn id="621" idx="0"/>
              <a:endCxn id="620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3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24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"/>
            <p:cNvCxnSpPr>
              <a:stCxn id="625" idx="0"/>
              <a:endCxn id="624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27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42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43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4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45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47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48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9" name=""/>
              <p:cNvCxnSpPr>
                <a:stCxn id="648" idx="0"/>
                <a:endCxn id="630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50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523" idx="0"/>
            <a:endCxn id="632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2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53" name=""/>
            <p:cNvCxnSpPr>
              <a:stCxn id="654" idx="0"/>
              <a:endCxn id="628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55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56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"/>
          <p:cNvCxnSpPr>
            <a:stCxn id="628" idx="0"/>
            <a:endCxn id="66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75" name=""/>
            <p:cNvCxnSpPr>
              <a:stCxn id="525" idx="2"/>
              <a:endCxn id="521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79" name=""/>
            <p:cNvCxnSpPr>
              <a:stCxn id="640" idx="3"/>
              <a:endCxn id="627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683" name=""/>
            <p:cNvCxnSpPr>
              <a:stCxn id="658" idx="0"/>
              <a:endCxn id="628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687" name=""/>
            <p:cNvCxnSpPr>
              <a:stCxn id="519" idx="2"/>
              <a:endCxn id="523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69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69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93" name=""/>
              <p:cNvCxnSpPr>
                <a:stCxn id="692" idx="0"/>
                <a:endCxn id="69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9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69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69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01" name=""/>
              <p:cNvCxnSpPr>
                <a:stCxn id="700" idx="0"/>
                <a:endCxn id="69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70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705" name=""/>
            <p:cNvCxnSpPr>
              <a:stCxn id="517" idx="2"/>
              <a:endCxn id="628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717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29000" y="1523880"/>
            <a:ext cx="5486400" cy="1905120"/>
          </a:xfrm>
          <a:prstGeom prst="wedgeEllipseCallout">
            <a:avLst>
              <a:gd name="adj1" fmla="val -58592"/>
              <a:gd name="adj2" fmla="val -78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R (Memory Address Regist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ient une adresse de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troler suit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77" name=""/>
          <p:cNvGraphicFramePr/>
          <p:nvPr/>
        </p:nvGraphicFramePr>
        <p:xfrm>
          <a:off x="228600" y="2438280"/>
          <a:ext cx="8613720" cy="213516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tation des micro-instruc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79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Une simplific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SP=SP+1 ;rd; goto label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Les simplifications consist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Utilisation du symbole ég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Utilisation de label au lieu d’adress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Une micro instructions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80" name=""/>
          <p:cNvGraphicFramePr/>
          <p:nvPr/>
        </p:nvGraphicFramePr>
        <p:xfrm>
          <a:off x="298440" y="414324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7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5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6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62" name=""/>
              <p:cNvCxnSpPr>
                <a:stCxn id="760" idx="0"/>
                <a:endCxn id="76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6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6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6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8" name=""/>
            <p:cNvCxnSpPr>
              <a:stCxn id="766" idx="0"/>
              <a:endCxn id="76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6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77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7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4" name=""/>
            <p:cNvCxnSpPr>
              <a:stCxn id="772" idx="0"/>
              <a:endCxn id="77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7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77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77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0" name=""/>
            <p:cNvCxnSpPr>
              <a:stCxn id="778" idx="0"/>
              <a:endCxn id="77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78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6" name=""/>
            <p:cNvCxnSpPr>
              <a:stCxn id="784" idx="0"/>
              <a:endCxn id="78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78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2" name=""/>
            <p:cNvCxnSpPr>
              <a:stCxn id="790" idx="0"/>
              <a:endCxn id="79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79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79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8" name=""/>
            <p:cNvCxnSpPr>
              <a:stCxn id="796" idx="0"/>
              <a:endCxn id="79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80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80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4" name=""/>
            <p:cNvCxnSpPr>
              <a:stCxn id="802" idx="0"/>
              <a:endCxn id="80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80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80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11" name=""/>
              <p:cNvCxnSpPr>
                <a:stCxn id="810" idx="0"/>
                <a:endCxn id="80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81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81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4" name=""/>
            <p:cNvCxnSpPr>
              <a:stCxn id="751" idx="2"/>
              <a:endCxn id="73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1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82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5" name=""/>
            <p:cNvCxnSpPr>
              <a:stCxn id="824" idx="0"/>
              <a:endCxn id="82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2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82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9" name=""/>
            <p:cNvCxnSpPr>
              <a:stCxn id="828" idx="0"/>
              <a:endCxn id="82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83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3" name=""/>
            <p:cNvCxnSpPr>
              <a:stCxn id="832" idx="0"/>
              <a:endCxn id="83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83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7" name=""/>
            <p:cNvCxnSpPr>
              <a:stCxn id="836" idx="0"/>
              <a:endCxn id="83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83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1" name=""/>
            <p:cNvCxnSpPr>
              <a:stCxn id="840" idx="0"/>
              <a:endCxn id="83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84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5" name=""/>
            <p:cNvCxnSpPr>
              <a:stCxn id="844" idx="0"/>
              <a:endCxn id="84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84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9" name=""/>
            <p:cNvCxnSpPr>
              <a:stCxn id="848" idx="0"/>
              <a:endCxn id="84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85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3" name=""/>
            <p:cNvCxnSpPr>
              <a:stCxn id="852" idx="0"/>
              <a:endCxn id="85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85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7" name=""/>
            <p:cNvCxnSpPr>
              <a:stCxn id="856" idx="0"/>
              <a:endCxn id="85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85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87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87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7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87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87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0" name=""/>
              <p:cNvCxnSpPr>
                <a:stCxn id="879" idx="0"/>
                <a:endCxn id="86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8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2" name=""/>
          <p:cNvCxnSpPr>
            <a:stCxn id="754" idx="0"/>
            <a:endCxn id="86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8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884" name=""/>
            <p:cNvCxnSpPr>
              <a:stCxn id="885" idx="0"/>
              <a:endCxn id="85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8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88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59" idx="0"/>
            <a:endCxn id="89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906" name=""/>
            <p:cNvCxnSpPr>
              <a:stCxn id="756" idx="2"/>
              <a:endCxn id="75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910" name=""/>
            <p:cNvCxnSpPr>
              <a:stCxn id="871" idx="3"/>
              <a:endCxn id="85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914" name=""/>
            <p:cNvCxnSpPr>
              <a:stCxn id="889" idx="0"/>
              <a:endCxn id="85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918" name=""/>
            <p:cNvCxnSpPr>
              <a:stCxn id="750" idx="2"/>
              <a:endCxn id="75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92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92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4" name=""/>
              <p:cNvCxnSpPr>
                <a:stCxn id="923" idx="0"/>
                <a:endCxn id="92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2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92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93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2" name=""/>
              <p:cNvCxnSpPr>
                <a:stCxn id="931" idx="0"/>
                <a:endCxn id="93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3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936" name=""/>
            <p:cNvCxnSpPr>
              <a:stCxn id="748" idx="2"/>
              <a:endCxn id="85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948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581280" y="1447920"/>
            <a:ext cx="5181840" cy="3124080"/>
          </a:xfrm>
          <a:prstGeom prst="wedgeEllipseCallout">
            <a:avLst>
              <a:gd name="adj1" fmla="val -61703"/>
              <a:gd name="adj2" fmla="val -50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DR (Memory Data Register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ient une donn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données avant d’arrivé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ns ce registre néces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 cycle ent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98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99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93" name=""/>
              <p:cNvCxnSpPr>
                <a:stCxn id="991" idx="0"/>
                <a:endCxn id="99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99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99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99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9" name=""/>
            <p:cNvCxnSpPr>
              <a:stCxn id="997" idx="0"/>
              <a:endCxn id="99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0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00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00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5" name=""/>
            <p:cNvCxnSpPr>
              <a:stCxn id="1003" idx="0"/>
              <a:endCxn id="100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0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00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1" name=""/>
            <p:cNvCxnSpPr>
              <a:stCxn id="1009" idx="0"/>
              <a:endCxn id="101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1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01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01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7" name=""/>
            <p:cNvCxnSpPr>
              <a:stCxn id="1015" idx="0"/>
              <a:endCxn id="101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1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1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2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3" name=""/>
            <p:cNvCxnSpPr>
              <a:stCxn id="1021" idx="0"/>
              <a:endCxn id="102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2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2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2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9" name=""/>
            <p:cNvCxnSpPr>
              <a:stCxn id="1027" idx="0"/>
              <a:endCxn id="102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03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3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5" name=""/>
            <p:cNvCxnSpPr>
              <a:stCxn id="1033" idx="0"/>
              <a:endCxn id="103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03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03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04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042" name=""/>
              <p:cNvCxnSpPr>
                <a:stCxn id="1041" idx="0"/>
                <a:endCxn id="103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4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04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5" name=""/>
            <p:cNvCxnSpPr>
              <a:stCxn id="982" idx="2"/>
              <a:endCxn id="96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4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05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6" name=""/>
            <p:cNvCxnSpPr>
              <a:stCxn id="1055" idx="0"/>
              <a:endCxn id="105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05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0"/>
              <a:endCxn id="105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6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06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4" name=""/>
            <p:cNvCxnSpPr>
              <a:stCxn id="1063" idx="0"/>
              <a:endCxn id="106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6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06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8" name=""/>
            <p:cNvCxnSpPr>
              <a:stCxn id="1067" idx="0"/>
              <a:endCxn id="106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6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07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2" name=""/>
            <p:cNvCxnSpPr>
              <a:stCxn id="1071" idx="0"/>
              <a:endCxn id="107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7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07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6" name=""/>
            <p:cNvCxnSpPr>
              <a:stCxn id="1075" idx="0"/>
              <a:endCxn id="107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7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07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0" name=""/>
            <p:cNvCxnSpPr>
              <a:stCxn id="1079" idx="0"/>
              <a:endCxn id="107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08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4" name=""/>
            <p:cNvCxnSpPr>
              <a:stCxn id="1083" idx="0"/>
              <a:endCxn id="108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08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8" name=""/>
            <p:cNvCxnSpPr>
              <a:stCxn id="1087" idx="0"/>
              <a:endCxn id="108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08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10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10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0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10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11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11" name=""/>
              <p:cNvCxnSpPr>
                <a:stCxn id="1110" idx="0"/>
                <a:endCxn id="109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1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13" name=""/>
          <p:cNvCxnSpPr>
            <a:stCxn id="985" idx="0"/>
            <a:endCxn id="109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1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115" name=""/>
            <p:cNvCxnSpPr>
              <a:stCxn id="1116" idx="0"/>
              <a:endCxn id="109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1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11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stCxn id="1090" idx="0"/>
            <a:endCxn id="1122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137" name=""/>
            <p:cNvCxnSpPr>
              <a:stCxn id="987" idx="2"/>
              <a:endCxn id="98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8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141" name=""/>
            <p:cNvCxnSpPr>
              <a:stCxn id="1102" idx="3"/>
              <a:endCxn id="108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2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145" name=""/>
            <p:cNvCxnSpPr>
              <a:stCxn id="1120" idx="0"/>
              <a:endCxn id="109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6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149" name=""/>
            <p:cNvCxnSpPr>
              <a:stCxn id="981" idx="2"/>
              <a:endCxn id="98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0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153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154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5" name=""/>
              <p:cNvCxnSpPr>
                <a:stCxn id="1154" idx="0"/>
                <a:endCxn id="1156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57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160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161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63" name=""/>
              <p:cNvCxnSpPr>
                <a:stCxn id="1162" idx="0"/>
                <a:endCxn id="1161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64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167" name=""/>
            <p:cNvCxnSpPr>
              <a:stCxn id="979" idx="2"/>
              <a:endCxn id="109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8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179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733920" y="1752480"/>
            <a:ext cx="4952880" cy="1600200"/>
          </a:xfrm>
          <a:prstGeom prst="wedgeEllipseCallout">
            <a:avLst>
              <a:gd name="adj1" fmla="val -65319"/>
              <a:gd name="adj2" fmla="val -414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C (Program 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eur de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7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220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24" name=""/>
              <p:cNvCxnSpPr>
                <a:stCxn id="1222" idx="0"/>
                <a:endCxn id="1223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25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226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227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9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0" name=""/>
            <p:cNvCxnSpPr>
              <a:stCxn id="1228" idx="0"/>
              <a:endCxn id="1229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31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232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233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5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6" name=""/>
            <p:cNvCxnSpPr>
              <a:stCxn id="1234" idx="0"/>
              <a:endCxn id="1235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37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238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239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2" name=""/>
            <p:cNvCxnSpPr>
              <a:stCxn id="1240" idx="0"/>
              <a:endCxn id="1241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43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244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245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7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8" name=""/>
            <p:cNvCxnSpPr>
              <a:stCxn id="1246" idx="0"/>
              <a:endCxn id="1247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49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250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251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3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4" name=""/>
            <p:cNvCxnSpPr>
              <a:stCxn id="1252" idx="0"/>
              <a:endCxn id="1253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55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256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257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0" name=""/>
            <p:cNvCxnSpPr>
              <a:stCxn id="1258" idx="0"/>
              <a:endCxn id="1259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61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262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263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6" name=""/>
            <p:cNvCxnSpPr>
              <a:stCxn id="1264" idx="0"/>
              <a:endCxn id="1265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67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268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270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271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73" name=""/>
              <p:cNvCxnSpPr>
                <a:stCxn id="1272" idx="0"/>
                <a:endCxn id="1268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74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275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6" name=""/>
            <p:cNvCxnSpPr>
              <a:stCxn id="1213" idx="2"/>
              <a:endCxn id="1198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7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285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7" name=""/>
            <p:cNvCxnSpPr>
              <a:stCxn id="1286" idx="0"/>
              <a:endCxn id="1285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88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289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1" name=""/>
            <p:cNvCxnSpPr>
              <a:stCxn id="1290" idx="0"/>
              <a:endCxn id="1289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2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293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5" name=""/>
            <p:cNvCxnSpPr>
              <a:stCxn id="1294" idx="0"/>
              <a:endCxn id="1293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6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297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9" name=""/>
            <p:cNvCxnSpPr>
              <a:stCxn id="1298" idx="0"/>
              <a:endCxn id="1297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0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301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3" name=""/>
            <p:cNvCxnSpPr>
              <a:stCxn id="1302" idx="0"/>
              <a:endCxn id="1301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4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305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7" name=""/>
            <p:cNvCxnSpPr>
              <a:stCxn id="1306" idx="0"/>
              <a:endCxn id="1305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8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309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1" name=""/>
            <p:cNvCxnSpPr>
              <a:stCxn id="1310" idx="0"/>
              <a:endCxn id="1309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2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313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5" name=""/>
            <p:cNvCxnSpPr>
              <a:stCxn id="1314" idx="0"/>
              <a:endCxn id="1313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6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317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9" name=""/>
            <p:cNvCxnSpPr>
              <a:stCxn id="1318" idx="0"/>
              <a:endCxn id="1317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320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335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336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37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38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340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341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42" name=""/>
              <p:cNvCxnSpPr>
                <a:stCxn id="1341" idx="0"/>
                <a:endCxn id="1323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43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44" name=""/>
          <p:cNvCxnSpPr>
            <a:stCxn id="1216" idx="0"/>
            <a:endCxn id="1325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45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346" name=""/>
            <p:cNvCxnSpPr>
              <a:stCxn id="1347" idx="0"/>
              <a:endCxn id="1321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48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349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1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4" name=""/>
          <p:cNvCxnSpPr>
            <a:stCxn id="1321" idx="0"/>
            <a:endCxn id="1353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5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368" name=""/>
            <p:cNvCxnSpPr>
              <a:stCxn id="1218" idx="2"/>
              <a:endCxn id="1214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372" name=""/>
            <p:cNvCxnSpPr>
              <a:stCxn id="1333" idx="3"/>
              <a:endCxn id="1320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376" name=""/>
            <p:cNvCxnSpPr>
              <a:stCxn id="1351" idx="0"/>
              <a:endCxn id="1321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380" name=""/>
            <p:cNvCxnSpPr>
              <a:stCxn id="1212" idx="2"/>
              <a:endCxn id="1216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38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38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86" name=""/>
              <p:cNvCxnSpPr>
                <a:stCxn id="1385" idx="0"/>
                <a:endCxn id="138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38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39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39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94" name=""/>
              <p:cNvCxnSpPr>
                <a:stCxn id="1393" idx="0"/>
                <a:endCxn id="139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9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398" name=""/>
            <p:cNvCxnSpPr>
              <a:stCxn id="1210" idx="2"/>
              <a:endCxn id="1321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410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505320" y="1295280"/>
            <a:ext cx="5638680" cy="3581640"/>
          </a:xfrm>
          <a:prstGeom prst="wedgeEllipseCallout">
            <a:avLst>
              <a:gd name="adj1" fmla="val -59092"/>
              <a:gd name="adj2" fmla="val -21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BR(Memory Buffer Regi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ient un word (4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cture d’un byte à la f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données avant d’arrivé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ns ce registre néces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 cycle ent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D’un langage haut niveaux a un flux de by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8" name=""/>
          <p:cNvSpPr/>
          <p:nvPr/>
        </p:nvSpPr>
        <p:spPr>
          <a:xfrm>
            <a:off x="139680" y="2320920"/>
            <a:ext cx="24494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=3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=4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=A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-1800" y="182880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age de program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200400" y="23623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#A=3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#B=4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#C=A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771480" y="914400"/>
            <a:ext cx="5295600" cy="1282680"/>
            <a:chOff x="771480" y="914400"/>
            <a:chExt cx="5295600" cy="1282680"/>
          </a:xfrm>
        </p:grpSpPr>
        <p:sp>
          <p:nvSpPr>
            <p:cNvPr id="1432" name=""/>
            <p:cNvSpPr/>
            <p:nvPr/>
          </p:nvSpPr>
          <p:spPr>
            <a:xfrm>
              <a:off x="771480" y="914400"/>
              <a:ext cx="3429000" cy="990720"/>
            </a:xfrm>
            <a:custGeom>
              <a:avLst/>
              <a:gdLst>
                <a:gd name="textAreaLeft" fmla="*/ 662040 w 3429000"/>
                <a:gd name="textAreaRight" fmla="*/ 2466360 w 3429000"/>
                <a:gd name="textAreaTop" fmla="*/ 132480 h 990720"/>
                <a:gd name="textAreaBottom" fmla="*/ 8582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44" hR="21600" stAng="10800000" swAng="5400000"/>
                  <a:lnTo>
                    <a:pt x="11365" y="0"/>
                  </a:lnTo>
                  <a:arcTo wR="8344" hR="21600" stAng="-5400000" swAng="2851940"/>
                  <a:lnTo>
                    <a:pt x="21123" y="14400"/>
                  </a:lnTo>
                  <a:lnTo>
                    <a:pt x="18198" y="21600"/>
                  </a:lnTo>
                  <a:lnTo>
                    <a:pt x="14318" y="14400"/>
                  </a:lnTo>
                  <a:lnTo>
                    <a:pt x="16210" y="14400"/>
                  </a:lnTo>
                  <a:arcTo wR="8344" hR="21600" stAng="-2548060" swAng="-2607908"/>
                  <a:lnTo>
                    <a:pt x="9854" y="357"/>
                  </a:lnTo>
                  <a:arcTo wR="8344" hR="21600" stAng="-5644032" swAng="-5155968"/>
                  <a:close/>
                </a:path>
                <a:path fill="darkenLess" w="21600" h="21600">
                  <a:moveTo>
                    <a:pt x="0" y="21600"/>
                  </a:moveTo>
                  <a:arcTo wR="8344" hR="21600" stAng="10800000" swAng="5400000"/>
                  <a:lnTo>
                    <a:pt x="8344" y="0"/>
                  </a:lnTo>
                  <a:arcTo wR="8344" hR="21600" stAng="-5400000" swAng="244032"/>
                  <a:lnTo>
                    <a:pt x="9854" y="357"/>
                  </a:lnTo>
                  <a:arcTo wR="8344" hR="21600" stAng="-5644032" swAng="-5155968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17000" y="1828800"/>
              <a:ext cx="32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eux d’instructions de la 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4343400" y="838080"/>
            <a:ext cx="3939840" cy="1359000"/>
            <a:chOff x="4343400" y="838080"/>
            <a:chExt cx="3939840" cy="1359000"/>
          </a:xfrm>
        </p:grpSpPr>
        <p:sp>
          <p:nvSpPr>
            <p:cNvPr id="1435" name=""/>
            <p:cNvSpPr/>
            <p:nvPr/>
          </p:nvSpPr>
          <p:spPr>
            <a:xfrm>
              <a:off x="4343400" y="838080"/>
              <a:ext cx="3429000" cy="990720"/>
            </a:xfrm>
            <a:custGeom>
              <a:avLst/>
              <a:gdLst>
                <a:gd name="textAreaLeft" fmla="*/ 662040 w 3429000"/>
                <a:gd name="textAreaRight" fmla="*/ 2466360 w 3429000"/>
                <a:gd name="textAreaTop" fmla="*/ 132480 h 990720"/>
                <a:gd name="textAreaBottom" fmla="*/ 8582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44" hR="21600" stAng="10800000" swAng="5400000"/>
                  <a:lnTo>
                    <a:pt x="11365" y="0"/>
                  </a:lnTo>
                  <a:arcTo wR="8344" hR="21600" stAng="-5400000" swAng="2851940"/>
                  <a:lnTo>
                    <a:pt x="21123" y="14400"/>
                  </a:lnTo>
                  <a:lnTo>
                    <a:pt x="18198" y="21600"/>
                  </a:lnTo>
                  <a:lnTo>
                    <a:pt x="14318" y="14400"/>
                  </a:lnTo>
                  <a:lnTo>
                    <a:pt x="16210" y="14400"/>
                  </a:lnTo>
                  <a:arcTo wR="8344" hR="21600" stAng="-2548060" swAng="-2607908"/>
                  <a:lnTo>
                    <a:pt x="9854" y="357"/>
                  </a:lnTo>
                  <a:arcTo wR="8344" hR="21600" stAng="-5644032" swAng="-5155968"/>
                  <a:close/>
                </a:path>
                <a:path fill="darkenLess" w="21600" h="21600">
                  <a:moveTo>
                    <a:pt x="0" y="21600"/>
                  </a:moveTo>
                  <a:arcTo wR="8344" hR="21600" stAng="10800000" swAng="5400000"/>
                  <a:lnTo>
                    <a:pt x="8344" y="0"/>
                  </a:lnTo>
                  <a:arcTo wR="8344" hR="21600" stAng="-5400000" swAng="244032"/>
                  <a:lnTo>
                    <a:pt x="9854" y="357"/>
                  </a:lnTo>
                  <a:arcTo wR="8344" hR="21600" stAng="-5644032" swAng="-5155968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331680" y="1828800"/>
              <a:ext cx="195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raduction en hex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6313320" y="2362320"/>
            <a:ext cx="24498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 0x03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#A=3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 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 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 0x04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#B=4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 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 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5 0x01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#C=A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5 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 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46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46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66" name=""/>
              <p:cNvCxnSpPr>
                <a:stCxn id="1464" idx="0"/>
                <a:endCxn id="146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46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46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46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2" name=""/>
            <p:cNvCxnSpPr>
              <a:stCxn id="1470" idx="0"/>
              <a:endCxn id="147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7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47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47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8" name=""/>
            <p:cNvCxnSpPr>
              <a:stCxn id="1476" idx="0"/>
              <a:endCxn id="147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7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48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48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4" name=""/>
            <p:cNvCxnSpPr>
              <a:stCxn id="1482" idx="0"/>
              <a:endCxn id="148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8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48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48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0" name=""/>
            <p:cNvCxnSpPr>
              <a:stCxn id="1488" idx="0"/>
              <a:endCxn id="148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9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49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49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6" name=""/>
            <p:cNvCxnSpPr>
              <a:stCxn id="1494" idx="0"/>
              <a:endCxn id="149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9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49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49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2" name=""/>
            <p:cNvCxnSpPr>
              <a:stCxn id="1500" idx="0"/>
              <a:endCxn id="150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0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50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50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8" name=""/>
            <p:cNvCxnSpPr>
              <a:stCxn id="1506" idx="0"/>
              <a:endCxn id="150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0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51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51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51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15" name=""/>
              <p:cNvCxnSpPr>
                <a:stCxn id="1514" idx="0"/>
                <a:endCxn id="151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51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51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8" name=""/>
            <p:cNvCxnSpPr>
              <a:stCxn id="1455" idx="2"/>
              <a:endCxn id="144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52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9" name=""/>
            <p:cNvCxnSpPr>
              <a:stCxn id="1528" idx="0"/>
              <a:endCxn id="152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3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53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3" name=""/>
            <p:cNvCxnSpPr>
              <a:stCxn id="1532" idx="0"/>
              <a:endCxn id="153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3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53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7" name=""/>
            <p:cNvCxnSpPr>
              <a:stCxn id="1536" idx="0"/>
              <a:endCxn id="153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3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53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1" name=""/>
            <p:cNvCxnSpPr>
              <a:stCxn id="1540" idx="0"/>
              <a:endCxn id="153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4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54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4" idx="0"/>
              <a:endCxn id="154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4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54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9" name=""/>
            <p:cNvCxnSpPr>
              <a:stCxn id="1548" idx="0"/>
              <a:endCxn id="154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55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3" name=""/>
            <p:cNvCxnSpPr>
              <a:stCxn id="1552" idx="0"/>
              <a:endCxn id="155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55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7" name=""/>
            <p:cNvCxnSpPr>
              <a:stCxn id="1556" idx="0"/>
              <a:endCxn id="155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55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1" name=""/>
            <p:cNvCxnSpPr>
              <a:stCxn id="1560" idx="0"/>
              <a:endCxn id="155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56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57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57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58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58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58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0"/>
                <a:endCxn id="156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58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6" name=""/>
          <p:cNvCxnSpPr>
            <a:stCxn id="1458" idx="0"/>
            <a:endCxn id="156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8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588" name=""/>
            <p:cNvCxnSpPr>
              <a:stCxn id="1589" idx="0"/>
              <a:endCxn id="156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59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59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6" name=""/>
          <p:cNvCxnSpPr>
            <a:stCxn id="1563" idx="0"/>
            <a:endCxn id="1595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7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610" name=""/>
            <p:cNvCxnSpPr>
              <a:stCxn id="1460" idx="2"/>
              <a:endCxn id="145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614" name=""/>
            <p:cNvCxnSpPr>
              <a:stCxn id="1575" idx="3"/>
              <a:endCxn id="156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618" name=""/>
            <p:cNvCxnSpPr>
              <a:stCxn id="1593" idx="0"/>
              <a:endCxn id="156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622" name=""/>
            <p:cNvCxnSpPr>
              <a:stCxn id="1454" idx="2"/>
              <a:endCxn id="145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626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28" name=""/>
              <p:cNvCxnSpPr>
                <a:stCxn id="1627" idx="0"/>
                <a:endCxn id="1629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3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633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36" name=""/>
              <p:cNvCxnSpPr>
                <a:stCxn id="1635" idx="0"/>
                <a:endCxn id="1634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3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640" name=""/>
            <p:cNvCxnSpPr>
              <a:stCxn id="1452" idx="2"/>
              <a:endCxn id="156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652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962520" y="2209680"/>
            <a:ext cx="5181480" cy="2286000"/>
          </a:xfrm>
          <a:prstGeom prst="wedgeEllipseCallout">
            <a:avLst>
              <a:gd name="adj1" fmla="val -69699"/>
              <a:gd name="adj2" fmla="val 6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 unique registre permetta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à l’ALU de faire des opé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inaires (Ex + ,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 Registr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0224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2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69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4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69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97" name=""/>
              <p:cNvCxnSpPr>
                <a:stCxn id="1695" idx="0"/>
                <a:endCxn id="1696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698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69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70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3" name=""/>
            <p:cNvCxnSpPr>
              <a:stCxn id="1701" idx="0"/>
              <a:endCxn id="1702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04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70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70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9" name=""/>
            <p:cNvCxnSpPr>
              <a:stCxn id="1707" idx="0"/>
              <a:endCxn id="1708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10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71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71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5" name=""/>
            <p:cNvCxnSpPr>
              <a:stCxn id="1713" idx="0"/>
              <a:endCxn id="1714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16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71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71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1" name=""/>
            <p:cNvCxnSpPr>
              <a:stCxn id="1719" idx="0"/>
              <a:endCxn id="1720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22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72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72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7" name=""/>
            <p:cNvCxnSpPr>
              <a:stCxn id="1725" idx="0"/>
              <a:endCxn id="1726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28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72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73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3" name=""/>
            <p:cNvCxnSpPr>
              <a:stCxn id="1731" idx="0"/>
              <a:endCxn id="1732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34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73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73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9" name=""/>
            <p:cNvCxnSpPr>
              <a:stCxn id="1737" idx="0"/>
              <a:endCxn id="1738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40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74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74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74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46" name=""/>
              <p:cNvCxnSpPr>
                <a:stCxn id="1745" idx="0"/>
                <a:endCxn id="1741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747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74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9" name=""/>
            <p:cNvCxnSpPr>
              <a:stCxn id="1686" idx="2"/>
              <a:endCxn id="1671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5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75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0" name=""/>
            <p:cNvCxnSpPr>
              <a:stCxn id="1759" idx="0"/>
              <a:endCxn id="1758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61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76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4" name=""/>
            <p:cNvCxnSpPr>
              <a:stCxn id="1763" idx="0"/>
              <a:endCxn id="1762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65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76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8" name=""/>
            <p:cNvCxnSpPr>
              <a:stCxn id="1767" idx="0"/>
              <a:endCxn id="1766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69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77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2" name=""/>
            <p:cNvCxnSpPr>
              <a:stCxn id="1771" idx="0"/>
              <a:endCxn id="1770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73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77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6" name=""/>
            <p:cNvCxnSpPr>
              <a:stCxn id="1775" idx="0"/>
              <a:endCxn id="1774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77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77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0" name=""/>
            <p:cNvCxnSpPr>
              <a:stCxn id="1779" idx="0"/>
              <a:endCxn id="1778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81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78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4" name=""/>
            <p:cNvCxnSpPr>
              <a:stCxn id="1783" idx="0"/>
              <a:endCxn id="1782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85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78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8" name=""/>
            <p:cNvCxnSpPr>
              <a:stCxn id="1787" idx="0"/>
              <a:endCxn id="1786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89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79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2" name=""/>
            <p:cNvCxnSpPr>
              <a:stCxn id="1791" idx="0"/>
              <a:endCxn id="1790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79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0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0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1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1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813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81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15" name=""/>
              <p:cNvCxnSpPr>
                <a:stCxn id="1814" idx="0"/>
                <a:endCxn id="1796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1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17" name=""/>
          <p:cNvCxnSpPr>
            <a:stCxn id="1689" idx="0"/>
            <a:endCxn id="1798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18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819" name=""/>
            <p:cNvCxnSpPr>
              <a:stCxn id="1820" idx="0"/>
              <a:endCxn id="1794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2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82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7" name=""/>
          <p:cNvCxnSpPr>
            <a:stCxn id="1794" idx="0"/>
            <a:endCxn id="1826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605320" y="5448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841" name=""/>
            <p:cNvCxnSpPr>
              <a:stCxn id="1691" idx="2"/>
              <a:endCxn id="1687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845" name=""/>
            <p:cNvCxnSpPr>
              <a:stCxn id="1806" idx="3"/>
              <a:endCxn id="1793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849" name=""/>
            <p:cNvCxnSpPr>
              <a:stCxn id="1824" idx="0"/>
              <a:endCxn id="1794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853" name=""/>
            <p:cNvCxnSpPr>
              <a:stCxn id="1685" idx="2"/>
              <a:endCxn id="1689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85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85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9" name=""/>
              <p:cNvCxnSpPr>
                <a:stCxn id="1858" idx="0"/>
                <a:endCxn id="186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86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86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67" name=""/>
              <p:cNvCxnSpPr>
                <a:stCxn id="1866" idx="0"/>
                <a:endCxn id="186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6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871" name=""/>
            <p:cNvCxnSpPr>
              <a:stCxn id="1683" idx="2"/>
              <a:endCxn id="1794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7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883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962520" y="2362320"/>
            <a:ext cx="3200400" cy="1752480"/>
          </a:xfrm>
          <a:prstGeom prst="wedgeEllipseCallout">
            <a:avLst>
              <a:gd name="adj1" fmla="val -75199"/>
              <a:gd name="adj2" fmla="val 32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e qui sim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ile de donn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828800" y="2514600"/>
            <a:ext cx="1295280" cy="2133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36:41Z</dcterms:created>
  <dc:creator>Chateigner</dc:creator>
  <dc:description/>
  <dc:language>en-US</dc:language>
  <cp:lastModifiedBy>Chateigner</cp:lastModifiedBy>
  <dcterms:modified xsi:type="dcterms:W3CDTF">2002-01-26T14:39:06Z</dcterms:modified>
  <cp:revision>2</cp:revision>
  <dc:subject/>
  <dc:title>Les Registres </dc:title>
</cp:coreProperties>
</file>