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42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041120" y="858600"/>
            <a:ext cx="455940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864720" y="4664160"/>
            <a:ext cx="49086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32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38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44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3765600" y="2844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765600" y="9298080"/>
            <a:ext cx="290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-27000" y="929808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-27000" y="28440"/>
            <a:ext cx="29005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0" name="PlaceHolder 2"/>
          <p:cNvSpPr>
            <a:spLocks noGrp="1"/>
          </p:cNvSpPr>
          <p:nvPr>
            <p:ph type="body"/>
          </p:nvPr>
        </p:nvSpPr>
        <p:spPr>
          <a:xfrm>
            <a:off x="883800" y="46432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280" y="4012200"/>
            <a:ext cx="88394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280" y="401220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800" y="401220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1000" y="106668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0080" y="106668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280" y="401220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1000" y="401220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0080" y="4012200"/>
            <a:ext cx="284616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75960"/>
            <a:ext cx="91425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280" y="401220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800" y="401220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012200"/>
            <a:ext cx="88394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9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9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20" y="685800"/>
            <a:ext cx="912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22960" y="6546960"/>
            <a:ext cx="1278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tlpipeline</a:t>
            </a:r>
            <a:fld id="{4DF5D695-6EE3-4337-AC8D-1641AF7182C0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 contrôle pipelin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spécifier le contrôle nous avons qu’à positionner les valeurs de contrôle à chacun des é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positionner le contrôle de chaque étage les registres de pipeline sont étend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1240" y="4533840"/>
            <a:ext cx="320760" cy="876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51240" y="3657600"/>
            <a:ext cx="320760" cy="876240"/>
          </a:xfrm>
          <a:prstGeom prst="rect">
            <a:avLst/>
          </a:prstGeom>
          <a:solidFill>
            <a:srgbClr val="ff0033"/>
          </a:solidFill>
          <a:ln w="255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6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598840" y="3699000"/>
            <a:ext cx="680760" cy="118404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22120" y="15336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998640" y="171936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982800" y="17319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984240" y="2406600"/>
            <a:ext cx="590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574640" y="24242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494000" y="29383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362560" y="43783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65920" y="4373640"/>
            <a:ext cx="136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853400" y="4780080"/>
            <a:ext cx="6012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64480" y="5195880"/>
            <a:ext cx="190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7815240" y="4749480"/>
            <a:ext cx="0" cy="47628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8163000" y="4559400"/>
            <a:ext cx="27000" cy="144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224920" y="4573440"/>
            <a:ext cx="4680" cy="216396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777080" y="5994360"/>
            <a:ext cx="31680" cy="180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835760" y="6026040"/>
            <a:ext cx="0" cy="56052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2298600" y="4398480"/>
            <a:ext cx="0" cy="224820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325600" y="4433760"/>
            <a:ext cx="33012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567160" y="4703760"/>
            <a:ext cx="8064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527200" y="4743360"/>
            <a:ext cx="0" cy="199872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346480" y="6620040"/>
            <a:ext cx="5452920" cy="144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2498760" y="6773760"/>
            <a:ext cx="575784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428920" y="62578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424240" y="58341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2413080" y="3866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192400" y="29304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427120" y="386064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2424240" y="4140360"/>
            <a:ext cx="236520" cy="1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212920" y="4282920"/>
            <a:ext cx="18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736800" y="434808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736800" y="3992400"/>
            <a:ext cx="1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424240" y="53863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660840" y="53769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49120" y="39546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79600" y="39513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677880" y="263844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81120" y="26557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993600" y="32227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332240" y="4757760"/>
            <a:ext cx="648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643280" y="45482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143240" y="39830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586400" y="601992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959440" y="60148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857240" y="42894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323160" y="518796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8120" y="376380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70400" y="378936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934920" y="414972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219120" y="387504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223680" y="404172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779880" y="418140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950240" y="4264200"/>
            <a:ext cx="177840" cy="609480"/>
          </a:xfrm>
          <a:custGeom>
            <a:avLst/>
            <a:gdLst>
              <a:gd name="textAreaLeft" fmla="*/ 6480 w 177840"/>
              <a:gd name="textAreaRight" fmla="*/ 171360 w 177840"/>
              <a:gd name="textAreaTop" fmla="*/ 6480 h 609480"/>
              <a:gd name="textAreaBottom" fmla="*/ 603000 h 609480"/>
            </a:gdLst>
            <a:ahLst/>
            <a:rect l="textAreaLeft" t="textAreaTop" r="textAreaRight" b="textAreaBottom"/>
            <a:pathLst>
              <a:path w="21600" h="73920">
                <a:moveTo>
                  <a:pt x="2695" y="0"/>
                </a:moveTo>
                <a:arcTo wR="2695" hR="2695" stAng="16200000" swAng="-5400000"/>
                <a:lnTo>
                  <a:pt x="0" y="71225"/>
                </a:lnTo>
                <a:arcTo wR="2695" hR="2695" stAng="10800000" swAng="-5400000"/>
                <a:lnTo>
                  <a:pt x="18905" y="73920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227160" y="1544760"/>
            <a:ext cx="0" cy="24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671960" y="1014480"/>
            <a:ext cx="150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riture Résul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978600" y="781200"/>
            <a:ext cx="216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sub $11,$2,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1333440" y="1290600"/>
            <a:ext cx="0" cy="333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349280" y="1301760"/>
            <a:ext cx="5261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622920" y="1317600"/>
            <a:ext cx="0" cy="223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6492600" y="3562200"/>
            <a:ext cx="1429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H="1">
            <a:off x="6073920" y="3492360"/>
            <a:ext cx="149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6083280" y="2357280"/>
            <a:ext cx="0" cy="11462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>
            <a:off x="5927760" y="2368440"/>
            <a:ext cx="162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959440" y="2610000"/>
            <a:ext cx="8161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788160" y="2625840"/>
            <a:ext cx="0" cy="1355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6067440" y="365112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76800" y="3666960"/>
            <a:ext cx="0" cy="441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H="1">
            <a:off x="5934240" y="412128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135320" y="2201760"/>
            <a:ext cx="14097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557680" y="2212920"/>
            <a:ext cx="0" cy="16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583240" y="2387520"/>
            <a:ext cx="1522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130640" y="2400480"/>
            <a:ext cx="13636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506920" y="2411280"/>
            <a:ext cx="0" cy="4032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4506480" y="6451560"/>
            <a:ext cx="1009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516560" y="6305400"/>
            <a:ext cx="0" cy="16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851360" y="5751360"/>
            <a:ext cx="0" cy="149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867200" y="5913360"/>
            <a:ext cx="568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5448240" y="2495520"/>
            <a:ext cx="0" cy="3425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4105440" y="2506680"/>
            <a:ext cx="132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135320" y="2637000"/>
            <a:ext cx="11653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313240" y="2657520"/>
            <a:ext cx="0" cy="10335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4545000" y="3703680"/>
            <a:ext cx="7761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554360" y="3724200"/>
            <a:ext cx="0" cy="5000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175360" y="4651200"/>
            <a:ext cx="0" cy="7034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5032080" y="5367240"/>
            <a:ext cx="128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3220920" y="1468080"/>
            <a:ext cx="0" cy="2282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668760" y="1884240"/>
            <a:ext cx="243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735360" y="2197080"/>
            <a:ext cx="1699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3665520" y="2519280"/>
            <a:ext cx="250920" cy="14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255840" y="1498680"/>
            <a:ext cx="454824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835760" y="1533600"/>
            <a:ext cx="0" cy="8478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H="1" flipV="1">
            <a:off x="7713360" y="2376360"/>
            <a:ext cx="152280" cy="669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7399440" y="2367000"/>
            <a:ext cx="101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7378560" y="2160360"/>
            <a:ext cx="0" cy="212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 flipV="1">
            <a:off x="5938560" y="2157480"/>
            <a:ext cx="1455480" cy="252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637240" y="2097000"/>
            <a:ext cx="1141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5608800" y="1866600"/>
            <a:ext cx="0" cy="2300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4097160" y="1862280"/>
            <a:ext cx="15242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773840" y="2557440"/>
            <a:ext cx="2286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8034480" y="2592360"/>
            <a:ext cx="0" cy="1625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526080" y="2494080"/>
            <a:ext cx="847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386480" y="2513160"/>
            <a:ext cx="0" cy="2876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6805440" y="5402160"/>
            <a:ext cx="594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6815160" y="5106600"/>
            <a:ext cx="0" cy="306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375160" y="4140360"/>
            <a:ext cx="3654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46560" y="1784520"/>
            <a:ext cx="355320" cy="876240"/>
          </a:xfrm>
          <a:prstGeom prst="ellipse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30480" y="1746360"/>
            <a:ext cx="165240" cy="92700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759280" y="2038320"/>
            <a:ext cx="165240" cy="62244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518240" y="2336760"/>
            <a:ext cx="203400" cy="30492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952800" y="2044800"/>
            <a:ext cx="1238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952800" y="2362320"/>
            <a:ext cx="136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781600" y="2349360"/>
            <a:ext cx="136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229440" y="3448080"/>
            <a:ext cx="279360" cy="241200"/>
          </a:xfrm>
          <a:custGeom>
            <a:avLst/>
            <a:gdLst>
              <a:gd name="textAreaLeft" fmla="*/ 0 w 279360"/>
              <a:gd name="textAreaRight" fmla="*/ 279720 w 279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654440" y="5010120"/>
            <a:ext cx="381240" cy="723960"/>
          </a:xfrm>
          <a:prstGeom prst="ellipse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5938920" y="2494080"/>
            <a:ext cx="581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742080" y="5429160"/>
            <a:ext cx="608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L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140000">
            <a:off x="7765920" y="3617280"/>
            <a:ext cx="81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Memvers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rot="16140000">
            <a:off x="6529680" y="3496680"/>
            <a:ext cx="812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504320" y="6243480"/>
            <a:ext cx="567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0033"/>
                </a:solidFill>
                <a:latin typeface="Geneva"/>
              </a:rPr>
              <a:t>RegD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2752200" y="3299760"/>
            <a:ext cx="640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859640" y="3540240"/>
            <a:ext cx="522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UALS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014880" y="3238560"/>
            <a:ext cx="460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Bra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541320" y="1736640"/>
            <a:ext cx="486360" cy="10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214880" y="1695600"/>
            <a:ext cx="41004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018120" y="1962000"/>
            <a:ext cx="3337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7833960" y="2216160"/>
            <a:ext cx="257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2425680" y="2189160"/>
            <a:ext cx="0" cy="16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436840" y="2198520"/>
            <a:ext cx="85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770600" y="5645160"/>
            <a:ext cx="48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131920" y="3333600"/>
            <a:ext cx="4863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3051000" y="34988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973240" y="3476520"/>
            <a:ext cx="6685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3571920" y="35067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30360" y="1330200"/>
            <a:ext cx="122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H="1">
            <a:off x="1861920" y="1344600"/>
            <a:ext cx="2988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1747800" y="169056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384200" y="1488960"/>
            <a:ext cx="20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351080" y="15033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392120" y="2185920"/>
            <a:ext cx="5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981080" y="220176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862280" y="27097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481040" y="19065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460520" y="191772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484280" y="2062080"/>
            <a:ext cx="58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2089080" y="1170000"/>
            <a:ext cx="0" cy="89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2109960" y="1158480"/>
            <a:ext cx="471312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H="1">
            <a:off x="6827400" y="1192320"/>
            <a:ext cx="25560" cy="17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H="1" flipV="1">
            <a:off x="6319800" y="2890800"/>
            <a:ext cx="479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586480" y="29606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730840" y="41497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315120" y="414504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6502320" y="39430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518160" y="39546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502320" y="41655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518160" y="43196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396120" y="41655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6429240" y="4979880"/>
            <a:ext cx="145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711920" y="41324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8101080" y="41292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8202600" y="45514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8113680" y="49672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8183520" y="45399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8512200" y="43308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8597880" y="4359240"/>
            <a:ext cx="0" cy="21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8126280" y="57657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8205840" y="5778360"/>
            <a:ext cx="1440" cy="5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2666880" y="41889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674800" y="42051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2994120" y="4463640"/>
            <a:ext cx="3960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979720" y="44956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2693880" y="6370560"/>
            <a:ext cx="549936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2970360" y="6545160"/>
            <a:ext cx="563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797200" y="60292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2792520" y="56055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2781360" y="1984320"/>
            <a:ext cx="0" cy="406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792520" y="1995480"/>
            <a:ext cx="85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560680" y="27018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2795760" y="3616200"/>
            <a:ext cx="2379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2790720" y="3908520"/>
            <a:ext cx="24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573280" y="4056120"/>
            <a:ext cx="1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105440" y="4119480"/>
            <a:ext cx="16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105440" y="376380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792520" y="51577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029120" y="51483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17400" y="1346040"/>
            <a:ext cx="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42960" y="372600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947880" y="37227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1046160" y="2416320"/>
            <a:ext cx="0" cy="131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1049400" y="24271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362240" y="299412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511520" y="26827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913280" y="32464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707000" y="3516480"/>
            <a:ext cx="0" cy="16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4506840" y="5145120"/>
            <a:ext cx="4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600440" y="46911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506840" y="41101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722840" y="45356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011560" y="43196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4584600" y="41054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511520" y="37544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6327720" y="46767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511520" y="55976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524480" y="60166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4954680" y="5775480"/>
            <a:ext cx="11570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327720" y="57862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225520" y="40608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762280" y="361476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757600" y="390204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747880" y="404172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760840" y="514188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551480" y="409572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375240" y="4129200"/>
            <a:ext cx="5112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2752560" y="5591160"/>
            <a:ext cx="5112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687920" y="451476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819680" y="4029120"/>
            <a:ext cx="165240" cy="596880"/>
          </a:xfrm>
          <a:custGeom>
            <a:avLst/>
            <a:gdLst>
              <a:gd name="textAreaLeft" fmla="*/ 5760 w 165240"/>
              <a:gd name="textAreaRight" fmla="*/ 159480 w 16524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7901">
                <a:moveTo>
                  <a:pt x="2695" y="0"/>
                </a:moveTo>
                <a:arcTo wR="2695" hR="2695" stAng="16200000" swAng="-5400000"/>
                <a:lnTo>
                  <a:pt x="0" y="75206"/>
                </a:lnTo>
                <a:arcTo wR="2695" hR="2695" stAng="10800000" swAng="-5400000"/>
                <a:lnTo>
                  <a:pt x="18905" y="7790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768920" y="5494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643200" y="47656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3697560" y="496584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1598760" y="14050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68240" y="34876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722880" y="354168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187280" y="35211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144800" y="356724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309680" y="3927600"/>
            <a:ext cx="717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593880" y="365292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533840" y="30225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 rot="5400000">
            <a:off x="4805280" y="2684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 rot="5400000">
            <a:off x="4944960" y="38145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 rot="5400000">
            <a:off x="1214280" y="25912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667560" y="37908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598440" y="381960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7154640" y="395928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325000" y="4041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355840" y="25081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311720" y="24829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127920" y="2457360"/>
            <a:ext cx="17748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908840" y="24400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049560" y="3513240"/>
            <a:ext cx="1041480" cy="108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667560" y="37591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7175520" y="37591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121440" y="24382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222960" y="24382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899480" y="24382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8001000" y="24382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349360" y="25020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451240" y="25020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292640" y="24764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394160" y="24764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060720" y="35053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568680" y="35053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V="1">
            <a:off x="1701720" y="1074600"/>
            <a:ext cx="0" cy="3333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717560" y="1085760"/>
            <a:ext cx="52610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991200" y="1101600"/>
            <a:ext cx="0" cy="22320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H="1">
            <a:off x="6860880" y="3346560"/>
            <a:ext cx="1429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>
            <a:off x="6442200" y="3276720"/>
            <a:ext cx="1490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6451560" y="2141640"/>
            <a:ext cx="0" cy="11462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6296040" y="2152800"/>
            <a:ext cx="1620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327720" y="2394000"/>
            <a:ext cx="8161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7156440" y="2409840"/>
            <a:ext cx="0" cy="1355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H="1">
            <a:off x="6435720" y="3435480"/>
            <a:ext cx="1555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445080" y="3451320"/>
            <a:ext cx="0" cy="4413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6302520" y="3905280"/>
            <a:ext cx="1555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503600" y="1986120"/>
            <a:ext cx="140976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925960" y="1996920"/>
            <a:ext cx="0" cy="1620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951520" y="2171880"/>
            <a:ext cx="1522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8920" y="2184480"/>
            <a:ext cx="13636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875200" y="2195640"/>
            <a:ext cx="0" cy="40320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H="1">
            <a:off x="4874760" y="6235560"/>
            <a:ext cx="10098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V="1">
            <a:off x="4884840" y="6089400"/>
            <a:ext cx="0" cy="1616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219640" y="5535720"/>
            <a:ext cx="0" cy="1490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235480" y="5697360"/>
            <a:ext cx="5684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5816520" y="2279160"/>
            <a:ext cx="0" cy="342612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H="1">
            <a:off x="4473720" y="2290680"/>
            <a:ext cx="13255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503600" y="2421000"/>
            <a:ext cx="11653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681520" y="2441520"/>
            <a:ext cx="0" cy="10335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H="1">
            <a:off x="4913280" y="3487680"/>
            <a:ext cx="77616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923000" y="3508200"/>
            <a:ext cx="0" cy="5004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543640" y="4435560"/>
            <a:ext cx="0" cy="70308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5400360" y="5151600"/>
            <a:ext cx="1285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 flipV="1">
            <a:off x="3589200" y="1271520"/>
            <a:ext cx="0" cy="22449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037040" y="1668600"/>
            <a:ext cx="2430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4116240" y="1976400"/>
            <a:ext cx="155880" cy="23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4035600" y="2293920"/>
            <a:ext cx="230040" cy="23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605040" y="1282680"/>
            <a:ext cx="45864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8204040" y="1298520"/>
            <a:ext cx="0" cy="8859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H="1" flipV="1">
            <a:off x="8100720" y="2179440"/>
            <a:ext cx="114120" cy="284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767720" y="2151000"/>
            <a:ext cx="1015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7746840" y="1944360"/>
            <a:ext cx="0" cy="212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 flipV="1">
            <a:off x="6307200" y="1941120"/>
            <a:ext cx="1455840" cy="255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005520" y="1881360"/>
            <a:ext cx="1141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5977080" y="1650960"/>
            <a:ext cx="0" cy="2304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4465440" y="1646280"/>
            <a:ext cx="15238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8123400" y="2341440"/>
            <a:ext cx="2664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8402760" y="2357280"/>
            <a:ext cx="0" cy="166392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894360" y="2278080"/>
            <a:ext cx="8478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754760" y="2297160"/>
            <a:ext cx="0" cy="28764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H="1">
            <a:off x="7173720" y="5186520"/>
            <a:ext cx="5936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7183440" y="4890600"/>
            <a:ext cx="0" cy="3063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743440" y="3924360"/>
            <a:ext cx="3654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714840" y="1568520"/>
            <a:ext cx="355680" cy="876240"/>
          </a:xfrm>
          <a:prstGeom prst="ellipse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299120" y="1530360"/>
            <a:ext cx="164880" cy="927000"/>
          </a:xfrm>
          <a:prstGeom prst="rect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27920" y="1822320"/>
            <a:ext cx="164880" cy="622440"/>
          </a:xfrm>
          <a:prstGeom prst="rect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893000" y="2127240"/>
            <a:ext cx="190440" cy="291960"/>
          </a:xfrm>
          <a:prstGeom prst="rect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321080" y="1828800"/>
            <a:ext cx="1238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321080" y="2146320"/>
            <a:ext cx="1368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149880" y="2133720"/>
            <a:ext cx="1368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597720" y="3232080"/>
            <a:ext cx="279360" cy="241200"/>
          </a:xfrm>
          <a:custGeom>
            <a:avLst/>
            <a:gdLst>
              <a:gd name="textAreaLeft" fmla="*/ 0 w 279360"/>
              <a:gd name="textAreaRight" fmla="*/ 279720 w 279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022720" y="4794120"/>
            <a:ext cx="381240" cy="723960"/>
          </a:xfrm>
          <a:prstGeom prst="ellipse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H="1">
            <a:off x="6307200" y="2278080"/>
            <a:ext cx="5810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110360" y="5213520"/>
            <a:ext cx="608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L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rot="16140000">
            <a:off x="8134200" y="3401280"/>
            <a:ext cx="81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Memvers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rot="16140000">
            <a:off x="6897960" y="3280680"/>
            <a:ext cx="812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Ecr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872600" y="6027840"/>
            <a:ext cx="567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ccccff"/>
                </a:solidFill>
                <a:latin typeface="Geneva"/>
              </a:rPr>
              <a:t>RegD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rot="16200000">
            <a:off x="3120480" y="3083760"/>
            <a:ext cx="640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Ecrire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227920" y="3324240"/>
            <a:ext cx="522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UALS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383160" y="3022560"/>
            <a:ext cx="460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Bra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004200" y="495936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I(15-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994480" y="5442120"/>
            <a:ext cx="542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I(20-1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976840" y="5834160"/>
            <a:ext cx="542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I(15-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 lignes de contrôl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05640" y="1523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80040" y="3233880"/>
            <a:ext cx="1063800" cy="0"/>
          </a:xfrm>
          <a:prstGeom prst="line">
            <a:avLst/>
          </a:prstGeom>
          <a:ln w="12600">
            <a:solidFill>
              <a:srgbClr val="ff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18080" y="2651040"/>
            <a:ext cx="1828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4160" y="2662200"/>
            <a:ext cx="0" cy="2779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94400" y="2957400"/>
            <a:ext cx="199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11600" y="2976480"/>
            <a:ext cx="1501920" cy="0"/>
          </a:xfrm>
          <a:prstGeom prst="line">
            <a:avLst/>
          </a:prstGeom>
          <a:ln w="12600">
            <a:solidFill>
              <a:srgbClr val="ff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682800" y="3149640"/>
            <a:ext cx="1276200" cy="1440"/>
          </a:xfrm>
          <a:prstGeom prst="line">
            <a:avLst/>
          </a:prstGeom>
          <a:ln w="12600">
            <a:solidFill>
              <a:srgbClr val="ff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18080" y="3365640"/>
            <a:ext cx="1025280" cy="0"/>
          </a:xfrm>
          <a:prstGeom prst="line">
            <a:avLst/>
          </a:prstGeom>
          <a:ln w="12600">
            <a:solidFill>
              <a:srgbClr val="ff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2920" y="2130480"/>
            <a:ext cx="317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98960" y="2643120"/>
            <a:ext cx="2253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57560" y="3176640"/>
            <a:ext cx="284040" cy="468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8383320" y="2972880"/>
            <a:ext cx="677880" cy="16200"/>
          </a:xfrm>
          <a:prstGeom prst="line">
            <a:avLst/>
          </a:prstGeom>
          <a:ln w="12600">
            <a:solidFill>
              <a:srgbClr val="ff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45560" y="2922480"/>
            <a:ext cx="136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921800" y="2585520"/>
            <a:ext cx="0" cy="34308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62440" y="2478240"/>
            <a:ext cx="152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627520" y="2100240"/>
            <a:ext cx="0" cy="3715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71640" y="2092320"/>
            <a:ext cx="19717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07440" y="3236760"/>
            <a:ext cx="349200" cy="0"/>
          </a:xfrm>
          <a:prstGeom prst="line">
            <a:avLst/>
          </a:prstGeom>
          <a:ln w="12600">
            <a:solidFill>
              <a:srgbClr val="ff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78600" y="3019320"/>
            <a:ext cx="569880" cy="3240"/>
          </a:xfrm>
          <a:prstGeom prst="line">
            <a:avLst/>
          </a:prstGeom>
          <a:ln w="12600">
            <a:solidFill>
              <a:srgbClr val="ff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97120" y="1959120"/>
            <a:ext cx="463680" cy="1450800"/>
          </a:xfrm>
          <a:prstGeom prst="ellipse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54560" y="1897200"/>
            <a:ext cx="215640" cy="153324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33"/>
                </a:solidFill>
                <a:latin typeface="Genev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23000" y="2378160"/>
            <a:ext cx="217440" cy="103176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09000" y="2879640"/>
            <a:ext cx="250920" cy="48888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81560" y="2390760"/>
            <a:ext cx="1648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81560" y="2916360"/>
            <a:ext cx="182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50000" y="2894040"/>
            <a:ext cx="182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057720" y="3132000"/>
            <a:ext cx="749160" cy="0"/>
          </a:xfrm>
          <a:prstGeom prst="line">
            <a:avLst/>
          </a:prstGeom>
          <a:ln w="12600">
            <a:solidFill>
              <a:srgbClr val="ff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17760" y="2706840"/>
            <a:ext cx="11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82000" y="3429000"/>
            <a:ext cx="320760" cy="876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640" y="4356000"/>
            <a:ext cx="94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I/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92120" y="4440240"/>
            <a:ext cx="94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/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37160" y="4410000"/>
            <a:ext cx="1095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/M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97600" y="4467240"/>
            <a:ext cx="1095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M/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78360" y="3429000"/>
            <a:ext cx="320760" cy="876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98760" y="3454560"/>
            <a:ext cx="320760" cy="876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73240" y="3429000"/>
            <a:ext cx="320760" cy="876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6084720" y="2595600"/>
            <a:ext cx="1820880" cy="14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90440" y="900000"/>
            <a:ext cx="3090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 : Utilisés à l’étag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:Utilisés à l’étag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w $10,9($1) sub $11,$2,$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51000" y="34988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3240" y="3476520"/>
            <a:ext cx="6685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71920" y="35067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0360" y="1330200"/>
            <a:ext cx="122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861920" y="1344600"/>
            <a:ext cx="2988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747800" y="169056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84200" y="1488960"/>
            <a:ext cx="20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51080" y="15033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92120" y="2185920"/>
            <a:ext cx="5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220176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62280" y="27097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81040" y="19065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60520" y="191772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84280" y="2062080"/>
            <a:ext cx="58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089080" y="1170000"/>
            <a:ext cx="0" cy="89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09960" y="1158480"/>
            <a:ext cx="471312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827400" y="1192320"/>
            <a:ext cx="25560" cy="17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319800" y="2890800"/>
            <a:ext cx="479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86480" y="29606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30840" y="41497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15120" y="414504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502320" y="39430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18160" y="39546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02320" y="41655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18160" y="43196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96120" y="41655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29240" y="4979880"/>
            <a:ext cx="145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11920" y="41324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101080" y="41292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02600" y="45514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13680" y="49672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8183520" y="45399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12200" y="43308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597880" y="4359240"/>
            <a:ext cx="0" cy="21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26280" y="57657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05840" y="5778360"/>
            <a:ext cx="1440" cy="5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666880" y="41889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74800" y="42051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994120" y="4463640"/>
            <a:ext cx="3960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9720" y="44956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693880" y="6370560"/>
            <a:ext cx="549936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970360" y="6545160"/>
            <a:ext cx="563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97200" y="60292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92520" y="56055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781360" y="1984320"/>
            <a:ext cx="0" cy="406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92520" y="1995480"/>
            <a:ext cx="85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60680" y="27018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795760" y="3616200"/>
            <a:ext cx="2379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790720" y="3908520"/>
            <a:ext cx="24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73280" y="4056120"/>
            <a:ext cx="1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05440" y="4119480"/>
            <a:ext cx="16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05440" y="376380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92520" y="51577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29120" y="51483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7400" y="1346040"/>
            <a:ext cx="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2960" y="372600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47880" y="37227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046160" y="2416320"/>
            <a:ext cx="0" cy="131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49400" y="24271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62240" y="299412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11520" y="26827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13280" y="32464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07000" y="3516480"/>
            <a:ext cx="0" cy="16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06840" y="5145120"/>
            <a:ext cx="4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00440" y="46911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06840" y="41101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2840" y="45356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11560" y="43196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584600" y="41054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11520" y="37544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27720" y="46767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11520" y="55976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24480" y="60166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954680" y="5775480"/>
            <a:ext cx="11570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7720" y="57862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25520" y="40608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361476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57600" y="390204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7880" y="404172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60840" y="514188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51480" y="409572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75240" y="4129200"/>
            <a:ext cx="5112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52560" y="5591160"/>
            <a:ext cx="5112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87920" y="4514760"/>
            <a:ext cx="507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19680" y="4029120"/>
            <a:ext cx="165240" cy="596880"/>
          </a:xfrm>
          <a:custGeom>
            <a:avLst/>
            <a:gdLst>
              <a:gd name="textAreaLeft" fmla="*/ 5760 w 165240"/>
              <a:gd name="textAreaRight" fmla="*/ 159480 w 16524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7901">
                <a:moveTo>
                  <a:pt x="2695" y="0"/>
                </a:moveTo>
                <a:arcTo wR="2695" hR="2695" stAng="16200000" swAng="-5400000"/>
                <a:lnTo>
                  <a:pt x="0" y="75206"/>
                </a:lnTo>
                <a:arcTo wR="2695" hR="2695" stAng="10800000" swAng="-5400000"/>
                <a:lnTo>
                  <a:pt x="18905" y="7790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68920" y="5494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43200" y="47656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97560" y="496584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98760" y="14050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8240" y="34876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2880" y="354168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35211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4800" y="356724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09680" y="3927600"/>
            <a:ext cx="717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93880" y="365292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33840" y="30225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 rot="5400000">
            <a:off x="4805280" y="2684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 rot="5400000">
            <a:off x="4944960" y="38145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 rot="5400000">
            <a:off x="1214280" y="25912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67560" y="37908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98440" y="381960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54640" y="395928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25000" y="4041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55840" y="25081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11720" y="24829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27920" y="2457360"/>
            <a:ext cx="17748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908840" y="24400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560" y="3513240"/>
            <a:ext cx="1041480" cy="108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67560" y="37591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75520" y="37591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21440" y="24382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22960" y="24382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99480" y="24382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001000" y="24382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49360" y="25020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51240" y="25020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92640" y="24764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94160" y="24764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60720" y="35053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8680" y="35053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701720" y="1074600"/>
            <a:ext cx="0" cy="3333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17560" y="1085760"/>
            <a:ext cx="52610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91200" y="1101600"/>
            <a:ext cx="0" cy="22320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860880" y="3346560"/>
            <a:ext cx="1429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442200" y="3276720"/>
            <a:ext cx="1490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451560" y="2141640"/>
            <a:ext cx="0" cy="11462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296040" y="2152800"/>
            <a:ext cx="1620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7720" y="2394000"/>
            <a:ext cx="8161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56440" y="2409840"/>
            <a:ext cx="0" cy="1355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435720" y="3435480"/>
            <a:ext cx="1555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3451320"/>
            <a:ext cx="0" cy="4413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302520" y="3905280"/>
            <a:ext cx="1555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03600" y="1986120"/>
            <a:ext cx="140976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25960" y="1996920"/>
            <a:ext cx="0" cy="1620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51520" y="2171880"/>
            <a:ext cx="1522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8920" y="2184480"/>
            <a:ext cx="13636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75200" y="2195640"/>
            <a:ext cx="0" cy="40320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874760" y="6235560"/>
            <a:ext cx="10098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884840" y="6089400"/>
            <a:ext cx="0" cy="1616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19640" y="5535720"/>
            <a:ext cx="0" cy="1490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35480" y="5697360"/>
            <a:ext cx="5684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16520" y="2279160"/>
            <a:ext cx="0" cy="342612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473720" y="2290680"/>
            <a:ext cx="13255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03600" y="2421000"/>
            <a:ext cx="11653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81520" y="2441520"/>
            <a:ext cx="0" cy="10335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913280" y="3487680"/>
            <a:ext cx="77616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23000" y="3508200"/>
            <a:ext cx="0" cy="5004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43640" y="4435560"/>
            <a:ext cx="0" cy="70308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400360" y="5151600"/>
            <a:ext cx="1285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589200" y="1271520"/>
            <a:ext cx="0" cy="22449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7040" y="1668600"/>
            <a:ext cx="2430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116240" y="1976400"/>
            <a:ext cx="155880" cy="23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035600" y="2293920"/>
            <a:ext cx="230040" cy="23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05040" y="1282680"/>
            <a:ext cx="45864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204040" y="1298520"/>
            <a:ext cx="0" cy="8859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8100720" y="2179440"/>
            <a:ext cx="114120" cy="284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67720" y="2151000"/>
            <a:ext cx="1015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746840" y="1944360"/>
            <a:ext cx="0" cy="212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6307200" y="1941120"/>
            <a:ext cx="1455840" cy="255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05520" y="1881360"/>
            <a:ext cx="1141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977080" y="1650960"/>
            <a:ext cx="0" cy="2304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465440" y="1646280"/>
            <a:ext cx="152388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123400" y="2341440"/>
            <a:ext cx="2664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402760" y="2357280"/>
            <a:ext cx="0" cy="166392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94360" y="2278080"/>
            <a:ext cx="8478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54760" y="2297160"/>
            <a:ext cx="0" cy="287640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7173720" y="5186520"/>
            <a:ext cx="5936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183440" y="4890600"/>
            <a:ext cx="0" cy="3063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43440" y="3924360"/>
            <a:ext cx="3654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14840" y="1568520"/>
            <a:ext cx="355680" cy="876240"/>
          </a:xfrm>
          <a:prstGeom prst="ellipse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99120" y="1530360"/>
            <a:ext cx="164880" cy="927000"/>
          </a:xfrm>
          <a:prstGeom prst="rect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27920" y="1822320"/>
            <a:ext cx="164880" cy="622440"/>
          </a:xfrm>
          <a:prstGeom prst="rect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893000" y="2127240"/>
            <a:ext cx="190440" cy="291960"/>
          </a:xfrm>
          <a:prstGeom prst="rect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21080" y="1828800"/>
            <a:ext cx="1238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21080" y="2146320"/>
            <a:ext cx="1368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49880" y="2133720"/>
            <a:ext cx="1368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97720" y="3232080"/>
            <a:ext cx="279360" cy="241200"/>
          </a:xfrm>
          <a:custGeom>
            <a:avLst/>
            <a:gdLst>
              <a:gd name="textAreaLeft" fmla="*/ 0 w 279360"/>
              <a:gd name="textAreaRight" fmla="*/ 279720 w 279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22720" y="4794120"/>
            <a:ext cx="381240" cy="723960"/>
          </a:xfrm>
          <a:prstGeom prst="ellipse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307200" y="2278080"/>
            <a:ext cx="58104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10360" y="5213520"/>
            <a:ext cx="608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L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6140000">
            <a:off x="8134200" y="3401280"/>
            <a:ext cx="81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Memvers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6140000">
            <a:off x="6897960" y="3280680"/>
            <a:ext cx="812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Ecr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2600" y="6027840"/>
            <a:ext cx="567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ccccff"/>
                </a:solidFill>
                <a:latin typeface="Geneva"/>
              </a:rPr>
              <a:t>RegD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3120480" y="3083760"/>
            <a:ext cx="640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Ecrire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27920" y="3324240"/>
            <a:ext cx="522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ccff"/>
                </a:solidFill>
                <a:latin typeface="Geneva"/>
              </a:rPr>
              <a:t>UALS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83160" y="3022560"/>
            <a:ext cx="460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cccff"/>
                </a:solidFill>
                <a:latin typeface="Geneva"/>
              </a:rPr>
              <a:t>Bra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04200" y="495936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I(15-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94480" y="5442120"/>
            <a:ext cx="542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I(20-1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76840" y="5834160"/>
            <a:ext cx="542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I(15-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1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98840" y="3699000"/>
            <a:ext cx="6807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1200" y="1533600"/>
            <a:ext cx="12178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17720" y="1719360"/>
            <a:ext cx="169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82800" y="1751040"/>
            <a:ext cx="0" cy="6318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03320" y="2406600"/>
            <a:ext cx="552600" cy="18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2443320"/>
            <a:ext cx="0" cy="453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12720" y="2938320"/>
            <a:ext cx="4366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62560" y="43783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46840" y="437364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143920" y="45594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24920" y="4554360"/>
            <a:ext cx="4680" cy="220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58000" y="59943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35760" y="600696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298600" y="44175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06520" y="44337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48080" y="470376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27200" y="47242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27400" y="6620040"/>
            <a:ext cx="549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517840" y="677376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28920" y="62578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24240" y="58341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413080" y="3866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92400" y="29304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27120" y="386064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424240" y="4140360"/>
            <a:ext cx="236520" cy="1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12920" y="4282920"/>
            <a:ext cx="18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736800" y="434808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36800" y="3992400"/>
            <a:ext cx="1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24240" y="53863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60840" y="53769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8200" y="3954600"/>
            <a:ext cx="889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8320" y="3951360"/>
            <a:ext cx="187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77880" y="2619360"/>
            <a:ext cx="0" cy="1355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00200" y="2655720"/>
            <a:ext cx="4316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12680" y="3222720"/>
            <a:ext cx="1288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38720" y="3792600"/>
            <a:ext cx="0" cy="15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43280" y="45482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43240" y="39830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86400" y="601992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59440" y="60148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76320" y="4289400"/>
            <a:ext cx="856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06960" y="435780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23160" y="518796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8120" y="376380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0400" y="378936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34920" y="414972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19120" y="387504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23680" y="404172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79880" y="418140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56720" y="4270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94040" y="2743200"/>
            <a:ext cx="63360" cy="373392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27160" y="1525680"/>
            <a:ext cx="0" cy="2442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6480" y="1014480"/>
            <a:ext cx="1853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ion 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0" y="7300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lw $10,9($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1338120" y="1274760"/>
            <a:ext cx="0" cy="333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53960" y="1285920"/>
            <a:ext cx="5261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27960" y="1301760"/>
            <a:ext cx="0" cy="223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497280" y="3546360"/>
            <a:ext cx="1429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6078600" y="3476520"/>
            <a:ext cx="149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6087960" y="2341440"/>
            <a:ext cx="0" cy="11462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5932440" y="2352600"/>
            <a:ext cx="162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64120" y="2593800"/>
            <a:ext cx="8161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92840" y="2610000"/>
            <a:ext cx="0" cy="1355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6072120" y="363528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81840" y="3651120"/>
            <a:ext cx="0" cy="441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5938920" y="410544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40360" y="2185920"/>
            <a:ext cx="14094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562720" y="2197080"/>
            <a:ext cx="0" cy="16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87920" y="2371680"/>
            <a:ext cx="152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35320" y="2384280"/>
            <a:ext cx="13636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11960" y="2395440"/>
            <a:ext cx="0" cy="4032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4511160" y="6435720"/>
            <a:ext cx="1009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521240" y="6289560"/>
            <a:ext cx="0" cy="16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56040" y="5735520"/>
            <a:ext cx="0" cy="149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71880" y="5897520"/>
            <a:ext cx="568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452920" y="2479680"/>
            <a:ext cx="0" cy="3425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4110120" y="2490840"/>
            <a:ext cx="132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40360" y="2620800"/>
            <a:ext cx="11649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18280" y="2641680"/>
            <a:ext cx="0" cy="10335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4549320" y="3687840"/>
            <a:ext cx="776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59400" y="3708360"/>
            <a:ext cx="0" cy="5000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80040" y="4635360"/>
            <a:ext cx="0" cy="7034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036760" y="5351400"/>
            <a:ext cx="128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225960" y="1471320"/>
            <a:ext cx="0" cy="2244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673440" y="1868400"/>
            <a:ext cx="243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40040" y="2181240"/>
            <a:ext cx="1699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670200" y="2503440"/>
            <a:ext cx="250920" cy="14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41800" y="1482840"/>
            <a:ext cx="4586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840800" y="1498680"/>
            <a:ext cx="0" cy="885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7714800" y="2395440"/>
            <a:ext cx="136440" cy="14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404120" y="2351160"/>
            <a:ext cx="101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7383600" y="2144880"/>
            <a:ext cx="0" cy="212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5943600" y="2141640"/>
            <a:ext cx="1455840" cy="252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41920" y="2081160"/>
            <a:ext cx="1144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5613480" y="1850760"/>
            <a:ext cx="0" cy="2300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4101840" y="1846440"/>
            <a:ext cx="15238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759800" y="2541600"/>
            <a:ext cx="2667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039160" y="2557440"/>
            <a:ext cx="0" cy="16635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531120" y="2478240"/>
            <a:ext cx="847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391520" y="2496960"/>
            <a:ext cx="0" cy="2876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6810120" y="5386320"/>
            <a:ext cx="593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6819840" y="5090760"/>
            <a:ext cx="0" cy="306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80200" y="4124160"/>
            <a:ext cx="365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1240" y="1768320"/>
            <a:ext cx="355680" cy="876600"/>
          </a:xfrm>
          <a:prstGeom prst="ellipse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Arial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35520" y="1730520"/>
            <a:ext cx="164880" cy="92700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64320" y="2022480"/>
            <a:ext cx="164880" cy="62244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529400" y="2327400"/>
            <a:ext cx="190440" cy="29196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57480" y="2028960"/>
            <a:ext cx="1238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57480" y="2346480"/>
            <a:ext cx="136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86280" y="2333520"/>
            <a:ext cx="136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34120" y="3432240"/>
            <a:ext cx="279360" cy="241200"/>
          </a:xfrm>
          <a:custGeom>
            <a:avLst/>
            <a:gdLst>
              <a:gd name="textAreaLeft" fmla="*/ 0 w 279360"/>
              <a:gd name="textAreaRight" fmla="*/ 279720 w 279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659480" y="4994280"/>
            <a:ext cx="380880" cy="723960"/>
          </a:xfrm>
          <a:prstGeom prst="ellipse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5943600" y="2478240"/>
            <a:ext cx="581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47120" y="5413320"/>
            <a:ext cx="608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L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6140000">
            <a:off x="7770600" y="3601440"/>
            <a:ext cx="81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Memvers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16140000">
            <a:off x="6534720" y="3480480"/>
            <a:ext cx="812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09360" y="6227640"/>
            <a:ext cx="567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0033"/>
                </a:solidFill>
                <a:latin typeface="Geneva"/>
              </a:rPr>
              <a:t>RegD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16200000">
            <a:off x="2756880" y="3283920"/>
            <a:ext cx="640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64680" y="3524400"/>
            <a:ext cx="522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UALS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19920" y="3222720"/>
            <a:ext cx="460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Bra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41320" y="1698480"/>
            <a:ext cx="486360" cy="10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214880" y="1657440"/>
            <a:ext cx="41004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18120" y="1924200"/>
            <a:ext cx="3337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33960" y="2178000"/>
            <a:ext cx="257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425680" y="2189160"/>
            <a:ext cx="0" cy="16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436840" y="2198520"/>
            <a:ext cx="85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2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98840" y="3699000"/>
            <a:ext cx="6807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41200" y="1533600"/>
            <a:ext cx="12178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17720" y="1719360"/>
            <a:ext cx="16956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82800" y="1751040"/>
            <a:ext cx="0" cy="63180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03320" y="2406600"/>
            <a:ext cx="552600" cy="180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74640" y="2443320"/>
            <a:ext cx="0" cy="45396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12720" y="2938320"/>
            <a:ext cx="4366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31840" y="2135160"/>
            <a:ext cx="604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98720" y="2152800"/>
            <a:ext cx="0" cy="10152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362560" y="43783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46840" y="437364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143920" y="45594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224920" y="4554360"/>
            <a:ext cx="4680" cy="220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758000" y="59943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835760" y="600696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298600" y="44175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06520" y="44337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48080" y="470376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527200" y="47242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327400" y="6620040"/>
            <a:ext cx="549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2517840" y="677376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448000" y="6257880"/>
            <a:ext cx="14652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43320" y="5834160"/>
            <a:ext cx="14572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2413080" y="3847680"/>
            <a:ext cx="0" cy="2444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11480" y="2930400"/>
            <a:ext cx="16556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3860640"/>
            <a:ext cx="1875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2443320" y="4121280"/>
            <a:ext cx="198360" cy="568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32000" y="4282920"/>
            <a:ext cx="149400" cy="18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755880" y="4348080"/>
            <a:ext cx="1317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55880" y="3992400"/>
            <a:ext cx="1368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443320" y="5386320"/>
            <a:ext cx="7966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679920" y="5376960"/>
            <a:ext cx="2206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68200" y="3954600"/>
            <a:ext cx="8892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98320" y="3951360"/>
            <a:ext cx="18756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77880" y="2619360"/>
            <a:ext cx="0" cy="135576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00200" y="2655720"/>
            <a:ext cx="43164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12680" y="3222720"/>
            <a:ext cx="1288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338720" y="3792600"/>
            <a:ext cx="0" cy="15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643280" y="45482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43240" y="39830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86400" y="601992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959440" y="60148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76320" y="4289400"/>
            <a:ext cx="856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06960" y="435780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323160" y="518796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bc3700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solidFill>
            <a:srgbClr val="bc3700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8120" y="376380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solidFill>
            <a:srgbClr val="bc3700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70400" y="378936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34920" y="414972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19120" y="387504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solidFill>
            <a:srgbClr val="bc3700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223680" y="404172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79880" y="418140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956720" y="4270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81080" y="2730600"/>
            <a:ext cx="88920" cy="375912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27160" y="1525680"/>
            <a:ext cx="0" cy="244296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96480" y="1014480"/>
            <a:ext cx="1853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ion 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383200" y="1014480"/>
            <a:ext cx="1283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écodage 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440" y="730080"/>
            <a:ext cx="216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sub $11,$2,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135160" y="7300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lw $10,9($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333440" y="1290600"/>
            <a:ext cx="0" cy="333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349280" y="1301760"/>
            <a:ext cx="5261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622920" y="1317600"/>
            <a:ext cx="0" cy="223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6492600" y="3562200"/>
            <a:ext cx="1429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6073920" y="3492360"/>
            <a:ext cx="149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083280" y="2357280"/>
            <a:ext cx="0" cy="11462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5927760" y="2368440"/>
            <a:ext cx="162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959440" y="2610000"/>
            <a:ext cx="8161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788160" y="2625840"/>
            <a:ext cx="0" cy="1355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6067440" y="365112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76800" y="3666960"/>
            <a:ext cx="0" cy="441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934240" y="412128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35320" y="2201760"/>
            <a:ext cx="14097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57680" y="2212920"/>
            <a:ext cx="0" cy="16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583240" y="2387520"/>
            <a:ext cx="1522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30640" y="2400480"/>
            <a:ext cx="13636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506920" y="2411280"/>
            <a:ext cx="0" cy="4032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4506480" y="6451560"/>
            <a:ext cx="1009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4516560" y="6305400"/>
            <a:ext cx="0" cy="16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51360" y="5751360"/>
            <a:ext cx="0" cy="149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67200" y="5913360"/>
            <a:ext cx="568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448240" y="2495520"/>
            <a:ext cx="0" cy="3425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4105440" y="2506680"/>
            <a:ext cx="132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35320" y="2637000"/>
            <a:ext cx="11653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13240" y="2657520"/>
            <a:ext cx="0" cy="10335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4545000" y="3703680"/>
            <a:ext cx="7761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54360" y="3724200"/>
            <a:ext cx="0" cy="5000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75360" y="4651200"/>
            <a:ext cx="0" cy="7034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5032080" y="5367240"/>
            <a:ext cx="128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3220920" y="1487160"/>
            <a:ext cx="0" cy="2244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687840" y="1884240"/>
            <a:ext cx="20484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54440" y="2197080"/>
            <a:ext cx="13176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684600" y="2500200"/>
            <a:ext cx="212760" cy="525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36760" y="1498680"/>
            <a:ext cx="45864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835760" y="1514520"/>
            <a:ext cx="0" cy="8859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7732440" y="2395440"/>
            <a:ext cx="114120" cy="288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399440" y="2367000"/>
            <a:ext cx="101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7378560" y="2160360"/>
            <a:ext cx="0" cy="212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5938560" y="2157480"/>
            <a:ext cx="1455480" cy="252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637240" y="2097000"/>
            <a:ext cx="1141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5608800" y="1866600"/>
            <a:ext cx="0" cy="2300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4097160" y="1862280"/>
            <a:ext cx="15242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754760" y="2557440"/>
            <a:ext cx="2667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034480" y="2573280"/>
            <a:ext cx="0" cy="16639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526080" y="2494080"/>
            <a:ext cx="847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386480" y="2513160"/>
            <a:ext cx="0" cy="2876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6805440" y="5402160"/>
            <a:ext cx="594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6815160" y="5106600"/>
            <a:ext cx="0" cy="306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375160" y="4140360"/>
            <a:ext cx="3654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40080" y="1778040"/>
            <a:ext cx="368280" cy="888840"/>
          </a:xfrm>
          <a:prstGeom prst="ellipse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30480" y="1746360"/>
            <a:ext cx="162000" cy="927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759280" y="2038320"/>
            <a:ext cx="165240" cy="62244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524720" y="2343240"/>
            <a:ext cx="190440" cy="29196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52800" y="2044800"/>
            <a:ext cx="1238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46680" y="2362320"/>
            <a:ext cx="149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81600" y="2349360"/>
            <a:ext cx="136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229440" y="3448080"/>
            <a:ext cx="279360" cy="241200"/>
          </a:xfrm>
          <a:custGeom>
            <a:avLst/>
            <a:gdLst>
              <a:gd name="textAreaLeft" fmla="*/ 0 w 279360"/>
              <a:gd name="textAreaRight" fmla="*/ 279720 w 279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654440" y="5010120"/>
            <a:ext cx="381240" cy="723960"/>
          </a:xfrm>
          <a:prstGeom prst="ellipse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5938920" y="2494080"/>
            <a:ext cx="581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742080" y="5429160"/>
            <a:ext cx="608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L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rot="16140000">
            <a:off x="7765920" y="3617280"/>
            <a:ext cx="81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Memvers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rot="16140000">
            <a:off x="6529680" y="3496680"/>
            <a:ext cx="812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04320" y="6243480"/>
            <a:ext cx="567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0033"/>
                </a:solidFill>
                <a:latin typeface="Geneva"/>
              </a:rPr>
              <a:t>RegD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rot="16200000">
            <a:off x="2752200" y="3299760"/>
            <a:ext cx="640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859640" y="3540240"/>
            <a:ext cx="522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UALS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14880" y="3238560"/>
            <a:ext cx="460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Bra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443760" y="1676520"/>
            <a:ext cx="748440" cy="100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14880" y="1695600"/>
            <a:ext cx="41004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18120" y="1962000"/>
            <a:ext cx="3337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33960" y="2216160"/>
            <a:ext cx="257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718080" y="37544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792520" y="1987560"/>
            <a:ext cx="3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urier New"/>
              </a:rPr>
              <a:t>l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2425680" y="2170080"/>
            <a:ext cx="0" cy="17287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455920" y="2198520"/>
            <a:ext cx="819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392200" y="3470400"/>
            <a:ext cx="48636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668400" y="3686040"/>
            <a:ext cx="48636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3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598840" y="3699000"/>
            <a:ext cx="6807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22120" y="15336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998640" y="171936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82800" y="17319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84240" y="2406600"/>
            <a:ext cx="590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74640" y="24242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494000" y="29383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381640" y="4378320"/>
            <a:ext cx="3398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46840" y="437364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143920" y="45594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224920" y="4554360"/>
            <a:ext cx="4680" cy="220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758000" y="59943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835760" y="600696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2298600" y="44175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306520" y="44337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548080" y="470376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527200" y="47242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327400" y="6620040"/>
            <a:ext cx="549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2517840" y="677376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448000" y="6257880"/>
            <a:ext cx="146520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443320" y="5834160"/>
            <a:ext cx="14572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413080" y="3847680"/>
            <a:ext cx="0" cy="244476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11480" y="2930400"/>
            <a:ext cx="165564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446200" y="3860640"/>
            <a:ext cx="18756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2443320" y="4121280"/>
            <a:ext cx="198360" cy="5688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232000" y="4282920"/>
            <a:ext cx="149400" cy="180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755880" y="4348080"/>
            <a:ext cx="13176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755880" y="3992400"/>
            <a:ext cx="13680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443320" y="5386320"/>
            <a:ext cx="7966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679920" y="5376960"/>
            <a:ext cx="2206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49120" y="39546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9600" y="39513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77880" y="263844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1120" y="26557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93600" y="32227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332240" y="4776840"/>
            <a:ext cx="6480" cy="5652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373640" y="4764240"/>
            <a:ext cx="522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62360" y="4548240"/>
            <a:ext cx="730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62320" y="3983040"/>
            <a:ext cx="560520" cy="1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162320" y="5826240"/>
            <a:ext cx="2001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605480" y="6019920"/>
            <a:ext cx="10969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59440" y="6014880"/>
            <a:ext cx="157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57240" y="42894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06960" y="435780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solidFill>
            <a:srgbClr val="bc37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323160" y="518796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8120" y="376380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70400" y="378936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934920" y="414972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219120" y="387504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223680" y="404172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779880" y="418140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956720" y="4270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227160" y="1544760"/>
            <a:ext cx="0" cy="24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094280" y="5367240"/>
            <a:ext cx="2584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383200" y="1014480"/>
            <a:ext cx="1283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écodage 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470840" y="1001880"/>
            <a:ext cx="96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é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995480" y="730080"/>
            <a:ext cx="216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sub $11,$2,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128840" y="7300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lw $10,9($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1333440" y="1290600"/>
            <a:ext cx="0" cy="333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349280" y="1301760"/>
            <a:ext cx="5261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622920" y="1317600"/>
            <a:ext cx="0" cy="223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6492600" y="3562200"/>
            <a:ext cx="1429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6073920" y="3492360"/>
            <a:ext cx="149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6083280" y="2357280"/>
            <a:ext cx="0" cy="11462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927760" y="2368440"/>
            <a:ext cx="162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959440" y="2610000"/>
            <a:ext cx="8161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788160" y="2625840"/>
            <a:ext cx="0" cy="1355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6067440" y="365112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076800" y="3666960"/>
            <a:ext cx="0" cy="441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5934240" y="412128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154400" y="2201760"/>
            <a:ext cx="13716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557680" y="2232000"/>
            <a:ext cx="0" cy="1238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602320" y="2387520"/>
            <a:ext cx="1141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49720" y="2400480"/>
            <a:ext cx="13255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506920" y="2430360"/>
            <a:ext cx="0" cy="39942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4487400" y="6451560"/>
            <a:ext cx="104796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4516560" y="6286320"/>
            <a:ext cx="0" cy="1998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851360" y="5770440"/>
            <a:ext cx="0" cy="1112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886280" y="5913360"/>
            <a:ext cx="53028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5448240" y="2476440"/>
            <a:ext cx="0" cy="3463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4086360" y="2506680"/>
            <a:ext cx="136368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54400" y="2637000"/>
            <a:ext cx="112716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313240" y="2676600"/>
            <a:ext cx="0" cy="9954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4525920" y="3703680"/>
            <a:ext cx="8143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554360" y="3743280"/>
            <a:ext cx="0" cy="4618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175360" y="4670280"/>
            <a:ext cx="0" cy="6652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5013000" y="5367240"/>
            <a:ext cx="16668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3220920" y="1487160"/>
            <a:ext cx="0" cy="2244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687840" y="1884240"/>
            <a:ext cx="20484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754440" y="2197080"/>
            <a:ext cx="13176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3657600" y="2500200"/>
            <a:ext cx="239760" cy="144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236760" y="1498680"/>
            <a:ext cx="45864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835760" y="1514520"/>
            <a:ext cx="0" cy="8859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7732440" y="2395440"/>
            <a:ext cx="114120" cy="288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399440" y="2367000"/>
            <a:ext cx="101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7378560" y="2160360"/>
            <a:ext cx="0" cy="212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 flipV="1">
            <a:off x="5938560" y="2157480"/>
            <a:ext cx="1455480" cy="252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656320" y="2097000"/>
            <a:ext cx="763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5608800" y="1847520"/>
            <a:ext cx="0" cy="2682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078080" y="1862280"/>
            <a:ext cx="156204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754760" y="2557440"/>
            <a:ext cx="2667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034480" y="2573280"/>
            <a:ext cx="0" cy="16639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526080" y="2494080"/>
            <a:ext cx="847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386480" y="2513160"/>
            <a:ext cx="0" cy="2876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6805440" y="5402160"/>
            <a:ext cx="594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6815160" y="5106600"/>
            <a:ext cx="0" cy="306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75160" y="4140360"/>
            <a:ext cx="3654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340080" y="1778040"/>
            <a:ext cx="368280" cy="888840"/>
          </a:xfrm>
          <a:prstGeom prst="ellipse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924360" y="1739880"/>
            <a:ext cx="177840" cy="93996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53160" y="2031840"/>
            <a:ext cx="177840" cy="63504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524720" y="2343240"/>
            <a:ext cx="190440" cy="29196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71880" y="2044800"/>
            <a:ext cx="8568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971880" y="2362320"/>
            <a:ext cx="9864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81600" y="2349360"/>
            <a:ext cx="136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229440" y="3448080"/>
            <a:ext cx="279360" cy="241200"/>
          </a:xfrm>
          <a:custGeom>
            <a:avLst/>
            <a:gdLst>
              <a:gd name="textAreaLeft" fmla="*/ 0 w 279360"/>
              <a:gd name="textAreaRight" fmla="*/ 279720 w 279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648320" y="5003640"/>
            <a:ext cx="393480" cy="736920"/>
          </a:xfrm>
          <a:prstGeom prst="ellipse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5938920" y="2494080"/>
            <a:ext cx="581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42080" y="5429160"/>
            <a:ext cx="608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L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rot="16140000">
            <a:off x="7765920" y="3617280"/>
            <a:ext cx="81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Memvers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rot="16140000">
            <a:off x="6529680" y="3496680"/>
            <a:ext cx="812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504320" y="6243480"/>
            <a:ext cx="567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0033"/>
                </a:solidFill>
                <a:latin typeface="Geneva"/>
              </a:rPr>
              <a:t>RegD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rot="16200000">
            <a:off x="2752200" y="3299760"/>
            <a:ext cx="640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859640" y="3540240"/>
            <a:ext cx="522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UALS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014880" y="3238560"/>
            <a:ext cx="460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Bra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420000" y="1685880"/>
            <a:ext cx="748440" cy="95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214880" y="1695600"/>
            <a:ext cx="41004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018120" y="1962000"/>
            <a:ext cx="3337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833960" y="2216160"/>
            <a:ext cx="257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2425680" y="2170080"/>
            <a:ext cx="0" cy="172872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455920" y="2198520"/>
            <a:ext cx="819000" cy="0"/>
          </a:xfrm>
          <a:prstGeom prst="line">
            <a:avLst/>
          </a:prstGeom>
          <a:ln w="50760">
            <a:solidFill>
              <a:srgbClr val="bc37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592440" y="3686040"/>
            <a:ext cx="48636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151160" y="3699000"/>
            <a:ext cx="48636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398320" y="3882960"/>
            <a:ext cx="48636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421000" y="1784520"/>
            <a:ext cx="63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575960" y="1676520"/>
            <a:ext cx="606600" cy="69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4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598840" y="3699000"/>
            <a:ext cx="6807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2120" y="15336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998640" y="171936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982800" y="17319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984240" y="2406600"/>
            <a:ext cx="590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574640" y="24242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494000" y="29383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356080" y="4378320"/>
            <a:ext cx="390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965920" y="4373640"/>
            <a:ext cx="1364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6134040" y="4152600"/>
            <a:ext cx="0" cy="2509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168960" y="4183200"/>
            <a:ext cx="810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27840" y="439416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060960" y="5208480"/>
            <a:ext cx="145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362720" y="4361040"/>
            <a:ext cx="13176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732800" y="43578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8143920" y="4559400"/>
            <a:ext cx="65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224920" y="4554360"/>
            <a:ext cx="4680" cy="220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758000" y="5994360"/>
            <a:ext cx="6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835760" y="600696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2298600" y="441756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306520" y="44337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548080" y="470376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527200" y="4724280"/>
            <a:ext cx="0" cy="203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327400" y="6620040"/>
            <a:ext cx="549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2517840" y="677376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428920" y="62578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424240" y="58341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2413080" y="3866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92400" y="29304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427120" y="386064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2424240" y="4140360"/>
            <a:ext cx="236520" cy="1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212920" y="4282920"/>
            <a:ext cx="18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736800" y="434808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736800" y="3992400"/>
            <a:ext cx="1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424240" y="53863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660840" y="53769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49120" y="39546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79600" y="39513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677880" y="263844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81120" y="26557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93600" y="32227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332240" y="4757760"/>
            <a:ext cx="648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57640" y="4338720"/>
            <a:ext cx="263520" cy="144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662360" y="4548240"/>
            <a:ext cx="730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62320" y="3983040"/>
            <a:ext cx="560520" cy="144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175280" y="6245280"/>
            <a:ext cx="18720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605480" y="6019920"/>
            <a:ext cx="109692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978520" y="6014880"/>
            <a:ext cx="1533600" cy="18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57240" y="42894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44920" y="4251240"/>
            <a:ext cx="177840" cy="609840"/>
          </a:xfrm>
          <a:custGeom>
            <a:avLst/>
            <a:gdLst>
              <a:gd name="textAreaLeft" fmla="*/ 6480 w 177840"/>
              <a:gd name="textAreaRight" fmla="*/ 171360 w 177840"/>
              <a:gd name="textAreaTop" fmla="*/ 6480 h 609840"/>
              <a:gd name="textAreaBottom" fmla="*/ 603360 h 609840"/>
            </a:gdLst>
            <a:ahLst/>
            <a:rect l="textAreaLeft" t="textAreaTop" r="textAreaRight" b="textAreaBottom"/>
            <a:pathLst>
              <a:path w="21600" h="73964">
                <a:moveTo>
                  <a:pt x="2695" y="0"/>
                </a:moveTo>
                <a:arcTo wR="2695" hR="2695" stAng="16200000" swAng="-5400000"/>
                <a:lnTo>
                  <a:pt x="0" y="71269"/>
                </a:lnTo>
                <a:arcTo wR="2695" hR="2695" stAng="10800000" swAng="-5400000"/>
                <a:lnTo>
                  <a:pt x="18905" y="73964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323160" y="518796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48120" y="376380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70400" y="378936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34920" y="414972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219120" y="387504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 rot="5400000">
            <a:off x="4570200" y="4037040"/>
            <a:ext cx="974880" cy="565200"/>
          </a:xfrm>
          <a:custGeom>
            <a:avLst/>
            <a:gdLst>
              <a:gd name="textAreaLeft" fmla="*/ 214200 w 974880"/>
              <a:gd name="textAreaRight" fmla="*/ 760680 w 974880"/>
              <a:gd name="textAreaTop" fmla="*/ 124200 h 565200"/>
              <a:gd name="textAreaBottom" fmla="*/ 441000 h 56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223680" y="404172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779880" y="418140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956720" y="42703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540560" y="2668680"/>
            <a:ext cx="17784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227160" y="1544760"/>
            <a:ext cx="0" cy="24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470840" y="1001880"/>
            <a:ext cx="96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é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148440" y="1014480"/>
            <a:ext cx="873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760920" y="730080"/>
            <a:ext cx="216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sub $11,$2,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80160" y="7300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lw $10,9($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1333440" y="1290600"/>
            <a:ext cx="0" cy="333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349280" y="1301760"/>
            <a:ext cx="5261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622920" y="1317600"/>
            <a:ext cx="0" cy="223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6492600" y="3562200"/>
            <a:ext cx="1429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6073920" y="3492360"/>
            <a:ext cx="149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6083280" y="2357280"/>
            <a:ext cx="0" cy="11462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5927760" y="2368440"/>
            <a:ext cx="162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959440" y="2610000"/>
            <a:ext cx="8161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788160" y="2625840"/>
            <a:ext cx="0" cy="1355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6067440" y="365112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76800" y="3666960"/>
            <a:ext cx="0" cy="441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5934240" y="412128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54400" y="2201760"/>
            <a:ext cx="13716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557680" y="2212920"/>
            <a:ext cx="0" cy="16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583240" y="2387520"/>
            <a:ext cx="1522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149720" y="2400480"/>
            <a:ext cx="13255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506920" y="2430360"/>
            <a:ext cx="0" cy="39942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4487400" y="6451560"/>
            <a:ext cx="104796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4516560" y="6286320"/>
            <a:ext cx="0" cy="1998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51360" y="5770440"/>
            <a:ext cx="0" cy="1112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886280" y="5913360"/>
            <a:ext cx="53028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5448240" y="2476440"/>
            <a:ext cx="0" cy="34639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4086360" y="2506680"/>
            <a:ext cx="136368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154400" y="2637000"/>
            <a:ext cx="112716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13240" y="2676600"/>
            <a:ext cx="0" cy="9954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4525920" y="3703680"/>
            <a:ext cx="8143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54360" y="3743280"/>
            <a:ext cx="0" cy="4618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75360" y="4670280"/>
            <a:ext cx="0" cy="6652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5013000" y="5367240"/>
            <a:ext cx="16668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3220920" y="1487160"/>
            <a:ext cx="0" cy="2244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668760" y="1884240"/>
            <a:ext cx="243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735360" y="2197080"/>
            <a:ext cx="1699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665520" y="2519280"/>
            <a:ext cx="250920" cy="14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236760" y="1498680"/>
            <a:ext cx="45864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835760" y="1514520"/>
            <a:ext cx="0" cy="8859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7695720" y="2424240"/>
            <a:ext cx="150840" cy="140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418520" y="2367000"/>
            <a:ext cx="6336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7378560" y="2141640"/>
            <a:ext cx="0" cy="2505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5919480" y="2138400"/>
            <a:ext cx="1493640" cy="63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656320" y="2097000"/>
            <a:ext cx="763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5608800" y="1847520"/>
            <a:ext cx="0" cy="2682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4078080" y="1862280"/>
            <a:ext cx="156204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754760" y="2557440"/>
            <a:ext cx="2667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8034480" y="2573280"/>
            <a:ext cx="0" cy="16639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545160" y="2494080"/>
            <a:ext cx="80964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386480" y="2532240"/>
            <a:ext cx="0" cy="28382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6786360" y="5402160"/>
            <a:ext cx="6318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6815160" y="5087520"/>
            <a:ext cx="0" cy="34452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375160" y="4140360"/>
            <a:ext cx="3654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346560" y="1784520"/>
            <a:ext cx="355320" cy="876240"/>
          </a:xfrm>
          <a:prstGeom prst="ellipse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924360" y="1739880"/>
            <a:ext cx="177840" cy="93996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753160" y="2031840"/>
            <a:ext cx="177840" cy="63504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518240" y="2336760"/>
            <a:ext cx="203400" cy="30492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946680" y="2044800"/>
            <a:ext cx="136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952800" y="2362320"/>
            <a:ext cx="136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775480" y="2349360"/>
            <a:ext cx="149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229440" y="3448080"/>
            <a:ext cx="279360" cy="241200"/>
          </a:xfrm>
          <a:custGeom>
            <a:avLst/>
            <a:gdLst>
              <a:gd name="textAreaLeft" fmla="*/ 0 w 279360"/>
              <a:gd name="textAreaRight" fmla="*/ 279720 w 279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8320" y="5003640"/>
            <a:ext cx="393480" cy="736920"/>
          </a:xfrm>
          <a:prstGeom prst="ellipse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5919840" y="2494080"/>
            <a:ext cx="6192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742080" y="5429160"/>
            <a:ext cx="608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L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rot="16140000">
            <a:off x="7765920" y="3617280"/>
            <a:ext cx="81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Memvers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rot="16140000">
            <a:off x="6529680" y="3496680"/>
            <a:ext cx="812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04320" y="6243480"/>
            <a:ext cx="567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0033"/>
                </a:solidFill>
                <a:latin typeface="Geneva"/>
              </a:rPr>
              <a:t>RegD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rot="16200000">
            <a:off x="2752200" y="3299760"/>
            <a:ext cx="640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859640" y="3540240"/>
            <a:ext cx="522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UALS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014880" y="3238560"/>
            <a:ext cx="460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Bra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541320" y="1736640"/>
            <a:ext cx="486360" cy="10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214880" y="1695600"/>
            <a:ext cx="41004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018120" y="1962000"/>
            <a:ext cx="3337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33960" y="2216160"/>
            <a:ext cx="257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2425680" y="2189160"/>
            <a:ext cx="0" cy="16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436840" y="2198520"/>
            <a:ext cx="85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941800" y="5632560"/>
            <a:ext cx="48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024080" y="3660840"/>
            <a:ext cx="48636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$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647600" y="1685880"/>
            <a:ext cx="606600" cy="66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24120" y="1905120"/>
            <a:ext cx="464760" cy="39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emple CC5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682720" y="372744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598840" y="3699000"/>
            <a:ext cx="680760" cy="118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Regist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 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203640" y="3735360"/>
            <a:ext cx="538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22120" y="15336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492200" y="153180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1393560" y="19000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998640" y="1719360"/>
            <a:ext cx="20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982800" y="173196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984240" y="2406600"/>
            <a:ext cx="590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574640" y="24242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494000" y="293832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112760" y="213516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098720" y="2133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100160" y="2287440"/>
            <a:ext cx="601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1720800" y="13186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481800" y="1332000"/>
            <a:ext cx="0" cy="18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5933880" y="3156120"/>
            <a:ext cx="54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218200" y="3189240"/>
            <a:ext cx="50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362560" y="4378320"/>
            <a:ext cx="3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965920" y="4373640"/>
            <a:ext cx="13644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6134040" y="4171680"/>
            <a:ext cx="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149880" y="41832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134040" y="439416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149880" y="4548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027840" y="4413240"/>
            <a:ext cx="0" cy="76356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080040" y="5208480"/>
            <a:ext cx="1419480" cy="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343640" y="43610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751880" y="4357800"/>
            <a:ext cx="1666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834320" y="4780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745400" y="519588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7815240" y="47685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8163000" y="4559400"/>
            <a:ext cx="27000" cy="1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8224920" y="4573440"/>
            <a:ext cx="4680" cy="2163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777080" y="5994360"/>
            <a:ext cx="31680" cy="18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835760" y="6026040"/>
            <a:ext cx="0" cy="5605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2298600" y="4398480"/>
            <a:ext cx="0" cy="22482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325600" y="4433760"/>
            <a:ext cx="3301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567160" y="4703760"/>
            <a:ext cx="806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527200" y="4743360"/>
            <a:ext cx="0" cy="19987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46480" y="6620040"/>
            <a:ext cx="5452920" cy="1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2498760" y="6773760"/>
            <a:ext cx="575784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428920" y="625788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424240" y="58341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413080" y="3866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192400" y="2930400"/>
            <a:ext cx="169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427120" y="386064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2424240" y="4140360"/>
            <a:ext cx="236520" cy="1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212920" y="4282920"/>
            <a:ext cx="187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736800" y="434808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736800" y="3992400"/>
            <a:ext cx="1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424240" y="5386320"/>
            <a:ext cx="83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660840" y="537696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49120" y="39546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79600" y="395136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677880" y="263844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1120" y="265572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993600" y="3222720"/>
            <a:ext cx="1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143240" y="29113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545000" y="3475080"/>
            <a:ext cx="69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332240" y="4757760"/>
            <a:ext cx="648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232160" y="4919760"/>
            <a:ext cx="152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138560" y="43387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354560" y="4764240"/>
            <a:ext cx="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43280" y="454824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216320" y="4334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43240" y="3983040"/>
            <a:ext cx="59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959440" y="49053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143240" y="58262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156200" y="6245280"/>
            <a:ext cx="22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86400" y="6019920"/>
            <a:ext cx="11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978520" y="6014880"/>
            <a:ext cx="1533600" cy="180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857240" y="428940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394000" y="38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389320" y="413064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379600" y="4270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392200" y="537048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183200" y="432432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384280" y="5819760"/>
            <a:ext cx="5112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319640" y="4743360"/>
            <a:ext cx="50760" cy="38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451400" y="42577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400640" y="572292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274920" y="4994280"/>
            <a:ext cx="376200" cy="766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323160" y="5187960"/>
            <a:ext cx="25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230480" y="1633680"/>
            <a:ext cx="164880" cy="596880"/>
          </a:xfrm>
          <a:custGeom>
            <a:avLst/>
            <a:gdLst>
              <a:gd name="textAreaLeft" fmla="*/ 5760 w 164880"/>
              <a:gd name="textAreaRight" fmla="*/ 159120 w 164880"/>
              <a:gd name="textAreaTop" fmla="*/ 5760 h 596880"/>
              <a:gd name="textAreaBottom" fmla="*/ 591120 h 596880"/>
            </a:gdLst>
            <a:ahLst/>
            <a:rect l="textAreaLeft" t="textAreaTop" r="textAreaRight" b="textAreaBottom"/>
            <a:pathLst>
              <a:path w="21600" h="78071">
                <a:moveTo>
                  <a:pt x="2695" y="0"/>
                </a:moveTo>
                <a:arcTo wR="2695" hR="2695" stAng="16200000" swAng="-5400000"/>
                <a:lnTo>
                  <a:pt x="0" y="75376"/>
                </a:lnTo>
                <a:arcTo wR="2695" hR="2695" stAng="10800000" swAng="-5400000"/>
                <a:lnTo>
                  <a:pt x="18905" y="78071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99960" y="3716280"/>
            <a:ext cx="169920" cy="4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48120" y="3763800"/>
            <a:ext cx="260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819000" y="3749760"/>
            <a:ext cx="1033560" cy="110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70400" y="378936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R.A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934920" y="4149720"/>
            <a:ext cx="71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ém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219120" y="3875040"/>
            <a:ext cx="55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65560" y="3251160"/>
            <a:ext cx="368280" cy="476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 rot="5400000">
            <a:off x="4437000" y="29127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 rot="5400000">
            <a:off x="4576680" y="4043160"/>
            <a:ext cx="961920" cy="552600"/>
          </a:xfrm>
          <a:custGeom>
            <a:avLst/>
            <a:gdLst>
              <a:gd name="textAreaLeft" fmla="*/ 211320 w 961920"/>
              <a:gd name="textAreaRight" fmla="*/ 750600 w 961920"/>
              <a:gd name="textAreaTop" fmla="*/ 121320 h 552600"/>
              <a:gd name="textAreaBottom" fmla="*/ 43128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 rot="5400000">
            <a:off x="846000" y="2819880"/>
            <a:ext cx="962280" cy="304920"/>
          </a:xfrm>
          <a:custGeom>
            <a:avLst/>
            <a:gdLst>
              <a:gd name="textAreaLeft" fmla="*/ 211320 w 962280"/>
              <a:gd name="textAreaRight" fmla="*/ 750960 w 96228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5" y="21600"/>
                </a:lnTo>
                <a:lnTo>
                  <a:pt x="5395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299280" y="4019400"/>
            <a:ext cx="10285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223680" y="4041720"/>
            <a:ext cx="5655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Adr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à écr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779880" y="4181400"/>
            <a:ext cx="55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</a:rPr>
              <a:t>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975440" y="4289400"/>
            <a:ext cx="127080" cy="558720"/>
          </a:xfrm>
          <a:custGeom>
            <a:avLst/>
            <a:gdLst>
              <a:gd name="textAreaLeft" fmla="*/ 4320 w 127080"/>
              <a:gd name="textAreaRight" fmla="*/ 122760 w 127080"/>
              <a:gd name="textAreaTop" fmla="*/ 4320 h 558720"/>
              <a:gd name="textAreaBottom" fmla="*/ 554400 h 558720"/>
            </a:gdLst>
            <a:ahLst/>
            <a:rect l="textAreaLeft" t="textAreaTop" r="textAreaRight" b="textAreaBottom"/>
            <a:pathLst>
              <a:path w="21600" h="94759">
                <a:moveTo>
                  <a:pt x="2695" y="0"/>
                </a:moveTo>
                <a:arcTo wR="2695" hR="2695" stAng="16200000" swAng="-5400000"/>
                <a:lnTo>
                  <a:pt x="0" y="92064"/>
                </a:lnTo>
                <a:arcTo wR="2695" hR="2695" stAng="10800000" swAng="-5400000"/>
                <a:lnTo>
                  <a:pt x="18905" y="94759"/>
                </a:lnTo>
                <a:arcTo wR="2695" hR="2695" stAng="5400000" swAng="-5400000"/>
                <a:lnTo>
                  <a:pt x="21600" y="2695"/>
                </a:lnTo>
                <a:arcTo wR="2695" hR="2695" stAng="0" swAng="-5400000"/>
                <a:close/>
              </a:path>
            </a:pathLst>
          </a:custGeom>
          <a:solidFill>
            <a:srgbClr val="00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987560" y="27367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943440" y="271152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759280" y="2685960"/>
            <a:ext cx="177840" cy="36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559640" y="2687760"/>
            <a:ext cx="139680" cy="360684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687760" y="3728880"/>
            <a:ext cx="1041120" cy="10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29928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807240" y="3987720"/>
            <a:ext cx="5158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753160" y="2666880"/>
            <a:ext cx="8892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854680" y="2666880"/>
            <a:ext cx="88920" cy="375948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531200" y="2666880"/>
            <a:ext cx="88920" cy="375948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632720" y="2666880"/>
            <a:ext cx="88920" cy="375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082960" y="273060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92436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025880" y="2705040"/>
            <a:ext cx="88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69244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200400" y="3733920"/>
            <a:ext cx="515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227160" y="1544760"/>
            <a:ext cx="0" cy="24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 flipV="1">
            <a:off x="1707840" y="1324080"/>
            <a:ext cx="476388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4113000" y="5367240"/>
            <a:ext cx="22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08296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038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948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632720" y="108756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148440" y="1014480"/>
            <a:ext cx="873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671960" y="1014480"/>
            <a:ext cx="150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riture Résul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111640" y="768240"/>
            <a:ext cx="216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sub $11,$2,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130880" y="76824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lw $10,9($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1333440" y="1290600"/>
            <a:ext cx="0" cy="333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349280" y="1301760"/>
            <a:ext cx="5261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622920" y="1317600"/>
            <a:ext cx="0" cy="223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6492600" y="3562200"/>
            <a:ext cx="1429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6073920" y="3492360"/>
            <a:ext cx="149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6083280" y="2357280"/>
            <a:ext cx="0" cy="11462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5927760" y="2368440"/>
            <a:ext cx="162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959440" y="2610000"/>
            <a:ext cx="8161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788160" y="2625840"/>
            <a:ext cx="0" cy="1355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6067440" y="365112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076800" y="3666960"/>
            <a:ext cx="0" cy="441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5934240" y="4121280"/>
            <a:ext cx="15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135320" y="2201760"/>
            <a:ext cx="14097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557680" y="2212920"/>
            <a:ext cx="0" cy="16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583240" y="2387520"/>
            <a:ext cx="1522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130640" y="2400480"/>
            <a:ext cx="13636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06920" y="2411280"/>
            <a:ext cx="0" cy="4032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4506480" y="6451560"/>
            <a:ext cx="1009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4516560" y="6305400"/>
            <a:ext cx="0" cy="162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851360" y="5751360"/>
            <a:ext cx="0" cy="149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867200" y="5913360"/>
            <a:ext cx="568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5448240" y="2495520"/>
            <a:ext cx="0" cy="34257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4105440" y="2506680"/>
            <a:ext cx="1325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135320" y="2637000"/>
            <a:ext cx="11653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313240" y="2657520"/>
            <a:ext cx="0" cy="10335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4545000" y="3703680"/>
            <a:ext cx="7761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554360" y="3724200"/>
            <a:ext cx="0" cy="5000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175360" y="4651200"/>
            <a:ext cx="0" cy="7034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5032080" y="5367240"/>
            <a:ext cx="128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3220920" y="1468080"/>
            <a:ext cx="0" cy="2282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668760" y="1884240"/>
            <a:ext cx="243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735360" y="2197080"/>
            <a:ext cx="1699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3665520" y="2519280"/>
            <a:ext cx="250920" cy="14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255840" y="1498680"/>
            <a:ext cx="454824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835760" y="1533600"/>
            <a:ext cx="0" cy="8478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>
            <a:off x="7713360" y="2362320"/>
            <a:ext cx="135000" cy="140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418520" y="2367000"/>
            <a:ext cx="6336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7378560" y="2141640"/>
            <a:ext cx="0" cy="2505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H="1" flipV="1">
            <a:off x="5919480" y="2138400"/>
            <a:ext cx="1493640" cy="633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637240" y="2097000"/>
            <a:ext cx="1141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5608800" y="1866600"/>
            <a:ext cx="0" cy="2300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4097160" y="1862280"/>
            <a:ext cx="15242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773840" y="2557440"/>
            <a:ext cx="22860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034480" y="2592360"/>
            <a:ext cx="0" cy="1625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526080" y="2494080"/>
            <a:ext cx="847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386480" y="2513160"/>
            <a:ext cx="0" cy="28764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6805440" y="5402160"/>
            <a:ext cx="5940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6815160" y="5106600"/>
            <a:ext cx="0" cy="3063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375160" y="4140360"/>
            <a:ext cx="3654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346560" y="1784520"/>
            <a:ext cx="355320" cy="876240"/>
          </a:xfrm>
          <a:prstGeom prst="ellipse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930480" y="1746360"/>
            <a:ext cx="165240" cy="92700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753160" y="2031840"/>
            <a:ext cx="177840" cy="63504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518240" y="2336760"/>
            <a:ext cx="203400" cy="30492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952800" y="2044800"/>
            <a:ext cx="1238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952800" y="2362320"/>
            <a:ext cx="136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781600" y="2349360"/>
            <a:ext cx="136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229440" y="3448080"/>
            <a:ext cx="279360" cy="241200"/>
          </a:xfrm>
          <a:custGeom>
            <a:avLst/>
            <a:gdLst>
              <a:gd name="textAreaLeft" fmla="*/ 0 w 279360"/>
              <a:gd name="textAreaRight" fmla="*/ 279720 w 279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654440" y="5010120"/>
            <a:ext cx="381240" cy="723960"/>
          </a:xfrm>
          <a:prstGeom prst="ellipse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C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5938920" y="2494080"/>
            <a:ext cx="5810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742080" y="5429160"/>
            <a:ext cx="608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L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rot="16140000">
            <a:off x="7765920" y="3617280"/>
            <a:ext cx="81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Memvers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rot="16140000">
            <a:off x="6529680" y="3496680"/>
            <a:ext cx="812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M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504320" y="6243480"/>
            <a:ext cx="567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0033"/>
                </a:solidFill>
                <a:latin typeface="Geneva"/>
              </a:rPr>
              <a:t>RegD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rot="16200000">
            <a:off x="2752200" y="3299760"/>
            <a:ext cx="640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EcrireR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859640" y="3540240"/>
            <a:ext cx="522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33"/>
                </a:solidFill>
                <a:latin typeface="Geneva"/>
              </a:rPr>
              <a:t>UALS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14880" y="3238560"/>
            <a:ext cx="460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33"/>
                </a:solidFill>
                <a:latin typeface="Geneva"/>
              </a:rPr>
              <a:t>Bra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541320" y="1736640"/>
            <a:ext cx="486360" cy="10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214880" y="1695600"/>
            <a:ext cx="41004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018120" y="1962000"/>
            <a:ext cx="3337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833960" y="2216160"/>
            <a:ext cx="257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V="1">
            <a:off x="2425680" y="2189160"/>
            <a:ext cx="0" cy="16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436840" y="2198520"/>
            <a:ext cx="85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979960" y="5581800"/>
            <a:ext cx="48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783200" y="5721480"/>
            <a:ext cx="48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068560" y="3460680"/>
            <a:ext cx="333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981080" y="4078440"/>
            <a:ext cx="48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552720" y="1981080"/>
            <a:ext cx="464760" cy="37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353440" y="1676520"/>
            <a:ext cx="181080" cy="39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0T12:28:17Z</dcterms:created>
  <dc:creator>DŽpartement Informatique</dc:creator>
  <dc:description/>
  <dc:language>en-US</dc:language>
  <cp:lastModifiedBy>Denis Dupont</cp:lastModifiedBy>
  <cp:lastPrinted>1999-11-17T08:56:19Z</cp:lastPrinted>
  <dcterms:modified xsi:type="dcterms:W3CDTF">2003-02-24T15:51:22Z</dcterms:modified>
  <cp:revision>11</cp:revision>
  <dc:subject/>
  <dc:title>Aucun titre de diapositive</dc:title>
</cp:coreProperties>
</file>