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5" name="PlaceHolder 2"/>
          <p:cNvSpPr>
            <a:spLocks noGrp="1"/>
          </p:cNvSpPr>
          <p:nvPr>
            <p:ph type="sldImg"/>
          </p:nvPr>
        </p:nvSpPr>
        <p:spPr>
          <a:xfrm>
            <a:off x="1144440" y="844560"/>
            <a:ext cx="4556160" cy="3416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7" name="PlaceHolder 2"/>
          <p:cNvSpPr>
            <a:spLocks noGrp="1"/>
          </p:cNvSpPr>
          <p:nvPr>
            <p:ph type="sldImg"/>
          </p:nvPr>
        </p:nvSpPr>
        <p:spPr>
          <a:xfrm>
            <a:off x="1144440" y="844560"/>
            <a:ext cx="4556160" cy="34164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9" name="PlaceHolder 2"/>
          <p:cNvSpPr>
            <a:spLocks noGrp="1"/>
          </p:cNvSpPr>
          <p:nvPr>
            <p:ph type="sldImg"/>
          </p:nvPr>
        </p:nvSpPr>
        <p:spPr>
          <a:xfrm>
            <a:off x="1144440" y="844560"/>
            <a:ext cx="4556160" cy="3416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1" name="PlaceHolder 2"/>
          <p:cNvSpPr>
            <a:spLocks noGrp="1"/>
          </p:cNvSpPr>
          <p:nvPr>
            <p:ph type="sldImg"/>
          </p:nvPr>
        </p:nvSpPr>
        <p:spPr>
          <a:xfrm>
            <a:off x="1150920" y="85104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3" name="PlaceHolder 2"/>
          <p:cNvSpPr>
            <a:spLocks noGrp="1"/>
          </p:cNvSpPr>
          <p:nvPr>
            <p:ph type="sldImg"/>
          </p:nvPr>
        </p:nvSpPr>
        <p:spPr>
          <a:xfrm>
            <a:off x="1150920" y="85104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5" name="PlaceHolder 2"/>
          <p:cNvSpPr>
            <a:spLocks noGrp="1"/>
          </p:cNvSpPr>
          <p:nvPr>
            <p:ph type="sldImg"/>
          </p:nvPr>
        </p:nvSpPr>
        <p:spPr>
          <a:xfrm>
            <a:off x="1150920" y="85104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7" name="PlaceHolder 2"/>
          <p:cNvSpPr>
            <a:spLocks noGrp="1"/>
          </p:cNvSpPr>
          <p:nvPr>
            <p:ph type="sldImg"/>
          </p:nvPr>
        </p:nvSpPr>
        <p:spPr>
          <a:xfrm>
            <a:off x="1150920" y="85104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599" name="PlaceHolder 2"/>
          <p:cNvSpPr>
            <a:spLocks noGrp="1"/>
          </p:cNvSpPr>
          <p:nvPr>
            <p:ph type="sldImg"/>
          </p:nvPr>
        </p:nvSpPr>
        <p:spPr>
          <a:xfrm>
            <a:off x="1150920" y="85104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1" name="PlaceHolder 2"/>
          <p:cNvSpPr>
            <a:spLocks noGrp="1"/>
          </p:cNvSpPr>
          <p:nvPr>
            <p:ph type="sldImg"/>
          </p:nvPr>
        </p:nvSpPr>
        <p:spPr>
          <a:xfrm>
            <a:off x="1150920" y="85104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3" name="PlaceHolder 2"/>
          <p:cNvSpPr>
            <a:spLocks noGrp="1"/>
          </p:cNvSpPr>
          <p:nvPr>
            <p:ph type="sldImg"/>
          </p:nvPr>
        </p:nvSpPr>
        <p:spPr>
          <a:xfrm>
            <a:off x="1150920" y="85104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5" name="PlaceHolder 2"/>
          <p:cNvSpPr>
            <a:spLocks noGrp="1"/>
          </p:cNvSpPr>
          <p:nvPr>
            <p:ph type="sldImg"/>
          </p:nvPr>
        </p:nvSpPr>
        <p:spPr>
          <a:xfrm>
            <a:off x="1150920" y="85104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7" name="PlaceHolder 2"/>
          <p:cNvSpPr>
            <a:spLocks noGrp="1"/>
          </p:cNvSpPr>
          <p:nvPr>
            <p:ph type="sldImg"/>
          </p:nvPr>
        </p:nvSpPr>
        <p:spPr>
          <a:xfrm>
            <a:off x="1150920" y="85104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chemin de données d'un branchement utilise une UAL pour évaluer la condition de branchement et un additionneur séparé pour calculer la destination de branchement, somme du CP incrémenté et des bits inférieurs ( le déplacement du branchement) de l'instruction, étendus par extension de signe et décalés à gauche de 2 bits. L'unité Décaler gauche 2 décale en ajoutant 00 </a:t>
            </a:r>
            <a:r>
              <a:rPr b="0" lang="fr-FR" sz="1200" spc="-1" strike="noStrike" baseline="-25000">
                <a:solidFill>
                  <a:srgbClr val="000000"/>
                </a:solidFill>
                <a:latin typeface="Times New Roman"/>
              </a:rPr>
              <a:t>deux</a:t>
            </a:r>
            <a:r>
              <a:rPr b="0" lang="fr-FR" sz="1200" spc="-1" strike="noStrike">
                <a:solidFill>
                  <a:srgbClr val="000000"/>
                </a:solidFill>
                <a:latin typeface="Times New Roman"/>
              </a:rPr>
              <a:t> en bas du champ de décalage étendu à partir de  16 bits, donc le décalage n'enlèvera que des bits de signe. Une logique de contrôle sert à décider, à partir de sortie Zéro de l'UAL, si le CP incrémenté ou la destination de branchement doit remplacer le CP.</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u="sng">
                <a:solidFill>
                  <a:srgbClr val="000000"/>
                </a:solidFill>
                <a:uFillTx/>
                <a:latin typeface="Times New Roman"/>
              </a:rPr>
              <a:t>Remarque</a:t>
            </a:r>
            <a:r>
              <a:rPr b="0" lang="fr-FR" sz="1200" spc="-1" strike="noStrike">
                <a:solidFill>
                  <a:srgbClr val="000000"/>
                </a:solidFill>
                <a:latin typeface="Times New Roman"/>
              </a:rPr>
              <a:t> : On veut que l’adresse de branchement représente l’adresse d’une instruction. Une instruction étant codée sur 4 octets, il faut multiplier l’adresse étendue par 4, d’où le décalage de 2 (un décalage à gauche de 2 est équivalent à une multiplication par 4).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ar exemple si l’adresse étendue de l’instruction est 100, il faut se placer à l’adresse 400 en mémoire puisque chaqu’une des 100 instructions est codée sur 4 octets.</a:t>
            </a:r>
            <a:endParaRPr b="0" lang="en-US" sz="1200" spc="-1" strike="noStrike">
              <a:solidFill>
                <a:srgbClr val="000000"/>
              </a:solidFill>
              <a:latin typeface="Times New Roman"/>
            </a:endParaRPr>
          </a:p>
        </p:txBody>
      </p:sp>
      <p:sp>
        <p:nvSpPr>
          <p:cNvPr id="1609" name="PlaceHolder 2"/>
          <p:cNvSpPr>
            <a:spLocks noGrp="1"/>
          </p:cNvSpPr>
          <p:nvPr>
            <p:ph type="sldImg"/>
          </p:nvPr>
        </p:nvSpPr>
        <p:spPr>
          <a:xfrm>
            <a:off x="1150920" y="85104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Nous avons vue la construction du chemin de données pour chaque instruction prise indépendamment ; Pour obtenir le chemin de données complet de l’architecure MIPS, il ne reste plus qu’à combiner les différents chemins de donnée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ur la figure ci-dessus, nous avons combiner le chemin de données pour les instructions mémoires et les instructions de type R. L’introduction de multiplexeurs et de connexions est nécessaire pour assemblé un chemin de données unique à partir des éléments. Les multiplexeurs et leurs connexions sont mis en valeur.</a:t>
            </a:r>
            <a:endParaRPr b="0" lang="en-US" sz="1200" spc="-1" strike="noStrike">
              <a:solidFill>
                <a:srgbClr val="000000"/>
              </a:solidFill>
              <a:latin typeface="Times New Roman"/>
            </a:endParaRPr>
          </a:p>
        </p:txBody>
      </p:sp>
      <p:sp>
        <p:nvSpPr>
          <p:cNvPr id="1611" name="PlaceHolder 2"/>
          <p:cNvSpPr>
            <a:spLocks noGrp="1"/>
          </p:cNvSpPr>
          <p:nvPr>
            <p:ph type="sldImg"/>
          </p:nvPr>
        </p:nvSpPr>
        <p:spPr>
          <a:xfrm>
            <a:off x="1150920" y="85104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50920" y="851040"/>
            <a:ext cx="4556160" cy="3416040"/>
          </a:xfrm>
          <a:prstGeom prst="rect">
            <a:avLst/>
          </a:prstGeom>
          <a:ln w="0">
            <a:noFill/>
          </a:ln>
        </p:spPr>
      </p:sp>
      <p:sp>
        <p:nvSpPr>
          <p:cNvPr id="1613" name=""/>
          <p:cNvSpPr/>
          <p:nvPr/>
        </p:nvSpPr>
        <p:spPr>
          <a:xfrm>
            <a:off x="901800" y="4641840"/>
            <a:ext cx="5194080" cy="45086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La partie extraction d'instructions du chemin de données est accolée au chemin de données précédent. L'addition est mise en valeur. Le résultat est un chemin de données qui supporte une large part des opérations du jeu d'instructions MIPS. Les branchements et les sauts sont les pièces manquantes les plus importantes.</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body"/>
          </p:nvPr>
        </p:nvSpPr>
        <p:spPr>
          <a:xfrm>
            <a:off x="952560" y="46159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ci-dessus montre le chemin de données complet pour l'architecture MIPS. Il combine les éléments nécessaires aux différentes classes d'instructions. La construction du chemin de données complet nécessite l’introduction de multiplexeurs et de connexion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chemin de données peut alors exécuter les instructions de base (chargement/rangement d'un mot, opérations UAL et branchement) en un cycle d'horlo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Il reste à placer le contrôle permettant de piloter les différents signaux. Nous construirons tout d’abord le bloc de contrôle de l’UAL avant de définir la mise en oeuvre du contrôle et de le placer sur le chemin de données.</a:t>
            </a:r>
            <a:endParaRPr b="0" lang="en-US" sz="1200" spc="-1" strike="noStrike">
              <a:solidFill>
                <a:srgbClr val="000000"/>
              </a:solidFill>
              <a:latin typeface="Times New Roman"/>
            </a:endParaRPr>
          </a:p>
        </p:txBody>
      </p:sp>
      <p:sp>
        <p:nvSpPr>
          <p:cNvPr id="1615" name="PlaceHolder 2"/>
          <p:cNvSpPr>
            <a:spLocks noGrp="1"/>
          </p:cNvSpPr>
          <p:nvPr>
            <p:ph type="sldImg"/>
          </p:nvPr>
        </p:nvSpPr>
        <p:spPr>
          <a:xfrm>
            <a:off x="1150920" y="85104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body"/>
          </p:nvPr>
        </p:nvSpPr>
        <p:spPr>
          <a:xfrm>
            <a:off x="952560" y="46159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ci-dessus montre le chemin de données complet pour l'architecture MIPS. Il combine les éléments nécessaires aux différentes classes d'instructions. La construction du chemin de données complet nécessite l’introduction de multiplexeurs et de connexion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chemin de données peut alors exécuter les instructions de base (chargement/rangement d'un mot, opérations UAL et branchement) en un cycle d'horlo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Il reste à placer le contrôle permettant de piloter les différents signaux. Nous construirons tout d’abord le bloc de contrôle de l’UAL avant de définir la mise en oeuvre du contrôle et de le placer sur le chemin de données.</a:t>
            </a:r>
            <a:endParaRPr b="0" lang="en-US" sz="1200" spc="-1" strike="noStrike">
              <a:solidFill>
                <a:srgbClr val="000000"/>
              </a:solidFill>
              <a:latin typeface="Times New Roman"/>
            </a:endParaRPr>
          </a:p>
        </p:txBody>
      </p:sp>
      <p:sp>
        <p:nvSpPr>
          <p:cNvPr id="1617" name="PlaceHolder 2"/>
          <p:cNvSpPr>
            <a:spLocks noGrp="1"/>
          </p:cNvSpPr>
          <p:nvPr>
            <p:ph type="sldImg"/>
          </p:nvPr>
        </p:nvSpPr>
        <p:spPr>
          <a:xfrm>
            <a:off x="1150920" y="85104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252440" y="716040"/>
            <a:ext cx="4556160" cy="3416400"/>
          </a:xfrm>
          <a:prstGeom prst="rect">
            <a:avLst/>
          </a:prstGeom>
          <a:ln w="0">
            <a:noFill/>
          </a:ln>
        </p:spPr>
      </p:sp>
      <p:sp>
        <p:nvSpPr>
          <p:cNvPr id="1577"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252440" y="716040"/>
            <a:ext cx="4556160" cy="3416400"/>
          </a:xfrm>
          <a:prstGeom prst="rect">
            <a:avLst/>
          </a:prstGeom>
          <a:ln w="0">
            <a:noFill/>
          </a:ln>
        </p:spPr>
      </p:sp>
      <p:sp>
        <p:nvSpPr>
          <p:cNvPr id="1579"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252440" y="716040"/>
            <a:ext cx="4556160" cy="3416400"/>
          </a:xfrm>
          <a:prstGeom prst="rect">
            <a:avLst/>
          </a:prstGeom>
          <a:ln w="0">
            <a:noFill/>
          </a:ln>
        </p:spPr>
      </p:sp>
      <p:sp>
        <p:nvSpPr>
          <p:cNvPr id="1581"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252440" y="716040"/>
            <a:ext cx="4556160" cy="3416400"/>
          </a:xfrm>
          <a:prstGeom prst="rect">
            <a:avLst/>
          </a:prstGeom>
          <a:ln w="0">
            <a:noFill/>
          </a:ln>
        </p:spPr>
      </p:sp>
      <p:sp>
        <p:nvSpPr>
          <p:cNvPr id="1583"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8" name="PlaceHolder 2"/>
          <p:cNvSpPr>
            <a:spLocks noGrp="1"/>
          </p:cNvSpPr>
          <p:nvPr>
            <p:ph/>
          </p:nvPr>
        </p:nvSpPr>
        <p:spPr>
          <a:xfrm>
            <a:off x="396720" y="85536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9" name="PlaceHolder 3"/>
          <p:cNvSpPr>
            <a:spLocks noGrp="1"/>
          </p:cNvSpPr>
          <p:nvPr>
            <p:ph/>
          </p:nvPr>
        </p:nvSpPr>
        <p:spPr>
          <a:xfrm>
            <a:off x="396720" y="364968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1"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2"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4"/>
          <p:cNvSpPr>
            <a:spLocks noGrp="1"/>
          </p:cNvSpPr>
          <p:nvPr>
            <p:ph/>
          </p:nvPr>
        </p:nvSpPr>
        <p:spPr>
          <a:xfrm>
            <a:off x="39672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5"/>
          <p:cNvSpPr>
            <a:spLocks noGrp="1"/>
          </p:cNvSpPr>
          <p:nvPr>
            <p:ph/>
          </p:nvPr>
        </p:nvSpPr>
        <p:spPr>
          <a:xfrm>
            <a:off x="471168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6" name="PlaceHolder 2"/>
          <p:cNvSpPr>
            <a:spLocks noGrp="1"/>
          </p:cNvSpPr>
          <p:nvPr>
            <p:ph/>
          </p:nvPr>
        </p:nvSpPr>
        <p:spPr>
          <a:xfrm>
            <a:off x="39672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7" name="PlaceHolder 3"/>
          <p:cNvSpPr>
            <a:spLocks noGrp="1"/>
          </p:cNvSpPr>
          <p:nvPr>
            <p:ph/>
          </p:nvPr>
        </p:nvSpPr>
        <p:spPr>
          <a:xfrm>
            <a:off x="324396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4"/>
          <p:cNvSpPr>
            <a:spLocks noGrp="1"/>
          </p:cNvSpPr>
          <p:nvPr>
            <p:ph/>
          </p:nvPr>
        </p:nvSpPr>
        <p:spPr>
          <a:xfrm>
            <a:off x="609084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5"/>
          <p:cNvSpPr>
            <a:spLocks noGrp="1"/>
          </p:cNvSpPr>
          <p:nvPr>
            <p:ph/>
          </p:nvPr>
        </p:nvSpPr>
        <p:spPr>
          <a:xfrm>
            <a:off x="39672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6"/>
          <p:cNvSpPr>
            <a:spLocks noGrp="1"/>
          </p:cNvSpPr>
          <p:nvPr>
            <p:ph/>
          </p:nvPr>
        </p:nvSpPr>
        <p:spPr>
          <a:xfrm>
            <a:off x="324396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7"/>
          <p:cNvSpPr>
            <a:spLocks noGrp="1"/>
          </p:cNvSpPr>
          <p:nvPr>
            <p:ph/>
          </p:nvPr>
        </p:nvSpPr>
        <p:spPr>
          <a:xfrm>
            <a:off x="609084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396720" y="855360"/>
            <a:ext cx="8420400" cy="534996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9"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1" name="PlaceHolder 2"/>
          <p:cNvSpPr>
            <a:spLocks noGrp="1"/>
          </p:cNvSpPr>
          <p:nvPr>
            <p:ph/>
          </p:nvPr>
        </p:nvSpPr>
        <p:spPr>
          <a:xfrm>
            <a:off x="39672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 name="PlaceHolder 3"/>
          <p:cNvSpPr>
            <a:spLocks noGrp="1"/>
          </p:cNvSpPr>
          <p:nvPr>
            <p:ph/>
          </p:nvPr>
        </p:nvSpPr>
        <p:spPr>
          <a:xfrm>
            <a:off x="471168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63360"/>
            <a:ext cx="8775720" cy="218052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6"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 name="PlaceHolder 3"/>
          <p:cNvSpPr>
            <a:spLocks noGrp="1"/>
          </p:cNvSpPr>
          <p:nvPr>
            <p:ph/>
          </p:nvPr>
        </p:nvSpPr>
        <p:spPr>
          <a:xfrm>
            <a:off x="471168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4"/>
          <p:cNvSpPr>
            <a:spLocks noGrp="1"/>
          </p:cNvSpPr>
          <p:nvPr>
            <p:ph/>
          </p:nvPr>
        </p:nvSpPr>
        <p:spPr>
          <a:xfrm>
            <a:off x="39672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0" name="PlaceHolder 2"/>
          <p:cNvSpPr>
            <a:spLocks noGrp="1"/>
          </p:cNvSpPr>
          <p:nvPr>
            <p:ph/>
          </p:nvPr>
        </p:nvSpPr>
        <p:spPr>
          <a:xfrm>
            <a:off x="39672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1"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4"/>
          <p:cNvSpPr>
            <a:spLocks noGrp="1"/>
          </p:cNvSpPr>
          <p:nvPr>
            <p:ph/>
          </p:nvPr>
        </p:nvSpPr>
        <p:spPr>
          <a:xfrm>
            <a:off x="471168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4"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5"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4"/>
          <p:cNvSpPr>
            <a:spLocks noGrp="1"/>
          </p:cNvSpPr>
          <p:nvPr>
            <p:ph/>
          </p:nvPr>
        </p:nvSpPr>
        <p:spPr>
          <a:xfrm>
            <a:off x="396720" y="364968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480" y="54612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3" name=""/>
          <p:cNvSpPr/>
          <p:nvPr/>
        </p:nvSpPr>
        <p:spPr>
          <a:xfrm>
            <a:off x="8191440" y="6626160"/>
            <a:ext cx="774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Const. C.D.</a:t>
            </a:r>
            <a:endParaRPr b="0" lang="en-US" sz="900" spc="-1" strike="noStrike">
              <a:solidFill>
                <a:srgbClr val="000000"/>
              </a:solidFill>
              <a:latin typeface="Times New Roman"/>
            </a:endParaRPr>
          </a:p>
        </p:txBody>
      </p:sp>
      <p:sp>
        <p:nvSpPr>
          <p:cNvPr id="4" name=""/>
          <p:cNvSpPr/>
          <p:nvPr/>
        </p:nvSpPr>
        <p:spPr>
          <a:xfrm>
            <a:off x="8623800" y="6626160"/>
            <a:ext cx="7041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E660984-9CCB-46C4-A8E5-44013ACA6758}"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PlaceHolder 2"/>
          <p:cNvSpPr>
            <a:spLocks noGrp="1"/>
          </p:cNvSpPr>
          <p:nvPr>
            <p:ph type="body"/>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429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nstruction du chemin de données</a:t>
            </a:r>
            <a:endParaRPr b="1" lang="en-US" sz="3200" spc="-1" strike="noStrike">
              <a:solidFill>
                <a:srgbClr val="fafd00"/>
              </a:solidFill>
              <a:latin typeface="Arial"/>
            </a:endParaRPr>
          </a:p>
        </p:txBody>
      </p:sp>
      <p:sp>
        <p:nvSpPr>
          <p:cNvPr id="46" name=""/>
          <p:cNvSpPr/>
          <p:nvPr/>
        </p:nvSpPr>
        <p:spPr>
          <a:xfrm>
            <a:off x="1582560" y="1755720"/>
            <a:ext cx="614700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868400" y="3514680"/>
            <a:ext cx="162576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939680" y="395748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49" name=""/>
          <p:cNvSpPr/>
          <p:nvPr/>
        </p:nvSpPr>
        <p:spPr>
          <a:xfrm flipH="1" flipV="1" rot="10800000">
            <a:off x="2737440" y="30121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flipV="1" rot="5340000">
            <a:off x="3562560" y="3902040"/>
            <a:ext cx="292320" cy="634680"/>
          </a:xfrm>
          <a:custGeom>
            <a:avLst/>
            <a:gdLst>
              <a:gd name="textAreaLeft" fmla="*/ 64080 w 292320"/>
              <a:gd name="textAreaRight" fmla="*/ 228240 w 292320"/>
              <a:gd name="textAreaTop" fmla="*/ 139320 h 634680"/>
              <a:gd name="textAreaBottom" fmla="*/ 495360 h 634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862440" y="213048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966840" y="356868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53" name=""/>
          <p:cNvSpPr/>
          <p:nvPr/>
        </p:nvSpPr>
        <p:spPr>
          <a:xfrm flipH="1" flipV="1" rot="16080000">
            <a:off x="5633280" y="3913920"/>
            <a:ext cx="291960" cy="635040"/>
          </a:xfrm>
          <a:custGeom>
            <a:avLst/>
            <a:gdLst>
              <a:gd name="textAreaLeft" fmla="*/ 64080 w 291960"/>
              <a:gd name="textAreaRight" fmla="*/ 227880 w 29196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254320" y="302508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080000">
            <a:off x="5618880" y="2286360"/>
            <a:ext cx="291960" cy="612720"/>
          </a:xfrm>
          <a:custGeom>
            <a:avLst/>
            <a:gdLst>
              <a:gd name="textAreaLeft" fmla="*/ 64080 w 291960"/>
              <a:gd name="textAreaRight" fmla="*/ 227880 w 291960"/>
              <a:gd name="textAreaTop" fmla="*/ 134640 h 612720"/>
              <a:gd name="textAreaBottom" fmla="*/ 478080 h 612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8760" y="2155680"/>
            <a:ext cx="1511280" cy="82080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134040" y="2463840"/>
            <a:ext cx="1068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trées</a:t>
            </a:r>
            <a:endParaRPr b="0" lang="en-US" sz="2000" spc="-1" strike="noStrike">
              <a:solidFill>
                <a:srgbClr val="000000"/>
              </a:solidFill>
              <a:latin typeface="Times New Roman"/>
            </a:endParaRPr>
          </a:p>
        </p:txBody>
      </p:sp>
      <p:sp>
        <p:nvSpPr>
          <p:cNvPr id="58" name=""/>
          <p:cNvSpPr/>
          <p:nvPr/>
        </p:nvSpPr>
        <p:spPr>
          <a:xfrm>
            <a:off x="1932120" y="2104920"/>
            <a:ext cx="1574640" cy="952560"/>
          </a:xfrm>
          <a:prstGeom prst="cube">
            <a:avLst>
              <a:gd name="adj" fmla="val 24995"/>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47960" y="248904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ôle</a:t>
            </a:r>
            <a:endParaRPr b="0" lang="en-US" sz="2000" spc="-1" strike="noStrike">
              <a:solidFill>
                <a:srgbClr val="000000"/>
              </a:solidFill>
              <a:latin typeface="Times New Roman"/>
            </a:endParaRPr>
          </a:p>
        </p:txBody>
      </p:sp>
      <p:sp>
        <p:nvSpPr>
          <p:cNvPr id="60" name=""/>
          <p:cNvSpPr/>
          <p:nvPr/>
        </p:nvSpPr>
        <p:spPr>
          <a:xfrm flipH="1" flipV="1" rot="5340000">
            <a:off x="3464280" y="2375280"/>
            <a:ext cx="292320" cy="438120"/>
          </a:xfrm>
          <a:custGeom>
            <a:avLst/>
            <a:gdLst>
              <a:gd name="textAreaLeft" fmla="*/ 64080 w 292320"/>
              <a:gd name="textAreaRight" fmla="*/ 228240 w 29232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72120" y="3768840"/>
            <a:ext cx="1435320" cy="85068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86680" y="406404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rties</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08"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10"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12" name=""/>
          <p:cNvGrpSpPr/>
          <p:nvPr/>
        </p:nvGrpSpPr>
        <p:grpSpPr>
          <a:xfrm>
            <a:off x="7126200" y="1108080"/>
            <a:ext cx="752400" cy="1165320"/>
            <a:chOff x="7126200" y="1108080"/>
            <a:chExt cx="752400" cy="1165320"/>
          </a:xfrm>
        </p:grpSpPr>
        <p:sp>
          <p:nvSpPr>
            <p:cNvPr id="413" name=""/>
            <p:cNvSpPr/>
            <p:nvPr/>
          </p:nvSpPr>
          <p:spPr>
            <a:xfrm>
              <a:off x="7132680" y="110808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132680" y="1820880"/>
              <a:ext cx="0" cy="439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139160" y="1565280"/>
              <a:ext cx="2365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126200" y="1690560"/>
              <a:ext cx="26208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139160" y="1108080"/>
              <a:ext cx="73332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139160" y="2001960"/>
              <a:ext cx="733320" cy="27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878600" y="1434960"/>
              <a:ext cx="0" cy="56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1346040" y="852480"/>
            <a:ext cx="1433520" cy="1838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449600" y="1347840"/>
            <a:ext cx="374760" cy="75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6090840" y="1413000"/>
            <a:ext cx="10479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6090840" y="1951200"/>
            <a:ext cx="9968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86568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872480" y="1747800"/>
            <a:ext cx="357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43160" y="1944720"/>
            <a:ext cx="153468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afd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d'</a:t>
            </a:r>
            <a:r>
              <a:rPr b="1" lang="en-US" sz="1600" spc="-1" strike="noStrike">
                <a:solidFill>
                  <a:srgbClr val="fafd00"/>
                </a:solidFill>
                <a:latin typeface="Arial"/>
              </a:rPr>
              <a:t>instructions</a:t>
            </a:r>
            <a:endParaRPr b="0" lang="en-US" sz="1600" spc="-1" strike="noStrike">
              <a:solidFill>
                <a:srgbClr val="000000"/>
              </a:solidFill>
              <a:latin typeface="Times New Roman"/>
            </a:endParaRPr>
          </a:p>
        </p:txBody>
      </p:sp>
      <p:sp>
        <p:nvSpPr>
          <p:cNvPr id="427" name=""/>
          <p:cNvSpPr/>
          <p:nvPr/>
        </p:nvSpPr>
        <p:spPr>
          <a:xfrm>
            <a:off x="7148880" y="1322280"/>
            <a:ext cx="675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ADD</a:t>
            </a:r>
            <a:endParaRPr b="0" lang="en-US" sz="1800" spc="-1" strike="noStrike">
              <a:solidFill>
                <a:srgbClr val="000000"/>
              </a:solidFill>
              <a:latin typeface="Times New Roman"/>
            </a:endParaRPr>
          </a:p>
        </p:txBody>
      </p:sp>
      <p:sp>
        <p:nvSpPr>
          <p:cNvPr id="428" name=""/>
          <p:cNvSpPr/>
          <p:nvPr/>
        </p:nvSpPr>
        <p:spPr>
          <a:xfrm>
            <a:off x="4395600" y="137160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CP</a:t>
            </a:r>
            <a:endParaRPr b="0" lang="en-US" sz="1800" spc="-1" strike="noStrike">
              <a:solidFill>
                <a:srgbClr val="000000"/>
              </a:solidFill>
              <a:latin typeface="Times New Roman"/>
            </a:endParaRPr>
          </a:p>
        </p:txBody>
      </p:sp>
      <p:sp>
        <p:nvSpPr>
          <p:cNvPr id="429" name=""/>
          <p:cNvSpPr/>
          <p:nvPr/>
        </p:nvSpPr>
        <p:spPr>
          <a:xfrm>
            <a:off x="1839960" y="142560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430" name=""/>
          <p:cNvSpPr/>
          <p:nvPr/>
        </p:nvSpPr>
        <p:spPr>
          <a:xfrm>
            <a:off x="5302080" y="168444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4344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35360" y="2114640"/>
            <a:ext cx="0" cy="330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97320" y="2425680"/>
            <a:ext cx="75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ae00"/>
                </a:solidFill>
                <a:latin typeface="Arial"/>
              </a:rPr>
              <a:t>Ecrire</a:t>
            </a:r>
            <a:endParaRPr b="0" lang="en-US" sz="1600" spc="-1" strike="noStrike">
              <a:solidFill>
                <a:srgbClr val="000000"/>
              </a:solidFill>
              <a:latin typeface="Times New Roman"/>
            </a:endParaRPr>
          </a:p>
        </p:txBody>
      </p:sp>
      <p:sp>
        <p:nvSpPr>
          <p:cNvPr id="434" name=""/>
          <p:cNvSpPr/>
          <p:nvPr/>
        </p:nvSpPr>
        <p:spPr>
          <a:xfrm>
            <a:off x="2786040" y="155268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92000" y="110808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345320" y="981000"/>
            <a:ext cx="1141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 </a:t>
            </a:r>
            <a:r>
              <a:rPr b="1"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437" name=""/>
          <p:cNvSpPr/>
          <p:nvPr/>
        </p:nvSpPr>
        <p:spPr>
          <a:xfrm>
            <a:off x="713448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438" name=""/>
          <p:cNvSpPr/>
          <p:nvPr/>
        </p:nvSpPr>
        <p:spPr>
          <a:xfrm>
            <a:off x="743760" y="2892600"/>
            <a:ext cx="259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 d'instruction</a:t>
            </a:r>
            <a:endParaRPr b="0" lang="en-US" sz="2000" spc="-1" strike="noStrike">
              <a:solidFill>
                <a:srgbClr val="000000"/>
              </a:solidFill>
              <a:latin typeface="Times New Roman"/>
            </a:endParaRPr>
          </a:p>
        </p:txBody>
      </p:sp>
      <p:sp>
        <p:nvSpPr>
          <p:cNvPr id="439" name=""/>
          <p:cNvSpPr/>
          <p:nvPr/>
        </p:nvSpPr>
        <p:spPr>
          <a:xfrm>
            <a:off x="3434040" y="2892600"/>
            <a:ext cx="3026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mpteur de programme</a:t>
            </a:r>
            <a:endParaRPr b="0" lang="en-US" sz="2000" spc="-1" strike="noStrike">
              <a:solidFill>
                <a:srgbClr val="000000"/>
              </a:solidFill>
              <a:latin typeface="Times New Roman"/>
            </a:endParaRPr>
          </a:p>
        </p:txBody>
      </p:sp>
      <p:sp>
        <p:nvSpPr>
          <p:cNvPr id="440" name=""/>
          <p:cNvSpPr/>
          <p:nvPr/>
        </p:nvSpPr>
        <p:spPr>
          <a:xfrm>
            <a:off x="6473880" y="2892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000000"/>
              </a:solidFill>
              <a:latin typeface="Times New Roman"/>
            </a:endParaRPr>
          </a:p>
        </p:txBody>
      </p:sp>
      <p:sp>
        <p:nvSpPr>
          <p:cNvPr id="441" name="PlaceHolder 2"/>
          <p:cNvSpPr>
            <a:spLocks noGrp="1"/>
          </p:cNvSpPr>
          <p:nvPr>
            <p:ph/>
          </p:nvPr>
        </p:nvSpPr>
        <p:spPr>
          <a:xfrm>
            <a:off x="396720" y="3936600"/>
            <a:ext cx="8420400" cy="27385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Deux éléments d'état sont nécessaires pour stocker et accéder aux instructions, ainsi qu’un additionneur pour calculer l'adresse de la prochaine instruction.</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dditionneur est une UAL câblée pour effectuer dans tous les cas une addition de ses deux entrées 32 bits et placer le résultat dans la sortie.</a:t>
            </a:r>
            <a:endParaRPr b="0" lang="en-US" sz="24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43" name=""/>
          <p:cNvGrpSpPr/>
          <p:nvPr/>
        </p:nvGrpSpPr>
        <p:grpSpPr>
          <a:xfrm>
            <a:off x="5751360" y="4102200"/>
            <a:ext cx="538200" cy="755280"/>
            <a:chOff x="5751360" y="4102200"/>
            <a:chExt cx="538200" cy="755280"/>
          </a:xfrm>
        </p:grpSpPr>
        <p:sp>
          <p:nvSpPr>
            <p:cNvPr id="444" name=""/>
            <p:cNvSpPr/>
            <p:nvPr/>
          </p:nvSpPr>
          <p:spPr>
            <a:xfrm>
              <a:off x="5757840" y="4102200"/>
              <a:ext cx="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757840" y="4564080"/>
              <a:ext cx="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764320" y="4398840"/>
              <a:ext cx="164880" cy="684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47" name=""/>
            <p:cNvSpPr/>
            <p:nvPr/>
          </p:nvSpPr>
          <p:spPr>
            <a:xfrm flipH="1">
              <a:off x="5751360" y="4479840"/>
              <a:ext cx="190800" cy="71640"/>
            </a:xfrm>
            <a:prstGeom prst="line">
              <a:avLst/>
            </a:prstGeom>
            <a:ln w="1260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48" name=""/>
            <p:cNvSpPr/>
            <p:nvPr/>
          </p:nvSpPr>
          <p:spPr>
            <a:xfrm>
              <a:off x="5764320" y="4102200"/>
              <a:ext cx="51912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764320" y="4676400"/>
              <a:ext cx="519120" cy="18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289560" y="4313160"/>
              <a:ext cx="0" cy="36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4089240" y="5097600"/>
            <a:ext cx="1000440" cy="118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108240" y="5079960"/>
            <a:ext cx="263520" cy="487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3535200" y="4297320"/>
            <a:ext cx="226080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5163840" y="4646520"/>
            <a:ext cx="59508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47800" y="5243400"/>
            <a:ext cx="39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36680" y="583236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457" name=""/>
          <p:cNvSpPr/>
          <p:nvPr/>
        </p:nvSpPr>
        <p:spPr>
          <a:xfrm>
            <a:off x="5744160" y="43038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ADD</a:t>
            </a:r>
            <a:endParaRPr b="0" lang="en-US" sz="1000" spc="-1" strike="noStrike">
              <a:solidFill>
                <a:srgbClr val="000000"/>
              </a:solidFill>
              <a:latin typeface="Times New Roman"/>
            </a:endParaRPr>
          </a:p>
        </p:txBody>
      </p:sp>
      <p:sp>
        <p:nvSpPr>
          <p:cNvPr id="458" name=""/>
          <p:cNvSpPr/>
          <p:nvPr/>
        </p:nvSpPr>
        <p:spPr>
          <a:xfrm>
            <a:off x="3043440" y="51516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459" name=""/>
          <p:cNvSpPr/>
          <p:nvPr/>
        </p:nvSpPr>
        <p:spPr>
          <a:xfrm>
            <a:off x="4412160" y="5489640"/>
            <a:ext cx="6476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instruction</a:t>
            </a:r>
            <a:endParaRPr b="0" lang="en-US" sz="800" spc="-1" strike="noStrike">
              <a:solidFill>
                <a:srgbClr val="000000"/>
              </a:solidFill>
              <a:latin typeface="Times New Roman"/>
            </a:endParaRPr>
          </a:p>
        </p:txBody>
      </p:sp>
      <p:sp>
        <p:nvSpPr>
          <p:cNvPr id="460" name=""/>
          <p:cNvSpPr/>
          <p:nvPr/>
        </p:nvSpPr>
        <p:spPr>
          <a:xfrm>
            <a:off x="3419640" y="5243400"/>
            <a:ext cx="59832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059720" y="5200560"/>
            <a:ext cx="75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Adresse</a:t>
            </a:r>
            <a:endParaRPr b="0" lang="en-US" sz="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 </a:t>
            </a:r>
            <a:r>
              <a:rPr b="0" lang="en-US" sz="800" spc="-1" strike="noStrike">
                <a:solidFill>
                  <a:srgbClr val="ffffff"/>
                </a:solidFill>
                <a:latin typeface="Arial"/>
              </a:rPr>
              <a:t>d'instruction</a:t>
            </a:r>
            <a:endParaRPr b="0" lang="en-US" sz="800" spc="-1" strike="noStrike">
              <a:solidFill>
                <a:srgbClr val="000000"/>
              </a:solidFill>
              <a:latin typeface="Times New Roman"/>
            </a:endParaRPr>
          </a:p>
        </p:txBody>
      </p:sp>
      <p:sp>
        <p:nvSpPr>
          <p:cNvPr id="462" name=""/>
          <p:cNvSpPr/>
          <p:nvPr/>
        </p:nvSpPr>
        <p:spPr>
          <a:xfrm>
            <a:off x="5733000" y="4567320"/>
            <a:ext cx="53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Somme</a:t>
            </a:r>
            <a:endParaRPr b="0" lang="en-US" sz="800" spc="-1" strike="noStrike">
              <a:solidFill>
                <a:srgbClr val="000000"/>
              </a:solidFill>
              <a:latin typeface="Times New Roman"/>
            </a:endParaRPr>
          </a:p>
        </p:txBody>
      </p:sp>
      <p:sp>
        <p:nvSpPr>
          <p:cNvPr id="463" name=""/>
          <p:cNvSpPr/>
          <p:nvPr/>
        </p:nvSpPr>
        <p:spPr>
          <a:xfrm>
            <a:off x="4845960" y="450216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464" name=""/>
          <p:cNvSpPr/>
          <p:nvPr/>
        </p:nvSpPr>
        <p:spPr>
          <a:xfrm flipV="1">
            <a:off x="6566040" y="3852360"/>
            <a:ext cx="0" cy="64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2635200" y="3859200"/>
            <a:ext cx="39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641680" y="3865680"/>
            <a:ext cx="0" cy="13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73360" y="4334040"/>
            <a:ext cx="0" cy="8697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715800" y="4282920"/>
            <a:ext cx="530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CP+4</a:t>
            </a:r>
            <a:endParaRPr b="0" lang="en-US" sz="1200" spc="-1" strike="noStrike">
              <a:solidFill>
                <a:srgbClr val="000000"/>
              </a:solidFill>
              <a:latin typeface="Times New Roman"/>
            </a:endParaRPr>
          </a:p>
        </p:txBody>
      </p:sp>
      <p:sp>
        <p:nvSpPr>
          <p:cNvPr id="469" name=""/>
          <p:cNvSpPr/>
          <p:nvPr/>
        </p:nvSpPr>
        <p:spPr>
          <a:xfrm>
            <a:off x="6291360" y="4492800"/>
            <a:ext cx="26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114880" y="5540400"/>
            <a:ext cx="355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s utilisé pour extraire des instructions et incrémenter le compteur de programme. L'instruction extraite sera utilisée par d'autres parties de ce chemin.</a:t>
            </a:r>
            <a:endParaRPr b="0" lang="en-US" sz="2400" spc="-1" strike="noStrike">
              <a:solidFill>
                <a:srgbClr val="ffffff"/>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73" name=""/>
          <p:cNvGrpSpPr/>
          <p:nvPr/>
        </p:nvGrpSpPr>
        <p:grpSpPr>
          <a:xfrm>
            <a:off x="5751360" y="4102200"/>
            <a:ext cx="538200" cy="755280"/>
            <a:chOff x="5751360" y="4102200"/>
            <a:chExt cx="538200" cy="755280"/>
          </a:xfrm>
        </p:grpSpPr>
        <p:sp>
          <p:nvSpPr>
            <p:cNvPr id="474" name=""/>
            <p:cNvSpPr/>
            <p:nvPr/>
          </p:nvSpPr>
          <p:spPr>
            <a:xfrm>
              <a:off x="5757840" y="4102200"/>
              <a:ext cx="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757840" y="4564080"/>
              <a:ext cx="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64320" y="4398840"/>
              <a:ext cx="164880" cy="684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77" name=""/>
            <p:cNvSpPr/>
            <p:nvPr/>
          </p:nvSpPr>
          <p:spPr>
            <a:xfrm flipH="1">
              <a:off x="5751360" y="4479840"/>
              <a:ext cx="190800" cy="71640"/>
            </a:xfrm>
            <a:prstGeom prst="line">
              <a:avLst/>
            </a:prstGeom>
            <a:ln w="1260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78" name=""/>
            <p:cNvSpPr/>
            <p:nvPr/>
          </p:nvSpPr>
          <p:spPr>
            <a:xfrm>
              <a:off x="5764320" y="4102200"/>
              <a:ext cx="51912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5764320" y="4676400"/>
              <a:ext cx="519120" cy="18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289560" y="4313160"/>
              <a:ext cx="0" cy="36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4089240" y="5097600"/>
            <a:ext cx="1000440" cy="118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08240" y="5079960"/>
            <a:ext cx="263520" cy="487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3535200" y="4297320"/>
            <a:ext cx="226080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163840" y="4646520"/>
            <a:ext cx="59508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79840" y="5243400"/>
            <a:ext cx="32688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036680" y="583236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487" name=""/>
          <p:cNvSpPr/>
          <p:nvPr/>
        </p:nvSpPr>
        <p:spPr>
          <a:xfrm>
            <a:off x="5744160" y="43038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ADD</a:t>
            </a:r>
            <a:endParaRPr b="0" lang="en-US" sz="1000" spc="-1" strike="noStrike">
              <a:solidFill>
                <a:srgbClr val="000000"/>
              </a:solidFill>
              <a:latin typeface="Times New Roman"/>
            </a:endParaRPr>
          </a:p>
        </p:txBody>
      </p:sp>
      <p:sp>
        <p:nvSpPr>
          <p:cNvPr id="488" name=""/>
          <p:cNvSpPr/>
          <p:nvPr/>
        </p:nvSpPr>
        <p:spPr>
          <a:xfrm>
            <a:off x="3043440" y="51516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489" name=""/>
          <p:cNvSpPr/>
          <p:nvPr/>
        </p:nvSpPr>
        <p:spPr>
          <a:xfrm>
            <a:off x="4412160" y="5489640"/>
            <a:ext cx="6476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instruction</a:t>
            </a:r>
            <a:endParaRPr b="0" lang="en-US" sz="800" spc="-1" strike="noStrike">
              <a:solidFill>
                <a:srgbClr val="000000"/>
              </a:solidFill>
              <a:latin typeface="Times New Roman"/>
            </a:endParaRPr>
          </a:p>
        </p:txBody>
      </p:sp>
      <p:sp>
        <p:nvSpPr>
          <p:cNvPr id="490" name=""/>
          <p:cNvSpPr/>
          <p:nvPr/>
        </p:nvSpPr>
        <p:spPr>
          <a:xfrm>
            <a:off x="5114880" y="5540400"/>
            <a:ext cx="355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19640" y="5243400"/>
            <a:ext cx="59832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59720" y="5200560"/>
            <a:ext cx="75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Adresse</a:t>
            </a:r>
            <a:endParaRPr b="0" lang="en-US" sz="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 </a:t>
            </a:r>
            <a:r>
              <a:rPr b="0" lang="en-US" sz="800" spc="-1" strike="noStrike">
                <a:solidFill>
                  <a:srgbClr val="ffffff"/>
                </a:solidFill>
                <a:latin typeface="Arial"/>
              </a:rPr>
              <a:t>d'instruction</a:t>
            </a:r>
            <a:endParaRPr b="0" lang="en-US" sz="800" spc="-1" strike="noStrike">
              <a:solidFill>
                <a:srgbClr val="000000"/>
              </a:solidFill>
              <a:latin typeface="Times New Roman"/>
            </a:endParaRPr>
          </a:p>
        </p:txBody>
      </p:sp>
      <p:sp>
        <p:nvSpPr>
          <p:cNvPr id="493" name=""/>
          <p:cNvSpPr/>
          <p:nvPr/>
        </p:nvSpPr>
        <p:spPr>
          <a:xfrm>
            <a:off x="5733000" y="4567320"/>
            <a:ext cx="53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Somme</a:t>
            </a:r>
            <a:endParaRPr b="0" lang="en-US" sz="800" spc="-1" strike="noStrike">
              <a:solidFill>
                <a:srgbClr val="000000"/>
              </a:solidFill>
              <a:latin typeface="Times New Roman"/>
            </a:endParaRPr>
          </a:p>
        </p:txBody>
      </p:sp>
      <p:sp>
        <p:nvSpPr>
          <p:cNvPr id="494" name=""/>
          <p:cNvSpPr/>
          <p:nvPr/>
        </p:nvSpPr>
        <p:spPr>
          <a:xfrm>
            <a:off x="4992840" y="4626000"/>
            <a:ext cx="2379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4</a:t>
            </a:r>
            <a:endParaRPr b="0" lang="en-US" sz="800" spc="-1" strike="noStrike">
              <a:solidFill>
                <a:srgbClr val="000000"/>
              </a:solidFill>
              <a:latin typeface="Times New Roman"/>
            </a:endParaRPr>
          </a:p>
        </p:txBody>
      </p:sp>
      <p:sp>
        <p:nvSpPr>
          <p:cNvPr id="495" name=""/>
          <p:cNvSpPr/>
          <p:nvPr/>
        </p:nvSpPr>
        <p:spPr>
          <a:xfrm>
            <a:off x="6323040" y="4492800"/>
            <a:ext cx="20484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6566040" y="3820680"/>
            <a:ext cx="0" cy="709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2603520" y="3859200"/>
            <a:ext cx="400032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41680" y="3897360"/>
            <a:ext cx="0" cy="13064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573360" y="4334040"/>
            <a:ext cx="0" cy="8697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715800" y="4282920"/>
            <a:ext cx="530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CP+4</a:t>
            </a:r>
            <a:endParaRPr b="0" lang="en-US" sz="1200" spc="-1" strike="noStrike">
              <a:solidFill>
                <a:srgbClr val="000000"/>
              </a:solidFill>
              <a:latin typeface="Times New Roman"/>
            </a:endParaRPr>
          </a:p>
        </p:txBody>
      </p:sp>
      <p:sp>
        <p:nvSpPr>
          <p:cNvPr id="501" name="PlaceHolder 2"/>
          <p:cNvSpPr>
            <a:spLocks noGrp="1"/>
          </p:cNvSpPr>
          <p:nvPr>
            <p:ph/>
          </p:nvPr>
        </p:nvSpPr>
        <p:spPr>
          <a:xfrm>
            <a:off x="1270080" y="1460160"/>
            <a:ext cx="7547040" cy="4745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Mips utilise une mémoire 8 bits. Une instruction de 32 bits est donc codées sur 4*8bits. Il est donc nécessaire d’incrémenter de 4 octets l’adresse courante pour aller à l’instruction suivante. </a:t>
            </a:r>
            <a:endParaRPr b="0"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Ainsi CP+4 est l’adresse de l’instruction suivante</a:t>
            </a:r>
            <a:r>
              <a:rPr b="0" lang="fr-FR" sz="2400" spc="-1" strike="noStrike">
                <a:solidFill>
                  <a:srgbClr val="ffffff"/>
                </a:solidFill>
                <a:latin typeface="Arial"/>
              </a:rPr>
              <a:t>.</a:t>
            </a:r>
            <a:endParaRPr b="0" lang="en-US" sz="2400" spc="-1" strike="noStrike">
              <a:solidFill>
                <a:srgbClr val="ffffff"/>
              </a:solidFill>
              <a:latin typeface="Arial"/>
            </a:endParaRPr>
          </a:p>
        </p:txBody>
      </p:sp>
      <p:grpSp>
        <p:nvGrpSpPr>
          <p:cNvPr id="502" name=""/>
          <p:cNvGrpSpPr/>
          <p:nvPr/>
        </p:nvGrpSpPr>
        <p:grpSpPr>
          <a:xfrm>
            <a:off x="63360" y="782640"/>
            <a:ext cx="890640" cy="1087560"/>
            <a:chOff x="63360" y="782640"/>
            <a:chExt cx="890640" cy="1087560"/>
          </a:xfrm>
        </p:grpSpPr>
        <p:grpSp>
          <p:nvGrpSpPr>
            <p:cNvPr id="503" name=""/>
            <p:cNvGrpSpPr/>
            <p:nvPr/>
          </p:nvGrpSpPr>
          <p:grpSpPr>
            <a:xfrm>
              <a:off x="365040" y="782640"/>
              <a:ext cx="588960" cy="565200"/>
              <a:chOff x="365040" y="782640"/>
              <a:chExt cx="588960" cy="565200"/>
            </a:xfrm>
          </p:grpSpPr>
          <p:sp>
            <p:nvSpPr>
              <p:cNvPr id="504" name=""/>
              <p:cNvSpPr/>
              <p:nvPr/>
            </p:nvSpPr>
            <p:spPr>
              <a:xfrm>
                <a:off x="609480" y="968400"/>
                <a:ext cx="136800" cy="244440"/>
              </a:xfrm>
              <a:custGeom>
                <a:avLst/>
                <a:gdLst/>
                <a:ahLst/>
                <a:rect l="l" t="t" r="r" b="b"/>
                <a:pathLst>
                  <a:path w="86" h="154">
                    <a:moveTo>
                      <a:pt x="28" y="33"/>
                    </a:moveTo>
                    <a:lnTo>
                      <a:pt x="44" y="12"/>
                    </a:lnTo>
                    <a:lnTo>
                      <a:pt x="58" y="0"/>
                    </a:lnTo>
                    <a:lnTo>
                      <a:pt x="71" y="0"/>
                    </a:lnTo>
                    <a:lnTo>
                      <a:pt x="83" y="8"/>
                    </a:lnTo>
                    <a:lnTo>
                      <a:pt x="85" y="19"/>
                    </a:lnTo>
                    <a:lnTo>
                      <a:pt x="81" y="35"/>
                    </a:lnTo>
                    <a:lnTo>
                      <a:pt x="73" y="50"/>
                    </a:lnTo>
                    <a:lnTo>
                      <a:pt x="62" y="71"/>
                    </a:lnTo>
                    <a:lnTo>
                      <a:pt x="56" y="98"/>
                    </a:lnTo>
                    <a:lnTo>
                      <a:pt x="52" y="119"/>
                    </a:lnTo>
                    <a:lnTo>
                      <a:pt x="50" y="133"/>
                    </a:lnTo>
                    <a:lnTo>
                      <a:pt x="40" y="147"/>
                    </a:lnTo>
                    <a:lnTo>
                      <a:pt x="23" y="153"/>
                    </a:lnTo>
                    <a:lnTo>
                      <a:pt x="5" y="145"/>
                    </a:lnTo>
                    <a:lnTo>
                      <a:pt x="0" y="129"/>
                    </a:lnTo>
                    <a:lnTo>
                      <a:pt x="1" y="100"/>
                    </a:lnTo>
                    <a:lnTo>
                      <a:pt x="7" y="74"/>
                    </a:lnTo>
                    <a:lnTo>
                      <a:pt x="17" y="53"/>
                    </a:lnTo>
                    <a:lnTo>
                      <a:pt x="28"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2640" y="944640"/>
                <a:ext cx="184320" cy="191880"/>
              </a:xfrm>
              <a:custGeom>
                <a:avLst/>
                <a:gdLst/>
                <a:ahLst/>
                <a:rect l="l" t="t" r="r" b="b"/>
                <a:pathLst>
                  <a:path w="116" h="121">
                    <a:moveTo>
                      <a:pt x="80" y="9"/>
                    </a:moveTo>
                    <a:lnTo>
                      <a:pt x="111" y="12"/>
                    </a:lnTo>
                    <a:lnTo>
                      <a:pt x="115" y="20"/>
                    </a:lnTo>
                    <a:lnTo>
                      <a:pt x="109" y="29"/>
                    </a:lnTo>
                    <a:lnTo>
                      <a:pt x="92" y="30"/>
                    </a:lnTo>
                    <a:lnTo>
                      <a:pt x="63" y="22"/>
                    </a:lnTo>
                    <a:lnTo>
                      <a:pt x="40" y="14"/>
                    </a:lnTo>
                    <a:lnTo>
                      <a:pt x="26" y="14"/>
                    </a:lnTo>
                    <a:lnTo>
                      <a:pt x="17" y="33"/>
                    </a:lnTo>
                    <a:lnTo>
                      <a:pt x="16" y="55"/>
                    </a:lnTo>
                    <a:lnTo>
                      <a:pt x="19" y="82"/>
                    </a:lnTo>
                    <a:lnTo>
                      <a:pt x="26" y="95"/>
                    </a:lnTo>
                    <a:lnTo>
                      <a:pt x="33" y="99"/>
                    </a:lnTo>
                    <a:lnTo>
                      <a:pt x="30" y="109"/>
                    </a:lnTo>
                    <a:lnTo>
                      <a:pt x="11" y="120"/>
                    </a:lnTo>
                    <a:lnTo>
                      <a:pt x="0" y="114"/>
                    </a:lnTo>
                    <a:lnTo>
                      <a:pt x="2" y="88"/>
                    </a:lnTo>
                    <a:lnTo>
                      <a:pt x="5" y="78"/>
                    </a:lnTo>
                    <a:lnTo>
                      <a:pt x="6" y="45"/>
                    </a:lnTo>
                    <a:lnTo>
                      <a:pt x="10" y="19"/>
                    </a:lnTo>
                    <a:lnTo>
                      <a:pt x="21" y="3"/>
                    </a:lnTo>
                    <a:lnTo>
                      <a:pt x="34" y="0"/>
                    </a:lnTo>
                    <a:lnTo>
                      <a:pt x="52" y="4"/>
                    </a:lnTo>
                    <a:lnTo>
                      <a:pt x="69" y="9"/>
                    </a:lnTo>
                    <a:lnTo>
                      <a:pt x="80"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27200" y="996840"/>
                <a:ext cx="182520" cy="146160"/>
              </a:xfrm>
              <a:custGeom>
                <a:avLst/>
                <a:gdLst/>
                <a:ahLst/>
                <a:rect l="l" t="t" r="r" b="b"/>
                <a:pathLst>
                  <a:path w="115" h="92">
                    <a:moveTo>
                      <a:pt x="4" y="3"/>
                    </a:moveTo>
                    <a:lnTo>
                      <a:pt x="15" y="0"/>
                    </a:lnTo>
                    <a:lnTo>
                      <a:pt x="19" y="7"/>
                    </a:lnTo>
                    <a:lnTo>
                      <a:pt x="18" y="25"/>
                    </a:lnTo>
                    <a:lnTo>
                      <a:pt x="15" y="40"/>
                    </a:lnTo>
                    <a:lnTo>
                      <a:pt x="18" y="53"/>
                    </a:lnTo>
                    <a:lnTo>
                      <a:pt x="25" y="68"/>
                    </a:lnTo>
                    <a:lnTo>
                      <a:pt x="35" y="78"/>
                    </a:lnTo>
                    <a:lnTo>
                      <a:pt x="41" y="76"/>
                    </a:lnTo>
                    <a:lnTo>
                      <a:pt x="68" y="52"/>
                    </a:lnTo>
                    <a:lnTo>
                      <a:pt x="86" y="32"/>
                    </a:lnTo>
                    <a:lnTo>
                      <a:pt x="99" y="18"/>
                    </a:lnTo>
                    <a:lnTo>
                      <a:pt x="110" y="18"/>
                    </a:lnTo>
                    <a:lnTo>
                      <a:pt x="114" y="30"/>
                    </a:lnTo>
                    <a:lnTo>
                      <a:pt x="105" y="58"/>
                    </a:lnTo>
                    <a:lnTo>
                      <a:pt x="100" y="64"/>
                    </a:lnTo>
                    <a:lnTo>
                      <a:pt x="93" y="65"/>
                    </a:lnTo>
                    <a:lnTo>
                      <a:pt x="86" y="60"/>
                    </a:lnTo>
                    <a:lnTo>
                      <a:pt x="86" y="47"/>
                    </a:lnTo>
                    <a:lnTo>
                      <a:pt x="73" y="58"/>
                    </a:lnTo>
                    <a:lnTo>
                      <a:pt x="51" y="78"/>
                    </a:lnTo>
                    <a:lnTo>
                      <a:pt x="41" y="87"/>
                    </a:lnTo>
                    <a:lnTo>
                      <a:pt x="33" y="91"/>
                    </a:lnTo>
                    <a:lnTo>
                      <a:pt x="29" y="89"/>
                    </a:lnTo>
                    <a:lnTo>
                      <a:pt x="23" y="85"/>
                    </a:lnTo>
                    <a:lnTo>
                      <a:pt x="12" y="64"/>
                    </a:lnTo>
                    <a:lnTo>
                      <a:pt x="6" y="48"/>
                    </a:lnTo>
                    <a:lnTo>
                      <a:pt x="2" y="34"/>
                    </a:lnTo>
                    <a:lnTo>
                      <a:pt x="0" y="18"/>
                    </a:lnTo>
                    <a:lnTo>
                      <a:pt x="0" y="10"/>
                    </a:lnTo>
                    <a:lnTo>
                      <a:pt x="4"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0360" y="1160640"/>
                <a:ext cx="323640" cy="187200"/>
              </a:xfrm>
              <a:custGeom>
                <a:avLst/>
                <a:gdLst/>
                <a:ahLst/>
                <a:rect l="l" t="t" r="r" b="b"/>
                <a:pathLst>
                  <a:path w="204" h="118">
                    <a:moveTo>
                      <a:pt x="0" y="4"/>
                    </a:moveTo>
                    <a:lnTo>
                      <a:pt x="0" y="23"/>
                    </a:lnTo>
                    <a:lnTo>
                      <a:pt x="14" y="37"/>
                    </a:lnTo>
                    <a:lnTo>
                      <a:pt x="40" y="39"/>
                    </a:lnTo>
                    <a:lnTo>
                      <a:pt x="70" y="38"/>
                    </a:lnTo>
                    <a:lnTo>
                      <a:pt x="88" y="29"/>
                    </a:lnTo>
                    <a:lnTo>
                      <a:pt x="105" y="20"/>
                    </a:lnTo>
                    <a:lnTo>
                      <a:pt x="114" y="16"/>
                    </a:lnTo>
                    <a:lnTo>
                      <a:pt x="119" y="21"/>
                    </a:lnTo>
                    <a:lnTo>
                      <a:pt x="119" y="39"/>
                    </a:lnTo>
                    <a:lnTo>
                      <a:pt x="123" y="79"/>
                    </a:lnTo>
                    <a:lnTo>
                      <a:pt x="131" y="105"/>
                    </a:lnTo>
                    <a:lnTo>
                      <a:pt x="146" y="117"/>
                    </a:lnTo>
                    <a:lnTo>
                      <a:pt x="154" y="110"/>
                    </a:lnTo>
                    <a:lnTo>
                      <a:pt x="169" y="91"/>
                    </a:lnTo>
                    <a:lnTo>
                      <a:pt x="193" y="74"/>
                    </a:lnTo>
                    <a:lnTo>
                      <a:pt x="203" y="65"/>
                    </a:lnTo>
                    <a:lnTo>
                      <a:pt x="200" y="58"/>
                    </a:lnTo>
                    <a:lnTo>
                      <a:pt x="189" y="63"/>
                    </a:lnTo>
                    <a:lnTo>
                      <a:pt x="176" y="75"/>
                    </a:lnTo>
                    <a:lnTo>
                      <a:pt x="150" y="96"/>
                    </a:lnTo>
                    <a:lnTo>
                      <a:pt x="148" y="102"/>
                    </a:lnTo>
                    <a:lnTo>
                      <a:pt x="140" y="98"/>
                    </a:lnTo>
                    <a:lnTo>
                      <a:pt x="132" y="70"/>
                    </a:lnTo>
                    <a:lnTo>
                      <a:pt x="132" y="38"/>
                    </a:lnTo>
                    <a:lnTo>
                      <a:pt x="131" y="12"/>
                    </a:lnTo>
                    <a:lnTo>
                      <a:pt x="123" y="4"/>
                    </a:lnTo>
                    <a:lnTo>
                      <a:pt x="113" y="0"/>
                    </a:lnTo>
                    <a:lnTo>
                      <a:pt x="103" y="6"/>
                    </a:lnTo>
                    <a:lnTo>
                      <a:pt x="71" y="12"/>
                    </a:lnTo>
                    <a:lnTo>
                      <a:pt x="44" y="13"/>
                    </a:lnTo>
                    <a:lnTo>
                      <a:pt x="22" y="8"/>
                    </a:lnTo>
                    <a:lnTo>
                      <a:pt x="11"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65040" y="1108080"/>
                <a:ext cx="293760" cy="196920"/>
              </a:xfrm>
              <a:custGeom>
                <a:avLst/>
                <a:gdLst/>
                <a:ahLst/>
                <a:rect l="l" t="t" r="r" b="b"/>
                <a:pathLst>
                  <a:path w="185" h="124">
                    <a:moveTo>
                      <a:pt x="144" y="83"/>
                    </a:moveTo>
                    <a:lnTo>
                      <a:pt x="157" y="48"/>
                    </a:lnTo>
                    <a:lnTo>
                      <a:pt x="171" y="30"/>
                    </a:lnTo>
                    <a:lnTo>
                      <a:pt x="184" y="32"/>
                    </a:lnTo>
                    <a:lnTo>
                      <a:pt x="184" y="55"/>
                    </a:lnTo>
                    <a:lnTo>
                      <a:pt x="167" y="83"/>
                    </a:lnTo>
                    <a:lnTo>
                      <a:pt x="149" y="112"/>
                    </a:lnTo>
                    <a:lnTo>
                      <a:pt x="139" y="119"/>
                    </a:lnTo>
                    <a:lnTo>
                      <a:pt x="125" y="123"/>
                    </a:lnTo>
                    <a:lnTo>
                      <a:pt x="115" y="121"/>
                    </a:lnTo>
                    <a:lnTo>
                      <a:pt x="104" y="114"/>
                    </a:lnTo>
                    <a:lnTo>
                      <a:pt x="90" y="98"/>
                    </a:lnTo>
                    <a:lnTo>
                      <a:pt x="75" y="70"/>
                    </a:lnTo>
                    <a:lnTo>
                      <a:pt x="59" y="43"/>
                    </a:lnTo>
                    <a:lnTo>
                      <a:pt x="52" y="24"/>
                    </a:lnTo>
                    <a:lnTo>
                      <a:pt x="48" y="24"/>
                    </a:lnTo>
                    <a:lnTo>
                      <a:pt x="40" y="41"/>
                    </a:lnTo>
                    <a:lnTo>
                      <a:pt x="27" y="55"/>
                    </a:lnTo>
                    <a:lnTo>
                      <a:pt x="15" y="64"/>
                    </a:lnTo>
                    <a:lnTo>
                      <a:pt x="3" y="64"/>
                    </a:lnTo>
                    <a:lnTo>
                      <a:pt x="0" y="59"/>
                    </a:lnTo>
                    <a:lnTo>
                      <a:pt x="3" y="55"/>
                    </a:lnTo>
                    <a:lnTo>
                      <a:pt x="15" y="52"/>
                    </a:lnTo>
                    <a:lnTo>
                      <a:pt x="29" y="39"/>
                    </a:lnTo>
                    <a:lnTo>
                      <a:pt x="40" y="21"/>
                    </a:lnTo>
                    <a:lnTo>
                      <a:pt x="46" y="4"/>
                    </a:lnTo>
                    <a:lnTo>
                      <a:pt x="51" y="0"/>
                    </a:lnTo>
                    <a:lnTo>
                      <a:pt x="59" y="0"/>
                    </a:lnTo>
                    <a:lnTo>
                      <a:pt x="61" y="12"/>
                    </a:lnTo>
                    <a:lnTo>
                      <a:pt x="65" y="31"/>
                    </a:lnTo>
                    <a:lnTo>
                      <a:pt x="71" y="48"/>
                    </a:lnTo>
                    <a:lnTo>
                      <a:pt x="84" y="67"/>
                    </a:lnTo>
                    <a:lnTo>
                      <a:pt x="97" y="83"/>
                    </a:lnTo>
                    <a:lnTo>
                      <a:pt x="108" y="101"/>
                    </a:lnTo>
                    <a:lnTo>
                      <a:pt x="121" y="110"/>
                    </a:lnTo>
                    <a:lnTo>
                      <a:pt x="129" y="111"/>
                    </a:lnTo>
                    <a:lnTo>
                      <a:pt x="136" y="107"/>
                    </a:lnTo>
                    <a:lnTo>
                      <a:pt x="144"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60240" y="782640"/>
                <a:ext cx="155880" cy="168120"/>
              </a:xfrm>
              <a:custGeom>
                <a:avLst/>
                <a:gdLst/>
                <a:ahLst/>
                <a:rect l="l" t="t" r="r" b="b"/>
                <a:pathLst>
                  <a:path w="98" h="106">
                    <a:moveTo>
                      <a:pt x="37" y="32"/>
                    </a:moveTo>
                    <a:lnTo>
                      <a:pt x="48" y="12"/>
                    </a:lnTo>
                    <a:lnTo>
                      <a:pt x="58" y="4"/>
                    </a:lnTo>
                    <a:lnTo>
                      <a:pt x="74" y="0"/>
                    </a:lnTo>
                    <a:lnTo>
                      <a:pt x="88" y="6"/>
                    </a:lnTo>
                    <a:lnTo>
                      <a:pt x="94" y="14"/>
                    </a:lnTo>
                    <a:lnTo>
                      <a:pt x="97" y="27"/>
                    </a:lnTo>
                    <a:lnTo>
                      <a:pt x="97" y="44"/>
                    </a:lnTo>
                    <a:lnTo>
                      <a:pt x="92" y="70"/>
                    </a:lnTo>
                    <a:lnTo>
                      <a:pt x="81" y="91"/>
                    </a:lnTo>
                    <a:lnTo>
                      <a:pt x="68" y="102"/>
                    </a:lnTo>
                    <a:lnTo>
                      <a:pt x="53" y="105"/>
                    </a:lnTo>
                    <a:lnTo>
                      <a:pt x="43" y="102"/>
                    </a:lnTo>
                    <a:lnTo>
                      <a:pt x="37" y="89"/>
                    </a:lnTo>
                    <a:lnTo>
                      <a:pt x="33" y="69"/>
                    </a:lnTo>
                    <a:lnTo>
                      <a:pt x="33" y="46"/>
                    </a:lnTo>
                    <a:lnTo>
                      <a:pt x="0" y="47"/>
                    </a:lnTo>
                    <a:lnTo>
                      <a:pt x="2" y="40"/>
                    </a:lnTo>
                    <a:lnTo>
                      <a:pt x="34" y="39"/>
                    </a:lnTo>
                    <a:lnTo>
                      <a:pt x="37"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63360" y="1444680"/>
              <a:ext cx="532080" cy="425520"/>
            </a:xfrm>
            <a:custGeom>
              <a:avLst/>
              <a:gdLst/>
              <a:ahLst/>
              <a:rect l="l" t="t" r="r" b="b"/>
              <a:pathLst>
                <a:path w="335" h="268">
                  <a:moveTo>
                    <a:pt x="0" y="15"/>
                  </a:moveTo>
                  <a:lnTo>
                    <a:pt x="56" y="15"/>
                  </a:lnTo>
                  <a:lnTo>
                    <a:pt x="86" y="18"/>
                  </a:lnTo>
                  <a:lnTo>
                    <a:pt x="133" y="13"/>
                  </a:lnTo>
                  <a:lnTo>
                    <a:pt x="187" y="13"/>
                  </a:lnTo>
                  <a:lnTo>
                    <a:pt x="227" y="6"/>
                  </a:lnTo>
                  <a:lnTo>
                    <a:pt x="280" y="0"/>
                  </a:lnTo>
                  <a:lnTo>
                    <a:pt x="314" y="5"/>
                  </a:lnTo>
                  <a:lnTo>
                    <a:pt x="332" y="5"/>
                  </a:lnTo>
                  <a:lnTo>
                    <a:pt x="334" y="13"/>
                  </a:lnTo>
                  <a:lnTo>
                    <a:pt x="327" y="22"/>
                  </a:lnTo>
                  <a:lnTo>
                    <a:pt x="327" y="34"/>
                  </a:lnTo>
                  <a:lnTo>
                    <a:pt x="318" y="44"/>
                  </a:lnTo>
                  <a:lnTo>
                    <a:pt x="317" y="60"/>
                  </a:lnTo>
                  <a:lnTo>
                    <a:pt x="317" y="183"/>
                  </a:lnTo>
                  <a:lnTo>
                    <a:pt x="312" y="267"/>
                  </a:lnTo>
                  <a:lnTo>
                    <a:pt x="305" y="267"/>
                  </a:lnTo>
                  <a:lnTo>
                    <a:pt x="301" y="177"/>
                  </a:lnTo>
                  <a:lnTo>
                    <a:pt x="296" y="136"/>
                  </a:lnTo>
                  <a:lnTo>
                    <a:pt x="287" y="91"/>
                  </a:lnTo>
                  <a:lnTo>
                    <a:pt x="291" y="66"/>
                  </a:lnTo>
                  <a:lnTo>
                    <a:pt x="290" y="23"/>
                  </a:lnTo>
                  <a:lnTo>
                    <a:pt x="250" y="23"/>
                  </a:lnTo>
                  <a:lnTo>
                    <a:pt x="272" y="30"/>
                  </a:lnTo>
                  <a:lnTo>
                    <a:pt x="276" y="28"/>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689040" y="1386000"/>
              <a:ext cx="217440" cy="230040"/>
              <a:chOff x="689040" y="1386000"/>
              <a:chExt cx="217440" cy="230040"/>
            </a:xfrm>
          </p:grpSpPr>
          <p:sp>
            <p:nvSpPr>
              <p:cNvPr id="512" name=""/>
              <p:cNvSpPr/>
              <p:nvPr/>
            </p:nvSpPr>
            <p:spPr>
              <a:xfrm>
                <a:off x="896760" y="1386000"/>
                <a:ext cx="972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13" name=""/>
              <p:cNvSpPr/>
              <p:nvPr/>
            </p:nvSpPr>
            <p:spPr>
              <a:xfrm>
                <a:off x="880920" y="144936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4" name=""/>
              <p:cNvSpPr/>
              <p:nvPr/>
            </p:nvSpPr>
            <p:spPr>
              <a:xfrm>
                <a:off x="852480" y="151128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15" name=""/>
              <p:cNvSpPr/>
              <p:nvPr/>
            </p:nvSpPr>
            <p:spPr>
              <a:xfrm>
                <a:off x="806400" y="1555920"/>
                <a:ext cx="11160" cy="1080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6" name=""/>
              <p:cNvSpPr/>
              <p:nvPr/>
            </p:nvSpPr>
            <p:spPr>
              <a:xfrm>
                <a:off x="750960" y="1590840"/>
                <a:ext cx="9360" cy="1080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7" name=""/>
              <p:cNvSpPr/>
              <p:nvPr/>
            </p:nvSpPr>
            <p:spPr>
              <a:xfrm>
                <a:off x="689040" y="160488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71800" y="3276720"/>
            <a:ext cx="3581280" cy="3352680"/>
          </a:xfrm>
          <a:prstGeom prst="rect">
            <a:avLst/>
          </a:prstGeom>
          <a:solidFill>
            <a:srgbClr val="000000"/>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écodage</a:t>
            </a:r>
            <a:endParaRPr b="1" lang="en-US" sz="3200" spc="-1" strike="noStrike">
              <a:solidFill>
                <a:srgbClr val="fafd00"/>
              </a:solidFill>
              <a:latin typeface="Arial"/>
            </a:endParaRPr>
          </a:p>
        </p:txBody>
      </p:sp>
      <p:grpSp>
        <p:nvGrpSpPr>
          <p:cNvPr id="520" name=""/>
          <p:cNvGrpSpPr/>
          <p:nvPr/>
        </p:nvGrpSpPr>
        <p:grpSpPr>
          <a:xfrm>
            <a:off x="685800" y="1447920"/>
            <a:ext cx="8061120" cy="417960"/>
            <a:chOff x="685800" y="1447920"/>
            <a:chExt cx="8061120" cy="417960"/>
          </a:xfrm>
        </p:grpSpPr>
        <p:sp>
          <p:nvSpPr>
            <p:cNvPr id="521" name=""/>
            <p:cNvSpPr/>
            <p:nvPr/>
          </p:nvSpPr>
          <p:spPr>
            <a:xfrm>
              <a:off x="607032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522" name=""/>
            <p:cNvSpPr/>
            <p:nvPr/>
          </p:nvSpPr>
          <p:spPr>
            <a:xfrm>
              <a:off x="741672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32</a:t>
              </a:r>
              <a:endParaRPr b="0" lang="en-US" sz="2400" spc="-1" strike="noStrike">
                <a:solidFill>
                  <a:srgbClr val="000000"/>
                </a:solidFill>
                <a:latin typeface="Times New Roman"/>
              </a:endParaRPr>
            </a:p>
          </p:txBody>
        </p:sp>
        <p:sp>
          <p:nvSpPr>
            <p:cNvPr id="523" name=""/>
            <p:cNvSpPr/>
            <p:nvPr/>
          </p:nvSpPr>
          <p:spPr>
            <a:xfrm>
              <a:off x="472428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524" name=""/>
            <p:cNvSpPr/>
            <p:nvPr/>
          </p:nvSpPr>
          <p:spPr>
            <a:xfrm>
              <a:off x="337788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525" name=""/>
            <p:cNvSpPr/>
            <p:nvPr/>
          </p:nvSpPr>
          <p:spPr>
            <a:xfrm>
              <a:off x="203184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526" name=""/>
            <p:cNvSpPr/>
            <p:nvPr/>
          </p:nvSpPr>
          <p:spPr>
            <a:xfrm>
              <a:off x="68580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0</a:t>
              </a:r>
              <a:endParaRPr b="0" lang="en-US" sz="2400" spc="-1" strike="noStrike">
                <a:solidFill>
                  <a:srgbClr val="000000"/>
                </a:solidFill>
                <a:latin typeface="Times New Roman"/>
              </a:endParaRPr>
            </a:p>
          </p:txBody>
        </p:sp>
      </p:grpSp>
      <p:sp>
        <p:nvSpPr>
          <p:cNvPr id="527" name=""/>
          <p:cNvSpPr/>
          <p:nvPr/>
        </p:nvSpPr>
        <p:spPr>
          <a:xfrm>
            <a:off x="673920" y="907920"/>
            <a:ext cx="3804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vue du logiciel)</a:t>
            </a:r>
            <a:endParaRPr b="0" lang="en-US" sz="2400" spc="-1" strike="noStrike">
              <a:solidFill>
                <a:srgbClr val="000000"/>
              </a:solidFill>
              <a:latin typeface="Times New Roman"/>
            </a:endParaRPr>
          </a:p>
        </p:txBody>
      </p:sp>
      <p:sp>
        <p:nvSpPr>
          <p:cNvPr id="528" name=""/>
          <p:cNvSpPr/>
          <p:nvPr/>
        </p:nvSpPr>
        <p:spPr>
          <a:xfrm>
            <a:off x="221040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29" name=""/>
          <p:cNvSpPr/>
          <p:nvPr/>
        </p:nvSpPr>
        <p:spPr>
          <a:xfrm>
            <a:off x="365832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30" name=""/>
          <p:cNvSpPr/>
          <p:nvPr/>
        </p:nvSpPr>
        <p:spPr>
          <a:xfrm>
            <a:off x="5029560" y="198108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31" name=""/>
          <p:cNvSpPr/>
          <p:nvPr/>
        </p:nvSpPr>
        <p:spPr>
          <a:xfrm>
            <a:off x="611280" y="2743200"/>
            <a:ext cx="396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a:t>
            </a:r>
            <a:r>
              <a:rPr b="0" lang="en-US" sz="2400" spc="-1" strike="noStrike">
                <a:solidFill>
                  <a:srgbClr val="000000"/>
                </a:solidFill>
                <a:latin typeface="Arial"/>
              </a:rPr>
              <a:t>vue du Matériel</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532" name=""/>
          <p:cNvSpPr/>
          <p:nvPr/>
        </p:nvSpPr>
        <p:spPr>
          <a:xfrm>
            <a:off x="4397400" y="3800520"/>
            <a:ext cx="68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103000" y="339264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34" name=""/>
          <p:cNvSpPr/>
          <p:nvPr/>
        </p:nvSpPr>
        <p:spPr>
          <a:xfrm>
            <a:off x="3726000" y="4757760"/>
            <a:ext cx="135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088600" y="435132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36" name=""/>
          <p:cNvSpPr/>
          <p:nvPr/>
        </p:nvSpPr>
        <p:spPr>
          <a:xfrm>
            <a:off x="4397400" y="6191280"/>
            <a:ext cx="68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102640" y="578016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38" name=""/>
          <p:cNvSpPr/>
          <p:nvPr/>
        </p:nvSpPr>
        <p:spPr>
          <a:xfrm flipV="1">
            <a:off x="4395960" y="3793680"/>
            <a:ext cx="0" cy="24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365720" y="4699080"/>
            <a:ext cx="58680" cy="129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0" name=""/>
          <p:cNvSpPr/>
          <p:nvPr/>
        </p:nvSpPr>
        <p:spPr>
          <a:xfrm rot="16200000">
            <a:off x="2431440" y="4565880"/>
            <a:ext cx="1825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str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971800" y="3276720"/>
            <a:ext cx="3581280" cy="3352680"/>
          </a:xfrm>
          <a:prstGeom prst="rect">
            <a:avLst/>
          </a:prstGeom>
          <a:solidFill>
            <a:srgbClr val="000000"/>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écodage</a:t>
            </a:r>
            <a:endParaRPr b="1" lang="en-US" sz="3200" spc="-1" strike="noStrike">
              <a:solidFill>
                <a:srgbClr val="fafd00"/>
              </a:solidFill>
              <a:latin typeface="Arial"/>
            </a:endParaRPr>
          </a:p>
        </p:txBody>
      </p:sp>
      <p:grpSp>
        <p:nvGrpSpPr>
          <p:cNvPr id="543" name=""/>
          <p:cNvGrpSpPr/>
          <p:nvPr/>
        </p:nvGrpSpPr>
        <p:grpSpPr>
          <a:xfrm>
            <a:off x="685800" y="1447920"/>
            <a:ext cx="8061120" cy="417960"/>
            <a:chOff x="685800" y="1447920"/>
            <a:chExt cx="8061120" cy="417960"/>
          </a:xfrm>
        </p:grpSpPr>
        <p:sp>
          <p:nvSpPr>
            <p:cNvPr id="544" name=""/>
            <p:cNvSpPr/>
            <p:nvPr/>
          </p:nvSpPr>
          <p:spPr>
            <a:xfrm>
              <a:off x="607032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545" name=""/>
            <p:cNvSpPr/>
            <p:nvPr/>
          </p:nvSpPr>
          <p:spPr>
            <a:xfrm>
              <a:off x="741672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32</a:t>
              </a:r>
              <a:endParaRPr b="0" lang="en-US" sz="2400" spc="-1" strike="noStrike">
                <a:solidFill>
                  <a:srgbClr val="000000"/>
                </a:solidFill>
                <a:latin typeface="Times New Roman"/>
              </a:endParaRPr>
            </a:p>
          </p:txBody>
        </p:sp>
        <p:sp>
          <p:nvSpPr>
            <p:cNvPr id="546" name=""/>
            <p:cNvSpPr/>
            <p:nvPr/>
          </p:nvSpPr>
          <p:spPr>
            <a:xfrm>
              <a:off x="472428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547" name=""/>
            <p:cNvSpPr/>
            <p:nvPr/>
          </p:nvSpPr>
          <p:spPr>
            <a:xfrm>
              <a:off x="337788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548" name=""/>
            <p:cNvSpPr/>
            <p:nvPr/>
          </p:nvSpPr>
          <p:spPr>
            <a:xfrm>
              <a:off x="203184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549" name=""/>
            <p:cNvSpPr/>
            <p:nvPr/>
          </p:nvSpPr>
          <p:spPr>
            <a:xfrm>
              <a:off x="68580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0</a:t>
              </a:r>
              <a:endParaRPr b="0" lang="en-US" sz="2400" spc="-1" strike="noStrike">
                <a:solidFill>
                  <a:srgbClr val="000000"/>
                </a:solidFill>
                <a:latin typeface="Times New Roman"/>
              </a:endParaRPr>
            </a:p>
          </p:txBody>
        </p:sp>
      </p:grpSp>
      <p:sp>
        <p:nvSpPr>
          <p:cNvPr id="550" name=""/>
          <p:cNvSpPr/>
          <p:nvPr/>
        </p:nvSpPr>
        <p:spPr>
          <a:xfrm>
            <a:off x="673920" y="907920"/>
            <a:ext cx="3804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vue du logiciel)</a:t>
            </a:r>
            <a:endParaRPr b="0" lang="en-US" sz="2400" spc="-1" strike="noStrike">
              <a:solidFill>
                <a:srgbClr val="000000"/>
              </a:solidFill>
              <a:latin typeface="Times New Roman"/>
            </a:endParaRPr>
          </a:p>
        </p:txBody>
      </p:sp>
      <p:sp>
        <p:nvSpPr>
          <p:cNvPr id="551" name=""/>
          <p:cNvSpPr/>
          <p:nvPr/>
        </p:nvSpPr>
        <p:spPr>
          <a:xfrm>
            <a:off x="221040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52" name=""/>
          <p:cNvSpPr/>
          <p:nvPr/>
        </p:nvSpPr>
        <p:spPr>
          <a:xfrm>
            <a:off x="365832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53" name=""/>
          <p:cNvSpPr/>
          <p:nvPr/>
        </p:nvSpPr>
        <p:spPr>
          <a:xfrm>
            <a:off x="5029560" y="198108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54" name=""/>
          <p:cNvSpPr/>
          <p:nvPr/>
        </p:nvSpPr>
        <p:spPr>
          <a:xfrm>
            <a:off x="611280" y="2743200"/>
            <a:ext cx="396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a:t>
            </a:r>
            <a:r>
              <a:rPr b="0" lang="en-US" sz="2400" spc="-1" strike="noStrike">
                <a:solidFill>
                  <a:srgbClr val="000000"/>
                </a:solidFill>
                <a:latin typeface="Arial"/>
              </a:rPr>
              <a:t>vue du Matériel</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555" name=""/>
          <p:cNvSpPr/>
          <p:nvPr/>
        </p:nvSpPr>
        <p:spPr>
          <a:xfrm>
            <a:off x="7086600" y="6118200"/>
            <a:ext cx="388800" cy="1440"/>
          </a:xfrm>
          <a:prstGeom prst="line">
            <a:avLst/>
          </a:prstGeom>
          <a:ln w="12600">
            <a:solidFill>
              <a:srgbClr val="00ae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6" name=""/>
          <p:cNvSpPr/>
          <p:nvPr/>
        </p:nvSpPr>
        <p:spPr>
          <a:xfrm>
            <a:off x="7086600" y="5931000"/>
            <a:ext cx="512640" cy="1440"/>
          </a:xfrm>
          <a:prstGeom prst="line">
            <a:avLst/>
          </a:prstGeom>
          <a:ln w="50760">
            <a:solidFill>
              <a:srgbClr val="fafd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7851960" y="5791320"/>
            <a:ext cx="1331280" cy="752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onné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trôle</a:t>
            </a:r>
            <a:endParaRPr b="0" lang="en-US" sz="2400" spc="-1" strike="noStrike">
              <a:solidFill>
                <a:srgbClr val="000000"/>
              </a:solidFill>
              <a:latin typeface="Times New Roman"/>
            </a:endParaRPr>
          </a:p>
        </p:txBody>
      </p:sp>
      <p:grpSp>
        <p:nvGrpSpPr>
          <p:cNvPr id="558" name=""/>
          <p:cNvGrpSpPr/>
          <p:nvPr/>
        </p:nvGrpSpPr>
        <p:grpSpPr>
          <a:xfrm>
            <a:off x="2895480" y="3429000"/>
            <a:ext cx="4267440" cy="3123360"/>
            <a:chOff x="2895480" y="3429000"/>
            <a:chExt cx="4267440" cy="3123360"/>
          </a:xfrm>
        </p:grpSpPr>
        <p:sp>
          <p:nvSpPr>
            <p:cNvPr id="559" name=""/>
            <p:cNvSpPr/>
            <p:nvPr/>
          </p:nvSpPr>
          <p:spPr>
            <a:xfrm>
              <a:off x="6130800" y="5249880"/>
              <a:ext cx="47880" cy="29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60" name=""/>
            <p:cNvGrpSpPr/>
            <p:nvPr/>
          </p:nvGrpSpPr>
          <p:grpSpPr>
            <a:xfrm>
              <a:off x="4289040" y="3429000"/>
              <a:ext cx="337680" cy="3123360"/>
              <a:chOff x="4289040" y="3429000"/>
              <a:chExt cx="337680" cy="3123360"/>
            </a:xfrm>
          </p:grpSpPr>
          <p:sp>
            <p:nvSpPr>
              <p:cNvPr id="561" name=""/>
              <p:cNvSpPr/>
              <p:nvPr/>
            </p:nvSpPr>
            <p:spPr>
              <a:xfrm rot="5400000">
                <a:off x="4202280" y="5551920"/>
                <a:ext cx="508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562" name=""/>
              <p:cNvSpPr/>
              <p:nvPr/>
            </p:nvSpPr>
            <p:spPr>
              <a:xfrm rot="5400000">
                <a:off x="4166280" y="6094080"/>
                <a:ext cx="580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563" name=""/>
              <p:cNvSpPr/>
              <p:nvPr/>
            </p:nvSpPr>
            <p:spPr>
              <a:xfrm rot="5400000">
                <a:off x="4221360" y="5027760"/>
                <a:ext cx="47484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564" name=""/>
              <p:cNvSpPr/>
              <p:nvPr/>
            </p:nvSpPr>
            <p:spPr>
              <a:xfrm rot="5400000">
                <a:off x="4202280" y="4532400"/>
                <a:ext cx="508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565" name=""/>
              <p:cNvSpPr/>
              <p:nvPr/>
            </p:nvSpPr>
            <p:spPr>
              <a:xfrm rot="5400000">
                <a:off x="4214880" y="4008960"/>
                <a:ext cx="48816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566" name=""/>
              <p:cNvSpPr/>
              <p:nvPr/>
            </p:nvSpPr>
            <p:spPr>
              <a:xfrm rot="5400000">
                <a:off x="4215960" y="3503880"/>
                <a:ext cx="48564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567" name=""/>
            <p:cNvSpPr/>
            <p:nvPr/>
          </p:nvSpPr>
          <p:spPr>
            <a:xfrm>
              <a:off x="4651200" y="4185000"/>
              <a:ext cx="1006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86560" y="4194720"/>
              <a:ext cx="2880" cy="8028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59320" y="4643640"/>
              <a:ext cx="0" cy="6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4601880" y="4689000"/>
              <a:ext cx="788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648320" y="3671280"/>
              <a:ext cx="110484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672080" y="5212440"/>
              <a:ext cx="338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40360" y="5232240"/>
              <a:ext cx="0" cy="402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081760" y="5661720"/>
              <a:ext cx="1457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895480" y="4927320"/>
              <a:ext cx="12002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5065560" y="3987000"/>
              <a:ext cx="581040" cy="3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659480" y="6257880"/>
              <a:ext cx="110484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03840" y="5023080"/>
              <a:ext cx="14590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81640" y="5275080"/>
              <a:ext cx="1457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3079800" y="4749120"/>
              <a:ext cx="581040" cy="3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81960" y="5158080"/>
              <a:ext cx="519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582" name=""/>
            <p:cNvSpPr/>
            <p:nvPr/>
          </p:nvSpPr>
          <p:spPr>
            <a:xfrm>
              <a:off x="5740920" y="382752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584"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585" name=""/>
          <p:cNvSpPr/>
          <p:nvPr/>
        </p:nvSpPr>
        <p:spPr>
          <a:xfrm>
            <a:off x="5181840" y="1332000"/>
            <a:ext cx="1643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j+$k</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587" name=""/>
          <p:cNvSpPr/>
          <p:nvPr/>
        </p:nvSpPr>
        <p:spPr>
          <a:xfrm>
            <a:off x="2665440" y="340848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ae00"/>
                </a:solidFill>
                <a:latin typeface="Arial"/>
              </a:rPr>
              <a:t>Ecrire</a:t>
            </a:r>
            <a:endParaRPr b="0" lang="en-US" sz="1800" spc="-1" strike="noStrike">
              <a:solidFill>
                <a:srgbClr val="000000"/>
              </a:solidFill>
              <a:latin typeface="Times New Roman"/>
            </a:endParaRPr>
          </a:p>
        </p:txBody>
      </p:sp>
      <p:sp>
        <p:nvSpPr>
          <p:cNvPr id="588" name=""/>
          <p:cNvSpPr/>
          <p:nvPr/>
        </p:nvSpPr>
        <p:spPr>
          <a:xfrm flipH="1">
            <a:off x="6014520" y="2149560"/>
            <a:ext cx="7938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014880" y="2687760"/>
            <a:ext cx="7430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804080" y="2451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783480" y="1832040"/>
            <a:ext cx="1041840" cy="1190520"/>
            <a:chOff x="6783480" y="1832040"/>
            <a:chExt cx="1041840" cy="1190520"/>
          </a:xfrm>
        </p:grpSpPr>
        <p:grpSp>
          <p:nvGrpSpPr>
            <p:cNvPr id="592" name=""/>
            <p:cNvGrpSpPr/>
            <p:nvPr/>
          </p:nvGrpSpPr>
          <p:grpSpPr>
            <a:xfrm>
              <a:off x="6783480" y="1832040"/>
              <a:ext cx="968400" cy="1190520"/>
              <a:chOff x="6783480" y="1832040"/>
              <a:chExt cx="968400" cy="1190520"/>
            </a:xfrm>
          </p:grpSpPr>
          <p:sp>
            <p:nvSpPr>
              <p:cNvPr id="593" name=""/>
              <p:cNvSpPr/>
              <p:nvPr/>
            </p:nvSpPr>
            <p:spPr>
              <a:xfrm>
                <a:off x="6789600" y="183204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89600" y="256068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96080" y="229860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6783480" y="2427120"/>
                <a:ext cx="333360" cy="1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96080" y="183204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6796080" y="274464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751880" y="216540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6805800" y="204624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01" name=""/>
            <p:cNvSpPr/>
            <p:nvPr/>
          </p:nvSpPr>
          <p:spPr>
            <a:xfrm>
              <a:off x="7083000" y="240336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02" name=""/>
          <p:cNvSpPr/>
          <p:nvPr/>
        </p:nvSpPr>
        <p:spPr>
          <a:xfrm>
            <a:off x="6412680" y="1211400"/>
            <a:ext cx="16902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ae00"/>
                </a:solidFill>
                <a:latin typeface="Arial"/>
              </a:rPr>
              <a:t>Opération UAL</a:t>
            </a:r>
            <a:endParaRPr b="0" lang="en-US" sz="1800" spc="-1" strike="noStrike">
              <a:solidFill>
                <a:srgbClr val="000000"/>
              </a:solidFill>
              <a:latin typeface="Times New Roman"/>
            </a:endParaRPr>
          </a:p>
        </p:txBody>
      </p:sp>
      <p:sp>
        <p:nvSpPr>
          <p:cNvPr id="603"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04" name=""/>
          <p:cNvSpPr/>
          <p:nvPr/>
        </p:nvSpPr>
        <p:spPr>
          <a:xfrm>
            <a:off x="672840" y="257004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a:t>
            </a:r>
            <a:endParaRPr b="0" lang="en-US" sz="1800" spc="-1" strike="noStrike">
              <a:solidFill>
                <a:srgbClr val="000000"/>
              </a:solidFill>
              <a:latin typeface="Times New Roman"/>
            </a:endParaRPr>
          </a:p>
        </p:txBody>
      </p:sp>
      <p:sp>
        <p:nvSpPr>
          <p:cNvPr id="605" name=""/>
          <p:cNvSpPr/>
          <p:nvPr/>
        </p:nvSpPr>
        <p:spPr>
          <a:xfrm>
            <a:off x="4101840" y="178272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a:t>
            </a:r>
            <a:endParaRPr b="0" lang="en-US" sz="1800" spc="-1" strike="noStrike">
              <a:solidFill>
                <a:srgbClr val="000000"/>
              </a:solidFill>
              <a:latin typeface="Times New Roman"/>
            </a:endParaRPr>
          </a:p>
        </p:txBody>
      </p:sp>
      <p:sp>
        <p:nvSpPr>
          <p:cNvPr id="606" name=""/>
          <p:cNvSpPr/>
          <p:nvPr/>
        </p:nvSpPr>
        <p:spPr>
          <a:xfrm>
            <a:off x="2232000" y="131436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43120" y="149868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207880" y="13762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09" name=""/>
          <p:cNvSpPr/>
          <p:nvPr/>
        </p:nvSpPr>
        <p:spPr>
          <a:xfrm>
            <a:off x="2198160" y="17175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10" name=""/>
          <p:cNvSpPr/>
          <p:nvPr/>
        </p:nvSpPr>
        <p:spPr>
          <a:xfrm>
            <a:off x="1743120" y="2349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208240" y="222732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12" name=""/>
          <p:cNvSpPr/>
          <p:nvPr/>
        </p:nvSpPr>
        <p:spPr>
          <a:xfrm>
            <a:off x="1733400" y="2690640"/>
            <a:ext cx="47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207520" y="261000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14" name=""/>
          <p:cNvSpPr/>
          <p:nvPr/>
        </p:nvSpPr>
        <p:spPr>
          <a:xfrm>
            <a:off x="2489760" y="197316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15" name=""/>
          <p:cNvSpPr/>
          <p:nvPr/>
        </p:nvSpPr>
        <p:spPr>
          <a:xfrm>
            <a:off x="3079080" y="13701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16" name=""/>
          <p:cNvSpPr/>
          <p:nvPr/>
        </p:nvSpPr>
        <p:spPr>
          <a:xfrm>
            <a:off x="3153600" y="22683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17" name=""/>
          <p:cNvSpPr/>
          <p:nvPr/>
        </p:nvSpPr>
        <p:spPr>
          <a:xfrm>
            <a:off x="3821040" y="1508040"/>
            <a:ext cx="47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813120" y="245124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1739880" y="149184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720800" y="1822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21" name=""/>
          <p:cNvSpPr/>
          <p:nvPr/>
        </p:nvSpPr>
        <p:spPr>
          <a:xfrm>
            <a:off x="1758960" y="1833480"/>
            <a:ext cx="41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53360" y="161928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3022560" y="300312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PlaceHolder 2"/>
          <p:cNvSpPr>
            <a:spLocks noGrp="1"/>
          </p:cNvSpPr>
          <p:nvPr>
            <p:ph/>
          </p:nvPr>
        </p:nvSpPr>
        <p:spPr>
          <a:xfrm>
            <a:off x="-360" y="3852720"/>
            <a:ext cx="9131400" cy="29419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deux éléments pour réaliser les opérations UAL au format R sont : </a:t>
            </a:r>
            <a:r>
              <a:rPr b="0" i="1" lang="fr-FR" sz="2400" spc="-1" strike="noStrike">
                <a:solidFill>
                  <a:srgbClr val="ffffff"/>
                </a:solidFill>
                <a:latin typeface="Arial"/>
              </a:rPr>
              <a:t>le banc de registres </a:t>
            </a:r>
            <a:r>
              <a:rPr b="0" lang="fr-FR" sz="2400" spc="-1" strike="noStrike">
                <a:solidFill>
                  <a:srgbClr val="ffffff"/>
                </a:solidFill>
                <a:latin typeface="Arial"/>
              </a:rPr>
              <a:t>et </a:t>
            </a:r>
            <a:r>
              <a:rPr b="0" i="1" lang="fr-FR" sz="2400" spc="-1" strike="noStrike">
                <a:solidFill>
                  <a:srgbClr val="ffffff"/>
                </a:solidFill>
                <a:latin typeface="Arial"/>
              </a:rPr>
              <a:t>L'UAL</a:t>
            </a:r>
            <a:r>
              <a:rPr b="0" lang="fr-FR" sz="2400" spc="-1" strike="noStrike">
                <a:solidFill>
                  <a:srgbClr val="ffffff"/>
                </a:solidFill>
                <a:latin typeface="Arial"/>
              </a:rPr>
              <a:t>.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banc de registres contient tous les registres et fournit deux ports de lecture et un port d'écriture. Il fournit toujours en sortie le contenu des registres correspondant aux entrées des registres de lecture, alors que les écritures doivent être explicitement contrôlées par le signal de contrôle d'écriture. </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opération que doit effectuer l'UAL est contrôlée par le signal d'opération de l'UAL, large de 3 bits dans notre cas. </a:t>
            </a:r>
            <a:endParaRPr b="0" lang="en-US" sz="20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626"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267000" y="46227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30" name=""/>
          <p:cNvSpPr/>
          <p:nvPr/>
        </p:nvSpPr>
        <p:spPr>
          <a:xfrm>
            <a:off x="2800440" y="49640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32" name=""/>
          <p:cNvSpPr/>
          <p:nvPr/>
        </p:nvSpPr>
        <p:spPr>
          <a:xfrm>
            <a:off x="3267000" y="54738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34" name=""/>
          <p:cNvSpPr/>
          <p:nvPr/>
        </p:nvSpPr>
        <p:spPr>
          <a:xfrm>
            <a:off x="3257640" y="5815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36"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37"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38"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39" name=""/>
          <p:cNvSpPr/>
          <p:nvPr/>
        </p:nvSpPr>
        <p:spPr>
          <a:xfrm>
            <a:off x="5345280" y="46324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337000" y="557532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1" name=""/>
          <p:cNvGrpSpPr/>
          <p:nvPr/>
        </p:nvGrpSpPr>
        <p:grpSpPr>
          <a:xfrm>
            <a:off x="5843520" y="4498920"/>
            <a:ext cx="1041840" cy="1190160"/>
            <a:chOff x="5843520" y="4498920"/>
            <a:chExt cx="1041840" cy="1190160"/>
          </a:xfrm>
        </p:grpSpPr>
        <p:grpSp>
          <p:nvGrpSpPr>
            <p:cNvPr id="642" name=""/>
            <p:cNvGrpSpPr/>
            <p:nvPr/>
          </p:nvGrpSpPr>
          <p:grpSpPr>
            <a:xfrm>
              <a:off x="5843520" y="4498920"/>
              <a:ext cx="968400" cy="1190160"/>
              <a:chOff x="5843520" y="4498920"/>
              <a:chExt cx="968400" cy="1190160"/>
            </a:xfrm>
          </p:grpSpPr>
          <p:sp>
            <p:nvSpPr>
              <p:cNvPr id="643"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51"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52"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653"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826320" y="52833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175520" y="530208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3244320" y="6451560"/>
            <a:ext cx="393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V="1">
            <a:off x="3251160" y="582300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3263760" y="461592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244680" y="49467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60" name=""/>
          <p:cNvSpPr/>
          <p:nvPr/>
        </p:nvSpPr>
        <p:spPr>
          <a:xfrm>
            <a:off x="1636920" y="478800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661"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PlaceHolder 2"/>
          <p:cNvSpPr>
            <a:spLocks noGrp="1"/>
          </p:cNvSpPr>
          <p:nvPr>
            <p:ph/>
          </p:nvPr>
        </p:nvSpPr>
        <p:spPr>
          <a:xfrm>
            <a:off x="269640" y="1185480"/>
            <a:ext cx="8420040" cy="40035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s utilisé pour réaliser des opérations. La sortie de détection de zéro sera utile pour les opérations de brancheme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bjectifs</a:t>
            </a:r>
            <a:endParaRPr b="1" lang="en-US" sz="3200" spc="-1" strike="noStrike">
              <a:solidFill>
                <a:srgbClr val="fafd00"/>
              </a:solidFill>
              <a:latin typeface="Arial"/>
            </a:endParaRPr>
          </a:p>
        </p:txBody>
      </p:sp>
      <p:sp>
        <p:nvSpPr>
          <p:cNvPr id="64" name="PlaceHolder 2"/>
          <p:cNvSpPr>
            <a:spLocks noGrp="1"/>
          </p:cNvSpPr>
          <p:nvPr>
            <p:ph/>
          </p:nvPr>
        </p:nvSpPr>
        <p:spPr>
          <a:xfrm>
            <a:off x="485640" y="129240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concevoir une mise en oeuvre contenant un noyau de jeu d’instruction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verrons comment l’architecture de jeu d’instructions définit beaucoup d’aspects de la mise en oeuvre</a:t>
            </a:r>
            <a:endParaRPr b="0"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Nous verrons comment le choix de diverses stratégies de mise en oeuvre influence la fréquence d’horloge et le CPI.</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664"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844720" y="4622760"/>
            <a:ext cx="879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68" name=""/>
          <p:cNvSpPr/>
          <p:nvPr/>
        </p:nvSpPr>
        <p:spPr>
          <a:xfrm>
            <a:off x="2573280" y="4960800"/>
            <a:ext cx="1143000" cy="3240"/>
          </a:xfrm>
          <a:prstGeom prst="line">
            <a:avLst/>
          </a:prstGeom>
          <a:ln w="50760">
            <a:solidFill>
              <a:srgbClr val="fafd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9"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70"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71" name=""/>
          <p:cNvSpPr/>
          <p:nvPr/>
        </p:nvSpPr>
        <p:spPr>
          <a:xfrm>
            <a:off x="3257640" y="5815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73"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74"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75"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76" name=""/>
          <p:cNvSpPr/>
          <p:nvPr/>
        </p:nvSpPr>
        <p:spPr>
          <a:xfrm>
            <a:off x="5364000" y="4632480"/>
            <a:ext cx="4399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356080" y="557532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5843520" y="4498920"/>
            <a:ext cx="1041840" cy="1190160"/>
            <a:chOff x="5843520" y="4498920"/>
            <a:chExt cx="1041840" cy="1190160"/>
          </a:xfrm>
        </p:grpSpPr>
        <p:grpSp>
          <p:nvGrpSpPr>
            <p:cNvPr id="679" name=""/>
            <p:cNvGrpSpPr/>
            <p:nvPr/>
          </p:nvGrpSpPr>
          <p:grpSpPr>
            <a:xfrm>
              <a:off x="5843520" y="4498920"/>
              <a:ext cx="968400" cy="1190160"/>
              <a:chOff x="5843520" y="4498920"/>
              <a:chExt cx="968400" cy="1190160"/>
            </a:xfrm>
          </p:grpSpPr>
          <p:sp>
            <p:nvSpPr>
              <p:cNvPr id="680"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88"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89"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690"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26320" y="52833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75520" y="530208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3244320" y="6451560"/>
            <a:ext cx="393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3251160" y="582300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19480" y="49338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96"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87480" y="1582560"/>
            <a:ext cx="8061120" cy="417960"/>
            <a:chOff x="87480" y="1582560"/>
            <a:chExt cx="8061120" cy="417960"/>
          </a:xfrm>
        </p:grpSpPr>
        <p:sp>
          <p:nvSpPr>
            <p:cNvPr id="698" name=""/>
            <p:cNvSpPr/>
            <p:nvPr/>
          </p:nvSpPr>
          <p:spPr>
            <a:xfrm>
              <a:off x="547200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699" name=""/>
            <p:cNvSpPr/>
            <p:nvPr/>
          </p:nvSpPr>
          <p:spPr>
            <a:xfrm>
              <a:off x="681840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2</a:t>
              </a:r>
              <a:endParaRPr b="0" lang="en-US" sz="2400" spc="-1" strike="noStrike">
                <a:solidFill>
                  <a:srgbClr val="000000"/>
                </a:solidFill>
                <a:latin typeface="Times New Roman"/>
              </a:endParaRPr>
            </a:p>
          </p:txBody>
        </p:sp>
        <p:sp>
          <p:nvSpPr>
            <p:cNvPr id="700" name=""/>
            <p:cNvSpPr/>
            <p:nvPr/>
          </p:nvSpPr>
          <p:spPr>
            <a:xfrm>
              <a:off x="412596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701" name=""/>
            <p:cNvSpPr/>
            <p:nvPr/>
          </p:nvSpPr>
          <p:spPr>
            <a:xfrm>
              <a:off x="277956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702" name=""/>
            <p:cNvSpPr/>
            <p:nvPr/>
          </p:nvSpPr>
          <p:spPr>
            <a:xfrm>
              <a:off x="143352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703" name=""/>
            <p:cNvSpPr/>
            <p:nvPr/>
          </p:nvSpPr>
          <p:spPr>
            <a:xfrm>
              <a:off x="8748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
        <p:nvSpPr>
          <p:cNvPr id="704" name=""/>
          <p:cNvSpPr/>
          <p:nvPr/>
        </p:nvSpPr>
        <p:spPr>
          <a:xfrm>
            <a:off x="-10800" y="957240"/>
            <a:ext cx="6948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i,$j,$k,  signification $i=$j+$k</a:t>
            </a:r>
            <a:endParaRPr b="0" lang="en-US" sz="2400" spc="-1" strike="noStrike">
              <a:solidFill>
                <a:srgbClr val="000000"/>
              </a:solidFill>
              <a:latin typeface="Times New Roman"/>
            </a:endParaRPr>
          </a:p>
        </p:txBody>
      </p:sp>
      <p:grpSp>
        <p:nvGrpSpPr>
          <p:cNvPr id="705" name=""/>
          <p:cNvGrpSpPr/>
          <p:nvPr/>
        </p:nvGrpSpPr>
        <p:grpSpPr>
          <a:xfrm>
            <a:off x="1647360" y="2525760"/>
            <a:ext cx="336960" cy="4135320"/>
            <a:chOff x="1647360" y="2525760"/>
            <a:chExt cx="336960" cy="4135320"/>
          </a:xfrm>
        </p:grpSpPr>
        <p:sp>
          <p:nvSpPr>
            <p:cNvPr id="706" name=""/>
            <p:cNvSpPr/>
            <p:nvPr/>
          </p:nvSpPr>
          <p:spPr>
            <a:xfrm rot="5400000">
              <a:off x="1478520" y="5396400"/>
              <a:ext cx="6732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707" name=""/>
            <p:cNvSpPr/>
            <p:nvPr/>
          </p:nvSpPr>
          <p:spPr>
            <a:xfrm rot="5400000">
              <a:off x="1434600" y="6111360"/>
              <a:ext cx="763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708" name=""/>
            <p:cNvSpPr/>
            <p:nvPr/>
          </p:nvSpPr>
          <p:spPr>
            <a:xfrm rot="5400000">
              <a:off x="1500840" y="4698000"/>
              <a:ext cx="628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709" name=""/>
            <p:cNvSpPr/>
            <p:nvPr/>
          </p:nvSpPr>
          <p:spPr>
            <a:xfrm rot="5400000">
              <a:off x="1480680" y="4039920"/>
              <a:ext cx="6717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710" name=""/>
            <p:cNvSpPr/>
            <p:nvPr/>
          </p:nvSpPr>
          <p:spPr>
            <a:xfrm rot="5400000">
              <a:off x="1491120" y="3354840"/>
              <a:ext cx="64764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711" name=""/>
            <p:cNvSpPr/>
            <p:nvPr/>
          </p:nvSpPr>
          <p:spPr>
            <a:xfrm rot="5400000">
              <a:off x="1492920" y="2680200"/>
              <a:ext cx="6444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712" name=""/>
          <p:cNvSpPr/>
          <p:nvPr/>
        </p:nvSpPr>
        <p:spPr>
          <a:xfrm>
            <a:off x="1998720" y="3524400"/>
            <a:ext cx="830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852640" y="3538440"/>
            <a:ext cx="1800" cy="1060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2583000" y="4119480"/>
            <a:ext cx="0" cy="8906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1957320" y="4192560"/>
            <a:ext cx="650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995480" y="2844720"/>
            <a:ext cx="911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14560" y="48848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319480" y="49100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352600" y="5478480"/>
            <a:ext cx="1203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79480" y="49053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084120" y="3179880"/>
            <a:ext cx="9100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 bits</a:t>
            </a:r>
            <a:endParaRPr b="0" lang="en-US" sz="2400" spc="-1" strike="noStrike">
              <a:solidFill>
                <a:srgbClr val="000000"/>
              </a:solidFill>
              <a:latin typeface="Times New Roman"/>
            </a:endParaRPr>
          </a:p>
        </p:txBody>
      </p:sp>
      <p:sp>
        <p:nvSpPr>
          <p:cNvPr id="722" name=""/>
          <p:cNvSpPr/>
          <p:nvPr/>
        </p:nvSpPr>
        <p:spPr>
          <a:xfrm flipV="1">
            <a:off x="2340000" y="3263760"/>
            <a:ext cx="479520" cy="47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957240" y="3227400"/>
            <a:ext cx="401040" cy="272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é</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g</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724" name=""/>
          <p:cNvSpPr/>
          <p:nvPr/>
        </p:nvSpPr>
        <p:spPr>
          <a:xfrm>
            <a:off x="2004840" y="6267600"/>
            <a:ext cx="91152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865240" y="4294080"/>
            <a:ext cx="33372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
        <p:nvSpPr>
          <p:cNvPr id="726" name=""/>
          <p:cNvSpPr/>
          <p:nvPr/>
        </p:nvSpPr>
        <p:spPr>
          <a:xfrm>
            <a:off x="5370480" y="4075200"/>
            <a:ext cx="50292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grpSp>
        <p:nvGrpSpPr>
          <p:cNvPr id="728" name=""/>
          <p:cNvGrpSpPr/>
          <p:nvPr/>
        </p:nvGrpSpPr>
        <p:grpSpPr>
          <a:xfrm>
            <a:off x="87480" y="1582560"/>
            <a:ext cx="8061120" cy="417960"/>
            <a:chOff x="87480" y="1582560"/>
            <a:chExt cx="8061120" cy="417960"/>
          </a:xfrm>
        </p:grpSpPr>
        <p:sp>
          <p:nvSpPr>
            <p:cNvPr id="729" name=""/>
            <p:cNvSpPr/>
            <p:nvPr/>
          </p:nvSpPr>
          <p:spPr>
            <a:xfrm>
              <a:off x="547200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730" name=""/>
            <p:cNvSpPr/>
            <p:nvPr/>
          </p:nvSpPr>
          <p:spPr>
            <a:xfrm>
              <a:off x="681840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2</a:t>
              </a:r>
              <a:endParaRPr b="0" lang="en-US" sz="2400" spc="-1" strike="noStrike">
                <a:solidFill>
                  <a:srgbClr val="000000"/>
                </a:solidFill>
                <a:latin typeface="Times New Roman"/>
              </a:endParaRPr>
            </a:p>
          </p:txBody>
        </p:sp>
        <p:sp>
          <p:nvSpPr>
            <p:cNvPr id="731" name=""/>
            <p:cNvSpPr/>
            <p:nvPr/>
          </p:nvSpPr>
          <p:spPr>
            <a:xfrm>
              <a:off x="412596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732" name=""/>
            <p:cNvSpPr/>
            <p:nvPr/>
          </p:nvSpPr>
          <p:spPr>
            <a:xfrm>
              <a:off x="277956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733" name=""/>
            <p:cNvSpPr/>
            <p:nvPr/>
          </p:nvSpPr>
          <p:spPr>
            <a:xfrm>
              <a:off x="143352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734" name=""/>
            <p:cNvSpPr/>
            <p:nvPr/>
          </p:nvSpPr>
          <p:spPr>
            <a:xfrm>
              <a:off x="8748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
        <p:nvSpPr>
          <p:cNvPr id="735" name=""/>
          <p:cNvSpPr/>
          <p:nvPr/>
        </p:nvSpPr>
        <p:spPr>
          <a:xfrm>
            <a:off x="-10800" y="957240"/>
            <a:ext cx="6948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i,$j,$k,  signification $i=$j+$k</a:t>
            </a:r>
            <a:endParaRPr b="0" lang="en-US" sz="2400" spc="-1" strike="noStrike">
              <a:solidFill>
                <a:srgbClr val="000000"/>
              </a:solidFill>
              <a:latin typeface="Times New Roman"/>
            </a:endParaRPr>
          </a:p>
        </p:txBody>
      </p:sp>
      <p:sp>
        <p:nvSpPr>
          <p:cNvPr id="736"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844720" y="4622760"/>
            <a:ext cx="879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740" name=""/>
          <p:cNvSpPr/>
          <p:nvPr/>
        </p:nvSpPr>
        <p:spPr>
          <a:xfrm>
            <a:off x="2573280" y="4960800"/>
            <a:ext cx="1143000" cy="3240"/>
          </a:xfrm>
          <a:prstGeom prst="line">
            <a:avLst/>
          </a:prstGeom>
          <a:ln w="50760">
            <a:solidFill>
              <a:srgbClr val="fafd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1"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742"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743" name=""/>
          <p:cNvSpPr/>
          <p:nvPr/>
        </p:nvSpPr>
        <p:spPr>
          <a:xfrm>
            <a:off x="3276720" y="5815080"/>
            <a:ext cx="4395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745"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746"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747"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748" name=""/>
          <p:cNvSpPr/>
          <p:nvPr/>
        </p:nvSpPr>
        <p:spPr>
          <a:xfrm>
            <a:off x="5364000" y="4632480"/>
            <a:ext cx="4399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356080" y="557532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5843520" y="4498920"/>
            <a:ext cx="1041840" cy="1190160"/>
            <a:chOff x="5843520" y="4498920"/>
            <a:chExt cx="1041840" cy="1190160"/>
          </a:xfrm>
        </p:grpSpPr>
        <p:grpSp>
          <p:nvGrpSpPr>
            <p:cNvPr id="751" name=""/>
            <p:cNvGrpSpPr/>
            <p:nvPr/>
          </p:nvGrpSpPr>
          <p:grpSpPr>
            <a:xfrm>
              <a:off x="5843520" y="4498920"/>
              <a:ext cx="968400" cy="1190160"/>
              <a:chOff x="5843520" y="4498920"/>
              <a:chExt cx="968400" cy="1190160"/>
            </a:xfrm>
          </p:grpSpPr>
          <p:sp>
            <p:nvSpPr>
              <p:cNvPr id="752"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9"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760"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761"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762"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45400" y="5283360"/>
            <a:ext cx="30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175520" y="5321160"/>
            <a:ext cx="0" cy="1105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225960" y="6451560"/>
            <a:ext cx="3975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3251160" y="5803920"/>
            <a:ext cx="0" cy="673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219480" y="49338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68"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1647360" y="2525760"/>
            <a:ext cx="336960" cy="4135320"/>
            <a:chOff x="1647360" y="2525760"/>
            <a:chExt cx="336960" cy="4135320"/>
          </a:xfrm>
        </p:grpSpPr>
        <p:sp>
          <p:nvSpPr>
            <p:cNvPr id="770" name=""/>
            <p:cNvSpPr/>
            <p:nvPr/>
          </p:nvSpPr>
          <p:spPr>
            <a:xfrm rot="5400000">
              <a:off x="1478520" y="5396400"/>
              <a:ext cx="6732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771" name=""/>
            <p:cNvSpPr/>
            <p:nvPr/>
          </p:nvSpPr>
          <p:spPr>
            <a:xfrm rot="5400000">
              <a:off x="1434600" y="6111360"/>
              <a:ext cx="763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772" name=""/>
            <p:cNvSpPr/>
            <p:nvPr/>
          </p:nvSpPr>
          <p:spPr>
            <a:xfrm rot="5400000">
              <a:off x="1500840" y="4698000"/>
              <a:ext cx="628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773" name=""/>
            <p:cNvSpPr/>
            <p:nvPr/>
          </p:nvSpPr>
          <p:spPr>
            <a:xfrm rot="5400000">
              <a:off x="1480680" y="4039920"/>
              <a:ext cx="6717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774" name=""/>
            <p:cNvSpPr/>
            <p:nvPr/>
          </p:nvSpPr>
          <p:spPr>
            <a:xfrm rot="5400000">
              <a:off x="1491120" y="3354840"/>
              <a:ext cx="64764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775" name=""/>
            <p:cNvSpPr/>
            <p:nvPr/>
          </p:nvSpPr>
          <p:spPr>
            <a:xfrm rot="5400000">
              <a:off x="1492920" y="2680200"/>
              <a:ext cx="6444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776" name=""/>
          <p:cNvSpPr/>
          <p:nvPr/>
        </p:nvSpPr>
        <p:spPr>
          <a:xfrm>
            <a:off x="1998720" y="3524400"/>
            <a:ext cx="830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852640" y="3538440"/>
            <a:ext cx="1800" cy="1060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2583000" y="4132080"/>
            <a:ext cx="0" cy="865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1957320" y="4192560"/>
            <a:ext cx="650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995480" y="284472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014560" y="48848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19480" y="49100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352600" y="5478480"/>
            <a:ext cx="1203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79480" y="49053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84120" y="3179880"/>
            <a:ext cx="9100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 bits</a:t>
            </a:r>
            <a:endParaRPr b="0" lang="en-US" sz="2400" spc="-1" strike="noStrike">
              <a:solidFill>
                <a:srgbClr val="000000"/>
              </a:solidFill>
              <a:latin typeface="Times New Roman"/>
            </a:endParaRPr>
          </a:p>
        </p:txBody>
      </p:sp>
      <p:sp>
        <p:nvSpPr>
          <p:cNvPr id="786" name=""/>
          <p:cNvSpPr/>
          <p:nvPr/>
        </p:nvSpPr>
        <p:spPr>
          <a:xfrm flipV="1">
            <a:off x="2340000" y="3263760"/>
            <a:ext cx="479520" cy="47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957240" y="3227400"/>
            <a:ext cx="401040" cy="272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é</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g</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788" name=""/>
          <p:cNvSpPr/>
          <p:nvPr/>
        </p:nvSpPr>
        <p:spPr>
          <a:xfrm>
            <a:off x="2865960" y="4294080"/>
            <a:ext cx="9176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89" name=""/>
          <p:cNvSpPr/>
          <p:nvPr/>
        </p:nvSpPr>
        <p:spPr>
          <a:xfrm>
            <a:off x="5370480" y="4075200"/>
            <a:ext cx="50292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
        <p:nvSpPr>
          <p:cNvPr id="790" name=""/>
          <p:cNvSpPr/>
          <p:nvPr/>
        </p:nvSpPr>
        <p:spPr>
          <a:xfrm>
            <a:off x="7493760" y="5454720"/>
            <a:ext cx="917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k</a:t>
            </a:r>
            <a:endParaRPr b="0" lang="en-US" sz="2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792"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793" name=""/>
          <p:cNvSpPr/>
          <p:nvPr/>
        </p:nvSpPr>
        <p:spPr>
          <a:xfrm>
            <a:off x="4698000" y="1789200"/>
            <a:ext cx="3472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Mémoire($i+100)=$j</a:t>
            </a:r>
            <a:endParaRPr b="0" lang="en-US" sz="2400" spc="-1" strike="noStrike">
              <a:solidFill>
                <a:srgbClr val="000000"/>
              </a:solidFill>
              <a:latin typeface="Times New Roman"/>
            </a:endParaRPr>
          </a:p>
        </p:txBody>
      </p:sp>
      <p:sp>
        <p:nvSpPr>
          <p:cNvPr id="794" name=""/>
          <p:cNvSpPr/>
          <p:nvPr/>
        </p:nvSpPr>
        <p:spPr>
          <a:xfrm>
            <a:off x="4723200" y="2209680"/>
            <a:ext cx="3472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Mémoire($i+1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et chargement</a:t>
            </a:r>
            <a:endParaRPr b="1" lang="en-US" sz="3200" spc="-1" strike="noStrike">
              <a:solidFill>
                <a:srgbClr val="fafd00"/>
              </a:solidFill>
              <a:latin typeface="Arial"/>
            </a:endParaRPr>
          </a:p>
        </p:txBody>
      </p:sp>
      <p:sp>
        <p:nvSpPr>
          <p:cNvPr id="796" name=""/>
          <p:cNvSpPr/>
          <p:nvPr/>
        </p:nvSpPr>
        <p:spPr>
          <a:xfrm>
            <a:off x="5483160" y="127620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471280" y="226548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798" name=""/>
          <p:cNvSpPr/>
          <p:nvPr/>
        </p:nvSpPr>
        <p:spPr>
          <a:xfrm>
            <a:off x="5458680" y="257184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799" name=""/>
          <p:cNvSpPr/>
          <p:nvPr/>
        </p:nvSpPr>
        <p:spPr>
          <a:xfrm>
            <a:off x="5652000" y="169380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800" name=""/>
          <p:cNvSpPr/>
          <p:nvPr/>
        </p:nvSpPr>
        <p:spPr>
          <a:xfrm>
            <a:off x="6330240" y="13320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801" name=""/>
          <p:cNvSpPr/>
          <p:nvPr/>
        </p:nvSpPr>
        <p:spPr>
          <a:xfrm>
            <a:off x="5458320" y="133812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802" name=""/>
          <p:cNvSpPr/>
          <p:nvPr/>
        </p:nvSpPr>
        <p:spPr>
          <a:xfrm>
            <a:off x="6348600" y="74124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ae00"/>
                </a:solidFill>
                <a:latin typeface="Arial"/>
              </a:rPr>
              <a:t>Ecrire</a:t>
            </a:r>
            <a:endParaRPr b="0" lang="en-US" sz="1800" spc="-1" strike="noStrike">
              <a:solidFill>
                <a:srgbClr val="000000"/>
              </a:solidFill>
              <a:latin typeface="Times New Roman"/>
            </a:endParaRPr>
          </a:p>
        </p:txBody>
      </p:sp>
      <p:sp>
        <p:nvSpPr>
          <p:cNvPr id="803" name=""/>
          <p:cNvSpPr/>
          <p:nvPr/>
        </p:nvSpPr>
        <p:spPr>
          <a:xfrm>
            <a:off x="6197760" y="87012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6197760" y="2978280"/>
            <a:ext cx="0" cy="44424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361560" y="3141720"/>
            <a:ext cx="9417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ae00"/>
                </a:solidFill>
                <a:latin typeface="Arial"/>
              </a:rPr>
              <a:t>Lecture</a:t>
            </a:r>
            <a:endParaRPr b="0" lang="en-US" sz="1800" spc="-1" strike="noStrike">
              <a:solidFill>
                <a:srgbClr val="000000"/>
              </a:solidFill>
              <a:latin typeface="Times New Roman"/>
            </a:endParaRPr>
          </a:p>
        </p:txBody>
      </p:sp>
      <p:grpSp>
        <p:nvGrpSpPr>
          <p:cNvPr id="806" name=""/>
          <p:cNvGrpSpPr/>
          <p:nvPr/>
        </p:nvGrpSpPr>
        <p:grpSpPr>
          <a:xfrm>
            <a:off x="7300440" y="1631880"/>
            <a:ext cx="1824480" cy="1041480"/>
            <a:chOff x="7300440" y="1631880"/>
            <a:chExt cx="1824480" cy="1041480"/>
          </a:xfrm>
        </p:grpSpPr>
        <p:sp>
          <p:nvSpPr>
            <p:cNvPr id="807" name=""/>
            <p:cNvSpPr/>
            <p:nvPr/>
          </p:nvSpPr>
          <p:spPr>
            <a:xfrm>
              <a:off x="7969320" y="1631880"/>
              <a:ext cx="62208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415280" y="2143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461360" y="2025720"/>
              <a:ext cx="12672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647200" y="21556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693280" y="2038320"/>
              <a:ext cx="12672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300440" y="16509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813" name=""/>
            <p:cNvSpPr/>
            <p:nvPr/>
          </p:nvSpPr>
          <p:spPr>
            <a:xfrm>
              <a:off x="8697240" y="16635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814" name=""/>
            <p:cNvSpPr/>
            <p:nvPr/>
          </p:nvSpPr>
          <p:spPr>
            <a:xfrm>
              <a:off x="7915680" y="19591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grpSp>
      <p:sp>
        <p:nvSpPr>
          <p:cNvPr id="815" name=""/>
          <p:cNvSpPr/>
          <p:nvPr/>
        </p:nvSpPr>
        <p:spPr>
          <a:xfrm>
            <a:off x="797040" y="131436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72920" y="13762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817" name=""/>
          <p:cNvSpPr/>
          <p:nvPr/>
        </p:nvSpPr>
        <p:spPr>
          <a:xfrm>
            <a:off x="763200" y="17175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818" name=""/>
          <p:cNvSpPr/>
          <p:nvPr/>
        </p:nvSpPr>
        <p:spPr>
          <a:xfrm>
            <a:off x="773280" y="222732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819" name=""/>
          <p:cNvSpPr/>
          <p:nvPr/>
        </p:nvSpPr>
        <p:spPr>
          <a:xfrm flipV="1">
            <a:off x="5175360" y="269676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20" name=""/>
          <p:cNvSpPr/>
          <p:nvPr/>
        </p:nvSpPr>
        <p:spPr>
          <a:xfrm>
            <a:off x="772560" y="261000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821" name=""/>
          <p:cNvSpPr/>
          <p:nvPr/>
        </p:nvSpPr>
        <p:spPr>
          <a:xfrm>
            <a:off x="1054440" y="197316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822" name=""/>
          <p:cNvSpPr/>
          <p:nvPr/>
        </p:nvSpPr>
        <p:spPr>
          <a:xfrm>
            <a:off x="1644120" y="13701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823" name=""/>
          <p:cNvSpPr/>
          <p:nvPr/>
        </p:nvSpPr>
        <p:spPr>
          <a:xfrm>
            <a:off x="1718640" y="22683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824" name=""/>
          <p:cNvSpPr/>
          <p:nvPr/>
        </p:nvSpPr>
        <p:spPr>
          <a:xfrm>
            <a:off x="4549680" y="21207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3583080" y="1425600"/>
            <a:ext cx="1041840" cy="1190160"/>
            <a:chOff x="3583080" y="1425600"/>
            <a:chExt cx="1041840" cy="1190160"/>
          </a:xfrm>
        </p:grpSpPr>
        <p:grpSp>
          <p:nvGrpSpPr>
            <p:cNvPr id="826" name=""/>
            <p:cNvGrpSpPr/>
            <p:nvPr/>
          </p:nvGrpSpPr>
          <p:grpSpPr>
            <a:xfrm>
              <a:off x="3583080" y="1425600"/>
              <a:ext cx="968400" cy="1190160"/>
              <a:chOff x="3583080" y="1425600"/>
              <a:chExt cx="968400" cy="1190160"/>
            </a:xfrm>
          </p:grpSpPr>
          <p:sp>
            <p:nvSpPr>
              <p:cNvPr id="827" name=""/>
              <p:cNvSpPr/>
              <p:nvPr/>
            </p:nvSpPr>
            <p:spPr>
              <a:xfrm>
                <a:off x="3589200" y="14256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589200" y="21542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95680" y="189216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3583080" y="202104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95680" y="142560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3595680" y="233820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51480" y="175896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4" name=""/>
            <p:cNvSpPr/>
            <p:nvPr/>
          </p:nvSpPr>
          <p:spPr>
            <a:xfrm>
              <a:off x="3605400" y="163980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835" name=""/>
            <p:cNvSpPr/>
            <p:nvPr/>
          </p:nvSpPr>
          <p:spPr>
            <a:xfrm>
              <a:off x="3882600" y="199692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836" name=""/>
          <p:cNvSpPr/>
          <p:nvPr/>
        </p:nvSpPr>
        <p:spPr>
          <a:xfrm>
            <a:off x="4137480" y="17305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837" name=""/>
          <p:cNvSpPr/>
          <p:nvPr/>
        </p:nvSpPr>
        <p:spPr>
          <a:xfrm flipV="1">
            <a:off x="3333600" y="1577880"/>
            <a:ext cx="241560" cy="28800"/>
          </a:xfrm>
          <a:prstGeom prst="line">
            <a:avLst/>
          </a:prstGeom>
          <a:ln w="12600">
            <a:solidFill>
              <a:srgbClr val="ffffff"/>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38" name=""/>
          <p:cNvSpPr/>
          <p:nvPr/>
        </p:nvSpPr>
        <p:spPr>
          <a:xfrm>
            <a:off x="2390760" y="14986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378160" y="24382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05160" y="251460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73040" y="18669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159520" y="2374920"/>
            <a:ext cx="285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102440" y="14731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501480" y="2684520"/>
            <a:ext cx="274680" cy="25200"/>
          </a:xfrm>
          <a:prstGeom prst="line">
            <a:avLst/>
          </a:prstGeom>
          <a:ln w="1260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45" name=""/>
          <p:cNvSpPr/>
          <p:nvPr/>
        </p:nvSpPr>
        <p:spPr>
          <a:xfrm>
            <a:off x="485640" y="23623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60440" y="14860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133960" y="14986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PlaceHolder 2"/>
          <p:cNvSpPr>
            <a:spLocks noGrp="1"/>
          </p:cNvSpPr>
          <p:nvPr>
            <p:ph/>
          </p:nvPr>
        </p:nvSpPr>
        <p:spPr>
          <a:xfrm>
            <a:off x="-360" y="3699000"/>
            <a:ext cx="9131400" cy="1180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utre le banc de registres et l'UAL, les deux unités nécessaires pour réaliser les chargements et les rangements sont </a:t>
            </a:r>
            <a:r>
              <a:rPr b="0" i="1" lang="fr-FR" sz="2400" spc="-1" strike="noStrike">
                <a:solidFill>
                  <a:srgbClr val="ffffff"/>
                </a:solidFill>
                <a:latin typeface="Arial"/>
              </a:rPr>
              <a:t>l'unité de mémoire de données  </a:t>
            </a:r>
            <a:r>
              <a:rPr b="0" lang="fr-FR" sz="2400" spc="-1" strike="noStrike">
                <a:solidFill>
                  <a:srgbClr val="ffffff"/>
                </a:solidFill>
                <a:latin typeface="Arial"/>
              </a:rPr>
              <a:t>et </a:t>
            </a:r>
            <a:r>
              <a:rPr b="0" i="1" lang="fr-FR" sz="2400" spc="-1" strike="noStrike">
                <a:solidFill>
                  <a:srgbClr val="ffffff"/>
                </a:solidFill>
                <a:latin typeface="Arial"/>
              </a:rPr>
              <a:t>l'unité d'extension de signe.</a:t>
            </a:r>
            <a:endParaRPr b="0" lang="en-US" sz="2400" spc="-1" strike="noStrike">
              <a:solidFill>
                <a:srgbClr val="ffffff"/>
              </a:solidFill>
              <a:latin typeface="Arial"/>
            </a:endParaRPr>
          </a:p>
        </p:txBody>
      </p:sp>
      <p:sp>
        <p:nvSpPr>
          <p:cNvPr id="849" name=""/>
          <p:cNvSpPr/>
          <p:nvPr/>
        </p:nvSpPr>
        <p:spPr>
          <a:xfrm>
            <a:off x="1028880" y="4910040"/>
            <a:ext cx="758952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ffffff"/>
                </a:solidFill>
                <a:latin typeface="Arial"/>
              </a:rPr>
              <a:t>L’adresse contenue dans l’instruction étant sur 16 bits, il faut l’étendre sur 32 bits pour pouvoir accéder à la valeur qu’elle contient. L’extension consiste simplement à remplacer les 16 bits manquant par 16 fois le bit de signe.</a:t>
            </a:r>
            <a:endParaRPr b="0" lang="en-US" sz="2400" spc="-1" strike="noStrike">
              <a:solidFill>
                <a:srgbClr val="000000"/>
              </a:solidFill>
              <a:latin typeface="Times New Roman"/>
            </a:endParaRPr>
          </a:p>
        </p:txBody>
      </p:sp>
      <p:grpSp>
        <p:nvGrpSpPr>
          <p:cNvPr id="850" name=""/>
          <p:cNvGrpSpPr/>
          <p:nvPr/>
        </p:nvGrpSpPr>
        <p:grpSpPr>
          <a:xfrm>
            <a:off x="27000" y="4900680"/>
            <a:ext cx="890640" cy="1087200"/>
            <a:chOff x="27000" y="4900680"/>
            <a:chExt cx="890640" cy="1087200"/>
          </a:xfrm>
        </p:grpSpPr>
        <p:grpSp>
          <p:nvGrpSpPr>
            <p:cNvPr id="851" name=""/>
            <p:cNvGrpSpPr/>
            <p:nvPr/>
          </p:nvGrpSpPr>
          <p:grpSpPr>
            <a:xfrm>
              <a:off x="328680" y="4900680"/>
              <a:ext cx="588960" cy="565200"/>
              <a:chOff x="328680" y="4900680"/>
              <a:chExt cx="588960" cy="565200"/>
            </a:xfrm>
          </p:grpSpPr>
          <p:sp>
            <p:nvSpPr>
              <p:cNvPr id="852" name=""/>
              <p:cNvSpPr/>
              <p:nvPr/>
            </p:nvSpPr>
            <p:spPr>
              <a:xfrm>
                <a:off x="573120" y="5086440"/>
                <a:ext cx="136440" cy="244440"/>
              </a:xfrm>
              <a:custGeom>
                <a:avLst/>
                <a:gdLst/>
                <a:ahLst/>
                <a:rect l="l" t="t" r="r" b="b"/>
                <a:pathLst>
                  <a:path w="86" h="154">
                    <a:moveTo>
                      <a:pt x="28" y="33"/>
                    </a:moveTo>
                    <a:lnTo>
                      <a:pt x="44" y="12"/>
                    </a:lnTo>
                    <a:lnTo>
                      <a:pt x="58" y="0"/>
                    </a:lnTo>
                    <a:lnTo>
                      <a:pt x="71" y="0"/>
                    </a:lnTo>
                    <a:lnTo>
                      <a:pt x="83" y="8"/>
                    </a:lnTo>
                    <a:lnTo>
                      <a:pt x="85" y="19"/>
                    </a:lnTo>
                    <a:lnTo>
                      <a:pt x="81" y="35"/>
                    </a:lnTo>
                    <a:lnTo>
                      <a:pt x="73" y="50"/>
                    </a:lnTo>
                    <a:lnTo>
                      <a:pt x="62" y="71"/>
                    </a:lnTo>
                    <a:lnTo>
                      <a:pt x="56" y="98"/>
                    </a:lnTo>
                    <a:lnTo>
                      <a:pt x="52" y="119"/>
                    </a:lnTo>
                    <a:lnTo>
                      <a:pt x="50" y="133"/>
                    </a:lnTo>
                    <a:lnTo>
                      <a:pt x="40" y="147"/>
                    </a:lnTo>
                    <a:lnTo>
                      <a:pt x="23" y="153"/>
                    </a:lnTo>
                    <a:lnTo>
                      <a:pt x="5" y="145"/>
                    </a:lnTo>
                    <a:lnTo>
                      <a:pt x="0" y="129"/>
                    </a:lnTo>
                    <a:lnTo>
                      <a:pt x="1" y="100"/>
                    </a:lnTo>
                    <a:lnTo>
                      <a:pt x="7" y="74"/>
                    </a:lnTo>
                    <a:lnTo>
                      <a:pt x="17" y="53"/>
                    </a:lnTo>
                    <a:lnTo>
                      <a:pt x="28"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76280" y="5062680"/>
                <a:ext cx="183960" cy="191880"/>
              </a:xfrm>
              <a:custGeom>
                <a:avLst/>
                <a:gdLst/>
                <a:ahLst/>
                <a:rect l="l" t="t" r="r" b="b"/>
                <a:pathLst>
                  <a:path w="116" h="121">
                    <a:moveTo>
                      <a:pt x="80" y="9"/>
                    </a:moveTo>
                    <a:lnTo>
                      <a:pt x="111" y="12"/>
                    </a:lnTo>
                    <a:lnTo>
                      <a:pt x="115" y="20"/>
                    </a:lnTo>
                    <a:lnTo>
                      <a:pt x="109" y="29"/>
                    </a:lnTo>
                    <a:lnTo>
                      <a:pt x="92" y="30"/>
                    </a:lnTo>
                    <a:lnTo>
                      <a:pt x="63" y="22"/>
                    </a:lnTo>
                    <a:lnTo>
                      <a:pt x="40" y="14"/>
                    </a:lnTo>
                    <a:lnTo>
                      <a:pt x="26" y="14"/>
                    </a:lnTo>
                    <a:lnTo>
                      <a:pt x="17" y="33"/>
                    </a:lnTo>
                    <a:lnTo>
                      <a:pt x="16" y="55"/>
                    </a:lnTo>
                    <a:lnTo>
                      <a:pt x="19" y="82"/>
                    </a:lnTo>
                    <a:lnTo>
                      <a:pt x="26" y="95"/>
                    </a:lnTo>
                    <a:lnTo>
                      <a:pt x="33" y="99"/>
                    </a:lnTo>
                    <a:lnTo>
                      <a:pt x="30" y="109"/>
                    </a:lnTo>
                    <a:lnTo>
                      <a:pt x="11" y="120"/>
                    </a:lnTo>
                    <a:lnTo>
                      <a:pt x="0" y="114"/>
                    </a:lnTo>
                    <a:lnTo>
                      <a:pt x="2" y="88"/>
                    </a:lnTo>
                    <a:lnTo>
                      <a:pt x="5" y="78"/>
                    </a:lnTo>
                    <a:lnTo>
                      <a:pt x="6" y="45"/>
                    </a:lnTo>
                    <a:lnTo>
                      <a:pt x="10" y="19"/>
                    </a:lnTo>
                    <a:lnTo>
                      <a:pt x="21" y="3"/>
                    </a:lnTo>
                    <a:lnTo>
                      <a:pt x="34" y="0"/>
                    </a:lnTo>
                    <a:lnTo>
                      <a:pt x="52" y="4"/>
                    </a:lnTo>
                    <a:lnTo>
                      <a:pt x="69" y="9"/>
                    </a:lnTo>
                    <a:lnTo>
                      <a:pt x="80"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90480" y="5114880"/>
                <a:ext cx="182520" cy="146160"/>
              </a:xfrm>
              <a:custGeom>
                <a:avLst/>
                <a:gdLst/>
                <a:ahLst/>
                <a:rect l="l" t="t" r="r" b="b"/>
                <a:pathLst>
                  <a:path w="115" h="92">
                    <a:moveTo>
                      <a:pt x="4" y="3"/>
                    </a:moveTo>
                    <a:lnTo>
                      <a:pt x="15" y="0"/>
                    </a:lnTo>
                    <a:lnTo>
                      <a:pt x="19" y="7"/>
                    </a:lnTo>
                    <a:lnTo>
                      <a:pt x="18" y="25"/>
                    </a:lnTo>
                    <a:lnTo>
                      <a:pt x="15" y="40"/>
                    </a:lnTo>
                    <a:lnTo>
                      <a:pt x="18" y="53"/>
                    </a:lnTo>
                    <a:lnTo>
                      <a:pt x="25" y="68"/>
                    </a:lnTo>
                    <a:lnTo>
                      <a:pt x="35" y="78"/>
                    </a:lnTo>
                    <a:lnTo>
                      <a:pt x="41" y="76"/>
                    </a:lnTo>
                    <a:lnTo>
                      <a:pt x="68" y="52"/>
                    </a:lnTo>
                    <a:lnTo>
                      <a:pt x="86" y="32"/>
                    </a:lnTo>
                    <a:lnTo>
                      <a:pt x="99" y="18"/>
                    </a:lnTo>
                    <a:lnTo>
                      <a:pt x="110" y="18"/>
                    </a:lnTo>
                    <a:lnTo>
                      <a:pt x="114" y="30"/>
                    </a:lnTo>
                    <a:lnTo>
                      <a:pt x="105" y="58"/>
                    </a:lnTo>
                    <a:lnTo>
                      <a:pt x="100" y="64"/>
                    </a:lnTo>
                    <a:lnTo>
                      <a:pt x="93" y="65"/>
                    </a:lnTo>
                    <a:lnTo>
                      <a:pt x="86" y="60"/>
                    </a:lnTo>
                    <a:lnTo>
                      <a:pt x="86" y="47"/>
                    </a:lnTo>
                    <a:lnTo>
                      <a:pt x="73" y="58"/>
                    </a:lnTo>
                    <a:lnTo>
                      <a:pt x="51" y="78"/>
                    </a:lnTo>
                    <a:lnTo>
                      <a:pt x="41" y="87"/>
                    </a:lnTo>
                    <a:lnTo>
                      <a:pt x="33" y="91"/>
                    </a:lnTo>
                    <a:lnTo>
                      <a:pt x="29" y="89"/>
                    </a:lnTo>
                    <a:lnTo>
                      <a:pt x="23" y="85"/>
                    </a:lnTo>
                    <a:lnTo>
                      <a:pt x="12" y="64"/>
                    </a:lnTo>
                    <a:lnTo>
                      <a:pt x="6" y="48"/>
                    </a:lnTo>
                    <a:lnTo>
                      <a:pt x="2" y="34"/>
                    </a:lnTo>
                    <a:lnTo>
                      <a:pt x="0" y="18"/>
                    </a:lnTo>
                    <a:lnTo>
                      <a:pt x="0" y="10"/>
                    </a:lnTo>
                    <a:lnTo>
                      <a:pt x="4"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93640" y="5278320"/>
                <a:ext cx="324000" cy="187560"/>
              </a:xfrm>
              <a:custGeom>
                <a:avLst/>
                <a:gdLst/>
                <a:ahLst/>
                <a:rect l="l" t="t" r="r" b="b"/>
                <a:pathLst>
                  <a:path w="204" h="118">
                    <a:moveTo>
                      <a:pt x="0" y="4"/>
                    </a:moveTo>
                    <a:lnTo>
                      <a:pt x="0" y="23"/>
                    </a:lnTo>
                    <a:lnTo>
                      <a:pt x="14" y="37"/>
                    </a:lnTo>
                    <a:lnTo>
                      <a:pt x="40" y="39"/>
                    </a:lnTo>
                    <a:lnTo>
                      <a:pt x="70" y="38"/>
                    </a:lnTo>
                    <a:lnTo>
                      <a:pt x="88" y="29"/>
                    </a:lnTo>
                    <a:lnTo>
                      <a:pt x="105" y="20"/>
                    </a:lnTo>
                    <a:lnTo>
                      <a:pt x="114" y="16"/>
                    </a:lnTo>
                    <a:lnTo>
                      <a:pt x="119" y="21"/>
                    </a:lnTo>
                    <a:lnTo>
                      <a:pt x="119" y="39"/>
                    </a:lnTo>
                    <a:lnTo>
                      <a:pt x="123" y="79"/>
                    </a:lnTo>
                    <a:lnTo>
                      <a:pt x="131" y="105"/>
                    </a:lnTo>
                    <a:lnTo>
                      <a:pt x="146" y="117"/>
                    </a:lnTo>
                    <a:lnTo>
                      <a:pt x="154" y="110"/>
                    </a:lnTo>
                    <a:lnTo>
                      <a:pt x="169" y="91"/>
                    </a:lnTo>
                    <a:lnTo>
                      <a:pt x="193" y="74"/>
                    </a:lnTo>
                    <a:lnTo>
                      <a:pt x="203" y="65"/>
                    </a:lnTo>
                    <a:lnTo>
                      <a:pt x="200" y="58"/>
                    </a:lnTo>
                    <a:lnTo>
                      <a:pt x="189" y="63"/>
                    </a:lnTo>
                    <a:lnTo>
                      <a:pt x="176" y="75"/>
                    </a:lnTo>
                    <a:lnTo>
                      <a:pt x="150" y="96"/>
                    </a:lnTo>
                    <a:lnTo>
                      <a:pt x="148" y="102"/>
                    </a:lnTo>
                    <a:lnTo>
                      <a:pt x="140" y="98"/>
                    </a:lnTo>
                    <a:lnTo>
                      <a:pt x="132" y="70"/>
                    </a:lnTo>
                    <a:lnTo>
                      <a:pt x="132" y="38"/>
                    </a:lnTo>
                    <a:lnTo>
                      <a:pt x="131" y="12"/>
                    </a:lnTo>
                    <a:lnTo>
                      <a:pt x="123" y="4"/>
                    </a:lnTo>
                    <a:lnTo>
                      <a:pt x="113" y="0"/>
                    </a:lnTo>
                    <a:lnTo>
                      <a:pt x="103" y="6"/>
                    </a:lnTo>
                    <a:lnTo>
                      <a:pt x="71" y="12"/>
                    </a:lnTo>
                    <a:lnTo>
                      <a:pt x="44" y="13"/>
                    </a:lnTo>
                    <a:lnTo>
                      <a:pt x="22" y="8"/>
                    </a:lnTo>
                    <a:lnTo>
                      <a:pt x="11"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8680" y="5226120"/>
                <a:ext cx="293760" cy="196920"/>
              </a:xfrm>
              <a:custGeom>
                <a:avLst/>
                <a:gdLst/>
                <a:ahLst/>
                <a:rect l="l" t="t" r="r" b="b"/>
                <a:pathLst>
                  <a:path w="185" h="124">
                    <a:moveTo>
                      <a:pt x="144" y="83"/>
                    </a:moveTo>
                    <a:lnTo>
                      <a:pt x="157" y="48"/>
                    </a:lnTo>
                    <a:lnTo>
                      <a:pt x="171" y="30"/>
                    </a:lnTo>
                    <a:lnTo>
                      <a:pt x="184" y="32"/>
                    </a:lnTo>
                    <a:lnTo>
                      <a:pt x="184" y="55"/>
                    </a:lnTo>
                    <a:lnTo>
                      <a:pt x="167" y="83"/>
                    </a:lnTo>
                    <a:lnTo>
                      <a:pt x="149" y="112"/>
                    </a:lnTo>
                    <a:lnTo>
                      <a:pt x="139" y="119"/>
                    </a:lnTo>
                    <a:lnTo>
                      <a:pt x="125" y="123"/>
                    </a:lnTo>
                    <a:lnTo>
                      <a:pt x="115" y="121"/>
                    </a:lnTo>
                    <a:lnTo>
                      <a:pt x="104" y="114"/>
                    </a:lnTo>
                    <a:lnTo>
                      <a:pt x="90" y="98"/>
                    </a:lnTo>
                    <a:lnTo>
                      <a:pt x="75" y="70"/>
                    </a:lnTo>
                    <a:lnTo>
                      <a:pt x="59" y="43"/>
                    </a:lnTo>
                    <a:lnTo>
                      <a:pt x="52" y="24"/>
                    </a:lnTo>
                    <a:lnTo>
                      <a:pt x="48" y="24"/>
                    </a:lnTo>
                    <a:lnTo>
                      <a:pt x="40" y="41"/>
                    </a:lnTo>
                    <a:lnTo>
                      <a:pt x="27" y="55"/>
                    </a:lnTo>
                    <a:lnTo>
                      <a:pt x="15" y="64"/>
                    </a:lnTo>
                    <a:lnTo>
                      <a:pt x="3" y="64"/>
                    </a:lnTo>
                    <a:lnTo>
                      <a:pt x="0" y="59"/>
                    </a:lnTo>
                    <a:lnTo>
                      <a:pt x="3" y="55"/>
                    </a:lnTo>
                    <a:lnTo>
                      <a:pt x="15" y="52"/>
                    </a:lnTo>
                    <a:lnTo>
                      <a:pt x="29" y="39"/>
                    </a:lnTo>
                    <a:lnTo>
                      <a:pt x="40" y="21"/>
                    </a:lnTo>
                    <a:lnTo>
                      <a:pt x="46" y="4"/>
                    </a:lnTo>
                    <a:lnTo>
                      <a:pt x="51" y="0"/>
                    </a:lnTo>
                    <a:lnTo>
                      <a:pt x="59" y="0"/>
                    </a:lnTo>
                    <a:lnTo>
                      <a:pt x="61" y="12"/>
                    </a:lnTo>
                    <a:lnTo>
                      <a:pt x="65" y="31"/>
                    </a:lnTo>
                    <a:lnTo>
                      <a:pt x="71" y="48"/>
                    </a:lnTo>
                    <a:lnTo>
                      <a:pt x="84" y="67"/>
                    </a:lnTo>
                    <a:lnTo>
                      <a:pt x="97" y="83"/>
                    </a:lnTo>
                    <a:lnTo>
                      <a:pt x="108" y="101"/>
                    </a:lnTo>
                    <a:lnTo>
                      <a:pt x="121" y="110"/>
                    </a:lnTo>
                    <a:lnTo>
                      <a:pt x="129" y="111"/>
                    </a:lnTo>
                    <a:lnTo>
                      <a:pt x="136" y="107"/>
                    </a:lnTo>
                    <a:lnTo>
                      <a:pt x="144"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23880" y="4900680"/>
                <a:ext cx="155520" cy="168120"/>
              </a:xfrm>
              <a:custGeom>
                <a:avLst/>
                <a:gdLst/>
                <a:ahLst/>
                <a:rect l="l" t="t" r="r" b="b"/>
                <a:pathLst>
                  <a:path w="98" h="106">
                    <a:moveTo>
                      <a:pt x="37" y="32"/>
                    </a:moveTo>
                    <a:lnTo>
                      <a:pt x="48" y="12"/>
                    </a:lnTo>
                    <a:lnTo>
                      <a:pt x="58" y="4"/>
                    </a:lnTo>
                    <a:lnTo>
                      <a:pt x="74" y="0"/>
                    </a:lnTo>
                    <a:lnTo>
                      <a:pt x="88" y="6"/>
                    </a:lnTo>
                    <a:lnTo>
                      <a:pt x="94" y="14"/>
                    </a:lnTo>
                    <a:lnTo>
                      <a:pt x="97" y="27"/>
                    </a:lnTo>
                    <a:lnTo>
                      <a:pt x="97" y="44"/>
                    </a:lnTo>
                    <a:lnTo>
                      <a:pt x="92" y="70"/>
                    </a:lnTo>
                    <a:lnTo>
                      <a:pt x="81" y="91"/>
                    </a:lnTo>
                    <a:lnTo>
                      <a:pt x="68" y="102"/>
                    </a:lnTo>
                    <a:lnTo>
                      <a:pt x="53" y="105"/>
                    </a:lnTo>
                    <a:lnTo>
                      <a:pt x="43" y="102"/>
                    </a:lnTo>
                    <a:lnTo>
                      <a:pt x="37" y="89"/>
                    </a:lnTo>
                    <a:lnTo>
                      <a:pt x="33" y="69"/>
                    </a:lnTo>
                    <a:lnTo>
                      <a:pt x="33" y="46"/>
                    </a:lnTo>
                    <a:lnTo>
                      <a:pt x="0" y="47"/>
                    </a:lnTo>
                    <a:lnTo>
                      <a:pt x="2" y="40"/>
                    </a:lnTo>
                    <a:lnTo>
                      <a:pt x="34" y="39"/>
                    </a:lnTo>
                    <a:lnTo>
                      <a:pt x="37"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27000" y="5562720"/>
              <a:ext cx="531720" cy="425160"/>
            </a:xfrm>
            <a:custGeom>
              <a:avLst/>
              <a:gdLst/>
              <a:ahLst/>
              <a:rect l="l" t="t" r="r" b="b"/>
              <a:pathLst>
                <a:path w="335" h="268">
                  <a:moveTo>
                    <a:pt x="0" y="15"/>
                  </a:moveTo>
                  <a:lnTo>
                    <a:pt x="56" y="15"/>
                  </a:lnTo>
                  <a:lnTo>
                    <a:pt x="86" y="18"/>
                  </a:lnTo>
                  <a:lnTo>
                    <a:pt x="133" y="13"/>
                  </a:lnTo>
                  <a:lnTo>
                    <a:pt x="187" y="13"/>
                  </a:lnTo>
                  <a:lnTo>
                    <a:pt x="227" y="6"/>
                  </a:lnTo>
                  <a:lnTo>
                    <a:pt x="280" y="0"/>
                  </a:lnTo>
                  <a:lnTo>
                    <a:pt x="314" y="5"/>
                  </a:lnTo>
                  <a:lnTo>
                    <a:pt x="332" y="5"/>
                  </a:lnTo>
                  <a:lnTo>
                    <a:pt x="334" y="13"/>
                  </a:lnTo>
                  <a:lnTo>
                    <a:pt x="327" y="22"/>
                  </a:lnTo>
                  <a:lnTo>
                    <a:pt x="327" y="34"/>
                  </a:lnTo>
                  <a:lnTo>
                    <a:pt x="318" y="44"/>
                  </a:lnTo>
                  <a:lnTo>
                    <a:pt x="317" y="60"/>
                  </a:lnTo>
                  <a:lnTo>
                    <a:pt x="317" y="183"/>
                  </a:lnTo>
                  <a:lnTo>
                    <a:pt x="312" y="267"/>
                  </a:lnTo>
                  <a:lnTo>
                    <a:pt x="305" y="267"/>
                  </a:lnTo>
                  <a:lnTo>
                    <a:pt x="301" y="177"/>
                  </a:lnTo>
                  <a:lnTo>
                    <a:pt x="296" y="136"/>
                  </a:lnTo>
                  <a:lnTo>
                    <a:pt x="287" y="91"/>
                  </a:lnTo>
                  <a:lnTo>
                    <a:pt x="291" y="66"/>
                  </a:lnTo>
                  <a:lnTo>
                    <a:pt x="290" y="23"/>
                  </a:lnTo>
                  <a:lnTo>
                    <a:pt x="250" y="23"/>
                  </a:lnTo>
                  <a:lnTo>
                    <a:pt x="272" y="30"/>
                  </a:lnTo>
                  <a:lnTo>
                    <a:pt x="276" y="28"/>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9" name=""/>
            <p:cNvGrpSpPr/>
            <p:nvPr/>
          </p:nvGrpSpPr>
          <p:grpSpPr>
            <a:xfrm>
              <a:off x="652320" y="5504040"/>
              <a:ext cx="217800" cy="230040"/>
              <a:chOff x="652320" y="5504040"/>
              <a:chExt cx="217800" cy="230040"/>
            </a:xfrm>
          </p:grpSpPr>
          <p:sp>
            <p:nvSpPr>
              <p:cNvPr id="860" name=""/>
              <p:cNvSpPr/>
              <p:nvPr/>
            </p:nvSpPr>
            <p:spPr>
              <a:xfrm>
                <a:off x="860400" y="5504040"/>
                <a:ext cx="972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1" name=""/>
              <p:cNvSpPr/>
              <p:nvPr/>
            </p:nvSpPr>
            <p:spPr>
              <a:xfrm>
                <a:off x="844560" y="556740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62" name=""/>
              <p:cNvSpPr/>
              <p:nvPr/>
            </p:nvSpPr>
            <p:spPr>
              <a:xfrm>
                <a:off x="816120" y="562932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3" name=""/>
              <p:cNvSpPr/>
              <p:nvPr/>
            </p:nvSpPr>
            <p:spPr>
              <a:xfrm>
                <a:off x="770040" y="56736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4" name=""/>
              <p:cNvSpPr/>
              <p:nvPr/>
            </p:nvSpPr>
            <p:spPr>
              <a:xfrm>
                <a:off x="714240" y="5708520"/>
                <a:ext cx="972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5" name=""/>
              <p:cNvSpPr/>
              <p:nvPr/>
            </p:nvSpPr>
            <p:spPr>
              <a:xfrm>
                <a:off x="652320" y="5722920"/>
                <a:ext cx="972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et chargement</a:t>
            </a:r>
            <a:endParaRPr b="1" lang="en-US" sz="3200" spc="-1" strike="noStrike">
              <a:solidFill>
                <a:srgbClr val="fafd00"/>
              </a:solidFill>
              <a:latin typeface="Arial"/>
            </a:endParaRPr>
          </a:p>
        </p:txBody>
      </p:sp>
      <p:sp>
        <p:nvSpPr>
          <p:cNvPr id="867" name=""/>
          <p:cNvSpPr/>
          <p:nvPr/>
        </p:nvSpPr>
        <p:spPr>
          <a:xfrm>
            <a:off x="1212840" y="42656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1872720" y="6667560"/>
            <a:ext cx="652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1866960" y="5124600"/>
            <a:ext cx="0" cy="1536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1676520" y="3917520"/>
            <a:ext cx="0" cy="213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38240" y="407664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872"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857920" y="4127400"/>
            <a:ext cx="47628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45320" y="50418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876" name=""/>
          <p:cNvSpPr/>
          <p:nvPr/>
        </p:nvSpPr>
        <p:spPr>
          <a:xfrm>
            <a:off x="3917880" y="5357880"/>
            <a:ext cx="240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878"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879"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880"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881" name=""/>
          <p:cNvSpPr/>
          <p:nvPr/>
        </p:nvSpPr>
        <p:spPr>
          <a:xfrm flipV="1">
            <a:off x="8394840" y="4133520"/>
            <a:ext cx="0" cy="2514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918200" y="4140360"/>
            <a:ext cx="4698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216320" y="4870440"/>
            <a:ext cx="0" cy="111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700280" y="6041880"/>
            <a:ext cx="1036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889"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890"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891" name=""/>
          <p:cNvSpPr/>
          <p:nvPr/>
        </p:nvSpPr>
        <p:spPr>
          <a:xfrm>
            <a:off x="3448080" y="5994360"/>
            <a:ext cx="74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679400" y="3924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895"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896" name=""/>
          <p:cNvSpPr/>
          <p:nvPr/>
        </p:nvSpPr>
        <p:spPr>
          <a:xfrm>
            <a:off x="1679400" y="4775040"/>
            <a:ext cx="47628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898" name=""/>
          <p:cNvSpPr/>
          <p:nvPr/>
        </p:nvSpPr>
        <p:spPr>
          <a:xfrm flipV="1">
            <a:off x="1873080" y="5110200"/>
            <a:ext cx="274680" cy="25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99"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900"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901"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902"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903" name=""/>
          <p:cNvSpPr/>
          <p:nvPr/>
        </p:nvSpPr>
        <p:spPr>
          <a:xfrm>
            <a:off x="1657440" y="4248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04" name=""/>
          <p:cNvSpPr/>
          <p:nvPr/>
        </p:nvSpPr>
        <p:spPr>
          <a:xfrm>
            <a:off x="3911760" y="4883040"/>
            <a:ext cx="0" cy="4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219560" y="48639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4497480" y="3774960"/>
            <a:ext cx="1041840" cy="1190880"/>
            <a:chOff x="4497480" y="3774960"/>
            <a:chExt cx="1041840" cy="1190880"/>
          </a:xfrm>
        </p:grpSpPr>
        <p:grpSp>
          <p:nvGrpSpPr>
            <p:cNvPr id="907" name=""/>
            <p:cNvGrpSpPr/>
            <p:nvPr/>
          </p:nvGrpSpPr>
          <p:grpSpPr>
            <a:xfrm>
              <a:off x="4497480" y="3774960"/>
              <a:ext cx="968400" cy="1190880"/>
              <a:chOff x="4497480" y="3774960"/>
              <a:chExt cx="968400" cy="1190880"/>
            </a:xfrm>
          </p:grpSpPr>
          <p:sp>
            <p:nvSpPr>
              <p:cNvPr id="908"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916"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917"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918" name=""/>
          <p:cNvSpPr/>
          <p:nvPr/>
        </p:nvSpPr>
        <p:spPr>
          <a:xfrm>
            <a:off x="5479920" y="455940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5854680" y="4120920"/>
            <a:ext cx="0" cy="49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1" name=""/>
          <p:cNvSpPr/>
          <p:nvPr/>
        </p:nvSpPr>
        <p:spPr>
          <a:xfrm>
            <a:off x="3757680" y="3933720"/>
            <a:ext cx="73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753000" y="4876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589360" y="5807160"/>
            <a:ext cx="11095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 Spécifiqu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 </a:t>
            </a:r>
            <a:r>
              <a:rPr b="0" lang="en-US" sz="1200" spc="-1" strike="noStrike">
                <a:solidFill>
                  <a:srgbClr val="ffffff"/>
                </a:solidFill>
                <a:latin typeface="Times New Roman"/>
              </a:rPr>
              <a:t>au chargement</a:t>
            </a:r>
            <a:endParaRPr b="0" lang="en-US" sz="1200" spc="-1" strike="noStrike">
              <a:solidFill>
                <a:srgbClr val="000000"/>
              </a:solidFill>
              <a:latin typeface="Times New Roman"/>
            </a:endParaRPr>
          </a:p>
        </p:txBody>
      </p:sp>
      <p:sp>
        <p:nvSpPr>
          <p:cNvPr id="924" name=""/>
          <p:cNvSpPr/>
          <p:nvPr/>
        </p:nvSpPr>
        <p:spPr>
          <a:xfrm flipV="1">
            <a:off x="5073480" y="5936760"/>
            <a:ext cx="520920" cy="25560"/>
          </a:xfrm>
          <a:prstGeom prst="line">
            <a:avLst/>
          </a:prstGeom>
          <a:ln w="12600">
            <a:solidFill>
              <a:srgbClr val="ffffff"/>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25" name=""/>
          <p:cNvSpPr/>
          <p:nvPr/>
        </p:nvSpPr>
        <p:spPr>
          <a:xfrm flipV="1">
            <a:off x="5842080" y="455292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 pour un rangement ou un chargement avec accès à un registre. Suivent un calcul d'adresse mémoire, une lecture ou écriture en mémoire et une écriture dans le banc de registres s'il s'agit d'un chargement</a:t>
            </a:r>
            <a:endParaRPr b="0" lang="en-US" sz="24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a:t>
            </a:r>
            <a:endParaRPr b="1" lang="en-US" sz="3200" spc="-1" strike="noStrike">
              <a:solidFill>
                <a:srgbClr val="fafd00"/>
              </a:solidFill>
              <a:latin typeface="Arial"/>
            </a:endParaRPr>
          </a:p>
        </p:txBody>
      </p:sp>
      <p:sp>
        <p:nvSpPr>
          <p:cNvPr id="928" name=""/>
          <p:cNvSpPr/>
          <p:nvPr/>
        </p:nvSpPr>
        <p:spPr>
          <a:xfrm>
            <a:off x="1531800" y="4264200"/>
            <a:ext cx="596880" cy="1440"/>
          </a:xfrm>
          <a:prstGeom prst="line">
            <a:avLst/>
          </a:prstGeom>
          <a:ln w="50760">
            <a:solidFill>
              <a:srgbClr val="fafd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9"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864400" y="50418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932" name=""/>
          <p:cNvSpPr/>
          <p:nvPr/>
        </p:nvSpPr>
        <p:spPr>
          <a:xfrm>
            <a:off x="3936960" y="5357880"/>
            <a:ext cx="23702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934"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935"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936"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937"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058760" y="6041880"/>
            <a:ext cx="1658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943"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944"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945"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948"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949"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950"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951"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952"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953"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954" name=""/>
          <p:cNvSpPr/>
          <p:nvPr/>
        </p:nvSpPr>
        <p:spPr>
          <a:xfrm>
            <a:off x="1657440" y="4248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55" name=""/>
          <p:cNvSpPr/>
          <p:nvPr/>
        </p:nvSpPr>
        <p:spPr>
          <a:xfrm>
            <a:off x="3911760" y="4902120"/>
            <a:ext cx="0" cy="432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4497480" y="3774960"/>
            <a:ext cx="1041840" cy="1190880"/>
            <a:chOff x="4497480" y="3774960"/>
            <a:chExt cx="1041840" cy="1190880"/>
          </a:xfrm>
        </p:grpSpPr>
        <p:grpSp>
          <p:nvGrpSpPr>
            <p:cNvPr id="958" name=""/>
            <p:cNvGrpSpPr/>
            <p:nvPr/>
          </p:nvGrpSpPr>
          <p:grpSpPr>
            <a:xfrm>
              <a:off x="4497480" y="3774960"/>
              <a:ext cx="968400" cy="1190880"/>
              <a:chOff x="4497480" y="3774960"/>
              <a:chExt cx="968400" cy="1190880"/>
            </a:xfrm>
          </p:grpSpPr>
          <p:sp>
            <p:nvSpPr>
              <p:cNvPr id="959"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967"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968"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969" name=""/>
          <p:cNvSpPr/>
          <p:nvPr/>
        </p:nvSpPr>
        <p:spPr>
          <a:xfrm>
            <a:off x="5499000" y="45594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1"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772080" y="4876920"/>
            <a:ext cx="11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5842080" y="45338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2600" y="69372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j,100($i)  Signification : Mémoire($i+100)=$j</a:t>
            </a:r>
            <a:endParaRPr b="0" lang="en-US" sz="2400" spc="-1" strike="noStrike">
              <a:solidFill>
                <a:srgbClr val="000000"/>
              </a:solidFill>
              <a:latin typeface="Times New Roman"/>
            </a:endParaRPr>
          </a:p>
        </p:txBody>
      </p:sp>
      <p:grpSp>
        <p:nvGrpSpPr>
          <p:cNvPr id="975" name=""/>
          <p:cNvGrpSpPr/>
          <p:nvPr/>
        </p:nvGrpSpPr>
        <p:grpSpPr>
          <a:xfrm>
            <a:off x="306360" y="1157400"/>
            <a:ext cx="8061480" cy="433440"/>
            <a:chOff x="306360" y="1157400"/>
            <a:chExt cx="8061480" cy="433440"/>
          </a:xfrm>
        </p:grpSpPr>
        <p:sp>
          <p:nvSpPr>
            <p:cNvPr id="976" name=""/>
            <p:cNvSpPr/>
            <p:nvPr/>
          </p:nvSpPr>
          <p:spPr>
            <a:xfrm>
              <a:off x="4344840" y="120636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977" name=""/>
            <p:cNvSpPr/>
            <p:nvPr/>
          </p:nvSpPr>
          <p:spPr>
            <a:xfrm>
              <a:off x="2997360" y="1204920"/>
              <a:ext cx="1333440" cy="385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652760" y="120636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979" name=""/>
            <p:cNvSpPr/>
            <p:nvPr/>
          </p:nvSpPr>
          <p:spPr>
            <a:xfrm>
              <a:off x="306360" y="120636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43</a:t>
              </a:r>
              <a:endParaRPr b="0" lang="en-US" sz="2000" spc="-1" strike="noStrike">
                <a:solidFill>
                  <a:srgbClr val="000000"/>
                </a:solidFill>
                <a:latin typeface="Times New Roman"/>
              </a:endParaRPr>
            </a:p>
          </p:txBody>
        </p:sp>
        <p:sp>
          <p:nvSpPr>
            <p:cNvPr id="980" name=""/>
            <p:cNvSpPr/>
            <p:nvPr/>
          </p:nvSpPr>
          <p:spPr>
            <a:xfrm>
              <a:off x="3547800" y="11574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grpSp>
      <p:sp>
        <p:nvSpPr>
          <p:cNvPr id="981" name=""/>
          <p:cNvSpPr/>
          <p:nvPr/>
        </p:nvSpPr>
        <p:spPr>
          <a:xfrm rot="16200000">
            <a:off x="-984240" y="473472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43</a:t>
            </a:r>
            <a:endParaRPr b="0" lang="en-US" sz="2400" spc="-1" strike="noStrike">
              <a:solidFill>
                <a:srgbClr val="000000"/>
              </a:solidFill>
              <a:latin typeface="Times New Roman"/>
            </a:endParaRPr>
          </a:p>
        </p:txBody>
      </p:sp>
      <p:sp>
        <p:nvSpPr>
          <p:cNvPr id="982" name=""/>
          <p:cNvSpPr/>
          <p:nvPr/>
        </p:nvSpPr>
        <p:spPr>
          <a:xfrm>
            <a:off x="1058760" y="5062680"/>
            <a:ext cx="439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523880" y="4238640"/>
            <a:ext cx="0" cy="83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095480" y="426420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1233360" y="3857760"/>
            <a:ext cx="0" cy="449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278000" y="3857400"/>
            <a:ext cx="728640" cy="68040"/>
          </a:xfrm>
          <a:prstGeom prst="line">
            <a:avLst/>
          </a:prstGeom>
          <a:ln w="50760">
            <a:solidFill>
              <a:srgbClr val="fafd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87" name=""/>
          <p:cNvSpPr/>
          <p:nvPr/>
        </p:nvSpPr>
        <p:spPr>
          <a:xfrm>
            <a:off x="568440" y="384660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87520" y="466236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87520" y="540720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615320" y="3384720"/>
            <a:ext cx="6890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991" name=""/>
          <p:cNvSpPr/>
          <p:nvPr/>
        </p:nvSpPr>
        <p:spPr>
          <a:xfrm>
            <a:off x="3658320" y="3295800"/>
            <a:ext cx="689040" cy="3379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992" name=""/>
          <p:cNvSpPr/>
          <p:nvPr/>
        </p:nvSpPr>
        <p:spPr>
          <a:xfrm>
            <a:off x="5499000" y="4021200"/>
            <a:ext cx="110340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10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hargement</a:t>
            </a:r>
            <a:endParaRPr b="1" lang="en-US" sz="3200" spc="-1" strike="noStrike">
              <a:solidFill>
                <a:srgbClr val="fafd00"/>
              </a:solidFill>
              <a:latin typeface="Arial"/>
            </a:endParaRPr>
          </a:p>
        </p:txBody>
      </p:sp>
      <p:sp>
        <p:nvSpPr>
          <p:cNvPr id="994" name=""/>
          <p:cNvSpPr/>
          <p:nvPr/>
        </p:nvSpPr>
        <p:spPr>
          <a:xfrm flipH="1">
            <a:off x="1872720" y="6667560"/>
            <a:ext cx="652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V="1">
            <a:off x="1866960" y="5124600"/>
            <a:ext cx="0" cy="1536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877000" y="41274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999"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000"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001"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002"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003" name=""/>
          <p:cNvSpPr/>
          <p:nvPr/>
        </p:nvSpPr>
        <p:spPr>
          <a:xfrm flipV="1">
            <a:off x="8394840" y="4133520"/>
            <a:ext cx="0" cy="2514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7918200" y="4140360"/>
            <a:ext cx="4698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950760" y="6041880"/>
            <a:ext cx="1766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011"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012"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013"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950760" y="3924360"/>
            <a:ext cx="11858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017"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018" name=""/>
          <p:cNvSpPr/>
          <p:nvPr/>
        </p:nvSpPr>
        <p:spPr>
          <a:xfrm>
            <a:off x="950760" y="4772160"/>
            <a:ext cx="1185840" cy="2880"/>
          </a:xfrm>
          <a:prstGeom prst="line">
            <a:avLst/>
          </a:prstGeom>
          <a:ln w="50760">
            <a:solidFill>
              <a:srgbClr val="fafd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19"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020" name=""/>
          <p:cNvSpPr/>
          <p:nvPr/>
        </p:nvSpPr>
        <p:spPr>
          <a:xfrm flipV="1">
            <a:off x="1873080" y="5110200"/>
            <a:ext cx="274680" cy="25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21"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022"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023"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024"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025"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4497480" y="3774960"/>
            <a:ext cx="1041840" cy="1190880"/>
            <a:chOff x="4497480" y="3774960"/>
            <a:chExt cx="1041840" cy="1190880"/>
          </a:xfrm>
        </p:grpSpPr>
        <p:grpSp>
          <p:nvGrpSpPr>
            <p:cNvPr id="1027" name=""/>
            <p:cNvGrpSpPr/>
            <p:nvPr/>
          </p:nvGrpSpPr>
          <p:grpSpPr>
            <a:xfrm>
              <a:off x="4497480" y="3774960"/>
              <a:ext cx="968400" cy="1190880"/>
              <a:chOff x="4497480" y="3774960"/>
              <a:chExt cx="968400" cy="1190880"/>
            </a:xfrm>
          </p:grpSpPr>
          <p:sp>
            <p:nvSpPr>
              <p:cNvPr id="1028"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5"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036"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037"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038" name=""/>
          <p:cNvSpPr/>
          <p:nvPr/>
        </p:nvSpPr>
        <p:spPr>
          <a:xfrm flipV="1">
            <a:off x="5854680" y="4101840"/>
            <a:ext cx="0" cy="393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0"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499000" y="45594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85680" y="1641600"/>
            <a:ext cx="8061480" cy="363240"/>
            <a:chOff x="85680" y="1641600"/>
            <a:chExt cx="8061480" cy="363240"/>
          </a:xfrm>
        </p:grpSpPr>
        <p:sp>
          <p:nvSpPr>
            <p:cNvPr id="1043" name=""/>
            <p:cNvSpPr/>
            <p:nvPr/>
          </p:nvSpPr>
          <p:spPr>
            <a:xfrm>
              <a:off x="4124160" y="164160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1044" name=""/>
            <p:cNvSpPr/>
            <p:nvPr/>
          </p:nvSpPr>
          <p:spPr>
            <a:xfrm>
              <a:off x="277812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sp>
          <p:nvSpPr>
            <p:cNvPr id="1045" name=""/>
            <p:cNvSpPr/>
            <p:nvPr/>
          </p:nvSpPr>
          <p:spPr>
            <a:xfrm>
              <a:off x="14320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1046" name=""/>
            <p:cNvSpPr/>
            <p:nvPr/>
          </p:nvSpPr>
          <p:spPr>
            <a:xfrm>
              <a:off x="856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grpSp>
      <p:sp>
        <p:nvSpPr>
          <p:cNvPr id="1047" name=""/>
          <p:cNvSpPr/>
          <p:nvPr/>
        </p:nvSpPr>
        <p:spPr>
          <a:xfrm>
            <a:off x="-1440" y="114624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lw $j,100($i)  Signification : $j=Mémoire($i+100)</a:t>
            </a:r>
            <a:endParaRPr b="0" lang="en-US" sz="2400" spc="-1" strike="noStrike">
              <a:solidFill>
                <a:srgbClr val="000000"/>
              </a:solidFill>
              <a:latin typeface="Times New Roman"/>
            </a:endParaRPr>
          </a:p>
        </p:txBody>
      </p:sp>
      <p:sp>
        <p:nvSpPr>
          <p:cNvPr id="1048" name=""/>
          <p:cNvSpPr/>
          <p:nvPr/>
        </p:nvSpPr>
        <p:spPr>
          <a:xfrm rot="16200000">
            <a:off x="-1081080" y="444420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1049" name=""/>
          <p:cNvSpPr/>
          <p:nvPr/>
        </p:nvSpPr>
        <p:spPr>
          <a:xfrm>
            <a:off x="471600" y="355608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90680" y="437184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90680" y="511668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hargement</a:t>
            </a:r>
            <a:endParaRPr b="1" lang="en-US" sz="3200" spc="-1" strike="noStrike">
              <a:solidFill>
                <a:srgbClr val="fafd00"/>
              </a:solidFill>
              <a:latin typeface="Arial"/>
            </a:endParaRPr>
          </a:p>
        </p:txBody>
      </p:sp>
      <p:sp>
        <p:nvSpPr>
          <p:cNvPr id="1053" name=""/>
          <p:cNvSpPr/>
          <p:nvPr/>
        </p:nvSpPr>
        <p:spPr>
          <a:xfrm flipH="1">
            <a:off x="1854360" y="6667560"/>
            <a:ext cx="6565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1866960" y="5105520"/>
            <a:ext cx="0" cy="1574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877000" y="41274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058"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059"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060"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061"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062" name=""/>
          <p:cNvSpPr/>
          <p:nvPr/>
        </p:nvSpPr>
        <p:spPr>
          <a:xfrm flipV="1">
            <a:off x="8394840" y="4114440"/>
            <a:ext cx="0" cy="2552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7899120" y="4140360"/>
            <a:ext cx="507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950760" y="6041880"/>
            <a:ext cx="1766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070"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071" name=""/>
          <p:cNvSpPr/>
          <p:nvPr/>
        </p:nvSpPr>
        <p:spPr>
          <a:xfrm>
            <a:off x="276588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072"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50760" y="3924360"/>
            <a:ext cx="11858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076"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077" name=""/>
          <p:cNvSpPr/>
          <p:nvPr/>
        </p:nvSpPr>
        <p:spPr>
          <a:xfrm>
            <a:off x="950760" y="4772160"/>
            <a:ext cx="1185840" cy="2880"/>
          </a:xfrm>
          <a:prstGeom prst="line">
            <a:avLst/>
          </a:prstGeom>
          <a:ln w="50760">
            <a:solidFill>
              <a:srgbClr val="fafd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78"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079" name=""/>
          <p:cNvSpPr/>
          <p:nvPr/>
        </p:nvSpPr>
        <p:spPr>
          <a:xfrm flipV="1">
            <a:off x="1892160" y="5091120"/>
            <a:ext cx="236520" cy="63360"/>
          </a:xfrm>
          <a:prstGeom prst="line">
            <a:avLst/>
          </a:prstGeom>
          <a:ln w="50760">
            <a:solidFill>
              <a:srgbClr val="fafd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0"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081"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082"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083"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084"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4497480" y="3774960"/>
            <a:ext cx="1041840" cy="1190880"/>
            <a:chOff x="4497480" y="3774960"/>
            <a:chExt cx="1041840" cy="1190880"/>
          </a:xfrm>
        </p:grpSpPr>
        <p:grpSp>
          <p:nvGrpSpPr>
            <p:cNvPr id="1086" name=""/>
            <p:cNvGrpSpPr/>
            <p:nvPr/>
          </p:nvGrpSpPr>
          <p:grpSpPr>
            <a:xfrm>
              <a:off x="4497480" y="3774960"/>
              <a:ext cx="968400" cy="1190880"/>
              <a:chOff x="4497480" y="3774960"/>
              <a:chExt cx="968400" cy="1190880"/>
            </a:xfrm>
          </p:grpSpPr>
          <p:sp>
            <p:nvSpPr>
              <p:cNvPr id="1087"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095"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096"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097" name=""/>
          <p:cNvSpPr/>
          <p:nvPr/>
        </p:nvSpPr>
        <p:spPr>
          <a:xfrm flipV="1">
            <a:off x="5854680" y="4101840"/>
            <a:ext cx="0" cy="393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99"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499000" y="45036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rot="16200000">
            <a:off x="-1079280" y="444204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1102" name=""/>
          <p:cNvSpPr/>
          <p:nvPr/>
        </p:nvSpPr>
        <p:spPr>
          <a:xfrm>
            <a:off x="471600" y="355608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90680" y="437184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0680" y="511668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615320" y="3384720"/>
            <a:ext cx="6890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106" name=""/>
          <p:cNvSpPr/>
          <p:nvPr/>
        </p:nvSpPr>
        <p:spPr>
          <a:xfrm>
            <a:off x="3907440" y="3427560"/>
            <a:ext cx="689040" cy="1405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107" name=""/>
          <p:cNvSpPr/>
          <p:nvPr/>
        </p:nvSpPr>
        <p:spPr>
          <a:xfrm>
            <a:off x="8164440" y="3567240"/>
            <a:ext cx="3841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grpSp>
        <p:nvGrpSpPr>
          <p:cNvPr id="1108" name=""/>
          <p:cNvGrpSpPr/>
          <p:nvPr/>
        </p:nvGrpSpPr>
        <p:grpSpPr>
          <a:xfrm>
            <a:off x="85680" y="1641600"/>
            <a:ext cx="8061480" cy="363240"/>
            <a:chOff x="85680" y="1641600"/>
            <a:chExt cx="8061480" cy="363240"/>
          </a:xfrm>
        </p:grpSpPr>
        <p:sp>
          <p:nvSpPr>
            <p:cNvPr id="1109" name=""/>
            <p:cNvSpPr/>
            <p:nvPr/>
          </p:nvSpPr>
          <p:spPr>
            <a:xfrm>
              <a:off x="4124160" y="164160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1110" name=""/>
            <p:cNvSpPr/>
            <p:nvPr/>
          </p:nvSpPr>
          <p:spPr>
            <a:xfrm>
              <a:off x="277812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sp>
          <p:nvSpPr>
            <p:cNvPr id="1111" name=""/>
            <p:cNvSpPr/>
            <p:nvPr/>
          </p:nvSpPr>
          <p:spPr>
            <a:xfrm>
              <a:off x="14320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1112" name=""/>
            <p:cNvSpPr/>
            <p:nvPr/>
          </p:nvSpPr>
          <p:spPr>
            <a:xfrm>
              <a:off x="856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grpSp>
      <p:sp>
        <p:nvSpPr>
          <p:cNvPr id="1113" name=""/>
          <p:cNvSpPr/>
          <p:nvPr/>
        </p:nvSpPr>
        <p:spPr>
          <a:xfrm>
            <a:off x="4680" y="114624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lw $j,100($i)  Signification : $j=Mémoire($i+100)</a:t>
            </a:r>
            <a:endParaRPr b="0" lang="en-US" sz="2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1115"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Branchement</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ranchement</a:t>
            </a:r>
            <a:endParaRPr b="1" lang="en-US" sz="3200" spc="-1" strike="noStrike">
              <a:solidFill>
                <a:srgbClr val="fafd00"/>
              </a:solidFill>
              <a:latin typeface="Arial"/>
            </a:endParaRPr>
          </a:p>
        </p:txBody>
      </p:sp>
      <p:sp>
        <p:nvSpPr>
          <p:cNvPr id="1117"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hemin de données d'un branchement utilise une UAL pour évaluer la condition de branchement et un additionneur séparé pour calculer la destination de branchement, somme du CP incrémenté et des bits inférieurs ( le déplacement du branchement) de l'instruction, étendus par extension de signe et décalés à gauche de 2 bits. </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plication : On veut que l’adresse de branchement représente l’adresse d’une instruction. Une instruction étant codée sur 4 octets, il faut multiplier l’adresse étendue par 4, d’où le décalage de 2 (un décalage à gauche de 2 est équivalent à une multiplication par 4).</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Plan</a:t>
            </a:r>
            <a:endParaRPr b="1" lang="en-US" sz="3200" spc="-1" strike="noStrike">
              <a:solidFill>
                <a:srgbClr val="fafd00"/>
              </a:solidFill>
              <a:latin typeface="Arial"/>
            </a:endParaRPr>
          </a:p>
        </p:txBody>
      </p:sp>
      <p:sp>
        <p:nvSpPr>
          <p:cNvPr id="6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troduction</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struction d’un chemin de donné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Définition du contrôle</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ne mise en oeuvre à plusieurs cycles d’horloge</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llusions et pièg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clusion</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ranchement</a:t>
            </a:r>
            <a:endParaRPr b="1" lang="en-US" sz="3200" spc="-1" strike="noStrike">
              <a:solidFill>
                <a:srgbClr val="fafd00"/>
              </a:solidFill>
              <a:latin typeface="Arial"/>
            </a:endParaRPr>
          </a:p>
        </p:txBody>
      </p:sp>
      <p:sp>
        <p:nvSpPr>
          <p:cNvPr id="1119" name=""/>
          <p:cNvSpPr/>
          <p:nvPr/>
        </p:nvSpPr>
        <p:spPr>
          <a:xfrm>
            <a:off x="2549520" y="347328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60640" y="36576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525400" y="35352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122" name=""/>
          <p:cNvSpPr/>
          <p:nvPr/>
        </p:nvSpPr>
        <p:spPr>
          <a:xfrm>
            <a:off x="1593720" y="3998880"/>
            <a:ext cx="935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5680" y="3876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124" name=""/>
          <p:cNvSpPr/>
          <p:nvPr/>
        </p:nvSpPr>
        <p:spPr>
          <a:xfrm>
            <a:off x="2525760" y="438624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125" name=""/>
          <p:cNvSpPr/>
          <p:nvPr/>
        </p:nvSpPr>
        <p:spPr>
          <a:xfrm flipV="1">
            <a:off x="4489560" y="248076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26" name=""/>
          <p:cNvSpPr/>
          <p:nvPr/>
        </p:nvSpPr>
        <p:spPr>
          <a:xfrm>
            <a:off x="2525040" y="476892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127" name=""/>
          <p:cNvSpPr/>
          <p:nvPr/>
        </p:nvSpPr>
        <p:spPr>
          <a:xfrm>
            <a:off x="2807280" y="41324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128" name=""/>
          <p:cNvSpPr/>
          <p:nvPr/>
        </p:nvSpPr>
        <p:spPr>
          <a:xfrm>
            <a:off x="3396600" y="35290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129" name=""/>
          <p:cNvSpPr/>
          <p:nvPr/>
        </p:nvSpPr>
        <p:spPr>
          <a:xfrm>
            <a:off x="3471120" y="44276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130" name=""/>
          <p:cNvSpPr/>
          <p:nvPr/>
        </p:nvSpPr>
        <p:spPr>
          <a:xfrm>
            <a:off x="4138560" y="3666960"/>
            <a:ext cx="1773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130640" y="4597560"/>
            <a:ext cx="1797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2057400" y="3650760"/>
            <a:ext cx="0" cy="213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038320" y="398160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34" name=""/>
          <p:cNvSpPr/>
          <p:nvPr/>
        </p:nvSpPr>
        <p:spPr>
          <a:xfrm>
            <a:off x="4483080" y="2508120"/>
            <a:ext cx="0" cy="320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193920" y="5264280"/>
            <a:ext cx="622440" cy="1041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081160" y="5775480"/>
            <a:ext cx="1036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685960" y="565776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917880" y="56707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525040" y="52833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140" name=""/>
          <p:cNvSpPr/>
          <p:nvPr/>
        </p:nvSpPr>
        <p:spPr>
          <a:xfrm>
            <a:off x="3871440" y="52833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141" name=""/>
          <p:cNvSpPr/>
          <p:nvPr/>
        </p:nvSpPr>
        <p:spPr>
          <a:xfrm>
            <a:off x="3146760" y="559116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142" name=""/>
          <p:cNvSpPr/>
          <p:nvPr/>
        </p:nvSpPr>
        <p:spPr>
          <a:xfrm>
            <a:off x="3828960" y="572760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807080" y="1924200"/>
            <a:ext cx="622080" cy="1041120"/>
          </a:xfrm>
          <a:prstGeom prst="ellipse">
            <a:avLst/>
          </a:prstGeom>
          <a:solidFill>
            <a:srgbClr val="000000"/>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759920" y="2251080"/>
            <a:ext cx="758880" cy="581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Décaler</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gauch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2</a:t>
            </a:r>
            <a:endParaRPr b="0" lang="en-US" sz="1200" spc="-1" strike="noStrike">
              <a:solidFill>
                <a:srgbClr val="000000"/>
              </a:solidFill>
              <a:latin typeface="Times New Roman"/>
            </a:endParaRPr>
          </a:p>
        </p:txBody>
      </p:sp>
      <p:sp>
        <p:nvSpPr>
          <p:cNvPr id="1145" name=""/>
          <p:cNvSpPr/>
          <p:nvPr/>
        </p:nvSpPr>
        <p:spPr>
          <a:xfrm>
            <a:off x="5442120" y="2436840"/>
            <a:ext cx="49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5958000" y="3483000"/>
            <a:ext cx="1422360" cy="1190160"/>
            <a:chOff x="5958000" y="3483000"/>
            <a:chExt cx="1422360" cy="1190160"/>
          </a:xfrm>
        </p:grpSpPr>
        <p:grpSp>
          <p:nvGrpSpPr>
            <p:cNvPr id="1147" name=""/>
            <p:cNvGrpSpPr/>
            <p:nvPr/>
          </p:nvGrpSpPr>
          <p:grpSpPr>
            <a:xfrm>
              <a:off x="5958000" y="3483000"/>
              <a:ext cx="1041840" cy="1190160"/>
              <a:chOff x="5958000" y="3483000"/>
              <a:chExt cx="1041840" cy="1190160"/>
            </a:xfrm>
          </p:grpSpPr>
          <p:grpSp>
            <p:nvGrpSpPr>
              <p:cNvPr id="1148" name=""/>
              <p:cNvGrpSpPr/>
              <p:nvPr/>
            </p:nvGrpSpPr>
            <p:grpSpPr>
              <a:xfrm>
                <a:off x="5958000" y="3483000"/>
                <a:ext cx="968400" cy="1190160"/>
                <a:chOff x="5958000" y="3483000"/>
                <a:chExt cx="968400" cy="1190160"/>
              </a:xfrm>
            </p:grpSpPr>
            <p:sp>
              <p:nvSpPr>
                <p:cNvPr id="1149" name=""/>
                <p:cNvSpPr/>
                <p:nvPr/>
              </p:nvSpPr>
              <p:spPr>
                <a:xfrm>
                  <a:off x="5964120" y="348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964120" y="421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70600" y="394956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5958000" y="407844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970600" y="348300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5970600" y="439560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26400" y="381636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6" name=""/>
              <p:cNvSpPr/>
              <p:nvPr/>
            </p:nvSpPr>
            <p:spPr>
              <a:xfrm>
                <a:off x="5980320" y="369720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157" name=""/>
              <p:cNvSpPr/>
              <p:nvPr/>
            </p:nvSpPr>
            <p:spPr>
              <a:xfrm>
                <a:off x="6257520" y="405432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158" name=""/>
            <p:cNvSpPr/>
            <p:nvPr/>
          </p:nvSpPr>
          <p:spPr>
            <a:xfrm>
              <a:off x="6512040" y="37879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159" name=""/>
            <p:cNvSpPr/>
            <p:nvPr/>
          </p:nvSpPr>
          <p:spPr>
            <a:xfrm>
              <a:off x="6940440" y="4087800"/>
              <a:ext cx="43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0" name=""/>
          <p:cNvGrpSpPr/>
          <p:nvPr/>
        </p:nvGrpSpPr>
        <p:grpSpPr>
          <a:xfrm>
            <a:off x="5958000" y="1413000"/>
            <a:ext cx="1422360" cy="1190520"/>
            <a:chOff x="5958000" y="1413000"/>
            <a:chExt cx="1422360" cy="1190520"/>
          </a:xfrm>
        </p:grpSpPr>
        <p:sp>
          <p:nvSpPr>
            <p:cNvPr id="1161" name=""/>
            <p:cNvSpPr/>
            <p:nvPr/>
          </p:nvSpPr>
          <p:spPr>
            <a:xfrm>
              <a:off x="596412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96412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970600" y="187956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5958000" y="200808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970600" y="1413000"/>
              <a:ext cx="949320" cy="32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5970600" y="232560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2640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980320" y="1627200"/>
              <a:ext cx="663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ADD</a:t>
              </a:r>
              <a:endParaRPr b="0" lang="en-US" sz="1800" spc="-1" strike="noStrike">
                <a:solidFill>
                  <a:srgbClr val="000000"/>
                </a:solidFill>
                <a:latin typeface="Times New Roman"/>
              </a:endParaRPr>
            </a:p>
          </p:txBody>
        </p:sp>
        <p:sp>
          <p:nvSpPr>
            <p:cNvPr id="1169" name=""/>
            <p:cNvSpPr/>
            <p:nvPr/>
          </p:nvSpPr>
          <p:spPr>
            <a:xfrm>
              <a:off x="6258240" y="198432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170" name=""/>
            <p:cNvSpPr/>
            <p:nvPr/>
          </p:nvSpPr>
          <p:spPr>
            <a:xfrm>
              <a:off x="6940440" y="2043000"/>
              <a:ext cx="43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5416560" y="1623960"/>
            <a:ext cx="490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38240" y="1165320"/>
            <a:ext cx="335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 venant du chemin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données des instructions</a:t>
            </a:r>
            <a:endParaRPr b="0" lang="en-US" sz="2000" spc="-1" strike="noStrike">
              <a:solidFill>
                <a:srgbClr val="000000"/>
              </a:solidFill>
              <a:latin typeface="Times New Roman"/>
            </a:endParaRPr>
          </a:p>
        </p:txBody>
      </p:sp>
      <p:sp>
        <p:nvSpPr>
          <p:cNvPr id="1173" name=""/>
          <p:cNvSpPr/>
          <p:nvPr/>
        </p:nvSpPr>
        <p:spPr>
          <a:xfrm>
            <a:off x="7414200" y="1727280"/>
            <a:ext cx="1479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estination du</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000000"/>
              </a:solidFill>
              <a:latin typeface="Times New Roman"/>
            </a:endParaRPr>
          </a:p>
        </p:txBody>
      </p:sp>
      <p:sp>
        <p:nvSpPr>
          <p:cNvPr id="1174" name=""/>
          <p:cNvSpPr/>
          <p:nvPr/>
        </p:nvSpPr>
        <p:spPr>
          <a:xfrm>
            <a:off x="7415640" y="3797280"/>
            <a:ext cx="1524240" cy="745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Vers logiqu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e contrôle du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000000"/>
              </a:solidFill>
              <a:latin typeface="Times New Roman"/>
            </a:endParaRPr>
          </a:p>
        </p:txBody>
      </p:sp>
      <p:sp>
        <p:nvSpPr>
          <p:cNvPr id="1175" name=""/>
          <p:cNvSpPr/>
          <p:nvPr/>
        </p:nvSpPr>
        <p:spPr>
          <a:xfrm>
            <a:off x="452880" y="3794040"/>
            <a:ext cx="1356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struction</a:t>
            </a:r>
            <a:endParaRPr b="0" lang="en-US" sz="2000" spc="-1" strike="noStrike">
              <a:solidFill>
                <a:srgbClr val="000000"/>
              </a:solidFill>
              <a:latin typeface="Times New Roman"/>
            </a:endParaRPr>
          </a:p>
        </p:txBody>
      </p:sp>
      <p:sp>
        <p:nvSpPr>
          <p:cNvPr id="1176" name=""/>
          <p:cNvSpPr/>
          <p:nvPr/>
        </p:nvSpPr>
        <p:spPr>
          <a:xfrm>
            <a:off x="423720" y="1824120"/>
            <a:ext cx="3822840" cy="140508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Pour pointer réellemen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à l’instruction 100, il faut *4 la valeur puisque une instruction est sur 4 octets.</a:t>
            </a:r>
            <a:endParaRPr b="0" lang="en-US" sz="24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1178"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1179" name=""/>
          <p:cNvSpPr/>
          <p:nvPr/>
        </p:nvSpPr>
        <p:spPr>
          <a:xfrm>
            <a:off x="390600" y="4038480"/>
            <a:ext cx="8362800" cy="75204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vons vue la construction du chemin de données pour chaque instruction prise indépendammen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181"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obtenir le chemin de données complet de l’architecture MIPS, il ne reste plus qu’à combiner les différents chemins de donné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introduction </a:t>
            </a:r>
            <a:r>
              <a:rPr b="0" lang="fr-FR" sz="2400" spc="-1" strike="noStrike">
                <a:solidFill>
                  <a:srgbClr val="fafd00"/>
                </a:solidFill>
                <a:latin typeface="Arial"/>
              </a:rPr>
              <a:t>de multiplexeurs et de connexions </a:t>
            </a:r>
            <a:r>
              <a:rPr b="0" lang="fr-FR" sz="2400" spc="-1" strike="noStrike">
                <a:solidFill>
                  <a:srgbClr val="ffffff"/>
                </a:solidFill>
                <a:latin typeface="Arial"/>
              </a:rPr>
              <a:t>est nécessaire pour assemblé un chemin de données unique à partir des éléments. </a:t>
            </a:r>
            <a:endParaRPr b="0" lang="en-US" sz="2400" spc="-1" strike="noStrike">
              <a:solidFill>
                <a:srgbClr val="ffffff"/>
              </a:solidFill>
              <a:latin typeface="Arial"/>
            </a:endParaRPr>
          </a:p>
        </p:txBody>
      </p:sp>
      <p:sp>
        <p:nvSpPr>
          <p:cNvPr id="1182" name=""/>
          <p:cNvSpPr/>
          <p:nvPr/>
        </p:nvSpPr>
        <p:spPr>
          <a:xfrm>
            <a:off x="4911840" y="5254560"/>
            <a:ext cx="54612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4168800" y="4387680"/>
            <a:ext cx="799920" cy="163224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08440" y="4913280"/>
            <a:ext cx="132552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5" name=""/>
          <p:cNvSpPr/>
          <p:nvPr/>
        </p:nvSpPr>
        <p:spPr>
          <a:xfrm>
            <a:off x="2895480" y="5627520"/>
            <a:ext cx="1325520" cy="5040"/>
          </a:xfrm>
          <a:prstGeom prst="line">
            <a:avLst/>
          </a:prstGeom>
          <a:ln w="12600">
            <a:solidFill>
              <a:srgbClr val="ffff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6" name=""/>
          <p:cNvSpPr/>
          <p:nvPr/>
        </p:nvSpPr>
        <p:spPr>
          <a:xfrm>
            <a:off x="4572000" y="3854520"/>
            <a:ext cx="0" cy="533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204640" y="4991040"/>
            <a:ext cx="47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r>
              <a:rPr b="0" lang="en-US" sz="2400" spc="-1" strike="noStrike" baseline="30000">
                <a:solidFill>
                  <a:srgbClr val="ffffff"/>
                </a:solidFill>
                <a:latin typeface="Arial"/>
              </a:rPr>
              <a:t>N</a:t>
            </a:r>
            <a:endParaRPr b="0" lang="en-US" sz="2400" spc="-1" strike="noStrike">
              <a:solidFill>
                <a:srgbClr val="000000"/>
              </a:solidFill>
              <a:latin typeface="Times New Roman"/>
            </a:endParaRPr>
          </a:p>
        </p:txBody>
      </p:sp>
      <p:sp>
        <p:nvSpPr>
          <p:cNvPr id="1188" name=""/>
          <p:cNvSpPr/>
          <p:nvPr/>
        </p:nvSpPr>
        <p:spPr>
          <a:xfrm>
            <a:off x="4345560" y="354348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190" name=""/>
          <p:cNvSpPr/>
          <p:nvPr/>
        </p:nvSpPr>
        <p:spPr>
          <a:xfrm>
            <a:off x="1104840" y="216540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15960" y="2349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080720" y="22273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193" name=""/>
          <p:cNvSpPr/>
          <p:nvPr/>
        </p:nvSpPr>
        <p:spPr>
          <a:xfrm>
            <a:off x="149400" y="26906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071360" y="25686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195" name=""/>
          <p:cNvSpPr/>
          <p:nvPr/>
        </p:nvSpPr>
        <p:spPr>
          <a:xfrm>
            <a:off x="615960" y="32004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081080" y="3078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197" name=""/>
          <p:cNvSpPr/>
          <p:nvPr/>
        </p:nvSpPr>
        <p:spPr>
          <a:xfrm flipV="1">
            <a:off x="809640" y="353484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98" name=""/>
          <p:cNvSpPr/>
          <p:nvPr/>
        </p:nvSpPr>
        <p:spPr>
          <a:xfrm>
            <a:off x="1080360" y="3460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199" name=""/>
          <p:cNvSpPr/>
          <p:nvPr/>
        </p:nvSpPr>
        <p:spPr>
          <a:xfrm>
            <a:off x="1362600" y="28242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200" name=""/>
          <p:cNvSpPr/>
          <p:nvPr/>
        </p:nvSpPr>
        <p:spPr>
          <a:xfrm>
            <a:off x="1951920" y="2220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201" name=""/>
          <p:cNvSpPr/>
          <p:nvPr/>
        </p:nvSpPr>
        <p:spPr>
          <a:xfrm>
            <a:off x="2026440" y="3119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202" name=""/>
          <p:cNvSpPr/>
          <p:nvPr/>
        </p:nvSpPr>
        <p:spPr>
          <a:xfrm>
            <a:off x="2678040" y="2359080"/>
            <a:ext cx="1671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079880" y="32893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4" name=""/>
          <p:cNvGrpSpPr/>
          <p:nvPr/>
        </p:nvGrpSpPr>
        <p:grpSpPr>
          <a:xfrm>
            <a:off x="4357800" y="2200320"/>
            <a:ext cx="1041840" cy="1190520"/>
            <a:chOff x="4357800" y="2200320"/>
            <a:chExt cx="1041840" cy="1190520"/>
          </a:xfrm>
        </p:grpSpPr>
        <p:grpSp>
          <p:nvGrpSpPr>
            <p:cNvPr id="1205" name=""/>
            <p:cNvGrpSpPr/>
            <p:nvPr/>
          </p:nvGrpSpPr>
          <p:grpSpPr>
            <a:xfrm>
              <a:off x="4357800" y="2200320"/>
              <a:ext cx="968400" cy="1190520"/>
              <a:chOff x="4357800" y="2200320"/>
              <a:chExt cx="968400" cy="1190520"/>
            </a:xfrm>
          </p:grpSpPr>
          <p:sp>
            <p:nvSpPr>
              <p:cNvPr id="1206" name=""/>
              <p:cNvSpPr/>
              <p:nvPr/>
            </p:nvSpPr>
            <p:spPr>
              <a:xfrm>
                <a:off x="4363920" y="22003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63920" y="29289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370400" y="266688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4357800" y="27957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70400" y="22003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4370400" y="3112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26200" y="253368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3" name=""/>
            <p:cNvSpPr/>
            <p:nvPr/>
          </p:nvSpPr>
          <p:spPr>
            <a:xfrm>
              <a:off x="4380120" y="2414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214" name=""/>
            <p:cNvSpPr/>
            <p:nvPr/>
          </p:nvSpPr>
          <p:spPr>
            <a:xfrm>
              <a:off x="4657320" y="2771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215" name=""/>
          <p:cNvSpPr/>
          <p:nvPr/>
        </p:nvSpPr>
        <p:spPr>
          <a:xfrm>
            <a:off x="4911840" y="25052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216" name=""/>
          <p:cNvSpPr/>
          <p:nvPr/>
        </p:nvSpPr>
        <p:spPr>
          <a:xfrm>
            <a:off x="5340240" y="298440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806400" y="5086440"/>
            <a:ext cx="808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803160" y="3549240"/>
            <a:ext cx="0" cy="153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612720" y="234324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93640" y="26733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21" name=""/>
          <p:cNvSpPr/>
          <p:nvPr/>
        </p:nvSpPr>
        <p:spPr>
          <a:xfrm>
            <a:off x="77760" y="189216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1222" name=""/>
          <p:cNvSpPr/>
          <p:nvPr/>
        </p:nvSpPr>
        <p:spPr>
          <a:xfrm>
            <a:off x="6207120" y="2368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718240" y="25527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705640" y="3467160"/>
            <a:ext cx="47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95240" y="335772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226" name=""/>
          <p:cNvSpPr/>
          <p:nvPr/>
        </p:nvSpPr>
        <p:spPr>
          <a:xfrm>
            <a:off x="2851200" y="3782880"/>
            <a:ext cx="333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182640" y="366408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228" name=""/>
          <p:cNvSpPr/>
          <p:nvPr/>
        </p:nvSpPr>
        <p:spPr>
          <a:xfrm>
            <a:off x="6375960" y="2786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229" name=""/>
          <p:cNvSpPr/>
          <p:nvPr/>
        </p:nvSpPr>
        <p:spPr>
          <a:xfrm>
            <a:off x="7054200" y="242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230" name=""/>
          <p:cNvSpPr/>
          <p:nvPr/>
        </p:nvSpPr>
        <p:spPr>
          <a:xfrm>
            <a:off x="6182280" y="2430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231" name=""/>
          <p:cNvSpPr/>
          <p:nvPr/>
        </p:nvSpPr>
        <p:spPr>
          <a:xfrm flipV="1">
            <a:off x="5702400" y="254592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683320" y="2965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33" name=""/>
          <p:cNvSpPr/>
          <p:nvPr/>
        </p:nvSpPr>
        <p:spPr>
          <a:xfrm flipV="1">
            <a:off x="8902800" y="277452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a:off x="8692920" y="27813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152880" y="348624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749600" y="3956040"/>
            <a:ext cx="62208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6480" y="4467240"/>
            <a:ext cx="1036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241280" y="434988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473200" y="436248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080720" y="3975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241" name=""/>
          <p:cNvSpPr/>
          <p:nvPr/>
        </p:nvSpPr>
        <p:spPr>
          <a:xfrm>
            <a:off x="2426760" y="3975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242" name=""/>
          <p:cNvSpPr/>
          <p:nvPr/>
        </p:nvSpPr>
        <p:spPr>
          <a:xfrm>
            <a:off x="1702080" y="4282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243" name=""/>
          <p:cNvSpPr/>
          <p:nvPr/>
        </p:nvSpPr>
        <p:spPr>
          <a:xfrm>
            <a:off x="2384280" y="441972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689200" y="3301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847960" y="330840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625920" y="3092400"/>
            <a:ext cx="419040" cy="62244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3160800" y="3457080"/>
            <a:ext cx="3888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48" name=""/>
          <p:cNvSpPr/>
          <p:nvPr/>
        </p:nvSpPr>
        <p:spPr>
          <a:xfrm>
            <a:off x="2855880" y="329868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486400" y="3003480"/>
            <a:ext cx="0" cy="143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492880" y="4444920"/>
            <a:ext cx="24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975440" y="2914200"/>
            <a:ext cx="0" cy="153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261280" y="2482920"/>
            <a:ext cx="419040" cy="62208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974000" y="2873160"/>
            <a:ext cx="274680" cy="37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54" name=""/>
          <p:cNvSpPr/>
          <p:nvPr/>
        </p:nvSpPr>
        <p:spPr>
          <a:xfrm>
            <a:off x="7796160" y="2638440"/>
            <a:ext cx="41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467320" y="2965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6" name=""/>
          <p:cNvSpPr/>
          <p:nvPr/>
        </p:nvSpPr>
        <p:spPr>
          <a:xfrm>
            <a:off x="1143720" y="1087560"/>
            <a:ext cx="7347240" cy="41796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ype R combiné avec le chargement et le rangement</a:t>
            </a:r>
            <a:endParaRPr b="0" lang="en-US" sz="2400" spc="-1" strike="noStrike">
              <a:solidFill>
                <a:srgbClr val="000000"/>
              </a:solidFill>
              <a:latin typeface="Times New Roman"/>
            </a:endParaRPr>
          </a:p>
        </p:txBody>
      </p:sp>
      <p:sp>
        <p:nvSpPr>
          <p:cNvPr id="1257" name=""/>
          <p:cNvSpPr/>
          <p:nvPr/>
        </p:nvSpPr>
        <p:spPr>
          <a:xfrm>
            <a:off x="1181160" y="1943280"/>
            <a:ext cx="7164360" cy="4039920"/>
          </a:xfrm>
          <a:custGeom>
            <a:avLst/>
            <a:gdLst/>
            <a:ahLst/>
            <a:rect l="l" t="t" r="r" b="b"/>
            <a:pathLst>
              <a:path w="4513" h="2545">
                <a:moveTo>
                  <a:pt x="3408" y="40"/>
                </a:moveTo>
                <a:lnTo>
                  <a:pt x="3168" y="24"/>
                </a:lnTo>
                <a:lnTo>
                  <a:pt x="3152" y="24"/>
                </a:lnTo>
                <a:lnTo>
                  <a:pt x="3136" y="32"/>
                </a:lnTo>
                <a:lnTo>
                  <a:pt x="3112" y="56"/>
                </a:lnTo>
                <a:lnTo>
                  <a:pt x="3096" y="56"/>
                </a:lnTo>
                <a:lnTo>
                  <a:pt x="3072" y="80"/>
                </a:lnTo>
                <a:lnTo>
                  <a:pt x="3056" y="96"/>
                </a:lnTo>
                <a:lnTo>
                  <a:pt x="3040" y="112"/>
                </a:lnTo>
                <a:lnTo>
                  <a:pt x="3032" y="128"/>
                </a:lnTo>
                <a:lnTo>
                  <a:pt x="3016" y="144"/>
                </a:lnTo>
                <a:lnTo>
                  <a:pt x="3008" y="160"/>
                </a:lnTo>
                <a:lnTo>
                  <a:pt x="2984" y="192"/>
                </a:lnTo>
                <a:lnTo>
                  <a:pt x="2976" y="208"/>
                </a:lnTo>
                <a:lnTo>
                  <a:pt x="2960" y="224"/>
                </a:lnTo>
                <a:lnTo>
                  <a:pt x="2944" y="248"/>
                </a:lnTo>
                <a:lnTo>
                  <a:pt x="2904" y="296"/>
                </a:lnTo>
                <a:lnTo>
                  <a:pt x="2896" y="320"/>
                </a:lnTo>
                <a:lnTo>
                  <a:pt x="2880" y="344"/>
                </a:lnTo>
                <a:lnTo>
                  <a:pt x="2848" y="392"/>
                </a:lnTo>
                <a:lnTo>
                  <a:pt x="2832" y="424"/>
                </a:lnTo>
                <a:lnTo>
                  <a:pt x="2816" y="440"/>
                </a:lnTo>
                <a:lnTo>
                  <a:pt x="2800" y="472"/>
                </a:lnTo>
                <a:lnTo>
                  <a:pt x="2752" y="552"/>
                </a:lnTo>
                <a:lnTo>
                  <a:pt x="2736" y="576"/>
                </a:lnTo>
                <a:lnTo>
                  <a:pt x="2720" y="592"/>
                </a:lnTo>
                <a:lnTo>
                  <a:pt x="2696" y="640"/>
                </a:lnTo>
                <a:lnTo>
                  <a:pt x="2680" y="664"/>
                </a:lnTo>
                <a:lnTo>
                  <a:pt x="2672" y="688"/>
                </a:lnTo>
                <a:lnTo>
                  <a:pt x="2656" y="712"/>
                </a:lnTo>
                <a:lnTo>
                  <a:pt x="2648" y="736"/>
                </a:lnTo>
                <a:lnTo>
                  <a:pt x="2632" y="752"/>
                </a:lnTo>
                <a:lnTo>
                  <a:pt x="2624" y="776"/>
                </a:lnTo>
                <a:lnTo>
                  <a:pt x="2608" y="800"/>
                </a:lnTo>
                <a:lnTo>
                  <a:pt x="2576" y="848"/>
                </a:lnTo>
                <a:lnTo>
                  <a:pt x="2568" y="880"/>
                </a:lnTo>
                <a:lnTo>
                  <a:pt x="2544" y="896"/>
                </a:lnTo>
                <a:lnTo>
                  <a:pt x="2536" y="920"/>
                </a:lnTo>
                <a:lnTo>
                  <a:pt x="2520" y="944"/>
                </a:lnTo>
                <a:lnTo>
                  <a:pt x="2496" y="1000"/>
                </a:lnTo>
                <a:lnTo>
                  <a:pt x="2464" y="1048"/>
                </a:lnTo>
                <a:lnTo>
                  <a:pt x="2456" y="1064"/>
                </a:lnTo>
                <a:lnTo>
                  <a:pt x="2440" y="1080"/>
                </a:lnTo>
                <a:lnTo>
                  <a:pt x="2408" y="1120"/>
                </a:lnTo>
                <a:lnTo>
                  <a:pt x="2384" y="1144"/>
                </a:lnTo>
                <a:lnTo>
                  <a:pt x="2368" y="1168"/>
                </a:lnTo>
                <a:lnTo>
                  <a:pt x="2344" y="1184"/>
                </a:lnTo>
                <a:lnTo>
                  <a:pt x="2320" y="1192"/>
                </a:lnTo>
                <a:lnTo>
                  <a:pt x="2304" y="1208"/>
                </a:lnTo>
                <a:lnTo>
                  <a:pt x="2280" y="1216"/>
                </a:lnTo>
                <a:lnTo>
                  <a:pt x="2256" y="1232"/>
                </a:lnTo>
                <a:lnTo>
                  <a:pt x="2232" y="1240"/>
                </a:lnTo>
                <a:lnTo>
                  <a:pt x="2192" y="1256"/>
                </a:lnTo>
                <a:lnTo>
                  <a:pt x="2168" y="1264"/>
                </a:lnTo>
                <a:lnTo>
                  <a:pt x="2144" y="1280"/>
                </a:lnTo>
                <a:lnTo>
                  <a:pt x="2120" y="1280"/>
                </a:lnTo>
                <a:lnTo>
                  <a:pt x="2040" y="1304"/>
                </a:lnTo>
                <a:lnTo>
                  <a:pt x="2016" y="1312"/>
                </a:lnTo>
                <a:lnTo>
                  <a:pt x="1992" y="1320"/>
                </a:lnTo>
                <a:lnTo>
                  <a:pt x="1968" y="1328"/>
                </a:lnTo>
                <a:lnTo>
                  <a:pt x="1920" y="1336"/>
                </a:lnTo>
                <a:lnTo>
                  <a:pt x="1896" y="1344"/>
                </a:lnTo>
                <a:lnTo>
                  <a:pt x="1872" y="1352"/>
                </a:lnTo>
                <a:lnTo>
                  <a:pt x="1848" y="1360"/>
                </a:lnTo>
                <a:lnTo>
                  <a:pt x="1816" y="1368"/>
                </a:lnTo>
                <a:lnTo>
                  <a:pt x="1792" y="1376"/>
                </a:lnTo>
                <a:lnTo>
                  <a:pt x="1760" y="1384"/>
                </a:lnTo>
                <a:lnTo>
                  <a:pt x="1712" y="1392"/>
                </a:lnTo>
                <a:lnTo>
                  <a:pt x="1688" y="1392"/>
                </a:lnTo>
                <a:lnTo>
                  <a:pt x="1664" y="1400"/>
                </a:lnTo>
                <a:lnTo>
                  <a:pt x="1640" y="1408"/>
                </a:lnTo>
                <a:lnTo>
                  <a:pt x="1616" y="1408"/>
                </a:lnTo>
                <a:lnTo>
                  <a:pt x="1600" y="1408"/>
                </a:lnTo>
                <a:lnTo>
                  <a:pt x="1560" y="1416"/>
                </a:lnTo>
                <a:lnTo>
                  <a:pt x="1536" y="1416"/>
                </a:lnTo>
                <a:lnTo>
                  <a:pt x="1488" y="1408"/>
                </a:lnTo>
                <a:lnTo>
                  <a:pt x="1464" y="1408"/>
                </a:lnTo>
                <a:lnTo>
                  <a:pt x="1440" y="1400"/>
                </a:lnTo>
                <a:lnTo>
                  <a:pt x="1416" y="1392"/>
                </a:lnTo>
                <a:lnTo>
                  <a:pt x="1392" y="1392"/>
                </a:lnTo>
                <a:lnTo>
                  <a:pt x="1360" y="1384"/>
                </a:lnTo>
                <a:lnTo>
                  <a:pt x="1336" y="1376"/>
                </a:lnTo>
                <a:lnTo>
                  <a:pt x="1304" y="1360"/>
                </a:lnTo>
                <a:lnTo>
                  <a:pt x="1248" y="1352"/>
                </a:lnTo>
                <a:lnTo>
                  <a:pt x="1216" y="1344"/>
                </a:lnTo>
                <a:lnTo>
                  <a:pt x="1184" y="1336"/>
                </a:lnTo>
                <a:lnTo>
                  <a:pt x="1152" y="1328"/>
                </a:lnTo>
                <a:lnTo>
                  <a:pt x="1120" y="1320"/>
                </a:lnTo>
                <a:lnTo>
                  <a:pt x="1088" y="1312"/>
                </a:lnTo>
                <a:lnTo>
                  <a:pt x="1056" y="1296"/>
                </a:lnTo>
                <a:lnTo>
                  <a:pt x="984" y="1288"/>
                </a:lnTo>
                <a:lnTo>
                  <a:pt x="960" y="1280"/>
                </a:lnTo>
                <a:lnTo>
                  <a:pt x="936" y="1272"/>
                </a:lnTo>
                <a:lnTo>
                  <a:pt x="912" y="1264"/>
                </a:lnTo>
                <a:lnTo>
                  <a:pt x="888" y="1248"/>
                </a:lnTo>
                <a:lnTo>
                  <a:pt x="848" y="1232"/>
                </a:lnTo>
                <a:lnTo>
                  <a:pt x="824" y="1224"/>
                </a:lnTo>
                <a:lnTo>
                  <a:pt x="800" y="1224"/>
                </a:lnTo>
                <a:lnTo>
                  <a:pt x="784" y="1216"/>
                </a:lnTo>
                <a:lnTo>
                  <a:pt x="768" y="1208"/>
                </a:lnTo>
                <a:lnTo>
                  <a:pt x="720" y="1200"/>
                </a:lnTo>
                <a:lnTo>
                  <a:pt x="704" y="1192"/>
                </a:lnTo>
                <a:lnTo>
                  <a:pt x="688" y="1184"/>
                </a:lnTo>
                <a:lnTo>
                  <a:pt x="664" y="1184"/>
                </a:lnTo>
                <a:lnTo>
                  <a:pt x="648" y="1176"/>
                </a:lnTo>
                <a:lnTo>
                  <a:pt x="624" y="1176"/>
                </a:lnTo>
                <a:lnTo>
                  <a:pt x="592" y="1168"/>
                </a:lnTo>
                <a:lnTo>
                  <a:pt x="568" y="1160"/>
                </a:lnTo>
                <a:lnTo>
                  <a:pt x="552" y="1160"/>
                </a:lnTo>
                <a:lnTo>
                  <a:pt x="512" y="1160"/>
                </a:lnTo>
                <a:lnTo>
                  <a:pt x="488" y="1160"/>
                </a:lnTo>
                <a:lnTo>
                  <a:pt x="472" y="1160"/>
                </a:lnTo>
                <a:lnTo>
                  <a:pt x="448" y="1160"/>
                </a:lnTo>
                <a:lnTo>
                  <a:pt x="424" y="1160"/>
                </a:lnTo>
                <a:lnTo>
                  <a:pt x="384" y="1160"/>
                </a:lnTo>
                <a:lnTo>
                  <a:pt x="360" y="1160"/>
                </a:lnTo>
                <a:lnTo>
                  <a:pt x="344" y="1168"/>
                </a:lnTo>
                <a:lnTo>
                  <a:pt x="320" y="1168"/>
                </a:lnTo>
                <a:lnTo>
                  <a:pt x="288" y="1176"/>
                </a:lnTo>
                <a:lnTo>
                  <a:pt x="272" y="1184"/>
                </a:lnTo>
                <a:lnTo>
                  <a:pt x="248" y="1192"/>
                </a:lnTo>
                <a:lnTo>
                  <a:pt x="232" y="1208"/>
                </a:lnTo>
                <a:lnTo>
                  <a:pt x="208" y="1224"/>
                </a:lnTo>
                <a:lnTo>
                  <a:pt x="192" y="1240"/>
                </a:lnTo>
                <a:lnTo>
                  <a:pt x="160" y="1272"/>
                </a:lnTo>
                <a:lnTo>
                  <a:pt x="152" y="1288"/>
                </a:lnTo>
                <a:lnTo>
                  <a:pt x="136" y="1304"/>
                </a:lnTo>
                <a:lnTo>
                  <a:pt x="120" y="1320"/>
                </a:lnTo>
                <a:lnTo>
                  <a:pt x="112" y="1336"/>
                </a:lnTo>
                <a:lnTo>
                  <a:pt x="96" y="1384"/>
                </a:lnTo>
                <a:lnTo>
                  <a:pt x="80" y="1400"/>
                </a:lnTo>
                <a:lnTo>
                  <a:pt x="72" y="1424"/>
                </a:lnTo>
                <a:lnTo>
                  <a:pt x="56" y="1448"/>
                </a:lnTo>
                <a:lnTo>
                  <a:pt x="48" y="1472"/>
                </a:lnTo>
                <a:lnTo>
                  <a:pt x="40" y="1488"/>
                </a:lnTo>
                <a:lnTo>
                  <a:pt x="32" y="1512"/>
                </a:lnTo>
                <a:lnTo>
                  <a:pt x="16" y="1536"/>
                </a:lnTo>
                <a:lnTo>
                  <a:pt x="8" y="1584"/>
                </a:lnTo>
                <a:lnTo>
                  <a:pt x="0" y="1632"/>
                </a:lnTo>
                <a:lnTo>
                  <a:pt x="0" y="1688"/>
                </a:lnTo>
                <a:lnTo>
                  <a:pt x="0" y="1712"/>
                </a:lnTo>
                <a:lnTo>
                  <a:pt x="8" y="1744"/>
                </a:lnTo>
                <a:lnTo>
                  <a:pt x="16" y="1768"/>
                </a:lnTo>
                <a:lnTo>
                  <a:pt x="24" y="1800"/>
                </a:lnTo>
                <a:lnTo>
                  <a:pt x="32" y="1824"/>
                </a:lnTo>
                <a:lnTo>
                  <a:pt x="32" y="1848"/>
                </a:lnTo>
                <a:lnTo>
                  <a:pt x="56" y="1928"/>
                </a:lnTo>
                <a:lnTo>
                  <a:pt x="72" y="1952"/>
                </a:lnTo>
                <a:lnTo>
                  <a:pt x="80" y="1968"/>
                </a:lnTo>
                <a:lnTo>
                  <a:pt x="96" y="1992"/>
                </a:lnTo>
                <a:lnTo>
                  <a:pt x="112" y="2024"/>
                </a:lnTo>
                <a:lnTo>
                  <a:pt x="128" y="2056"/>
                </a:lnTo>
                <a:lnTo>
                  <a:pt x="176" y="2104"/>
                </a:lnTo>
                <a:lnTo>
                  <a:pt x="200" y="2136"/>
                </a:lnTo>
                <a:lnTo>
                  <a:pt x="240" y="2160"/>
                </a:lnTo>
                <a:lnTo>
                  <a:pt x="272" y="2192"/>
                </a:lnTo>
                <a:lnTo>
                  <a:pt x="304" y="2208"/>
                </a:lnTo>
                <a:lnTo>
                  <a:pt x="352" y="2232"/>
                </a:lnTo>
                <a:lnTo>
                  <a:pt x="424" y="2280"/>
                </a:lnTo>
                <a:lnTo>
                  <a:pt x="464" y="2304"/>
                </a:lnTo>
                <a:lnTo>
                  <a:pt x="504" y="2320"/>
                </a:lnTo>
                <a:lnTo>
                  <a:pt x="544" y="2336"/>
                </a:lnTo>
                <a:lnTo>
                  <a:pt x="576" y="2352"/>
                </a:lnTo>
                <a:lnTo>
                  <a:pt x="648" y="2384"/>
                </a:lnTo>
                <a:lnTo>
                  <a:pt x="696" y="2400"/>
                </a:lnTo>
                <a:lnTo>
                  <a:pt x="720" y="2408"/>
                </a:lnTo>
                <a:lnTo>
                  <a:pt x="760" y="2416"/>
                </a:lnTo>
                <a:lnTo>
                  <a:pt x="792" y="2424"/>
                </a:lnTo>
                <a:lnTo>
                  <a:pt x="832" y="2432"/>
                </a:lnTo>
                <a:lnTo>
                  <a:pt x="912" y="2448"/>
                </a:lnTo>
                <a:lnTo>
                  <a:pt x="960" y="2456"/>
                </a:lnTo>
                <a:lnTo>
                  <a:pt x="1008" y="2464"/>
                </a:lnTo>
                <a:lnTo>
                  <a:pt x="1056" y="2480"/>
                </a:lnTo>
                <a:lnTo>
                  <a:pt x="1112" y="2488"/>
                </a:lnTo>
                <a:lnTo>
                  <a:pt x="1216" y="2504"/>
                </a:lnTo>
                <a:lnTo>
                  <a:pt x="1280" y="2504"/>
                </a:lnTo>
                <a:lnTo>
                  <a:pt x="1336" y="2512"/>
                </a:lnTo>
                <a:lnTo>
                  <a:pt x="1400" y="2520"/>
                </a:lnTo>
                <a:lnTo>
                  <a:pt x="1512" y="2528"/>
                </a:lnTo>
                <a:lnTo>
                  <a:pt x="1568" y="2528"/>
                </a:lnTo>
                <a:lnTo>
                  <a:pt x="1616" y="2536"/>
                </a:lnTo>
                <a:lnTo>
                  <a:pt x="1656" y="2536"/>
                </a:lnTo>
                <a:lnTo>
                  <a:pt x="1744" y="2544"/>
                </a:lnTo>
                <a:lnTo>
                  <a:pt x="1800" y="2544"/>
                </a:lnTo>
                <a:lnTo>
                  <a:pt x="1840" y="2544"/>
                </a:lnTo>
                <a:lnTo>
                  <a:pt x="1896" y="2544"/>
                </a:lnTo>
                <a:lnTo>
                  <a:pt x="1944" y="2544"/>
                </a:lnTo>
                <a:lnTo>
                  <a:pt x="1984" y="2536"/>
                </a:lnTo>
                <a:lnTo>
                  <a:pt x="2024" y="2536"/>
                </a:lnTo>
                <a:lnTo>
                  <a:pt x="2064" y="2536"/>
                </a:lnTo>
                <a:lnTo>
                  <a:pt x="2144" y="2528"/>
                </a:lnTo>
                <a:lnTo>
                  <a:pt x="2184" y="2528"/>
                </a:lnTo>
                <a:lnTo>
                  <a:pt x="2224" y="2528"/>
                </a:lnTo>
                <a:lnTo>
                  <a:pt x="2264" y="2520"/>
                </a:lnTo>
                <a:lnTo>
                  <a:pt x="2312" y="2520"/>
                </a:lnTo>
                <a:lnTo>
                  <a:pt x="2360" y="2512"/>
                </a:lnTo>
                <a:lnTo>
                  <a:pt x="2392" y="2512"/>
                </a:lnTo>
                <a:lnTo>
                  <a:pt x="2440" y="2512"/>
                </a:lnTo>
                <a:lnTo>
                  <a:pt x="2520" y="2504"/>
                </a:lnTo>
                <a:lnTo>
                  <a:pt x="2688" y="2480"/>
                </a:lnTo>
                <a:lnTo>
                  <a:pt x="2720" y="2472"/>
                </a:lnTo>
                <a:lnTo>
                  <a:pt x="2744" y="2464"/>
                </a:lnTo>
                <a:lnTo>
                  <a:pt x="2768" y="2464"/>
                </a:lnTo>
                <a:lnTo>
                  <a:pt x="2816" y="2456"/>
                </a:lnTo>
                <a:lnTo>
                  <a:pt x="2840" y="2448"/>
                </a:lnTo>
                <a:lnTo>
                  <a:pt x="2872" y="2440"/>
                </a:lnTo>
                <a:lnTo>
                  <a:pt x="2904" y="2440"/>
                </a:lnTo>
                <a:lnTo>
                  <a:pt x="2936" y="2440"/>
                </a:lnTo>
                <a:lnTo>
                  <a:pt x="2968" y="2432"/>
                </a:lnTo>
                <a:lnTo>
                  <a:pt x="3008" y="2432"/>
                </a:lnTo>
                <a:lnTo>
                  <a:pt x="3040" y="2424"/>
                </a:lnTo>
                <a:lnTo>
                  <a:pt x="3072" y="2416"/>
                </a:lnTo>
                <a:lnTo>
                  <a:pt x="3120" y="2408"/>
                </a:lnTo>
                <a:lnTo>
                  <a:pt x="3144" y="2400"/>
                </a:lnTo>
                <a:lnTo>
                  <a:pt x="3176" y="2384"/>
                </a:lnTo>
                <a:lnTo>
                  <a:pt x="3224" y="2376"/>
                </a:lnTo>
                <a:lnTo>
                  <a:pt x="3240" y="2368"/>
                </a:lnTo>
                <a:lnTo>
                  <a:pt x="3264" y="2360"/>
                </a:lnTo>
                <a:lnTo>
                  <a:pt x="3288" y="2360"/>
                </a:lnTo>
                <a:lnTo>
                  <a:pt x="3304" y="2352"/>
                </a:lnTo>
                <a:lnTo>
                  <a:pt x="3328" y="2344"/>
                </a:lnTo>
                <a:lnTo>
                  <a:pt x="3376" y="2336"/>
                </a:lnTo>
                <a:lnTo>
                  <a:pt x="3400" y="2328"/>
                </a:lnTo>
                <a:lnTo>
                  <a:pt x="3424" y="2320"/>
                </a:lnTo>
                <a:lnTo>
                  <a:pt x="3448" y="2312"/>
                </a:lnTo>
                <a:lnTo>
                  <a:pt x="3472" y="2304"/>
                </a:lnTo>
                <a:lnTo>
                  <a:pt x="3504" y="2296"/>
                </a:lnTo>
                <a:lnTo>
                  <a:pt x="3520" y="2280"/>
                </a:lnTo>
                <a:lnTo>
                  <a:pt x="3576" y="2264"/>
                </a:lnTo>
                <a:lnTo>
                  <a:pt x="3608" y="2256"/>
                </a:lnTo>
                <a:lnTo>
                  <a:pt x="3632" y="2240"/>
                </a:lnTo>
                <a:lnTo>
                  <a:pt x="3664" y="2232"/>
                </a:lnTo>
                <a:lnTo>
                  <a:pt x="3688" y="2232"/>
                </a:lnTo>
                <a:lnTo>
                  <a:pt x="3712" y="2216"/>
                </a:lnTo>
                <a:lnTo>
                  <a:pt x="3768" y="2200"/>
                </a:lnTo>
                <a:lnTo>
                  <a:pt x="3792" y="2184"/>
                </a:lnTo>
                <a:lnTo>
                  <a:pt x="3816" y="2176"/>
                </a:lnTo>
                <a:lnTo>
                  <a:pt x="3880" y="2144"/>
                </a:lnTo>
                <a:lnTo>
                  <a:pt x="3896" y="2136"/>
                </a:lnTo>
                <a:lnTo>
                  <a:pt x="3920" y="2120"/>
                </a:lnTo>
                <a:lnTo>
                  <a:pt x="3944" y="2112"/>
                </a:lnTo>
                <a:lnTo>
                  <a:pt x="3976" y="2096"/>
                </a:lnTo>
                <a:lnTo>
                  <a:pt x="4000" y="2088"/>
                </a:lnTo>
                <a:lnTo>
                  <a:pt x="4064" y="2056"/>
                </a:lnTo>
                <a:lnTo>
                  <a:pt x="4080" y="2040"/>
                </a:lnTo>
                <a:lnTo>
                  <a:pt x="4104" y="2016"/>
                </a:lnTo>
                <a:lnTo>
                  <a:pt x="4128" y="2000"/>
                </a:lnTo>
                <a:lnTo>
                  <a:pt x="4136" y="1976"/>
                </a:lnTo>
                <a:lnTo>
                  <a:pt x="4160" y="1960"/>
                </a:lnTo>
                <a:lnTo>
                  <a:pt x="4176" y="1936"/>
                </a:lnTo>
                <a:lnTo>
                  <a:pt x="4192" y="1920"/>
                </a:lnTo>
                <a:lnTo>
                  <a:pt x="4224" y="1880"/>
                </a:lnTo>
                <a:lnTo>
                  <a:pt x="4232" y="1864"/>
                </a:lnTo>
                <a:lnTo>
                  <a:pt x="4248" y="1848"/>
                </a:lnTo>
                <a:lnTo>
                  <a:pt x="4264" y="1840"/>
                </a:lnTo>
                <a:lnTo>
                  <a:pt x="4280" y="1816"/>
                </a:lnTo>
                <a:lnTo>
                  <a:pt x="4296" y="1800"/>
                </a:lnTo>
                <a:lnTo>
                  <a:pt x="4312" y="1784"/>
                </a:lnTo>
                <a:lnTo>
                  <a:pt x="4328" y="1768"/>
                </a:lnTo>
                <a:lnTo>
                  <a:pt x="4368" y="1704"/>
                </a:lnTo>
                <a:lnTo>
                  <a:pt x="4376" y="1688"/>
                </a:lnTo>
                <a:lnTo>
                  <a:pt x="4384" y="1664"/>
                </a:lnTo>
                <a:lnTo>
                  <a:pt x="4392" y="1640"/>
                </a:lnTo>
                <a:lnTo>
                  <a:pt x="4400" y="1624"/>
                </a:lnTo>
                <a:lnTo>
                  <a:pt x="4416" y="1568"/>
                </a:lnTo>
                <a:lnTo>
                  <a:pt x="4424" y="1544"/>
                </a:lnTo>
                <a:lnTo>
                  <a:pt x="4432" y="1520"/>
                </a:lnTo>
                <a:lnTo>
                  <a:pt x="4432" y="1496"/>
                </a:lnTo>
                <a:lnTo>
                  <a:pt x="4448" y="1472"/>
                </a:lnTo>
                <a:lnTo>
                  <a:pt x="4448" y="1448"/>
                </a:lnTo>
                <a:lnTo>
                  <a:pt x="4456" y="1424"/>
                </a:lnTo>
                <a:lnTo>
                  <a:pt x="4464" y="1400"/>
                </a:lnTo>
                <a:lnTo>
                  <a:pt x="4472" y="1376"/>
                </a:lnTo>
                <a:lnTo>
                  <a:pt x="4472" y="1352"/>
                </a:lnTo>
                <a:lnTo>
                  <a:pt x="4488" y="1296"/>
                </a:lnTo>
                <a:lnTo>
                  <a:pt x="4488" y="1272"/>
                </a:lnTo>
                <a:lnTo>
                  <a:pt x="4504" y="1248"/>
                </a:lnTo>
                <a:lnTo>
                  <a:pt x="4504" y="1216"/>
                </a:lnTo>
                <a:lnTo>
                  <a:pt x="4504" y="1192"/>
                </a:lnTo>
                <a:lnTo>
                  <a:pt x="4512" y="1160"/>
                </a:lnTo>
                <a:lnTo>
                  <a:pt x="4512" y="1144"/>
                </a:lnTo>
                <a:lnTo>
                  <a:pt x="4512" y="1088"/>
                </a:lnTo>
                <a:lnTo>
                  <a:pt x="4512" y="1056"/>
                </a:lnTo>
                <a:lnTo>
                  <a:pt x="4512" y="1032"/>
                </a:lnTo>
                <a:lnTo>
                  <a:pt x="4504" y="1000"/>
                </a:lnTo>
                <a:lnTo>
                  <a:pt x="4504" y="984"/>
                </a:lnTo>
                <a:lnTo>
                  <a:pt x="4488" y="944"/>
                </a:lnTo>
                <a:lnTo>
                  <a:pt x="4488" y="920"/>
                </a:lnTo>
                <a:lnTo>
                  <a:pt x="4480" y="904"/>
                </a:lnTo>
                <a:lnTo>
                  <a:pt x="4480" y="880"/>
                </a:lnTo>
                <a:lnTo>
                  <a:pt x="4464" y="864"/>
                </a:lnTo>
                <a:lnTo>
                  <a:pt x="4464" y="848"/>
                </a:lnTo>
                <a:lnTo>
                  <a:pt x="4456" y="824"/>
                </a:lnTo>
                <a:lnTo>
                  <a:pt x="4440" y="800"/>
                </a:lnTo>
                <a:lnTo>
                  <a:pt x="4440" y="784"/>
                </a:lnTo>
                <a:lnTo>
                  <a:pt x="4424" y="768"/>
                </a:lnTo>
                <a:lnTo>
                  <a:pt x="4424" y="752"/>
                </a:lnTo>
                <a:lnTo>
                  <a:pt x="4408" y="728"/>
                </a:lnTo>
                <a:lnTo>
                  <a:pt x="4400" y="704"/>
                </a:lnTo>
                <a:lnTo>
                  <a:pt x="4392" y="688"/>
                </a:lnTo>
                <a:lnTo>
                  <a:pt x="4392" y="672"/>
                </a:lnTo>
                <a:lnTo>
                  <a:pt x="4376" y="648"/>
                </a:lnTo>
                <a:lnTo>
                  <a:pt x="4328" y="560"/>
                </a:lnTo>
                <a:lnTo>
                  <a:pt x="4312" y="544"/>
                </a:lnTo>
                <a:lnTo>
                  <a:pt x="4304" y="520"/>
                </a:lnTo>
                <a:lnTo>
                  <a:pt x="4296" y="504"/>
                </a:lnTo>
                <a:lnTo>
                  <a:pt x="4280" y="496"/>
                </a:lnTo>
                <a:lnTo>
                  <a:pt x="4264" y="464"/>
                </a:lnTo>
                <a:lnTo>
                  <a:pt x="4248" y="456"/>
                </a:lnTo>
                <a:lnTo>
                  <a:pt x="4224" y="432"/>
                </a:lnTo>
                <a:lnTo>
                  <a:pt x="4216" y="416"/>
                </a:lnTo>
                <a:lnTo>
                  <a:pt x="4208" y="400"/>
                </a:lnTo>
                <a:lnTo>
                  <a:pt x="4192" y="384"/>
                </a:lnTo>
                <a:lnTo>
                  <a:pt x="4160" y="344"/>
                </a:lnTo>
                <a:lnTo>
                  <a:pt x="4152" y="328"/>
                </a:lnTo>
                <a:lnTo>
                  <a:pt x="4144" y="312"/>
                </a:lnTo>
                <a:lnTo>
                  <a:pt x="4128" y="296"/>
                </a:lnTo>
                <a:lnTo>
                  <a:pt x="4120" y="280"/>
                </a:lnTo>
                <a:lnTo>
                  <a:pt x="4096" y="248"/>
                </a:lnTo>
                <a:lnTo>
                  <a:pt x="4080" y="240"/>
                </a:lnTo>
                <a:lnTo>
                  <a:pt x="4072" y="224"/>
                </a:lnTo>
                <a:lnTo>
                  <a:pt x="4056" y="208"/>
                </a:lnTo>
                <a:lnTo>
                  <a:pt x="4032" y="184"/>
                </a:lnTo>
                <a:lnTo>
                  <a:pt x="4016" y="168"/>
                </a:lnTo>
                <a:lnTo>
                  <a:pt x="4000" y="160"/>
                </a:lnTo>
                <a:lnTo>
                  <a:pt x="3968" y="136"/>
                </a:lnTo>
                <a:lnTo>
                  <a:pt x="3944" y="120"/>
                </a:lnTo>
                <a:lnTo>
                  <a:pt x="3928" y="112"/>
                </a:lnTo>
                <a:lnTo>
                  <a:pt x="3904" y="96"/>
                </a:lnTo>
                <a:lnTo>
                  <a:pt x="3880" y="88"/>
                </a:lnTo>
                <a:lnTo>
                  <a:pt x="3856" y="80"/>
                </a:lnTo>
                <a:lnTo>
                  <a:pt x="3840" y="72"/>
                </a:lnTo>
                <a:lnTo>
                  <a:pt x="3816" y="64"/>
                </a:lnTo>
                <a:lnTo>
                  <a:pt x="3792" y="56"/>
                </a:lnTo>
                <a:lnTo>
                  <a:pt x="3776" y="48"/>
                </a:lnTo>
                <a:lnTo>
                  <a:pt x="3752" y="40"/>
                </a:lnTo>
                <a:lnTo>
                  <a:pt x="3736" y="32"/>
                </a:lnTo>
                <a:lnTo>
                  <a:pt x="3712" y="32"/>
                </a:lnTo>
                <a:lnTo>
                  <a:pt x="3696" y="24"/>
                </a:lnTo>
                <a:lnTo>
                  <a:pt x="3680" y="24"/>
                </a:lnTo>
                <a:lnTo>
                  <a:pt x="3664" y="16"/>
                </a:lnTo>
                <a:lnTo>
                  <a:pt x="3648" y="16"/>
                </a:lnTo>
                <a:lnTo>
                  <a:pt x="3632" y="8"/>
                </a:lnTo>
                <a:lnTo>
                  <a:pt x="3616" y="8"/>
                </a:lnTo>
                <a:lnTo>
                  <a:pt x="3592" y="8"/>
                </a:lnTo>
                <a:lnTo>
                  <a:pt x="3576" y="8"/>
                </a:lnTo>
                <a:lnTo>
                  <a:pt x="3560" y="0"/>
                </a:lnTo>
                <a:lnTo>
                  <a:pt x="3544" y="0"/>
                </a:lnTo>
                <a:lnTo>
                  <a:pt x="3528" y="0"/>
                </a:lnTo>
                <a:lnTo>
                  <a:pt x="3512" y="0"/>
                </a:lnTo>
                <a:lnTo>
                  <a:pt x="3496" y="0"/>
                </a:lnTo>
                <a:lnTo>
                  <a:pt x="3480" y="0"/>
                </a:lnTo>
                <a:lnTo>
                  <a:pt x="3464" y="0"/>
                </a:lnTo>
                <a:lnTo>
                  <a:pt x="3448" y="0"/>
                </a:lnTo>
                <a:lnTo>
                  <a:pt x="3432" y="8"/>
                </a:lnTo>
                <a:lnTo>
                  <a:pt x="3416" y="8"/>
                </a:lnTo>
                <a:lnTo>
                  <a:pt x="3400" y="8"/>
                </a:lnTo>
                <a:lnTo>
                  <a:pt x="3384" y="16"/>
                </a:lnTo>
                <a:lnTo>
                  <a:pt x="3368" y="16"/>
                </a:lnTo>
                <a:lnTo>
                  <a:pt x="3352" y="24"/>
                </a:lnTo>
                <a:lnTo>
                  <a:pt x="3336" y="24"/>
                </a:lnTo>
                <a:lnTo>
                  <a:pt x="3320" y="32"/>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259" name=""/>
          <p:cNvSpPr/>
          <p:nvPr/>
        </p:nvSpPr>
        <p:spPr>
          <a:xfrm>
            <a:off x="444600" y="254160"/>
            <a:ext cx="877572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06600" y="3483000"/>
            <a:ext cx="1167120" cy="166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43360" y="3665520"/>
            <a:ext cx="35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65200" y="35434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263" name=""/>
          <p:cNvSpPr/>
          <p:nvPr/>
        </p:nvSpPr>
        <p:spPr>
          <a:xfrm>
            <a:off x="2595600" y="400212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257280" y="3879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265" name=""/>
          <p:cNvSpPr/>
          <p:nvPr/>
        </p:nvSpPr>
        <p:spPr>
          <a:xfrm>
            <a:off x="2943360" y="4505400"/>
            <a:ext cx="35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265560" y="43848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267" name=""/>
          <p:cNvSpPr/>
          <p:nvPr/>
        </p:nvSpPr>
        <p:spPr>
          <a:xfrm flipV="1">
            <a:off x="3087720" y="483660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8" name=""/>
          <p:cNvSpPr/>
          <p:nvPr/>
        </p:nvSpPr>
        <p:spPr>
          <a:xfrm>
            <a:off x="3264840" y="476244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269" name=""/>
          <p:cNvSpPr/>
          <p:nvPr/>
        </p:nvSpPr>
        <p:spPr>
          <a:xfrm>
            <a:off x="3296880" y="412920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270" name=""/>
          <p:cNvSpPr/>
          <p:nvPr/>
        </p:nvSpPr>
        <p:spPr>
          <a:xfrm>
            <a:off x="3914280" y="35370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271" name=""/>
          <p:cNvSpPr/>
          <p:nvPr/>
        </p:nvSpPr>
        <p:spPr>
          <a:xfrm>
            <a:off x="3969720" y="442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272" name=""/>
          <p:cNvSpPr/>
          <p:nvPr/>
        </p:nvSpPr>
        <p:spPr>
          <a:xfrm>
            <a:off x="4479840" y="367524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526000" y="459432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4" name=""/>
          <p:cNvGrpSpPr/>
          <p:nvPr/>
        </p:nvGrpSpPr>
        <p:grpSpPr>
          <a:xfrm>
            <a:off x="5729040" y="3517920"/>
            <a:ext cx="725760" cy="1176120"/>
            <a:chOff x="5729040" y="3517920"/>
            <a:chExt cx="725760" cy="1176120"/>
          </a:xfrm>
        </p:grpSpPr>
        <p:sp>
          <p:nvSpPr>
            <p:cNvPr id="1275" name=""/>
            <p:cNvSpPr/>
            <p:nvPr/>
          </p:nvSpPr>
          <p:spPr>
            <a:xfrm>
              <a:off x="5735520" y="351792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735520" y="423720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742000" y="397836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5729040" y="4106880"/>
              <a:ext cx="2538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742000" y="351792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5742000" y="441936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454800" y="384660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2" name=""/>
          <p:cNvSpPr/>
          <p:nvPr/>
        </p:nvSpPr>
        <p:spPr>
          <a:xfrm>
            <a:off x="5725440" y="374976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283" name=""/>
          <p:cNvSpPr/>
          <p:nvPr/>
        </p:nvSpPr>
        <p:spPr>
          <a:xfrm>
            <a:off x="5832360" y="415296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284" name=""/>
          <p:cNvSpPr/>
          <p:nvPr/>
        </p:nvSpPr>
        <p:spPr>
          <a:xfrm>
            <a:off x="6058440" y="387504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285" name=""/>
          <p:cNvSpPr/>
          <p:nvPr/>
        </p:nvSpPr>
        <p:spPr>
          <a:xfrm>
            <a:off x="6465960" y="4292640"/>
            <a:ext cx="25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3082680" y="6369120"/>
            <a:ext cx="603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V="1">
            <a:off x="3081240" y="4851360"/>
            <a:ext cx="0" cy="151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2938320" y="3658680"/>
            <a:ext cx="0" cy="210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927520" y="398448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90" name=""/>
          <p:cNvSpPr/>
          <p:nvPr/>
        </p:nvSpPr>
        <p:spPr>
          <a:xfrm>
            <a:off x="7113600" y="3684600"/>
            <a:ext cx="1166760" cy="166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748560" y="38656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738840" y="476892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079400" y="465948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294" name=""/>
          <p:cNvSpPr/>
          <p:nvPr/>
        </p:nvSpPr>
        <p:spPr>
          <a:xfrm>
            <a:off x="4610160" y="508176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070040" y="496260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296" name=""/>
          <p:cNvSpPr/>
          <p:nvPr/>
        </p:nvSpPr>
        <p:spPr>
          <a:xfrm>
            <a:off x="7133040" y="413712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297" name=""/>
          <p:cNvSpPr/>
          <p:nvPr/>
        </p:nvSpPr>
        <p:spPr>
          <a:xfrm>
            <a:off x="7719480" y="37386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298" name=""/>
          <p:cNvSpPr/>
          <p:nvPr/>
        </p:nvSpPr>
        <p:spPr>
          <a:xfrm>
            <a:off x="7069680" y="374508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299" name=""/>
          <p:cNvSpPr/>
          <p:nvPr/>
        </p:nvSpPr>
        <p:spPr>
          <a:xfrm flipV="1">
            <a:off x="6734160" y="38592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23000" y="427356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01" name=""/>
          <p:cNvSpPr/>
          <p:nvPr/>
        </p:nvSpPr>
        <p:spPr>
          <a:xfrm flipV="1">
            <a:off x="9121680" y="408636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8964720" y="409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34080" y="47880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3787920" y="5253120"/>
            <a:ext cx="461880" cy="102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957400" y="575784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408480" y="5641920"/>
            <a:ext cx="9180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329000" y="5654520"/>
            <a:ext cx="9072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264840" y="52704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309" name=""/>
          <p:cNvSpPr/>
          <p:nvPr/>
        </p:nvSpPr>
        <p:spPr>
          <a:xfrm>
            <a:off x="4268160" y="52704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310" name=""/>
          <p:cNvSpPr/>
          <p:nvPr/>
        </p:nvSpPr>
        <p:spPr>
          <a:xfrm>
            <a:off x="3727440" y="560700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311" name=""/>
          <p:cNvSpPr/>
          <p:nvPr/>
        </p:nvSpPr>
        <p:spPr>
          <a:xfrm>
            <a:off x="4262400" y="5710320"/>
            <a:ext cx="55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489560" y="4605480"/>
            <a:ext cx="10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605480" y="461160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187960" y="439884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V="1">
            <a:off x="4840200" y="4758840"/>
            <a:ext cx="2890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316" name=""/>
          <p:cNvSpPr/>
          <p:nvPr/>
        </p:nvSpPr>
        <p:spPr>
          <a:xfrm>
            <a:off x="4613400" y="460224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573960" y="4309920"/>
            <a:ext cx="0" cy="141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580080" y="573552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8431200" y="422280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645400" y="3797280"/>
            <a:ext cx="30816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8431200" y="4182840"/>
            <a:ext cx="201600" cy="36360"/>
          </a:xfrm>
          <a:prstGeom prst="line">
            <a:avLst/>
          </a:prstGeom>
          <a:ln w="12600">
            <a:solidFill>
              <a:srgbClr val="ffffff"/>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22" name=""/>
          <p:cNvSpPr/>
          <p:nvPr/>
        </p:nvSpPr>
        <p:spPr>
          <a:xfrm>
            <a:off x="8299440" y="394956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561000" y="427356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324" name=""/>
          <p:cNvGrpSpPr/>
          <p:nvPr/>
        </p:nvGrpSpPr>
        <p:grpSpPr>
          <a:xfrm>
            <a:off x="247680" y="933120"/>
            <a:ext cx="3695760" cy="3777120"/>
            <a:chOff x="247680" y="933120"/>
            <a:chExt cx="3695760" cy="3777120"/>
          </a:xfrm>
        </p:grpSpPr>
        <p:grpSp>
          <p:nvGrpSpPr>
            <p:cNvPr id="1325" name=""/>
            <p:cNvGrpSpPr/>
            <p:nvPr/>
          </p:nvGrpSpPr>
          <p:grpSpPr>
            <a:xfrm>
              <a:off x="3171960" y="1312920"/>
              <a:ext cx="504720" cy="1174320"/>
              <a:chOff x="3171960" y="1312920"/>
              <a:chExt cx="504720" cy="1174320"/>
            </a:xfrm>
          </p:grpSpPr>
          <p:sp>
            <p:nvSpPr>
              <p:cNvPr id="1326" name=""/>
              <p:cNvSpPr/>
              <p:nvPr/>
            </p:nvSpPr>
            <p:spPr>
              <a:xfrm>
                <a:off x="3178080" y="131292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178080" y="20304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184560" y="1774800"/>
                <a:ext cx="15408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H="1">
                <a:off x="3171960" y="1900080"/>
                <a:ext cx="17928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184560" y="1312920"/>
                <a:ext cx="48564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3184560" y="221256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676680" y="164304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3" name=""/>
            <p:cNvSpPr/>
            <p:nvPr/>
          </p:nvSpPr>
          <p:spPr>
            <a:xfrm>
              <a:off x="1625760" y="2859120"/>
              <a:ext cx="938160" cy="1851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92280" y="283356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1122480" y="1620720"/>
              <a:ext cx="20620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2650680" y="216216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60280" y="309096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557360" y="400068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339" name=""/>
            <p:cNvSpPr/>
            <p:nvPr/>
          </p:nvSpPr>
          <p:spPr>
            <a:xfrm>
              <a:off x="3159720" y="157176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340" name=""/>
            <p:cNvSpPr/>
            <p:nvPr/>
          </p:nvSpPr>
          <p:spPr>
            <a:xfrm>
              <a:off x="625680" y="289872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341" name=""/>
            <p:cNvSpPr/>
            <p:nvPr/>
          </p:nvSpPr>
          <p:spPr>
            <a:xfrm>
              <a:off x="955800" y="3090960"/>
              <a:ext cx="62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577880" y="298944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343" name=""/>
            <p:cNvSpPr/>
            <p:nvPr/>
          </p:nvSpPr>
          <p:spPr>
            <a:xfrm>
              <a:off x="3150360" y="202572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344" name=""/>
            <p:cNvSpPr/>
            <p:nvPr/>
          </p:nvSpPr>
          <p:spPr>
            <a:xfrm>
              <a:off x="2454840" y="2093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345" name=""/>
            <p:cNvSpPr/>
            <p:nvPr/>
          </p:nvSpPr>
          <p:spPr>
            <a:xfrm>
              <a:off x="3679920" y="1924200"/>
              <a:ext cx="25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3936960" y="933120"/>
              <a:ext cx="0" cy="9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247680" y="939960"/>
              <a:ext cx="36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54160" y="94608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128600" y="162396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0" name=""/>
          <p:cNvSpPr/>
          <p:nvPr/>
        </p:nvSpPr>
        <p:spPr>
          <a:xfrm>
            <a:off x="4437000" y="1635120"/>
            <a:ext cx="4343400" cy="140508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ype R combiné avec le chargement,  le rangemen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t avec l’extraction de l’instruction</a:t>
            </a:r>
            <a:endParaRPr b="0" lang="en-US" sz="2400" spc="-1" strike="noStrike">
              <a:solidFill>
                <a:srgbClr val="000000"/>
              </a:solidFill>
              <a:latin typeface="Times New Roman"/>
            </a:endParaRPr>
          </a:p>
        </p:txBody>
      </p:sp>
      <p:sp>
        <p:nvSpPr>
          <p:cNvPr id="1351" name=""/>
          <p:cNvSpPr/>
          <p:nvPr/>
        </p:nvSpPr>
        <p:spPr>
          <a:xfrm>
            <a:off x="228600" y="812880"/>
            <a:ext cx="4091040" cy="4713120"/>
          </a:xfrm>
          <a:custGeom>
            <a:avLst/>
            <a:gdLst/>
            <a:ahLst/>
            <a:rect l="l" t="t" r="r" b="b"/>
            <a:pathLst>
              <a:path w="2577" h="2969">
                <a:moveTo>
                  <a:pt x="2416" y="72"/>
                </a:moveTo>
                <a:lnTo>
                  <a:pt x="2400" y="64"/>
                </a:lnTo>
                <a:lnTo>
                  <a:pt x="2352" y="48"/>
                </a:lnTo>
                <a:lnTo>
                  <a:pt x="2336" y="40"/>
                </a:lnTo>
                <a:lnTo>
                  <a:pt x="2304" y="40"/>
                </a:lnTo>
                <a:lnTo>
                  <a:pt x="2280" y="32"/>
                </a:lnTo>
                <a:lnTo>
                  <a:pt x="2240" y="24"/>
                </a:lnTo>
                <a:lnTo>
                  <a:pt x="2216" y="16"/>
                </a:lnTo>
                <a:lnTo>
                  <a:pt x="2200" y="16"/>
                </a:lnTo>
                <a:lnTo>
                  <a:pt x="2168" y="16"/>
                </a:lnTo>
                <a:lnTo>
                  <a:pt x="2152" y="16"/>
                </a:lnTo>
                <a:lnTo>
                  <a:pt x="2128" y="16"/>
                </a:lnTo>
                <a:lnTo>
                  <a:pt x="2104" y="8"/>
                </a:lnTo>
                <a:lnTo>
                  <a:pt x="2088" y="8"/>
                </a:lnTo>
                <a:lnTo>
                  <a:pt x="2072" y="0"/>
                </a:lnTo>
                <a:lnTo>
                  <a:pt x="2048" y="0"/>
                </a:lnTo>
                <a:lnTo>
                  <a:pt x="2032" y="0"/>
                </a:lnTo>
                <a:lnTo>
                  <a:pt x="2016" y="0"/>
                </a:lnTo>
                <a:lnTo>
                  <a:pt x="2000" y="0"/>
                </a:lnTo>
                <a:lnTo>
                  <a:pt x="1968" y="0"/>
                </a:lnTo>
                <a:lnTo>
                  <a:pt x="1952" y="0"/>
                </a:lnTo>
                <a:lnTo>
                  <a:pt x="1936" y="0"/>
                </a:lnTo>
                <a:lnTo>
                  <a:pt x="1920" y="0"/>
                </a:lnTo>
                <a:lnTo>
                  <a:pt x="1896" y="0"/>
                </a:lnTo>
                <a:lnTo>
                  <a:pt x="1880" y="0"/>
                </a:lnTo>
                <a:lnTo>
                  <a:pt x="1864" y="0"/>
                </a:lnTo>
                <a:lnTo>
                  <a:pt x="1832" y="0"/>
                </a:lnTo>
                <a:lnTo>
                  <a:pt x="1808" y="0"/>
                </a:lnTo>
                <a:lnTo>
                  <a:pt x="1792" y="0"/>
                </a:lnTo>
                <a:lnTo>
                  <a:pt x="1776" y="0"/>
                </a:lnTo>
                <a:lnTo>
                  <a:pt x="1752" y="0"/>
                </a:lnTo>
                <a:lnTo>
                  <a:pt x="1728" y="8"/>
                </a:lnTo>
                <a:lnTo>
                  <a:pt x="1704" y="16"/>
                </a:lnTo>
                <a:lnTo>
                  <a:pt x="1688" y="16"/>
                </a:lnTo>
                <a:lnTo>
                  <a:pt x="1664" y="16"/>
                </a:lnTo>
                <a:lnTo>
                  <a:pt x="1640" y="24"/>
                </a:lnTo>
                <a:lnTo>
                  <a:pt x="1624" y="24"/>
                </a:lnTo>
                <a:lnTo>
                  <a:pt x="1600" y="24"/>
                </a:lnTo>
                <a:lnTo>
                  <a:pt x="1584" y="32"/>
                </a:lnTo>
                <a:lnTo>
                  <a:pt x="1552" y="32"/>
                </a:lnTo>
                <a:lnTo>
                  <a:pt x="1536" y="40"/>
                </a:lnTo>
                <a:lnTo>
                  <a:pt x="1520" y="40"/>
                </a:lnTo>
                <a:lnTo>
                  <a:pt x="1504" y="40"/>
                </a:lnTo>
                <a:lnTo>
                  <a:pt x="1480" y="40"/>
                </a:lnTo>
                <a:lnTo>
                  <a:pt x="1456" y="40"/>
                </a:lnTo>
                <a:lnTo>
                  <a:pt x="1432" y="40"/>
                </a:lnTo>
                <a:lnTo>
                  <a:pt x="1408" y="40"/>
                </a:lnTo>
                <a:lnTo>
                  <a:pt x="1392" y="48"/>
                </a:lnTo>
                <a:lnTo>
                  <a:pt x="1376" y="48"/>
                </a:lnTo>
                <a:lnTo>
                  <a:pt x="1360" y="48"/>
                </a:lnTo>
                <a:lnTo>
                  <a:pt x="1344" y="56"/>
                </a:lnTo>
                <a:lnTo>
                  <a:pt x="1328" y="56"/>
                </a:lnTo>
                <a:lnTo>
                  <a:pt x="1312" y="56"/>
                </a:lnTo>
                <a:lnTo>
                  <a:pt x="1280" y="56"/>
                </a:lnTo>
                <a:lnTo>
                  <a:pt x="1256" y="64"/>
                </a:lnTo>
                <a:lnTo>
                  <a:pt x="1240" y="64"/>
                </a:lnTo>
                <a:lnTo>
                  <a:pt x="1216" y="72"/>
                </a:lnTo>
                <a:lnTo>
                  <a:pt x="1192" y="72"/>
                </a:lnTo>
                <a:lnTo>
                  <a:pt x="1176" y="80"/>
                </a:lnTo>
                <a:lnTo>
                  <a:pt x="1152" y="80"/>
                </a:lnTo>
                <a:lnTo>
                  <a:pt x="1120" y="88"/>
                </a:lnTo>
                <a:lnTo>
                  <a:pt x="1096" y="96"/>
                </a:lnTo>
                <a:lnTo>
                  <a:pt x="1072" y="104"/>
                </a:lnTo>
                <a:lnTo>
                  <a:pt x="1040" y="120"/>
                </a:lnTo>
                <a:lnTo>
                  <a:pt x="1024" y="120"/>
                </a:lnTo>
                <a:lnTo>
                  <a:pt x="1000" y="136"/>
                </a:lnTo>
                <a:lnTo>
                  <a:pt x="968" y="144"/>
                </a:lnTo>
                <a:lnTo>
                  <a:pt x="920" y="168"/>
                </a:lnTo>
                <a:lnTo>
                  <a:pt x="904" y="176"/>
                </a:lnTo>
                <a:lnTo>
                  <a:pt x="864" y="192"/>
                </a:lnTo>
                <a:lnTo>
                  <a:pt x="832" y="208"/>
                </a:lnTo>
                <a:lnTo>
                  <a:pt x="816" y="216"/>
                </a:lnTo>
                <a:lnTo>
                  <a:pt x="784" y="232"/>
                </a:lnTo>
                <a:lnTo>
                  <a:pt x="752" y="248"/>
                </a:lnTo>
                <a:lnTo>
                  <a:pt x="736" y="264"/>
                </a:lnTo>
                <a:lnTo>
                  <a:pt x="720" y="264"/>
                </a:lnTo>
                <a:lnTo>
                  <a:pt x="696" y="280"/>
                </a:lnTo>
                <a:lnTo>
                  <a:pt x="672" y="296"/>
                </a:lnTo>
                <a:lnTo>
                  <a:pt x="656" y="304"/>
                </a:lnTo>
                <a:lnTo>
                  <a:pt x="640" y="320"/>
                </a:lnTo>
                <a:lnTo>
                  <a:pt x="608" y="336"/>
                </a:lnTo>
                <a:lnTo>
                  <a:pt x="592" y="352"/>
                </a:lnTo>
                <a:lnTo>
                  <a:pt x="576" y="368"/>
                </a:lnTo>
                <a:lnTo>
                  <a:pt x="560" y="384"/>
                </a:lnTo>
                <a:lnTo>
                  <a:pt x="544" y="392"/>
                </a:lnTo>
                <a:lnTo>
                  <a:pt x="528" y="408"/>
                </a:lnTo>
                <a:lnTo>
                  <a:pt x="512" y="424"/>
                </a:lnTo>
                <a:lnTo>
                  <a:pt x="488" y="448"/>
                </a:lnTo>
                <a:lnTo>
                  <a:pt x="464" y="472"/>
                </a:lnTo>
                <a:lnTo>
                  <a:pt x="440" y="496"/>
                </a:lnTo>
                <a:lnTo>
                  <a:pt x="416" y="512"/>
                </a:lnTo>
                <a:lnTo>
                  <a:pt x="408" y="528"/>
                </a:lnTo>
                <a:lnTo>
                  <a:pt x="384" y="544"/>
                </a:lnTo>
                <a:lnTo>
                  <a:pt x="368" y="568"/>
                </a:lnTo>
                <a:lnTo>
                  <a:pt x="352" y="576"/>
                </a:lnTo>
                <a:lnTo>
                  <a:pt x="336" y="600"/>
                </a:lnTo>
                <a:lnTo>
                  <a:pt x="312" y="632"/>
                </a:lnTo>
                <a:lnTo>
                  <a:pt x="296" y="648"/>
                </a:lnTo>
                <a:lnTo>
                  <a:pt x="280" y="664"/>
                </a:lnTo>
                <a:lnTo>
                  <a:pt x="264" y="696"/>
                </a:lnTo>
                <a:lnTo>
                  <a:pt x="248" y="720"/>
                </a:lnTo>
                <a:lnTo>
                  <a:pt x="224" y="752"/>
                </a:lnTo>
                <a:lnTo>
                  <a:pt x="208" y="784"/>
                </a:lnTo>
                <a:lnTo>
                  <a:pt x="200" y="808"/>
                </a:lnTo>
                <a:lnTo>
                  <a:pt x="176" y="840"/>
                </a:lnTo>
                <a:lnTo>
                  <a:pt x="160" y="872"/>
                </a:lnTo>
                <a:lnTo>
                  <a:pt x="152" y="888"/>
                </a:lnTo>
                <a:lnTo>
                  <a:pt x="128" y="952"/>
                </a:lnTo>
                <a:lnTo>
                  <a:pt x="112" y="984"/>
                </a:lnTo>
                <a:lnTo>
                  <a:pt x="104" y="1016"/>
                </a:lnTo>
                <a:lnTo>
                  <a:pt x="96" y="1040"/>
                </a:lnTo>
                <a:lnTo>
                  <a:pt x="80" y="1080"/>
                </a:lnTo>
                <a:lnTo>
                  <a:pt x="64" y="1120"/>
                </a:lnTo>
                <a:lnTo>
                  <a:pt x="48" y="1160"/>
                </a:lnTo>
                <a:lnTo>
                  <a:pt x="40" y="1184"/>
                </a:lnTo>
                <a:lnTo>
                  <a:pt x="32" y="1224"/>
                </a:lnTo>
                <a:lnTo>
                  <a:pt x="32" y="1264"/>
                </a:lnTo>
                <a:lnTo>
                  <a:pt x="16" y="1320"/>
                </a:lnTo>
                <a:lnTo>
                  <a:pt x="16" y="1344"/>
                </a:lnTo>
                <a:lnTo>
                  <a:pt x="8" y="1392"/>
                </a:lnTo>
                <a:lnTo>
                  <a:pt x="0" y="1480"/>
                </a:lnTo>
                <a:lnTo>
                  <a:pt x="0" y="1504"/>
                </a:lnTo>
                <a:lnTo>
                  <a:pt x="0" y="1552"/>
                </a:lnTo>
                <a:lnTo>
                  <a:pt x="0" y="1600"/>
                </a:lnTo>
                <a:lnTo>
                  <a:pt x="0" y="1624"/>
                </a:lnTo>
                <a:lnTo>
                  <a:pt x="0" y="1680"/>
                </a:lnTo>
                <a:lnTo>
                  <a:pt x="0" y="1728"/>
                </a:lnTo>
                <a:lnTo>
                  <a:pt x="8" y="1776"/>
                </a:lnTo>
                <a:lnTo>
                  <a:pt x="8" y="1800"/>
                </a:lnTo>
                <a:lnTo>
                  <a:pt x="16" y="1856"/>
                </a:lnTo>
                <a:lnTo>
                  <a:pt x="24" y="1904"/>
                </a:lnTo>
                <a:lnTo>
                  <a:pt x="32" y="1944"/>
                </a:lnTo>
                <a:lnTo>
                  <a:pt x="32" y="1968"/>
                </a:lnTo>
                <a:lnTo>
                  <a:pt x="32" y="2008"/>
                </a:lnTo>
                <a:lnTo>
                  <a:pt x="48" y="2048"/>
                </a:lnTo>
                <a:lnTo>
                  <a:pt x="56" y="2096"/>
                </a:lnTo>
                <a:lnTo>
                  <a:pt x="64" y="2120"/>
                </a:lnTo>
                <a:lnTo>
                  <a:pt x="72" y="2152"/>
                </a:lnTo>
                <a:lnTo>
                  <a:pt x="96" y="2192"/>
                </a:lnTo>
                <a:lnTo>
                  <a:pt x="104" y="2224"/>
                </a:lnTo>
                <a:lnTo>
                  <a:pt x="112" y="2248"/>
                </a:lnTo>
                <a:lnTo>
                  <a:pt x="128" y="2280"/>
                </a:lnTo>
                <a:lnTo>
                  <a:pt x="128" y="2296"/>
                </a:lnTo>
                <a:lnTo>
                  <a:pt x="144" y="2320"/>
                </a:lnTo>
                <a:lnTo>
                  <a:pt x="160" y="2360"/>
                </a:lnTo>
                <a:lnTo>
                  <a:pt x="176" y="2384"/>
                </a:lnTo>
                <a:lnTo>
                  <a:pt x="184" y="2400"/>
                </a:lnTo>
                <a:lnTo>
                  <a:pt x="208" y="2440"/>
                </a:lnTo>
                <a:lnTo>
                  <a:pt x="216" y="2456"/>
                </a:lnTo>
                <a:lnTo>
                  <a:pt x="248" y="2480"/>
                </a:lnTo>
                <a:lnTo>
                  <a:pt x="288" y="2544"/>
                </a:lnTo>
                <a:lnTo>
                  <a:pt x="328" y="2584"/>
                </a:lnTo>
                <a:lnTo>
                  <a:pt x="360" y="2616"/>
                </a:lnTo>
                <a:lnTo>
                  <a:pt x="400" y="2664"/>
                </a:lnTo>
                <a:lnTo>
                  <a:pt x="424" y="2688"/>
                </a:lnTo>
                <a:lnTo>
                  <a:pt x="464" y="2720"/>
                </a:lnTo>
                <a:lnTo>
                  <a:pt x="496" y="2752"/>
                </a:lnTo>
                <a:lnTo>
                  <a:pt x="520" y="2768"/>
                </a:lnTo>
                <a:lnTo>
                  <a:pt x="536" y="2776"/>
                </a:lnTo>
                <a:lnTo>
                  <a:pt x="608" y="2816"/>
                </a:lnTo>
                <a:lnTo>
                  <a:pt x="632" y="2832"/>
                </a:lnTo>
                <a:lnTo>
                  <a:pt x="680" y="2864"/>
                </a:lnTo>
                <a:lnTo>
                  <a:pt x="752" y="2896"/>
                </a:lnTo>
                <a:lnTo>
                  <a:pt x="776" y="2896"/>
                </a:lnTo>
                <a:lnTo>
                  <a:pt x="816" y="2920"/>
                </a:lnTo>
                <a:lnTo>
                  <a:pt x="864" y="2928"/>
                </a:lnTo>
                <a:lnTo>
                  <a:pt x="920" y="2944"/>
                </a:lnTo>
                <a:lnTo>
                  <a:pt x="944" y="2952"/>
                </a:lnTo>
                <a:lnTo>
                  <a:pt x="992" y="2960"/>
                </a:lnTo>
                <a:lnTo>
                  <a:pt x="1040" y="2968"/>
                </a:lnTo>
                <a:lnTo>
                  <a:pt x="1056" y="2968"/>
                </a:lnTo>
                <a:lnTo>
                  <a:pt x="1104" y="2968"/>
                </a:lnTo>
                <a:lnTo>
                  <a:pt x="1152" y="2968"/>
                </a:lnTo>
                <a:lnTo>
                  <a:pt x="1200" y="2968"/>
                </a:lnTo>
                <a:lnTo>
                  <a:pt x="1224" y="2968"/>
                </a:lnTo>
                <a:lnTo>
                  <a:pt x="1288" y="2960"/>
                </a:lnTo>
                <a:lnTo>
                  <a:pt x="1544" y="2816"/>
                </a:lnTo>
                <a:lnTo>
                  <a:pt x="1568" y="2776"/>
                </a:lnTo>
                <a:lnTo>
                  <a:pt x="1592" y="2760"/>
                </a:lnTo>
                <a:lnTo>
                  <a:pt x="1616" y="2728"/>
                </a:lnTo>
                <a:lnTo>
                  <a:pt x="1632" y="2688"/>
                </a:lnTo>
                <a:lnTo>
                  <a:pt x="1656" y="2664"/>
                </a:lnTo>
                <a:lnTo>
                  <a:pt x="1664" y="2648"/>
                </a:lnTo>
                <a:lnTo>
                  <a:pt x="1680" y="2608"/>
                </a:lnTo>
                <a:lnTo>
                  <a:pt x="1696" y="2568"/>
                </a:lnTo>
                <a:lnTo>
                  <a:pt x="1704" y="2552"/>
                </a:lnTo>
                <a:lnTo>
                  <a:pt x="1720" y="2512"/>
                </a:lnTo>
                <a:lnTo>
                  <a:pt x="1728" y="2472"/>
                </a:lnTo>
                <a:lnTo>
                  <a:pt x="1736" y="2424"/>
                </a:lnTo>
                <a:lnTo>
                  <a:pt x="1736" y="2408"/>
                </a:lnTo>
                <a:lnTo>
                  <a:pt x="1736" y="2376"/>
                </a:lnTo>
                <a:lnTo>
                  <a:pt x="1736" y="2336"/>
                </a:lnTo>
                <a:lnTo>
                  <a:pt x="1736" y="2304"/>
                </a:lnTo>
                <a:lnTo>
                  <a:pt x="1736" y="2288"/>
                </a:lnTo>
                <a:lnTo>
                  <a:pt x="1736" y="2256"/>
                </a:lnTo>
                <a:lnTo>
                  <a:pt x="1736" y="2224"/>
                </a:lnTo>
                <a:lnTo>
                  <a:pt x="1736" y="2168"/>
                </a:lnTo>
                <a:lnTo>
                  <a:pt x="1736" y="2128"/>
                </a:lnTo>
                <a:lnTo>
                  <a:pt x="1736" y="2080"/>
                </a:lnTo>
                <a:lnTo>
                  <a:pt x="1736" y="2048"/>
                </a:lnTo>
                <a:lnTo>
                  <a:pt x="1736" y="2008"/>
                </a:lnTo>
                <a:lnTo>
                  <a:pt x="1736" y="1976"/>
                </a:lnTo>
                <a:lnTo>
                  <a:pt x="1736" y="1936"/>
                </a:lnTo>
                <a:lnTo>
                  <a:pt x="1736" y="1896"/>
                </a:lnTo>
                <a:lnTo>
                  <a:pt x="1736" y="1872"/>
                </a:lnTo>
                <a:lnTo>
                  <a:pt x="1736" y="1840"/>
                </a:lnTo>
                <a:lnTo>
                  <a:pt x="1744" y="1800"/>
                </a:lnTo>
                <a:lnTo>
                  <a:pt x="1744" y="1760"/>
                </a:lnTo>
                <a:lnTo>
                  <a:pt x="1752" y="1744"/>
                </a:lnTo>
                <a:lnTo>
                  <a:pt x="1760" y="1704"/>
                </a:lnTo>
                <a:lnTo>
                  <a:pt x="1776" y="1664"/>
                </a:lnTo>
                <a:lnTo>
                  <a:pt x="1784" y="1616"/>
                </a:lnTo>
                <a:lnTo>
                  <a:pt x="1808" y="1576"/>
                </a:lnTo>
                <a:lnTo>
                  <a:pt x="1808" y="1552"/>
                </a:lnTo>
                <a:lnTo>
                  <a:pt x="1832" y="1512"/>
                </a:lnTo>
                <a:lnTo>
                  <a:pt x="1848" y="1464"/>
                </a:lnTo>
                <a:lnTo>
                  <a:pt x="1864" y="1448"/>
                </a:lnTo>
                <a:lnTo>
                  <a:pt x="1888" y="1408"/>
                </a:lnTo>
                <a:lnTo>
                  <a:pt x="1912" y="1376"/>
                </a:lnTo>
                <a:lnTo>
                  <a:pt x="1936" y="1344"/>
                </a:lnTo>
                <a:lnTo>
                  <a:pt x="1952" y="1328"/>
                </a:lnTo>
                <a:lnTo>
                  <a:pt x="1968" y="1312"/>
                </a:lnTo>
                <a:lnTo>
                  <a:pt x="1992" y="1280"/>
                </a:lnTo>
                <a:lnTo>
                  <a:pt x="2008" y="1256"/>
                </a:lnTo>
                <a:lnTo>
                  <a:pt x="2032" y="1232"/>
                </a:lnTo>
                <a:lnTo>
                  <a:pt x="2072" y="1192"/>
                </a:lnTo>
                <a:lnTo>
                  <a:pt x="2088" y="1176"/>
                </a:lnTo>
                <a:lnTo>
                  <a:pt x="2112" y="1152"/>
                </a:lnTo>
                <a:lnTo>
                  <a:pt x="2136" y="1128"/>
                </a:lnTo>
                <a:lnTo>
                  <a:pt x="2168" y="1096"/>
                </a:lnTo>
                <a:lnTo>
                  <a:pt x="2200" y="1064"/>
                </a:lnTo>
                <a:lnTo>
                  <a:pt x="2232" y="1032"/>
                </a:lnTo>
                <a:lnTo>
                  <a:pt x="2248" y="1016"/>
                </a:lnTo>
                <a:lnTo>
                  <a:pt x="2280" y="984"/>
                </a:lnTo>
                <a:lnTo>
                  <a:pt x="2320" y="944"/>
                </a:lnTo>
                <a:lnTo>
                  <a:pt x="2352" y="904"/>
                </a:lnTo>
                <a:lnTo>
                  <a:pt x="2376" y="880"/>
                </a:lnTo>
                <a:lnTo>
                  <a:pt x="2400" y="832"/>
                </a:lnTo>
                <a:lnTo>
                  <a:pt x="2432" y="792"/>
                </a:lnTo>
                <a:lnTo>
                  <a:pt x="2464" y="744"/>
                </a:lnTo>
                <a:lnTo>
                  <a:pt x="2480" y="704"/>
                </a:lnTo>
                <a:lnTo>
                  <a:pt x="2504" y="664"/>
                </a:lnTo>
                <a:lnTo>
                  <a:pt x="2512" y="640"/>
                </a:lnTo>
                <a:lnTo>
                  <a:pt x="2528" y="600"/>
                </a:lnTo>
                <a:lnTo>
                  <a:pt x="2536" y="552"/>
                </a:lnTo>
                <a:lnTo>
                  <a:pt x="2544" y="536"/>
                </a:lnTo>
                <a:lnTo>
                  <a:pt x="2560" y="488"/>
                </a:lnTo>
                <a:lnTo>
                  <a:pt x="2568" y="440"/>
                </a:lnTo>
                <a:lnTo>
                  <a:pt x="2576" y="392"/>
                </a:lnTo>
                <a:lnTo>
                  <a:pt x="2576" y="376"/>
                </a:lnTo>
                <a:lnTo>
                  <a:pt x="2576" y="328"/>
                </a:lnTo>
                <a:lnTo>
                  <a:pt x="2568" y="288"/>
                </a:lnTo>
                <a:lnTo>
                  <a:pt x="2560" y="264"/>
                </a:lnTo>
                <a:lnTo>
                  <a:pt x="2552" y="232"/>
                </a:lnTo>
                <a:lnTo>
                  <a:pt x="2544" y="216"/>
                </a:lnTo>
                <a:lnTo>
                  <a:pt x="2536" y="200"/>
                </a:lnTo>
                <a:lnTo>
                  <a:pt x="2528" y="184"/>
                </a:lnTo>
                <a:lnTo>
                  <a:pt x="2520" y="168"/>
                </a:lnTo>
                <a:lnTo>
                  <a:pt x="2504" y="152"/>
                </a:lnTo>
                <a:lnTo>
                  <a:pt x="2488" y="144"/>
                </a:lnTo>
                <a:lnTo>
                  <a:pt x="2472" y="136"/>
                </a:lnTo>
                <a:lnTo>
                  <a:pt x="2456" y="128"/>
                </a:lnTo>
                <a:lnTo>
                  <a:pt x="2448" y="112"/>
                </a:lnTo>
                <a:lnTo>
                  <a:pt x="2432" y="104"/>
                </a:lnTo>
                <a:lnTo>
                  <a:pt x="2416" y="96"/>
                </a:lnTo>
                <a:lnTo>
                  <a:pt x="2416" y="80"/>
                </a:lnTo>
                <a:lnTo>
                  <a:pt x="2400" y="80"/>
                </a:lnTo>
                <a:lnTo>
                  <a:pt x="2416" y="72"/>
                </a:lnTo>
              </a:path>
            </a:pathLst>
          </a:custGeom>
          <a:noFill/>
          <a:ln cap="rnd" w="7632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353" name=""/>
          <p:cNvSpPr/>
          <p:nvPr/>
        </p:nvSpPr>
        <p:spPr>
          <a:xfrm>
            <a:off x="3154320" y="33307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790720" y="351324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112560" y="3390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356" name=""/>
          <p:cNvSpPr/>
          <p:nvPr/>
        </p:nvSpPr>
        <p:spPr>
          <a:xfrm>
            <a:off x="2443320" y="384984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04640" y="37274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358" name=""/>
          <p:cNvSpPr/>
          <p:nvPr/>
        </p:nvSpPr>
        <p:spPr>
          <a:xfrm>
            <a:off x="2790720" y="435276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113280" y="423216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360" name=""/>
          <p:cNvSpPr/>
          <p:nvPr/>
        </p:nvSpPr>
        <p:spPr>
          <a:xfrm flipV="1">
            <a:off x="2935440" y="468432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361" name=""/>
          <p:cNvSpPr/>
          <p:nvPr/>
        </p:nvSpPr>
        <p:spPr>
          <a:xfrm>
            <a:off x="3112560" y="461016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362" name=""/>
          <p:cNvSpPr/>
          <p:nvPr/>
        </p:nvSpPr>
        <p:spPr>
          <a:xfrm>
            <a:off x="3144600" y="397656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363" name=""/>
          <p:cNvSpPr/>
          <p:nvPr/>
        </p:nvSpPr>
        <p:spPr>
          <a:xfrm>
            <a:off x="3761640" y="33847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364" name=""/>
          <p:cNvSpPr/>
          <p:nvPr/>
        </p:nvSpPr>
        <p:spPr>
          <a:xfrm>
            <a:off x="3817440" y="42735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365" name=""/>
          <p:cNvSpPr/>
          <p:nvPr/>
        </p:nvSpPr>
        <p:spPr>
          <a:xfrm>
            <a:off x="4327560" y="352260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373720" y="444168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7" name=""/>
          <p:cNvGrpSpPr/>
          <p:nvPr/>
        </p:nvGrpSpPr>
        <p:grpSpPr>
          <a:xfrm>
            <a:off x="5576760" y="3365640"/>
            <a:ext cx="725760" cy="1175760"/>
            <a:chOff x="5576760" y="3365640"/>
            <a:chExt cx="725760" cy="1175760"/>
          </a:xfrm>
        </p:grpSpPr>
        <p:sp>
          <p:nvSpPr>
            <p:cNvPr id="1368" name=""/>
            <p:cNvSpPr/>
            <p:nvPr/>
          </p:nvSpPr>
          <p:spPr>
            <a:xfrm>
              <a:off x="5583240" y="336564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583240" y="408456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589720" y="382572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5576760" y="3954600"/>
              <a:ext cx="25416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589720" y="336564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5589720" y="426672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6302520" y="369396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5572800" y="35971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376" name=""/>
          <p:cNvSpPr/>
          <p:nvPr/>
        </p:nvSpPr>
        <p:spPr>
          <a:xfrm>
            <a:off x="5679720" y="400068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377" name=""/>
          <p:cNvSpPr/>
          <p:nvPr/>
        </p:nvSpPr>
        <p:spPr>
          <a:xfrm>
            <a:off x="5905800" y="372276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378" name=""/>
          <p:cNvSpPr/>
          <p:nvPr/>
        </p:nvSpPr>
        <p:spPr>
          <a:xfrm>
            <a:off x="6313320" y="4140360"/>
            <a:ext cx="25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2930400" y="6216480"/>
            <a:ext cx="603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V="1">
            <a:off x="2928960" y="4698720"/>
            <a:ext cx="0" cy="151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2786040" y="3506760"/>
            <a:ext cx="0" cy="210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774880" y="383220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3" name=""/>
          <p:cNvSpPr/>
          <p:nvPr/>
        </p:nvSpPr>
        <p:spPr>
          <a:xfrm>
            <a:off x="6961320" y="35323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595920" y="371304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86560" y="46162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926760" y="450684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387" name=""/>
          <p:cNvSpPr/>
          <p:nvPr/>
        </p:nvSpPr>
        <p:spPr>
          <a:xfrm>
            <a:off x="4457880" y="492912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917760" y="480996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389" name=""/>
          <p:cNvSpPr/>
          <p:nvPr/>
        </p:nvSpPr>
        <p:spPr>
          <a:xfrm>
            <a:off x="6980760" y="398448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390" name=""/>
          <p:cNvSpPr/>
          <p:nvPr/>
        </p:nvSpPr>
        <p:spPr>
          <a:xfrm>
            <a:off x="7566840" y="35863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391" name=""/>
          <p:cNvSpPr/>
          <p:nvPr/>
        </p:nvSpPr>
        <p:spPr>
          <a:xfrm>
            <a:off x="6917400" y="359244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392" name=""/>
          <p:cNvSpPr/>
          <p:nvPr/>
        </p:nvSpPr>
        <p:spPr>
          <a:xfrm flipV="1">
            <a:off x="6581880" y="370692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570720" y="412128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94" name=""/>
          <p:cNvSpPr/>
          <p:nvPr/>
        </p:nvSpPr>
        <p:spPr>
          <a:xfrm flipV="1">
            <a:off x="8969400" y="393372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8811720" y="394020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681440" y="2565360"/>
            <a:ext cx="0" cy="29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635280" y="5100480"/>
            <a:ext cx="461880" cy="102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805120" y="560556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255840" y="5489640"/>
            <a:ext cx="921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176720" y="5502240"/>
            <a:ext cx="903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11256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402" name=""/>
          <p:cNvSpPr/>
          <p:nvPr/>
        </p:nvSpPr>
        <p:spPr>
          <a:xfrm>
            <a:off x="411588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403" name=""/>
          <p:cNvSpPr/>
          <p:nvPr/>
        </p:nvSpPr>
        <p:spPr>
          <a:xfrm>
            <a:off x="3574800" y="545472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404" name=""/>
          <p:cNvSpPr/>
          <p:nvPr/>
        </p:nvSpPr>
        <p:spPr>
          <a:xfrm>
            <a:off x="4110120" y="555768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336920" y="4452840"/>
            <a:ext cx="1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52840" y="44593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5680" y="424656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4687920" y="4606560"/>
            <a:ext cx="28872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09" name=""/>
          <p:cNvSpPr/>
          <p:nvPr/>
        </p:nvSpPr>
        <p:spPr>
          <a:xfrm>
            <a:off x="4460760" y="444960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421320" y="4157640"/>
            <a:ext cx="0" cy="14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27800" y="558324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8278920" y="407052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493120" y="364500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8278920" y="4030560"/>
            <a:ext cx="201600" cy="36720"/>
          </a:xfrm>
          <a:prstGeom prst="line">
            <a:avLst/>
          </a:prstGeom>
          <a:ln w="12600">
            <a:solidFill>
              <a:srgbClr val="ffff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15" name=""/>
          <p:cNvSpPr/>
          <p:nvPr/>
        </p:nvSpPr>
        <p:spPr>
          <a:xfrm>
            <a:off x="8147160" y="379728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408720" y="412128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417" name=""/>
          <p:cNvGrpSpPr/>
          <p:nvPr/>
        </p:nvGrpSpPr>
        <p:grpSpPr>
          <a:xfrm>
            <a:off x="3018960" y="1160640"/>
            <a:ext cx="505440" cy="1174320"/>
            <a:chOff x="3018960" y="1160640"/>
            <a:chExt cx="505440" cy="1174320"/>
          </a:xfrm>
        </p:grpSpPr>
        <p:sp>
          <p:nvSpPr>
            <p:cNvPr id="1418" name=""/>
            <p:cNvSpPr/>
            <p:nvPr/>
          </p:nvSpPr>
          <p:spPr>
            <a:xfrm>
              <a:off x="3025800" y="1160640"/>
              <a:ext cx="0" cy="4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025800" y="187812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032280" y="1622520"/>
              <a:ext cx="1537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H="1">
              <a:off x="3018960" y="1747800"/>
              <a:ext cx="17964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032280" y="1160640"/>
              <a:ext cx="485640" cy="31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3032280" y="206028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524400" y="149076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5" name=""/>
          <p:cNvSpPr/>
          <p:nvPr/>
        </p:nvSpPr>
        <p:spPr>
          <a:xfrm>
            <a:off x="1473120" y="2706840"/>
            <a:ext cx="938160" cy="185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39640" y="268128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969480" y="1468440"/>
            <a:ext cx="2062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2498400" y="200988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08000" y="293832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404720" y="384804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431" name=""/>
          <p:cNvSpPr/>
          <p:nvPr/>
        </p:nvSpPr>
        <p:spPr>
          <a:xfrm>
            <a:off x="3007080" y="141912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432" name=""/>
          <p:cNvSpPr/>
          <p:nvPr/>
        </p:nvSpPr>
        <p:spPr>
          <a:xfrm>
            <a:off x="473040" y="274644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433" name=""/>
          <p:cNvSpPr/>
          <p:nvPr/>
        </p:nvSpPr>
        <p:spPr>
          <a:xfrm>
            <a:off x="803160" y="2938320"/>
            <a:ext cx="62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425600" y="283680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435" name=""/>
          <p:cNvSpPr/>
          <p:nvPr/>
        </p:nvSpPr>
        <p:spPr>
          <a:xfrm>
            <a:off x="2998080" y="187308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436" name=""/>
          <p:cNvSpPr/>
          <p:nvPr/>
        </p:nvSpPr>
        <p:spPr>
          <a:xfrm>
            <a:off x="2302560" y="1941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437" name=""/>
          <p:cNvSpPr/>
          <p:nvPr/>
        </p:nvSpPr>
        <p:spPr>
          <a:xfrm>
            <a:off x="3527280" y="1771560"/>
            <a:ext cx="204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95400" y="787320"/>
            <a:ext cx="748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101520" y="79380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976320" y="147168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4680000" y="2541600"/>
            <a:ext cx="393480" cy="23760"/>
          </a:xfrm>
          <a:prstGeom prst="line">
            <a:avLst/>
          </a:prstGeom>
          <a:ln w="12600">
            <a:solidFill>
              <a:srgbClr val="ffff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442" name=""/>
          <p:cNvSpPr/>
          <p:nvPr/>
        </p:nvSpPr>
        <p:spPr>
          <a:xfrm>
            <a:off x="5108400" y="2039760"/>
            <a:ext cx="463680" cy="938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5060520" y="2360520"/>
            <a:ext cx="59148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Décaler</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gauche </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2</a:t>
            </a:r>
            <a:endParaRPr b="0" lang="en-US" sz="900" spc="-1" strike="noStrike">
              <a:solidFill>
                <a:srgbClr val="000000"/>
              </a:solidFill>
              <a:latin typeface="Times New Roman"/>
            </a:endParaRPr>
          </a:p>
        </p:txBody>
      </p:sp>
      <p:sp>
        <p:nvSpPr>
          <p:cNvPr id="1444" name=""/>
          <p:cNvSpPr/>
          <p:nvPr/>
        </p:nvSpPr>
        <p:spPr>
          <a:xfrm>
            <a:off x="5584680" y="250200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975280" y="1577880"/>
            <a:ext cx="0" cy="4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975280" y="2235240"/>
            <a:ext cx="0" cy="4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981760" y="1998720"/>
            <a:ext cx="228600" cy="10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5968800" y="2114640"/>
            <a:ext cx="25380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981760" y="1577880"/>
            <a:ext cx="709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5981760" y="2400120"/>
            <a:ext cx="70956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697800" y="18795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65200" y="18273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DD</a:t>
            </a:r>
            <a:endParaRPr b="0" lang="en-US" sz="1200" spc="-1" strike="noStrike">
              <a:solidFill>
                <a:srgbClr val="000000"/>
              </a:solidFill>
              <a:latin typeface="Times New Roman"/>
            </a:endParaRPr>
          </a:p>
        </p:txBody>
      </p:sp>
      <p:sp>
        <p:nvSpPr>
          <p:cNvPr id="1453" name=""/>
          <p:cNvSpPr/>
          <p:nvPr/>
        </p:nvSpPr>
        <p:spPr>
          <a:xfrm>
            <a:off x="6009120" y="217656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454" name=""/>
          <p:cNvSpPr/>
          <p:nvPr/>
        </p:nvSpPr>
        <p:spPr>
          <a:xfrm>
            <a:off x="6710400" y="2146320"/>
            <a:ext cx="32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565600" y="176832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7402680" y="202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7083360" y="172728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4699080" y="125100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692600" y="1257480"/>
            <a:ext cx="20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769080" y="126360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783480" y="1914480"/>
            <a:ext cx="26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flipV="1">
            <a:off x="7569360" y="780840"/>
            <a:ext cx="0" cy="124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127400" y="914400"/>
            <a:ext cx="4178520" cy="2921040"/>
          </a:xfrm>
          <a:prstGeom prst="ellipse">
            <a:avLst/>
          </a:prstGeom>
          <a:noFill/>
          <a:ln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977160" y="2778120"/>
            <a:ext cx="2085840" cy="41796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Branchement</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466" name=""/>
          <p:cNvSpPr/>
          <p:nvPr/>
        </p:nvSpPr>
        <p:spPr>
          <a:xfrm>
            <a:off x="3154320" y="33307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790720" y="351324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3112560" y="3390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469" name=""/>
          <p:cNvSpPr/>
          <p:nvPr/>
        </p:nvSpPr>
        <p:spPr>
          <a:xfrm>
            <a:off x="2443320" y="384984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04640" y="37274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471" name=""/>
          <p:cNvSpPr/>
          <p:nvPr/>
        </p:nvSpPr>
        <p:spPr>
          <a:xfrm>
            <a:off x="2790720" y="435276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113280" y="423216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473" name=""/>
          <p:cNvSpPr/>
          <p:nvPr/>
        </p:nvSpPr>
        <p:spPr>
          <a:xfrm flipV="1">
            <a:off x="2935440" y="468432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74" name=""/>
          <p:cNvSpPr/>
          <p:nvPr/>
        </p:nvSpPr>
        <p:spPr>
          <a:xfrm>
            <a:off x="3112560" y="461016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475" name=""/>
          <p:cNvSpPr/>
          <p:nvPr/>
        </p:nvSpPr>
        <p:spPr>
          <a:xfrm>
            <a:off x="3144600" y="397656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476" name=""/>
          <p:cNvSpPr/>
          <p:nvPr/>
        </p:nvSpPr>
        <p:spPr>
          <a:xfrm>
            <a:off x="3761640" y="33847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477" name=""/>
          <p:cNvSpPr/>
          <p:nvPr/>
        </p:nvSpPr>
        <p:spPr>
          <a:xfrm>
            <a:off x="3817440" y="42735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478" name=""/>
          <p:cNvSpPr/>
          <p:nvPr/>
        </p:nvSpPr>
        <p:spPr>
          <a:xfrm>
            <a:off x="4327560" y="352260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373720" y="444168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0" name=""/>
          <p:cNvGrpSpPr/>
          <p:nvPr/>
        </p:nvGrpSpPr>
        <p:grpSpPr>
          <a:xfrm>
            <a:off x="5576760" y="3365640"/>
            <a:ext cx="725760" cy="1175760"/>
            <a:chOff x="5576760" y="3365640"/>
            <a:chExt cx="725760" cy="1175760"/>
          </a:xfrm>
        </p:grpSpPr>
        <p:sp>
          <p:nvSpPr>
            <p:cNvPr id="1481" name=""/>
            <p:cNvSpPr/>
            <p:nvPr/>
          </p:nvSpPr>
          <p:spPr>
            <a:xfrm>
              <a:off x="5583240" y="336564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583240" y="408456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589720" y="382572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a:off x="5576760" y="3954600"/>
              <a:ext cx="25416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589720" y="336564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5589720" y="426672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302520" y="369396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5572800" y="35971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489" name=""/>
          <p:cNvSpPr/>
          <p:nvPr/>
        </p:nvSpPr>
        <p:spPr>
          <a:xfrm>
            <a:off x="5679720" y="400068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490" name=""/>
          <p:cNvSpPr/>
          <p:nvPr/>
        </p:nvSpPr>
        <p:spPr>
          <a:xfrm>
            <a:off x="5905800" y="372276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491" name=""/>
          <p:cNvSpPr/>
          <p:nvPr/>
        </p:nvSpPr>
        <p:spPr>
          <a:xfrm>
            <a:off x="6313320" y="4140360"/>
            <a:ext cx="25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2930400" y="6216480"/>
            <a:ext cx="603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V="1">
            <a:off x="2928960" y="4698720"/>
            <a:ext cx="0" cy="151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2786040" y="3506760"/>
            <a:ext cx="0" cy="210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774880" y="383220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6" name=""/>
          <p:cNvSpPr/>
          <p:nvPr/>
        </p:nvSpPr>
        <p:spPr>
          <a:xfrm>
            <a:off x="6961320" y="35323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595920" y="371304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86560" y="46162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926760" y="450684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500" name=""/>
          <p:cNvSpPr/>
          <p:nvPr/>
        </p:nvSpPr>
        <p:spPr>
          <a:xfrm>
            <a:off x="4457880" y="492912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917760" y="480996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502" name=""/>
          <p:cNvSpPr/>
          <p:nvPr/>
        </p:nvSpPr>
        <p:spPr>
          <a:xfrm>
            <a:off x="6980760" y="398448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503" name=""/>
          <p:cNvSpPr/>
          <p:nvPr/>
        </p:nvSpPr>
        <p:spPr>
          <a:xfrm>
            <a:off x="7566840" y="35863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504" name=""/>
          <p:cNvSpPr/>
          <p:nvPr/>
        </p:nvSpPr>
        <p:spPr>
          <a:xfrm>
            <a:off x="6917400" y="359244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505" name=""/>
          <p:cNvSpPr/>
          <p:nvPr/>
        </p:nvSpPr>
        <p:spPr>
          <a:xfrm flipV="1">
            <a:off x="6581880" y="370692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570720" y="412128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07" name=""/>
          <p:cNvSpPr/>
          <p:nvPr/>
        </p:nvSpPr>
        <p:spPr>
          <a:xfrm flipV="1">
            <a:off x="8969400" y="393372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8811720" y="394020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681440" y="2565360"/>
            <a:ext cx="0" cy="29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635280" y="5100480"/>
            <a:ext cx="461880" cy="102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2805120" y="560556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255840" y="5489640"/>
            <a:ext cx="921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176720" y="5502240"/>
            <a:ext cx="903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11256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515" name=""/>
          <p:cNvSpPr/>
          <p:nvPr/>
        </p:nvSpPr>
        <p:spPr>
          <a:xfrm>
            <a:off x="411588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516" name=""/>
          <p:cNvSpPr/>
          <p:nvPr/>
        </p:nvSpPr>
        <p:spPr>
          <a:xfrm>
            <a:off x="3574800" y="545472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517" name=""/>
          <p:cNvSpPr/>
          <p:nvPr/>
        </p:nvSpPr>
        <p:spPr>
          <a:xfrm>
            <a:off x="4110120" y="555768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336920" y="4452840"/>
            <a:ext cx="1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452840" y="44593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035680" y="424656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4687920" y="4606560"/>
            <a:ext cx="28872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22" name=""/>
          <p:cNvSpPr/>
          <p:nvPr/>
        </p:nvSpPr>
        <p:spPr>
          <a:xfrm>
            <a:off x="4460760" y="444960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421320" y="4157640"/>
            <a:ext cx="0" cy="14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427800" y="558324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V="1">
            <a:off x="8278920" y="407052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8493120" y="364500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8278920" y="4030560"/>
            <a:ext cx="201600" cy="36720"/>
          </a:xfrm>
          <a:prstGeom prst="line">
            <a:avLst/>
          </a:prstGeom>
          <a:ln w="12600">
            <a:solidFill>
              <a:srgbClr val="ffff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28" name=""/>
          <p:cNvSpPr/>
          <p:nvPr/>
        </p:nvSpPr>
        <p:spPr>
          <a:xfrm>
            <a:off x="8147160" y="379728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408720" y="412128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530" name=""/>
          <p:cNvGrpSpPr/>
          <p:nvPr/>
        </p:nvGrpSpPr>
        <p:grpSpPr>
          <a:xfrm>
            <a:off x="3018960" y="1160640"/>
            <a:ext cx="505440" cy="1174320"/>
            <a:chOff x="3018960" y="1160640"/>
            <a:chExt cx="505440" cy="1174320"/>
          </a:xfrm>
        </p:grpSpPr>
        <p:sp>
          <p:nvSpPr>
            <p:cNvPr id="1531" name=""/>
            <p:cNvSpPr/>
            <p:nvPr/>
          </p:nvSpPr>
          <p:spPr>
            <a:xfrm>
              <a:off x="3025800" y="1160640"/>
              <a:ext cx="0" cy="4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025800" y="187812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032280" y="1622520"/>
              <a:ext cx="1537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3018960" y="1747800"/>
              <a:ext cx="17964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032280" y="1160640"/>
              <a:ext cx="485640" cy="31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3032280" y="206028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524400" y="149076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1473120" y="2706840"/>
            <a:ext cx="938160" cy="185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39640" y="268128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a:off x="969480" y="1468440"/>
            <a:ext cx="2062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2498400" y="200988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08000" y="293832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404720" y="384804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544" name=""/>
          <p:cNvSpPr/>
          <p:nvPr/>
        </p:nvSpPr>
        <p:spPr>
          <a:xfrm>
            <a:off x="3007080" y="141912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545" name=""/>
          <p:cNvSpPr/>
          <p:nvPr/>
        </p:nvSpPr>
        <p:spPr>
          <a:xfrm>
            <a:off x="473040" y="274644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546" name=""/>
          <p:cNvSpPr/>
          <p:nvPr/>
        </p:nvSpPr>
        <p:spPr>
          <a:xfrm>
            <a:off x="803160" y="2938320"/>
            <a:ext cx="62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425600" y="283680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548" name=""/>
          <p:cNvSpPr/>
          <p:nvPr/>
        </p:nvSpPr>
        <p:spPr>
          <a:xfrm>
            <a:off x="2998080" y="187308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549" name=""/>
          <p:cNvSpPr/>
          <p:nvPr/>
        </p:nvSpPr>
        <p:spPr>
          <a:xfrm>
            <a:off x="2302560" y="1941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550" name=""/>
          <p:cNvSpPr/>
          <p:nvPr/>
        </p:nvSpPr>
        <p:spPr>
          <a:xfrm>
            <a:off x="3527280" y="1771560"/>
            <a:ext cx="204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95400" y="787320"/>
            <a:ext cx="748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01520" y="79380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76320" y="147168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4680000" y="2541600"/>
            <a:ext cx="393480" cy="23760"/>
          </a:xfrm>
          <a:prstGeom prst="line">
            <a:avLst/>
          </a:prstGeom>
          <a:ln w="12600">
            <a:solidFill>
              <a:srgbClr val="ffff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55" name=""/>
          <p:cNvSpPr/>
          <p:nvPr/>
        </p:nvSpPr>
        <p:spPr>
          <a:xfrm>
            <a:off x="5108400" y="2039760"/>
            <a:ext cx="463680" cy="938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060520" y="2360520"/>
            <a:ext cx="59148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Décaler</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gauche </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2</a:t>
            </a:r>
            <a:endParaRPr b="0" lang="en-US" sz="900" spc="-1" strike="noStrike">
              <a:solidFill>
                <a:srgbClr val="000000"/>
              </a:solidFill>
              <a:latin typeface="Times New Roman"/>
            </a:endParaRPr>
          </a:p>
        </p:txBody>
      </p:sp>
      <p:sp>
        <p:nvSpPr>
          <p:cNvPr id="1557" name=""/>
          <p:cNvSpPr/>
          <p:nvPr/>
        </p:nvSpPr>
        <p:spPr>
          <a:xfrm>
            <a:off x="5584680" y="250200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975280" y="1577880"/>
            <a:ext cx="0" cy="4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975280" y="2235240"/>
            <a:ext cx="0" cy="4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981760" y="1998720"/>
            <a:ext cx="228600" cy="10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5968800" y="2114640"/>
            <a:ext cx="25380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981760" y="1577880"/>
            <a:ext cx="709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5981760" y="2400120"/>
            <a:ext cx="70956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697800" y="18795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5965200" y="18273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DD</a:t>
            </a:r>
            <a:endParaRPr b="0" lang="en-US" sz="1200" spc="-1" strike="noStrike">
              <a:solidFill>
                <a:srgbClr val="000000"/>
              </a:solidFill>
              <a:latin typeface="Times New Roman"/>
            </a:endParaRPr>
          </a:p>
        </p:txBody>
      </p:sp>
      <p:sp>
        <p:nvSpPr>
          <p:cNvPr id="1566" name=""/>
          <p:cNvSpPr/>
          <p:nvPr/>
        </p:nvSpPr>
        <p:spPr>
          <a:xfrm>
            <a:off x="6009120" y="217656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567" name=""/>
          <p:cNvSpPr/>
          <p:nvPr/>
        </p:nvSpPr>
        <p:spPr>
          <a:xfrm>
            <a:off x="6710400" y="2146320"/>
            <a:ext cx="32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565600" y="176832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7402680" y="202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083360" y="172728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4699080" y="125100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692600" y="1257480"/>
            <a:ext cx="20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769080" y="126360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783480" y="1914480"/>
            <a:ext cx="26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V="1">
            <a:off x="7569360" y="780840"/>
            <a:ext cx="0" cy="124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Introduction</a:t>
            </a:r>
            <a:endParaRPr b="1" lang="en-US" sz="3200" spc="-1" strike="noStrike">
              <a:solidFill>
                <a:srgbClr val="fafd00"/>
              </a:solidFill>
              <a:latin typeface="Arial"/>
            </a:endParaRPr>
          </a:p>
        </p:txBody>
      </p:sp>
      <p:sp>
        <p:nvSpPr>
          <p:cNvPr id="68" name="PlaceHolder 2"/>
          <p:cNvSpPr>
            <a:spLocks noGrp="1"/>
          </p:cNvSpPr>
          <p:nvPr>
            <p:ph/>
          </p:nvPr>
        </p:nvSpPr>
        <p:spPr>
          <a:xfrm>
            <a:off x="87480" y="745920"/>
            <a:ext cx="9020160" cy="578484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erformances des machines sont définies par trois facteurs clés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nombre d’instruction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temps de cycles d’horloge</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nombre de cycles d’horloge par instruction.</a:t>
            </a:r>
            <a:endParaRPr b="0"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ompilateur et l’architecture de jeu d’instructions déterminent le nombre d’instructions requises pour un programme donné</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 mise en oeuvre définis le temps de cycle d’horloge, ainsi que le nombre de cycles d’horloge par instructio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70"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467080" y="1187280"/>
            <a:ext cx="957240" cy="111240"/>
            <a:chOff x="2467080" y="1187280"/>
            <a:chExt cx="957240" cy="111240"/>
          </a:xfrm>
        </p:grpSpPr>
        <p:sp>
          <p:nvSpPr>
            <p:cNvPr id="85"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2878200" y="2637000"/>
            <a:ext cx="552240" cy="110880"/>
            <a:chOff x="2878200" y="2637000"/>
            <a:chExt cx="552240" cy="110880"/>
          </a:xfrm>
        </p:grpSpPr>
        <p:sp>
          <p:nvSpPr>
            <p:cNvPr id="90"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482920" y="1558800"/>
            <a:ext cx="954000" cy="111240"/>
            <a:chOff x="2482920" y="1558800"/>
            <a:chExt cx="954000" cy="111240"/>
          </a:xfrm>
        </p:grpSpPr>
        <p:sp>
          <p:nvSpPr>
            <p:cNvPr id="98"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4737240" y="1662120"/>
            <a:ext cx="1047600" cy="111240"/>
            <a:chOff x="4737240" y="1662120"/>
            <a:chExt cx="1047600" cy="111240"/>
          </a:xfrm>
        </p:grpSpPr>
        <p:sp>
          <p:nvSpPr>
            <p:cNvPr id="102"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4736880" y="2200320"/>
            <a:ext cx="996840" cy="111240"/>
            <a:chOff x="4736880" y="2200320"/>
            <a:chExt cx="996840" cy="111240"/>
          </a:xfrm>
        </p:grpSpPr>
        <p:sp>
          <p:nvSpPr>
            <p:cNvPr id="106"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4979880" y="3503520"/>
            <a:ext cx="1698840" cy="133560"/>
            <a:chOff x="4979880" y="3503520"/>
            <a:chExt cx="1698840" cy="133560"/>
          </a:xfrm>
        </p:grpSpPr>
        <p:sp>
          <p:nvSpPr>
            <p:cNvPr id="111"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289560" y="2009880"/>
            <a:ext cx="363600" cy="110880"/>
            <a:chOff x="6289560" y="2009880"/>
            <a:chExt cx="363600" cy="110880"/>
          </a:xfrm>
        </p:grpSpPr>
        <p:sp>
          <p:nvSpPr>
            <p:cNvPr id="115"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837000" y="2198520"/>
            <a:ext cx="1361160" cy="528480"/>
            <a:chOff x="837000" y="2198520"/>
            <a:chExt cx="1361160" cy="528480"/>
          </a:xfrm>
        </p:grpSpPr>
        <p:sp>
          <p:nvSpPr>
            <p:cNvPr id="119"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20"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121"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122"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123" name=""/>
          <p:cNvGrpSpPr/>
          <p:nvPr/>
        </p:nvGrpSpPr>
        <p:grpSpPr>
          <a:xfrm>
            <a:off x="5321160" y="2274840"/>
            <a:ext cx="111240" cy="1744560"/>
            <a:chOff x="5321160" y="2274840"/>
            <a:chExt cx="111240" cy="1744560"/>
          </a:xfrm>
        </p:grpSpPr>
        <p:sp>
          <p:nvSpPr>
            <p:cNvPr id="124"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444760" y="2282760"/>
            <a:ext cx="954000" cy="111240"/>
            <a:chOff x="2444760" y="2282760"/>
            <a:chExt cx="954000" cy="111240"/>
          </a:xfrm>
        </p:grpSpPr>
        <p:sp>
          <p:nvSpPr>
            <p:cNvPr id="128"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756120" y="2655720"/>
            <a:ext cx="1242000" cy="528480"/>
            <a:chOff x="6756120" y="2655720"/>
            <a:chExt cx="1242000" cy="528480"/>
          </a:xfrm>
        </p:grpSpPr>
        <p:sp>
          <p:nvSpPr>
            <p:cNvPr id="132"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33"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134"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135"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136"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137"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 name=""/>
          <p:cNvSpPr/>
          <p:nvPr/>
        </p:nvSpPr>
        <p:spPr>
          <a:xfrm>
            <a:off x="5353200" y="2254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47"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48"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49"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50"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151"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2"/>
          <p:cNvSpPr>
            <a:spLocks noGrp="1"/>
          </p:cNvSpPr>
          <p:nvPr>
            <p:ph/>
          </p:nvPr>
        </p:nvSpPr>
        <p:spPr>
          <a:xfrm>
            <a:off x="396720" y="4635360"/>
            <a:ext cx="8420400" cy="15703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ue abstraite du sous ensemble MIPS montrant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unités fonctionnelle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principales interconnections entre ell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154"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43120" y="1106640"/>
            <a:ext cx="1319040" cy="182556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0920" y="1106640"/>
            <a:ext cx="374400" cy="75852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2467080" y="1187280"/>
            <a:ext cx="957240" cy="111240"/>
            <a:chOff x="2467080" y="1187280"/>
            <a:chExt cx="957240" cy="111240"/>
          </a:xfrm>
        </p:grpSpPr>
        <p:sp>
          <p:nvSpPr>
            <p:cNvPr id="169"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878200" y="2637000"/>
            <a:ext cx="552240" cy="110880"/>
            <a:chOff x="2878200" y="2637000"/>
            <a:chExt cx="552240" cy="110880"/>
          </a:xfrm>
        </p:grpSpPr>
        <p:sp>
          <p:nvSpPr>
            <p:cNvPr id="173"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482920" y="1558800"/>
            <a:ext cx="954000" cy="111240"/>
            <a:chOff x="2482920" y="1558800"/>
            <a:chExt cx="954000" cy="111240"/>
          </a:xfrm>
        </p:grpSpPr>
        <p:sp>
          <p:nvSpPr>
            <p:cNvPr id="181"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737240" y="1662120"/>
            <a:ext cx="1047600" cy="111240"/>
            <a:chOff x="4737240" y="1662120"/>
            <a:chExt cx="1047600" cy="111240"/>
          </a:xfrm>
        </p:grpSpPr>
        <p:sp>
          <p:nvSpPr>
            <p:cNvPr id="185"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736880" y="2200320"/>
            <a:ext cx="996840" cy="111240"/>
            <a:chOff x="4736880" y="2200320"/>
            <a:chExt cx="996840" cy="111240"/>
          </a:xfrm>
        </p:grpSpPr>
        <p:sp>
          <p:nvSpPr>
            <p:cNvPr id="189"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289560" y="2009880"/>
            <a:ext cx="363600" cy="110880"/>
            <a:chOff x="6289560" y="2009880"/>
            <a:chExt cx="363600" cy="110880"/>
          </a:xfrm>
        </p:grpSpPr>
        <p:sp>
          <p:nvSpPr>
            <p:cNvPr id="193"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837000" y="2198520"/>
            <a:ext cx="1361160" cy="528480"/>
            <a:chOff x="837000" y="2198520"/>
            <a:chExt cx="1361160" cy="528480"/>
          </a:xfrm>
        </p:grpSpPr>
        <p:sp>
          <p:nvSpPr>
            <p:cNvPr id="197"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98"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199"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200"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201" name=""/>
          <p:cNvGrpSpPr/>
          <p:nvPr/>
        </p:nvGrpSpPr>
        <p:grpSpPr>
          <a:xfrm>
            <a:off x="2444760" y="2282760"/>
            <a:ext cx="954000" cy="111240"/>
            <a:chOff x="2444760" y="2282760"/>
            <a:chExt cx="954000" cy="111240"/>
          </a:xfrm>
        </p:grpSpPr>
        <p:sp>
          <p:nvSpPr>
            <p:cNvPr id="202"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56120" y="2655720"/>
            <a:ext cx="1242000" cy="528480"/>
            <a:chOff x="6756120" y="2655720"/>
            <a:chExt cx="1242000" cy="528480"/>
          </a:xfrm>
        </p:grpSpPr>
        <p:sp>
          <p:nvSpPr>
            <p:cNvPr id="206"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07"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208"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209"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210"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11"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2"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3"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4" name=""/>
          <p:cNvSpPr/>
          <p:nvPr/>
        </p:nvSpPr>
        <p:spPr>
          <a:xfrm>
            <a:off x="5268960" y="2254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5"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6"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221"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2"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3"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4"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25"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3400" y="3792600"/>
            <a:ext cx="675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2"/>
          <p:cNvSpPr>
            <a:spLocks noGrp="1"/>
          </p:cNvSpPr>
          <p:nvPr>
            <p:ph/>
          </p:nvPr>
        </p:nvSpPr>
        <p:spPr>
          <a:xfrm>
            <a:off x="396720" y="4465440"/>
            <a:ext cx="8420400" cy="173988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ompteur de programme fournit l’adresse de l’instruction à la mémoire d’instructions</a:t>
            </a:r>
            <a:endParaRPr b="0" lang="en-US" sz="2400" spc="-1" strike="noStrike">
              <a:solidFill>
                <a:srgbClr val="ffffff"/>
              </a:solidFill>
              <a:latin typeface="Arial"/>
            </a:endParaRPr>
          </a:p>
        </p:txBody>
      </p:sp>
      <p:sp>
        <p:nvSpPr>
          <p:cNvPr id="228"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4979880" y="3503520"/>
            <a:ext cx="1698840" cy="133560"/>
            <a:chOff x="4979880" y="3503520"/>
            <a:chExt cx="1698840" cy="133560"/>
          </a:xfrm>
        </p:grpSpPr>
        <p:sp>
          <p:nvSpPr>
            <p:cNvPr id="231"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321160" y="2274840"/>
            <a:ext cx="111240" cy="1744560"/>
            <a:chOff x="5321160" y="2274840"/>
            <a:chExt cx="111240" cy="1744560"/>
          </a:xfrm>
        </p:grpSpPr>
        <p:sp>
          <p:nvSpPr>
            <p:cNvPr id="235"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239"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467080" y="1187280"/>
            <a:ext cx="957240" cy="111240"/>
            <a:chOff x="2467080" y="1187280"/>
            <a:chExt cx="957240" cy="111240"/>
          </a:xfrm>
        </p:grpSpPr>
        <p:sp>
          <p:nvSpPr>
            <p:cNvPr id="254"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878200" y="2637000"/>
            <a:ext cx="552240" cy="110880"/>
            <a:chOff x="2878200" y="2637000"/>
            <a:chExt cx="552240" cy="110880"/>
          </a:xfrm>
        </p:grpSpPr>
        <p:sp>
          <p:nvSpPr>
            <p:cNvPr id="258"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2482920" y="1558800"/>
            <a:ext cx="954000" cy="111240"/>
            <a:chOff x="2482920" y="1558800"/>
            <a:chExt cx="954000" cy="111240"/>
          </a:xfrm>
        </p:grpSpPr>
        <p:sp>
          <p:nvSpPr>
            <p:cNvPr id="266"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737240" y="1662120"/>
            <a:ext cx="1047600" cy="111240"/>
            <a:chOff x="4737240" y="1662120"/>
            <a:chExt cx="1047600" cy="111240"/>
          </a:xfrm>
        </p:grpSpPr>
        <p:sp>
          <p:nvSpPr>
            <p:cNvPr id="270"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736880" y="2200320"/>
            <a:ext cx="996840" cy="111240"/>
            <a:chOff x="4736880" y="2200320"/>
            <a:chExt cx="996840" cy="111240"/>
          </a:xfrm>
        </p:grpSpPr>
        <p:sp>
          <p:nvSpPr>
            <p:cNvPr id="274"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6289560" y="2009880"/>
            <a:ext cx="363600" cy="110880"/>
            <a:chOff x="6289560" y="2009880"/>
            <a:chExt cx="363600" cy="110880"/>
          </a:xfrm>
        </p:grpSpPr>
        <p:sp>
          <p:nvSpPr>
            <p:cNvPr id="278"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837000" y="2198520"/>
            <a:ext cx="1361160" cy="528480"/>
            <a:chOff x="837000" y="2198520"/>
            <a:chExt cx="1361160" cy="528480"/>
          </a:xfrm>
        </p:grpSpPr>
        <p:sp>
          <p:nvSpPr>
            <p:cNvPr id="282"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83"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284"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285"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286" name=""/>
          <p:cNvGrpSpPr/>
          <p:nvPr/>
        </p:nvGrpSpPr>
        <p:grpSpPr>
          <a:xfrm>
            <a:off x="2444760" y="2282760"/>
            <a:ext cx="954000" cy="111240"/>
            <a:chOff x="2444760" y="2282760"/>
            <a:chExt cx="954000" cy="111240"/>
          </a:xfrm>
        </p:grpSpPr>
        <p:sp>
          <p:nvSpPr>
            <p:cNvPr id="287"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756120" y="2655720"/>
            <a:ext cx="1242000" cy="528480"/>
            <a:chOff x="6756120" y="2655720"/>
            <a:chExt cx="1242000" cy="528480"/>
          </a:xfrm>
        </p:grpSpPr>
        <p:sp>
          <p:nvSpPr>
            <p:cNvPr id="291"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92"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293"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294"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295"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96"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7"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8"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9"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0"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417840" y="1168560"/>
            <a:ext cx="1319400" cy="182556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305"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6"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7"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8"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09"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3400" y="3792600"/>
            <a:ext cx="675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2"/>
          <p:cNvSpPr>
            <a:spLocks noGrp="1"/>
          </p:cNvSpPr>
          <p:nvPr>
            <p:ph/>
          </p:nvPr>
        </p:nvSpPr>
        <p:spPr>
          <a:xfrm>
            <a:off x="396720" y="4487760"/>
            <a:ext cx="8420400" cy="17179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ne fois l’instruction récupérée, les registres opérandes utilisés par une instruction sont spécifiés par des champs. La valeur des registres est exploité par l’UAL.</a:t>
            </a:r>
            <a:endParaRPr b="0" lang="en-US" sz="2400" spc="-1" strike="noStrike">
              <a:solidFill>
                <a:srgbClr val="ffffff"/>
              </a:solidFill>
              <a:latin typeface="Arial"/>
            </a:endParaRPr>
          </a:p>
        </p:txBody>
      </p:sp>
      <p:sp>
        <p:nvSpPr>
          <p:cNvPr id="312"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979880" y="3503520"/>
            <a:ext cx="1698840" cy="133560"/>
            <a:chOff x="4979880" y="3503520"/>
            <a:chExt cx="1698840" cy="133560"/>
          </a:xfrm>
        </p:grpSpPr>
        <p:sp>
          <p:nvSpPr>
            <p:cNvPr id="315"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5321160" y="2274840"/>
            <a:ext cx="111240" cy="1744560"/>
            <a:chOff x="5321160" y="2274840"/>
            <a:chExt cx="111240" cy="1744560"/>
          </a:xfrm>
        </p:grpSpPr>
        <p:sp>
          <p:nvSpPr>
            <p:cNvPr id="319"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2921040" y="84600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323" name=""/>
          <p:cNvSpPr/>
          <p:nvPr/>
        </p:nvSpPr>
        <p:spPr>
          <a:xfrm>
            <a:off x="5007240" y="130032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325"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2"/>
          <p:cNvSpPr>
            <a:spLocks noGrp="1"/>
          </p:cNvSpPr>
          <p:nvPr>
            <p:ph/>
          </p:nvPr>
        </p:nvSpPr>
        <p:spPr>
          <a:xfrm>
            <a:off x="396720" y="4528800"/>
            <a:ext cx="8420400" cy="1676520"/>
          </a:xfrm>
          <a:prstGeom prst="rect">
            <a:avLst/>
          </a:prstGeom>
          <a:noFill/>
          <a:ln w="0">
            <a:noFill/>
          </a:ln>
        </p:spPr>
        <p:txBody>
          <a:bodyPr lIns="90360" rIns="90360" tIns="44280" bIns="44280" anchor="t">
            <a:normAutofit/>
          </a:bodyPr>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utilisation de l’UAL dépend du type de l’instruction. </a:t>
            </a:r>
            <a:endParaRPr b="0"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Si l’opération est une instruction arithmétique, le résultat doit être écrit dans le registre </a:t>
            </a:r>
            <a:r>
              <a:rPr b="0" i="1" lang="fr-FR" sz="2000" spc="-1" strike="noStrike">
                <a:solidFill>
                  <a:srgbClr val="fafd00"/>
                </a:solidFill>
                <a:latin typeface="Arial"/>
              </a:rPr>
              <a:t>Donnée</a:t>
            </a:r>
            <a:r>
              <a:rPr b="0" lang="fr-FR" sz="2000" spc="-1" strike="noStrike">
                <a:solidFill>
                  <a:srgbClr val="fafd00"/>
                </a:solidFill>
                <a:latin typeface="Arial"/>
              </a:rPr>
              <a:t>.</a:t>
            </a:r>
            <a:endParaRPr b="0"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Si l’opération est un chargement ou un rangement, le résultat est utilisé comme </a:t>
            </a:r>
            <a:r>
              <a:rPr b="0" lang="fr-FR" sz="2000" spc="-1" strike="noStrike">
                <a:solidFill>
                  <a:srgbClr val="fafd00"/>
                </a:solidFill>
                <a:latin typeface="Arial"/>
              </a:rPr>
              <a:t>adresse.</a:t>
            </a:r>
            <a:endParaRPr b="0" lang="en-US" sz="2000" spc="-1" strike="noStrike">
              <a:solidFill>
                <a:srgbClr val="ffffff"/>
              </a:solidFill>
              <a:latin typeface="Arial"/>
            </a:endParaRPr>
          </a:p>
        </p:txBody>
      </p:sp>
      <p:sp>
        <p:nvSpPr>
          <p:cNvPr id="327" name=""/>
          <p:cNvSpPr/>
          <p:nvPr/>
        </p:nvSpPr>
        <p:spPr>
          <a:xfrm>
            <a:off x="6684840" y="1752480"/>
            <a:ext cx="1333800" cy="215424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2467080" y="1187280"/>
            <a:ext cx="957240" cy="111240"/>
            <a:chOff x="2467080" y="1187280"/>
            <a:chExt cx="957240" cy="111240"/>
          </a:xfrm>
        </p:grpSpPr>
        <p:sp>
          <p:nvSpPr>
            <p:cNvPr id="335"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78200" y="2637000"/>
            <a:ext cx="552240" cy="110880"/>
            <a:chOff x="2878200" y="2637000"/>
            <a:chExt cx="552240" cy="110880"/>
          </a:xfrm>
        </p:grpSpPr>
        <p:sp>
          <p:nvSpPr>
            <p:cNvPr id="339"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2482920" y="1558800"/>
            <a:ext cx="954000" cy="111240"/>
            <a:chOff x="2482920" y="1558800"/>
            <a:chExt cx="954000" cy="111240"/>
          </a:xfrm>
        </p:grpSpPr>
        <p:sp>
          <p:nvSpPr>
            <p:cNvPr id="347"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737240" y="1662120"/>
            <a:ext cx="1047600" cy="111240"/>
            <a:chOff x="4737240" y="1662120"/>
            <a:chExt cx="1047600" cy="111240"/>
          </a:xfrm>
        </p:grpSpPr>
        <p:sp>
          <p:nvSpPr>
            <p:cNvPr id="351"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736880" y="2200320"/>
            <a:ext cx="996840" cy="111240"/>
            <a:chOff x="4736880" y="2200320"/>
            <a:chExt cx="996840" cy="111240"/>
          </a:xfrm>
        </p:grpSpPr>
        <p:sp>
          <p:nvSpPr>
            <p:cNvPr id="355"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289560" y="2009880"/>
            <a:ext cx="363600" cy="110880"/>
            <a:chOff x="6289560" y="2009880"/>
            <a:chExt cx="363600" cy="110880"/>
          </a:xfrm>
        </p:grpSpPr>
        <p:sp>
          <p:nvSpPr>
            <p:cNvPr id="359"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837000" y="2198520"/>
            <a:ext cx="1361160" cy="528480"/>
            <a:chOff x="837000" y="2198520"/>
            <a:chExt cx="1361160" cy="528480"/>
          </a:xfrm>
        </p:grpSpPr>
        <p:sp>
          <p:nvSpPr>
            <p:cNvPr id="363"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364"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365"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366"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367" name=""/>
          <p:cNvGrpSpPr/>
          <p:nvPr/>
        </p:nvGrpSpPr>
        <p:grpSpPr>
          <a:xfrm>
            <a:off x="2444760" y="2282760"/>
            <a:ext cx="954000" cy="111240"/>
            <a:chOff x="2444760" y="2282760"/>
            <a:chExt cx="954000" cy="111240"/>
          </a:xfrm>
        </p:grpSpPr>
        <p:sp>
          <p:nvSpPr>
            <p:cNvPr id="368"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6756120" y="2655720"/>
            <a:ext cx="1242000" cy="528480"/>
            <a:chOff x="6756120" y="2655720"/>
            <a:chExt cx="1242000" cy="528480"/>
          </a:xfrm>
        </p:grpSpPr>
        <p:sp>
          <p:nvSpPr>
            <p:cNvPr id="372"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373"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374"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375"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376"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77"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8"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9"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0"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1"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386"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7"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8"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9"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90"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4979880" y="3503520"/>
            <a:ext cx="1698840" cy="133560"/>
            <a:chOff x="4979880" y="3503520"/>
            <a:chExt cx="1698840" cy="133560"/>
          </a:xfrm>
        </p:grpSpPr>
        <p:sp>
          <p:nvSpPr>
            <p:cNvPr id="393"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5321160" y="2274840"/>
            <a:ext cx="111240" cy="1744560"/>
            <a:chOff x="5321160" y="2274840"/>
            <a:chExt cx="111240" cy="1744560"/>
          </a:xfrm>
        </p:grpSpPr>
        <p:sp>
          <p:nvSpPr>
            <p:cNvPr id="397"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flipV="1" rot="5400000">
            <a:off x="5349960" y="1835280"/>
            <a:ext cx="1257120" cy="390240"/>
          </a:xfrm>
          <a:custGeom>
            <a:avLst/>
            <a:gdLst>
              <a:gd name="textAreaLeft" fmla="*/ 276480 w 1257120"/>
              <a:gd name="textAreaRight" fmla="*/ 980640 w 1257120"/>
              <a:gd name="textAreaTop" fmla="*/ 85680 h 390240"/>
              <a:gd name="textAreaBottom" fmla="*/ 304560 h 390240"/>
            </a:gdLst>
            <a:ahLst/>
            <a:rect l="textAreaLeft" t="textAreaTop" r="textAreaRight" b="textAreaBottom"/>
            <a:pathLst>
              <a:path w="21600" h="21600">
                <a:moveTo>
                  <a:pt x="0" y="0"/>
                </a:moveTo>
                <a:lnTo>
                  <a:pt x="21600" y="0"/>
                </a:lnTo>
                <a:lnTo>
                  <a:pt x="16201" y="21600"/>
                </a:lnTo>
                <a:lnTo>
                  <a:pt x="5399" y="21600"/>
                </a:lnTo>
                <a:close/>
              </a:path>
            </a:pathLst>
          </a:cu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68280" y="4976640"/>
            <a:ext cx="314280" cy="31464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1</a:t>
            </a:r>
            <a:endParaRPr b="0" lang="en-US" sz="2000" spc="-1" strike="noStrike">
              <a:solidFill>
                <a:srgbClr val="000000"/>
              </a:solidFill>
              <a:latin typeface="Times New Roman"/>
            </a:endParaRPr>
          </a:p>
        </p:txBody>
      </p:sp>
      <p:sp>
        <p:nvSpPr>
          <p:cNvPr id="402" name=""/>
          <p:cNvSpPr/>
          <p:nvPr/>
        </p:nvSpPr>
        <p:spPr>
          <a:xfrm>
            <a:off x="6762600" y="776160"/>
            <a:ext cx="314640" cy="31428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1</a:t>
            </a:r>
            <a:endParaRPr b="0" lang="en-US" sz="2000" spc="-1" strike="noStrike">
              <a:solidFill>
                <a:srgbClr val="000000"/>
              </a:solidFill>
              <a:latin typeface="Times New Roman"/>
            </a:endParaRPr>
          </a:p>
        </p:txBody>
      </p:sp>
      <p:sp>
        <p:nvSpPr>
          <p:cNvPr id="403" name=""/>
          <p:cNvSpPr/>
          <p:nvPr/>
        </p:nvSpPr>
        <p:spPr>
          <a:xfrm>
            <a:off x="374760" y="5746680"/>
            <a:ext cx="314280" cy="31428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2</a:t>
            </a:r>
            <a:endParaRPr b="0" lang="en-US" sz="2000" spc="-1" strike="noStrike">
              <a:solidFill>
                <a:srgbClr val="000000"/>
              </a:solidFill>
              <a:latin typeface="Times New Roman"/>
            </a:endParaRPr>
          </a:p>
        </p:txBody>
      </p:sp>
      <p:sp>
        <p:nvSpPr>
          <p:cNvPr id="404" name=""/>
          <p:cNvSpPr/>
          <p:nvPr/>
        </p:nvSpPr>
        <p:spPr>
          <a:xfrm>
            <a:off x="6315120" y="2198520"/>
            <a:ext cx="314280" cy="31464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0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tout d’abord examiner chaque composante nécessaire à l’exécution de chaque type d’instruction MIPS. </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nsuite, chaque élément sera assemblé aux autres pour constituer le chemin de donnée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30T13:48:33Z</dcterms:created>
  <dc:creator>Dupont</dc:creator>
  <dc:description/>
  <dc:language>en-US</dc:language>
  <cp:lastModifiedBy>Denis Dupont</cp:lastModifiedBy>
  <cp:lastPrinted>1999-09-20T14:02:15Z</cp:lastPrinted>
  <dcterms:modified xsi:type="dcterms:W3CDTF">2004-03-02T14:23:10Z</dcterms:modified>
  <cp:revision>50</cp:revision>
  <dc:subject/>
  <dc:title>Description gŽnŽrale</dc:title>
</cp:coreProperties>
</file>