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3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61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67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1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3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47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609480"/>
            <a:ext cx="9128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10080" y="6591240"/>
            <a:ext cx="116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peline </a:t>
            </a:r>
            <a:fld id="{241ED63C-B11C-400E-9DD5-1E87FBFBFD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hemin de données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aléas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our les aléas de données : les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s et piè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echnique du pipeline est une technique de mise en oeuvre qui permet à plusieurs instructions de se chevaucher pendant l'exé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struction est découpée dans un pipeline en petits morceaux appelé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étage de pipe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echnique du pipeline amélio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 débit des instructions plutôt que le temps d'exécution de chaque 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technique du pipeline exploite le parallélisme entre instructions d’un flot séquentiel d’instruct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le présente l’avantage de pouvoir, contrairement à d'autres techniques d'accélération, être rendue invisible du programm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8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137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138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264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13928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16160" y="1682640"/>
            <a:ext cx="901800" cy="67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0800" y="927000"/>
            <a:ext cx="2162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114720" y="170820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41720" y="170820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62200" y="1708200"/>
            <a:ext cx="525600" cy="63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94280" y="1708200"/>
            <a:ext cx="887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994280" y="1708200"/>
            <a:ext cx="471600" cy="635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7052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51080" y="1719360"/>
            <a:ext cx="49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23040" y="17193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45400" y="171936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076360" y="17193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17600" y="2476440"/>
            <a:ext cx="3237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57840" y="25066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0800" y="927000"/>
            <a:ext cx="23151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235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236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27052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145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468760" y="2368440"/>
            <a:ext cx="3248280" cy="1253160"/>
            <a:chOff x="5468760" y="2368440"/>
            <a:chExt cx="3248280" cy="1253160"/>
          </a:xfrm>
        </p:grpSpPr>
        <p:grpSp>
          <p:nvGrpSpPr>
            <p:cNvPr id="1249" name=""/>
            <p:cNvGrpSpPr/>
            <p:nvPr/>
          </p:nvGrpSpPr>
          <p:grpSpPr>
            <a:xfrm>
              <a:off x="5492880" y="2368440"/>
              <a:ext cx="3224160" cy="635040"/>
              <a:chOff x="5492880" y="2368440"/>
              <a:chExt cx="3224160" cy="635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6365880" y="236844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92880" y="236844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13720" y="2368440"/>
                <a:ext cx="52524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45440" y="236844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45440" y="236844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52168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02240" y="237960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74200" y="237960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9656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327520" y="23796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5468760" y="31370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09360" y="3166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8707320" y="3029040"/>
            <a:ext cx="844200" cy="768240"/>
            <a:chOff x="8707320" y="3029040"/>
            <a:chExt cx="844200" cy="768240"/>
          </a:xfrm>
        </p:grpSpPr>
        <p:sp>
          <p:nvSpPr>
            <p:cNvPr id="1263" name=""/>
            <p:cNvSpPr/>
            <p:nvPr/>
          </p:nvSpPr>
          <p:spPr>
            <a:xfrm>
              <a:off x="8718480" y="3029040"/>
              <a:ext cx="4176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730000" y="304020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707320" y="3797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232360" y="1122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800" y="927000"/>
            <a:ext cx="23151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49520" y="1371600"/>
            <a:ext cx="540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217600" y="1708200"/>
            <a:ext cx="3248280" cy="1253160"/>
            <a:chOff x="2217600" y="1708200"/>
            <a:chExt cx="3248280" cy="1253160"/>
          </a:xfrm>
        </p:grpSpPr>
        <p:grpSp>
          <p:nvGrpSpPr>
            <p:cNvPr id="1271" name=""/>
            <p:cNvGrpSpPr/>
            <p:nvPr/>
          </p:nvGrpSpPr>
          <p:grpSpPr>
            <a:xfrm>
              <a:off x="2241720" y="1708200"/>
              <a:ext cx="3224160" cy="635040"/>
              <a:chOff x="2241720" y="1708200"/>
              <a:chExt cx="3224160" cy="635040"/>
            </a:xfrm>
          </p:grpSpPr>
          <p:sp>
            <p:nvSpPr>
              <p:cNvPr id="1272" name=""/>
              <p:cNvSpPr/>
              <p:nvPr/>
            </p:nvSpPr>
            <p:spPr>
              <a:xfrm>
                <a:off x="3114720" y="170820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241720" y="170820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562200" y="1708200"/>
                <a:ext cx="525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094280" y="170820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994280" y="170820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27052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51080" y="171936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623040" y="17193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145400" y="171936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076360" y="171936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2" name=""/>
            <p:cNvSpPr/>
            <p:nvPr/>
          </p:nvSpPr>
          <p:spPr>
            <a:xfrm>
              <a:off x="2217600" y="24764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057840" y="25066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5468760" y="2368440"/>
            <a:ext cx="3248280" cy="1253160"/>
            <a:chOff x="5468760" y="2368440"/>
            <a:chExt cx="3248280" cy="1253160"/>
          </a:xfrm>
        </p:grpSpPr>
        <p:grpSp>
          <p:nvGrpSpPr>
            <p:cNvPr id="1285" name=""/>
            <p:cNvGrpSpPr/>
            <p:nvPr/>
          </p:nvGrpSpPr>
          <p:grpSpPr>
            <a:xfrm>
              <a:off x="5492880" y="2368440"/>
              <a:ext cx="3224160" cy="635040"/>
              <a:chOff x="5492880" y="2368440"/>
              <a:chExt cx="3224160" cy="635040"/>
            </a:xfrm>
          </p:grpSpPr>
          <p:sp>
            <p:nvSpPr>
              <p:cNvPr id="1286" name=""/>
              <p:cNvSpPr/>
              <p:nvPr/>
            </p:nvSpPr>
            <p:spPr>
              <a:xfrm>
                <a:off x="6365880" y="2368440"/>
                <a:ext cx="43488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492880" y="2368440"/>
                <a:ext cx="860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13720" y="2368440"/>
                <a:ext cx="52524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345440" y="2368440"/>
                <a:ext cx="8874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245440" y="2368440"/>
                <a:ext cx="471600" cy="63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2168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In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02240" y="2379600"/>
                <a:ext cx="49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74200" y="237960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U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396560" y="2379600"/>
                <a:ext cx="82152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xtr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onn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327520" y="23796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5468760" y="3137040"/>
              <a:ext cx="32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9360" y="3166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4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8707320" y="3029040"/>
            <a:ext cx="844200" cy="768240"/>
            <a:chOff x="8707320" y="3029040"/>
            <a:chExt cx="844200" cy="768240"/>
          </a:xfrm>
        </p:grpSpPr>
        <p:sp>
          <p:nvSpPr>
            <p:cNvPr id="1299" name=""/>
            <p:cNvSpPr/>
            <p:nvPr/>
          </p:nvSpPr>
          <p:spPr>
            <a:xfrm>
              <a:off x="8718480" y="3029040"/>
              <a:ext cx="4176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730000" y="304020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707320" y="3797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10800" y="4016520"/>
            <a:ext cx="231516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2143800" y="4770360"/>
            <a:ext cx="4095000" cy="1315080"/>
            <a:chOff x="2143800" y="4770360"/>
            <a:chExt cx="4095000" cy="1315080"/>
          </a:xfrm>
        </p:grpSpPr>
        <p:sp>
          <p:nvSpPr>
            <p:cNvPr id="1304" name=""/>
            <p:cNvSpPr/>
            <p:nvPr/>
          </p:nvSpPr>
          <p:spPr>
            <a:xfrm>
              <a:off x="3114720" y="478152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41720" y="478152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94200" y="4781520"/>
              <a:ext cx="8636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27052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51080" y="4770360"/>
              <a:ext cx="497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16520" y="47703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6748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69840" y="477036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17600" y="55497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143800" y="563076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0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857840" y="478152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30840" y="478152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42000" y="477036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59640" y="477036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3978360" y="543096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105000" y="543096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857840" y="5430960"/>
            <a:ext cx="86364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3416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4720" y="5419800"/>
            <a:ext cx="49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880160" y="54198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112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333480" y="541980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81240" y="61992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07440" y="628020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21480" y="5430960"/>
            <a:ext cx="86040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594480" y="5430960"/>
            <a:ext cx="434880" cy="63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05640" y="5419800"/>
            <a:ext cx="49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23280" y="5419800"/>
            <a:ext cx="82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r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3870720" y="6068880"/>
            <a:ext cx="4095360" cy="1315080"/>
            <a:chOff x="3870720" y="6068880"/>
            <a:chExt cx="4095360" cy="1315080"/>
          </a:xfrm>
        </p:grpSpPr>
        <p:sp>
          <p:nvSpPr>
            <p:cNvPr id="1333" name=""/>
            <p:cNvSpPr/>
            <p:nvPr/>
          </p:nvSpPr>
          <p:spPr>
            <a:xfrm>
              <a:off x="4842000" y="608004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68640" y="608004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721480" y="6080040"/>
              <a:ext cx="8636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9744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78360" y="606888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43800" y="60688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9476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97120" y="606888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44880" y="68486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70720" y="69292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0 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585120" y="6080040"/>
              <a:ext cx="86040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458120" y="6080040"/>
              <a:ext cx="4348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69280" y="6068880"/>
              <a:ext cx="49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586920" y="6068880"/>
              <a:ext cx="821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xtr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nn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2230560" y="4457880"/>
            <a:ext cx="648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309400" y="3954600"/>
            <a:ext cx="603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690480" y="4184640"/>
          <a:ext cx="6555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4184640"/>
                    <a:ext cx="655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50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4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85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86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96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106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114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7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8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 chemin de données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écomposition en cinq étages d’une instruction conduit à un pipeline à cinq étages, ce qui signifie que cinq instructions seront en cours d'exécution à chaque cycle d’hor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hemin de données est divisé en cinq é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I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raction d’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écodage d’instruction et extraction 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écution et calcul d’adresse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ès mém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 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Écriture du résul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étage est séparé par des registres pipeline. Ils stockent toutes les données qui traversent les é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82720" y="352440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92360" y="348948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03640" y="353232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22120" y="13302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92200" y="132876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1393560" y="169704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98640" y="15159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82800" y="1528920"/>
            <a:ext cx="0" cy="66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84240" y="2203560"/>
            <a:ext cx="59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74640" y="22208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94000" y="273528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112760" y="193212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98720" y="19303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00160" y="208440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720800" y="11156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481800" y="11286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5933880" y="29527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18200" y="298620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62560" y="417528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46840" y="41702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134040" y="39682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49880" y="39798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34040" y="4191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49880" y="43448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27840" y="419112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60960" y="500544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343640" y="41576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32800" y="41544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34320" y="45766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745400" y="49928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815240" y="4565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143920" y="4356000"/>
            <a:ext cx="65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224920" y="4351320"/>
            <a:ext cx="4680" cy="22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758000" y="579132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835760" y="5803920"/>
            <a:ext cx="0" cy="59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2298600" y="421488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306520" y="423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48080" y="450072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27200" y="452124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27400" y="6416640"/>
            <a:ext cx="549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2517840" y="657072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428920" y="605484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24240" y="56307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2413080" y="366372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192400" y="272736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427120" y="365760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2424240" y="3936600"/>
            <a:ext cx="2365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12920" y="4079880"/>
            <a:ext cx="187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736800" y="4145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800" y="378936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424240" y="518328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660840" y="51735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49120" y="37512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9600" y="37479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677880" y="243540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1120" y="2452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93600" y="30193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143240" y="270828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45000" y="327168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38720" y="35892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2160" y="47163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138560" y="4135320"/>
            <a:ext cx="301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354560" y="45608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43280" y="43448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216320" y="41306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43240" y="378000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959440" y="470232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43240" y="56228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56200" y="60418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86400" y="58165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959440" y="5811840"/>
            <a:ext cx="157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857240" y="408636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394000" y="36399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389320" y="3927600"/>
            <a:ext cx="5076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79600" y="406728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92200" y="5167440"/>
            <a:ext cx="5112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83200" y="4121280"/>
            <a:ext cx="5076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06960" y="41544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384280" y="5616720"/>
            <a:ext cx="51120" cy="3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19640" y="454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451400" y="405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00640" y="55198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274920" y="4791240"/>
            <a:ext cx="376200" cy="76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322800" y="49784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30480" y="14302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9960" y="3513240"/>
            <a:ext cx="169920" cy="485640"/>
          </a:xfrm>
          <a:prstGeom prst="rect">
            <a:avLst/>
          </a:prstGeom>
          <a:noFill/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8120" y="35542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19000" y="35463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3920" y="35798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934920" y="394020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219120" y="36655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65560" y="304812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 rot="5400000">
            <a:off x="4437000" y="270972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 rot="5400000">
            <a:off x="4576680" y="3839040"/>
            <a:ext cx="962280" cy="552600"/>
          </a:xfrm>
          <a:custGeom>
            <a:avLst/>
            <a:gdLst>
              <a:gd name="textAreaLeft" fmla="*/ 211320 w 962280"/>
              <a:gd name="textAreaRight" fmla="*/ 750960 w 96228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 rot="5400000">
            <a:off x="846000" y="2617560"/>
            <a:ext cx="961920" cy="304920"/>
          </a:xfrm>
          <a:custGeom>
            <a:avLst/>
            <a:gdLst>
              <a:gd name="textAreaLeft" fmla="*/ 211320 w 961920"/>
              <a:gd name="textAreaRight" fmla="*/ 750600 w 9619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299280" y="381636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223680" y="38322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779880" y="39718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56720" y="40672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987560" y="253368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434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5928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540560" y="246528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687760" y="3525840"/>
            <a:ext cx="104112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299280" y="378468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07240" y="378468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75316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85468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53120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632720" y="24638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981080" y="252720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82960" y="252720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24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2588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692440" y="35305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00400" y="35305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833480" y="22050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4840" y="22557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618160" y="223848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58040" y="22716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14141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27160" y="1341000"/>
            <a:ext cx="0" cy="240516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 flipV="1">
            <a:off x="1707840" y="1120320"/>
            <a:ext cx="4763880" cy="1764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4113000" y="5164200"/>
            <a:ext cx="220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08296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03848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2948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632720" y="915840"/>
            <a:ext cx="0" cy="5688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1240" y="736560"/>
            <a:ext cx="135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116080" y="736560"/>
            <a:ext cx="1824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écodage In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r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gi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99040" y="736560"/>
            <a:ext cx="1370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écu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lcul a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48080" y="736560"/>
            <a:ext cx="1172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705800" y="73656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c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e vue simplifié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222120" y="736560"/>
            <a:ext cx="8599320" cy="5663880"/>
            <a:chOff x="222120" y="736560"/>
            <a:chExt cx="8599320" cy="5663880"/>
          </a:xfrm>
        </p:grpSpPr>
        <p:sp>
          <p:nvSpPr>
            <p:cNvPr id="1490" name=""/>
            <p:cNvSpPr/>
            <p:nvPr/>
          </p:nvSpPr>
          <p:spPr>
            <a:xfrm>
              <a:off x="2682720" y="3427920"/>
              <a:ext cx="53820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92360" y="3395520"/>
              <a:ext cx="6937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Regist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 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3435480"/>
              <a:ext cx="53820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22120" y="130932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92200" y="1308240"/>
              <a:ext cx="0" cy="33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393560" y="16635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98640" y="148896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82800" y="150120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984240" y="2152440"/>
              <a:ext cx="590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74640" y="2169360"/>
              <a:ext cx="0" cy="47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494000" y="2665800"/>
              <a:ext cx="4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12760" y="1890720"/>
              <a:ext cx="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098720" y="18889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00160" y="2037600"/>
              <a:ext cx="601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1720800" y="1102680"/>
              <a:ext cx="0" cy="9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81800" y="1114920"/>
              <a:ext cx="0" cy="174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933880" y="2875680"/>
              <a:ext cx="54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218200" y="2908080"/>
              <a:ext cx="50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62560" y="4056120"/>
              <a:ext cx="37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46840" y="405108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6134040" y="3856680"/>
              <a:ext cx="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49880" y="3867480"/>
              <a:ext cx="1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34040" y="4071240"/>
              <a:ext cx="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149880" y="4219920"/>
              <a:ext cx="1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27840" y="4071240"/>
              <a:ext cx="0" cy="77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60960" y="4857480"/>
              <a:ext cx="145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43640" y="40392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732800" y="403596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34320" y="4443480"/>
              <a:ext cx="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745400" y="48452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7815240" y="4432680"/>
              <a:ext cx="0" cy="4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43920" y="42307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24920" y="4226040"/>
              <a:ext cx="4680" cy="21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58000" y="5616360"/>
              <a:ext cx="69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35760" y="5628240"/>
              <a:ext cx="0" cy="57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2298600" y="4093920"/>
              <a:ext cx="0" cy="21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306520" y="41097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48080" y="43704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27200" y="4390200"/>
              <a:ext cx="0" cy="19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27400" y="6220080"/>
              <a:ext cx="549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2517840" y="6368760"/>
              <a:ext cx="571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28920" y="58705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24240" y="5461200"/>
              <a:ext cx="14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2413080" y="3562200"/>
              <a:ext cx="0" cy="232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92400" y="2658240"/>
              <a:ext cx="169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27120" y="355644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424240" y="3825720"/>
              <a:ext cx="23652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12920" y="3963960"/>
              <a:ext cx="187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36800" y="402696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36800" y="3683520"/>
              <a:ext cx="17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24240" y="5029200"/>
              <a:ext cx="83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660840" y="501984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9120" y="36468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9600" y="364356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677880" y="2376000"/>
              <a:ext cx="0" cy="12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1120" y="2393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93600" y="2940120"/>
              <a:ext cx="1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43240" y="2639880"/>
              <a:ext cx="4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545000" y="318384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38720" y="3490200"/>
              <a:ext cx="0" cy="15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32160" y="4578480"/>
              <a:ext cx="152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38560" y="4017600"/>
              <a:ext cx="30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54560" y="44283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43280" y="4219920"/>
              <a:ext cx="11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216320" y="4012920"/>
              <a:ext cx="0" cy="57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43240" y="3674520"/>
              <a:ext cx="598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9440" y="4564800"/>
              <a:ext cx="3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43240" y="54536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56200" y="58582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86400" y="5640480"/>
              <a:ext cx="113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59440" y="5636160"/>
              <a:ext cx="1571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57240" y="397044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94000" y="353916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89320" y="3817080"/>
              <a:ext cx="507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379600" y="395172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92200" y="5014080"/>
              <a:ext cx="5112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83200" y="4003920"/>
              <a:ext cx="5076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06960" y="4035960"/>
              <a:ext cx="5112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384280" y="5447520"/>
              <a:ext cx="51120" cy="3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19640" y="4408560"/>
              <a:ext cx="50760" cy="3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51400" y="393948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00640" y="535428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274920" y="4650840"/>
              <a:ext cx="376200" cy="73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316680" y="4831560"/>
              <a:ext cx="251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30480" y="140616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99960" y="3417120"/>
              <a:ext cx="169920" cy="468720"/>
            </a:xfrm>
            <a:prstGeom prst="rect">
              <a:avLst/>
            </a:prstGeom>
            <a:noFill/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42000" y="3455280"/>
              <a:ext cx="260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9000" y="3448800"/>
              <a:ext cx="1033560" cy="106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63920" y="3481200"/>
              <a:ext cx="50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R.Ad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28800" y="3830400"/>
              <a:ext cx="717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émo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12640" y="3564000"/>
              <a:ext cx="5594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165560" y="2967840"/>
              <a:ext cx="368280" cy="45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 rot="5400000">
              <a:off x="4453920" y="2630520"/>
              <a:ext cx="928440" cy="552600"/>
            </a:xfrm>
            <a:custGeom>
              <a:avLst/>
              <a:gdLst>
                <a:gd name="textAreaLeft" fmla="*/ 204120 w 928440"/>
                <a:gd name="textAreaRight" fmla="*/ 724320 w 928440"/>
                <a:gd name="textAreaTop" fmla="*/ 121320 h 552600"/>
                <a:gd name="textAreaBottom" fmla="*/ 431280 h 55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 rot="5400000">
              <a:off x="4593240" y="3722760"/>
              <a:ext cx="928800" cy="552600"/>
            </a:xfrm>
            <a:custGeom>
              <a:avLst/>
              <a:gdLst>
                <a:gd name="textAreaLeft" fmla="*/ 204120 w 928800"/>
                <a:gd name="textAreaRight" fmla="*/ 724680 w 928800"/>
                <a:gd name="textAreaTop" fmla="*/ 121320 h 552600"/>
                <a:gd name="textAreaBottom" fmla="*/ 431280 h 55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 rot="5400000">
              <a:off x="862920" y="2545920"/>
              <a:ext cx="928440" cy="304920"/>
            </a:xfrm>
            <a:custGeom>
              <a:avLst/>
              <a:gdLst>
                <a:gd name="textAreaLeft" fmla="*/ 204120 w 928440"/>
                <a:gd name="textAreaRight" fmla="*/ 724320 w 928440"/>
                <a:gd name="textAreaTop" fmla="*/ 66960 h 304920"/>
                <a:gd name="textAreaBottom" fmla="*/ 237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299280" y="3709440"/>
              <a:ext cx="1028520" cy="103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17200" y="3724920"/>
              <a:ext cx="56556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Adres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ec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Adres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à écri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773400" y="3859920"/>
              <a:ext cx="559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onné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l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56720" y="3951720"/>
              <a:ext cx="164880" cy="576000"/>
            </a:xfrm>
            <a:custGeom>
              <a:avLst/>
              <a:gdLst>
                <a:gd name="textAreaLeft" fmla="*/ 5760 w 164880"/>
                <a:gd name="textAreaRight" fmla="*/ 159120 w 164880"/>
                <a:gd name="textAreaTop" fmla="*/ 5760 h 576000"/>
                <a:gd name="textAreaBottom" fmla="*/ 570240 h 576000"/>
              </a:gdLst>
              <a:ahLst/>
              <a:rect l="textAreaLeft" t="textAreaTop" r="textAreaRight" b="textAreaBottom"/>
              <a:pathLst>
                <a:path w="21600" h="75341">
                  <a:moveTo>
                    <a:pt x="2695" y="0"/>
                  </a:moveTo>
                  <a:arcTo wR="2695" hR="2695" stAng="16200000" swAng="-5400000"/>
                  <a:lnTo>
                    <a:pt x="0" y="72646"/>
                  </a:lnTo>
                  <a:arcTo wR="2695" hR="2695" stAng="10800000" swAng="-5400000"/>
                  <a:lnTo>
                    <a:pt x="18905" y="75341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14141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7560" y="247140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43440" y="244656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759280" y="242244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40560" y="2405160"/>
              <a:ext cx="177840" cy="351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87760" y="3429000"/>
              <a:ext cx="1041120" cy="10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299280" y="3679200"/>
              <a:ext cx="515880" cy="11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07240" y="3679200"/>
              <a:ext cx="515880" cy="11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5316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85468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3120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632720" y="240372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81080" y="2464920"/>
              <a:ext cx="8892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082960" y="2464920"/>
              <a:ext cx="8892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24360" y="244080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5880" y="2440800"/>
              <a:ext cx="8892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692440" y="3433680"/>
              <a:ext cx="515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200400" y="3433680"/>
              <a:ext cx="515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27360" y="2153880"/>
              <a:ext cx="420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EI/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98720" y="2201760"/>
              <a:ext cx="444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DI/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11680" y="2186280"/>
              <a:ext cx="57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EX/M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51920" y="2220120"/>
              <a:ext cx="582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14141"/>
                  </a:solidFill>
                  <a:latin typeface="Geneva"/>
                </a:rPr>
                <a:t>MEM/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27160" y="1319760"/>
              <a:ext cx="0" cy="232164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1707840" y="1107000"/>
              <a:ext cx="4763880" cy="1692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113000" y="5010840"/>
              <a:ext cx="22068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8296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03848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2948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32720" y="909360"/>
              <a:ext cx="0" cy="549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5120" y="736560"/>
              <a:ext cx="1356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116080" y="736560"/>
              <a:ext cx="18244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écodage Ins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tr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egis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99040" y="736560"/>
              <a:ext cx="1370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xécuti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calcul a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41960" y="736560"/>
              <a:ext cx="11721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Accè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Mém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705800" y="736560"/>
              <a:ext cx="111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Ecr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ésult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695680" y="3349800"/>
            <a:ext cx="477360" cy="653400"/>
            <a:chOff x="2695680" y="3349800"/>
            <a:chExt cx="477360" cy="653400"/>
          </a:xfrm>
        </p:grpSpPr>
        <p:sp>
          <p:nvSpPr>
            <p:cNvPr id="1623" name=""/>
            <p:cNvSpPr/>
            <p:nvPr/>
          </p:nvSpPr>
          <p:spPr>
            <a:xfrm>
              <a:off x="2754720" y="3349800"/>
              <a:ext cx="397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2695680" y="4003200"/>
              <a:ext cx="47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0520" y="3360600"/>
              <a:ext cx="0" cy="63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6" name=""/>
          <p:cNvSpPr/>
          <p:nvPr/>
        </p:nvSpPr>
        <p:spPr>
          <a:xfrm>
            <a:off x="266760" y="2819520"/>
            <a:ext cx="8610480" cy="1828800"/>
          </a:xfrm>
          <a:prstGeom prst="rect">
            <a:avLst/>
          </a:prstGeom>
          <a:solidFill>
            <a:srgbClr val="414141"/>
          </a:solidFill>
          <a:ln w="12600">
            <a:solidFill>
              <a:srgbClr val="41414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86280" y="4267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 rot="5400000">
            <a:off x="4265640" y="3345480"/>
            <a:ext cx="1245960" cy="633240"/>
          </a:xfrm>
          <a:custGeom>
            <a:avLst/>
            <a:gdLst>
              <a:gd name="textAreaLeft" fmla="*/ 273960 w 1245960"/>
              <a:gd name="textAreaRight" fmla="*/ 972000 w 1245960"/>
              <a:gd name="textAreaTop" fmla="*/ 138960 h 633240"/>
              <a:gd name="textAreaBottom" fmla="*/ 494280 h 63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7520" y="3421080"/>
            <a:ext cx="486360" cy="3938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81360" y="3200400"/>
            <a:ext cx="380880" cy="88056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262920" y="3456000"/>
            <a:ext cx="486360" cy="3938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685040" y="3305160"/>
            <a:ext cx="288000" cy="53604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943280" y="2971800"/>
            <a:ext cx="19044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30480" y="2971800"/>
            <a:ext cx="19080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657760" y="2971800"/>
            <a:ext cx="19044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386480" y="2971800"/>
            <a:ext cx="190800" cy="14479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81160" y="3657600"/>
            <a:ext cx="684000" cy="15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2476080" y="3346560"/>
            <a:ext cx="300240" cy="656640"/>
            <a:chOff x="2476080" y="3346560"/>
            <a:chExt cx="300240" cy="656640"/>
          </a:xfrm>
        </p:grpSpPr>
        <p:sp>
          <p:nvSpPr>
            <p:cNvPr id="1639" name=""/>
            <p:cNvSpPr/>
            <p:nvPr/>
          </p:nvSpPr>
          <p:spPr>
            <a:xfrm flipH="1">
              <a:off x="2476080" y="3348360"/>
              <a:ext cx="26892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497320" y="4003200"/>
              <a:ext cx="279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491920" y="3346560"/>
              <a:ext cx="0" cy="6350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8028000" y="3373560"/>
            <a:ext cx="299160" cy="655200"/>
            <a:chOff x="8028000" y="3373560"/>
            <a:chExt cx="299160" cy="655200"/>
          </a:xfrm>
        </p:grpSpPr>
        <p:sp>
          <p:nvSpPr>
            <p:cNvPr id="1643" name=""/>
            <p:cNvSpPr/>
            <p:nvPr/>
          </p:nvSpPr>
          <p:spPr>
            <a:xfrm flipH="1">
              <a:off x="8028000" y="3375360"/>
              <a:ext cx="26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48160" y="4028760"/>
              <a:ext cx="279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040600" y="3373560"/>
              <a:ext cx="0" cy="63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8243640" y="3375000"/>
            <a:ext cx="480600" cy="653760"/>
            <a:chOff x="8243640" y="3375000"/>
            <a:chExt cx="480600" cy="653760"/>
          </a:xfrm>
        </p:grpSpPr>
        <p:sp>
          <p:nvSpPr>
            <p:cNvPr id="1647" name=""/>
            <p:cNvSpPr/>
            <p:nvPr/>
          </p:nvSpPr>
          <p:spPr>
            <a:xfrm>
              <a:off x="8305560" y="3375000"/>
              <a:ext cx="3978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8243640" y="4028760"/>
              <a:ext cx="4806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721720" y="3385800"/>
              <a:ext cx="0" cy="6339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2200320" y="3457080"/>
            <a:ext cx="0" cy="225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5000" y="3462480"/>
            <a:ext cx="268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78080" y="3460680"/>
            <a:ext cx="974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192480" y="3865680"/>
            <a:ext cx="731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27400" y="3467160"/>
            <a:ext cx="41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33880" y="3898800"/>
            <a:ext cx="3999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238720" y="3683160"/>
            <a:ext cx="405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851440" y="36831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24600" y="3726000"/>
            <a:ext cx="0" cy="425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743880" y="3689280"/>
            <a:ext cx="606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05760" y="3905280"/>
            <a:ext cx="0" cy="23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6016320" y="4160880"/>
            <a:ext cx="1160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09000" y="3898800"/>
            <a:ext cx="153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05720" y="3656160"/>
            <a:ext cx="4111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095560" y="3670200"/>
            <a:ext cx="3477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039160" y="3200400"/>
            <a:ext cx="380880" cy="880560"/>
          </a:xfrm>
          <a:prstGeom prst="rect">
            <a:avLst/>
          </a:prstGeom>
          <a:solidFill>
            <a:srgbClr val="fafd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vue simplifiée du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 rot="5400000">
            <a:off x="4083120" y="261324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136600" y="263196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92480" y="260352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382720" y="26575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09640" y="254808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881440" y="230508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946680" y="230508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11560" y="230508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76800" y="230508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4040" y="281628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247560" y="2577960"/>
            <a:ext cx="186120" cy="478080"/>
            <a:chOff x="3247560" y="2577960"/>
            <a:chExt cx="186120" cy="478080"/>
          </a:xfrm>
        </p:grpSpPr>
        <p:sp>
          <p:nvSpPr>
            <p:cNvPr id="1678" name=""/>
            <p:cNvSpPr/>
            <p:nvPr/>
          </p:nvSpPr>
          <p:spPr>
            <a:xfrm flipH="1">
              <a:off x="3247560" y="257976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260880" y="305604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57640" y="257796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3382920" y="2579760"/>
            <a:ext cx="295200" cy="476280"/>
            <a:chOff x="3382920" y="2579760"/>
            <a:chExt cx="295200" cy="476280"/>
          </a:xfrm>
        </p:grpSpPr>
        <p:sp>
          <p:nvSpPr>
            <p:cNvPr id="1682" name=""/>
            <p:cNvSpPr/>
            <p:nvPr/>
          </p:nvSpPr>
          <p:spPr>
            <a:xfrm>
              <a:off x="3419640" y="257976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3382920" y="305604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676680" y="25876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6416640" y="262260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6471720" y="2597040"/>
            <a:ext cx="186120" cy="478080"/>
            <a:chOff x="6471720" y="2597040"/>
            <a:chExt cx="186120" cy="478080"/>
          </a:xfrm>
        </p:grpSpPr>
        <p:sp>
          <p:nvSpPr>
            <p:cNvPr id="1687" name=""/>
            <p:cNvSpPr/>
            <p:nvPr/>
          </p:nvSpPr>
          <p:spPr>
            <a:xfrm flipH="1">
              <a:off x="6471720" y="2598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85040" y="307512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480000" y="259704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605640" y="2598840"/>
            <a:ext cx="296640" cy="476280"/>
            <a:chOff x="6605640" y="2598840"/>
            <a:chExt cx="296640" cy="476280"/>
          </a:xfrm>
        </p:grpSpPr>
        <p:sp>
          <p:nvSpPr>
            <p:cNvPr id="1691" name=""/>
            <p:cNvSpPr/>
            <p:nvPr/>
          </p:nvSpPr>
          <p:spPr>
            <a:xfrm>
              <a:off x="6643800" y="259884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605640" y="307512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00840" y="26067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 flipV="1">
            <a:off x="3078000" y="265896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81240" y="26622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681360" y="266076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89280" y="29559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67280" y="26654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71960" y="297972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753080" y="282240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30720" y="282240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237280" y="285444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861160" y="282744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965920" y="298440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5231880" y="3170160"/>
            <a:ext cx="71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67360" y="297972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211800" y="2803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013200" y="28130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040" y="1592280"/>
            <a:ext cx="23151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exé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 rot="5400000">
            <a:off x="5136840" y="3831120"/>
            <a:ext cx="908280" cy="390240"/>
          </a:xfrm>
          <a:custGeom>
            <a:avLst/>
            <a:gdLst>
              <a:gd name="textAreaLeft" fmla="*/ 199440 w 908280"/>
              <a:gd name="textAreaRight" fmla="*/ 708840 w 90828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190680" y="38512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246560" y="382284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36800" y="387684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63720" y="376704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93552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0076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066000" y="352440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130880" y="352440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678120" y="403560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4301640" y="3797280"/>
            <a:ext cx="186120" cy="477720"/>
            <a:chOff x="4301640" y="3797280"/>
            <a:chExt cx="186120" cy="477720"/>
          </a:xfrm>
        </p:grpSpPr>
        <p:sp>
          <p:nvSpPr>
            <p:cNvPr id="1721" name=""/>
            <p:cNvSpPr/>
            <p:nvPr/>
          </p:nvSpPr>
          <p:spPr>
            <a:xfrm flipH="1">
              <a:off x="4301640" y="379872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14960" y="427500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11720" y="37972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437000" y="3798720"/>
            <a:ext cx="295200" cy="476280"/>
            <a:chOff x="4437000" y="3798720"/>
            <a:chExt cx="295200" cy="476280"/>
          </a:xfrm>
        </p:grpSpPr>
        <p:sp>
          <p:nvSpPr>
            <p:cNvPr id="1725" name=""/>
            <p:cNvSpPr/>
            <p:nvPr/>
          </p:nvSpPr>
          <p:spPr>
            <a:xfrm>
              <a:off x="4473720" y="37987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437000" y="427500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730760" y="380700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8" name=""/>
          <p:cNvSpPr/>
          <p:nvPr/>
        </p:nvSpPr>
        <p:spPr>
          <a:xfrm>
            <a:off x="7471080" y="384192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7525800" y="3816360"/>
            <a:ext cx="186120" cy="477720"/>
            <a:chOff x="7525800" y="3816360"/>
            <a:chExt cx="186120" cy="477720"/>
          </a:xfrm>
        </p:grpSpPr>
        <p:sp>
          <p:nvSpPr>
            <p:cNvPr id="1730" name=""/>
            <p:cNvSpPr/>
            <p:nvPr/>
          </p:nvSpPr>
          <p:spPr>
            <a:xfrm flipH="1">
              <a:off x="7525800" y="3817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39120" y="429408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34440" y="38163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7659360" y="3817800"/>
            <a:ext cx="297000" cy="476280"/>
            <a:chOff x="7659360" y="3817800"/>
            <a:chExt cx="297000" cy="476280"/>
          </a:xfrm>
        </p:grpSpPr>
        <p:sp>
          <p:nvSpPr>
            <p:cNvPr id="1734" name=""/>
            <p:cNvSpPr/>
            <p:nvPr/>
          </p:nvSpPr>
          <p:spPr>
            <a:xfrm>
              <a:off x="7697880" y="381780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7659360" y="4294080"/>
              <a:ext cx="297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954920" y="382572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"/>
          <p:cNvSpPr/>
          <p:nvPr/>
        </p:nvSpPr>
        <p:spPr>
          <a:xfrm flipV="1">
            <a:off x="4132440" y="387828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35320" y="38815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735440" y="387972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743360" y="417528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121360" y="388476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126040" y="419904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07160" y="40417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184800" y="40417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291360" y="40734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915240" y="404640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020000" y="42037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286680" y="438948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021440" y="419904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265880" y="40226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067280" y="40323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4244760" y="4743360"/>
            <a:ext cx="4857840" cy="1054080"/>
            <a:chOff x="4244760" y="4743360"/>
            <a:chExt cx="4857840" cy="1054080"/>
          </a:xfrm>
        </p:grpSpPr>
        <p:sp>
          <p:nvSpPr>
            <p:cNvPr id="1753" name=""/>
            <p:cNvSpPr/>
            <p:nvPr/>
          </p:nvSpPr>
          <p:spPr>
            <a:xfrm flipV="1" rot="5400000">
              <a:off x="6191280" y="505152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44760" y="50706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300640" y="50418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490880" y="50958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17800" y="498636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8960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5484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12008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85320" y="47433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32200" y="525456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5355720" y="5016600"/>
              <a:ext cx="186120" cy="477720"/>
              <a:chOff x="5355720" y="5016600"/>
              <a:chExt cx="186120" cy="477720"/>
            </a:xfrm>
          </p:grpSpPr>
          <p:sp>
            <p:nvSpPr>
              <p:cNvPr id="1764" name=""/>
              <p:cNvSpPr/>
              <p:nvPr/>
            </p:nvSpPr>
            <p:spPr>
              <a:xfrm flipH="1">
                <a:off x="5355720" y="50180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369040" y="54943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365800" y="50166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5491080" y="5018040"/>
              <a:ext cx="295200" cy="476280"/>
              <a:chOff x="5491080" y="5018040"/>
              <a:chExt cx="295200" cy="476280"/>
            </a:xfrm>
          </p:grpSpPr>
          <p:sp>
            <p:nvSpPr>
              <p:cNvPr id="1768" name=""/>
              <p:cNvSpPr/>
              <p:nvPr/>
            </p:nvSpPr>
            <p:spPr>
              <a:xfrm>
                <a:off x="5527800" y="50180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491080" y="549432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784840" y="5025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8525160" y="506088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8580600" y="5035680"/>
              <a:ext cx="185400" cy="477720"/>
              <a:chOff x="8580600" y="5035680"/>
              <a:chExt cx="185400" cy="477720"/>
            </a:xfrm>
          </p:grpSpPr>
          <p:sp>
            <p:nvSpPr>
              <p:cNvPr id="1773" name=""/>
              <p:cNvSpPr/>
              <p:nvPr/>
            </p:nvSpPr>
            <p:spPr>
              <a:xfrm flipH="1">
                <a:off x="8580600" y="503712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593200" y="551340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588520" y="50356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8713440" y="5037120"/>
              <a:ext cx="297000" cy="476280"/>
              <a:chOff x="8713440" y="5037120"/>
              <a:chExt cx="297000" cy="476280"/>
            </a:xfrm>
          </p:grpSpPr>
          <p:sp>
            <p:nvSpPr>
              <p:cNvPr id="1777" name=""/>
              <p:cNvSpPr/>
              <p:nvPr/>
            </p:nvSpPr>
            <p:spPr>
              <a:xfrm>
                <a:off x="8751960" y="503712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8713440" y="551340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9009000" y="50450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 flipV="1">
              <a:off x="5186520" y="509760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89400" y="5100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89520" y="509904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797440" y="5394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75440" y="51037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180120" y="541800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861240" y="526104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238880" y="52610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345440" y="529272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969320" y="52657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074080" y="54230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7340760" y="560880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075520" y="54180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19960" y="5241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21360" y="52513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1974960" y="1058760"/>
            <a:ext cx="713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mps en cycle d’horlo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c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c3   cc4   cc5   cc6 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2921040" y="1792440"/>
            <a:ext cx="5321160" cy="4697280"/>
            <a:chOff x="2921040" y="1792440"/>
            <a:chExt cx="5321160" cy="4697280"/>
          </a:xfrm>
        </p:grpSpPr>
        <p:sp>
          <p:nvSpPr>
            <p:cNvPr id="1797" name=""/>
            <p:cNvSpPr/>
            <p:nvPr/>
          </p:nvSpPr>
          <p:spPr>
            <a:xfrm>
              <a:off x="292104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2588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4180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2144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7552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42200" y="179244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vue simplifiée du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V="1" rot="5400000">
            <a:off x="4083120" y="82080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136600" y="8398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186000" y="81108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382720" y="86508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403520" y="75564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881440" y="51264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946680" y="51264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11560" y="51264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076800" y="51264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624040" y="102384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3247560" y="785880"/>
            <a:ext cx="186120" cy="477720"/>
            <a:chOff x="3247560" y="785880"/>
            <a:chExt cx="186120" cy="477720"/>
          </a:xfrm>
        </p:grpSpPr>
        <p:sp>
          <p:nvSpPr>
            <p:cNvPr id="1815" name=""/>
            <p:cNvSpPr/>
            <p:nvPr/>
          </p:nvSpPr>
          <p:spPr>
            <a:xfrm flipH="1">
              <a:off x="3247560" y="78732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260880" y="126360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57640" y="7858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3382920" y="787320"/>
            <a:ext cx="295200" cy="476280"/>
            <a:chOff x="3382920" y="787320"/>
            <a:chExt cx="295200" cy="476280"/>
          </a:xfrm>
        </p:grpSpPr>
        <p:sp>
          <p:nvSpPr>
            <p:cNvPr id="1819" name=""/>
            <p:cNvSpPr/>
            <p:nvPr/>
          </p:nvSpPr>
          <p:spPr>
            <a:xfrm>
              <a:off x="3419640" y="7873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3382920" y="126360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676680" y="79524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6410520" y="83016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6471720" y="804960"/>
            <a:ext cx="186120" cy="477720"/>
            <a:chOff x="6471720" y="804960"/>
            <a:chExt cx="186120" cy="477720"/>
          </a:xfrm>
        </p:grpSpPr>
        <p:sp>
          <p:nvSpPr>
            <p:cNvPr id="1824" name=""/>
            <p:cNvSpPr/>
            <p:nvPr/>
          </p:nvSpPr>
          <p:spPr>
            <a:xfrm flipH="1">
              <a:off x="6471720" y="806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85040" y="128268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480000" y="80496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6605640" y="806400"/>
            <a:ext cx="296640" cy="476280"/>
            <a:chOff x="6605640" y="806400"/>
            <a:chExt cx="296640" cy="476280"/>
          </a:xfrm>
        </p:grpSpPr>
        <p:sp>
          <p:nvSpPr>
            <p:cNvPr id="1828" name=""/>
            <p:cNvSpPr/>
            <p:nvPr/>
          </p:nvSpPr>
          <p:spPr>
            <a:xfrm>
              <a:off x="6643800" y="80640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6605640" y="1282680"/>
              <a:ext cx="29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900840" y="8143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 flipV="1">
            <a:off x="3078000" y="86688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081240" y="870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681360" y="86832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689280" y="116352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067280" y="87300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071960" y="118728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753080" y="103032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130720" y="1030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237280" y="106200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861160" y="103500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965920" y="11923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5231880" y="1378080"/>
            <a:ext cx="71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67360" y="118728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211800" y="10112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013200" y="102060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-360" y="685800"/>
            <a:ext cx="231516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1,1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2,200($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$3,300($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 rot="5400000">
            <a:off x="5137200" y="2040120"/>
            <a:ext cx="907920" cy="390240"/>
          </a:xfrm>
          <a:custGeom>
            <a:avLst/>
            <a:gdLst>
              <a:gd name="textAreaLeft" fmla="*/ 199440 w 907920"/>
              <a:gd name="textAreaRight" fmla="*/ 708480 w 907920"/>
              <a:gd name="textAreaTop" fmla="*/ 85680 h 390240"/>
              <a:gd name="textAreaBottom" fmla="*/ 304560 h 39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190680" y="205884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240440" y="203040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436800" y="208440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457600" y="1974960"/>
            <a:ext cx="288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3552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0076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066000" y="1731960"/>
            <a:ext cx="117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130880" y="1731960"/>
            <a:ext cx="117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678120" y="2243160"/>
            <a:ext cx="24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4301640" y="2004840"/>
            <a:ext cx="186120" cy="477720"/>
            <a:chOff x="4301640" y="2004840"/>
            <a:chExt cx="186120" cy="477720"/>
          </a:xfrm>
        </p:grpSpPr>
        <p:sp>
          <p:nvSpPr>
            <p:cNvPr id="1858" name=""/>
            <p:cNvSpPr/>
            <p:nvPr/>
          </p:nvSpPr>
          <p:spPr>
            <a:xfrm flipH="1">
              <a:off x="4301640" y="2006280"/>
              <a:ext cx="1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314960" y="248256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311720" y="200484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4437000" y="2006640"/>
            <a:ext cx="295200" cy="476280"/>
            <a:chOff x="4437000" y="2006640"/>
            <a:chExt cx="295200" cy="476280"/>
          </a:xfrm>
        </p:grpSpPr>
        <p:sp>
          <p:nvSpPr>
            <p:cNvPr id="1862" name=""/>
            <p:cNvSpPr/>
            <p:nvPr/>
          </p:nvSpPr>
          <p:spPr>
            <a:xfrm>
              <a:off x="4473720" y="200664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4437000" y="248292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730760" y="20149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7464600" y="2049480"/>
            <a:ext cx="57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7525800" y="2023920"/>
            <a:ext cx="186120" cy="477720"/>
            <a:chOff x="7525800" y="2023920"/>
            <a:chExt cx="186120" cy="477720"/>
          </a:xfrm>
        </p:grpSpPr>
        <p:sp>
          <p:nvSpPr>
            <p:cNvPr id="1867" name=""/>
            <p:cNvSpPr/>
            <p:nvPr/>
          </p:nvSpPr>
          <p:spPr>
            <a:xfrm flipH="1">
              <a:off x="7525800" y="2025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539120" y="2501640"/>
              <a:ext cx="17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534440" y="202392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659360" y="2025720"/>
            <a:ext cx="297000" cy="476280"/>
            <a:chOff x="7659360" y="2025720"/>
            <a:chExt cx="297000" cy="476280"/>
          </a:xfrm>
        </p:grpSpPr>
        <p:sp>
          <p:nvSpPr>
            <p:cNvPr id="1871" name=""/>
            <p:cNvSpPr/>
            <p:nvPr/>
          </p:nvSpPr>
          <p:spPr>
            <a:xfrm>
              <a:off x="7697880" y="2025720"/>
              <a:ext cx="245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7659360" y="2502000"/>
              <a:ext cx="297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54920" y="2033640"/>
              <a:ext cx="0" cy="46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 flipV="1">
            <a:off x="4132440" y="20854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135320" y="2089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35440" y="2087640"/>
            <a:ext cx="26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743360" y="238284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121360" y="209232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126040" y="240660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807160" y="2249640"/>
            <a:ext cx="24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184800" y="224964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291360" y="2281320"/>
            <a:ext cx="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915240" y="225432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020000" y="241128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6286680" y="259704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021440" y="2406600"/>
            <a:ext cx="9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265880" y="22305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67280" y="22399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4244760" y="2951280"/>
            <a:ext cx="4851360" cy="1054080"/>
            <a:chOff x="4244760" y="2951280"/>
            <a:chExt cx="4851360" cy="1054080"/>
          </a:xfrm>
        </p:grpSpPr>
        <p:sp>
          <p:nvSpPr>
            <p:cNvPr id="1890" name=""/>
            <p:cNvSpPr/>
            <p:nvPr/>
          </p:nvSpPr>
          <p:spPr>
            <a:xfrm flipV="1" rot="5400000">
              <a:off x="6191280" y="325944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244760" y="327852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94520" y="324972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90880" y="330372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11680" y="319428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98960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5484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12008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85320" y="295128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732200" y="346248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5355720" y="3224520"/>
              <a:ext cx="186120" cy="477720"/>
              <a:chOff x="5355720" y="3224520"/>
              <a:chExt cx="186120" cy="477720"/>
            </a:xfrm>
          </p:grpSpPr>
          <p:sp>
            <p:nvSpPr>
              <p:cNvPr id="1901" name=""/>
              <p:cNvSpPr/>
              <p:nvPr/>
            </p:nvSpPr>
            <p:spPr>
              <a:xfrm flipH="1">
                <a:off x="5355720" y="322596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369040" y="370224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365800" y="322452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5491080" y="3225960"/>
              <a:ext cx="295200" cy="476280"/>
              <a:chOff x="5491080" y="3225960"/>
              <a:chExt cx="295200" cy="476280"/>
            </a:xfrm>
          </p:grpSpPr>
          <p:sp>
            <p:nvSpPr>
              <p:cNvPr id="1905" name=""/>
              <p:cNvSpPr/>
              <p:nvPr/>
            </p:nvSpPr>
            <p:spPr>
              <a:xfrm>
                <a:off x="5527800" y="322596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491080" y="37022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784840" y="32338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8" name=""/>
            <p:cNvSpPr/>
            <p:nvPr/>
          </p:nvSpPr>
          <p:spPr>
            <a:xfrm>
              <a:off x="8518680" y="32688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580600" y="3243600"/>
              <a:ext cx="185400" cy="477720"/>
              <a:chOff x="8580600" y="3243600"/>
              <a:chExt cx="185400" cy="477720"/>
            </a:xfrm>
          </p:grpSpPr>
          <p:sp>
            <p:nvSpPr>
              <p:cNvPr id="1910" name=""/>
              <p:cNvSpPr/>
              <p:nvPr/>
            </p:nvSpPr>
            <p:spPr>
              <a:xfrm flipH="1">
                <a:off x="8580600" y="32450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593200" y="37213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588520" y="32436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8713440" y="3245040"/>
              <a:ext cx="297000" cy="476280"/>
              <a:chOff x="8713440" y="3245040"/>
              <a:chExt cx="297000" cy="476280"/>
            </a:xfrm>
          </p:grpSpPr>
          <p:sp>
            <p:nvSpPr>
              <p:cNvPr id="1914" name=""/>
              <p:cNvSpPr/>
              <p:nvPr/>
            </p:nvSpPr>
            <p:spPr>
              <a:xfrm>
                <a:off x="8751960" y="32450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8713440" y="372132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9009000" y="3252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 flipV="1">
              <a:off x="5186520" y="330552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89400" y="3308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89520" y="330696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797440" y="36021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175440" y="33116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80120" y="362592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61240" y="346896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238880" y="34689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345440" y="350064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69320" y="347364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74080" y="3630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7340760" y="381672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75520" y="362592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319960" y="34498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21360" y="34592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2921040" y="0"/>
            <a:ext cx="5321160" cy="4697280"/>
            <a:chOff x="2921040" y="0"/>
            <a:chExt cx="5321160" cy="4697280"/>
          </a:xfrm>
        </p:grpSpPr>
        <p:sp>
          <p:nvSpPr>
            <p:cNvPr id="1933" name=""/>
            <p:cNvSpPr/>
            <p:nvPr/>
          </p:nvSpPr>
          <p:spPr>
            <a:xfrm>
              <a:off x="292104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02588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04180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2144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17552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242200" y="0"/>
              <a:ext cx="0" cy="469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5283000" y="4203720"/>
            <a:ext cx="4851360" cy="1054080"/>
            <a:chOff x="5283000" y="4203720"/>
            <a:chExt cx="4851360" cy="1054080"/>
          </a:xfrm>
        </p:grpSpPr>
        <p:sp>
          <p:nvSpPr>
            <p:cNvPr id="1940" name=""/>
            <p:cNvSpPr/>
            <p:nvPr/>
          </p:nvSpPr>
          <p:spPr>
            <a:xfrm flipV="1" rot="5400000">
              <a:off x="7229520" y="451188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283000" y="453096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32760" y="450216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529120" y="455616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549920" y="444672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2784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9308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15832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223560" y="420372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770440" y="471492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393960" y="4476960"/>
              <a:ext cx="186120" cy="477720"/>
              <a:chOff x="6393960" y="4476960"/>
              <a:chExt cx="186120" cy="477720"/>
            </a:xfrm>
          </p:grpSpPr>
          <p:sp>
            <p:nvSpPr>
              <p:cNvPr id="1951" name=""/>
              <p:cNvSpPr/>
              <p:nvPr/>
            </p:nvSpPr>
            <p:spPr>
              <a:xfrm flipH="1">
                <a:off x="6393960" y="447840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407280" y="495468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404040" y="44769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6529320" y="4478400"/>
              <a:ext cx="295200" cy="476280"/>
              <a:chOff x="6529320" y="4478400"/>
              <a:chExt cx="295200" cy="476280"/>
            </a:xfrm>
          </p:grpSpPr>
          <p:sp>
            <p:nvSpPr>
              <p:cNvPr id="1955" name=""/>
              <p:cNvSpPr/>
              <p:nvPr/>
            </p:nvSpPr>
            <p:spPr>
              <a:xfrm>
                <a:off x="6566040" y="447840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6529320" y="495468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23080" y="448632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9556920" y="452124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9" name=""/>
            <p:cNvGrpSpPr/>
            <p:nvPr/>
          </p:nvGrpSpPr>
          <p:grpSpPr>
            <a:xfrm>
              <a:off x="9618840" y="4496040"/>
              <a:ext cx="185400" cy="477720"/>
              <a:chOff x="9618840" y="4496040"/>
              <a:chExt cx="185400" cy="477720"/>
            </a:xfrm>
          </p:grpSpPr>
          <p:sp>
            <p:nvSpPr>
              <p:cNvPr id="1960" name=""/>
              <p:cNvSpPr/>
              <p:nvPr/>
            </p:nvSpPr>
            <p:spPr>
              <a:xfrm flipH="1">
                <a:off x="9618840" y="44974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9631440" y="497376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9626760" y="44960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9751680" y="4497480"/>
              <a:ext cx="297000" cy="476280"/>
              <a:chOff x="9751680" y="4497480"/>
              <a:chExt cx="297000" cy="476280"/>
            </a:xfrm>
          </p:grpSpPr>
          <p:sp>
            <p:nvSpPr>
              <p:cNvPr id="1964" name=""/>
              <p:cNvSpPr/>
              <p:nvPr/>
            </p:nvSpPr>
            <p:spPr>
              <a:xfrm>
                <a:off x="9790200" y="449748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9751680" y="497376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0047240" y="45054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7" name=""/>
            <p:cNvSpPr/>
            <p:nvPr/>
          </p:nvSpPr>
          <p:spPr>
            <a:xfrm flipV="1">
              <a:off x="6224760" y="45579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227640" y="4560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27760" y="45594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835680" y="4854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213680" y="45640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218360" y="487836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99480" y="472140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277120" y="47214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83680" y="475308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9007560" y="472608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112320" y="48834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8379000" y="506916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9113760" y="48783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9358200" y="47023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59600" y="471168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321240" y="5456160"/>
            <a:ext cx="4851360" cy="1054080"/>
            <a:chOff x="6321240" y="5456160"/>
            <a:chExt cx="4851360" cy="1054080"/>
          </a:xfrm>
        </p:grpSpPr>
        <p:sp>
          <p:nvSpPr>
            <p:cNvPr id="1983" name=""/>
            <p:cNvSpPr/>
            <p:nvPr/>
          </p:nvSpPr>
          <p:spPr>
            <a:xfrm flipV="1" rot="5400000">
              <a:off x="8267760" y="5764320"/>
              <a:ext cx="907920" cy="390240"/>
            </a:xfrm>
            <a:custGeom>
              <a:avLst/>
              <a:gdLst>
                <a:gd name="textAreaLeft" fmla="*/ 199440 w 907920"/>
                <a:gd name="textAreaRight" fmla="*/ 708480 w 907920"/>
                <a:gd name="textAreaTop" fmla="*/ 85680 h 390240"/>
                <a:gd name="textAreaBottom" fmla="*/ 3045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3" y="21600"/>
                  </a:lnTo>
                  <a:lnTo>
                    <a:pt x="5397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21240" y="57834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371000" y="575460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9567360" y="5808600"/>
              <a:ext cx="48636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588160" y="5699160"/>
              <a:ext cx="28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06608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13132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19656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261800" y="5456160"/>
              <a:ext cx="117360" cy="105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08680" y="596736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7432200" y="5729400"/>
              <a:ext cx="186120" cy="477720"/>
              <a:chOff x="7432200" y="5729400"/>
              <a:chExt cx="186120" cy="47772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7432200" y="5730840"/>
                <a:ext cx="1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445520" y="620712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442280" y="572940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7567560" y="5730840"/>
              <a:ext cx="295200" cy="476280"/>
              <a:chOff x="7567560" y="5730840"/>
              <a:chExt cx="295200" cy="476280"/>
            </a:xfrm>
          </p:grpSpPr>
          <p:sp>
            <p:nvSpPr>
              <p:cNvPr id="1998" name=""/>
              <p:cNvSpPr/>
              <p:nvPr/>
            </p:nvSpPr>
            <p:spPr>
              <a:xfrm>
                <a:off x="7604280" y="573084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7567560" y="620712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861320" y="5738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10595160" y="5773680"/>
              <a:ext cx="577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10657080" y="5748480"/>
              <a:ext cx="185400" cy="477720"/>
              <a:chOff x="10657080" y="5748480"/>
              <a:chExt cx="185400" cy="477720"/>
            </a:xfrm>
          </p:grpSpPr>
          <p:sp>
            <p:nvSpPr>
              <p:cNvPr id="2003" name=""/>
              <p:cNvSpPr/>
              <p:nvPr/>
            </p:nvSpPr>
            <p:spPr>
              <a:xfrm flipH="1">
                <a:off x="10657080" y="574992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0669680" y="6226200"/>
                <a:ext cx="17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0665000" y="574848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0789920" y="5749920"/>
              <a:ext cx="297000" cy="476280"/>
              <a:chOff x="10789920" y="5749920"/>
              <a:chExt cx="297000" cy="476280"/>
            </a:xfrm>
          </p:grpSpPr>
          <p:sp>
            <p:nvSpPr>
              <p:cNvPr id="2007" name=""/>
              <p:cNvSpPr/>
              <p:nvPr/>
            </p:nvSpPr>
            <p:spPr>
              <a:xfrm>
                <a:off x="10828440" y="5749920"/>
                <a:ext cx="24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10789920" y="6226200"/>
                <a:ext cx="29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1085480" y="575784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 flipV="1">
              <a:off x="7263000" y="581040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65880" y="5813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866000" y="581184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73920" y="6107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251920" y="5816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6600" y="6130800"/>
              <a:ext cx="24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937720" y="597384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315360" y="59738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421920" y="6005520"/>
              <a:ext cx="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0045800" y="597852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0150560" y="61358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9417240" y="6321600"/>
              <a:ext cx="71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0152000" y="61308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396440" y="5954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197840" y="59641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7696080" y="1905120"/>
            <a:ext cx="30492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467480" y="5562720"/>
            <a:ext cx="22860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 $10,9($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$11,$2,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1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44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99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-468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12868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332240" y="4776840"/>
            <a:ext cx="6480" cy="565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373640" y="4764240"/>
            <a:ext cx="52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162320" y="5826240"/>
            <a:ext cx="2001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4094280" y="5367240"/>
            <a:ext cx="2584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98900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2272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70080" y="1774800"/>
          <a:ext cx="85428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008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070080" y="2890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00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70080" y="3919680"/>
          <a:ext cx="85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00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070080" y="5062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174840" y="760320"/>
            <a:ext cx="438480" cy="903240"/>
            <a:chOff x="3174840" y="760320"/>
            <a:chExt cx="438480" cy="903240"/>
          </a:xfrm>
        </p:grpSpPr>
        <p:sp>
          <p:nvSpPr>
            <p:cNvPr id="161" name=""/>
            <p:cNvSpPr/>
            <p:nvPr/>
          </p:nvSpPr>
          <p:spPr>
            <a:xfrm>
              <a:off x="3311640" y="89532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54560" y="76032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4840" y="77940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17760" y="110340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3160" y="1335240"/>
              <a:ext cx="112680" cy="31248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8800" y="133020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84320" y="669960"/>
            <a:ext cx="1009800" cy="431640"/>
            <a:chOff x="2884320" y="669960"/>
            <a:chExt cx="1009800" cy="431640"/>
          </a:xfrm>
        </p:grpSpPr>
        <p:sp>
          <p:nvSpPr>
            <p:cNvPr id="168" name=""/>
            <p:cNvSpPr/>
            <p:nvPr/>
          </p:nvSpPr>
          <p:spPr>
            <a:xfrm>
              <a:off x="3073320" y="77004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665520" y="669960"/>
              <a:ext cx="228600" cy="380880"/>
              <a:chOff x="3665520" y="669960"/>
              <a:chExt cx="228600" cy="380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697200" y="67932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65520" y="66996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74960" y="83016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884320" y="727200"/>
              <a:ext cx="255600" cy="374400"/>
              <a:chOff x="2884320" y="727200"/>
              <a:chExt cx="255600" cy="374400"/>
            </a:xfrm>
          </p:grpSpPr>
          <p:sp>
            <p:nvSpPr>
              <p:cNvPr id="174" name=""/>
              <p:cNvSpPr/>
              <p:nvPr/>
            </p:nvSpPr>
            <p:spPr>
              <a:xfrm>
                <a:off x="2884320" y="74304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03400" y="72720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65320" y="88740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6134040" y="4152600"/>
            <a:ext cx="0" cy="250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168960" y="4183200"/>
            <a:ext cx="81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7362720" y="436104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157640" y="4338720"/>
            <a:ext cx="2635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4175280" y="6245280"/>
            <a:ext cx="18720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444920" y="42512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394160" y="57164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76392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 rot="5400000">
            <a:off x="4570200" y="4037040"/>
            <a:ext cx="974880" cy="565200"/>
          </a:xfrm>
          <a:custGeom>
            <a:avLst/>
            <a:gdLst>
              <a:gd name="textAreaLeft" fmla="*/ 214200 w 974880"/>
              <a:gd name="textAreaRight" fmla="*/ 760680 w 974880"/>
              <a:gd name="textAreaTop" fmla="*/ 124200 h 565200"/>
              <a:gd name="textAreaBottom" fmla="*/ 4410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829480" y="1081080"/>
            <a:ext cx="0" cy="5764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754440" y="72396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773680" y="72396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5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6027840" y="4413240"/>
            <a:ext cx="0" cy="7635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080040" y="5208480"/>
            <a:ext cx="14194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7751880" y="4357800"/>
            <a:ext cx="16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975440" y="4289400"/>
            <a:ext cx="127080" cy="558720"/>
          </a:xfrm>
          <a:custGeom>
            <a:avLst/>
            <a:gdLst>
              <a:gd name="textAreaLeft" fmla="*/ 4320 w 127080"/>
              <a:gd name="textAreaRight" fmla="*/ 122760 w 127080"/>
              <a:gd name="textAreaTop" fmla="*/ 4320 h 558720"/>
              <a:gd name="textAreaBottom" fmla="*/ 554400 h 558720"/>
            </a:gdLst>
            <a:ahLst/>
            <a:rect l="textAreaLeft" t="textAreaTop" r="textAreaRight" b="textAreaBottom"/>
            <a:pathLst>
              <a:path w="21600" h="94759">
                <a:moveTo>
                  <a:pt x="2695" y="0"/>
                </a:moveTo>
                <a:arcTo wR="2695" hR="2695" stAng="16200000" swAng="-5400000"/>
                <a:lnTo>
                  <a:pt x="0" y="92064"/>
                </a:lnTo>
                <a:arcTo wR="2695" hR="2695" stAng="10800000" swAng="-5400000"/>
                <a:lnTo>
                  <a:pt x="18905" y="94759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7559640" y="2687760"/>
            <a:ext cx="139680" cy="36068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11640" y="76212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7130880" y="76212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6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853400" y="4780080"/>
            <a:ext cx="601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764480" y="5195880"/>
            <a:ext cx="1908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7815240" y="4749480"/>
            <a:ext cx="0" cy="47628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950240" y="4264200"/>
            <a:ext cx="177840" cy="60948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480"/>
              <a:gd name="textAreaBottom" fmla="*/ 603000 h 609480"/>
            </a:gdLst>
            <a:ahLst/>
            <a:rect l="textAreaLeft" t="textAreaTop" r="textAreaRight" b="textAreaBottom"/>
            <a:pathLst>
              <a:path w="21600" h="73920">
                <a:moveTo>
                  <a:pt x="2695" y="0"/>
                </a:moveTo>
                <a:arcTo wR="2695" hR="2695" stAng="16200000" swAng="-5400000"/>
                <a:lnTo>
                  <a:pt x="0" y="71225"/>
                </a:lnTo>
                <a:arcTo wR="2695" hR="2695" stAng="10800000" swAng="-5400000"/>
                <a:lnTo>
                  <a:pt x="18905" y="73920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6978600" y="77472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2592360" y="3692520"/>
            <a:ext cx="693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3322800" y="518148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348120" y="3757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0040" y="378288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934920" y="414324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3219120" y="386856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6223680" y="4035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6779880" y="4175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833480" y="2408400"/>
            <a:ext cx="42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I/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804840" y="2459160"/>
            <a:ext cx="444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I/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618160" y="2441520"/>
            <a:ext cx="577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EX/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358040" y="2475000"/>
            <a:ext cx="582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MEM/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96480" y="100800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383200" y="100800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4470480" y="99540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148080" y="100800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671960" y="100800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185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24160" y="655560"/>
          <a:ext cx="85428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200480" y="2890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04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200480" y="3919680"/>
          <a:ext cx="85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04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200480" y="5062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04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4394160" y="1879560"/>
            <a:ext cx="438120" cy="903240"/>
            <a:chOff x="4394160" y="1879560"/>
            <a:chExt cx="438120" cy="903240"/>
          </a:xfrm>
        </p:grpSpPr>
        <p:sp>
          <p:nvSpPr>
            <p:cNvPr id="201" name=""/>
            <p:cNvSpPr/>
            <p:nvPr/>
          </p:nvSpPr>
          <p:spPr>
            <a:xfrm>
              <a:off x="4530600" y="2014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73520" y="1879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94160" y="189864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7080" y="2222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32480" y="2454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7760" y="2449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103640" y="1789200"/>
            <a:ext cx="1009800" cy="431640"/>
            <a:chOff x="4103640" y="1789200"/>
            <a:chExt cx="1009800" cy="431640"/>
          </a:xfrm>
        </p:grpSpPr>
        <p:sp>
          <p:nvSpPr>
            <p:cNvPr id="208" name=""/>
            <p:cNvSpPr/>
            <p:nvPr/>
          </p:nvSpPr>
          <p:spPr>
            <a:xfrm>
              <a:off x="4292640" y="1889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884840" y="1789200"/>
              <a:ext cx="228600" cy="380880"/>
              <a:chOff x="4884840" y="1789200"/>
              <a:chExt cx="228600" cy="380880"/>
            </a:xfrm>
          </p:grpSpPr>
          <p:sp>
            <p:nvSpPr>
              <p:cNvPr id="210" name=""/>
              <p:cNvSpPr/>
              <p:nvPr/>
            </p:nvSpPr>
            <p:spPr>
              <a:xfrm>
                <a:off x="4916520" y="1798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84840" y="1789200"/>
                <a:ext cx="20772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94280" y="1949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103640" y="1846440"/>
              <a:ext cx="255600" cy="374400"/>
              <a:chOff x="4103640" y="1846440"/>
              <a:chExt cx="255600" cy="374400"/>
            </a:xfrm>
          </p:grpSpPr>
          <p:sp>
            <p:nvSpPr>
              <p:cNvPr id="214" name=""/>
              <p:cNvSpPr/>
              <p:nvPr/>
            </p:nvSpPr>
            <p:spPr>
              <a:xfrm>
                <a:off x="4103640" y="1862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22720" y="1846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84640" y="2006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222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256" name=""/>
          <p:cNvGraphicFramePr/>
          <p:nvPr/>
        </p:nvGraphicFramePr>
        <p:xfrm>
          <a:off x="5330880" y="1774800"/>
          <a:ext cx="85392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08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05320" y="65556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532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330880" y="3919680"/>
          <a:ext cx="85392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3919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30880" y="5062680"/>
          <a:ext cx="85392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08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5562720" y="2995560"/>
            <a:ext cx="438120" cy="903240"/>
            <a:chOff x="5562720" y="2995560"/>
            <a:chExt cx="438120" cy="903240"/>
          </a:xfrm>
        </p:grpSpPr>
        <p:sp>
          <p:nvSpPr>
            <p:cNvPr id="265" name=""/>
            <p:cNvSpPr/>
            <p:nvPr/>
          </p:nvSpPr>
          <p:spPr>
            <a:xfrm>
              <a:off x="5699160" y="3130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080" y="2995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2720" y="301464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5640" y="3338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0680" y="3570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6320" y="3565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272200" y="2905200"/>
            <a:ext cx="1009440" cy="431640"/>
            <a:chOff x="5272200" y="2905200"/>
            <a:chExt cx="1009440" cy="431640"/>
          </a:xfrm>
        </p:grpSpPr>
        <p:sp>
          <p:nvSpPr>
            <p:cNvPr id="272" name=""/>
            <p:cNvSpPr/>
            <p:nvPr/>
          </p:nvSpPr>
          <p:spPr>
            <a:xfrm>
              <a:off x="5460840" y="3005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053040" y="2905200"/>
              <a:ext cx="228600" cy="380880"/>
              <a:chOff x="6053040" y="2905200"/>
              <a:chExt cx="228600" cy="380880"/>
            </a:xfrm>
          </p:grpSpPr>
          <p:sp>
            <p:nvSpPr>
              <p:cNvPr id="274" name=""/>
              <p:cNvSpPr/>
              <p:nvPr/>
            </p:nvSpPr>
            <p:spPr>
              <a:xfrm>
                <a:off x="6084720" y="2914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53040" y="290520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62840" y="3065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272200" y="2962440"/>
              <a:ext cx="255600" cy="374400"/>
              <a:chOff x="5272200" y="2962440"/>
              <a:chExt cx="255600" cy="374400"/>
            </a:xfrm>
          </p:grpSpPr>
          <p:sp>
            <p:nvSpPr>
              <p:cNvPr id="278" name=""/>
              <p:cNvSpPr/>
              <p:nvPr/>
            </p:nvSpPr>
            <p:spPr>
              <a:xfrm>
                <a:off x="5272200" y="2978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91280" y="2962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353200" y="3122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7591320" y="1774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132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591320" y="2890800"/>
          <a:ext cx="85428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132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591320" y="3919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132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578720" y="655560"/>
          <a:ext cx="853920" cy="90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872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7899480" y="5167440"/>
            <a:ext cx="438120" cy="903240"/>
            <a:chOff x="7899480" y="5167440"/>
            <a:chExt cx="438120" cy="903240"/>
          </a:xfrm>
        </p:grpSpPr>
        <p:sp>
          <p:nvSpPr>
            <p:cNvPr id="296" name=""/>
            <p:cNvSpPr/>
            <p:nvPr/>
          </p:nvSpPr>
          <p:spPr>
            <a:xfrm>
              <a:off x="8035920" y="5302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78840" y="5167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99480" y="518652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2400" y="551016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7440" y="5742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93080" y="573732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08960" y="5076720"/>
            <a:ext cx="1009440" cy="432000"/>
            <a:chOff x="7608960" y="5076720"/>
            <a:chExt cx="1009440" cy="432000"/>
          </a:xfrm>
        </p:grpSpPr>
        <p:sp>
          <p:nvSpPr>
            <p:cNvPr id="303" name=""/>
            <p:cNvSpPr/>
            <p:nvPr/>
          </p:nvSpPr>
          <p:spPr>
            <a:xfrm>
              <a:off x="7797960" y="5176800"/>
              <a:ext cx="65376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8389800" y="5076720"/>
              <a:ext cx="228600" cy="381240"/>
              <a:chOff x="8389800" y="5076720"/>
              <a:chExt cx="228600" cy="381240"/>
            </a:xfrm>
          </p:grpSpPr>
          <p:sp>
            <p:nvSpPr>
              <p:cNvPr id="305" name=""/>
              <p:cNvSpPr/>
              <p:nvPr/>
            </p:nvSpPr>
            <p:spPr>
              <a:xfrm>
                <a:off x="8421840" y="5086440"/>
                <a:ext cx="19656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389800" y="5076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99600" y="523728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08960" y="5133960"/>
              <a:ext cx="255600" cy="374760"/>
              <a:chOff x="7608960" y="5133960"/>
              <a:chExt cx="255600" cy="374760"/>
            </a:xfrm>
          </p:grpSpPr>
          <p:sp>
            <p:nvSpPr>
              <p:cNvPr id="309" name=""/>
              <p:cNvSpPr/>
              <p:nvPr/>
            </p:nvSpPr>
            <p:spPr>
              <a:xfrm>
                <a:off x="7608960" y="5149800"/>
                <a:ext cx="22068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28040" y="5133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89960" y="5294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7440" y="54864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73760" y="46483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50080" y="38098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26040" y="2971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02360" y="213372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8680" y="12952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325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8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59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360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361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0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371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381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389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4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3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70080" y="1774800"/>
          <a:ext cx="85428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008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070080" y="2890800"/>
          <a:ext cx="85428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00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070080" y="3919680"/>
          <a:ext cx="85428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70080" y="5062680"/>
          <a:ext cx="854280" cy="90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00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3174840" y="760320"/>
            <a:ext cx="438480" cy="903240"/>
            <a:chOff x="3174840" y="760320"/>
            <a:chExt cx="438480" cy="903240"/>
          </a:xfrm>
        </p:grpSpPr>
        <p:sp>
          <p:nvSpPr>
            <p:cNvPr id="433" name=""/>
            <p:cNvSpPr/>
            <p:nvPr/>
          </p:nvSpPr>
          <p:spPr>
            <a:xfrm>
              <a:off x="3311640" y="89532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54560" y="76032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74840" y="77940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17760" y="110340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13160" y="1335240"/>
              <a:ext cx="112680" cy="31248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68800" y="133020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84320" y="669960"/>
            <a:ext cx="1009800" cy="431640"/>
            <a:chOff x="2884320" y="669960"/>
            <a:chExt cx="1009800" cy="431640"/>
          </a:xfrm>
        </p:grpSpPr>
        <p:sp>
          <p:nvSpPr>
            <p:cNvPr id="440" name=""/>
            <p:cNvSpPr/>
            <p:nvPr/>
          </p:nvSpPr>
          <p:spPr>
            <a:xfrm>
              <a:off x="3073320" y="77004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65520" y="669960"/>
              <a:ext cx="228600" cy="380880"/>
              <a:chOff x="3665520" y="669960"/>
              <a:chExt cx="228600" cy="380880"/>
            </a:xfrm>
          </p:grpSpPr>
          <p:sp>
            <p:nvSpPr>
              <p:cNvPr id="442" name=""/>
              <p:cNvSpPr/>
              <p:nvPr/>
            </p:nvSpPr>
            <p:spPr>
              <a:xfrm>
                <a:off x="3697200" y="67932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5520" y="66996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4960" y="83016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884320" y="727200"/>
              <a:ext cx="255600" cy="374400"/>
              <a:chOff x="2884320" y="727200"/>
              <a:chExt cx="255600" cy="374400"/>
            </a:xfrm>
          </p:grpSpPr>
          <p:sp>
            <p:nvSpPr>
              <p:cNvPr id="446" name=""/>
              <p:cNvSpPr/>
              <p:nvPr/>
            </p:nvSpPr>
            <p:spPr>
              <a:xfrm>
                <a:off x="2884320" y="74304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03400" y="72720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65320" y="88740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49" name=""/>
          <p:cNvGraphicFramePr/>
          <p:nvPr/>
        </p:nvGraphicFramePr>
        <p:xfrm>
          <a:off x="4124160" y="655560"/>
          <a:ext cx="85428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2416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4200480" y="2890800"/>
          <a:ext cx="854280" cy="90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048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200480" y="3919680"/>
          <a:ext cx="854280" cy="904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0048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4200480" y="5062680"/>
          <a:ext cx="854280" cy="904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00480" y="5062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"/>
          <p:cNvGrpSpPr/>
          <p:nvPr/>
        </p:nvGrpSpPr>
        <p:grpSpPr>
          <a:xfrm>
            <a:off x="4394160" y="1879560"/>
            <a:ext cx="438120" cy="903240"/>
            <a:chOff x="4394160" y="1879560"/>
            <a:chExt cx="438120" cy="903240"/>
          </a:xfrm>
        </p:grpSpPr>
        <p:sp>
          <p:nvSpPr>
            <p:cNvPr id="458" name=""/>
            <p:cNvSpPr/>
            <p:nvPr/>
          </p:nvSpPr>
          <p:spPr>
            <a:xfrm>
              <a:off x="4530600" y="2014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73520" y="1879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94160" y="189864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7080" y="2222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2480" y="2454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87760" y="2449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103640" y="1789200"/>
            <a:ext cx="1009800" cy="431640"/>
            <a:chOff x="4103640" y="1789200"/>
            <a:chExt cx="1009800" cy="431640"/>
          </a:xfrm>
        </p:grpSpPr>
        <p:sp>
          <p:nvSpPr>
            <p:cNvPr id="465" name=""/>
            <p:cNvSpPr/>
            <p:nvPr/>
          </p:nvSpPr>
          <p:spPr>
            <a:xfrm>
              <a:off x="4292640" y="1889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884840" y="1789200"/>
              <a:ext cx="228600" cy="380880"/>
              <a:chOff x="4884840" y="1789200"/>
              <a:chExt cx="228600" cy="380880"/>
            </a:xfrm>
          </p:grpSpPr>
          <p:sp>
            <p:nvSpPr>
              <p:cNvPr id="467" name=""/>
              <p:cNvSpPr/>
              <p:nvPr/>
            </p:nvSpPr>
            <p:spPr>
              <a:xfrm>
                <a:off x="4916520" y="1798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84840" y="1789200"/>
                <a:ext cx="20772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94280" y="1949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103640" y="1846440"/>
              <a:ext cx="255600" cy="374400"/>
              <a:chOff x="4103640" y="1846440"/>
              <a:chExt cx="255600" cy="374400"/>
            </a:xfrm>
          </p:grpSpPr>
          <p:sp>
            <p:nvSpPr>
              <p:cNvPr id="471" name=""/>
              <p:cNvSpPr/>
              <p:nvPr/>
            </p:nvSpPr>
            <p:spPr>
              <a:xfrm>
                <a:off x="4103640" y="1862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22720" y="1846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84640" y="2006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74" name=""/>
          <p:cNvGraphicFramePr/>
          <p:nvPr/>
        </p:nvGraphicFramePr>
        <p:xfrm>
          <a:off x="5330880" y="1774800"/>
          <a:ext cx="853920" cy="905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08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305320" y="655560"/>
          <a:ext cx="854280" cy="905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05320" y="65556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5330880" y="3919680"/>
          <a:ext cx="853920" cy="904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0880" y="3919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330880" y="5062680"/>
          <a:ext cx="853920" cy="90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08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2" name=""/>
          <p:cNvGrpSpPr/>
          <p:nvPr/>
        </p:nvGrpSpPr>
        <p:grpSpPr>
          <a:xfrm>
            <a:off x="5562720" y="2995560"/>
            <a:ext cx="438120" cy="903240"/>
            <a:chOff x="5562720" y="2995560"/>
            <a:chExt cx="438120" cy="903240"/>
          </a:xfrm>
        </p:grpSpPr>
        <p:sp>
          <p:nvSpPr>
            <p:cNvPr id="483" name=""/>
            <p:cNvSpPr/>
            <p:nvPr/>
          </p:nvSpPr>
          <p:spPr>
            <a:xfrm>
              <a:off x="5699160" y="313056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42080" y="299556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720" y="301464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5640" y="333864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00680" y="357012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56320" y="356544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272200" y="2905200"/>
            <a:ext cx="1009440" cy="431640"/>
            <a:chOff x="5272200" y="2905200"/>
            <a:chExt cx="1009440" cy="431640"/>
          </a:xfrm>
        </p:grpSpPr>
        <p:sp>
          <p:nvSpPr>
            <p:cNvPr id="490" name=""/>
            <p:cNvSpPr/>
            <p:nvPr/>
          </p:nvSpPr>
          <p:spPr>
            <a:xfrm>
              <a:off x="5460840" y="3005280"/>
              <a:ext cx="654120" cy="10296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6053040" y="2905200"/>
              <a:ext cx="228600" cy="380880"/>
              <a:chOff x="6053040" y="2905200"/>
              <a:chExt cx="228600" cy="380880"/>
            </a:xfrm>
          </p:grpSpPr>
          <p:sp>
            <p:nvSpPr>
              <p:cNvPr id="492" name=""/>
              <p:cNvSpPr/>
              <p:nvPr/>
            </p:nvSpPr>
            <p:spPr>
              <a:xfrm>
                <a:off x="6084720" y="291456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53040" y="2905200"/>
                <a:ext cx="208080" cy="37764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62840" y="306540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272200" y="2962440"/>
              <a:ext cx="255600" cy="374400"/>
              <a:chOff x="5272200" y="2962440"/>
              <a:chExt cx="255600" cy="37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5272200" y="2978280"/>
                <a:ext cx="220680" cy="35856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91280" y="296244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53200" y="3122640"/>
                <a:ext cx="54000" cy="7920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99" name=""/>
          <p:cNvGraphicFramePr/>
          <p:nvPr/>
        </p:nvGraphicFramePr>
        <p:xfrm>
          <a:off x="6461280" y="1774800"/>
          <a:ext cx="853920" cy="905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61280" y="1774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6461280" y="2890800"/>
          <a:ext cx="853920" cy="905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61280" y="289080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384960" y="655560"/>
          <a:ext cx="853920" cy="905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8496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6461280" y="5062680"/>
          <a:ext cx="853920" cy="904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461280" y="5062680"/>
                    <a:ext cx="8539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"/>
          <p:cNvGrpSpPr/>
          <p:nvPr/>
        </p:nvGrpSpPr>
        <p:grpSpPr>
          <a:xfrm>
            <a:off x="6743880" y="4024440"/>
            <a:ext cx="438120" cy="903240"/>
            <a:chOff x="6743880" y="4024440"/>
            <a:chExt cx="438120" cy="903240"/>
          </a:xfrm>
        </p:grpSpPr>
        <p:sp>
          <p:nvSpPr>
            <p:cNvPr id="508" name=""/>
            <p:cNvSpPr/>
            <p:nvPr/>
          </p:nvSpPr>
          <p:spPr>
            <a:xfrm>
              <a:off x="6880320" y="4159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23240" y="4024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43880" y="4043520"/>
              <a:ext cx="16164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86440" y="4367160"/>
              <a:ext cx="14472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1840" y="4599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37480" y="4594320"/>
              <a:ext cx="11088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53360" y="3933720"/>
            <a:ext cx="1009440" cy="432000"/>
            <a:chOff x="6453360" y="3933720"/>
            <a:chExt cx="1009440" cy="432000"/>
          </a:xfrm>
        </p:grpSpPr>
        <p:sp>
          <p:nvSpPr>
            <p:cNvPr id="515" name=""/>
            <p:cNvSpPr/>
            <p:nvPr/>
          </p:nvSpPr>
          <p:spPr>
            <a:xfrm>
              <a:off x="6642000" y="4033800"/>
              <a:ext cx="65412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7234200" y="3933720"/>
              <a:ext cx="228600" cy="381240"/>
              <a:chOff x="7234200" y="3933720"/>
              <a:chExt cx="228600" cy="381240"/>
            </a:xfrm>
          </p:grpSpPr>
          <p:sp>
            <p:nvSpPr>
              <p:cNvPr id="517" name=""/>
              <p:cNvSpPr/>
              <p:nvPr/>
            </p:nvSpPr>
            <p:spPr>
              <a:xfrm>
                <a:off x="7265880" y="3943440"/>
                <a:ext cx="19692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34200" y="3933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43640" y="4094280"/>
                <a:ext cx="4788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453360" y="3990960"/>
              <a:ext cx="255240" cy="374760"/>
              <a:chOff x="6453360" y="3990960"/>
              <a:chExt cx="255240" cy="374760"/>
            </a:xfrm>
          </p:grpSpPr>
          <p:sp>
            <p:nvSpPr>
              <p:cNvPr id="521" name=""/>
              <p:cNvSpPr/>
              <p:nvPr/>
            </p:nvSpPr>
            <p:spPr>
              <a:xfrm>
                <a:off x="6453360" y="4006800"/>
                <a:ext cx="22032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2080" y="3990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34000" y="4151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24" name=""/>
          <p:cNvGraphicFramePr/>
          <p:nvPr/>
        </p:nvGraphicFramePr>
        <p:xfrm>
          <a:off x="7591320" y="1774800"/>
          <a:ext cx="854280" cy="90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91320" y="1774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7591320" y="2890800"/>
          <a:ext cx="854280" cy="90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91320" y="2890800"/>
                    <a:ext cx="8542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7591320" y="3919680"/>
          <a:ext cx="854280" cy="904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91320" y="3919680"/>
                    <a:ext cx="85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7578720" y="655560"/>
          <a:ext cx="853920" cy="905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78720" y="655560"/>
                    <a:ext cx="8539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899480" y="5167440"/>
            <a:ext cx="438120" cy="903240"/>
            <a:chOff x="7899480" y="5167440"/>
            <a:chExt cx="438120" cy="903240"/>
          </a:xfrm>
        </p:grpSpPr>
        <p:sp>
          <p:nvSpPr>
            <p:cNvPr id="533" name=""/>
            <p:cNvSpPr/>
            <p:nvPr/>
          </p:nvSpPr>
          <p:spPr>
            <a:xfrm>
              <a:off x="8035920" y="5302080"/>
              <a:ext cx="139680" cy="18900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52" y="0"/>
                  </a:moveTo>
                  <a:lnTo>
                    <a:pt x="63" y="2"/>
                  </a:lnTo>
                  <a:lnTo>
                    <a:pt x="73" y="8"/>
                  </a:lnTo>
                  <a:lnTo>
                    <a:pt x="80" y="17"/>
                  </a:lnTo>
                  <a:lnTo>
                    <a:pt x="86" y="30"/>
                  </a:lnTo>
                  <a:lnTo>
                    <a:pt x="87" y="53"/>
                  </a:lnTo>
                  <a:lnTo>
                    <a:pt x="83" y="75"/>
                  </a:lnTo>
                  <a:lnTo>
                    <a:pt x="76" y="92"/>
                  </a:lnTo>
                  <a:lnTo>
                    <a:pt x="67" y="106"/>
                  </a:lnTo>
                  <a:lnTo>
                    <a:pt x="58" y="115"/>
                  </a:lnTo>
                  <a:lnTo>
                    <a:pt x="47" y="118"/>
                  </a:lnTo>
                  <a:lnTo>
                    <a:pt x="36" y="116"/>
                  </a:lnTo>
                  <a:lnTo>
                    <a:pt x="31" y="109"/>
                  </a:lnTo>
                  <a:lnTo>
                    <a:pt x="23" y="97"/>
                  </a:lnTo>
                  <a:lnTo>
                    <a:pt x="20" y="74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9"/>
                  </a:lnTo>
                  <a:lnTo>
                    <a:pt x="28" y="38"/>
                  </a:lnTo>
                  <a:lnTo>
                    <a:pt x="31" y="24"/>
                  </a:lnTo>
                  <a:lnTo>
                    <a:pt x="39" y="9"/>
                  </a:lnTo>
                  <a:lnTo>
                    <a:pt x="47" y="3"/>
                  </a:lnTo>
                  <a:lnTo>
                    <a:pt x="52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78840" y="5167440"/>
              <a:ext cx="158760" cy="38736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21" y="201"/>
                  </a:moveTo>
                  <a:lnTo>
                    <a:pt x="13" y="210"/>
                  </a:lnTo>
                  <a:lnTo>
                    <a:pt x="3" y="221"/>
                  </a:lnTo>
                  <a:lnTo>
                    <a:pt x="0" y="237"/>
                  </a:lnTo>
                  <a:lnTo>
                    <a:pt x="6" y="243"/>
                  </a:lnTo>
                  <a:lnTo>
                    <a:pt x="15" y="243"/>
                  </a:lnTo>
                  <a:lnTo>
                    <a:pt x="24" y="234"/>
                  </a:lnTo>
                  <a:lnTo>
                    <a:pt x="36" y="215"/>
                  </a:lnTo>
                  <a:lnTo>
                    <a:pt x="42" y="194"/>
                  </a:lnTo>
                  <a:lnTo>
                    <a:pt x="50" y="179"/>
                  </a:lnTo>
                  <a:lnTo>
                    <a:pt x="60" y="158"/>
                  </a:lnTo>
                  <a:lnTo>
                    <a:pt x="72" y="146"/>
                  </a:lnTo>
                  <a:lnTo>
                    <a:pt x="75" y="117"/>
                  </a:lnTo>
                  <a:lnTo>
                    <a:pt x="78" y="97"/>
                  </a:lnTo>
                  <a:lnTo>
                    <a:pt x="78" y="79"/>
                  </a:lnTo>
                  <a:lnTo>
                    <a:pt x="83" y="55"/>
                  </a:lnTo>
                  <a:lnTo>
                    <a:pt x="90" y="46"/>
                  </a:lnTo>
                  <a:lnTo>
                    <a:pt x="99" y="6"/>
                  </a:lnTo>
                  <a:lnTo>
                    <a:pt x="89" y="0"/>
                  </a:lnTo>
                  <a:lnTo>
                    <a:pt x="71" y="1"/>
                  </a:lnTo>
                  <a:lnTo>
                    <a:pt x="69" y="31"/>
                  </a:lnTo>
                  <a:lnTo>
                    <a:pt x="54" y="25"/>
                  </a:lnTo>
                  <a:lnTo>
                    <a:pt x="48" y="30"/>
                  </a:lnTo>
                  <a:lnTo>
                    <a:pt x="63" y="43"/>
                  </a:lnTo>
                  <a:lnTo>
                    <a:pt x="63" y="60"/>
                  </a:lnTo>
                  <a:lnTo>
                    <a:pt x="65" y="78"/>
                  </a:lnTo>
                  <a:lnTo>
                    <a:pt x="65" y="99"/>
                  </a:lnTo>
                  <a:lnTo>
                    <a:pt x="63" y="117"/>
                  </a:lnTo>
                  <a:lnTo>
                    <a:pt x="54" y="135"/>
                  </a:lnTo>
                  <a:lnTo>
                    <a:pt x="43" y="170"/>
                  </a:lnTo>
                  <a:lnTo>
                    <a:pt x="34" y="185"/>
                  </a:lnTo>
                  <a:lnTo>
                    <a:pt x="21" y="201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99480" y="5186520"/>
              <a:ext cx="162000" cy="3729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89" y="192"/>
                  </a:moveTo>
                  <a:lnTo>
                    <a:pt x="96" y="203"/>
                  </a:lnTo>
                  <a:lnTo>
                    <a:pt x="99" y="210"/>
                  </a:lnTo>
                  <a:lnTo>
                    <a:pt x="101" y="224"/>
                  </a:lnTo>
                  <a:lnTo>
                    <a:pt x="99" y="231"/>
                  </a:lnTo>
                  <a:lnTo>
                    <a:pt x="92" y="234"/>
                  </a:lnTo>
                  <a:lnTo>
                    <a:pt x="81" y="233"/>
                  </a:lnTo>
                  <a:lnTo>
                    <a:pt x="74" y="222"/>
                  </a:lnTo>
                  <a:lnTo>
                    <a:pt x="66" y="210"/>
                  </a:lnTo>
                  <a:lnTo>
                    <a:pt x="56" y="186"/>
                  </a:lnTo>
                  <a:lnTo>
                    <a:pt x="43" y="168"/>
                  </a:lnTo>
                  <a:lnTo>
                    <a:pt x="35" y="155"/>
                  </a:lnTo>
                  <a:lnTo>
                    <a:pt x="30" y="129"/>
                  </a:lnTo>
                  <a:lnTo>
                    <a:pt x="26" y="99"/>
                  </a:lnTo>
                  <a:lnTo>
                    <a:pt x="19" y="82"/>
                  </a:lnTo>
                  <a:lnTo>
                    <a:pt x="11" y="67"/>
                  </a:lnTo>
                  <a:lnTo>
                    <a:pt x="6" y="55"/>
                  </a:lnTo>
                  <a:lnTo>
                    <a:pt x="0" y="35"/>
                  </a:lnTo>
                  <a:lnTo>
                    <a:pt x="1" y="14"/>
                  </a:lnTo>
                  <a:lnTo>
                    <a:pt x="12" y="1"/>
                  </a:lnTo>
                  <a:lnTo>
                    <a:pt x="26" y="0"/>
                  </a:lnTo>
                  <a:lnTo>
                    <a:pt x="30" y="32"/>
                  </a:lnTo>
                  <a:lnTo>
                    <a:pt x="38" y="29"/>
                  </a:lnTo>
                  <a:lnTo>
                    <a:pt x="39" y="39"/>
                  </a:lnTo>
                  <a:lnTo>
                    <a:pt x="30" y="46"/>
                  </a:lnTo>
                  <a:lnTo>
                    <a:pt x="30" y="61"/>
                  </a:lnTo>
                  <a:lnTo>
                    <a:pt x="38" y="85"/>
                  </a:lnTo>
                  <a:lnTo>
                    <a:pt x="43" y="111"/>
                  </a:lnTo>
                  <a:lnTo>
                    <a:pt x="48" y="139"/>
                  </a:lnTo>
                  <a:lnTo>
                    <a:pt x="54" y="150"/>
                  </a:lnTo>
                  <a:lnTo>
                    <a:pt x="68" y="168"/>
                  </a:lnTo>
                  <a:lnTo>
                    <a:pt x="81" y="183"/>
                  </a:lnTo>
                  <a:lnTo>
                    <a:pt x="89" y="192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42400" y="5510160"/>
              <a:ext cx="144360" cy="271440"/>
            </a:xfrm>
            <a:custGeom>
              <a:avLst/>
              <a:gdLst/>
              <a:ahLst/>
              <a:rect l="l" t="t" r="r" b="b"/>
              <a:pathLst>
                <a:path w="91" h="171">
                  <a:moveTo>
                    <a:pt x="35" y="0"/>
                  </a:moveTo>
                  <a:lnTo>
                    <a:pt x="48" y="0"/>
                  </a:lnTo>
                  <a:lnTo>
                    <a:pt x="65" y="3"/>
                  </a:lnTo>
                  <a:lnTo>
                    <a:pt x="74" y="12"/>
                  </a:lnTo>
                  <a:lnTo>
                    <a:pt x="83" y="29"/>
                  </a:lnTo>
                  <a:lnTo>
                    <a:pt x="87" y="41"/>
                  </a:lnTo>
                  <a:lnTo>
                    <a:pt x="90" y="56"/>
                  </a:lnTo>
                  <a:lnTo>
                    <a:pt x="90" y="74"/>
                  </a:lnTo>
                  <a:lnTo>
                    <a:pt x="89" y="92"/>
                  </a:lnTo>
                  <a:lnTo>
                    <a:pt x="87" y="112"/>
                  </a:lnTo>
                  <a:lnTo>
                    <a:pt x="81" y="136"/>
                  </a:lnTo>
                  <a:lnTo>
                    <a:pt x="74" y="152"/>
                  </a:lnTo>
                  <a:lnTo>
                    <a:pt x="60" y="166"/>
                  </a:lnTo>
                  <a:lnTo>
                    <a:pt x="45" y="170"/>
                  </a:lnTo>
                  <a:lnTo>
                    <a:pt x="29" y="166"/>
                  </a:lnTo>
                  <a:lnTo>
                    <a:pt x="18" y="145"/>
                  </a:lnTo>
                  <a:lnTo>
                    <a:pt x="11" y="125"/>
                  </a:lnTo>
                  <a:lnTo>
                    <a:pt x="6" y="103"/>
                  </a:lnTo>
                  <a:lnTo>
                    <a:pt x="0" y="81"/>
                  </a:lnTo>
                  <a:lnTo>
                    <a:pt x="0" y="53"/>
                  </a:lnTo>
                  <a:lnTo>
                    <a:pt x="5" y="33"/>
                  </a:lnTo>
                  <a:lnTo>
                    <a:pt x="11" y="18"/>
                  </a:lnTo>
                  <a:lnTo>
                    <a:pt x="18" y="0"/>
                  </a:lnTo>
                  <a:lnTo>
                    <a:pt x="35" y="0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7440" y="5742000"/>
              <a:ext cx="112680" cy="312840"/>
            </a:xfrm>
            <a:custGeom>
              <a:avLst/>
              <a:gdLst/>
              <a:ahLst/>
              <a:rect l="l" t="t" r="r" b="b"/>
              <a:pathLst>
                <a:path w="71" h="197">
                  <a:moveTo>
                    <a:pt x="13" y="23"/>
                  </a:moveTo>
                  <a:lnTo>
                    <a:pt x="4" y="1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7" y="11"/>
                  </a:lnTo>
                  <a:lnTo>
                    <a:pt x="40" y="32"/>
                  </a:lnTo>
                  <a:lnTo>
                    <a:pt x="48" y="53"/>
                  </a:lnTo>
                  <a:lnTo>
                    <a:pt x="55" y="73"/>
                  </a:lnTo>
                  <a:lnTo>
                    <a:pt x="57" y="92"/>
                  </a:lnTo>
                  <a:lnTo>
                    <a:pt x="56" y="101"/>
                  </a:lnTo>
                  <a:lnTo>
                    <a:pt x="49" y="113"/>
                  </a:lnTo>
                  <a:lnTo>
                    <a:pt x="38" y="145"/>
                  </a:lnTo>
                  <a:lnTo>
                    <a:pt x="25" y="164"/>
                  </a:lnTo>
                  <a:lnTo>
                    <a:pt x="22" y="172"/>
                  </a:lnTo>
                  <a:lnTo>
                    <a:pt x="34" y="173"/>
                  </a:lnTo>
                  <a:lnTo>
                    <a:pt x="50" y="173"/>
                  </a:lnTo>
                  <a:lnTo>
                    <a:pt x="70" y="181"/>
                  </a:lnTo>
                  <a:lnTo>
                    <a:pt x="68" y="186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47" y="191"/>
                  </a:lnTo>
                  <a:lnTo>
                    <a:pt x="34" y="184"/>
                  </a:lnTo>
                  <a:lnTo>
                    <a:pt x="16" y="183"/>
                  </a:lnTo>
                  <a:lnTo>
                    <a:pt x="5" y="185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6" y="170"/>
                  </a:lnTo>
                  <a:lnTo>
                    <a:pt x="16" y="159"/>
                  </a:lnTo>
                  <a:lnTo>
                    <a:pt x="34" y="133"/>
                  </a:lnTo>
                  <a:lnTo>
                    <a:pt x="41" y="109"/>
                  </a:lnTo>
                  <a:lnTo>
                    <a:pt x="43" y="87"/>
                  </a:lnTo>
                  <a:lnTo>
                    <a:pt x="43" y="75"/>
                  </a:lnTo>
                  <a:lnTo>
                    <a:pt x="37" y="53"/>
                  </a:lnTo>
                  <a:lnTo>
                    <a:pt x="21" y="30"/>
                  </a:lnTo>
                  <a:lnTo>
                    <a:pt x="9" y="18"/>
                  </a:lnTo>
                  <a:lnTo>
                    <a:pt x="13" y="23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93080" y="573732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35" y="38"/>
                  </a:moveTo>
                  <a:lnTo>
                    <a:pt x="46" y="17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8" y="7"/>
                  </a:lnTo>
                  <a:lnTo>
                    <a:pt x="69" y="18"/>
                  </a:lnTo>
                  <a:lnTo>
                    <a:pt x="62" y="26"/>
                  </a:lnTo>
                  <a:lnTo>
                    <a:pt x="52" y="37"/>
                  </a:lnTo>
                  <a:lnTo>
                    <a:pt x="43" y="49"/>
                  </a:lnTo>
                  <a:lnTo>
                    <a:pt x="34" y="65"/>
                  </a:lnTo>
                  <a:lnTo>
                    <a:pt x="30" y="77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7" y="125"/>
                  </a:lnTo>
                  <a:lnTo>
                    <a:pt x="32" y="146"/>
                  </a:lnTo>
                  <a:lnTo>
                    <a:pt x="40" y="164"/>
                  </a:lnTo>
                  <a:lnTo>
                    <a:pt x="47" y="174"/>
                  </a:lnTo>
                  <a:lnTo>
                    <a:pt x="51" y="182"/>
                  </a:lnTo>
                  <a:lnTo>
                    <a:pt x="52" y="188"/>
                  </a:lnTo>
                  <a:lnTo>
                    <a:pt x="48" y="190"/>
                  </a:lnTo>
                  <a:lnTo>
                    <a:pt x="39" y="191"/>
                  </a:lnTo>
                  <a:lnTo>
                    <a:pt x="26" y="196"/>
                  </a:lnTo>
                  <a:lnTo>
                    <a:pt x="16" y="202"/>
                  </a:lnTo>
                  <a:lnTo>
                    <a:pt x="10" y="209"/>
                  </a:lnTo>
                  <a:lnTo>
                    <a:pt x="4" y="207"/>
                  </a:lnTo>
                  <a:lnTo>
                    <a:pt x="0" y="199"/>
                  </a:lnTo>
                  <a:lnTo>
                    <a:pt x="0" y="192"/>
                  </a:lnTo>
                  <a:lnTo>
                    <a:pt x="10" y="186"/>
                  </a:lnTo>
                  <a:lnTo>
                    <a:pt x="27" y="182"/>
                  </a:lnTo>
                  <a:lnTo>
                    <a:pt x="42" y="180"/>
                  </a:lnTo>
                  <a:lnTo>
                    <a:pt x="35" y="172"/>
                  </a:lnTo>
                  <a:lnTo>
                    <a:pt x="31" y="161"/>
                  </a:lnTo>
                  <a:lnTo>
                    <a:pt x="25" y="146"/>
                  </a:lnTo>
                  <a:lnTo>
                    <a:pt x="19" y="131"/>
                  </a:lnTo>
                  <a:lnTo>
                    <a:pt x="17" y="111"/>
                  </a:lnTo>
                  <a:lnTo>
                    <a:pt x="17" y="92"/>
                  </a:lnTo>
                  <a:lnTo>
                    <a:pt x="21" y="74"/>
                  </a:lnTo>
                  <a:lnTo>
                    <a:pt x="29" y="50"/>
                  </a:lnTo>
                  <a:lnTo>
                    <a:pt x="35" y="38"/>
                  </a:ln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7608960" y="5076720"/>
            <a:ext cx="1009440" cy="432000"/>
            <a:chOff x="7608960" y="5076720"/>
            <a:chExt cx="1009440" cy="432000"/>
          </a:xfrm>
        </p:grpSpPr>
        <p:sp>
          <p:nvSpPr>
            <p:cNvPr id="540" name=""/>
            <p:cNvSpPr/>
            <p:nvPr/>
          </p:nvSpPr>
          <p:spPr>
            <a:xfrm>
              <a:off x="7797960" y="5176800"/>
              <a:ext cx="653760" cy="103320"/>
            </a:xfrm>
            <a:custGeom>
              <a:avLst/>
              <a:gdLst/>
              <a:ahLst/>
              <a:rect l="l" t="t" r="r" b="b"/>
              <a:pathLst>
                <a:path w="412" h="65">
                  <a:moveTo>
                    <a:pt x="0" y="45"/>
                  </a:moveTo>
                  <a:lnTo>
                    <a:pt x="28" y="33"/>
                  </a:lnTo>
                  <a:lnTo>
                    <a:pt x="49" y="25"/>
                  </a:lnTo>
                  <a:lnTo>
                    <a:pt x="70" y="20"/>
                  </a:lnTo>
                  <a:lnTo>
                    <a:pt x="97" y="14"/>
                  </a:lnTo>
                  <a:lnTo>
                    <a:pt x="128" y="9"/>
                  </a:lnTo>
                  <a:lnTo>
                    <a:pt x="171" y="4"/>
                  </a:lnTo>
                  <a:lnTo>
                    <a:pt x="232" y="0"/>
                  </a:lnTo>
                  <a:lnTo>
                    <a:pt x="272" y="0"/>
                  </a:lnTo>
                  <a:lnTo>
                    <a:pt x="301" y="2"/>
                  </a:lnTo>
                  <a:lnTo>
                    <a:pt x="334" y="5"/>
                  </a:lnTo>
                  <a:lnTo>
                    <a:pt x="361" y="8"/>
                  </a:lnTo>
                  <a:lnTo>
                    <a:pt x="389" y="14"/>
                  </a:lnTo>
                  <a:lnTo>
                    <a:pt x="411" y="21"/>
                  </a:lnTo>
                  <a:lnTo>
                    <a:pt x="404" y="43"/>
                  </a:lnTo>
                  <a:lnTo>
                    <a:pt x="383" y="37"/>
                  </a:lnTo>
                  <a:lnTo>
                    <a:pt x="358" y="32"/>
                  </a:lnTo>
                  <a:lnTo>
                    <a:pt x="334" y="27"/>
                  </a:lnTo>
                  <a:lnTo>
                    <a:pt x="310" y="25"/>
                  </a:lnTo>
                  <a:lnTo>
                    <a:pt x="287" y="25"/>
                  </a:lnTo>
                  <a:lnTo>
                    <a:pt x="254" y="24"/>
                  </a:lnTo>
                  <a:lnTo>
                    <a:pt x="224" y="25"/>
                  </a:lnTo>
                  <a:lnTo>
                    <a:pt x="171" y="28"/>
                  </a:lnTo>
                  <a:lnTo>
                    <a:pt x="138" y="31"/>
                  </a:lnTo>
                  <a:lnTo>
                    <a:pt x="120" y="34"/>
                  </a:lnTo>
                  <a:lnTo>
                    <a:pt x="99" y="36"/>
                  </a:lnTo>
                  <a:lnTo>
                    <a:pt x="78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24" y="58"/>
                  </a:lnTo>
                  <a:lnTo>
                    <a:pt x="10" y="64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8389800" y="5076720"/>
              <a:ext cx="228600" cy="381240"/>
              <a:chOff x="8389800" y="5076720"/>
              <a:chExt cx="228600" cy="381240"/>
            </a:xfrm>
          </p:grpSpPr>
          <p:sp>
            <p:nvSpPr>
              <p:cNvPr id="542" name=""/>
              <p:cNvSpPr/>
              <p:nvPr/>
            </p:nvSpPr>
            <p:spPr>
              <a:xfrm>
                <a:off x="8421840" y="5086440"/>
                <a:ext cx="196560" cy="371520"/>
              </a:xfrm>
              <a:custGeom>
                <a:avLst/>
                <a:gdLst/>
                <a:ahLst/>
                <a:rect l="l" t="t" r="r" b="b"/>
                <a:pathLst>
                  <a:path w="124" h="234">
                    <a:moveTo>
                      <a:pt x="109" y="133"/>
                    </a:moveTo>
                    <a:lnTo>
                      <a:pt x="112" y="125"/>
                    </a:lnTo>
                    <a:lnTo>
                      <a:pt x="114" y="117"/>
                    </a:lnTo>
                    <a:lnTo>
                      <a:pt x="116" y="109"/>
                    </a:lnTo>
                    <a:lnTo>
                      <a:pt x="118" y="101"/>
                    </a:lnTo>
                    <a:lnTo>
                      <a:pt x="120" y="93"/>
                    </a:lnTo>
                    <a:lnTo>
                      <a:pt x="121" y="85"/>
                    </a:lnTo>
                    <a:lnTo>
                      <a:pt x="122" y="77"/>
                    </a:lnTo>
                    <a:lnTo>
                      <a:pt x="123" y="70"/>
                    </a:lnTo>
                    <a:lnTo>
                      <a:pt x="123" y="62"/>
                    </a:lnTo>
                    <a:lnTo>
                      <a:pt x="123" y="55"/>
                    </a:lnTo>
                    <a:lnTo>
                      <a:pt x="123" y="49"/>
                    </a:lnTo>
                    <a:lnTo>
                      <a:pt x="123" y="42"/>
                    </a:lnTo>
                    <a:lnTo>
                      <a:pt x="122" y="36"/>
                    </a:lnTo>
                    <a:lnTo>
                      <a:pt x="121" y="30"/>
                    </a:lnTo>
                    <a:lnTo>
                      <a:pt x="119" y="25"/>
                    </a:lnTo>
                    <a:lnTo>
                      <a:pt x="118" y="20"/>
                    </a:lnTo>
                    <a:lnTo>
                      <a:pt x="116" y="16"/>
                    </a:lnTo>
                    <a:lnTo>
                      <a:pt x="114" y="12"/>
                    </a:lnTo>
                    <a:lnTo>
                      <a:pt x="111" y="9"/>
                    </a:lnTo>
                    <a:lnTo>
                      <a:pt x="109" y="6"/>
                    </a:lnTo>
                    <a:lnTo>
                      <a:pt x="106" y="4"/>
                    </a:lnTo>
                    <a:lnTo>
                      <a:pt x="103" y="2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8" y="1"/>
                    </a:lnTo>
                    <a:lnTo>
                      <a:pt x="84" y="2"/>
                    </a:lnTo>
                    <a:lnTo>
                      <a:pt x="80" y="4"/>
                    </a:lnTo>
                    <a:lnTo>
                      <a:pt x="76" y="6"/>
                    </a:lnTo>
                    <a:lnTo>
                      <a:pt x="72" y="9"/>
                    </a:lnTo>
                    <a:lnTo>
                      <a:pt x="68" y="12"/>
                    </a:lnTo>
                    <a:lnTo>
                      <a:pt x="63" y="16"/>
                    </a:lnTo>
                    <a:lnTo>
                      <a:pt x="59" y="20"/>
                    </a:lnTo>
                    <a:lnTo>
                      <a:pt x="55" y="25"/>
                    </a:lnTo>
                    <a:lnTo>
                      <a:pt x="50" y="30"/>
                    </a:lnTo>
                    <a:lnTo>
                      <a:pt x="46" y="36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4" y="55"/>
                    </a:lnTo>
                    <a:lnTo>
                      <a:pt x="30" y="62"/>
                    </a:lnTo>
                    <a:lnTo>
                      <a:pt x="27" y="69"/>
                    </a:lnTo>
                    <a:lnTo>
                      <a:pt x="23" y="77"/>
                    </a:lnTo>
                    <a:lnTo>
                      <a:pt x="20" y="85"/>
                    </a:lnTo>
                    <a:lnTo>
                      <a:pt x="17" y="92"/>
                    </a:lnTo>
                    <a:lnTo>
                      <a:pt x="14" y="100"/>
                    </a:lnTo>
                    <a:lnTo>
                      <a:pt x="11" y="108"/>
                    </a:lnTo>
                    <a:lnTo>
                      <a:pt x="9" y="116"/>
                    </a:lnTo>
                    <a:lnTo>
                      <a:pt x="6" y="125"/>
                    </a:lnTo>
                    <a:lnTo>
                      <a:pt x="5" y="133"/>
                    </a:lnTo>
                    <a:lnTo>
                      <a:pt x="3" y="141"/>
                    </a:lnTo>
                    <a:lnTo>
                      <a:pt x="2" y="149"/>
                    </a:lnTo>
                    <a:lnTo>
                      <a:pt x="1" y="156"/>
                    </a:lnTo>
                    <a:lnTo>
                      <a:pt x="0" y="164"/>
                    </a:lnTo>
                    <a:lnTo>
                      <a:pt x="0" y="171"/>
                    </a:lnTo>
                    <a:lnTo>
                      <a:pt x="0" y="178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1" y="197"/>
                    </a:lnTo>
                    <a:lnTo>
                      <a:pt x="2" y="203"/>
                    </a:lnTo>
                    <a:lnTo>
                      <a:pt x="3" y="208"/>
                    </a:lnTo>
                    <a:lnTo>
                      <a:pt x="5" y="213"/>
                    </a:lnTo>
                    <a:lnTo>
                      <a:pt x="7" y="217"/>
                    </a:lnTo>
                    <a:lnTo>
                      <a:pt x="9" y="221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9"/>
                    </a:lnTo>
                    <a:lnTo>
                      <a:pt x="20" y="231"/>
                    </a:lnTo>
                    <a:lnTo>
                      <a:pt x="23" y="232"/>
                    </a:lnTo>
                    <a:lnTo>
                      <a:pt x="27" y="233"/>
                    </a:lnTo>
                    <a:lnTo>
                      <a:pt x="31" y="233"/>
                    </a:lnTo>
                    <a:lnTo>
                      <a:pt x="34" y="232"/>
                    </a:lnTo>
                    <a:lnTo>
                      <a:pt x="38" y="231"/>
                    </a:lnTo>
                    <a:lnTo>
                      <a:pt x="43" y="230"/>
                    </a:lnTo>
                    <a:lnTo>
                      <a:pt x="47" y="227"/>
                    </a:lnTo>
                    <a:lnTo>
                      <a:pt x="51" y="225"/>
                    </a:lnTo>
                    <a:lnTo>
                      <a:pt x="55" y="221"/>
                    </a:lnTo>
                    <a:lnTo>
                      <a:pt x="60" y="218"/>
                    </a:lnTo>
                    <a:lnTo>
                      <a:pt x="64" y="213"/>
                    </a:lnTo>
                    <a:lnTo>
                      <a:pt x="68" y="208"/>
                    </a:lnTo>
                    <a:lnTo>
                      <a:pt x="72" y="203"/>
                    </a:lnTo>
                    <a:lnTo>
                      <a:pt x="77" y="198"/>
                    </a:lnTo>
                    <a:lnTo>
                      <a:pt x="81" y="192"/>
                    </a:lnTo>
                    <a:lnTo>
                      <a:pt x="85" y="185"/>
                    </a:lnTo>
                    <a:lnTo>
                      <a:pt x="89" y="179"/>
                    </a:lnTo>
                    <a:lnTo>
                      <a:pt x="93" y="171"/>
                    </a:lnTo>
                    <a:lnTo>
                      <a:pt x="96" y="164"/>
                    </a:lnTo>
                    <a:lnTo>
                      <a:pt x="100" y="157"/>
                    </a:lnTo>
                    <a:lnTo>
                      <a:pt x="103" y="149"/>
                    </a:lnTo>
                    <a:lnTo>
                      <a:pt x="106" y="141"/>
                    </a:lnTo>
                    <a:lnTo>
                      <a:pt x="109" y="13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389800" y="5076720"/>
                <a:ext cx="208080" cy="378000"/>
              </a:xfrm>
              <a:custGeom>
                <a:avLst/>
                <a:gdLst/>
                <a:ahLst/>
                <a:rect l="l" t="t" r="r" b="b"/>
                <a:pathLst>
                  <a:path w="131" h="238">
                    <a:moveTo>
                      <a:pt x="130" y="11"/>
                    </a:moveTo>
                    <a:lnTo>
                      <a:pt x="118" y="10"/>
                    </a:lnTo>
                    <a:lnTo>
                      <a:pt x="106" y="13"/>
                    </a:lnTo>
                    <a:lnTo>
                      <a:pt x="96" y="22"/>
                    </a:lnTo>
                    <a:lnTo>
                      <a:pt x="82" y="33"/>
                    </a:lnTo>
                    <a:lnTo>
                      <a:pt x="75" y="43"/>
                    </a:lnTo>
                    <a:lnTo>
                      <a:pt x="67" y="53"/>
                    </a:lnTo>
                    <a:lnTo>
                      <a:pt x="59" y="71"/>
                    </a:lnTo>
                    <a:lnTo>
                      <a:pt x="53" y="86"/>
                    </a:lnTo>
                    <a:lnTo>
                      <a:pt x="45" y="103"/>
                    </a:lnTo>
                    <a:lnTo>
                      <a:pt x="40" y="118"/>
                    </a:lnTo>
                    <a:lnTo>
                      <a:pt x="33" y="143"/>
                    </a:lnTo>
                    <a:lnTo>
                      <a:pt x="30" y="164"/>
                    </a:lnTo>
                    <a:lnTo>
                      <a:pt x="27" y="182"/>
                    </a:lnTo>
                    <a:lnTo>
                      <a:pt x="27" y="198"/>
                    </a:lnTo>
                    <a:lnTo>
                      <a:pt x="31" y="218"/>
                    </a:lnTo>
                    <a:lnTo>
                      <a:pt x="34" y="229"/>
                    </a:lnTo>
                    <a:lnTo>
                      <a:pt x="43" y="237"/>
                    </a:lnTo>
                    <a:lnTo>
                      <a:pt x="9" y="221"/>
                    </a:lnTo>
                    <a:lnTo>
                      <a:pt x="2" y="206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0" y="155"/>
                    </a:lnTo>
                    <a:lnTo>
                      <a:pt x="4" y="131"/>
                    </a:lnTo>
                    <a:lnTo>
                      <a:pt x="10" y="111"/>
                    </a:lnTo>
                    <a:lnTo>
                      <a:pt x="19" y="85"/>
                    </a:lnTo>
                    <a:lnTo>
                      <a:pt x="31" y="55"/>
                    </a:lnTo>
                    <a:lnTo>
                      <a:pt x="46" y="34"/>
                    </a:lnTo>
                    <a:lnTo>
                      <a:pt x="61" y="15"/>
                    </a:lnTo>
                    <a:lnTo>
                      <a:pt x="70" y="8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130" y="1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99600" y="5237280"/>
                <a:ext cx="47520" cy="8100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7" y="29"/>
                    </a:moveTo>
                    <a:lnTo>
                      <a:pt x="28" y="25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6" y="13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3" y="49"/>
                    </a:lnTo>
                    <a:lnTo>
                      <a:pt x="16" y="47"/>
                    </a:lnTo>
                    <a:lnTo>
                      <a:pt x="18" y="44"/>
                    </a:lnTo>
                    <a:lnTo>
                      <a:pt x="21" y="41"/>
                    </a:lnTo>
                    <a:lnTo>
                      <a:pt x="23" y="37"/>
                    </a:lnTo>
                    <a:lnTo>
                      <a:pt x="25" y="33"/>
                    </a:lnTo>
                    <a:lnTo>
                      <a:pt x="27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7608960" y="5133960"/>
              <a:ext cx="255600" cy="374760"/>
              <a:chOff x="7608960" y="5133960"/>
              <a:chExt cx="255600" cy="374760"/>
            </a:xfrm>
          </p:grpSpPr>
          <p:sp>
            <p:nvSpPr>
              <p:cNvPr id="546" name=""/>
              <p:cNvSpPr/>
              <p:nvPr/>
            </p:nvSpPr>
            <p:spPr>
              <a:xfrm>
                <a:off x="7608960" y="5149800"/>
                <a:ext cx="220680" cy="358920"/>
              </a:xfrm>
              <a:custGeom>
                <a:avLst/>
                <a:gdLst/>
                <a:ahLst/>
                <a:rect l="l" t="t" r="r" b="b"/>
                <a:pathLst>
                  <a:path w="139" h="226">
                    <a:moveTo>
                      <a:pt x="115" y="91"/>
                    </a:moveTo>
                    <a:lnTo>
                      <a:pt x="111" y="84"/>
                    </a:lnTo>
                    <a:lnTo>
                      <a:pt x="107" y="76"/>
                    </a:lnTo>
                    <a:lnTo>
                      <a:pt x="103" y="69"/>
                    </a:lnTo>
                    <a:lnTo>
                      <a:pt x="99" y="62"/>
                    </a:lnTo>
                    <a:lnTo>
                      <a:pt x="95" y="55"/>
                    </a:lnTo>
                    <a:lnTo>
                      <a:pt x="90" y="48"/>
                    </a:lnTo>
                    <a:lnTo>
                      <a:pt x="85" y="42"/>
                    </a:lnTo>
                    <a:lnTo>
                      <a:pt x="81" y="36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7" y="13"/>
                    </a:lnTo>
                    <a:lnTo>
                      <a:pt x="52" y="9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1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1" y="33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1" y="58"/>
                    </a:lnTo>
                    <a:lnTo>
                      <a:pt x="2" y="65"/>
                    </a:lnTo>
                    <a:lnTo>
                      <a:pt x="3" y="72"/>
                    </a:lnTo>
                    <a:lnTo>
                      <a:pt x="5" y="80"/>
                    </a:lnTo>
                    <a:lnTo>
                      <a:pt x="6" y="87"/>
                    </a:lnTo>
                    <a:lnTo>
                      <a:pt x="9" y="95"/>
                    </a:lnTo>
                    <a:lnTo>
                      <a:pt x="11" y="103"/>
                    </a:lnTo>
                    <a:lnTo>
                      <a:pt x="14" y="111"/>
                    </a:lnTo>
                    <a:lnTo>
                      <a:pt x="17" y="119"/>
                    </a:lnTo>
                    <a:lnTo>
                      <a:pt x="20" y="126"/>
                    </a:lnTo>
                    <a:lnTo>
                      <a:pt x="24" y="134"/>
                    </a:lnTo>
                    <a:lnTo>
                      <a:pt x="27" y="142"/>
                    </a:lnTo>
                    <a:lnTo>
                      <a:pt x="31" y="149"/>
                    </a:lnTo>
                    <a:lnTo>
                      <a:pt x="35" y="157"/>
                    </a:lnTo>
                    <a:lnTo>
                      <a:pt x="40" y="164"/>
                    </a:lnTo>
                    <a:lnTo>
                      <a:pt x="44" y="170"/>
                    </a:lnTo>
                    <a:lnTo>
                      <a:pt x="48" y="177"/>
                    </a:lnTo>
                    <a:lnTo>
                      <a:pt x="53" y="183"/>
                    </a:lnTo>
                    <a:lnTo>
                      <a:pt x="58" y="189"/>
                    </a:lnTo>
                    <a:lnTo>
                      <a:pt x="63" y="195"/>
                    </a:lnTo>
                    <a:lnTo>
                      <a:pt x="67" y="200"/>
                    </a:lnTo>
                    <a:lnTo>
                      <a:pt x="72" y="205"/>
                    </a:lnTo>
                    <a:lnTo>
                      <a:pt x="77" y="209"/>
                    </a:lnTo>
                    <a:lnTo>
                      <a:pt x="82" y="213"/>
                    </a:lnTo>
                    <a:lnTo>
                      <a:pt x="86" y="216"/>
                    </a:lnTo>
                    <a:lnTo>
                      <a:pt x="91" y="219"/>
                    </a:lnTo>
                    <a:lnTo>
                      <a:pt x="96" y="221"/>
                    </a:lnTo>
                    <a:lnTo>
                      <a:pt x="100" y="223"/>
                    </a:lnTo>
                    <a:lnTo>
                      <a:pt x="104" y="224"/>
                    </a:lnTo>
                    <a:lnTo>
                      <a:pt x="108" y="225"/>
                    </a:lnTo>
                    <a:lnTo>
                      <a:pt x="112" y="225"/>
                    </a:lnTo>
                    <a:lnTo>
                      <a:pt x="116" y="225"/>
                    </a:lnTo>
                    <a:lnTo>
                      <a:pt x="119" y="224"/>
                    </a:lnTo>
                    <a:lnTo>
                      <a:pt x="122" y="222"/>
                    </a:lnTo>
                    <a:lnTo>
                      <a:pt x="125" y="220"/>
                    </a:lnTo>
                    <a:lnTo>
                      <a:pt x="128" y="218"/>
                    </a:lnTo>
                    <a:lnTo>
                      <a:pt x="130" y="215"/>
                    </a:lnTo>
                    <a:lnTo>
                      <a:pt x="132" y="211"/>
                    </a:lnTo>
                    <a:lnTo>
                      <a:pt x="134" y="207"/>
                    </a:lnTo>
                    <a:lnTo>
                      <a:pt x="135" y="203"/>
                    </a:lnTo>
                    <a:lnTo>
                      <a:pt x="137" y="198"/>
                    </a:lnTo>
                    <a:lnTo>
                      <a:pt x="137" y="192"/>
                    </a:lnTo>
                    <a:lnTo>
                      <a:pt x="138" y="186"/>
                    </a:lnTo>
                    <a:lnTo>
                      <a:pt x="138" y="180"/>
                    </a:lnTo>
                    <a:lnTo>
                      <a:pt x="138" y="174"/>
                    </a:lnTo>
                    <a:lnTo>
                      <a:pt x="137" y="167"/>
                    </a:lnTo>
                    <a:lnTo>
                      <a:pt x="136" y="160"/>
                    </a:lnTo>
                    <a:lnTo>
                      <a:pt x="135" y="153"/>
                    </a:lnTo>
                    <a:lnTo>
                      <a:pt x="134" y="146"/>
                    </a:lnTo>
                    <a:lnTo>
                      <a:pt x="132" y="138"/>
                    </a:lnTo>
                    <a:lnTo>
                      <a:pt x="130" y="130"/>
                    </a:lnTo>
                    <a:lnTo>
                      <a:pt x="127" y="123"/>
                    </a:lnTo>
                    <a:lnTo>
                      <a:pt x="125" y="115"/>
                    </a:lnTo>
                    <a:lnTo>
                      <a:pt x="122" y="107"/>
                    </a:lnTo>
                    <a:lnTo>
                      <a:pt x="119" y="99"/>
                    </a:lnTo>
                    <a:lnTo>
                      <a:pt x="115" y="91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28040" y="5133960"/>
                <a:ext cx="236520" cy="368280"/>
              </a:xfrm>
              <a:custGeom>
                <a:avLst/>
                <a:gdLst/>
                <a:ahLst/>
                <a:rect l="l" t="t" r="r" b="b"/>
                <a:pathLst>
                  <a:path w="149" h="232">
                    <a:moveTo>
                      <a:pt x="0" y="15"/>
                    </a:moveTo>
                    <a:lnTo>
                      <a:pt x="12" y="14"/>
                    </a:lnTo>
                    <a:lnTo>
                      <a:pt x="24" y="14"/>
                    </a:lnTo>
                    <a:lnTo>
                      <a:pt x="35" y="22"/>
                    </a:lnTo>
                    <a:lnTo>
                      <a:pt x="50" y="33"/>
                    </a:lnTo>
                    <a:lnTo>
                      <a:pt x="58" y="41"/>
                    </a:lnTo>
                    <a:lnTo>
                      <a:pt x="66" y="51"/>
                    </a:lnTo>
                    <a:lnTo>
                      <a:pt x="76" y="67"/>
                    </a:lnTo>
                    <a:lnTo>
                      <a:pt x="85" y="82"/>
                    </a:lnTo>
                    <a:lnTo>
                      <a:pt x="94" y="98"/>
                    </a:lnTo>
                    <a:lnTo>
                      <a:pt x="101" y="113"/>
                    </a:lnTo>
                    <a:lnTo>
                      <a:pt x="110" y="136"/>
                    </a:lnTo>
                    <a:lnTo>
                      <a:pt x="115" y="157"/>
                    </a:lnTo>
                    <a:lnTo>
                      <a:pt x="120" y="175"/>
                    </a:lnTo>
                    <a:lnTo>
                      <a:pt x="122" y="192"/>
                    </a:lnTo>
                    <a:lnTo>
                      <a:pt x="120" y="211"/>
                    </a:lnTo>
                    <a:lnTo>
                      <a:pt x="118" y="222"/>
                    </a:lnTo>
                    <a:lnTo>
                      <a:pt x="111" y="231"/>
                    </a:lnTo>
                    <a:lnTo>
                      <a:pt x="142" y="212"/>
                    </a:lnTo>
                    <a:lnTo>
                      <a:pt x="148" y="197"/>
                    </a:lnTo>
                    <a:lnTo>
                      <a:pt x="148" y="184"/>
                    </a:lnTo>
                    <a:lnTo>
                      <a:pt x="146" y="167"/>
                    </a:lnTo>
                    <a:lnTo>
                      <a:pt x="144" y="146"/>
                    </a:lnTo>
                    <a:lnTo>
                      <a:pt x="137" y="122"/>
                    </a:lnTo>
                    <a:lnTo>
                      <a:pt x="130" y="102"/>
                    </a:lnTo>
                    <a:lnTo>
                      <a:pt x="118" y="77"/>
                    </a:lnTo>
                    <a:lnTo>
                      <a:pt x="103" y="49"/>
                    </a:lnTo>
                    <a:lnTo>
                      <a:pt x="86" y="29"/>
                    </a:lnTo>
                    <a:lnTo>
                      <a:pt x="69" y="12"/>
                    </a:lnTo>
                    <a:lnTo>
                      <a:pt x="60" y="6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89960" y="5294160"/>
                <a:ext cx="54000" cy="79560"/>
              </a:xfrm>
              <a:custGeom>
                <a:avLst/>
                <a:gdLst/>
                <a:ahLst/>
                <a:rect l="l" t="t" r="r" b="b"/>
                <a:pathLst>
                  <a:path w="34" h="50">
                    <a:moveTo>
                      <a:pt x="28" y="19"/>
                    </a:moveTo>
                    <a:lnTo>
                      <a:pt x="26" y="15"/>
                    </a:lnTo>
                    <a:lnTo>
                      <a:pt x="24" y="11"/>
                    </a:lnTo>
                    <a:lnTo>
                      <a:pt x="21" y="8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20" y="48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30" y="47"/>
                    </a:lnTo>
                    <a:lnTo>
                      <a:pt x="31" y="45"/>
                    </a:lnTo>
                    <a:lnTo>
                      <a:pt x="32" y="42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2" y="32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03920" y="630396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487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7689960" y="6324480"/>
          <a:ext cx="1454040" cy="381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899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4600" y="5218200"/>
          <a:ext cx="227664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5218200"/>
                    <a:ext cx="22766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181080" y="4194000"/>
            <a:ext cx="2249280" cy="519120"/>
            <a:chOff x="181080" y="4194000"/>
            <a:chExt cx="2249280" cy="519120"/>
          </a:xfrm>
        </p:grpSpPr>
        <p:grpSp>
          <p:nvGrpSpPr>
            <p:cNvPr id="561" name=""/>
            <p:cNvGrpSpPr/>
            <p:nvPr/>
          </p:nvGrpSpPr>
          <p:grpSpPr>
            <a:xfrm>
              <a:off x="295200" y="4194000"/>
              <a:ext cx="1546200" cy="203400"/>
              <a:chOff x="295200" y="4194000"/>
              <a:chExt cx="1546200" cy="2034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836640" y="4214880"/>
                <a:ext cx="826920" cy="181080"/>
                <a:chOff x="836640" y="4214880"/>
                <a:chExt cx="826920" cy="1810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1020600" y="4221000"/>
                  <a:ext cx="527040" cy="155880"/>
                  <a:chOff x="1020600" y="4221000"/>
                  <a:chExt cx="527040" cy="15588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1020600" y="4221000"/>
                    <a:ext cx="907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461960" y="429264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836640" y="421488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295200" y="4194000"/>
                <a:ext cx="1546200" cy="20340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38040" y="4392720"/>
              <a:ext cx="2090880" cy="32040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1080" y="4264200"/>
              <a:ext cx="2249280" cy="401400"/>
              <a:chOff x="181080" y="4264200"/>
              <a:chExt cx="2249280" cy="40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81080" y="4394160"/>
                <a:ext cx="128520" cy="238320"/>
                <a:chOff x="181080" y="4394160"/>
                <a:chExt cx="128520" cy="2383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3680" y="444348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3680" y="439416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93680" y="442440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6920" y="441468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181080" y="4600440"/>
                  <a:ext cx="128520" cy="12960"/>
                  <a:chOff x="181080" y="4600440"/>
                  <a:chExt cx="128520" cy="1296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87200" y="460044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81080" y="460044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181080" y="4619520"/>
                  <a:ext cx="128520" cy="12960"/>
                  <a:chOff x="181080" y="4619520"/>
                  <a:chExt cx="128520" cy="1296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187200" y="461952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81080" y="461952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181080" y="4581360"/>
                  <a:ext cx="128520" cy="12960"/>
                  <a:chOff x="181080" y="4581360"/>
                  <a:chExt cx="128520" cy="1296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187200" y="45813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81080" y="45813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4" name=""/>
              <p:cNvSpPr/>
              <p:nvPr/>
            </p:nvSpPr>
            <p:spPr>
              <a:xfrm>
                <a:off x="189000" y="432756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089000" y="435600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728640" y="4264200"/>
                <a:ext cx="757440" cy="341280"/>
                <a:chOff x="728640" y="4264200"/>
                <a:chExt cx="757440" cy="3412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728640" y="4264200"/>
                  <a:ext cx="79560" cy="3780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44480" y="428004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1004760" y="4397400"/>
                  <a:ext cx="481320" cy="208080"/>
                  <a:chOff x="1004760" y="4397400"/>
                  <a:chExt cx="481320" cy="2080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004760" y="453708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004760" y="4397400"/>
                    <a:ext cx="4748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04760" y="444348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004760" y="448632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004760" y="452124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95" name=""/>
          <p:cNvGrpSpPr/>
          <p:nvPr/>
        </p:nvGrpSpPr>
        <p:grpSpPr>
          <a:xfrm>
            <a:off x="409680" y="4419720"/>
            <a:ext cx="1717560" cy="344520"/>
            <a:chOff x="409680" y="4419720"/>
            <a:chExt cx="1717560" cy="344520"/>
          </a:xfrm>
        </p:grpSpPr>
        <p:grpSp>
          <p:nvGrpSpPr>
            <p:cNvPr id="596" name=""/>
            <p:cNvGrpSpPr/>
            <p:nvPr/>
          </p:nvGrpSpPr>
          <p:grpSpPr>
            <a:xfrm>
              <a:off x="1782720" y="4419720"/>
              <a:ext cx="344520" cy="344520"/>
              <a:chOff x="1782720" y="4419720"/>
              <a:chExt cx="344520" cy="344520"/>
            </a:xfrm>
          </p:grpSpPr>
          <p:sp>
            <p:nvSpPr>
              <p:cNvPr id="597" name=""/>
              <p:cNvSpPr/>
              <p:nvPr/>
            </p:nvSpPr>
            <p:spPr>
              <a:xfrm>
                <a:off x="1782720" y="4419720"/>
                <a:ext cx="34452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27080" y="4643280"/>
                <a:ext cx="63720" cy="7812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0" y="44"/>
                    </a:moveTo>
                    <a:lnTo>
                      <a:pt x="15" y="0"/>
                    </a:lnTo>
                    <a:lnTo>
                      <a:pt x="24" y="0"/>
                    </a:lnTo>
                    <a:lnTo>
                      <a:pt x="39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9224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5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08080" y="4557600"/>
                <a:ext cx="7632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4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5" y="39"/>
                    </a:lnTo>
                    <a:lnTo>
                      <a:pt x="47" y="21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27360" y="4557600"/>
                <a:ext cx="7596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3" y="0"/>
                    </a:moveTo>
                    <a:lnTo>
                      <a:pt x="47" y="16"/>
                    </a:lnTo>
                    <a:lnTo>
                      <a:pt x="47" y="25"/>
                    </a:lnTo>
                    <a:lnTo>
                      <a:pt x="1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273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1908000" y="4541760"/>
                <a:ext cx="92160" cy="93600"/>
                <a:chOff x="1908000" y="4541760"/>
                <a:chExt cx="92160" cy="936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08000" y="4541760"/>
                  <a:ext cx="9216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27080" y="4562640"/>
                  <a:ext cx="5256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409680" y="4419720"/>
              <a:ext cx="345960" cy="344520"/>
              <a:chOff x="409680" y="4419720"/>
              <a:chExt cx="345960" cy="344520"/>
            </a:xfrm>
          </p:grpSpPr>
          <p:sp>
            <p:nvSpPr>
              <p:cNvPr id="607" name=""/>
              <p:cNvSpPr/>
              <p:nvPr/>
            </p:nvSpPr>
            <p:spPr>
              <a:xfrm>
                <a:off x="409680" y="4419720"/>
                <a:ext cx="345960" cy="344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5480" y="4643280"/>
                <a:ext cx="61920" cy="78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0" y="44"/>
                    </a:moveTo>
                    <a:lnTo>
                      <a:pt x="14" y="0"/>
                    </a:lnTo>
                    <a:lnTo>
                      <a:pt x="24" y="0"/>
                    </a:lnTo>
                    <a:lnTo>
                      <a:pt x="38" y="46"/>
                    </a:lnTo>
                    <a:lnTo>
                      <a:pt x="20" y="48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0800" y="446256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0" y="3"/>
                    </a:moveTo>
                    <a:lnTo>
                      <a:pt x="16" y="47"/>
                    </a:lnTo>
                    <a:lnTo>
                      <a:pt x="26" y="47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35040" y="455760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45" y="0"/>
                    </a:moveTo>
                    <a:lnTo>
                      <a:pt x="0" y="16"/>
                    </a:lnTo>
                    <a:lnTo>
                      <a:pt x="0" y="25"/>
                    </a:lnTo>
                    <a:lnTo>
                      <a:pt x="46" y="39"/>
                    </a:lnTo>
                    <a:lnTo>
                      <a:pt x="49" y="21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3960" y="4557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" y="0"/>
                    </a:moveTo>
                    <a:lnTo>
                      <a:pt x="48" y="16"/>
                    </a:lnTo>
                    <a:lnTo>
                      <a:pt x="48" y="2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5760" y="4462560"/>
                <a:ext cx="252360" cy="252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"/>
              <p:cNvGrpSpPr/>
              <p:nvPr/>
            </p:nvGrpSpPr>
            <p:grpSpPr>
              <a:xfrm>
                <a:off x="534960" y="4541760"/>
                <a:ext cx="93600" cy="93600"/>
                <a:chOff x="534960" y="4541760"/>
                <a:chExt cx="93600" cy="936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534960" y="4541760"/>
                  <a:ext cx="93600" cy="93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55480" y="4562640"/>
                  <a:ext cx="51120" cy="52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6" name=""/>
          <p:cNvGrpSpPr/>
          <p:nvPr/>
        </p:nvGrpSpPr>
        <p:grpSpPr>
          <a:xfrm>
            <a:off x="174600" y="2022480"/>
            <a:ext cx="1546200" cy="203040"/>
            <a:chOff x="174600" y="2022480"/>
            <a:chExt cx="1546200" cy="203040"/>
          </a:xfrm>
        </p:grpSpPr>
        <p:grpSp>
          <p:nvGrpSpPr>
            <p:cNvPr id="617" name=""/>
            <p:cNvGrpSpPr/>
            <p:nvPr/>
          </p:nvGrpSpPr>
          <p:grpSpPr>
            <a:xfrm>
              <a:off x="716040" y="2043000"/>
              <a:ext cx="826920" cy="181080"/>
              <a:chOff x="716040" y="2043000"/>
              <a:chExt cx="826920" cy="18108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900000" y="2049480"/>
                <a:ext cx="527040" cy="155520"/>
                <a:chOff x="900000" y="2049480"/>
                <a:chExt cx="527040" cy="155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900000" y="2049480"/>
                  <a:ext cx="90720" cy="128520"/>
                </a:xfrm>
                <a:custGeom>
                  <a:avLst/>
                  <a:gdLst/>
                  <a:ahLst/>
                  <a:rect l="l" t="t" r="r" b="b"/>
                  <a:pathLst>
                    <a:path w="57" h="81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37" y="80"/>
                      </a:lnTo>
                      <a:lnTo>
                        <a:pt x="56" y="80"/>
                      </a:lnTo>
                      <a:lnTo>
                        <a:pt x="15" y="0"/>
                      </a:lnTo>
                      <a:lnTo>
                        <a:pt x="1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41360" y="2120760"/>
                  <a:ext cx="85680" cy="8424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4" y="6"/>
                      </a:moveTo>
                      <a:lnTo>
                        <a:pt x="16" y="5"/>
                      </a:lnTo>
                      <a:lnTo>
                        <a:pt x="53" y="52"/>
                      </a:lnTo>
                      <a:lnTo>
                        <a:pt x="35" y="50"/>
                      </a:lnTo>
                      <a:lnTo>
                        <a:pt x="0" y="0"/>
                      </a:lnTo>
                      <a:lnTo>
                        <a:pt x="14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716040" y="2043000"/>
                <a:ext cx="826920" cy="181080"/>
              </a:xfrm>
              <a:custGeom>
                <a:avLst/>
                <a:gdLst/>
                <a:ahLst/>
                <a:rect l="l" t="t" r="r" b="b"/>
                <a:pathLst>
                  <a:path w="521" h="114">
                    <a:moveTo>
                      <a:pt x="4" y="15"/>
                    </a:moveTo>
                    <a:lnTo>
                      <a:pt x="53" y="13"/>
                    </a:lnTo>
                    <a:lnTo>
                      <a:pt x="90" y="13"/>
                    </a:lnTo>
                    <a:lnTo>
                      <a:pt x="141" y="11"/>
                    </a:lnTo>
                    <a:lnTo>
                      <a:pt x="187" y="11"/>
                    </a:lnTo>
                    <a:lnTo>
                      <a:pt x="239" y="11"/>
                    </a:lnTo>
                    <a:lnTo>
                      <a:pt x="286" y="12"/>
                    </a:lnTo>
                    <a:lnTo>
                      <a:pt x="308" y="15"/>
                    </a:lnTo>
                    <a:lnTo>
                      <a:pt x="327" y="19"/>
                    </a:lnTo>
                    <a:lnTo>
                      <a:pt x="348" y="27"/>
                    </a:lnTo>
                    <a:lnTo>
                      <a:pt x="368" y="35"/>
                    </a:lnTo>
                    <a:lnTo>
                      <a:pt x="441" y="72"/>
                    </a:lnTo>
                    <a:lnTo>
                      <a:pt x="481" y="90"/>
                    </a:lnTo>
                    <a:lnTo>
                      <a:pt x="503" y="104"/>
                    </a:lnTo>
                    <a:lnTo>
                      <a:pt x="483" y="104"/>
                    </a:lnTo>
                    <a:lnTo>
                      <a:pt x="0" y="67"/>
                    </a:lnTo>
                    <a:lnTo>
                      <a:pt x="1" y="79"/>
                    </a:lnTo>
                    <a:lnTo>
                      <a:pt x="504" y="113"/>
                    </a:lnTo>
                    <a:lnTo>
                      <a:pt x="520" y="110"/>
                    </a:lnTo>
                    <a:lnTo>
                      <a:pt x="512" y="100"/>
                    </a:lnTo>
                    <a:lnTo>
                      <a:pt x="498" y="90"/>
                    </a:lnTo>
                    <a:lnTo>
                      <a:pt x="464" y="72"/>
                    </a:lnTo>
                    <a:lnTo>
                      <a:pt x="438" y="58"/>
                    </a:lnTo>
                    <a:lnTo>
                      <a:pt x="371" y="26"/>
                    </a:lnTo>
                    <a:lnTo>
                      <a:pt x="341" y="14"/>
                    </a:lnTo>
                    <a:lnTo>
                      <a:pt x="311" y="7"/>
                    </a:lnTo>
                    <a:lnTo>
                      <a:pt x="245" y="0"/>
                    </a:lnTo>
                    <a:lnTo>
                      <a:pt x="153" y="0"/>
                    </a:lnTo>
                    <a:lnTo>
                      <a:pt x="4" y="8"/>
                    </a:lnTo>
                    <a:lnTo>
                      <a:pt x="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174600" y="2022480"/>
              <a:ext cx="1546200" cy="203040"/>
            </a:xfrm>
            <a:custGeom>
              <a:avLst/>
              <a:gdLst/>
              <a:ahLst/>
              <a:rect l="l" t="t" r="r" b="b"/>
              <a:pathLst>
                <a:path w="974" h="128">
                  <a:moveTo>
                    <a:pt x="0" y="85"/>
                  </a:moveTo>
                  <a:lnTo>
                    <a:pt x="37" y="80"/>
                  </a:lnTo>
                  <a:lnTo>
                    <a:pt x="66" y="73"/>
                  </a:lnTo>
                  <a:lnTo>
                    <a:pt x="86" y="68"/>
                  </a:lnTo>
                  <a:lnTo>
                    <a:pt x="101" y="63"/>
                  </a:lnTo>
                  <a:lnTo>
                    <a:pt x="122" y="58"/>
                  </a:lnTo>
                  <a:lnTo>
                    <a:pt x="140" y="53"/>
                  </a:lnTo>
                  <a:lnTo>
                    <a:pt x="160" y="48"/>
                  </a:lnTo>
                  <a:lnTo>
                    <a:pt x="178" y="44"/>
                  </a:lnTo>
                  <a:lnTo>
                    <a:pt x="198" y="41"/>
                  </a:lnTo>
                  <a:lnTo>
                    <a:pt x="215" y="38"/>
                  </a:lnTo>
                  <a:lnTo>
                    <a:pt x="229" y="36"/>
                  </a:lnTo>
                  <a:lnTo>
                    <a:pt x="250" y="33"/>
                  </a:lnTo>
                  <a:lnTo>
                    <a:pt x="268" y="30"/>
                  </a:lnTo>
                  <a:lnTo>
                    <a:pt x="285" y="27"/>
                  </a:lnTo>
                  <a:lnTo>
                    <a:pt x="303" y="22"/>
                  </a:lnTo>
                  <a:lnTo>
                    <a:pt x="317" y="15"/>
                  </a:lnTo>
                  <a:lnTo>
                    <a:pt x="328" y="7"/>
                  </a:lnTo>
                  <a:lnTo>
                    <a:pt x="349" y="6"/>
                  </a:lnTo>
                  <a:lnTo>
                    <a:pt x="379" y="5"/>
                  </a:lnTo>
                  <a:lnTo>
                    <a:pt x="414" y="2"/>
                  </a:lnTo>
                  <a:lnTo>
                    <a:pt x="441" y="1"/>
                  </a:lnTo>
                  <a:lnTo>
                    <a:pt x="480" y="0"/>
                  </a:lnTo>
                  <a:lnTo>
                    <a:pt x="519" y="0"/>
                  </a:lnTo>
                  <a:lnTo>
                    <a:pt x="556" y="0"/>
                  </a:lnTo>
                  <a:lnTo>
                    <a:pt x="584" y="0"/>
                  </a:lnTo>
                  <a:lnTo>
                    <a:pt x="614" y="2"/>
                  </a:lnTo>
                  <a:lnTo>
                    <a:pt x="645" y="7"/>
                  </a:lnTo>
                  <a:lnTo>
                    <a:pt x="668" y="13"/>
                  </a:lnTo>
                  <a:lnTo>
                    <a:pt x="689" y="18"/>
                  </a:lnTo>
                  <a:lnTo>
                    <a:pt x="712" y="25"/>
                  </a:lnTo>
                  <a:lnTo>
                    <a:pt x="736" y="33"/>
                  </a:lnTo>
                  <a:lnTo>
                    <a:pt x="761" y="41"/>
                  </a:lnTo>
                  <a:lnTo>
                    <a:pt x="788" y="50"/>
                  </a:lnTo>
                  <a:lnTo>
                    <a:pt x="814" y="59"/>
                  </a:lnTo>
                  <a:lnTo>
                    <a:pt x="841" y="67"/>
                  </a:lnTo>
                  <a:lnTo>
                    <a:pt x="861" y="74"/>
                  </a:lnTo>
                  <a:lnTo>
                    <a:pt x="880" y="79"/>
                  </a:lnTo>
                  <a:lnTo>
                    <a:pt x="901" y="87"/>
                  </a:lnTo>
                  <a:lnTo>
                    <a:pt x="923" y="93"/>
                  </a:lnTo>
                  <a:lnTo>
                    <a:pt x="949" y="102"/>
                  </a:lnTo>
                  <a:lnTo>
                    <a:pt x="973" y="111"/>
                  </a:lnTo>
                  <a:lnTo>
                    <a:pt x="963" y="117"/>
                  </a:lnTo>
                  <a:lnTo>
                    <a:pt x="949" y="121"/>
                  </a:lnTo>
                  <a:lnTo>
                    <a:pt x="933" y="125"/>
                  </a:lnTo>
                  <a:lnTo>
                    <a:pt x="914" y="127"/>
                  </a:lnTo>
                  <a:lnTo>
                    <a:pt x="888" y="127"/>
                  </a:lnTo>
                  <a:lnTo>
                    <a:pt x="863" y="126"/>
                  </a:lnTo>
                  <a:lnTo>
                    <a:pt x="856" y="117"/>
                  </a:lnTo>
                  <a:lnTo>
                    <a:pt x="850" y="111"/>
                  </a:lnTo>
                  <a:lnTo>
                    <a:pt x="838" y="102"/>
                  </a:lnTo>
                  <a:lnTo>
                    <a:pt x="811" y="88"/>
                  </a:lnTo>
                  <a:lnTo>
                    <a:pt x="779" y="71"/>
                  </a:lnTo>
                  <a:lnTo>
                    <a:pt x="750" y="57"/>
                  </a:lnTo>
                  <a:lnTo>
                    <a:pt x="715" y="40"/>
                  </a:lnTo>
                  <a:lnTo>
                    <a:pt x="685" y="28"/>
                  </a:lnTo>
                  <a:lnTo>
                    <a:pt x="657" y="21"/>
                  </a:lnTo>
                  <a:lnTo>
                    <a:pt x="634" y="17"/>
                  </a:lnTo>
                  <a:lnTo>
                    <a:pt x="592" y="13"/>
                  </a:lnTo>
                  <a:lnTo>
                    <a:pt x="537" y="13"/>
                  </a:lnTo>
                  <a:lnTo>
                    <a:pt x="473" y="15"/>
                  </a:lnTo>
                  <a:lnTo>
                    <a:pt x="424" y="16"/>
                  </a:lnTo>
                  <a:lnTo>
                    <a:pt x="345" y="21"/>
                  </a:lnTo>
                  <a:lnTo>
                    <a:pt x="341" y="96"/>
                  </a:lnTo>
                  <a:lnTo>
                    <a:pt x="0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4600" y="222084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81080" y="3241800"/>
            <a:ext cx="2249280" cy="519120"/>
            <a:chOff x="181080" y="3241800"/>
            <a:chExt cx="2249280" cy="519120"/>
          </a:xfrm>
        </p:grpSpPr>
        <p:grpSp>
          <p:nvGrpSpPr>
            <p:cNvPr id="625" name=""/>
            <p:cNvGrpSpPr/>
            <p:nvPr/>
          </p:nvGrpSpPr>
          <p:grpSpPr>
            <a:xfrm>
              <a:off x="295200" y="3241800"/>
              <a:ext cx="1546200" cy="203040"/>
              <a:chOff x="295200" y="3241800"/>
              <a:chExt cx="1546200" cy="2030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836640" y="3262320"/>
                <a:ext cx="826920" cy="181080"/>
                <a:chOff x="836640" y="3262320"/>
                <a:chExt cx="826920" cy="18108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020600" y="3268800"/>
                  <a:ext cx="527040" cy="155520"/>
                  <a:chOff x="1020600" y="3268800"/>
                  <a:chExt cx="527040" cy="1555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020600" y="3268800"/>
                    <a:ext cx="90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1" y="2"/>
                        </a:moveTo>
                        <a:lnTo>
                          <a:pt x="0" y="0"/>
                        </a:lnTo>
                        <a:lnTo>
                          <a:pt x="37" y="80"/>
                        </a:lnTo>
                        <a:lnTo>
                          <a:pt x="56" y="80"/>
                        </a:lnTo>
                        <a:lnTo>
                          <a:pt x="15" y="0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461960" y="3340080"/>
                    <a:ext cx="856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3">
                        <a:moveTo>
                          <a:pt x="14" y="6"/>
                        </a:moveTo>
                        <a:lnTo>
                          <a:pt x="16" y="5"/>
                        </a:lnTo>
                        <a:lnTo>
                          <a:pt x="53" y="52"/>
                        </a:lnTo>
                        <a:lnTo>
                          <a:pt x="35" y="50"/>
                        </a:lnTo>
                        <a:lnTo>
                          <a:pt x="0" y="0"/>
                        </a:lnTo>
                        <a:lnTo>
                          <a:pt x="14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836640" y="3262320"/>
                  <a:ext cx="826920" cy="181080"/>
                </a:xfrm>
                <a:custGeom>
                  <a:avLst/>
                  <a:gdLst/>
                  <a:ahLst/>
                  <a:rect l="l" t="t" r="r" b="b"/>
                  <a:pathLst>
                    <a:path w="521" h="114">
                      <a:moveTo>
                        <a:pt x="4" y="15"/>
                      </a:moveTo>
                      <a:lnTo>
                        <a:pt x="53" y="13"/>
                      </a:lnTo>
                      <a:lnTo>
                        <a:pt x="90" y="13"/>
                      </a:lnTo>
                      <a:lnTo>
                        <a:pt x="141" y="11"/>
                      </a:lnTo>
                      <a:lnTo>
                        <a:pt x="187" y="11"/>
                      </a:lnTo>
                      <a:lnTo>
                        <a:pt x="239" y="11"/>
                      </a:lnTo>
                      <a:lnTo>
                        <a:pt x="286" y="12"/>
                      </a:lnTo>
                      <a:lnTo>
                        <a:pt x="308" y="15"/>
                      </a:lnTo>
                      <a:lnTo>
                        <a:pt x="327" y="19"/>
                      </a:lnTo>
                      <a:lnTo>
                        <a:pt x="348" y="27"/>
                      </a:lnTo>
                      <a:lnTo>
                        <a:pt x="368" y="35"/>
                      </a:lnTo>
                      <a:lnTo>
                        <a:pt x="441" y="72"/>
                      </a:lnTo>
                      <a:lnTo>
                        <a:pt x="481" y="90"/>
                      </a:lnTo>
                      <a:lnTo>
                        <a:pt x="503" y="104"/>
                      </a:lnTo>
                      <a:lnTo>
                        <a:pt x="483" y="104"/>
                      </a:lnTo>
                      <a:lnTo>
                        <a:pt x="0" y="67"/>
                      </a:lnTo>
                      <a:lnTo>
                        <a:pt x="1" y="79"/>
                      </a:lnTo>
                      <a:lnTo>
                        <a:pt x="504" y="113"/>
                      </a:lnTo>
                      <a:lnTo>
                        <a:pt x="520" y="110"/>
                      </a:lnTo>
                      <a:lnTo>
                        <a:pt x="512" y="100"/>
                      </a:lnTo>
                      <a:lnTo>
                        <a:pt x="498" y="90"/>
                      </a:lnTo>
                      <a:lnTo>
                        <a:pt x="464" y="72"/>
                      </a:lnTo>
                      <a:lnTo>
                        <a:pt x="438" y="58"/>
                      </a:lnTo>
                      <a:lnTo>
                        <a:pt x="371" y="26"/>
                      </a:lnTo>
                      <a:lnTo>
                        <a:pt x="341" y="14"/>
                      </a:lnTo>
                      <a:lnTo>
                        <a:pt x="311" y="7"/>
                      </a:lnTo>
                      <a:lnTo>
                        <a:pt x="245" y="0"/>
                      </a:lnTo>
                      <a:lnTo>
                        <a:pt x="153" y="0"/>
                      </a:lnTo>
                      <a:lnTo>
                        <a:pt x="4" y="8"/>
                      </a:lnTo>
                      <a:lnTo>
                        <a:pt x="4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295200" y="3241800"/>
                <a:ext cx="1546200" cy="203040"/>
              </a:xfrm>
              <a:custGeom>
                <a:avLst/>
                <a:gdLst/>
                <a:ahLst/>
                <a:rect l="l" t="t" r="r" b="b"/>
                <a:pathLst>
                  <a:path w="974" h="128">
                    <a:moveTo>
                      <a:pt x="0" y="85"/>
                    </a:moveTo>
                    <a:lnTo>
                      <a:pt x="37" y="80"/>
                    </a:lnTo>
                    <a:lnTo>
                      <a:pt x="66" y="73"/>
                    </a:lnTo>
                    <a:lnTo>
                      <a:pt x="86" y="68"/>
                    </a:lnTo>
                    <a:lnTo>
                      <a:pt x="101" y="63"/>
                    </a:lnTo>
                    <a:lnTo>
                      <a:pt x="122" y="58"/>
                    </a:lnTo>
                    <a:lnTo>
                      <a:pt x="140" y="53"/>
                    </a:lnTo>
                    <a:lnTo>
                      <a:pt x="160" y="48"/>
                    </a:lnTo>
                    <a:lnTo>
                      <a:pt x="178" y="44"/>
                    </a:lnTo>
                    <a:lnTo>
                      <a:pt x="198" y="41"/>
                    </a:lnTo>
                    <a:lnTo>
                      <a:pt x="215" y="38"/>
                    </a:lnTo>
                    <a:lnTo>
                      <a:pt x="229" y="36"/>
                    </a:lnTo>
                    <a:lnTo>
                      <a:pt x="250" y="33"/>
                    </a:lnTo>
                    <a:lnTo>
                      <a:pt x="268" y="30"/>
                    </a:lnTo>
                    <a:lnTo>
                      <a:pt x="285" y="27"/>
                    </a:lnTo>
                    <a:lnTo>
                      <a:pt x="303" y="22"/>
                    </a:lnTo>
                    <a:lnTo>
                      <a:pt x="317" y="15"/>
                    </a:lnTo>
                    <a:lnTo>
                      <a:pt x="328" y="7"/>
                    </a:lnTo>
                    <a:lnTo>
                      <a:pt x="349" y="6"/>
                    </a:lnTo>
                    <a:lnTo>
                      <a:pt x="379" y="5"/>
                    </a:lnTo>
                    <a:lnTo>
                      <a:pt x="414" y="2"/>
                    </a:lnTo>
                    <a:lnTo>
                      <a:pt x="441" y="1"/>
                    </a:lnTo>
                    <a:lnTo>
                      <a:pt x="480" y="0"/>
                    </a:lnTo>
                    <a:lnTo>
                      <a:pt x="519" y="0"/>
                    </a:lnTo>
                    <a:lnTo>
                      <a:pt x="556" y="0"/>
                    </a:lnTo>
                    <a:lnTo>
                      <a:pt x="584" y="0"/>
                    </a:lnTo>
                    <a:lnTo>
                      <a:pt x="614" y="2"/>
                    </a:lnTo>
                    <a:lnTo>
                      <a:pt x="645" y="7"/>
                    </a:lnTo>
                    <a:lnTo>
                      <a:pt x="668" y="13"/>
                    </a:lnTo>
                    <a:lnTo>
                      <a:pt x="689" y="18"/>
                    </a:lnTo>
                    <a:lnTo>
                      <a:pt x="712" y="25"/>
                    </a:lnTo>
                    <a:lnTo>
                      <a:pt x="736" y="33"/>
                    </a:lnTo>
                    <a:lnTo>
                      <a:pt x="761" y="41"/>
                    </a:lnTo>
                    <a:lnTo>
                      <a:pt x="788" y="50"/>
                    </a:lnTo>
                    <a:lnTo>
                      <a:pt x="814" y="59"/>
                    </a:lnTo>
                    <a:lnTo>
                      <a:pt x="841" y="67"/>
                    </a:lnTo>
                    <a:lnTo>
                      <a:pt x="861" y="74"/>
                    </a:lnTo>
                    <a:lnTo>
                      <a:pt x="880" y="79"/>
                    </a:lnTo>
                    <a:lnTo>
                      <a:pt x="901" y="87"/>
                    </a:lnTo>
                    <a:lnTo>
                      <a:pt x="923" y="93"/>
                    </a:lnTo>
                    <a:lnTo>
                      <a:pt x="949" y="102"/>
                    </a:lnTo>
                    <a:lnTo>
                      <a:pt x="973" y="111"/>
                    </a:lnTo>
                    <a:lnTo>
                      <a:pt x="963" y="117"/>
                    </a:lnTo>
                    <a:lnTo>
                      <a:pt x="949" y="121"/>
                    </a:lnTo>
                    <a:lnTo>
                      <a:pt x="933" y="125"/>
                    </a:lnTo>
                    <a:lnTo>
                      <a:pt x="914" y="127"/>
                    </a:lnTo>
                    <a:lnTo>
                      <a:pt x="888" y="127"/>
                    </a:lnTo>
                    <a:lnTo>
                      <a:pt x="863" y="126"/>
                    </a:lnTo>
                    <a:lnTo>
                      <a:pt x="856" y="117"/>
                    </a:lnTo>
                    <a:lnTo>
                      <a:pt x="850" y="111"/>
                    </a:lnTo>
                    <a:lnTo>
                      <a:pt x="838" y="102"/>
                    </a:lnTo>
                    <a:lnTo>
                      <a:pt x="811" y="88"/>
                    </a:lnTo>
                    <a:lnTo>
                      <a:pt x="779" y="71"/>
                    </a:lnTo>
                    <a:lnTo>
                      <a:pt x="750" y="57"/>
                    </a:lnTo>
                    <a:lnTo>
                      <a:pt x="715" y="40"/>
                    </a:lnTo>
                    <a:lnTo>
                      <a:pt x="685" y="28"/>
                    </a:lnTo>
                    <a:lnTo>
                      <a:pt x="657" y="21"/>
                    </a:lnTo>
                    <a:lnTo>
                      <a:pt x="634" y="17"/>
                    </a:lnTo>
                    <a:lnTo>
                      <a:pt x="592" y="13"/>
                    </a:lnTo>
                    <a:lnTo>
                      <a:pt x="537" y="13"/>
                    </a:lnTo>
                    <a:lnTo>
                      <a:pt x="473" y="15"/>
                    </a:lnTo>
                    <a:lnTo>
                      <a:pt x="424" y="16"/>
                    </a:lnTo>
                    <a:lnTo>
                      <a:pt x="345" y="21"/>
                    </a:lnTo>
                    <a:lnTo>
                      <a:pt x="341" y="96"/>
                    </a:lnTo>
                    <a:lnTo>
                      <a:pt x="0" y="8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38040" y="3440160"/>
              <a:ext cx="2090880" cy="320760"/>
            </a:xfrm>
            <a:custGeom>
              <a:avLst/>
              <a:gdLst/>
              <a:ahLst/>
              <a:rect l="l" t="t" r="r" b="b"/>
              <a:pathLst>
                <a:path w="1317" h="202">
                  <a:moveTo>
                    <a:pt x="1110" y="95"/>
                  </a:moveTo>
                  <a:lnTo>
                    <a:pt x="1120" y="125"/>
                  </a:lnTo>
                  <a:lnTo>
                    <a:pt x="1120" y="149"/>
                  </a:lnTo>
                  <a:lnTo>
                    <a:pt x="1316" y="149"/>
                  </a:lnTo>
                  <a:lnTo>
                    <a:pt x="1302" y="164"/>
                  </a:lnTo>
                  <a:lnTo>
                    <a:pt x="1311" y="182"/>
                  </a:lnTo>
                  <a:lnTo>
                    <a:pt x="1311" y="190"/>
                  </a:lnTo>
                  <a:lnTo>
                    <a:pt x="1305" y="196"/>
                  </a:lnTo>
                  <a:lnTo>
                    <a:pt x="1193" y="196"/>
                  </a:lnTo>
                  <a:lnTo>
                    <a:pt x="1184" y="201"/>
                  </a:lnTo>
                  <a:lnTo>
                    <a:pt x="1127" y="201"/>
                  </a:lnTo>
                  <a:lnTo>
                    <a:pt x="1119" y="195"/>
                  </a:lnTo>
                  <a:lnTo>
                    <a:pt x="78" y="195"/>
                  </a:lnTo>
                  <a:lnTo>
                    <a:pt x="37" y="158"/>
                  </a:lnTo>
                  <a:lnTo>
                    <a:pt x="5" y="171"/>
                  </a:lnTo>
                  <a:lnTo>
                    <a:pt x="0" y="73"/>
                  </a:lnTo>
                  <a:lnTo>
                    <a:pt x="80" y="0"/>
                  </a:lnTo>
                  <a:lnTo>
                    <a:pt x="203" y="2"/>
                  </a:lnTo>
                  <a:lnTo>
                    <a:pt x="848" y="164"/>
                  </a:lnTo>
                  <a:lnTo>
                    <a:pt x="867" y="145"/>
                  </a:lnTo>
                  <a:lnTo>
                    <a:pt x="883" y="95"/>
                  </a:lnTo>
                  <a:lnTo>
                    <a:pt x="906" y="53"/>
                  </a:lnTo>
                  <a:lnTo>
                    <a:pt x="973" y="20"/>
                  </a:lnTo>
                  <a:lnTo>
                    <a:pt x="1036" y="22"/>
                  </a:lnTo>
                  <a:lnTo>
                    <a:pt x="1083" y="46"/>
                  </a:lnTo>
                  <a:lnTo>
                    <a:pt x="1110" y="9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181080" y="3311640"/>
              <a:ext cx="2249280" cy="401400"/>
              <a:chOff x="181080" y="3311640"/>
              <a:chExt cx="2249280" cy="40140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181080" y="3441600"/>
                <a:ext cx="128520" cy="238320"/>
                <a:chOff x="181080" y="3441600"/>
                <a:chExt cx="128520" cy="2383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93680" y="349092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93680" y="3441600"/>
                  <a:ext cx="42840" cy="1296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93680" y="3471840"/>
                  <a:ext cx="42840" cy="126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96920" y="3462120"/>
                  <a:ext cx="91800" cy="9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15" y="21593"/>
                      </a:moveTo>
                      <a:arcTo wR="10800" hR="10800" stAng="5522579" swAng="5391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15" y="21593"/>
                      </a:moveTo>
                      <a:arcTo wR="10800" hR="10800" stAng="5522579" swAng="5391970"/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9" name=""/>
                <p:cNvGrpSpPr/>
                <p:nvPr/>
              </p:nvGrpSpPr>
              <p:grpSpPr>
                <a:xfrm>
                  <a:off x="181080" y="3648240"/>
                  <a:ext cx="128520" cy="12600"/>
                  <a:chOff x="181080" y="3648240"/>
                  <a:chExt cx="128520" cy="126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187200" y="364824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181080" y="364824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181080" y="3666960"/>
                  <a:ext cx="128520" cy="12960"/>
                  <a:chOff x="181080" y="3666960"/>
                  <a:chExt cx="128520" cy="1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187200" y="3666960"/>
                    <a:ext cx="122400" cy="1296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81080" y="3666960"/>
                    <a:ext cx="12600" cy="12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181080" y="3629160"/>
                  <a:ext cx="128520" cy="12600"/>
                  <a:chOff x="181080" y="3629160"/>
                  <a:chExt cx="128520" cy="126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187200" y="3629160"/>
                    <a:ext cx="12240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81080" y="3629160"/>
                    <a:ext cx="12600" cy="126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8" name=""/>
              <p:cNvSpPr/>
              <p:nvPr/>
            </p:nvSpPr>
            <p:spPr>
              <a:xfrm>
                <a:off x="189000" y="3375000"/>
                <a:ext cx="2241360" cy="338040"/>
              </a:xfrm>
              <a:custGeom>
                <a:avLst/>
                <a:gdLst/>
                <a:ahLst/>
                <a:rect l="l" t="t" r="r" b="b"/>
                <a:pathLst>
                  <a:path w="1412" h="213">
                    <a:moveTo>
                      <a:pt x="71" y="0"/>
                    </a:moveTo>
                    <a:lnTo>
                      <a:pt x="8" y="0"/>
                    </a:lnTo>
                    <a:lnTo>
                      <a:pt x="0" y="33"/>
                    </a:lnTo>
                    <a:lnTo>
                      <a:pt x="28" y="33"/>
                    </a:lnTo>
                    <a:lnTo>
                      <a:pt x="28" y="152"/>
                    </a:lnTo>
                    <a:lnTo>
                      <a:pt x="82" y="205"/>
                    </a:lnTo>
                    <a:lnTo>
                      <a:pt x="94" y="211"/>
                    </a:lnTo>
                    <a:lnTo>
                      <a:pt x="104" y="212"/>
                    </a:lnTo>
                    <a:lnTo>
                      <a:pt x="103" y="185"/>
                    </a:lnTo>
                    <a:lnTo>
                      <a:pt x="101" y="153"/>
                    </a:lnTo>
                    <a:lnTo>
                      <a:pt x="109" y="126"/>
                    </a:lnTo>
                    <a:lnTo>
                      <a:pt x="119" y="106"/>
                    </a:lnTo>
                    <a:lnTo>
                      <a:pt x="132" y="88"/>
                    </a:lnTo>
                    <a:lnTo>
                      <a:pt x="151" y="71"/>
                    </a:lnTo>
                    <a:lnTo>
                      <a:pt x="173" y="58"/>
                    </a:lnTo>
                    <a:lnTo>
                      <a:pt x="204" y="50"/>
                    </a:lnTo>
                    <a:lnTo>
                      <a:pt x="245" y="46"/>
                    </a:lnTo>
                    <a:lnTo>
                      <a:pt x="273" y="54"/>
                    </a:lnTo>
                    <a:lnTo>
                      <a:pt x="294" y="65"/>
                    </a:lnTo>
                    <a:lnTo>
                      <a:pt x="311" y="78"/>
                    </a:lnTo>
                    <a:lnTo>
                      <a:pt x="332" y="98"/>
                    </a:lnTo>
                    <a:lnTo>
                      <a:pt x="345" y="120"/>
                    </a:lnTo>
                    <a:lnTo>
                      <a:pt x="354" y="140"/>
                    </a:lnTo>
                    <a:lnTo>
                      <a:pt x="357" y="159"/>
                    </a:lnTo>
                    <a:lnTo>
                      <a:pt x="357" y="201"/>
                    </a:lnTo>
                    <a:lnTo>
                      <a:pt x="973" y="212"/>
                    </a:lnTo>
                    <a:lnTo>
                      <a:pt x="973" y="172"/>
                    </a:lnTo>
                    <a:lnTo>
                      <a:pt x="982" y="144"/>
                    </a:lnTo>
                    <a:lnTo>
                      <a:pt x="992" y="123"/>
                    </a:lnTo>
                    <a:lnTo>
                      <a:pt x="1007" y="103"/>
                    </a:lnTo>
                    <a:lnTo>
                      <a:pt x="1029" y="85"/>
                    </a:lnTo>
                    <a:lnTo>
                      <a:pt x="1051" y="73"/>
                    </a:lnTo>
                    <a:lnTo>
                      <a:pt x="1073" y="67"/>
                    </a:lnTo>
                    <a:lnTo>
                      <a:pt x="1111" y="67"/>
                    </a:lnTo>
                    <a:lnTo>
                      <a:pt x="1131" y="71"/>
                    </a:lnTo>
                    <a:lnTo>
                      <a:pt x="1152" y="80"/>
                    </a:lnTo>
                    <a:lnTo>
                      <a:pt x="1171" y="95"/>
                    </a:lnTo>
                    <a:lnTo>
                      <a:pt x="1189" y="116"/>
                    </a:lnTo>
                    <a:lnTo>
                      <a:pt x="1200" y="140"/>
                    </a:lnTo>
                    <a:lnTo>
                      <a:pt x="1208" y="166"/>
                    </a:lnTo>
                    <a:lnTo>
                      <a:pt x="1208" y="194"/>
                    </a:lnTo>
                    <a:lnTo>
                      <a:pt x="1411" y="193"/>
                    </a:lnTo>
                    <a:lnTo>
                      <a:pt x="1411" y="184"/>
                    </a:lnTo>
                    <a:lnTo>
                      <a:pt x="1404" y="184"/>
                    </a:lnTo>
                    <a:lnTo>
                      <a:pt x="1404" y="171"/>
                    </a:lnTo>
                    <a:lnTo>
                      <a:pt x="1410" y="170"/>
                    </a:lnTo>
                    <a:lnTo>
                      <a:pt x="1410" y="131"/>
                    </a:lnTo>
                    <a:lnTo>
                      <a:pt x="1405" y="123"/>
                    </a:lnTo>
                    <a:lnTo>
                      <a:pt x="1358" y="100"/>
                    </a:lnTo>
                    <a:lnTo>
                      <a:pt x="1306" y="80"/>
                    </a:lnTo>
                    <a:lnTo>
                      <a:pt x="1243" y="61"/>
                    </a:lnTo>
                    <a:lnTo>
                      <a:pt x="1176" y="45"/>
                    </a:lnTo>
                    <a:lnTo>
                      <a:pt x="1113" y="32"/>
                    </a:lnTo>
                    <a:lnTo>
                      <a:pt x="1054" y="22"/>
                    </a:lnTo>
                    <a:lnTo>
                      <a:pt x="1033" y="22"/>
                    </a:lnTo>
                    <a:lnTo>
                      <a:pt x="1020" y="27"/>
                    </a:lnTo>
                    <a:lnTo>
                      <a:pt x="957" y="36"/>
                    </a:lnTo>
                    <a:lnTo>
                      <a:pt x="907" y="41"/>
                    </a:lnTo>
                    <a:lnTo>
                      <a:pt x="643" y="24"/>
                    </a:lnTo>
                    <a:lnTo>
                      <a:pt x="517" y="14"/>
                    </a:lnTo>
                    <a:lnTo>
                      <a:pt x="398" y="6"/>
                    </a:lnTo>
                    <a:lnTo>
                      <a:pt x="338" y="1"/>
                    </a:lnTo>
                    <a:lnTo>
                      <a:pt x="7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089000" y="3403440"/>
                <a:ext cx="453960" cy="304920"/>
              </a:xfrm>
              <a:custGeom>
                <a:avLst/>
                <a:gdLst/>
                <a:ahLst/>
                <a:rect l="l" t="t" r="r" b="b"/>
                <a:pathLst>
                  <a:path w="286" h="192">
                    <a:moveTo>
                      <a:pt x="0" y="0"/>
                    </a:moveTo>
                    <a:lnTo>
                      <a:pt x="0" y="186"/>
                    </a:lnTo>
                    <a:lnTo>
                      <a:pt x="285" y="191"/>
                    </a:lnTo>
                    <a:lnTo>
                      <a:pt x="285" y="20"/>
                    </a:lnTo>
                    <a:lnTo>
                      <a:pt x="247" y="16"/>
                    </a:lnTo>
                    <a:lnTo>
                      <a:pt x="195" y="13"/>
                    </a:lnTo>
                    <a:lnTo>
                      <a:pt x="143" y="10"/>
                    </a:lnTo>
                    <a:lnTo>
                      <a:pt x="109" y="7"/>
                    </a:lnTo>
                    <a:lnTo>
                      <a:pt x="76" y="5"/>
                    </a:lnTo>
                    <a:lnTo>
                      <a:pt x="3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28640" y="3311640"/>
                <a:ext cx="757440" cy="341280"/>
                <a:chOff x="728640" y="3311640"/>
                <a:chExt cx="757440" cy="3412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28640" y="3311640"/>
                  <a:ext cx="79560" cy="38160"/>
                </a:xfrm>
                <a:prstGeom prst="ellipse">
                  <a:avLst/>
                </a:prstGeom>
                <a:noFill/>
                <a:ln w="1260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4480" y="3327480"/>
                  <a:ext cx="12600" cy="12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"/>
                <p:cNvGrpSpPr/>
                <p:nvPr/>
              </p:nvGrpSpPr>
              <p:grpSpPr>
                <a:xfrm>
                  <a:off x="1004760" y="3444840"/>
                  <a:ext cx="481320" cy="208080"/>
                  <a:chOff x="1004760" y="3444840"/>
                  <a:chExt cx="481320" cy="20808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1004760" y="3584520"/>
                    <a:ext cx="481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43">
                        <a:moveTo>
                          <a:pt x="0" y="23"/>
                        </a:moveTo>
                        <a:lnTo>
                          <a:pt x="0" y="42"/>
                        </a:lnTo>
                        <a:lnTo>
                          <a:pt x="30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004760" y="3444840"/>
                    <a:ext cx="474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4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004760" y="3490920"/>
                    <a:ext cx="47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31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298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004760" y="3533760"/>
                    <a:ext cx="481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302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004760" y="3568680"/>
                    <a:ext cx="481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26">
                        <a:moveTo>
                          <a:pt x="0" y="6"/>
                        </a:moveTo>
                        <a:lnTo>
                          <a:pt x="0" y="25"/>
                        </a:lnTo>
                        <a:lnTo>
                          <a:pt x="302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59" name=""/>
          <p:cNvSpPr/>
          <p:nvPr/>
        </p:nvSpPr>
        <p:spPr>
          <a:xfrm>
            <a:off x="174600" y="1179360"/>
            <a:ext cx="2090880" cy="320760"/>
          </a:xfrm>
          <a:custGeom>
            <a:avLst/>
            <a:gdLst/>
            <a:ahLst/>
            <a:rect l="l" t="t" r="r" b="b"/>
            <a:pathLst>
              <a:path w="1317" h="202">
                <a:moveTo>
                  <a:pt x="1110" y="95"/>
                </a:moveTo>
                <a:lnTo>
                  <a:pt x="1120" y="125"/>
                </a:lnTo>
                <a:lnTo>
                  <a:pt x="1120" y="149"/>
                </a:lnTo>
                <a:lnTo>
                  <a:pt x="1316" y="149"/>
                </a:lnTo>
                <a:lnTo>
                  <a:pt x="1302" y="164"/>
                </a:lnTo>
                <a:lnTo>
                  <a:pt x="1311" y="182"/>
                </a:lnTo>
                <a:lnTo>
                  <a:pt x="1311" y="190"/>
                </a:lnTo>
                <a:lnTo>
                  <a:pt x="1305" y="196"/>
                </a:lnTo>
                <a:lnTo>
                  <a:pt x="1193" y="196"/>
                </a:lnTo>
                <a:lnTo>
                  <a:pt x="1184" y="201"/>
                </a:lnTo>
                <a:lnTo>
                  <a:pt x="1127" y="201"/>
                </a:lnTo>
                <a:lnTo>
                  <a:pt x="1119" y="195"/>
                </a:lnTo>
                <a:lnTo>
                  <a:pt x="78" y="195"/>
                </a:lnTo>
                <a:lnTo>
                  <a:pt x="37" y="158"/>
                </a:lnTo>
                <a:lnTo>
                  <a:pt x="5" y="171"/>
                </a:lnTo>
                <a:lnTo>
                  <a:pt x="0" y="73"/>
                </a:lnTo>
                <a:lnTo>
                  <a:pt x="80" y="0"/>
                </a:lnTo>
                <a:lnTo>
                  <a:pt x="203" y="2"/>
                </a:lnTo>
                <a:lnTo>
                  <a:pt x="848" y="164"/>
                </a:lnTo>
                <a:lnTo>
                  <a:pt x="867" y="145"/>
                </a:lnTo>
                <a:lnTo>
                  <a:pt x="883" y="95"/>
                </a:lnTo>
                <a:lnTo>
                  <a:pt x="906" y="53"/>
                </a:lnTo>
                <a:lnTo>
                  <a:pt x="973" y="20"/>
                </a:lnTo>
                <a:lnTo>
                  <a:pt x="1036" y="22"/>
                </a:lnTo>
                <a:lnTo>
                  <a:pt x="1083" y="46"/>
                </a:lnTo>
                <a:lnTo>
                  <a:pt x="1110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505240" y="733320"/>
            <a:ext cx="1009440" cy="993960"/>
            <a:chOff x="2505240" y="733320"/>
            <a:chExt cx="1009440" cy="993960"/>
          </a:xfrm>
        </p:grpSpPr>
        <p:grpSp>
          <p:nvGrpSpPr>
            <p:cNvPr id="661" name=""/>
            <p:cNvGrpSpPr/>
            <p:nvPr/>
          </p:nvGrpSpPr>
          <p:grpSpPr>
            <a:xfrm>
              <a:off x="2795760" y="824040"/>
              <a:ext cx="438120" cy="903240"/>
              <a:chOff x="2795760" y="824040"/>
              <a:chExt cx="438120" cy="903240"/>
            </a:xfrm>
          </p:grpSpPr>
          <p:sp>
            <p:nvSpPr>
              <p:cNvPr id="662" name=""/>
              <p:cNvSpPr/>
              <p:nvPr/>
            </p:nvSpPr>
            <p:spPr>
              <a:xfrm>
                <a:off x="293220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7512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95760" y="8431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38320" y="11667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3372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89360" y="13939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505240" y="733320"/>
              <a:ext cx="1009440" cy="432000"/>
              <a:chOff x="2505240" y="733320"/>
              <a:chExt cx="1009440" cy="432000"/>
            </a:xfrm>
          </p:grpSpPr>
          <p:sp>
            <p:nvSpPr>
              <p:cNvPr id="669" name=""/>
              <p:cNvSpPr/>
              <p:nvPr/>
            </p:nvSpPr>
            <p:spPr>
              <a:xfrm>
                <a:off x="2693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3286080" y="733320"/>
                <a:ext cx="228600" cy="381240"/>
                <a:chOff x="3286080" y="733320"/>
                <a:chExt cx="228600" cy="381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317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28608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395520" y="8938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505240" y="790560"/>
                <a:ext cx="255600" cy="374760"/>
                <a:chOff x="2505240" y="790560"/>
                <a:chExt cx="255600" cy="3747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2505240" y="80640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523960" y="79056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585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78" name=""/>
          <p:cNvGrpSpPr/>
          <p:nvPr/>
        </p:nvGrpSpPr>
        <p:grpSpPr>
          <a:xfrm>
            <a:off x="3863880" y="733320"/>
            <a:ext cx="1009800" cy="993960"/>
            <a:chOff x="3863880" y="733320"/>
            <a:chExt cx="1009800" cy="993960"/>
          </a:xfrm>
        </p:grpSpPr>
        <p:grpSp>
          <p:nvGrpSpPr>
            <p:cNvPr id="679" name=""/>
            <p:cNvGrpSpPr/>
            <p:nvPr/>
          </p:nvGrpSpPr>
          <p:grpSpPr>
            <a:xfrm>
              <a:off x="4154400" y="824040"/>
              <a:ext cx="438120" cy="903240"/>
              <a:chOff x="4154400" y="824040"/>
              <a:chExt cx="438120" cy="903240"/>
            </a:xfrm>
          </p:grpSpPr>
          <p:sp>
            <p:nvSpPr>
              <p:cNvPr id="680" name=""/>
              <p:cNvSpPr/>
              <p:nvPr/>
            </p:nvSpPr>
            <p:spPr>
              <a:xfrm>
                <a:off x="4290840" y="95868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33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15440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7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39272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48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863880" y="733320"/>
              <a:ext cx="1009800" cy="432000"/>
              <a:chOff x="3863880" y="733320"/>
              <a:chExt cx="1009800" cy="432000"/>
            </a:xfrm>
          </p:grpSpPr>
          <p:sp>
            <p:nvSpPr>
              <p:cNvPr id="687" name=""/>
              <p:cNvSpPr/>
              <p:nvPr/>
            </p:nvSpPr>
            <p:spPr>
              <a:xfrm>
                <a:off x="4052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4645080" y="733320"/>
                <a:ext cx="228600" cy="381240"/>
                <a:chOff x="4645080" y="733320"/>
                <a:chExt cx="228600" cy="38124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4676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64508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54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3863880" y="790560"/>
                <a:ext cx="255600" cy="374760"/>
                <a:chOff x="3863880" y="790560"/>
                <a:chExt cx="255600" cy="3747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3863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882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944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6" name=""/>
          <p:cNvGrpSpPr/>
          <p:nvPr/>
        </p:nvGrpSpPr>
        <p:grpSpPr>
          <a:xfrm>
            <a:off x="5222880" y="733320"/>
            <a:ext cx="1009800" cy="993960"/>
            <a:chOff x="5222880" y="733320"/>
            <a:chExt cx="1009800" cy="993960"/>
          </a:xfrm>
        </p:grpSpPr>
        <p:grpSp>
          <p:nvGrpSpPr>
            <p:cNvPr id="697" name=""/>
            <p:cNvGrpSpPr/>
            <p:nvPr/>
          </p:nvGrpSpPr>
          <p:grpSpPr>
            <a:xfrm>
              <a:off x="5513400" y="824040"/>
              <a:ext cx="438120" cy="903240"/>
              <a:chOff x="5513400" y="824040"/>
              <a:chExt cx="438120" cy="903240"/>
            </a:xfrm>
          </p:grpSpPr>
          <p:sp>
            <p:nvSpPr>
              <p:cNvPr id="698" name=""/>
              <p:cNvSpPr/>
              <p:nvPr/>
            </p:nvSpPr>
            <p:spPr>
              <a:xfrm>
                <a:off x="5649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92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340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56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51360" y="1398600"/>
                <a:ext cx="11304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07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222880" y="733320"/>
              <a:ext cx="1009800" cy="432000"/>
              <a:chOff x="5222880" y="733320"/>
              <a:chExt cx="1009800" cy="432000"/>
            </a:xfrm>
          </p:grpSpPr>
          <p:sp>
            <p:nvSpPr>
              <p:cNvPr id="705" name=""/>
              <p:cNvSpPr/>
              <p:nvPr/>
            </p:nvSpPr>
            <p:spPr>
              <a:xfrm>
                <a:off x="541188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6004080" y="733320"/>
                <a:ext cx="228600" cy="381240"/>
                <a:chOff x="6004080" y="733320"/>
                <a:chExt cx="228600" cy="3812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03576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04080" y="733320"/>
                  <a:ext cx="20772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13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222880" y="790560"/>
                <a:ext cx="255600" cy="374760"/>
                <a:chOff x="5222880" y="790560"/>
                <a:chExt cx="255600" cy="3747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222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241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303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4" name=""/>
          <p:cNvGrpSpPr/>
          <p:nvPr/>
        </p:nvGrpSpPr>
        <p:grpSpPr>
          <a:xfrm>
            <a:off x="6581880" y="733320"/>
            <a:ext cx="1009440" cy="993960"/>
            <a:chOff x="6581880" y="733320"/>
            <a:chExt cx="1009440" cy="993960"/>
          </a:xfrm>
        </p:grpSpPr>
        <p:grpSp>
          <p:nvGrpSpPr>
            <p:cNvPr id="715" name=""/>
            <p:cNvGrpSpPr/>
            <p:nvPr/>
          </p:nvGrpSpPr>
          <p:grpSpPr>
            <a:xfrm>
              <a:off x="6872400" y="824040"/>
              <a:ext cx="438120" cy="903240"/>
              <a:chOff x="6872400" y="824040"/>
              <a:chExt cx="438120" cy="903240"/>
            </a:xfrm>
          </p:grpSpPr>
          <p:sp>
            <p:nvSpPr>
              <p:cNvPr id="716" name=""/>
              <p:cNvSpPr/>
              <p:nvPr/>
            </p:nvSpPr>
            <p:spPr>
              <a:xfrm>
                <a:off x="7008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51760" y="8240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72400" y="8431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15320" y="11667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1036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966000" y="13939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581880" y="733320"/>
              <a:ext cx="1009440" cy="432000"/>
              <a:chOff x="6581880" y="733320"/>
              <a:chExt cx="1009440" cy="432000"/>
            </a:xfrm>
          </p:grpSpPr>
          <p:sp>
            <p:nvSpPr>
              <p:cNvPr id="723" name=""/>
              <p:cNvSpPr/>
              <p:nvPr/>
            </p:nvSpPr>
            <p:spPr>
              <a:xfrm>
                <a:off x="677052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7362720" y="733320"/>
                <a:ext cx="228600" cy="381240"/>
                <a:chOff x="7362720" y="733320"/>
                <a:chExt cx="228600" cy="3812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39440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36272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472520" y="8938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6581880" y="790560"/>
                <a:ext cx="255600" cy="374760"/>
                <a:chOff x="6581880" y="790560"/>
                <a:chExt cx="255600" cy="3747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658188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60096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66288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2" name=""/>
          <p:cNvGrpSpPr/>
          <p:nvPr/>
        </p:nvGrpSpPr>
        <p:grpSpPr>
          <a:xfrm>
            <a:off x="7940520" y="733320"/>
            <a:ext cx="1009800" cy="993960"/>
            <a:chOff x="7940520" y="733320"/>
            <a:chExt cx="1009800" cy="993960"/>
          </a:xfrm>
        </p:grpSpPr>
        <p:grpSp>
          <p:nvGrpSpPr>
            <p:cNvPr id="733" name=""/>
            <p:cNvGrpSpPr/>
            <p:nvPr/>
          </p:nvGrpSpPr>
          <p:grpSpPr>
            <a:xfrm>
              <a:off x="8231040" y="824040"/>
              <a:ext cx="438120" cy="903240"/>
              <a:chOff x="8231040" y="824040"/>
              <a:chExt cx="438120" cy="903240"/>
            </a:xfrm>
          </p:grpSpPr>
          <p:sp>
            <p:nvSpPr>
              <p:cNvPr id="734" name=""/>
              <p:cNvSpPr/>
              <p:nvPr/>
            </p:nvSpPr>
            <p:spPr>
              <a:xfrm>
                <a:off x="8367840" y="9586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10760" y="824040"/>
                <a:ext cx="15840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31040" y="8431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373960" y="11667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469360" y="13986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325000" y="13939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7940520" y="733320"/>
              <a:ext cx="1009800" cy="432000"/>
              <a:chOff x="7940520" y="733320"/>
              <a:chExt cx="1009800" cy="432000"/>
            </a:xfrm>
          </p:grpSpPr>
          <p:sp>
            <p:nvSpPr>
              <p:cNvPr id="741" name=""/>
              <p:cNvSpPr/>
              <p:nvPr/>
            </p:nvSpPr>
            <p:spPr>
              <a:xfrm>
                <a:off x="8129520" y="8334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8721720" y="733320"/>
                <a:ext cx="228600" cy="381240"/>
                <a:chOff x="8721720" y="733320"/>
                <a:chExt cx="228600" cy="38124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753400" y="7430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21720" y="7333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831160" y="8938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7940520" y="790560"/>
                <a:ext cx="255600" cy="374760"/>
                <a:chOff x="7940520" y="790560"/>
                <a:chExt cx="255600" cy="37476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7940520" y="8064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959600" y="7905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021520" y="9507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0" name=""/>
          <p:cNvGrpSpPr/>
          <p:nvPr/>
        </p:nvGrpSpPr>
        <p:grpSpPr>
          <a:xfrm>
            <a:off x="2517840" y="1800360"/>
            <a:ext cx="1009440" cy="993600"/>
            <a:chOff x="2517840" y="1800360"/>
            <a:chExt cx="1009440" cy="993600"/>
          </a:xfrm>
        </p:grpSpPr>
        <p:grpSp>
          <p:nvGrpSpPr>
            <p:cNvPr id="751" name=""/>
            <p:cNvGrpSpPr/>
            <p:nvPr/>
          </p:nvGrpSpPr>
          <p:grpSpPr>
            <a:xfrm>
              <a:off x="2808360" y="1890720"/>
              <a:ext cx="438120" cy="903240"/>
              <a:chOff x="2808360" y="1890720"/>
              <a:chExt cx="438120" cy="903240"/>
            </a:xfrm>
          </p:grpSpPr>
          <p:sp>
            <p:nvSpPr>
              <p:cNvPr id="752" name=""/>
              <p:cNvSpPr/>
              <p:nvPr/>
            </p:nvSpPr>
            <p:spPr>
              <a:xfrm>
                <a:off x="294480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08772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80836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5128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046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0196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517840" y="1800360"/>
              <a:ext cx="1009440" cy="431640"/>
              <a:chOff x="2517840" y="1800360"/>
              <a:chExt cx="1009440" cy="431640"/>
            </a:xfrm>
          </p:grpSpPr>
          <p:sp>
            <p:nvSpPr>
              <p:cNvPr id="759" name=""/>
              <p:cNvSpPr/>
              <p:nvPr/>
            </p:nvSpPr>
            <p:spPr>
              <a:xfrm>
                <a:off x="2706840" y="190008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3298680" y="1800360"/>
                <a:ext cx="228600" cy="380880"/>
                <a:chOff x="3298680" y="1800360"/>
                <a:chExt cx="228600" cy="3808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330720" y="180972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298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40848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517840" y="1857240"/>
                <a:ext cx="255600" cy="374760"/>
                <a:chOff x="2517840" y="1857240"/>
                <a:chExt cx="255600" cy="3747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51784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53692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9884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8" name=""/>
          <p:cNvGrpSpPr/>
          <p:nvPr/>
        </p:nvGrpSpPr>
        <p:grpSpPr>
          <a:xfrm>
            <a:off x="3876840" y="1800360"/>
            <a:ext cx="1009440" cy="993600"/>
            <a:chOff x="3876840" y="1800360"/>
            <a:chExt cx="1009440" cy="993600"/>
          </a:xfrm>
        </p:grpSpPr>
        <p:grpSp>
          <p:nvGrpSpPr>
            <p:cNvPr id="769" name=""/>
            <p:cNvGrpSpPr/>
            <p:nvPr/>
          </p:nvGrpSpPr>
          <p:grpSpPr>
            <a:xfrm>
              <a:off x="4167360" y="1890720"/>
              <a:ext cx="438120" cy="903240"/>
              <a:chOff x="4167360" y="1890720"/>
              <a:chExt cx="438120" cy="903240"/>
            </a:xfrm>
          </p:grpSpPr>
          <p:sp>
            <p:nvSpPr>
              <p:cNvPr id="770" name=""/>
              <p:cNvSpPr/>
              <p:nvPr/>
            </p:nvSpPr>
            <p:spPr>
              <a:xfrm>
                <a:off x="430380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44672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67360" y="19098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309920" y="22334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05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60960" y="24606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876840" y="1800360"/>
              <a:ext cx="1009440" cy="431640"/>
              <a:chOff x="3876840" y="1800360"/>
              <a:chExt cx="1009440" cy="431640"/>
            </a:xfrm>
          </p:grpSpPr>
          <p:sp>
            <p:nvSpPr>
              <p:cNvPr id="777" name=""/>
              <p:cNvSpPr/>
              <p:nvPr/>
            </p:nvSpPr>
            <p:spPr>
              <a:xfrm>
                <a:off x="4065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4657680" y="1800360"/>
                <a:ext cx="228600" cy="380880"/>
                <a:chOff x="4657680" y="1800360"/>
                <a:chExt cx="228600" cy="3808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689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657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767120" y="19605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876840" y="1857240"/>
                <a:ext cx="255600" cy="374760"/>
                <a:chOff x="3876840" y="1857240"/>
                <a:chExt cx="255600" cy="3747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876840" y="187308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895560" y="185724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957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6" name=""/>
          <p:cNvGrpSpPr/>
          <p:nvPr/>
        </p:nvGrpSpPr>
        <p:grpSpPr>
          <a:xfrm>
            <a:off x="5235480" y="1800360"/>
            <a:ext cx="1009800" cy="993600"/>
            <a:chOff x="5235480" y="1800360"/>
            <a:chExt cx="1009800" cy="993600"/>
          </a:xfrm>
        </p:grpSpPr>
        <p:grpSp>
          <p:nvGrpSpPr>
            <p:cNvPr id="787" name=""/>
            <p:cNvGrpSpPr/>
            <p:nvPr/>
          </p:nvGrpSpPr>
          <p:grpSpPr>
            <a:xfrm>
              <a:off x="5526000" y="1890720"/>
              <a:ext cx="438120" cy="903240"/>
              <a:chOff x="5526000" y="1890720"/>
              <a:chExt cx="438120" cy="903240"/>
            </a:xfrm>
          </p:grpSpPr>
          <p:sp>
            <p:nvSpPr>
              <p:cNvPr id="788" name=""/>
              <p:cNvSpPr/>
              <p:nvPr/>
            </p:nvSpPr>
            <p:spPr>
              <a:xfrm>
                <a:off x="5662440" y="202572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05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2600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668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6432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19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235480" y="1800360"/>
              <a:ext cx="1009800" cy="431640"/>
              <a:chOff x="5235480" y="1800360"/>
              <a:chExt cx="1009800" cy="431640"/>
            </a:xfrm>
          </p:grpSpPr>
          <p:sp>
            <p:nvSpPr>
              <p:cNvPr id="795" name=""/>
              <p:cNvSpPr/>
              <p:nvPr/>
            </p:nvSpPr>
            <p:spPr>
              <a:xfrm>
                <a:off x="5424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6016680" y="1800360"/>
                <a:ext cx="228600" cy="380880"/>
                <a:chOff x="6016680" y="1800360"/>
                <a:chExt cx="228600" cy="38088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048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01668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126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5235480" y="1857240"/>
                <a:ext cx="255600" cy="374760"/>
                <a:chOff x="5235480" y="1857240"/>
                <a:chExt cx="255600" cy="3747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235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54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16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6594480" y="1800360"/>
            <a:ext cx="1009800" cy="993600"/>
            <a:chOff x="6594480" y="1800360"/>
            <a:chExt cx="1009800" cy="993600"/>
          </a:xfrm>
        </p:grpSpPr>
        <p:grpSp>
          <p:nvGrpSpPr>
            <p:cNvPr id="805" name=""/>
            <p:cNvGrpSpPr/>
            <p:nvPr/>
          </p:nvGrpSpPr>
          <p:grpSpPr>
            <a:xfrm>
              <a:off x="6885000" y="1890720"/>
              <a:ext cx="438120" cy="903240"/>
              <a:chOff x="6885000" y="1890720"/>
              <a:chExt cx="438120" cy="903240"/>
            </a:xfrm>
          </p:grpSpPr>
          <p:sp>
            <p:nvSpPr>
              <p:cNvPr id="806" name=""/>
              <p:cNvSpPr/>
              <p:nvPr/>
            </p:nvSpPr>
            <p:spPr>
              <a:xfrm>
                <a:off x="702144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64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85000" y="19098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27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122960" y="2465280"/>
                <a:ext cx="11304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78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6594480" y="1800360"/>
              <a:ext cx="1009800" cy="431640"/>
              <a:chOff x="6594480" y="1800360"/>
              <a:chExt cx="1009800" cy="431640"/>
            </a:xfrm>
          </p:grpSpPr>
          <p:sp>
            <p:nvSpPr>
              <p:cNvPr id="813" name=""/>
              <p:cNvSpPr/>
              <p:nvPr/>
            </p:nvSpPr>
            <p:spPr>
              <a:xfrm>
                <a:off x="678348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7375680" y="1800360"/>
                <a:ext cx="228600" cy="380880"/>
                <a:chOff x="7375680" y="1800360"/>
                <a:chExt cx="228600" cy="3808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40736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375680" y="180036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485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6594480" y="1857240"/>
                <a:ext cx="255600" cy="374760"/>
                <a:chOff x="6594480" y="1857240"/>
                <a:chExt cx="255600" cy="3747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594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613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675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2" name=""/>
          <p:cNvGrpSpPr/>
          <p:nvPr/>
        </p:nvGrpSpPr>
        <p:grpSpPr>
          <a:xfrm>
            <a:off x="7953480" y="1800360"/>
            <a:ext cx="1009440" cy="993600"/>
            <a:chOff x="7953480" y="1800360"/>
            <a:chExt cx="1009440" cy="993600"/>
          </a:xfrm>
        </p:grpSpPr>
        <p:grpSp>
          <p:nvGrpSpPr>
            <p:cNvPr id="823" name=""/>
            <p:cNvGrpSpPr/>
            <p:nvPr/>
          </p:nvGrpSpPr>
          <p:grpSpPr>
            <a:xfrm>
              <a:off x="8244000" y="1890720"/>
              <a:ext cx="438120" cy="903240"/>
              <a:chOff x="8244000" y="1890720"/>
              <a:chExt cx="438120" cy="903240"/>
            </a:xfrm>
          </p:grpSpPr>
          <p:sp>
            <p:nvSpPr>
              <p:cNvPr id="824" name=""/>
              <p:cNvSpPr/>
              <p:nvPr/>
            </p:nvSpPr>
            <p:spPr>
              <a:xfrm>
                <a:off x="8380440" y="20257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23360" y="18907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244000" y="19098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386920" y="22334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81960" y="24652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37600" y="24606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953480" y="1800360"/>
              <a:ext cx="1009440" cy="431640"/>
              <a:chOff x="7953480" y="1800360"/>
              <a:chExt cx="1009440" cy="431640"/>
            </a:xfrm>
          </p:grpSpPr>
          <p:sp>
            <p:nvSpPr>
              <p:cNvPr id="831" name=""/>
              <p:cNvSpPr/>
              <p:nvPr/>
            </p:nvSpPr>
            <p:spPr>
              <a:xfrm>
                <a:off x="8142120" y="19000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8734320" y="1800360"/>
                <a:ext cx="228600" cy="380880"/>
                <a:chOff x="8734320" y="1800360"/>
                <a:chExt cx="228600" cy="38088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766000" y="18097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34320" y="18003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844120" y="19605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7953480" y="1857240"/>
                <a:ext cx="255600" cy="374760"/>
                <a:chOff x="7953480" y="1857240"/>
                <a:chExt cx="255600" cy="3747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7953480" y="18730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72560" y="18572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034480" y="20178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40" name=""/>
          <p:cNvGrpSpPr/>
          <p:nvPr/>
        </p:nvGrpSpPr>
        <p:grpSpPr>
          <a:xfrm>
            <a:off x="2530440" y="2867040"/>
            <a:ext cx="1009800" cy="993600"/>
            <a:chOff x="2530440" y="2867040"/>
            <a:chExt cx="1009800" cy="993600"/>
          </a:xfrm>
        </p:grpSpPr>
        <p:grpSp>
          <p:nvGrpSpPr>
            <p:cNvPr id="841" name=""/>
            <p:cNvGrpSpPr/>
            <p:nvPr/>
          </p:nvGrpSpPr>
          <p:grpSpPr>
            <a:xfrm>
              <a:off x="2820960" y="2957400"/>
              <a:ext cx="438120" cy="903240"/>
              <a:chOff x="2820960" y="2957400"/>
              <a:chExt cx="438120" cy="903240"/>
            </a:xfrm>
          </p:grpSpPr>
          <p:sp>
            <p:nvSpPr>
              <p:cNvPr id="842" name=""/>
              <p:cNvSpPr/>
              <p:nvPr/>
            </p:nvSpPr>
            <p:spPr>
              <a:xfrm>
                <a:off x="2957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100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2096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6388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928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1456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2530440" y="2867040"/>
              <a:ext cx="1009800" cy="431640"/>
              <a:chOff x="2530440" y="2867040"/>
              <a:chExt cx="1009800" cy="431640"/>
            </a:xfrm>
          </p:grpSpPr>
          <p:sp>
            <p:nvSpPr>
              <p:cNvPr id="849" name=""/>
              <p:cNvSpPr/>
              <p:nvPr/>
            </p:nvSpPr>
            <p:spPr>
              <a:xfrm>
                <a:off x="271944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3311640" y="2867040"/>
                <a:ext cx="228600" cy="380880"/>
                <a:chOff x="3311640" y="2867040"/>
                <a:chExt cx="228600" cy="3808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334332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311640" y="286704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42108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2530440" y="2924280"/>
                <a:ext cx="255600" cy="374400"/>
                <a:chOff x="2530440" y="2924280"/>
                <a:chExt cx="255600" cy="3744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253044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254952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61144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8" name=""/>
          <p:cNvGrpSpPr/>
          <p:nvPr/>
        </p:nvGrpSpPr>
        <p:grpSpPr>
          <a:xfrm>
            <a:off x="3889440" y="2867040"/>
            <a:ext cx="1009440" cy="993600"/>
            <a:chOff x="3889440" y="2867040"/>
            <a:chExt cx="1009440" cy="993600"/>
          </a:xfrm>
        </p:grpSpPr>
        <p:grpSp>
          <p:nvGrpSpPr>
            <p:cNvPr id="859" name=""/>
            <p:cNvGrpSpPr/>
            <p:nvPr/>
          </p:nvGrpSpPr>
          <p:grpSpPr>
            <a:xfrm>
              <a:off x="4179960" y="2957400"/>
              <a:ext cx="438120" cy="903240"/>
              <a:chOff x="4179960" y="2957400"/>
              <a:chExt cx="438120" cy="903240"/>
            </a:xfrm>
          </p:grpSpPr>
          <p:sp>
            <p:nvSpPr>
              <p:cNvPr id="860" name=""/>
              <p:cNvSpPr/>
              <p:nvPr/>
            </p:nvSpPr>
            <p:spPr>
              <a:xfrm>
                <a:off x="4316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59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7996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2288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7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27356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3889440" y="2867040"/>
              <a:ext cx="1009440" cy="431640"/>
              <a:chOff x="3889440" y="2867040"/>
              <a:chExt cx="1009440" cy="431640"/>
            </a:xfrm>
          </p:grpSpPr>
          <p:sp>
            <p:nvSpPr>
              <p:cNvPr id="867" name=""/>
              <p:cNvSpPr/>
              <p:nvPr/>
            </p:nvSpPr>
            <p:spPr>
              <a:xfrm>
                <a:off x="4078440" y="2967120"/>
                <a:ext cx="65376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4670280" y="2867040"/>
                <a:ext cx="228600" cy="380880"/>
                <a:chOff x="4670280" y="2867040"/>
                <a:chExt cx="228600" cy="38088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4702320" y="287640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670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78008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3889440" y="2924280"/>
                <a:ext cx="255600" cy="374400"/>
                <a:chOff x="3889440" y="2924280"/>
                <a:chExt cx="255600" cy="37440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388944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90852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7044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5248440" y="2867040"/>
            <a:ext cx="1009440" cy="993600"/>
            <a:chOff x="5248440" y="2867040"/>
            <a:chExt cx="1009440" cy="993600"/>
          </a:xfrm>
        </p:grpSpPr>
        <p:grpSp>
          <p:nvGrpSpPr>
            <p:cNvPr id="877" name=""/>
            <p:cNvGrpSpPr/>
            <p:nvPr/>
          </p:nvGrpSpPr>
          <p:grpSpPr>
            <a:xfrm>
              <a:off x="5538960" y="2957400"/>
              <a:ext cx="438120" cy="903240"/>
              <a:chOff x="5538960" y="2957400"/>
              <a:chExt cx="438120" cy="903240"/>
            </a:xfrm>
          </p:grpSpPr>
          <p:sp>
            <p:nvSpPr>
              <p:cNvPr id="878" name=""/>
              <p:cNvSpPr/>
              <p:nvPr/>
            </p:nvSpPr>
            <p:spPr>
              <a:xfrm>
                <a:off x="567540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1832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38960" y="2976480"/>
                <a:ext cx="16164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81520" y="330048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76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632560" y="352728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5248440" y="2867040"/>
              <a:ext cx="1009440" cy="431640"/>
              <a:chOff x="5248440" y="2867040"/>
              <a:chExt cx="1009440" cy="431640"/>
            </a:xfrm>
          </p:grpSpPr>
          <p:sp>
            <p:nvSpPr>
              <p:cNvPr id="885" name=""/>
              <p:cNvSpPr/>
              <p:nvPr/>
            </p:nvSpPr>
            <p:spPr>
              <a:xfrm>
                <a:off x="5437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"/>
              <p:cNvGrpSpPr/>
              <p:nvPr/>
            </p:nvGrpSpPr>
            <p:grpSpPr>
              <a:xfrm>
                <a:off x="6029280" y="2867040"/>
                <a:ext cx="228600" cy="380880"/>
                <a:chOff x="6029280" y="2867040"/>
                <a:chExt cx="228600" cy="38088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6060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029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138720" y="302724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5248440" y="2924280"/>
                <a:ext cx="255600" cy="374400"/>
                <a:chOff x="5248440" y="2924280"/>
                <a:chExt cx="255600" cy="37440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248440" y="2940120"/>
                  <a:ext cx="22032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267160" y="292428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329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4" name=""/>
          <p:cNvGrpSpPr/>
          <p:nvPr/>
        </p:nvGrpSpPr>
        <p:grpSpPr>
          <a:xfrm>
            <a:off x="6607080" y="2867040"/>
            <a:ext cx="1009800" cy="993600"/>
            <a:chOff x="6607080" y="2867040"/>
            <a:chExt cx="1009800" cy="993600"/>
          </a:xfrm>
        </p:grpSpPr>
        <p:grpSp>
          <p:nvGrpSpPr>
            <p:cNvPr id="895" name=""/>
            <p:cNvGrpSpPr/>
            <p:nvPr/>
          </p:nvGrpSpPr>
          <p:grpSpPr>
            <a:xfrm>
              <a:off x="6897600" y="2957400"/>
              <a:ext cx="438120" cy="903240"/>
              <a:chOff x="6897600" y="2957400"/>
              <a:chExt cx="438120" cy="903240"/>
            </a:xfrm>
          </p:grpSpPr>
          <p:sp>
            <p:nvSpPr>
              <p:cNvPr id="896" name=""/>
              <p:cNvSpPr/>
              <p:nvPr/>
            </p:nvSpPr>
            <p:spPr>
              <a:xfrm>
                <a:off x="7034040" y="309240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17696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9760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4052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135920" y="3532320"/>
                <a:ext cx="11268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9120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607080" y="2867040"/>
              <a:ext cx="1009800" cy="431640"/>
              <a:chOff x="6607080" y="2867040"/>
              <a:chExt cx="1009800" cy="431640"/>
            </a:xfrm>
          </p:grpSpPr>
          <p:sp>
            <p:nvSpPr>
              <p:cNvPr id="903" name=""/>
              <p:cNvSpPr/>
              <p:nvPr/>
            </p:nvSpPr>
            <p:spPr>
              <a:xfrm>
                <a:off x="6796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7388280" y="2867040"/>
                <a:ext cx="228600" cy="380880"/>
                <a:chOff x="7388280" y="2867040"/>
                <a:chExt cx="228600" cy="3808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7419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388280" y="286704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49772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6607080" y="2924280"/>
                <a:ext cx="255600" cy="374400"/>
                <a:chOff x="6607080" y="2924280"/>
                <a:chExt cx="255600" cy="37440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660708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2616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88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2" name=""/>
          <p:cNvGrpSpPr/>
          <p:nvPr/>
        </p:nvGrpSpPr>
        <p:grpSpPr>
          <a:xfrm>
            <a:off x="7966080" y="2867040"/>
            <a:ext cx="1009800" cy="993600"/>
            <a:chOff x="7966080" y="2867040"/>
            <a:chExt cx="1009800" cy="993600"/>
          </a:xfrm>
        </p:grpSpPr>
        <p:grpSp>
          <p:nvGrpSpPr>
            <p:cNvPr id="913" name=""/>
            <p:cNvGrpSpPr/>
            <p:nvPr/>
          </p:nvGrpSpPr>
          <p:grpSpPr>
            <a:xfrm>
              <a:off x="8256600" y="2957400"/>
              <a:ext cx="438120" cy="903240"/>
              <a:chOff x="8256600" y="2957400"/>
              <a:chExt cx="438120" cy="903240"/>
            </a:xfrm>
          </p:grpSpPr>
          <p:sp>
            <p:nvSpPr>
              <p:cNvPr id="914" name=""/>
              <p:cNvSpPr/>
              <p:nvPr/>
            </p:nvSpPr>
            <p:spPr>
              <a:xfrm>
                <a:off x="8393040" y="309240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35960" y="295740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256600" y="2976480"/>
                <a:ext cx="162000" cy="37332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399520" y="330048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494560" y="3532320"/>
                <a:ext cx="113040" cy="31248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350200" y="352728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7966080" y="2867040"/>
              <a:ext cx="1009800" cy="431640"/>
              <a:chOff x="7966080" y="2867040"/>
              <a:chExt cx="1009800" cy="431640"/>
            </a:xfrm>
          </p:grpSpPr>
          <p:sp>
            <p:nvSpPr>
              <p:cNvPr id="921" name=""/>
              <p:cNvSpPr/>
              <p:nvPr/>
            </p:nvSpPr>
            <p:spPr>
              <a:xfrm>
                <a:off x="8155080" y="2967120"/>
                <a:ext cx="654120" cy="10296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8747280" y="2867040"/>
                <a:ext cx="228600" cy="380880"/>
                <a:chOff x="8747280" y="2867040"/>
                <a:chExt cx="228600" cy="3808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778960" y="287640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747280" y="286704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856720" y="302724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7966080" y="2924280"/>
                <a:ext cx="255600" cy="374400"/>
                <a:chOff x="7966080" y="2924280"/>
                <a:chExt cx="255600" cy="3744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966080" y="2940120"/>
                  <a:ext cx="220680" cy="35856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985160" y="292428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047080" y="308448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0" name=""/>
          <p:cNvGrpSpPr/>
          <p:nvPr/>
        </p:nvGrpSpPr>
        <p:grpSpPr>
          <a:xfrm>
            <a:off x="2543040" y="3933720"/>
            <a:ext cx="1009800" cy="993960"/>
            <a:chOff x="2543040" y="3933720"/>
            <a:chExt cx="1009800" cy="993960"/>
          </a:xfrm>
        </p:grpSpPr>
        <p:grpSp>
          <p:nvGrpSpPr>
            <p:cNvPr id="931" name=""/>
            <p:cNvGrpSpPr/>
            <p:nvPr/>
          </p:nvGrpSpPr>
          <p:grpSpPr>
            <a:xfrm>
              <a:off x="2833560" y="4024440"/>
              <a:ext cx="438120" cy="903240"/>
              <a:chOff x="2833560" y="4024440"/>
              <a:chExt cx="438120" cy="903240"/>
            </a:xfrm>
          </p:grpSpPr>
          <p:sp>
            <p:nvSpPr>
              <p:cNvPr id="932" name=""/>
              <p:cNvSpPr/>
              <p:nvPr/>
            </p:nvSpPr>
            <p:spPr>
              <a:xfrm>
                <a:off x="297036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112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33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76480" y="43671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7188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27520" y="45943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543040" y="3933720"/>
              <a:ext cx="1009800" cy="432000"/>
              <a:chOff x="2543040" y="3933720"/>
              <a:chExt cx="1009800" cy="432000"/>
            </a:xfrm>
          </p:grpSpPr>
          <p:sp>
            <p:nvSpPr>
              <p:cNvPr id="939" name=""/>
              <p:cNvSpPr/>
              <p:nvPr/>
            </p:nvSpPr>
            <p:spPr>
              <a:xfrm>
                <a:off x="273204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3324240" y="3933720"/>
                <a:ext cx="228600" cy="381240"/>
                <a:chOff x="3324240" y="3933720"/>
                <a:chExt cx="228600" cy="38124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335592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32424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433680" y="40942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2543040" y="3990960"/>
                <a:ext cx="255600" cy="374760"/>
                <a:chOff x="2543040" y="3990960"/>
                <a:chExt cx="255600" cy="3747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2543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562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624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8" name=""/>
          <p:cNvGrpSpPr/>
          <p:nvPr/>
        </p:nvGrpSpPr>
        <p:grpSpPr>
          <a:xfrm>
            <a:off x="3902040" y="3933720"/>
            <a:ext cx="1009800" cy="993960"/>
            <a:chOff x="3902040" y="3933720"/>
            <a:chExt cx="1009800" cy="993960"/>
          </a:xfrm>
        </p:grpSpPr>
        <p:grpSp>
          <p:nvGrpSpPr>
            <p:cNvPr id="949" name=""/>
            <p:cNvGrpSpPr/>
            <p:nvPr/>
          </p:nvGrpSpPr>
          <p:grpSpPr>
            <a:xfrm>
              <a:off x="4192560" y="4024440"/>
              <a:ext cx="438120" cy="903240"/>
              <a:chOff x="4192560" y="4024440"/>
              <a:chExt cx="438120" cy="903240"/>
            </a:xfrm>
          </p:grpSpPr>
          <p:sp>
            <p:nvSpPr>
              <p:cNvPr id="950" name=""/>
              <p:cNvSpPr/>
              <p:nvPr/>
            </p:nvSpPr>
            <p:spPr>
              <a:xfrm>
                <a:off x="4329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471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192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33548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3088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28616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02040" y="3933720"/>
              <a:ext cx="1009800" cy="432000"/>
              <a:chOff x="3902040" y="3933720"/>
              <a:chExt cx="1009800" cy="432000"/>
            </a:xfrm>
          </p:grpSpPr>
          <p:sp>
            <p:nvSpPr>
              <p:cNvPr id="957" name=""/>
              <p:cNvSpPr/>
              <p:nvPr/>
            </p:nvSpPr>
            <p:spPr>
              <a:xfrm>
                <a:off x="409104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4683240" y="3933720"/>
                <a:ext cx="228600" cy="381240"/>
                <a:chOff x="4683240" y="3933720"/>
                <a:chExt cx="228600" cy="38124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471492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683240" y="3933720"/>
                  <a:ext cx="20772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79268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3902040" y="3990960"/>
                <a:ext cx="255600" cy="374760"/>
                <a:chOff x="3902040" y="3990960"/>
                <a:chExt cx="255600" cy="3747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902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921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983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6" name=""/>
          <p:cNvGrpSpPr/>
          <p:nvPr/>
        </p:nvGrpSpPr>
        <p:grpSpPr>
          <a:xfrm>
            <a:off x="5261040" y="3933720"/>
            <a:ext cx="1009440" cy="993960"/>
            <a:chOff x="5261040" y="3933720"/>
            <a:chExt cx="1009440" cy="993960"/>
          </a:xfrm>
        </p:grpSpPr>
        <p:grpSp>
          <p:nvGrpSpPr>
            <p:cNvPr id="967" name=""/>
            <p:cNvGrpSpPr/>
            <p:nvPr/>
          </p:nvGrpSpPr>
          <p:grpSpPr>
            <a:xfrm>
              <a:off x="5551560" y="4024440"/>
              <a:ext cx="438120" cy="903240"/>
              <a:chOff x="5551560" y="4024440"/>
              <a:chExt cx="438120" cy="903240"/>
            </a:xfrm>
          </p:grpSpPr>
          <p:sp>
            <p:nvSpPr>
              <p:cNvPr id="968" name=""/>
              <p:cNvSpPr/>
              <p:nvPr/>
            </p:nvSpPr>
            <p:spPr>
              <a:xfrm>
                <a:off x="5688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30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5156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69448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89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64516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5261040" y="3933720"/>
              <a:ext cx="1009440" cy="432000"/>
              <a:chOff x="5261040" y="3933720"/>
              <a:chExt cx="1009440" cy="432000"/>
            </a:xfrm>
          </p:grpSpPr>
          <p:sp>
            <p:nvSpPr>
              <p:cNvPr id="975" name=""/>
              <p:cNvSpPr/>
              <p:nvPr/>
            </p:nvSpPr>
            <p:spPr>
              <a:xfrm>
                <a:off x="5450040" y="403380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6041880" y="3933720"/>
                <a:ext cx="228600" cy="381240"/>
                <a:chOff x="6041880" y="3933720"/>
                <a:chExt cx="228600" cy="38124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6073920" y="394344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041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15168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261040" y="3990960"/>
                <a:ext cx="255600" cy="374760"/>
                <a:chOff x="5261040" y="3990960"/>
                <a:chExt cx="255600" cy="37476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526104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28012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4204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4" name=""/>
          <p:cNvGrpSpPr/>
          <p:nvPr/>
        </p:nvGrpSpPr>
        <p:grpSpPr>
          <a:xfrm>
            <a:off x="6620040" y="3933720"/>
            <a:ext cx="1009440" cy="993960"/>
            <a:chOff x="6620040" y="3933720"/>
            <a:chExt cx="1009440" cy="993960"/>
          </a:xfrm>
        </p:grpSpPr>
        <p:grpSp>
          <p:nvGrpSpPr>
            <p:cNvPr id="985" name=""/>
            <p:cNvGrpSpPr/>
            <p:nvPr/>
          </p:nvGrpSpPr>
          <p:grpSpPr>
            <a:xfrm>
              <a:off x="6910560" y="4024440"/>
              <a:ext cx="438120" cy="903240"/>
              <a:chOff x="6910560" y="4024440"/>
              <a:chExt cx="438120" cy="903240"/>
            </a:xfrm>
          </p:grpSpPr>
          <p:sp>
            <p:nvSpPr>
              <p:cNvPr id="986" name=""/>
              <p:cNvSpPr/>
              <p:nvPr/>
            </p:nvSpPr>
            <p:spPr>
              <a:xfrm>
                <a:off x="7047000" y="415908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18992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0560" y="404352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53120" y="4367160"/>
                <a:ext cx="14472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148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004160" y="459432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6620040" y="3933720"/>
              <a:ext cx="1009440" cy="432000"/>
              <a:chOff x="6620040" y="3933720"/>
              <a:chExt cx="1009440" cy="432000"/>
            </a:xfrm>
          </p:grpSpPr>
          <p:sp>
            <p:nvSpPr>
              <p:cNvPr id="993" name=""/>
              <p:cNvSpPr/>
              <p:nvPr/>
            </p:nvSpPr>
            <p:spPr>
              <a:xfrm>
                <a:off x="680868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7400880" y="3933720"/>
                <a:ext cx="228600" cy="381240"/>
                <a:chOff x="7400880" y="3933720"/>
                <a:chExt cx="228600" cy="3812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743256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400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10320" y="409428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6620040" y="3990960"/>
                <a:ext cx="255600" cy="374760"/>
                <a:chOff x="6620040" y="3990960"/>
                <a:chExt cx="255600" cy="37476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620040" y="400680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638760" y="399096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0068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2" name=""/>
          <p:cNvGrpSpPr/>
          <p:nvPr/>
        </p:nvGrpSpPr>
        <p:grpSpPr>
          <a:xfrm>
            <a:off x="7978680" y="3933720"/>
            <a:ext cx="1009800" cy="993960"/>
            <a:chOff x="7978680" y="3933720"/>
            <a:chExt cx="1009800" cy="993960"/>
          </a:xfrm>
        </p:grpSpPr>
        <p:grpSp>
          <p:nvGrpSpPr>
            <p:cNvPr id="1003" name=""/>
            <p:cNvGrpSpPr/>
            <p:nvPr/>
          </p:nvGrpSpPr>
          <p:grpSpPr>
            <a:xfrm>
              <a:off x="8269200" y="4024440"/>
              <a:ext cx="438120" cy="903240"/>
              <a:chOff x="8269200" y="4024440"/>
              <a:chExt cx="438120" cy="903240"/>
            </a:xfrm>
          </p:grpSpPr>
          <p:sp>
            <p:nvSpPr>
              <p:cNvPr id="1004" name=""/>
              <p:cNvSpPr/>
              <p:nvPr/>
            </p:nvSpPr>
            <p:spPr>
              <a:xfrm>
                <a:off x="8405640" y="4159080"/>
                <a:ext cx="14004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548560" y="402444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269200" y="404352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412120" y="4367160"/>
                <a:ext cx="144360" cy="27144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507520" y="459900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362800" y="459432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7978680" y="3933720"/>
              <a:ext cx="1009800" cy="432000"/>
              <a:chOff x="7978680" y="3933720"/>
              <a:chExt cx="1009800" cy="432000"/>
            </a:xfrm>
          </p:grpSpPr>
          <p:sp>
            <p:nvSpPr>
              <p:cNvPr id="1011" name=""/>
              <p:cNvSpPr/>
              <p:nvPr/>
            </p:nvSpPr>
            <p:spPr>
              <a:xfrm>
                <a:off x="8167680" y="403380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8759880" y="3933720"/>
                <a:ext cx="228600" cy="381240"/>
                <a:chOff x="8759880" y="3933720"/>
                <a:chExt cx="228600" cy="381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8791560" y="394344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759880" y="3933720"/>
                  <a:ext cx="208080" cy="37800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869320" y="409428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7978680" y="3990960"/>
                <a:ext cx="255600" cy="374760"/>
                <a:chOff x="7978680" y="3990960"/>
                <a:chExt cx="255600" cy="37476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7978680" y="400680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997760" y="399096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059680" y="4151160"/>
                  <a:ext cx="54000" cy="7956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0" name=""/>
          <p:cNvGrpSpPr/>
          <p:nvPr/>
        </p:nvGrpSpPr>
        <p:grpSpPr>
          <a:xfrm>
            <a:off x="2556000" y="5000760"/>
            <a:ext cx="1009440" cy="993600"/>
            <a:chOff x="2556000" y="5000760"/>
            <a:chExt cx="1009440" cy="993600"/>
          </a:xfrm>
        </p:grpSpPr>
        <p:grpSp>
          <p:nvGrpSpPr>
            <p:cNvPr id="1021" name=""/>
            <p:cNvGrpSpPr/>
            <p:nvPr/>
          </p:nvGrpSpPr>
          <p:grpSpPr>
            <a:xfrm>
              <a:off x="2846520" y="5091120"/>
              <a:ext cx="438120" cy="903240"/>
              <a:chOff x="2846520" y="5091120"/>
              <a:chExt cx="438120" cy="903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298296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2588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46520" y="51102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8944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84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4012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556000" y="5000760"/>
              <a:ext cx="1009440" cy="431640"/>
              <a:chOff x="2556000" y="5000760"/>
              <a:chExt cx="1009440" cy="431640"/>
            </a:xfrm>
          </p:grpSpPr>
          <p:sp>
            <p:nvSpPr>
              <p:cNvPr id="1029" name=""/>
              <p:cNvSpPr/>
              <p:nvPr/>
            </p:nvSpPr>
            <p:spPr>
              <a:xfrm>
                <a:off x="2744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3336840" y="5000760"/>
                <a:ext cx="228600" cy="380880"/>
                <a:chOff x="3336840" y="5000760"/>
                <a:chExt cx="228600" cy="38088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3368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33684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44664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2556000" y="5057640"/>
                <a:ext cx="255600" cy="374760"/>
                <a:chOff x="2556000" y="5057640"/>
                <a:chExt cx="255600" cy="37476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255600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57508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637000" y="5218200"/>
                  <a:ext cx="5364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8" name=""/>
          <p:cNvGrpSpPr/>
          <p:nvPr/>
        </p:nvGrpSpPr>
        <p:grpSpPr>
          <a:xfrm>
            <a:off x="3914640" y="5000760"/>
            <a:ext cx="1009800" cy="993600"/>
            <a:chOff x="3914640" y="5000760"/>
            <a:chExt cx="1009800" cy="993600"/>
          </a:xfrm>
        </p:grpSpPr>
        <p:grpSp>
          <p:nvGrpSpPr>
            <p:cNvPr id="1039" name=""/>
            <p:cNvGrpSpPr/>
            <p:nvPr/>
          </p:nvGrpSpPr>
          <p:grpSpPr>
            <a:xfrm>
              <a:off x="4205160" y="5091120"/>
              <a:ext cx="438120" cy="903240"/>
              <a:chOff x="4205160" y="5091120"/>
              <a:chExt cx="438120" cy="903240"/>
            </a:xfrm>
          </p:grpSpPr>
          <p:sp>
            <p:nvSpPr>
              <p:cNvPr id="1040" name=""/>
              <p:cNvSpPr/>
              <p:nvPr/>
            </p:nvSpPr>
            <p:spPr>
              <a:xfrm>
                <a:off x="434196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84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205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348080" y="54338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43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29912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914640" y="5000760"/>
              <a:ext cx="1009800" cy="431640"/>
              <a:chOff x="3914640" y="5000760"/>
              <a:chExt cx="1009800" cy="431640"/>
            </a:xfrm>
          </p:grpSpPr>
          <p:sp>
            <p:nvSpPr>
              <p:cNvPr id="1047" name=""/>
              <p:cNvSpPr/>
              <p:nvPr/>
            </p:nvSpPr>
            <p:spPr>
              <a:xfrm>
                <a:off x="4103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4695840" y="5000760"/>
                <a:ext cx="228600" cy="380880"/>
                <a:chOff x="4695840" y="5000760"/>
                <a:chExt cx="228600" cy="3808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4727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69584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05280" y="51609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3914640" y="5057640"/>
                <a:ext cx="255600" cy="374760"/>
                <a:chOff x="3914640" y="5057640"/>
                <a:chExt cx="255600" cy="37476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3914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933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995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6" name=""/>
          <p:cNvGrpSpPr/>
          <p:nvPr/>
        </p:nvGrpSpPr>
        <p:grpSpPr>
          <a:xfrm>
            <a:off x="5273640" y="5000760"/>
            <a:ext cx="1009800" cy="993600"/>
            <a:chOff x="5273640" y="5000760"/>
            <a:chExt cx="1009800" cy="993600"/>
          </a:xfrm>
        </p:grpSpPr>
        <p:grpSp>
          <p:nvGrpSpPr>
            <p:cNvPr id="1057" name=""/>
            <p:cNvGrpSpPr/>
            <p:nvPr/>
          </p:nvGrpSpPr>
          <p:grpSpPr>
            <a:xfrm>
              <a:off x="5564160" y="5091120"/>
              <a:ext cx="438120" cy="903240"/>
              <a:chOff x="5564160" y="5091120"/>
              <a:chExt cx="438120" cy="903240"/>
            </a:xfrm>
          </p:grpSpPr>
          <p:sp>
            <p:nvSpPr>
              <p:cNvPr id="1058" name=""/>
              <p:cNvSpPr/>
              <p:nvPr/>
            </p:nvSpPr>
            <p:spPr>
              <a:xfrm>
                <a:off x="5700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43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64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70708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0248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657760" y="56610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273640" y="5000760"/>
              <a:ext cx="1009800" cy="431640"/>
              <a:chOff x="5273640" y="5000760"/>
              <a:chExt cx="1009800" cy="431640"/>
            </a:xfrm>
          </p:grpSpPr>
          <p:sp>
            <p:nvSpPr>
              <p:cNvPr id="1065" name=""/>
              <p:cNvSpPr/>
              <p:nvPr/>
            </p:nvSpPr>
            <p:spPr>
              <a:xfrm>
                <a:off x="546264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6054840" y="5000760"/>
                <a:ext cx="228600" cy="380880"/>
                <a:chOff x="6054840" y="5000760"/>
                <a:chExt cx="228600" cy="3808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608652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054840" y="5000760"/>
                  <a:ext cx="20772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16428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273640" y="5057640"/>
                <a:ext cx="255600" cy="374760"/>
                <a:chOff x="5273640" y="5057640"/>
                <a:chExt cx="255600" cy="3747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273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92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354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4" name=""/>
          <p:cNvGrpSpPr/>
          <p:nvPr/>
        </p:nvGrpSpPr>
        <p:grpSpPr>
          <a:xfrm>
            <a:off x="6632640" y="5000760"/>
            <a:ext cx="1009440" cy="993600"/>
            <a:chOff x="6632640" y="5000760"/>
            <a:chExt cx="1009440" cy="993600"/>
          </a:xfrm>
        </p:grpSpPr>
        <p:grpSp>
          <p:nvGrpSpPr>
            <p:cNvPr id="1075" name=""/>
            <p:cNvGrpSpPr/>
            <p:nvPr/>
          </p:nvGrpSpPr>
          <p:grpSpPr>
            <a:xfrm>
              <a:off x="6923160" y="5091120"/>
              <a:ext cx="438120" cy="903240"/>
              <a:chOff x="6923160" y="5091120"/>
              <a:chExt cx="438120" cy="903240"/>
            </a:xfrm>
          </p:grpSpPr>
          <p:sp>
            <p:nvSpPr>
              <p:cNvPr id="1076" name=""/>
              <p:cNvSpPr/>
              <p:nvPr/>
            </p:nvSpPr>
            <p:spPr>
              <a:xfrm>
                <a:off x="7059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02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923160" y="5110200"/>
                <a:ext cx="16200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66080" y="5433840"/>
                <a:ext cx="14436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112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16760" y="5661000"/>
                <a:ext cx="11124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6632640" y="5000760"/>
              <a:ext cx="1009440" cy="431640"/>
              <a:chOff x="6632640" y="5000760"/>
              <a:chExt cx="1009440" cy="431640"/>
            </a:xfrm>
          </p:grpSpPr>
          <p:sp>
            <p:nvSpPr>
              <p:cNvPr id="1083" name=""/>
              <p:cNvSpPr/>
              <p:nvPr/>
            </p:nvSpPr>
            <p:spPr>
              <a:xfrm>
                <a:off x="6821640" y="5100480"/>
                <a:ext cx="65376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7413480" y="5000760"/>
                <a:ext cx="228600" cy="380880"/>
                <a:chOff x="7413480" y="5000760"/>
                <a:chExt cx="228600" cy="3808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7445520" y="5010120"/>
                  <a:ext cx="19656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41348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523280" y="5160960"/>
                  <a:ext cx="4752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6632640" y="5057640"/>
                <a:ext cx="255600" cy="374760"/>
                <a:chOff x="6632640" y="5057640"/>
                <a:chExt cx="255600" cy="3747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632640" y="5073480"/>
                  <a:ext cx="22068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651720" y="5057640"/>
                  <a:ext cx="23652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71364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2" name=""/>
          <p:cNvGrpSpPr/>
          <p:nvPr/>
        </p:nvGrpSpPr>
        <p:grpSpPr>
          <a:xfrm>
            <a:off x="7991640" y="5000760"/>
            <a:ext cx="1009440" cy="993600"/>
            <a:chOff x="7991640" y="5000760"/>
            <a:chExt cx="1009440" cy="993600"/>
          </a:xfrm>
        </p:grpSpPr>
        <p:grpSp>
          <p:nvGrpSpPr>
            <p:cNvPr id="1093" name=""/>
            <p:cNvGrpSpPr/>
            <p:nvPr/>
          </p:nvGrpSpPr>
          <p:grpSpPr>
            <a:xfrm>
              <a:off x="8282160" y="5091120"/>
              <a:ext cx="438120" cy="903240"/>
              <a:chOff x="8282160" y="5091120"/>
              <a:chExt cx="438120" cy="903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8418600" y="5226120"/>
                <a:ext cx="139680" cy="189000"/>
              </a:xfrm>
              <a:custGeom>
                <a:avLst/>
                <a:gdLst/>
                <a:ahLst/>
                <a:rect l="l" t="t" r="r" b="b"/>
                <a:pathLst>
                  <a:path w="88" h="119">
                    <a:moveTo>
                      <a:pt x="52" y="0"/>
                    </a:moveTo>
                    <a:lnTo>
                      <a:pt x="63" y="2"/>
                    </a:lnTo>
                    <a:lnTo>
                      <a:pt x="73" y="8"/>
                    </a:lnTo>
                    <a:lnTo>
                      <a:pt x="80" y="17"/>
                    </a:lnTo>
                    <a:lnTo>
                      <a:pt x="86" y="30"/>
                    </a:lnTo>
                    <a:lnTo>
                      <a:pt x="87" y="53"/>
                    </a:lnTo>
                    <a:lnTo>
                      <a:pt x="83" y="75"/>
                    </a:lnTo>
                    <a:lnTo>
                      <a:pt x="76" y="92"/>
                    </a:lnTo>
                    <a:lnTo>
                      <a:pt x="67" y="106"/>
                    </a:lnTo>
                    <a:lnTo>
                      <a:pt x="58" y="115"/>
                    </a:lnTo>
                    <a:lnTo>
                      <a:pt x="47" y="118"/>
                    </a:lnTo>
                    <a:lnTo>
                      <a:pt x="36" y="116"/>
                    </a:lnTo>
                    <a:lnTo>
                      <a:pt x="31" y="109"/>
                    </a:lnTo>
                    <a:lnTo>
                      <a:pt x="23" y="97"/>
                    </a:lnTo>
                    <a:lnTo>
                      <a:pt x="20" y="74"/>
                    </a:lnTo>
                    <a:lnTo>
                      <a:pt x="23" y="50"/>
                    </a:lnTo>
                    <a:lnTo>
                      <a:pt x="24" y="47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4" y="9"/>
                    </a:lnTo>
                    <a:lnTo>
                      <a:pt x="28" y="38"/>
                    </a:lnTo>
                    <a:lnTo>
                      <a:pt x="31" y="24"/>
                    </a:lnTo>
                    <a:lnTo>
                      <a:pt x="39" y="9"/>
                    </a:lnTo>
                    <a:lnTo>
                      <a:pt x="47" y="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561520" y="509112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0" h="244">
                    <a:moveTo>
                      <a:pt x="21" y="201"/>
                    </a:moveTo>
                    <a:lnTo>
                      <a:pt x="13" y="210"/>
                    </a:lnTo>
                    <a:lnTo>
                      <a:pt x="3" y="221"/>
                    </a:lnTo>
                    <a:lnTo>
                      <a:pt x="0" y="237"/>
                    </a:lnTo>
                    <a:lnTo>
                      <a:pt x="6" y="243"/>
                    </a:lnTo>
                    <a:lnTo>
                      <a:pt x="15" y="243"/>
                    </a:lnTo>
                    <a:lnTo>
                      <a:pt x="24" y="234"/>
                    </a:lnTo>
                    <a:lnTo>
                      <a:pt x="36" y="215"/>
                    </a:lnTo>
                    <a:lnTo>
                      <a:pt x="42" y="194"/>
                    </a:lnTo>
                    <a:lnTo>
                      <a:pt x="50" y="179"/>
                    </a:lnTo>
                    <a:lnTo>
                      <a:pt x="60" y="158"/>
                    </a:lnTo>
                    <a:lnTo>
                      <a:pt x="72" y="146"/>
                    </a:lnTo>
                    <a:lnTo>
                      <a:pt x="75" y="117"/>
                    </a:lnTo>
                    <a:lnTo>
                      <a:pt x="78" y="97"/>
                    </a:lnTo>
                    <a:lnTo>
                      <a:pt x="78" y="79"/>
                    </a:lnTo>
                    <a:lnTo>
                      <a:pt x="83" y="55"/>
                    </a:lnTo>
                    <a:lnTo>
                      <a:pt x="90" y="46"/>
                    </a:lnTo>
                    <a:lnTo>
                      <a:pt x="99" y="6"/>
                    </a:lnTo>
                    <a:lnTo>
                      <a:pt x="89" y="0"/>
                    </a:lnTo>
                    <a:lnTo>
                      <a:pt x="71" y="1"/>
                    </a:lnTo>
                    <a:lnTo>
                      <a:pt x="69" y="31"/>
                    </a:lnTo>
                    <a:lnTo>
                      <a:pt x="54" y="25"/>
                    </a:lnTo>
                    <a:lnTo>
                      <a:pt x="48" y="30"/>
                    </a:lnTo>
                    <a:lnTo>
                      <a:pt x="63" y="43"/>
                    </a:lnTo>
                    <a:lnTo>
                      <a:pt x="63" y="60"/>
                    </a:lnTo>
                    <a:lnTo>
                      <a:pt x="65" y="78"/>
                    </a:lnTo>
                    <a:lnTo>
                      <a:pt x="65" y="99"/>
                    </a:lnTo>
                    <a:lnTo>
                      <a:pt x="63" y="117"/>
                    </a:lnTo>
                    <a:lnTo>
                      <a:pt x="54" y="135"/>
                    </a:lnTo>
                    <a:lnTo>
                      <a:pt x="43" y="170"/>
                    </a:lnTo>
                    <a:lnTo>
                      <a:pt x="34" y="185"/>
                    </a:lnTo>
                    <a:lnTo>
                      <a:pt x="21" y="201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282160" y="5110200"/>
                <a:ext cx="161640" cy="372960"/>
              </a:xfrm>
              <a:custGeom>
                <a:avLst/>
                <a:gdLst/>
                <a:ahLst/>
                <a:rect l="l" t="t" r="r" b="b"/>
                <a:pathLst>
                  <a:path w="102" h="235">
                    <a:moveTo>
                      <a:pt x="89" y="192"/>
                    </a:moveTo>
                    <a:lnTo>
                      <a:pt x="96" y="203"/>
                    </a:lnTo>
                    <a:lnTo>
                      <a:pt x="99" y="210"/>
                    </a:lnTo>
                    <a:lnTo>
                      <a:pt x="101" y="224"/>
                    </a:lnTo>
                    <a:lnTo>
                      <a:pt x="99" y="231"/>
                    </a:lnTo>
                    <a:lnTo>
                      <a:pt x="92" y="234"/>
                    </a:lnTo>
                    <a:lnTo>
                      <a:pt x="81" y="233"/>
                    </a:lnTo>
                    <a:lnTo>
                      <a:pt x="74" y="222"/>
                    </a:lnTo>
                    <a:lnTo>
                      <a:pt x="66" y="210"/>
                    </a:lnTo>
                    <a:lnTo>
                      <a:pt x="56" y="186"/>
                    </a:lnTo>
                    <a:lnTo>
                      <a:pt x="43" y="168"/>
                    </a:lnTo>
                    <a:lnTo>
                      <a:pt x="35" y="155"/>
                    </a:lnTo>
                    <a:lnTo>
                      <a:pt x="30" y="129"/>
                    </a:lnTo>
                    <a:lnTo>
                      <a:pt x="26" y="99"/>
                    </a:lnTo>
                    <a:lnTo>
                      <a:pt x="19" y="82"/>
                    </a:lnTo>
                    <a:lnTo>
                      <a:pt x="11" y="67"/>
                    </a:lnTo>
                    <a:lnTo>
                      <a:pt x="6" y="55"/>
                    </a:lnTo>
                    <a:lnTo>
                      <a:pt x="0" y="35"/>
                    </a:lnTo>
                    <a:lnTo>
                      <a:pt x="1" y="14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32"/>
                    </a:lnTo>
                    <a:lnTo>
                      <a:pt x="38" y="29"/>
                    </a:lnTo>
                    <a:lnTo>
                      <a:pt x="39" y="39"/>
                    </a:lnTo>
                    <a:lnTo>
                      <a:pt x="30" y="46"/>
                    </a:lnTo>
                    <a:lnTo>
                      <a:pt x="30" y="61"/>
                    </a:lnTo>
                    <a:lnTo>
                      <a:pt x="38" y="85"/>
                    </a:lnTo>
                    <a:lnTo>
                      <a:pt x="43" y="111"/>
                    </a:lnTo>
                    <a:lnTo>
                      <a:pt x="48" y="139"/>
                    </a:lnTo>
                    <a:lnTo>
                      <a:pt x="54" y="150"/>
                    </a:lnTo>
                    <a:lnTo>
                      <a:pt x="68" y="168"/>
                    </a:lnTo>
                    <a:lnTo>
                      <a:pt x="81" y="183"/>
                    </a:lnTo>
                    <a:lnTo>
                      <a:pt x="89" y="192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424720" y="5433840"/>
                <a:ext cx="144720" cy="271800"/>
              </a:xfrm>
              <a:custGeom>
                <a:avLst/>
                <a:gdLst/>
                <a:ahLst/>
                <a:rect l="l" t="t" r="r" b="b"/>
                <a:pathLst>
                  <a:path w="91" h="171">
                    <a:moveTo>
                      <a:pt x="35" y="0"/>
                    </a:moveTo>
                    <a:lnTo>
                      <a:pt x="48" y="0"/>
                    </a:lnTo>
                    <a:lnTo>
                      <a:pt x="65" y="3"/>
                    </a:lnTo>
                    <a:lnTo>
                      <a:pt x="74" y="12"/>
                    </a:lnTo>
                    <a:lnTo>
                      <a:pt x="83" y="29"/>
                    </a:lnTo>
                    <a:lnTo>
                      <a:pt x="87" y="41"/>
                    </a:lnTo>
                    <a:lnTo>
                      <a:pt x="90" y="56"/>
                    </a:lnTo>
                    <a:lnTo>
                      <a:pt x="90" y="74"/>
                    </a:lnTo>
                    <a:lnTo>
                      <a:pt x="89" y="92"/>
                    </a:lnTo>
                    <a:lnTo>
                      <a:pt x="87" y="112"/>
                    </a:lnTo>
                    <a:lnTo>
                      <a:pt x="81" y="136"/>
                    </a:lnTo>
                    <a:lnTo>
                      <a:pt x="74" y="152"/>
                    </a:lnTo>
                    <a:lnTo>
                      <a:pt x="60" y="166"/>
                    </a:lnTo>
                    <a:lnTo>
                      <a:pt x="45" y="170"/>
                    </a:lnTo>
                    <a:lnTo>
                      <a:pt x="29" y="166"/>
                    </a:lnTo>
                    <a:lnTo>
                      <a:pt x="18" y="145"/>
                    </a:lnTo>
                    <a:lnTo>
                      <a:pt x="11" y="125"/>
                    </a:lnTo>
                    <a:lnTo>
                      <a:pt x="6" y="103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5" y="33"/>
                    </a:lnTo>
                    <a:lnTo>
                      <a:pt x="11" y="18"/>
                    </a:lnTo>
                    <a:lnTo>
                      <a:pt x="1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520120" y="5665680"/>
                <a:ext cx="112680" cy="312840"/>
              </a:xfrm>
              <a:custGeom>
                <a:avLst/>
                <a:gdLst/>
                <a:ahLst/>
                <a:rect l="l" t="t" r="r" b="b"/>
                <a:pathLst>
                  <a:path w="71" h="197">
                    <a:moveTo>
                      <a:pt x="13" y="23"/>
                    </a:moveTo>
                    <a:lnTo>
                      <a:pt x="4" y="10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40" y="32"/>
                    </a:lnTo>
                    <a:lnTo>
                      <a:pt x="48" y="53"/>
                    </a:lnTo>
                    <a:lnTo>
                      <a:pt x="55" y="73"/>
                    </a:lnTo>
                    <a:lnTo>
                      <a:pt x="57" y="92"/>
                    </a:lnTo>
                    <a:lnTo>
                      <a:pt x="56" y="101"/>
                    </a:lnTo>
                    <a:lnTo>
                      <a:pt x="49" y="113"/>
                    </a:lnTo>
                    <a:lnTo>
                      <a:pt x="38" y="145"/>
                    </a:lnTo>
                    <a:lnTo>
                      <a:pt x="25" y="164"/>
                    </a:lnTo>
                    <a:lnTo>
                      <a:pt x="22" y="172"/>
                    </a:lnTo>
                    <a:lnTo>
                      <a:pt x="34" y="173"/>
                    </a:lnTo>
                    <a:lnTo>
                      <a:pt x="50" y="173"/>
                    </a:lnTo>
                    <a:lnTo>
                      <a:pt x="70" y="181"/>
                    </a:lnTo>
                    <a:lnTo>
                      <a:pt x="68" y="186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47" y="191"/>
                    </a:lnTo>
                    <a:lnTo>
                      <a:pt x="34" y="184"/>
                    </a:lnTo>
                    <a:lnTo>
                      <a:pt x="16" y="183"/>
                    </a:lnTo>
                    <a:lnTo>
                      <a:pt x="5" y="185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6" y="170"/>
                    </a:lnTo>
                    <a:lnTo>
                      <a:pt x="16" y="159"/>
                    </a:lnTo>
                    <a:lnTo>
                      <a:pt x="34" y="133"/>
                    </a:lnTo>
                    <a:lnTo>
                      <a:pt x="41" y="109"/>
                    </a:lnTo>
                    <a:lnTo>
                      <a:pt x="43" y="87"/>
                    </a:lnTo>
                    <a:lnTo>
                      <a:pt x="43" y="75"/>
                    </a:lnTo>
                    <a:lnTo>
                      <a:pt x="37" y="53"/>
                    </a:lnTo>
                    <a:lnTo>
                      <a:pt x="21" y="30"/>
                    </a:lnTo>
                    <a:lnTo>
                      <a:pt x="9" y="18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375760" y="5661000"/>
                <a:ext cx="110880" cy="333360"/>
              </a:xfrm>
              <a:custGeom>
                <a:avLst/>
                <a:gdLst/>
                <a:ahLst/>
                <a:rect l="l" t="t" r="r" b="b"/>
                <a:pathLst>
                  <a:path w="70" h="210">
                    <a:moveTo>
                      <a:pt x="35" y="38"/>
                    </a:moveTo>
                    <a:lnTo>
                      <a:pt x="46" y="17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68" y="7"/>
                    </a:lnTo>
                    <a:lnTo>
                      <a:pt x="69" y="18"/>
                    </a:lnTo>
                    <a:lnTo>
                      <a:pt x="62" y="26"/>
                    </a:lnTo>
                    <a:lnTo>
                      <a:pt x="52" y="37"/>
                    </a:lnTo>
                    <a:lnTo>
                      <a:pt x="43" y="49"/>
                    </a:lnTo>
                    <a:lnTo>
                      <a:pt x="34" y="65"/>
                    </a:lnTo>
                    <a:lnTo>
                      <a:pt x="30" y="77"/>
                    </a:lnTo>
                    <a:lnTo>
                      <a:pt x="27" y="91"/>
                    </a:lnTo>
                    <a:lnTo>
                      <a:pt x="26" y="109"/>
                    </a:lnTo>
                    <a:lnTo>
                      <a:pt x="27" y="125"/>
                    </a:lnTo>
                    <a:lnTo>
                      <a:pt x="32" y="146"/>
                    </a:lnTo>
                    <a:lnTo>
                      <a:pt x="40" y="164"/>
                    </a:lnTo>
                    <a:lnTo>
                      <a:pt x="47" y="174"/>
                    </a:lnTo>
                    <a:lnTo>
                      <a:pt x="51" y="182"/>
                    </a:lnTo>
                    <a:lnTo>
                      <a:pt x="52" y="188"/>
                    </a:lnTo>
                    <a:lnTo>
                      <a:pt x="48" y="190"/>
                    </a:lnTo>
                    <a:lnTo>
                      <a:pt x="39" y="191"/>
                    </a:lnTo>
                    <a:lnTo>
                      <a:pt x="26" y="196"/>
                    </a:lnTo>
                    <a:lnTo>
                      <a:pt x="16" y="202"/>
                    </a:lnTo>
                    <a:lnTo>
                      <a:pt x="10" y="209"/>
                    </a:lnTo>
                    <a:lnTo>
                      <a:pt x="4" y="207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10" y="186"/>
                    </a:lnTo>
                    <a:lnTo>
                      <a:pt x="27" y="182"/>
                    </a:lnTo>
                    <a:lnTo>
                      <a:pt x="42" y="180"/>
                    </a:lnTo>
                    <a:lnTo>
                      <a:pt x="35" y="172"/>
                    </a:lnTo>
                    <a:lnTo>
                      <a:pt x="31" y="161"/>
                    </a:lnTo>
                    <a:lnTo>
                      <a:pt x="25" y="146"/>
                    </a:lnTo>
                    <a:lnTo>
                      <a:pt x="19" y="131"/>
                    </a:lnTo>
                    <a:lnTo>
                      <a:pt x="17" y="111"/>
                    </a:lnTo>
                    <a:lnTo>
                      <a:pt x="17" y="92"/>
                    </a:lnTo>
                    <a:lnTo>
                      <a:pt x="21" y="74"/>
                    </a:lnTo>
                    <a:lnTo>
                      <a:pt x="29" y="50"/>
                    </a:lnTo>
                    <a:lnTo>
                      <a:pt x="35" y="38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991640" y="5000760"/>
              <a:ext cx="1009440" cy="431640"/>
              <a:chOff x="7991640" y="5000760"/>
              <a:chExt cx="1009440" cy="431640"/>
            </a:xfrm>
          </p:grpSpPr>
          <p:sp>
            <p:nvSpPr>
              <p:cNvPr id="1101" name=""/>
              <p:cNvSpPr/>
              <p:nvPr/>
            </p:nvSpPr>
            <p:spPr>
              <a:xfrm>
                <a:off x="8180280" y="5100480"/>
                <a:ext cx="654120" cy="103320"/>
              </a:xfrm>
              <a:custGeom>
                <a:avLst/>
                <a:gdLst/>
                <a:ahLst/>
                <a:rect l="l" t="t" r="r" b="b"/>
                <a:pathLst>
                  <a:path w="412" h="65">
                    <a:moveTo>
                      <a:pt x="0" y="45"/>
                    </a:moveTo>
                    <a:lnTo>
                      <a:pt x="28" y="33"/>
                    </a:lnTo>
                    <a:lnTo>
                      <a:pt x="49" y="25"/>
                    </a:lnTo>
                    <a:lnTo>
                      <a:pt x="70" y="20"/>
                    </a:lnTo>
                    <a:lnTo>
                      <a:pt x="97" y="14"/>
                    </a:lnTo>
                    <a:lnTo>
                      <a:pt x="128" y="9"/>
                    </a:lnTo>
                    <a:lnTo>
                      <a:pt x="171" y="4"/>
                    </a:lnTo>
                    <a:lnTo>
                      <a:pt x="232" y="0"/>
                    </a:lnTo>
                    <a:lnTo>
                      <a:pt x="272" y="0"/>
                    </a:lnTo>
                    <a:lnTo>
                      <a:pt x="301" y="2"/>
                    </a:lnTo>
                    <a:lnTo>
                      <a:pt x="334" y="5"/>
                    </a:lnTo>
                    <a:lnTo>
                      <a:pt x="361" y="8"/>
                    </a:lnTo>
                    <a:lnTo>
                      <a:pt x="389" y="14"/>
                    </a:lnTo>
                    <a:lnTo>
                      <a:pt x="411" y="21"/>
                    </a:lnTo>
                    <a:lnTo>
                      <a:pt x="404" y="43"/>
                    </a:lnTo>
                    <a:lnTo>
                      <a:pt x="383" y="37"/>
                    </a:lnTo>
                    <a:lnTo>
                      <a:pt x="358" y="32"/>
                    </a:lnTo>
                    <a:lnTo>
                      <a:pt x="334" y="27"/>
                    </a:lnTo>
                    <a:lnTo>
                      <a:pt x="310" y="25"/>
                    </a:lnTo>
                    <a:lnTo>
                      <a:pt x="287" y="25"/>
                    </a:lnTo>
                    <a:lnTo>
                      <a:pt x="254" y="24"/>
                    </a:lnTo>
                    <a:lnTo>
                      <a:pt x="224" y="25"/>
                    </a:lnTo>
                    <a:lnTo>
                      <a:pt x="171" y="28"/>
                    </a:lnTo>
                    <a:lnTo>
                      <a:pt x="138" y="31"/>
                    </a:lnTo>
                    <a:lnTo>
                      <a:pt x="120" y="34"/>
                    </a:lnTo>
                    <a:lnTo>
                      <a:pt x="99" y="36"/>
                    </a:lnTo>
                    <a:lnTo>
                      <a:pt x="78" y="41"/>
                    </a:lnTo>
                    <a:lnTo>
                      <a:pt x="54" y="48"/>
                    </a:lnTo>
                    <a:lnTo>
                      <a:pt x="40" y="51"/>
                    </a:lnTo>
                    <a:lnTo>
                      <a:pt x="24" y="58"/>
                    </a:lnTo>
                    <a:lnTo>
                      <a:pt x="10" y="64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8772480" y="5000760"/>
                <a:ext cx="228600" cy="380880"/>
                <a:chOff x="8772480" y="5000760"/>
                <a:chExt cx="228600" cy="3808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8804160" y="5010120"/>
                  <a:ext cx="196920" cy="371520"/>
                </a:xfrm>
                <a:custGeom>
                  <a:avLst/>
                  <a:gdLst/>
                  <a:ahLst/>
                  <a:rect l="l" t="t" r="r" b="b"/>
                  <a:pathLst>
                    <a:path w="124" h="234">
                      <a:moveTo>
                        <a:pt x="109" y="133"/>
                      </a:moveTo>
                      <a:lnTo>
                        <a:pt x="112" y="125"/>
                      </a:lnTo>
                      <a:lnTo>
                        <a:pt x="114" y="117"/>
                      </a:lnTo>
                      <a:lnTo>
                        <a:pt x="116" y="109"/>
                      </a:lnTo>
                      <a:lnTo>
                        <a:pt x="118" y="101"/>
                      </a:lnTo>
                      <a:lnTo>
                        <a:pt x="120" y="93"/>
                      </a:lnTo>
                      <a:lnTo>
                        <a:pt x="121" y="85"/>
                      </a:lnTo>
                      <a:lnTo>
                        <a:pt x="122" y="77"/>
                      </a:lnTo>
                      <a:lnTo>
                        <a:pt x="123" y="70"/>
                      </a:lnTo>
                      <a:lnTo>
                        <a:pt x="123" y="62"/>
                      </a:lnTo>
                      <a:lnTo>
                        <a:pt x="123" y="55"/>
                      </a:lnTo>
                      <a:lnTo>
                        <a:pt x="123" y="49"/>
                      </a:lnTo>
                      <a:lnTo>
                        <a:pt x="123" y="42"/>
                      </a:lnTo>
                      <a:lnTo>
                        <a:pt x="122" y="36"/>
                      </a:lnTo>
                      <a:lnTo>
                        <a:pt x="121" y="30"/>
                      </a:lnTo>
                      <a:lnTo>
                        <a:pt x="119" y="25"/>
                      </a:lnTo>
                      <a:lnTo>
                        <a:pt x="118" y="20"/>
                      </a:lnTo>
                      <a:lnTo>
                        <a:pt x="116" y="16"/>
                      </a:lnTo>
                      <a:lnTo>
                        <a:pt x="114" y="12"/>
                      </a:lnTo>
                      <a:lnTo>
                        <a:pt x="111" y="9"/>
                      </a:lnTo>
                      <a:lnTo>
                        <a:pt x="109" y="6"/>
                      </a:lnTo>
                      <a:lnTo>
                        <a:pt x="106" y="4"/>
                      </a:lnTo>
                      <a:lnTo>
                        <a:pt x="103" y="2"/>
                      </a:lnTo>
                      <a:lnTo>
                        <a:pt x="99" y="1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0" y="4"/>
                      </a:lnTo>
                      <a:lnTo>
                        <a:pt x="76" y="6"/>
                      </a:lnTo>
                      <a:lnTo>
                        <a:pt x="72" y="9"/>
                      </a:lnTo>
                      <a:lnTo>
                        <a:pt x="68" y="12"/>
                      </a:lnTo>
                      <a:lnTo>
                        <a:pt x="63" y="16"/>
                      </a:lnTo>
                      <a:lnTo>
                        <a:pt x="59" y="20"/>
                      </a:lnTo>
                      <a:lnTo>
                        <a:pt x="55" y="25"/>
                      </a:lnTo>
                      <a:lnTo>
                        <a:pt x="50" y="30"/>
                      </a:lnTo>
                      <a:lnTo>
                        <a:pt x="46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4" y="55"/>
                      </a:lnTo>
                      <a:lnTo>
                        <a:pt x="30" y="62"/>
                      </a:lnTo>
                      <a:lnTo>
                        <a:pt x="27" y="69"/>
                      </a:lnTo>
                      <a:lnTo>
                        <a:pt x="23" y="77"/>
                      </a:lnTo>
                      <a:lnTo>
                        <a:pt x="20" y="85"/>
                      </a:lnTo>
                      <a:lnTo>
                        <a:pt x="17" y="92"/>
                      </a:lnTo>
                      <a:lnTo>
                        <a:pt x="14" y="100"/>
                      </a:lnTo>
                      <a:lnTo>
                        <a:pt x="11" y="108"/>
                      </a:lnTo>
                      <a:lnTo>
                        <a:pt x="9" y="116"/>
                      </a:lnTo>
                      <a:lnTo>
                        <a:pt x="6" y="125"/>
                      </a:lnTo>
                      <a:lnTo>
                        <a:pt x="5" y="133"/>
                      </a:lnTo>
                      <a:lnTo>
                        <a:pt x="3" y="141"/>
                      </a:lnTo>
                      <a:lnTo>
                        <a:pt x="2" y="149"/>
                      </a:lnTo>
                      <a:lnTo>
                        <a:pt x="1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0" y="178"/>
                      </a:lnTo>
                      <a:lnTo>
                        <a:pt x="0" y="185"/>
                      </a:lnTo>
                      <a:lnTo>
                        <a:pt x="0" y="191"/>
                      </a:lnTo>
                      <a:lnTo>
                        <a:pt x="1" y="197"/>
                      </a:lnTo>
                      <a:lnTo>
                        <a:pt x="2" y="203"/>
                      </a:lnTo>
                      <a:lnTo>
                        <a:pt x="3" y="208"/>
                      </a:lnTo>
                      <a:lnTo>
                        <a:pt x="5" y="213"/>
                      </a:lnTo>
                      <a:lnTo>
                        <a:pt x="7" y="217"/>
                      </a:lnTo>
                      <a:lnTo>
                        <a:pt x="9" y="221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9"/>
                      </a:lnTo>
                      <a:lnTo>
                        <a:pt x="20" y="231"/>
                      </a:lnTo>
                      <a:lnTo>
                        <a:pt x="23" y="232"/>
                      </a:lnTo>
                      <a:lnTo>
                        <a:pt x="27" y="233"/>
                      </a:lnTo>
                      <a:lnTo>
                        <a:pt x="31" y="233"/>
                      </a:lnTo>
                      <a:lnTo>
                        <a:pt x="34" y="232"/>
                      </a:lnTo>
                      <a:lnTo>
                        <a:pt x="38" y="231"/>
                      </a:lnTo>
                      <a:lnTo>
                        <a:pt x="43" y="230"/>
                      </a:lnTo>
                      <a:lnTo>
                        <a:pt x="47" y="227"/>
                      </a:lnTo>
                      <a:lnTo>
                        <a:pt x="51" y="225"/>
                      </a:lnTo>
                      <a:lnTo>
                        <a:pt x="55" y="221"/>
                      </a:lnTo>
                      <a:lnTo>
                        <a:pt x="60" y="218"/>
                      </a:lnTo>
                      <a:lnTo>
                        <a:pt x="64" y="213"/>
                      </a:lnTo>
                      <a:lnTo>
                        <a:pt x="68" y="208"/>
                      </a:lnTo>
                      <a:lnTo>
                        <a:pt x="72" y="203"/>
                      </a:lnTo>
                      <a:lnTo>
                        <a:pt x="77" y="198"/>
                      </a:lnTo>
                      <a:lnTo>
                        <a:pt x="81" y="192"/>
                      </a:lnTo>
                      <a:lnTo>
                        <a:pt x="85" y="185"/>
                      </a:lnTo>
                      <a:lnTo>
                        <a:pt x="89" y="179"/>
                      </a:lnTo>
                      <a:lnTo>
                        <a:pt x="93" y="171"/>
                      </a:lnTo>
                      <a:lnTo>
                        <a:pt x="96" y="164"/>
                      </a:lnTo>
                      <a:lnTo>
                        <a:pt x="100" y="157"/>
                      </a:lnTo>
                      <a:lnTo>
                        <a:pt x="103" y="149"/>
                      </a:lnTo>
                      <a:lnTo>
                        <a:pt x="106" y="141"/>
                      </a:lnTo>
                      <a:lnTo>
                        <a:pt x="109" y="13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772480" y="5000760"/>
                  <a:ext cx="208080" cy="377640"/>
                </a:xfrm>
                <a:custGeom>
                  <a:avLst/>
                  <a:gdLst/>
                  <a:ahLst/>
                  <a:rect l="l" t="t" r="r" b="b"/>
                  <a:pathLst>
                    <a:path w="131" h="238">
                      <a:moveTo>
                        <a:pt x="130" y="11"/>
                      </a:moveTo>
                      <a:lnTo>
                        <a:pt x="118" y="10"/>
                      </a:lnTo>
                      <a:lnTo>
                        <a:pt x="106" y="13"/>
                      </a:lnTo>
                      <a:lnTo>
                        <a:pt x="96" y="22"/>
                      </a:lnTo>
                      <a:lnTo>
                        <a:pt x="82" y="33"/>
                      </a:lnTo>
                      <a:lnTo>
                        <a:pt x="75" y="43"/>
                      </a:lnTo>
                      <a:lnTo>
                        <a:pt x="67" y="53"/>
                      </a:lnTo>
                      <a:lnTo>
                        <a:pt x="59" y="71"/>
                      </a:lnTo>
                      <a:lnTo>
                        <a:pt x="53" y="86"/>
                      </a:lnTo>
                      <a:lnTo>
                        <a:pt x="45" y="103"/>
                      </a:lnTo>
                      <a:lnTo>
                        <a:pt x="40" y="118"/>
                      </a:lnTo>
                      <a:lnTo>
                        <a:pt x="33" y="143"/>
                      </a:lnTo>
                      <a:lnTo>
                        <a:pt x="30" y="164"/>
                      </a:lnTo>
                      <a:lnTo>
                        <a:pt x="27" y="182"/>
                      </a:lnTo>
                      <a:lnTo>
                        <a:pt x="27" y="198"/>
                      </a:lnTo>
                      <a:lnTo>
                        <a:pt x="31" y="218"/>
                      </a:lnTo>
                      <a:lnTo>
                        <a:pt x="34" y="229"/>
                      </a:lnTo>
                      <a:lnTo>
                        <a:pt x="43" y="237"/>
                      </a:lnTo>
                      <a:lnTo>
                        <a:pt x="9" y="221"/>
                      </a:lnTo>
                      <a:lnTo>
                        <a:pt x="2" y="206"/>
                      </a:lnTo>
                      <a:lnTo>
                        <a:pt x="0" y="194"/>
                      </a:lnTo>
                      <a:lnTo>
                        <a:pt x="0" y="176"/>
                      </a:lnTo>
                      <a:lnTo>
                        <a:pt x="0" y="155"/>
                      </a:lnTo>
                      <a:lnTo>
                        <a:pt x="4" y="131"/>
                      </a:lnTo>
                      <a:lnTo>
                        <a:pt x="10" y="111"/>
                      </a:lnTo>
                      <a:lnTo>
                        <a:pt x="19" y="85"/>
                      </a:lnTo>
                      <a:lnTo>
                        <a:pt x="31" y="55"/>
                      </a:lnTo>
                      <a:lnTo>
                        <a:pt x="46" y="34"/>
                      </a:lnTo>
                      <a:lnTo>
                        <a:pt x="61" y="15"/>
                      </a:lnTo>
                      <a:lnTo>
                        <a:pt x="70" y="8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130" y="11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81920" y="5160960"/>
                  <a:ext cx="47880" cy="81000"/>
                </a:xfrm>
                <a:custGeom>
                  <a:avLst/>
                  <a:gdLst/>
                  <a:ahLst/>
                  <a:rect l="l" t="t" r="r" b="b"/>
                  <a:pathLst>
                    <a:path w="30" h="51">
                      <a:moveTo>
                        <a:pt x="27" y="29"/>
                      </a:moveTo>
                      <a:lnTo>
                        <a:pt x="28" y="25"/>
                      </a:lnTo>
                      <a:lnTo>
                        <a:pt x="29" y="20"/>
                      </a:lnTo>
                      <a:lnTo>
                        <a:pt x="29" y="16"/>
                      </a:lnTo>
                      <a:lnTo>
                        <a:pt x="29" y="12"/>
                      </a:lnTo>
                      <a:lnTo>
                        <a:pt x="29" y="9"/>
                      </a:lnTo>
                      <a:lnTo>
                        <a:pt x="28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4" y="3"/>
                      </a:lnTo>
                      <a:lnTo>
                        <a:pt x="11" y="6"/>
                      </a:lnTo>
                      <a:lnTo>
                        <a:pt x="9" y="9"/>
                      </a:lnTo>
                      <a:lnTo>
                        <a:pt x="6" y="13"/>
                      </a:lnTo>
                      <a:lnTo>
                        <a:pt x="5" y="17"/>
                      </a:lnTo>
                      <a:lnTo>
                        <a:pt x="3" y="21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7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1" y="50"/>
                      </a:lnTo>
                      <a:lnTo>
                        <a:pt x="13" y="49"/>
                      </a:lnTo>
                      <a:lnTo>
                        <a:pt x="16" y="47"/>
                      </a:lnTo>
                      <a:lnTo>
                        <a:pt x="18" y="44"/>
                      </a:lnTo>
                      <a:lnTo>
                        <a:pt x="21" y="41"/>
                      </a:lnTo>
                      <a:lnTo>
                        <a:pt x="23" y="37"/>
                      </a:lnTo>
                      <a:lnTo>
                        <a:pt x="25" y="33"/>
                      </a:lnTo>
                      <a:lnTo>
                        <a:pt x="27" y="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7991640" y="5057640"/>
                <a:ext cx="255600" cy="374760"/>
                <a:chOff x="7991640" y="5057640"/>
                <a:chExt cx="255600" cy="3747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7991640" y="5073480"/>
                  <a:ext cx="220320" cy="358920"/>
                </a:xfrm>
                <a:custGeom>
                  <a:avLst/>
                  <a:gdLst/>
                  <a:ahLst/>
                  <a:rect l="l" t="t" r="r" b="b"/>
                  <a:pathLst>
                    <a:path w="139" h="226">
                      <a:moveTo>
                        <a:pt x="115" y="91"/>
                      </a:moveTo>
                      <a:lnTo>
                        <a:pt x="111" y="84"/>
                      </a:lnTo>
                      <a:lnTo>
                        <a:pt x="107" y="76"/>
                      </a:lnTo>
                      <a:lnTo>
                        <a:pt x="103" y="69"/>
                      </a:lnTo>
                      <a:lnTo>
                        <a:pt x="99" y="62"/>
                      </a:lnTo>
                      <a:lnTo>
                        <a:pt x="95" y="55"/>
                      </a:lnTo>
                      <a:lnTo>
                        <a:pt x="90" y="48"/>
                      </a:lnTo>
                      <a:lnTo>
                        <a:pt x="85" y="42"/>
                      </a:lnTo>
                      <a:lnTo>
                        <a:pt x="81" y="36"/>
                      </a:lnTo>
                      <a:lnTo>
                        <a:pt x="76" y="30"/>
                      </a:lnTo>
                      <a:lnTo>
                        <a:pt x="71" y="26"/>
                      </a:lnTo>
                      <a:lnTo>
                        <a:pt x="66" y="21"/>
                      </a:lnTo>
                      <a:lnTo>
                        <a:pt x="62" y="16"/>
                      </a:lnTo>
                      <a:lnTo>
                        <a:pt x="57" y="13"/>
                      </a:lnTo>
                      <a:lnTo>
                        <a:pt x="52" y="9"/>
                      </a:lnTo>
                      <a:lnTo>
                        <a:pt x="47" y="6"/>
                      </a:lnTo>
                      <a:lnTo>
                        <a:pt x="43" y="4"/>
                      </a:lnTo>
                      <a:lnTo>
                        <a:pt x="39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3" y="1"/>
                      </a:lnTo>
                      <a:lnTo>
                        <a:pt x="19" y="1"/>
                      </a:lnTo>
                      <a:lnTo>
                        <a:pt x="16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8" y="11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3" y="23"/>
                      </a:lnTo>
                      <a:lnTo>
                        <a:pt x="2" y="28"/>
                      </a:lnTo>
                      <a:lnTo>
                        <a:pt x="1" y="33"/>
                      </a:lnTo>
                      <a:lnTo>
                        <a:pt x="0" y="39"/>
                      </a:lnTo>
                      <a:lnTo>
                        <a:pt x="1" y="45"/>
                      </a:lnTo>
                      <a:lnTo>
                        <a:pt x="1" y="51"/>
                      </a:lnTo>
                      <a:lnTo>
                        <a:pt x="1" y="58"/>
                      </a:lnTo>
                      <a:lnTo>
                        <a:pt x="2" y="65"/>
                      </a:lnTo>
                      <a:lnTo>
                        <a:pt x="3" y="72"/>
                      </a:lnTo>
                      <a:lnTo>
                        <a:pt x="5" y="80"/>
                      </a:lnTo>
                      <a:lnTo>
                        <a:pt x="6" y="87"/>
                      </a:lnTo>
                      <a:lnTo>
                        <a:pt x="9" y="95"/>
                      </a:lnTo>
                      <a:lnTo>
                        <a:pt x="11" y="103"/>
                      </a:lnTo>
                      <a:lnTo>
                        <a:pt x="14" y="111"/>
                      </a:lnTo>
                      <a:lnTo>
                        <a:pt x="17" y="119"/>
                      </a:lnTo>
                      <a:lnTo>
                        <a:pt x="20" y="126"/>
                      </a:lnTo>
                      <a:lnTo>
                        <a:pt x="24" y="134"/>
                      </a:lnTo>
                      <a:lnTo>
                        <a:pt x="27" y="142"/>
                      </a:lnTo>
                      <a:lnTo>
                        <a:pt x="31" y="149"/>
                      </a:lnTo>
                      <a:lnTo>
                        <a:pt x="35" y="157"/>
                      </a:lnTo>
                      <a:lnTo>
                        <a:pt x="40" y="164"/>
                      </a:lnTo>
                      <a:lnTo>
                        <a:pt x="44" y="170"/>
                      </a:lnTo>
                      <a:lnTo>
                        <a:pt x="48" y="177"/>
                      </a:lnTo>
                      <a:lnTo>
                        <a:pt x="53" y="183"/>
                      </a:lnTo>
                      <a:lnTo>
                        <a:pt x="58" y="189"/>
                      </a:lnTo>
                      <a:lnTo>
                        <a:pt x="63" y="195"/>
                      </a:lnTo>
                      <a:lnTo>
                        <a:pt x="67" y="200"/>
                      </a:lnTo>
                      <a:lnTo>
                        <a:pt x="72" y="205"/>
                      </a:lnTo>
                      <a:lnTo>
                        <a:pt x="77" y="209"/>
                      </a:lnTo>
                      <a:lnTo>
                        <a:pt x="82" y="213"/>
                      </a:lnTo>
                      <a:lnTo>
                        <a:pt x="86" y="216"/>
                      </a:lnTo>
                      <a:lnTo>
                        <a:pt x="91" y="219"/>
                      </a:lnTo>
                      <a:lnTo>
                        <a:pt x="96" y="221"/>
                      </a:lnTo>
                      <a:lnTo>
                        <a:pt x="100" y="223"/>
                      </a:lnTo>
                      <a:lnTo>
                        <a:pt x="104" y="224"/>
                      </a:lnTo>
                      <a:lnTo>
                        <a:pt x="108" y="225"/>
                      </a:lnTo>
                      <a:lnTo>
                        <a:pt x="112" y="225"/>
                      </a:lnTo>
                      <a:lnTo>
                        <a:pt x="116" y="225"/>
                      </a:lnTo>
                      <a:lnTo>
                        <a:pt x="119" y="224"/>
                      </a:lnTo>
                      <a:lnTo>
                        <a:pt x="122" y="222"/>
                      </a:lnTo>
                      <a:lnTo>
                        <a:pt x="125" y="220"/>
                      </a:lnTo>
                      <a:lnTo>
                        <a:pt x="128" y="218"/>
                      </a:lnTo>
                      <a:lnTo>
                        <a:pt x="130" y="215"/>
                      </a:lnTo>
                      <a:lnTo>
                        <a:pt x="132" y="211"/>
                      </a:lnTo>
                      <a:lnTo>
                        <a:pt x="134" y="207"/>
                      </a:lnTo>
                      <a:lnTo>
                        <a:pt x="135" y="203"/>
                      </a:lnTo>
                      <a:lnTo>
                        <a:pt x="137" y="198"/>
                      </a:lnTo>
                      <a:lnTo>
                        <a:pt x="137" y="192"/>
                      </a:lnTo>
                      <a:lnTo>
                        <a:pt x="138" y="186"/>
                      </a:lnTo>
                      <a:lnTo>
                        <a:pt x="138" y="180"/>
                      </a:lnTo>
                      <a:lnTo>
                        <a:pt x="138" y="174"/>
                      </a:lnTo>
                      <a:lnTo>
                        <a:pt x="137" y="167"/>
                      </a:lnTo>
                      <a:lnTo>
                        <a:pt x="136" y="160"/>
                      </a:lnTo>
                      <a:lnTo>
                        <a:pt x="135" y="153"/>
                      </a:lnTo>
                      <a:lnTo>
                        <a:pt x="134" y="146"/>
                      </a:lnTo>
                      <a:lnTo>
                        <a:pt x="132" y="138"/>
                      </a:lnTo>
                      <a:lnTo>
                        <a:pt x="130" y="130"/>
                      </a:lnTo>
                      <a:lnTo>
                        <a:pt x="127" y="123"/>
                      </a:lnTo>
                      <a:lnTo>
                        <a:pt x="125" y="115"/>
                      </a:lnTo>
                      <a:lnTo>
                        <a:pt x="122" y="107"/>
                      </a:lnTo>
                      <a:lnTo>
                        <a:pt x="119" y="99"/>
                      </a:lnTo>
                      <a:lnTo>
                        <a:pt x="115" y="9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010360" y="5057640"/>
                  <a:ext cx="236880" cy="368280"/>
                </a:xfrm>
                <a:custGeom>
                  <a:avLst/>
                  <a:gdLst/>
                  <a:ahLst/>
                  <a:rect l="l" t="t" r="r" b="b"/>
                  <a:pathLst>
                    <a:path w="149" h="232">
                      <a:moveTo>
                        <a:pt x="0" y="15"/>
                      </a:moveTo>
                      <a:lnTo>
                        <a:pt x="12" y="14"/>
                      </a:lnTo>
                      <a:lnTo>
                        <a:pt x="24" y="14"/>
                      </a:lnTo>
                      <a:lnTo>
                        <a:pt x="35" y="22"/>
                      </a:lnTo>
                      <a:lnTo>
                        <a:pt x="50" y="33"/>
                      </a:lnTo>
                      <a:lnTo>
                        <a:pt x="58" y="41"/>
                      </a:lnTo>
                      <a:lnTo>
                        <a:pt x="66" y="51"/>
                      </a:lnTo>
                      <a:lnTo>
                        <a:pt x="76" y="67"/>
                      </a:lnTo>
                      <a:lnTo>
                        <a:pt x="85" y="82"/>
                      </a:lnTo>
                      <a:lnTo>
                        <a:pt x="94" y="98"/>
                      </a:lnTo>
                      <a:lnTo>
                        <a:pt x="101" y="113"/>
                      </a:lnTo>
                      <a:lnTo>
                        <a:pt x="110" y="136"/>
                      </a:lnTo>
                      <a:lnTo>
                        <a:pt x="115" y="157"/>
                      </a:lnTo>
                      <a:lnTo>
                        <a:pt x="120" y="175"/>
                      </a:lnTo>
                      <a:lnTo>
                        <a:pt x="122" y="192"/>
                      </a:lnTo>
                      <a:lnTo>
                        <a:pt x="120" y="211"/>
                      </a:lnTo>
                      <a:lnTo>
                        <a:pt x="118" y="222"/>
                      </a:lnTo>
                      <a:lnTo>
                        <a:pt x="111" y="231"/>
                      </a:lnTo>
                      <a:lnTo>
                        <a:pt x="142" y="212"/>
                      </a:lnTo>
                      <a:lnTo>
                        <a:pt x="148" y="197"/>
                      </a:lnTo>
                      <a:lnTo>
                        <a:pt x="148" y="184"/>
                      </a:lnTo>
                      <a:lnTo>
                        <a:pt x="146" y="167"/>
                      </a:lnTo>
                      <a:lnTo>
                        <a:pt x="144" y="146"/>
                      </a:lnTo>
                      <a:lnTo>
                        <a:pt x="137" y="122"/>
                      </a:lnTo>
                      <a:lnTo>
                        <a:pt x="130" y="102"/>
                      </a:lnTo>
                      <a:lnTo>
                        <a:pt x="118" y="77"/>
                      </a:lnTo>
                      <a:lnTo>
                        <a:pt x="103" y="49"/>
                      </a:lnTo>
                      <a:lnTo>
                        <a:pt x="86" y="29"/>
                      </a:lnTo>
                      <a:lnTo>
                        <a:pt x="69" y="12"/>
                      </a:lnTo>
                      <a:lnTo>
                        <a:pt x="60" y="6"/>
                      </a:lnTo>
                      <a:lnTo>
                        <a:pt x="48" y="1"/>
                      </a:lnTo>
                      <a:lnTo>
                        <a:pt x="42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68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072280" y="521820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34" h="50">
                      <a:moveTo>
                        <a:pt x="28" y="19"/>
                      </a:move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1" y="8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3" y="26"/>
                      </a:lnTo>
                      <a:lnTo>
                        <a:pt x="5" y="30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7" y="46"/>
                      </a:lnTo>
                      <a:lnTo>
                        <a:pt x="20" y="48"/>
                      </a:lnTo>
                      <a:lnTo>
                        <a:pt x="23" y="49"/>
                      </a:lnTo>
                      <a:lnTo>
                        <a:pt x="25" y="49"/>
                      </a:lnTo>
                      <a:lnTo>
                        <a:pt x="28" y="49"/>
                      </a:lnTo>
                      <a:lnTo>
                        <a:pt x="30" y="47"/>
                      </a:lnTo>
                      <a:lnTo>
                        <a:pt x="31" y="45"/>
                      </a:lnTo>
                      <a:lnTo>
                        <a:pt x="32" y="42"/>
                      </a:lnTo>
                      <a:lnTo>
                        <a:pt x="33" y="39"/>
                      </a:lnTo>
                      <a:lnTo>
                        <a:pt x="33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0" y="23"/>
                      </a:lnTo>
                      <a:lnTo>
                        <a:pt x="28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0" name=""/>
          <p:cNvSpPr/>
          <p:nvPr/>
        </p:nvSpPr>
        <p:spPr>
          <a:xfrm>
            <a:off x="1989000" y="1676520"/>
            <a:ext cx="5954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673360" y="63244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339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7712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2292480" y="6324480"/>
          <a:ext cx="1454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3816360" y="6324480"/>
          <a:ext cx="14540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163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5340240" y="6324480"/>
          <a:ext cx="14544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40240" y="6324480"/>
                    <a:ext cx="1454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6864480" y="6324480"/>
          <a:ext cx="145404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6448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8388360" y="6324480"/>
          <a:ext cx="145404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8360" y="6324480"/>
                    <a:ext cx="1454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élioration des performances par la technique du pipelin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176000" y="2438280"/>
            <a:ext cx="3573720" cy="1186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PI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ps cycle = fa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43480" y="173196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f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6:31:30Z</dcterms:created>
  <dc:creator>DŽpartement Informatique</dc:creator>
  <dc:description/>
  <dc:language>en-US</dc:language>
  <cp:lastModifiedBy>Denis Dupont</cp:lastModifiedBy>
  <cp:lastPrinted>1999-09-14T12:50:36Z</cp:lastPrinted>
  <dcterms:modified xsi:type="dcterms:W3CDTF">2003-10-25T08:04:24Z</dcterms:modified>
  <cp:revision>26</cp:revision>
  <dc:subject/>
  <dc:title>Aucun titre de diapositive</dc:title>
</cp:coreProperties>
</file>