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177840"/>
            <a:ext cx="914400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35040" y="1155600"/>
            <a:ext cx="8292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480"/>
            <a:ext cx="9118440" cy="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Arial"/>
              </a:rPr>
              <a:t>Objectifs</a:t>
            </a:r>
            <a:endParaRPr b="0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s allons construire la partie contrôle de L ’UC qui permet de piloter le chemin de données en fonction du type de l ’opé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fonction du code de l ’opération 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s allons identifier le chemin de données à prendre et ensuite nous identifierons les signaux à pilot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681280" y="3214800"/>
            <a:ext cx="1495440" cy="1155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69800" y="1079640"/>
            <a:ext cx="4853160" cy="479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39880" y="3454560"/>
            <a:ext cx="1641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écod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403440" y="4355640"/>
            <a:ext cx="0" cy="69084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64160" y="4319640"/>
            <a:ext cx="51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74960" y="5632560"/>
            <a:ext cx="106560" cy="101520"/>
          </a:xfrm>
          <a:prstGeom prst="ellipse">
            <a:avLst/>
          </a:prstGeom>
          <a:noFill/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74960" y="5683320"/>
            <a:ext cx="249480" cy="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923000" y="2324160"/>
            <a:ext cx="249120" cy="102960"/>
            <a:chOff x="4923000" y="2324160"/>
            <a:chExt cx="249120" cy="102960"/>
          </a:xfrm>
        </p:grpSpPr>
        <p:sp>
          <p:nvSpPr>
            <p:cNvPr id="668" name=""/>
            <p:cNvSpPr/>
            <p:nvPr/>
          </p:nvSpPr>
          <p:spPr>
            <a:xfrm>
              <a:off x="4923000" y="2324160"/>
              <a:ext cx="106200" cy="102960"/>
            </a:xfrm>
            <a:prstGeom prst="ellipse">
              <a:avLst/>
            </a:prstGeom>
            <a:noFill/>
            <a:ln w="38160">
              <a:solidFill>
                <a:srgbClr val="91919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67360" y="2373480"/>
              <a:ext cx="104760" cy="0"/>
            </a:xfrm>
            <a:prstGeom prst="line">
              <a:avLst/>
            </a:prstGeom>
            <a:ln w="38160">
              <a:solidFill>
                <a:srgbClr val="91919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7147080" y="5632560"/>
            <a:ext cx="106200" cy="101520"/>
          </a:xfrm>
          <a:prstGeom prst="ellipse">
            <a:avLst/>
          </a:prstGeom>
          <a:noFill/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004160" y="5683320"/>
            <a:ext cx="249120" cy="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147080" y="4392720"/>
            <a:ext cx="106200" cy="100080"/>
          </a:xfrm>
          <a:prstGeom prst="ellipse">
            <a:avLst/>
          </a:prstGeom>
          <a:noFill/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004160" y="4443480"/>
            <a:ext cx="249120" cy="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757680" y="1854360"/>
            <a:ext cx="106200" cy="99720"/>
          </a:xfrm>
          <a:prstGeom prst="ellipse">
            <a:avLst/>
          </a:prstGeom>
          <a:noFill/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10080" y="1905120"/>
            <a:ext cx="249120" cy="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6640" y="2322360"/>
            <a:ext cx="0" cy="24156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549760" y="1087560"/>
            <a:ext cx="3327480" cy="479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6139800" y="2586240"/>
            <a:ext cx="57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84880" y="4811760"/>
            <a:ext cx="856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073320" y="5054760"/>
            <a:ext cx="1549440" cy="29196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33440" y="4989600"/>
            <a:ext cx="1508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86240" y="1187280"/>
            <a:ext cx="149868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 chargemen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2681280" y="3214800"/>
            <a:ext cx="1495440" cy="1155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3680" y="1073160"/>
            <a:ext cx="4865400" cy="481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30400" y="3600360"/>
            <a:ext cx="95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464160" y="4319640"/>
            <a:ext cx="51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76236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76236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4910040" y="2311560"/>
            <a:ext cx="274680" cy="128520"/>
            <a:chOff x="4910040" y="2311560"/>
            <a:chExt cx="274680" cy="128520"/>
          </a:xfrm>
        </p:grpSpPr>
        <p:sp>
          <p:nvSpPr>
            <p:cNvPr id="763" name=""/>
            <p:cNvSpPr/>
            <p:nvPr/>
          </p:nvSpPr>
          <p:spPr>
            <a:xfrm>
              <a:off x="4910040" y="2311560"/>
              <a:ext cx="131760" cy="128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54760" y="2373480"/>
              <a:ext cx="129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713412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99120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134120" y="4379760"/>
            <a:ext cx="131760" cy="1256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9120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745080" y="1841400"/>
            <a:ext cx="131760" cy="1256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597120" y="19051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976640" y="2309760"/>
            <a:ext cx="0" cy="266760"/>
          </a:xfrm>
          <a:prstGeom prst="line">
            <a:avLst/>
          </a:prstGeom>
          <a:ln w="1260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43640" y="1081080"/>
            <a:ext cx="3340080" cy="480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6139800" y="2586240"/>
            <a:ext cx="57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486240" y="1187280"/>
            <a:ext cx="149868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184880" y="4811760"/>
            <a:ext cx="856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133800" y="4987800"/>
            <a:ext cx="15080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457880" y="2629080"/>
            <a:ext cx="1944360" cy="2363760"/>
          </a:xfrm>
          <a:custGeom>
            <a:avLst/>
            <a:gdLst/>
            <a:ahLst/>
            <a:rect l="l" t="t" r="r" b="b"/>
            <a:pathLst>
              <a:path w="1225" h="1489">
                <a:moveTo>
                  <a:pt x="0" y="1488"/>
                </a:moveTo>
                <a:lnTo>
                  <a:pt x="32" y="1360"/>
                </a:lnTo>
                <a:lnTo>
                  <a:pt x="64" y="1048"/>
                </a:lnTo>
                <a:lnTo>
                  <a:pt x="64" y="1024"/>
                </a:lnTo>
                <a:lnTo>
                  <a:pt x="64" y="1000"/>
                </a:lnTo>
                <a:lnTo>
                  <a:pt x="64" y="936"/>
                </a:lnTo>
                <a:lnTo>
                  <a:pt x="64" y="920"/>
                </a:lnTo>
                <a:lnTo>
                  <a:pt x="64" y="904"/>
                </a:lnTo>
                <a:lnTo>
                  <a:pt x="64" y="880"/>
                </a:lnTo>
                <a:lnTo>
                  <a:pt x="64" y="864"/>
                </a:lnTo>
                <a:lnTo>
                  <a:pt x="64" y="848"/>
                </a:lnTo>
                <a:lnTo>
                  <a:pt x="56" y="832"/>
                </a:lnTo>
                <a:lnTo>
                  <a:pt x="56" y="816"/>
                </a:lnTo>
                <a:lnTo>
                  <a:pt x="56" y="800"/>
                </a:lnTo>
                <a:lnTo>
                  <a:pt x="56" y="776"/>
                </a:lnTo>
                <a:lnTo>
                  <a:pt x="56" y="760"/>
                </a:lnTo>
                <a:lnTo>
                  <a:pt x="56" y="744"/>
                </a:lnTo>
                <a:lnTo>
                  <a:pt x="56" y="720"/>
                </a:lnTo>
                <a:lnTo>
                  <a:pt x="56" y="704"/>
                </a:lnTo>
                <a:lnTo>
                  <a:pt x="56" y="680"/>
                </a:lnTo>
                <a:lnTo>
                  <a:pt x="56" y="664"/>
                </a:lnTo>
                <a:lnTo>
                  <a:pt x="56" y="648"/>
                </a:lnTo>
                <a:lnTo>
                  <a:pt x="56" y="632"/>
                </a:lnTo>
                <a:lnTo>
                  <a:pt x="56" y="616"/>
                </a:lnTo>
                <a:lnTo>
                  <a:pt x="56" y="600"/>
                </a:lnTo>
                <a:lnTo>
                  <a:pt x="56" y="584"/>
                </a:lnTo>
                <a:lnTo>
                  <a:pt x="56" y="568"/>
                </a:lnTo>
                <a:lnTo>
                  <a:pt x="56" y="552"/>
                </a:lnTo>
                <a:lnTo>
                  <a:pt x="56" y="536"/>
                </a:lnTo>
                <a:lnTo>
                  <a:pt x="56" y="520"/>
                </a:lnTo>
                <a:lnTo>
                  <a:pt x="56" y="504"/>
                </a:lnTo>
                <a:lnTo>
                  <a:pt x="56" y="488"/>
                </a:lnTo>
                <a:lnTo>
                  <a:pt x="64" y="464"/>
                </a:lnTo>
                <a:lnTo>
                  <a:pt x="64" y="448"/>
                </a:lnTo>
                <a:lnTo>
                  <a:pt x="72" y="432"/>
                </a:lnTo>
                <a:lnTo>
                  <a:pt x="72" y="416"/>
                </a:lnTo>
                <a:lnTo>
                  <a:pt x="80" y="400"/>
                </a:lnTo>
                <a:lnTo>
                  <a:pt x="88" y="368"/>
                </a:lnTo>
                <a:lnTo>
                  <a:pt x="96" y="352"/>
                </a:lnTo>
                <a:lnTo>
                  <a:pt x="96" y="336"/>
                </a:lnTo>
                <a:lnTo>
                  <a:pt x="96" y="320"/>
                </a:lnTo>
                <a:lnTo>
                  <a:pt x="104" y="304"/>
                </a:lnTo>
                <a:lnTo>
                  <a:pt x="120" y="288"/>
                </a:lnTo>
                <a:lnTo>
                  <a:pt x="128" y="264"/>
                </a:lnTo>
                <a:lnTo>
                  <a:pt x="136" y="248"/>
                </a:lnTo>
                <a:lnTo>
                  <a:pt x="136" y="232"/>
                </a:lnTo>
                <a:lnTo>
                  <a:pt x="144" y="216"/>
                </a:lnTo>
                <a:lnTo>
                  <a:pt x="160" y="200"/>
                </a:lnTo>
                <a:lnTo>
                  <a:pt x="176" y="184"/>
                </a:lnTo>
                <a:lnTo>
                  <a:pt x="192" y="168"/>
                </a:lnTo>
                <a:lnTo>
                  <a:pt x="200" y="152"/>
                </a:lnTo>
                <a:lnTo>
                  <a:pt x="224" y="136"/>
                </a:lnTo>
                <a:lnTo>
                  <a:pt x="240" y="120"/>
                </a:lnTo>
                <a:lnTo>
                  <a:pt x="256" y="112"/>
                </a:lnTo>
                <a:lnTo>
                  <a:pt x="272" y="104"/>
                </a:lnTo>
                <a:lnTo>
                  <a:pt x="296" y="96"/>
                </a:lnTo>
                <a:lnTo>
                  <a:pt x="304" y="80"/>
                </a:lnTo>
                <a:lnTo>
                  <a:pt x="320" y="80"/>
                </a:lnTo>
                <a:lnTo>
                  <a:pt x="336" y="64"/>
                </a:lnTo>
                <a:lnTo>
                  <a:pt x="352" y="56"/>
                </a:lnTo>
                <a:lnTo>
                  <a:pt x="360" y="40"/>
                </a:lnTo>
                <a:lnTo>
                  <a:pt x="376" y="40"/>
                </a:lnTo>
                <a:lnTo>
                  <a:pt x="392" y="32"/>
                </a:lnTo>
                <a:lnTo>
                  <a:pt x="408" y="32"/>
                </a:lnTo>
                <a:lnTo>
                  <a:pt x="424" y="24"/>
                </a:lnTo>
                <a:lnTo>
                  <a:pt x="440" y="24"/>
                </a:lnTo>
                <a:lnTo>
                  <a:pt x="456" y="16"/>
                </a:lnTo>
                <a:lnTo>
                  <a:pt x="472" y="16"/>
                </a:lnTo>
                <a:lnTo>
                  <a:pt x="488" y="16"/>
                </a:lnTo>
                <a:lnTo>
                  <a:pt x="504" y="8"/>
                </a:lnTo>
                <a:lnTo>
                  <a:pt x="520" y="8"/>
                </a:lnTo>
                <a:lnTo>
                  <a:pt x="544" y="8"/>
                </a:lnTo>
                <a:lnTo>
                  <a:pt x="560" y="16"/>
                </a:lnTo>
                <a:lnTo>
                  <a:pt x="576" y="16"/>
                </a:lnTo>
                <a:lnTo>
                  <a:pt x="592" y="16"/>
                </a:lnTo>
                <a:lnTo>
                  <a:pt x="616" y="16"/>
                </a:lnTo>
                <a:lnTo>
                  <a:pt x="632" y="16"/>
                </a:lnTo>
                <a:lnTo>
                  <a:pt x="656" y="16"/>
                </a:lnTo>
                <a:lnTo>
                  <a:pt x="672" y="16"/>
                </a:lnTo>
                <a:lnTo>
                  <a:pt x="688" y="16"/>
                </a:lnTo>
                <a:lnTo>
                  <a:pt x="704" y="16"/>
                </a:lnTo>
                <a:lnTo>
                  <a:pt x="720" y="16"/>
                </a:lnTo>
                <a:lnTo>
                  <a:pt x="736" y="8"/>
                </a:lnTo>
                <a:lnTo>
                  <a:pt x="752" y="8"/>
                </a:lnTo>
                <a:lnTo>
                  <a:pt x="768" y="8"/>
                </a:lnTo>
                <a:lnTo>
                  <a:pt x="784" y="8"/>
                </a:lnTo>
                <a:lnTo>
                  <a:pt x="800" y="0"/>
                </a:lnTo>
                <a:lnTo>
                  <a:pt x="816" y="0"/>
                </a:lnTo>
                <a:lnTo>
                  <a:pt x="832" y="0"/>
                </a:lnTo>
                <a:lnTo>
                  <a:pt x="848" y="0"/>
                </a:lnTo>
                <a:lnTo>
                  <a:pt x="864" y="0"/>
                </a:lnTo>
                <a:lnTo>
                  <a:pt x="880" y="0"/>
                </a:lnTo>
                <a:lnTo>
                  <a:pt x="896" y="0"/>
                </a:lnTo>
                <a:lnTo>
                  <a:pt x="912" y="0"/>
                </a:lnTo>
                <a:lnTo>
                  <a:pt x="928" y="0"/>
                </a:lnTo>
                <a:lnTo>
                  <a:pt x="944" y="0"/>
                </a:lnTo>
                <a:lnTo>
                  <a:pt x="960" y="0"/>
                </a:lnTo>
                <a:lnTo>
                  <a:pt x="976" y="0"/>
                </a:lnTo>
                <a:lnTo>
                  <a:pt x="992" y="0"/>
                </a:lnTo>
                <a:lnTo>
                  <a:pt x="1008" y="0"/>
                </a:lnTo>
                <a:lnTo>
                  <a:pt x="1024" y="0"/>
                </a:lnTo>
                <a:lnTo>
                  <a:pt x="1040" y="8"/>
                </a:lnTo>
                <a:lnTo>
                  <a:pt x="1056" y="8"/>
                </a:lnTo>
                <a:lnTo>
                  <a:pt x="1072" y="8"/>
                </a:lnTo>
                <a:lnTo>
                  <a:pt x="1088" y="8"/>
                </a:lnTo>
                <a:lnTo>
                  <a:pt x="1104" y="8"/>
                </a:lnTo>
                <a:lnTo>
                  <a:pt x="1120" y="16"/>
                </a:lnTo>
                <a:lnTo>
                  <a:pt x="1136" y="16"/>
                </a:lnTo>
                <a:lnTo>
                  <a:pt x="1152" y="16"/>
                </a:lnTo>
                <a:lnTo>
                  <a:pt x="1168" y="16"/>
                </a:lnTo>
                <a:lnTo>
                  <a:pt x="1184" y="16"/>
                </a:lnTo>
                <a:lnTo>
                  <a:pt x="1192" y="24"/>
                </a:lnTo>
                <a:lnTo>
                  <a:pt x="1192" y="24"/>
                </a:lnTo>
                <a:lnTo>
                  <a:pt x="1224" y="24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031840" y="1892160"/>
            <a:ext cx="5970600" cy="4332600"/>
          </a:xfrm>
          <a:custGeom>
            <a:avLst/>
            <a:gdLst/>
            <a:ahLst/>
            <a:rect l="l" t="t" r="r" b="b"/>
            <a:pathLst>
              <a:path w="3761" h="2729">
                <a:moveTo>
                  <a:pt x="3616" y="0"/>
                </a:moveTo>
                <a:lnTo>
                  <a:pt x="3584" y="0"/>
                </a:lnTo>
                <a:lnTo>
                  <a:pt x="3568" y="16"/>
                </a:lnTo>
                <a:lnTo>
                  <a:pt x="3552" y="24"/>
                </a:lnTo>
                <a:lnTo>
                  <a:pt x="3536" y="32"/>
                </a:lnTo>
                <a:lnTo>
                  <a:pt x="3528" y="48"/>
                </a:lnTo>
                <a:lnTo>
                  <a:pt x="3520" y="64"/>
                </a:lnTo>
                <a:lnTo>
                  <a:pt x="3520" y="80"/>
                </a:lnTo>
                <a:lnTo>
                  <a:pt x="3520" y="96"/>
                </a:lnTo>
                <a:lnTo>
                  <a:pt x="3536" y="112"/>
                </a:lnTo>
                <a:lnTo>
                  <a:pt x="3552" y="128"/>
                </a:lnTo>
                <a:lnTo>
                  <a:pt x="3568" y="128"/>
                </a:lnTo>
                <a:lnTo>
                  <a:pt x="3584" y="144"/>
                </a:lnTo>
                <a:lnTo>
                  <a:pt x="3600" y="144"/>
                </a:lnTo>
                <a:lnTo>
                  <a:pt x="3616" y="152"/>
                </a:lnTo>
                <a:lnTo>
                  <a:pt x="3632" y="152"/>
                </a:lnTo>
                <a:lnTo>
                  <a:pt x="3656" y="160"/>
                </a:lnTo>
                <a:lnTo>
                  <a:pt x="3672" y="160"/>
                </a:lnTo>
                <a:lnTo>
                  <a:pt x="3688" y="160"/>
                </a:lnTo>
                <a:lnTo>
                  <a:pt x="3704" y="160"/>
                </a:lnTo>
                <a:lnTo>
                  <a:pt x="3720" y="160"/>
                </a:lnTo>
                <a:lnTo>
                  <a:pt x="3744" y="144"/>
                </a:lnTo>
                <a:lnTo>
                  <a:pt x="3752" y="128"/>
                </a:lnTo>
                <a:lnTo>
                  <a:pt x="3760" y="112"/>
                </a:lnTo>
                <a:lnTo>
                  <a:pt x="3760" y="96"/>
                </a:lnTo>
                <a:lnTo>
                  <a:pt x="3760" y="80"/>
                </a:lnTo>
                <a:lnTo>
                  <a:pt x="3752" y="64"/>
                </a:lnTo>
                <a:lnTo>
                  <a:pt x="3752" y="48"/>
                </a:lnTo>
                <a:lnTo>
                  <a:pt x="3736" y="40"/>
                </a:lnTo>
                <a:lnTo>
                  <a:pt x="3720" y="32"/>
                </a:lnTo>
                <a:lnTo>
                  <a:pt x="3704" y="24"/>
                </a:lnTo>
                <a:lnTo>
                  <a:pt x="3688" y="16"/>
                </a:lnTo>
                <a:lnTo>
                  <a:pt x="3664" y="8"/>
                </a:lnTo>
                <a:lnTo>
                  <a:pt x="3640" y="8"/>
                </a:lnTo>
                <a:lnTo>
                  <a:pt x="3624" y="8"/>
                </a:lnTo>
                <a:lnTo>
                  <a:pt x="3608" y="16"/>
                </a:lnTo>
                <a:lnTo>
                  <a:pt x="3592" y="16"/>
                </a:lnTo>
                <a:lnTo>
                  <a:pt x="3576" y="32"/>
                </a:lnTo>
                <a:lnTo>
                  <a:pt x="3560" y="40"/>
                </a:lnTo>
                <a:lnTo>
                  <a:pt x="3544" y="48"/>
                </a:lnTo>
                <a:lnTo>
                  <a:pt x="3528" y="64"/>
                </a:lnTo>
                <a:lnTo>
                  <a:pt x="3520" y="80"/>
                </a:lnTo>
                <a:lnTo>
                  <a:pt x="3512" y="104"/>
                </a:lnTo>
                <a:lnTo>
                  <a:pt x="3496" y="120"/>
                </a:lnTo>
                <a:lnTo>
                  <a:pt x="3488" y="136"/>
                </a:lnTo>
                <a:lnTo>
                  <a:pt x="3480" y="152"/>
                </a:lnTo>
                <a:lnTo>
                  <a:pt x="3480" y="168"/>
                </a:lnTo>
                <a:lnTo>
                  <a:pt x="3472" y="184"/>
                </a:lnTo>
                <a:lnTo>
                  <a:pt x="3472" y="200"/>
                </a:lnTo>
                <a:lnTo>
                  <a:pt x="3464" y="224"/>
                </a:lnTo>
                <a:lnTo>
                  <a:pt x="3464" y="248"/>
                </a:lnTo>
                <a:lnTo>
                  <a:pt x="3464" y="264"/>
                </a:lnTo>
                <a:lnTo>
                  <a:pt x="3464" y="288"/>
                </a:lnTo>
                <a:lnTo>
                  <a:pt x="3464" y="320"/>
                </a:lnTo>
                <a:lnTo>
                  <a:pt x="3464" y="344"/>
                </a:lnTo>
                <a:lnTo>
                  <a:pt x="3464" y="368"/>
                </a:lnTo>
                <a:lnTo>
                  <a:pt x="3464" y="392"/>
                </a:lnTo>
                <a:lnTo>
                  <a:pt x="3464" y="424"/>
                </a:lnTo>
                <a:lnTo>
                  <a:pt x="3464" y="456"/>
                </a:lnTo>
                <a:lnTo>
                  <a:pt x="3464" y="488"/>
                </a:lnTo>
                <a:lnTo>
                  <a:pt x="3456" y="512"/>
                </a:lnTo>
                <a:lnTo>
                  <a:pt x="3456" y="560"/>
                </a:lnTo>
                <a:lnTo>
                  <a:pt x="3456" y="608"/>
                </a:lnTo>
                <a:lnTo>
                  <a:pt x="3448" y="656"/>
                </a:lnTo>
                <a:lnTo>
                  <a:pt x="3448" y="704"/>
                </a:lnTo>
                <a:lnTo>
                  <a:pt x="3440" y="760"/>
                </a:lnTo>
                <a:lnTo>
                  <a:pt x="3440" y="816"/>
                </a:lnTo>
                <a:lnTo>
                  <a:pt x="3440" y="864"/>
                </a:lnTo>
                <a:lnTo>
                  <a:pt x="3432" y="920"/>
                </a:lnTo>
                <a:lnTo>
                  <a:pt x="3432" y="984"/>
                </a:lnTo>
                <a:lnTo>
                  <a:pt x="3424" y="1032"/>
                </a:lnTo>
                <a:lnTo>
                  <a:pt x="3424" y="1088"/>
                </a:lnTo>
                <a:lnTo>
                  <a:pt x="3424" y="1152"/>
                </a:lnTo>
                <a:lnTo>
                  <a:pt x="3424" y="1208"/>
                </a:lnTo>
                <a:lnTo>
                  <a:pt x="3424" y="1264"/>
                </a:lnTo>
                <a:lnTo>
                  <a:pt x="3424" y="1312"/>
                </a:lnTo>
                <a:lnTo>
                  <a:pt x="3424" y="1368"/>
                </a:lnTo>
                <a:lnTo>
                  <a:pt x="3424" y="1416"/>
                </a:lnTo>
                <a:lnTo>
                  <a:pt x="3424" y="1464"/>
                </a:lnTo>
                <a:lnTo>
                  <a:pt x="3424" y="1504"/>
                </a:lnTo>
                <a:lnTo>
                  <a:pt x="3424" y="1552"/>
                </a:lnTo>
                <a:lnTo>
                  <a:pt x="3424" y="1592"/>
                </a:lnTo>
                <a:lnTo>
                  <a:pt x="3424" y="1632"/>
                </a:lnTo>
                <a:lnTo>
                  <a:pt x="3424" y="1664"/>
                </a:lnTo>
                <a:lnTo>
                  <a:pt x="3424" y="1704"/>
                </a:lnTo>
                <a:lnTo>
                  <a:pt x="3424" y="1736"/>
                </a:lnTo>
                <a:lnTo>
                  <a:pt x="3424" y="1768"/>
                </a:lnTo>
                <a:lnTo>
                  <a:pt x="3424" y="1808"/>
                </a:lnTo>
                <a:lnTo>
                  <a:pt x="3424" y="1840"/>
                </a:lnTo>
                <a:lnTo>
                  <a:pt x="3424" y="1864"/>
                </a:lnTo>
                <a:lnTo>
                  <a:pt x="3424" y="1896"/>
                </a:lnTo>
                <a:lnTo>
                  <a:pt x="3424" y="1912"/>
                </a:lnTo>
                <a:lnTo>
                  <a:pt x="3424" y="1944"/>
                </a:lnTo>
                <a:lnTo>
                  <a:pt x="3424" y="1960"/>
                </a:lnTo>
                <a:lnTo>
                  <a:pt x="3424" y="1992"/>
                </a:lnTo>
                <a:lnTo>
                  <a:pt x="3424" y="2016"/>
                </a:lnTo>
                <a:lnTo>
                  <a:pt x="3424" y="2040"/>
                </a:lnTo>
                <a:lnTo>
                  <a:pt x="3424" y="2064"/>
                </a:lnTo>
                <a:lnTo>
                  <a:pt x="3424" y="2088"/>
                </a:lnTo>
                <a:lnTo>
                  <a:pt x="3424" y="2120"/>
                </a:lnTo>
                <a:lnTo>
                  <a:pt x="3424" y="2136"/>
                </a:lnTo>
                <a:lnTo>
                  <a:pt x="3424" y="2160"/>
                </a:lnTo>
                <a:lnTo>
                  <a:pt x="3424" y="2184"/>
                </a:lnTo>
                <a:lnTo>
                  <a:pt x="3416" y="2208"/>
                </a:lnTo>
                <a:lnTo>
                  <a:pt x="3408" y="2240"/>
                </a:lnTo>
                <a:lnTo>
                  <a:pt x="3408" y="2264"/>
                </a:lnTo>
                <a:lnTo>
                  <a:pt x="3400" y="2288"/>
                </a:lnTo>
                <a:lnTo>
                  <a:pt x="3400" y="2312"/>
                </a:lnTo>
                <a:lnTo>
                  <a:pt x="3392" y="2344"/>
                </a:lnTo>
                <a:lnTo>
                  <a:pt x="3376" y="2368"/>
                </a:lnTo>
                <a:lnTo>
                  <a:pt x="3368" y="2400"/>
                </a:lnTo>
                <a:lnTo>
                  <a:pt x="3360" y="2416"/>
                </a:lnTo>
                <a:lnTo>
                  <a:pt x="3344" y="2440"/>
                </a:lnTo>
                <a:lnTo>
                  <a:pt x="3328" y="2464"/>
                </a:lnTo>
                <a:lnTo>
                  <a:pt x="3312" y="2488"/>
                </a:lnTo>
                <a:lnTo>
                  <a:pt x="3288" y="2512"/>
                </a:lnTo>
                <a:lnTo>
                  <a:pt x="3280" y="2528"/>
                </a:lnTo>
                <a:lnTo>
                  <a:pt x="3256" y="2544"/>
                </a:lnTo>
                <a:lnTo>
                  <a:pt x="3240" y="2560"/>
                </a:lnTo>
                <a:lnTo>
                  <a:pt x="3216" y="2584"/>
                </a:lnTo>
                <a:lnTo>
                  <a:pt x="3192" y="2600"/>
                </a:lnTo>
                <a:lnTo>
                  <a:pt x="3168" y="2632"/>
                </a:lnTo>
                <a:lnTo>
                  <a:pt x="3144" y="2632"/>
                </a:lnTo>
                <a:lnTo>
                  <a:pt x="3128" y="2648"/>
                </a:lnTo>
                <a:lnTo>
                  <a:pt x="3112" y="2648"/>
                </a:lnTo>
                <a:lnTo>
                  <a:pt x="3096" y="2656"/>
                </a:lnTo>
                <a:lnTo>
                  <a:pt x="3080" y="2664"/>
                </a:lnTo>
                <a:lnTo>
                  <a:pt x="3056" y="2672"/>
                </a:lnTo>
                <a:lnTo>
                  <a:pt x="3040" y="2672"/>
                </a:lnTo>
                <a:lnTo>
                  <a:pt x="3016" y="2672"/>
                </a:lnTo>
                <a:lnTo>
                  <a:pt x="2992" y="2680"/>
                </a:lnTo>
                <a:lnTo>
                  <a:pt x="2960" y="2688"/>
                </a:lnTo>
                <a:lnTo>
                  <a:pt x="2944" y="2688"/>
                </a:lnTo>
                <a:lnTo>
                  <a:pt x="2912" y="2688"/>
                </a:lnTo>
                <a:lnTo>
                  <a:pt x="2888" y="2696"/>
                </a:lnTo>
                <a:lnTo>
                  <a:pt x="2864" y="2696"/>
                </a:lnTo>
                <a:lnTo>
                  <a:pt x="2840" y="2696"/>
                </a:lnTo>
                <a:lnTo>
                  <a:pt x="2816" y="2696"/>
                </a:lnTo>
                <a:lnTo>
                  <a:pt x="2784" y="2704"/>
                </a:lnTo>
                <a:lnTo>
                  <a:pt x="2760" y="2704"/>
                </a:lnTo>
                <a:lnTo>
                  <a:pt x="2736" y="2712"/>
                </a:lnTo>
                <a:lnTo>
                  <a:pt x="2712" y="2712"/>
                </a:lnTo>
                <a:lnTo>
                  <a:pt x="2696" y="2712"/>
                </a:lnTo>
                <a:lnTo>
                  <a:pt x="2672" y="2720"/>
                </a:lnTo>
                <a:lnTo>
                  <a:pt x="2648" y="2720"/>
                </a:lnTo>
                <a:lnTo>
                  <a:pt x="2624" y="2720"/>
                </a:lnTo>
                <a:lnTo>
                  <a:pt x="2600" y="2720"/>
                </a:lnTo>
                <a:lnTo>
                  <a:pt x="2584" y="2720"/>
                </a:lnTo>
                <a:lnTo>
                  <a:pt x="2560" y="2728"/>
                </a:lnTo>
                <a:lnTo>
                  <a:pt x="2544" y="2728"/>
                </a:lnTo>
                <a:lnTo>
                  <a:pt x="2520" y="2728"/>
                </a:lnTo>
                <a:lnTo>
                  <a:pt x="2496" y="2728"/>
                </a:lnTo>
                <a:lnTo>
                  <a:pt x="2472" y="2728"/>
                </a:lnTo>
                <a:lnTo>
                  <a:pt x="2456" y="2728"/>
                </a:lnTo>
                <a:lnTo>
                  <a:pt x="2432" y="2728"/>
                </a:lnTo>
                <a:lnTo>
                  <a:pt x="2400" y="2728"/>
                </a:lnTo>
                <a:lnTo>
                  <a:pt x="2376" y="2728"/>
                </a:lnTo>
                <a:lnTo>
                  <a:pt x="2344" y="2720"/>
                </a:lnTo>
                <a:lnTo>
                  <a:pt x="2320" y="2720"/>
                </a:lnTo>
                <a:lnTo>
                  <a:pt x="2288" y="2720"/>
                </a:lnTo>
                <a:lnTo>
                  <a:pt x="2256" y="2720"/>
                </a:lnTo>
                <a:lnTo>
                  <a:pt x="2232" y="2720"/>
                </a:lnTo>
                <a:lnTo>
                  <a:pt x="2200" y="2712"/>
                </a:lnTo>
                <a:lnTo>
                  <a:pt x="2176" y="2704"/>
                </a:lnTo>
                <a:lnTo>
                  <a:pt x="2144" y="2696"/>
                </a:lnTo>
                <a:lnTo>
                  <a:pt x="2104" y="2688"/>
                </a:lnTo>
                <a:lnTo>
                  <a:pt x="2080" y="2688"/>
                </a:lnTo>
                <a:lnTo>
                  <a:pt x="2048" y="2680"/>
                </a:lnTo>
                <a:lnTo>
                  <a:pt x="2008" y="2672"/>
                </a:lnTo>
                <a:lnTo>
                  <a:pt x="1976" y="2664"/>
                </a:lnTo>
                <a:lnTo>
                  <a:pt x="1936" y="2656"/>
                </a:lnTo>
                <a:lnTo>
                  <a:pt x="1896" y="2656"/>
                </a:lnTo>
                <a:lnTo>
                  <a:pt x="1848" y="2648"/>
                </a:lnTo>
                <a:lnTo>
                  <a:pt x="1808" y="2640"/>
                </a:lnTo>
                <a:lnTo>
                  <a:pt x="1776" y="2632"/>
                </a:lnTo>
                <a:lnTo>
                  <a:pt x="1408" y="2584"/>
                </a:lnTo>
                <a:lnTo>
                  <a:pt x="1368" y="2576"/>
                </a:lnTo>
                <a:lnTo>
                  <a:pt x="1336" y="2568"/>
                </a:lnTo>
                <a:lnTo>
                  <a:pt x="1304" y="2568"/>
                </a:lnTo>
                <a:lnTo>
                  <a:pt x="1280" y="2568"/>
                </a:lnTo>
                <a:lnTo>
                  <a:pt x="1248" y="2560"/>
                </a:lnTo>
                <a:lnTo>
                  <a:pt x="1224" y="2560"/>
                </a:lnTo>
                <a:lnTo>
                  <a:pt x="1200" y="2560"/>
                </a:lnTo>
                <a:lnTo>
                  <a:pt x="1176" y="2560"/>
                </a:lnTo>
                <a:lnTo>
                  <a:pt x="1160" y="2552"/>
                </a:lnTo>
                <a:lnTo>
                  <a:pt x="1136" y="2544"/>
                </a:lnTo>
                <a:lnTo>
                  <a:pt x="1120" y="2544"/>
                </a:lnTo>
                <a:lnTo>
                  <a:pt x="1096" y="2536"/>
                </a:lnTo>
                <a:lnTo>
                  <a:pt x="1080" y="2536"/>
                </a:lnTo>
                <a:lnTo>
                  <a:pt x="1056" y="2536"/>
                </a:lnTo>
                <a:lnTo>
                  <a:pt x="1032" y="2528"/>
                </a:lnTo>
                <a:lnTo>
                  <a:pt x="1016" y="2520"/>
                </a:lnTo>
                <a:lnTo>
                  <a:pt x="992" y="2520"/>
                </a:lnTo>
                <a:lnTo>
                  <a:pt x="976" y="2520"/>
                </a:lnTo>
                <a:lnTo>
                  <a:pt x="952" y="2512"/>
                </a:lnTo>
                <a:lnTo>
                  <a:pt x="936" y="2504"/>
                </a:lnTo>
                <a:lnTo>
                  <a:pt x="912" y="2496"/>
                </a:lnTo>
                <a:lnTo>
                  <a:pt x="880" y="2496"/>
                </a:lnTo>
                <a:lnTo>
                  <a:pt x="856" y="2488"/>
                </a:lnTo>
                <a:lnTo>
                  <a:pt x="832" y="2480"/>
                </a:lnTo>
                <a:lnTo>
                  <a:pt x="816" y="2472"/>
                </a:lnTo>
                <a:lnTo>
                  <a:pt x="792" y="2472"/>
                </a:lnTo>
                <a:lnTo>
                  <a:pt x="776" y="2472"/>
                </a:lnTo>
                <a:lnTo>
                  <a:pt x="752" y="2464"/>
                </a:lnTo>
                <a:lnTo>
                  <a:pt x="728" y="2456"/>
                </a:lnTo>
                <a:lnTo>
                  <a:pt x="712" y="2448"/>
                </a:lnTo>
                <a:lnTo>
                  <a:pt x="688" y="2448"/>
                </a:lnTo>
                <a:lnTo>
                  <a:pt x="672" y="2448"/>
                </a:lnTo>
                <a:lnTo>
                  <a:pt x="648" y="2440"/>
                </a:lnTo>
                <a:lnTo>
                  <a:pt x="632" y="2432"/>
                </a:lnTo>
                <a:lnTo>
                  <a:pt x="608" y="2424"/>
                </a:lnTo>
                <a:lnTo>
                  <a:pt x="592" y="2424"/>
                </a:lnTo>
                <a:lnTo>
                  <a:pt x="560" y="2416"/>
                </a:lnTo>
                <a:lnTo>
                  <a:pt x="544" y="2408"/>
                </a:lnTo>
                <a:lnTo>
                  <a:pt x="528" y="2408"/>
                </a:lnTo>
                <a:lnTo>
                  <a:pt x="504" y="2400"/>
                </a:lnTo>
                <a:lnTo>
                  <a:pt x="488" y="2392"/>
                </a:lnTo>
                <a:lnTo>
                  <a:pt x="464" y="2384"/>
                </a:lnTo>
                <a:lnTo>
                  <a:pt x="448" y="2376"/>
                </a:lnTo>
                <a:lnTo>
                  <a:pt x="432" y="2368"/>
                </a:lnTo>
                <a:lnTo>
                  <a:pt x="416" y="2360"/>
                </a:lnTo>
                <a:lnTo>
                  <a:pt x="392" y="2352"/>
                </a:lnTo>
                <a:lnTo>
                  <a:pt x="376" y="2336"/>
                </a:lnTo>
                <a:lnTo>
                  <a:pt x="360" y="2336"/>
                </a:lnTo>
                <a:lnTo>
                  <a:pt x="352" y="2320"/>
                </a:lnTo>
                <a:lnTo>
                  <a:pt x="336" y="2312"/>
                </a:lnTo>
                <a:lnTo>
                  <a:pt x="320" y="2304"/>
                </a:lnTo>
                <a:lnTo>
                  <a:pt x="312" y="2280"/>
                </a:lnTo>
                <a:lnTo>
                  <a:pt x="296" y="2272"/>
                </a:lnTo>
                <a:lnTo>
                  <a:pt x="280" y="2256"/>
                </a:lnTo>
                <a:lnTo>
                  <a:pt x="264" y="2240"/>
                </a:lnTo>
                <a:lnTo>
                  <a:pt x="248" y="2208"/>
                </a:lnTo>
                <a:lnTo>
                  <a:pt x="232" y="2192"/>
                </a:lnTo>
                <a:lnTo>
                  <a:pt x="216" y="2176"/>
                </a:lnTo>
                <a:lnTo>
                  <a:pt x="200" y="2160"/>
                </a:lnTo>
                <a:lnTo>
                  <a:pt x="192" y="2136"/>
                </a:lnTo>
                <a:lnTo>
                  <a:pt x="176" y="2112"/>
                </a:lnTo>
                <a:lnTo>
                  <a:pt x="168" y="2096"/>
                </a:lnTo>
                <a:lnTo>
                  <a:pt x="160" y="2080"/>
                </a:lnTo>
                <a:lnTo>
                  <a:pt x="152" y="2064"/>
                </a:lnTo>
                <a:lnTo>
                  <a:pt x="144" y="2048"/>
                </a:lnTo>
                <a:lnTo>
                  <a:pt x="128" y="2024"/>
                </a:lnTo>
                <a:lnTo>
                  <a:pt x="128" y="2008"/>
                </a:lnTo>
                <a:lnTo>
                  <a:pt x="120" y="1984"/>
                </a:lnTo>
                <a:lnTo>
                  <a:pt x="112" y="1960"/>
                </a:lnTo>
                <a:lnTo>
                  <a:pt x="112" y="1944"/>
                </a:lnTo>
                <a:lnTo>
                  <a:pt x="96" y="1920"/>
                </a:lnTo>
                <a:lnTo>
                  <a:pt x="88" y="1904"/>
                </a:lnTo>
                <a:lnTo>
                  <a:pt x="88" y="1880"/>
                </a:lnTo>
                <a:lnTo>
                  <a:pt x="80" y="1856"/>
                </a:lnTo>
                <a:lnTo>
                  <a:pt x="72" y="1832"/>
                </a:lnTo>
                <a:lnTo>
                  <a:pt x="64" y="1808"/>
                </a:lnTo>
                <a:lnTo>
                  <a:pt x="64" y="1784"/>
                </a:lnTo>
                <a:lnTo>
                  <a:pt x="56" y="1760"/>
                </a:lnTo>
                <a:lnTo>
                  <a:pt x="48" y="1736"/>
                </a:lnTo>
                <a:lnTo>
                  <a:pt x="40" y="1704"/>
                </a:lnTo>
                <a:lnTo>
                  <a:pt x="32" y="1680"/>
                </a:lnTo>
                <a:lnTo>
                  <a:pt x="32" y="1664"/>
                </a:lnTo>
                <a:lnTo>
                  <a:pt x="32" y="1640"/>
                </a:lnTo>
                <a:lnTo>
                  <a:pt x="24" y="1616"/>
                </a:lnTo>
                <a:lnTo>
                  <a:pt x="24" y="1600"/>
                </a:lnTo>
                <a:lnTo>
                  <a:pt x="24" y="1584"/>
                </a:lnTo>
                <a:lnTo>
                  <a:pt x="24" y="1568"/>
                </a:lnTo>
                <a:lnTo>
                  <a:pt x="32" y="1544"/>
                </a:lnTo>
                <a:lnTo>
                  <a:pt x="32" y="1528"/>
                </a:lnTo>
                <a:lnTo>
                  <a:pt x="32" y="1504"/>
                </a:lnTo>
                <a:lnTo>
                  <a:pt x="32" y="1480"/>
                </a:lnTo>
                <a:lnTo>
                  <a:pt x="32" y="1448"/>
                </a:lnTo>
                <a:lnTo>
                  <a:pt x="32" y="1432"/>
                </a:lnTo>
                <a:lnTo>
                  <a:pt x="32" y="1400"/>
                </a:lnTo>
                <a:lnTo>
                  <a:pt x="32" y="1384"/>
                </a:lnTo>
                <a:lnTo>
                  <a:pt x="32" y="1328"/>
                </a:lnTo>
                <a:lnTo>
                  <a:pt x="32" y="1312"/>
                </a:lnTo>
                <a:lnTo>
                  <a:pt x="32" y="1288"/>
                </a:lnTo>
                <a:lnTo>
                  <a:pt x="32" y="1256"/>
                </a:lnTo>
                <a:lnTo>
                  <a:pt x="32" y="1232"/>
                </a:lnTo>
                <a:lnTo>
                  <a:pt x="32" y="1208"/>
                </a:lnTo>
                <a:lnTo>
                  <a:pt x="32" y="1184"/>
                </a:lnTo>
                <a:lnTo>
                  <a:pt x="32" y="1152"/>
                </a:lnTo>
                <a:lnTo>
                  <a:pt x="32" y="1128"/>
                </a:lnTo>
                <a:lnTo>
                  <a:pt x="32" y="1096"/>
                </a:lnTo>
                <a:lnTo>
                  <a:pt x="24" y="1072"/>
                </a:lnTo>
                <a:lnTo>
                  <a:pt x="24" y="1040"/>
                </a:lnTo>
                <a:lnTo>
                  <a:pt x="24" y="1016"/>
                </a:lnTo>
                <a:lnTo>
                  <a:pt x="24" y="984"/>
                </a:lnTo>
                <a:lnTo>
                  <a:pt x="24" y="960"/>
                </a:lnTo>
                <a:lnTo>
                  <a:pt x="24" y="928"/>
                </a:lnTo>
                <a:lnTo>
                  <a:pt x="24" y="904"/>
                </a:lnTo>
                <a:lnTo>
                  <a:pt x="24" y="872"/>
                </a:lnTo>
                <a:lnTo>
                  <a:pt x="24" y="848"/>
                </a:lnTo>
                <a:lnTo>
                  <a:pt x="24" y="824"/>
                </a:lnTo>
                <a:lnTo>
                  <a:pt x="24" y="800"/>
                </a:lnTo>
                <a:lnTo>
                  <a:pt x="16" y="776"/>
                </a:lnTo>
                <a:lnTo>
                  <a:pt x="16" y="728"/>
                </a:lnTo>
                <a:lnTo>
                  <a:pt x="16" y="704"/>
                </a:lnTo>
                <a:lnTo>
                  <a:pt x="16" y="688"/>
                </a:lnTo>
                <a:lnTo>
                  <a:pt x="16" y="664"/>
                </a:lnTo>
                <a:lnTo>
                  <a:pt x="16" y="648"/>
                </a:lnTo>
                <a:lnTo>
                  <a:pt x="16" y="632"/>
                </a:lnTo>
                <a:lnTo>
                  <a:pt x="16" y="616"/>
                </a:lnTo>
                <a:lnTo>
                  <a:pt x="16" y="592"/>
                </a:lnTo>
                <a:lnTo>
                  <a:pt x="16" y="576"/>
                </a:lnTo>
                <a:lnTo>
                  <a:pt x="8" y="560"/>
                </a:lnTo>
                <a:lnTo>
                  <a:pt x="8" y="544"/>
                </a:lnTo>
                <a:lnTo>
                  <a:pt x="8" y="528"/>
                </a:lnTo>
                <a:lnTo>
                  <a:pt x="0" y="512"/>
                </a:lnTo>
                <a:lnTo>
                  <a:pt x="0" y="496"/>
                </a:lnTo>
                <a:lnTo>
                  <a:pt x="0" y="488"/>
                </a:lnTo>
                <a:lnTo>
                  <a:pt x="0" y="488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610000" y="3452760"/>
            <a:ext cx="17049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639880" y="3454560"/>
            <a:ext cx="1641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écod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403440" y="4355640"/>
            <a:ext cx="0" cy="69084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073320" y="5054760"/>
            <a:ext cx="1549440" cy="29196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133440" y="4989600"/>
            <a:ext cx="1508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 chargement : Le chemin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2681280" y="3214800"/>
            <a:ext cx="1495440" cy="1155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63680" y="1073160"/>
            <a:ext cx="4865400" cy="481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930400" y="3600360"/>
            <a:ext cx="95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464160" y="4319640"/>
            <a:ext cx="51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25800" y="563256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125800" y="56833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76236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76236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319640" y="4394160"/>
            <a:ext cx="106200" cy="9864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319640" y="444348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766880" y="308304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66880" y="313380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4923000" y="2324160"/>
            <a:ext cx="249120" cy="102960"/>
            <a:chOff x="4923000" y="2324160"/>
            <a:chExt cx="249120" cy="102960"/>
          </a:xfrm>
        </p:grpSpPr>
        <p:sp>
          <p:nvSpPr>
            <p:cNvPr id="866" name=""/>
            <p:cNvSpPr/>
            <p:nvPr/>
          </p:nvSpPr>
          <p:spPr>
            <a:xfrm>
              <a:off x="4923000" y="2324160"/>
              <a:ext cx="106200" cy="10296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067360" y="2373480"/>
              <a:ext cx="1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7147080" y="563256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004160" y="56833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47080" y="4392720"/>
            <a:ext cx="106200" cy="10008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004160" y="444348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745080" y="1841400"/>
            <a:ext cx="131760" cy="1256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597120" y="19051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976640" y="232236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43640" y="1081080"/>
            <a:ext cx="3340080" cy="480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16200000">
            <a:off x="6139800" y="2586240"/>
            <a:ext cx="57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054240" y="5035680"/>
            <a:ext cx="158760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486240" y="1187280"/>
            <a:ext cx="149868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84880" y="4811760"/>
            <a:ext cx="856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133440" y="4989600"/>
            <a:ext cx="1508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98920" y="3454560"/>
            <a:ext cx="15242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ô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2381400" y="4349520"/>
            <a:ext cx="507960" cy="138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 flipV="1">
            <a:off x="3587400" y="4362120"/>
            <a:ext cx="3365640" cy="134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 flipV="1">
            <a:off x="4159080" y="4032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4146120" y="3562200"/>
            <a:ext cx="2832120" cy="88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320640" y="2584440"/>
            <a:ext cx="1676520" cy="62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457880" y="2629080"/>
            <a:ext cx="1944360" cy="2363760"/>
          </a:xfrm>
          <a:custGeom>
            <a:avLst/>
            <a:gdLst/>
            <a:ahLst/>
            <a:rect l="l" t="t" r="r" b="b"/>
            <a:pathLst>
              <a:path w="1225" h="1489">
                <a:moveTo>
                  <a:pt x="0" y="1488"/>
                </a:moveTo>
                <a:lnTo>
                  <a:pt x="32" y="1360"/>
                </a:lnTo>
                <a:lnTo>
                  <a:pt x="64" y="1048"/>
                </a:lnTo>
                <a:lnTo>
                  <a:pt x="64" y="1024"/>
                </a:lnTo>
                <a:lnTo>
                  <a:pt x="64" y="1000"/>
                </a:lnTo>
                <a:lnTo>
                  <a:pt x="64" y="936"/>
                </a:lnTo>
                <a:lnTo>
                  <a:pt x="64" y="920"/>
                </a:lnTo>
                <a:lnTo>
                  <a:pt x="64" y="904"/>
                </a:lnTo>
                <a:lnTo>
                  <a:pt x="64" y="880"/>
                </a:lnTo>
                <a:lnTo>
                  <a:pt x="64" y="864"/>
                </a:lnTo>
                <a:lnTo>
                  <a:pt x="64" y="848"/>
                </a:lnTo>
                <a:lnTo>
                  <a:pt x="56" y="832"/>
                </a:lnTo>
                <a:lnTo>
                  <a:pt x="56" y="816"/>
                </a:lnTo>
                <a:lnTo>
                  <a:pt x="56" y="800"/>
                </a:lnTo>
                <a:lnTo>
                  <a:pt x="56" y="776"/>
                </a:lnTo>
                <a:lnTo>
                  <a:pt x="56" y="760"/>
                </a:lnTo>
                <a:lnTo>
                  <a:pt x="56" y="744"/>
                </a:lnTo>
                <a:lnTo>
                  <a:pt x="56" y="720"/>
                </a:lnTo>
                <a:lnTo>
                  <a:pt x="56" y="704"/>
                </a:lnTo>
                <a:lnTo>
                  <a:pt x="56" y="680"/>
                </a:lnTo>
                <a:lnTo>
                  <a:pt x="56" y="664"/>
                </a:lnTo>
                <a:lnTo>
                  <a:pt x="56" y="648"/>
                </a:lnTo>
                <a:lnTo>
                  <a:pt x="56" y="632"/>
                </a:lnTo>
                <a:lnTo>
                  <a:pt x="56" y="616"/>
                </a:lnTo>
                <a:lnTo>
                  <a:pt x="56" y="600"/>
                </a:lnTo>
                <a:lnTo>
                  <a:pt x="56" y="584"/>
                </a:lnTo>
                <a:lnTo>
                  <a:pt x="56" y="568"/>
                </a:lnTo>
                <a:lnTo>
                  <a:pt x="56" y="552"/>
                </a:lnTo>
                <a:lnTo>
                  <a:pt x="56" y="536"/>
                </a:lnTo>
                <a:lnTo>
                  <a:pt x="56" y="520"/>
                </a:lnTo>
                <a:lnTo>
                  <a:pt x="56" y="504"/>
                </a:lnTo>
                <a:lnTo>
                  <a:pt x="56" y="488"/>
                </a:lnTo>
                <a:lnTo>
                  <a:pt x="64" y="464"/>
                </a:lnTo>
                <a:lnTo>
                  <a:pt x="64" y="448"/>
                </a:lnTo>
                <a:lnTo>
                  <a:pt x="72" y="432"/>
                </a:lnTo>
                <a:lnTo>
                  <a:pt x="72" y="416"/>
                </a:lnTo>
                <a:lnTo>
                  <a:pt x="80" y="400"/>
                </a:lnTo>
                <a:lnTo>
                  <a:pt x="88" y="368"/>
                </a:lnTo>
                <a:lnTo>
                  <a:pt x="96" y="352"/>
                </a:lnTo>
                <a:lnTo>
                  <a:pt x="96" y="336"/>
                </a:lnTo>
                <a:lnTo>
                  <a:pt x="96" y="320"/>
                </a:lnTo>
                <a:lnTo>
                  <a:pt x="104" y="304"/>
                </a:lnTo>
                <a:lnTo>
                  <a:pt x="120" y="288"/>
                </a:lnTo>
                <a:lnTo>
                  <a:pt x="128" y="264"/>
                </a:lnTo>
                <a:lnTo>
                  <a:pt x="136" y="248"/>
                </a:lnTo>
                <a:lnTo>
                  <a:pt x="136" y="232"/>
                </a:lnTo>
                <a:lnTo>
                  <a:pt x="144" y="216"/>
                </a:lnTo>
                <a:lnTo>
                  <a:pt x="160" y="200"/>
                </a:lnTo>
                <a:lnTo>
                  <a:pt x="176" y="184"/>
                </a:lnTo>
                <a:lnTo>
                  <a:pt x="192" y="168"/>
                </a:lnTo>
                <a:lnTo>
                  <a:pt x="200" y="152"/>
                </a:lnTo>
                <a:lnTo>
                  <a:pt x="224" y="136"/>
                </a:lnTo>
                <a:lnTo>
                  <a:pt x="240" y="120"/>
                </a:lnTo>
                <a:lnTo>
                  <a:pt x="256" y="112"/>
                </a:lnTo>
                <a:lnTo>
                  <a:pt x="272" y="104"/>
                </a:lnTo>
                <a:lnTo>
                  <a:pt x="296" y="96"/>
                </a:lnTo>
                <a:lnTo>
                  <a:pt x="304" y="80"/>
                </a:lnTo>
                <a:lnTo>
                  <a:pt x="320" y="80"/>
                </a:lnTo>
                <a:lnTo>
                  <a:pt x="336" y="64"/>
                </a:lnTo>
                <a:lnTo>
                  <a:pt x="352" y="56"/>
                </a:lnTo>
                <a:lnTo>
                  <a:pt x="360" y="40"/>
                </a:lnTo>
                <a:lnTo>
                  <a:pt x="376" y="40"/>
                </a:lnTo>
                <a:lnTo>
                  <a:pt x="392" y="32"/>
                </a:lnTo>
                <a:lnTo>
                  <a:pt x="408" y="32"/>
                </a:lnTo>
                <a:lnTo>
                  <a:pt x="424" y="24"/>
                </a:lnTo>
                <a:lnTo>
                  <a:pt x="440" y="24"/>
                </a:lnTo>
                <a:lnTo>
                  <a:pt x="456" y="16"/>
                </a:lnTo>
                <a:lnTo>
                  <a:pt x="472" y="16"/>
                </a:lnTo>
                <a:lnTo>
                  <a:pt x="488" y="16"/>
                </a:lnTo>
                <a:lnTo>
                  <a:pt x="504" y="8"/>
                </a:lnTo>
                <a:lnTo>
                  <a:pt x="520" y="8"/>
                </a:lnTo>
                <a:lnTo>
                  <a:pt x="544" y="8"/>
                </a:lnTo>
                <a:lnTo>
                  <a:pt x="560" y="16"/>
                </a:lnTo>
                <a:lnTo>
                  <a:pt x="576" y="16"/>
                </a:lnTo>
                <a:lnTo>
                  <a:pt x="592" y="16"/>
                </a:lnTo>
                <a:lnTo>
                  <a:pt x="616" y="16"/>
                </a:lnTo>
                <a:lnTo>
                  <a:pt x="632" y="16"/>
                </a:lnTo>
                <a:lnTo>
                  <a:pt x="656" y="16"/>
                </a:lnTo>
                <a:lnTo>
                  <a:pt x="672" y="16"/>
                </a:lnTo>
                <a:lnTo>
                  <a:pt x="688" y="16"/>
                </a:lnTo>
                <a:lnTo>
                  <a:pt x="704" y="16"/>
                </a:lnTo>
                <a:lnTo>
                  <a:pt x="720" y="16"/>
                </a:lnTo>
                <a:lnTo>
                  <a:pt x="736" y="8"/>
                </a:lnTo>
                <a:lnTo>
                  <a:pt x="752" y="8"/>
                </a:lnTo>
                <a:lnTo>
                  <a:pt x="768" y="8"/>
                </a:lnTo>
                <a:lnTo>
                  <a:pt x="784" y="8"/>
                </a:lnTo>
                <a:lnTo>
                  <a:pt x="800" y="0"/>
                </a:lnTo>
                <a:lnTo>
                  <a:pt x="816" y="0"/>
                </a:lnTo>
                <a:lnTo>
                  <a:pt x="832" y="0"/>
                </a:lnTo>
                <a:lnTo>
                  <a:pt x="848" y="0"/>
                </a:lnTo>
                <a:lnTo>
                  <a:pt x="864" y="0"/>
                </a:lnTo>
                <a:lnTo>
                  <a:pt x="880" y="0"/>
                </a:lnTo>
                <a:lnTo>
                  <a:pt x="896" y="0"/>
                </a:lnTo>
                <a:lnTo>
                  <a:pt x="912" y="0"/>
                </a:lnTo>
                <a:lnTo>
                  <a:pt x="928" y="0"/>
                </a:lnTo>
                <a:lnTo>
                  <a:pt x="944" y="0"/>
                </a:lnTo>
                <a:lnTo>
                  <a:pt x="960" y="0"/>
                </a:lnTo>
                <a:lnTo>
                  <a:pt x="976" y="0"/>
                </a:lnTo>
                <a:lnTo>
                  <a:pt x="992" y="0"/>
                </a:lnTo>
                <a:lnTo>
                  <a:pt x="1008" y="0"/>
                </a:lnTo>
                <a:lnTo>
                  <a:pt x="1024" y="0"/>
                </a:lnTo>
                <a:lnTo>
                  <a:pt x="1040" y="8"/>
                </a:lnTo>
                <a:lnTo>
                  <a:pt x="1056" y="8"/>
                </a:lnTo>
                <a:lnTo>
                  <a:pt x="1072" y="8"/>
                </a:lnTo>
                <a:lnTo>
                  <a:pt x="1088" y="8"/>
                </a:lnTo>
                <a:lnTo>
                  <a:pt x="1104" y="8"/>
                </a:lnTo>
                <a:lnTo>
                  <a:pt x="1120" y="16"/>
                </a:lnTo>
                <a:lnTo>
                  <a:pt x="1136" y="16"/>
                </a:lnTo>
                <a:lnTo>
                  <a:pt x="1152" y="16"/>
                </a:lnTo>
                <a:lnTo>
                  <a:pt x="1168" y="16"/>
                </a:lnTo>
                <a:lnTo>
                  <a:pt x="1184" y="16"/>
                </a:lnTo>
                <a:lnTo>
                  <a:pt x="1192" y="24"/>
                </a:lnTo>
                <a:lnTo>
                  <a:pt x="1192" y="24"/>
                </a:lnTo>
                <a:lnTo>
                  <a:pt x="1224" y="24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031840" y="1892160"/>
            <a:ext cx="5970600" cy="4332600"/>
          </a:xfrm>
          <a:custGeom>
            <a:avLst/>
            <a:gdLst/>
            <a:ahLst/>
            <a:rect l="l" t="t" r="r" b="b"/>
            <a:pathLst>
              <a:path w="3761" h="2729">
                <a:moveTo>
                  <a:pt x="3616" y="0"/>
                </a:moveTo>
                <a:lnTo>
                  <a:pt x="3584" y="0"/>
                </a:lnTo>
                <a:lnTo>
                  <a:pt x="3568" y="16"/>
                </a:lnTo>
                <a:lnTo>
                  <a:pt x="3552" y="24"/>
                </a:lnTo>
                <a:lnTo>
                  <a:pt x="3536" y="32"/>
                </a:lnTo>
                <a:lnTo>
                  <a:pt x="3528" y="48"/>
                </a:lnTo>
                <a:lnTo>
                  <a:pt x="3520" y="64"/>
                </a:lnTo>
                <a:lnTo>
                  <a:pt x="3520" y="80"/>
                </a:lnTo>
                <a:lnTo>
                  <a:pt x="3520" y="96"/>
                </a:lnTo>
                <a:lnTo>
                  <a:pt x="3536" y="112"/>
                </a:lnTo>
                <a:lnTo>
                  <a:pt x="3552" y="128"/>
                </a:lnTo>
                <a:lnTo>
                  <a:pt x="3568" y="128"/>
                </a:lnTo>
                <a:lnTo>
                  <a:pt x="3584" y="144"/>
                </a:lnTo>
                <a:lnTo>
                  <a:pt x="3600" y="144"/>
                </a:lnTo>
                <a:lnTo>
                  <a:pt x="3616" y="152"/>
                </a:lnTo>
                <a:lnTo>
                  <a:pt x="3632" y="152"/>
                </a:lnTo>
                <a:lnTo>
                  <a:pt x="3656" y="160"/>
                </a:lnTo>
                <a:lnTo>
                  <a:pt x="3672" y="160"/>
                </a:lnTo>
                <a:lnTo>
                  <a:pt x="3688" y="160"/>
                </a:lnTo>
                <a:lnTo>
                  <a:pt x="3704" y="160"/>
                </a:lnTo>
                <a:lnTo>
                  <a:pt x="3720" y="160"/>
                </a:lnTo>
                <a:lnTo>
                  <a:pt x="3744" y="144"/>
                </a:lnTo>
                <a:lnTo>
                  <a:pt x="3752" y="128"/>
                </a:lnTo>
                <a:lnTo>
                  <a:pt x="3760" y="112"/>
                </a:lnTo>
                <a:lnTo>
                  <a:pt x="3760" y="96"/>
                </a:lnTo>
                <a:lnTo>
                  <a:pt x="3760" y="80"/>
                </a:lnTo>
                <a:lnTo>
                  <a:pt x="3752" y="64"/>
                </a:lnTo>
                <a:lnTo>
                  <a:pt x="3752" y="48"/>
                </a:lnTo>
                <a:lnTo>
                  <a:pt x="3736" y="40"/>
                </a:lnTo>
                <a:lnTo>
                  <a:pt x="3720" y="32"/>
                </a:lnTo>
                <a:lnTo>
                  <a:pt x="3704" y="24"/>
                </a:lnTo>
                <a:lnTo>
                  <a:pt x="3688" y="16"/>
                </a:lnTo>
                <a:lnTo>
                  <a:pt x="3664" y="8"/>
                </a:lnTo>
                <a:lnTo>
                  <a:pt x="3640" y="8"/>
                </a:lnTo>
                <a:lnTo>
                  <a:pt x="3624" y="8"/>
                </a:lnTo>
                <a:lnTo>
                  <a:pt x="3608" y="16"/>
                </a:lnTo>
                <a:lnTo>
                  <a:pt x="3592" y="16"/>
                </a:lnTo>
                <a:lnTo>
                  <a:pt x="3576" y="32"/>
                </a:lnTo>
                <a:lnTo>
                  <a:pt x="3560" y="40"/>
                </a:lnTo>
                <a:lnTo>
                  <a:pt x="3544" y="48"/>
                </a:lnTo>
                <a:lnTo>
                  <a:pt x="3528" y="64"/>
                </a:lnTo>
                <a:lnTo>
                  <a:pt x="3520" y="80"/>
                </a:lnTo>
                <a:lnTo>
                  <a:pt x="3512" y="104"/>
                </a:lnTo>
                <a:lnTo>
                  <a:pt x="3496" y="120"/>
                </a:lnTo>
                <a:lnTo>
                  <a:pt x="3488" y="136"/>
                </a:lnTo>
                <a:lnTo>
                  <a:pt x="3480" y="152"/>
                </a:lnTo>
                <a:lnTo>
                  <a:pt x="3480" y="168"/>
                </a:lnTo>
                <a:lnTo>
                  <a:pt x="3472" y="184"/>
                </a:lnTo>
                <a:lnTo>
                  <a:pt x="3472" y="200"/>
                </a:lnTo>
                <a:lnTo>
                  <a:pt x="3464" y="224"/>
                </a:lnTo>
                <a:lnTo>
                  <a:pt x="3464" y="248"/>
                </a:lnTo>
                <a:lnTo>
                  <a:pt x="3464" y="264"/>
                </a:lnTo>
                <a:lnTo>
                  <a:pt x="3464" y="288"/>
                </a:lnTo>
                <a:lnTo>
                  <a:pt x="3464" y="320"/>
                </a:lnTo>
                <a:lnTo>
                  <a:pt x="3464" y="344"/>
                </a:lnTo>
                <a:lnTo>
                  <a:pt x="3464" y="368"/>
                </a:lnTo>
                <a:lnTo>
                  <a:pt x="3464" y="392"/>
                </a:lnTo>
                <a:lnTo>
                  <a:pt x="3464" y="424"/>
                </a:lnTo>
                <a:lnTo>
                  <a:pt x="3464" y="456"/>
                </a:lnTo>
                <a:lnTo>
                  <a:pt x="3464" y="488"/>
                </a:lnTo>
                <a:lnTo>
                  <a:pt x="3456" y="512"/>
                </a:lnTo>
                <a:lnTo>
                  <a:pt x="3456" y="560"/>
                </a:lnTo>
                <a:lnTo>
                  <a:pt x="3456" y="608"/>
                </a:lnTo>
                <a:lnTo>
                  <a:pt x="3448" y="656"/>
                </a:lnTo>
                <a:lnTo>
                  <a:pt x="3448" y="704"/>
                </a:lnTo>
                <a:lnTo>
                  <a:pt x="3440" y="760"/>
                </a:lnTo>
                <a:lnTo>
                  <a:pt x="3440" y="816"/>
                </a:lnTo>
                <a:lnTo>
                  <a:pt x="3440" y="864"/>
                </a:lnTo>
                <a:lnTo>
                  <a:pt x="3432" y="920"/>
                </a:lnTo>
                <a:lnTo>
                  <a:pt x="3432" y="984"/>
                </a:lnTo>
                <a:lnTo>
                  <a:pt x="3424" y="1032"/>
                </a:lnTo>
                <a:lnTo>
                  <a:pt x="3424" y="1088"/>
                </a:lnTo>
                <a:lnTo>
                  <a:pt x="3424" y="1152"/>
                </a:lnTo>
                <a:lnTo>
                  <a:pt x="3424" y="1208"/>
                </a:lnTo>
                <a:lnTo>
                  <a:pt x="3424" y="1264"/>
                </a:lnTo>
                <a:lnTo>
                  <a:pt x="3424" y="1312"/>
                </a:lnTo>
                <a:lnTo>
                  <a:pt x="3424" y="1368"/>
                </a:lnTo>
                <a:lnTo>
                  <a:pt x="3424" y="1416"/>
                </a:lnTo>
                <a:lnTo>
                  <a:pt x="3424" y="1464"/>
                </a:lnTo>
                <a:lnTo>
                  <a:pt x="3424" y="1504"/>
                </a:lnTo>
                <a:lnTo>
                  <a:pt x="3424" y="1552"/>
                </a:lnTo>
                <a:lnTo>
                  <a:pt x="3424" y="1592"/>
                </a:lnTo>
                <a:lnTo>
                  <a:pt x="3424" y="1632"/>
                </a:lnTo>
                <a:lnTo>
                  <a:pt x="3424" y="1664"/>
                </a:lnTo>
                <a:lnTo>
                  <a:pt x="3424" y="1704"/>
                </a:lnTo>
                <a:lnTo>
                  <a:pt x="3424" y="1736"/>
                </a:lnTo>
                <a:lnTo>
                  <a:pt x="3424" y="1768"/>
                </a:lnTo>
                <a:lnTo>
                  <a:pt x="3424" y="1808"/>
                </a:lnTo>
                <a:lnTo>
                  <a:pt x="3424" y="1840"/>
                </a:lnTo>
                <a:lnTo>
                  <a:pt x="3424" y="1864"/>
                </a:lnTo>
                <a:lnTo>
                  <a:pt x="3424" y="1896"/>
                </a:lnTo>
                <a:lnTo>
                  <a:pt x="3424" y="1912"/>
                </a:lnTo>
                <a:lnTo>
                  <a:pt x="3424" y="1944"/>
                </a:lnTo>
                <a:lnTo>
                  <a:pt x="3424" y="1960"/>
                </a:lnTo>
                <a:lnTo>
                  <a:pt x="3424" y="1992"/>
                </a:lnTo>
                <a:lnTo>
                  <a:pt x="3424" y="2016"/>
                </a:lnTo>
                <a:lnTo>
                  <a:pt x="3424" y="2040"/>
                </a:lnTo>
                <a:lnTo>
                  <a:pt x="3424" y="2064"/>
                </a:lnTo>
                <a:lnTo>
                  <a:pt x="3424" y="2088"/>
                </a:lnTo>
                <a:lnTo>
                  <a:pt x="3424" y="2120"/>
                </a:lnTo>
                <a:lnTo>
                  <a:pt x="3424" y="2136"/>
                </a:lnTo>
                <a:lnTo>
                  <a:pt x="3424" y="2160"/>
                </a:lnTo>
                <a:lnTo>
                  <a:pt x="3424" y="2184"/>
                </a:lnTo>
                <a:lnTo>
                  <a:pt x="3416" y="2208"/>
                </a:lnTo>
                <a:lnTo>
                  <a:pt x="3408" y="2240"/>
                </a:lnTo>
                <a:lnTo>
                  <a:pt x="3408" y="2264"/>
                </a:lnTo>
                <a:lnTo>
                  <a:pt x="3400" y="2288"/>
                </a:lnTo>
                <a:lnTo>
                  <a:pt x="3400" y="2312"/>
                </a:lnTo>
                <a:lnTo>
                  <a:pt x="3392" y="2344"/>
                </a:lnTo>
                <a:lnTo>
                  <a:pt x="3376" y="2368"/>
                </a:lnTo>
                <a:lnTo>
                  <a:pt x="3368" y="2400"/>
                </a:lnTo>
                <a:lnTo>
                  <a:pt x="3360" y="2416"/>
                </a:lnTo>
                <a:lnTo>
                  <a:pt x="3344" y="2440"/>
                </a:lnTo>
                <a:lnTo>
                  <a:pt x="3328" y="2464"/>
                </a:lnTo>
                <a:lnTo>
                  <a:pt x="3312" y="2488"/>
                </a:lnTo>
                <a:lnTo>
                  <a:pt x="3288" y="2512"/>
                </a:lnTo>
                <a:lnTo>
                  <a:pt x="3280" y="2528"/>
                </a:lnTo>
                <a:lnTo>
                  <a:pt x="3256" y="2544"/>
                </a:lnTo>
                <a:lnTo>
                  <a:pt x="3240" y="2560"/>
                </a:lnTo>
                <a:lnTo>
                  <a:pt x="3216" y="2584"/>
                </a:lnTo>
                <a:lnTo>
                  <a:pt x="3192" y="2600"/>
                </a:lnTo>
                <a:lnTo>
                  <a:pt x="3168" y="2632"/>
                </a:lnTo>
                <a:lnTo>
                  <a:pt x="3144" y="2632"/>
                </a:lnTo>
                <a:lnTo>
                  <a:pt x="3128" y="2648"/>
                </a:lnTo>
                <a:lnTo>
                  <a:pt x="3112" y="2648"/>
                </a:lnTo>
                <a:lnTo>
                  <a:pt x="3096" y="2656"/>
                </a:lnTo>
                <a:lnTo>
                  <a:pt x="3080" y="2664"/>
                </a:lnTo>
                <a:lnTo>
                  <a:pt x="3056" y="2672"/>
                </a:lnTo>
                <a:lnTo>
                  <a:pt x="3040" y="2672"/>
                </a:lnTo>
                <a:lnTo>
                  <a:pt x="3016" y="2672"/>
                </a:lnTo>
                <a:lnTo>
                  <a:pt x="2992" y="2680"/>
                </a:lnTo>
                <a:lnTo>
                  <a:pt x="2960" y="2688"/>
                </a:lnTo>
                <a:lnTo>
                  <a:pt x="2944" y="2688"/>
                </a:lnTo>
                <a:lnTo>
                  <a:pt x="2912" y="2688"/>
                </a:lnTo>
                <a:lnTo>
                  <a:pt x="2888" y="2696"/>
                </a:lnTo>
                <a:lnTo>
                  <a:pt x="2864" y="2696"/>
                </a:lnTo>
                <a:lnTo>
                  <a:pt x="2840" y="2696"/>
                </a:lnTo>
                <a:lnTo>
                  <a:pt x="2816" y="2696"/>
                </a:lnTo>
                <a:lnTo>
                  <a:pt x="2784" y="2704"/>
                </a:lnTo>
                <a:lnTo>
                  <a:pt x="2760" y="2704"/>
                </a:lnTo>
                <a:lnTo>
                  <a:pt x="2736" y="2712"/>
                </a:lnTo>
                <a:lnTo>
                  <a:pt x="2712" y="2712"/>
                </a:lnTo>
                <a:lnTo>
                  <a:pt x="2696" y="2712"/>
                </a:lnTo>
                <a:lnTo>
                  <a:pt x="2672" y="2720"/>
                </a:lnTo>
                <a:lnTo>
                  <a:pt x="2648" y="2720"/>
                </a:lnTo>
                <a:lnTo>
                  <a:pt x="2624" y="2720"/>
                </a:lnTo>
                <a:lnTo>
                  <a:pt x="2600" y="2720"/>
                </a:lnTo>
                <a:lnTo>
                  <a:pt x="2584" y="2720"/>
                </a:lnTo>
                <a:lnTo>
                  <a:pt x="2560" y="2728"/>
                </a:lnTo>
                <a:lnTo>
                  <a:pt x="2544" y="2728"/>
                </a:lnTo>
                <a:lnTo>
                  <a:pt x="2520" y="2728"/>
                </a:lnTo>
                <a:lnTo>
                  <a:pt x="2496" y="2728"/>
                </a:lnTo>
                <a:lnTo>
                  <a:pt x="2472" y="2728"/>
                </a:lnTo>
                <a:lnTo>
                  <a:pt x="2456" y="2728"/>
                </a:lnTo>
                <a:lnTo>
                  <a:pt x="2432" y="2728"/>
                </a:lnTo>
                <a:lnTo>
                  <a:pt x="2400" y="2728"/>
                </a:lnTo>
                <a:lnTo>
                  <a:pt x="2376" y="2728"/>
                </a:lnTo>
                <a:lnTo>
                  <a:pt x="2344" y="2720"/>
                </a:lnTo>
                <a:lnTo>
                  <a:pt x="2320" y="2720"/>
                </a:lnTo>
                <a:lnTo>
                  <a:pt x="2288" y="2720"/>
                </a:lnTo>
                <a:lnTo>
                  <a:pt x="2256" y="2720"/>
                </a:lnTo>
                <a:lnTo>
                  <a:pt x="2232" y="2720"/>
                </a:lnTo>
                <a:lnTo>
                  <a:pt x="2200" y="2712"/>
                </a:lnTo>
                <a:lnTo>
                  <a:pt x="2176" y="2704"/>
                </a:lnTo>
                <a:lnTo>
                  <a:pt x="2144" y="2696"/>
                </a:lnTo>
                <a:lnTo>
                  <a:pt x="2104" y="2688"/>
                </a:lnTo>
                <a:lnTo>
                  <a:pt x="2080" y="2688"/>
                </a:lnTo>
                <a:lnTo>
                  <a:pt x="2048" y="2680"/>
                </a:lnTo>
                <a:lnTo>
                  <a:pt x="2008" y="2672"/>
                </a:lnTo>
                <a:lnTo>
                  <a:pt x="1976" y="2664"/>
                </a:lnTo>
                <a:lnTo>
                  <a:pt x="1936" y="2656"/>
                </a:lnTo>
                <a:lnTo>
                  <a:pt x="1896" y="2656"/>
                </a:lnTo>
                <a:lnTo>
                  <a:pt x="1848" y="2648"/>
                </a:lnTo>
                <a:lnTo>
                  <a:pt x="1808" y="2640"/>
                </a:lnTo>
                <a:lnTo>
                  <a:pt x="1776" y="2632"/>
                </a:lnTo>
                <a:lnTo>
                  <a:pt x="1408" y="2584"/>
                </a:lnTo>
                <a:lnTo>
                  <a:pt x="1368" y="2576"/>
                </a:lnTo>
                <a:lnTo>
                  <a:pt x="1336" y="2568"/>
                </a:lnTo>
                <a:lnTo>
                  <a:pt x="1304" y="2568"/>
                </a:lnTo>
                <a:lnTo>
                  <a:pt x="1280" y="2568"/>
                </a:lnTo>
                <a:lnTo>
                  <a:pt x="1248" y="2560"/>
                </a:lnTo>
                <a:lnTo>
                  <a:pt x="1224" y="2560"/>
                </a:lnTo>
                <a:lnTo>
                  <a:pt x="1200" y="2560"/>
                </a:lnTo>
                <a:lnTo>
                  <a:pt x="1176" y="2560"/>
                </a:lnTo>
                <a:lnTo>
                  <a:pt x="1160" y="2552"/>
                </a:lnTo>
                <a:lnTo>
                  <a:pt x="1136" y="2544"/>
                </a:lnTo>
                <a:lnTo>
                  <a:pt x="1120" y="2544"/>
                </a:lnTo>
                <a:lnTo>
                  <a:pt x="1096" y="2536"/>
                </a:lnTo>
                <a:lnTo>
                  <a:pt x="1080" y="2536"/>
                </a:lnTo>
                <a:lnTo>
                  <a:pt x="1056" y="2536"/>
                </a:lnTo>
                <a:lnTo>
                  <a:pt x="1032" y="2528"/>
                </a:lnTo>
                <a:lnTo>
                  <a:pt x="1016" y="2520"/>
                </a:lnTo>
                <a:lnTo>
                  <a:pt x="992" y="2520"/>
                </a:lnTo>
                <a:lnTo>
                  <a:pt x="976" y="2520"/>
                </a:lnTo>
                <a:lnTo>
                  <a:pt x="952" y="2512"/>
                </a:lnTo>
                <a:lnTo>
                  <a:pt x="936" y="2504"/>
                </a:lnTo>
                <a:lnTo>
                  <a:pt x="912" y="2496"/>
                </a:lnTo>
                <a:lnTo>
                  <a:pt x="880" y="2496"/>
                </a:lnTo>
                <a:lnTo>
                  <a:pt x="856" y="2488"/>
                </a:lnTo>
                <a:lnTo>
                  <a:pt x="832" y="2480"/>
                </a:lnTo>
                <a:lnTo>
                  <a:pt x="816" y="2472"/>
                </a:lnTo>
                <a:lnTo>
                  <a:pt x="792" y="2472"/>
                </a:lnTo>
                <a:lnTo>
                  <a:pt x="776" y="2472"/>
                </a:lnTo>
                <a:lnTo>
                  <a:pt x="752" y="2464"/>
                </a:lnTo>
                <a:lnTo>
                  <a:pt x="728" y="2456"/>
                </a:lnTo>
                <a:lnTo>
                  <a:pt x="712" y="2448"/>
                </a:lnTo>
                <a:lnTo>
                  <a:pt x="688" y="2448"/>
                </a:lnTo>
                <a:lnTo>
                  <a:pt x="672" y="2448"/>
                </a:lnTo>
                <a:lnTo>
                  <a:pt x="648" y="2440"/>
                </a:lnTo>
                <a:lnTo>
                  <a:pt x="632" y="2432"/>
                </a:lnTo>
                <a:lnTo>
                  <a:pt x="608" y="2424"/>
                </a:lnTo>
                <a:lnTo>
                  <a:pt x="592" y="2424"/>
                </a:lnTo>
                <a:lnTo>
                  <a:pt x="560" y="2416"/>
                </a:lnTo>
                <a:lnTo>
                  <a:pt x="544" y="2408"/>
                </a:lnTo>
                <a:lnTo>
                  <a:pt x="528" y="2408"/>
                </a:lnTo>
                <a:lnTo>
                  <a:pt x="504" y="2400"/>
                </a:lnTo>
                <a:lnTo>
                  <a:pt x="488" y="2392"/>
                </a:lnTo>
                <a:lnTo>
                  <a:pt x="464" y="2384"/>
                </a:lnTo>
                <a:lnTo>
                  <a:pt x="448" y="2376"/>
                </a:lnTo>
                <a:lnTo>
                  <a:pt x="432" y="2368"/>
                </a:lnTo>
                <a:lnTo>
                  <a:pt x="416" y="2360"/>
                </a:lnTo>
                <a:lnTo>
                  <a:pt x="392" y="2352"/>
                </a:lnTo>
                <a:lnTo>
                  <a:pt x="376" y="2336"/>
                </a:lnTo>
                <a:lnTo>
                  <a:pt x="360" y="2336"/>
                </a:lnTo>
                <a:lnTo>
                  <a:pt x="352" y="2320"/>
                </a:lnTo>
                <a:lnTo>
                  <a:pt x="336" y="2312"/>
                </a:lnTo>
                <a:lnTo>
                  <a:pt x="320" y="2304"/>
                </a:lnTo>
                <a:lnTo>
                  <a:pt x="312" y="2280"/>
                </a:lnTo>
                <a:lnTo>
                  <a:pt x="296" y="2272"/>
                </a:lnTo>
                <a:lnTo>
                  <a:pt x="280" y="2256"/>
                </a:lnTo>
                <a:lnTo>
                  <a:pt x="264" y="2240"/>
                </a:lnTo>
                <a:lnTo>
                  <a:pt x="248" y="2208"/>
                </a:lnTo>
                <a:lnTo>
                  <a:pt x="232" y="2192"/>
                </a:lnTo>
                <a:lnTo>
                  <a:pt x="216" y="2176"/>
                </a:lnTo>
                <a:lnTo>
                  <a:pt x="200" y="2160"/>
                </a:lnTo>
                <a:lnTo>
                  <a:pt x="192" y="2136"/>
                </a:lnTo>
                <a:lnTo>
                  <a:pt x="176" y="2112"/>
                </a:lnTo>
                <a:lnTo>
                  <a:pt x="168" y="2096"/>
                </a:lnTo>
                <a:lnTo>
                  <a:pt x="160" y="2080"/>
                </a:lnTo>
                <a:lnTo>
                  <a:pt x="152" y="2064"/>
                </a:lnTo>
                <a:lnTo>
                  <a:pt x="144" y="2048"/>
                </a:lnTo>
                <a:lnTo>
                  <a:pt x="128" y="2024"/>
                </a:lnTo>
                <a:lnTo>
                  <a:pt x="128" y="2008"/>
                </a:lnTo>
                <a:lnTo>
                  <a:pt x="120" y="1984"/>
                </a:lnTo>
                <a:lnTo>
                  <a:pt x="112" y="1960"/>
                </a:lnTo>
                <a:lnTo>
                  <a:pt x="112" y="1944"/>
                </a:lnTo>
                <a:lnTo>
                  <a:pt x="96" y="1920"/>
                </a:lnTo>
                <a:lnTo>
                  <a:pt x="88" y="1904"/>
                </a:lnTo>
                <a:lnTo>
                  <a:pt x="88" y="1880"/>
                </a:lnTo>
                <a:lnTo>
                  <a:pt x="80" y="1856"/>
                </a:lnTo>
                <a:lnTo>
                  <a:pt x="72" y="1832"/>
                </a:lnTo>
                <a:lnTo>
                  <a:pt x="64" y="1808"/>
                </a:lnTo>
                <a:lnTo>
                  <a:pt x="64" y="1784"/>
                </a:lnTo>
                <a:lnTo>
                  <a:pt x="56" y="1760"/>
                </a:lnTo>
                <a:lnTo>
                  <a:pt x="48" y="1736"/>
                </a:lnTo>
                <a:lnTo>
                  <a:pt x="40" y="1704"/>
                </a:lnTo>
                <a:lnTo>
                  <a:pt x="32" y="1680"/>
                </a:lnTo>
                <a:lnTo>
                  <a:pt x="32" y="1664"/>
                </a:lnTo>
                <a:lnTo>
                  <a:pt x="32" y="1640"/>
                </a:lnTo>
                <a:lnTo>
                  <a:pt x="24" y="1616"/>
                </a:lnTo>
                <a:lnTo>
                  <a:pt x="24" y="1600"/>
                </a:lnTo>
                <a:lnTo>
                  <a:pt x="24" y="1584"/>
                </a:lnTo>
                <a:lnTo>
                  <a:pt x="24" y="1568"/>
                </a:lnTo>
                <a:lnTo>
                  <a:pt x="32" y="1544"/>
                </a:lnTo>
                <a:lnTo>
                  <a:pt x="32" y="1528"/>
                </a:lnTo>
                <a:lnTo>
                  <a:pt x="32" y="1504"/>
                </a:lnTo>
                <a:lnTo>
                  <a:pt x="32" y="1480"/>
                </a:lnTo>
                <a:lnTo>
                  <a:pt x="32" y="1448"/>
                </a:lnTo>
                <a:lnTo>
                  <a:pt x="32" y="1432"/>
                </a:lnTo>
                <a:lnTo>
                  <a:pt x="32" y="1400"/>
                </a:lnTo>
                <a:lnTo>
                  <a:pt x="32" y="1384"/>
                </a:lnTo>
                <a:lnTo>
                  <a:pt x="32" y="1328"/>
                </a:lnTo>
                <a:lnTo>
                  <a:pt x="32" y="1312"/>
                </a:lnTo>
                <a:lnTo>
                  <a:pt x="32" y="1288"/>
                </a:lnTo>
                <a:lnTo>
                  <a:pt x="32" y="1256"/>
                </a:lnTo>
                <a:lnTo>
                  <a:pt x="32" y="1232"/>
                </a:lnTo>
                <a:lnTo>
                  <a:pt x="32" y="1208"/>
                </a:lnTo>
                <a:lnTo>
                  <a:pt x="32" y="1184"/>
                </a:lnTo>
                <a:lnTo>
                  <a:pt x="32" y="1152"/>
                </a:lnTo>
                <a:lnTo>
                  <a:pt x="32" y="1128"/>
                </a:lnTo>
                <a:lnTo>
                  <a:pt x="32" y="1096"/>
                </a:lnTo>
                <a:lnTo>
                  <a:pt x="24" y="1072"/>
                </a:lnTo>
                <a:lnTo>
                  <a:pt x="24" y="1040"/>
                </a:lnTo>
                <a:lnTo>
                  <a:pt x="24" y="1016"/>
                </a:lnTo>
                <a:lnTo>
                  <a:pt x="24" y="984"/>
                </a:lnTo>
                <a:lnTo>
                  <a:pt x="24" y="960"/>
                </a:lnTo>
                <a:lnTo>
                  <a:pt x="24" y="928"/>
                </a:lnTo>
                <a:lnTo>
                  <a:pt x="24" y="904"/>
                </a:lnTo>
                <a:lnTo>
                  <a:pt x="24" y="872"/>
                </a:lnTo>
                <a:lnTo>
                  <a:pt x="24" y="848"/>
                </a:lnTo>
                <a:lnTo>
                  <a:pt x="24" y="824"/>
                </a:lnTo>
                <a:lnTo>
                  <a:pt x="24" y="800"/>
                </a:lnTo>
                <a:lnTo>
                  <a:pt x="16" y="776"/>
                </a:lnTo>
                <a:lnTo>
                  <a:pt x="16" y="728"/>
                </a:lnTo>
                <a:lnTo>
                  <a:pt x="16" y="704"/>
                </a:lnTo>
                <a:lnTo>
                  <a:pt x="16" y="688"/>
                </a:lnTo>
                <a:lnTo>
                  <a:pt x="16" y="664"/>
                </a:lnTo>
                <a:lnTo>
                  <a:pt x="16" y="648"/>
                </a:lnTo>
                <a:lnTo>
                  <a:pt x="16" y="632"/>
                </a:lnTo>
                <a:lnTo>
                  <a:pt x="16" y="616"/>
                </a:lnTo>
                <a:lnTo>
                  <a:pt x="16" y="592"/>
                </a:lnTo>
                <a:lnTo>
                  <a:pt x="16" y="576"/>
                </a:lnTo>
                <a:lnTo>
                  <a:pt x="8" y="560"/>
                </a:lnTo>
                <a:lnTo>
                  <a:pt x="8" y="544"/>
                </a:lnTo>
                <a:lnTo>
                  <a:pt x="8" y="528"/>
                </a:lnTo>
                <a:lnTo>
                  <a:pt x="0" y="512"/>
                </a:lnTo>
                <a:lnTo>
                  <a:pt x="0" y="496"/>
                </a:lnTo>
                <a:lnTo>
                  <a:pt x="0" y="488"/>
                </a:lnTo>
                <a:lnTo>
                  <a:pt x="0" y="488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050920" y="314316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 chargement : les signaux à piloter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Représentation sous forme d’automate d’éta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146480" y="1797120"/>
            <a:ext cx="1714680" cy="16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759920" y="2368440"/>
            <a:ext cx="45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022400" y="2267280"/>
            <a:ext cx="30855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44560" y="1746360"/>
            <a:ext cx="1714320" cy="16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344240" y="1771560"/>
            <a:ext cx="7880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552560" y="2127600"/>
            <a:ext cx="2629080" cy="67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709640" y="1707840"/>
            <a:ext cx="1587240" cy="346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319480" y="1176480"/>
            <a:ext cx="4254120" cy="161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959400" y="1176480"/>
            <a:ext cx="6945840" cy="120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162920" y="1739880"/>
            <a:ext cx="1714320" cy="1689120"/>
          </a:xfrm>
          <a:prstGeom prst="ellipse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719840" y="1797120"/>
            <a:ext cx="7880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946480" y="22096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COP=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463680" y="1073160"/>
            <a:ext cx="4865400" cy="481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403440" y="4355640"/>
            <a:ext cx="0" cy="69084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464160" y="432288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76236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76236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4900680" y="2313000"/>
            <a:ext cx="284040" cy="131760"/>
            <a:chOff x="4900680" y="2313000"/>
            <a:chExt cx="284040" cy="131760"/>
          </a:xfrm>
        </p:grpSpPr>
        <p:sp>
          <p:nvSpPr>
            <p:cNvPr id="982" name=""/>
            <p:cNvSpPr/>
            <p:nvPr/>
          </p:nvSpPr>
          <p:spPr>
            <a:xfrm>
              <a:off x="4900680" y="2313000"/>
              <a:ext cx="136440" cy="131760"/>
            </a:xfrm>
            <a:prstGeom prst="ellipse">
              <a:avLst/>
            </a:prstGeom>
            <a:noFill/>
            <a:ln w="12600">
              <a:solidFill>
                <a:srgbClr val="00a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049720" y="2376360"/>
              <a:ext cx="135000" cy="0"/>
            </a:xfrm>
            <a:prstGeom prst="line">
              <a:avLst/>
            </a:prstGeom>
            <a:ln w="12600">
              <a:solidFill>
                <a:srgbClr val="00a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713412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99120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29440" y="4381560"/>
            <a:ext cx="136440" cy="12852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81840" y="4443480"/>
            <a:ext cx="2840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740040" y="1843200"/>
            <a:ext cx="136800" cy="12852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587760" y="1905120"/>
            <a:ext cx="2840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976640" y="2313000"/>
            <a:ext cx="0" cy="27288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543640" y="1081080"/>
            <a:ext cx="3340080" cy="480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655720" y="3214800"/>
            <a:ext cx="1495440" cy="1155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073320" y="5054760"/>
            <a:ext cx="1549440" cy="29196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86240" y="1187280"/>
            <a:ext cx="149868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637000" y="3340080"/>
            <a:ext cx="1641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écod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183800" y="4811760"/>
            <a:ext cx="774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081240" y="4989600"/>
            <a:ext cx="1559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609920" y="2335320"/>
            <a:ext cx="361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rot="16200000">
            <a:off x="6139800" y="2586240"/>
            <a:ext cx="57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 rangemen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463680" y="1073160"/>
            <a:ext cx="4865400" cy="481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464160" y="432288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76236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76236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900680" y="2313000"/>
            <a:ext cx="284040" cy="131760"/>
            <a:chOff x="4900680" y="2313000"/>
            <a:chExt cx="284040" cy="131760"/>
          </a:xfrm>
        </p:grpSpPr>
        <p:sp>
          <p:nvSpPr>
            <p:cNvPr id="1074" name=""/>
            <p:cNvSpPr/>
            <p:nvPr/>
          </p:nvSpPr>
          <p:spPr>
            <a:xfrm>
              <a:off x="4900680" y="2313000"/>
              <a:ext cx="136440" cy="131760"/>
            </a:xfrm>
            <a:prstGeom prst="ellipse">
              <a:avLst/>
            </a:prstGeom>
            <a:noFill/>
            <a:ln w="12600">
              <a:solidFill>
                <a:srgbClr val="00a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049720" y="2376360"/>
              <a:ext cx="135000" cy="0"/>
            </a:xfrm>
            <a:prstGeom prst="line">
              <a:avLst/>
            </a:prstGeom>
            <a:ln w="12600">
              <a:solidFill>
                <a:srgbClr val="00a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713412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99120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129440" y="4381560"/>
            <a:ext cx="136440" cy="12852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981840" y="4443480"/>
            <a:ext cx="2840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740040" y="1843200"/>
            <a:ext cx="136800" cy="12852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587760" y="1905120"/>
            <a:ext cx="2840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76640" y="2313000"/>
            <a:ext cx="0" cy="27288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543640" y="1081080"/>
            <a:ext cx="3340080" cy="480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655720" y="3214800"/>
            <a:ext cx="1495440" cy="1155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486240" y="1187280"/>
            <a:ext cx="149868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637000" y="3340080"/>
            <a:ext cx="1641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écod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183800" y="4811760"/>
            <a:ext cx="774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09920" y="2335320"/>
            <a:ext cx="361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3403440" y="4355640"/>
            <a:ext cx="0" cy="69084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073320" y="5054760"/>
            <a:ext cx="1549440" cy="29196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081240" y="4989600"/>
            <a:ext cx="1559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952560" y="2451240"/>
            <a:ext cx="6821280" cy="3659040"/>
          </a:xfrm>
          <a:custGeom>
            <a:avLst/>
            <a:gdLst/>
            <a:ahLst/>
            <a:rect l="l" t="t" r="r" b="b"/>
            <a:pathLst>
              <a:path w="4297" h="2305">
                <a:moveTo>
                  <a:pt x="0" y="0"/>
                </a:moveTo>
                <a:lnTo>
                  <a:pt x="8" y="25"/>
                </a:lnTo>
                <a:lnTo>
                  <a:pt x="8" y="42"/>
                </a:lnTo>
                <a:lnTo>
                  <a:pt x="8" y="59"/>
                </a:lnTo>
                <a:lnTo>
                  <a:pt x="16" y="76"/>
                </a:lnTo>
                <a:lnTo>
                  <a:pt x="16" y="93"/>
                </a:lnTo>
                <a:lnTo>
                  <a:pt x="24" y="110"/>
                </a:lnTo>
                <a:lnTo>
                  <a:pt x="24" y="127"/>
                </a:lnTo>
                <a:lnTo>
                  <a:pt x="32" y="144"/>
                </a:lnTo>
                <a:lnTo>
                  <a:pt x="32" y="161"/>
                </a:lnTo>
                <a:lnTo>
                  <a:pt x="40" y="178"/>
                </a:lnTo>
                <a:lnTo>
                  <a:pt x="40" y="195"/>
                </a:lnTo>
                <a:lnTo>
                  <a:pt x="48" y="212"/>
                </a:lnTo>
                <a:lnTo>
                  <a:pt x="48" y="229"/>
                </a:lnTo>
                <a:lnTo>
                  <a:pt x="48" y="246"/>
                </a:lnTo>
                <a:lnTo>
                  <a:pt x="48" y="263"/>
                </a:lnTo>
                <a:lnTo>
                  <a:pt x="48" y="280"/>
                </a:lnTo>
                <a:lnTo>
                  <a:pt x="57" y="305"/>
                </a:lnTo>
                <a:lnTo>
                  <a:pt x="57" y="322"/>
                </a:lnTo>
                <a:lnTo>
                  <a:pt x="65" y="347"/>
                </a:lnTo>
                <a:lnTo>
                  <a:pt x="65" y="364"/>
                </a:lnTo>
                <a:lnTo>
                  <a:pt x="65" y="390"/>
                </a:lnTo>
                <a:lnTo>
                  <a:pt x="65" y="407"/>
                </a:lnTo>
                <a:lnTo>
                  <a:pt x="65" y="432"/>
                </a:lnTo>
                <a:lnTo>
                  <a:pt x="73" y="457"/>
                </a:lnTo>
                <a:lnTo>
                  <a:pt x="73" y="474"/>
                </a:lnTo>
                <a:lnTo>
                  <a:pt x="81" y="500"/>
                </a:lnTo>
                <a:lnTo>
                  <a:pt x="89" y="525"/>
                </a:lnTo>
                <a:lnTo>
                  <a:pt x="89" y="542"/>
                </a:lnTo>
                <a:lnTo>
                  <a:pt x="97" y="568"/>
                </a:lnTo>
                <a:lnTo>
                  <a:pt x="105" y="593"/>
                </a:lnTo>
                <a:lnTo>
                  <a:pt x="113" y="627"/>
                </a:lnTo>
                <a:lnTo>
                  <a:pt x="113" y="652"/>
                </a:lnTo>
                <a:lnTo>
                  <a:pt x="121" y="678"/>
                </a:lnTo>
                <a:lnTo>
                  <a:pt x="129" y="695"/>
                </a:lnTo>
                <a:lnTo>
                  <a:pt x="137" y="728"/>
                </a:lnTo>
                <a:lnTo>
                  <a:pt x="137" y="745"/>
                </a:lnTo>
                <a:lnTo>
                  <a:pt x="145" y="771"/>
                </a:lnTo>
                <a:lnTo>
                  <a:pt x="153" y="796"/>
                </a:lnTo>
                <a:lnTo>
                  <a:pt x="162" y="839"/>
                </a:lnTo>
                <a:lnTo>
                  <a:pt x="170" y="864"/>
                </a:lnTo>
                <a:lnTo>
                  <a:pt x="178" y="889"/>
                </a:lnTo>
                <a:lnTo>
                  <a:pt x="186" y="915"/>
                </a:lnTo>
                <a:lnTo>
                  <a:pt x="186" y="940"/>
                </a:lnTo>
                <a:lnTo>
                  <a:pt x="194" y="966"/>
                </a:lnTo>
                <a:lnTo>
                  <a:pt x="210" y="1000"/>
                </a:lnTo>
                <a:lnTo>
                  <a:pt x="218" y="1025"/>
                </a:lnTo>
                <a:lnTo>
                  <a:pt x="218" y="1059"/>
                </a:lnTo>
                <a:lnTo>
                  <a:pt x="226" y="1084"/>
                </a:lnTo>
                <a:lnTo>
                  <a:pt x="234" y="1118"/>
                </a:lnTo>
                <a:lnTo>
                  <a:pt x="242" y="1144"/>
                </a:lnTo>
                <a:lnTo>
                  <a:pt x="258" y="1160"/>
                </a:lnTo>
                <a:lnTo>
                  <a:pt x="266" y="1186"/>
                </a:lnTo>
                <a:lnTo>
                  <a:pt x="275" y="1211"/>
                </a:lnTo>
                <a:lnTo>
                  <a:pt x="291" y="1237"/>
                </a:lnTo>
                <a:lnTo>
                  <a:pt x="299" y="1254"/>
                </a:lnTo>
                <a:lnTo>
                  <a:pt x="307" y="1271"/>
                </a:lnTo>
                <a:lnTo>
                  <a:pt x="331" y="1296"/>
                </a:lnTo>
                <a:lnTo>
                  <a:pt x="339" y="1321"/>
                </a:lnTo>
                <a:lnTo>
                  <a:pt x="355" y="1347"/>
                </a:lnTo>
                <a:lnTo>
                  <a:pt x="371" y="1364"/>
                </a:lnTo>
                <a:lnTo>
                  <a:pt x="371" y="1389"/>
                </a:lnTo>
                <a:lnTo>
                  <a:pt x="388" y="1398"/>
                </a:lnTo>
                <a:lnTo>
                  <a:pt x="404" y="1415"/>
                </a:lnTo>
                <a:lnTo>
                  <a:pt x="420" y="1432"/>
                </a:lnTo>
                <a:lnTo>
                  <a:pt x="436" y="1448"/>
                </a:lnTo>
                <a:lnTo>
                  <a:pt x="452" y="1465"/>
                </a:lnTo>
                <a:lnTo>
                  <a:pt x="468" y="1482"/>
                </a:lnTo>
                <a:lnTo>
                  <a:pt x="476" y="1499"/>
                </a:lnTo>
                <a:lnTo>
                  <a:pt x="493" y="1516"/>
                </a:lnTo>
                <a:lnTo>
                  <a:pt x="509" y="1533"/>
                </a:lnTo>
                <a:lnTo>
                  <a:pt x="525" y="1542"/>
                </a:lnTo>
                <a:lnTo>
                  <a:pt x="541" y="1559"/>
                </a:lnTo>
                <a:lnTo>
                  <a:pt x="557" y="1584"/>
                </a:lnTo>
                <a:lnTo>
                  <a:pt x="581" y="1592"/>
                </a:lnTo>
                <a:lnTo>
                  <a:pt x="606" y="1609"/>
                </a:lnTo>
                <a:lnTo>
                  <a:pt x="630" y="1626"/>
                </a:lnTo>
                <a:lnTo>
                  <a:pt x="638" y="1643"/>
                </a:lnTo>
                <a:lnTo>
                  <a:pt x="654" y="1643"/>
                </a:lnTo>
                <a:lnTo>
                  <a:pt x="670" y="1660"/>
                </a:lnTo>
                <a:lnTo>
                  <a:pt x="703" y="1686"/>
                </a:lnTo>
                <a:lnTo>
                  <a:pt x="719" y="1703"/>
                </a:lnTo>
                <a:lnTo>
                  <a:pt x="735" y="1711"/>
                </a:lnTo>
                <a:lnTo>
                  <a:pt x="751" y="1728"/>
                </a:lnTo>
                <a:lnTo>
                  <a:pt x="775" y="1745"/>
                </a:lnTo>
                <a:lnTo>
                  <a:pt x="783" y="1762"/>
                </a:lnTo>
                <a:lnTo>
                  <a:pt x="808" y="1770"/>
                </a:lnTo>
                <a:lnTo>
                  <a:pt x="824" y="1787"/>
                </a:lnTo>
                <a:lnTo>
                  <a:pt x="840" y="1796"/>
                </a:lnTo>
                <a:lnTo>
                  <a:pt x="856" y="1804"/>
                </a:lnTo>
                <a:lnTo>
                  <a:pt x="880" y="1821"/>
                </a:lnTo>
                <a:lnTo>
                  <a:pt x="896" y="1830"/>
                </a:lnTo>
                <a:lnTo>
                  <a:pt x="921" y="1847"/>
                </a:lnTo>
                <a:lnTo>
                  <a:pt x="945" y="1855"/>
                </a:lnTo>
                <a:lnTo>
                  <a:pt x="953" y="1872"/>
                </a:lnTo>
                <a:lnTo>
                  <a:pt x="985" y="1880"/>
                </a:lnTo>
                <a:lnTo>
                  <a:pt x="1001" y="1897"/>
                </a:lnTo>
                <a:lnTo>
                  <a:pt x="1026" y="1906"/>
                </a:lnTo>
                <a:lnTo>
                  <a:pt x="1042" y="1914"/>
                </a:lnTo>
                <a:lnTo>
                  <a:pt x="1066" y="1931"/>
                </a:lnTo>
                <a:lnTo>
                  <a:pt x="1082" y="1948"/>
                </a:lnTo>
                <a:lnTo>
                  <a:pt x="1098" y="1957"/>
                </a:lnTo>
                <a:lnTo>
                  <a:pt x="1122" y="1965"/>
                </a:lnTo>
                <a:lnTo>
                  <a:pt x="1155" y="1974"/>
                </a:lnTo>
                <a:lnTo>
                  <a:pt x="1179" y="1991"/>
                </a:lnTo>
                <a:lnTo>
                  <a:pt x="1227" y="2016"/>
                </a:lnTo>
                <a:lnTo>
                  <a:pt x="1252" y="2033"/>
                </a:lnTo>
                <a:lnTo>
                  <a:pt x="1284" y="2050"/>
                </a:lnTo>
                <a:lnTo>
                  <a:pt x="1300" y="2058"/>
                </a:lnTo>
                <a:lnTo>
                  <a:pt x="1324" y="2067"/>
                </a:lnTo>
                <a:lnTo>
                  <a:pt x="1349" y="2084"/>
                </a:lnTo>
                <a:lnTo>
                  <a:pt x="1373" y="2092"/>
                </a:lnTo>
                <a:lnTo>
                  <a:pt x="1397" y="2109"/>
                </a:lnTo>
                <a:lnTo>
                  <a:pt x="1429" y="2118"/>
                </a:lnTo>
                <a:lnTo>
                  <a:pt x="1462" y="2135"/>
                </a:lnTo>
                <a:lnTo>
                  <a:pt x="1494" y="2152"/>
                </a:lnTo>
                <a:lnTo>
                  <a:pt x="1526" y="2160"/>
                </a:lnTo>
                <a:lnTo>
                  <a:pt x="1559" y="2177"/>
                </a:lnTo>
                <a:lnTo>
                  <a:pt x="1591" y="2185"/>
                </a:lnTo>
                <a:lnTo>
                  <a:pt x="1623" y="2202"/>
                </a:lnTo>
                <a:lnTo>
                  <a:pt x="1655" y="2211"/>
                </a:lnTo>
                <a:lnTo>
                  <a:pt x="1688" y="2228"/>
                </a:lnTo>
                <a:lnTo>
                  <a:pt x="1720" y="2236"/>
                </a:lnTo>
                <a:lnTo>
                  <a:pt x="1744" y="2245"/>
                </a:lnTo>
                <a:lnTo>
                  <a:pt x="1777" y="2262"/>
                </a:lnTo>
                <a:lnTo>
                  <a:pt x="1817" y="2270"/>
                </a:lnTo>
                <a:lnTo>
                  <a:pt x="1841" y="2279"/>
                </a:lnTo>
                <a:lnTo>
                  <a:pt x="1865" y="2287"/>
                </a:lnTo>
                <a:lnTo>
                  <a:pt x="1898" y="2287"/>
                </a:lnTo>
                <a:lnTo>
                  <a:pt x="1930" y="2296"/>
                </a:lnTo>
                <a:lnTo>
                  <a:pt x="1954" y="2296"/>
                </a:lnTo>
                <a:lnTo>
                  <a:pt x="1995" y="2304"/>
                </a:lnTo>
                <a:lnTo>
                  <a:pt x="2019" y="2304"/>
                </a:lnTo>
                <a:lnTo>
                  <a:pt x="2051" y="2304"/>
                </a:lnTo>
                <a:lnTo>
                  <a:pt x="2083" y="2304"/>
                </a:lnTo>
                <a:lnTo>
                  <a:pt x="2108" y="2304"/>
                </a:lnTo>
                <a:lnTo>
                  <a:pt x="2132" y="2304"/>
                </a:lnTo>
                <a:lnTo>
                  <a:pt x="2164" y="2296"/>
                </a:lnTo>
                <a:lnTo>
                  <a:pt x="2188" y="2296"/>
                </a:lnTo>
                <a:lnTo>
                  <a:pt x="2213" y="2287"/>
                </a:lnTo>
                <a:lnTo>
                  <a:pt x="2237" y="2279"/>
                </a:lnTo>
                <a:lnTo>
                  <a:pt x="2261" y="2270"/>
                </a:lnTo>
                <a:lnTo>
                  <a:pt x="2285" y="2270"/>
                </a:lnTo>
                <a:lnTo>
                  <a:pt x="2310" y="2262"/>
                </a:lnTo>
                <a:lnTo>
                  <a:pt x="2334" y="2253"/>
                </a:lnTo>
                <a:lnTo>
                  <a:pt x="2358" y="2245"/>
                </a:lnTo>
                <a:lnTo>
                  <a:pt x="2374" y="2236"/>
                </a:lnTo>
                <a:lnTo>
                  <a:pt x="2398" y="2228"/>
                </a:lnTo>
                <a:lnTo>
                  <a:pt x="2423" y="2219"/>
                </a:lnTo>
                <a:lnTo>
                  <a:pt x="2447" y="2211"/>
                </a:lnTo>
                <a:lnTo>
                  <a:pt x="2463" y="2202"/>
                </a:lnTo>
                <a:lnTo>
                  <a:pt x="2487" y="2194"/>
                </a:lnTo>
                <a:lnTo>
                  <a:pt x="2511" y="2185"/>
                </a:lnTo>
                <a:lnTo>
                  <a:pt x="2544" y="2168"/>
                </a:lnTo>
                <a:lnTo>
                  <a:pt x="2568" y="2152"/>
                </a:lnTo>
                <a:lnTo>
                  <a:pt x="2600" y="2126"/>
                </a:lnTo>
                <a:lnTo>
                  <a:pt x="2624" y="2118"/>
                </a:lnTo>
                <a:lnTo>
                  <a:pt x="2641" y="2092"/>
                </a:lnTo>
                <a:lnTo>
                  <a:pt x="2665" y="2075"/>
                </a:lnTo>
                <a:lnTo>
                  <a:pt x="2689" y="2058"/>
                </a:lnTo>
                <a:lnTo>
                  <a:pt x="2705" y="2041"/>
                </a:lnTo>
                <a:lnTo>
                  <a:pt x="2729" y="2033"/>
                </a:lnTo>
                <a:lnTo>
                  <a:pt x="2737" y="2016"/>
                </a:lnTo>
                <a:lnTo>
                  <a:pt x="2754" y="1999"/>
                </a:lnTo>
                <a:lnTo>
                  <a:pt x="2770" y="1982"/>
                </a:lnTo>
                <a:lnTo>
                  <a:pt x="2786" y="1974"/>
                </a:lnTo>
                <a:lnTo>
                  <a:pt x="2802" y="1948"/>
                </a:lnTo>
                <a:lnTo>
                  <a:pt x="2818" y="1940"/>
                </a:lnTo>
                <a:lnTo>
                  <a:pt x="2834" y="1923"/>
                </a:lnTo>
                <a:lnTo>
                  <a:pt x="2842" y="1906"/>
                </a:lnTo>
                <a:lnTo>
                  <a:pt x="2859" y="1897"/>
                </a:lnTo>
                <a:lnTo>
                  <a:pt x="2875" y="1880"/>
                </a:lnTo>
                <a:lnTo>
                  <a:pt x="2891" y="1855"/>
                </a:lnTo>
                <a:lnTo>
                  <a:pt x="2923" y="1830"/>
                </a:lnTo>
                <a:lnTo>
                  <a:pt x="2939" y="1804"/>
                </a:lnTo>
                <a:lnTo>
                  <a:pt x="2964" y="1787"/>
                </a:lnTo>
                <a:lnTo>
                  <a:pt x="2980" y="1762"/>
                </a:lnTo>
                <a:lnTo>
                  <a:pt x="2996" y="1736"/>
                </a:lnTo>
                <a:lnTo>
                  <a:pt x="3012" y="1711"/>
                </a:lnTo>
                <a:lnTo>
                  <a:pt x="3036" y="1686"/>
                </a:lnTo>
                <a:lnTo>
                  <a:pt x="3069" y="1652"/>
                </a:lnTo>
                <a:lnTo>
                  <a:pt x="3085" y="1626"/>
                </a:lnTo>
                <a:lnTo>
                  <a:pt x="3101" y="1601"/>
                </a:lnTo>
                <a:lnTo>
                  <a:pt x="3125" y="1584"/>
                </a:lnTo>
                <a:lnTo>
                  <a:pt x="3133" y="1559"/>
                </a:lnTo>
                <a:lnTo>
                  <a:pt x="3149" y="1542"/>
                </a:lnTo>
                <a:lnTo>
                  <a:pt x="3165" y="1516"/>
                </a:lnTo>
                <a:lnTo>
                  <a:pt x="3174" y="1499"/>
                </a:lnTo>
                <a:lnTo>
                  <a:pt x="3198" y="1482"/>
                </a:lnTo>
                <a:lnTo>
                  <a:pt x="3214" y="1457"/>
                </a:lnTo>
                <a:lnTo>
                  <a:pt x="3222" y="1432"/>
                </a:lnTo>
                <a:lnTo>
                  <a:pt x="3238" y="1406"/>
                </a:lnTo>
                <a:lnTo>
                  <a:pt x="3254" y="1389"/>
                </a:lnTo>
                <a:lnTo>
                  <a:pt x="3279" y="1364"/>
                </a:lnTo>
                <a:lnTo>
                  <a:pt x="3295" y="1347"/>
                </a:lnTo>
                <a:lnTo>
                  <a:pt x="3311" y="1321"/>
                </a:lnTo>
                <a:lnTo>
                  <a:pt x="3327" y="1296"/>
                </a:lnTo>
                <a:lnTo>
                  <a:pt x="3351" y="1279"/>
                </a:lnTo>
                <a:lnTo>
                  <a:pt x="3367" y="1254"/>
                </a:lnTo>
                <a:lnTo>
                  <a:pt x="3384" y="1237"/>
                </a:lnTo>
                <a:lnTo>
                  <a:pt x="3408" y="1203"/>
                </a:lnTo>
                <a:lnTo>
                  <a:pt x="3424" y="1186"/>
                </a:lnTo>
                <a:lnTo>
                  <a:pt x="3440" y="1160"/>
                </a:lnTo>
                <a:lnTo>
                  <a:pt x="3464" y="1144"/>
                </a:lnTo>
                <a:lnTo>
                  <a:pt x="3480" y="1118"/>
                </a:lnTo>
                <a:lnTo>
                  <a:pt x="3497" y="1101"/>
                </a:lnTo>
                <a:lnTo>
                  <a:pt x="3529" y="1076"/>
                </a:lnTo>
                <a:lnTo>
                  <a:pt x="3537" y="1050"/>
                </a:lnTo>
                <a:lnTo>
                  <a:pt x="3561" y="1033"/>
                </a:lnTo>
                <a:lnTo>
                  <a:pt x="3585" y="1008"/>
                </a:lnTo>
                <a:lnTo>
                  <a:pt x="3602" y="991"/>
                </a:lnTo>
                <a:lnTo>
                  <a:pt x="3618" y="974"/>
                </a:lnTo>
                <a:lnTo>
                  <a:pt x="3626" y="957"/>
                </a:lnTo>
                <a:lnTo>
                  <a:pt x="3642" y="940"/>
                </a:lnTo>
                <a:lnTo>
                  <a:pt x="3658" y="923"/>
                </a:lnTo>
                <a:lnTo>
                  <a:pt x="3682" y="889"/>
                </a:lnTo>
                <a:lnTo>
                  <a:pt x="3698" y="872"/>
                </a:lnTo>
                <a:lnTo>
                  <a:pt x="3731" y="847"/>
                </a:lnTo>
                <a:lnTo>
                  <a:pt x="3739" y="822"/>
                </a:lnTo>
                <a:lnTo>
                  <a:pt x="3763" y="805"/>
                </a:lnTo>
                <a:lnTo>
                  <a:pt x="3779" y="788"/>
                </a:lnTo>
                <a:lnTo>
                  <a:pt x="3795" y="762"/>
                </a:lnTo>
                <a:lnTo>
                  <a:pt x="3811" y="737"/>
                </a:lnTo>
                <a:lnTo>
                  <a:pt x="3820" y="720"/>
                </a:lnTo>
                <a:lnTo>
                  <a:pt x="3836" y="703"/>
                </a:lnTo>
                <a:lnTo>
                  <a:pt x="3860" y="686"/>
                </a:lnTo>
                <a:lnTo>
                  <a:pt x="3868" y="661"/>
                </a:lnTo>
                <a:lnTo>
                  <a:pt x="3884" y="652"/>
                </a:lnTo>
                <a:lnTo>
                  <a:pt x="3900" y="635"/>
                </a:lnTo>
                <a:lnTo>
                  <a:pt x="3916" y="618"/>
                </a:lnTo>
                <a:lnTo>
                  <a:pt x="3925" y="601"/>
                </a:lnTo>
                <a:lnTo>
                  <a:pt x="3941" y="584"/>
                </a:lnTo>
                <a:lnTo>
                  <a:pt x="3957" y="559"/>
                </a:lnTo>
                <a:lnTo>
                  <a:pt x="3965" y="542"/>
                </a:lnTo>
                <a:lnTo>
                  <a:pt x="3981" y="534"/>
                </a:lnTo>
                <a:lnTo>
                  <a:pt x="3989" y="517"/>
                </a:lnTo>
                <a:lnTo>
                  <a:pt x="4005" y="508"/>
                </a:lnTo>
                <a:lnTo>
                  <a:pt x="4013" y="491"/>
                </a:lnTo>
                <a:lnTo>
                  <a:pt x="4030" y="466"/>
                </a:lnTo>
                <a:lnTo>
                  <a:pt x="4046" y="440"/>
                </a:lnTo>
                <a:lnTo>
                  <a:pt x="4062" y="415"/>
                </a:lnTo>
                <a:lnTo>
                  <a:pt x="4070" y="390"/>
                </a:lnTo>
                <a:lnTo>
                  <a:pt x="4078" y="373"/>
                </a:lnTo>
                <a:lnTo>
                  <a:pt x="4086" y="347"/>
                </a:lnTo>
                <a:lnTo>
                  <a:pt x="4102" y="330"/>
                </a:lnTo>
                <a:lnTo>
                  <a:pt x="4118" y="288"/>
                </a:lnTo>
                <a:lnTo>
                  <a:pt x="4143" y="271"/>
                </a:lnTo>
                <a:lnTo>
                  <a:pt x="4151" y="237"/>
                </a:lnTo>
                <a:lnTo>
                  <a:pt x="4159" y="220"/>
                </a:lnTo>
                <a:lnTo>
                  <a:pt x="4167" y="203"/>
                </a:lnTo>
                <a:lnTo>
                  <a:pt x="4175" y="186"/>
                </a:lnTo>
                <a:lnTo>
                  <a:pt x="4175" y="169"/>
                </a:lnTo>
                <a:lnTo>
                  <a:pt x="4191" y="161"/>
                </a:lnTo>
                <a:lnTo>
                  <a:pt x="4191" y="144"/>
                </a:lnTo>
                <a:lnTo>
                  <a:pt x="4199" y="127"/>
                </a:lnTo>
                <a:lnTo>
                  <a:pt x="4215" y="119"/>
                </a:lnTo>
                <a:lnTo>
                  <a:pt x="4215" y="102"/>
                </a:lnTo>
                <a:lnTo>
                  <a:pt x="4231" y="93"/>
                </a:lnTo>
                <a:lnTo>
                  <a:pt x="4239" y="76"/>
                </a:lnTo>
                <a:lnTo>
                  <a:pt x="4256" y="68"/>
                </a:lnTo>
                <a:lnTo>
                  <a:pt x="4272" y="68"/>
                </a:lnTo>
                <a:lnTo>
                  <a:pt x="4296" y="0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241880" y="2362320"/>
            <a:ext cx="2414520" cy="2846160"/>
          </a:xfrm>
          <a:custGeom>
            <a:avLst/>
            <a:gdLst/>
            <a:ahLst/>
            <a:rect l="l" t="t" r="r" b="b"/>
            <a:pathLst>
              <a:path w="1521" h="1793">
                <a:moveTo>
                  <a:pt x="88" y="1792"/>
                </a:moveTo>
                <a:lnTo>
                  <a:pt x="88" y="1776"/>
                </a:lnTo>
                <a:lnTo>
                  <a:pt x="88" y="1752"/>
                </a:lnTo>
                <a:lnTo>
                  <a:pt x="88" y="1728"/>
                </a:lnTo>
                <a:lnTo>
                  <a:pt x="88" y="1712"/>
                </a:lnTo>
                <a:lnTo>
                  <a:pt x="88" y="1696"/>
                </a:lnTo>
                <a:lnTo>
                  <a:pt x="88" y="1672"/>
                </a:lnTo>
                <a:lnTo>
                  <a:pt x="88" y="1656"/>
                </a:lnTo>
                <a:lnTo>
                  <a:pt x="88" y="1632"/>
                </a:lnTo>
                <a:lnTo>
                  <a:pt x="88" y="1600"/>
                </a:lnTo>
                <a:lnTo>
                  <a:pt x="88" y="1568"/>
                </a:lnTo>
                <a:lnTo>
                  <a:pt x="88" y="1552"/>
                </a:lnTo>
                <a:lnTo>
                  <a:pt x="96" y="1536"/>
                </a:lnTo>
                <a:lnTo>
                  <a:pt x="96" y="1512"/>
                </a:lnTo>
                <a:lnTo>
                  <a:pt x="96" y="1496"/>
                </a:lnTo>
                <a:lnTo>
                  <a:pt x="96" y="1480"/>
                </a:lnTo>
                <a:lnTo>
                  <a:pt x="96" y="1464"/>
                </a:lnTo>
                <a:lnTo>
                  <a:pt x="96" y="1440"/>
                </a:lnTo>
                <a:lnTo>
                  <a:pt x="96" y="1424"/>
                </a:lnTo>
                <a:lnTo>
                  <a:pt x="96" y="1408"/>
                </a:lnTo>
                <a:lnTo>
                  <a:pt x="96" y="1392"/>
                </a:lnTo>
                <a:lnTo>
                  <a:pt x="88" y="1368"/>
                </a:lnTo>
                <a:lnTo>
                  <a:pt x="88" y="1344"/>
                </a:lnTo>
                <a:lnTo>
                  <a:pt x="80" y="1320"/>
                </a:lnTo>
                <a:lnTo>
                  <a:pt x="80" y="1288"/>
                </a:lnTo>
                <a:lnTo>
                  <a:pt x="80" y="1256"/>
                </a:lnTo>
                <a:lnTo>
                  <a:pt x="72" y="1224"/>
                </a:lnTo>
                <a:lnTo>
                  <a:pt x="64" y="1192"/>
                </a:lnTo>
                <a:lnTo>
                  <a:pt x="64" y="1160"/>
                </a:lnTo>
                <a:lnTo>
                  <a:pt x="56" y="1128"/>
                </a:lnTo>
                <a:lnTo>
                  <a:pt x="48" y="1096"/>
                </a:lnTo>
                <a:lnTo>
                  <a:pt x="48" y="1072"/>
                </a:lnTo>
                <a:lnTo>
                  <a:pt x="40" y="1040"/>
                </a:lnTo>
                <a:lnTo>
                  <a:pt x="32" y="1016"/>
                </a:lnTo>
                <a:lnTo>
                  <a:pt x="24" y="992"/>
                </a:lnTo>
                <a:lnTo>
                  <a:pt x="24" y="968"/>
                </a:lnTo>
                <a:lnTo>
                  <a:pt x="24" y="944"/>
                </a:lnTo>
                <a:lnTo>
                  <a:pt x="16" y="920"/>
                </a:lnTo>
                <a:lnTo>
                  <a:pt x="16" y="904"/>
                </a:lnTo>
                <a:lnTo>
                  <a:pt x="8" y="880"/>
                </a:lnTo>
                <a:lnTo>
                  <a:pt x="8" y="864"/>
                </a:lnTo>
                <a:lnTo>
                  <a:pt x="8" y="848"/>
                </a:lnTo>
                <a:lnTo>
                  <a:pt x="8" y="824"/>
                </a:lnTo>
                <a:lnTo>
                  <a:pt x="0" y="808"/>
                </a:lnTo>
                <a:lnTo>
                  <a:pt x="0" y="792"/>
                </a:lnTo>
                <a:lnTo>
                  <a:pt x="0" y="776"/>
                </a:lnTo>
                <a:lnTo>
                  <a:pt x="0" y="760"/>
                </a:lnTo>
                <a:lnTo>
                  <a:pt x="0" y="736"/>
                </a:lnTo>
                <a:lnTo>
                  <a:pt x="0" y="720"/>
                </a:lnTo>
                <a:lnTo>
                  <a:pt x="0" y="704"/>
                </a:lnTo>
                <a:lnTo>
                  <a:pt x="0" y="680"/>
                </a:lnTo>
                <a:lnTo>
                  <a:pt x="0" y="664"/>
                </a:lnTo>
                <a:lnTo>
                  <a:pt x="0" y="640"/>
                </a:lnTo>
                <a:lnTo>
                  <a:pt x="0" y="624"/>
                </a:lnTo>
                <a:lnTo>
                  <a:pt x="0" y="608"/>
                </a:lnTo>
                <a:lnTo>
                  <a:pt x="0" y="584"/>
                </a:lnTo>
                <a:lnTo>
                  <a:pt x="0" y="568"/>
                </a:lnTo>
                <a:lnTo>
                  <a:pt x="0" y="552"/>
                </a:lnTo>
                <a:lnTo>
                  <a:pt x="0" y="536"/>
                </a:lnTo>
                <a:lnTo>
                  <a:pt x="8" y="512"/>
                </a:lnTo>
                <a:lnTo>
                  <a:pt x="16" y="488"/>
                </a:lnTo>
                <a:lnTo>
                  <a:pt x="16" y="472"/>
                </a:lnTo>
                <a:lnTo>
                  <a:pt x="16" y="456"/>
                </a:lnTo>
                <a:lnTo>
                  <a:pt x="24" y="432"/>
                </a:lnTo>
                <a:lnTo>
                  <a:pt x="32" y="416"/>
                </a:lnTo>
                <a:lnTo>
                  <a:pt x="32" y="400"/>
                </a:lnTo>
                <a:lnTo>
                  <a:pt x="32" y="384"/>
                </a:lnTo>
                <a:lnTo>
                  <a:pt x="48" y="368"/>
                </a:lnTo>
                <a:lnTo>
                  <a:pt x="48" y="352"/>
                </a:lnTo>
                <a:lnTo>
                  <a:pt x="56" y="336"/>
                </a:lnTo>
                <a:lnTo>
                  <a:pt x="64" y="320"/>
                </a:lnTo>
                <a:lnTo>
                  <a:pt x="72" y="296"/>
                </a:lnTo>
                <a:lnTo>
                  <a:pt x="88" y="272"/>
                </a:lnTo>
                <a:lnTo>
                  <a:pt x="104" y="248"/>
                </a:lnTo>
                <a:lnTo>
                  <a:pt x="120" y="232"/>
                </a:lnTo>
                <a:lnTo>
                  <a:pt x="136" y="216"/>
                </a:lnTo>
                <a:lnTo>
                  <a:pt x="152" y="200"/>
                </a:lnTo>
                <a:lnTo>
                  <a:pt x="168" y="184"/>
                </a:lnTo>
                <a:lnTo>
                  <a:pt x="176" y="168"/>
                </a:lnTo>
                <a:lnTo>
                  <a:pt x="192" y="168"/>
                </a:lnTo>
                <a:lnTo>
                  <a:pt x="200" y="152"/>
                </a:lnTo>
                <a:lnTo>
                  <a:pt x="216" y="144"/>
                </a:lnTo>
                <a:lnTo>
                  <a:pt x="232" y="128"/>
                </a:lnTo>
                <a:lnTo>
                  <a:pt x="248" y="120"/>
                </a:lnTo>
                <a:lnTo>
                  <a:pt x="264" y="112"/>
                </a:lnTo>
                <a:lnTo>
                  <a:pt x="280" y="112"/>
                </a:lnTo>
                <a:lnTo>
                  <a:pt x="296" y="96"/>
                </a:lnTo>
                <a:lnTo>
                  <a:pt x="312" y="88"/>
                </a:lnTo>
                <a:lnTo>
                  <a:pt x="328" y="88"/>
                </a:lnTo>
                <a:lnTo>
                  <a:pt x="352" y="72"/>
                </a:lnTo>
                <a:lnTo>
                  <a:pt x="368" y="64"/>
                </a:lnTo>
                <a:lnTo>
                  <a:pt x="392" y="64"/>
                </a:lnTo>
                <a:lnTo>
                  <a:pt x="416" y="56"/>
                </a:lnTo>
                <a:lnTo>
                  <a:pt x="432" y="56"/>
                </a:lnTo>
                <a:lnTo>
                  <a:pt x="456" y="48"/>
                </a:lnTo>
                <a:lnTo>
                  <a:pt x="472" y="40"/>
                </a:lnTo>
                <a:lnTo>
                  <a:pt x="496" y="40"/>
                </a:lnTo>
                <a:lnTo>
                  <a:pt x="512" y="40"/>
                </a:lnTo>
                <a:lnTo>
                  <a:pt x="536" y="40"/>
                </a:lnTo>
                <a:lnTo>
                  <a:pt x="552" y="32"/>
                </a:lnTo>
                <a:lnTo>
                  <a:pt x="576" y="32"/>
                </a:lnTo>
                <a:lnTo>
                  <a:pt x="592" y="24"/>
                </a:lnTo>
                <a:lnTo>
                  <a:pt x="608" y="24"/>
                </a:lnTo>
                <a:lnTo>
                  <a:pt x="632" y="24"/>
                </a:lnTo>
                <a:lnTo>
                  <a:pt x="656" y="24"/>
                </a:lnTo>
                <a:lnTo>
                  <a:pt x="680" y="24"/>
                </a:lnTo>
                <a:lnTo>
                  <a:pt x="696" y="16"/>
                </a:lnTo>
                <a:lnTo>
                  <a:pt x="712" y="16"/>
                </a:lnTo>
                <a:lnTo>
                  <a:pt x="728" y="8"/>
                </a:lnTo>
                <a:lnTo>
                  <a:pt x="744" y="8"/>
                </a:lnTo>
                <a:lnTo>
                  <a:pt x="768" y="8"/>
                </a:lnTo>
                <a:lnTo>
                  <a:pt x="784" y="8"/>
                </a:lnTo>
                <a:lnTo>
                  <a:pt x="800" y="8"/>
                </a:lnTo>
                <a:lnTo>
                  <a:pt x="816" y="8"/>
                </a:lnTo>
                <a:lnTo>
                  <a:pt x="832" y="8"/>
                </a:lnTo>
                <a:lnTo>
                  <a:pt x="848" y="0"/>
                </a:lnTo>
                <a:lnTo>
                  <a:pt x="864" y="0"/>
                </a:lnTo>
                <a:lnTo>
                  <a:pt x="880" y="0"/>
                </a:lnTo>
                <a:lnTo>
                  <a:pt x="896" y="0"/>
                </a:lnTo>
                <a:lnTo>
                  <a:pt x="928" y="0"/>
                </a:lnTo>
                <a:lnTo>
                  <a:pt x="952" y="0"/>
                </a:lnTo>
                <a:lnTo>
                  <a:pt x="968" y="0"/>
                </a:lnTo>
                <a:lnTo>
                  <a:pt x="992" y="0"/>
                </a:lnTo>
                <a:lnTo>
                  <a:pt x="1016" y="8"/>
                </a:lnTo>
                <a:lnTo>
                  <a:pt x="1032" y="8"/>
                </a:lnTo>
                <a:lnTo>
                  <a:pt x="1048" y="8"/>
                </a:lnTo>
                <a:lnTo>
                  <a:pt x="1064" y="8"/>
                </a:lnTo>
                <a:lnTo>
                  <a:pt x="1080" y="8"/>
                </a:lnTo>
                <a:lnTo>
                  <a:pt x="1096" y="16"/>
                </a:lnTo>
                <a:lnTo>
                  <a:pt x="1112" y="16"/>
                </a:lnTo>
                <a:lnTo>
                  <a:pt x="1128" y="16"/>
                </a:lnTo>
                <a:lnTo>
                  <a:pt x="1152" y="16"/>
                </a:lnTo>
                <a:lnTo>
                  <a:pt x="1168" y="24"/>
                </a:lnTo>
                <a:lnTo>
                  <a:pt x="1184" y="24"/>
                </a:lnTo>
                <a:lnTo>
                  <a:pt x="1200" y="32"/>
                </a:lnTo>
                <a:lnTo>
                  <a:pt x="1216" y="32"/>
                </a:lnTo>
                <a:lnTo>
                  <a:pt x="1232" y="32"/>
                </a:lnTo>
                <a:lnTo>
                  <a:pt x="1248" y="40"/>
                </a:lnTo>
                <a:lnTo>
                  <a:pt x="1264" y="40"/>
                </a:lnTo>
                <a:lnTo>
                  <a:pt x="1288" y="48"/>
                </a:lnTo>
                <a:lnTo>
                  <a:pt x="1304" y="56"/>
                </a:lnTo>
                <a:lnTo>
                  <a:pt x="1320" y="56"/>
                </a:lnTo>
                <a:lnTo>
                  <a:pt x="1336" y="64"/>
                </a:lnTo>
                <a:lnTo>
                  <a:pt x="1352" y="64"/>
                </a:lnTo>
                <a:lnTo>
                  <a:pt x="1368" y="72"/>
                </a:lnTo>
                <a:lnTo>
                  <a:pt x="1384" y="72"/>
                </a:lnTo>
                <a:lnTo>
                  <a:pt x="1400" y="80"/>
                </a:lnTo>
                <a:lnTo>
                  <a:pt x="1416" y="80"/>
                </a:lnTo>
                <a:lnTo>
                  <a:pt x="1432" y="80"/>
                </a:lnTo>
                <a:lnTo>
                  <a:pt x="1448" y="88"/>
                </a:lnTo>
                <a:lnTo>
                  <a:pt x="1464" y="88"/>
                </a:lnTo>
                <a:lnTo>
                  <a:pt x="1480" y="88"/>
                </a:lnTo>
                <a:lnTo>
                  <a:pt x="1496" y="88"/>
                </a:lnTo>
                <a:lnTo>
                  <a:pt x="1512" y="80"/>
                </a:lnTo>
                <a:lnTo>
                  <a:pt x="1520" y="80"/>
                </a:lnTo>
                <a:lnTo>
                  <a:pt x="1520" y="80"/>
                </a:lnTo>
                <a:lnTo>
                  <a:pt x="1520" y="96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6139800" y="2586240"/>
            <a:ext cx="57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 rangement : Le chemin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463680" y="1073160"/>
            <a:ext cx="4865400" cy="481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360680" y="2400480"/>
            <a:ext cx="52200" cy="257796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464160" y="432288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92280" y="5632560"/>
            <a:ext cx="10476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92280" y="56833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76236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76236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935840" y="5632560"/>
            <a:ext cx="10656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935840" y="5683320"/>
            <a:ext cx="24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935840" y="4394160"/>
            <a:ext cx="106560" cy="9864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935840" y="4443480"/>
            <a:ext cx="24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319640" y="4394160"/>
            <a:ext cx="106200" cy="9864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319640" y="444348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4913280" y="2325600"/>
            <a:ext cx="258840" cy="106560"/>
            <a:chOff x="4913280" y="2325600"/>
            <a:chExt cx="258840" cy="106560"/>
          </a:xfrm>
        </p:grpSpPr>
        <p:sp>
          <p:nvSpPr>
            <p:cNvPr id="1178" name=""/>
            <p:cNvSpPr/>
            <p:nvPr/>
          </p:nvSpPr>
          <p:spPr>
            <a:xfrm>
              <a:off x="4913280" y="2325600"/>
              <a:ext cx="111240" cy="10656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62680" y="2376360"/>
              <a:ext cx="10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713412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99120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129440" y="4381560"/>
            <a:ext cx="136440" cy="12852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981840" y="4443480"/>
            <a:ext cx="2840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40040" y="1843200"/>
            <a:ext cx="136800" cy="12852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87760" y="1905120"/>
            <a:ext cx="2840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976640" y="232560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43640" y="1081080"/>
            <a:ext cx="3340080" cy="480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655720" y="3214800"/>
            <a:ext cx="1495440" cy="1155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054240" y="5035680"/>
            <a:ext cx="158760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486240" y="1187280"/>
            <a:ext cx="149868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697120" y="3340080"/>
            <a:ext cx="1524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ô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081240" y="4989600"/>
            <a:ext cx="1559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609920" y="2335320"/>
            <a:ext cx="361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958680" y="3752640"/>
            <a:ext cx="1676520" cy="19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3448080" y="4349880"/>
            <a:ext cx="4749840" cy="135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4133880" y="4070520"/>
            <a:ext cx="457200" cy="40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 flipV="1">
            <a:off x="4133520" y="3447720"/>
            <a:ext cx="4102200" cy="100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333600" y="2419200"/>
            <a:ext cx="1866960" cy="77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952560" y="2451240"/>
            <a:ext cx="6821280" cy="3659040"/>
          </a:xfrm>
          <a:custGeom>
            <a:avLst/>
            <a:gdLst/>
            <a:ahLst/>
            <a:rect l="l" t="t" r="r" b="b"/>
            <a:pathLst>
              <a:path w="4297" h="2305">
                <a:moveTo>
                  <a:pt x="0" y="0"/>
                </a:moveTo>
                <a:lnTo>
                  <a:pt x="8" y="25"/>
                </a:lnTo>
                <a:lnTo>
                  <a:pt x="8" y="42"/>
                </a:lnTo>
                <a:lnTo>
                  <a:pt x="8" y="59"/>
                </a:lnTo>
                <a:lnTo>
                  <a:pt x="16" y="76"/>
                </a:lnTo>
                <a:lnTo>
                  <a:pt x="16" y="93"/>
                </a:lnTo>
                <a:lnTo>
                  <a:pt x="24" y="110"/>
                </a:lnTo>
                <a:lnTo>
                  <a:pt x="24" y="127"/>
                </a:lnTo>
                <a:lnTo>
                  <a:pt x="32" y="144"/>
                </a:lnTo>
                <a:lnTo>
                  <a:pt x="32" y="161"/>
                </a:lnTo>
                <a:lnTo>
                  <a:pt x="40" y="178"/>
                </a:lnTo>
                <a:lnTo>
                  <a:pt x="40" y="195"/>
                </a:lnTo>
                <a:lnTo>
                  <a:pt x="48" y="212"/>
                </a:lnTo>
                <a:lnTo>
                  <a:pt x="48" y="229"/>
                </a:lnTo>
                <a:lnTo>
                  <a:pt x="48" y="246"/>
                </a:lnTo>
                <a:lnTo>
                  <a:pt x="48" y="263"/>
                </a:lnTo>
                <a:lnTo>
                  <a:pt x="48" y="280"/>
                </a:lnTo>
                <a:lnTo>
                  <a:pt x="57" y="305"/>
                </a:lnTo>
                <a:lnTo>
                  <a:pt x="57" y="322"/>
                </a:lnTo>
                <a:lnTo>
                  <a:pt x="65" y="347"/>
                </a:lnTo>
                <a:lnTo>
                  <a:pt x="65" y="364"/>
                </a:lnTo>
                <a:lnTo>
                  <a:pt x="65" y="390"/>
                </a:lnTo>
                <a:lnTo>
                  <a:pt x="65" y="407"/>
                </a:lnTo>
                <a:lnTo>
                  <a:pt x="65" y="432"/>
                </a:lnTo>
                <a:lnTo>
                  <a:pt x="73" y="457"/>
                </a:lnTo>
                <a:lnTo>
                  <a:pt x="73" y="474"/>
                </a:lnTo>
                <a:lnTo>
                  <a:pt x="81" y="500"/>
                </a:lnTo>
                <a:lnTo>
                  <a:pt x="89" y="525"/>
                </a:lnTo>
                <a:lnTo>
                  <a:pt x="89" y="542"/>
                </a:lnTo>
                <a:lnTo>
                  <a:pt x="97" y="568"/>
                </a:lnTo>
                <a:lnTo>
                  <a:pt x="105" y="593"/>
                </a:lnTo>
                <a:lnTo>
                  <a:pt x="113" y="627"/>
                </a:lnTo>
                <a:lnTo>
                  <a:pt x="113" y="652"/>
                </a:lnTo>
                <a:lnTo>
                  <a:pt x="121" y="678"/>
                </a:lnTo>
                <a:lnTo>
                  <a:pt x="129" y="695"/>
                </a:lnTo>
                <a:lnTo>
                  <a:pt x="137" y="728"/>
                </a:lnTo>
                <a:lnTo>
                  <a:pt x="137" y="745"/>
                </a:lnTo>
                <a:lnTo>
                  <a:pt x="145" y="771"/>
                </a:lnTo>
                <a:lnTo>
                  <a:pt x="153" y="796"/>
                </a:lnTo>
                <a:lnTo>
                  <a:pt x="162" y="839"/>
                </a:lnTo>
                <a:lnTo>
                  <a:pt x="170" y="864"/>
                </a:lnTo>
                <a:lnTo>
                  <a:pt x="178" y="889"/>
                </a:lnTo>
                <a:lnTo>
                  <a:pt x="186" y="915"/>
                </a:lnTo>
                <a:lnTo>
                  <a:pt x="186" y="940"/>
                </a:lnTo>
                <a:lnTo>
                  <a:pt x="194" y="966"/>
                </a:lnTo>
                <a:lnTo>
                  <a:pt x="210" y="1000"/>
                </a:lnTo>
                <a:lnTo>
                  <a:pt x="218" y="1025"/>
                </a:lnTo>
                <a:lnTo>
                  <a:pt x="218" y="1059"/>
                </a:lnTo>
                <a:lnTo>
                  <a:pt x="226" y="1084"/>
                </a:lnTo>
                <a:lnTo>
                  <a:pt x="234" y="1118"/>
                </a:lnTo>
                <a:lnTo>
                  <a:pt x="242" y="1144"/>
                </a:lnTo>
                <a:lnTo>
                  <a:pt x="258" y="1160"/>
                </a:lnTo>
                <a:lnTo>
                  <a:pt x="266" y="1186"/>
                </a:lnTo>
                <a:lnTo>
                  <a:pt x="275" y="1211"/>
                </a:lnTo>
                <a:lnTo>
                  <a:pt x="291" y="1237"/>
                </a:lnTo>
                <a:lnTo>
                  <a:pt x="299" y="1254"/>
                </a:lnTo>
                <a:lnTo>
                  <a:pt x="307" y="1271"/>
                </a:lnTo>
                <a:lnTo>
                  <a:pt x="331" y="1296"/>
                </a:lnTo>
                <a:lnTo>
                  <a:pt x="339" y="1321"/>
                </a:lnTo>
                <a:lnTo>
                  <a:pt x="355" y="1347"/>
                </a:lnTo>
                <a:lnTo>
                  <a:pt x="371" y="1364"/>
                </a:lnTo>
                <a:lnTo>
                  <a:pt x="371" y="1389"/>
                </a:lnTo>
                <a:lnTo>
                  <a:pt x="388" y="1398"/>
                </a:lnTo>
                <a:lnTo>
                  <a:pt x="404" y="1415"/>
                </a:lnTo>
                <a:lnTo>
                  <a:pt x="420" y="1432"/>
                </a:lnTo>
                <a:lnTo>
                  <a:pt x="436" y="1448"/>
                </a:lnTo>
                <a:lnTo>
                  <a:pt x="452" y="1465"/>
                </a:lnTo>
                <a:lnTo>
                  <a:pt x="468" y="1482"/>
                </a:lnTo>
                <a:lnTo>
                  <a:pt x="476" y="1499"/>
                </a:lnTo>
                <a:lnTo>
                  <a:pt x="493" y="1516"/>
                </a:lnTo>
                <a:lnTo>
                  <a:pt x="509" y="1533"/>
                </a:lnTo>
                <a:lnTo>
                  <a:pt x="525" y="1542"/>
                </a:lnTo>
                <a:lnTo>
                  <a:pt x="541" y="1559"/>
                </a:lnTo>
                <a:lnTo>
                  <a:pt x="557" y="1584"/>
                </a:lnTo>
                <a:lnTo>
                  <a:pt x="581" y="1592"/>
                </a:lnTo>
                <a:lnTo>
                  <a:pt x="606" y="1609"/>
                </a:lnTo>
                <a:lnTo>
                  <a:pt x="630" y="1626"/>
                </a:lnTo>
                <a:lnTo>
                  <a:pt x="638" y="1643"/>
                </a:lnTo>
                <a:lnTo>
                  <a:pt x="654" y="1643"/>
                </a:lnTo>
                <a:lnTo>
                  <a:pt x="670" y="1660"/>
                </a:lnTo>
                <a:lnTo>
                  <a:pt x="703" y="1686"/>
                </a:lnTo>
                <a:lnTo>
                  <a:pt x="719" y="1703"/>
                </a:lnTo>
                <a:lnTo>
                  <a:pt x="735" y="1711"/>
                </a:lnTo>
                <a:lnTo>
                  <a:pt x="751" y="1728"/>
                </a:lnTo>
                <a:lnTo>
                  <a:pt x="775" y="1745"/>
                </a:lnTo>
                <a:lnTo>
                  <a:pt x="783" y="1762"/>
                </a:lnTo>
                <a:lnTo>
                  <a:pt x="808" y="1770"/>
                </a:lnTo>
                <a:lnTo>
                  <a:pt x="824" y="1787"/>
                </a:lnTo>
                <a:lnTo>
                  <a:pt x="840" y="1796"/>
                </a:lnTo>
                <a:lnTo>
                  <a:pt x="856" y="1804"/>
                </a:lnTo>
                <a:lnTo>
                  <a:pt x="880" y="1821"/>
                </a:lnTo>
                <a:lnTo>
                  <a:pt x="896" y="1830"/>
                </a:lnTo>
                <a:lnTo>
                  <a:pt x="921" y="1847"/>
                </a:lnTo>
                <a:lnTo>
                  <a:pt x="945" y="1855"/>
                </a:lnTo>
                <a:lnTo>
                  <a:pt x="953" y="1872"/>
                </a:lnTo>
                <a:lnTo>
                  <a:pt x="985" y="1880"/>
                </a:lnTo>
                <a:lnTo>
                  <a:pt x="1001" y="1897"/>
                </a:lnTo>
                <a:lnTo>
                  <a:pt x="1026" y="1906"/>
                </a:lnTo>
                <a:lnTo>
                  <a:pt x="1042" y="1914"/>
                </a:lnTo>
                <a:lnTo>
                  <a:pt x="1066" y="1931"/>
                </a:lnTo>
                <a:lnTo>
                  <a:pt x="1082" y="1948"/>
                </a:lnTo>
                <a:lnTo>
                  <a:pt x="1098" y="1957"/>
                </a:lnTo>
                <a:lnTo>
                  <a:pt x="1122" y="1965"/>
                </a:lnTo>
                <a:lnTo>
                  <a:pt x="1155" y="1974"/>
                </a:lnTo>
                <a:lnTo>
                  <a:pt x="1179" y="1991"/>
                </a:lnTo>
                <a:lnTo>
                  <a:pt x="1227" y="2016"/>
                </a:lnTo>
                <a:lnTo>
                  <a:pt x="1252" y="2033"/>
                </a:lnTo>
                <a:lnTo>
                  <a:pt x="1284" y="2050"/>
                </a:lnTo>
                <a:lnTo>
                  <a:pt x="1300" y="2058"/>
                </a:lnTo>
                <a:lnTo>
                  <a:pt x="1324" y="2067"/>
                </a:lnTo>
                <a:lnTo>
                  <a:pt x="1349" y="2084"/>
                </a:lnTo>
                <a:lnTo>
                  <a:pt x="1373" y="2092"/>
                </a:lnTo>
                <a:lnTo>
                  <a:pt x="1397" y="2109"/>
                </a:lnTo>
                <a:lnTo>
                  <a:pt x="1429" y="2118"/>
                </a:lnTo>
                <a:lnTo>
                  <a:pt x="1462" y="2135"/>
                </a:lnTo>
                <a:lnTo>
                  <a:pt x="1494" y="2152"/>
                </a:lnTo>
                <a:lnTo>
                  <a:pt x="1526" y="2160"/>
                </a:lnTo>
                <a:lnTo>
                  <a:pt x="1559" y="2177"/>
                </a:lnTo>
                <a:lnTo>
                  <a:pt x="1591" y="2185"/>
                </a:lnTo>
                <a:lnTo>
                  <a:pt x="1623" y="2202"/>
                </a:lnTo>
                <a:lnTo>
                  <a:pt x="1655" y="2211"/>
                </a:lnTo>
                <a:lnTo>
                  <a:pt x="1688" y="2228"/>
                </a:lnTo>
                <a:lnTo>
                  <a:pt x="1720" y="2236"/>
                </a:lnTo>
                <a:lnTo>
                  <a:pt x="1744" y="2245"/>
                </a:lnTo>
                <a:lnTo>
                  <a:pt x="1777" y="2262"/>
                </a:lnTo>
                <a:lnTo>
                  <a:pt x="1817" y="2270"/>
                </a:lnTo>
                <a:lnTo>
                  <a:pt x="1841" y="2279"/>
                </a:lnTo>
                <a:lnTo>
                  <a:pt x="1865" y="2287"/>
                </a:lnTo>
                <a:lnTo>
                  <a:pt x="1898" y="2287"/>
                </a:lnTo>
                <a:lnTo>
                  <a:pt x="1930" y="2296"/>
                </a:lnTo>
                <a:lnTo>
                  <a:pt x="1954" y="2296"/>
                </a:lnTo>
                <a:lnTo>
                  <a:pt x="1995" y="2304"/>
                </a:lnTo>
                <a:lnTo>
                  <a:pt x="2019" y="2304"/>
                </a:lnTo>
                <a:lnTo>
                  <a:pt x="2051" y="2304"/>
                </a:lnTo>
                <a:lnTo>
                  <a:pt x="2083" y="2304"/>
                </a:lnTo>
                <a:lnTo>
                  <a:pt x="2108" y="2304"/>
                </a:lnTo>
                <a:lnTo>
                  <a:pt x="2132" y="2304"/>
                </a:lnTo>
                <a:lnTo>
                  <a:pt x="2164" y="2296"/>
                </a:lnTo>
                <a:lnTo>
                  <a:pt x="2188" y="2296"/>
                </a:lnTo>
                <a:lnTo>
                  <a:pt x="2213" y="2287"/>
                </a:lnTo>
                <a:lnTo>
                  <a:pt x="2237" y="2279"/>
                </a:lnTo>
                <a:lnTo>
                  <a:pt x="2261" y="2270"/>
                </a:lnTo>
                <a:lnTo>
                  <a:pt x="2285" y="2270"/>
                </a:lnTo>
                <a:lnTo>
                  <a:pt x="2310" y="2262"/>
                </a:lnTo>
                <a:lnTo>
                  <a:pt x="2334" y="2253"/>
                </a:lnTo>
                <a:lnTo>
                  <a:pt x="2358" y="2245"/>
                </a:lnTo>
                <a:lnTo>
                  <a:pt x="2374" y="2236"/>
                </a:lnTo>
                <a:lnTo>
                  <a:pt x="2398" y="2228"/>
                </a:lnTo>
                <a:lnTo>
                  <a:pt x="2423" y="2219"/>
                </a:lnTo>
                <a:lnTo>
                  <a:pt x="2447" y="2211"/>
                </a:lnTo>
                <a:lnTo>
                  <a:pt x="2463" y="2202"/>
                </a:lnTo>
                <a:lnTo>
                  <a:pt x="2487" y="2194"/>
                </a:lnTo>
                <a:lnTo>
                  <a:pt x="2511" y="2185"/>
                </a:lnTo>
                <a:lnTo>
                  <a:pt x="2544" y="2168"/>
                </a:lnTo>
                <a:lnTo>
                  <a:pt x="2568" y="2152"/>
                </a:lnTo>
                <a:lnTo>
                  <a:pt x="2600" y="2126"/>
                </a:lnTo>
                <a:lnTo>
                  <a:pt x="2624" y="2118"/>
                </a:lnTo>
                <a:lnTo>
                  <a:pt x="2641" y="2092"/>
                </a:lnTo>
                <a:lnTo>
                  <a:pt x="2665" y="2075"/>
                </a:lnTo>
                <a:lnTo>
                  <a:pt x="2689" y="2058"/>
                </a:lnTo>
                <a:lnTo>
                  <a:pt x="2705" y="2041"/>
                </a:lnTo>
                <a:lnTo>
                  <a:pt x="2729" y="2033"/>
                </a:lnTo>
                <a:lnTo>
                  <a:pt x="2737" y="2016"/>
                </a:lnTo>
                <a:lnTo>
                  <a:pt x="2754" y="1999"/>
                </a:lnTo>
                <a:lnTo>
                  <a:pt x="2770" y="1982"/>
                </a:lnTo>
                <a:lnTo>
                  <a:pt x="2786" y="1974"/>
                </a:lnTo>
                <a:lnTo>
                  <a:pt x="2802" y="1948"/>
                </a:lnTo>
                <a:lnTo>
                  <a:pt x="2818" y="1940"/>
                </a:lnTo>
                <a:lnTo>
                  <a:pt x="2834" y="1923"/>
                </a:lnTo>
                <a:lnTo>
                  <a:pt x="2842" y="1906"/>
                </a:lnTo>
                <a:lnTo>
                  <a:pt x="2859" y="1897"/>
                </a:lnTo>
                <a:lnTo>
                  <a:pt x="2875" y="1880"/>
                </a:lnTo>
                <a:lnTo>
                  <a:pt x="2891" y="1855"/>
                </a:lnTo>
                <a:lnTo>
                  <a:pt x="2923" y="1830"/>
                </a:lnTo>
                <a:lnTo>
                  <a:pt x="2939" y="1804"/>
                </a:lnTo>
                <a:lnTo>
                  <a:pt x="2964" y="1787"/>
                </a:lnTo>
                <a:lnTo>
                  <a:pt x="2980" y="1762"/>
                </a:lnTo>
                <a:lnTo>
                  <a:pt x="2996" y="1736"/>
                </a:lnTo>
                <a:lnTo>
                  <a:pt x="3012" y="1711"/>
                </a:lnTo>
                <a:lnTo>
                  <a:pt x="3036" y="1686"/>
                </a:lnTo>
                <a:lnTo>
                  <a:pt x="3069" y="1652"/>
                </a:lnTo>
                <a:lnTo>
                  <a:pt x="3085" y="1626"/>
                </a:lnTo>
                <a:lnTo>
                  <a:pt x="3101" y="1601"/>
                </a:lnTo>
                <a:lnTo>
                  <a:pt x="3125" y="1584"/>
                </a:lnTo>
                <a:lnTo>
                  <a:pt x="3133" y="1559"/>
                </a:lnTo>
                <a:lnTo>
                  <a:pt x="3149" y="1542"/>
                </a:lnTo>
                <a:lnTo>
                  <a:pt x="3165" y="1516"/>
                </a:lnTo>
                <a:lnTo>
                  <a:pt x="3174" y="1499"/>
                </a:lnTo>
                <a:lnTo>
                  <a:pt x="3198" y="1482"/>
                </a:lnTo>
                <a:lnTo>
                  <a:pt x="3214" y="1457"/>
                </a:lnTo>
                <a:lnTo>
                  <a:pt x="3222" y="1432"/>
                </a:lnTo>
                <a:lnTo>
                  <a:pt x="3238" y="1406"/>
                </a:lnTo>
                <a:lnTo>
                  <a:pt x="3254" y="1389"/>
                </a:lnTo>
                <a:lnTo>
                  <a:pt x="3279" y="1364"/>
                </a:lnTo>
                <a:lnTo>
                  <a:pt x="3295" y="1347"/>
                </a:lnTo>
                <a:lnTo>
                  <a:pt x="3311" y="1321"/>
                </a:lnTo>
                <a:lnTo>
                  <a:pt x="3327" y="1296"/>
                </a:lnTo>
                <a:lnTo>
                  <a:pt x="3351" y="1279"/>
                </a:lnTo>
                <a:lnTo>
                  <a:pt x="3367" y="1254"/>
                </a:lnTo>
                <a:lnTo>
                  <a:pt x="3384" y="1237"/>
                </a:lnTo>
                <a:lnTo>
                  <a:pt x="3408" y="1203"/>
                </a:lnTo>
                <a:lnTo>
                  <a:pt x="3424" y="1186"/>
                </a:lnTo>
                <a:lnTo>
                  <a:pt x="3440" y="1160"/>
                </a:lnTo>
                <a:lnTo>
                  <a:pt x="3464" y="1144"/>
                </a:lnTo>
                <a:lnTo>
                  <a:pt x="3480" y="1118"/>
                </a:lnTo>
                <a:lnTo>
                  <a:pt x="3497" y="1101"/>
                </a:lnTo>
                <a:lnTo>
                  <a:pt x="3529" y="1076"/>
                </a:lnTo>
                <a:lnTo>
                  <a:pt x="3537" y="1050"/>
                </a:lnTo>
                <a:lnTo>
                  <a:pt x="3561" y="1033"/>
                </a:lnTo>
                <a:lnTo>
                  <a:pt x="3585" y="1008"/>
                </a:lnTo>
                <a:lnTo>
                  <a:pt x="3602" y="991"/>
                </a:lnTo>
                <a:lnTo>
                  <a:pt x="3618" y="974"/>
                </a:lnTo>
                <a:lnTo>
                  <a:pt x="3626" y="957"/>
                </a:lnTo>
                <a:lnTo>
                  <a:pt x="3642" y="940"/>
                </a:lnTo>
                <a:lnTo>
                  <a:pt x="3658" y="923"/>
                </a:lnTo>
                <a:lnTo>
                  <a:pt x="3682" y="889"/>
                </a:lnTo>
                <a:lnTo>
                  <a:pt x="3698" y="872"/>
                </a:lnTo>
                <a:lnTo>
                  <a:pt x="3731" y="847"/>
                </a:lnTo>
                <a:lnTo>
                  <a:pt x="3739" y="822"/>
                </a:lnTo>
                <a:lnTo>
                  <a:pt x="3763" y="805"/>
                </a:lnTo>
                <a:lnTo>
                  <a:pt x="3779" y="788"/>
                </a:lnTo>
                <a:lnTo>
                  <a:pt x="3795" y="762"/>
                </a:lnTo>
                <a:lnTo>
                  <a:pt x="3811" y="737"/>
                </a:lnTo>
                <a:lnTo>
                  <a:pt x="3820" y="720"/>
                </a:lnTo>
                <a:lnTo>
                  <a:pt x="3836" y="703"/>
                </a:lnTo>
                <a:lnTo>
                  <a:pt x="3860" y="686"/>
                </a:lnTo>
                <a:lnTo>
                  <a:pt x="3868" y="661"/>
                </a:lnTo>
                <a:lnTo>
                  <a:pt x="3884" y="652"/>
                </a:lnTo>
                <a:lnTo>
                  <a:pt x="3900" y="635"/>
                </a:lnTo>
                <a:lnTo>
                  <a:pt x="3916" y="618"/>
                </a:lnTo>
                <a:lnTo>
                  <a:pt x="3925" y="601"/>
                </a:lnTo>
                <a:lnTo>
                  <a:pt x="3941" y="584"/>
                </a:lnTo>
                <a:lnTo>
                  <a:pt x="3957" y="559"/>
                </a:lnTo>
                <a:lnTo>
                  <a:pt x="3965" y="542"/>
                </a:lnTo>
                <a:lnTo>
                  <a:pt x="3981" y="534"/>
                </a:lnTo>
                <a:lnTo>
                  <a:pt x="3989" y="517"/>
                </a:lnTo>
                <a:lnTo>
                  <a:pt x="4005" y="508"/>
                </a:lnTo>
                <a:lnTo>
                  <a:pt x="4013" y="491"/>
                </a:lnTo>
                <a:lnTo>
                  <a:pt x="4030" y="466"/>
                </a:lnTo>
                <a:lnTo>
                  <a:pt x="4046" y="440"/>
                </a:lnTo>
                <a:lnTo>
                  <a:pt x="4062" y="415"/>
                </a:lnTo>
                <a:lnTo>
                  <a:pt x="4070" y="390"/>
                </a:lnTo>
                <a:lnTo>
                  <a:pt x="4078" y="373"/>
                </a:lnTo>
                <a:lnTo>
                  <a:pt x="4086" y="347"/>
                </a:lnTo>
                <a:lnTo>
                  <a:pt x="4102" y="330"/>
                </a:lnTo>
                <a:lnTo>
                  <a:pt x="4118" y="288"/>
                </a:lnTo>
                <a:lnTo>
                  <a:pt x="4143" y="271"/>
                </a:lnTo>
                <a:lnTo>
                  <a:pt x="4151" y="237"/>
                </a:lnTo>
                <a:lnTo>
                  <a:pt x="4159" y="220"/>
                </a:lnTo>
                <a:lnTo>
                  <a:pt x="4167" y="203"/>
                </a:lnTo>
                <a:lnTo>
                  <a:pt x="4175" y="186"/>
                </a:lnTo>
                <a:lnTo>
                  <a:pt x="4175" y="169"/>
                </a:lnTo>
                <a:lnTo>
                  <a:pt x="4191" y="161"/>
                </a:lnTo>
                <a:lnTo>
                  <a:pt x="4191" y="144"/>
                </a:lnTo>
                <a:lnTo>
                  <a:pt x="4199" y="127"/>
                </a:lnTo>
                <a:lnTo>
                  <a:pt x="4215" y="119"/>
                </a:lnTo>
                <a:lnTo>
                  <a:pt x="4215" y="102"/>
                </a:lnTo>
                <a:lnTo>
                  <a:pt x="4231" y="93"/>
                </a:lnTo>
                <a:lnTo>
                  <a:pt x="4239" y="76"/>
                </a:lnTo>
                <a:lnTo>
                  <a:pt x="4256" y="68"/>
                </a:lnTo>
                <a:lnTo>
                  <a:pt x="4272" y="68"/>
                </a:lnTo>
                <a:lnTo>
                  <a:pt x="4296" y="0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241880" y="2362320"/>
            <a:ext cx="2414520" cy="2846160"/>
          </a:xfrm>
          <a:custGeom>
            <a:avLst/>
            <a:gdLst/>
            <a:ahLst/>
            <a:rect l="l" t="t" r="r" b="b"/>
            <a:pathLst>
              <a:path w="1521" h="1793">
                <a:moveTo>
                  <a:pt x="88" y="1792"/>
                </a:moveTo>
                <a:lnTo>
                  <a:pt x="88" y="1776"/>
                </a:lnTo>
                <a:lnTo>
                  <a:pt x="88" y="1752"/>
                </a:lnTo>
                <a:lnTo>
                  <a:pt x="88" y="1728"/>
                </a:lnTo>
                <a:lnTo>
                  <a:pt x="88" y="1712"/>
                </a:lnTo>
                <a:lnTo>
                  <a:pt x="88" y="1696"/>
                </a:lnTo>
                <a:lnTo>
                  <a:pt x="88" y="1672"/>
                </a:lnTo>
                <a:lnTo>
                  <a:pt x="88" y="1656"/>
                </a:lnTo>
                <a:lnTo>
                  <a:pt x="88" y="1632"/>
                </a:lnTo>
                <a:lnTo>
                  <a:pt x="88" y="1600"/>
                </a:lnTo>
                <a:lnTo>
                  <a:pt x="88" y="1568"/>
                </a:lnTo>
                <a:lnTo>
                  <a:pt x="88" y="1552"/>
                </a:lnTo>
                <a:lnTo>
                  <a:pt x="96" y="1536"/>
                </a:lnTo>
                <a:lnTo>
                  <a:pt x="96" y="1512"/>
                </a:lnTo>
                <a:lnTo>
                  <a:pt x="96" y="1496"/>
                </a:lnTo>
                <a:lnTo>
                  <a:pt x="96" y="1480"/>
                </a:lnTo>
                <a:lnTo>
                  <a:pt x="96" y="1464"/>
                </a:lnTo>
                <a:lnTo>
                  <a:pt x="96" y="1440"/>
                </a:lnTo>
                <a:lnTo>
                  <a:pt x="96" y="1424"/>
                </a:lnTo>
                <a:lnTo>
                  <a:pt x="96" y="1408"/>
                </a:lnTo>
                <a:lnTo>
                  <a:pt x="96" y="1392"/>
                </a:lnTo>
                <a:lnTo>
                  <a:pt x="88" y="1368"/>
                </a:lnTo>
                <a:lnTo>
                  <a:pt x="88" y="1344"/>
                </a:lnTo>
                <a:lnTo>
                  <a:pt x="80" y="1320"/>
                </a:lnTo>
                <a:lnTo>
                  <a:pt x="80" y="1288"/>
                </a:lnTo>
                <a:lnTo>
                  <a:pt x="80" y="1256"/>
                </a:lnTo>
                <a:lnTo>
                  <a:pt x="72" y="1224"/>
                </a:lnTo>
                <a:lnTo>
                  <a:pt x="64" y="1192"/>
                </a:lnTo>
                <a:lnTo>
                  <a:pt x="64" y="1160"/>
                </a:lnTo>
                <a:lnTo>
                  <a:pt x="56" y="1128"/>
                </a:lnTo>
                <a:lnTo>
                  <a:pt x="48" y="1096"/>
                </a:lnTo>
                <a:lnTo>
                  <a:pt x="48" y="1072"/>
                </a:lnTo>
                <a:lnTo>
                  <a:pt x="40" y="1040"/>
                </a:lnTo>
                <a:lnTo>
                  <a:pt x="32" y="1016"/>
                </a:lnTo>
                <a:lnTo>
                  <a:pt x="24" y="992"/>
                </a:lnTo>
                <a:lnTo>
                  <a:pt x="24" y="968"/>
                </a:lnTo>
                <a:lnTo>
                  <a:pt x="24" y="944"/>
                </a:lnTo>
                <a:lnTo>
                  <a:pt x="16" y="920"/>
                </a:lnTo>
                <a:lnTo>
                  <a:pt x="16" y="904"/>
                </a:lnTo>
                <a:lnTo>
                  <a:pt x="8" y="880"/>
                </a:lnTo>
                <a:lnTo>
                  <a:pt x="8" y="864"/>
                </a:lnTo>
                <a:lnTo>
                  <a:pt x="8" y="848"/>
                </a:lnTo>
                <a:lnTo>
                  <a:pt x="8" y="824"/>
                </a:lnTo>
                <a:lnTo>
                  <a:pt x="0" y="808"/>
                </a:lnTo>
                <a:lnTo>
                  <a:pt x="0" y="792"/>
                </a:lnTo>
                <a:lnTo>
                  <a:pt x="0" y="776"/>
                </a:lnTo>
                <a:lnTo>
                  <a:pt x="0" y="760"/>
                </a:lnTo>
                <a:lnTo>
                  <a:pt x="0" y="736"/>
                </a:lnTo>
                <a:lnTo>
                  <a:pt x="0" y="720"/>
                </a:lnTo>
                <a:lnTo>
                  <a:pt x="0" y="704"/>
                </a:lnTo>
                <a:lnTo>
                  <a:pt x="0" y="680"/>
                </a:lnTo>
                <a:lnTo>
                  <a:pt x="0" y="664"/>
                </a:lnTo>
                <a:lnTo>
                  <a:pt x="0" y="640"/>
                </a:lnTo>
                <a:lnTo>
                  <a:pt x="0" y="624"/>
                </a:lnTo>
                <a:lnTo>
                  <a:pt x="0" y="608"/>
                </a:lnTo>
                <a:lnTo>
                  <a:pt x="0" y="584"/>
                </a:lnTo>
                <a:lnTo>
                  <a:pt x="0" y="568"/>
                </a:lnTo>
                <a:lnTo>
                  <a:pt x="0" y="552"/>
                </a:lnTo>
                <a:lnTo>
                  <a:pt x="0" y="536"/>
                </a:lnTo>
                <a:lnTo>
                  <a:pt x="8" y="512"/>
                </a:lnTo>
                <a:lnTo>
                  <a:pt x="16" y="488"/>
                </a:lnTo>
                <a:lnTo>
                  <a:pt x="16" y="472"/>
                </a:lnTo>
                <a:lnTo>
                  <a:pt x="16" y="456"/>
                </a:lnTo>
                <a:lnTo>
                  <a:pt x="24" y="432"/>
                </a:lnTo>
                <a:lnTo>
                  <a:pt x="32" y="416"/>
                </a:lnTo>
                <a:lnTo>
                  <a:pt x="32" y="400"/>
                </a:lnTo>
                <a:lnTo>
                  <a:pt x="32" y="384"/>
                </a:lnTo>
                <a:lnTo>
                  <a:pt x="48" y="368"/>
                </a:lnTo>
                <a:lnTo>
                  <a:pt x="48" y="352"/>
                </a:lnTo>
                <a:lnTo>
                  <a:pt x="56" y="336"/>
                </a:lnTo>
                <a:lnTo>
                  <a:pt x="64" y="320"/>
                </a:lnTo>
                <a:lnTo>
                  <a:pt x="72" y="296"/>
                </a:lnTo>
                <a:lnTo>
                  <a:pt x="88" y="272"/>
                </a:lnTo>
                <a:lnTo>
                  <a:pt x="104" y="248"/>
                </a:lnTo>
                <a:lnTo>
                  <a:pt x="120" y="232"/>
                </a:lnTo>
                <a:lnTo>
                  <a:pt x="136" y="216"/>
                </a:lnTo>
                <a:lnTo>
                  <a:pt x="152" y="200"/>
                </a:lnTo>
                <a:lnTo>
                  <a:pt x="168" y="184"/>
                </a:lnTo>
                <a:lnTo>
                  <a:pt x="176" y="168"/>
                </a:lnTo>
                <a:lnTo>
                  <a:pt x="192" y="168"/>
                </a:lnTo>
                <a:lnTo>
                  <a:pt x="200" y="152"/>
                </a:lnTo>
                <a:lnTo>
                  <a:pt x="216" y="144"/>
                </a:lnTo>
                <a:lnTo>
                  <a:pt x="232" y="128"/>
                </a:lnTo>
                <a:lnTo>
                  <a:pt x="248" y="120"/>
                </a:lnTo>
                <a:lnTo>
                  <a:pt x="264" y="112"/>
                </a:lnTo>
                <a:lnTo>
                  <a:pt x="280" y="112"/>
                </a:lnTo>
                <a:lnTo>
                  <a:pt x="296" y="96"/>
                </a:lnTo>
                <a:lnTo>
                  <a:pt x="312" y="88"/>
                </a:lnTo>
                <a:lnTo>
                  <a:pt x="328" y="88"/>
                </a:lnTo>
                <a:lnTo>
                  <a:pt x="352" y="72"/>
                </a:lnTo>
                <a:lnTo>
                  <a:pt x="368" y="64"/>
                </a:lnTo>
                <a:lnTo>
                  <a:pt x="392" y="64"/>
                </a:lnTo>
                <a:lnTo>
                  <a:pt x="416" y="56"/>
                </a:lnTo>
                <a:lnTo>
                  <a:pt x="432" y="56"/>
                </a:lnTo>
                <a:lnTo>
                  <a:pt x="456" y="48"/>
                </a:lnTo>
                <a:lnTo>
                  <a:pt x="472" y="40"/>
                </a:lnTo>
                <a:lnTo>
                  <a:pt x="496" y="40"/>
                </a:lnTo>
                <a:lnTo>
                  <a:pt x="512" y="40"/>
                </a:lnTo>
                <a:lnTo>
                  <a:pt x="536" y="40"/>
                </a:lnTo>
                <a:lnTo>
                  <a:pt x="552" y="32"/>
                </a:lnTo>
                <a:lnTo>
                  <a:pt x="576" y="32"/>
                </a:lnTo>
                <a:lnTo>
                  <a:pt x="592" y="24"/>
                </a:lnTo>
                <a:lnTo>
                  <a:pt x="608" y="24"/>
                </a:lnTo>
                <a:lnTo>
                  <a:pt x="632" y="24"/>
                </a:lnTo>
                <a:lnTo>
                  <a:pt x="656" y="24"/>
                </a:lnTo>
                <a:lnTo>
                  <a:pt x="680" y="24"/>
                </a:lnTo>
                <a:lnTo>
                  <a:pt x="696" y="16"/>
                </a:lnTo>
                <a:lnTo>
                  <a:pt x="712" y="16"/>
                </a:lnTo>
                <a:lnTo>
                  <a:pt x="728" y="8"/>
                </a:lnTo>
                <a:lnTo>
                  <a:pt x="744" y="8"/>
                </a:lnTo>
                <a:lnTo>
                  <a:pt x="768" y="8"/>
                </a:lnTo>
                <a:lnTo>
                  <a:pt x="784" y="8"/>
                </a:lnTo>
                <a:lnTo>
                  <a:pt x="800" y="8"/>
                </a:lnTo>
                <a:lnTo>
                  <a:pt x="816" y="8"/>
                </a:lnTo>
                <a:lnTo>
                  <a:pt x="832" y="8"/>
                </a:lnTo>
                <a:lnTo>
                  <a:pt x="848" y="0"/>
                </a:lnTo>
                <a:lnTo>
                  <a:pt x="864" y="0"/>
                </a:lnTo>
                <a:lnTo>
                  <a:pt x="880" y="0"/>
                </a:lnTo>
                <a:lnTo>
                  <a:pt x="896" y="0"/>
                </a:lnTo>
                <a:lnTo>
                  <a:pt x="928" y="0"/>
                </a:lnTo>
                <a:lnTo>
                  <a:pt x="952" y="0"/>
                </a:lnTo>
                <a:lnTo>
                  <a:pt x="968" y="0"/>
                </a:lnTo>
                <a:lnTo>
                  <a:pt x="992" y="0"/>
                </a:lnTo>
                <a:lnTo>
                  <a:pt x="1016" y="8"/>
                </a:lnTo>
                <a:lnTo>
                  <a:pt x="1032" y="8"/>
                </a:lnTo>
                <a:lnTo>
                  <a:pt x="1048" y="8"/>
                </a:lnTo>
                <a:lnTo>
                  <a:pt x="1064" y="8"/>
                </a:lnTo>
                <a:lnTo>
                  <a:pt x="1080" y="8"/>
                </a:lnTo>
                <a:lnTo>
                  <a:pt x="1096" y="16"/>
                </a:lnTo>
                <a:lnTo>
                  <a:pt x="1112" y="16"/>
                </a:lnTo>
                <a:lnTo>
                  <a:pt x="1128" y="16"/>
                </a:lnTo>
                <a:lnTo>
                  <a:pt x="1152" y="16"/>
                </a:lnTo>
                <a:lnTo>
                  <a:pt x="1168" y="24"/>
                </a:lnTo>
                <a:lnTo>
                  <a:pt x="1184" y="24"/>
                </a:lnTo>
                <a:lnTo>
                  <a:pt x="1200" y="32"/>
                </a:lnTo>
                <a:lnTo>
                  <a:pt x="1216" y="32"/>
                </a:lnTo>
                <a:lnTo>
                  <a:pt x="1232" y="32"/>
                </a:lnTo>
                <a:lnTo>
                  <a:pt x="1248" y="40"/>
                </a:lnTo>
                <a:lnTo>
                  <a:pt x="1264" y="40"/>
                </a:lnTo>
                <a:lnTo>
                  <a:pt x="1288" y="48"/>
                </a:lnTo>
                <a:lnTo>
                  <a:pt x="1304" y="56"/>
                </a:lnTo>
                <a:lnTo>
                  <a:pt x="1320" y="56"/>
                </a:lnTo>
                <a:lnTo>
                  <a:pt x="1336" y="64"/>
                </a:lnTo>
                <a:lnTo>
                  <a:pt x="1352" y="64"/>
                </a:lnTo>
                <a:lnTo>
                  <a:pt x="1368" y="72"/>
                </a:lnTo>
                <a:lnTo>
                  <a:pt x="1384" y="72"/>
                </a:lnTo>
                <a:lnTo>
                  <a:pt x="1400" y="80"/>
                </a:lnTo>
                <a:lnTo>
                  <a:pt x="1416" y="80"/>
                </a:lnTo>
                <a:lnTo>
                  <a:pt x="1432" y="80"/>
                </a:lnTo>
                <a:lnTo>
                  <a:pt x="1448" y="88"/>
                </a:lnTo>
                <a:lnTo>
                  <a:pt x="1464" y="88"/>
                </a:lnTo>
                <a:lnTo>
                  <a:pt x="1480" y="88"/>
                </a:lnTo>
                <a:lnTo>
                  <a:pt x="1496" y="88"/>
                </a:lnTo>
                <a:lnTo>
                  <a:pt x="1512" y="80"/>
                </a:lnTo>
                <a:lnTo>
                  <a:pt x="1520" y="80"/>
                </a:lnTo>
                <a:lnTo>
                  <a:pt x="1520" y="80"/>
                </a:lnTo>
                <a:lnTo>
                  <a:pt x="1520" y="96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183800" y="4811760"/>
            <a:ext cx="774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rot="16200000">
            <a:off x="6139800" y="2586240"/>
            <a:ext cx="57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 rangement : Les signaux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Représentation sous forme d’automate d’éta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146480" y="1797120"/>
            <a:ext cx="1714680" cy="16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759920" y="2368440"/>
            <a:ext cx="45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022400" y="2267280"/>
            <a:ext cx="30855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844560" y="1746360"/>
            <a:ext cx="1714320" cy="16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344240" y="1771560"/>
            <a:ext cx="7880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rot="10800000">
            <a:off x="3264120" y="3353040"/>
            <a:ext cx="2476440" cy="234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552560" y="2127600"/>
            <a:ext cx="2629080" cy="67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09640" y="1707840"/>
            <a:ext cx="1587240" cy="346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319480" y="1176480"/>
            <a:ext cx="4254120" cy="161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959400" y="1176480"/>
            <a:ext cx="6945840" cy="120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521080" y="4552920"/>
            <a:ext cx="1714320" cy="1689120"/>
          </a:xfrm>
          <a:prstGeom prst="ellipse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719840" y="1797120"/>
            <a:ext cx="7880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19800" y="1771560"/>
            <a:ext cx="1714680" cy="16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971440" y="4572000"/>
            <a:ext cx="7880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72880" y="37749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COP=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463680" y="1073160"/>
            <a:ext cx="4865400" cy="481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3403440" y="4355640"/>
            <a:ext cx="0" cy="69084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64160" y="432288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76236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76236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" name=""/>
          <p:cNvGrpSpPr/>
          <p:nvPr/>
        </p:nvGrpSpPr>
        <p:grpSpPr>
          <a:xfrm>
            <a:off x="4900680" y="2313000"/>
            <a:ext cx="284040" cy="131760"/>
            <a:chOff x="4900680" y="2313000"/>
            <a:chExt cx="284040" cy="131760"/>
          </a:xfrm>
        </p:grpSpPr>
        <p:sp>
          <p:nvSpPr>
            <p:cNvPr id="1298" name=""/>
            <p:cNvSpPr/>
            <p:nvPr/>
          </p:nvSpPr>
          <p:spPr>
            <a:xfrm>
              <a:off x="4900680" y="2313000"/>
              <a:ext cx="13644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49720" y="237636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"/>
          <p:cNvSpPr/>
          <p:nvPr/>
        </p:nvSpPr>
        <p:spPr>
          <a:xfrm>
            <a:off x="713412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99120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129440" y="4381560"/>
            <a:ext cx="136440" cy="12852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981840" y="4443480"/>
            <a:ext cx="2840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740040" y="1843200"/>
            <a:ext cx="136800" cy="12852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87760" y="1905120"/>
            <a:ext cx="2840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976640" y="2313000"/>
            <a:ext cx="0" cy="27288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543640" y="1081080"/>
            <a:ext cx="3340080" cy="480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16200000">
            <a:off x="5732280" y="2611800"/>
            <a:ext cx="135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681280" y="3214800"/>
            <a:ext cx="1495440" cy="1155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073320" y="5054760"/>
            <a:ext cx="1549440" cy="29196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86240" y="1187280"/>
            <a:ext cx="149868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677680" y="33606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écod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184520" y="4811760"/>
            <a:ext cx="803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081240" y="4989600"/>
            <a:ext cx="1559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609920" y="2335320"/>
            <a:ext cx="361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s opérations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463680" y="1073160"/>
            <a:ext cx="4865400" cy="481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464160" y="432288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76236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76236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4900680" y="2313000"/>
            <a:ext cx="284040" cy="131760"/>
            <a:chOff x="4900680" y="2313000"/>
            <a:chExt cx="284040" cy="131760"/>
          </a:xfrm>
        </p:grpSpPr>
        <p:sp>
          <p:nvSpPr>
            <p:cNvPr id="1394" name=""/>
            <p:cNvSpPr/>
            <p:nvPr/>
          </p:nvSpPr>
          <p:spPr>
            <a:xfrm>
              <a:off x="4900680" y="2313000"/>
              <a:ext cx="13644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049720" y="237636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713412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99120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129440" y="4381560"/>
            <a:ext cx="136440" cy="12852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981840" y="4443480"/>
            <a:ext cx="2840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740040" y="1843200"/>
            <a:ext cx="136800" cy="12852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7760" y="1905120"/>
            <a:ext cx="2840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976640" y="2313000"/>
            <a:ext cx="0" cy="27288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543640" y="1081080"/>
            <a:ext cx="3340080" cy="480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rot="16200000">
            <a:off x="5732280" y="2611800"/>
            <a:ext cx="135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681280" y="3214800"/>
            <a:ext cx="1495440" cy="1155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073320" y="5054760"/>
            <a:ext cx="1549440" cy="29196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677680" y="33606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écod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184520" y="4811760"/>
            <a:ext cx="803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081240" y="4989600"/>
            <a:ext cx="1559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09920" y="2335320"/>
            <a:ext cx="361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03240" y="2502000"/>
            <a:ext cx="39960" cy="1512720"/>
          </a:xfrm>
          <a:custGeom>
            <a:avLst/>
            <a:gdLst/>
            <a:ahLst/>
            <a:rect l="l" t="t" r="r" b="b"/>
            <a:pathLst>
              <a:path w="25" h="953">
                <a:moveTo>
                  <a:pt x="0" y="952"/>
                </a:moveTo>
                <a:lnTo>
                  <a:pt x="12" y="924"/>
                </a:lnTo>
                <a:lnTo>
                  <a:pt x="12" y="895"/>
                </a:lnTo>
                <a:lnTo>
                  <a:pt x="24" y="867"/>
                </a:lnTo>
                <a:lnTo>
                  <a:pt x="24" y="838"/>
                </a:lnTo>
                <a:lnTo>
                  <a:pt x="24" y="810"/>
                </a:lnTo>
                <a:lnTo>
                  <a:pt x="24" y="781"/>
                </a:lnTo>
                <a:lnTo>
                  <a:pt x="24" y="739"/>
                </a:lnTo>
                <a:lnTo>
                  <a:pt x="24" y="710"/>
                </a:lnTo>
                <a:lnTo>
                  <a:pt x="24" y="682"/>
                </a:lnTo>
                <a:lnTo>
                  <a:pt x="24" y="654"/>
                </a:lnTo>
                <a:lnTo>
                  <a:pt x="24" y="625"/>
                </a:lnTo>
                <a:lnTo>
                  <a:pt x="24" y="597"/>
                </a:lnTo>
                <a:lnTo>
                  <a:pt x="24" y="554"/>
                </a:lnTo>
                <a:lnTo>
                  <a:pt x="24" y="512"/>
                </a:lnTo>
                <a:lnTo>
                  <a:pt x="12" y="483"/>
                </a:lnTo>
                <a:lnTo>
                  <a:pt x="12" y="455"/>
                </a:lnTo>
                <a:lnTo>
                  <a:pt x="12" y="426"/>
                </a:lnTo>
                <a:lnTo>
                  <a:pt x="12" y="398"/>
                </a:lnTo>
                <a:lnTo>
                  <a:pt x="12" y="369"/>
                </a:lnTo>
                <a:lnTo>
                  <a:pt x="0" y="341"/>
                </a:lnTo>
                <a:lnTo>
                  <a:pt x="0" y="298"/>
                </a:lnTo>
                <a:lnTo>
                  <a:pt x="0" y="270"/>
                </a:lnTo>
                <a:lnTo>
                  <a:pt x="0" y="242"/>
                </a:lnTo>
                <a:lnTo>
                  <a:pt x="0" y="199"/>
                </a:lnTo>
                <a:lnTo>
                  <a:pt x="0" y="171"/>
                </a:lnTo>
                <a:lnTo>
                  <a:pt x="0" y="142"/>
                </a:lnTo>
                <a:lnTo>
                  <a:pt x="0" y="114"/>
                </a:lnTo>
                <a:lnTo>
                  <a:pt x="0" y="99"/>
                </a:lnTo>
                <a:lnTo>
                  <a:pt x="12" y="0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486240" y="1187280"/>
            <a:ext cx="149868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3403440" y="4355640"/>
            <a:ext cx="0" cy="69084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229280" y="2870280"/>
            <a:ext cx="1957320" cy="2198520"/>
          </a:xfrm>
          <a:custGeom>
            <a:avLst/>
            <a:gdLst/>
            <a:ahLst/>
            <a:rect l="l" t="t" r="r" b="b"/>
            <a:pathLst>
              <a:path w="1233" h="1385">
                <a:moveTo>
                  <a:pt x="8" y="1384"/>
                </a:moveTo>
                <a:lnTo>
                  <a:pt x="8" y="1360"/>
                </a:lnTo>
                <a:lnTo>
                  <a:pt x="8" y="1344"/>
                </a:lnTo>
                <a:lnTo>
                  <a:pt x="0" y="1312"/>
                </a:lnTo>
                <a:lnTo>
                  <a:pt x="0" y="1288"/>
                </a:lnTo>
                <a:lnTo>
                  <a:pt x="0" y="1248"/>
                </a:lnTo>
                <a:lnTo>
                  <a:pt x="8" y="1224"/>
                </a:lnTo>
                <a:lnTo>
                  <a:pt x="16" y="1160"/>
                </a:lnTo>
                <a:lnTo>
                  <a:pt x="32" y="1128"/>
                </a:lnTo>
                <a:lnTo>
                  <a:pt x="40" y="1088"/>
                </a:lnTo>
                <a:lnTo>
                  <a:pt x="48" y="1056"/>
                </a:lnTo>
                <a:lnTo>
                  <a:pt x="64" y="1016"/>
                </a:lnTo>
                <a:lnTo>
                  <a:pt x="72" y="984"/>
                </a:lnTo>
                <a:lnTo>
                  <a:pt x="80" y="936"/>
                </a:lnTo>
                <a:lnTo>
                  <a:pt x="96" y="904"/>
                </a:lnTo>
                <a:lnTo>
                  <a:pt x="104" y="864"/>
                </a:lnTo>
                <a:lnTo>
                  <a:pt x="112" y="832"/>
                </a:lnTo>
                <a:lnTo>
                  <a:pt x="128" y="800"/>
                </a:lnTo>
                <a:lnTo>
                  <a:pt x="136" y="768"/>
                </a:lnTo>
                <a:lnTo>
                  <a:pt x="160" y="728"/>
                </a:lnTo>
                <a:lnTo>
                  <a:pt x="168" y="696"/>
                </a:lnTo>
                <a:lnTo>
                  <a:pt x="176" y="672"/>
                </a:lnTo>
                <a:lnTo>
                  <a:pt x="192" y="640"/>
                </a:lnTo>
                <a:lnTo>
                  <a:pt x="200" y="624"/>
                </a:lnTo>
                <a:lnTo>
                  <a:pt x="208" y="600"/>
                </a:lnTo>
                <a:lnTo>
                  <a:pt x="224" y="584"/>
                </a:lnTo>
                <a:lnTo>
                  <a:pt x="240" y="560"/>
                </a:lnTo>
                <a:lnTo>
                  <a:pt x="248" y="536"/>
                </a:lnTo>
                <a:lnTo>
                  <a:pt x="264" y="528"/>
                </a:lnTo>
                <a:lnTo>
                  <a:pt x="272" y="512"/>
                </a:lnTo>
                <a:lnTo>
                  <a:pt x="288" y="488"/>
                </a:lnTo>
                <a:lnTo>
                  <a:pt x="312" y="456"/>
                </a:lnTo>
                <a:lnTo>
                  <a:pt x="328" y="440"/>
                </a:lnTo>
                <a:lnTo>
                  <a:pt x="344" y="424"/>
                </a:lnTo>
                <a:lnTo>
                  <a:pt x="368" y="392"/>
                </a:lnTo>
                <a:lnTo>
                  <a:pt x="384" y="384"/>
                </a:lnTo>
                <a:lnTo>
                  <a:pt x="400" y="368"/>
                </a:lnTo>
                <a:lnTo>
                  <a:pt x="408" y="352"/>
                </a:lnTo>
                <a:lnTo>
                  <a:pt x="432" y="336"/>
                </a:lnTo>
                <a:lnTo>
                  <a:pt x="448" y="320"/>
                </a:lnTo>
                <a:lnTo>
                  <a:pt x="472" y="296"/>
                </a:lnTo>
                <a:lnTo>
                  <a:pt x="488" y="288"/>
                </a:lnTo>
                <a:lnTo>
                  <a:pt x="504" y="272"/>
                </a:lnTo>
                <a:lnTo>
                  <a:pt x="536" y="248"/>
                </a:lnTo>
                <a:lnTo>
                  <a:pt x="560" y="240"/>
                </a:lnTo>
                <a:lnTo>
                  <a:pt x="576" y="224"/>
                </a:lnTo>
                <a:lnTo>
                  <a:pt x="600" y="200"/>
                </a:lnTo>
                <a:lnTo>
                  <a:pt x="624" y="192"/>
                </a:lnTo>
                <a:lnTo>
                  <a:pt x="656" y="168"/>
                </a:lnTo>
                <a:lnTo>
                  <a:pt x="672" y="152"/>
                </a:lnTo>
                <a:lnTo>
                  <a:pt x="696" y="144"/>
                </a:lnTo>
                <a:lnTo>
                  <a:pt x="720" y="136"/>
                </a:lnTo>
                <a:lnTo>
                  <a:pt x="744" y="120"/>
                </a:lnTo>
                <a:lnTo>
                  <a:pt x="768" y="112"/>
                </a:lnTo>
                <a:lnTo>
                  <a:pt x="784" y="96"/>
                </a:lnTo>
                <a:lnTo>
                  <a:pt x="808" y="88"/>
                </a:lnTo>
                <a:lnTo>
                  <a:pt x="824" y="80"/>
                </a:lnTo>
                <a:lnTo>
                  <a:pt x="848" y="72"/>
                </a:lnTo>
                <a:lnTo>
                  <a:pt x="864" y="56"/>
                </a:lnTo>
                <a:lnTo>
                  <a:pt x="888" y="48"/>
                </a:lnTo>
                <a:lnTo>
                  <a:pt x="904" y="40"/>
                </a:lnTo>
                <a:lnTo>
                  <a:pt x="928" y="40"/>
                </a:lnTo>
                <a:lnTo>
                  <a:pt x="944" y="32"/>
                </a:lnTo>
                <a:lnTo>
                  <a:pt x="960" y="24"/>
                </a:lnTo>
                <a:lnTo>
                  <a:pt x="984" y="16"/>
                </a:lnTo>
                <a:lnTo>
                  <a:pt x="1008" y="8"/>
                </a:lnTo>
                <a:lnTo>
                  <a:pt x="1024" y="8"/>
                </a:lnTo>
                <a:lnTo>
                  <a:pt x="1040" y="8"/>
                </a:lnTo>
                <a:lnTo>
                  <a:pt x="1056" y="0"/>
                </a:lnTo>
                <a:lnTo>
                  <a:pt x="1072" y="0"/>
                </a:lnTo>
                <a:lnTo>
                  <a:pt x="1088" y="0"/>
                </a:lnTo>
                <a:lnTo>
                  <a:pt x="1104" y="0"/>
                </a:lnTo>
                <a:lnTo>
                  <a:pt x="1120" y="0"/>
                </a:lnTo>
                <a:lnTo>
                  <a:pt x="1136" y="0"/>
                </a:lnTo>
                <a:lnTo>
                  <a:pt x="1152" y="0"/>
                </a:lnTo>
                <a:lnTo>
                  <a:pt x="1168" y="0"/>
                </a:lnTo>
                <a:lnTo>
                  <a:pt x="1184" y="0"/>
                </a:lnTo>
                <a:lnTo>
                  <a:pt x="1200" y="0"/>
                </a:lnTo>
                <a:lnTo>
                  <a:pt x="1216" y="8"/>
                </a:lnTo>
                <a:lnTo>
                  <a:pt x="1232" y="8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133720" y="2120760"/>
            <a:ext cx="5792760" cy="4230720"/>
          </a:xfrm>
          <a:custGeom>
            <a:avLst/>
            <a:gdLst/>
            <a:ahLst/>
            <a:rect l="l" t="t" r="r" b="b"/>
            <a:pathLst>
              <a:path w="3649" h="2665">
                <a:moveTo>
                  <a:pt x="3600" y="8"/>
                </a:moveTo>
                <a:lnTo>
                  <a:pt x="3576" y="0"/>
                </a:lnTo>
                <a:lnTo>
                  <a:pt x="3560" y="0"/>
                </a:lnTo>
                <a:lnTo>
                  <a:pt x="3544" y="8"/>
                </a:lnTo>
                <a:lnTo>
                  <a:pt x="3528" y="8"/>
                </a:lnTo>
                <a:lnTo>
                  <a:pt x="3504" y="24"/>
                </a:lnTo>
                <a:lnTo>
                  <a:pt x="3488" y="32"/>
                </a:lnTo>
                <a:lnTo>
                  <a:pt x="3488" y="48"/>
                </a:lnTo>
                <a:lnTo>
                  <a:pt x="3488" y="64"/>
                </a:lnTo>
                <a:lnTo>
                  <a:pt x="3488" y="80"/>
                </a:lnTo>
                <a:lnTo>
                  <a:pt x="3496" y="96"/>
                </a:lnTo>
                <a:lnTo>
                  <a:pt x="3504" y="112"/>
                </a:lnTo>
                <a:lnTo>
                  <a:pt x="3512" y="128"/>
                </a:lnTo>
                <a:lnTo>
                  <a:pt x="3520" y="144"/>
                </a:lnTo>
                <a:lnTo>
                  <a:pt x="3536" y="152"/>
                </a:lnTo>
                <a:lnTo>
                  <a:pt x="3552" y="160"/>
                </a:lnTo>
                <a:lnTo>
                  <a:pt x="3568" y="160"/>
                </a:lnTo>
                <a:lnTo>
                  <a:pt x="3584" y="160"/>
                </a:lnTo>
                <a:lnTo>
                  <a:pt x="3600" y="168"/>
                </a:lnTo>
                <a:lnTo>
                  <a:pt x="3616" y="168"/>
                </a:lnTo>
                <a:lnTo>
                  <a:pt x="3632" y="160"/>
                </a:lnTo>
                <a:lnTo>
                  <a:pt x="3648" y="144"/>
                </a:lnTo>
                <a:lnTo>
                  <a:pt x="3648" y="128"/>
                </a:lnTo>
                <a:lnTo>
                  <a:pt x="3648" y="112"/>
                </a:lnTo>
                <a:lnTo>
                  <a:pt x="3648" y="96"/>
                </a:lnTo>
                <a:lnTo>
                  <a:pt x="3640" y="80"/>
                </a:lnTo>
                <a:lnTo>
                  <a:pt x="3632" y="64"/>
                </a:lnTo>
                <a:lnTo>
                  <a:pt x="3624" y="48"/>
                </a:lnTo>
                <a:lnTo>
                  <a:pt x="3608" y="48"/>
                </a:lnTo>
                <a:lnTo>
                  <a:pt x="3592" y="40"/>
                </a:lnTo>
                <a:lnTo>
                  <a:pt x="3576" y="40"/>
                </a:lnTo>
                <a:lnTo>
                  <a:pt x="3560" y="48"/>
                </a:lnTo>
                <a:lnTo>
                  <a:pt x="3544" y="48"/>
                </a:lnTo>
                <a:lnTo>
                  <a:pt x="3528" y="56"/>
                </a:lnTo>
                <a:lnTo>
                  <a:pt x="3504" y="72"/>
                </a:lnTo>
                <a:lnTo>
                  <a:pt x="3480" y="88"/>
                </a:lnTo>
                <a:lnTo>
                  <a:pt x="3472" y="104"/>
                </a:lnTo>
                <a:lnTo>
                  <a:pt x="3464" y="120"/>
                </a:lnTo>
                <a:lnTo>
                  <a:pt x="3456" y="144"/>
                </a:lnTo>
                <a:lnTo>
                  <a:pt x="3448" y="160"/>
                </a:lnTo>
                <a:lnTo>
                  <a:pt x="3440" y="184"/>
                </a:lnTo>
                <a:lnTo>
                  <a:pt x="3440" y="208"/>
                </a:lnTo>
                <a:lnTo>
                  <a:pt x="3432" y="232"/>
                </a:lnTo>
                <a:lnTo>
                  <a:pt x="3432" y="256"/>
                </a:lnTo>
                <a:lnTo>
                  <a:pt x="3424" y="272"/>
                </a:lnTo>
                <a:lnTo>
                  <a:pt x="3424" y="288"/>
                </a:lnTo>
                <a:lnTo>
                  <a:pt x="3424" y="304"/>
                </a:lnTo>
                <a:lnTo>
                  <a:pt x="3424" y="320"/>
                </a:lnTo>
                <a:lnTo>
                  <a:pt x="3424" y="336"/>
                </a:lnTo>
                <a:lnTo>
                  <a:pt x="3424" y="352"/>
                </a:lnTo>
                <a:lnTo>
                  <a:pt x="3424" y="376"/>
                </a:lnTo>
                <a:lnTo>
                  <a:pt x="3424" y="400"/>
                </a:lnTo>
                <a:lnTo>
                  <a:pt x="3424" y="424"/>
                </a:lnTo>
                <a:lnTo>
                  <a:pt x="3424" y="448"/>
                </a:lnTo>
                <a:lnTo>
                  <a:pt x="3424" y="464"/>
                </a:lnTo>
                <a:lnTo>
                  <a:pt x="3432" y="488"/>
                </a:lnTo>
                <a:lnTo>
                  <a:pt x="3432" y="512"/>
                </a:lnTo>
                <a:lnTo>
                  <a:pt x="3440" y="536"/>
                </a:lnTo>
                <a:lnTo>
                  <a:pt x="3440" y="552"/>
                </a:lnTo>
                <a:lnTo>
                  <a:pt x="3440" y="584"/>
                </a:lnTo>
                <a:lnTo>
                  <a:pt x="3440" y="600"/>
                </a:lnTo>
                <a:lnTo>
                  <a:pt x="3440" y="624"/>
                </a:lnTo>
                <a:lnTo>
                  <a:pt x="3440" y="648"/>
                </a:lnTo>
                <a:lnTo>
                  <a:pt x="3440" y="664"/>
                </a:lnTo>
                <a:lnTo>
                  <a:pt x="3448" y="688"/>
                </a:lnTo>
                <a:lnTo>
                  <a:pt x="3448" y="712"/>
                </a:lnTo>
                <a:lnTo>
                  <a:pt x="3448" y="736"/>
                </a:lnTo>
                <a:lnTo>
                  <a:pt x="3448" y="760"/>
                </a:lnTo>
                <a:lnTo>
                  <a:pt x="3448" y="784"/>
                </a:lnTo>
                <a:lnTo>
                  <a:pt x="3456" y="808"/>
                </a:lnTo>
                <a:lnTo>
                  <a:pt x="3456" y="824"/>
                </a:lnTo>
                <a:lnTo>
                  <a:pt x="3456" y="848"/>
                </a:lnTo>
                <a:lnTo>
                  <a:pt x="3464" y="872"/>
                </a:lnTo>
                <a:lnTo>
                  <a:pt x="3464" y="888"/>
                </a:lnTo>
                <a:lnTo>
                  <a:pt x="3464" y="904"/>
                </a:lnTo>
                <a:lnTo>
                  <a:pt x="3464" y="928"/>
                </a:lnTo>
                <a:lnTo>
                  <a:pt x="3464" y="944"/>
                </a:lnTo>
                <a:lnTo>
                  <a:pt x="3464" y="968"/>
                </a:lnTo>
                <a:lnTo>
                  <a:pt x="3464" y="984"/>
                </a:lnTo>
                <a:lnTo>
                  <a:pt x="3464" y="1008"/>
                </a:lnTo>
                <a:lnTo>
                  <a:pt x="3464" y="1024"/>
                </a:lnTo>
                <a:lnTo>
                  <a:pt x="3464" y="1040"/>
                </a:lnTo>
                <a:lnTo>
                  <a:pt x="3464" y="1064"/>
                </a:lnTo>
                <a:lnTo>
                  <a:pt x="3464" y="1080"/>
                </a:lnTo>
                <a:lnTo>
                  <a:pt x="3464" y="1096"/>
                </a:lnTo>
                <a:lnTo>
                  <a:pt x="3464" y="1112"/>
                </a:lnTo>
                <a:lnTo>
                  <a:pt x="3464" y="1128"/>
                </a:lnTo>
                <a:lnTo>
                  <a:pt x="3472" y="1144"/>
                </a:lnTo>
                <a:lnTo>
                  <a:pt x="3472" y="1168"/>
                </a:lnTo>
                <a:lnTo>
                  <a:pt x="3472" y="1184"/>
                </a:lnTo>
                <a:lnTo>
                  <a:pt x="3472" y="1200"/>
                </a:lnTo>
                <a:lnTo>
                  <a:pt x="3472" y="1216"/>
                </a:lnTo>
                <a:lnTo>
                  <a:pt x="3472" y="1232"/>
                </a:lnTo>
                <a:lnTo>
                  <a:pt x="3472" y="1248"/>
                </a:lnTo>
                <a:lnTo>
                  <a:pt x="3472" y="1272"/>
                </a:lnTo>
                <a:lnTo>
                  <a:pt x="3472" y="1288"/>
                </a:lnTo>
                <a:lnTo>
                  <a:pt x="3472" y="1320"/>
                </a:lnTo>
                <a:lnTo>
                  <a:pt x="3472" y="1336"/>
                </a:lnTo>
                <a:lnTo>
                  <a:pt x="3472" y="1352"/>
                </a:lnTo>
                <a:lnTo>
                  <a:pt x="3472" y="1384"/>
                </a:lnTo>
                <a:lnTo>
                  <a:pt x="3472" y="1400"/>
                </a:lnTo>
                <a:lnTo>
                  <a:pt x="3472" y="1424"/>
                </a:lnTo>
                <a:lnTo>
                  <a:pt x="3472" y="1448"/>
                </a:lnTo>
                <a:lnTo>
                  <a:pt x="3464" y="1472"/>
                </a:lnTo>
                <a:lnTo>
                  <a:pt x="3464" y="1496"/>
                </a:lnTo>
                <a:lnTo>
                  <a:pt x="3464" y="1520"/>
                </a:lnTo>
                <a:lnTo>
                  <a:pt x="3464" y="1536"/>
                </a:lnTo>
                <a:lnTo>
                  <a:pt x="3464" y="1560"/>
                </a:lnTo>
                <a:lnTo>
                  <a:pt x="3456" y="1608"/>
                </a:lnTo>
                <a:lnTo>
                  <a:pt x="3456" y="1624"/>
                </a:lnTo>
                <a:lnTo>
                  <a:pt x="3456" y="1640"/>
                </a:lnTo>
                <a:lnTo>
                  <a:pt x="3448" y="1656"/>
                </a:lnTo>
                <a:lnTo>
                  <a:pt x="3448" y="1672"/>
                </a:lnTo>
                <a:lnTo>
                  <a:pt x="3448" y="1688"/>
                </a:lnTo>
                <a:lnTo>
                  <a:pt x="3448" y="1704"/>
                </a:lnTo>
                <a:lnTo>
                  <a:pt x="3448" y="1720"/>
                </a:lnTo>
                <a:lnTo>
                  <a:pt x="3448" y="1736"/>
                </a:lnTo>
                <a:lnTo>
                  <a:pt x="3448" y="1752"/>
                </a:lnTo>
                <a:lnTo>
                  <a:pt x="3440" y="1816"/>
                </a:lnTo>
                <a:lnTo>
                  <a:pt x="3440" y="1832"/>
                </a:lnTo>
                <a:lnTo>
                  <a:pt x="3432" y="1848"/>
                </a:lnTo>
                <a:lnTo>
                  <a:pt x="3424" y="1864"/>
                </a:lnTo>
                <a:lnTo>
                  <a:pt x="3424" y="1880"/>
                </a:lnTo>
                <a:lnTo>
                  <a:pt x="3416" y="1904"/>
                </a:lnTo>
                <a:lnTo>
                  <a:pt x="3408" y="1920"/>
                </a:lnTo>
                <a:lnTo>
                  <a:pt x="3400" y="1936"/>
                </a:lnTo>
                <a:lnTo>
                  <a:pt x="3392" y="1968"/>
                </a:lnTo>
                <a:lnTo>
                  <a:pt x="3376" y="1992"/>
                </a:lnTo>
                <a:lnTo>
                  <a:pt x="3368" y="2016"/>
                </a:lnTo>
                <a:lnTo>
                  <a:pt x="3360" y="2032"/>
                </a:lnTo>
                <a:lnTo>
                  <a:pt x="3352" y="2048"/>
                </a:lnTo>
                <a:lnTo>
                  <a:pt x="3336" y="2064"/>
                </a:lnTo>
                <a:lnTo>
                  <a:pt x="3320" y="2080"/>
                </a:lnTo>
                <a:lnTo>
                  <a:pt x="3304" y="2096"/>
                </a:lnTo>
                <a:lnTo>
                  <a:pt x="3296" y="2112"/>
                </a:lnTo>
                <a:lnTo>
                  <a:pt x="3280" y="2128"/>
                </a:lnTo>
                <a:lnTo>
                  <a:pt x="3248" y="2152"/>
                </a:lnTo>
                <a:lnTo>
                  <a:pt x="3240" y="2168"/>
                </a:lnTo>
                <a:lnTo>
                  <a:pt x="3224" y="2176"/>
                </a:lnTo>
                <a:lnTo>
                  <a:pt x="3208" y="2200"/>
                </a:lnTo>
                <a:lnTo>
                  <a:pt x="3184" y="2216"/>
                </a:lnTo>
                <a:lnTo>
                  <a:pt x="3176" y="2232"/>
                </a:lnTo>
                <a:lnTo>
                  <a:pt x="3160" y="2256"/>
                </a:lnTo>
                <a:lnTo>
                  <a:pt x="3144" y="2264"/>
                </a:lnTo>
                <a:lnTo>
                  <a:pt x="3128" y="2280"/>
                </a:lnTo>
                <a:lnTo>
                  <a:pt x="3112" y="2304"/>
                </a:lnTo>
                <a:lnTo>
                  <a:pt x="3096" y="2320"/>
                </a:lnTo>
                <a:lnTo>
                  <a:pt x="3080" y="2336"/>
                </a:lnTo>
                <a:lnTo>
                  <a:pt x="3064" y="2352"/>
                </a:lnTo>
                <a:lnTo>
                  <a:pt x="3056" y="2376"/>
                </a:lnTo>
                <a:lnTo>
                  <a:pt x="3040" y="2384"/>
                </a:lnTo>
                <a:lnTo>
                  <a:pt x="3032" y="2400"/>
                </a:lnTo>
                <a:lnTo>
                  <a:pt x="3016" y="2416"/>
                </a:lnTo>
                <a:lnTo>
                  <a:pt x="3000" y="2432"/>
                </a:lnTo>
                <a:lnTo>
                  <a:pt x="2992" y="2448"/>
                </a:lnTo>
                <a:lnTo>
                  <a:pt x="2976" y="2456"/>
                </a:lnTo>
                <a:lnTo>
                  <a:pt x="2960" y="2464"/>
                </a:lnTo>
                <a:lnTo>
                  <a:pt x="2960" y="2480"/>
                </a:lnTo>
                <a:lnTo>
                  <a:pt x="2944" y="2496"/>
                </a:lnTo>
                <a:lnTo>
                  <a:pt x="2920" y="2512"/>
                </a:lnTo>
                <a:lnTo>
                  <a:pt x="2904" y="2528"/>
                </a:lnTo>
                <a:lnTo>
                  <a:pt x="2880" y="2536"/>
                </a:lnTo>
                <a:lnTo>
                  <a:pt x="2848" y="2544"/>
                </a:lnTo>
                <a:lnTo>
                  <a:pt x="2824" y="2568"/>
                </a:lnTo>
                <a:lnTo>
                  <a:pt x="2792" y="2576"/>
                </a:lnTo>
                <a:lnTo>
                  <a:pt x="2752" y="2584"/>
                </a:lnTo>
                <a:lnTo>
                  <a:pt x="2720" y="2600"/>
                </a:lnTo>
                <a:lnTo>
                  <a:pt x="2672" y="2608"/>
                </a:lnTo>
                <a:lnTo>
                  <a:pt x="2632" y="2624"/>
                </a:lnTo>
                <a:lnTo>
                  <a:pt x="2584" y="2640"/>
                </a:lnTo>
                <a:lnTo>
                  <a:pt x="2552" y="2640"/>
                </a:lnTo>
                <a:lnTo>
                  <a:pt x="2504" y="2656"/>
                </a:lnTo>
                <a:lnTo>
                  <a:pt x="2472" y="2664"/>
                </a:lnTo>
                <a:lnTo>
                  <a:pt x="2432" y="2664"/>
                </a:lnTo>
                <a:lnTo>
                  <a:pt x="2416" y="2664"/>
                </a:lnTo>
                <a:lnTo>
                  <a:pt x="2384" y="2664"/>
                </a:lnTo>
                <a:lnTo>
                  <a:pt x="2352" y="2664"/>
                </a:lnTo>
                <a:lnTo>
                  <a:pt x="2328" y="2664"/>
                </a:lnTo>
                <a:lnTo>
                  <a:pt x="2304" y="2664"/>
                </a:lnTo>
                <a:lnTo>
                  <a:pt x="2280" y="2656"/>
                </a:lnTo>
                <a:lnTo>
                  <a:pt x="2256" y="2648"/>
                </a:lnTo>
                <a:lnTo>
                  <a:pt x="2232" y="2648"/>
                </a:lnTo>
                <a:lnTo>
                  <a:pt x="2208" y="2648"/>
                </a:lnTo>
                <a:lnTo>
                  <a:pt x="2192" y="2640"/>
                </a:lnTo>
                <a:lnTo>
                  <a:pt x="2168" y="2632"/>
                </a:lnTo>
                <a:lnTo>
                  <a:pt x="2152" y="2624"/>
                </a:lnTo>
                <a:lnTo>
                  <a:pt x="2136" y="2624"/>
                </a:lnTo>
                <a:lnTo>
                  <a:pt x="2120" y="2624"/>
                </a:lnTo>
                <a:lnTo>
                  <a:pt x="2104" y="2624"/>
                </a:lnTo>
                <a:lnTo>
                  <a:pt x="2080" y="2616"/>
                </a:lnTo>
                <a:lnTo>
                  <a:pt x="2064" y="2608"/>
                </a:lnTo>
                <a:lnTo>
                  <a:pt x="2048" y="2608"/>
                </a:lnTo>
                <a:lnTo>
                  <a:pt x="2024" y="2592"/>
                </a:lnTo>
                <a:lnTo>
                  <a:pt x="2008" y="2592"/>
                </a:lnTo>
                <a:lnTo>
                  <a:pt x="1992" y="2592"/>
                </a:lnTo>
                <a:lnTo>
                  <a:pt x="1968" y="2584"/>
                </a:lnTo>
                <a:lnTo>
                  <a:pt x="1944" y="2576"/>
                </a:lnTo>
                <a:lnTo>
                  <a:pt x="1920" y="2568"/>
                </a:lnTo>
                <a:lnTo>
                  <a:pt x="1904" y="2568"/>
                </a:lnTo>
                <a:lnTo>
                  <a:pt x="1872" y="2568"/>
                </a:lnTo>
                <a:lnTo>
                  <a:pt x="1856" y="2560"/>
                </a:lnTo>
                <a:lnTo>
                  <a:pt x="1832" y="2552"/>
                </a:lnTo>
                <a:lnTo>
                  <a:pt x="1792" y="2544"/>
                </a:lnTo>
                <a:lnTo>
                  <a:pt x="1768" y="2544"/>
                </a:lnTo>
                <a:lnTo>
                  <a:pt x="1744" y="2536"/>
                </a:lnTo>
                <a:lnTo>
                  <a:pt x="1720" y="2528"/>
                </a:lnTo>
                <a:lnTo>
                  <a:pt x="1688" y="2520"/>
                </a:lnTo>
                <a:lnTo>
                  <a:pt x="1664" y="2520"/>
                </a:lnTo>
                <a:lnTo>
                  <a:pt x="1624" y="2512"/>
                </a:lnTo>
                <a:lnTo>
                  <a:pt x="1584" y="2496"/>
                </a:lnTo>
                <a:lnTo>
                  <a:pt x="1544" y="2488"/>
                </a:lnTo>
                <a:lnTo>
                  <a:pt x="1504" y="2488"/>
                </a:lnTo>
                <a:lnTo>
                  <a:pt x="1472" y="2480"/>
                </a:lnTo>
                <a:lnTo>
                  <a:pt x="1440" y="2472"/>
                </a:lnTo>
                <a:lnTo>
                  <a:pt x="1408" y="2464"/>
                </a:lnTo>
                <a:lnTo>
                  <a:pt x="1384" y="2456"/>
                </a:lnTo>
                <a:lnTo>
                  <a:pt x="1368" y="2456"/>
                </a:lnTo>
                <a:lnTo>
                  <a:pt x="1352" y="2456"/>
                </a:lnTo>
                <a:lnTo>
                  <a:pt x="1336" y="2448"/>
                </a:lnTo>
                <a:lnTo>
                  <a:pt x="1320" y="2440"/>
                </a:lnTo>
                <a:lnTo>
                  <a:pt x="1304" y="2440"/>
                </a:lnTo>
                <a:lnTo>
                  <a:pt x="1288" y="2440"/>
                </a:lnTo>
                <a:lnTo>
                  <a:pt x="1272" y="2432"/>
                </a:lnTo>
                <a:lnTo>
                  <a:pt x="1256" y="2432"/>
                </a:lnTo>
                <a:lnTo>
                  <a:pt x="1232" y="2424"/>
                </a:lnTo>
                <a:lnTo>
                  <a:pt x="1216" y="2424"/>
                </a:lnTo>
                <a:lnTo>
                  <a:pt x="1192" y="2424"/>
                </a:lnTo>
                <a:lnTo>
                  <a:pt x="1176" y="2424"/>
                </a:lnTo>
                <a:lnTo>
                  <a:pt x="1160" y="2424"/>
                </a:lnTo>
                <a:lnTo>
                  <a:pt x="1144" y="2424"/>
                </a:lnTo>
                <a:lnTo>
                  <a:pt x="1128" y="2424"/>
                </a:lnTo>
                <a:lnTo>
                  <a:pt x="1104" y="2408"/>
                </a:lnTo>
                <a:lnTo>
                  <a:pt x="1088" y="2400"/>
                </a:lnTo>
                <a:lnTo>
                  <a:pt x="1072" y="2408"/>
                </a:lnTo>
                <a:lnTo>
                  <a:pt x="1056" y="2408"/>
                </a:lnTo>
                <a:lnTo>
                  <a:pt x="1040" y="2408"/>
                </a:lnTo>
                <a:lnTo>
                  <a:pt x="1024" y="2408"/>
                </a:lnTo>
                <a:lnTo>
                  <a:pt x="1008" y="2408"/>
                </a:lnTo>
                <a:lnTo>
                  <a:pt x="992" y="2408"/>
                </a:lnTo>
                <a:lnTo>
                  <a:pt x="976" y="2408"/>
                </a:lnTo>
                <a:lnTo>
                  <a:pt x="960" y="2408"/>
                </a:lnTo>
                <a:lnTo>
                  <a:pt x="944" y="2408"/>
                </a:lnTo>
                <a:lnTo>
                  <a:pt x="920" y="2408"/>
                </a:lnTo>
                <a:lnTo>
                  <a:pt x="896" y="2408"/>
                </a:lnTo>
                <a:lnTo>
                  <a:pt x="880" y="2408"/>
                </a:lnTo>
                <a:lnTo>
                  <a:pt x="864" y="2408"/>
                </a:lnTo>
                <a:lnTo>
                  <a:pt x="848" y="2408"/>
                </a:lnTo>
                <a:lnTo>
                  <a:pt x="832" y="2408"/>
                </a:lnTo>
                <a:lnTo>
                  <a:pt x="808" y="2408"/>
                </a:lnTo>
                <a:lnTo>
                  <a:pt x="784" y="2408"/>
                </a:lnTo>
                <a:lnTo>
                  <a:pt x="768" y="2408"/>
                </a:lnTo>
                <a:lnTo>
                  <a:pt x="752" y="2408"/>
                </a:lnTo>
                <a:lnTo>
                  <a:pt x="736" y="2408"/>
                </a:lnTo>
                <a:lnTo>
                  <a:pt x="712" y="2408"/>
                </a:lnTo>
                <a:lnTo>
                  <a:pt x="688" y="2408"/>
                </a:lnTo>
                <a:lnTo>
                  <a:pt x="664" y="2400"/>
                </a:lnTo>
                <a:lnTo>
                  <a:pt x="648" y="2400"/>
                </a:lnTo>
                <a:lnTo>
                  <a:pt x="632" y="2400"/>
                </a:lnTo>
                <a:lnTo>
                  <a:pt x="616" y="2392"/>
                </a:lnTo>
                <a:lnTo>
                  <a:pt x="592" y="2384"/>
                </a:lnTo>
                <a:lnTo>
                  <a:pt x="576" y="2384"/>
                </a:lnTo>
                <a:lnTo>
                  <a:pt x="560" y="2376"/>
                </a:lnTo>
                <a:lnTo>
                  <a:pt x="544" y="2376"/>
                </a:lnTo>
                <a:lnTo>
                  <a:pt x="528" y="2368"/>
                </a:lnTo>
                <a:lnTo>
                  <a:pt x="512" y="2360"/>
                </a:lnTo>
                <a:lnTo>
                  <a:pt x="496" y="2352"/>
                </a:lnTo>
                <a:lnTo>
                  <a:pt x="480" y="2352"/>
                </a:lnTo>
                <a:lnTo>
                  <a:pt x="464" y="2344"/>
                </a:lnTo>
                <a:lnTo>
                  <a:pt x="448" y="2328"/>
                </a:lnTo>
                <a:lnTo>
                  <a:pt x="432" y="2320"/>
                </a:lnTo>
                <a:lnTo>
                  <a:pt x="416" y="2320"/>
                </a:lnTo>
                <a:lnTo>
                  <a:pt x="408" y="2304"/>
                </a:lnTo>
                <a:lnTo>
                  <a:pt x="392" y="2288"/>
                </a:lnTo>
                <a:lnTo>
                  <a:pt x="376" y="2280"/>
                </a:lnTo>
                <a:lnTo>
                  <a:pt x="360" y="2264"/>
                </a:lnTo>
                <a:lnTo>
                  <a:pt x="344" y="2256"/>
                </a:lnTo>
                <a:lnTo>
                  <a:pt x="328" y="2240"/>
                </a:lnTo>
                <a:lnTo>
                  <a:pt x="304" y="2224"/>
                </a:lnTo>
                <a:lnTo>
                  <a:pt x="288" y="2208"/>
                </a:lnTo>
                <a:lnTo>
                  <a:pt x="280" y="2192"/>
                </a:lnTo>
                <a:lnTo>
                  <a:pt x="264" y="2184"/>
                </a:lnTo>
                <a:lnTo>
                  <a:pt x="208" y="2112"/>
                </a:lnTo>
                <a:lnTo>
                  <a:pt x="192" y="2096"/>
                </a:lnTo>
                <a:lnTo>
                  <a:pt x="184" y="2080"/>
                </a:lnTo>
                <a:lnTo>
                  <a:pt x="176" y="2056"/>
                </a:lnTo>
                <a:lnTo>
                  <a:pt x="160" y="2048"/>
                </a:lnTo>
                <a:lnTo>
                  <a:pt x="160" y="2032"/>
                </a:lnTo>
                <a:lnTo>
                  <a:pt x="144" y="2008"/>
                </a:lnTo>
                <a:lnTo>
                  <a:pt x="136" y="1984"/>
                </a:lnTo>
                <a:lnTo>
                  <a:pt x="128" y="1968"/>
                </a:lnTo>
                <a:lnTo>
                  <a:pt x="120" y="1952"/>
                </a:lnTo>
                <a:lnTo>
                  <a:pt x="112" y="1936"/>
                </a:lnTo>
                <a:lnTo>
                  <a:pt x="112" y="1920"/>
                </a:lnTo>
                <a:lnTo>
                  <a:pt x="104" y="1904"/>
                </a:lnTo>
                <a:lnTo>
                  <a:pt x="104" y="1888"/>
                </a:lnTo>
                <a:lnTo>
                  <a:pt x="96" y="1864"/>
                </a:lnTo>
                <a:lnTo>
                  <a:pt x="96" y="1848"/>
                </a:lnTo>
                <a:lnTo>
                  <a:pt x="88" y="1832"/>
                </a:lnTo>
                <a:lnTo>
                  <a:pt x="88" y="1816"/>
                </a:lnTo>
                <a:lnTo>
                  <a:pt x="80" y="1800"/>
                </a:lnTo>
                <a:lnTo>
                  <a:pt x="72" y="1784"/>
                </a:lnTo>
                <a:lnTo>
                  <a:pt x="72" y="1768"/>
                </a:lnTo>
                <a:lnTo>
                  <a:pt x="64" y="1752"/>
                </a:lnTo>
                <a:lnTo>
                  <a:pt x="64" y="1736"/>
                </a:lnTo>
                <a:lnTo>
                  <a:pt x="48" y="1720"/>
                </a:lnTo>
                <a:lnTo>
                  <a:pt x="48" y="1704"/>
                </a:lnTo>
                <a:lnTo>
                  <a:pt x="48" y="1688"/>
                </a:lnTo>
                <a:lnTo>
                  <a:pt x="40" y="1672"/>
                </a:lnTo>
                <a:lnTo>
                  <a:pt x="32" y="1656"/>
                </a:lnTo>
                <a:lnTo>
                  <a:pt x="24" y="1640"/>
                </a:lnTo>
                <a:lnTo>
                  <a:pt x="16" y="1624"/>
                </a:lnTo>
                <a:lnTo>
                  <a:pt x="8" y="1608"/>
                </a:lnTo>
                <a:lnTo>
                  <a:pt x="8" y="1592"/>
                </a:lnTo>
                <a:lnTo>
                  <a:pt x="0" y="1576"/>
                </a:lnTo>
                <a:lnTo>
                  <a:pt x="0" y="1584"/>
                </a:lnTo>
                <a:lnTo>
                  <a:pt x="40" y="1624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68280" y="2514600"/>
            <a:ext cx="1424160" cy="2109960"/>
          </a:xfrm>
          <a:custGeom>
            <a:avLst/>
            <a:gdLst/>
            <a:ahLst/>
            <a:rect l="l" t="t" r="r" b="b"/>
            <a:pathLst>
              <a:path w="897" h="1329">
                <a:moveTo>
                  <a:pt x="896" y="0"/>
                </a:moveTo>
                <a:lnTo>
                  <a:pt x="878" y="8"/>
                </a:lnTo>
                <a:lnTo>
                  <a:pt x="860" y="8"/>
                </a:lnTo>
                <a:lnTo>
                  <a:pt x="842" y="15"/>
                </a:lnTo>
                <a:lnTo>
                  <a:pt x="824" y="15"/>
                </a:lnTo>
                <a:lnTo>
                  <a:pt x="806" y="15"/>
                </a:lnTo>
                <a:lnTo>
                  <a:pt x="771" y="15"/>
                </a:lnTo>
                <a:lnTo>
                  <a:pt x="753" y="15"/>
                </a:lnTo>
                <a:lnTo>
                  <a:pt x="735" y="23"/>
                </a:lnTo>
                <a:lnTo>
                  <a:pt x="708" y="23"/>
                </a:lnTo>
                <a:lnTo>
                  <a:pt x="690" y="30"/>
                </a:lnTo>
                <a:lnTo>
                  <a:pt x="654" y="38"/>
                </a:lnTo>
                <a:lnTo>
                  <a:pt x="636" y="38"/>
                </a:lnTo>
                <a:lnTo>
                  <a:pt x="618" y="45"/>
                </a:lnTo>
                <a:lnTo>
                  <a:pt x="600" y="60"/>
                </a:lnTo>
                <a:lnTo>
                  <a:pt x="582" y="60"/>
                </a:lnTo>
                <a:lnTo>
                  <a:pt x="556" y="68"/>
                </a:lnTo>
                <a:lnTo>
                  <a:pt x="529" y="83"/>
                </a:lnTo>
                <a:lnTo>
                  <a:pt x="511" y="90"/>
                </a:lnTo>
                <a:lnTo>
                  <a:pt x="493" y="98"/>
                </a:lnTo>
                <a:lnTo>
                  <a:pt x="475" y="105"/>
                </a:lnTo>
                <a:lnTo>
                  <a:pt x="457" y="113"/>
                </a:lnTo>
                <a:lnTo>
                  <a:pt x="430" y="128"/>
                </a:lnTo>
                <a:lnTo>
                  <a:pt x="412" y="135"/>
                </a:lnTo>
                <a:lnTo>
                  <a:pt x="394" y="143"/>
                </a:lnTo>
                <a:lnTo>
                  <a:pt x="376" y="150"/>
                </a:lnTo>
                <a:lnTo>
                  <a:pt x="358" y="158"/>
                </a:lnTo>
                <a:lnTo>
                  <a:pt x="340" y="165"/>
                </a:lnTo>
                <a:lnTo>
                  <a:pt x="323" y="173"/>
                </a:lnTo>
                <a:lnTo>
                  <a:pt x="305" y="180"/>
                </a:lnTo>
                <a:lnTo>
                  <a:pt x="287" y="195"/>
                </a:lnTo>
                <a:lnTo>
                  <a:pt x="269" y="210"/>
                </a:lnTo>
                <a:lnTo>
                  <a:pt x="251" y="218"/>
                </a:lnTo>
                <a:lnTo>
                  <a:pt x="242" y="233"/>
                </a:lnTo>
                <a:lnTo>
                  <a:pt x="224" y="248"/>
                </a:lnTo>
                <a:lnTo>
                  <a:pt x="215" y="263"/>
                </a:lnTo>
                <a:lnTo>
                  <a:pt x="188" y="285"/>
                </a:lnTo>
                <a:lnTo>
                  <a:pt x="179" y="300"/>
                </a:lnTo>
                <a:lnTo>
                  <a:pt x="170" y="323"/>
                </a:lnTo>
                <a:lnTo>
                  <a:pt x="152" y="338"/>
                </a:lnTo>
                <a:lnTo>
                  <a:pt x="152" y="353"/>
                </a:lnTo>
                <a:lnTo>
                  <a:pt x="134" y="375"/>
                </a:lnTo>
                <a:lnTo>
                  <a:pt x="134" y="390"/>
                </a:lnTo>
                <a:lnTo>
                  <a:pt x="125" y="413"/>
                </a:lnTo>
                <a:lnTo>
                  <a:pt x="108" y="428"/>
                </a:lnTo>
                <a:lnTo>
                  <a:pt x="99" y="458"/>
                </a:lnTo>
                <a:lnTo>
                  <a:pt x="90" y="480"/>
                </a:lnTo>
                <a:lnTo>
                  <a:pt x="81" y="495"/>
                </a:lnTo>
                <a:lnTo>
                  <a:pt x="81" y="510"/>
                </a:lnTo>
                <a:lnTo>
                  <a:pt x="72" y="525"/>
                </a:lnTo>
                <a:lnTo>
                  <a:pt x="72" y="540"/>
                </a:lnTo>
                <a:lnTo>
                  <a:pt x="63" y="563"/>
                </a:lnTo>
                <a:lnTo>
                  <a:pt x="63" y="578"/>
                </a:lnTo>
                <a:lnTo>
                  <a:pt x="63" y="593"/>
                </a:lnTo>
                <a:lnTo>
                  <a:pt x="63" y="608"/>
                </a:lnTo>
                <a:lnTo>
                  <a:pt x="54" y="630"/>
                </a:lnTo>
                <a:lnTo>
                  <a:pt x="45" y="653"/>
                </a:lnTo>
                <a:lnTo>
                  <a:pt x="45" y="668"/>
                </a:lnTo>
                <a:lnTo>
                  <a:pt x="45" y="683"/>
                </a:lnTo>
                <a:lnTo>
                  <a:pt x="45" y="705"/>
                </a:lnTo>
                <a:lnTo>
                  <a:pt x="36" y="728"/>
                </a:lnTo>
                <a:lnTo>
                  <a:pt x="27" y="750"/>
                </a:lnTo>
                <a:lnTo>
                  <a:pt x="27" y="765"/>
                </a:lnTo>
                <a:lnTo>
                  <a:pt x="18" y="780"/>
                </a:lnTo>
                <a:lnTo>
                  <a:pt x="9" y="795"/>
                </a:lnTo>
                <a:lnTo>
                  <a:pt x="9" y="810"/>
                </a:lnTo>
                <a:lnTo>
                  <a:pt x="9" y="825"/>
                </a:lnTo>
                <a:lnTo>
                  <a:pt x="0" y="840"/>
                </a:lnTo>
                <a:lnTo>
                  <a:pt x="0" y="863"/>
                </a:lnTo>
                <a:lnTo>
                  <a:pt x="0" y="878"/>
                </a:lnTo>
                <a:lnTo>
                  <a:pt x="0" y="893"/>
                </a:lnTo>
                <a:lnTo>
                  <a:pt x="0" y="908"/>
                </a:lnTo>
                <a:lnTo>
                  <a:pt x="0" y="923"/>
                </a:lnTo>
                <a:lnTo>
                  <a:pt x="0" y="938"/>
                </a:lnTo>
                <a:lnTo>
                  <a:pt x="0" y="953"/>
                </a:lnTo>
                <a:lnTo>
                  <a:pt x="9" y="975"/>
                </a:lnTo>
                <a:lnTo>
                  <a:pt x="18" y="990"/>
                </a:lnTo>
                <a:lnTo>
                  <a:pt x="18" y="1005"/>
                </a:lnTo>
                <a:lnTo>
                  <a:pt x="27" y="1028"/>
                </a:lnTo>
                <a:lnTo>
                  <a:pt x="45" y="1043"/>
                </a:lnTo>
                <a:lnTo>
                  <a:pt x="45" y="1058"/>
                </a:lnTo>
                <a:lnTo>
                  <a:pt x="54" y="1073"/>
                </a:lnTo>
                <a:lnTo>
                  <a:pt x="81" y="1095"/>
                </a:lnTo>
                <a:lnTo>
                  <a:pt x="90" y="1110"/>
                </a:lnTo>
                <a:lnTo>
                  <a:pt x="99" y="1125"/>
                </a:lnTo>
                <a:lnTo>
                  <a:pt x="108" y="1140"/>
                </a:lnTo>
                <a:lnTo>
                  <a:pt x="125" y="1163"/>
                </a:lnTo>
                <a:lnTo>
                  <a:pt x="152" y="1178"/>
                </a:lnTo>
                <a:lnTo>
                  <a:pt x="161" y="1193"/>
                </a:lnTo>
                <a:lnTo>
                  <a:pt x="188" y="1215"/>
                </a:lnTo>
                <a:lnTo>
                  <a:pt x="206" y="1230"/>
                </a:lnTo>
                <a:lnTo>
                  <a:pt x="233" y="1253"/>
                </a:lnTo>
                <a:lnTo>
                  <a:pt x="260" y="1268"/>
                </a:lnTo>
                <a:lnTo>
                  <a:pt x="278" y="1275"/>
                </a:lnTo>
                <a:lnTo>
                  <a:pt x="296" y="1290"/>
                </a:lnTo>
                <a:lnTo>
                  <a:pt x="314" y="1298"/>
                </a:lnTo>
                <a:lnTo>
                  <a:pt x="332" y="1305"/>
                </a:lnTo>
                <a:lnTo>
                  <a:pt x="349" y="1320"/>
                </a:lnTo>
                <a:lnTo>
                  <a:pt x="367" y="1328"/>
                </a:lnTo>
                <a:lnTo>
                  <a:pt x="385" y="1328"/>
                </a:lnTo>
                <a:lnTo>
                  <a:pt x="412" y="1328"/>
                </a:lnTo>
                <a:lnTo>
                  <a:pt x="430" y="1328"/>
                </a:lnTo>
                <a:lnTo>
                  <a:pt x="457" y="1328"/>
                </a:lnTo>
                <a:lnTo>
                  <a:pt x="475" y="1320"/>
                </a:lnTo>
                <a:lnTo>
                  <a:pt x="502" y="1320"/>
                </a:lnTo>
                <a:lnTo>
                  <a:pt x="591" y="1313"/>
                </a:lnTo>
                <a:lnTo>
                  <a:pt x="609" y="1313"/>
                </a:lnTo>
                <a:lnTo>
                  <a:pt x="681" y="1305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s opérations : Le chemin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549760" y="1087560"/>
            <a:ext cx="3327480" cy="4792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2760" y="1079640"/>
            <a:ext cx="4852800" cy="479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13120" y="1214280"/>
            <a:ext cx="293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moire cent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3120" y="1208160"/>
            <a:ext cx="2456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é Cent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8680" y="3227400"/>
            <a:ext cx="1495440" cy="1155600"/>
          </a:xfrm>
          <a:prstGeom prst="rect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52120" y="3564000"/>
            <a:ext cx="163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ô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24000" y="2387520"/>
            <a:ext cx="1194840" cy="30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4960" y="1209600"/>
            <a:ext cx="1488960" cy="30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34040" y="4867200"/>
            <a:ext cx="1101960" cy="30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57560" y="5005440"/>
            <a:ext cx="1601640" cy="30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64160" y="432288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49480" y="120024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32640" y="1893960"/>
            <a:ext cx="1923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2640" y="2168640"/>
            <a:ext cx="1923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32640" y="2927520"/>
            <a:ext cx="1923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32640" y="3203640"/>
            <a:ext cx="1923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32640" y="3476520"/>
            <a:ext cx="1923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32640" y="3754440"/>
            <a:ext cx="1923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2280" y="5632560"/>
            <a:ext cx="10476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2280" y="568332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5800" y="563256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25800" y="56833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74960" y="5632560"/>
            <a:ext cx="10656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74960" y="5683320"/>
            <a:ext cx="24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35840" y="5632560"/>
            <a:ext cx="10656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35840" y="5683320"/>
            <a:ext cx="24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35840" y="4394160"/>
            <a:ext cx="106560" cy="9864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35840" y="4443480"/>
            <a:ext cx="24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19640" y="4394160"/>
            <a:ext cx="106200" cy="9864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19640" y="444348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7960" y="4944960"/>
            <a:ext cx="106560" cy="10008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07960" y="4992840"/>
            <a:ext cx="24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66880" y="308304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66880" y="313380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1920" y="1855800"/>
            <a:ext cx="104760" cy="9828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4520" y="190656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923000" y="2325600"/>
            <a:ext cx="249120" cy="101520"/>
            <a:chOff x="4923000" y="2325600"/>
            <a:chExt cx="249120" cy="101520"/>
          </a:xfrm>
        </p:grpSpPr>
        <p:sp>
          <p:nvSpPr>
            <p:cNvPr id="115" name=""/>
            <p:cNvSpPr/>
            <p:nvPr/>
          </p:nvSpPr>
          <p:spPr>
            <a:xfrm>
              <a:off x="4923000" y="2325600"/>
              <a:ext cx="106200" cy="10152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67360" y="2374920"/>
              <a:ext cx="1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147080" y="563256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04160" y="56833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47080" y="4394160"/>
            <a:ext cx="106200" cy="9864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04160" y="444348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57680" y="1855800"/>
            <a:ext cx="106200" cy="9828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10080" y="19051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76640" y="2325600"/>
            <a:ext cx="0" cy="23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5732280" y="2611800"/>
            <a:ext cx="135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994040" y="3123720"/>
            <a:ext cx="723600" cy="5209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625400" y="4038480"/>
            <a:ext cx="1091880" cy="9273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39960" y="4356000"/>
            <a:ext cx="1993680" cy="12826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374920" y="4343400"/>
            <a:ext cx="990720" cy="1320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19440" y="4368960"/>
            <a:ext cx="393840" cy="12571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040" y="4076640"/>
            <a:ext cx="520560" cy="3430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873600" y="4368600"/>
            <a:ext cx="3124080" cy="13460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152600" y="3835440"/>
            <a:ext cx="4051080" cy="18540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152960" y="3632040"/>
            <a:ext cx="2819520" cy="825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4140360" y="3429000"/>
            <a:ext cx="4063680" cy="10288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835080" y="2590920"/>
            <a:ext cx="1181160" cy="6602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339720" y="1943280"/>
            <a:ext cx="1422360" cy="13334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060720" y="1943280"/>
            <a:ext cx="558720" cy="12571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52280"/>
            <a:ext cx="91440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 contrôleur : “le chef de gare pilote les aiguillag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463680" y="1073160"/>
            <a:ext cx="4865400" cy="481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464160" y="432288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76236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76236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740040" y="1843200"/>
            <a:ext cx="136800" cy="12852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587760" y="1905120"/>
            <a:ext cx="2840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543640" y="1081080"/>
            <a:ext cx="3340080" cy="480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5732280" y="2611800"/>
            <a:ext cx="135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681280" y="3214800"/>
            <a:ext cx="1495440" cy="1155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073320" y="5054760"/>
            <a:ext cx="1549440" cy="29196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728080" y="3360600"/>
            <a:ext cx="133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184520" y="4811760"/>
            <a:ext cx="803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081240" y="4989600"/>
            <a:ext cx="1559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609920" y="2335320"/>
            <a:ext cx="361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803240" y="2502000"/>
            <a:ext cx="39960" cy="1512720"/>
          </a:xfrm>
          <a:custGeom>
            <a:avLst/>
            <a:gdLst/>
            <a:ahLst/>
            <a:rect l="l" t="t" r="r" b="b"/>
            <a:pathLst>
              <a:path w="25" h="953">
                <a:moveTo>
                  <a:pt x="0" y="952"/>
                </a:moveTo>
                <a:lnTo>
                  <a:pt x="12" y="924"/>
                </a:lnTo>
                <a:lnTo>
                  <a:pt x="12" y="895"/>
                </a:lnTo>
                <a:lnTo>
                  <a:pt x="24" y="867"/>
                </a:lnTo>
                <a:lnTo>
                  <a:pt x="24" y="838"/>
                </a:lnTo>
                <a:lnTo>
                  <a:pt x="24" y="810"/>
                </a:lnTo>
                <a:lnTo>
                  <a:pt x="24" y="781"/>
                </a:lnTo>
                <a:lnTo>
                  <a:pt x="24" y="739"/>
                </a:lnTo>
                <a:lnTo>
                  <a:pt x="24" y="710"/>
                </a:lnTo>
                <a:lnTo>
                  <a:pt x="24" y="682"/>
                </a:lnTo>
                <a:lnTo>
                  <a:pt x="24" y="654"/>
                </a:lnTo>
                <a:lnTo>
                  <a:pt x="24" y="625"/>
                </a:lnTo>
                <a:lnTo>
                  <a:pt x="24" y="597"/>
                </a:lnTo>
                <a:lnTo>
                  <a:pt x="24" y="554"/>
                </a:lnTo>
                <a:lnTo>
                  <a:pt x="24" y="512"/>
                </a:lnTo>
                <a:lnTo>
                  <a:pt x="12" y="483"/>
                </a:lnTo>
                <a:lnTo>
                  <a:pt x="12" y="455"/>
                </a:lnTo>
                <a:lnTo>
                  <a:pt x="12" y="426"/>
                </a:lnTo>
                <a:lnTo>
                  <a:pt x="12" y="398"/>
                </a:lnTo>
                <a:lnTo>
                  <a:pt x="12" y="369"/>
                </a:lnTo>
                <a:lnTo>
                  <a:pt x="0" y="341"/>
                </a:lnTo>
                <a:lnTo>
                  <a:pt x="0" y="298"/>
                </a:lnTo>
                <a:lnTo>
                  <a:pt x="0" y="270"/>
                </a:lnTo>
                <a:lnTo>
                  <a:pt x="0" y="242"/>
                </a:lnTo>
                <a:lnTo>
                  <a:pt x="0" y="199"/>
                </a:lnTo>
                <a:lnTo>
                  <a:pt x="0" y="171"/>
                </a:lnTo>
                <a:lnTo>
                  <a:pt x="0" y="142"/>
                </a:lnTo>
                <a:lnTo>
                  <a:pt x="0" y="114"/>
                </a:lnTo>
                <a:lnTo>
                  <a:pt x="0" y="99"/>
                </a:lnTo>
                <a:lnTo>
                  <a:pt x="12" y="0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486240" y="1187280"/>
            <a:ext cx="149868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3403440" y="4355640"/>
            <a:ext cx="0" cy="69084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229280" y="2870280"/>
            <a:ext cx="1957320" cy="2198520"/>
          </a:xfrm>
          <a:custGeom>
            <a:avLst/>
            <a:gdLst/>
            <a:ahLst/>
            <a:rect l="l" t="t" r="r" b="b"/>
            <a:pathLst>
              <a:path w="1233" h="1385">
                <a:moveTo>
                  <a:pt x="8" y="1384"/>
                </a:moveTo>
                <a:lnTo>
                  <a:pt x="8" y="1360"/>
                </a:lnTo>
                <a:lnTo>
                  <a:pt x="8" y="1344"/>
                </a:lnTo>
                <a:lnTo>
                  <a:pt x="0" y="1312"/>
                </a:lnTo>
                <a:lnTo>
                  <a:pt x="0" y="1288"/>
                </a:lnTo>
                <a:lnTo>
                  <a:pt x="0" y="1248"/>
                </a:lnTo>
                <a:lnTo>
                  <a:pt x="8" y="1224"/>
                </a:lnTo>
                <a:lnTo>
                  <a:pt x="16" y="1160"/>
                </a:lnTo>
                <a:lnTo>
                  <a:pt x="32" y="1128"/>
                </a:lnTo>
                <a:lnTo>
                  <a:pt x="40" y="1088"/>
                </a:lnTo>
                <a:lnTo>
                  <a:pt x="48" y="1056"/>
                </a:lnTo>
                <a:lnTo>
                  <a:pt x="64" y="1016"/>
                </a:lnTo>
                <a:lnTo>
                  <a:pt x="72" y="984"/>
                </a:lnTo>
                <a:lnTo>
                  <a:pt x="80" y="936"/>
                </a:lnTo>
                <a:lnTo>
                  <a:pt x="96" y="904"/>
                </a:lnTo>
                <a:lnTo>
                  <a:pt x="104" y="864"/>
                </a:lnTo>
                <a:lnTo>
                  <a:pt x="112" y="832"/>
                </a:lnTo>
                <a:lnTo>
                  <a:pt x="128" y="800"/>
                </a:lnTo>
                <a:lnTo>
                  <a:pt x="136" y="768"/>
                </a:lnTo>
                <a:lnTo>
                  <a:pt x="160" y="728"/>
                </a:lnTo>
                <a:lnTo>
                  <a:pt x="168" y="696"/>
                </a:lnTo>
                <a:lnTo>
                  <a:pt x="176" y="672"/>
                </a:lnTo>
                <a:lnTo>
                  <a:pt x="192" y="640"/>
                </a:lnTo>
                <a:lnTo>
                  <a:pt x="200" y="624"/>
                </a:lnTo>
                <a:lnTo>
                  <a:pt x="208" y="600"/>
                </a:lnTo>
                <a:lnTo>
                  <a:pt x="224" y="584"/>
                </a:lnTo>
                <a:lnTo>
                  <a:pt x="240" y="560"/>
                </a:lnTo>
                <a:lnTo>
                  <a:pt x="248" y="536"/>
                </a:lnTo>
                <a:lnTo>
                  <a:pt x="264" y="528"/>
                </a:lnTo>
                <a:lnTo>
                  <a:pt x="272" y="512"/>
                </a:lnTo>
                <a:lnTo>
                  <a:pt x="288" y="488"/>
                </a:lnTo>
                <a:lnTo>
                  <a:pt x="312" y="456"/>
                </a:lnTo>
                <a:lnTo>
                  <a:pt x="328" y="440"/>
                </a:lnTo>
                <a:lnTo>
                  <a:pt x="344" y="424"/>
                </a:lnTo>
                <a:lnTo>
                  <a:pt x="368" y="392"/>
                </a:lnTo>
                <a:lnTo>
                  <a:pt x="384" y="384"/>
                </a:lnTo>
                <a:lnTo>
                  <a:pt x="400" y="368"/>
                </a:lnTo>
                <a:lnTo>
                  <a:pt x="408" y="352"/>
                </a:lnTo>
                <a:lnTo>
                  <a:pt x="432" y="336"/>
                </a:lnTo>
                <a:lnTo>
                  <a:pt x="448" y="320"/>
                </a:lnTo>
                <a:lnTo>
                  <a:pt x="472" y="296"/>
                </a:lnTo>
                <a:lnTo>
                  <a:pt x="488" y="288"/>
                </a:lnTo>
                <a:lnTo>
                  <a:pt x="504" y="272"/>
                </a:lnTo>
                <a:lnTo>
                  <a:pt x="536" y="248"/>
                </a:lnTo>
                <a:lnTo>
                  <a:pt x="560" y="240"/>
                </a:lnTo>
                <a:lnTo>
                  <a:pt x="576" y="224"/>
                </a:lnTo>
                <a:lnTo>
                  <a:pt x="600" y="200"/>
                </a:lnTo>
                <a:lnTo>
                  <a:pt x="624" y="192"/>
                </a:lnTo>
                <a:lnTo>
                  <a:pt x="656" y="168"/>
                </a:lnTo>
                <a:lnTo>
                  <a:pt x="672" y="152"/>
                </a:lnTo>
                <a:lnTo>
                  <a:pt x="696" y="144"/>
                </a:lnTo>
                <a:lnTo>
                  <a:pt x="720" y="136"/>
                </a:lnTo>
                <a:lnTo>
                  <a:pt x="744" y="120"/>
                </a:lnTo>
                <a:lnTo>
                  <a:pt x="768" y="112"/>
                </a:lnTo>
                <a:lnTo>
                  <a:pt x="784" y="96"/>
                </a:lnTo>
                <a:lnTo>
                  <a:pt x="808" y="88"/>
                </a:lnTo>
                <a:lnTo>
                  <a:pt x="824" y="80"/>
                </a:lnTo>
                <a:lnTo>
                  <a:pt x="848" y="72"/>
                </a:lnTo>
                <a:lnTo>
                  <a:pt x="864" y="56"/>
                </a:lnTo>
                <a:lnTo>
                  <a:pt x="888" y="48"/>
                </a:lnTo>
                <a:lnTo>
                  <a:pt x="904" y="40"/>
                </a:lnTo>
                <a:lnTo>
                  <a:pt x="928" y="40"/>
                </a:lnTo>
                <a:lnTo>
                  <a:pt x="944" y="32"/>
                </a:lnTo>
                <a:lnTo>
                  <a:pt x="960" y="24"/>
                </a:lnTo>
                <a:lnTo>
                  <a:pt x="984" y="16"/>
                </a:lnTo>
                <a:lnTo>
                  <a:pt x="1008" y="8"/>
                </a:lnTo>
                <a:lnTo>
                  <a:pt x="1024" y="8"/>
                </a:lnTo>
                <a:lnTo>
                  <a:pt x="1040" y="8"/>
                </a:lnTo>
                <a:lnTo>
                  <a:pt x="1056" y="0"/>
                </a:lnTo>
                <a:lnTo>
                  <a:pt x="1072" y="0"/>
                </a:lnTo>
                <a:lnTo>
                  <a:pt x="1088" y="0"/>
                </a:lnTo>
                <a:lnTo>
                  <a:pt x="1104" y="0"/>
                </a:lnTo>
                <a:lnTo>
                  <a:pt x="1120" y="0"/>
                </a:lnTo>
                <a:lnTo>
                  <a:pt x="1136" y="0"/>
                </a:lnTo>
                <a:lnTo>
                  <a:pt x="1152" y="0"/>
                </a:lnTo>
                <a:lnTo>
                  <a:pt x="1168" y="0"/>
                </a:lnTo>
                <a:lnTo>
                  <a:pt x="1184" y="0"/>
                </a:lnTo>
                <a:lnTo>
                  <a:pt x="1200" y="0"/>
                </a:lnTo>
                <a:lnTo>
                  <a:pt x="1216" y="8"/>
                </a:lnTo>
                <a:lnTo>
                  <a:pt x="1232" y="8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2133720" y="2120760"/>
            <a:ext cx="5792760" cy="4230720"/>
          </a:xfrm>
          <a:custGeom>
            <a:avLst/>
            <a:gdLst/>
            <a:ahLst/>
            <a:rect l="l" t="t" r="r" b="b"/>
            <a:pathLst>
              <a:path w="3649" h="2665">
                <a:moveTo>
                  <a:pt x="3600" y="8"/>
                </a:moveTo>
                <a:lnTo>
                  <a:pt x="3576" y="0"/>
                </a:lnTo>
                <a:lnTo>
                  <a:pt x="3560" y="0"/>
                </a:lnTo>
                <a:lnTo>
                  <a:pt x="3544" y="8"/>
                </a:lnTo>
                <a:lnTo>
                  <a:pt x="3528" y="8"/>
                </a:lnTo>
                <a:lnTo>
                  <a:pt x="3504" y="24"/>
                </a:lnTo>
                <a:lnTo>
                  <a:pt x="3488" y="32"/>
                </a:lnTo>
                <a:lnTo>
                  <a:pt x="3488" y="48"/>
                </a:lnTo>
                <a:lnTo>
                  <a:pt x="3488" y="64"/>
                </a:lnTo>
                <a:lnTo>
                  <a:pt x="3488" y="80"/>
                </a:lnTo>
                <a:lnTo>
                  <a:pt x="3496" y="96"/>
                </a:lnTo>
                <a:lnTo>
                  <a:pt x="3504" y="112"/>
                </a:lnTo>
                <a:lnTo>
                  <a:pt x="3512" y="128"/>
                </a:lnTo>
                <a:lnTo>
                  <a:pt x="3520" y="144"/>
                </a:lnTo>
                <a:lnTo>
                  <a:pt x="3536" y="152"/>
                </a:lnTo>
                <a:lnTo>
                  <a:pt x="3552" y="160"/>
                </a:lnTo>
                <a:lnTo>
                  <a:pt x="3568" y="160"/>
                </a:lnTo>
                <a:lnTo>
                  <a:pt x="3584" y="160"/>
                </a:lnTo>
                <a:lnTo>
                  <a:pt x="3600" y="168"/>
                </a:lnTo>
                <a:lnTo>
                  <a:pt x="3616" y="168"/>
                </a:lnTo>
                <a:lnTo>
                  <a:pt x="3632" y="160"/>
                </a:lnTo>
                <a:lnTo>
                  <a:pt x="3648" y="144"/>
                </a:lnTo>
                <a:lnTo>
                  <a:pt x="3648" y="128"/>
                </a:lnTo>
                <a:lnTo>
                  <a:pt x="3648" y="112"/>
                </a:lnTo>
                <a:lnTo>
                  <a:pt x="3648" y="96"/>
                </a:lnTo>
                <a:lnTo>
                  <a:pt x="3640" y="80"/>
                </a:lnTo>
                <a:lnTo>
                  <a:pt x="3632" y="64"/>
                </a:lnTo>
                <a:lnTo>
                  <a:pt x="3624" y="48"/>
                </a:lnTo>
                <a:lnTo>
                  <a:pt x="3608" y="48"/>
                </a:lnTo>
                <a:lnTo>
                  <a:pt x="3592" y="40"/>
                </a:lnTo>
                <a:lnTo>
                  <a:pt x="3576" y="40"/>
                </a:lnTo>
                <a:lnTo>
                  <a:pt x="3560" y="48"/>
                </a:lnTo>
                <a:lnTo>
                  <a:pt x="3544" y="48"/>
                </a:lnTo>
                <a:lnTo>
                  <a:pt x="3528" y="56"/>
                </a:lnTo>
                <a:lnTo>
                  <a:pt x="3504" y="72"/>
                </a:lnTo>
                <a:lnTo>
                  <a:pt x="3480" y="88"/>
                </a:lnTo>
                <a:lnTo>
                  <a:pt x="3472" y="104"/>
                </a:lnTo>
                <a:lnTo>
                  <a:pt x="3464" y="120"/>
                </a:lnTo>
                <a:lnTo>
                  <a:pt x="3456" y="144"/>
                </a:lnTo>
                <a:lnTo>
                  <a:pt x="3448" y="160"/>
                </a:lnTo>
                <a:lnTo>
                  <a:pt x="3440" y="184"/>
                </a:lnTo>
                <a:lnTo>
                  <a:pt x="3440" y="208"/>
                </a:lnTo>
                <a:lnTo>
                  <a:pt x="3432" y="232"/>
                </a:lnTo>
                <a:lnTo>
                  <a:pt x="3432" y="256"/>
                </a:lnTo>
                <a:lnTo>
                  <a:pt x="3424" y="272"/>
                </a:lnTo>
                <a:lnTo>
                  <a:pt x="3424" y="288"/>
                </a:lnTo>
                <a:lnTo>
                  <a:pt x="3424" y="304"/>
                </a:lnTo>
                <a:lnTo>
                  <a:pt x="3424" y="320"/>
                </a:lnTo>
                <a:lnTo>
                  <a:pt x="3424" y="336"/>
                </a:lnTo>
                <a:lnTo>
                  <a:pt x="3424" y="352"/>
                </a:lnTo>
                <a:lnTo>
                  <a:pt x="3424" y="376"/>
                </a:lnTo>
                <a:lnTo>
                  <a:pt x="3424" y="400"/>
                </a:lnTo>
                <a:lnTo>
                  <a:pt x="3424" y="424"/>
                </a:lnTo>
                <a:lnTo>
                  <a:pt x="3424" y="448"/>
                </a:lnTo>
                <a:lnTo>
                  <a:pt x="3424" y="464"/>
                </a:lnTo>
                <a:lnTo>
                  <a:pt x="3432" y="488"/>
                </a:lnTo>
                <a:lnTo>
                  <a:pt x="3432" y="512"/>
                </a:lnTo>
                <a:lnTo>
                  <a:pt x="3440" y="536"/>
                </a:lnTo>
                <a:lnTo>
                  <a:pt x="3440" y="552"/>
                </a:lnTo>
                <a:lnTo>
                  <a:pt x="3440" y="584"/>
                </a:lnTo>
                <a:lnTo>
                  <a:pt x="3440" y="600"/>
                </a:lnTo>
                <a:lnTo>
                  <a:pt x="3440" y="624"/>
                </a:lnTo>
                <a:lnTo>
                  <a:pt x="3440" y="648"/>
                </a:lnTo>
                <a:lnTo>
                  <a:pt x="3440" y="664"/>
                </a:lnTo>
                <a:lnTo>
                  <a:pt x="3448" y="688"/>
                </a:lnTo>
                <a:lnTo>
                  <a:pt x="3448" y="712"/>
                </a:lnTo>
                <a:lnTo>
                  <a:pt x="3448" y="736"/>
                </a:lnTo>
                <a:lnTo>
                  <a:pt x="3448" y="760"/>
                </a:lnTo>
                <a:lnTo>
                  <a:pt x="3448" y="784"/>
                </a:lnTo>
                <a:lnTo>
                  <a:pt x="3456" y="808"/>
                </a:lnTo>
                <a:lnTo>
                  <a:pt x="3456" y="824"/>
                </a:lnTo>
                <a:lnTo>
                  <a:pt x="3456" y="848"/>
                </a:lnTo>
                <a:lnTo>
                  <a:pt x="3464" y="872"/>
                </a:lnTo>
                <a:lnTo>
                  <a:pt x="3464" y="888"/>
                </a:lnTo>
                <a:lnTo>
                  <a:pt x="3464" y="904"/>
                </a:lnTo>
                <a:lnTo>
                  <a:pt x="3464" y="928"/>
                </a:lnTo>
                <a:lnTo>
                  <a:pt x="3464" y="944"/>
                </a:lnTo>
                <a:lnTo>
                  <a:pt x="3464" y="968"/>
                </a:lnTo>
                <a:lnTo>
                  <a:pt x="3464" y="984"/>
                </a:lnTo>
                <a:lnTo>
                  <a:pt x="3464" y="1008"/>
                </a:lnTo>
                <a:lnTo>
                  <a:pt x="3464" y="1024"/>
                </a:lnTo>
                <a:lnTo>
                  <a:pt x="3464" y="1040"/>
                </a:lnTo>
                <a:lnTo>
                  <a:pt x="3464" y="1064"/>
                </a:lnTo>
                <a:lnTo>
                  <a:pt x="3464" y="1080"/>
                </a:lnTo>
                <a:lnTo>
                  <a:pt x="3464" y="1096"/>
                </a:lnTo>
                <a:lnTo>
                  <a:pt x="3464" y="1112"/>
                </a:lnTo>
                <a:lnTo>
                  <a:pt x="3464" y="1128"/>
                </a:lnTo>
                <a:lnTo>
                  <a:pt x="3472" y="1144"/>
                </a:lnTo>
                <a:lnTo>
                  <a:pt x="3472" y="1168"/>
                </a:lnTo>
                <a:lnTo>
                  <a:pt x="3472" y="1184"/>
                </a:lnTo>
                <a:lnTo>
                  <a:pt x="3472" y="1200"/>
                </a:lnTo>
                <a:lnTo>
                  <a:pt x="3472" y="1216"/>
                </a:lnTo>
                <a:lnTo>
                  <a:pt x="3472" y="1232"/>
                </a:lnTo>
                <a:lnTo>
                  <a:pt x="3472" y="1248"/>
                </a:lnTo>
                <a:lnTo>
                  <a:pt x="3472" y="1272"/>
                </a:lnTo>
                <a:lnTo>
                  <a:pt x="3472" y="1288"/>
                </a:lnTo>
                <a:lnTo>
                  <a:pt x="3472" y="1320"/>
                </a:lnTo>
                <a:lnTo>
                  <a:pt x="3472" y="1336"/>
                </a:lnTo>
                <a:lnTo>
                  <a:pt x="3472" y="1352"/>
                </a:lnTo>
                <a:lnTo>
                  <a:pt x="3472" y="1384"/>
                </a:lnTo>
                <a:lnTo>
                  <a:pt x="3472" y="1400"/>
                </a:lnTo>
                <a:lnTo>
                  <a:pt x="3472" y="1424"/>
                </a:lnTo>
                <a:lnTo>
                  <a:pt x="3472" y="1448"/>
                </a:lnTo>
                <a:lnTo>
                  <a:pt x="3464" y="1472"/>
                </a:lnTo>
                <a:lnTo>
                  <a:pt x="3464" y="1496"/>
                </a:lnTo>
                <a:lnTo>
                  <a:pt x="3464" y="1520"/>
                </a:lnTo>
                <a:lnTo>
                  <a:pt x="3464" y="1536"/>
                </a:lnTo>
                <a:lnTo>
                  <a:pt x="3464" y="1560"/>
                </a:lnTo>
                <a:lnTo>
                  <a:pt x="3456" y="1608"/>
                </a:lnTo>
                <a:lnTo>
                  <a:pt x="3456" y="1624"/>
                </a:lnTo>
                <a:lnTo>
                  <a:pt x="3456" y="1640"/>
                </a:lnTo>
                <a:lnTo>
                  <a:pt x="3448" y="1656"/>
                </a:lnTo>
                <a:lnTo>
                  <a:pt x="3448" y="1672"/>
                </a:lnTo>
                <a:lnTo>
                  <a:pt x="3448" y="1688"/>
                </a:lnTo>
                <a:lnTo>
                  <a:pt x="3448" y="1704"/>
                </a:lnTo>
                <a:lnTo>
                  <a:pt x="3448" y="1720"/>
                </a:lnTo>
                <a:lnTo>
                  <a:pt x="3448" y="1736"/>
                </a:lnTo>
                <a:lnTo>
                  <a:pt x="3448" y="1752"/>
                </a:lnTo>
                <a:lnTo>
                  <a:pt x="3440" y="1816"/>
                </a:lnTo>
                <a:lnTo>
                  <a:pt x="3440" y="1832"/>
                </a:lnTo>
                <a:lnTo>
                  <a:pt x="3432" y="1848"/>
                </a:lnTo>
                <a:lnTo>
                  <a:pt x="3424" y="1864"/>
                </a:lnTo>
                <a:lnTo>
                  <a:pt x="3424" y="1880"/>
                </a:lnTo>
                <a:lnTo>
                  <a:pt x="3416" y="1904"/>
                </a:lnTo>
                <a:lnTo>
                  <a:pt x="3408" y="1920"/>
                </a:lnTo>
                <a:lnTo>
                  <a:pt x="3400" y="1936"/>
                </a:lnTo>
                <a:lnTo>
                  <a:pt x="3392" y="1968"/>
                </a:lnTo>
                <a:lnTo>
                  <a:pt x="3376" y="1992"/>
                </a:lnTo>
                <a:lnTo>
                  <a:pt x="3368" y="2016"/>
                </a:lnTo>
                <a:lnTo>
                  <a:pt x="3360" y="2032"/>
                </a:lnTo>
                <a:lnTo>
                  <a:pt x="3352" y="2048"/>
                </a:lnTo>
                <a:lnTo>
                  <a:pt x="3336" y="2064"/>
                </a:lnTo>
                <a:lnTo>
                  <a:pt x="3320" y="2080"/>
                </a:lnTo>
                <a:lnTo>
                  <a:pt x="3304" y="2096"/>
                </a:lnTo>
                <a:lnTo>
                  <a:pt x="3296" y="2112"/>
                </a:lnTo>
                <a:lnTo>
                  <a:pt x="3280" y="2128"/>
                </a:lnTo>
                <a:lnTo>
                  <a:pt x="3248" y="2152"/>
                </a:lnTo>
                <a:lnTo>
                  <a:pt x="3240" y="2168"/>
                </a:lnTo>
                <a:lnTo>
                  <a:pt x="3224" y="2176"/>
                </a:lnTo>
                <a:lnTo>
                  <a:pt x="3208" y="2200"/>
                </a:lnTo>
                <a:lnTo>
                  <a:pt x="3184" y="2216"/>
                </a:lnTo>
                <a:lnTo>
                  <a:pt x="3176" y="2232"/>
                </a:lnTo>
                <a:lnTo>
                  <a:pt x="3160" y="2256"/>
                </a:lnTo>
                <a:lnTo>
                  <a:pt x="3144" y="2264"/>
                </a:lnTo>
                <a:lnTo>
                  <a:pt x="3128" y="2280"/>
                </a:lnTo>
                <a:lnTo>
                  <a:pt x="3112" y="2304"/>
                </a:lnTo>
                <a:lnTo>
                  <a:pt x="3096" y="2320"/>
                </a:lnTo>
                <a:lnTo>
                  <a:pt x="3080" y="2336"/>
                </a:lnTo>
                <a:lnTo>
                  <a:pt x="3064" y="2352"/>
                </a:lnTo>
                <a:lnTo>
                  <a:pt x="3056" y="2376"/>
                </a:lnTo>
                <a:lnTo>
                  <a:pt x="3040" y="2384"/>
                </a:lnTo>
                <a:lnTo>
                  <a:pt x="3032" y="2400"/>
                </a:lnTo>
                <a:lnTo>
                  <a:pt x="3016" y="2416"/>
                </a:lnTo>
                <a:lnTo>
                  <a:pt x="3000" y="2432"/>
                </a:lnTo>
                <a:lnTo>
                  <a:pt x="2992" y="2448"/>
                </a:lnTo>
                <a:lnTo>
                  <a:pt x="2976" y="2456"/>
                </a:lnTo>
                <a:lnTo>
                  <a:pt x="2960" y="2464"/>
                </a:lnTo>
                <a:lnTo>
                  <a:pt x="2960" y="2480"/>
                </a:lnTo>
                <a:lnTo>
                  <a:pt x="2944" y="2496"/>
                </a:lnTo>
                <a:lnTo>
                  <a:pt x="2920" y="2512"/>
                </a:lnTo>
                <a:lnTo>
                  <a:pt x="2904" y="2528"/>
                </a:lnTo>
                <a:lnTo>
                  <a:pt x="2880" y="2536"/>
                </a:lnTo>
                <a:lnTo>
                  <a:pt x="2848" y="2544"/>
                </a:lnTo>
                <a:lnTo>
                  <a:pt x="2824" y="2568"/>
                </a:lnTo>
                <a:lnTo>
                  <a:pt x="2792" y="2576"/>
                </a:lnTo>
                <a:lnTo>
                  <a:pt x="2752" y="2584"/>
                </a:lnTo>
                <a:lnTo>
                  <a:pt x="2720" y="2600"/>
                </a:lnTo>
                <a:lnTo>
                  <a:pt x="2672" y="2608"/>
                </a:lnTo>
                <a:lnTo>
                  <a:pt x="2632" y="2624"/>
                </a:lnTo>
                <a:lnTo>
                  <a:pt x="2584" y="2640"/>
                </a:lnTo>
                <a:lnTo>
                  <a:pt x="2552" y="2640"/>
                </a:lnTo>
                <a:lnTo>
                  <a:pt x="2504" y="2656"/>
                </a:lnTo>
                <a:lnTo>
                  <a:pt x="2472" y="2664"/>
                </a:lnTo>
                <a:lnTo>
                  <a:pt x="2432" y="2664"/>
                </a:lnTo>
                <a:lnTo>
                  <a:pt x="2416" y="2664"/>
                </a:lnTo>
                <a:lnTo>
                  <a:pt x="2384" y="2664"/>
                </a:lnTo>
                <a:lnTo>
                  <a:pt x="2352" y="2664"/>
                </a:lnTo>
                <a:lnTo>
                  <a:pt x="2328" y="2664"/>
                </a:lnTo>
                <a:lnTo>
                  <a:pt x="2304" y="2664"/>
                </a:lnTo>
                <a:lnTo>
                  <a:pt x="2280" y="2656"/>
                </a:lnTo>
                <a:lnTo>
                  <a:pt x="2256" y="2648"/>
                </a:lnTo>
                <a:lnTo>
                  <a:pt x="2232" y="2648"/>
                </a:lnTo>
                <a:lnTo>
                  <a:pt x="2208" y="2648"/>
                </a:lnTo>
                <a:lnTo>
                  <a:pt x="2192" y="2640"/>
                </a:lnTo>
                <a:lnTo>
                  <a:pt x="2168" y="2632"/>
                </a:lnTo>
                <a:lnTo>
                  <a:pt x="2152" y="2624"/>
                </a:lnTo>
                <a:lnTo>
                  <a:pt x="2136" y="2624"/>
                </a:lnTo>
                <a:lnTo>
                  <a:pt x="2120" y="2624"/>
                </a:lnTo>
                <a:lnTo>
                  <a:pt x="2104" y="2624"/>
                </a:lnTo>
                <a:lnTo>
                  <a:pt x="2080" y="2616"/>
                </a:lnTo>
                <a:lnTo>
                  <a:pt x="2064" y="2608"/>
                </a:lnTo>
                <a:lnTo>
                  <a:pt x="2048" y="2608"/>
                </a:lnTo>
                <a:lnTo>
                  <a:pt x="2024" y="2592"/>
                </a:lnTo>
                <a:lnTo>
                  <a:pt x="2008" y="2592"/>
                </a:lnTo>
                <a:lnTo>
                  <a:pt x="1992" y="2592"/>
                </a:lnTo>
                <a:lnTo>
                  <a:pt x="1968" y="2584"/>
                </a:lnTo>
                <a:lnTo>
                  <a:pt x="1944" y="2576"/>
                </a:lnTo>
                <a:lnTo>
                  <a:pt x="1920" y="2568"/>
                </a:lnTo>
                <a:lnTo>
                  <a:pt x="1904" y="2568"/>
                </a:lnTo>
                <a:lnTo>
                  <a:pt x="1872" y="2568"/>
                </a:lnTo>
                <a:lnTo>
                  <a:pt x="1856" y="2560"/>
                </a:lnTo>
                <a:lnTo>
                  <a:pt x="1832" y="2552"/>
                </a:lnTo>
                <a:lnTo>
                  <a:pt x="1792" y="2544"/>
                </a:lnTo>
                <a:lnTo>
                  <a:pt x="1768" y="2544"/>
                </a:lnTo>
                <a:lnTo>
                  <a:pt x="1744" y="2536"/>
                </a:lnTo>
                <a:lnTo>
                  <a:pt x="1720" y="2528"/>
                </a:lnTo>
                <a:lnTo>
                  <a:pt x="1688" y="2520"/>
                </a:lnTo>
                <a:lnTo>
                  <a:pt x="1664" y="2520"/>
                </a:lnTo>
                <a:lnTo>
                  <a:pt x="1624" y="2512"/>
                </a:lnTo>
                <a:lnTo>
                  <a:pt x="1584" y="2496"/>
                </a:lnTo>
                <a:lnTo>
                  <a:pt x="1544" y="2488"/>
                </a:lnTo>
                <a:lnTo>
                  <a:pt x="1504" y="2488"/>
                </a:lnTo>
                <a:lnTo>
                  <a:pt x="1472" y="2480"/>
                </a:lnTo>
                <a:lnTo>
                  <a:pt x="1440" y="2472"/>
                </a:lnTo>
                <a:lnTo>
                  <a:pt x="1408" y="2464"/>
                </a:lnTo>
                <a:lnTo>
                  <a:pt x="1384" y="2456"/>
                </a:lnTo>
                <a:lnTo>
                  <a:pt x="1368" y="2456"/>
                </a:lnTo>
                <a:lnTo>
                  <a:pt x="1352" y="2456"/>
                </a:lnTo>
                <a:lnTo>
                  <a:pt x="1336" y="2448"/>
                </a:lnTo>
                <a:lnTo>
                  <a:pt x="1320" y="2440"/>
                </a:lnTo>
                <a:lnTo>
                  <a:pt x="1304" y="2440"/>
                </a:lnTo>
                <a:lnTo>
                  <a:pt x="1288" y="2440"/>
                </a:lnTo>
                <a:lnTo>
                  <a:pt x="1272" y="2432"/>
                </a:lnTo>
                <a:lnTo>
                  <a:pt x="1256" y="2432"/>
                </a:lnTo>
                <a:lnTo>
                  <a:pt x="1232" y="2424"/>
                </a:lnTo>
                <a:lnTo>
                  <a:pt x="1216" y="2424"/>
                </a:lnTo>
                <a:lnTo>
                  <a:pt x="1192" y="2424"/>
                </a:lnTo>
                <a:lnTo>
                  <a:pt x="1176" y="2424"/>
                </a:lnTo>
                <a:lnTo>
                  <a:pt x="1160" y="2424"/>
                </a:lnTo>
                <a:lnTo>
                  <a:pt x="1144" y="2424"/>
                </a:lnTo>
                <a:lnTo>
                  <a:pt x="1128" y="2424"/>
                </a:lnTo>
                <a:lnTo>
                  <a:pt x="1104" y="2408"/>
                </a:lnTo>
                <a:lnTo>
                  <a:pt x="1088" y="2400"/>
                </a:lnTo>
                <a:lnTo>
                  <a:pt x="1072" y="2408"/>
                </a:lnTo>
                <a:lnTo>
                  <a:pt x="1056" y="2408"/>
                </a:lnTo>
                <a:lnTo>
                  <a:pt x="1040" y="2408"/>
                </a:lnTo>
                <a:lnTo>
                  <a:pt x="1024" y="2408"/>
                </a:lnTo>
                <a:lnTo>
                  <a:pt x="1008" y="2408"/>
                </a:lnTo>
                <a:lnTo>
                  <a:pt x="992" y="2408"/>
                </a:lnTo>
                <a:lnTo>
                  <a:pt x="976" y="2408"/>
                </a:lnTo>
                <a:lnTo>
                  <a:pt x="960" y="2408"/>
                </a:lnTo>
                <a:lnTo>
                  <a:pt x="944" y="2408"/>
                </a:lnTo>
                <a:lnTo>
                  <a:pt x="920" y="2408"/>
                </a:lnTo>
                <a:lnTo>
                  <a:pt x="896" y="2408"/>
                </a:lnTo>
                <a:lnTo>
                  <a:pt x="880" y="2408"/>
                </a:lnTo>
                <a:lnTo>
                  <a:pt x="864" y="2408"/>
                </a:lnTo>
                <a:lnTo>
                  <a:pt x="848" y="2408"/>
                </a:lnTo>
                <a:lnTo>
                  <a:pt x="832" y="2408"/>
                </a:lnTo>
                <a:lnTo>
                  <a:pt x="808" y="2408"/>
                </a:lnTo>
                <a:lnTo>
                  <a:pt x="784" y="2408"/>
                </a:lnTo>
                <a:lnTo>
                  <a:pt x="768" y="2408"/>
                </a:lnTo>
                <a:lnTo>
                  <a:pt x="752" y="2408"/>
                </a:lnTo>
                <a:lnTo>
                  <a:pt x="736" y="2408"/>
                </a:lnTo>
                <a:lnTo>
                  <a:pt x="712" y="2408"/>
                </a:lnTo>
                <a:lnTo>
                  <a:pt x="688" y="2408"/>
                </a:lnTo>
                <a:lnTo>
                  <a:pt x="664" y="2400"/>
                </a:lnTo>
                <a:lnTo>
                  <a:pt x="648" y="2400"/>
                </a:lnTo>
                <a:lnTo>
                  <a:pt x="632" y="2400"/>
                </a:lnTo>
                <a:lnTo>
                  <a:pt x="616" y="2392"/>
                </a:lnTo>
                <a:lnTo>
                  <a:pt x="592" y="2384"/>
                </a:lnTo>
                <a:lnTo>
                  <a:pt x="576" y="2384"/>
                </a:lnTo>
                <a:lnTo>
                  <a:pt x="560" y="2376"/>
                </a:lnTo>
                <a:lnTo>
                  <a:pt x="544" y="2376"/>
                </a:lnTo>
                <a:lnTo>
                  <a:pt x="528" y="2368"/>
                </a:lnTo>
                <a:lnTo>
                  <a:pt x="512" y="2360"/>
                </a:lnTo>
                <a:lnTo>
                  <a:pt x="496" y="2352"/>
                </a:lnTo>
                <a:lnTo>
                  <a:pt x="480" y="2352"/>
                </a:lnTo>
                <a:lnTo>
                  <a:pt x="464" y="2344"/>
                </a:lnTo>
                <a:lnTo>
                  <a:pt x="448" y="2328"/>
                </a:lnTo>
                <a:lnTo>
                  <a:pt x="432" y="2320"/>
                </a:lnTo>
                <a:lnTo>
                  <a:pt x="416" y="2320"/>
                </a:lnTo>
                <a:lnTo>
                  <a:pt x="408" y="2304"/>
                </a:lnTo>
                <a:lnTo>
                  <a:pt x="392" y="2288"/>
                </a:lnTo>
                <a:lnTo>
                  <a:pt x="376" y="2280"/>
                </a:lnTo>
                <a:lnTo>
                  <a:pt x="360" y="2264"/>
                </a:lnTo>
                <a:lnTo>
                  <a:pt x="344" y="2256"/>
                </a:lnTo>
                <a:lnTo>
                  <a:pt x="328" y="2240"/>
                </a:lnTo>
                <a:lnTo>
                  <a:pt x="304" y="2224"/>
                </a:lnTo>
                <a:lnTo>
                  <a:pt x="288" y="2208"/>
                </a:lnTo>
                <a:lnTo>
                  <a:pt x="280" y="2192"/>
                </a:lnTo>
                <a:lnTo>
                  <a:pt x="264" y="2184"/>
                </a:lnTo>
                <a:lnTo>
                  <a:pt x="208" y="2112"/>
                </a:lnTo>
                <a:lnTo>
                  <a:pt x="192" y="2096"/>
                </a:lnTo>
                <a:lnTo>
                  <a:pt x="184" y="2080"/>
                </a:lnTo>
                <a:lnTo>
                  <a:pt x="176" y="2056"/>
                </a:lnTo>
                <a:lnTo>
                  <a:pt x="160" y="2048"/>
                </a:lnTo>
                <a:lnTo>
                  <a:pt x="160" y="2032"/>
                </a:lnTo>
                <a:lnTo>
                  <a:pt x="144" y="2008"/>
                </a:lnTo>
                <a:lnTo>
                  <a:pt x="136" y="1984"/>
                </a:lnTo>
                <a:lnTo>
                  <a:pt x="128" y="1968"/>
                </a:lnTo>
                <a:lnTo>
                  <a:pt x="120" y="1952"/>
                </a:lnTo>
                <a:lnTo>
                  <a:pt x="112" y="1936"/>
                </a:lnTo>
                <a:lnTo>
                  <a:pt x="112" y="1920"/>
                </a:lnTo>
                <a:lnTo>
                  <a:pt x="104" y="1904"/>
                </a:lnTo>
                <a:lnTo>
                  <a:pt x="104" y="1888"/>
                </a:lnTo>
                <a:lnTo>
                  <a:pt x="96" y="1864"/>
                </a:lnTo>
                <a:lnTo>
                  <a:pt x="96" y="1848"/>
                </a:lnTo>
                <a:lnTo>
                  <a:pt x="88" y="1832"/>
                </a:lnTo>
                <a:lnTo>
                  <a:pt x="88" y="1816"/>
                </a:lnTo>
                <a:lnTo>
                  <a:pt x="80" y="1800"/>
                </a:lnTo>
                <a:lnTo>
                  <a:pt x="72" y="1784"/>
                </a:lnTo>
                <a:lnTo>
                  <a:pt x="72" y="1768"/>
                </a:lnTo>
                <a:lnTo>
                  <a:pt x="64" y="1752"/>
                </a:lnTo>
                <a:lnTo>
                  <a:pt x="64" y="1736"/>
                </a:lnTo>
                <a:lnTo>
                  <a:pt x="48" y="1720"/>
                </a:lnTo>
                <a:lnTo>
                  <a:pt x="48" y="1704"/>
                </a:lnTo>
                <a:lnTo>
                  <a:pt x="48" y="1688"/>
                </a:lnTo>
                <a:lnTo>
                  <a:pt x="40" y="1672"/>
                </a:lnTo>
                <a:lnTo>
                  <a:pt x="32" y="1656"/>
                </a:lnTo>
                <a:lnTo>
                  <a:pt x="24" y="1640"/>
                </a:lnTo>
                <a:lnTo>
                  <a:pt x="16" y="1624"/>
                </a:lnTo>
                <a:lnTo>
                  <a:pt x="8" y="1608"/>
                </a:lnTo>
                <a:lnTo>
                  <a:pt x="8" y="1592"/>
                </a:lnTo>
                <a:lnTo>
                  <a:pt x="0" y="1576"/>
                </a:lnTo>
                <a:lnTo>
                  <a:pt x="0" y="1584"/>
                </a:lnTo>
                <a:lnTo>
                  <a:pt x="40" y="1624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68280" y="2514600"/>
            <a:ext cx="1424160" cy="2109960"/>
          </a:xfrm>
          <a:custGeom>
            <a:avLst/>
            <a:gdLst/>
            <a:ahLst/>
            <a:rect l="l" t="t" r="r" b="b"/>
            <a:pathLst>
              <a:path w="897" h="1329">
                <a:moveTo>
                  <a:pt x="896" y="0"/>
                </a:moveTo>
                <a:lnTo>
                  <a:pt x="878" y="8"/>
                </a:lnTo>
                <a:lnTo>
                  <a:pt x="860" y="8"/>
                </a:lnTo>
                <a:lnTo>
                  <a:pt x="842" y="15"/>
                </a:lnTo>
                <a:lnTo>
                  <a:pt x="824" y="15"/>
                </a:lnTo>
                <a:lnTo>
                  <a:pt x="806" y="15"/>
                </a:lnTo>
                <a:lnTo>
                  <a:pt x="771" y="15"/>
                </a:lnTo>
                <a:lnTo>
                  <a:pt x="753" y="15"/>
                </a:lnTo>
                <a:lnTo>
                  <a:pt x="735" y="23"/>
                </a:lnTo>
                <a:lnTo>
                  <a:pt x="708" y="23"/>
                </a:lnTo>
                <a:lnTo>
                  <a:pt x="690" y="30"/>
                </a:lnTo>
                <a:lnTo>
                  <a:pt x="654" y="38"/>
                </a:lnTo>
                <a:lnTo>
                  <a:pt x="636" y="38"/>
                </a:lnTo>
                <a:lnTo>
                  <a:pt x="618" y="45"/>
                </a:lnTo>
                <a:lnTo>
                  <a:pt x="600" y="60"/>
                </a:lnTo>
                <a:lnTo>
                  <a:pt x="582" y="60"/>
                </a:lnTo>
                <a:lnTo>
                  <a:pt x="556" y="68"/>
                </a:lnTo>
                <a:lnTo>
                  <a:pt x="529" y="83"/>
                </a:lnTo>
                <a:lnTo>
                  <a:pt x="511" y="90"/>
                </a:lnTo>
                <a:lnTo>
                  <a:pt x="493" y="98"/>
                </a:lnTo>
                <a:lnTo>
                  <a:pt x="475" y="105"/>
                </a:lnTo>
                <a:lnTo>
                  <a:pt x="457" y="113"/>
                </a:lnTo>
                <a:lnTo>
                  <a:pt x="430" y="128"/>
                </a:lnTo>
                <a:lnTo>
                  <a:pt x="412" y="135"/>
                </a:lnTo>
                <a:lnTo>
                  <a:pt x="394" y="143"/>
                </a:lnTo>
                <a:lnTo>
                  <a:pt x="376" y="150"/>
                </a:lnTo>
                <a:lnTo>
                  <a:pt x="358" y="158"/>
                </a:lnTo>
                <a:lnTo>
                  <a:pt x="340" y="165"/>
                </a:lnTo>
                <a:lnTo>
                  <a:pt x="323" y="173"/>
                </a:lnTo>
                <a:lnTo>
                  <a:pt x="305" y="180"/>
                </a:lnTo>
                <a:lnTo>
                  <a:pt x="287" y="195"/>
                </a:lnTo>
                <a:lnTo>
                  <a:pt x="269" y="210"/>
                </a:lnTo>
                <a:lnTo>
                  <a:pt x="251" y="218"/>
                </a:lnTo>
                <a:lnTo>
                  <a:pt x="242" y="233"/>
                </a:lnTo>
                <a:lnTo>
                  <a:pt x="224" y="248"/>
                </a:lnTo>
                <a:lnTo>
                  <a:pt x="215" y="263"/>
                </a:lnTo>
                <a:lnTo>
                  <a:pt x="188" y="285"/>
                </a:lnTo>
                <a:lnTo>
                  <a:pt x="179" y="300"/>
                </a:lnTo>
                <a:lnTo>
                  <a:pt x="170" y="323"/>
                </a:lnTo>
                <a:lnTo>
                  <a:pt x="152" y="338"/>
                </a:lnTo>
                <a:lnTo>
                  <a:pt x="152" y="353"/>
                </a:lnTo>
                <a:lnTo>
                  <a:pt x="134" y="375"/>
                </a:lnTo>
                <a:lnTo>
                  <a:pt x="134" y="390"/>
                </a:lnTo>
                <a:lnTo>
                  <a:pt x="125" y="413"/>
                </a:lnTo>
                <a:lnTo>
                  <a:pt x="108" y="428"/>
                </a:lnTo>
                <a:lnTo>
                  <a:pt x="99" y="458"/>
                </a:lnTo>
                <a:lnTo>
                  <a:pt x="90" y="480"/>
                </a:lnTo>
                <a:lnTo>
                  <a:pt x="81" y="495"/>
                </a:lnTo>
                <a:lnTo>
                  <a:pt x="81" y="510"/>
                </a:lnTo>
                <a:lnTo>
                  <a:pt x="72" y="525"/>
                </a:lnTo>
                <a:lnTo>
                  <a:pt x="72" y="540"/>
                </a:lnTo>
                <a:lnTo>
                  <a:pt x="63" y="563"/>
                </a:lnTo>
                <a:lnTo>
                  <a:pt x="63" y="578"/>
                </a:lnTo>
                <a:lnTo>
                  <a:pt x="63" y="593"/>
                </a:lnTo>
                <a:lnTo>
                  <a:pt x="63" y="608"/>
                </a:lnTo>
                <a:lnTo>
                  <a:pt x="54" y="630"/>
                </a:lnTo>
                <a:lnTo>
                  <a:pt x="45" y="653"/>
                </a:lnTo>
                <a:lnTo>
                  <a:pt x="45" y="668"/>
                </a:lnTo>
                <a:lnTo>
                  <a:pt x="45" y="683"/>
                </a:lnTo>
                <a:lnTo>
                  <a:pt x="45" y="705"/>
                </a:lnTo>
                <a:lnTo>
                  <a:pt x="36" y="728"/>
                </a:lnTo>
                <a:lnTo>
                  <a:pt x="27" y="750"/>
                </a:lnTo>
                <a:lnTo>
                  <a:pt x="27" y="765"/>
                </a:lnTo>
                <a:lnTo>
                  <a:pt x="18" y="780"/>
                </a:lnTo>
                <a:lnTo>
                  <a:pt x="9" y="795"/>
                </a:lnTo>
                <a:lnTo>
                  <a:pt x="9" y="810"/>
                </a:lnTo>
                <a:lnTo>
                  <a:pt x="9" y="825"/>
                </a:lnTo>
                <a:lnTo>
                  <a:pt x="0" y="840"/>
                </a:lnTo>
                <a:lnTo>
                  <a:pt x="0" y="863"/>
                </a:lnTo>
                <a:lnTo>
                  <a:pt x="0" y="878"/>
                </a:lnTo>
                <a:lnTo>
                  <a:pt x="0" y="893"/>
                </a:lnTo>
                <a:lnTo>
                  <a:pt x="0" y="908"/>
                </a:lnTo>
                <a:lnTo>
                  <a:pt x="0" y="923"/>
                </a:lnTo>
                <a:lnTo>
                  <a:pt x="0" y="938"/>
                </a:lnTo>
                <a:lnTo>
                  <a:pt x="0" y="953"/>
                </a:lnTo>
                <a:lnTo>
                  <a:pt x="9" y="975"/>
                </a:lnTo>
                <a:lnTo>
                  <a:pt x="18" y="990"/>
                </a:lnTo>
                <a:lnTo>
                  <a:pt x="18" y="1005"/>
                </a:lnTo>
                <a:lnTo>
                  <a:pt x="27" y="1028"/>
                </a:lnTo>
                <a:lnTo>
                  <a:pt x="45" y="1043"/>
                </a:lnTo>
                <a:lnTo>
                  <a:pt x="45" y="1058"/>
                </a:lnTo>
                <a:lnTo>
                  <a:pt x="54" y="1073"/>
                </a:lnTo>
                <a:lnTo>
                  <a:pt x="81" y="1095"/>
                </a:lnTo>
                <a:lnTo>
                  <a:pt x="90" y="1110"/>
                </a:lnTo>
                <a:lnTo>
                  <a:pt x="99" y="1125"/>
                </a:lnTo>
                <a:lnTo>
                  <a:pt x="108" y="1140"/>
                </a:lnTo>
                <a:lnTo>
                  <a:pt x="125" y="1163"/>
                </a:lnTo>
                <a:lnTo>
                  <a:pt x="152" y="1178"/>
                </a:lnTo>
                <a:lnTo>
                  <a:pt x="161" y="1193"/>
                </a:lnTo>
                <a:lnTo>
                  <a:pt x="188" y="1215"/>
                </a:lnTo>
                <a:lnTo>
                  <a:pt x="206" y="1230"/>
                </a:lnTo>
                <a:lnTo>
                  <a:pt x="233" y="1253"/>
                </a:lnTo>
                <a:lnTo>
                  <a:pt x="260" y="1268"/>
                </a:lnTo>
                <a:lnTo>
                  <a:pt x="278" y="1275"/>
                </a:lnTo>
                <a:lnTo>
                  <a:pt x="296" y="1290"/>
                </a:lnTo>
                <a:lnTo>
                  <a:pt x="314" y="1298"/>
                </a:lnTo>
                <a:lnTo>
                  <a:pt x="332" y="1305"/>
                </a:lnTo>
                <a:lnTo>
                  <a:pt x="349" y="1320"/>
                </a:lnTo>
                <a:lnTo>
                  <a:pt x="367" y="1328"/>
                </a:lnTo>
                <a:lnTo>
                  <a:pt x="385" y="1328"/>
                </a:lnTo>
                <a:lnTo>
                  <a:pt x="412" y="1328"/>
                </a:lnTo>
                <a:lnTo>
                  <a:pt x="430" y="1328"/>
                </a:lnTo>
                <a:lnTo>
                  <a:pt x="457" y="1328"/>
                </a:lnTo>
                <a:lnTo>
                  <a:pt x="475" y="1320"/>
                </a:lnTo>
                <a:lnTo>
                  <a:pt x="502" y="1320"/>
                </a:lnTo>
                <a:lnTo>
                  <a:pt x="591" y="1313"/>
                </a:lnTo>
                <a:lnTo>
                  <a:pt x="609" y="1313"/>
                </a:lnTo>
                <a:lnTo>
                  <a:pt x="681" y="1305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976640" y="2313000"/>
            <a:ext cx="0" cy="27288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125800" y="563256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125800" y="56833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319640" y="4394160"/>
            <a:ext cx="106200" cy="9864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319640" y="444348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407960" y="4944960"/>
            <a:ext cx="106560" cy="10008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407960" y="4992840"/>
            <a:ext cx="24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4913280" y="2325600"/>
            <a:ext cx="258840" cy="106560"/>
            <a:chOff x="4913280" y="2325600"/>
            <a:chExt cx="258840" cy="106560"/>
          </a:xfrm>
        </p:grpSpPr>
        <p:sp>
          <p:nvSpPr>
            <p:cNvPr id="1524" name=""/>
            <p:cNvSpPr/>
            <p:nvPr/>
          </p:nvSpPr>
          <p:spPr>
            <a:xfrm>
              <a:off x="4913280" y="2325600"/>
              <a:ext cx="111240" cy="10656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062680" y="2376360"/>
              <a:ext cx="10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7147080" y="563256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004160" y="56833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142040" y="4394160"/>
            <a:ext cx="111240" cy="1033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994440" y="4443480"/>
            <a:ext cx="25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766880" y="308304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766880" y="3133800"/>
            <a:ext cx="249120" cy="0"/>
          </a:xfrm>
          <a:prstGeom prst="line">
            <a:avLst/>
          </a:prstGeom>
          <a:ln w="381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050920" y="3168720"/>
            <a:ext cx="5968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1695600" y="3816000"/>
            <a:ext cx="965160" cy="118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2394000" y="4362120"/>
            <a:ext cx="609480" cy="134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 flipV="1">
            <a:off x="3498480" y="4362120"/>
            <a:ext cx="3505320" cy="135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 flipV="1">
            <a:off x="4158720" y="4070520"/>
            <a:ext cx="406440" cy="40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 flipV="1">
            <a:off x="4158720" y="3511440"/>
            <a:ext cx="2870280" cy="95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3333600" y="2394000"/>
            <a:ext cx="1866960" cy="8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es opérations : Les signaux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Représentation sous forme d’automate d’éta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146480" y="1797120"/>
            <a:ext cx="1714680" cy="16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759920" y="2368440"/>
            <a:ext cx="45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022400" y="2267280"/>
            <a:ext cx="30855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rot="10800000">
            <a:off x="4040640" y="3454560"/>
            <a:ext cx="2526840" cy="214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844560" y="1746360"/>
            <a:ext cx="1714320" cy="16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344240" y="1771560"/>
            <a:ext cx="7880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rot="10800000">
            <a:off x="3264120" y="3353040"/>
            <a:ext cx="2476440" cy="234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552560" y="2127600"/>
            <a:ext cx="2629080" cy="67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709640" y="1707840"/>
            <a:ext cx="1587240" cy="346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319480" y="1176480"/>
            <a:ext cx="4254120" cy="161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959400" y="1176480"/>
            <a:ext cx="6945840" cy="120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-57240" y="5518080"/>
            <a:ext cx="633708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252440" y="6480"/>
            <a:ext cx="3720600" cy="671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521080" y="4552920"/>
            <a:ext cx="1714320" cy="16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899320" y="4540320"/>
            <a:ext cx="1714320" cy="1689120"/>
          </a:xfrm>
          <a:prstGeom prst="ellipse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719840" y="1797120"/>
            <a:ext cx="7880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219800" y="1771560"/>
            <a:ext cx="1714680" cy="16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82600" y="4387680"/>
            <a:ext cx="7880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463800" y="36990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COP=C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476040" y="4572000"/>
            <a:ext cx="5929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Représentation sous forme d’automate d’éta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146480" y="1797120"/>
            <a:ext cx="1714680" cy="16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Courier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22400" y="2267280"/>
            <a:ext cx="30855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rot="10800000">
            <a:off x="4040640" y="3454560"/>
            <a:ext cx="2526840" cy="214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844560" y="1746360"/>
            <a:ext cx="1714320" cy="16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Courier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rot="10800000">
            <a:off x="3264120" y="3353040"/>
            <a:ext cx="2476440" cy="234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552560" y="2127600"/>
            <a:ext cx="2629080" cy="67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709640" y="1707840"/>
            <a:ext cx="1587240" cy="346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319480" y="1176480"/>
            <a:ext cx="4254120" cy="161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43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435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959400" y="1176480"/>
            <a:ext cx="6945840" cy="120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-57240" y="5518080"/>
            <a:ext cx="633708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252440" y="6480"/>
            <a:ext cx="3720600" cy="671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521080" y="4552920"/>
            <a:ext cx="1714320" cy="16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Courier New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899320" y="4540320"/>
            <a:ext cx="1714320" cy="16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Courier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219800" y="1771560"/>
            <a:ext cx="1714680" cy="16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Courier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Réalisation du contrôleur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076480" y="1092240"/>
            <a:ext cx="3822840" cy="3035160"/>
          </a:xfrm>
          <a:prstGeom prst="rect">
            <a:avLst/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8" name=""/>
          <p:cNvGrpSpPr/>
          <p:nvPr/>
        </p:nvGrpSpPr>
        <p:grpSpPr>
          <a:xfrm>
            <a:off x="4084560" y="4611600"/>
            <a:ext cx="2105280" cy="480960"/>
            <a:chOff x="4084560" y="4611600"/>
            <a:chExt cx="2105280" cy="480960"/>
          </a:xfrm>
        </p:grpSpPr>
        <p:sp>
          <p:nvSpPr>
            <p:cNvPr id="1579" name=""/>
            <p:cNvSpPr/>
            <p:nvPr/>
          </p:nvSpPr>
          <p:spPr>
            <a:xfrm>
              <a:off x="4108320" y="4635360"/>
              <a:ext cx="203220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084560" y="4611600"/>
              <a:ext cx="2105280" cy="393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gistre d’ét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1" name=""/>
          <p:cNvSpPr/>
          <p:nvPr/>
        </p:nvSpPr>
        <p:spPr>
          <a:xfrm>
            <a:off x="4667400" y="412128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984920" y="413388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78400" y="414648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721480" y="4121280"/>
            <a:ext cx="0" cy="495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359160" y="41338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10500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82564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49552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33520" y="4800600"/>
            <a:ext cx="352260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trées venant 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mp de code-op 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gistre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931000" y="367020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356520" y="3689280"/>
            <a:ext cx="0" cy="172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H="1">
            <a:off x="5727600" y="541008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5734080" y="51116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931000" y="334008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597720" y="3346560"/>
            <a:ext cx="0" cy="231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5346720" y="5664240"/>
            <a:ext cx="12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5353200" y="511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931000" y="304812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927840" y="3067200"/>
            <a:ext cx="0" cy="29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4965480" y="6058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4984920" y="50986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918040" y="2743200"/>
            <a:ext cx="133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257960" y="2762280"/>
            <a:ext cx="0" cy="36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4533480" y="646416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4540320" y="50990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918040" y="23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905440" y="180324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905440" y="20574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5918040" y="152388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490440" y="1600200"/>
            <a:ext cx="2657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Sorties de contrôle 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chemin de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5613120" y="1486080"/>
            <a:ext cx="190800" cy="2438280"/>
            <a:chOff x="5613120" y="1486080"/>
            <a:chExt cx="190800" cy="2438280"/>
          </a:xfrm>
        </p:grpSpPr>
        <p:sp>
          <p:nvSpPr>
            <p:cNvPr id="1612" name=""/>
            <p:cNvSpPr/>
            <p:nvPr/>
          </p:nvSpPr>
          <p:spPr>
            <a:xfrm flipH="1">
              <a:off x="5613120" y="2698920"/>
              <a:ext cx="889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3" name=""/>
            <p:cNvGrpSpPr/>
            <p:nvPr/>
          </p:nvGrpSpPr>
          <p:grpSpPr>
            <a:xfrm>
              <a:off x="5626080" y="1486080"/>
              <a:ext cx="177840" cy="2438280"/>
              <a:chOff x="5626080" y="1486080"/>
              <a:chExt cx="177840" cy="2438280"/>
            </a:xfrm>
          </p:grpSpPr>
          <p:sp>
            <p:nvSpPr>
              <p:cNvPr id="1614" name=""/>
              <p:cNvSpPr/>
              <p:nvPr/>
            </p:nvSpPr>
            <p:spPr>
              <a:xfrm flipH="1">
                <a:off x="5689440" y="14860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695920" y="1492200"/>
                <a:ext cx="0" cy="11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626080" y="2825640"/>
                <a:ext cx="6336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708520" y="291456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715000" y="3924360"/>
                <a:ext cx="6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9" name=""/>
          <p:cNvGrpSpPr/>
          <p:nvPr/>
        </p:nvGrpSpPr>
        <p:grpSpPr>
          <a:xfrm>
            <a:off x="2444760" y="3943080"/>
            <a:ext cx="3314520" cy="152640"/>
            <a:chOff x="2444760" y="3943080"/>
            <a:chExt cx="3314520" cy="152640"/>
          </a:xfrm>
        </p:grpSpPr>
        <p:sp>
          <p:nvSpPr>
            <p:cNvPr id="1620" name=""/>
            <p:cNvSpPr/>
            <p:nvPr/>
          </p:nvSpPr>
          <p:spPr>
            <a:xfrm flipV="1">
              <a:off x="4091040" y="3943080"/>
              <a:ext cx="14292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1" name=""/>
            <p:cNvGrpSpPr/>
            <p:nvPr/>
          </p:nvGrpSpPr>
          <p:grpSpPr>
            <a:xfrm>
              <a:off x="2444760" y="3956040"/>
              <a:ext cx="3314520" cy="139680"/>
              <a:chOff x="2444760" y="3956040"/>
              <a:chExt cx="3314520" cy="139680"/>
            </a:xfrm>
          </p:grpSpPr>
          <p:sp>
            <p:nvSpPr>
              <p:cNvPr id="1622" name=""/>
              <p:cNvSpPr/>
              <p:nvPr/>
            </p:nvSpPr>
            <p:spPr>
              <a:xfrm flipV="1">
                <a:off x="2444760" y="400356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451240" y="4010040"/>
                <a:ext cx="160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264200" y="3956040"/>
                <a:ext cx="9036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384800" y="4019400"/>
                <a:ext cx="135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759280" y="4025880"/>
                <a:ext cx="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7" name=""/>
          <p:cNvSpPr/>
          <p:nvPr/>
        </p:nvSpPr>
        <p:spPr>
          <a:xfrm>
            <a:off x="7259760" y="44719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État sui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8" name=""/>
          <p:cNvGrpSpPr/>
          <p:nvPr/>
        </p:nvGrpSpPr>
        <p:grpSpPr>
          <a:xfrm>
            <a:off x="1920600" y="869400"/>
            <a:ext cx="3642120" cy="2883240"/>
            <a:chOff x="1920600" y="869400"/>
            <a:chExt cx="3642120" cy="2883240"/>
          </a:xfrm>
        </p:grpSpPr>
        <p:sp>
          <p:nvSpPr>
            <p:cNvPr id="1629" name=""/>
            <p:cNvSpPr/>
            <p:nvPr/>
          </p:nvSpPr>
          <p:spPr>
            <a:xfrm>
              <a:off x="3623400" y="1638000"/>
              <a:ext cx="694440" cy="725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859920" y="1882440"/>
              <a:ext cx="291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358000" y="1839960"/>
              <a:ext cx="1249560" cy="12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10800000">
              <a:off x="3580560" y="2349360"/>
              <a:ext cx="1022760" cy="92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286000" y="1616040"/>
              <a:ext cx="694080" cy="725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486520" y="1626840"/>
              <a:ext cx="42696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S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E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M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10800000">
              <a:off x="3265920" y="2305440"/>
              <a:ext cx="1002600" cy="100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787920" y="1779480"/>
              <a:ext cx="106452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36280" y="1599480"/>
              <a:ext cx="642600" cy="148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883240" y="1371600"/>
              <a:ext cx="172260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4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4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332440" y="1371600"/>
              <a:ext cx="2813040" cy="51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920600" y="3235320"/>
              <a:ext cx="25664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450880" y="869400"/>
              <a:ext cx="1506600" cy="28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964960" y="2820600"/>
              <a:ext cx="694080" cy="725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333320" y="2815200"/>
              <a:ext cx="694080" cy="725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535640" y="2825640"/>
              <a:ext cx="42696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S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E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M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E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067360" y="1638000"/>
              <a:ext cx="42696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S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E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M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E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68280" y="1626840"/>
              <a:ext cx="694440" cy="725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150000" y="2749320"/>
              <a:ext cx="42696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S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C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M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Réalisation du contrôleur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76480" y="1092240"/>
            <a:ext cx="3822840" cy="3035160"/>
          </a:xfrm>
          <a:prstGeom prst="rect">
            <a:avLst/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01960" y="1360440"/>
            <a:ext cx="385740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Logique de 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combin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084560" y="4611600"/>
            <a:ext cx="2105280" cy="480960"/>
            <a:chOff x="4084560" y="4611600"/>
            <a:chExt cx="2105280" cy="480960"/>
          </a:xfrm>
        </p:grpSpPr>
        <p:sp>
          <p:nvSpPr>
            <p:cNvPr id="149" name=""/>
            <p:cNvSpPr/>
            <p:nvPr/>
          </p:nvSpPr>
          <p:spPr>
            <a:xfrm>
              <a:off x="4108320" y="4635360"/>
              <a:ext cx="203220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84560" y="4611600"/>
              <a:ext cx="2105280" cy="393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gistre d’ét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667400" y="412128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84920" y="413388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78400" y="4146480"/>
            <a:ext cx="0" cy="48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21480" y="4121280"/>
            <a:ext cx="0" cy="495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9160" y="41338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0500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2564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95520" y="4121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4800600"/>
            <a:ext cx="352260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trées venant 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mp de code-op 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gistre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31000" y="367020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56520" y="3689280"/>
            <a:ext cx="0" cy="172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727600" y="541008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734080" y="51116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1000" y="334008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97720" y="3346560"/>
            <a:ext cx="0" cy="231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346720" y="5664240"/>
            <a:ext cx="12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353200" y="511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31000" y="304812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27840" y="3067200"/>
            <a:ext cx="0" cy="29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965480" y="6058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984920" y="50986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18040" y="2743200"/>
            <a:ext cx="133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57960" y="2762280"/>
            <a:ext cx="0" cy="36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533480" y="646416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540320" y="50990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18040" y="23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05440" y="180324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05440" y="20574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18040" y="152388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80880" y="1555920"/>
            <a:ext cx="2657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Sorties de contrôle 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chemin de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613120" y="1486080"/>
            <a:ext cx="190800" cy="2438280"/>
            <a:chOff x="5613120" y="1486080"/>
            <a:chExt cx="190800" cy="2438280"/>
          </a:xfrm>
        </p:grpSpPr>
        <p:sp>
          <p:nvSpPr>
            <p:cNvPr id="182" name=""/>
            <p:cNvSpPr/>
            <p:nvPr/>
          </p:nvSpPr>
          <p:spPr>
            <a:xfrm flipH="1">
              <a:off x="5613120" y="2698920"/>
              <a:ext cx="889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626080" y="1486080"/>
              <a:ext cx="177840" cy="2438280"/>
              <a:chOff x="5626080" y="1486080"/>
              <a:chExt cx="177840" cy="2438280"/>
            </a:xfrm>
          </p:grpSpPr>
          <p:sp>
            <p:nvSpPr>
              <p:cNvPr id="184" name=""/>
              <p:cNvSpPr/>
              <p:nvPr/>
            </p:nvSpPr>
            <p:spPr>
              <a:xfrm flipH="1">
                <a:off x="5689440" y="14860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695920" y="1492200"/>
                <a:ext cx="0" cy="11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626080" y="2825640"/>
                <a:ext cx="6336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08520" y="291456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715000" y="3924360"/>
                <a:ext cx="6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2444760" y="3943080"/>
            <a:ext cx="3314520" cy="152640"/>
            <a:chOff x="2444760" y="3943080"/>
            <a:chExt cx="3314520" cy="152640"/>
          </a:xfrm>
        </p:grpSpPr>
        <p:sp>
          <p:nvSpPr>
            <p:cNvPr id="190" name=""/>
            <p:cNvSpPr/>
            <p:nvPr/>
          </p:nvSpPr>
          <p:spPr>
            <a:xfrm flipV="1">
              <a:off x="4091040" y="3943080"/>
              <a:ext cx="14292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444760" y="3956040"/>
              <a:ext cx="3314520" cy="139680"/>
              <a:chOff x="2444760" y="3956040"/>
              <a:chExt cx="3314520" cy="139680"/>
            </a:xfrm>
          </p:grpSpPr>
          <p:sp>
            <p:nvSpPr>
              <p:cNvPr id="192" name=""/>
              <p:cNvSpPr/>
              <p:nvPr/>
            </p:nvSpPr>
            <p:spPr>
              <a:xfrm flipV="1">
                <a:off x="2444760" y="4003560"/>
                <a:ext cx="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51240" y="4010040"/>
                <a:ext cx="160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264200" y="3956040"/>
                <a:ext cx="9036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84800" y="4019400"/>
                <a:ext cx="135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59280" y="4025880"/>
                <a:ext cx="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3703680" y="3532320"/>
            <a:ext cx="1482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Entr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56240" y="2554200"/>
            <a:ext cx="10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So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59760" y="44719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État sui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28240" y="3602160"/>
            <a:ext cx="95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ôl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78920" y="990720"/>
            <a:ext cx="1370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te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64160" y="432288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6236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6236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910040" y="2313000"/>
            <a:ext cx="274680" cy="127080"/>
            <a:chOff x="4910040" y="2313000"/>
            <a:chExt cx="274680" cy="127080"/>
          </a:xfrm>
        </p:grpSpPr>
        <p:sp>
          <p:nvSpPr>
            <p:cNvPr id="261" name=""/>
            <p:cNvSpPr/>
            <p:nvPr/>
          </p:nvSpPr>
          <p:spPr>
            <a:xfrm>
              <a:off x="4910040" y="2313000"/>
              <a:ext cx="131760" cy="127080"/>
            </a:xfrm>
            <a:prstGeom prst="ellipse">
              <a:avLst/>
            </a:prstGeom>
            <a:noFill/>
            <a:ln w="12600">
              <a:solidFill>
                <a:srgbClr val="91919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54760" y="2374920"/>
              <a:ext cx="129960" cy="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13412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9120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3412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9120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45080" y="184320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97120" y="19051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76640" y="2313000"/>
            <a:ext cx="0" cy="26352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035160" y="2951280"/>
            <a:ext cx="717840" cy="469800"/>
            <a:chOff x="3035160" y="2951280"/>
            <a:chExt cx="717840" cy="469800"/>
          </a:xfrm>
        </p:grpSpPr>
        <p:sp>
          <p:nvSpPr>
            <p:cNvPr id="271" name=""/>
            <p:cNvSpPr/>
            <p:nvPr/>
          </p:nvSpPr>
          <p:spPr>
            <a:xfrm>
              <a:off x="332280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1008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6716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5300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7988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3516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5732280" y="2611800"/>
            <a:ext cx="135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81280" y="3214800"/>
            <a:ext cx="1495440" cy="115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54240" y="5035680"/>
            <a:ext cx="1587600" cy="330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1206360"/>
            <a:ext cx="1460520" cy="27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63de8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1960" y="1711440"/>
            <a:ext cx="795636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Extraction de l ’instruction et incrémentation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63680" y="1073160"/>
            <a:ext cx="4865400" cy="481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64160" y="432288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6236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6236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910040" y="2313000"/>
            <a:ext cx="274680" cy="127080"/>
            <a:chOff x="4910040" y="2313000"/>
            <a:chExt cx="274680" cy="127080"/>
          </a:xfrm>
        </p:grpSpPr>
        <p:sp>
          <p:nvSpPr>
            <p:cNvPr id="361" name=""/>
            <p:cNvSpPr/>
            <p:nvPr/>
          </p:nvSpPr>
          <p:spPr>
            <a:xfrm>
              <a:off x="4910040" y="2313000"/>
              <a:ext cx="131760" cy="127080"/>
            </a:xfrm>
            <a:prstGeom prst="ellipse">
              <a:avLst/>
            </a:prstGeom>
            <a:noFill/>
            <a:ln w="12600">
              <a:solidFill>
                <a:srgbClr val="91919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54760" y="2374920"/>
              <a:ext cx="129960" cy="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13412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9120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3412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9120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45080" y="184320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97120" y="19051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76640" y="2313000"/>
            <a:ext cx="0" cy="26352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43640" y="1081080"/>
            <a:ext cx="3340080" cy="480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5732280" y="2611800"/>
            <a:ext cx="135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81280" y="3214800"/>
            <a:ext cx="1495440" cy="115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1614600"/>
            <a:ext cx="1944720" cy="1015920"/>
          </a:xfrm>
          <a:custGeom>
            <a:avLst/>
            <a:gdLst/>
            <a:ahLst/>
            <a:rect l="l" t="t" r="r" b="b"/>
            <a:pathLst>
              <a:path w="1225" h="640">
                <a:moveTo>
                  <a:pt x="0" y="0"/>
                </a:moveTo>
                <a:lnTo>
                  <a:pt x="0" y="15"/>
                </a:lnTo>
                <a:lnTo>
                  <a:pt x="0" y="30"/>
                </a:lnTo>
                <a:lnTo>
                  <a:pt x="8" y="60"/>
                </a:lnTo>
                <a:lnTo>
                  <a:pt x="8" y="75"/>
                </a:lnTo>
                <a:lnTo>
                  <a:pt x="8" y="98"/>
                </a:lnTo>
                <a:lnTo>
                  <a:pt x="8" y="120"/>
                </a:lnTo>
                <a:lnTo>
                  <a:pt x="8" y="143"/>
                </a:lnTo>
                <a:lnTo>
                  <a:pt x="8" y="158"/>
                </a:lnTo>
                <a:lnTo>
                  <a:pt x="8" y="203"/>
                </a:lnTo>
                <a:lnTo>
                  <a:pt x="16" y="233"/>
                </a:lnTo>
                <a:lnTo>
                  <a:pt x="24" y="256"/>
                </a:lnTo>
                <a:lnTo>
                  <a:pt x="32" y="278"/>
                </a:lnTo>
                <a:lnTo>
                  <a:pt x="32" y="308"/>
                </a:lnTo>
                <a:lnTo>
                  <a:pt x="40" y="331"/>
                </a:lnTo>
                <a:lnTo>
                  <a:pt x="56" y="361"/>
                </a:lnTo>
                <a:lnTo>
                  <a:pt x="64" y="391"/>
                </a:lnTo>
                <a:lnTo>
                  <a:pt x="64" y="421"/>
                </a:lnTo>
                <a:lnTo>
                  <a:pt x="81" y="444"/>
                </a:lnTo>
                <a:lnTo>
                  <a:pt x="97" y="474"/>
                </a:lnTo>
                <a:lnTo>
                  <a:pt x="105" y="496"/>
                </a:lnTo>
                <a:lnTo>
                  <a:pt x="121" y="511"/>
                </a:lnTo>
                <a:lnTo>
                  <a:pt x="129" y="526"/>
                </a:lnTo>
                <a:lnTo>
                  <a:pt x="137" y="549"/>
                </a:lnTo>
                <a:lnTo>
                  <a:pt x="153" y="556"/>
                </a:lnTo>
                <a:lnTo>
                  <a:pt x="169" y="579"/>
                </a:lnTo>
                <a:lnTo>
                  <a:pt x="193" y="586"/>
                </a:lnTo>
                <a:lnTo>
                  <a:pt x="217" y="601"/>
                </a:lnTo>
                <a:lnTo>
                  <a:pt x="234" y="609"/>
                </a:lnTo>
                <a:lnTo>
                  <a:pt x="250" y="616"/>
                </a:lnTo>
                <a:lnTo>
                  <a:pt x="266" y="616"/>
                </a:lnTo>
                <a:lnTo>
                  <a:pt x="282" y="624"/>
                </a:lnTo>
                <a:lnTo>
                  <a:pt x="306" y="631"/>
                </a:lnTo>
                <a:lnTo>
                  <a:pt x="338" y="639"/>
                </a:lnTo>
                <a:lnTo>
                  <a:pt x="370" y="639"/>
                </a:lnTo>
                <a:lnTo>
                  <a:pt x="395" y="639"/>
                </a:lnTo>
                <a:lnTo>
                  <a:pt x="419" y="639"/>
                </a:lnTo>
                <a:lnTo>
                  <a:pt x="451" y="639"/>
                </a:lnTo>
                <a:lnTo>
                  <a:pt x="475" y="639"/>
                </a:lnTo>
                <a:lnTo>
                  <a:pt x="499" y="639"/>
                </a:lnTo>
                <a:lnTo>
                  <a:pt x="523" y="639"/>
                </a:lnTo>
                <a:lnTo>
                  <a:pt x="540" y="639"/>
                </a:lnTo>
                <a:lnTo>
                  <a:pt x="588" y="639"/>
                </a:lnTo>
                <a:lnTo>
                  <a:pt x="612" y="639"/>
                </a:lnTo>
                <a:lnTo>
                  <a:pt x="628" y="639"/>
                </a:lnTo>
                <a:lnTo>
                  <a:pt x="660" y="631"/>
                </a:lnTo>
                <a:lnTo>
                  <a:pt x="676" y="631"/>
                </a:lnTo>
                <a:lnTo>
                  <a:pt x="693" y="624"/>
                </a:lnTo>
                <a:lnTo>
                  <a:pt x="709" y="624"/>
                </a:lnTo>
                <a:lnTo>
                  <a:pt x="725" y="616"/>
                </a:lnTo>
                <a:lnTo>
                  <a:pt x="741" y="616"/>
                </a:lnTo>
                <a:lnTo>
                  <a:pt x="757" y="616"/>
                </a:lnTo>
                <a:lnTo>
                  <a:pt x="781" y="616"/>
                </a:lnTo>
                <a:lnTo>
                  <a:pt x="797" y="616"/>
                </a:lnTo>
                <a:lnTo>
                  <a:pt x="813" y="609"/>
                </a:lnTo>
                <a:lnTo>
                  <a:pt x="829" y="609"/>
                </a:lnTo>
                <a:lnTo>
                  <a:pt x="846" y="609"/>
                </a:lnTo>
                <a:lnTo>
                  <a:pt x="862" y="601"/>
                </a:lnTo>
                <a:lnTo>
                  <a:pt x="878" y="601"/>
                </a:lnTo>
                <a:lnTo>
                  <a:pt x="894" y="601"/>
                </a:lnTo>
                <a:lnTo>
                  <a:pt x="910" y="601"/>
                </a:lnTo>
                <a:lnTo>
                  <a:pt x="934" y="601"/>
                </a:lnTo>
                <a:lnTo>
                  <a:pt x="950" y="594"/>
                </a:lnTo>
                <a:lnTo>
                  <a:pt x="966" y="594"/>
                </a:lnTo>
                <a:lnTo>
                  <a:pt x="990" y="594"/>
                </a:lnTo>
                <a:lnTo>
                  <a:pt x="1007" y="586"/>
                </a:lnTo>
                <a:lnTo>
                  <a:pt x="1031" y="586"/>
                </a:lnTo>
                <a:lnTo>
                  <a:pt x="1055" y="579"/>
                </a:lnTo>
                <a:lnTo>
                  <a:pt x="1071" y="571"/>
                </a:lnTo>
                <a:lnTo>
                  <a:pt x="1087" y="571"/>
                </a:lnTo>
                <a:lnTo>
                  <a:pt x="1103" y="571"/>
                </a:lnTo>
                <a:lnTo>
                  <a:pt x="1119" y="556"/>
                </a:lnTo>
                <a:lnTo>
                  <a:pt x="1135" y="556"/>
                </a:lnTo>
                <a:lnTo>
                  <a:pt x="1152" y="549"/>
                </a:lnTo>
                <a:lnTo>
                  <a:pt x="1168" y="549"/>
                </a:lnTo>
                <a:lnTo>
                  <a:pt x="1184" y="549"/>
                </a:lnTo>
                <a:lnTo>
                  <a:pt x="1184" y="549"/>
                </a:lnTo>
                <a:lnTo>
                  <a:pt x="1224" y="526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73320" y="5054760"/>
            <a:ext cx="1549440" cy="29196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05320" y="1206360"/>
            <a:ext cx="1460520" cy="279720"/>
          </a:xfrm>
          <a:prstGeom prst="rect">
            <a:avLst/>
          </a:prstGeom>
          <a:noFill/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60640" y="3073320"/>
            <a:ext cx="4065840" cy="2122560"/>
          </a:xfrm>
          <a:custGeom>
            <a:avLst/>
            <a:gdLst/>
            <a:ahLst/>
            <a:rect l="l" t="t" r="r" b="b"/>
            <a:pathLst>
              <a:path w="2561" h="1337">
                <a:moveTo>
                  <a:pt x="2560" y="0"/>
                </a:moveTo>
                <a:lnTo>
                  <a:pt x="2544" y="0"/>
                </a:lnTo>
                <a:lnTo>
                  <a:pt x="2528" y="0"/>
                </a:lnTo>
                <a:lnTo>
                  <a:pt x="2512" y="8"/>
                </a:lnTo>
                <a:lnTo>
                  <a:pt x="2496" y="8"/>
                </a:lnTo>
                <a:lnTo>
                  <a:pt x="2480" y="8"/>
                </a:lnTo>
                <a:lnTo>
                  <a:pt x="2464" y="8"/>
                </a:lnTo>
                <a:lnTo>
                  <a:pt x="2440" y="8"/>
                </a:lnTo>
                <a:lnTo>
                  <a:pt x="2424" y="8"/>
                </a:lnTo>
                <a:lnTo>
                  <a:pt x="2408" y="16"/>
                </a:lnTo>
                <a:lnTo>
                  <a:pt x="2392" y="16"/>
                </a:lnTo>
                <a:lnTo>
                  <a:pt x="2376" y="24"/>
                </a:lnTo>
                <a:lnTo>
                  <a:pt x="2360" y="24"/>
                </a:lnTo>
                <a:lnTo>
                  <a:pt x="2344" y="32"/>
                </a:lnTo>
                <a:lnTo>
                  <a:pt x="2320" y="40"/>
                </a:lnTo>
                <a:lnTo>
                  <a:pt x="2304" y="40"/>
                </a:lnTo>
                <a:lnTo>
                  <a:pt x="2288" y="56"/>
                </a:lnTo>
                <a:lnTo>
                  <a:pt x="2272" y="64"/>
                </a:lnTo>
                <a:lnTo>
                  <a:pt x="2264" y="80"/>
                </a:lnTo>
                <a:lnTo>
                  <a:pt x="2256" y="96"/>
                </a:lnTo>
                <a:lnTo>
                  <a:pt x="2248" y="112"/>
                </a:lnTo>
                <a:lnTo>
                  <a:pt x="2240" y="128"/>
                </a:lnTo>
                <a:lnTo>
                  <a:pt x="2240" y="144"/>
                </a:lnTo>
                <a:lnTo>
                  <a:pt x="2248" y="160"/>
                </a:lnTo>
                <a:lnTo>
                  <a:pt x="2256" y="176"/>
                </a:lnTo>
                <a:lnTo>
                  <a:pt x="2272" y="184"/>
                </a:lnTo>
                <a:lnTo>
                  <a:pt x="2288" y="192"/>
                </a:lnTo>
                <a:lnTo>
                  <a:pt x="2304" y="192"/>
                </a:lnTo>
                <a:lnTo>
                  <a:pt x="2320" y="200"/>
                </a:lnTo>
                <a:lnTo>
                  <a:pt x="2336" y="208"/>
                </a:lnTo>
                <a:lnTo>
                  <a:pt x="2352" y="216"/>
                </a:lnTo>
                <a:lnTo>
                  <a:pt x="2336" y="216"/>
                </a:lnTo>
                <a:lnTo>
                  <a:pt x="2320" y="216"/>
                </a:lnTo>
                <a:lnTo>
                  <a:pt x="2304" y="224"/>
                </a:lnTo>
                <a:lnTo>
                  <a:pt x="2288" y="232"/>
                </a:lnTo>
                <a:lnTo>
                  <a:pt x="2264" y="240"/>
                </a:lnTo>
                <a:lnTo>
                  <a:pt x="2248" y="256"/>
                </a:lnTo>
                <a:lnTo>
                  <a:pt x="2224" y="264"/>
                </a:lnTo>
                <a:lnTo>
                  <a:pt x="2208" y="272"/>
                </a:lnTo>
                <a:lnTo>
                  <a:pt x="2192" y="272"/>
                </a:lnTo>
                <a:lnTo>
                  <a:pt x="2176" y="288"/>
                </a:lnTo>
                <a:lnTo>
                  <a:pt x="2160" y="288"/>
                </a:lnTo>
                <a:lnTo>
                  <a:pt x="2144" y="288"/>
                </a:lnTo>
                <a:lnTo>
                  <a:pt x="2136" y="304"/>
                </a:lnTo>
                <a:lnTo>
                  <a:pt x="2120" y="304"/>
                </a:lnTo>
                <a:lnTo>
                  <a:pt x="2096" y="312"/>
                </a:lnTo>
                <a:lnTo>
                  <a:pt x="2072" y="328"/>
                </a:lnTo>
                <a:lnTo>
                  <a:pt x="2048" y="336"/>
                </a:lnTo>
                <a:lnTo>
                  <a:pt x="2032" y="352"/>
                </a:lnTo>
                <a:lnTo>
                  <a:pt x="2016" y="352"/>
                </a:lnTo>
                <a:lnTo>
                  <a:pt x="2000" y="360"/>
                </a:lnTo>
                <a:lnTo>
                  <a:pt x="1984" y="368"/>
                </a:lnTo>
                <a:lnTo>
                  <a:pt x="1968" y="368"/>
                </a:lnTo>
                <a:lnTo>
                  <a:pt x="1952" y="376"/>
                </a:lnTo>
                <a:lnTo>
                  <a:pt x="1928" y="384"/>
                </a:lnTo>
                <a:lnTo>
                  <a:pt x="1904" y="392"/>
                </a:lnTo>
                <a:lnTo>
                  <a:pt x="1888" y="400"/>
                </a:lnTo>
                <a:lnTo>
                  <a:pt x="1872" y="408"/>
                </a:lnTo>
                <a:lnTo>
                  <a:pt x="1856" y="408"/>
                </a:lnTo>
                <a:lnTo>
                  <a:pt x="1840" y="424"/>
                </a:lnTo>
                <a:lnTo>
                  <a:pt x="1824" y="424"/>
                </a:lnTo>
                <a:lnTo>
                  <a:pt x="1808" y="432"/>
                </a:lnTo>
                <a:lnTo>
                  <a:pt x="1792" y="432"/>
                </a:lnTo>
                <a:lnTo>
                  <a:pt x="1776" y="440"/>
                </a:lnTo>
                <a:lnTo>
                  <a:pt x="1760" y="448"/>
                </a:lnTo>
                <a:lnTo>
                  <a:pt x="1744" y="448"/>
                </a:lnTo>
                <a:lnTo>
                  <a:pt x="1712" y="464"/>
                </a:lnTo>
                <a:lnTo>
                  <a:pt x="1688" y="472"/>
                </a:lnTo>
                <a:lnTo>
                  <a:pt x="1672" y="480"/>
                </a:lnTo>
                <a:lnTo>
                  <a:pt x="1640" y="488"/>
                </a:lnTo>
                <a:lnTo>
                  <a:pt x="1616" y="504"/>
                </a:lnTo>
                <a:lnTo>
                  <a:pt x="1600" y="512"/>
                </a:lnTo>
                <a:lnTo>
                  <a:pt x="1584" y="520"/>
                </a:lnTo>
                <a:lnTo>
                  <a:pt x="1552" y="528"/>
                </a:lnTo>
                <a:lnTo>
                  <a:pt x="1536" y="536"/>
                </a:lnTo>
                <a:lnTo>
                  <a:pt x="1520" y="536"/>
                </a:lnTo>
                <a:lnTo>
                  <a:pt x="1504" y="544"/>
                </a:lnTo>
                <a:lnTo>
                  <a:pt x="1488" y="552"/>
                </a:lnTo>
                <a:lnTo>
                  <a:pt x="1464" y="560"/>
                </a:lnTo>
                <a:lnTo>
                  <a:pt x="1448" y="568"/>
                </a:lnTo>
                <a:lnTo>
                  <a:pt x="1432" y="568"/>
                </a:lnTo>
                <a:lnTo>
                  <a:pt x="1408" y="584"/>
                </a:lnTo>
                <a:lnTo>
                  <a:pt x="1384" y="600"/>
                </a:lnTo>
                <a:lnTo>
                  <a:pt x="1360" y="608"/>
                </a:lnTo>
                <a:lnTo>
                  <a:pt x="1336" y="616"/>
                </a:lnTo>
                <a:lnTo>
                  <a:pt x="1312" y="632"/>
                </a:lnTo>
                <a:lnTo>
                  <a:pt x="1296" y="632"/>
                </a:lnTo>
                <a:lnTo>
                  <a:pt x="1272" y="640"/>
                </a:lnTo>
                <a:lnTo>
                  <a:pt x="1256" y="648"/>
                </a:lnTo>
                <a:lnTo>
                  <a:pt x="1240" y="656"/>
                </a:lnTo>
                <a:lnTo>
                  <a:pt x="1224" y="664"/>
                </a:lnTo>
                <a:lnTo>
                  <a:pt x="1208" y="672"/>
                </a:lnTo>
                <a:lnTo>
                  <a:pt x="1192" y="680"/>
                </a:lnTo>
                <a:lnTo>
                  <a:pt x="1176" y="688"/>
                </a:lnTo>
                <a:lnTo>
                  <a:pt x="1160" y="696"/>
                </a:lnTo>
                <a:lnTo>
                  <a:pt x="1144" y="696"/>
                </a:lnTo>
                <a:lnTo>
                  <a:pt x="1128" y="712"/>
                </a:lnTo>
                <a:lnTo>
                  <a:pt x="1104" y="712"/>
                </a:lnTo>
                <a:lnTo>
                  <a:pt x="1080" y="728"/>
                </a:lnTo>
                <a:lnTo>
                  <a:pt x="1064" y="736"/>
                </a:lnTo>
                <a:lnTo>
                  <a:pt x="1040" y="744"/>
                </a:lnTo>
                <a:lnTo>
                  <a:pt x="1024" y="752"/>
                </a:lnTo>
                <a:lnTo>
                  <a:pt x="1008" y="752"/>
                </a:lnTo>
                <a:lnTo>
                  <a:pt x="992" y="760"/>
                </a:lnTo>
                <a:lnTo>
                  <a:pt x="976" y="768"/>
                </a:lnTo>
                <a:lnTo>
                  <a:pt x="952" y="776"/>
                </a:lnTo>
                <a:lnTo>
                  <a:pt x="936" y="776"/>
                </a:lnTo>
                <a:lnTo>
                  <a:pt x="920" y="792"/>
                </a:lnTo>
                <a:lnTo>
                  <a:pt x="904" y="792"/>
                </a:lnTo>
                <a:lnTo>
                  <a:pt x="888" y="800"/>
                </a:lnTo>
                <a:lnTo>
                  <a:pt x="864" y="808"/>
                </a:lnTo>
                <a:lnTo>
                  <a:pt x="840" y="816"/>
                </a:lnTo>
                <a:lnTo>
                  <a:pt x="824" y="816"/>
                </a:lnTo>
                <a:lnTo>
                  <a:pt x="792" y="832"/>
                </a:lnTo>
                <a:lnTo>
                  <a:pt x="776" y="832"/>
                </a:lnTo>
                <a:lnTo>
                  <a:pt x="760" y="840"/>
                </a:lnTo>
                <a:lnTo>
                  <a:pt x="744" y="848"/>
                </a:lnTo>
                <a:lnTo>
                  <a:pt x="720" y="856"/>
                </a:lnTo>
                <a:lnTo>
                  <a:pt x="704" y="864"/>
                </a:lnTo>
                <a:lnTo>
                  <a:pt x="688" y="864"/>
                </a:lnTo>
                <a:lnTo>
                  <a:pt x="664" y="872"/>
                </a:lnTo>
                <a:lnTo>
                  <a:pt x="648" y="888"/>
                </a:lnTo>
                <a:lnTo>
                  <a:pt x="632" y="888"/>
                </a:lnTo>
                <a:lnTo>
                  <a:pt x="608" y="896"/>
                </a:lnTo>
                <a:lnTo>
                  <a:pt x="592" y="904"/>
                </a:lnTo>
                <a:lnTo>
                  <a:pt x="576" y="912"/>
                </a:lnTo>
                <a:lnTo>
                  <a:pt x="560" y="912"/>
                </a:lnTo>
                <a:lnTo>
                  <a:pt x="544" y="928"/>
                </a:lnTo>
                <a:lnTo>
                  <a:pt x="528" y="928"/>
                </a:lnTo>
                <a:lnTo>
                  <a:pt x="504" y="936"/>
                </a:lnTo>
                <a:lnTo>
                  <a:pt x="488" y="952"/>
                </a:lnTo>
                <a:lnTo>
                  <a:pt x="464" y="960"/>
                </a:lnTo>
                <a:lnTo>
                  <a:pt x="440" y="968"/>
                </a:lnTo>
                <a:lnTo>
                  <a:pt x="416" y="976"/>
                </a:lnTo>
                <a:lnTo>
                  <a:pt x="392" y="984"/>
                </a:lnTo>
                <a:lnTo>
                  <a:pt x="376" y="992"/>
                </a:lnTo>
                <a:lnTo>
                  <a:pt x="352" y="1000"/>
                </a:lnTo>
                <a:lnTo>
                  <a:pt x="336" y="1008"/>
                </a:lnTo>
                <a:lnTo>
                  <a:pt x="312" y="1016"/>
                </a:lnTo>
                <a:lnTo>
                  <a:pt x="296" y="1024"/>
                </a:lnTo>
                <a:lnTo>
                  <a:pt x="280" y="1032"/>
                </a:lnTo>
                <a:lnTo>
                  <a:pt x="256" y="1048"/>
                </a:lnTo>
                <a:lnTo>
                  <a:pt x="240" y="1056"/>
                </a:lnTo>
                <a:lnTo>
                  <a:pt x="224" y="1064"/>
                </a:lnTo>
                <a:lnTo>
                  <a:pt x="208" y="1080"/>
                </a:lnTo>
                <a:lnTo>
                  <a:pt x="184" y="1088"/>
                </a:lnTo>
                <a:lnTo>
                  <a:pt x="168" y="1104"/>
                </a:lnTo>
                <a:lnTo>
                  <a:pt x="144" y="1120"/>
                </a:lnTo>
                <a:lnTo>
                  <a:pt x="120" y="1136"/>
                </a:lnTo>
                <a:lnTo>
                  <a:pt x="104" y="1152"/>
                </a:lnTo>
                <a:lnTo>
                  <a:pt x="80" y="1160"/>
                </a:lnTo>
                <a:lnTo>
                  <a:pt x="64" y="1176"/>
                </a:lnTo>
                <a:lnTo>
                  <a:pt x="56" y="1192"/>
                </a:lnTo>
                <a:lnTo>
                  <a:pt x="40" y="1208"/>
                </a:lnTo>
                <a:lnTo>
                  <a:pt x="32" y="1224"/>
                </a:lnTo>
                <a:lnTo>
                  <a:pt x="24" y="1240"/>
                </a:lnTo>
                <a:lnTo>
                  <a:pt x="16" y="1256"/>
                </a:lnTo>
                <a:lnTo>
                  <a:pt x="16" y="1272"/>
                </a:lnTo>
                <a:lnTo>
                  <a:pt x="8" y="1288"/>
                </a:lnTo>
                <a:lnTo>
                  <a:pt x="8" y="1304"/>
                </a:lnTo>
                <a:lnTo>
                  <a:pt x="8" y="1320"/>
                </a:lnTo>
                <a:lnTo>
                  <a:pt x="8" y="1328"/>
                </a:lnTo>
                <a:lnTo>
                  <a:pt x="8" y="1328"/>
                </a:lnTo>
                <a:lnTo>
                  <a:pt x="0" y="1336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Extraction : Le chemin 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81280" y="3214800"/>
            <a:ext cx="1495440" cy="1155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3680" y="1073160"/>
            <a:ext cx="4865400" cy="481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464160" y="4319640"/>
            <a:ext cx="51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74960" y="5632560"/>
            <a:ext cx="10656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74960" y="5683320"/>
            <a:ext cx="24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923000" y="2324160"/>
            <a:ext cx="249120" cy="102960"/>
            <a:chOff x="4923000" y="2324160"/>
            <a:chExt cx="249120" cy="102960"/>
          </a:xfrm>
        </p:grpSpPr>
        <p:sp>
          <p:nvSpPr>
            <p:cNvPr id="457" name=""/>
            <p:cNvSpPr/>
            <p:nvPr/>
          </p:nvSpPr>
          <p:spPr>
            <a:xfrm>
              <a:off x="4923000" y="2324160"/>
              <a:ext cx="106200" cy="10296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67360" y="2373480"/>
              <a:ext cx="1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7147080" y="5632560"/>
            <a:ext cx="106200" cy="1015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004160" y="56833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147080" y="4392720"/>
            <a:ext cx="106200" cy="10008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04160" y="444348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57680" y="1854360"/>
            <a:ext cx="106200" cy="9972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10080" y="1905120"/>
            <a:ext cx="249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76640" y="232236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3640" y="1081080"/>
            <a:ext cx="3340080" cy="480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5732280" y="2611800"/>
            <a:ext cx="135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ad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90400" y="11667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1614600"/>
            <a:ext cx="1944720" cy="1015920"/>
          </a:xfrm>
          <a:custGeom>
            <a:avLst/>
            <a:gdLst/>
            <a:ahLst/>
            <a:rect l="l" t="t" r="r" b="b"/>
            <a:pathLst>
              <a:path w="1225" h="640">
                <a:moveTo>
                  <a:pt x="0" y="0"/>
                </a:moveTo>
                <a:lnTo>
                  <a:pt x="0" y="15"/>
                </a:lnTo>
                <a:lnTo>
                  <a:pt x="0" y="30"/>
                </a:lnTo>
                <a:lnTo>
                  <a:pt x="8" y="60"/>
                </a:lnTo>
                <a:lnTo>
                  <a:pt x="8" y="75"/>
                </a:lnTo>
                <a:lnTo>
                  <a:pt x="8" y="98"/>
                </a:lnTo>
                <a:lnTo>
                  <a:pt x="8" y="120"/>
                </a:lnTo>
                <a:lnTo>
                  <a:pt x="8" y="143"/>
                </a:lnTo>
                <a:lnTo>
                  <a:pt x="8" y="158"/>
                </a:lnTo>
                <a:lnTo>
                  <a:pt x="8" y="203"/>
                </a:lnTo>
                <a:lnTo>
                  <a:pt x="16" y="233"/>
                </a:lnTo>
                <a:lnTo>
                  <a:pt x="24" y="256"/>
                </a:lnTo>
                <a:lnTo>
                  <a:pt x="32" y="278"/>
                </a:lnTo>
                <a:lnTo>
                  <a:pt x="32" y="308"/>
                </a:lnTo>
                <a:lnTo>
                  <a:pt x="40" y="331"/>
                </a:lnTo>
                <a:lnTo>
                  <a:pt x="56" y="361"/>
                </a:lnTo>
                <a:lnTo>
                  <a:pt x="64" y="391"/>
                </a:lnTo>
                <a:lnTo>
                  <a:pt x="64" y="421"/>
                </a:lnTo>
                <a:lnTo>
                  <a:pt x="81" y="444"/>
                </a:lnTo>
                <a:lnTo>
                  <a:pt x="97" y="474"/>
                </a:lnTo>
                <a:lnTo>
                  <a:pt x="105" y="496"/>
                </a:lnTo>
                <a:lnTo>
                  <a:pt x="121" y="511"/>
                </a:lnTo>
                <a:lnTo>
                  <a:pt x="129" y="526"/>
                </a:lnTo>
                <a:lnTo>
                  <a:pt x="137" y="549"/>
                </a:lnTo>
                <a:lnTo>
                  <a:pt x="153" y="556"/>
                </a:lnTo>
                <a:lnTo>
                  <a:pt x="169" y="579"/>
                </a:lnTo>
                <a:lnTo>
                  <a:pt x="193" y="586"/>
                </a:lnTo>
                <a:lnTo>
                  <a:pt x="217" y="601"/>
                </a:lnTo>
                <a:lnTo>
                  <a:pt x="234" y="609"/>
                </a:lnTo>
                <a:lnTo>
                  <a:pt x="250" y="616"/>
                </a:lnTo>
                <a:lnTo>
                  <a:pt x="266" y="616"/>
                </a:lnTo>
                <a:lnTo>
                  <a:pt x="282" y="624"/>
                </a:lnTo>
                <a:lnTo>
                  <a:pt x="306" y="631"/>
                </a:lnTo>
                <a:lnTo>
                  <a:pt x="338" y="639"/>
                </a:lnTo>
                <a:lnTo>
                  <a:pt x="370" y="639"/>
                </a:lnTo>
                <a:lnTo>
                  <a:pt x="395" y="639"/>
                </a:lnTo>
                <a:lnTo>
                  <a:pt x="419" y="639"/>
                </a:lnTo>
                <a:lnTo>
                  <a:pt x="451" y="639"/>
                </a:lnTo>
                <a:lnTo>
                  <a:pt x="475" y="639"/>
                </a:lnTo>
                <a:lnTo>
                  <a:pt x="499" y="639"/>
                </a:lnTo>
                <a:lnTo>
                  <a:pt x="523" y="639"/>
                </a:lnTo>
                <a:lnTo>
                  <a:pt x="540" y="639"/>
                </a:lnTo>
                <a:lnTo>
                  <a:pt x="588" y="639"/>
                </a:lnTo>
                <a:lnTo>
                  <a:pt x="612" y="639"/>
                </a:lnTo>
                <a:lnTo>
                  <a:pt x="628" y="639"/>
                </a:lnTo>
                <a:lnTo>
                  <a:pt x="660" y="631"/>
                </a:lnTo>
                <a:lnTo>
                  <a:pt x="676" y="631"/>
                </a:lnTo>
                <a:lnTo>
                  <a:pt x="693" y="624"/>
                </a:lnTo>
                <a:lnTo>
                  <a:pt x="709" y="624"/>
                </a:lnTo>
                <a:lnTo>
                  <a:pt x="725" y="616"/>
                </a:lnTo>
                <a:lnTo>
                  <a:pt x="741" y="616"/>
                </a:lnTo>
                <a:lnTo>
                  <a:pt x="757" y="616"/>
                </a:lnTo>
                <a:lnTo>
                  <a:pt x="781" y="616"/>
                </a:lnTo>
                <a:lnTo>
                  <a:pt x="797" y="616"/>
                </a:lnTo>
                <a:lnTo>
                  <a:pt x="813" y="609"/>
                </a:lnTo>
                <a:lnTo>
                  <a:pt x="829" y="609"/>
                </a:lnTo>
                <a:lnTo>
                  <a:pt x="846" y="609"/>
                </a:lnTo>
                <a:lnTo>
                  <a:pt x="862" y="601"/>
                </a:lnTo>
                <a:lnTo>
                  <a:pt x="878" y="601"/>
                </a:lnTo>
                <a:lnTo>
                  <a:pt x="894" y="601"/>
                </a:lnTo>
                <a:lnTo>
                  <a:pt x="910" y="601"/>
                </a:lnTo>
                <a:lnTo>
                  <a:pt x="934" y="601"/>
                </a:lnTo>
                <a:lnTo>
                  <a:pt x="950" y="594"/>
                </a:lnTo>
                <a:lnTo>
                  <a:pt x="966" y="594"/>
                </a:lnTo>
                <a:lnTo>
                  <a:pt x="990" y="594"/>
                </a:lnTo>
                <a:lnTo>
                  <a:pt x="1007" y="586"/>
                </a:lnTo>
                <a:lnTo>
                  <a:pt x="1031" y="586"/>
                </a:lnTo>
                <a:lnTo>
                  <a:pt x="1055" y="579"/>
                </a:lnTo>
                <a:lnTo>
                  <a:pt x="1071" y="571"/>
                </a:lnTo>
                <a:lnTo>
                  <a:pt x="1087" y="571"/>
                </a:lnTo>
                <a:lnTo>
                  <a:pt x="1103" y="571"/>
                </a:lnTo>
                <a:lnTo>
                  <a:pt x="1119" y="556"/>
                </a:lnTo>
                <a:lnTo>
                  <a:pt x="1135" y="556"/>
                </a:lnTo>
                <a:lnTo>
                  <a:pt x="1152" y="549"/>
                </a:lnTo>
                <a:lnTo>
                  <a:pt x="1168" y="549"/>
                </a:lnTo>
                <a:lnTo>
                  <a:pt x="1184" y="549"/>
                </a:lnTo>
                <a:lnTo>
                  <a:pt x="1184" y="549"/>
                </a:lnTo>
                <a:lnTo>
                  <a:pt x="1224" y="526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73320" y="5054760"/>
            <a:ext cx="1549440" cy="29196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1206360"/>
            <a:ext cx="1460520" cy="279720"/>
          </a:xfrm>
          <a:prstGeom prst="rect">
            <a:avLst/>
          </a:prstGeom>
          <a:noFill/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741040" y="3373560"/>
            <a:ext cx="133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876040" y="1924200"/>
            <a:ext cx="723960" cy="12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689280" y="2660760"/>
            <a:ext cx="133344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4158720" y="3498480"/>
            <a:ext cx="2883240" cy="96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4146480" y="3981240"/>
            <a:ext cx="2895840" cy="172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3549240" y="4375080"/>
            <a:ext cx="507960" cy="13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60640" y="3073320"/>
            <a:ext cx="4065840" cy="2122560"/>
          </a:xfrm>
          <a:custGeom>
            <a:avLst/>
            <a:gdLst/>
            <a:ahLst/>
            <a:rect l="l" t="t" r="r" b="b"/>
            <a:pathLst>
              <a:path w="2561" h="1337">
                <a:moveTo>
                  <a:pt x="2560" y="0"/>
                </a:moveTo>
                <a:lnTo>
                  <a:pt x="2544" y="0"/>
                </a:lnTo>
                <a:lnTo>
                  <a:pt x="2528" y="0"/>
                </a:lnTo>
                <a:lnTo>
                  <a:pt x="2512" y="8"/>
                </a:lnTo>
                <a:lnTo>
                  <a:pt x="2496" y="8"/>
                </a:lnTo>
                <a:lnTo>
                  <a:pt x="2480" y="8"/>
                </a:lnTo>
                <a:lnTo>
                  <a:pt x="2464" y="8"/>
                </a:lnTo>
                <a:lnTo>
                  <a:pt x="2440" y="8"/>
                </a:lnTo>
                <a:lnTo>
                  <a:pt x="2424" y="8"/>
                </a:lnTo>
                <a:lnTo>
                  <a:pt x="2408" y="16"/>
                </a:lnTo>
                <a:lnTo>
                  <a:pt x="2392" y="16"/>
                </a:lnTo>
                <a:lnTo>
                  <a:pt x="2376" y="24"/>
                </a:lnTo>
                <a:lnTo>
                  <a:pt x="2360" y="24"/>
                </a:lnTo>
                <a:lnTo>
                  <a:pt x="2344" y="32"/>
                </a:lnTo>
                <a:lnTo>
                  <a:pt x="2320" y="40"/>
                </a:lnTo>
                <a:lnTo>
                  <a:pt x="2304" y="40"/>
                </a:lnTo>
                <a:lnTo>
                  <a:pt x="2288" y="56"/>
                </a:lnTo>
                <a:lnTo>
                  <a:pt x="2272" y="64"/>
                </a:lnTo>
                <a:lnTo>
                  <a:pt x="2264" y="80"/>
                </a:lnTo>
                <a:lnTo>
                  <a:pt x="2256" y="96"/>
                </a:lnTo>
                <a:lnTo>
                  <a:pt x="2248" y="112"/>
                </a:lnTo>
                <a:lnTo>
                  <a:pt x="2240" y="128"/>
                </a:lnTo>
                <a:lnTo>
                  <a:pt x="2240" y="144"/>
                </a:lnTo>
                <a:lnTo>
                  <a:pt x="2248" y="160"/>
                </a:lnTo>
                <a:lnTo>
                  <a:pt x="2256" y="176"/>
                </a:lnTo>
                <a:lnTo>
                  <a:pt x="2272" y="184"/>
                </a:lnTo>
                <a:lnTo>
                  <a:pt x="2288" y="192"/>
                </a:lnTo>
                <a:lnTo>
                  <a:pt x="2304" y="192"/>
                </a:lnTo>
                <a:lnTo>
                  <a:pt x="2320" y="200"/>
                </a:lnTo>
                <a:lnTo>
                  <a:pt x="2336" y="208"/>
                </a:lnTo>
                <a:lnTo>
                  <a:pt x="2352" y="216"/>
                </a:lnTo>
                <a:lnTo>
                  <a:pt x="2336" y="216"/>
                </a:lnTo>
                <a:lnTo>
                  <a:pt x="2320" y="216"/>
                </a:lnTo>
                <a:lnTo>
                  <a:pt x="2304" y="224"/>
                </a:lnTo>
                <a:lnTo>
                  <a:pt x="2288" y="232"/>
                </a:lnTo>
                <a:lnTo>
                  <a:pt x="2264" y="240"/>
                </a:lnTo>
                <a:lnTo>
                  <a:pt x="2248" y="256"/>
                </a:lnTo>
                <a:lnTo>
                  <a:pt x="2224" y="264"/>
                </a:lnTo>
                <a:lnTo>
                  <a:pt x="2208" y="272"/>
                </a:lnTo>
                <a:lnTo>
                  <a:pt x="2192" y="272"/>
                </a:lnTo>
                <a:lnTo>
                  <a:pt x="2176" y="288"/>
                </a:lnTo>
                <a:lnTo>
                  <a:pt x="2160" y="288"/>
                </a:lnTo>
                <a:lnTo>
                  <a:pt x="2144" y="288"/>
                </a:lnTo>
                <a:lnTo>
                  <a:pt x="2136" y="304"/>
                </a:lnTo>
                <a:lnTo>
                  <a:pt x="2120" y="304"/>
                </a:lnTo>
                <a:lnTo>
                  <a:pt x="2096" y="312"/>
                </a:lnTo>
                <a:lnTo>
                  <a:pt x="2072" y="328"/>
                </a:lnTo>
                <a:lnTo>
                  <a:pt x="2048" y="336"/>
                </a:lnTo>
                <a:lnTo>
                  <a:pt x="2032" y="352"/>
                </a:lnTo>
                <a:lnTo>
                  <a:pt x="2016" y="352"/>
                </a:lnTo>
                <a:lnTo>
                  <a:pt x="2000" y="360"/>
                </a:lnTo>
                <a:lnTo>
                  <a:pt x="1984" y="368"/>
                </a:lnTo>
                <a:lnTo>
                  <a:pt x="1968" y="368"/>
                </a:lnTo>
                <a:lnTo>
                  <a:pt x="1952" y="376"/>
                </a:lnTo>
                <a:lnTo>
                  <a:pt x="1928" y="384"/>
                </a:lnTo>
                <a:lnTo>
                  <a:pt x="1904" y="392"/>
                </a:lnTo>
                <a:lnTo>
                  <a:pt x="1888" y="400"/>
                </a:lnTo>
                <a:lnTo>
                  <a:pt x="1872" y="408"/>
                </a:lnTo>
                <a:lnTo>
                  <a:pt x="1856" y="408"/>
                </a:lnTo>
                <a:lnTo>
                  <a:pt x="1840" y="424"/>
                </a:lnTo>
                <a:lnTo>
                  <a:pt x="1824" y="424"/>
                </a:lnTo>
                <a:lnTo>
                  <a:pt x="1808" y="432"/>
                </a:lnTo>
                <a:lnTo>
                  <a:pt x="1792" y="432"/>
                </a:lnTo>
                <a:lnTo>
                  <a:pt x="1776" y="440"/>
                </a:lnTo>
                <a:lnTo>
                  <a:pt x="1760" y="448"/>
                </a:lnTo>
                <a:lnTo>
                  <a:pt x="1744" y="448"/>
                </a:lnTo>
                <a:lnTo>
                  <a:pt x="1712" y="464"/>
                </a:lnTo>
                <a:lnTo>
                  <a:pt x="1688" y="472"/>
                </a:lnTo>
                <a:lnTo>
                  <a:pt x="1672" y="480"/>
                </a:lnTo>
                <a:lnTo>
                  <a:pt x="1640" y="488"/>
                </a:lnTo>
                <a:lnTo>
                  <a:pt x="1616" y="504"/>
                </a:lnTo>
                <a:lnTo>
                  <a:pt x="1600" y="512"/>
                </a:lnTo>
                <a:lnTo>
                  <a:pt x="1584" y="520"/>
                </a:lnTo>
                <a:lnTo>
                  <a:pt x="1552" y="528"/>
                </a:lnTo>
                <a:lnTo>
                  <a:pt x="1536" y="536"/>
                </a:lnTo>
                <a:lnTo>
                  <a:pt x="1520" y="536"/>
                </a:lnTo>
                <a:lnTo>
                  <a:pt x="1504" y="544"/>
                </a:lnTo>
                <a:lnTo>
                  <a:pt x="1488" y="552"/>
                </a:lnTo>
                <a:lnTo>
                  <a:pt x="1464" y="560"/>
                </a:lnTo>
                <a:lnTo>
                  <a:pt x="1448" y="568"/>
                </a:lnTo>
                <a:lnTo>
                  <a:pt x="1432" y="568"/>
                </a:lnTo>
                <a:lnTo>
                  <a:pt x="1408" y="584"/>
                </a:lnTo>
                <a:lnTo>
                  <a:pt x="1384" y="600"/>
                </a:lnTo>
                <a:lnTo>
                  <a:pt x="1360" y="608"/>
                </a:lnTo>
                <a:lnTo>
                  <a:pt x="1336" y="616"/>
                </a:lnTo>
                <a:lnTo>
                  <a:pt x="1312" y="632"/>
                </a:lnTo>
                <a:lnTo>
                  <a:pt x="1296" y="632"/>
                </a:lnTo>
                <a:lnTo>
                  <a:pt x="1272" y="640"/>
                </a:lnTo>
                <a:lnTo>
                  <a:pt x="1256" y="648"/>
                </a:lnTo>
                <a:lnTo>
                  <a:pt x="1240" y="656"/>
                </a:lnTo>
                <a:lnTo>
                  <a:pt x="1224" y="664"/>
                </a:lnTo>
                <a:lnTo>
                  <a:pt x="1208" y="672"/>
                </a:lnTo>
                <a:lnTo>
                  <a:pt x="1192" y="680"/>
                </a:lnTo>
                <a:lnTo>
                  <a:pt x="1176" y="688"/>
                </a:lnTo>
                <a:lnTo>
                  <a:pt x="1160" y="696"/>
                </a:lnTo>
                <a:lnTo>
                  <a:pt x="1144" y="696"/>
                </a:lnTo>
                <a:lnTo>
                  <a:pt x="1128" y="712"/>
                </a:lnTo>
                <a:lnTo>
                  <a:pt x="1104" y="712"/>
                </a:lnTo>
                <a:lnTo>
                  <a:pt x="1080" y="728"/>
                </a:lnTo>
                <a:lnTo>
                  <a:pt x="1064" y="736"/>
                </a:lnTo>
                <a:lnTo>
                  <a:pt x="1040" y="744"/>
                </a:lnTo>
                <a:lnTo>
                  <a:pt x="1024" y="752"/>
                </a:lnTo>
                <a:lnTo>
                  <a:pt x="1008" y="752"/>
                </a:lnTo>
                <a:lnTo>
                  <a:pt x="992" y="760"/>
                </a:lnTo>
                <a:lnTo>
                  <a:pt x="976" y="768"/>
                </a:lnTo>
                <a:lnTo>
                  <a:pt x="952" y="776"/>
                </a:lnTo>
                <a:lnTo>
                  <a:pt x="936" y="776"/>
                </a:lnTo>
                <a:lnTo>
                  <a:pt x="920" y="792"/>
                </a:lnTo>
                <a:lnTo>
                  <a:pt x="904" y="792"/>
                </a:lnTo>
                <a:lnTo>
                  <a:pt x="888" y="800"/>
                </a:lnTo>
                <a:lnTo>
                  <a:pt x="864" y="808"/>
                </a:lnTo>
                <a:lnTo>
                  <a:pt x="840" y="816"/>
                </a:lnTo>
                <a:lnTo>
                  <a:pt x="824" y="816"/>
                </a:lnTo>
                <a:lnTo>
                  <a:pt x="792" y="832"/>
                </a:lnTo>
                <a:lnTo>
                  <a:pt x="776" y="832"/>
                </a:lnTo>
                <a:lnTo>
                  <a:pt x="760" y="840"/>
                </a:lnTo>
                <a:lnTo>
                  <a:pt x="744" y="848"/>
                </a:lnTo>
                <a:lnTo>
                  <a:pt x="720" y="856"/>
                </a:lnTo>
                <a:lnTo>
                  <a:pt x="704" y="864"/>
                </a:lnTo>
                <a:lnTo>
                  <a:pt x="688" y="864"/>
                </a:lnTo>
                <a:lnTo>
                  <a:pt x="664" y="872"/>
                </a:lnTo>
                <a:lnTo>
                  <a:pt x="648" y="888"/>
                </a:lnTo>
                <a:lnTo>
                  <a:pt x="632" y="888"/>
                </a:lnTo>
                <a:lnTo>
                  <a:pt x="608" y="896"/>
                </a:lnTo>
                <a:lnTo>
                  <a:pt x="592" y="904"/>
                </a:lnTo>
                <a:lnTo>
                  <a:pt x="576" y="912"/>
                </a:lnTo>
                <a:lnTo>
                  <a:pt x="560" y="912"/>
                </a:lnTo>
                <a:lnTo>
                  <a:pt x="544" y="928"/>
                </a:lnTo>
                <a:lnTo>
                  <a:pt x="528" y="928"/>
                </a:lnTo>
                <a:lnTo>
                  <a:pt x="504" y="936"/>
                </a:lnTo>
                <a:lnTo>
                  <a:pt x="488" y="952"/>
                </a:lnTo>
                <a:lnTo>
                  <a:pt x="464" y="960"/>
                </a:lnTo>
                <a:lnTo>
                  <a:pt x="440" y="968"/>
                </a:lnTo>
                <a:lnTo>
                  <a:pt x="416" y="976"/>
                </a:lnTo>
                <a:lnTo>
                  <a:pt x="392" y="984"/>
                </a:lnTo>
                <a:lnTo>
                  <a:pt x="376" y="992"/>
                </a:lnTo>
                <a:lnTo>
                  <a:pt x="352" y="1000"/>
                </a:lnTo>
                <a:lnTo>
                  <a:pt x="336" y="1008"/>
                </a:lnTo>
                <a:lnTo>
                  <a:pt x="312" y="1016"/>
                </a:lnTo>
                <a:lnTo>
                  <a:pt x="296" y="1024"/>
                </a:lnTo>
                <a:lnTo>
                  <a:pt x="280" y="1032"/>
                </a:lnTo>
                <a:lnTo>
                  <a:pt x="256" y="1048"/>
                </a:lnTo>
                <a:lnTo>
                  <a:pt x="240" y="1056"/>
                </a:lnTo>
                <a:lnTo>
                  <a:pt x="224" y="1064"/>
                </a:lnTo>
                <a:lnTo>
                  <a:pt x="208" y="1080"/>
                </a:lnTo>
                <a:lnTo>
                  <a:pt x="184" y="1088"/>
                </a:lnTo>
                <a:lnTo>
                  <a:pt x="168" y="1104"/>
                </a:lnTo>
                <a:lnTo>
                  <a:pt x="144" y="1120"/>
                </a:lnTo>
                <a:lnTo>
                  <a:pt x="120" y="1136"/>
                </a:lnTo>
                <a:lnTo>
                  <a:pt x="104" y="1152"/>
                </a:lnTo>
                <a:lnTo>
                  <a:pt x="80" y="1160"/>
                </a:lnTo>
                <a:lnTo>
                  <a:pt x="64" y="1176"/>
                </a:lnTo>
                <a:lnTo>
                  <a:pt x="56" y="1192"/>
                </a:lnTo>
                <a:lnTo>
                  <a:pt x="40" y="1208"/>
                </a:lnTo>
                <a:lnTo>
                  <a:pt x="32" y="1224"/>
                </a:lnTo>
                <a:lnTo>
                  <a:pt x="24" y="1240"/>
                </a:lnTo>
                <a:lnTo>
                  <a:pt x="16" y="1256"/>
                </a:lnTo>
                <a:lnTo>
                  <a:pt x="16" y="1272"/>
                </a:lnTo>
                <a:lnTo>
                  <a:pt x="8" y="1288"/>
                </a:lnTo>
                <a:lnTo>
                  <a:pt x="8" y="1304"/>
                </a:lnTo>
                <a:lnTo>
                  <a:pt x="8" y="1320"/>
                </a:lnTo>
                <a:lnTo>
                  <a:pt x="8" y="1328"/>
                </a:lnTo>
                <a:lnTo>
                  <a:pt x="8" y="1328"/>
                </a:lnTo>
                <a:lnTo>
                  <a:pt x="0" y="1336"/>
                </a:lnTo>
              </a:path>
            </a:pathLst>
          </a:custGeom>
          <a:noFill/>
          <a:ln cap="rnd" w="7632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79840" y="2693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Extraire : les signaux à piloter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Représentation sous forme d’automate d’éta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44560" y="1746360"/>
            <a:ext cx="1714320" cy="1689120"/>
          </a:xfrm>
          <a:prstGeom prst="ellipse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44240" y="1771560"/>
            <a:ext cx="7880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09640" y="1707840"/>
            <a:ext cx="1587240" cy="346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06200" y="476424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681280" y="3214800"/>
            <a:ext cx="1495440" cy="115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9800" y="1079640"/>
            <a:ext cx="4853160" cy="479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632640" y="1623960"/>
            <a:ext cx="1928880" cy="239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3546000" y="2319120"/>
            <a:ext cx="26053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38440" y="3452760"/>
            <a:ext cx="16462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731760" y="441324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49560" y="207648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80480" y="1076400"/>
            <a:ext cx="941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te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46960" y="113184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191440" y="4759200"/>
            <a:ext cx="82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73760" y="635328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e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89880" y="2394000"/>
            <a:ext cx="125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 d’a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3800" y="5013360"/>
            <a:ext cx="1238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70640" y="4935600"/>
            <a:ext cx="96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14880" y="4046400"/>
            <a:ext cx="67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016360" y="294480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657440" y="48736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12680" y="55627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46200" y="556272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24080" y="55627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9288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85320" y="556272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64160" y="4319640"/>
            <a:ext cx="51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185320" y="432288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69120" y="432288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34800" y="267660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48040" y="1198440"/>
            <a:ext cx="49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949480" y="175896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09960" y="1758960"/>
            <a:ext cx="546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23240" y="1112760"/>
            <a:ext cx="152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932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1128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774960" y="5632560"/>
            <a:ext cx="106560" cy="101520"/>
          </a:xfrm>
          <a:prstGeom prst="ellipse">
            <a:avLst/>
          </a:prstGeom>
          <a:noFill/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74960" y="5683320"/>
            <a:ext cx="249480" cy="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92324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9232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07040" y="4443480"/>
            <a:ext cx="2743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395360" y="4932360"/>
            <a:ext cx="1317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54280" y="313380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923000" y="2324160"/>
            <a:ext cx="249120" cy="102960"/>
            <a:chOff x="4923000" y="2324160"/>
            <a:chExt cx="249120" cy="102960"/>
          </a:xfrm>
        </p:grpSpPr>
        <p:sp>
          <p:nvSpPr>
            <p:cNvPr id="565" name=""/>
            <p:cNvSpPr/>
            <p:nvPr/>
          </p:nvSpPr>
          <p:spPr>
            <a:xfrm>
              <a:off x="4923000" y="2324160"/>
              <a:ext cx="106200" cy="102960"/>
            </a:xfrm>
            <a:prstGeom prst="ellipse">
              <a:avLst/>
            </a:prstGeom>
            <a:noFill/>
            <a:ln w="38160">
              <a:solidFill>
                <a:srgbClr val="91919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67360" y="2373480"/>
              <a:ext cx="104760" cy="0"/>
            </a:xfrm>
            <a:prstGeom prst="line">
              <a:avLst/>
            </a:prstGeom>
            <a:ln w="38160">
              <a:solidFill>
                <a:srgbClr val="91919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7147080" y="5632560"/>
            <a:ext cx="106200" cy="101520"/>
          </a:xfrm>
          <a:prstGeom prst="ellipse">
            <a:avLst/>
          </a:prstGeom>
          <a:noFill/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04160" y="5683320"/>
            <a:ext cx="249120" cy="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147080" y="4392720"/>
            <a:ext cx="106200" cy="100080"/>
          </a:xfrm>
          <a:prstGeom prst="ellipse">
            <a:avLst/>
          </a:prstGeom>
          <a:noFill/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04160" y="4443480"/>
            <a:ext cx="249120" cy="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57680" y="1854360"/>
            <a:ext cx="106200" cy="99720"/>
          </a:xfrm>
          <a:prstGeom prst="ellipse">
            <a:avLst/>
          </a:prstGeom>
          <a:noFill/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10080" y="1905120"/>
            <a:ext cx="249120" cy="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76640" y="2322360"/>
            <a:ext cx="0" cy="241560"/>
          </a:xfrm>
          <a:prstGeom prst="line">
            <a:avLst/>
          </a:prstGeom>
          <a:ln w="38160">
            <a:solidFill>
              <a:srgbClr val="91919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549760" y="1087560"/>
            <a:ext cx="3327480" cy="479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rot="16200000">
            <a:off x="6139800" y="2586240"/>
            <a:ext cx="57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621360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39640" y="1179360"/>
            <a:ext cx="373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3920" y="1677960"/>
            <a:ext cx="1766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6 F8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 F8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1233360"/>
            <a:ext cx="1190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FB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184880" y="4811760"/>
            <a:ext cx="856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 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54240" y="5035680"/>
            <a:ext cx="158760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33440" y="4989600"/>
            <a:ext cx="1508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8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05320" y="1206360"/>
            <a:ext cx="1460520" cy="279720"/>
          </a:xfrm>
          <a:prstGeom prst="rect">
            <a:avLst/>
          </a:prstGeom>
          <a:noFill/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Incrémenter le compteur de programme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9829800" cy="3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Représentation sous forme d’automate d’état</a:t>
            </a:r>
            <a:endParaRPr b="0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146480" y="1797120"/>
            <a:ext cx="1714680" cy="1689120"/>
          </a:xfrm>
          <a:prstGeom prst="ellipse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759920" y="2368440"/>
            <a:ext cx="45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022400" y="2267280"/>
            <a:ext cx="30855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44560" y="1746360"/>
            <a:ext cx="1714320" cy="1689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344240" y="1771560"/>
            <a:ext cx="7880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09640" y="1707840"/>
            <a:ext cx="1587240" cy="346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3T19:33:55Z</dcterms:created>
  <dc:creator>LaMI</dc:creator>
  <dc:description/>
  <dc:language>en-US</dc:language>
  <cp:lastModifiedBy>Denis Dupont</cp:lastModifiedBy>
  <cp:lastPrinted>2001-10-23T14:47:59Z</cp:lastPrinted>
  <dcterms:modified xsi:type="dcterms:W3CDTF">2003-01-21T10:46:22Z</dcterms:modified>
  <cp:revision>52</cp:revision>
  <dc:subject/>
  <dc:title>Chemin de donnŽes</dc:title>
</cp:coreProperties>
</file>