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56388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873792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040" y="3832920"/>
            <a:ext cx="873792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360" y="91440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040" y="383292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360" y="383292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281340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57560" y="914400"/>
            <a:ext cx="281340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2080" y="914400"/>
            <a:ext cx="281340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03040" y="3832920"/>
            <a:ext cx="281340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57560" y="3832920"/>
            <a:ext cx="281340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2080" y="3832920"/>
            <a:ext cx="281340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03040" y="914400"/>
            <a:ext cx="8737920" cy="55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873792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426384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360" y="914400"/>
            <a:ext cx="426384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480" y="14400"/>
            <a:ext cx="9048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360" y="914400"/>
            <a:ext cx="426384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03040" y="383292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426384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360" y="91440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360" y="383292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360" y="914400"/>
            <a:ext cx="426384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040" y="3832920"/>
            <a:ext cx="8737920" cy="26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3040" y="914400"/>
            <a:ext cx="873792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542960" indent="-171360">
              <a:spcBef>
                <a:spcPts val="90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00160" indent="-171360">
              <a:spcBef>
                <a:spcPts val="90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00160" indent="-1713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00160" indent="-1713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35040"/>
            <a:ext cx="91184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bjectif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873792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dentifier l’interface entre le logiciel de plus bas niveau et le matériel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mprendre la problématique de l’architecture du jeu d’instru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éfinir deux grandes familles de jeu d’instruction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-3535200" y="1496880"/>
            <a:ext cx="1181988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06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cep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1290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1294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1295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1298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5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08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1309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20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1322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1325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1328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0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1332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1334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6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1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4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54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7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1358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1368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3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5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1376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1377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1378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9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80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1381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2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83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1384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5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86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1387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8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89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1390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1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92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1393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4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95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1396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7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98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1399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0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1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1402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3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4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1405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6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07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1408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9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0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1411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1412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3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4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1415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6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17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1418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9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20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1427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4048200" y="47149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-3535200" y="1496880"/>
            <a:ext cx="1181988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06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cep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1435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1436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1440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1441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1444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6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1447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9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1450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4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1455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61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1463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1466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1469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1473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4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1475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7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1478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2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1484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5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1486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1487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1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95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1499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1509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0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1511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4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1515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1517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1518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1519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21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1522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3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24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1525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6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27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1528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9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30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1531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2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33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1534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5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36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1537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8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39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1540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42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1543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4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45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1546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7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48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1549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0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51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1552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1553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4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55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1556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7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58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1559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0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61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7" name=""/>
          <p:cNvSpPr/>
          <p:nvPr/>
        </p:nvSpPr>
        <p:spPr>
          <a:xfrm>
            <a:off x="4030560" y="10573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300200" y="489096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293720" y="124452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0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1571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4048200" y="47149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-3535200" y="1496880"/>
            <a:ext cx="1181988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06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ceptio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1579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1580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1583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1584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7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1588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0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3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1594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8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05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1607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1610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1613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5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1617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1619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6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1628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9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1630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39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2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1643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1653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4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1655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8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1659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60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1661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1662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1663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4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65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1666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7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68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1669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0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71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1672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3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74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1675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6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77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1678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9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0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1681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2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3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1684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5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6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1687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8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9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1690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1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92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1693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4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95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1696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1697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8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99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1700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1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02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1703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4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8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1709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11" name=""/>
          <p:cNvSpPr/>
          <p:nvPr/>
        </p:nvSpPr>
        <p:spPr>
          <a:xfrm>
            <a:off x="4030560" y="10573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300200" y="489096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293720" y="124452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460680" y="2901960"/>
            <a:ext cx="3611520" cy="893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255560" y="2843280"/>
            <a:ext cx="2083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438960" y="2076480"/>
            <a:ext cx="530280" cy="25380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994520" y="3649680"/>
            <a:ext cx="482760" cy="28908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486480" y="4751280"/>
            <a:ext cx="482760" cy="28908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520040" y="2651040"/>
            <a:ext cx="482400" cy="28908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383600" y="4327560"/>
            <a:ext cx="482400" cy="28872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337160" y="1407960"/>
            <a:ext cx="1484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2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1723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"/>
          <p:cNvSpPr/>
          <p:nvPr/>
        </p:nvSpPr>
        <p:spPr>
          <a:xfrm>
            <a:off x="4048200" y="47149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-3535200" y="1496880"/>
            <a:ext cx="1181988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06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interface entre logiciel et matérie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1731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1732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1735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1736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9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5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1746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0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1751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7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1762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4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1765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7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1769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1771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8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9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1780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1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1782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1783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7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91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1795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1805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6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0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1811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12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1813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1814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1815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7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1818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0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3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1824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6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9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1830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1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2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4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5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7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8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0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41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1842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3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44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1845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6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47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1848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1849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0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51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1852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3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54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1855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6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60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1861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63" name=""/>
          <p:cNvSpPr/>
          <p:nvPr/>
        </p:nvSpPr>
        <p:spPr>
          <a:xfrm>
            <a:off x="4030560" y="10573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3460680" y="2259000"/>
            <a:ext cx="3611520" cy="2201760"/>
            <a:chOff x="3460680" y="2259000"/>
            <a:chExt cx="3611520" cy="2201760"/>
          </a:xfrm>
        </p:grpSpPr>
        <p:sp>
          <p:nvSpPr>
            <p:cNvPr id="1865" name=""/>
            <p:cNvSpPr/>
            <p:nvPr/>
          </p:nvSpPr>
          <p:spPr>
            <a:xfrm>
              <a:off x="3886200" y="3289320"/>
              <a:ext cx="555480" cy="117144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18ffd"/>
                </a:gs>
                <a:gs pos="50000">
                  <a:srgbClr val="cedcfd"/>
                </a:gs>
                <a:gs pos="100000">
                  <a:srgbClr val="618f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60680" y="2901960"/>
              <a:ext cx="3611520" cy="89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18ff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78680" y="2259000"/>
              <a:ext cx="501480" cy="1033560"/>
            </a:xfrm>
            <a:prstGeom prst="triangle">
              <a:avLst>
                <a:gd name="adj" fmla="val 45449"/>
              </a:avLst>
            </a:prstGeom>
            <a:gradFill rotWithShape="0">
              <a:gsLst>
                <a:gs pos="0">
                  <a:srgbClr val="618ffd"/>
                </a:gs>
                <a:gs pos="50000">
                  <a:srgbClr val="cedcfd"/>
                </a:gs>
                <a:gs pos="100000">
                  <a:srgbClr val="618f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97760" y="3141720"/>
              <a:ext cx="482400" cy="28872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edf2fd"/>
                </a:gs>
                <a:gs pos="100000">
                  <a:srgbClr val="618f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25200" y="2843280"/>
              <a:ext cx="33498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rchitecture du Je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’instruc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898800" y="3160800"/>
              <a:ext cx="530280" cy="25380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edf2fd"/>
                </a:gs>
                <a:gs pos="100000">
                  <a:srgbClr val="618f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4300200" y="489096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293720" y="124452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087280" y="3063960"/>
            <a:ext cx="753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4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1875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8" name=""/>
          <p:cNvSpPr/>
          <p:nvPr/>
        </p:nvSpPr>
        <p:spPr>
          <a:xfrm>
            <a:off x="4048200" y="47149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-3535200" y="1496880"/>
            <a:ext cx="1181988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06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’architecture de jeu d’instru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1883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1884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1887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1888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1889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1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1892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4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1895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7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1898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1899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2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1903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09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0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1911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1914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1917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1921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2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1923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5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0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1932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1934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1935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9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1940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43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6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1947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1957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8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64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1965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1966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1967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8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69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1970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1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2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1973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4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5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1976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7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8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1979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0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1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1982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3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4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1985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6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7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1988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9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90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1991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2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93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1994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5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96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1997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8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99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2000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2001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2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03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2004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5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06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2007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8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009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0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1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12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015" name=""/>
          <p:cNvSpPr/>
          <p:nvPr/>
        </p:nvSpPr>
        <p:spPr>
          <a:xfrm>
            <a:off x="4030560" y="10573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300200" y="489096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293720" y="124452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153400" y="3890880"/>
            <a:ext cx="398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emps d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mbre de cycles par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3460680" y="2259000"/>
            <a:ext cx="3611520" cy="2201760"/>
            <a:chOff x="3460680" y="2259000"/>
            <a:chExt cx="3611520" cy="2201760"/>
          </a:xfrm>
        </p:grpSpPr>
        <p:sp>
          <p:nvSpPr>
            <p:cNvPr id="2020" name=""/>
            <p:cNvSpPr/>
            <p:nvPr/>
          </p:nvSpPr>
          <p:spPr>
            <a:xfrm>
              <a:off x="3886200" y="3289320"/>
              <a:ext cx="555480" cy="117144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18ffd"/>
                </a:gs>
                <a:gs pos="50000">
                  <a:srgbClr val="cedcfd"/>
                </a:gs>
                <a:gs pos="100000">
                  <a:srgbClr val="618f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0680" y="2901960"/>
              <a:ext cx="3611520" cy="89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18ff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178680" y="2259000"/>
              <a:ext cx="501480" cy="1033560"/>
            </a:xfrm>
            <a:prstGeom prst="triangle">
              <a:avLst>
                <a:gd name="adj" fmla="val 45449"/>
              </a:avLst>
            </a:prstGeom>
            <a:gradFill rotWithShape="0">
              <a:gsLst>
                <a:gs pos="0">
                  <a:srgbClr val="618ffd"/>
                </a:gs>
                <a:gs pos="50000">
                  <a:srgbClr val="cedcfd"/>
                </a:gs>
                <a:gs pos="100000">
                  <a:srgbClr val="618f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197760" y="3141720"/>
              <a:ext cx="482400" cy="28872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edf2fd"/>
                </a:gs>
                <a:gs pos="100000">
                  <a:srgbClr val="618f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625200" y="2843280"/>
              <a:ext cx="33498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rchitecture du Je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’instruc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898800" y="3160800"/>
              <a:ext cx="530280" cy="25380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edf2fd"/>
                </a:gs>
                <a:gs pos="100000">
                  <a:srgbClr val="618f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5153400" y="2181240"/>
            <a:ext cx="3980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 nombre d’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mbre de cycles par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erformanc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873792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performances des machines sont définies par trois facteurs clés :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nombre d’instru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temps de cycles d’horlo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 nombre de cycles d’horloge par instr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compilateur et l’architecture de jeu d’instructions déterminent le nombre d’instructions requises pour un programme donné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ise en oeuvre définis le temps de cycle d’horloge, ainsi que le nombre de cycles d’horloge par instruction.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9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2030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4048200" y="47149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-3535200" y="1496880"/>
            <a:ext cx="1181988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06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blématique du jeu d’instru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2038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2039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1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2042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2043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2044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2047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9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2050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2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2053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2058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64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5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2066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8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2069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1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2072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4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2076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7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2078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5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6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2087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8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98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2102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2112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3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2114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7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2120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2121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2122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3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24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2125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6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27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2128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9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30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2131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2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33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2134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5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36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2137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8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39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2140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1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42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2143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4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45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2146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7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48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2149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50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51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2152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53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54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2155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2156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57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58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2159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0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61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2162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3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64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5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6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67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2168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0" name=""/>
          <p:cNvSpPr/>
          <p:nvPr/>
        </p:nvSpPr>
        <p:spPr>
          <a:xfrm>
            <a:off x="4030560" y="10573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4300200" y="489096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293720" y="124452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870480" y="2487600"/>
            <a:ext cx="5399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e jeu d’instruction doit être le résult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e nombreux compromis entr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514120" y="2935440"/>
            <a:ext cx="3552480" cy="1551960"/>
          </a:xfrm>
          <a:prstGeom prst="rect">
            <a:avLst/>
          </a:prstGeom>
          <a:solidFill>
            <a:srgbClr val="414141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fficacité du compilate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lexibilité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vites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mplexité du matéri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5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2176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9" name=""/>
          <p:cNvSpPr/>
          <p:nvPr/>
        </p:nvSpPr>
        <p:spPr>
          <a:xfrm>
            <a:off x="4048200" y="47149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-3535200" y="1496880"/>
            <a:ext cx="1181988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06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blématique du jeu d’instru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2184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2185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2188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2189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2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2193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5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8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2199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2200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3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2204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10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1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2212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2215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2218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0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1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2222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3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2224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6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1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2233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4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2235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2236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0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2241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44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7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2248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7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2258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9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3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2264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5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2266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2267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2268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9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70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2271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2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73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2274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5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76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2277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8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79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2280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1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82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2283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4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85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2286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7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88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2289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0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91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2292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3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94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2295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6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97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2298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9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00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2301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2302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3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4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2305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6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7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2308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9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10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1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2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13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2314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6" name=""/>
          <p:cNvSpPr/>
          <p:nvPr/>
        </p:nvSpPr>
        <p:spPr>
          <a:xfrm>
            <a:off x="4030560" y="10573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886200" y="3305160"/>
            <a:ext cx="555480" cy="1171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cedc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460680" y="2917800"/>
            <a:ext cx="3611520" cy="893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178680" y="2274840"/>
            <a:ext cx="501480" cy="1033560"/>
          </a:xfrm>
          <a:prstGeom prst="triangle">
            <a:avLst>
              <a:gd name="adj" fmla="val 45449"/>
            </a:avLst>
          </a:prstGeom>
          <a:gradFill rotWithShape="0">
            <a:gsLst>
              <a:gs pos="0">
                <a:srgbClr val="618ffd"/>
              </a:gs>
              <a:gs pos="50000">
                <a:srgbClr val="cedc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197760" y="3157560"/>
            <a:ext cx="482400" cy="28908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898800" y="3176640"/>
            <a:ext cx="530280" cy="25380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744720" y="2908440"/>
            <a:ext cx="3038760" cy="69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CO</a:t>
            </a: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300200" y="489096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293720" y="124452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5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2326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>
            <a:off x="4048200" y="47149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243840" y="2529000"/>
            <a:ext cx="2040840" cy="231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52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5281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blématique du jeu d’instru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2334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2335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2338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2339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2340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2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2343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5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2346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8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2349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2350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3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2354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60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1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2362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2365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0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2372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3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2374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6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1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2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2383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4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2385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2386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2391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94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7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2398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2408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9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3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2414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15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2416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2417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2418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9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20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2421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2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23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2424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5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26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2427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8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29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2430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1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32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2433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4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35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2436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7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38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2439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0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41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2442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3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44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2445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6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47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2448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9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50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2451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2452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3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54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2455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6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57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2458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9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460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1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63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2464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466" name=""/>
          <p:cNvSpPr/>
          <p:nvPr/>
        </p:nvSpPr>
        <p:spPr>
          <a:xfrm>
            <a:off x="5938920" y="2314440"/>
            <a:ext cx="555480" cy="11718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cedc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513400" y="1927080"/>
            <a:ext cx="3611520" cy="893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8231040" y="1284120"/>
            <a:ext cx="501840" cy="1033560"/>
          </a:xfrm>
          <a:prstGeom prst="triangle">
            <a:avLst>
              <a:gd name="adj" fmla="val 45449"/>
            </a:avLst>
          </a:prstGeom>
          <a:gradFill rotWithShape="0">
            <a:gsLst>
              <a:gs pos="0">
                <a:srgbClr val="618ffd"/>
              </a:gs>
              <a:gs pos="50000">
                <a:srgbClr val="cedc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300200" y="489096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714720" y="2155680"/>
            <a:ext cx="115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14141"/>
                </a:solidFill>
                <a:latin typeface="Arial"/>
              </a:rPr>
              <a:t>CI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-2527200" y="1471680"/>
            <a:ext cx="970236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331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3318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030560" y="10573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293720" y="124452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497640" y="4842000"/>
            <a:ext cx="1687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é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520" y="640080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mplex Instruction Set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6" name=""/>
          <p:cNvGrpSpPr/>
          <p:nvPr/>
        </p:nvGrpSpPr>
        <p:grpSpPr>
          <a:xfrm>
            <a:off x="-2773080" y="1811880"/>
            <a:ext cx="11057760" cy="3679200"/>
            <a:chOff x="-2773080" y="1811880"/>
            <a:chExt cx="11057760" cy="3679200"/>
          </a:xfrm>
        </p:grpSpPr>
        <p:sp>
          <p:nvSpPr>
            <p:cNvPr id="2477" name=""/>
            <p:cNvSpPr/>
            <p:nvPr/>
          </p:nvSpPr>
          <p:spPr>
            <a:xfrm>
              <a:off x="-2773080" y="1811880"/>
              <a:ext cx="11057760" cy="36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15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762280" y="5373720"/>
              <a:ext cx="228600" cy="117360"/>
            </a:xfrm>
            <a:custGeom>
              <a:avLst/>
              <a:gdLst/>
              <a:ahLst/>
              <a:rect l="l" t="t" r="r" b="b"/>
              <a:pathLst>
                <a:path w="144" h="74">
                  <a:moveTo>
                    <a:pt x="0" y="37"/>
                  </a:moveTo>
                  <a:lnTo>
                    <a:pt x="143" y="73"/>
                  </a:lnTo>
                  <a:lnTo>
                    <a:pt x="143" y="0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762280" y="5373720"/>
              <a:ext cx="217440" cy="10620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0" y="34"/>
                  </a:moveTo>
                  <a:lnTo>
                    <a:pt x="136" y="66"/>
                  </a:lnTo>
                  <a:lnTo>
                    <a:pt x="136" y="0"/>
                  </a:lnTo>
                  <a:lnTo>
                    <a:pt x="0" y="34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0" name=""/>
          <p:cNvSpPr/>
          <p:nvPr/>
        </p:nvSpPr>
        <p:spPr>
          <a:xfrm>
            <a:off x="4048200" y="47149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-3535200" y="1496880"/>
            <a:ext cx="1181988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06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886360" y="2579760"/>
            <a:ext cx="3245040" cy="20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blématique du jeu d’instruc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84" name=""/>
          <p:cNvGrpSpPr/>
          <p:nvPr/>
        </p:nvGrpSpPr>
        <p:grpSpPr>
          <a:xfrm>
            <a:off x="1000080" y="1112760"/>
            <a:ext cx="1108080" cy="1171800"/>
            <a:chOff x="1000080" y="1112760"/>
            <a:chExt cx="1108080" cy="1171800"/>
          </a:xfrm>
        </p:grpSpPr>
        <p:grpSp>
          <p:nvGrpSpPr>
            <p:cNvPr id="2485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2486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1000080" y="1655640"/>
              <a:ext cx="433440" cy="196920"/>
              <a:chOff x="1000080" y="1655640"/>
              <a:chExt cx="433440" cy="196920"/>
            </a:xfrm>
          </p:grpSpPr>
          <p:grpSp>
            <p:nvGrpSpPr>
              <p:cNvPr id="2489" name=""/>
              <p:cNvGrpSpPr/>
              <p:nvPr/>
            </p:nvGrpSpPr>
            <p:grpSpPr>
              <a:xfrm>
                <a:off x="1000080" y="1655640"/>
                <a:ext cx="433440" cy="196920"/>
                <a:chOff x="1000080" y="1655640"/>
                <a:chExt cx="433440" cy="196920"/>
              </a:xfrm>
            </p:grpSpPr>
            <p:grpSp>
              <p:nvGrpSpPr>
                <p:cNvPr id="2490" name=""/>
                <p:cNvGrpSpPr/>
                <p:nvPr/>
              </p:nvGrpSpPr>
              <p:grpSpPr>
                <a:xfrm>
                  <a:off x="1006560" y="1655640"/>
                  <a:ext cx="426960" cy="165240"/>
                  <a:chOff x="1006560" y="1655640"/>
                  <a:chExt cx="426960" cy="165240"/>
                </a:xfrm>
              </p:grpSpPr>
              <p:sp>
                <p:nvSpPr>
                  <p:cNvPr id="2491" name=""/>
                  <p:cNvSpPr/>
                  <p:nvPr/>
                </p:nvSpPr>
                <p:spPr>
                  <a:xfrm>
                    <a:off x="101268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100656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3" name=""/>
                <p:cNvGrpSpPr/>
                <p:nvPr/>
              </p:nvGrpSpPr>
              <p:grpSpPr>
                <a:xfrm>
                  <a:off x="1220760" y="1771560"/>
                  <a:ext cx="212760" cy="81000"/>
                  <a:chOff x="1220760" y="1771560"/>
                  <a:chExt cx="212760" cy="81000"/>
                </a:xfrm>
              </p:grpSpPr>
              <p:sp>
                <p:nvSpPr>
                  <p:cNvPr id="2494" name=""/>
                  <p:cNvSpPr/>
                  <p:nvPr/>
                </p:nvSpPr>
                <p:spPr>
                  <a:xfrm>
                    <a:off x="1227240" y="1778040"/>
                    <a:ext cx="199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1220760" y="1771560"/>
                    <a:ext cx="21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6" name=""/>
                <p:cNvGrpSpPr/>
                <p:nvPr/>
              </p:nvGrpSpPr>
              <p:grpSpPr>
                <a:xfrm>
                  <a:off x="1000080" y="1689120"/>
                  <a:ext cx="231840" cy="163440"/>
                  <a:chOff x="1000080" y="1689120"/>
                  <a:chExt cx="231840" cy="163440"/>
                </a:xfrm>
              </p:grpSpPr>
              <p:sp>
                <p:nvSpPr>
                  <p:cNvPr id="2497" name=""/>
                  <p:cNvSpPr/>
                  <p:nvPr/>
                </p:nvSpPr>
                <p:spPr>
                  <a:xfrm>
                    <a:off x="1006560" y="1695600"/>
                    <a:ext cx="218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1000080" y="1689120"/>
                    <a:ext cx="2318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9" name=""/>
              <p:cNvGrpSpPr/>
              <p:nvPr/>
            </p:nvGrpSpPr>
            <p:grpSpPr>
              <a:xfrm>
                <a:off x="1066680" y="1681200"/>
                <a:ext cx="284400" cy="114120"/>
                <a:chOff x="1066680" y="1681200"/>
                <a:chExt cx="284400" cy="114120"/>
              </a:xfrm>
            </p:grpSpPr>
            <p:grpSp>
              <p:nvGrpSpPr>
                <p:cNvPr id="2500" name=""/>
                <p:cNvGrpSpPr/>
                <p:nvPr/>
              </p:nvGrpSpPr>
              <p:grpSpPr>
                <a:xfrm>
                  <a:off x="1087560" y="1687680"/>
                  <a:ext cx="255600" cy="106200"/>
                  <a:chOff x="1087560" y="1687680"/>
                  <a:chExt cx="255600" cy="106200"/>
                </a:xfrm>
              </p:grpSpPr>
              <p:sp>
                <p:nvSpPr>
                  <p:cNvPr id="2501" name=""/>
                  <p:cNvSpPr/>
                  <p:nvPr/>
                </p:nvSpPr>
                <p:spPr>
                  <a:xfrm>
                    <a:off x="1190520" y="1687680"/>
                    <a:ext cx="1526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114444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1087560" y="1704960"/>
                    <a:ext cx="1760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4" name=""/>
                <p:cNvGrpSpPr/>
                <p:nvPr/>
              </p:nvGrpSpPr>
              <p:grpSpPr>
                <a:xfrm>
                  <a:off x="1066680" y="1681200"/>
                  <a:ext cx="284400" cy="114120"/>
                  <a:chOff x="1066680" y="1681200"/>
                  <a:chExt cx="284400" cy="114120"/>
                </a:xfrm>
              </p:grpSpPr>
              <p:sp>
                <p:nvSpPr>
                  <p:cNvPr id="2505" name=""/>
                  <p:cNvSpPr/>
                  <p:nvPr/>
                </p:nvSpPr>
                <p:spPr>
                  <a:xfrm>
                    <a:off x="106668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111456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115416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118584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122076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123516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11" name=""/>
            <p:cNvSpPr/>
            <p:nvPr/>
          </p:nvSpPr>
          <p:spPr>
            <a:xfrm>
              <a:off x="1336680" y="1781280"/>
              <a:ext cx="22212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2" name=""/>
            <p:cNvGrpSpPr/>
            <p:nvPr/>
          </p:nvGrpSpPr>
          <p:grpSpPr>
            <a:xfrm>
              <a:off x="1147680" y="1112760"/>
              <a:ext cx="959040" cy="700200"/>
              <a:chOff x="1147680" y="1112760"/>
              <a:chExt cx="959040" cy="700200"/>
            </a:xfrm>
          </p:grpSpPr>
          <p:sp>
            <p:nvSpPr>
              <p:cNvPr id="2513" name=""/>
              <p:cNvSpPr/>
              <p:nvPr/>
            </p:nvSpPr>
            <p:spPr>
              <a:xfrm>
                <a:off x="115416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14768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1316160" y="1181160"/>
              <a:ext cx="571320" cy="533520"/>
              <a:chOff x="1316160" y="1181160"/>
              <a:chExt cx="571320" cy="533520"/>
            </a:xfrm>
          </p:grpSpPr>
          <p:sp>
            <p:nvSpPr>
              <p:cNvPr id="2516" name=""/>
              <p:cNvSpPr/>
              <p:nvPr/>
            </p:nvSpPr>
            <p:spPr>
              <a:xfrm>
                <a:off x="1322280" y="1187280"/>
                <a:ext cx="55908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316160" y="1181160"/>
                <a:ext cx="57132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1967040" y="1733400"/>
              <a:ext cx="141120" cy="297000"/>
              <a:chOff x="1967040" y="1733400"/>
              <a:chExt cx="141120" cy="297000"/>
            </a:xfrm>
          </p:grpSpPr>
          <p:sp>
            <p:nvSpPr>
              <p:cNvPr id="2519" name=""/>
              <p:cNvSpPr/>
              <p:nvPr/>
            </p:nvSpPr>
            <p:spPr>
              <a:xfrm>
                <a:off x="1967040" y="1738440"/>
                <a:ext cx="14112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967040" y="1733400"/>
                <a:ext cx="288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139536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2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2523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4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2525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7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2528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2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3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2534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5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2536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2537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1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2542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5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8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2549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8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2559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0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2561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4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2565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66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2567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2568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2569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0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1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2572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3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4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2575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6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7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2578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9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80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2581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2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83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2584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5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86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2587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8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89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2590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1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92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2593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4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95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2596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7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98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2599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0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01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2602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2603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4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05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2606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7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08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2609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0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11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3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14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2615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17" name=""/>
          <p:cNvSpPr/>
          <p:nvPr/>
        </p:nvSpPr>
        <p:spPr>
          <a:xfrm>
            <a:off x="4030560" y="1057320"/>
            <a:ext cx="1971720" cy="1114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816520" y="4448160"/>
            <a:ext cx="555840" cy="1171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18ffd"/>
              </a:gs>
              <a:gs pos="50000">
                <a:srgbClr val="cedc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391000" y="4060800"/>
            <a:ext cx="3611880" cy="893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8109000" y="3417840"/>
            <a:ext cx="501480" cy="1033560"/>
          </a:xfrm>
          <a:prstGeom prst="triangle">
            <a:avLst>
              <a:gd name="adj" fmla="val 45449"/>
            </a:avLst>
          </a:prstGeom>
          <a:gradFill rotWithShape="0">
            <a:gsLst>
              <a:gs pos="0">
                <a:srgbClr val="618ffd"/>
              </a:gs>
              <a:gs pos="50000">
                <a:srgbClr val="cedc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829480" y="4319640"/>
            <a:ext cx="529920" cy="25380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50000">
                <a:srgbClr val="edf2fd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300200" y="489096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Ma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293720" y="1244520"/>
            <a:ext cx="1540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du Logi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6282720" y="4187880"/>
            <a:ext cx="115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14141"/>
                </a:solidFill>
                <a:latin typeface="Arial"/>
              </a:rPr>
              <a:t>RI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886560" y="2530440"/>
            <a:ext cx="493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ôle important du compil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6724800" y="5268960"/>
            <a:ext cx="190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écu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-5040" y="640080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duced Instruction Set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Quand Monsieur DUPONT exécute un programme !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72960" y="1031760"/>
            <a:ext cx="2021040" cy="1252800"/>
            <a:chOff x="372960" y="1031760"/>
            <a:chExt cx="2021040" cy="1252800"/>
          </a:xfrm>
        </p:grpSpPr>
        <p:grpSp>
          <p:nvGrpSpPr>
            <p:cNvPr id="44" name=""/>
            <p:cNvGrpSpPr/>
            <p:nvPr/>
          </p:nvGrpSpPr>
          <p:grpSpPr>
            <a:xfrm>
              <a:off x="461880" y="1582560"/>
              <a:ext cx="622440" cy="700200"/>
              <a:chOff x="461880" y="1582560"/>
              <a:chExt cx="622440" cy="700200"/>
            </a:xfrm>
          </p:grpSpPr>
          <p:sp>
            <p:nvSpPr>
              <p:cNvPr id="45" name=""/>
              <p:cNvSpPr/>
              <p:nvPr/>
            </p:nvSpPr>
            <p:spPr>
              <a:xfrm>
                <a:off x="468360" y="1589040"/>
                <a:ext cx="609480" cy="687600"/>
              </a:xfrm>
              <a:custGeom>
                <a:avLst/>
                <a:gdLst/>
                <a:ahLst/>
                <a:rect l="l" t="t" r="r" b="b"/>
                <a:pathLst>
                  <a:path w="384" h="433">
                    <a:moveTo>
                      <a:pt x="138" y="48"/>
                    </a:moveTo>
                    <a:lnTo>
                      <a:pt x="68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6"/>
                    </a:lnTo>
                    <a:lnTo>
                      <a:pt x="41" y="11"/>
                    </a:lnTo>
                    <a:lnTo>
                      <a:pt x="33" y="18"/>
                    </a:lnTo>
                    <a:lnTo>
                      <a:pt x="26" y="24"/>
                    </a:lnTo>
                    <a:lnTo>
                      <a:pt x="21" y="30"/>
                    </a:lnTo>
                    <a:lnTo>
                      <a:pt x="13" y="39"/>
                    </a:lnTo>
                    <a:lnTo>
                      <a:pt x="8" y="48"/>
                    </a:lnTo>
                    <a:lnTo>
                      <a:pt x="3" y="55"/>
                    </a:lnTo>
                    <a:lnTo>
                      <a:pt x="1" y="66"/>
                    </a:lnTo>
                    <a:lnTo>
                      <a:pt x="0" y="75"/>
                    </a:lnTo>
                    <a:lnTo>
                      <a:pt x="0" y="83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5" y="113"/>
                    </a:lnTo>
                    <a:lnTo>
                      <a:pt x="10" y="121"/>
                    </a:lnTo>
                    <a:lnTo>
                      <a:pt x="18" y="131"/>
                    </a:lnTo>
                    <a:lnTo>
                      <a:pt x="29" y="138"/>
                    </a:lnTo>
                    <a:lnTo>
                      <a:pt x="40" y="148"/>
                    </a:lnTo>
                    <a:lnTo>
                      <a:pt x="51" y="157"/>
                    </a:lnTo>
                    <a:lnTo>
                      <a:pt x="64" y="170"/>
                    </a:lnTo>
                    <a:lnTo>
                      <a:pt x="74" y="179"/>
                    </a:lnTo>
                    <a:lnTo>
                      <a:pt x="85" y="187"/>
                    </a:lnTo>
                    <a:lnTo>
                      <a:pt x="93" y="194"/>
                    </a:lnTo>
                    <a:lnTo>
                      <a:pt x="103" y="200"/>
                    </a:lnTo>
                    <a:lnTo>
                      <a:pt x="114" y="207"/>
                    </a:lnTo>
                    <a:lnTo>
                      <a:pt x="120" y="219"/>
                    </a:lnTo>
                    <a:lnTo>
                      <a:pt x="124" y="232"/>
                    </a:lnTo>
                    <a:lnTo>
                      <a:pt x="132" y="244"/>
                    </a:lnTo>
                    <a:lnTo>
                      <a:pt x="138" y="251"/>
                    </a:lnTo>
                    <a:lnTo>
                      <a:pt x="144" y="258"/>
                    </a:lnTo>
                    <a:lnTo>
                      <a:pt x="150" y="263"/>
                    </a:lnTo>
                    <a:lnTo>
                      <a:pt x="155" y="267"/>
                    </a:lnTo>
                    <a:lnTo>
                      <a:pt x="164" y="269"/>
                    </a:lnTo>
                    <a:lnTo>
                      <a:pt x="172" y="270"/>
                    </a:lnTo>
                    <a:lnTo>
                      <a:pt x="181" y="271"/>
                    </a:lnTo>
                    <a:lnTo>
                      <a:pt x="207" y="269"/>
                    </a:lnTo>
                    <a:lnTo>
                      <a:pt x="242" y="267"/>
                    </a:lnTo>
                    <a:lnTo>
                      <a:pt x="279" y="267"/>
                    </a:lnTo>
                    <a:lnTo>
                      <a:pt x="342" y="273"/>
                    </a:lnTo>
                    <a:lnTo>
                      <a:pt x="345" y="289"/>
                    </a:lnTo>
                    <a:lnTo>
                      <a:pt x="349" y="308"/>
                    </a:lnTo>
                    <a:lnTo>
                      <a:pt x="353" y="333"/>
                    </a:lnTo>
                    <a:lnTo>
                      <a:pt x="349" y="359"/>
                    </a:lnTo>
                    <a:lnTo>
                      <a:pt x="346" y="379"/>
                    </a:lnTo>
                    <a:lnTo>
                      <a:pt x="342" y="404"/>
                    </a:lnTo>
                    <a:lnTo>
                      <a:pt x="341" y="405"/>
                    </a:lnTo>
                    <a:lnTo>
                      <a:pt x="336" y="407"/>
                    </a:lnTo>
                    <a:lnTo>
                      <a:pt x="311" y="407"/>
                    </a:lnTo>
                    <a:lnTo>
                      <a:pt x="129" y="410"/>
                    </a:lnTo>
                    <a:lnTo>
                      <a:pt x="129" y="432"/>
                    </a:lnTo>
                    <a:lnTo>
                      <a:pt x="225" y="427"/>
                    </a:lnTo>
                    <a:lnTo>
                      <a:pt x="331" y="423"/>
                    </a:lnTo>
                    <a:lnTo>
                      <a:pt x="370" y="422"/>
                    </a:lnTo>
                    <a:lnTo>
                      <a:pt x="371" y="402"/>
                    </a:lnTo>
                    <a:lnTo>
                      <a:pt x="373" y="378"/>
                    </a:lnTo>
                    <a:lnTo>
                      <a:pt x="375" y="350"/>
                    </a:lnTo>
                    <a:lnTo>
                      <a:pt x="377" y="317"/>
                    </a:lnTo>
                    <a:lnTo>
                      <a:pt x="378" y="285"/>
                    </a:lnTo>
                    <a:lnTo>
                      <a:pt x="381" y="254"/>
                    </a:lnTo>
                    <a:lnTo>
                      <a:pt x="383" y="212"/>
                    </a:lnTo>
                    <a:lnTo>
                      <a:pt x="138" y="48"/>
                    </a:lnTo>
                  </a:path>
                </a:pathLst>
              </a:cu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1880" y="1582560"/>
                <a:ext cx="622440" cy="700200"/>
              </a:xfrm>
              <a:custGeom>
                <a:avLst/>
                <a:gdLst/>
                <a:ahLst/>
                <a:rect l="l" t="t" r="r" b="b"/>
                <a:pathLst>
                  <a:path w="392" h="441">
                    <a:moveTo>
                      <a:pt x="141" y="50"/>
                    </a:moveTo>
                    <a:lnTo>
                      <a:pt x="69" y="0"/>
                    </a:lnTo>
                    <a:lnTo>
                      <a:pt x="62" y="1"/>
                    </a:lnTo>
                    <a:lnTo>
                      <a:pt x="56" y="3"/>
                    </a:lnTo>
                    <a:lnTo>
                      <a:pt x="51" y="6"/>
                    </a:lnTo>
                    <a:lnTo>
                      <a:pt x="42" y="11"/>
                    </a:lnTo>
                    <a:lnTo>
                      <a:pt x="34" y="18"/>
                    </a:lnTo>
                    <a:lnTo>
                      <a:pt x="27" y="24"/>
                    </a:lnTo>
                    <a:lnTo>
                      <a:pt x="21" y="31"/>
                    </a:lnTo>
                    <a:lnTo>
                      <a:pt x="13" y="41"/>
                    </a:lnTo>
                    <a:lnTo>
                      <a:pt x="8" y="49"/>
                    </a:lnTo>
                    <a:lnTo>
                      <a:pt x="3" y="57"/>
                    </a:lnTo>
                    <a:lnTo>
                      <a:pt x="1" y="67"/>
                    </a:lnTo>
                    <a:lnTo>
                      <a:pt x="0" y="77"/>
                    </a:lnTo>
                    <a:lnTo>
                      <a:pt x="0" y="85"/>
                    </a:lnTo>
                    <a:lnTo>
                      <a:pt x="0" y="93"/>
                    </a:lnTo>
                    <a:lnTo>
                      <a:pt x="2" y="104"/>
                    </a:lnTo>
                    <a:lnTo>
                      <a:pt x="5" y="115"/>
                    </a:lnTo>
                    <a:lnTo>
                      <a:pt x="10" y="124"/>
                    </a:lnTo>
                    <a:lnTo>
                      <a:pt x="18" y="133"/>
                    </a:lnTo>
                    <a:lnTo>
                      <a:pt x="30" y="142"/>
                    </a:lnTo>
                    <a:lnTo>
                      <a:pt x="41" y="151"/>
                    </a:lnTo>
                    <a:lnTo>
                      <a:pt x="52" y="161"/>
                    </a:lnTo>
                    <a:lnTo>
                      <a:pt x="65" y="173"/>
                    </a:lnTo>
                    <a:lnTo>
                      <a:pt x="76" y="183"/>
                    </a:lnTo>
                    <a:lnTo>
                      <a:pt x="87" y="191"/>
                    </a:lnTo>
                    <a:lnTo>
                      <a:pt x="95" y="198"/>
                    </a:lnTo>
                    <a:lnTo>
                      <a:pt x="105" y="204"/>
                    </a:lnTo>
                    <a:lnTo>
                      <a:pt x="116" y="211"/>
                    </a:lnTo>
                    <a:lnTo>
                      <a:pt x="122" y="223"/>
                    </a:lnTo>
                    <a:lnTo>
                      <a:pt x="127" y="236"/>
                    </a:lnTo>
                    <a:lnTo>
                      <a:pt x="135" y="250"/>
                    </a:lnTo>
                    <a:lnTo>
                      <a:pt x="141" y="257"/>
                    </a:lnTo>
                    <a:lnTo>
                      <a:pt x="147" y="264"/>
                    </a:lnTo>
                    <a:lnTo>
                      <a:pt x="153" y="269"/>
                    </a:lnTo>
                    <a:lnTo>
                      <a:pt x="158" y="272"/>
                    </a:lnTo>
                    <a:lnTo>
                      <a:pt x="167" y="275"/>
                    </a:lnTo>
                    <a:lnTo>
                      <a:pt x="176" y="276"/>
                    </a:lnTo>
                    <a:lnTo>
                      <a:pt x="185" y="276"/>
                    </a:lnTo>
                    <a:lnTo>
                      <a:pt x="211" y="275"/>
                    </a:lnTo>
                    <a:lnTo>
                      <a:pt x="247" y="273"/>
                    </a:lnTo>
                    <a:lnTo>
                      <a:pt x="285" y="272"/>
                    </a:lnTo>
                    <a:lnTo>
                      <a:pt x="349" y="278"/>
                    </a:lnTo>
                    <a:lnTo>
                      <a:pt x="352" y="294"/>
                    </a:lnTo>
                    <a:lnTo>
                      <a:pt x="356" y="315"/>
                    </a:lnTo>
                    <a:lnTo>
                      <a:pt x="360" y="340"/>
                    </a:lnTo>
                    <a:lnTo>
                      <a:pt x="356" y="366"/>
                    </a:lnTo>
                    <a:lnTo>
                      <a:pt x="353" y="386"/>
                    </a:lnTo>
                    <a:lnTo>
                      <a:pt x="349" y="412"/>
                    </a:lnTo>
                    <a:lnTo>
                      <a:pt x="348" y="414"/>
                    </a:lnTo>
                    <a:lnTo>
                      <a:pt x="343" y="415"/>
                    </a:lnTo>
                    <a:lnTo>
                      <a:pt x="317" y="415"/>
                    </a:lnTo>
                    <a:lnTo>
                      <a:pt x="132" y="419"/>
                    </a:lnTo>
                    <a:lnTo>
                      <a:pt x="132" y="440"/>
                    </a:lnTo>
                    <a:lnTo>
                      <a:pt x="230" y="436"/>
                    </a:lnTo>
                    <a:lnTo>
                      <a:pt x="338" y="432"/>
                    </a:lnTo>
                    <a:lnTo>
                      <a:pt x="378" y="431"/>
                    </a:lnTo>
                    <a:lnTo>
                      <a:pt x="379" y="409"/>
                    </a:lnTo>
                    <a:lnTo>
                      <a:pt x="381" y="385"/>
                    </a:lnTo>
                    <a:lnTo>
                      <a:pt x="383" y="356"/>
                    </a:lnTo>
                    <a:lnTo>
                      <a:pt x="385" y="324"/>
                    </a:lnTo>
                    <a:lnTo>
                      <a:pt x="386" y="290"/>
                    </a:lnTo>
                    <a:lnTo>
                      <a:pt x="389" y="259"/>
                    </a:lnTo>
                    <a:lnTo>
                      <a:pt x="391" y="216"/>
                    </a:lnTo>
                    <a:lnTo>
                      <a:pt x="141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72960" y="1031760"/>
                <a:ext cx="1284480" cy="1246320"/>
                <a:chOff x="372960" y="1031760"/>
                <a:chExt cx="1284480" cy="1246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79440" y="1036800"/>
                  <a:ext cx="1271520" cy="1233360"/>
                </a:xfrm>
                <a:custGeom>
                  <a:avLst/>
                  <a:gdLst/>
                  <a:ahLst/>
                  <a:rect l="l" t="t" r="r" b="b"/>
                  <a:pathLst>
                    <a:path w="801" h="777">
                      <a:moveTo>
                        <a:pt x="63" y="169"/>
                      </a:moveTo>
                      <a:lnTo>
                        <a:pt x="54" y="159"/>
                      </a:lnTo>
                      <a:lnTo>
                        <a:pt x="45" y="143"/>
                      </a:lnTo>
                      <a:lnTo>
                        <a:pt x="32" y="129"/>
                      </a:lnTo>
                      <a:lnTo>
                        <a:pt x="0" y="112"/>
                      </a:lnTo>
                      <a:lnTo>
                        <a:pt x="48" y="131"/>
                      </a:lnTo>
                      <a:lnTo>
                        <a:pt x="50" y="128"/>
                      </a:lnTo>
                      <a:lnTo>
                        <a:pt x="52" y="125"/>
                      </a:lnTo>
                      <a:lnTo>
                        <a:pt x="0" y="97"/>
                      </a:lnTo>
                      <a:lnTo>
                        <a:pt x="26" y="106"/>
                      </a:lnTo>
                      <a:lnTo>
                        <a:pt x="14" y="82"/>
                      </a:lnTo>
                      <a:lnTo>
                        <a:pt x="41" y="107"/>
                      </a:lnTo>
                      <a:lnTo>
                        <a:pt x="69" y="117"/>
                      </a:lnTo>
                      <a:lnTo>
                        <a:pt x="76" y="115"/>
                      </a:lnTo>
                      <a:lnTo>
                        <a:pt x="27" y="70"/>
                      </a:lnTo>
                      <a:lnTo>
                        <a:pt x="57" y="83"/>
                      </a:lnTo>
                      <a:lnTo>
                        <a:pt x="91" y="114"/>
                      </a:lnTo>
                      <a:lnTo>
                        <a:pt x="59" y="71"/>
                      </a:lnTo>
                      <a:lnTo>
                        <a:pt x="110" y="100"/>
                      </a:lnTo>
                      <a:lnTo>
                        <a:pt x="79" y="66"/>
                      </a:lnTo>
                      <a:lnTo>
                        <a:pt x="118" y="100"/>
                      </a:lnTo>
                      <a:lnTo>
                        <a:pt x="126" y="95"/>
                      </a:lnTo>
                      <a:lnTo>
                        <a:pt x="83" y="53"/>
                      </a:lnTo>
                      <a:lnTo>
                        <a:pt x="137" y="94"/>
                      </a:lnTo>
                      <a:lnTo>
                        <a:pt x="145" y="94"/>
                      </a:lnTo>
                      <a:lnTo>
                        <a:pt x="108" y="57"/>
                      </a:lnTo>
                      <a:lnTo>
                        <a:pt x="148" y="87"/>
                      </a:lnTo>
                      <a:lnTo>
                        <a:pt x="124" y="51"/>
                      </a:lnTo>
                      <a:lnTo>
                        <a:pt x="149" y="75"/>
                      </a:lnTo>
                      <a:lnTo>
                        <a:pt x="168" y="85"/>
                      </a:lnTo>
                      <a:lnTo>
                        <a:pt x="143" y="40"/>
                      </a:lnTo>
                      <a:lnTo>
                        <a:pt x="162" y="67"/>
                      </a:lnTo>
                      <a:lnTo>
                        <a:pt x="181" y="80"/>
                      </a:lnTo>
                      <a:lnTo>
                        <a:pt x="154" y="6"/>
                      </a:lnTo>
                      <a:lnTo>
                        <a:pt x="181" y="47"/>
                      </a:lnTo>
                      <a:lnTo>
                        <a:pt x="196" y="65"/>
                      </a:lnTo>
                      <a:lnTo>
                        <a:pt x="184" y="37"/>
                      </a:lnTo>
                      <a:lnTo>
                        <a:pt x="208" y="77"/>
                      </a:lnTo>
                      <a:lnTo>
                        <a:pt x="195" y="30"/>
                      </a:lnTo>
                      <a:lnTo>
                        <a:pt x="210" y="0"/>
                      </a:lnTo>
                      <a:lnTo>
                        <a:pt x="201" y="34"/>
                      </a:lnTo>
                      <a:lnTo>
                        <a:pt x="213" y="59"/>
                      </a:lnTo>
                      <a:lnTo>
                        <a:pt x="215" y="30"/>
                      </a:lnTo>
                      <a:lnTo>
                        <a:pt x="233" y="21"/>
                      </a:lnTo>
                      <a:lnTo>
                        <a:pt x="219" y="36"/>
                      </a:lnTo>
                      <a:lnTo>
                        <a:pt x="221" y="68"/>
                      </a:lnTo>
                      <a:lnTo>
                        <a:pt x="232" y="53"/>
                      </a:lnTo>
                      <a:lnTo>
                        <a:pt x="226" y="75"/>
                      </a:lnTo>
                      <a:lnTo>
                        <a:pt x="237" y="83"/>
                      </a:lnTo>
                      <a:lnTo>
                        <a:pt x="249" y="95"/>
                      </a:lnTo>
                      <a:lnTo>
                        <a:pt x="257" y="99"/>
                      </a:lnTo>
                      <a:lnTo>
                        <a:pt x="280" y="106"/>
                      </a:lnTo>
                      <a:lnTo>
                        <a:pt x="316" y="116"/>
                      </a:lnTo>
                      <a:lnTo>
                        <a:pt x="337" y="123"/>
                      </a:lnTo>
                      <a:lnTo>
                        <a:pt x="360" y="130"/>
                      </a:lnTo>
                      <a:lnTo>
                        <a:pt x="383" y="139"/>
                      </a:lnTo>
                      <a:lnTo>
                        <a:pt x="407" y="148"/>
                      </a:lnTo>
                      <a:lnTo>
                        <a:pt x="425" y="160"/>
                      </a:lnTo>
                      <a:lnTo>
                        <a:pt x="432" y="168"/>
                      </a:lnTo>
                      <a:lnTo>
                        <a:pt x="435" y="173"/>
                      </a:lnTo>
                      <a:lnTo>
                        <a:pt x="432" y="176"/>
                      </a:lnTo>
                      <a:lnTo>
                        <a:pt x="421" y="179"/>
                      </a:lnTo>
                      <a:lnTo>
                        <a:pt x="391" y="185"/>
                      </a:lnTo>
                      <a:lnTo>
                        <a:pt x="363" y="189"/>
                      </a:lnTo>
                      <a:lnTo>
                        <a:pt x="363" y="210"/>
                      </a:lnTo>
                      <a:lnTo>
                        <a:pt x="381" y="252"/>
                      </a:lnTo>
                      <a:lnTo>
                        <a:pt x="388" y="269"/>
                      </a:lnTo>
                      <a:lnTo>
                        <a:pt x="393" y="294"/>
                      </a:lnTo>
                      <a:lnTo>
                        <a:pt x="392" y="298"/>
                      </a:lnTo>
                      <a:lnTo>
                        <a:pt x="389" y="303"/>
                      </a:lnTo>
                      <a:lnTo>
                        <a:pt x="383" y="305"/>
                      </a:lnTo>
                      <a:lnTo>
                        <a:pt x="377" y="307"/>
                      </a:lnTo>
                      <a:lnTo>
                        <a:pt x="371" y="308"/>
                      </a:lnTo>
                      <a:lnTo>
                        <a:pt x="351" y="306"/>
                      </a:lnTo>
                      <a:lnTo>
                        <a:pt x="338" y="304"/>
                      </a:lnTo>
                      <a:lnTo>
                        <a:pt x="336" y="316"/>
                      </a:lnTo>
                      <a:lnTo>
                        <a:pt x="343" y="327"/>
                      </a:lnTo>
                      <a:lnTo>
                        <a:pt x="366" y="354"/>
                      </a:lnTo>
                      <a:lnTo>
                        <a:pt x="379" y="371"/>
                      </a:lnTo>
                      <a:lnTo>
                        <a:pt x="395" y="392"/>
                      </a:lnTo>
                      <a:lnTo>
                        <a:pt x="421" y="421"/>
                      </a:lnTo>
                      <a:lnTo>
                        <a:pt x="429" y="445"/>
                      </a:lnTo>
                      <a:lnTo>
                        <a:pt x="475" y="476"/>
                      </a:lnTo>
                      <a:lnTo>
                        <a:pt x="513" y="500"/>
                      </a:lnTo>
                      <a:lnTo>
                        <a:pt x="518" y="512"/>
                      </a:lnTo>
                      <a:lnTo>
                        <a:pt x="529" y="535"/>
                      </a:lnTo>
                      <a:lnTo>
                        <a:pt x="536" y="556"/>
                      </a:lnTo>
                      <a:lnTo>
                        <a:pt x="544" y="578"/>
                      </a:lnTo>
                      <a:lnTo>
                        <a:pt x="559" y="618"/>
                      </a:lnTo>
                      <a:lnTo>
                        <a:pt x="574" y="643"/>
                      </a:lnTo>
                      <a:lnTo>
                        <a:pt x="602" y="684"/>
                      </a:lnTo>
                      <a:lnTo>
                        <a:pt x="612" y="691"/>
                      </a:lnTo>
                      <a:lnTo>
                        <a:pt x="622" y="697"/>
                      </a:lnTo>
                      <a:lnTo>
                        <a:pt x="632" y="702"/>
                      </a:lnTo>
                      <a:lnTo>
                        <a:pt x="640" y="704"/>
                      </a:lnTo>
                      <a:lnTo>
                        <a:pt x="658" y="707"/>
                      </a:lnTo>
                      <a:lnTo>
                        <a:pt x="668" y="708"/>
                      </a:lnTo>
                      <a:lnTo>
                        <a:pt x="688" y="712"/>
                      </a:lnTo>
                      <a:lnTo>
                        <a:pt x="711" y="717"/>
                      </a:lnTo>
                      <a:lnTo>
                        <a:pt x="731" y="723"/>
                      </a:lnTo>
                      <a:lnTo>
                        <a:pt x="748" y="729"/>
                      </a:lnTo>
                      <a:lnTo>
                        <a:pt x="766" y="738"/>
                      </a:lnTo>
                      <a:lnTo>
                        <a:pt x="779" y="743"/>
                      </a:lnTo>
                      <a:lnTo>
                        <a:pt x="791" y="750"/>
                      </a:lnTo>
                      <a:lnTo>
                        <a:pt x="796" y="754"/>
                      </a:lnTo>
                      <a:lnTo>
                        <a:pt x="800" y="760"/>
                      </a:lnTo>
                      <a:lnTo>
                        <a:pt x="799" y="764"/>
                      </a:lnTo>
                      <a:lnTo>
                        <a:pt x="799" y="769"/>
                      </a:lnTo>
                      <a:lnTo>
                        <a:pt x="793" y="770"/>
                      </a:lnTo>
                      <a:lnTo>
                        <a:pt x="780" y="771"/>
                      </a:lnTo>
                      <a:lnTo>
                        <a:pt x="747" y="776"/>
                      </a:lnTo>
                      <a:lnTo>
                        <a:pt x="697" y="772"/>
                      </a:lnTo>
                      <a:lnTo>
                        <a:pt x="614" y="775"/>
                      </a:lnTo>
                      <a:lnTo>
                        <a:pt x="539" y="775"/>
                      </a:lnTo>
                      <a:lnTo>
                        <a:pt x="520" y="774"/>
                      </a:lnTo>
                      <a:lnTo>
                        <a:pt x="513" y="774"/>
                      </a:lnTo>
                      <a:lnTo>
                        <a:pt x="508" y="772"/>
                      </a:lnTo>
                      <a:lnTo>
                        <a:pt x="505" y="762"/>
                      </a:lnTo>
                      <a:lnTo>
                        <a:pt x="501" y="727"/>
                      </a:lnTo>
                      <a:lnTo>
                        <a:pt x="491" y="653"/>
                      </a:lnTo>
                      <a:lnTo>
                        <a:pt x="488" y="621"/>
                      </a:lnTo>
                      <a:lnTo>
                        <a:pt x="480" y="593"/>
                      </a:lnTo>
                      <a:lnTo>
                        <a:pt x="473" y="582"/>
                      </a:lnTo>
                      <a:lnTo>
                        <a:pt x="465" y="577"/>
                      </a:lnTo>
                      <a:lnTo>
                        <a:pt x="454" y="574"/>
                      </a:lnTo>
                      <a:lnTo>
                        <a:pt x="438" y="571"/>
                      </a:lnTo>
                      <a:lnTo>
                        <a:pt x="423" y="569"/>
                      </a:lnTo>
                      <a:lnTo>
                        <a:pt x="400" y="568"/>
                      </a:lnTo>
                      <a:lnTo>
                        <a:pt x="370" y="567"/>
                      </a:lnTo>
                      <a:lnTo>
                        <a:pt x="315" y="569"/>
                      </a:lnTo>
                      <a:lnTo>
                        <a:pt x="265" y="572"/>
                      </a:lnTo>
                      <a:lnTo>
                        <a:pt x="252" y="572"/>
                      </a:lnTo>
                      <a:lnTo>
                        <a:pt x="243" y="572"/>
                      </a:lnTo>
                      <a:lnTo>
                        <a:pt x="233" y="570"/>
                      </a:lnTo>
                      <a:lnTo>
                        <a:pt x="225" y="568"/>
                      </a:lnTo>
                      <a:lnTo>
                        <a:pt x="219" y="566"/>
                      </a:lnTo>
                      <a:lnTo>
                        <a:pt x="215" y="562"/>
                      </a:lnTo>
                      <a:lnTo>
                        <a:pt x="210" y="558"/>
                      </a:lnTo>
                      <a:lnTo>
                        <a:pt x="206" y="553"/>
                      </a:lnTo>
                      <a:lnTo>
                        <a:pt x="202" y="546"/>
                      </a:lnTo>
                      <a:lnTo>
                        <a:pt x="197" y="538"/>
                      </a:lnTo>
                      <a:lnTo>
                        <a:pt x="187" y="523"/>
                      </a:lnTo>
                      <a:lnTo>
                        <a:pt x="178" y="507"/>
                      </a:lnTo>
                      <a:lnTo>
                        <a:pt x="168" y="491"/>
                      </a:lnTo>
                      <a:lnTo>
                        <a:pt x="158" y="476"/>
                      </a:lnTo>
                      <a:lnTo>
                        <a:pt x="145" y="459"/>
                      </a:lnTo>
                      <a:lnTo>
                        <a:pt x="136" y="449"/>
                      </a:lnTo>
                      <a:lnTo>
                        <a:pt x="129" y="440"/>
                      </a:lnTo>
                      <a:lnTo>
                        <a:pt x="126" y="436"/>
                      </a:lnTo>
                      <a:lnTo>
                        <a:pt x="124" y="429"/>
                      </a:lnTo>
                      <a:lnTo>
                        <a:pt x="122" y="405"/>
                      </a:lnTo>
                      <a:lnTo>
                        <a:pt x="116" y="345"/>
                      </a:lnTo>
                      <a:lnTo>
                        <a:pt x="112" y="318"/>
                      </a:lnTo>
                      <a:lnTo>
                        <a:pt x="118" y="293"/>
                      </a:lnTo>
                      <a:lnTo>
                        <a:pt x="122" y="269"/>
                      </a:lnTo>
                      <a:lnTo>
                        <a:pt x="96" y="232"/>
                      </a:lnTo>
                      <a:lnTo>
                        <a:pt x="88" y="213"/>
                      </a:lnTo>
                      <a:lnTo>
                        <a:pt x="81" y="197"/>
                      </a:lnTo>
                      <a:lnTo>
                        <a:pt x="75" y="183"/>
                      </a:lnTo>
                      <a:lnTo>
                        <a:pt x="63" y="169"/>
                      </a:lnTo>
                    </a:path>
                  </a:pathLst>
                </a:custGeom>
                <a:solidFill>
                  <a:srgbClr val="ffc5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72960" y="1031760"/>
                  <a:ext cx="1284480" cy="1246320"/>
                </a:xfrm>
                <a:custGeom>
                  <a:avLst/>
                  <a:gdLst/>
                  <a:ahLst/>
                  <a:rect l="l" t="t" r="r" b="b"/>
                  <a:pathLst>
                    <a:path w="809" h="785">
                      <a:moveTo>
                        <a:pt x="64" y="171"/>
                      </a:moveTo>
                      <a:lnTo>
                        <a:pt x="55" y="160"/>
                      </a:lnTo>
                      <a:lnTo>
                        <a:pt x="45" y="144"/>
                      </a:lnTo>
                      <a:lnTo>
                        <a:pt x="32" y="129"/>
                      </a:lnTo>
                      <a:lnTo>
                        <a:pt x="0" y="112"/>
                      </a:lnTo>
                      <a:lnTo>
                        <a:pt x="48" y="131"/>
                      </a:lnTo>
                      <a:lnTo>
                        <a:pt x="51" y="129"/>
                      </a:lnTo>
                      <a:lnTo>
                        <a:pt x="53" y="126"/>
                      </a:lnTo>
                      <a:lnTo>
                        <a:pt x="0" y="98"/>
                      </a:lnTo>
                      <a:lnTo>
                        <a:pt x="26" y="106"/>
                      </a:lnTo>
                      <a:lnTo>
                        <a:pt x="14" y="82"/>
                      </a:lnTo>
                      <a:lnTo>
                        <a:pt x="41" y="107"/>
                      </a:lnTo>
                      <a:lnTo>
                        <a:pt x="70" y="117"/>
                      </a:lnTo>
                      <a:lnTo>
                        <a:pt x="77" y="116"/>
                      </a:lnTo>
                      <a:lnTo>
                        <a:pt x="27" y="70"/>
                      </a:lnTo>
                      <a:lnTo>
                        <a:pt x="58" y="84"/>
                      </a:lnTo>
                      <a:lnTo>
                        <a:pt x="92" y="115"/>
                      </a:lnTo>
                      <a:lnTo>
                        <a:pt x="60" y="71"/>
                      </a:lnTo>
                      <a:lnTo>
                        <a:pt x="111" y="100"/>
                      </a:lnTo>
                      <a:lnTo>
                        <a:pt x="80" y="67"/>
                      </a:lnTo>
                      <a:lnTo>
                        <a:pt x="119" y="100"/>
                      </a:lnTo>
                      <a:lnTo>
                        <a:pt x="127" y="95"/>
                      </a:lnTo>
                      <a:lnTo>
                        <a:pt x="84" y="53"/>
                      </a:lnTo>
                      <a:lnTo>
                        <a:pt x="138" y="94"/>
                      </a:lnTo>
                      <a:lnTo>
                        <a:pt x="146" y="94"/>
                      </a:lnTo>
                      <a:lnTo>
                        <a:pt x="109" y="57"/>
                      </a:lnTo>
                      <a:lnTo>
                        <a:pt x="149" y="87"/>
                      </a:lnTo>
                      <a:lnTo>
                        <a:pt x="125" y="51"/>
                      </a:lnTo>
                      <a:lnTo>
                        <a:pt x="150" y="75"/>
                      </a:lnTo>
                      <a:lnTo>
                        <a:pt x="170" y="86"/>
                      </a:lnTo>
                      <a:lnTo>
                        <a:pt x="144" y="39"/>
                      </a:lnTo>
                      <a:lnTo>
                        <a:pt x="164" y="68"/>
                      </a:lnTo>
                      <a:lnTo>
                        <a:pt x="183" y="81"/>
                      </a:lnTo>
                      <a:lnTo>
                        <a:pt x="156" y="5"/>
                      </a:lnTo>
                      <a:lnTo>
                        <a:pt x="183" y="46"/>
                      </a:lnTo>
                      <a:lnTo>
                        <a:pt x="198" y="65"/>
                      </a:lnTo>
                      <a:lnTo>
                        <a:pt x="186" y="37"/>
                      </a:lnTo>
                      <a:lnTo>
                        <a:pt x="210" y="78"/>
                      </a:lnTo>
                      <a:lnTo>
                        <a:pt x="197" y="30"/>
                      </a:lnTo>
                      <a:lnTo>
                        <a:pt x="212" y="0"/>
                      </a:lnTo>
                      <a:lnTo>
                        <a:pt x="203" y="33"/>
                      </a:lnTo>
                      <a:lnTo>
                        <a:pt x="215" y="59"/>
                      </a:lnTo>
                      <a:lnTo>
                        <a:pt x="217" y="30"/>
                      </a:lnTo>
                      <a:lnTo>
                        <a:pt x="235" y="21"/>
                      </a:lnTo>
                      <a:lnTo>
                        <a:pt x="221" y="35"/>
                      </a:lnTo>
                      <a:lnTo>
                        <a:pt x="223" y="69"/>
                      </a:lnTo>
                      <a:lnTo>
                        <a:pt x="234" y="53"/>
                      </a:lnTo>
                      <a:lnTo>
                        <a:pt x="228" y="75"/>
                      </a:lnTo>
                      <a:lnTo>
                        <a:pt x="239" y="84"/>
                      </a:lnTo>
                      <a:lnTo>
                        <a:pt x="251" y="95"/>
                      </a:lnTo>
                      <a:lnTo>
                        <a:pt x="260" y="99"/>
                      </a:lnTo>
                      <a:lnTo>
                        <a:pt x="283" y="106"/>
                      </a:lnTo>
                      <a:lnTo>
                        <a:pt x="319" y="117"/>
                      </a:lnTo>
                      <a:lnTo>
                        <a:pt x="340" y="123"/>
                      </a:lnTo>
                      <a:lnTo>
                        <a:pt x="364" y="130"/>
                      </a:lnTo>
                      <a:lnTo>
                        <a:pt x="387" y="140"/>
                      </a:lnTo>
                      <a:lnTo>
                        <a:pt x="411" y="150"/>
                      </a:lnTo>
                      <a:lnTo>
                        <a:pt x="429" y="162"/>
                      </a:lnTo>
                      <a:lnTo>
                        <a:pt x="436" y="170"/>
                      </a:lnTo>
                      <a:lnTo>
                        <a:pt x="439" y="174"/>
                      </a:lnTo>
                      <a:lnTo>
                        <a:pt x="436" y="178"/>
                      </a:lnTo>
                      <a:lnTo>
                        <a:pt x="425" y="181"/>
                      </a:lnTo>
                      <a:lnTo>
                        <a:pt x="395" y="186"/>
                      </a:lnTo>
                      <a:lnTo>
                        <a:pt x="367" y="190"/>
                      </a:lnTo>
                      <a:lnTo>
                        <a:pt x="367" y="212"/>
                      </a:lnTo>
                      <a:lnTo>
                        <a:pt x="385" y="255"/>
                      </a:lnTo>
                      <a:lnTo>
                        <a:pt x="392" y="272"/>
                      </a:lnTo>
                      <a:lnTo>
                        <a:pt x="397" y="297"/>
                      </a:lnTo>
                      <a:lnTo>
                        <a:pt x="396" y="301"/>
                      </a:lnTo>
                      <a:lnTo>
                        <a:pt x="393" y="305"/>
                      </a:lnTo>
                      <a:lnTo>
                        <a:pt x="387" y="308"/>
                      </a:lnTo>
                      <a:lnTo>
                        <a:pt x="381" y="310"/>
                      </a:lnTo>
                      <a:lnTo>
                        <a:pt x="375" y="310"/>
                      </a:lnTo>
                      <a:lnTo>
                        <a:pt x="355" y="309"/>
                      </a:lnTo>
                      <a:lnTo>
                        <a:pt x="341" y="307"/>
                      </a:lnTo>
                      <a:lnTo>
                        <a:pt x="339" y="319"/>
                      </a:lnTo>
                      <a:lnTo>
                        <a:pt x="346" y="329"/>
                      </a:lnTo>
                      <a:lnTo>
                        <a:pt x="370" y="358"/>
                      </a:lnTo>
                      <a:lnTo>
                        <a:pt x="383" y="375"/>
                      </a:lnTo>
                      <a:lnTo>
                        <a:pt x="399" y="395"/>
                      </a:lnTo>
                      <a:lnTo>
                        <a:pt x="425" y="424"/>
                      </a:lnTo>
                      <a:lnTo>
                        <a:pt x="433" y="449"/>
                      </a:lnTo>
                      <a:lnTo>
                        <a:pt x="480" y="481"/>
                      </a:lnTo>
                      <a:lnTo>
                        <a:pt x="518" y="504"/>
                      </a:lnTo>
                      <a:lnTo>
                        <a:pt x="523" y="516"/>
                      </a:lnTo>
                      <a:lnTo>
                        <a:pt x="534" y="540"/>
                      </a:lnTo>
                      <a:lnTo>
                        <a:pt x="541" y="562"/>
                      </a:lnTo>
                      <a:lnTo>
                        <a:pt x="549" y="583"/>
                      </a:lnTo>
                      <a:lnTo>
                        <a:pt x="565" y="623"/>
                      </a:lnTo>
                      <a:lnTo>
                        <a:pt x="580" y="650"/>
                      </a:lnTo>
                      <a:lnTo>
                        <a:pt x="608" y="690"/>
                      </a:lnTo>
                      <a:lnTo>
                        <a:pt x="618" y="697"/>
                      </a:lnTo>
                      <a:lnTo>
                        <a:pt x="628" y="703"/>
                      </a:lnTo>
                      <a:lnTo>
                        <a:pt x="638" y="708"/>
                      </a:lnTo>
                      <a:lnTo>
                        <a:pt x="646" y="711"/>
                      </a:lnTo>
                      <a:lnTo>
                        <a:pt x="665" y="713"/>
                      </a:lnTo>
                      <a:lnTo>
                        <a:pt x="675" y="714"/>
                      </a:lnTo>
                      <a:lnTo>
                        <a:pt x="695" y="719"/>
                      </a:lnTo>
                      <a:lnTo>
                        <a:pt x="718" y="724"/>
                      </a:lnTo>
                      <a:lnTo>
                        <a:pt x="738" y="730"/>
                      </a:lnTo>
                      <a:lnTo>
                        <a:pt x="755" y="737"/>
                      </a:lnTo>
                      <a:lnTo>
                        <a:pt x="774" y="745"/>
                      </a:lnTo>
                      <a:lnTo>
                        <a:pt x="787" y="750"/>
                      </a:lnTo>
                      <a:lnTo>
                        <a:pt x="799" y="757"/>
                      </a:lnTo>
                      <a:lnTo>
                        <a:pt x="804" y="761"/>
                      </a:lnTo>
                      <a:lnTo>
                        <a:pt x="808" y="767"/>
                      </a:lnTo>
                      <a:lnTo>
                        <a:pt x="807" y="772"/>
                      </a:lnTo>
                      <a:lnTo>
                        <a:pt x="807" y="777"/>
                      </a:lnTo>
                      <a:lnTo>
                        <a:pt x="801" y="778"/>
                      </a:lnTo>
                      <a:lnTo>
                        <a:pt x="788" y="779"/>
                      </a:lnTo>
                      <a:lnTo>
                        <a:pt x="754" y="784"/>
                      </a:lnTo>
                      <a:lnTo>
                        <a:pt x="704" y="779"/>
                      </a:lnTo>
                      <a:lnTo>
                        <a:pt x="620" y="783"/>
                      </a:lnTo>
                      <a:lnTo>
                        <a:pt x="544" y="783"/>
                      </a:lnTo>
                      <a:lnTo>
                        <a:pt x="525" y="782"/>
                      </a:lnTo>
                      <a:lnTo>
                        <a:pt x="518" y="781"/>
                      </a:lnTo>
                      <a:lnTo>
                        <a:pt x="513" y="779"/>
                      </a:lnTo>
                      <a:lnTo>
                        <a:pt x="510" y="769"/>
                      </a:lnTo>
                      <a:lnTo>
                        <a:pt x="506" y="733"/>
                      </a:lnTo>
                      <a:lnTo>
                        <a:pt x="496" y="659"/>
                      </a:lnTo>
                      <a:lnTo>
                        <a:pt x="493" y="627"/>
                      </a:lnTo>
                      <a:lnTo>
                        <a:pt x="485" y="599"/>
                      </a:lnTo>
                      <a:lnTo>
                        <a:pt x="478" y="587"/>
                      </a:lnTo>
                      <a:lnTo>
                        <a:pt x="470" y="582"/>
                      </a:lnTo>
                      <a:lnTo>
                        <a:pt x="459" y="580"/>
                      </a:lnTo>
                      <a:lnTo>
                        <a:pt x="442" y="576"/>
                      </a:lnTo>
                      <a:lnTo>
                        <a:pt x="427" y="575"/>
                      </a:lnTo>
                      <a:lnTo>
                        <a:pt x="404" y="574"/>
                      </a:lnTo>
                      <a:lnTo>
                        <a:pt x="374" y="573"/>
                      </a:lnTo>
                      <a:lnTo>
                        <a:pt x="318" y="575"/>
                      </a:lnTo>
                      <a:lnTo>
                        <a:pt x="268" y="577"/>
                      </a:lnTo>
                      <a:lnTo>
                        <a:pt x="255" y="577"/>
                      </a:lnTo>
                      <a:lnTo>
                        <a:pt x="245" y="577"/>
                      </a:lnTo>
                      <a:lnTo>
                        <a:pt x="235" y="575"/>
                      </a:lnTo>
                      <a:lnTo>
                        <a:pt x="227" y="574"/>
                      </a:lnTo>
                      <a:lnTo>
                        <a:pt x="221" y="571"/>
                      </a:lnTo>
                      <a:lnTo>
                        <a:pt x="217" y="568"/>
                      </a:lnTo>
                      <a:lnTo>
                        <a:pt x="212" y="563"/>
                      </a:lnTo>
                      <a:lnTo>
                        <a:pt x="208" y="558"/>
                      </a:lnTo>
                      <a:lnTo>
                        <a:pt x="204" y="551"/>
                      </a:lnTo>
                      <a:lnTo>
                        <a:pt x="199" y="544"/>
                      </a:lnTo>
                      <a:lnTo>
                        <a:pt x="189" y="527"/>
                      </a:lnTo>
                      <a:lnTo>
                        <a:pt x="180" y="512"/>
                      </a:lnTo>
                      <a:lnTo>
                        <a:pt x="170" y="496"/>
                      </a:lnTo>
                      <a:lnTo>
                        <a:pt x="160" y="481"/>
                      </a:lnTo>
                      <a:lnTo>
                        <a:pt x="146" y="464"/>
                      </a:lnTo>
                      <a:lnTo>
                        <a:pt x="137" y="454"/>
                      </a:lnTo>
                      <a:lnTo>
                        <a:pt x="130" y="445"/>
                      </a:lnTo>
                      <a:lnTo>
                        <a:pt x="127" y="440"/>
                      </a:lnTo>
                      <a:lnTo>
                        <a:pt x="125" y="432"/>
                      </a:lnTo>
                      <a:lnTo>
                        <a:pt x="123" y="408"/>
                      </a:lnTo>
                      <a:lnTo>
                        <a:pt x="117" y="348"/>
                      </a:lnTo>
                      <a:lnTo>
                        <a:pt x="113" y="321"/>
                      </a:lnTo>
                      <a:lnTo>
                        <a:pt x="119" y="296"/>
                      </a:lnTo>
                      <a:lnTo>
                        <a:pt x="123" y="272"/>
                      </a:lnTo>
                      <a:lnTo>
                        <a:pt x="97" y="233"/>
                      </a:lnTo>
                      <a:lnTo>
                        <a:pt x="89" y="214"/>
                      </a:lnTo>
                      <a:lnTo>
                        <a:pt x="82" y="198"/>
                      </a:lnTo>
                      <a:lnTo>
                        <a:pt x="76" y="184"/>
                      </a:lnTo>
                      <a:lnTo>
                        <a:pt x="64" y="17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42960" y="1193760"/>
                <a:ext cx="376200" cy="596880"/>
                <a:chOff x="642960" y="1193760"/>
                <a:chExt cx="376200" cy="59688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714240" y="1193760"/>
                  <a:ext cx="81000" cy="111240"/>
                  <a:chOff x="714240" y="1193760"/>
                  <a:chExt cx="81000" cy="11124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0560" y="1239840"/>
                    <a:ext cx="4680" cy="65160"/>
                  </a:xfrm>
                  <a:prstGeom prst="ellipse">
                    <a:avLst/>
                  </a:prstGeom>
                  <a:solidFill>
                    <a:srgbClr val="ffc5c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" name=""/>
                  <p:cNvGrpSpPr/>
                  <p:nvPr/>
                </p:nvGrpSpPr>
                <p:grpSpPr>
                  <a:xfrm>
                    <a:off x="714240" y="1193760"/>
                    <a:ext cx="46080" cy="54000"/>
                    <a:chOff x="714240" y="1193760"/>
                    <a:chExt cx="46080" cy="54000"/>
                  </a:xfrm>
                </p:grpSpPr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720720" y="1198440"/>
                      <a:ext cx="334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7">
                          <a:moveTo>
                            <a:pt x="20" y="0"/>
                          </a:moveTo>
                          <a:lnTo>
                            <a:pt x="14" y="1"/>
                          </a:lnTo>
                          <a:lnTo>
                            <a:pt x="10" y="2"/>
                          </a:lnTo>
                          <a:lnTo>
                            <a:pt x="6" y="5"/>
                          </a:lnTo>
                          <a:lnTo>
                            <a:pt x="4" y="7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0" y="21"/>
                          </a:lnTo>
                          <a:lnTo>
                            <a:pt x="1" y="2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ffc5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714240" y="1193760"/>
                      <a:ext cx="46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4">
                          <a:moveTo>
                            <a:pt x="28" y="0"/>
                          </a:moveTo>
                          <a:lnTo>
                            <a:pt x="20" y="1"/>
                          </a:lnTo>
                          <a:lnTo>
                            <a:pt x="14" y="3"/>
                          </a:lnTo>
                          <a:lnTo>
                            <a:pt x="9" y="5"/>
                          </a:lnTo>
                          <a:lnTo>
                            <a:pt x="5" y="9"/>
                          </a:lnTo>
                          <a:lnTo>
                            <a:pt x="3" y="15"/>
                          </a:lnTo>
                          <a:lnTo>
                            <a:pt x="0" y="21"/>
                          </a:lnTo>
                          <a:lnTo>
                            <a:pt x="0" y="27"/>
                          </a:lnTo>
                          <a:lnTo>
                            <a:pt x="1" y="3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42960" y="1440000"/>
                  <a:ext cx="376200" cy="350640"/>
                  <a:chOff x="642960" y="1440000"/>
                  <a:chExt cx="376200" cy="350640"/>
                </a:xfrm>
              </p:grpSpPr>
              <p:grpSp>
                <p:nvGrpSpPr>
                  <p:cNvPr id="58" name=""/>
                  <p:cNvGrpSpPr/>
                  <p:nvPr/>
                </p:nvGrpSpPr>
                <p:grpSpPr>
                  <a:xfrm>
                    <a:off x="642960" y="1638360"/>
                    <a:ext cx="376200" cy="152280"/>
                    <a:chOff x="642960" y="1638360"/>
                    <a:chExt cx="376200" cy="152280"/>
                  </a:xfrm>
                </p:grpSpPr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649440" y="1644480"/>
                      <a:ext cx="36324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87">
                          <a:moveTo>
                            <a:pt x="0" y="0"/>
                          </a:moveTo>
                          <a:lnTo>
                            <a:pt x="11" y="8"/>
                          </a:lnTo>
                          <a:lnTo>
                            <a:pt x="30" y="24"/>
                          </a:lnTo>
                          <a:lnTo>
                            <a:pt x="51" y="40"/>
                          </a:lnTo>
                          <a:lnTo>
                            <a:pt x="71" y="54"/>
                          </a:lnTo>
                          <a:lnTo>
                            <a:pt x="88" y="65"/>
                          </a:lnTo>
                          <a:lnTo>
                            <a:pt x="102" y="72"/>
                          </a:lnTo>
                          <a:lnTo>
                            <a:pt x="111" y="77"/>
                          </a:lnTo>
                          <a:lnTo>
                            <a:pt x="122" y="80"/>
                          </a:lnTo>
                          <a:lnTo>
                            <a:pt x="135" y="82"/>
                          </a:lnTo>
                          <a:lnTo>
                            <a:pt x="151" y="84"/>
                          </a:lnTo>
                          <a:lnTo>
                            <a:pt x="165" y="86"/>
                          </a:lnTo>
                          <a:lnTo>
                            <a:pt x="175" y="86"/>
                          </a:lnTo>
                          <a:lnTo>
                            <a:pt x="186" y="83"/>
                          </a:lnTo>
                          <a:lnTo>
                            <a:pt x="196" y="80"/>
                          </a:lnTo>
                          <a:lnTo>
                            <a:pt x="205" y="79"/>
                          </a:lnTo>
                          <a:lnTo>
                            <a:pt x="215" y="77"/>
                          </a:lnTo>
                          <a:lnTo>
                            <a:pt x="228" y="7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c5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642960" y="1638360"/>
                      <a:ext cx="37620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7" h="96">
                          <a:moveTo>
                            <a:pt x="0" y="0"/>
                          </a:moveTo>
                          <a:lnTo>
                            <a:pt x="11" y="10"/>
                          </a:lnTo>
                          <a:lnTo>
                            <a:pt x="31" y="27"/>
                          </a:lnTo>
                          <a:lnTo>
                            <a:pt x="53" y="44"/>
                          </a:lnTo>
                          <a:lnTo>
                            <a:pt x="74" y="60"/>
                          </a:lnTo>
                          <a:lnTo>
                            <a:pt x="91" y="72"/>
                          </a:lnTo>
                          <a:lnTo>
                            <a:pt x="106" y="79"/>
                          </a:lnTo>
                          <a:lnTo>
                            <a:pt x="115" y="84"/>
                          </a:lnTo>
                          <a:lnTo>
                            <a:pt x="126" y="88"/>
                          </a:lnTo>
                          <a:lnTo>
                            <a:pt x="140" y="90"/>
                          </a:lnTo>
                          <a:lnTo>
                            <a:pt x="156" y="93"/>
                          </a:lnTo>
                          <a:lnTo>
                            <a:pt x="171" y="95"/>
                          </a:lnTo>
                          <a:lnTo>
                            <a:pt x="181" y="95"/>
                          </a:lnTo>
                          <a:lnTo>
                            <a:pt x="193" y="91"/>
                          </a:lnTo>
                          <a:lnTo>
                            <a:pt x="203" y="88"/>
                          </a:lnTo>
                          <a:lnTo>
                            <a:pt x="212" y="86"/>
                          </a:lnTo>
                          <a:lnTo>
                            <a:pt x="223" y="84"/>
                          </a:lnTo>
                          <a:lnTo>
                            <a:pt x="236" y="8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695160" y="1440000"/>
                    <a:ext cx="217800" cy="258480"/>
                    <a:chOff x="695160" y="1440000"/>
                    <a:chExt cx="217800" cy="2584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701640" y="1446120"/>
                      <a:ext cx="204840" cy="24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55">
                          <a:moveTo>
                            <a:pt x="128" y="58"/>
                          </a:moveTo>
                          <a:lnTo>
                            <a:pt x="124" y="47"/>
                          </a:lnTo>
                          <a:lnTo>
                            <a:pt x="122" y="38"/>
                          </a:lnTo>
                          <a:lnTo>
                            <a:pt x="121" y="27"/>
                          </a:lnTo>
                          <a:lnTo>
                            <a:pt x="122" y="20"/>
                          </a:lnTo>
                          <a:lnTo>
                            <a:pt x="124" y="14"/>
                          </a:lnTo>
                          <a:lnTo>
                            <a:pt x="123" y="7"/>
                          </a:lnTo>
                          <a:lnTo>
                            <a:pt x="121" y="1"/>
                          </a:lnTo>
                          <a:lnTo>
                            <a:pt x="119" y="1"/>
                          </a:lnTo>
                          <a:lnTo>
                            <a:pt x="117" y="1"/>
                          </a:lnTo>
                          <a:lnTo>
                            <a:pt x="110" y="7"/>
                          </a:lnTo>
                          <a:lnTo>
                            <a:pt x="104" y="12"/>
                          </a:lnTo>
                          <a:lnTo>
                            <a:pt x="93" y="12"/>
                          </a:lnTo>
                          <a:lnTo>
                            <a:pt x="89" y="6"/>
                          </a:lnTo>
                          <a:lnTo>
                            <a:pt x="85" y="2"/>
                          </a:lnTo>
                          <a:lnTo>
                            <a:pt x="77" y="1"/>
                          </a:lnTo>
                          <a:lnTo>
                            <a:pt x="69" y="0"/>
                          </a:lnTo>
                          <a:lnTo>
                            <a:pt x="65" y="6"/>
                          </a:lnTo>
                          <a:lnTo>
                            <a:pt x="62" y="12"/>
                          </a:lnTo>
                          <a:lnTo>
                            <a:pt x="49" y="12"/>
                          </a:lnTo>
                          <a:lnTo>
                            <a:pt x="46" y="10"/>
                          </a:lnTo>
                          <a:lnTo>
                            <a:pt x="42" y="6"/>
                          </a:lnTo>
                          <a:lnTo>
                            <a:pt x="38" y="5"/>
                          </a:lnTo>
                          <a:lnTo>
                            <a:pt x="34" y="5"/>
                          </a:lnTo>
                          <a:lnTo>
                            <a:pt x="29" y="7"/>
                          </a:lnTo>
                          <a:lnTo>
                            <a:pt x="27" y="10"/>
                          </a:lnTo>
                          <a:lnTo>
                            <a:pt x="27" y="27"/>
                          </a:lnTo>
                          <a:lnTo>
                            <a:pt x="20" y="25"/>
                          </a:lnTo>
                          <a:lnTo>
                            <a:pt x="10" y="24"/>
                          </a:lnTo>
                          <a:lnTo>
                            <a:pt x="4" y="24"/>
                          </a:lnTo>
                          <a:lnTo>
                            <a:pt x="3" y="26"/>
                          </a:lnTo>
                          <a:lnTo>
                            <a:pt x="3" y="29"/>
                          </a:lnTo>
                          <a:lnTo>
                            <a:pt x="6" y="37"/>
                          </a:lnTo>
                          <a:lnTo>
                            <a:pt x="9" y="47"/>
                          </a:lnTo>
                          <a:lnTo>
                            <a:pt x="11" y="51"/>
                          </a:lnTo>
                          <a:lnTo>
                            <a:pt x="0" y="84"/>
                          </a:lnTo>
                          <a:lnTo>
                            <a:pt x="6" y="87"/>
                          </a:lnTo>
                          <a:lnTo>
                            <a:pt x="16" y="92"/>
                          </a:lnTo>
                          <a:lnTo>
                            <a:pt x="49" y="106"/>
                          </a:lnTo>
                          <a:lnTo>
                            <a:pt x="61" y="106"/>
                          </a:lnTo>
                          <a:lnTo>
                            <a:pt x="78" y="117"/>
                          </a:lnTo>
                          <a:lnTo>
                            <a:pt x="121" y="154"/>
                          </a:lnTo>
                          <a:lnTo>
                            <a:pt x="128" y="58"/>
                          </a:lnTo>
                        </a:path>
                      </a:pathLst>
                    </a:custGeom>
                    <a:solidFill>
                      <a:srgbClr val="ffc5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695160" y="1440000"/>
                      <a:ext cx="21780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163">
                          <a:moveTo>
                            <a:pt x="136" y="61"/>
                          </a:moveTo>
                          <a:lnTo>
                            <a:pt x="132" y="50"/>
                          </a:lnTo>
                          <a:lnTo>
                            <a:pt x="130" y="41"/>
                          </a:lnTo>
                          <a:lnTo>
                            <a:pt x="129" y="29"/>
                          </a:lnTo>
                          <a:lnTo>
                            <a:pt x="130" y="22"/>
                          </a:lnTo>
                          <a:lnTo>
                            <a:pt x="132" y="16"/>
                          </a:lnTo>
                          <a:lnTo>
                            <a:pt x="131" y="8"/>
                          </a:lnTo>
                          <a:lnTo>
                            <a:pt x="129" y="2"/>
                          </a:lnTo>
                          <a:lnTo>
                            <a:pt x="126" y="1"/>
                          </a:lnTo>
                          <a:lnTo>
                            <a:pt x="124" y="2"/>
                          </a:lnTo>
                          <a:lnTo>
                            <a:pt x="117" y="8"/>
                          </a:lnTo>
                          <a:lnTo>
                            <a:pt x="110" y="13"/>
                          </a:lnTo>
                          <a:lnTo>
                            <a:pt x="99" y="13"/>
                          </a:lnTo>
                          <a:lnTo>
                            <a:pt x="95" y="6"/>
                          </a:lnTo>
                          <a:lnTo>
                            <a:pt x="90" y="3"/>
                          </a:lnTo>
                          <a:lnTo>
                            <a:pt x="82" y="2"/>
                          </a:lnTo>
                          <a:lnTo>
                            <a:pt x="73" y="0"/>
                          </a:lnTo>
                          <a:lnTo>
                            <a:pt x="69" y="6"/>
                          </a:lnTo>
                          <a:lnTo>
                            <a:pt x="66" y="13"/>
                          </a:lnTo>
                          <a:lnTo>
                            <a:pt x="52" y="13"/>
                          </a:lnTo>
                          <a:lnTo>
                            <a:pt x="49" y="11"/>
                          </a:lnTo>
                          <a:lnTo>
                            <a:pt x="45" y="6"/>
                          </a:lnTo>
                          <a:lnTo>
                            <a:pt x="40" y="5"/>
                          </a:lnTo>
                          <a:lnTo>
                            <a:pt x="36" y="5"/>
                          </a:lnTo>
                          <a:lnTo>
                            <a:pt x="31" y="7"/>
                          </a:lnTo>
                          <a:lnTo>
                            <a:pt x="29" y="11"/>
                          </a:lnTo>
                          <a:lnTo>
                            <a:pt x="29" y="29"/>
                          </a:lnTo>
                          <a:lnTo>
                            <a:pt x="21" y="27"/>
                          </a:lnTo>
                          <a:lnTo>
                            <a:pt x="11" y="25"/>
                          </a:lnTo>
                          <a:lnTo>
                            <a:pt x="4" y="26"/>
                          </a:lnTo>
                          <a:lnTo>
                            <a:pt x="3" y="28"/>
                          </a:lnTo>
                          <a:lnTo>
                            <a:pt x="3" y="31"/>
                          </a:lnTo>
                          <a:lnTo>
                            <a:pt x="6" y="40"/>
                          </a:lnTo>
                          <a:lnTo>
                            <a:pt x="10" y="49"/>
                          </a:lnTo>
                          <a:lnTo>
                            <a:pt x="12" y="54"/>
                          </a:lnTo>
                          <a:lnTo>
                            <a:pt x="0" y="89"/>
                          </a:lnTo>
                          <a:lnTo>
                            <a:pt x="6" y="92"/>
                          </a:lnTo>
                          <a:lnTo>
                            <a:pt x="17" y="97"/>
                          </a:lnTo>
                          <a:lnTo>
                            <a:pt x="52" y="113"/>
                          </a:lnTo>
                          <a:lnTo>
                            <a:pt x="65" y="113"/>
                          </a:lnTo>
                          <a:lnTo>
                            <a:pt x="83" y="124"/>
                          </a:lnTo>
                          <a:lnTo>
                            <a:pt x="129" y="16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4" name=""/>
            <p:cNvGrpSpPr/>
            <p:nvPr/>
          </p:nvGrpSpPr>
          <p:grpSpPr>
            <a:xfrm>
              <a:off x="1044720" y="1668600"/>
              <a:ext cx="1027080" cy="615960"/>
              <a:chOff x="1044720" y="1668600"/>
              <a:chExt cx="1027080" cy="615960"/>
            </a:xfrm>
          </p:grpSpPr>
          <p:sp>
            <p:nvSpPr>
              <p:cNvPr id="65" name=""/>
              <p:cNvSpPr/>
              <p:nvPr/>
            </p:nvSpPr>
            <p:spPr>
              <a:xfrm>
                <a:off x="1050840" y="1674720"/>
                <a:ext cx="1014480" cy="60192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44720" y="1668600"/>
                <a:ext cx="1027080" cy="61596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1168560" y="1655640"/>
                <a:ext cx="433080" cy="196920"/>
                <a:chOff x="1168560" y="1655640"/>
                <a:chExt cx="433080" cy="19692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1174680" y="1655640"/>
                  <a:ext cx="426960" cy="165240"/>
                  <a:chOff x="1174680" y="1655640"/>
                  <a:chExt cx="426960" cy="1652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181160" y="1660680"/>
                    <a:ext cx="41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174680" y="1655640"/>
                    <a:ext cx="4269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389240" y="1771560"/>
                  <a:ext cx="212400" cy="81000"/>
                  <a:chOff x="1389240" y="1771560"/>
                  <a:chExt cx="212400" cy="810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1395360" y="1778040"/>
                    <a:ext cx="2001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389240" y="1771560"/>
                    <a:ext cx="212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68560" y="1689120"/>
                  <a:ext cx="231480" cy="163440"/>
                  <a:chOff x="1168560" y="1689120"/>
                  <a:chExt cx="231480" cy="1634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1174680" y="1695600"/>
                    <a:ext cx="21924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168560" y="1689120"/>
                    <a:ext cx="2314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grpSp>
              <p:nvGrpSpPr>
                <p:cNvPr id="79" name=""/>
                <p:cNvGrpSpPr/>
                <p:nvPr/>
              </p:nvGrpSpPr>
              <p:grpSpPr>
                <a:xfrm>
                  <a:off x="1255680" y="1687680"/>
                  <a:ext cx="255600" cy="106200"/>
                  <a:chOff x="1255680" y="1687680"/>
                  <a:chExt cx="255600" cy="10620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1359000" y="1687680"/>
                    <a:ext cx="1522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312920" y="1695600"/>
                    <a:ext cx="1461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255680" y="1704960"/>
                    <a:ext cx="1764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235160" y="1681200"/>
                  <a:ext cx="284040" cy="114120"/>
                  <a:chOff x="1235160" y="1681200"/>
                  <a:chExt cx="284040" cy="1141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1235160" y="1681200"/>
                    <a:ext cx="131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282680" y="1703520"/>
                    <a:ext cx="120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322280" y="1716120"/>
                    <a:ext cx="115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353960" y="1735200"/>
                    <a:ext cx="108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389240" y="1744560"/>
                    <a:ext cx="1094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403280" y="1768320"/>
                    <a:ext cx="11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0" name=""/>
            <p:cNvSpPr/>
            <p:nvPr/>
          </p:nvSpPr>
          <p:spPr>
            <a:xfrm>
              <a:off x="1504800" y="1781280"/>
              <a:ext cx="222480" cy="9684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434960" y="1112760"/>
              <a:ext cx="959040" cy="700200"/>
              <a:chOff x="1434960" y="1112760"/>
              <a:chExt cx="959040" cy="700200"/>
            </a:xfrm>
          </p:grpSpPr>
          <p:sp>
            <p:nvSpPr>
              <p:cNvPr id="92" name=""/>
              <p:cNvSpPr/>
              <p:nvPr/>
            </p:nvSpPr>
            <p:spPr>
              <a:xfrm>
                <a:off x="1441440" y="1119240"/>
                <a:ext cx="946080" cy="68724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34960" y="1112760"/>
                <a:ext cx="959040" cy="7002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484280" y="1181160"/>
              <a:ext cx="571680" cy="533520"/>
              <a:chOff x="1484280" y="1181160"/>
              <a:chExt cx="571680" cy="533520"/>
            </a:xfrm>
          </p:grpSpPr>
          <p:sp>
            <p:nvSpPr>
              <p:cNvPr id="95" name=""/>
              <p:cNvSpPr/>
              <p:nvPr/>
            </p:nvSpPr>
            <p:spPr>
              <a:xfrm>
                <a:off x="1490760" y="1187280"/>
                <a:ext cx="558720" cy="51912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84280" y="1181160"/>
                <a:ext cx="571680" cy="53352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135160" y="1733400"/>
              <a:ext cx="141480" cy="297000"/>
              <a:chOff x="2135160" y="1733400"/>
              <a:chExt cx="141480" cy="297000"/>
            </a:xfrm>
          </p:grpSpPr>
          <p:sp>
            <p:nvSpPr>
              <p:cNvPr id="98" name=""/>
              <p:cNvSpPr/>
              <p:nvPr/>
            </p:nvSpPr>
            <p:spPr>
              <a:xfrm>
                <a:off x="2135160" y="1738440"/>
                <a:ext cx="141480" cy="29196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35160" y="1733400"/>
                <a:ext cx="3240" cy="6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563840" y="122868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bjectif général du cour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03040" y="914400"/>
            <a:ext cx="8737920" cy="55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90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mprendre les principes d’une conception RISC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Quand Monsieur DUPONT exécute un programme !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104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108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111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112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7" name=""/>
          <p:cNvGrpSpPr/>
          <p:nvPr/>
        </p:nvGrpSpPr>
        <p:grpSpPr>
          <a:xfrm>
            <a:off x="1044720" y="1668600"/>
            <a:ext cx="1027080" cy="615960"/>
            <a:chOff x="1044720" y="1668600"/>
            <a:chExt cx="1027080" cy="615960"/>
          </a:xfrm>
        </p:grpSpPr>
        <p:sp>
          <p:nvSpPr>
            <p:cNvPr id="128" name=""/>
            <p:cNvSpPr/>
            <p:nvPr/>
          </p:nvSpPr>
          <p:spPr>
            <a:xfrm>
              <a:off x="1050840" y="1674720"/>
              <a:ext cx="101448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44720" y="166860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131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155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158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35160" y="1733400"/>
            <a:ext cx="141480" cy="297000"/>
            <a:chOff x="2135160" y="1733400"/>
            <a:chExt cx="141480" cy="297000"/>
          </a:xfrm>
        </p:grpSpPr>
        <p:sp>
          <p:nvSpPr>
            <p:cNvPr id="161" name=""/>
            <p:cNvSpPr/>
            <p:nvPr/>
          </p:nvSpPr>
          <p:spPr>
            <a:xfrm>
              <a:off x="2135160" y="1738440"/>
              <a:ext cx="14148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63840" y="122868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165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167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7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191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201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3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6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217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9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2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8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244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7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0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lication “Le software”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263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267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270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86" name=""/>
          <p:cNvGrpSpPr/>
          <p:nvPr/>
        </p:nvGrpSpPr>
        <p:grpSpPr>
          <a:xfrm>
            <a:off x="1044720" y="1668600"/>
            <a:ext cx="1027080" cy="615960"/>
            <a:chOff x="1044720" y="1668600"/>
            <a:chExt cx="1027080" cy="615960"/>
          </a:xfrm>
        </p:grpSpPr>
        <p:sp>
          <p:nvSpPr>
            <p:cNvPr id="287" name=""/>
            <p:cNvSpPr/>
            <p:nvPr/>
          </p:nvSpPr>
          <p:spPr>
            <a:xfrm>
              <a:off x="1050840" y="1674720"/>
              <a:ext cx="101448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44720" y="166860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290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2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314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317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135160" y="1733400"/>
            <a:ext cx="141480" cy="297000"/>
            <a:chOff x="2135160" y="1733400"/>
            <a:chExt cx="141480" cy="297000"/>
          </a:xfrm>
        </p:grpSpPr>
        <p:sp>
          <p:nvSpPr>
            <p:cNvPr id="320" name=""/>
            <p:cNvSpPr/>
            <p:nvPr/>
          </p:nvSpPr>
          <p:spPr>
            <a:xfrm>
              <a:off x="2135160" y="1738440"/>
              <a:ext cx="14148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26800" y="2943360"/>
            <a:ext cx="2249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63840" y="122868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325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327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336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7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351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361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370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3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6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9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2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5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8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1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4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7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398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0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401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404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405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6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7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10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411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lication “Le software”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423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427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430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431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46" name=""/>
          <p:cNvGrpSpPr/>
          <p:nvPr/>
        </p:nvGrpSpPr>
        <p:grpSpPr>
          <a:xfrm>
            <a:off x="1044720" y="1668600"/>
            <a:ext cx="1027080" cy="615960"/>
            <a:chOff x="1044720" y="1668600"/>
            <a:chExt cx="1027080" cy="615960"/>
          </a:xfrm>
        </p:grpSpPr>
        <p:sp>
          <p:nvSpPr>
            <p:cNvPr id="447" name=""/>
            <p:cNvSpPr/>
            <p:nvPr/>
          </p:nvSpPr>
          <p:spPr>
            <a:xfrm>
              <a:off x="1050840" y="1674720"/>
              <a:ext cx="101448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44720" y="166860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450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2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474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477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135160" y="1733400"/>
            <a:ext cx="141480" cy="297000"/>
            <a:chOff x="2135160" y="1733400"/>
            <a:chExt cx="141480" cy="297000"/>
          </a:xfrm>
        </p:grpSpPr>
        <p:sp>
          <p:nvSpPr>
            <p:cNvPr id="480" name=""/>
            <p:cNvSpPr/>
            <p:nvPr/>
          </p:nvSpPr>
          <p:spPr>
            <a:xfrm>
              <a:off x="2135160" y="1738440"/>
              <a:ext cx="14148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926800" y="2943360"/>
            <a:ext cx="2249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63840" y="122868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485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487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496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07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511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2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530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3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6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537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8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9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2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5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8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4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7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0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3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564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7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0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79" name=""/>
          <p:cNvSpPr/>
          <p:nvPr/>
        </p:nvSpPr>
        <p:spPr>
          <a:xfrm>
            <a:off x="3014640" y="1225440"/>
            <a:ext cx="189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cal, C,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++++++ !!!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lication “Le software”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584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324400" y="1827360"/>
            <a:ext cx="1592280" cy="555480"/>
            <a:chOff x="5324400" y="1827360"/>
            <a:chExt cx="1592280" cy="555480"/>
          </a:xfrm>
        </p:grpSpPr>
        <p:sp>
          <p:nvSpPr>
            <p:cNvPr id="588" name=""/>
            <p:cNvSpPr/>
            <p:nvPr/>
          </p:nvSpPr>
          <p:spPr>
            <a:xfrm>
              <a:off x="5813280" y="1827360"/>
              <a:ext cx="777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24400" y="2062080"/>
              <a:ext cx="15922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091120" y="1349280"/>
            <a:ext cx="1803240" cy="1252800"/>
            <a:chOff x="5091120" y="1349280"/>
            <a:chExt cx="1803240" cy="1252800"/>
          </a:xfrm>
        </p:grpSpPr>
        <p:sp>
          <p:nvSpPr>
            <p:cNvPr id="591" name=""/>
            <p:cNvSpPr/>
            <p:nvPr/>
          </p:nvSpPr>
          <p:spPr>
            <a:xfrm>
              <a:off x="5091120" y="1349280"/>
              <a:ext cx="1803240" cy="1252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2c1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5229360" y="1752480"/>
              <a:ext cx="1643040" cy="612720"/>
              <a:chOff x="5229360" y="1752480"/>
              <a:chExt cx="1643040" cy="612720"/>
            </a:xfrm>
          </p:grpSpPr>
          <p:sp>
            <p:nvSpPr>
              <p:cNvPr id="593" name=""/>
              <p:cNvSpPr/>
              <p:nvPr/>
            </p:nvSpPr>
            <p:spPr>
              <a:xfrm>
                <a:off x="5317920" y="1752480"/>
                <a:ext cx="1554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mpilat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229360" y="2044800"/>
                <a:ext cx="925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596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599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600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5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8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15" name=""/>
          <p:cNvGrpSpPr/>
          <p:nvPr/>
        </p:nvGrpSpPr>
        <p:grpSpPr>
          <a:xfrm>
            <a:off x="1044720" y="1668600"/>
            <a:ext cx="1027080" cy="615960"/>
            <a:chOff x="1044720" y="1668600"/>
            <a:chExt cx="1027080" cy="615960"/>
          </a:xfrm>
        </p:grpSpPr>
        <p:sp>
          <p:nvSpPr>
            <p:cNvPr id="616" name=""/>
            <p:cNvSpPr/>
            <p:nvPr/>
          </p:nvSpPr>
          <p:spPr>
            <a:xfrm>
              <a:off x="1050840" y="1674720"/>
              <a:ext cx="101448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44720" y="166860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619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1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643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646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135160" y="1733400"/>
            <a:ext cx="141480" cy="297000"/>
            <a:chOff x="2135160" y="1733400"/>
            <a:chExt cx="141480" cy="297000"/>
          </a:xfrm>
        </p:grpSpPr>
        <p:sp>
          <p:nvSpPr>
            <p:cNvPr id="649" name=""/>
            <p:cNvSpPr/>
            <p:nvPr/>
          </p:nvSpPr>
          <p:spPr>
            <a:xfrm>
              <a:off x="2135160" y="1738440"/>
              <a:ext cx="14148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926800" y="2943360"/>
            <a:ext cx="2249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63840" y="122868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654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656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3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665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76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680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690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5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698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699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700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2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5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706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8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11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14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17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9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0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721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2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3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6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9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730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1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32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733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6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9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740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1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48" name=""/>
          <p:cNvSpPr/>
          <p:nvPr/>
        </p:nvSpPr>
        <p:spPr>
          <a:xfrm>
            <a:off x="6493320" y="2457360"/>
            <a:ext cx="256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age assemb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14640" y="1225440"/>
            <a:ext cx="189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cal, C,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++++++ !!!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lication “Le software”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754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5324400" y="1827360"/>
            <a:ext cx="1592280" cy="555480"/>
            <a:chOff x="5324400" y="1827360"/>
            <a:chExt cx="1592280" cy="555480"/>
          </a:xfrm>
        </p:grpSpPr>
        <p:sp>
          <p:nvSpPr>
            <p:cNvPr id="758" name=""/>
            <p:cNvSpPr/>
            <p:nvPr/>
          </p:nvSpPr>
          <p:spPr>
            <a:xfrm>
              <a:off x="5813280" y="1827360"/>
              <a:ext cx="777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24400" y="2062080"/>
              <a:ext cx="15922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023240" y="3467160"/>
            <a:ext cx="1911240" cy="1292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311600" y="3860640"/>
            <a:ext cx="1527120" cy="611280"/>
            <a:chOff x="7311600" y="3860640"/>
            <a:chExt cx="1527120" cy="611280"/>
          </a:xfrm>
        </p:grpSpPr>
        <p:sp>
          <p:nvSpPr>
            <p:cNvPr id="762" name=""/>
            <p:cNvSpPr/>
            <p:nvPr/>
          </p:nvSpPr>
          <p:spPr>
            <a:xfrm>
              <a:off x="7311600" y="3860640"/>
              <a:ext cx="152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sembl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51640" y="4151160"/>
              <a:ext cx="544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91120" y="1349280"/>
            <a:ext cx="1803240" cy="1252800"/>
            <a:chOff x="5091120" y="1349280"/>
            <a:chExt cx="1803240" cy="1252800"/>
          </a:xfrm>
        </p:grpSpPr>
        <p:sp>
          <p:nvSpPr>
            <p:cNvPr id="765" name=""/>
            <p:cNvSpPr/>
            <p:nvPr/>
          </p:nvSpPr>
          <p:spPr>
            <a:xfrm>
              <a:off x="5091120" y="1349280"/>
              <a:ext cx="1803240" cy="1252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2c1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229360" y="1752480"/>
              <a:ext cx="1643040" cy="612720"/>
              <a:chOff x="5229360" y="1752480"/>
              <a:chExt cx="1643040" cy="612720"/>
            </a:xfrm>
          </p:grpSpPr>
          <p:sp>
            <p:nvSpPr>
              <p:cNvPr id="767" name=""/>
              <p:cNvSpPr/>
              <p:nvPr/>
            </p:nvSpPr>
            <p:spPr>
              <a:xfrm>
                <a:off x="5317920" y="1752480"/>
                <a:ext cx="1554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mpilat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229360" y="2044800"/>
                <a:ext cx="925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770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773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774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9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2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89" name=""/>
          <p:cNvGrpSpPr/>
          <p:nvPr/>
        </p:nvGrpSpPr>
        <p:grpSpPr>
          <a:xfrm>
            <a:off x="1044720" y="1668600"/>
            <a:ext cx="1027080" cy="615960"/>
            <a:chOff x="1044720" y="1668600"/>
            <a:chExt cx="1027080" cy="615960"/>
          </a:xfrm>
        </p:grpSpPr>
        <p:sp>
          <p:nvSpPr>
            <p:cNvPr id="790" name=""/>
            <p:cNvSpPr/>
            <p:nvPr/>
          </p:nvSpPr>
          <p:spPr>
            <a:xfrm>
              <a:off x="1050840" y="1674720"/>
              <a:ext cx="101448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44720" y="166860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793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15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817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820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2135160" y="1733400"/>
            <a:ext cx="141480" cy="297000"/>
            <a:chOff x="2135160" y="1733400"/>
            <a:chExt cx="141480" cy="297000"/>
          </a:xfrm>
        </p:grpSpPr>
        <p:sp>
          <p:nvSpPr>
            <p:cNvPr id="823" name=""/>
            <p:cNvSpPr/>
            <p:nvPr/>
          </p:nvSpPr>
          <p:spPr>
            <a:xfrm>
              <a:off x="2135160" y="1738440"/>
              <a:ext cx="14148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2926800" y="2943360"/>
            <a:ext cx="2249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63840" y="122868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73680" y="4552920"/>
            <a:ext cx="2206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ag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829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831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8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840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842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51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855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865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0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2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875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77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80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2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83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5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86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89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92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893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95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896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98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1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902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4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905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6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908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909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0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11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14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6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23" name=""/>
          <p:cNvSpPr/>
          <p:nvPr/>
        </p:nvSpPr>
        <p:spPr>
          <a:xfrm>
            <a:off x="6493320" y="2457360"/>
            <a:ext cx="256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age assemb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014640" y="1225440"/>
            <a:ext cx="189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cal, C,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++++++ !!!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lication “Le software”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-3537000" y="148284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98600" y="2463840"/>
            <a:ext cx="3245040" cy="2030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-2775240" y="1906200"/>
            <a:ext cx="11061720" cy="3570840"/>
            <a:chOff x="-2775240" y="1906200"/>
            <a:chExt cx="11061720" cy="3570840"/>
          </a:xfrm>
        </p:grpSpPr>
        <p:sp>
          <p:nvSpPr>
            <p:cNvPr id="929" name=""/>
            <p:cNvSpPr/>
            <p:nvPr/>
          </p:nvSpPr>
          <p:spPr>
            <a:xfrm>
              <a:off x="-2775240" y="1906200"/>
              <a:ext cx="11061720" cy="349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62280" y="5362560"/>
              <a:ext cx="228600" cy="11448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62280" y="5362560"/>
              <a:ext cx="217440" cy="10332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5324400" y="1812960"/>
            <a:ext cx="1592280" cy="555480"/>
            <a:chOff x="5324400" y="1812960"/>
            <a:chExt cx="1592280" cy="555480"/>
          </a:xfrm>
        </p:grpSpPr>
        <p:sp>
          <p:nvSpPr>
            <p:cNvPr id="933" name=""/>
            <p:cNvSpPr/>
            <p:nvPr/>
          </p:nvSpPr>
          <p:spPr>
            <a:xfrm>
              <a:off x="5813280" y="1812960"/>
              <a:ext cx="7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24400" y="2048040"/>
              <a:ext cx="1592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7023240" y="3452760"/>
            <a:ext cx="1911240" cy="129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7311600" y="3846600"/>
            <a:ext cx="1527120" cy="611280"/>
            <a:chOff x="7311600" y="3846600"/>
            <a:chExt cx="1527120" cy="611280"/>
          </a:xfrm>
        </p:grpSpPr>
        <p:sp>
          <p:nvSpPr>
            <p:cNvPr id="937" name=""/>
            <p:cNvSpPr/>
            <p:nvPr/>
          </p:nvSpPr>
          <p:spPr>
            <a:xfrm>
              <a:off x="7311600" y="3846600"/>
              <a:ext cx="152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sembl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51640" y="4137120"/>
              <a:ext cx="544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3790800" y="4786200"/>
            <a:ext cx="1438920" cy="1096920"/>
            <a:chOff x="3790800" y="4786200"/>
            <a:chExt cx="1438920" cy="1096920"/>
          </a:xfrm>
        </p:grpSpPr>
        <p:sp>
          <p:nvSpPr>
            <p:cNvPr id="940" name=""/>
            <p:cNvSpPr/>
            <p:nvPr/>
          </p:nvSpPr>
          <p:spPr>
            <a:xfrm>
              <a:off x="3790800" y="4786200"/>
              <a:ext cx="1397160" cy="1096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2c1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844440" y="5032440"/>
              <a:ext cx="1385280" cy="637560"/>
              <a:chOff x="3844440" y="5032440"/>
              <a:chExt cx="1385280" cy="637560"/>
            </a:xfrm>
          </p:grpSpPr>
          <p:sp>
            <p:nvSpPr>
              <p:cNvPr id="942" name=""/>
              <p:cNvSpPr/>
              <p:nvPr/>
            </p:nvSpPr>
            <p:spPr>
              <a:xfrm>
                <a:off x="3844440" y="5032440"/>
                <a:ext cx="1385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arge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 Mémo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33720" y="5300640"/>
                <a:ext cx="968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4" name=""/>
          <p:cNvGrpSpPr/>
          <p:nvPr/>
        </p:nvGrpSpPr>
        <p:grpSpPr>
          <a:xfrm>
            <a:off x="5091120" y="1335240"/>
            <a:ext cx="1803240" cy="1252440"/>
            <a:chOff x="5091120" y="1335240"/>
            <a:chExt cx="1803240" cy="1252440"/>
          </a:xfrm>
        </p:grpSpPr>
        <p:sp>
          <p:nvSpPr>
            <p:cNvPr id="945" name=""/>
            <p:cNvSpPr/>
            <p:nvPr/>
          </p:nvSpPr>
          <p:spPr>
            <a:xfrm>
              <a:off x="5091120" y="1335240"/>
              <a:ext cx="1803240" cy="1252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2c1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5229360" y="1738440"/>
              <a:ext cx="1643040" cy="612720"/>
              <a:chOff x="5229360" y="1738440"/>
              <a:chExt cx="1643040" cy="612720"/>
            </a:xfrm>
          </p:grpSpPr>
          <p:sp>
            <p:nvSpPr>
              <p:cNvPr id="947" name=""/>
              <p:cNvSpPr/>
              <p:nvPr/>
            </p:nvSpPr>
            <p:spPr>
              <a:xfrm>
                <a:off x="5317920" y="1738440"/>
                <a:ext cx="1554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mpilat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29360" y="2030400"/>
                <a:ext cx="9252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9" name=""/>
          <p:cNvGrpSpPr/>
          <p:nvPr/>
        </p:nvGrpSpPr>
        <p:grpSpPr>
          <a:xfrm>
            <a:off x="461880" y="1568520"/>
            <a:ext cx="622440" cy="699840"/>
            <a:chOff x="461880" y="1568520"/>
            <a:chExt cx="622440" cy="699840"/>
          </a:xfrm>
        </p:grpSpPr>
        <p:sp>
          <p:nvSpPr>
            <p:cNvPr id="950" name=""/>
            <p:cNvSpPr/>
            <p:nvPr/>
          </p:nvSpPr>
          <p:spPr>
            <a:xfrm>
              <a:off x="468360" y="15746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1880" y="1568520"/>
              <a:ext cx="622440" cy="69984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72960" y="1017720"/>
            <a:ext cx="1284480" cy="1245960"/>
            <a:chOff x="372960" y="1017720"/>
            <a:chExt cx="1284480" cy="1245960"/>
          </a:xfrm>
        </p:grpSpPr>
        <p:grpSp>
          <p:nvGrpSpPr>
            <p:cNvPr id="953" name=""/>
            <p:cNvGrpSpPr/>
            <p:nvPr/>
          </p:nvGrpSpPr>
          <p:grpSpPr>
            <a:xfrm>
              <a:off x="372960" y="1017720"/>
              <a:ext cx="1284480" cy="1245960"/>
              <a:chOff x="372960" y="1017720"/>
              <a:chExt cx="1284480" cy="1245960"/>
            </a:xfrm>
          </p:grpSpPr>
          <p:sp>
            <p:nvSpPr>
              <p:cNvPr id="954" name=""/>
              <p:cNvSpPr/>
              <p:nvPr/>
            </p:nvSpPr>
            <p:spPr>
              <a:xfrm>
                <a:off x="379440" y="10224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72960" y="1017720"/>
                <a:ext cx="1284480" cy="124596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642960" y="1179360"/>
              <a:ext cx="376200" cy="596880"/>
              <a:chOff x="642960" y="1179360"/>
              <a:chExt cx="376200" cy="59688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714240" y="1179360"/>
                <a:ext cx="81000" cy="111240"/>
                <a:chOff x="714240" y="1179360"/>
                <a:chExt cx="81000" cy="1112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790560" y="12254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9" name=""/>
                <p:cNvGrpSpPr/>
                <p:nvPr/>
              </p:nvGrpSpPr>
              <p:grpSpPr>
                <a:xfrm>
                  <a:off x="714240" y="1179360"/>
                  <a:ext cx="46080" cy="54000"/>
                  <a:chOff x="714240" y="1179360"/>
                  <a:chExt cx="46080" cy="5400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720720" y="118440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714240" y="11793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2" name=""/>
              <p:cNvGrpSpPr/>
              <p:nvPr/>
            </p:nvGrpSpPr>
            <p:grpSpPr>
              <a:xfrm>
                <a:off x="642960" y="1425600"/>
                <a:ext cx="376200" cy="350640"/>
                <a:chOff x="642960" y="1425600"/>
                <a:chExt cx="376200" cy="350640"/>
              </a:xfrm>
            </p:grpSpPr>
            <p:grpSp>
              <p:nvGrpSpPr>
                <p:cNvPr id="963" name=""/>
                <p:cNvGrpSpPr/>
                <p:nvPr/>
              </p:nvGrpSpPr>
              <p:grpSpPr>
                <a:xfrm>
                  <a:off x="642960" y="1623960"/>
                  <a:ext cx="376200" cy="152280"/>
                  <a:chOff x="642960" y="1623960"/>
                  <a:chExt cx="376200" cy="15228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>
                    <a:off x="649440" y="1630440"/>
                    <a:ext cx="3632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42960" y="16239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695160" y="1425600"/>
                  <a:ext cx="217800" cy="258840"/>
                  <a:chOff x="695160" y="1425600"/>
                  <a:chExt cx="217800" cy="2588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701640" y="1432080"/>
                    <a:ext cx="20484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695160" y="1425600"/>
                    <a:ext cx="21780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69" name=""/>
          <p:cNvGrpSpPr/>
          <p:nvPr/>
        </p:nvGrpSpPr>
        <p:grpSpPr>
          <a:xfrm>
            <a:off x="1044720" y="1654200"/>
            <a:ext cx="1027080" cy="615960"/>
            <a:chOff x="1044720" y="1654200"/>
            <a:chExt cx="1027080" cy="615960"/>
          </a:xfrm>
        </p:grpSpPr>
        <p:sp>
          <p:nvSpPr>
            <p:cNvPr id="970" name=""/>
            <p:cNvSpPr/>
            <p:nvPr/>
          </p:nvSpPr>
          <p:spPr>
            <a:xfrm>
              <a:off x="1050840" y="1660680"/>
              <a:ext cx="1014480" cy="60156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44720" y="165420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168560" y="1641600"/>
            <a:ext cx="433080" cy="196560"/>
            <a:chOff x="1168560" y="1641600"/>
            <a:chExt cx="433080" cy="196560"/>
          </a:xfrm>
        </p:grpSpPr>
        <p:grpSp>
          <p:nvGrpSpPr>
            <p:cNvPr id="973" name=""/>
            <p:cNvGrpSpPr/>
            <p:nvPr/>
          </p:nvGrpSpPr>
          <p:grpSpPr>
            <a:xfrm>
              <a:off x="1168560" y="1641600"/>
              <a:ext cx="433080" cy="196560"/>
              <a:chOff x="1168560" y="1641600"/>
              <a:chExt cx="433080" cy="19656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1174680" y="1641600"/>
                <a:ext cx="426960" cy="164880"/>
                <a:chOff x="1174680" y="1641600"/>
                <a:chExt cx="426960" cy="1648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1181160" y="16462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174680" y="1641600"/>
                  <a:ext cx="426960" cy="16488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1389240" y="1757520"/>
                <a:ext cx="212400" cy="80640"/>
                <a:chOff x="1389240" y="1757520"/>
                <a:chExt cx="212400" cy="8064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1395360" y="17636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389240" y="1757520"/>
                  <a:ext cx="212400" cy="8064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1168560" y="1674720"/>
                <a:ext cx="231480" cy="163440"/>
                <a:chOff x="1168560" y="1674720"/>
                <a:chExt cx="231480" cy="16344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1174680" y="16812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168560" y="16747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3" name=""/>
            <p:cNvGrpSpPr/>
            <p:nvPr/>
          </p:nvGrpSpPr>
          <p:grpSpPr>
            <a:xfrm>
              <a:off x="1235160" y="1666800"/>
              <a:ext cx="284040" cy="114480"/>
              <a:chOff x="1235160" y="1666800"/>
              <a:chExt cx="284040" cy="11448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1255680" y="1673280"/>
                <a:ext cx="255600" cy="106200"/>
                <a:chOff x="1255680" y="1673280"/>
                <a:chExt cx="255600" cy="1062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1359000" y="1673280"/>
                  <a:ext cx="152280" cy="8892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312920" y="16812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255680" y="16905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1235160" y="1666800"/>
                <a:ext cx="284040" cy="114480"/>
                <a:chOff x="1235160" y="1666800"/>
                <a:chExt cx="284040" cy="11448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1235160" y="1666800"/>
                  <a:ext cx="131760" cy="2556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1282680" y="16891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1322280" y="1701720"/>
                  <a:ext cx="115920" cy="2880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353960" y="1720800"/>
                  <a:ext cx="108000" cy="2880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389240" y="1730520"/>
                  <a:ext cx="109440" cy="3312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1403280" y="175428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5" name=""/>
          <p:cNvSpPr/>
          <p:nvPr/>
        </p:nvSpPr>
        <p:spPr>
          <a:xfrm>
            <a:off x="1504800" y="17668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434960" y="1098720"/>
            <a:ext cx="959040" cy="699840"/>
            <a:chOff x="1434960" y="1098720"/>
            <a:chExt cx="959040" cy="699840"/>
          </a:xfrm>
        </p:grpSpPr>
        <p:sp>
          <p:nvSpPr>
            <p:cNvPr id="997" name=""/>
            <p:cNvSpPr/>
            <p:nvPr/>
          </p:nvSpPr>
          <p:spPr>
            <a:xfrm>
              <a:off x="1441440" y="1104840"/>
              <a:ext cx="946080" cy="68760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34960" y="1098720"/>
              <a:ext cx="959040" cy="69984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484280" y="1166760"/>
            <a:ext cx="571680" cy="533520"/>
            <a:chOff x="1484280" y="1166760"/>
            <a:chExt cx="571680" cy="533520"/>
          </a:xfrm>
        </p:grpSpPr>
        <p:sp>
          <p:nvSpPr>
            <p:cNvPr id="1000" name=""/>
            <p:cNvSpPr/>
            <p:nvPr/>
          </p:nvSpPr>
          <p:spPr>
            <a:xfrm>
              <a:off x="1490760" y="117324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84280" y="11667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135160" y="1719360"/>
            <a:ext cx="141480" cy="296640"/>
            <a:chOff x="2135160" y="1719360"/>
            <a:chExt cx="141480" cy="296640"/>
          </a:xfrm>
        </p:grpSpPr>
        <p:sp>
          <p:nvSpPr>
            <p:cNvPr id="1003" name=""/>
            <p:cNvSpPr/>
            <p:nvPr/>
          </p:nvSpPr>
          <p:spPr>
            <a:xfrm>
              <a:off x="2135160" y="1724040"/>
              <a:ext cx="14148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135160" y="1719360"/>
              <a:ext cx="32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2926800" y="2928960"/>
            <a:ext cx="2249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563840" y="121428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403200" y="5261040"/>
            <a:ext cx="2224080" cy="833400"/>
            <a:chOff x="403200" y="5261040"/>
            <a:chExt cx="2224080" cy="833400"/>
          </a:xfrm>
        </p:grpSpPr>
        <p:sp>
          <p:nvSpPr>
            <p:cNvPr id="1008" name=""/>
            <p:cNvSpPr/>
            <p:nvPr/>
          </p:nvSpPr>
          <p:spPr>
            <a:xfrm>
              <a:off x="403200" y="56880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90400" y="5324400"/>
              <a:ext cx="1739880" cy="588960"/>
              <a:chOff x="590400" y="5324400"/>
              <a:chExt cx="1739880" cy="588960"/>
            </a:xfrm>
          </p:grpSpPr>
          <p:sp>
            <p:nvSpPr>
              <p:cNvPr id="1010" name=""/>
              <p:cNvSpPr/>
              <p:nvPr/>
            </p:nvSpPr>
            <p:spPr>
              <a:xfrm>
                <a:off x="601560" y="56260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90400" y="5324400"/>
                <a:ext cx="1406520" cy="45108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590400" y="5405400"/>
                <a:ext cx="1417680" cy="185760"/>
                <a:chOff x="590400" y="5405400"/>
                <a:chExt cx="1417680" cy="18576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590400" y="54054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623960" y="54878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276200" y="54626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90400" y="5465880"/>
                  <a:ext cx="1417680" cy="12528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7" name=""/>
            <p:cNvSpPr/>
            <p:nvPr/>
          </p:nvSpPr>
          <p:spPr>
            <a:xfrm>
              <a:off x="590400" y="5261040"/>
              <a:ext cx="1744920" cy="15408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2081160" y="5880240"/>
              <a:ext cx="546120" cy="214200"/>
              <a:chOff x="2081160" y="5880240"/>
              <a:chExt cx="54612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2081160" y="5880240"/>
                <a:ext cx="546120" cy="14256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2108160" y="5958000"/>
                <a:ext cx="380880" cy="136440"/>
                <a:chOff x="2108160" y="5958000"/>
                <a:chExt cx="380880" cy="13644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2109960" y="5958000"/>
                  <a:ext cx="372960" cy="136440"/>
                  <a:chOff x="2109960" y="5958000"/>
                  <a:chExt cx="372960" cy="1364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2109960" y="5958000"/>
                    <a:ext cx="22680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111400" y="60148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279520" y="59896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171880" y="5958000"/>
                    <a:ext cx="3110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6" name=""/>
                <p:cNvGrpSpPr/>
                <p:nvPr/>
              </p:nvGrpSpPr>
              <p:grpSpPr>
                <a:xfrm>
                  <a:off x="2108160" y="5999040"/>
                  <a:ext cx="380880" cy="63720"/>
                  <a:chOff x="2108160" y="5999040"/>
                  <a:chExt cx="380880" cy="63720"/>
                </a:xfrm>
              </p:grpSpPr>
              <p:sp>
                <p:nvSpPr>
                  <p:cNvPr id="1027" name=""/>
                  <p:cNvSpPr/>
                  <p:nvPr/>
                </p:nvSpPr>
                <p:spPr>
                  <a:xfrm>
                    <a:off x="2108160" y="6022800"/>
                    <a:ext cx="169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278080" y="5999040"/>
                    <a:ext cx="7128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349360" y="5999040"/>
                    <a:ext cx="139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30" name=""/>
            <p:cNvSpPr/>
            <p:nvPr/>
          </p:nvSpPr>
          <p:spPr>
            <a:xfrm>
              <a:off x="2011320" y="5619600"/>
              <a:ext cx="317520" cy="29556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08080" y="53290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39640" y="56847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2004840" y="5356080"/>
              <a:ext cx="336600" cy="400320"/>
              <a:chOff x="2004840" y="5356080"/>
              <a:chExt cx="336600" cy="400320"/>
            </a:xfrm>
          </p:grpSpPr>
          <p:sp>
            <p:nvSpPr>
              <p:cNvPr id="1034" name=""/>
              <p:cNvSpPr/>
              <p:nvPr/>
            </p:nvSpPr>
            <p:spPr>
              <a:xfrm>
                <a:off x="2004840" y="54673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063880" y="55022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62080" y="553572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63880" y="5567400"/>
                <a:ext cx="277560" cy="11916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63880" y="5600880"/>
                <a:ext cx="277560" cy="12528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062080" y="5430960"/>
                <a:ext cx="279360" cy="9828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063880" y="539604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62080" y="53560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62080" y="5410080"/>
                <a:ext cx="3240" cy="34632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539640" y="5700600"/>
              <a:ext cx="1560600" cy="346320"/>
              <a:chOff x="539640" y="5700600"/>
              <a:chExt cx="1560600" cy="346320"/>
            </a:xfrm>
          </p:grpSpPr>
          <p:sp>
            <p:nvSpPr>
              <p:cNvPr id="1044" name=""/>
              <p:cNvSpPr/>
              <p:nvPr/>
            </p:nvSpPr>
            <p:spPr>
              <a:xfrm>
                <a:off x="1617840" y="5810400"/>
                <a:ext cx="365040" cy="14436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5" name=""/>
              <p:cNvGrpSpPr/>
              <p:nvPr/>
            </p:nvGrpSpPr>
            <p:grpSpPr>
              <a:xfrm>
                <a:off x="539640" y="5700600"/>
                <a:ext cx="1560600" cy="346320"/>
                <a:chOff x="539640" y="5700600"/>
                <a:chExt cx="1560600" cy="34632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539640" y="5843520"/>
                  <a:ext cx="1371600" cy="20340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922400" y="5815080"/>
                  <a:ext cx="169920" cy="23184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39640" y="58579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9" name=""/>
                <p:cNvGrpSpPr/>
                <p:nvPr/>
              </p:nvGrpSpPr>
              <p:grpSpPr>
                <a:xfrm>
                  <a:off x="630360" y="5700600"/>
                  <a:ext cx="1330200" cy="265320"/>
                  <a:chOff x="630360" y="5700600"/>
                  <a:chExt cx="1330200" cy="26532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630360" y="5715000"/>
                    <a:ext cx="10126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649440" y="5700600"/>
                    <a:ext cx="1311120" cy="265320"/>
                    <a:chOff x="649440" y="5700600"/>
                    <a:chExt cx="1311120" cy="265320"/>
                  </a:xfrm>
                </p:grpSpPr>
                <p:grpSp>
                  <p:nvGrpSpPr>
                    <p:cNvPr id="1052" name=""/>
                    <p:cNvGrpSpPr/>
                    <p:nvPr/>
                  </p:nvGrpSpPr>
                  <p:grpSpPr>
                    <a:xfrm>
                      <a:off x="674640" y="5700600"/>
                      <a:ext cx="954000" cy="219240"/>
                      <a:chOff x="674640" y="5700600"/>
                      <a:chExt cx="954000" cy="219240"/>
                    </a:xfrm>
                  </p:grpSpPr>
                  <p:grpSp>
                    <p:nvGrpSpPr>
                      <p:cNvPr id="1053" name=""/>
                      <p:cNvGrpSpPr/>
                      <p:nvPr/>
                    </p:nvGrpSpPr>
                    <p:grpSpPr>
                      <a:xfrm>
                        <a:off x="674640" y="5700600"/>
                        <a:ext cx="200160" cy="146160"/>
                        <a:chOff x="674640" y="5700600"/>
                        <a:chExt cx="200160" cy="146160"/>
                      </a:xfrm>
                    </p:grpSpPr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>
                          <a:off x="674640" y="58118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5" name=""/>
                        <p:cNvSpPr/>
                        <p:nvPr/>
                      </p:nvSpPr>
                      <p:spPr>
                        <a:xfrm>
                          <a:off x="738360" y="57006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6" name=""/>
                      <p:cNvGrpSpPr/>
                      <p:nvPr/>
                    </p:nvGrpSpPr>
                    <p:grpSpPr>
                      <a:xfrm>
                        <a:off x="752400" y="5708520"/>
                        <a:ext cx="200160" cy="146160"/>
                        <a:chOff x="752400" y="5708520"/>
                        <a:chExt cx="200160" cy="146160"/>
                      </a:xfrm>
                    </p:grpSpPr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>
                          <a:off x="752400" y="58197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8" name=""/>
                        <p:cNvSpPr/>
                        <p:nvPr/>
                      </p:nvSpPr>
                      <p:spPr>
                        <a:xfrm>
                          <a:off x="816120" y="57085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9" name=""/>
                      <p:cNvGrpSpPr/>
                      <p:nvPr/>
                    </p:nvGrpSpPr>
                    <p:grpSpPr>
                      <a:xfrm>
                        <a:off x="831960" y="5713560"/>
                        <a:ext cx="201600" cy="145800"/>
                        <a:chOff x="831960" y="5713560"/>
                        <a:chExt cx="201600" cy="145800"/>
                      </a:xfrm>
                    </p:grpSpPr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>
                          <a:off x="831960" y="5824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896760" y="57135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2" name=""/>
                      <p:cNvGrpSpPr/>
                      <p:nvPr/>
                    </p:nvGrpSpPr>
                    <p:grpSpPr>
                      <a:xfrm>
                        <a:off x="905040" y="5724360"/>
                        <a:ext cx="201600" cy="146160"/>
                        <a:chOff x="905040" y="5724360"/>
                        <a:chExt cx="201600" cy="146160"/>
                      </a:xfrm>
                    </p:grpSpPr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>
                          <a:off x="905040" y="58356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>
                          <a:off x="969840" y="5724360"/>
                          <a:ext cx="13680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5" name=""/>
                      <p:cNvGrpSpPr/>
                      <p:nvPr/>
                    </p:nvGrpSpPr>
                    <p:grpSpPr>
                      <a:xfrm>
                        <a:off x="985680" y="5729400"/>
                        <a:ext cx="200160" cy="145800"/>
                        <a:chOff x="985680" y="5729400"/>
                        <a:chExt cx="200160" cy="145800"/>
                      </a:xfrm>
                    </p:grpSpPr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>
                          <a:off x="985680" y="58402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1049400" y="5729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8" name=""/>
                      <p:cNvGrpSpPr/>
                      <p:nvPr/>
                    </p:nvGrpSpPr>
                    <p:grpSpPr>
                      <a:xfrm>
                        <a:off x="1060560" y="5734080"/>
                        <a:ext cx="201600" cy="147600"/>
                        <a:chOff x="1060560" y="5734080"/>
                        <a:chExt cx="201600" cy="147600"/>
                      </a:xfrm>
                    </p:grpSpPr>
                    <p:sp>
                      <p:nvSpPr>
                        <p:cNvPr id="1069" name=""/>
                        <p:cNvSpPr/>
                        <p:nvPr/>
                      </p:nvSpPr>
                      <p:spPr>
                        <a:xfrm>
                          <a:off x="1060560" y="5845320"/>
                          <a:ext cx="66600" cy="3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>
                          <a:off x="1125360" y="57340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1" name=""/>
                      <p:cNvGrpSpPr/>
                      <p:nvPr/>
                    </p:nvGrpSpPr>
                    <p:grpSpPr>
                      <a:xfrm>
                        <a:off x="1135080" y="5742000"/>
                        <a:ext cx="201600" cy="146160"/>
                        <a:chOff x="1135080" y="5742000"/>
                        <a:chExt cx="201600" cy="146160"/>
                      </a:xfrm>
                    </p:grpSpPr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>
                          <a:off x="1135080" y="58532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3" name=""/>
                        <p:cNvSpPr/>
                        <p:nvPr/>
                      </p:nvSpPr>
                      <p:spPr>
                        <a:xfrm>
                          <a:off x="1200240" y="5742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4" name=""/>
                      <p:cNvGrpSpPr/>
                      <p:nvPr/>
                    </p:nvGrpSpPr>
                    <p:grpSpPr>
                      <a:xfrm>
                        <a:off x="1204920" y="5751360"/>
                        <a:ext cx="201600" cy="147960"/>
                        <a:chOff x="1204920" y="5751360"/>
                        <a:chExt cx="201600" cy="147960"/>
                      </a:xfrm>
                    </p:grpSpPr>
                    <p:sp>
                      <p:nvSpPr>
                        <p:cNvPr id="1075" name=""/>
                        <p:cNvSpPr/>
                        <p:nvPr/>
                      </p:nvSpPr>
                      <p:spPr>
                        <a:xfrm>
                          <a:off x="1204920" y="58644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6" name=""/>
                        <p:cNvSpPr/>
                        <p:nvPr/>
                      </p:nvSpPr>
                      <p:spPr>
                        <a:xfrm>
                          <a:off x="1270080" y="57513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7" name=""/>
                      <p:cNvGrpSpPr/>
                      <p:nvPr/>
                    </p:nvGrpSpPr>
                    <p:grpSpPr>
                      <a:xfrm>
                        <a:off x="1281240" y="5762520"/>
                        <a:ext cx="199800" cy="146160"/>
                        <a:chOff x="1281240" y="5762520"/>
                        <a:chExt cx="199800" cy="146160"/>
                      </a:xfrm>
                    </p:grpSpPr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>
                          <a:off x="1281240" y="58737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9" name=""/>
                        <p:cNvSpPr/>
                        <p:nvPr/>
                      </p:nvSpPr>
                      <p:spPr>
                        <a:xfrm>
                          <a:off x="1344600" y="57625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80" name=""/>
                      <p:cNvGrpSpPr/>
                      <p:nvPr/>
                    </p:nvGrpSpPr>
                    <p:grpSpPr>
                      <a:xfrm>
                        <a:off x="1355760" y="5767560"/>
                        <a:ext cx="201600" cy="147600"/>
                        <a:chOff x="1355760" y="5767560"/>
                        <a:chExt cx="201600" cy="147600"/>
                      </a:xfrm>
                    </p:grpSpPr>
                    <p:sp>
                      <p:nvSpPr>
                        <p:cNvPr id="1081" name=""/>
                        <p:cNvSpPr/>
                        <p:nvPr/>
                      </p:nvSpPr>
                      <p:spPr>
                        <a:xfrm>
                          <a:off x="1355760" y="58802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2" name=""/>
                        <p:cNvSpPr/>
                        <p:nvPr/>
                      </p:nvSpPr>
                      <p:spPr>
                        <a:xfrm>
                          <a:off x="1420920" y="5767560"/>
                          <a:ext cx="136440" cy="11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83" name=""/>
                      <p:cNvGrpSpPr/>
                      <p:nvPr/>
                    </p:nvGrpSpPr>
                    <p:grpSpPr>
                      <a:xfrm>
                        <a:off x="1428840" y="5773680"/>
                        <a:ext cx="199800" cy="146160"/>
                        <a:chOff x="1428840" y="5773680"/>
                        <a:chExt cx="199800" cy="146160"/>
                      </a:xfrm>
                    </p:grpSpPr>
                    <p:sp>
                      <p:nvSpPr>
                        <p:cNvPr id="1084" name=""/>
                        <p:cNvSpPr/>
                        <p:nvPr/>
                      </p:nvSpPr>
                      <p:spPr>
                        <a:xfrm>
                          <a:off x="1428840" y="58849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>
                          <a:off x="1492200" y="57736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86" name=""/>
                    <p:cNvGrpSpPr/>
                    <p:nvPr/>
                  </p:nvGrpSpPr>
                  <p:grpSpPr>
                    <a:xfrm>
                      <a:off x="1662120" y="5796000"/>
                      <a:ext cx="289080" cy="169920"/>
                      <a:chOff x="1662120" y="5796000"/>
                      <a:chExt cx="289080" cy="169920"/>
                    </a:xfrm>
                  </p:grpSpPr>
                  <p:grpSp>
                    <p:nvGrpSpPr>
                      <p:cNvPr id="1087" name=""/>
                      <p:cNvGrpSpPr/>
                      <p:nvPr/>
                    </p:nvGrpSpPr>
                    <p:grpSpPr>
                      <a:xfrm>
                        <a:off x="1781280" y="5807160"/>
                        <a:ext cx="169920" cy="158760"/>
                        <a:chOff x="1781280" y="5807160"/>
                        <a:chExt cx="169920" cy="158760"/>
                      </a:xfrm>
                    </p:grpSpPr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>
                          <a:off x="1781280" y="592308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9" name=""/>
                        <p:cNvSpPr/>
                        <p:nvPr/>
                      </p:nvSpPr>
                      <p:spPr>
                        <a:xfrm>
                          <a:off x="1838160" y="5807160"/>
                          <a:ext cx="113040" cy="117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90" name=""/>
                      <p:cNvGrpSpPr/>
                      <p:nvPr/>
                    </p:nvGrpSpPr>
                    <p:grpSpPr>
                      <a:xfrm>
                        <a:off x="1720800" y="5799240"/>
                        <a:ext cx="173160" cy="162000"/>
                        <a:chOff x="1720800" y="5799240"/>
                        <a:chExt cx="173160" cy="162000"/>
                      </a:xfrm>
                    </p:grpSpPr>
                    <p:sp>
                      <p:nvSpPr>
                        <p:cNvPr id="1091" name=""/>
                        <p:cNvSpPr/>
                        <p:nvPr/>
                      </p:nvSpPr>
                      <p:spPr>
                        <a:xfrm>
                          <a:off x="1720800" y="5918040"/>
                          <a:ext cx="58680" cy="4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2" name=""/>
                        <p:cNvSpPr/>
                        <p:nvPr/>
                      </p:nvSpPr>
                      <p:spPr>
                        <a:xfrm>
                          <a:off x="1778040" y="5799240"/>
                          <a:ext cx="115920" cy="12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93" name=""/>
                      <p:cNvGrpSpPr/>
                      <p:nvPr/>
                    </p:nvGrpSpPr>
                    <p:grpSpPr>
                      <a:xfrm>
                        <a:off x="1662120" y="5796000"/>
                        <a:ext cx="166680" cy="156960"/>
                        <a:chOff x="1662120" y="5796000"/>
                        <a:chExt cx="166680" cy="156960"/>
                      </a:xfrm>
                    </p:grpSpPr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>
                          <a:off x="1662120" y="5910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5" name=""/>
                        <p:cNvSpPr/>
                        <p:nvPr/>
                      </p:nvSpPr>
                      <p:spPr>
                        <a:xfrm>
                          <a:off x="1719360" y="5796000"/>
                          <a:ext cx="10944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744480" y="5745240"/>
                      <a:ext cx="1216080" cy="1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00200" y="577548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649440" y="5803920"/>
                      <a:ext cx="1253880" cy="1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99" name=""/>
                <p:cNvGrpSpPr/>
                <p:nvPr/>
              </p:nvGrpSpPr>
              <p:grpSpPr>
                <a:xfrm>
                  <a:off x="1920960" y="5830920"/>
                  <a:ext cx="179280" cy="185760"/>
                  <a:chOff x="1920960" y="5830920"/>
                  <a:chExt cx="179280" cy="18576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>
                    <a:off x="1920960" y="59356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014560" y="58309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02" name=""/>
          <p:cNvSpPr/>
          <p:nvPr/>
        </p:nvSpPr>
        <p:spPr>
          <a:xfrm>
            <a:off x="5773680" y="4552920"/>
            <a:ext cx="2206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ag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493320" y="2457360"/>
            <a:ext cx="256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age assemb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014640" y="1225440"/>
            <a:ext cx="189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cal, C,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++++++ !!!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ite un exemp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2796120" y="577800"/>
            <a:ext cx="6019560" cy="5919120"/>
            <a:chOff x="2796120" y="577800"/>
            <a:chExt cx="6019560" cy="5919120"/>
          </a:xfrm>
        </p:grpSpPr>
        <p:sp>
          <p:nvSpPr>
            <p:cNvPr id="1107" name=""/>
            <p:cNvSpPr/>
            <p:nvPr/>
          </p:nvSpPr>
          <p:spPr>
            <a:xfrm>
              <a:off x="2796120" y="577800"/>
              <a:ext cx="265500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ange (int v[], int k[]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{ int te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emp=v[k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[k]=v[k+1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[k+1]=te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674040" y="1022400"/>
              <a:ext cx="2098800" cy="28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ange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uli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$2,$5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dd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$2,$4,$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w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$15,0($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w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$16,4($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w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$16,0($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w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$15,4($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r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$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3840" y="4273560"/>
              <a:ext cx="3381840" cy="22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000011010000100010000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001000000000000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001100110100101010000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0011000000011100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01000011100101010101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00100000000000010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01001010100000010101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1113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5324400" y="1827360"/>
            <a:ext cx="1592280" cy="555480"/>
            <a:chOff x="5324400" y="1827360"/>
            <a:chExt cx="1592280" cy="555480"/>
          </a:xfrm>
        </p:grpSpPr>
        <p:sp>
          <p:nvSpPr>
            <p:cNvPr id="1117" name=""/>
            <p:cNvSpPr/>
            <p:nvPr/>
          </p:nvSpPr>
          <p:spPr>
            <a:xfrm>
              <a:off x="5813280" y="1827360"/>
              <a:ext cx="777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324400" y="2062080"/>
              <a:ext cx="15922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7023240" y="3467160"/>
            <a:ext cx="1911240" cy="1292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311600" y="3860640"/>
            <a:ext cx="1527120" cy="611280"/>
            <a:chOff x="7311600" y="3860640"/>
            <a:chExt cx="1527120" cy="611280"/>
          </a:xfrm>
        </p:grpSpPr>
        <p:sp>
          <p:nvSpPr>
            <p:cNvPr id="1121" name=""/>
            <p:cNvSpPr/>
            <p:nvPr/>
          </p:nvSpPr>
          <p:spPr>
            <a:xfrm>
              <a:off x="7311600" y="3860640"/>
              <a:ext cx="152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sembl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451640" y="4151160"/>
              <a:ext cx="544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3790800" y="4800600"/>
            <a:ext cx="1438920" cy="1096920"/>
            <a:chOff x="3790800" y="4800600"/>
            <a:chExt cx="1438920" cy="1096920"/>
          </a:xfrm>
        </p:grpSpPr>
        <p:sp>
          <p:nvSpPr>
            <p:cNvPr id="1124" name=""/>
            <p:cNvSpPr/>
            <p:nvPr/>
          </p:nvSpPr>
          <p:spPr>
            <a:xfrm>
              <a:off x="3790800" y="4800600"/>
              <a:ext cx="1397160" cy="1096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2c1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844440" y="5046840"/>
              <a:ext cx="1385280" cy="637560"/>
              <a:chOff x="3844440" y="5046840"/>
              <a:chExt cx="1385280" cy="637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3844440" y="5046840"/>
                <a:ext cx="1385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arge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 Mémo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933720" y="5315040"/>
                <a:ext cx="96840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5091120" y="1349280"/>
            <a:ext cx="1803240" cy="1252800"/>
            <a:chOff x="5091120" y="1349280"/>
            <a:chExt cx="1803240" cy="1252800"/>
          </a:xfrm>
        </p:grpSpPr>
        <p:sp>
          <p:nvSpPr>
            <p:cNvPr id="1129" name=""/>
            <p:cNvSpPr/>
            <p:nvPr/>
          </p:nvSpPr>
          <p:spPr>
            <a:xfrm>
              <a:off x="5091120" y="1349280"/>
              <a:ext cx="1803240" cy="1252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2c1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229360" y="1752480"/>
              <a:ext cx="1643040" cy="612720"/>
              <a:chOff x="5229360" y="1752480"/>
              <a:chExt cx="1643040" cy="612720"/>
            </a:xfrm>
          </p:grpSpPr>
          <p:sp>
            <p:nvSpPr>
              <p:cNvPr id="1131" name=""/>
              <p:cNvSpPr/>
              <p:nvPr/>
            </p:nvSpPr>
            <p:spPr>
              <a:xfrm>
                <a:off x="5317920" y="1752480"/>
                <a:ext cx="1554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mpilat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229360" y="2044800"/>
                <a:ext cx="925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3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1134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1137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1138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6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1147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153" name=""/>
          <p:cNvGrpSpPr/>
          <p:nvPr/>
        </p:nvGrpSpPr>
        <p:grpSpPr>
          <a:xfrm>
            <a:off x="1044720" y="1668600"/>
            <a:ext cx="1027080" cy="615960"/>
            <a:chOff x="1044720" y="1668600"/>
            <a:chExt cx="1027080" cy="615960"/>
          </a:xfrm>
        </p:grpSpPr>
        <p:sp>
          <p:nvSpPr>
            <p:cNvPr id="1154" name=""/>
            <p:cNvSpPr/>
            <p:nvPr/>
          </p:nvSpPr>
          <p:spPr>
            <a:xfrm>
              <a:off x="1050840" y="1674720"/>
              <a:ext cx="101448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44720" y="166860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1157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1158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7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79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1181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1184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135160" y="1733400"/>
            <a:ext cx="141480" cy="297000"/>
            <a:chOff x="2135160" y="1733400"/>
            <a:chExt cx="141480" cy="297000"/>
          </a:xfrm>
        </p:grpSpPr>
        <p:sp>
          <p:nvSpPr>
            <p:cNvPr id="1187" name=""/>
            <p:cNvSpPr/>
            <p:nvPr/>
          </p:nvSpPr>
          <p:spPr>
            <a:xfrm>
              <a:off x="2135160" y="1738440"/>
              <a:ext cx="14148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2926800" y="2943360"/>
            <a:ext cx="2249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563840" y="122868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403200" y="5275440"/>
            <a:ext cx="2224080" cy="833400"/>
            <a:chOff x="403200" y="5275440"/>
            <a:chExt cx="2224080" cy="833400"/>
          </a:xfrm>
        </p:grpSpPr>
        <p:sp>
          <p:nvSpPr>
            <p:cNvPr id="1192" name=""/>
            <p:cNvSpPr/>
            <p:nvPr/>
          </p:nvSpPr>
          <p:spPr>
            <a:xfrm>
              <a:off x="403200" y="5702400"/>
              <a:ext cx="21924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34" y="0"/>
                  </a:moveTo>
                  <a:lnTo>
                    <a:pt x="103" y="0"/>
                  </a:lnTo>
                  <a:lnTo>
                    <a:pt x="85" y="2"/>
                  </a:lnTo>
                  <a:lnTo>
                    <a:pt x="68" y="5"/>
                  </a:lnTo>
                  <a:lnTo>
                    <a:pt x="48" y="9"/>
                  </a:lnTo>
                  <a:lnTo>
                    <a:pt x="31" y="13"/>
                  </a:lnTo>
                  <a:lnTo>
                    <a:pt x="20" y="17"/>
                  </a:lnTo>
                  <a:lnTo>
                    <a:pt x="13" y="21"/>
                  </a:lnTo>
                  <a:lnTo>
                    <a:pt x="7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9" y="52"/>
                  </a:lnTo>
                  <a:lnTo>
                    <a:pt x="19" y="54"/>
                  </a:lnTo>
                  <a:lnTo>
                    <a:pt x="30" y="54"/>
                  </a:lnTo>
                  <a:lnTo>
                    <a:pt x="42" y="53"/>
                  </a:lnTo>
                  <a:lnTo>
                    <a:pt x="57" y="51"/>
                  </a:lnTo>
                  <a:lnTo>
                    <a:pt x="72" y="52"/>
                  </a:lnTo>
                  <a:lnTo>
                    <a:pt x="82" y="54"/>
                  </a:lnTo>
                  <a:lnTo>
                    <a:pt x="93" y="57"/>
                  </a:lnTo>
                  <a:lnTo>
                    <a:pt x="105" y="62"/>
                  </a:lnTo>
                  <a:lnTo>
                    <a:pt x="137" y="82"/>
                  </a:lnTo>
                  <a:lnTo>
                    <a:pt x="135" y="82"/>
                  </a:lnTo>
                  <a:lnTo>
                    <a:pt x="136" y="8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590400" y="5338800"/>
              <a:ext cx="1739880" cy="588960"/>
              <a:chOff x="590400" y="5338800"/>
              <a:chExt cx="1739880" cy="588960"/>
            </a:xfrm>
          </p:grpSpPr>
          <p:sp>
            <p:nvSpPr>
              <p:cNvPr id="1194" name=""/>
              <p:cNvSpPr/>
              <p:nvPr/>
            </p:nvSpPr>
            <p:spPr>
              <a:xfrm>
                <a:off x="601560" y="5640480"/>
                <a:ext cx="1728720" cy="287280"/>
              </a:xfrm>
              <a:custGeom>
                <a:avLst/>
                <a:gdLst/>
                <a:ahLst/>
                <a:rect l="l" t="t" r="r" b="b"/>
                <a:pathLst>
                  <a:path w="1089" h="181">
                    <a:moveTo>
                      <a:pt x="0" y="11"/>
                    </a:moveTo>
                    <a:lnTo>
                      <a:pt x="0" y="90"/>
                    </a:lnTo>
                    <a:lnTo>
                      <a:pt x="884" y="180"/>
                    </a:lnTo>
                    <a:lnTo>
                      <a:pt x="1088" y="70"/>
                    </a:lnTo>
                    <a:lnTo>
                      <a:pt x="1088" y="0"/>
                    </a:lnTo>
                    <a:lnTo>
                      <a:pt x="877" y="9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90400" y="5338800"/>
                <a:ext cx="1406520" cy="450720"/>
              </a:xfrm>
              <a:custGeom>
                <a:avLst/>
                <a:gdLst/>
                <a:ahLst/>
                <a:rect l="l" t="t" r="r" b="b"/>
                <a:pathLst>
                  <a:path w="886" h="284">
                    <a:moveTo>
                      <a:pt x="0" y="0"/>
                    </a:moveTo>
                    <a:lnTo>
                      <a:pt x="885" y="62"/>
                    </a:lnTo>
                    <a:lnTo>
                      <a:pt x="885" y="283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590400" y="5419800"/>
                <a:ext cx="1417680" cy="185760"/>
                <a:chOff x="590400" y="5419800"/>
                <a:chExt cx="1417680" cy="18576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90400" y="5419800"/>
                  <a:ext cx="1416240" cy="108000"/>
                </a:xfrm>
                <a:custGeom>
                  <a:avLst/>
                  <a:gdLst/>
                  <a:ahLst/>
                  <a:rect l="l" t="t" r="r" b="b"/>
                  <a:pathLst>
                    <a:path w="892" h="68">
                      <a:moveTo>
                        <a:pt x="0" y="0"/>
                      </a:moveTo>
                      <a:lnTo>
                        <a:pt x="891" y="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623960" y="5502240"/>
                  <a:ext cx="298440" cy="27000"/>
                </a:xfrm>
                <a:custGeom>
                  <a:avLst/>
                  <a:gdLst/>
                  <a:ahLst/>
                  <a:rect l="l" t="t" r="r" b="b"/>
                  <a:pathLst>
                    <a:path w="188" h="17">
                      <a:moveTo>
                        <a:pt x="0" y="0"/>
                      </a:moveTo>
                      <a:lnTo>
                        <a:pt x="187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276200" y="5477040"/>
                  <a:ext cx="300240" cy="25200"/>
                </a:xfrm>
                <a:custGeom>
                  <a:avLst/>
                  <a:gdLst/>
                  <a:ahLst/>
                  <a:rect l="l" t="t" r="r" b="b"/>
                  <a:pathLst>
                    <a:path w="189" h="16">
                      <a:moveTo>
                        <a:pt x="0" y="0"/>
                      </a:moveTo>
                      <a:lnTo>
                        <a:pt x="18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90400" y="5479920"/>
                  <a:ext cx="1417680" cy="125640"/>
                </a:xfrm>
                <a:custGeom>
                  <a:avLst/>
                  <a:gdLst/>
                  <a:ahLst/>
                  <a:rect l="l" t="t" r="r" b="b"/>
                  <a:pathLst>
                    <a:path w="893" h="79">
                      <a:moveTo>
                        <a:pt x="0" y="0"/>
                      </a:moveTo>
                      <a:lnTo>
                        <a:pt x="892" y="7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1" name=""/>
            <p:cNvSpPr/>
            <p:nvPr/>
          </p:nvSpPr>
          <p:spPr>
            <a:xfrm>
              <a:off x="590400" y="5275440"/>
              <a:ext cx="1744920" cy="153720"/>
            </a:xfrm>
            <a:custGeom>
              <a:avLst/>
              <a:gdLst/>
              <a:ahLst/>
              <a:rect l="l" t="t" r="r" b="b"/>
              <a:pathLst>
                <a:path w="1099" h="97">
                  <a:moveTo>
                    <a:pt x="0" y="37"/>
                  </a:moveTo>
                  <a:lnTo>
                    <a:pt x="887" y="96"/>
                  </a:lnTo>
                  <a:lnTo>
                    <a:pt x="1098" y="40"/>
                  </a:lnTo>
                  <a:lnTo>
                    <a:pt x="1023" y="32"/>
                  </a:lnTo>
                  <a:lnTo>
                    <a:pt x="338" y="0"/>
                  </a:lnTo>
                  <a:lnTo>
                    <a:pt x="0" y="37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2081160" y="5894280"/>
              <a:ext cx="546120" cy="214560"/>
              <a:chOff x="2081160" y="5894280"/>
              <a:chExt cx="546120" cy="214560"/>
            </a:xfrm>
          </p:grpSpPr>
          <p:sp>
            <p:nvSpPr>
              <p:cNvPr id="1203" name=""/>
              <p:cNvSpPr/>
              <p:nvPr/>
            </p:nvSpPr>
            <p:spPr>
              <a:xfrm>
                <a:off x="2081160" y="5894280"/>
                <a:ext cx="546120" cy="142920"/>
              </a:xfrm>
              <a:custGeom>
                <a:avLst/>
                <a:gdLst/>
                <a:ahLst/>
                <a:rect l="l" t="t" r="r" b="b"/>
                <a:pathLst>
                  <a:path w="344" h="90">
                    <a:moveTo>
                      <a:pt x="0" y="0"/>
                    </a:moveTo>
                    <a:lnTo>
                      <a:pt x="64" y="4"/>
                    </a:lnTo>
                    <a:lnTo>
                      <a:pt x="111" y="7"/>
                    </a:lnTo>
                    <a:lnTo>
                      <a:pt x="153" y="11"/>
                    </a:lnTo>
                    <a:lnTo>
                      <a:pt x="196" y="16"/>
                    </a:lnTo>
                    <a:lnTo>
                      <a:pt x="226" y="21"/>
                    </a:lnTo>
                    <a:lnTo>
                      <a:pt x="262" y="27"/>
                    </a:lnTo>
                    <a:lnTo>
                      <a:pt x="282" y="31"/>
                    </a:lnTo>
                    <a:lnTo>
                      <a:pt x="298" y="34"/>
                    </a:lnTo>
                    <a:lnTo>
                      <a:pt x="306" y="36"/>
                    </a:lnTo>
                    <a:lnTo>
                      <a:pt x="313" y="38"/>
                    </a:lnTo>
                    <a:lnTo>
                      <a:pt x="322" y="40"/>
                    </a:lnTo>
                    <a:lnTo>
                      <a:pt x="330" y="44"/>
                    </a:lnTo>
                    <a:lnTo>
                      <a:pt x="338" y="48"/>
                    </a:lnTo>
                    <a:lnTo>
                      <a:pt x="342" y="53"/>
                    </a:lnTo>
                    <a:lnTo>
                      <a:pt x="343" y="57"/>
                    </a:lnTo>
                    <a:lnTo>
                      <a:pt x="341" y="63"/>
                    </a:lnTo>
                    <a:lnTo>
                      <a:pt x="338" y="69"/>
                    </a:lnTo>
                    <a:lnTo>
                      <a:pt x="334" y="74"/>
                    </a:lnTo>
                    <a:lnTo>
                      <a:pt x="329" y="78"/>
                    </a:lnTo>
                    <a:lnTo>
                      <a:pt x="321" y="83"/>
                    </a:lnTo>
                    <a:lnTo>
                      <a:pt x="313" y="86"/>
                    </a:lnTo>
                    <a:lnTo>
                      <a:pt x="304" y="87"/>
                    </a:lnTo>
                    <a:lnTo>
                      <a:pt x="293" y="89"/>
                    </a:lnTo>
                    <a:lnTo>
                      <a:pt x="281" y="89"/>
                    </a:lnTo>
                    <a:lnTo>
                      <a:pt x="269" y="88"/>
                    </a:lnTo>
                    <a:lnTo>
                      <a:pt x="250" y="86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2108160" y="5972040"/>
                <a:ext cx="380880" cy="136800"/>
                <a:chOff x="2108160" y="5972040"/>
                <a:chExt cx="380880" cy="136800"/>
              </a:xfrm>
            </p:grpSpPr>
            <p:grpSp>
              <p:nvGrpSpPr>
                <p:cNvPr id="1205" name=""/>
                <p:cNvGrpSpPr/>
                <p:nvPr/>
              </p:nvGrpSpPr>
              <p:grpSpPr>
                <a:xfrm>
                  <a:off x="2109960" y="5972040"/>
                  <a:ext cx="372960" cy="136800"/>
                  <a:chOff x="2109960" y="5972040"/>
                  <a:chExt cx="372960" cy="13680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>
                    <a:off x="2109960" y="5972040"/>
                    <a:ext cx="226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3">
                        <a:moveTo>
                          <a:pt x="0" y="31"/>
                        </a:moveTo>
                        <a:lnTo>
                          <a:pt x="37" y="0"/>
                        </a:lnTo>
                        <a:lnTo>
                          <a:pt x="142" y="17"/>
                        </a:lnTo>
                        <a:lnTo>
                          <a:pt x="100" y="52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111400" y="6029280"/>
                    <a:ext cx="156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0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" y="28"/>
                        </a:lnTo>
                        <a:lnTo>
                          <a:pt x="98" y="49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279520" y="6004080"/>
                    <a:ext cx="2034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6">
                        <a:moveTo>
                          <a:pt x="0" y="35"/>
                        </a:moveTo>
                        <a:lnTo>
                          <a:pt x="40" y="0"/>
                        </a:lnTo>
                        <a:lnTo>
                          <a:pt x="127" y="10"/>
                        </a:lnTo>
                        <a:lnTo>
                          <a:pt x="127" y="37"/>
                        </a:lnTo>
                        <a:lnTo>
                          <a:pt x="0" y="65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171880" y="5972040"/>
                    <a:ext cx="311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3">
                        <a:moveTo>
                          <a:pt x="0" y="0"/>
                        </a:moveTo>
                        <a:lnTo>
                          <a:pt x="97" y="5"/>
                        </a:lnTo>
                        <a:lnTo>
                          <a:pt x="195" y="22"/>
                        </a:lnTo>
                        <a:lnTo>
                          <a:pt x="10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0" name=""/>
                <p:cNvGrpSpPr/>
                <p:nvPr/>
              </p:nvGrpSpPr>
              <p:grpSpPr>
                <a:xfrm>
                  <a:off x="2108160" y="6013440"/>
                  <a:ext cx="380880" cy="63360"/>
                  <a:chOff x="2108160" y="6013440"/>
                  <a:chExt cx="380880" cy="63360"/>
                </a:xfrm>
              </p:grpSpPr>
              <p:sp>
                <p:nvSpPr>
                  <p:cNvPr id="1211" name=""/>
                  <p:cNvSpPr/>
                  <p:nvPr/>
                </p:nvSpPr>
                <p:spPr>
                  <a:xfrm>
                    <a:off x="2108160" y="6037200"/>
                    <a:ext cx="169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">
                        <a:moveTo>
                          <a:pt x="0" y="0"/>
                        </a:moveTo>
                        <a:lnTo>
                          <a:pt x="106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278080" y="6013440"/>
                    <a:ext cx="71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0">
                        <a:moveTo>
                          <a:pt x="0" y="39"/>
                        </a:moveTo>
                        <a:lnTo>
                          <a:pt x="44" y="0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349360" y="6013440"/>
                    <a:ext cx="139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">
                        <a:moveTo>
                          <a:pt x="0" y="0"/>
                        </a:moveTo>
                        <a:lnTo>
                          <a:pt x="87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4" name=""/>
            <p:cNvSpPr/>
            <p:nvPr/>
          </p:nvSpPr>
          <p:spPr>
            <a:xfrm>
              <a:off x="2011320" y="5634000"/>
              <a:ext cx="317520" cy="295200"/>
            </a:xfrm>
            <a:custGeom>
              <a:avLst/>
              <a:gdLst/>
              <a:ahLst/>
              <a:rect l="l" t="t" r="r" b="b"/>
              <a:pathLst>
                <a:path w="200" h="186">
                  <a:moveTo>
                    <a:pt x="0" y="93"/>
                  </a:moveTo>
                  <a:lnTo>
                    <a:pt x="199" y="0"/>
                  </a:lnTo>
                  <a:lnTo>
                    <a:pt x="199" y="74"/>
                  </a:lnTo>
                  <a:lnTo>
                    <a:pt x="0" y="185"/>
                  </a:lnTo>
                  <a:lnTo>
                    <a:pt x="0" y="9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008080" y="5343480"/>
              <a:ext cx="328680" cy="444600"/>
            </a:xfrm>
            <a:custGeom>
              <a:avLst/>
              <a:gdLst/>
              <a:ahLst/>
              <a:rect l="l" t="t" r="r" b="b"/>
              <a:pathLst>
                <a:path w="207" h="280">
                  <a:moveTo>
                    <a:pt x="0" y="59"/>
                  </a:moveTo>
                  <a:lnTo>
                    <a:pt x="206" y="0"/>
                  </a:lnTo>
                  <a:lnTo>
                    <a:pt x="206" y="185"/>
                  </a:lnTo>
                  <a:lnTo>
                    <a:pt x="0" y="279"/>
                  </a:lnTo>
                  <a:lnTo>
                    <a:pt x="0" y="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9640" y="5699160"/>
              <a:ext cx="1552680" cy="306360"/>
            </a:xfrm>
            <a:custGeom>
              <a:avLst/>
              <a:gdLst/>
              <a:ahLst/>
              <a:rect l="l" t="t" r="r" b="b"/>
              <a:pathLst>
                <a:path w="978" h="193">
                  <a:moveTo>
                    <a:pt x="159" y="0"/>
                  </a:moveTo>
                  <a:lnTo>
                    <a:pt x="977" y="79"/>
                  </a:lnTo>
                  <a:lnTo>
                    <a:pt x="920" y="149"/>
                  </a:lnTo>
                  <a:lnTo>
                    <a:pt x="864" y="192"/>
                  </a:lnTo>
                  <a:lnTo>
                    <a:pt x="0" y="96"/>
                  </a:lnTo>
                  <a:lnTo>
                    <a:pt x="64" y="69"/>
                  </a:lnTo>
                  <a:lnTo>
                    <a:pt x="159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2004840" y="5370480"/>
              <a:ext cx="336600" cy="399960"/>
              <a:chOff x="2004840" y="5370480"/>
              <a:chExt cx="336600" cy="399960"/>
            </a:xfrm>
          </p:grpSpPr>
          <p:sp>
            <p:nvSpPr>
              <p:cNvPr id="1218" name=""/>
              <p:cNvSpPr/>
              <p:nvPr/>
            </p:nvSpPr>
            <p:spPr>
              <a:xfrm>
                <a:off x="2004840" y="5481720"/>
                <a:ext cx="336600" cy="123840"/>
              </a:xfrm>
              <a:custGeom>
                <a:avLst/>
                <a:gdLst/>
                <a:ahLst/>
                <a:rect l="l" t="t" r="r" b="b"/>
                <a:pathLst>
                  <a:path w="212" h="78">
                    <a:moveTo>
                      <a:pt x="0" y="77"/>
                    </a:moveTo>
                    <a:lnTo>
                      <a:pt x="211" y="0"/>
                    </a:lnTo>
                    <a:lnTo>
                      <a:pt x="0" y="77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063880" y="5516640"/>
                <a:ext cx="276120" cy="109440"/>
              </a:xfrm>
              <a:custGeom>
                <a:avLst/>
                <a:gdLst/>
                <a:ahLst/>
                <a:rect l="l" t="t" r="r" b="b"/>
                <a:pathLst>
                  <a:path w="174" h="69">
                    <a:moveTo>
                      <a:pt x="0" y="68"/>
                    </a:moveTo>
                    <a:lnTo>
                      <a:pt x="173" y="0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62080" y="5549760"/>
                <a:ext cx="277920" cy="115920"/>
              </a:xfrm>
              <a:custGeom>
                <a:avLst/>
                <a:gdLst/>
                <a:ahLst/>
                <a:rect l="l" t="t" r="r" b="b"/>
                <a:pathLst>
                  <a:path w="175" h="73">
                    <a:moveTo>
                      <a:pt x="0" y="72"/>
                    </a:moveTo>
                    <a:lnTo>
                      <a:pt x="174" y="0"/>
                    </a:lnTo>
                    <a:lnTo>
                      <a:pt x="0" y="7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3880" y="5581800"/>
                <a:ext cx="277560" cy="118800"/>
              </a:xfrm>
              <a:custGeom>
                <a:avLst/>
                <a:gdLst/>
                <a:ahLst/>
                <a:rect l="l" t="t" r="r" b="b"/>
                <a:pathLst>
                  <a:path w="175" h="75">
                    <a:moveTo>
                      <a:pt x="0" y="74"/>
                    </a:moveTo>
                    <a:lnTo>
                      <a:pt x="174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3880" y="561492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175" h="79">
                    <a:moveTo>
                      <a:pt x="0" y="78"/>
                    </a:moveTo>
                    <a:lnTo>
                      <a:pt x="174" y="0"/>
                    </a:lnTo>
                    <a:lnTo>
                      <a:pt x="0" y="78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080" y="5445000"/>
                <a:ext cx="279360" cy="98640"/>
              </a:xfrm>
              <a:custGeom>
                <a:avLst/>
                <a:gdLst/>
                <a:ahLst/>
                <a:rect l="l" t="t" r="r" b="b"/>
                <a:pathLst>
                  <a:path w="176" h="62">
                    <a:moveTo>
                      <a:pt x="0" y="61"/>
                    </a:moveTo>
                    <a:lnTo>
                      <a:pt x="175" y="0"/>
                    </a:lnTo>
                    <a:lnTo>
                      <a:pt x="0" y="61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3880" y="5410080"/>
                <a:ext cx="277560" cy="88920"/>
              </a:xfrm>
              <a:custGeom>
                <a:avLst/>
                <a:gdLst/>
                <a:ahLst/>
                <a:rect l="l" t="t" r="r" b="b"/>
                <a:pathLst>
                  <a:path w="175" h="56">
                    <a:moveTo>
                      <a:pt x="0" y="55"/>
                    </a:moveTo>
                    <a:lnTo>
                      <a:pt x="174" y="0"/>
                    </a:lnTo>
                    <a:lnTo>
                      <a:pt x="0" y="5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062080" y="5370480"/>
                <a:ext cx="277920" cy="84240"/>
              </a:xfrm>
              <a:custGeom>
                <a:avLst/>
                <a:gdLst/>
                <a:ahLst/>
                <a:rect l="l" t="t" r="r" b="b"/>
                <a:pathLst>
                  <a:path w="175" h="53">
                    <a:moveTo>
                      <a:pt x="0" y="52"/>
                    </a:moveTo>
                    <a:lnTo>
                      <a:pt x="174" y="0"/>
                    </a:lnTo>
                    <a:lnTo>
                      <a:pt x="0" y="52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062080" y="5424480"/>
                <a:ext cx="3240" cy="345960"/>
              </a:xfrm>
              <a:custGeom>
                <a:avLst/>
                <a:gdLst/>
                <a:ahLst/>
                <a:rect l="l" t="t" r="r" b="b"/>
                <a:pathLst>
                  <a:path w="2" h="218">
                    <a:moveTo>
                      <a:pt x="1" y="0"/>
                    </a:moveTo>
                    <a:lnTo>
                      <a:pt x="0" y="217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539640" y="5715000"/>
              <a:ext cx="1560600" cy="345960"/>
              <a:chOff x="539640" y="5715000"/>
              <a:chExt cx="1560600" cy="345960"/>
            </a:xfrm>
          </p:grpSpPr>
          <p:sp>
            <p:nvSpPr>
              <p:cNvPr id="1228" name=""/>
              <p:cNvSpPr/>
              <p:nvPr/>
            </p:nvSpPr>
            <p:spPr>
              <a:xfrm>
                <a:off x="1617840" y="5824440"/>
                <a:ext cx="365040" cy="1447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89" y="0"/>
                    </a:moveTo>
                    <a:lnTo>
                      <a:pt x="35" y="52"/>
                    </a:lnTo>
                    <a:lnTo>
                      <a:pt x="0" y="75"/>
                    </a:lnTo>
                    <a:lnTo>
                      <a:pt x="150" y="90"/>
                    </a:lnTo>
                    <a:lnTo>
                      <a:pt x="185" y="62"/>
                    </a:lnTo>
                    <a:lnTo>
                      <a:pt x="229" y="12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9" name=""/>
              <p:cNvGrpSpPr/>
              <p:nvPr/>
            </p:nvGrpSpPr>
            <p:grpSpPr>
              <a:xfrm>
                <a:off x="539640" y="5715000"/>
                <a:ext cx="1560600" cy="345960"/>
                <a:chOff x="539640" y="5715000"/>
                <a:chExt cx="1560600" cy="34596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539640" y="5857920"/>
                  <a:ext cx="1371600" cy="203040"/>
                </a:xfrm>
                <a:custGeom>
                  <a:avLst/>
                  <a:gdLst/>
                  <a:ahLst/>
                  <a:rect l="l" t="t" r="r" b="b"/>
                  <a:pathLst>
                    <a:path w="864" h="128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863" y="127"/>
                      </a:lnTo>
                      <a:lnTo>
                        <a:pt x="863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922400" y="5829480"/>
                  <a:ext cx="169920" cy="231480"/>
                </a:xfrm>
                <a:custGeom>
                  <a:avLst/>
                  <a:gdLst/>
                  <a:ahLst/>
                  <a:rect l="l" t="t" r="r" b="b"/>
                  <a:pathLst>
                    <a:path w="107" h="146">
                      <a:moveTo>
                        <a:pt x="0" y="112"/>
                      </a:moveTo>
                      <a:lnTo>
                        <a:pt x="0" y="145"/>
                      </a:lnTo>
                      <a:lnTo>
                        <a:pt x="46" y="112"/>
                      </a:lnTo>
                      <a:lnTo>
                        <a:pt x="65" y="92"/>
                      </a:lnTo>
                      <a:lnTo>
                        <a:pt x="106" y="41"/>
                      </a:lnTo>
                      <a:lnTo>
                        <a:pt x="106" y="0"/>
                      </a:lnTo>
                      <a:lnTo>
                        <a:pt x="53" y="69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39640" y="5872320"/>
                  <a:ext cx="1382760" cy="156960"/>
                </a:xfrm>
                <a:custGeom>
                  <a:avLst/>
                  <a:gdLst/>
                  <a:ahLst/>
                  <a:rect l="l" t="t" r="r" b="b"/>
                  <a:pathLst>
                    <a:path w="871" h="99">
                      <a:moveTo>
                        <a:pt x="0" y="0"/>
                      </a:moveTo>
                      <a:lnTo>
                        <a:pt x="870" y="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3" name=""/>
                <p:cNvGrpSpPr/>
                <p:nvPr/>
              </p:nvGrpSpPr>
              <p:grpSpPr>
                <a:xfrm>
                  <a:off x="630360" y="5715000"/>
                  <a:ext cx="1330200" cy="264960"/>
                  <a:chOff x="630360" y="5715000"/>
                  <a:chExt cx="1330200" cy="26496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630360" y="5729400"/>
                    <a:ext cx="10126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126">
                        <a:moveTo>
                          <a:pt x="110" y="0"/>
                        </a:moveTo>
                        <a:lnTo>
                          <a:pt x="35" y="55"/>
                        </a:lnTo>
                        <a:lnTo>
                          <a:pt x="0" y="71"/>
                        </a:lnTo>
                        <a:lnTo>
                          <a:pt x="540" y="125"/>
                        </a:lnTo>
                        <a:lnTo>
                          <a:pt x="579" y="101"/>
                        </a:lnTo>
                        <a:lnTo>
                          <a:pt x="637" y="50"/>
                        </a:lnTo>
                        <a:lnTo>
                          <a:pt x="11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649440" y="5715000"/>
                    <a:ext cx="1311120" cy="264960"/>
                    <a:chOff x="649440" y="5715000"/>
                    <a:chExt cx="1311120" cy="264960"/>
                  </a:xfrm>
                </p:grpSpPr>
                <p:grpSp>
                  <p:nvGrpSpPr>
                    <p:cNvPr id="1236" name=""/>
                    <p:cNvGrpSpPr/>
                    <p:nvPr/>
                  </p:nvGrpSpPr>
                  <p:grpSpPr>
                    <a:xfrm>
                      <a:off x="674640" y="5715000"/>
                      <a:ext cx="954000" cy="219240"/>
                      <a:chOff x="674640" y="5715000"/>
                      <a:chExt cx="954000" cy="219240"/>
                    </a:xfrm>
                  </p:grpSpPr>
                  <p:grpSp>
                    <p:nvGrpSpPr>
                      <p:cNvPr id="1237" name=""/>
                      <p:cNvGrpSpPr/>
                      <p:nvPr/>
                    </p:nvGrpSpPr>
                    <p:grpSpPr>
                      <a:xfrm>
                        <a:off x="674640" y="5715000"/>
                        <a:ext cx="200160" cy="146160"/>
                        <a:chOff x="674640" y="5715000"/>
                        <a:chExt cx="200160" cy="146160"/>
                      </a:xfrm>
                    </p:grpSpPr>
                    <p:sp>
                      <p:nvSpPr>
                        <p:cNvPr id="1238" name=""/>
                        <p:cNvSpPr/>
                        <p:nvPr/>
                      </p:nvSpPr>
                      <p:spPr>
                        <a:xfrm>
                          <a:off x="674640" y="582624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9" name=""/>
                        <p:cNvSpPr/>
                        <p:nvPr/>
                      </p:nvSpPr>
                      <p:spPr>
                        <a:xfrm>
                          <a:off x="738360" y="57150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40" name=""/>
                      <p:cNvGrpSpPr/>
                      <p:nvPr/>
                    </p:nvGrpSpPr>
                    <p:grpSpPr>
                      <a:xfrm>
                        <a:off x="752400" y="5722920"/>
                        <a:ext cx="200160" cy="146160"/>
                        <a:chOff x="752400" y="5722920"/>
                        <a:chExt cx="200160" cy="146160"/>
                      </a:xfrm>
                    </p:grpSpPr>
                    <p:sp>
                      <p:nvSpPr>
                        <p:cNvPr id="1241" name=""/>
                        <p:cNvSpPr/>
                        <p:nvPr/>
                      </p:nvSpPr>
                      <p:spPr>
                        <a:xfrm>
                          <a:off x="752400" y="583416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2" name=""/>
                        <p:cNvSpPr/>
                        <p:nvPr/>
                      </p:nvSpPr>
                      <p:spPr>
                        <a:xfrm>
                          <a:off x="816120" y="5722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43" name=""/>
                      <p:cNvGrpSpPr/>
                      <p:nvPr/>
                    </p:nvGrpSpPr>
                    <p:grpSpPr>
                      <a:xfrm>
                        <a:off x="831960" y="5727600"/>
                        <a:ext cx="201600" cy="146160"/>
                        <a:chOff x="831960" y="5727600"/>
                        <a:chExt cx="201600" cy="146160"/>
                      </a:xfrm>
                    </p:grpSpPr>
                    <p:sp>
                      <p:nvSpPr>
                        <p:cNvPr id="1244" name=""/>
                        <p:cNvSpPr/>
                        <p:nvPr/>
                      </p:nvSpPr>
                      <p:spPr>
                        <a:xfrm>
                          <a:off x="831960" y="58388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5" name=""/>
                        <p:cNvSpPr/>
                        <p:nvPr/>
                      </p:nvSpPr>
                      <p:spPr>
                        <a:xfrm>
                          <a:off x="896760" y="572760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46" name=""/>
                      <p:cNvGrpSpPr/>
                      <p:nvPr/>
                    </p:nvGrpSpPr>
                    <p:grpSpPr>
                      <a:xfrm>
                        <a:off x="905040" y="5738760"/>
                        <a:ext cx="201600" cy="146160"/>
                        <a:chOff x="905040" y="5738760"/>
                        <a:chExt cx="201600" cy="146160"/>
                      </a:xfrm>
                    </p:grpSpPr>
                    <p:sp>
                      <p:nvSpPr>
                        <p:cNvPr id="1247" name=""/>
                        <p:cNvSpPr/>
                        <p:nvPr/>
                      </p:nvSpPr>
                      <p:spPr>
                        <a:xfrm>
                          <a:off x="905040" y="585000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8" name=""/>
                        <p:cNvSpPr/>
                        <p:nvPr/>
                      </p:nvSpPr>
                      <p:spPr>
                        <a:xfrm>
                          <a:off x="969840" y="573876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49" name=""/>
                      <p:cNvGrpSpPr/>
                      <p:nvPr/>
                    </p:nvGrpSpPr>
                    <p:grpSpPr>
                      <a:xfrm>
                        <a:off x="985680" y="5743440"/>
                        <a:ext cx="200160" cy="146160"/>
                        <a:chOff x="985680" y="5743440"/>
                        <a:chExt cx="200160" cy="146160"/>
                      </a:xfrm>
                    </p:grpSpPr>
                    <p:sp>
                      <p:nvSpPr>
                        <p:cNvPr id="1250" name=""/>
                        <p:cNvSpPr/>
                        <p:nvPr/>
                      </p:nvSpPr>
                      <p:spPr>
                        <a:xfrm>
                          <a:off x="985680" y="585468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1" name=""/>
                        <p:cNvSpPr/>
                        <p:nvPr/>
                      </p:nvSpPr>
                      <p:spPr>
                        <a:xfrm>
                          <a:off x="1049400" y="574344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2" name=""/>
                      <p:cNvGrpSpPr/>
                      <p:nvPr/>
                    </p:nvGrpSpPr>
                    <p:grpSpPr>
                      <a:xfrm>
                        <a:off x="1060560" y="5748480"/>
                        <a:ext cx="201600" cy="147600"/>
                        <a:chOff x="1060560" y="5748480"/>
                        <a:chExt cx="201600" cy="147600"/>
                      </a:xfrm>
                    </p:grpSpPr>
                    <p:sp>
                      <p:nvSpPr>
                        <p:cNvPr id="1253" name=""/>
                        <p:cNvSpPr/>
                        <p:nvPr/>
                      </p:nvSpPr>
                      <p:spPr>
                        <a:xfrm>
                          <a:off x="1060560" y="5859360"/>
                          <a:ext cx="6660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3">
                              <a:moveTo>
                                <a:pt x="0" y="22"/>
                              </a:moveTo>
                              <a:lnTo>
                                <a:pt x="41" y="0"/>
                              </a:lnTo>
                              <a:lnTo>
                                <a:pt x="0" y="2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4" name=""/>
                        <p:cNvSpPr/>
                        <p:nvPr/>
                      </p:nvSpPr>
                      <p:spPr>
                        <a:xfrm>
                          <a:off x="1125360" y="5748480"/>
                          <a:ext cx="13680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5" name=""/>
                      <p:cNvGrpSpPr/>
                      <p:nvPr/>
                    </p:nvGrpSpPr>
                    <p:grpSpPr>
                      <a:xfrm>
                        <a:off x="1135080" y="5756400"/>
                        <a:ext cx="201600" cy="145800"/>
                        <a:chOff x="1135080" y="5756400"/>
                        <a:chExt cx="201600" cy="145800"/>
                      </a:xfrm>
                    </p:grpSpPr>
                    <p:sp>
                      <p:nvSpPr>
                        <p:cNvPr id="1256" name=""/>
                        <p:cNvSpPr/>
                        <p:nvPr/>
                      </p:nvSpPr>
                      <p:spPr>
                        <a:xfrm>
                          <a:off x="1135080" y="5867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7" name=""/>
                        <p:cNvSpPr/>
                        <p:nvPr/>
                      </p:nvSpPr>
                      <p:spPr>
                        <a:xfrm>
                          <a:off x="1200240" y="575640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58" name=""/>
                      <p:cNvGrpSpPr/>
                      <p:nvPr/>
                    </p:nvGrpSpPr>
                    <p:grpSpPr>
                      <a:xfrm>
                        <a:off x="1204920" y="5765760"/>
                        <a:ext cx="201600" cy="147600"/>
                        <a:chOff x="1204920" y="5765760"/>
                        <a:chExt cx="201600" cy="147600"/>
                      </a:xfrm>
                    </p:grpSpPr>
                    <p:sp>
                      <p:nvSpPr>
                        <p:cNvPr id="1259" name=""/>
                        <p:cNvSpPr/>
                        <p:nvPr/>
                      </p:nvSpPr>
                      <p:spPr>
                        <a:xfrm>
                          <a:off x="1204920" y="587844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0" name=""/>
                        <p:cNvSpPr/>
                        <p:nvPr/>
                      </p:nvSpPr>
                      <p:spPr>
                        <a:xfrm>
                          <a:off x="1270080" y="576576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1" name=""/>
                      <p:cNvGrpSpPr/>
                      <p:nvPr/>
                    </p:nvGrpSpPr>
                    <p:grpSpPr>
                      <a:xfrm>
                        <a:off x="1281240" y="5776920"/>
                        <a:ext cx="199800" cy="146160"/>
                        <a:chOff x="1281240" y="5776920"/>
                        <a:chExt cx="199800" cy="146160"/>
                      </a:xfrm>
                    </p:grpSpPr>
                    <p:sp>
                      <p:nvSpPr>
                        <p:cNvPr id="1262" name=""/>
                        <p:cNvSpPr/>
                        <p:nvPr/>
                      </p:nvSpPr>
                      <p:spPr>
                        <a:xfrm>
                          <a:off x="1281240" y="5888160"/>
                          <a:ext cx="648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3" name=""/>
                        <p:cNvSpPr/>
                        <p:nvPr/>
                      </p:nvSpPr>
                      <p:spPr>
                        <a:xfrm>
                          <a:off x="1344600" y="577692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4" name=""/>
                      <p:cNvGrpSpPr/>
                      <p:nvPr/>
                    </p:nvGrpSpPr>
                    <p:grpSpPr>
                      <a:xfrm>
                        <a:off x="1355760" y="5781600"/>
                        <a:ext cx="201600" cy="147600"/>
                        <a:chOff x="1355760" y="5781600"/>
                        <a:chExt cx="201600" cy="147600"/>
                      </a:xfrm>
                    </p:grpSpPr>
                    <p:sp>
                      <p:nvSpPr>
                        <p:cNvPr id="1265" name=""/>
                        <p:cNvSpPr/>
                        <p:nvPr/>
                      </p:nvSpPr>
                      <p:spPr>
                        <a:xfrm>
                          <a:off x="1355760" y="5894280"/>
                          <a:ext cx="6660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21"/>
                              </a:moveTo>
                              <a:lnTo>
                                <a:pt x="41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>
                          <a:off x="1420920" y="5781600"/>
                          <a:ext cx="1364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2">
                              <a:moveTo>
                                <a:pt x="0" y="71"/>
                              </a:moveTo>
                              <a:lnTo>
                                <a:pt x="85" y="0"/>
                              </a:lnTo>
                              <a:lnTo>
                                <a:pt x="0" y="7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7" name=""/>
                      <p:cNvGrpSpPr/>
                      <p:nvPr/>
                    </p:nvGrpSpPr>
                    <p:grpSpPr>
                      <a:xfrm>
                        <a:off x="1428840" y="5788080"/>
                        <a:ext cx="199800" cy="146160"/>
                        <a:chOff x="1428840" y="5788080"/>
                        <a:chExt cx="199800" cy="146160"/>
                      </a:xfrm>
                    </p:grpSpPr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1428840" y="5899320"/>
                          <a:ext cx="651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2">
                              <a:moveTo>
                                <a:pt x="0" y="21"/>
                              </a:moveTo>
                              <a:lnTo>
                                <a:pt x="4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1492200" y="5788080"/>
                          <a:ext cx="13644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1">
                              <a:moveTo>
                                <a:pt x="0" y="70"/>
                              </a:moveTo>
                              <a:lnTo>
                                <a:pt x="85" y="0"/>
                              </a:lnTo>
                              <a:lnTo>
                                <a:pt x="0" y="7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0" name=""/>
                    <p:cNvGrpSpPr/>
                    <p:nvPr/>
                  </p:nvGrpSpPr>
                  <p:grpSpPr>
                    <a:xfrm>
                      <a:off x="1662120" y="5810400"/>
                      <a:ext cx="289080" cy="169560"/>
                      <a:chOff x="1662120" y="5810400"/>
                      <a:chExt cx="289080" cy="169560"/>
                    </a:xfrm>
                  </p:grpSpPr>
                  <p:grpSp>
                    <p:nvGrpSpPr>
                      <p:cNvPr id="1271" name=""/>
                      <p:cNvGrpSpPr/>
                      <p:nvPr/>
                    </p:nvGrpSpPr>
                    <p:grpSpPr>
                      <a:xfrm>
                        <a:off x="1781280" y="5821200"/>
                        <a:ext cx="169920" cy="158760"/>
                        <a:chOff x="1781280" y="5821200"/>
                        <a:chExt cx="169920" cy="158760"/>
                      </a:xfrm>
                    </p:grpSpPr>
                    <p:sp>
                      <p:nvSpPr>
                        <p:cNvPr id="1272" name=""/>
                        <p:cNvSpPr/>
                        <p:nvPr/>
                      </p:nvSpPr>
                      <p:spPr>
                        <a:xfrm>
                          <a:off x="1781280" y="59371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3" name=""/>
                        <p:cNvSpPr/>
                        <p:nvPr/>
                      </p:nvSpPr>
                      <p:spPr>
                        <a:xfrm>
                          <a:off x="1838160" y="5821200"/>
                          <a:ext cx="113040" cy="11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4">
                              <a:moveTo>
                                <a:pt x="0" y="73"/>
                              </a:moveTo>
                              <a:lnTo>
                                <a:pt x="70" y="0"/>
                              </a:lnTo>
                              <a:lnTo>
                                <a:pt x="0" y="73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4" name=""/>
                      <p:cNvGrpSpPr/>
                      <p:nvPr/>
                    </p:nvGrpSpPr>
                    <p:grpSpPr>
                      <a:xfrm>
                        <a:off x="1720800" y="5813280"/>
                        <a:ext cx="173160" cy="162000"/>
                        <a:chOff x="1720800" y="5813280"/>
                        <a:chExt cx="173160" cy="162000"/>
                      </a:xfrm>
                    </p:grpSpPr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>
                          <a:off x="1720800" y="593244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>
                          <a:off x="1778040" y="5813280"/>
                          <a:ext cx="115920" cy="12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76">
                              <a:moveTo>
                                <a:pt x="0" y="75"/>
                              </a:moveTo>
                              <a:lnTo>
                                <a:pt x="72" y="0"/>
                              </a:lnTo>
                              <a:lnTo>
                                <a:pt x="0" y="7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7" name=""/>
                      <p:cNvGrpSpPr/>
                      <p:nvPr/>
                    </p:nvGrpSpPr>
                    <p:grpSpPr>
                      <a:xfrm>
                        <a:off x="1662120" y="5810400"/>
                        <a:ext cx="166680" cy="156960"/>
                        <a:chOff x="1662120" y="5810400"/>
                        <a:chExt cx="166680" cy="156960"/>
                      </a:xfrm>
                    </p:grpSpPr>
                    <p:sp>
                      <p:nvSpPr>
                        <p:cNvPr id="1278" name=""/>
                        <p:cNvSpPr/>
                        <p:nvPr/>
                      </p:nvSpPr>
                      <p:spPr>
                        <a:xfrm>
                          <a:off x="1662120" y="5924520"/>
                          <a:ext cx="586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7">
                              <a:moveTo>
                                <a:pt x="0" y="26"/>
                              </a:moveTo>
                              <a:lnTo>
                                <a:pt x="36" y="0"/>
                              </a:ln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>
                          <a:off x="1719360" y="5810400"/>
                          <a:ext cx="109440" cy="11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73">
                              <a:moveTo>
                                <a:pt x="0" y="72"/>
                              </a:moveTo>
                              <a:lnTo>
                                <a:pt x="68" y="0"/>
                              </a:lnTo>
                              <a:lnTo>
                                <a:pt x="0" y="72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dfdfd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80" name=""/>
                    <p:cNvSpPr/>
                    <p:nvPr/>
                  </p:nvSpPr>
                  <p:spPr>
                    <a:xfrm>
                      <a:off x="744480" y="5759280"/>
                      <a:ext cx="121608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74">
                          <a:moveTo>
                            <a:pt x="0" y="0"/>
                          </a:moveTo>
                          <a:lnTo>
                            <a:pt x="765" y="7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1" name=""/>
                    <p:cNvSpPr/>
                    <p:nvPr/>
                  </p:nvSpPr>
                  <p:spPr>
                    <a:xfrm>
                      <a:off x="700200" y="5789520"/>
                      <a:ext cx="123984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1" h="76">
                          <a:moveTo>
                            <a:pt x="0" y="0"/>
                          </a:moveTo>
                          <a:lnTo>
                            <a:pt x="780" y="7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649440" y="5818320"/>
                      <a:ext cx="125388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0" h="82">
                          <a:moveTo>
                            <a:pt x="0" y="0"/>
                          </a:moveTo>
                          <a:lnTo>
                            <a:pt x="789" y="8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dfd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1920960" y="5845320"/>
                  <a:ext cx="179280" cy="185760"/>
                  <a:chOff x="1920960" y="5845320"/>
                  <a:chExt cx="179280" cy="18576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1920960" y="5950080"/>
                    <a:ext cx="950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1">
                        <a:moveTo>
                          <a:pt x="0" y="50"/>
                        </a:moveTo>
                        <a:lnTo>
                          <a:pt x="59" y="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2014560" y="5845320"/>
                    <a:ext cx="856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0" y="66"/>
                        </a:moveTo>
                        <a:lnTo>
                          <a:pt x="53" y="0"/>
                        </a:lnTo>
                        <a:lnTo>
                          <a:pt x="0" y="6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f3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08:31:09Z</dcterms:created>
  <dc:creator>denis   Dupont</dc:creator>
  <dc:description/>
  <dc:language>en-US</dc:language>
  <cp:lastModifiedBy>Denis Dupont</cp:lastModifiedBy>
  <dcterms:modified xsi:type="dcterms:W3CDTF">2003-01-22T12:48:16Z</dcterms:modified>
  <cp:revision>10</cp:revision>
  <dc:subject/>
  <dc:title>PLAN</dc:title>
</cp:coreProperties>
</file>