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97920"/>
            <a:ext cx="914400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97920"/>
            <a:ext cx="914400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97920"/>
            <a:ext cx="914400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97920"/>
            <a:ext cx="914400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97920"/>
            <a:ext cx="914400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97920"/>
            <a:ext cx="914400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97920"/>
            <a:ext cx="914400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177840"/>
            <a:ext cx="9144000" cy="16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97920"/>
            <a:ext cx="914400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97920"/>
            <a:ext cx="914400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97920"/>
            <a:ext cx="914400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3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35040" y="1155600"/>
            <a:ext cx="8292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5560" y="533520"/>
            <a:ext cx="9118440" cy="0"/>
          </a:xfrm>
          <a:prstGeom prst="line">
            <a:avLst/>
          </a:prstGeom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3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Objectif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ndre à l ’aide d ’un exemple simple le déroulement des instructions au niveau microprogra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3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Le fonctionnement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114720" y="1092240"/>
            <a:ext cx="3822480" cy="3035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5122800" y="4611600"/>
            <a:ext cx="2104920" cy="480960"/>
            <a:chOff x="5122800" y="4611600"/>
            <a:chExt cx="2104920" cy="480960"/>
          </a:xfrm>
        </p:grpSpPr>
        <p:sp>
          <p:nvSpPr>
            <p:cNvPr id="314" name=""/>
            <p:cNvSpPr/>
            <p:nvPr/>
          </p:nvSpPr>
          <p:spPr>
            <a:xfrm>
              <a:off x="5146200" y="4635360"/>
              <a:ext cx="203184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122800" y="4611600"/>
              <a:ext cx="210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705640" y="412128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22800" y="413388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16640" y="414648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759720" y="4121280"/>
            <a:ext cx="0" cy="495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397400" y="413388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143240" y="412128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63880" y="412128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533760" y="412128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520" y="4800600"/>
            <a:ext cx="35226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=C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969240" y="367020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394400" y="3689280"/>
            <a:ext cx="0" cy="172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6765840" y="5410080"/>
            <a:ext cx="63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6772320" y="51116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969240" y="3340080"/>
            <a:ext cx="66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35960" y="3346560"/>
            <a:ext cx="0" cy="231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6384960" y="5664240"/>
            <a:ext cx="12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6391440" y="5111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69240" y="3048120"/>
            <a:ext cx="97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966080" y="3067200"/>
            <a:ext cx="0" cy="298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6003720" y="60580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022800" y="5098680"/>
            <a:ext cx="0" cy="965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56280" y="2743200"/>
            <a:ext cx="133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296200" y="2762280"/>
            <a:ext cx="0" cy="36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5571720" y="6464160"/>
            <a:ext cx="273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5578560" y="509904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956280" y="231156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43680" y="180324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943680" y="205740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956280" y="152388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651360" y="1486080"/>
            <a:ext cx="190800" cy="2438280"/>
            <a:chOff x="6651360" y="1486080"/>
            <a:chExt cx="190800" cy="2438280"/>
          </a:xfrm>
        </p:grpSpPr>
        <p:sp>
          <p:nvSpPr>
            <p:cNvPr id="346" name=""/>
            <p:cNvSpPr/>
            <p:nvPr/>
          </p:nvSpPr>
          <p:spPr>
            <a:xfrm flipH="1">
              <a:off x="6651360" y="2698920"/>
              <a:ext cx="8892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6664320" y="1486080"/>
              <a:ext cx="177840" cy="2438280"/>
              <a:chOff x="6664320" y="1486080"/>
              <a:chExt cx="177840" cy="2438280"/>
            </a:xfrm>
          </p:grpSpPr>
          <p:sp>
            <p:nvSpPr>
              <p:cNvPr id="348" name=""/>
              <p:cNvSpPr/>
              <p:nvPr/>
            </p:nvSpPr>
            <p:spPr>
              <a:xfrm flipH="1">
                <a:off x="6727680" y="148608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734160" y="1492200"/>
                <a:ext cx="0" cy="11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664320" y="2825640"/>
                <a:ext cx="63360" cy="6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746760" y="2914560"/>
                <a:ext cx="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753240" y="3924360"/>
                <a:ext cx="6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3" name=""/>
          <p:cNvGrpSpPr/>
          <p:nvPr/>
        </p:nvGrpSpPr>
        <p:grpSpPr>
          <a:xfrm>
            <a:off x="3483000" y="3943080"/>
            <a:ext cx="3314520" cy="152640"/>
            <a:chOff x="3483000" y="3943080"/>
            <a:chExt cx="3314520" cy="152640"/>
          </a:xfrm>
        </p:grpSpPr>
        <p:sp>
          <p:nvSpPr>
            <p:cNvPr id="354" name=""/>
            <p:cNvSpPr/>
            <p:nvPr/>
          </p:nvSpPr>
          <p:spPr>
            <a:xfrm flipV="1">
              <a:off x="5129280" y="3943080"/>
              <a:ext cx="14292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3483000" y="3956040"/>
              <a:ext cx="3314520" cy="139680"/>
              <a:chOff x="3483000" y="3956040"/>
              <a:chExt cx="3314520" cy="139680"/>
            </a:xfrm>
          </p:grpSpPr>
          <p:sp>
            <p:nvSpPr>
              <p:cNvPr id="356" name=""/>
              <p:cNvSpPr/>
              <p:nvPr/>
            </p:nvSpPr>
            <p:spPr>
              <a:xfrm flipV="1">
                <a:off x="3483000" y="4003560"/>
                <a:ext cx="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489480" y="4010040"/>
                <a:ext cx="160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302440" y="3956040"/>
                <a:ext cx="90360" cy="4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423040" y="4019400"/>
                <a:ext cx="135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97520" y="4025880"/>
                <a:ext cx="0" cy="4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1" name=""/>
          <p:cNvSpPr/>
          <p:nvPr/>
        </p:nvSpPr>
        <p:spPr>
          <a:xfrm>
            <a:off x="4660920" y="1638360"/>
            <a:ext cx="695160" cy="723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97800" y="1882800"/>
            <a:ext cx="291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395880" y="1838880"/>
            <a:ext cx="1250280" cy="12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10800000">
            <a:off x="4619880" y="2349360"/>
            <a:ext cx="102204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324240" y="1616040"/>
            <a:ext cx="693720" cy="725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524400" y="1627200"/>
            <a:ext cx="426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M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10800000">
            <a:off x="4303800" y="2305440"/>
            <a:ext cx="1002600" cy="100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824720" y="1779840"/>
            <a:ext cx="106596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675240" y="1598760"/>
            <a:ext cx="640080" cy="148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21120" y="1371600"/>
            <a:ext cx="1723320" cy="69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43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435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369240" y="1371600"/>
            <a:ext cx="2815200" cy="51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57760" y="3235320"/>
            <a:ext cx="2567880" cy="51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89480" y="870120"/>
            <a:ext cx="1507320" cy="288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03560" y="2820960"/>
            <a:ext cx="693720" cy="725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72280" y="2814480"/>
            <a:ext cx="693720" cy="725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73880" y="2825640"/>
            <a:ext cx="426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M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105600" y="1638360"/>
            <a:ext cx="426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M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907240" y="1627200"/>
            <a:ext cx="693720" cy="725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187880" y="2749680"/>
            <a:ext cx="426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C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M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429760" y="1066680"/>
            <a:ext cx="180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900760" y="461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353440" y="838080"/>
            <a:ext cx="638640" cy="22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228600" y="1965240"/>
            <a:ext cx="2743200" cy="17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3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Cycle de base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34280" y="5086440"/>
            <a:ext cx="2318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 on recomm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244680" y="1922400"/>
            <a:ext cx="3622680" cy="454680"/>
          </a:xfrm>
          <a:prstGeom prst="rect">
            <a:avLst/>
          </a:prstGeom>
          <a:solidFill>
            <a:srgbClr val="66d9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herche de l’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274920" y="3510000"/>
            <a:ext cx="355572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écution de l’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876760" y="2620800"/>
            <a:ext cx="478548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intage vers l’instruction suiv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546440" y="153036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543560" y="238140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543560" y="3105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43560" y="399420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2317680" y="4406760"/>
            <a:ext cx="224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2324160" y="15174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30280" y="1523880"/>
            <a:ext cx="2210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3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Le fonctionnement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076480" y="1092240"/>
            <a:ext cx="3822840" cy="3035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084560" y="4611600"/>
            <a:ext cx="2105280" cy="480960"/>
            <a:chOff x="4084560" y="4611600"/>
            <a:chExt cx="2105280" cy="480960"/>
          </a:xfrm>
        </p:grpSpPr>
        <p:sp>
          <p:nvSpPr>
            <p:cNvPr id="399" name=""/>
            <p:cNvSpPr/>
            <p:nvPr/>
          </p:nvSpPr>
          <p:spPr>
            <a:xfrm>
              <a:off x="4108320" y="4635360"/>
              <a:ext cx="203220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84560" y="4611600"/>
              <a:ext cx="2105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4667400" y="412128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984920" y="413388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78400" y="414648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721480" y="4121280"/>
            <a:ext cx="0" cy="495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359160" y="413388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05000" y="412128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25640" y="412128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495520" y="412128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3520" y="4800600"/>
            <a:ext cx="35226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931000" y="367020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56520" y="3689280"/>
            <a:ext cx="0" cy="172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5727600" y="5410080"/>
            <a:ext cx="63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5734080" y="51116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931000" y="3340080"/>
            <a:ext cx="66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597720" y="3346560"/>
            <a:ext cx="0" cy="231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5346720" y="5664240"/>
            <a:ext cx="12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5353200" y="5111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931000" y="3048120"/>
            <a:ext cx="97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927840" y="3067200"/>
            <a:ext cx="0" cy="298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4965480" y="60580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4984920" y="5098680"/>
            <a:ext cx="0" cy="965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918040" y="2743200"/>
            <a:ext cx="133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257960" y="2762280"/>
            <a:ext cx="0" cy="36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4533480" y="6464160"/>
            <a:ext cx="273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4540320" y="509904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918040" y="231156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905440" y="180324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905440" y="205740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918040" y="152388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5613120" y="1486080"/>
            <a:ext cx="190800" cy="2438280"/>
            <a:chOff x="5613120" y="1486080"/>
            <a:chExt cx="190800" cy="2438280"/>
          </a:xfrm>
        </p:grpSpPr>
        <p:sp>
          <p:nvSpPr>
            <p:cNvPr id="431" name=""/>
            <p:cNvSpPr/>
            <p:nvPr/>
          </p:nvSpPr>
          <p:spPr>
            <a:xfrm flipH="1">
              <a:off x="5613120" y="2698920"/>
              <a:ext cx="8892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5626080" y="1486080"/>
              <a:ext cx="177840" cy="2438280"/>
              <a:chOff x="5626080" y="1486080"/>
              <a:chExt cx="177840" cy="2438280"/>
            </a:xfrm>
          </p:grpSpPr>
          <p:sp>
            <p:nvSpPr>
              <p:cNvPr id="433" name=""/>
              <p:cNvSpPr/>
              <p:nvPr/>
            </p:nvSpPr>
            <p:spPr>
              <a:xfrm flipH="1">
                <a:off x="5689440" y="148608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695920" y="1492200"/>
                <a:ext cx="0" cy="11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626080" y="2825640"/>
                <a:ext cx="63360" cy="6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708520" y="2914560"/>
                <a:ext cx="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715000" y="3924360"/>
                <a:ext cx="6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8" name=""/>
          <p:cNvGrpSpPr/>
          <p:nvPr/>
        </p:nvGrpSpPr>
        <p:grpSpPr>
          <a:xfrm>
            <a:off x="2444760" y="3943080"/>
            <a:ext cx="3314520" cy="152640"/>
            <a:chOff x="2444760" y="3943080"/>
            <a:chExt cx="3314520" cy="152640"/>
          </a:xfrm>
        </p:grpSpPr>
        <p:sp>
          <p:nvSpPr>
            <p:cNvPr id="439" name=""/>
            <p:cNvSpPr/>
            <p:nvPr/>
          </p:nvSpPr>
          <p:spPr>
            <a:xfrm flipV="1">
              <a:off x="4091040" y="3943080"/>
              <a:ext cx="14292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2444760" y="3956040"/>
              <a:ext cx="3314520" cy="139680"/>
              <a:chOff x="2444760" y="3956040"/>
              <a:chExt cx="3314520" cy="139680"/>
            </a:xfrm>
          </p:grpSpPr>
          <p:sp>
            <p:nvSpPr>
              <p:cNvPr id="441" name=""/>
              <p:cNvSpPr/>
              <p:nvPr/>
            </p:nvSpPr>
            <p:spPr>
              <a:xfrm flipV="1">
                <a:off x="2444760" y="4003560"/>
                <a:ext cx="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451240" y="4010040"/>
                <a:ext cx="160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264200" y="3956040"/>
                <a:ext cx="90360" cy="4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384800" y="4019400"/>
                <a:ext cx="135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759280" y="4025880"/>
                <a:ext cx="0" cy="4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6" name=""/>
          <p:cNvSpPr/>
          <p:nvPr/>
        </p:nvSpPr>
        <p:spPr>
          <a:xfrm>
            <a:off x="3622680" y="1638360"/>
            <a:ext cx="695160" cy="723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59560" y="1882800"/>
            <a:ext cx="291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357640" y="1838880"/>
            <a:ext cx="1250280" cy="12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rot="10800000">
            <a:off x="3581640" y="2349360"/>
            <a:ext cx="102204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286000" y="1616040"/>
            <a:ext cx="693720" cy="7254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1627200"/>
            <a:ext cx="426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M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0800000">
            <a:off x="3265560" y="2305440"/>
            <a:ext cx="1002600" cy="100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786120" y="1779840"/>
            <a:ext cx="106668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637000" y="1598760"/>
            <a:ext cx="640080" cy="148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882880" y="1371600"/>
            <a:ext cx="1724040" cy="69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43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435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331000" y="1371600"/>
            <a:ext cx="2815200" cy="51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919520" y="3235320"/>
            <a:ext cx="2567880" cy="51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451240" y="870120"/>
            <a:ext cx="1507320" cy="288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965320" y="2820960"/>
            <a:ext cx="693720" cy="725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334040" y="2814480"/>
            <a:ext cx="693720" cy="725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535640" y="2825640"/>
            <a:ext cx="426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M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067360" y="1638360"/>
            <a:ext cx="426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M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869000" y="1627200"/>
            <a:ext cx="693720" cy="725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149640" y="2749680"/>
            <a:ext cx="426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C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M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90800" y="1066680"/>
            <a:ext cx="73008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62520" y="461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3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Un exemple complet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-3537000" y="1496880"/>
            <a:ext cx="11823480" cy="438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9751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97510"/>
              </a:path>
            </a:pathLst>
          </a:custGeom>
          <a:noFill/>
          <a:ln cap="rnd" w="25560">
            <a:solidFill>
              <a:srgbClr val="f6bf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98600" y="2478240"/>
            <a:ext cx="3245040" cy="2030400"/>
          </a:xfrm>
          <a:prstGeom prst="ellipse">
            <a:avLst/>
          </a:prstGeom>
          <a:solidFill>
            <a:srgbClr val="f6b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-2775240" y="1919880"/>
            <a:ext cx="11061720" cy="3571200"/>
            <a:chOff x="-2775240" y="1919880"/>
            <a:chExt cx="11061720" cy="3571200"/>
          </a:xfrm>
        </p:grpSpPr>
        <p:sp>
          <p:nvSpPr>
            <p:cNvPr id="471" name=""/>
            <p:cNvSpPr/>
            <p:nvPr/>
          </p:nvSpPr>
          <p:spPr>
            <a:xfrm>
              <a:off x="-2775240" y="1919880"/>
              <a:ext cx="11061720" cy="350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28054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280547"/>
                </a:path>
              </a:pathLst>
            </a:custGeom>
            <a:noFill/>
            <a:ln cap="rnd" w="2556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762280" y="5376960"/>
              <a:ext cx="228600" cy="114120"/>
            </a:xfrm>
            <a:custGeom>
              <a:avLst/>
              <a:gdLst/>
              <a:ahLst/>
              <a:rect l="l" t="t" r="r" b="b"/>
              <a:pathLst>
                <a:path w="144" h="72">
                  <a:moveTo>
                    <a:pt x="0" y="36"/>
                  </a:moveTo>
                  <a:lnTo>
                    <a:pt x="143" y="71"/>
                  </a:lnTo>
                  <a:lnTo>
                    <a:pt x="143" y="0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762280" y="5376960"/>
              <a:ext cx="217440" cy="102960"/>
            </a:xfrm>
            <a:custGeom>
              <a:avLst/>
              <a:gdLst/>
              <a:ahLst/>
              <a:rect l="l" t="t" r="r" b="b"/>
              <a:pathLst>
                <a:path w="137" h="65">
                  <a:moveTo>
                    <a:pt x="0" y="33"/>
                  </a:moveTo>
                  <a:lnTo>
                    <a:pt x="136" y="64"/>
                  </a:lnTo>
                  <a:lnTo>
                    <a:pt x="136" y="0"/>
                  </a:lnTo>
                  <a:lnTo>
                    <a:pt x="0" y="33"/>
                  </a:lnTo>
                </a:path>
              </a:pathLst>
            </a:cu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5324400" y="1827360"/>
            <a:ext cx="1592280" cy="555480"/>
            <a:chOff x="5324400" y="1827360"/>
            <a:chExt cx="1592280" cy="555480"/>
          </a:xfrm>
        </p:grpSpPr>
        <p:sp>
          <p:nvSpPr>
            <p:cNvPr id="475" name=""/>
            <p:cNvSpPr/>
            <p:nvPr/>
          </p:nvSpPr>
          <p:spPr>
            <a:xfrm>
              <a:off x="5813280" y="1827360"/>
              <a:ext cx="777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324400" y="2062080"/>
              <a:ext cx="15922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7023240" y="3467160"/>
            <a:ext cx="1911240" cy="1292040"/>
          </a:xfrm>
          <a:prstGeom prst="ellipse">
            <a:avLst/>
          </a:prstGeom>
          <a:solidFill>
            <a:srgbClr val="66d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7314840" y="3882960"/>
            <a:ext cx="1385280" cy="588960"/>
            <a:chOff x="7314840" y="3882960"/>
            <a:chExt cx="1385280" cy="588960"/>
          </a:xfrm>
        </p:grpSpPr>
        <p:sp>
          <p:nvSpPr>
            <p:cNvPr id="479" name=""/>
            <p:cNvSpPr/>
            <p:nvPr/>
          </p:nvSpPr>
          <p:spPr>
            <a:xfrm>
              <a:off x="7314840" y="3882960"/>
              <a:ext cx="1385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ssembl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451640" y="4151160"/>
              <a:ext cx="5446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3790800" y="4800600"/>
            <a:ext cx="1397160" cy="1096920"/>
          </a:xfrm>
          <a:prstGeom prst="ellipse">
            <a:avLst/>
          </a:prstGeom>
          <a:solidFill>
            <a:srgbClr val="66d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844440" y="5046840"/>
            <a:ext cx="1385280" cy="637560"/>
            <a:chOff x="3844440" y="5046840"/>
            <a:chExt cx="1385280" cy="637560"/>
          </a:xfrm>
        </p:grpSpPr>
        <p:sp>
          <p:nvSpPr>
            <p:cNvPr id="483" name=""/>
            <p:cNvSpPr/>
            <p:nvPr/>
          </p:nvSpPr>
          <p:spPr>
            <a:xfrm>
              <a:off x="3844440" y="5046840"/>
              <a:ext cx="13852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harg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en Mémoi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933720" y="5315040"/>
              <a:ext cx="968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 rot="240000">
            <a:off x="5090760" y="1349280"/>
            <a:ext cx="1803240" cy="1252800"/>
          </a:xfrm>
          <a:prstGeom prst="ellipse">
            <a:avLst/>
          </a:prstGeom>
          <a:solidFill>
            <a:srgbClr val="66d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5229360" y="1774800"/>
            <a:ext cx="1501560" cy="590400"/>
            <a:chOff x="5229360" y="1774800"/>
            <a:chExt cx="1501560" cy="590400"/>
          </a:xfrm>
        </p:grpSpPr>
        <p:sp>
          <p:nvSpPr>
            <p:cNvPr id="487" name=""/>
            <p:cNvSpPr/>
            <p:nvPr/>
          </p:nvSpPr>
          <p:spPr>
            <a:xfrm>
              <a:off x="5321160" y="1774800"/>
              <a:ext cx="1409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ompilat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229360" y="2044800"/>
              <a:ext cx="925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0" y="4830840"/>
            <a:ext cx="2249640" cy="888840"/>
            <a:chOff x="0" y="4830840"/>
            <a:chExt cx="2249640" cy="888840"/>
          </a:xfrm>
        </p:grpSpPr>
        <p:grpSp>
          <p:nvGrpSpPr>
            <p:cNvPr id="490" name=""/>
            <p:cNvGrpSpPr/>
            <p:nvPr/>
          </p:nvGrpSpPr>
          <p:grpSpPr>
            <a:xfrm>
              <a:off x="57240" y="5138640"/>
              <a:ext cx="2192400" cy="581040"/>
              <a:chOff x="57240" y="5138640"/>
              <a:chExt cx="2192400" cy="581040"/>
            </a:xfrm>
          </p:grpSpPr>
          <p:grpSp>
            <p:nvGrpSpPr>
              <p:cNvPr id="491" name=""/>
              <p:cNvGrpSpPr/>
              <p:nvPr/>
            </p:nvGrpSpPr>
            <p:grpSpPr>
              <a:xfrm>
                <a:off x="57240" y="5138640"/>
                <a:ext cx="2192400" cy="581040"/>
                <a:chOff x="57240" y="5138640"/>
                <a:chExt cx="2192400" cy="581040"/>
              </a:xfrm>
            </p:grpSpPr>
            <p:grpSp>
              <p:nvGrpSpPr>
                <p:cNvPr id="492" name=""/>
                <p:cNvGrpSpPr/>
                <p:nvPr/>
              </p:nvGrpSpPr>
              <p:grpSpPr>
                <a:xfrm>
                  <a:off x="57240" y="5138640"/>
                  <a:ext cx="2192400" cy="581040"/>
                  <a:chOff x="57240" y="5138640"/>
                  <a:chExt cx="2192400" cy="581040"/>
                </a:xfrm>
              </p:grpSpPr>
              <p:sp>
                <p:nvSpPr>
                  <p:cNvPr id="493" name=""/>
                  <p:cNvSpPr/>
                  <p:nvPr/>
                </p:nvSpPr>
                <p:spPr>
                  <a:xfrm>
                    <a:off x="57240" y="5472000"/>
                    <a:ext cx="95256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156">
                        <a:moveTo>
                          <a:pt x="0" y="0"/>
                        </a:moveTo>
                        <a:lnTo>
                          <a:pt x="599" y="103"/>
                        </a:lnTo>
                        <a:lnTo>
                          <a:pt x="599" y="15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1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1008000" y="5254560"/>
                    <a:ext cx="1241640" cy="46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82" h="293">
                        <a:moveTo>
                          <a:pt x="0" y="240"/>
                        </a:moveTo>
                        <a:lnTo>
                          <a:pt x="781" y="0"/>
                        </a:lnTo>
                        <a:lnTo>
                          <a:pt x="781" y="51"/>
                        </a:lnTo>
                        <a:lnTo>
                          <a:pt x="0" y="292"/>
                        </a:lnTo>
                        <a:lnTo>
                          <a:pt x="0" y="240"/>
                        </a:lnTo>
                      </a:path>
                    </a:pathLst>
                  </a:custGeom>
                  <a:solidFill>
                    <a:srgbClr val="000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57240" y="5138640"/>
                    <a:ext cx="2192400" cy="49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1" h="314">
                        <a:moveTo>
                          <a:pt x="0" y="210"/>
                        </a:moveTo>
                        <a:lnTo>
                          <a:pt x="599" y="313"/>
                        </a:lnTo>
                        <a:lnTo>
                          <a:pt x="1380" y="73"/>
                        </a:lnTo>
                        <a:lnTo>
                          <a:pt x="817" y="0"/>
                        </a:lnTo>
                        <a:lnTo>
                          <a:pt x="0" y="210"/>
                        </a:lnTo>
                      </a:path>
                    </a:pathLst>
                  </a:custGeom>
                  <a:solidFill>
                    <a:srgbClr val="000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289080" y="5168880"/>
                  <a:ext cx="1760400" cy="480960"/>
                  <a:chOff x="289080" y="5168880"/>
                  <a:chExt cx="1760400" cy="48096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>
                    <a:off x="289080" y="5168880"/>
                    <a:ext cx="1760400" cy="441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9" h="278">
                        <a:moveTo>
                          <a:pt x="0" y="217"/>
                        </a:moveTo>
                        <a:lnTo>
                          <a:pt x="344" y="277"/>
                        </a:lnTo>
                        <a:lnTo>
                          <a:pt x="1108" y="37"/>
                        </a:lnTo>
                        <a:lnTo>
                          <a:pt x="823" y="0"/>
                        </a:lnTo>
                        <a:lnTo>
                          <a:pt x="0" y="217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289080" y="5513400"/>
                    <a:ext cx="54756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86">
                        <a:moveTo>
                          <a:pt x="0" y="0"/>
                        </a:moveTo>
                        <a:lnTo>
                          <a:pt x="344" y="60"/>
                        </a:lnTo>
                        <a:lnTo>
                          <a:pt x="344" y="85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9" name=""/>
              <p:cNvGrpSpPr/>
              <p:nvPr/>
            </p:nvGrpSpPr>
            <p:grpSpPr>
              <a:xfrm>
                <a:off x="204840" y="5172120"/>
                <a:ext cx="1177920" cy="287280"/>
                <a:chOff x="204840" y="5172120"/>
                <a:chExt cx="1177920" cy="28728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204840" y="5452920"/>
                  <a:ext cx="79200" cy="6480"/>
                </a:xfrm>
                <a:custGeom>
                  <a:avLst/>
                  <a:gdLst/>
                  <a:ahLst/>
                  <a:rect l="l" t="t" r="r" b="b"/>
                  <a:pathLst>
                    <a:path w="50" h="4">
                      <a:moveTo>
                        <a:pt x="0" y="2"/>
                      </a:moveTo>
                      <a:lnTo>
                        <a:pt x="21" y="3"/>
                      </a:lnTo>
                      <a:lnTo>
                        <a:pt x="49" y="1"/>
                      </a:lnTo>
                      <a:lnTo>
                        <a:pt x="2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434880" y="5394240"/>
                  <a:ext cx="79560" cy="6480"/>
                </a:xfrm>
                <a:custGeom>
                  <a:avLst/>
                  <a:gdLst/>
                  <a:ahLst/>
                  <a:rect l="l" t="t" r="r" b="b"/>
                  <a:pathLst>
                    <a:path w="50" h="4">
                      <a:moveTo>
                        <a:pt x="0" y="2"/>
                      </a:moveTo>
                      <a:lnTo>
                        <a:pt x="21" y="3"/>
                      </a:lnTo>
                      <a:lnTo>
                        <a:pt x="49" y="1"/>
                      </a:lnTo>
                      <a:lnTo>
                        <a:pt x="28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58800" y="5335560"/>
                  <a:ext cx="81000" cy="6480"/>
                </a:xfrm>
                <a:custGeom>
                  <a:avLst/>
                  <a:gdLst/>
                  <a:ahLst/>
                  <a:rect l="l" t="t" r="r" b="b"/>
                  <a:pathLst>
                    <a:path w="51" h="4">
                      <a:moveTo>
                        <a:pt x="0" y="2"/>
                      </a:moveTo>
                      <a:lnTo>
                        <a:pt x="22" y="3"/>
                      </a:lnTo>
                      <a:lnTo>
                        <a:pt x="50" y="1"/>
                      </a:lnTo>
                      <a:lnTo>
                        <a:pt x="2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873000" y="5283360"/>
                  <a:ext cx="81000" cy="6120"/>
                </a:xfrm>
                <a:custGeom>
                  <a:avLst/>
                  <a:gdLst/>
                  <a:ahLst/>
                  <a:rect l="l" t="t" r="r" b="b"/>
                  <a:pathLst>
                    <a:path w="51" h="4">
                      <a:moveTo>
                        <a:pt x="0" y="2"/>
                      </a:moveTo>
                      <a:lnTo>
                        <a:pt x="22" y="3"/>
                      </a:lnTo>
                      <a:lnTo>
                        <a:pt x="50" y="1"/>
                      </a:lnTo>
                      <a:lnTo>
                        <a:pt x="2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1093680" y="5222880"/>
                  <a:ext cx="79560" cy="6480"/>
                </a:xfrm>
                <a:custGeom>
                  <a:avLst/>
                  <a:gdLst/>
                  <a:ahLst/>
                  <a:rect l="l" t="t" r="r" b="b"/>
                  <a:pathLst>
                    <a:path w="50" h="4">
                      <a:moveTo>
                        <a:pt x="0" y="2"/>
                      </a:moveTo>
                      <a:lnTo>
                        <a:pt x="21" y="3"/>
                      </a:lnTo>
                      <a:lnTo>
                        <a:pt x="49" y="1"/>
                      </a:lnTo>
                      <a:lnTo>
                        <a:pt x="2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1303200" y="5172120"/>
                  <a:ext cx="79560" cy="6480"/>
                </a:xfrm>
                <a:custGeom>
                  <a:avLst/>
                  <a:gdLst/>
                  <a:ahLst/>
                  <a:rect l="l" t="t" r="r" b="b"/>
                  <a:pathLst>
                    <a:path w="50" h="4">
                      <a:moveTo>
                        <a:pt x="0" y="2"/>
                      </a:moveTo>
                      <a:lnTo>
                        <a:pt x="21" y="3"/>
                      </a:lnTo>
                      <a:lnTo>
                        <a:pt x="49" y="1"/>
                      </a:lnTo>
                      <a:lnTo>
                        <a:pt x="2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1047600" y="5268960"/>
                <a:ext cx="1087560" cy="314280"/>
                <a:chOff x="1047600" y="5268960"/>
                <a:chExt cx="1087560" cy="3142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1047600" y="5575320"/>
                  <a:ext cx="73080" cy="7920"/>
                </a:xfrm>
                <a:custGeom>
                  <a:avLst/>
                  <a:gdLst/>
                  <a:ahLst/>
                  <a:rect l="l" t="t" r="r" b="b"/>
                  <a:pathLst>
                    <a:path w="46" h="5">
                      <a:moveTo>
                        <a:pt x="0" y="3"/>
                      </a:moveTo>
                      <a:lnTo>
                        <a:pt x="20" y="4"/>
                      </a:lnTo>
                      <a:lnTo>
                        <a:pt x="45" y="1"/>
                      </a:lnTo>
                      <a:lnTo>
                        <a:pt x="27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1281240" y="5504040"/>
                  <a:ext cx="74520" cy="7920"/>
                </a:xfrm>
                <a:custGeom>
                  <a:avLst/>
                  <a:gdLst/>
                  <a:ahLst/>
                  <a:rect l="l" t="t" r="r" b="b"/>
                  <a:pathLst>
                    <a:path w="47" h="5">
                      <a:moveTo>
                        <a:pt x="0" y="3"/>
                      </a:moveTo>
                      <a:lnTo>
                        <a:pt x="20" y="4"/>
                      </a:lnTo>
                      <a:lnTo>
                        <a:pt x="46" y="1"/>
                      </a:lnTo>
                      <a:lnTo>
                        <a:pt x="27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1492200" y="5437080"/>
                  <a:ext cx="74520" cy="9720"/>
                </a:xfrm>
                <a:custGeom>
                  <a:avLst/>
                  <a:gdLst/>
                  <a:ahLst/>
                  <a:rect l="l" t="t" r="r" b="b"/>
                  <a:pathLst>
                    <a:path w="47" h="6">
                      <a:moveTo>
                        <a:pt x="0" y="3"/>
                      </a:moveTo>
                      <a:lnTo>
                        <a:pt x="20" y="5"/>
                      </a:lnTo>
                      <a:lnTo>
                        <a:pt x="46" y="2"/>
                      </a:lnTo>
                      <a:lnTo>
                        <a:pt x="28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1684440" y="5380200"/>
                  <a:ext cx="73080" cy="7920"/>
                </a:xfrm>
                <a:custGeom>
                  <a:avLst/>
                  <a:gdLst/>
                  <a:ahLst/>
                  <a:rect l="l" t="t" r="r" b="b"/>
                  <a:pathLst>
                    <a:path w="46" h="5">
                      <a:moveTo>
                        <a:pt x="0" y="3"/>
                      </a:moveTo>
                      <a:lnTo>
                        <a:pt x="20" y="4"/>
                      </a:lnTo>
                      <a:lnTo>
                        <a:pt x="45" y="1"/>
                      </a:lnTo>
                      <a:lnTo>
                        <a:pt x="26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1876320" y="5322960"/>
                  <a:ext cx="73080" cy="7920"/>
                </a:xfrm>
                <a:custGeom>
                  <a:avLst/>
                  <a:gdLst/>
                  <a:ahLst/>
                  <a:rect l="l" t="t" r="r" b="b"/>
                  <a:pathLst>
                    <a:path w="46" h="5">
                      <a:moveTo>
                        <a:pt x="0" y="3"/>
                      </a:moveTo>
                      <a:lnTo>
                        <a:pt x="20" y="4"/>
                      </a:lnTo>
                      <a:lnTo>
                        <a:pt x="45" y="1"/>
                      </a:lnTo>
                      <a:lnTo>
                        <a:pt x="26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062080" y="5268960"/>
                  <a:ext cx="73080" cy="9360"/>
                </a:xfrm>
                <a:custGeom>
                  <a:avLst/>
                  <a:gdLst/>
                  <a:ahLst/>
                  <a:rect l="l" t="t" r="r" b="b"/>
                  <a:pathLst>
                    <a:path w="46" h="6">
                      <a:moveTo>
                        <a:pt x="0" y="3"/>
                      </a:moveTo>
                      <a:lnTo>
                        <a:pt x="20" y="5"/>
                      </a:lnTo>
                      <a:lnTo>
                        <a:pt x="45" y="1"/>
                      </a:lnTo>
                      <a:lnTo>
                        <a:pt x="27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13" name=""/>
            <p:cNvGrpSpPr/>
            <p:nvPr/>
          </p:nvGrpSpPr>
          <p:grpSpPr>
            <a:xfrm>
              <a:off x="130320" y="4892760"/>
              <a:ext cx="1170000" cy="541080"/>
              <a:chOff x="130320" y="4892760"/>
              <a:chExt cx="1170000" cy="541080"/>
            </a:xfrm>
          </p:grpSpPr>
          <p:grpSp>
            <p:nvGrpSpPr>
              <p:cNvPr id="514" name=""/>
              <p:cNvGrpSpPr/>
              <p:nvPr/>
            </p:nvGrpSpPr>
            <p:grpSpPr>
              <a:xfrm>
                <a:off x="130320" y="4900680"/>
                <a:ext cx="1155600" cy="533160"/>
                <a:chOff x="130320" y="4900680"/>
                <a:chExt cx="1155600" cy="53316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561960" y="5040360"/>
                  <a:ext cx="133200" cy="282600"/>
                </a:xfrm>
                <a:custGeom>
                  <a:avLst/>
                  <a:gdLst/>
                  <a:ahLst/>
                  <a:rect l="l" t="t" r="r" b="b"/>
                  <a:pathLst>
                    <a:path w="84" h="178">
                      <a:moveTo>
                        <a:pt x="0" y="12"/>
                      </a:moveTo>
                      <a:lnTo>
                        <a:pt x="40" y="1"/>
                      </a:lnTo>
                      <a:lnTo>
                        <a:pt x="54" y="0"/>
                      </a:lnTo>
                      <a:lnTo>
                        <a:pt x="64" y="3"/>
                      </a:lnTo>
                      <a:lnTo>
                        <a:pt x="71" y="4"/>
                      </a:lnTo>
                      <a:lnTo>
                        <a:pt x="77" y="8"/>
                      </a:lnTo>
                      <a:lnTo>
                        <a:pt x="80" y="11"/>
                      </a:lnTo>
                      <a:lnTo>
                        <a:pt x="81" y="14"/>
                      </a:lnTo>
                      <a:lnTo>
                        <a:pt x="83" y="20"/>
                      </a:lnTo>
                      <a:lnTo>
                        <a:pt x="83" y="83"/>
                      </a:lnTo>
                      <a:lnTo>
                        <a:pt x="80" y="87"/>
                      </a:lnTo>
                      <a:lnTo>
                        <a:pt x="74" y="89"/>
                      </a:lnTo>
                      <a:lnTo>
                        <a:pt x="70" y="92"/>
                      </a:lnTo>
                      <a:lnTo>
                        <a:pt x="70" y="173"/>
                      </a:lnTo>
                      <a:lnTo>
                        <a:pt x="61" y="177"/>
                      </a:lnTo>
                      <a:lnTo>
                        <a:pt x="53" y="174"/>
                      </a:lnTo>
                      <a:lnTo>
                        <a:pt x="53" y="91"/>
                      </a:lnTo>
                      <a:lnTo>
                        <a:pt x="45" y="89"/>
                      </a:lnTo>
                      <a:lnTo>
                        <a:pt x="38" y="87"/>
                      </a:lnTo>
                      <a:lnTo>
                        <a:pt x="37" y="86"/>
                      </a:lnTo>
                      <a:lnTo>
                        <a:pt x="37" y="83"/>
                      </a:lnTo>
                      <a:lnTo>
                        <a:pt x="37" y="30"/>
                      </a:lnTo>
                      <a:lnTo>
                        <a:pt x="37" y="25"/>
                      </a:lnTo>
                      <a:lnTo>
                        <a:pt x="34" y="20"/>
                      </a:lnTo>
                      <a:lnTo>
                        <a:pt x="30" y="16"/>
                      </a:lnTo>
                      <a:lnTo>
                        <a:pt x="24" y="14"/>
                      </a:lnTo>
                      <a:lnTo>
                        <a:pt x="16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351000" y="5086440"/>
                  <a:ext cx="141120" cy="290520"/>
                </a:xfrm>
                <a:custGeom>
                  <a:avLst/>
                  <a:gdLst/>
                  <a:ahLst/>
                  <a:rect l="l" t="t" r="r" b="b"/>
                  <a:pathLst>
                    <a:path w="89" h="183">
                      <a:moveTo>
                        <a:pt x="0" y="12"/>
                      </a:moveTo>
                      <a:lnTo>
                        <a:pt x="43" y="0"/>
                      </a:lnTo>
                      <a:lnTo>
                        <a:pt x="58" y="0"/>
                      </a:lnTo>
                      <a:lnTo>
                        <a:pt x="69" y="2"/>
                      </a:lnTo>
                      <a:lnTo>
                        <a:pt x="76" y="4"/>
                      </a:lnTo>
                      <a:lnTo>
                        <a:pt x="82" y="7"/>
                      </a:lnTo>
                      <a:lnTo>
                        <a:pt x="86" y="11"/>
                      </a:lnTo>
                      <a:lnTo>
                        <a:pt x="87" y="14"/>
                      </a:lnTo>
                      <a:lnTo>
                        <a:pt x="88" y="20"/>
                      </a:lnTo>
                      <a:lnTo>
                        <a:pt x="88" y="85"/>
                      </a:lnTo>
                      <a:lnTo>
                        <a:pt x="86" y="90"/>
                      </a:lnTo>
                      <a:lnTo>
                        <a:pt x="80" y="92"/>
                      </a:lnTo>
                      <a:lnTo>
                        <a:pt x="75" y="94"/>
                      </a:lnTo>
                      <a:lnTo>
                        <a:pt x="75" y="178"/>
                      </a:lnTo>
                      <a:lnTo>
                        <a:pt x="65" y="182"/>
                      </a:lnTo>
                      <a:lnTo>
                        <a:pt x="57" y="178"/>
                      </a:lnTo>
                      <a:lnTo>
                        <a:pt x="57" y="93"/>
                      </a:lnTo>
                      <a:lnTo>
                        <a:pt x="48" y="91"/>
                      </a:lnTo>
                      <a:lnTo>
                        <a:pt x="41" y="90"/>
                      </a:lnTo>
                      <a:lnTo>
                        <a:pt x="40" y="88"/>
                      </a:lnTo>
                      <a:lnTo>
                        <a:pt x="40" y="84"/>
                      </a:lnTo>
                      <a:lnTo>
                        <a:pt x="40" y="30"/>
                      </a:lnTo>
                      <a:lnTo>
                        <a:pt x="40" y="25"/>
                      </a:lnTo>
                      <a:lnTo>
                        <a:pt x="37" y="20"/>
                      </a:lnTo>
                      <a:lnTo>
                        <a:pt x="32" y="16"/>
                      </a:lnTo>
                      <a:lnTo>
                        <a:pt x="25" y="14"/>
                      </a:lnTo>
                      <a:lnTo>
                        <a:pt x="17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130320" y="5138640"/>
                  <a:ext cx="160200" cy="295200"/>
                </a:xfrm>
                <a:custGeom>
                  <a:avLst/>
                  <a:gdLst/>
                  <a:ahLst/>
                  <a:rect l="l" t="t" r="r" b="b"/>
                  <a:pathLst>
                    <a:path w="101" h="186">
                      <a:moveTo>
                        <a:pt x="0" y="12"/>
                      </a:moveTo>
                      <a:lnTo>
                        <a:pt x="49" y="1"/>
                      </a:lnTo>
                      <a:lnTo>
                        <a:pt x="65" y="0"/>
                      </a:lnTo>
                      <a:lnTo>
                        <a:pt x="78" y="2"/>
                      </a:lnTo>
                      <a:lnTo>
                        <a:pt x="86" y="5"/>
                      </a:lnTo>
                      <a:lnTo>
                        <a:pt x="93" y="7"/>
                      </a:lnTo>
                      <a:lnTo>
                        <a:pt x="98" y="11"/>
                      </a:lnTo>
                      <a:lnTo>
                        <a:pt x="99" y="14"/>
                      </a:lnTo>
                      <a:lnTo>
                        <a:pt x="100" y="20"/>
                      </a:lnTo>
                      <a:lnTo>
                        <a:pt x="100" y="87"/>
                      </a:lnTo>
                      <a:lnTo>
                        <a:pt x="98" y="91"/>
                      </a:lnTo>
                      <a:lnTo>
                        <a:pt x="91" y="93"/>
                      </a:lnTo>
                      <a:lnTo>
                        <a:pt x="85" y="95"/>
                      </a:lnTo>
                      <a:lnTo>
                        <a:pt x="85" y="180"/>
                      </a:lnTo>
                      <a:lnTo>
                        <a:pt x="74" y="185"/>
                      </a:lnTo>
                      <a:lnTo>
                        <a:pt x="64" y="181"/>
                      </a:lnTo>
                      <a:lnTo>
                        <a:pt x="64" y="95"/>
                      </a:lnTo>
                      <a:lnTo>
                        <a:pt x="54" y="93"/>
                      </a:lnTo>
                      <a:lnTo>
                        <a:pt x="46" y="91"/>
                      </a:lnTo>
                      <a:lnTo>
                        <a:pt x="45" y="89"/>
                      </a:lnTo>
                      <a:lnTo>
                        <a:pt x="45" y="86"/>
                      </a:lnTo>
                      <a:lnTo>
                        <a:pt x="45" y="30"/>
                      </a:lnTo>
                      <a:lnTo>
                        <a:pt x="45" y="25"/>
                      </a:lnTo>
                      <a:lnTo>
                        <a:pt x="42" y="20"/>
                      </a:lnTo>
                      <a:lnTo>
                        <a:pt x="36" y="16"/>
                      </a:lnTo>
                      <a:lnTo>
                        <a:pt x="28" y="13"/>
                      </a:lnTo>
                      <a:lnTo>
                        <a:pt x="19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770040" y="4995720"/>
                  <a:ext cx="131760" cy="276480"/>
                </a:xfrm>
                <a:custGeom>
                  <a:avLst/>
                  <a:gdLst/>
                  <a:ahLst/>
                  <a:rect l="l" t="t" r="r" b="b"/>
                  <a:pathLst>
                    <a:path w="83" h="174">
                      <a:moveTo>
                        <a:pt x="0" y="11"/>
                      </a:moveTo>
                      <a:lnTo>
                        <a:pt x="39" y="0"/>
                      </a:lnTo>
                      <a:lnTo>
                        <a:pt x="53" y="0"/>
                      </a:lnTo>
                      <a:lnTo>
                        <a:pt x="64" y="1"/>
                      </a:lnTo>
                      <a:lnTo>
                        <a:pt x="70" y="4"/>
                      </a:lnTo>
                      <a:lnTo>
                        <a:pt x="76" y="7"/>
                      </a:lnTo>
                      <a:lnTo>
                        <a:pt x="79" y="10"/>
                      </a:lnTo>
                      <a:lnTo>
                        <a:pt x="80" y="13"/>
                      </a:lnTo>
                      <a:lnTo>
                        <a:pt x="82" y="19"/>
                      </a:lnTo>
                      <a:lnTo>
                        <a:pt x="82" y="81"/>
                      </a:lnTo>
                      <a:lnTo>
                        <a:pt x="79" y="85"/>
                      </a:lnTo>
                      <a:lnTo>
                        <a:pt x="74" y="87"/>
                      </a:lnTo>
                      <a:lnTo>
                        <a:pt x="69" y="89"/>
                      </a:lnTo>
                      <a:lnTo>
                        <a:pt x="69" y="169"/>
                      </a:lnTo>
                      <a:lnTo>
                        <a:pt x="60" y="173"/>
                      </a:lnTo>
                      <a:lnTo>
                        <a:pt x="52" y="170"/>
                      </a:lnTo>
                      <a:lnTo>
                        <a:pt x="52" y="89"/>
                      </a:lnTo>
                      <a:lnTo>
                        <a:pt x="44" y="87"/>
                      </a:lnTo>
                      <a:lnTo>
                        <a:pt x="37" y="85"/>
                      </a:lnTo>
                      <a:lnTo>
                        <a:pt x="36" y="83"/>
                      </a:lnTo>
                      <a:lnTo>
                        <a:pt x="36" y="81"/>
                      </a:lnTo>
                      <a:lnTo>
                        <a:pt x="36" y="28"/>
                      </a:lnTo>
                      <a:lnTo>
                        <a:pt x="36" y="24"/>
                      </a:lnTo>
                      <a:lnTo>
                        <a:pt x="33" y="19"/>
                      </a:lnTo>
                      <a:lnTo>
                        <a:pt x="29" y="15"/>
                      </a:lnTo>
                      <a:lnTo>
                        <a:pt x="22" y="12"/>
                      </a:lnTo>
                      <a:lnTo>
                        <a:pt x="15" y="12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981000" y="4943520"/>
                  <a:ext cx="122400" cy="268200"/>
                </a:xfrm>
                <a:custGeom>
                  <a:avLst/>
                  <a:gdLst/>
                  <a:ahLst/>
                  <a:rect l="l" t="t" r="r" b="b"/>
                  <a:pathLst>
                    <a:path w="77" h="169">
                      <a:moveTo>
                        <a:pt x="0" y="11"/>
                      </a:moveTo>
                      <a:lnTo>
                        <a:pt x="37" y="0"/>
                      </a:lnTo>
                      <a:lnTo>
                        <a:pt x="49" y="0"/>
                      </a:lnTo>
                      <a:lnTo>
                        <a:pt x="59" y="2"/>
                      </a:lnTo>
                      <a:lnTo>
                        <a:pt x="65" y="4"/>
                      </a:lnTo>
                      <a:lnTo>
                        <a:pt x="71" y="6"/>
                      </a:lnTo>
                      <a:lnTo>
                        <a:pt x="74" y="10"/>
                      </a:lnTo>
                      <a:lnTo>
                        <a:pt x="75" y="12"/>
                      </a:lnTo>
                      <a:lnTo>
                        <a:pt x="76" y="18"/>
                      </a:lnTo>
                      <a:lnTo>
                        <a:pt x="76" y="78"/>
                      </a:lnTo>
                      <a:lnTo>
                        <a:pt x="74" y="82"/>
                      </a:lnTo>
                      <a:lnTo>
                        <a:pt x="68" y="84"/>
                      </a:lnTo>
                      <a:lnTo>
                        <a:pt x="64" y="86"/>
                      </a:lnTo>
                      <a:lnTo>
                        <a:pt x="64" y="164"/>
                      </a:lnTo>
                      <a:lnTo>
                        <a:pt x="56" y="168"/>
                      </a:lnTo>
                      <a:lnTo>
                        <a:pt x="48" y="164"/>
                      </a:lnTo>
                      <a:lnTo>
                        <a:pt x="48" y="86"/>
                      </a:lnTo>
                      <a:lnTo>
                        <a:pt x="40" y="84"/>
                      </a:lnTo>
                      <a:lnTo>
                        <a:pt x="34" y="82"/>
                      </a:lnTo>
                      <a:lnTo>
                        <a:pt x="33" y="80"/>
                      </a:lnTo>
                      <a:lnTo>
                        <a:pt x="33" y="78"/>
                      </a:lnTo>
                      <a:lnTo>
                        <a:pt x="33" y="27"/>
                      </a:lnTo>
                      <a:lnTo>
                        <a:pt x="33" y="22"/>
                      </a:lnTo>
                      <a:lnTo>
                        <a:pt x="31" y="18"/>
                      </a:lnTo>
                      <a:lnTo>
                        <a:pt x="27" y="15"/>
                      </a:lnTo>
                      <a:lnTo>
                        <a:pt x="21" y="12"/>
                      </a:lnTo>
                      <a:lnTo>
                        <a:pt x="14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163520" y="4900680"/>
                  <a:ext cx="122400" cy="257040"/>
                </a:xfrm>
                <a:custGeom>
                  <a:avLst/>
                  <a:gdLst/>
                  <a:ahLst/>
                  <a:rect l="l" t="t" r="r" b="b"/>
                  <a:pathLst>
                    <a:path w="77" h="162">
                      <a:moveTo>
                        <a:pt x="0" y="10"/>
                      </a:moveTo>
                      <a:lnTo>
                        <a:pt x="37" y="0"/>
                      </a:lnTo>
                      <a:lnTo>
                        <a:pt x="49" y="0"/>
                      </a:lnTo>
                      <a:lnTo>
                        <a:pt x="58" y="1"/>
                      </a:lnTo>
                      <a:lnTo>
                        <a:pt x="65" y="3"/>
                      </a:lnTo>
                      <a:lnTo>
                        <a:pt x="70" y="6"/>
                      </a:lnTo>
                      <a:lnTo>
                        <a:pt x="73" y="9"/>
                      </a:lnTo>
                      <a:lnTo>
                        <a:pt x="75" y="12"/>
                      </a:lnTo>
                      <a:lnTo>
                        <a:pt x="76" y="18"/>
                      </a:lnTo>
                      <a:lnTo>
                        <a:pt x="76" y="75"/>
                      </a:lnTo>
                      <a:lnTo>
                        <a:pt x="73" y="79"/>
                      </a:lnTo>
                      <a:lnTo>
                        <a:pt x="68" y="81"/>
                      </a:lnTo>
                      <a:lnTo>
                        <a:pt x="64" y="83"/>
                      </a:lnTo>
                      <a:lnTo>
                        <a:pt x="64" y="158"/>
                      </a:lnTo>
                      <a:lnTo>
                        <a:pt x="56" y="161"/>
                      </a:lnTo>
                      <a:lnTo>
                        <a:pt x="48" y="158"/>
                      </a:lnTo>
                      <a:lnTo>
                        <a:pt x="48" y="82"/>
                      </a:lnTo>
                      <a:lnTo>
                        <a:pt x="41" y="81"/>
                      </a:lnTo>
                      <a:lnTo>
                        <a:pt x="34" y="79"/>
                      </a:lnTo>
                      <a:lnTo>
                        <a:pt x="33" y="78"/>
                      </a:lnTo>
                      <a:lnTo>
                        <a:pt x="33" y="75"/>
                      </a:lnTo>
                      <a:lnTo>
                        <a:pt x="33" y="26"/>
                      </a:lnTo>
                      <a:lnTo>
                        <a:pt x="33" y="22"/>
                      </a:lnTo>
                      <a:lnTo>
                        <a:pt x="31" y="18"/>
                      </a:lnTo>
                      <a:lnTo>
                        <a:pt x="27" y="14"/>
                      </a:lnTo>
                      <a:lnTo>
                        <a:pt x="21" y="12"/>
                      </a:lnTo>
                      <a:lnTo>
                        <a:pt x="14" y="1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144360" y="4892760"/>
                <a:ext cx="1155960" cy="533160"/>
                <a:chOff x="144360" y="4892760"/>
                <a:chExt cx="1155960" cy="533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576360" y="5035680"/>
                  <a:ext cx="133200" cy="280800"/>
                </a:xfrm>
                <a:custGeom>
                  <a:avLst/>
                  <a:gdLst/>
                  <a:ahLst/>
                  <a:rect l="l" t="t" r="r" b="b"/>
                  <a:pathLst>
                    <a:path w="84" h="177">
                      <a:moveTo>
                        <a:pt x="0" y="11"/>
                      </a:moveTo>
                      <a:lnTo>
                        <a:pt x="41" y="0"/>
                      </a:lnTo>
                      <a:lnTo>
                        <a:pt x="54" y="0"/>
                      </a:lnTo>
                      <a:lnTo>
                        <a:pt x="64" y="1"/>
                      </a:lnTo>
                      <a:lnTo>
                        <a:pt x="71" y="3"/>
                      </a:lnTo>
                      <a:lnTo>
                        <a:pt x="77" y="6"/>
                      </a:lnTo>
                      <a:lnTo>
                        <a:pt x="81" y="10"/>
                      </a:lnTo>
                      <a:lnTo>
                        <a:pt x="82" y="13"/>
                      </a:lnTo>
                      <a:lnTo>
                        <a:pt x="83" y="19"/>
                      </a:lnTo>
                      <a:lnTo>
                        <a:pt x="83" y="82"/>
                      </a:lnTo>
                      <a:lnTo>
                        <a:pt x="81" y="86"/>
                      </a:lnTo>
                      <a:lnTo>
                        <a:pt x="75" y="89"/>
                      </a:lnTo>
                      <a:lnTo>
                        <a:pt x="70" y="91"/>
                      </a:lnTo>
                      <a:lnTo>
                        <a:pt x="70" y="172"/>
                      </a:lnTo>
                      <a:lnTo>
                        <a:pt x="61" y="176"/>
                      </a:lnTo>
                      <a:lnTo>
                        <a:pt x="53" y="172"/>
                      </a:lnTo>
                      <a:lnTo>
                        <a:pt x="53" y="90"/>
                      </a:lnTo>
                      <a:lnTo>
                        <a:pt x="45" y="88"/>
                      </a:lnTo>
                      <a:lnTo>
                        <a:pt x="38" y="86"/>
                      </a:lnTo>
                      <a:lnTo>
                        <a:pt x="37" y="85"/>
                      </a:lnTo>
                      <a:lnTo>
                        <a:pt x="37" y="81"/>
                      </a:lnTo>
                      <a:lnTo>
                        <a:pt x="37" y="29"/>
                      </a:lnTo>
                      <a:lnTo>
                        <a:pt x="37" y="23"/>
                      </a:lnTo>
                      <a:lnTo>
                        <a:pt x="35" y="19"/>
                      </a:lnTo>
                      <a:lnTo>
                        <a:pt x="30" y="15"/>
                      </a:lnTo>
                      <a:lnTo>
                        <a:pt x="24" y="12"/>
                      </a:lnTo>
                      <a:lnTo>
                        <a:pt x="16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65040" y="5079960"/>
                  <a:ext cx="142920" cy="290520"/>
                </a:xfrm>
                <a:custGeom>
                  <a:avLst/>
                  <a:gdLst/>
                  <a:ahLst/>
                  <a:rect l="l" t="t" r="r" b="b"/>
                  <a:pathLst>
                    <a:path w="90" h="183">
                      <a:moveTo>
                        <a:pt x="0" y="12"/>
                      </a:moveTo>
                      <a:lnTo>
                        <a:pt x="43" y="1"/>
                      </a:lnTo>
                      <a:lnTo>
                        <a:pt x="58" y="0"/>
                      </a:lnTo>
                      <a:lnTo>
                        <a:pt x="69" y="2"/>
                      </a:lnTo>
                      <a:lnTo>
                        <a:pt x="76" y="4"/>
                      </a:lnTo>
                      <a:lnTo>
                        <a:pt x="82" y="7"/>
                      </a:lnTo>
                      <a:lnTo>
                        <a:pt x="86" y="11"/>
                      </a:lnTo>
                      <a:lnTo>
                        <a:pt x="87" y="14"/>
                      </a:lnTo>
                      <a:lnTo>
                        <a:pt x="89" y="20"/>
                      </a:lnTo>
                      <a:lnTo>
                        <a:pt x="89" y="86"/>
                      </a:lnTo>
                      <a:lnTo>
                        <a:pt x="86" y="89"/>
                      </a:lnTo>
                      <a:lnTo>
                        <a:pt x="80" y="92"/>
                      </a:lnTo>
                      <a:lnTo>
                        <a:pt x="75" y="94"/>
                      </a:lnTo>
                      <a:lnTo>
                        <a:pt x="75" y="178"/>
                      </a:lnTo>
                      <a:lnTo>
                        <a:pt x="65" y="182"/>
                      </a:lnTo>
                      <a:lnTo>
                        <a:pt x="57" y="179"/>
                      </a:lnTo>
                      <a:lnTo>
                        <a:pt x="57" y="94"/>
                      </a:lnTo>
                      <a:lnTo>
                        <a:pt x="48" y="92"/>
                      </a:lnTo>
                      <a:lnTo>
                        <a:pt x="41" y="89"/>
                      </a:lnTo>
                      <a:lnTo>
                        <a:pt x="40" y="88"/>
                      </a:lnTo>
                      <a:lnTo>
                        <a:pt x="40" y="84"/>
                      </a:lnTo>
                      <a:lnTo>
                        <a:pt x="40" y="30"/>
                      </a:lnTo>
                      <a:lnTo>
                        <a:pt x="40" y="25"/>
                      </a:lnTo>
                      <a:lnTo>
                        <a:pt x="37" y="20"/>
                      </a:lnTo>
                      <a:lnTo>
                        <a:pt x="32" y="16"/>
                      </a:lnTo>
                      <a:lnTo>
                        <a:pt x="25" y="13"/>
                      </a:lnTo>
                      <a:lnTo>
                        <a:pt x="17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144360" y="5130720"/>
                  <a:ext cx="162000" cy="295200"/>
                </a:xfrm>
                <a:custGeom>
                  <a:avLst/>
                  <a:gdLst/>
                  <a:ahLst/>
                  <a:rect l="l" t="t" r="r" b="b"/>
                  <a:pathLst>
                    <a:path w="102" h="186">
                      <a:moveTo>
                        <a:pt x="0" y="13"/>
                      </a:moveTo>
                      <a:lnTo>
                        <a:pt x="48" y="1"/>
                      </a:lnTo>
                      <a:lnTo>
                        <a:pt x="65" y="0"/>
                      </a:lnTo>
                      <a:lnTo>
                        <a:pt x="78" y="3"/>
                      </a:lnTo>
                      <a:lnTo>
                        <a:pt x="87" y="6"/>
                      </a:lnTo>
                      <a:lnTo>
                        <a:pt x="94" y="8"/>
                      </a:lnTo>
                      <a:lnTo>
                        <a:pt x="98" y="12"/>
                      </a:lnTo>
                      <a:lnTo>
                        <a:pt x="100" y="15"/>
                      </a:lnTo>
                      <a:lnTo>
                        <a:pt x="101" y="21"/>
                      </a:lnTo>
                      <a:lnTo>
                        <a:pt x="101" y="87"/>
                      </a:lnTo>
                      <a:lnTo>
                        <a:pt x="98" y="92"/>
                      </a:lnTo>
                      <a:lnTo>
                        <a:pt x="91" y="94"/>
                      </a:lnTo>
                      <a:lnTo>
                        <a:pt x="85" y="96"/>
                      </a:lnTo>
                      <a:lnTo>
                        <a:pt x="85" y="182"/>
                      </a:lnTo>
                      <a:lnTo>
                        <a:pt x="74" y="185"/>
                      </a:lnTo>
                      <a:lnTo>
                        <a:pt x="64" y="182"/>
                      </a:lnTo>
                      <a:lnTo>
                        <a:pt x="64" y="96"/>
                      </a:lnTo>
                      <a:lnTo>
                        <a:pt x="54" y="94"/>
                      </a:lnTo>
                      <a:lnTo>
                        <a:pt x="46" y="92"/>
                      </a:lnTo>
                      <a:lnTo>
                        <a:pt x="45" y="90"/>
                      </a:lnTo>
                      <a:lnTo>
                        <a:pt x="45" y="86"/>
                      </a:lnTo>
                      <a:lnTo>
                        <a:pt x="45" y="31"/>
                      </a:lnTo>
                      <a:lnTo>
                        <a:pt x="45" y="26"/>
                      </a:lnTo>
                      <a:lnTo>
                        <a:pt x="42" y="21"/>
                      </a:lnTo>
                      <a:lnTo>
                        <a:pt x="36" y="17"/>
                      </a:lnTo>
                      <a:lnTo>
                        <a:pt x="28" y="15"/>
                      </a:lnTo>
                      <a:lnTo>
                        <a:pt x="19" y="13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784080" y="4987800"/>
                  <a:ext cx="131760" cy="277920"/>
                </a:xfrm>
                <a:custGeom>
                  <a:avLst/>
                  <a:gdLst/>
                  <a:ahLst/>
                  <a:rect l="l" t="t" r="r" b="b"/>
                  <a:pathLst>
                    <a:path w="83" h="175">
                      <a:moveTo>
                        <a:pt x="0" y="11"/>
                      </a:moveTo>
                      <a:lnTo>
                        <a:pt x="39" y="1"/>
                      </a:lnTo>
                      <a:lnTo>
                        <a:pt x="53" y="0"/>
                      </a:lnTo>
                      <a:lnTo>
                        <a:pt x="64" y="2"/>
                      </a:lnTo>
                      <a:lnTo>
                        <a:pt x="70" y="5"/>
                      </a:lnTo>
                      <a:lnTo>
                        <a:pt x="76" y="7"/>
                      </a:lnTo>
                      <a:lnTo>
                        <a:pt x="79" y="11"/>
                      </a:lnTo>
                      <a:lnTo>
                        <a:pt x="80" y="14"/>
                      </a:lnTo>
                      <a:lnTo>
                        <a:pt x="82" y="20"/>
                      </a:lnTo>
                      <a:lnTo>
                        <a:pt x="82" y="82"/>
                      </a:lnTo>
                      <a:lnTo>
                        <a:pt x="79" y="86"/>
                      </a:lnTo>
                      <a:lnTo>
                        <a:pt x="74" y="88"/>
                      </a:lnTo>
                      <a:lnTo>
                        <a:pt x="69" y="90"/>
                      </a:lnTo>
                      <a:lnTo>
                        <a:pt x="69" y="171"/>
                      </a:lnTo>
                      <a:lnTo>
                        <a:pt x="60" y="174"/>
                      </a:lnTo>
                      <a:lnTo>
                        <a:pt x="52" y="171"/>
                      </a:lnTo>
                      <a:lnTo>
                        <a:pt x="52" y="90"/>
                      </a:lnTo>
                      <a:lnTo>
                        <a:pt x="44" y="88"/>
                      </a:lnTo>
                      <a:lnTo>
                        <a:pt x="37" y="86"/>
                      </a:lnTo>
                      <a:lnTo>
                        <a:pt x="36" y="85"/>
                      </a:lnTo>
                      <a:lnTo>
                        <a:pt x="36" y="81"/>
                      </a:lnTo>
                      <a:lnTo>
                        <a:pt x="36" y="29"/>
                      </a:lnTo>
                      <a:lnTo>
                        <a:pt x="36" y="24"/>
                      </a:lnTo>
                      <a:lnTo>
                        <a:pt x="33" y="20"/>
                      </a:lnTo>
                      <a:lnTo>
                        <a:pt x="29" y="16"/>
                      </a:lnTo>
                      <a:lnTo>
                        <a:pt x="23" y="13"/>
                      </a:lnTo>
                      <a:lnTo>
                        <a:pt x="15" y="12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995400" y="4937040"/>
                  <a:ext cx="122040" cy="268200"/>
                </a:xfrm>
                <a:custGeom>
                  <a:avLst/>
                  <a:gdLst/>
                  <a:ahLst/>
                  <a:rect l="l" t="t" r="r" b="b"/>
                  <a:pathLst>
                    <a:path w="77" h="169">
                      <a:moveTo>
                        <a:pt x="0" y="11"/>
                      </a:moveTo>
                      <a:lnTo>
                        <a:pt x="36" y="0"/>
                      </a:lnTo>
                      <a:lnTo>
                        <a:pt x="49" y="0"/>
                      </a:lnTo>
                      <a:lnTo>
                        <a:pt x="59" y="2"/>
                      </a:lnTo>
                      <a:lnTo>
                        <a:pt x="65" y="4"/>
                      </a:lnTo>
                      <a:lnTo>
                        <a:pt x="71" y="6"/>
                      </a:lnTo>
                      <a:lnTo>
                        <a:pt x="74" y="9"/>
                      </a:lnTo>
                      <a:lnTo>
                        <a:pt x="74" y="13"/>
                      </a:lnTo>
                      <a:lnTo>
                        <a:pt x="76" y="18"/>
                      </a:lnTo>
                      <a:lnTo>
                        <a:pt x="76" y="78"/>
                      </a:lnTo>
                      <a:lnTo>
                        <a:pt x="74" y="82"/>
                      </a:lnTo>
                      <a:lnTo>
                        <a:pt x="69" y="84"/>
                      </a:lnTo>
                      <a:lnTo>
                        <a:pt x="64" y="86"/>
                      </a:lnTo>
                      <a:lnTo>
                        <a:pt x="64" y="163"/>
                      </a:lnTo>
                      <a:lnTo>
                        <a:pt x="56" y="168"/>
                      </a:lnTo>
                      <a:lnTo>
                        <a:pt x="48" y="164"/>
                      </a:lnTo>
                      <a:lnTo>
                        <a:pt x="48" y="86"/>
                      </a:lnTo>
                      <a:lnTo>
                        <a:pt x="41" y="84"/>
                      </a:lnTo>
                      <a:lnTo>
                        <a:pt x="34" y="82"/>
                      </a:lnTo>
                      <a:lnTo>
                        <a:pt x="33" y="81"/>
                      </a:lnTo>
                      <a:lnTo>
                        <a:pt x="33" y="77"/>
                      </a:lnTo>
                      <a:lnTo>
                        <a:pt x="33" y="27"/>
                      </a:lnTo>
                      <a:lnTo>
                        <a:pt x="33" y="23"/>
                      </a:lnTo>
                      <a:lnTo>
                        <a:pt x="31" y="18"/>
                      </a:lnTo>
                      <a:lnTo>
                        <a:pt x="27" y="14"/>
                      </a:lnTo>
                      <a:lnTo>
                        <a:pt x="21" y="13"/>
                      </a:lnTo>
                      <a:lnTo>
                        <a:pt x="14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1177920" y="4892760"/>
                  <a:ext cx="122400" cy="258840"/>
                </a:xfrm>
                <a:custGeom>
                  <a:avLst/>
                  <a:gdLst/>
                  <a:ahLst/>
                  <a:rect l="l" t="t" r="r" b="b"/>
                  <a:pathLst>
                    <a:path w="77" h="163">
                      <a:moveTo>
                        <a:pt x="0" y="11"/>
                      </a:moveTo>
                      <a:lnTo>
                        <a:pt x="36" y="0"/>
                      </a:lnTo>
                      <a:lnTo>
                        <a:pt x="49" y="0"/>
                      </a:lnTo>
                      <a:lnTo>
                        <a:pt x="59" y="2"/>
                      </a:lnTo>
                      <a:lnTo>
                        <a:pt x="65" y="5"/>
                      </a:lnTo>
                      <a:lnTo>
                        <a:pt x="71" y="6"/>
                      </a:lnTo>
                      <a:lnTo>
                        <a:pt x="74" y="10"/>
                      </a:lnTo>
                      <a:lnTo>
                        <a:pt x="75" y="12"/>
                      </a:lnTo>
                      <a:lnTo>
                        <a:pt x="76" y="18"/>
                      </a:lnTo>
                      <a:lnTo>
                        <a:pt x="76" y="76"/>
                      </a:lnTo>
                      <a:lnTo>
                        <a:pt x="74" y="80"/>
                      </a:lnTo>
                      <a:lnTo>
                        <a:pt x="68" y="82"/>
                      </a:lnTo>
                      <a:lnTo>
                        <a:pt x="64" y="84"/>
                      </a:lnTo>
                      <a:lnTo>
                        <a:pt x="64" y="159"/>
                      </a:lnTo>
                      <a:lnTo>
                        <a:pt x="55" y="162"/>
                      </a:lnTo>
                      <a:lnTo>
                        <a:pt x="48" y="159"/>
                      </a:lnTo>
                      <a:lnTo>
                        <a:pt x="48" y="83"/>
                      </a:lnTo>
                      <a:lnTo>
                        <a:pt x="40" y="82"/>
                      </a:lnTo>
                      <a:lnTo>
                        <a:pt x="34" y="80"/>
                      </a:lnTo>
                      <a:lnTo>
                        <a:pt x="33" y="79"/>
                      </a:lnTo>
                      <a:lnTo>
                        <a:pt x="33" y="75"/>
                      </a:lnTo>
                      <a:lnTo>
                        <a:pt x="33" y="27"/>
                      </a:lnTo>
                      <a:lnTo>
                        <a:pt x="33" y="23"/>
                      </a:lnTo>
                      <a:lnTo>
                        <a:pt x="31" y="18"/>
                      </a:lnTo>
                      <a:lnTo>
                        <a:pt x="27" y="15"/>
                      </a:lnTo>
                      <a:lnTo>
                        <a:pt x="21" y="12"/>
                      </a:lnTo>
                      <a:lnTo>
                        <a:pt x="14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8" name=""/>
            <p:cNvGrpSpPr/>
            <p:nvPr/>
          </p:nvGrpSpPr>
          <p:grpSpPr>
            <a:xfrm>
              <a:off x="0" y="4830840"/>
              <a:ext cx="2162160" cy="520560"/>
              <a:chOff x="0" y="4830840"/>
              <a:chExt cx="2162160" cy="520560"/>
            </a:xfrm>
          </p:grpSpPr>
          <p:sp>
            <p:nvSpPr>
              <p:cNvPr id="529" name=""/>
              <p:cNvSpPr/>
              <p:nvPr/>
            </p:nvSpPr>
            <p:spPr>
              <a:xfrm>
                <a:off x="0" y="5159520"/>
                <a:ext cx="895320" cy="191880"/>
              </a:xfrm>
              <a:custGeom>
                <a:avLst/>
                <a:gdLst/>
                <a:ahLst/>
                <a:rect l="l" t="t" r="r" b="b"/>
                <a:pathLst>
                  <a:path w="564" h="121">
                    <a:moveTo>
                      <a:pt x="36" y="51"/>
                    </a:moveTo>
                    <a:lnTo>
                      <a:pt x="545" y="120"/>
                    </a:lnTo>
                    <a:lnTo>
                      <a:pt x="563" y="77"/>
                    </a:lnTo>
                    <a:lnTo>
                      <a:pt x="0" y="0"/>
                    </a:lnTo>
                    <a:lnTo>
                      <a:pt x="36" y="51"/>
                    </a:lnTo>
                  </a:path>
                </a:pathLst>
              </a:custGeom>
              <a:solidFill>
                <a:srgbClr val="001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0" y="5089680"/>
                <a:ext cx="895320" cy="193680"/>
              </a:xfrm>
              <a:custGeom>
                <a:avLst/>
                <a:gdLst/>
                <a:ahLst/>
                <a:rect l="l" t="t" r="r" b="b"/>
                <a:pathLst>
                  <a:path w="564" h="122">
                    <a:moveTo>
                      <a:pt x="0" y="44"/>
                    </a:moveTo>
                    <a:lnTo>
                      <a:pt x="55" y="0"/>
                    </a:lnTo>
                    <a:lnTo>
                      <a:pt x="545" y="61"/>
                    </a:lnTo>
                    <a:lnTo>
                      <a:pt x="563" y="121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5f7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65080" y="4952880"/>
                <a:ext cx="1297080" cy="398520"/>
              </a:xfrm>
              <a:custGeom>
                <a:avLst/>
                <a:gdLst/>
                <a:ahLst/>
                <a:rect l="l" t="t" r="r" b="b"/>
                <a:pathLst>
                  <a:path w="817" h="251">
                    <a:moveTo>
                      <a:pt x="18" y="207"/>
                    </a:moveTo>
                    <a:lnTo>
                      <a:pt x="0" y="250"/>
                    </a:lnTo>
                    <a:lnTo>
                      <a:pt x="798" y="44"/>
                    </a:lnTo>
                    <a:lnTo>
                      <a:pt x="816" y="0"/>
                    </a:lnTo>
                    <a:lnTo>
                      <a:pt x="18" y="207"/>
                    </a:lnTo>
                  </a:path>
                </a:pathLst>
              </a:custGeom>
              <a:solidFill>
                <a:srgbClr val="000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865080" y="4898880"/>
                <a:ext cx="1297080" cy="384480"/>
              </a:xfrm>
              <a:custGeom>
                <a:avLst/>
                <a:gdLst/>
                <a:ahLst/>
                <a:rect l="l" t="t" r="r" b="b"/>
                <a:pathLst>
                  <a:path w="817" h="242">
                    <a:moveTo>
                      <a:pt x="0" y="181"/>
                    </a:moveTo>
                    <a:lnTo>
                      <a:pt x="18" y="241"/>
                    </a:lnTo>
                    <a:lnTo>
                      <a:pt x="816" y="34"/>
                    </a:lnTo>
                    <a:lnTo>
                      <a:pt x="761" y="0"/>
                    </a:lnTo>
                    <a:lnTo>
                      <a:pt x="0" y="181"/>
                    </a:lnTo>
                  </a:path>
                </a:pathLst>
              </a:custGeom>
              <a:solidFill>
                <a:srgbClr val="3f7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480" y="4830840"/>
                <a:ext cx="1987560" cy="357120"/>
              </a:xfrm>
              <a:custGeom>
                <a:avLst/>
                <a:gdLst/>
                <a:ahLst/>
                <a:rect l="l" t="t" r="r" b="b"/>
                <a:pathLst>
                  <a:path w="1252" h="225">
                    <a:moveTo>
                      <a:pt x="0" y="163"/>
                    </a:moveTo>
                    <a:lnTo>
                      <a:pt x="490" y="224"/>
                    </a:lnTo>
                    <a:lnTo>
                      <a:pt x="1251" y="43"/>
                    </a:lnTo>
                    <a:lnTo>
                      <a:pt x="744" y="0"/>
                    </a:lnTo>
                    <a:lnTo>
                      <a:pt x="0" y="163"/>
                    </a:lnTo>
                  </a:path>
                </a:pathLst>
              </a:custGeom>
              <a:solidFill>
                <a:srgbClr val="9fb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950760" y="4978440"/>
              <a:ext cx="1175040" cy="566640"/>
              <a:chOff x="950760" y="4978440"/>
              <a:chExt cx="1175040" cy="566640"/>
            </a:xfrm>
          </p:grpSpPr>
          <p:grpSp>
            <p:nvGrpSpPr>
              <p:cNvPr id="535" name=""/>
              <p:cNvGrpSpPr/>
              <p:nvPr/>
            </p:nvGrpSpPr>
            <p:grpSpPr>
              <a:xfrm>
                <a:off x="950760" y="4986360"/>
                <a:ext cx="1160640" cy="558720"/>
                <a:chOff x="950760" y="4986360"/>
                <a:chExt cx="1160640" cy="55872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407960" y="5132520"/>
                  <a:ext cx="133560" cy="282600"/>
                </a:xfrm>
                <a:custGeom>
                  <a:avLst/>
                  <a:gdLst/>
                  <a:ahLst/>
                  <a:rect l="l" t="t" r="r" b="b"/>
                  <a:pathLst>
                    <a:path w="84" h="178">
                      <a:moveTo>
                        <a:pt x="0" y="12"/>
                      </a:moveTo>
                      <a:lnTo>
                        <a:pt x="40" y="1"/>
                      </a:lnTo>
                      <a:lnTo>
                        <a:pt x="54" y="0"/>
                      </a:lnTo>
                      <a:lnTo>
                        <a:pt x="64" y="3"/>
                      </a:lnTo>
                      <a:lnTo>
                        <a:pt x="72" y="5"/>
                      </a:lnTo>
                      <a:lnTo>
                        <a:pt x="77" y="7"/>
                      </a:lnTo>
                      <a:lnTo>
                        <a:pt x="81" y="11"/>
                      </a:lnTo>
                      <a:lnTo>
                        <a:pt x="82" y="14"/>
                      </a:lnTo>
                      <a:lnTo>
                        <a:pt x="83" y="20"/>
                      </a:lnTo>
                      <a:lnTo>
                        <a:pt x="83" y="84"/>
                      </a:lnTo>
                      <a:lnTo>
                        <a:pt x="81" y="87"/>
                      </a:lnTo>
                      <a:lnTo>
                        <a:pt x="75" y="90"/>
                      </a:lnTo>
                      <a:lnTo>
                        <a:pt x="70" y="91"/>
                      </a:lnTo>
                      <a:lnTo>
                        <a:pt x="70" y="173"/>
                      </a:lnTo>
                      <a:lnTo>
                        <a:pt x="61" y="177"/>
                      </a:lnTo>
                      <a:lnTo>
                        <a:pt x="53" y="173"/>
                      </a:lnTo>
                      <a:lnTo>
                        <a:pt x="53" y="91"/>
                      </a:lnTo>
                      <a:lnTo>
                        <a:pt x="45" y="89"/>
                      </a:lnTo>
                      <a:lnTo>
                        <a:pt x="38" y="87"/>
                      </a:lnTo>
                      <a:lnTo>
                        <a:pt x="37" y="85"/>
                      </a:lnTo>
                      <a:lnTo>
                        <a:pt x="37" y="82"/>
                      </a:lnTo>
                      <a:lnTo>
                        <a:pt x="37" y="29"/>
                      </a:lnTo>
                      <a:lnTo>
                        <a:pt x="37" y="25"/>
                      </a:lnTo>
                      <a:lnTo>
                        <a:pt x="34" y="20"/>
                      </a:lnTo>
                      <a:lnTo>
                        <a:pt x="30" y="16"/>
                      </a:lnTo>
                      <a:lnTo>
                        <a:pt x="24" y="14"/>
                      </a:lnTo>
                      <a:lnTo>
                        <a:pt x="16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193760" y="5187960"/>
                  <a:ext cx="142920" cy="290520"/>
                </a:xfrm>
                <a:custGeom>
                  <a:avLst/>
                  <a:gdLst/>
                  <a:ahLst/>
                  <a:rect l="l" t="t" r="r" b="b"/>
                  <a:pathLst>
                    <a:path w="90" h="183">
                      <a:moveTo>
                        <a:pt x="0" y="11"/>
                      </a:moveTo>
                      <a:lnTo>
                        <a:pt x="43" y="0"/>
                      </a:lnTo>
                      <a:lnTo>
                        <a:pt x="57" y="0"/>
                      </a:lnTo>
                      <a:lnTo>
                        <a:pt x="69" y="1"/>
                      </a:lnTo>
                      <a:lnTo>
                        <a:pt x="76" y="4"/>
                      </a:lnTo>
                      <a:lnTo>
                        <a:pt x="82" y="6"/>
                      </a:lnTo>
                      <a:lnTo>
                        <a:pt x="86" y="11"/>
                      </a:lnTo>
                      <a:lnTo>
                        <a:pt x="87" y="13"/>
                      </a:lnTo>
                      <a:lnTo>
                        <a:pt x="89" y="19"/>
                      </a:lnTo>
                      <a:lnTo>
                        <a:pt x="89" y="85"/>
                      </a:lnTo>
                      <a:lnTo>
                        <a:pt x="86" y="89"/>
                      </a:lnTo>
                      <a:lnTo>
                        <a:pt x="80" y="92"/>
                      </a:lnTo>
                      <a:lnTo>
                        <a:pt x="75" y="93"/>
                      </a:lnTo>
                      <a:lnTo>
                        <a:pt x="75" y="178"/>
                      </a:lnTo>
                      <a:lnTo>
                        <a:pt x="65" y="182"/>
                      </a:lnTo>
                      <a:lnTo>
                        <a:pt x="56" y="178"/>
                      </a:lnTo>
                      <a:lnTo>
                        <a:pt x="56" y="92"/>
                      </a:lnTo>
                      <a:lnTo>
                        <a:pt x="47" y="91"/>
                      </a:lnTo>
                      <a:lnTo>
                        <a:pt x="40" y="89"/>
                      </a:lnTo>
                      <a:lnTo>
                        <a:pt x="39" y="87"/>
                      </a:lnTo>
                      <a:lnTo>
                        <a:pt x="39" y="84"/>
                      </a:lnTo>
                      <a:lnTo>
                        <a:pt x="39" y="29"/>
                      </a:lnTo>
                      <a:lnTo>
                        <a:pt x="39" y="24"/>
                      </a:lnTo>
                      <a:lnTo>
                        <a:pt x="36" y="19"/>
                      </a:lnTo>
                      <a:lnTo>
                        <a:pt x="31" y="15"/>
                      </a:lnTo>
                      <a:lnTo>
                        <a:pt x="25" y="13"/>
                      </a:lnTo>
                      <a:lnTo>
                        <a:pt x="17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950760" y="5248440"/>
                  <a:ext cx="162000" cy="296640"/>
                </a:xfrm>
                <a:custGeom>
                  <a:avLst/>
                  <a:gdLst/>
                  <a:ahLst/>
                  <a:rect l="l" t="t" r="r" b="b"/>
                  <a:pathLst>
                    <a:path w="102" h="187">
                      <a:moveTo>
                        <a:pt x="0" y="12"/>
                      </a:moveTo>
                      <a:lnTo>
                        <a:pt x="49" y="1"/>
                      </a:lnTo>
                      <a:lnTo>
                        <a:pt x="66" y="0"/>
                      </a:lnTo>
                      <a:lnTo>
                        <a:pt x="78" y="3"/>
                      </a:lnTo>
                      <a:lnTo>
                        <a:pt x="87" y="4"/>
                      </a:lnTo>
                      <a:lnTo>
                        <a:pt x="94" y="8"/>
                      </a:lnTo>
                      <a:lnTo>
                        <a:pt x="98" y="11"/>
                      </a:lnTo>
                      <a:lnTo>
                        <a:pt x="100" y="15"/>
                      </a:lnTo>
                      <a:lnTo>
                        <a:pt x="101" y="21"/>
                      </a:lnTo>
                      <a:lnTo>
                        <a:pt x="101" y="87"/>
                      </a:lnTo>
                      <a:lnTo>
                        <a:pt x="98" y="91"/>
                      </a:lnTo>
                      <a:lnTo>
                        <a:pt x="91" y="94"/>
                      </a:lnTo>
                      <a:lnTo>
                        <a:pt x="86" y="96"/>
                      </a:lnTo>
                      <a:lnTo>
                        <a:pt x="86" y="181"/>
                      </a:lnTo>
                      <a:lnTo>
                        <a:pt x="74" y="186"/>
                      </a:lnTo>
                      <a:lnTo>
                        <a:pt x="64" y="182"/>
                      </a:lnTo>
                      <a:lnTo>
                        <a:pt x="64" y="95"/>
                      </a:lnTo>
                      <a:lnTo>
                        <a:pt x="54" y="94"/>
                      </a:lnTo>
                      <a:lnTo>
                        <a:pt x="46" y="91"/>
                      </a:lnTo>
                      <a:lnTo>
                        <a:pt x="45" y="90"/>
                      </a:lnTo>
                      <a:lnTo>
                        <a:pt x="45" y="86"/>
                      </a:lnTo>
                      <a:lnTo>
                        <a:pt x="45" y="31"/>
                      </a:lnTo>
                      <a:lnTo>
                        <a:pt x="45" y="26"/>
                      </a:lnTo>
                      <a:lnTo>
                        <a:pt x="41" y="21"/>
                      </a:lnTo>
                      <a:lnTo>
                        <a:pt x="36" y="16"/>
                      </a:lnTo>
                      <a:lnTo>
                        <a:pt x="29" y="15"/>
                      </a:lnTo>
                      <a:lnTo>
                        <a:pt x="19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1616040" y="5081760"/>
                  <a:ext cx="131760" cy="276120"/>
                </a:xfrm>
                <a:custGeom>
                  <a:avLst/>
                  <a:gdLst/>
                  <a:ahLst/>
                  <a:rect l="l" t="t" r="r" b="b"/>
                  <a:pathLst>
                    <a:path w="83" h="174">
                      <a:moveTo>
                        <a:pt x="0" y="11"/>
                      </a:moveTo>
                      <a:lnTo>
                        <a:pt x="40" y="0"/>
                      </a:lnTo>
                      <a:lnTo>
                        <a:pt x="53" y="0"/>
                      </a:lnTo>
                      <a:lnTo>
                        <a:pt x="64" y="1"/>
                      </a:lnTo>
                      <a:lnTo>
                        <a:pt x="70" y="4"/>
                      </a:lnTo>
                      <a:lnTo>
                        <a:pt x="76" y="7"/>
                      </a:lnTo>
                      <a:lnTo>
                        <a:pt x="80" y="10"/>
                      </a:lnTo>
                      <a:lnTo>
                        <a:pt x="81" y="13"/>
                      </a:lnTo>
                      <a:lnTo>
                        <a:pt x="82" y="19"/>
                      </a:lnTo>
                      <a:lnTo>
                        <a:pt x="82" y="81"/>
                      </a:lnTo>
                      <a:lnTo>
                        <a:pt x="80" y="85"/>
                      </a:lnTo>
                      <a:lnTo>
                        <a:pt x="74" y="87"/>
                      </a:lnTo>
                      <a:lnTo>
                        <a:pt x="69" y="89"/>
                      </a:lnTo>
                      <a:lnTo>
                        <a:pt x="69" y="169"/>
                      </a:lnTo>
                      <a:lnTo>
                        <a:pt x="60" y="173"/>
                      </a:lnTo>
                      <a:lnTo>
                        <a:pt x="52" y="170"/>
                      </a:lnTo>
                      <a:lnTo>
                        <a:pt x="52" y="88"/>
                      </a:lnTo>
                      <a:lnTo>
                        <a:pt x="43" y="87"/>
                      </a:lnTo>
                      <a:lnTo>
                        <a:pt x="37" y="85"/>
                      </a:lnTo>
                      <a:lnTo>
                        <a:pt x="36" y="83"/>
                      </a:lnTo>
                      <a:lnTo>
                        <a:pt x="36" y="81"/>
                      </a:lnTo>
                      <a:lnTo>
                        <a:pt x="36" y="29"/>
                      </a:lnTo>
                      <a:lnTo>
                        <a:pt x="36" y="24"/>
                      </a:lnTo>
                      <a:lnTo>
                        <a:pt x="34" y="19"/>
                      </a:lnTo>
                      <a:lnTo>
                        <a:pt x="29" y="15"/>
                      </a:lnTo>
                      <a:lnTo>
                        <a:pt x="23" y="13"/>
                      </a:lnTo>
                      <a:lnTo>
                        <a:pt x="15" y="12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1812960" y="5032440"/>
                  <a:ext cx="122040" cy="268200"/>
                </a:xfrm>
                <a:custGeom>
                  <a:avLst/>
                  <a:gdLst/>
                  <a:ahLst/>
                  <a:rect l="l" t="t" r="r" b="b"/>
                  <a:pathLst>
                    <a:path w="77" h="169">
                      <a:moveTo>
                        <a:pt x="0" y="11"/>
                      </a:moveTo>
                      <a:lnTo>
                        <a:pt x="37" y="0"/>
                      </a:lnTo>
                      <a:lnTo>
                        <a:pt x="50" y="0"/>
                      </a:lnTo>
                      <a:lnTo>
                        <a:pt x="60" y="2"/>
                      </a:lnTo>
                      <a:lnTo>
                        <a:pt x="66" y="3"/>
                      </a:lnTo>
                      <a:lnTo>
                        <a:pt x="71" y="6"/>
                      </a:lnTo>
                      <a:lnTo>
                        <a:pt x="74" y="9"/>
                      </a:lnTo>
                      <a:lnTo>
                        <a:pt x="76" y="12"/>
                      </a:lnTo>
                      <a:lnTo>
                        <a:pt x="76" y="18"/>
                      </a:lnTo>
                      <a:lnTo>
                        <a:pt x="76" y="78"/>
                      </a:lnTo>
                      <a:lnTo>
                        <a:pt x="74" y="82"/>
                      </a:lnTo>
                      <a:lnTo>
                        <a:pt x="69" y="84"/>
                      </a:lnTo>
                      <a:lnTo>
                        <a:pt x="65" y="86"/>
                      </a:lnTo>
                      <a:lnTo>
                        <a:pt x="65" y="163"/>
                      </a:lnTo>
                      <a:lnTo>
                        <a:pt x="57" y="168"/>
                      </a:lnTo>
                      <a:lnTo>
                        <a:pt x="49" y="164"/>
                      </a:lnTo>
                      <a:lnTo>
                        <a:pt x="49" y="85"/>
                      </a:lnTo>
                      <a:lnTo>
                        <a:pt x="41" y="83"/>
                      </a:lnTo>
                      <a:lnTo>
                        <a:pt x="35" y="82"/>
                      </a:lnTo>
                      <a:lnTo>
                        <a:pt x="34" y="80"/>
                      </a:lnTo>
                      <a:lnTo>
                        <a:pt x="34" y="77"/>
                      </a:lnTo>
                      <a:lnTo>
                        <a:pt x="34" y="27"/>
                      </a:lnTo>
                      <a:lnTo>
                        <a:pt x="34" y="22"/>
                      </a:lnTo>
                      <a:lnTo>
                        <a:pt x="32" y="18"/>
                      </a:lnTo>
                      <a:lnTo>
                        <a:pt x="28" y="14"/>
                      </a:lnTo>
                      <a:lnTo>
                        <a:pt x="22" y="12"/>
                      </a:lnTo>
                      <a:lnTo>
                        <a:pt x="14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1989000" y="4986360"/>
                  <a:ext cx="122400" cy="257040"/>
                </a:xfrm>
                <a:custGeom>
                  <a:avLst/>
                  <a:gdLst/>
                  <a:ahLst/>
                  <a:rect l="l" t="t" r="r" b="b"/>
                  <a:pathLst>
                    <a:path w="77" h="162">
                      <a:moveTo>
                        <a:pt x="0" y="10"/>
                      </a:moveTo>
                      <a:lnTo>
                        <a:pt x="36" y="0"/>
                      </a:lnTo>
                      <a:lnTo>
                        <a:pt x="49" y="0"/>
                      </a:lnTo>
                      <a:lnTo>
                        <a:pt x="59" y="1"/>
                      </a:lnTo>
                      <a:lnTo>
                        <a:pt x="65" y="3"/>
                      </a:lnTo>
                      <a:lnTo>
                        <a:pt x="71" y="6"/>
                      </a:lnTo>
                      <a:lnTo>
                        <a:pt x="74" y="10"/>
                      </a:lnTo>
                      <a:lnTo>
                        <a:pt x="75" y="12"/>
                      </a:lnTo>
                      <a:lnTo>
                        <a:pt x="76" y="18"/>
                      </a:lnTo>
                      <a:lnTo>
                        <a:pt x="76" y="76"/>
                      </a:lnTo>
                      <a:lnTo>
                        <a:pt x="74" y="80"/>
                      </a:lnTo>
                      <a:lnTo>
                        <a:pt x="69" y="81"/>
                      </a:lnTo>
                      <a:lnTo>
                        <a:pt x="64" y="83"/>
                      </a:lnTo>
                      <a:lnTo>
                        <a:pt x="64" y="158"/>
                      </a:lnTo>
                      <a:lnTo>
                        <a:pt x="56" y="161"/>
                      </a:lnTo>
                      <a:lnTo>
                        <a:pt x="48" y="159"/>
                      </a:lnTo>
                      <a:lnTo>
                        <a:pt x="48" y="83"/>
                      </a:lnTo>
                      <a:lnTo>
                        <a:pt x="41" y="81"/>
                      </a:lnTo>
                      <a:lnTo>
                        <a:pt x="34" y="80"/>
                      </a:lnTo>
                      <a:lnTo>
                        <a:pt x="33" y="78"/>
                      </a:lnTo>
                      <a:lnTo>
                        <a:pt x="33" y="75"/>
                      </a:lnTo>
                      <a:lnTo>
                        <a:pt x="33" y="26"/>
                      </a:lnTo>
                      <a:lnTo>
                        <a:pt x="33" y="22"/>
                      </a:lnTo>
                      <a:lnTo>
                        <a:pt x="31" y="18"/>
                      </a:lnTo>
                      <a:lnTo>
                        <a:pt x="27" y="14"/>
                      </a:lnTo>
                      <a:lnTo>
                        <a:pt x="22" y="12"/>
                      </a:lnTo>
                      <a:lnTo>
                        <a:pt x="14" y="11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966960" y="4978440"/>
                <a:ext cx="1158840" cy="560520"/>
                <a:chOff x="966960" y="4978440"/>
                <a:chExt cx="1158840" cy="56052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1424160" y="5126040"/>
                  <a:ext cx="131760" cy="282600"/>
                </a:xfrm>
                <a:custGeom>
                  <a:avLst/>
                  <a:gdLst/>
                  <a:ahLst/>
                  <a:rect l="l" t="t" r="r" b="b"/>
                  <a:pathLst>
                    <a:path w="83" h="178">
                      <a:moveTo>
                        <a:pt x="0" y="12"/>
                      </a:moveTo>
                      <a:lnTo>
                        <a:pt x="40" y="1"/>
                      </a:lnTo>
                      <a:lnTo>
                        <a:pt x="53" y="0"/>
                      </a:lnTo>
                      <a:lnTo>
                        <a:pt x="64" y="3"/>
                      </a:lnTo>
                      <a:lnTo>
                        <a:pt x="71" y="4"/>
                      </a:lnTo>
                      <a:lnTo>
                        <a:pt x="76" y="7"/>
                      </a:lnTo>
                      <a:lnTo>
                        <a:pt x="80" y="11"/>
                      </a:lnTo>
                      <a:lnTo>
                        <a:pt x="81" y="14"/>
                      </a:lnTo>
                      <a:lnTo>
                        <a:pt x="82" y="20"/>
                      </a:lnTo>
                      <a:lnTo>
                        <a:pt x="82" y="83"/>
                      </a:lnTo>
                      <a:lnTo>
                        <a:pt x="80" y="87"/>
                      </a:lnTo>
                      <a:lnTo>
                        <a:pt x="74" y="89"/>
                      </a:lnTo>
                      <a:lnTo>
                        <a:pt x="70" y="91"/>
                      </a:lnTo>
                      <a:lnTo>
                        <a:pt x="70" y="173"/>
                      </a:lnTo>
                      <a:lnTo>
                        <a:pt x="60" y="177"/>
                      </a:lnTo>
                      <a:lnTo>
                        <a:pt x="52" y="173"/>
                      </a:lnTo>
                      <a:lnTo>
                        <a:pt x="52" y="90"/>
                      </a:lnTo>
                      <a:lnTo>
                        <a:pt x="44" y="89"/>
                      </a:lnTo>
                      <a:lnTo>
                        <a:pt x="37" y="87"/>
                      </a:lnTo>
                      <a:lnTo>
                        <a:pt x="36" y="85"/>
                      </a:lnTo>
                      <a:lnTo>
                        <a:pt x="36" y="82"/>
                      </a:lnTo>
                      <a:lnTo>
                        <a:pt x="36" y="29"/>
                      </a:lnTo>
                      <a:lnTo>
                        <a:pt x="36" y="25"/>
                      </a:lnTo>
                      <a:lnTo>
                        <a:pt x="34" y="20"/>
                      </a:lnTo>
                      <a:lnTo>
                        <a:pt x="29" y="16"/>
                      </a:lnTo>
                      <a:lnTo>
                        <a:pt x="23" y="14"/>
                      </a:lnTo>
                      <a:lnTo>
                        <a:pt x="15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1208160" y="5180040"/>
                  <a:ext cx="141120" cy="291960"/>
                </a:xfrm>
                <a:custGeom>
                  <a:avLst/>
                  <a:gdLst/>
                  <a:ahLst/>
                  <a:rect l="l" t="t" r="r" b="b"/>
                  <a:pathLst>
                    <a:path w="89" h="184">
                      <a:moveTo>
                        <a:pt x="0" y="12"/>
                      </a:moveTo>
                      <a:lnTo>
                        <a:pt x="43" y="1"/>
                      </a:lnTo>
                      <a:lnTo>
                        <a:pt x="58" y="0"/>
                      </a:lnTo>
                      <a:lnTo>
                        <a:pt x="69" y="2"/>
                      </a:lnTo>
                      <a:lnTo>
                        <a:pt x="76" y="5"/>
                      </a:lnTo>
                      <a:lnTo>
                        <a:pt x="82" y="8"/>
                      </a:lnTo>
                      <a:lnTo>
                        <a:pt x="86" y="11"/>
                      </a:lnTo>
                      <a:lnTo>
                        <a:pt x="87" y="14"/>
                      </a:lnTo>
                      <a:lnTo>
                        <a:pt x="88" y="20"/>
                      </a:lnTo>
                      <a:lnTo>
                        <a:pt x="88" y="86"/>
                      </a:lnTo>
                      <a:lnTo>
                        <a:pt x="86" y="90"/>
                      </a:lnTo>
                      <a:lnTo>
                        <a:pt x="80" y="92"/>
                      </a:lnTo>
                      <a:lnTo>
                        <a:pt x="75" y="94"/>
                      </a:lnTo>
                      <a:lnTo>
                        <a:pt x="75" y="178"/>
                      </a:lnTo>
                      <a:lnTo>
                        <a:pt x="65" y="183"/>
                      </a:lnTo>
                      <a:lnTo>
                        <a:pt x="56" y="179"/>
                      </a:lnTo>
                      <a:lnTo>
                        <a:pt x="56" y="94"/>
                      </a:lnTo>
                      <a:lnTo>
                        <a:pt x="47" y="92"/>
                      </a:lnTo>
                      <a:lnTo>
                        <a:pt x="41" y="90"/>
                      </a:lnTo>
                      <a:lnTo>
                        <a:pt x="40" y="88"/>
                      </a:lnTo>
                      <a:lnTo>
                        <a:pt x="40" y="85"/>
                      </a:lnTo>
                      <a:lnTo>
                        <a:pt x="40" y="30"/>
                      </a:lnTo>
                      <a:lnTo>
                        <a:pt x="40" y="25"/>
                      </a:lnTo>
                      <a:lnTo>
                        <a:pt x="36" y="20"/>
                      </a:lnTo>
                      <a:lnTo>
                        <a:pt x="32" y="16"/>
                      </a:lnTo>
                      <a:lnTo>
                        <a:pt x="25" y="14"/>
                      </a:lnTo>
                      <a:lnTo>
                        <a:pt x="17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966960" y="5241960"/>
                  <a:ext cx="158400" cy="297000"/>
                </a:xfrm>
                <a:custGeom>
                  <a:avLst/>
                  <a:gdLst/>
                  <a:ahLst/>
                  <a:rect l="l" t="t" r="r" b="b"/>
                  <a:pathLst>
                    <a:path w="100" h="187">
                      <a:moveTo>
                        <a:pt x="0" y="12"/>
                      </a:moveTo>
                      <a:lnTo>
                        <a:pt x="48" y="1"/>
                      </a:lnTo>
                      <a:lnTo>
                        <a:pt x="65" y="0"/>
                      </a:lnTo>
                      <a:lnTo>
                        <a:pt x="78" y="2"/>
                      </a:lnTo>
                      <a:lnTo>
                        <a:pt x="86" y="5"/>
                      </a:lnTo>
                      <a:lnTo>
                        <a:pt x="93" y="8"/>
                      </a:lnTo>
                      <a:lnTo>
                        <a:pt x="97" y="11"/>
                      </a:lnTo>
                      <a:lnTo>
                        <a:pt x="98" y="14"/>
                      </a:lnTo>
                      <a:lnTo>
                        <a:pt x="99" y="20"/>
                      </a:lnTo>
                      <a:lnTo>
                        <a:pt x="99" y="87"/>
                      </a:lnTo>
                      <a:lnTo>
                        <a:pt x="97" y="91"/>
                      </a:lnTo>
                      <a:lnTo>
                        <a:pt x="90" y="94"/>
                      </a:lnTo>
                      <a:lnTo>
                        <a:pt x="85" y="95"/>
                      </a:lnTo>
                      <a:lnTo>
                        <a:pt x="85" y="181"/>
                      </a:lnTo>
                      <a:lnTo>
                        <a:pt x="73" y="186"/>
                      </a:lnTo>
                      <a:lnTo>
                        <a:pt x="63" y="181"/>
                      </a:lnTo>
                      <a:lnTo>
                        <a:pt x="63" y="94"/>
                      </a:lnTo>
                      <a:lnTo>
                        <a:pt x="53" y="94"/>
                      </a:lnTo>
                      <a:lnTo>
                        <a:pt x="46" y="91"/>
                      </a:lnTo>
                      <a:lnTo>
                        <a:pt x="44" y="89"/>
                      </a:lnTo>
                      <a:lnTo>
                        <a:pt x="44" y="86"/>
                      </a:lnTo>
                      <a:lnTo>
                        <a:pt x="44" y="31"/>
                      </a:lnTo>
                      <a:lnTo>
                        <a:pt x="44" y="25"/>
                      </a:lnTo>
                      <a:lnTo>
                        <a:pt x="41" y="20"/>
                      </a:lnTo>
                      <a:lnTo>
                        <a:pt x="35" y="17"/>
                      </a:lnTo>
                      <a:lnTo>
                        <a:pt x="28" y="14"/>
                      </a:lnTo>
                      <a:lnTo>
                        <a:pt x="19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1630440" y="5073480"/>
                  <a:ext cx="131760" cy="277920"/>
                </a:xfrm>
                <a:custGeom>
                  <a:avLst/>
                  <a:gdLst/>
                  <a:ahLst/>
                  <a:rect l="l" t="t" r="r" b="b"/>
                  <a:pathLst>
                    <a:path w="83" h="175">
                      <a:moveTo>
                        <a:pt x="0" y="11"/>
                      </a:moveTo>
                      <a:lnTo>
                        <a:pt x="39" y="1"/>
                      </a:lnTo>
                      <a:lnTo>
                        <a:pt x="53" y="0"/>
                      </a:lnTo>
                      <a:lnTo>
                        <a:pt x="63" y="2"/>
                      </a:lnTo>
                      <a:lnTo>
                        <a:pt x="70" y="5"/>
                      </a:lnTo>
                      <a:lnTo>
                        <a:pt x="76" y="7"/>
                      </a:lnTo>
                      <a:lnTo>
                        <a:pt x="80" y="11"/>
                      </a:lnTo>
                      <a:lnTo>
                        <a:pt x="81" y="14"/>
                      </a:lnTo>
                      <a:lnTo>
                        <a:pt x="82" y="20"/>
                      </a:lnTo>
                      <a:lnTo>
                        <a:pt x="82" y="82"/>
                      </a:lnTo>
                      <a:lnTo>
                        <a:pt x="80" y="86"/>
                      </a:lnTo>
                      <a:lnTo>
                        <a:pt x="74" y="88"/>
                      </a:lnTo>
                      <a:lnTo>
                        <a:pt x="69" y="90"/>
                      </a:lnTo>
                      <a:lnTo>
                        <a:pt x="69" y="170"/>
                      </a:lnTo>
                      <a:lnTo>
                        <a:pt x="60" y="174"/>
                      </a:lnTo>
                      <a:lnTo>
                        <a:pt x="52" y="171"/>
                      </a:lnTo>
                      <a:lnTo>
                        <a:pt x="52" y="90"/>
                      </a:lnTo>
                      <a:lnTo>
                        <a:pt x="44" y="88"/>
                      </a:lnTo>
                      <a:lnTo>
                        <a:pt x="37" y="86"/>
                      </a:lnTo>
                      <a:lnTo>
                        <a:pt x="36" y="84"/>
                      </a:lnTo>
                      <a:lnTo>
                        <a:pt x="36" y="81"/>
                      </a:lnTo>
                      <a:lnTo>
                        <a:pt x="36" y="29"/>
                      </a:lnTo>
                      <a:lnTo>
                        <a:pt x="36" y="24"/>
                      </a:lnTo>
                      <a:lnTo>
                        <a:pt x="34" y="20"/>
                      </a:lnTo>
                      <a:lnTo>
                        <a:pt x="29" y="16"/>
                      </a:lnTo>
                      <a:lnTo>
                        <a:pt x="23" y="14"/>
                      </a:lnTo>
                      <a:lnTo>
                        <a:pt x="15" y="12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1827360" y="5025960"/>
                  <a:ext cx="122040" cy="266760"/>
                </a:xfrm>
                <a:custGeom>
                  <a:avLst/>
                  <a:gdLst/>
                  <a:ahLst/>
                  <a:rect l="l" t="t" r="r" b="b"/>
                  <a:pathLst>
                    <a:path w="77" h="168">
                      <a:moveTo>
                        <a:pt x="0" y="10"/>
                      </a:moveTo>
                      <a:lnTo>
                        <a:pt x="38" y="0"/>
                      </a:lnTo>
                      <a:lnTo>
                        <a:pt x="50" y="0"/>
                      </a:lnTo>
                      <a:lnTo>
                        <a:pt x="59" y="1"/>
                      </a:lnTo>
                      <a:lnTo>
                        <a:pt x="66" y="3"/>
                      </a:lnTo>
                      <a:lnTo>
                        <a:pt x="71" y="6"/>
                      </a:lnTo>
                      <a:lnTo>
                        <a:pt x="74" y="9"/>
                      </a:lnTo>
                      <a:lnTo>
                        <a:pt x="76" y="12"/>
                      </a:lnTo>
                      <a:lnTo>
                        <a:pt x="76" y="17"/>
                      </a:lnTo>
                      <a:lnTo>
                        <a:pt x="76" y="78"/>
                      </a:lnTo>
                      <a:lnTo>
                        <a:pt x="74" y="81"/>
                      </a:lnTo>
                      <a:lnTo>
                        <a:pt x="69" y="84"/>
                      </a:lnTo>
                      <a:lnTo>
                        <a:pt x="65" y="86"/>
                      </a:lnTo>
                      <a:lnTo>
                        <a:pt x="65" y="163"/>
                      </a:lnTo>
                      <a:lnTo>
                        <a:pt x="56" y="167"/>
                      </a:lnTo>
                      <a:lnTo>
                        <a:pt x="49" y="164"/>
                      </a:lnTo>
                      <a:lnTo>
                        <a:pt x="49" y="86"/>
                      </a:lnTo>
                      <a:lnTo>
                        <a:pt x="42" y="84"/>
                      </a:lnTo>
                      <a:lnTo>
                        <a:pt x="35" y="81"/>
                      </a:lnTo>
                      <a:lnTo>
                        <a:pt x="34" y="80"/>
                      </a:lnTo>
                      <a:lnTo>
                        <a:pt x="34" y="77"/>
                      </a:lnTo>
                      <a:lnTo>
                        <a:pt x="34" y="27"/>
                      </a:lnTo>
                      <a:lnTo>
                        <a:pt x="34" y="23"/>
                      </a:lnTo>
                      <a:lnTo>
                        <a:pt x="32" y="17"/>
                      </a:lnTo>
                      <a:lnTo>
                        <a:pt x="28" y="14"/>
                      </a:lnTo>
                      <a:lnTo>
                        <a:pt x="22" y="12"/>
                      </a:lnTo>
                      <a:lnTo>
                        <a:pt x="14" y="11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2003400" y="4978440"/>
                  <a:ext cx="122400" cy="260280"/>
                </a:xfrm>
                <a:custGeom>
                  <a:avLst/>
                  <a:gdLst/>
                  <a:ahLst/>
                  <a:rect l="l" t="t" r="r" b="b"/>
                  <a:pathLst>
                    <a:path w="77" h="164">
                      <a:moveTo>
                        <a:pt x="0" y="11"/>
                      </a:moveTo>
                      <a:lnTo>
                        <a:pt x="37" y="0"/>
                      </a:lnTo>
                      <a:lnTo>
                        <a:pt x="49" y="0"/>
                      </a:lnTo>
                      <a:lnTo>
                        <a:pt x="59" y="3"/>
                      </a:lnTo>
                      <a:lnTo>
                        <a:pt x="66" y="5"/>
                      </a:lnTo>
                      <a:lnTo>
                        <a:pt x="71" y="7"/>
                      </a:lnTo>
                      <a:lnTo>
                        <a:pt x="74" y="10"/>
                      </a:lnTo>
                      <a:lnTo>
                        <a:pt x="75" y="13"/>
                      </a:lnTo>
                      <a:lnTo>
                        <a:pt x="76" y="18"/>
                      </a:lnTo>
                      <a:lnTo>
                        <a:pt x="76" y="77"/>
                      </a:lnTo>
                      <a:lnTo>
                        <a:pt x="74" y="80"/>
                      </a:lnTo>
                      <a:lnTo>
                        <a:pt x="68" y="83"/>
                      </a:lnTo>
                      <a:lnTo>
                        <a:pt x="64" y="84"/>
                      </a:lnTo>
                      <a:lnTo>
                        <a:pt x="64" y="159"/>
                      </a:lnTo>
                      <a:lnTo>
                        <a:pt x="56" y="163"/>
                      </a:lnTo>
                      <a:lnTo>
                        <a:pt x="48" y="160"/>
                      </a:lnTo>
                      <a:lnTo>
                        <a:pt x="48" y="84"/>
                      </a:lnTo>
                      <a:lnTo>
                        <a:pt x="41" y="82"/>
                      </a:lnTo>
                      <a:lnTo>
                        <a:pt x="34" y="80"/>
                      </a:lnTo>
                      <a:lnTo>
                        <a:pt x="33" y="79"/>
                      </a:lnTo>
                      <a:lnTo>
                        <a:pt x="33" y="76"/>
                      </a:lnTo>
                      <a:lnTo>
                        <a:pt x="33" y="28"/>
                      </a:lnTo>
                      <a:lnTo>
                        <a:pt x="33" y="23"/>
                      </a:lnTo>
                      <a:lnTo>
                        <a:pt x="31" y="18"/>
                      </a:lnTo>
                      <a:lnTo>
                        <a:pt x="27" y="15"/>
                      </a:lnTo>
                      <a:lnTo>
                        <a:pt x="21" y="13"/>
                      </a:lnTo>
                      <a:lnTo>
                        <a:pt x="14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9" name=""/>
            <p:cNvGrpSpPr/>
            <p:nvPr/>
          </p:nvGrpSpPr>
          <p:grpSpPr>
            <a:xfrm>
              <a:off x="895320" y="5067360"/>
              <a:ext cx="112680" cy="9360"/>
              <a:chOff x="895320" y="5067360"/>
              <a:chExt cx="112680" cy="9360"/>
            </a:xfrm>
          </p:grpSpPr>
          <p:sp>
            <p:nvSpPr>
              <p:cNvPr id="550" name=""/>
              <p:cNvSpPr/>
              <p:nvPr/>
            </p:nvSpPr>
            <p:spPr>
              <a:xfrm>
                <a:off x="895320" y="5067360"/>
                <a:ext cx="112680" cy="9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5320" y="5067360"/>
                <a:ext cx="98280" cy="7920"/>
              </a:xfrm>
              <a:prstGeom prst="ellipse">
                <a:avLst/>
              </a:pr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457200" y="5126040"/>
              <a:ext cx="136440" cy="23760"/>
              <a:chOff x="457200" y="5126040"/>
              <a:chExt cx="136440" cy="23760"/>
            </a:xfrm>
          </p:grpSpPr>
          <p:sp>
            <p:nvSpPr>
              <p:cNvPr id="553" name=""/>
              <p:cNvSpPr/>
              <p:nvPr/>
            </p:nvSpPr>
            <p:spPr>
              <a:xfrm>
                <a:off x="458640" y="5126040"/>
                <a:ext cx="135000" cy="14400"/>
              </a:xfrm>
              <a:custGeom>
                <a:avLst/>
                <a:gdLst/>
                <a:ahLst/>
                <a:rect l="l" t="t" r="r" b="b"/>
                <a:pathLst>
                  <a:path w="85" h="9">
                    <a:moveTo>
                      <a:pt x="0" y="4"/>
                    </a:moveTo>
                    <a:lnTo>
                      <a:pt x="73" y="8"/>
                    </a:lnTo>
                    <a:lnTo>
                      <a:pt x="79" y="8"/>
                    </a:lnTo>
                    <a:lnTo>
                      <a:pt x="83" y="7"/>
                    </a:lnTo>
                    <a:lnTo>
                      <a:pt x="84" y="5"/>
                    </a:lnTo>
                    <a:lnTo>
                      <a:pt x="83" y="4"/>
                    </a:lnTo>
                    <a:lnTo>
                      <a:pt x="78" y="2"/>
                    </a:lnTo>
                    <a:lnTo>
                      <a:pt x="69" y="2"/>
                    </a:lnTo>
                    <a:lnTo>
                      <a:pt x="60" y="1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31" y="0"/>
                    </a:lnTo>
                    <a:lnTo>
                      <a:pt x="20" y="1"/>
                    </a:lnTo>
                    <a:lnTo>
                      <a:pt x="11" y="2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57200" y="5137200"/>
                <a:ext cx="117360" cy="12600"/>
              </a:xfrm>
              <a:custGeom>
                <a:avLst/>
                <a:gdLst/>
                <a:ahLst/>
                <a:rect l="l" t="t" r="r" b="b"/>
                <a:pathLst>
                  <a:path w="74" h="8">
                    <a:moveTo>
                      <a:pt x="0" y="0"/>
                    </a:moveTo>
                    <a:lnTo>
                      <a:pt x="73" y="4"/>
                    </a:lnTo>
                    <a:lnTo>
                      <a:pt x="73" y="7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5" name=""/>
          <p:cNvGrpSpPr/>
          <p:nvPr/>
        </p:nvGrpSpPr>
        <p:grpSpPr>
          <a:xfrm>
            <a:off x="461880" y="1582560"/>
            <a:ext cx="622440" cy="700200"/>
            <a:chOff x="461880" y="1582560"/>
            <a:chExt cx="622440" cy="700200"/>
          </a:xfrm>
        </p:grpSpPr>
        <p:sp>
          <p:nvSpPr>
            <p:cNvPr id="556" name=""/>
            <p:cNvSpPr/>
            <p:nvPr/>
          </p:nvSpPr>
          <p:spPr>
            <a:xfrm>
              <a:off x="468360" y="1589040"/>
              <a:ext cx="609480" cy="687600"/>
            </a:xfrm>
            <a:custGeom>
              <a:avLst/>
              <a:gdLst/>
              <a:ahLst/>
              <a:rect l="l" t="t" r="r" b="b"/>
              <a:pathLst>
                <a:path w="384" h="433">
                  <a:moveTo>
                    <a:pt x="138" y="48"/>
                  </a:moveTo>
                  <a:lnTo>
                    <a:pt x="68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6"/>
                  </a:lnTo>
                  <a:lnTo>
                    <a:pt x="41" y="11"/>
                  </a:lnTo>
                  <a:lnTo>
                    <a:pt x="33" y="18"/>
                  </a:lnTo>
                  <a:lnTo>
                    <a:pt x="26" y="24"/>
                  </a:lnTo>
                  <a:lnTo>
                    <a:pt x="21" y="30"/>
                  </a:lnTo>
                  <a:lnTo>
                    <a:pt x="13" y="39"/>
                  </a:lnTo>
                  <a:lnTo>
                    <a:pt x="8" y="48"/>
                  </a:lnTo>
                  <a:lnTo>
                    <a:pt x="3" y="55"/>
                  </a:lnTo>
                  <a:lnTo>
                    <a:pt x="1" y="66"/>
                  </a:lnTo>
                  <a:lnTo>
                    <a:pt x="0" y="75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2" y="101"/>
                  </a:lnTo>
                  <a:lnTo>
                    <a:pt x="5" y="113"/>
                  </a:lnTo>
                  <a:lnTo>
                    <a:pt x="10" y="121"/>
                  </a:lnTo>
                  <a:lnTo>
                    <a:pt x="18" y="131"/>
                  </a:lnTo>
                  <a:lnTo>
                    <a:pt x="29" y="138"/>
                  </a:lnTo>
                  <a:lnTo>
                    <a:pt x="40" y="148"/>
                  </a:lnTo>
                  <a:lnTo>
                    <a:pt x="51" y="157"/>
                  </a:lnTo>
                  <a:lnTo>
                    <a:pt x="64" y="170"/>
                  </a:lnTo>
                  <a:lnTo>
                    <a:pt x="74" y="179"/>
                  </a:lnTo>
                  <a:lnTo>
                    <a:pt x="85" y="187"/>
                  </a:lnTo>
                  <a:lnTo>
                    <a:pt x="93" y="194"/>
                  </a:lnTo>
                  <a:lnTo>
                    <a:pt x="103" y="200"/>
                  </a:lnTo>
                  <a:lnTo>
                    <a:pt x="114" y="207"/>
                  </a:lnTo>
                  <a:lnTo>
                    <a:pt x="120" y="219"/>
                  </a:lnTo>
                  <a:lnTo>
                    <a:pt x="124" y="232"/>
                  </a:lnTo>
                  <a:lnTo>
                    <a:pt x="132" y="244"/>
                  </a:lnTo>
                  <a:lnTo>
                    <a:pt x="138" y="251"/>
                  </a:lnTo>
                  <a:lnTo>
                    <a:pt x="144" y="258"/>
                  </a:lnTo>
                  <a:lnTo>
                    <a:pt x="150" y="263"/>
                  </a:lnTo>
                  <a:lnTo>
                    <a:pt x="155" y="267"/>
                  </a:lnTo>
                  <a:lnTo>
                    <a:pt x="164" y="269"/>
                  </a:lnTo>
                  <a:lnTo>
                    <a:pt x="172" y="270"/>
                  </a:lnTo>
                  <a:lnTo>
                    <a:pt x="181" y="271"/>
                  </a:lnTo>
                  <a:lnTo>
                    <a:pt x="207" y="269"/>
                  </a:lnTo>
                  <a:lnTo>
                    <a:pt x="242" y="267"/>
                  </a:lnTo>
                  <a:lnTo>
                    <a:pt x="279" y="267"/>
                  </a:lnTo>
                  <a:lnTo>
                    <a:pt x="342" y="273"/>
                  </a:lnTo>
                  <a:lnTo>
                    <a:pt x="345" y="289"/>
                  </a:lnTo>
                  <a:lnTo>
                    <a:pt x="349" y="308"/>
                  </a:lnTo>
                  <a:lnTo>
                    <a:pt x="353" y="333"/>
                  </a:lnTo>
                  <a:lnTo>
                    <a:pt x="349" y="359"/>
                  </a:lnTo>
                  <a:lnTo>
                    <a:pt x="346" y="379"/>
                  </a:lnTo>
                  <a:lnTo>
                    <a:pt x="342" y="404"/>
                  </a:lnTo>
                  <a:lnTo>
                    <a:pt x="341" y="405"/>
                  </a:lnTo>
                  <a:lnTo>
                    <a:pt x="336" y="407"/>
                  </a:lnTo>
                  <a:lnTo>
                    <a:pt x="311" y="407"/>
                  </a:lnTo>
                  <a:lnTo>
                    <a:pt x="129" y="410"/>
                  </a:lnTo>
                  <a:lnTo>
                    <a:pt x="129" y="432"/>
                  </a:lnTo>
                  <a:lnTo>
                    <a:pt x="225" y="427"/>
                  </a:lnTo>
                  <a:lnTo>
                    <a:pt x="331" y="423"/>
                  </a:lnTo>
                  <a:lnTo>
                    <a:pt x="370" y="422"/>
                  </a:lnTo>
                  <a:lnTo>
                    <a:pt x="371" y="402"/>
                  </a:lnTo>
                  <a:lnTo>
                    <a:pt x="373" y="378"/>
                  </a:lnTo>
                  <a:lnTo>
                    <a:pt x="375" y="350"/>
                  </a:lnTo>
                  <a:lnTo>
                    <a:pt x="377" y="317"/>
                  </a:lnTo>
                  <a:lnTo>
                    <a:pt x="378" y="285"/>
                  </a:lnTo>
                  <a:lnTo>
                    <a:pt x="381" y="254"/>
                  </a:lnTo>
                  <a:lnTo>
                    <a:pt x="383" y="212"/>
                  </a:lnTo>
                  <a:lnTo>
                    <a:pt x="138" y="48"/>
                  </a:lnTo>
                </a:path>
              </a:pathLst>
            </a:cu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61880" y="1582560"/>
              <a:ext cx="622440" cy="700200"/>
            </a:xfrm>
            <a:custGeom>
              <a:avLst/>
              <a:gdLst/>
              <a:ahLst/>
              <a:rect l="l" t="t" r="r" b="b"/>
              <a:pathLst>
                <a:path w="392" h="441">
                  <a:moveTo>
                    <a:pt x="141" y="50"/>
                  </a:moveTo>
                  <a:lnTo>
                    <a:pt x="69" y="0"/>
                  </a:lnTo>
                  <a:lnTo>
                    <a:pt x="62" y="1"/>
                  </a:lnTo>
                  <a:lnTo>
                    <a:pt x="56" y="3"/>
                  </a:lnTo>
                  <a:lnTo>
                    <a:pt x="51" y="6"/>
                  </a:lnTo>
                  <a:lnTo>
                    <a:pt x="42" y="11"/>
                  </a:lnTo>
                  <a:lnTo>
                    <a:pt x="34" y="18"/>
                  </a:lnTo>
                  <a:lnTo>
                    <a:pt x="27" y="24"/>
                  </a:lnTo>
                  <a:lnTo>
                    <a:pt x="21" y="31"/>
                  </a:lnTo>
                  <a:lnTo>
                    <a:pt x="13" y="41"/>
                  </a:lnTo>
                  <a:lnTo>
                    <a:pt x="8" y="49"/>
                  </a:lnTo>
                  <a:lnTo>
                    <a:pt x="3" y="57"/>
                  </a:lnTo>
                  <a:lnTo>
                    <a:pt x="1" y="67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5" y="115"/>
                  </a:lnTo>
                  <a:lnTo>
                    <a:pt x="10" y="124"/>
                  </a:lnTo>
                  <a:lnTo>
                    <a:pt x="18" y="133"/>
                  </a:lnTo>
                  <a:lnTo>
                    <a:pt x="30" y="142"/>
                  </a:lnTo>
                  <a:lnTo>
                    <a:pt x="41" y="151"/>
                  </a:lnTo>
                  <a:lnTo>
                    <a:pt x="52" y="161"/>
                  </a:lnTo>
                  <a:lnTo>
                    <a:pt x="65" y="173"/>
                  </a:lnTo>
                  <a:lnTo>
                    <a:pt x="76" y="183"/>
                  </a:lnTo>
                  <a:lnTo>
                    <a:pt x="87" y="191"/>
                  </a:lnTo>
                  <a:lnTo>
                    <a:pt x="95" y="198"/>
                  </a:lnTo>
                  <a:lnTo>
                    <a:pt x="105" y="204"/>
                  </a:lnTo>
                  <a:lnTo>
                    <a:pt x="116" y="211"/>
                  </a:lnTo>
                  <a:lnTo>
                    <a:pt x="122" y="223"/>
                  </a:lnTo>
                  <a:lnTo>
                    <a:pt x="127" y="236"/>
                  </a:lnTo>
                  <a:lnTo>
                    <a:pt x="135" y="250"/>
                  </a:lnTo>
                  <a:lnTo>
                    <a:pt x="141" y="257"/>
                  </a:lnTo>
                  <a:lnTo>
                    <a:pt x="147" y="264"/>
                  </a:lnTo>
                  <a:lnTo>
                    <a:pt x="153" y="269"/>
                  </a:lnTo>
                  <a:lnTo>
                    <a:pt x="158" y="272"/>
                  </a:lnTo>
                  <a:lnTo>
                    <a:pt x="167" y="275"/>
                  </a:lnTo>
                  <a:lnTo>
                    <a:pt x="176" y="276"/>
                  </a:lnTo>
                  <a:lnTo>
                    <a:pt x="185" y="276"/>
                  </a:lnTo>
                  <a:lnTo>
                    <a:pt x="211" y="275"/>
                  </a:lnTo>
                  <a:lnTo>
                    <a:pt x="247" y="273"/>
                  </a:lnTo>
                  <a:lnTo>
                    <a:pt x="285" y="272"/>
                  </a:lnTo>
                  <a:lnTo>
                    <a:pt x="349" y="278"/>
                  </a:lnTo>
                  <a:lnTo>
                    <a:pt x="352" y="294"/>
                  </a:lnTo>
                  <a:lnTo>
                    <a:pt x="356" y="315"/>
                  </a:lnTo>
                  <a:lnTo>
                    <a:pt x="360" y="340"/>
                  </a:lnTo>
                  <a:lnTo>
                    <a:pt x="356" y="366"/>
                  </a:lnTo>
                  <a:lnTo>
                    <a:pt x="353" y="386"/>
                  </a:lnTo>
                  <a:lnTo>
                    <a:pt x="349" y="412"/>
                  </a:lnTo>
                  <a:lnTo>
                    <a:pt x="348" y="414"/>
                  </a:lnTo>
                  <a:lnTo>
                    <a:pt x="343" y="415"/>
                  </a:lnTo>
                  <a:lnTo>
                    <a:pt x="317" y="415"/>
                  </a:lnTo>
                  <a:lnTo>
                    <a:pt x="132" y="419"/>
                  </a:lnTo>
                  <a:lnTo>
                    <a:pt x="132" y="440"/>
                  </a:lnTo>
                  <a:lnTo>
                    <a:pt x="230" y="436"/>
                  </a:lnTo>
                  <a:lnTo>
                    <a:pt x="338" y="432"/>
                  </a:lnTo>
                  <a:lnTo>
                    <a:pt x="378" y="431"/>
                  </a:lnTo>
                  <a:lnTo>
                    <a:pt x="379" y="409"/>
                  </a:lnTo>
                  <a:lnTo>
                    <a:pt x="381" y="385"/>
                  </a:lnTo>
                  <a:lnTo>
                    <a:pt x="383" y="356"/>
                  </a:lnTo>
                  <a:lnTo>
                    <a:pt x="385" y="324"/>
                  </a:lnTo>
                  <a:lnTo>
                    <a:pt x="386" y="290"/>
                  </a:lnTo>
                  <a:lnTo>
                    <a:pt x="389" y="259"/>
                  </a:lnTo>
                  <a:lnTo>
                    <a:pt x="391" y="216"/>
                  </a:lnTo>
                  <a:lnTo>
                    <a:pt x="141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372960" y="1031760"/>
            <a:ext cx="1284480" cy="1246320"/>
            <a:chOff x="372960" y="1031760"/>
            <a:chExt cx="1284480" cy="1246320"/>
          </a:xfrm>
        </p:grpSpPr>
        <p:grpSp>
          <p:nvGrpSpPr>
            <p:cNvPr id="559" name=""/>
            <p:cNvGrpSpPr/>
            <p:nvPr/>
          </p:nvGrpSpPr>
          <p:grpSpPr>
            <a:xfrm>
              <a:off x="372960" y="1031760"/>
              <a:ext cx="1284480" cy="1246320"/>
              <a:chOff x="372960" y="1031760"/>
              <a:chExt cx="1284480" cy="1246320"/>
            </a:xfrm>
          </p:grpSpPr>
          <p:sp>
            <p:nvSpPr>
              <p:cNvPr id="560" name=""/>
              <p:cNvSpPr/>
              <p:nvPr/>
            </p:nvSpPr>
            <p:spPr>
              <a:xfrm>
                <a:off x="379440" y="1036800"/>
                <a:ext cx="1271520" cy="1233360"/>
              </a:xfrm>
              <a:custGeom>
                <a:avLst/>
                <a:gdLst/>
                <a:ahLst/>
                <a:rect l="l" t="t" r="r" b="b"/>
                <a:pathLst>
                  <a:path w="801" h="777">
                    <a:moveTo>
                      <a:pt x="63" y="169"/>
                    </a:moveTo>
                    <a:lnTo>
                      <a:pt x="54" y="159"/>
                    </a:lnTo>
                    <a:lnTo>
                      <a:pt x="45" y="143"/>
                    </a:lnTo>
                    <a:lnTo>
                      <a:pt x="32" y="129"/>
                    </a:lnTo>
                    <a:lnTo>
                      <a:pt x="0" y="112"/>
                    </a:lnTo>
                    <a:lnTo>
                      <a:pt x="48" y="131"/>
                    </a:lnTo>
                    <a:lnTo>
                      <a:pt x="50" y="128"/>
                    </a:lnTo>
                    <a:lnTo>
                      <a:pt x="52" y="125"/>
                    </a:lnTo>
                    <a:lnTo>
                      <a:pt x="0" y="97"/>
                    </a:lnTo>
                    <a:lnTo>
                      <a:pt x="26" y="106"/>
                    </a:lnTo>
                    <a:lnTo>
                      <a:pt x="14" y="82"/>
                    </a:lnTo>
                    <a:lnTo>
                      <a:pt x="41" y="107"/>
                    </a:lnTo>
                    <a:lnTo>
                      <a:pt x="69" y="117"/>
                    </a:lnTo>
                    <a:lnTo>
                      <a:pt x="76" y="115"/>
                    </a:lnTo>
                    <a:lnTo>
                      <a:pt x="27" y="70"/>
                    </a:lnTo>
                    <a:lnTo>
                      <a:pt x="57" y="83"/>
                    </a:lnTo>
                    <a:lnTo>
                      <a:pt x="91" y="114"/>
                    </a:lnTo>
                    <a:lnTo>
                      <a:pt x="59" y="71"/>
                    </a:lnTo>
                    <a:lnTo>
                      <a:pt x="110" y="100"/>
                    </a:lnTo>
                    <a:lnTo>
                      <a:pt x="79" y="66"/>
                    </a:lnTo>
                    <a:lnTo>
                      <a:pt x="118" y="100"/>
                    </a:lnTo>
                    <a:lnTo>
                      <a:pt x="126" y="95"/>
                    </a:lnTo>
                    <a:lnTo>
                      <a:pt x="83" y="53"/>
                    </a:lnTo>
                    <a:lnTo>
                      <a:pt x="137" y="94"/>
                    </a:lnTo>
                    <a:lnTo>
                      <a:pt x="145" y="94"/>
                    </a:lnTo>
                    <a:lnTo>
                      <a:pt x="108" y="57"/>
                    </a:lnTo>
                    <a:lnTo>
                      <a:pt x="148" y="87"/>
                    </a:lnTo>
                    <a:lnTo>
                      <a:pt x="124" y="51"/>
                    </a:lnTo>
                    <a:lnTo>
                      <a:pt x="149" y="75"/>
                    </a:lnTo>
                    <a:lnTo>
                      <a:pt x="168" y="85"/>
                    </a:lnTo>
                    <a:lnTo>
                      <a:pt x="143" y="40"/>
                    </a:lnTo>
                    <a:lnTo>
                      <a:pt x="162" y="67"/>
                    </a:lnTo>
                    <a:lnTo>
                      <a:pt x="181" y="80"/>
                    </a:lnTo>
                    <a:lnTo>
                      <a:pt x="154" y="6"/>
                    </a:lnTo>
                    <a:lnTo>
                      <a:pt x="181" y="47"/>
                    </a:lnTo>
                    <a:lnTo>
                      <a:pt x="196" y="65"/>
                    </a:lnTo>
                    <a:lnTo>
                      <a:pt x="184" y="37"/>
                    </a:lnTo>
                    <a:lnTo>
                      <a:pt x="208" y="77"/>
                    </a:lnTo>
                    <a:lnTo>
                      <a:pt x="195" y="30"/>
                    </a:lnTo>
                    <a:lnTo>
                      <a:pt x="210" y="0"/>
                    </a:lnTo>
                    <a:lnTo>
                      <a:pt x="201" y="34"/>
                    </a:lnTo>
                    <a:lnTo>
                      <a:pt x="213" y="59"/>
                    </a:lnTo>
                    <a:lnTo>
                      <a:pt x="215" y="30"/>
                    </a:lnTo>
                    <a:lnTo>
                      <a:pt x="233" y="21"/>
                    </a:lnTo>
                    <a:lnTo>
                      <a:pt x="219" y="36"/>
                    </a:lnTo>
                    <a:lnTo>
                      <a:pt x="221" y="68"/>
                    </a:lnTo>
                    <a:lnTo>
                      <a:pt x="232" y="53"/>
                    </a:lnTo>
                    <a:lnTo>
                      <a:pt x="226" y="75"/>
                    </a:lnTo>
                    <a:lnTo>
                      <a:pt x="237" y="83"/>
                    </a:lnTo>
                    <a:lnTo>
                      <a:pt x="249" y="95"/>
                    </a:lnTo>
                    <a:lnTo>
                      <a:pt x="257" y="99"/>
                    </a:lnTo>
                    <a:lnTo>
                      <a:pt x="280" y="106"/>
                    </a:lnTo>
                    <a:lnTo>
                      <a:pt x="316" y="116"/>
                    </a:lnTo>
                    <a:lnTo>
                      <a:pt x="337" y="123"/>
                    </a:lnTo>
                    <a:lnTo>
                      <a:pt x="360" y="130"/>
                    </a:lnTo>
                    <a:lnTo>
                      <a:pt x="383" y="139"/>
                    </a:lnTo>
                    <a:lnTo>
                      <a:pt x="407" y="148"/>
                    </a:lnTo>
                    <a:lnTo>
                      <a:pt x="425" y="160"/>
                    </a:lnTo>
                    <a:lnTo>
                      <a:pt x="432" y="168"/>
                    </a:lnTo>
                    <a:lnTo>
                      <a:pt x="435" y="173"/>
                    </a:lnTo>
                    <a:lnTo>
                      <a:pt x="432" y="176"/>
                    </a:lnTo>
                    <a:lnTo>
                      <a:pt x="421" y="179"/>
                    </a:lnTo>
                    <a:lnTo>
                      <a:pt x="391" y="185"/>
                    </a:lnTo>
                    <a:lnTo>
                      <a:pt x="363" y="189"/>
                    </a:lnTo>
                    <a:lnTo>
                      <a:pt x="363" y="210"/>
                    </a:lnTo>
                    <a:lnTo>
                      <a:pt x="381" y="252"/>
                    </a:lnTo>
                    <a:lnTo>
                      <a:pt x="388" y="269"/>
                    </a:lnTo>
                    <a:lnTo>
                      <a:pt x="393" y="294"/>
                    </a:lnTo>
                    <a:lnTo>
                      <a:pt x="392" y="298"/>
                    </a:lnTo>
                    <a:lnTo>
                      <a:pt x="389" y="303"/>
                    </a:lnTo>
                    <a:lnTo>
                      <a:pt x="383" y="305"/>
                    </a:lnTo>
                    <a:lnTo>
                      <a:pt x="377" y="307"/>
                    </a:lnTo>
                    <a:lnTo>
                      <a:pt x="371" y="308"/>
                    </a:lnTo>
                    <a:lnTo>
                      <a:pt x="351" y="306"/>
                    </a:lnTo>
                    <a:lnTo>
                      <a:pt x="338" y="304"/>
                    </a:lnTo>
                    <a:lnTo>
                      <a:pt x="336" y="316"/>
                    </a:lnTo>
                    <a:lnTo>
                      <a:pt x="343" y="327"/>
                    </a:lnTo>
                    <a:lnTo>
                      <a:pt x="366" y="354"/>
                    </a:lnTo>
                    <a:lnTo>
                      <a:pt x="379" y="371"/>
                    </a:lnTo>
                    <a:lnTo>
                      <a:pt x="395" y="392"/>
                    </a:lnTo>
                    <a:lnTo>
                      <a:pt x="421" y="421"/>
                    </a:lnTo>
                    <a:lnTo>
                      <a:pt x="429" y="445"/>
                    </a:lnTo>
                    <a:lnTo>
                      <a:pt x="475" y="476"/>
                    </a:lnTo>
                    <a:lnTo>
                      <a:pt x="513" y="500"/>
                    </a:lnTo>
                    <a:lnTo>
                      <a:pt x="518" y="512"/>
                    </a:lnTo>
                    <a:lnTo>
                      <a:pt x="529" y="535"/>
                    </a:lnTo>
                    <a:lnTo>
                      <a:pt x="536" y="556"/>
                    </a:lnTo>
                    <a:lnTo>
                      <a:pt x="544" y="578"/>
                    </a:lnTo>
                    <a:lnTo>
                      <a:pt x="559" y="618"/>
                    </a:lnTo>
                    <a:lnTo>
                      <a:pt x="574" y="643"/>
                    </a:lnTo>
                    <a:lnTo>
                      <a:pt x="602" y="684"/>
                    </a:lnTo>
                    <a:lnTo>
                      <a:pt x="612" y="691"/>
                    </a:lnTo>
                    <a:lnTo>
                      <a:pt x="622" y="697"/>
                    </a:lnTo>
                    <a:lnTo>
                      <a:pt x="632" y="702"/>
                    </a:lnTo>
                    <a:lnTo>
                      <a:pt x="640" y="704"/>
                    </a:lnTo>
                    <a:lnTo>
                      <a:pt x="658" y="707"/>
                    </a:lnTo>
                    <a:lnTo>
                      <a:pt x="668" y="708"/>
                    </a:lnTo>
                    <a:lnTo>
                      <a:pt x="688" y="712"/>
                    </a:lnTo>
                    <a:lnTo>
                      <a:pt x="711" y="717"/>
                    </a:lnTo>
                    <a:lnTo>
                      <a:pt x="731" y="723"/>
                    </a:lnTo>
                    <a:lnTo>
                      <a:pt x="748" y="729"/>
                    </a:lnTo>
                    <a:lnTo>
                      <a:pt x="766" y="738"/>
                    </a:lnTo>
                    <a:lnTo>
                      <a:pt x="779" y="743"/>
                    </a:lnTo>
                    <a:lnTo>
                      <a:pt x="791" y="750"/>
                    </a:lnTo>
                    <a:lnTo>
                      <a:pt x="796" y="754"/>
                    </a:lnTo>
                    <a:lnTo>
                      <a:pt x="800" y="760"/>
                    </a:lnTo>
                    <a:lnTo>
                      <a:pt x="799" y="764"/>
                    </a:lnTo>
                    <a:lnTo>
                      <a:pt x="799" y="769"/>
                    </a:lnTo>
                    <a:lnTo>
                      <a:pt x="793" y="770"/>
                    </a:lnTo>
                    <a:lnTo>
                      <a:pt x="780" y="771"/>
                    </a:lnTo>
                    <a:lnTo>
                      <a:pt x="747" y="776"/>
                    </a:lnTo>
                    <a:lnTo>
                      <a:pt x="697" y="772"/>
                    </a:lnTo>
                    <a:lnTo>
                      <a:pt x="614" y="775"/>
                    </a:lnTo>
                    <a:lnTo>
                      <a:pt x="539" y="775"/>
                    </a:lnTo>
                    <a:lnTo>
                      <a:pt x="520" y="774"/>
                    </a:lnTo>
                    <a:lnTo>
                      <a:pt x="513" y="774"/>
                    </a:lnTo>
                    <a:lnTo>
                      <a:pt x="508" y="772"/>
                    </a:lnTo>
                    <a:lnTo>
                      <a:pt x="505" y="762"/>
                    </a:lnTo>
                    <a:lnTo>
                      <a:pt x="501" y="727"/>
                    </a:lnTo>
                    <a:lnTo>
                      <a:pt x="491" y="653"/>
                    </a:lnTo>
                    <a:lnTo>
                      <a:pt x="488" y="621"/>
                    </a:lnTo>
                    <a:lnTo>
                      <a:pt x="480" y="593"/>
                    </a:lnTo>
                    <a:lnTo>
                      <a:pt x="473" y="582"/>
                    </a:lnTo>
                    <a:lnTo>
                      <a:pt x="465" y="577"/>
                    </a:lnTo>
                    <a:lnTo>
                      <a:pt x="454" y="574"/>
                    </a:lnTo>
                    <a:lnTo>
                      <a:pt x="438" y="571"/>
                    </a:lnTo>
                    <a:lnTo>
                      <a:pt x="423" y="569"/>
                    </a:lnTo>
                    <a:lnTo>
                      <a:pt x="400" y="568"/>
                    </a:lnTo>
                    <a:lnTo>
                      <a:pt x="370" y="567"/>
                    </a:lnTo>
                    <a:lnTo>
                      <a:pt x="315" y="569"/>
                    </a:lnTo>
                    <a:lnTo>
                      <a:pt x="265" y="572"/>
                    </a:lnTo>
                    <a:lnTo>
                      <a:pt x="252" y="572"/>
                    </a:lnTo>
                    <a:lnTo>
                      <a:pt x="243" y="572"/>
                    </a:lnTo>
                    <a:lnTo>
                      <a:pt x="233" y="570"/>
                    </a:lnTo>
                    <a:lnTo>
                      <a:pt x="225" y="568"/>
                    </a:lnTo>
                    <a:lnTo>
                      <a:pt x="219" y="566"/>
                    </a:lnTo>
                    <a:lnTo>
                      <a:pt x="215" y="562"/>
                    </a:lnTo>
                    <a:lnTo>
                      <a:pt x="210" y="558"/>
                    </a:lnTo>
                    <a:lnTo>
                      <a:pt x="206" y="553"/>
                    </a:lnTo>
                    <a:lnTo>
                      <a:pt x="202" y="546"/>
                    </a:lnTo>
                    <a:lnTo>
                      <a:pt x="197" y="538"/>
                    </a:lnTo>
                    <a:lnTo>
                      <a:pt x="187" y="523"/>
                    </a:lnTo>
                    <a:lnTo>
                      <a:pt x="178" y="507"/>
                    </a:lnTo>
                    <a:lnTo>
                      <a:pt x="168" y="491"/>
                    </a:lnTo>
                    <a:lnTo>
                      <a:pt x="158" y="476"/>
                    </a:lnTo>
                    <a:lnTo>
                      <a:pt x="145" y="459"/>
                    </a:lnTo>
                    <a:lnTo>
                      <a:pt x="136" y="449"/>
                    </a:lnTo>
                    <a:lnTo>
                      <a:pt x="129" y="440"/>
                    </a:lnTo>
                    <a:lnTo>
                      <a:pt x="126" y="436"/>
                    </a:lnTo>
                    <a:lnTo>
                      <a:pt x="124" y="429"/>
                    </a:lnTo>
                    <a:lnTo>
                      <a:pt x="122" y="405"/>
                    </a:lnTo>
                    <a:lnTo>
                      <a:pt x="116" y="345"/>
                    </a:lnTo>
                    <a:lnTo>
                      <a:pt x="112" y="318"/>
                    </a:lnTo>
                    <a:lnTo>
                      <a:pt x="118" y="293"/>
                    </a:lnTo>
                    <a:lnTo>
                      <a:pt x="122" y="269"/>
                    </a:lnTo>
                    <a:lnTo>
                      <a:pt x="96" y="232"/>
                    </a:lnTo>
                    <a:lnTo>
                      <a:pt x="88" y="213"/>
                    </a:lnTo>
                    <a:lnTo>
                      <a:pt x="81" y="197"/>
                    </a:lnTo>
                    <a:lnTo>
                      <a:pt x="75" y="183"/>
                    </a:lnTo>
                    <a:lnTo>
                      <a:pt x="63" y="169"/>
                    </a:lnTo>
                  </a:path>
                </a:pathLst>
              </a:custGeom>
              <a:solidFill>
                <a:srgbClr val="ffc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72960" y="1031760"/>
                <a:ext cx="1284480" cy="1246320"/>
              </a:xfrm>
              <a:custGeom>
                <a:avLst/>
                <a:gdLst/>
                <a:ahLst/>
                <a:rect l="l" t="t" r="r" b="b"/>
                <a:pathLst>
                  <a:path w="809" h="785">
                    <a:moveTo>
                      <a:pt x="64" y="171"/>
                    </a:moveTo>
                    <a:lnTo>
                      <a:pt x="55" y="160"/>
                    </a:lnTo>
                    <a:lnTo>
                      <a:pt x="45" y="144"/>
                    </a:lnTo>
                    <a:lnTo>
                      <a:pt x="32" y="129"/>
                    </a:lnTo>
                    <a:lnTo>
                      <a:pt x="0" y="112"/>
                    </a:lnTo>
                    <a:lnTo>
                      <a:pt x="48" y="131"/>
                    </a:lnTo>
                    <a:lnTo>
                      <a:pt x="51" y="129"/>
                    </a:lnTo>
                    <a:lnTo>
                      <a:pt x="53" y="126"/>
                    </a:lnTo>
                    <a:lnTo>
                      <a:pt x="0" y="98"/>
                    </a:lnTo>
                    <a:lnTo>
                      <a:pt x="26" y="106"/>
                    </a:lnTo>
                    <a:lnTo>
                      <a:pt x="14" y="82"/>
                    </a:lnTo>
                    <a:lnTo>
                      <a:pt x="41" y="107"/>
                    </a:lnTo>
                    <a:lnTo>
                      <a:pt x="70" y="117"/>
                    </a:lnTo>
                    <a:lnTo>
                      <a:pt x="77" y="116"/>
                    </a:lnTo>
                    <a:lnTo>
                      <a:pt x="27" y="70"/>
                    </a:lnTo>
                    <a:lnTo>
                      <a:pt x="58" y="84"/>
                    </a:lnTo>
                    <a:lnTo>
                      <a:pt x="92" y="115"/>
                    </a:lnTo>
                    <a:lnTo>
                      <a:pt x="60" y="71"/>
                    </a:lnTo>
                    <a:lnTo>
                      <a:pt x="111" y="100"/>
                    </a:lnTo>
                    <a:lnTo>
                      <a:pt x="80" y="67"/>
                    </a:lnTo>
                    <a:lnTo>
                      <a:pt x="119" y="100"/>
                    </a:lnTo>
                    <a:lnTo>
                      <a:pt x="127" y="95"/>
                    </a:lnTo>
                    <a:lnTo>
                      <a:pt x="84" y="53"/>
                    </a:lnTo>
                    <a:lnTo>
                      <a:pt x="138" y="94"/>
                    </a:lnTo>
                    <a:lnTo>
                      <a:pt x="146" y="94"/>
                    </a:lnTo>
                    <a:lnTo>
                      <a:pt x="109" y="57"/>
                    </a:lnTo>
                    <a:lnTo>
                      <a:pt x="149" y="87"/>
                    </a:lnTo>
                    <a:lnTo>
                      <a:pt x="125" y="51"/>
                    </a:lnTo>
                    <a:lnTo>
                      <a:pt x="150" y="75"/>
                    </a:lnTo>
                    <a:lnTo>
                      <a:pt x="170" y="86"/>
                    </a:lnTo>
                    <a:lnTo>
                      <a:pt x="144" y="39"/>
                    </a:lnTo>
                    <a:lnTo>
                      <a:pt x="164" y="68"/>
                    </a:lnTo>
                    <a:lnTo>
                      <a:pt x="183" y="81"/>
                    </a:lnTo>
                    <a:lnTo>
                      <a:pt x="156" y="5"/>
                    </a:lnTo>
                    <a:lnTo>
                      <a:pt x="183" y="46"/>
                    </a:lnTo>
                    <a:lnTo>
                      <a:pt x="198" y="65"/>
                    </a:lnTo>
                    <a:lnTo>
                      <a:pt x="186" y="37"/>
                    </a:lnTo>
                    <a:lnTo>
                      <a:pt x="210" y="78"/>
                    </a:lnTo>
                    <a:lnTo>
                      <a:pt x="197" y="30"/>
                    </a:lnTo>
                    <a:lnTo>
                      <a:pt x="212" y="0"/>
                    </a:lnTo>
                    <a:lnTo>
                      <a:pt x="203" y="33"/>
                    </a:lnTo>
                    <a:lnTo>
                      <a:pt x="215" y="59"/>
                    </a:lnTo>
                    <a:lnTo>
                      <a:pt x="217" y="30"/>
                    </a:lnTo>
                    <a:lnTo>
                      <a:pt x="235" y="21"/>
                    </a:lnTo>
                    <a:lnTo>
                      <a:pt x="221" y="35"/>
                    </a:lnTo>
                    <a:lnTo>
                      <a:pt x="223" y="69"/>
                    </a:lnTo>
                    <a:lnTo>
                      <a:pt x="234" y="53"/>
                    </a:lnTo>
                    <a:lnTo>
                      <a:pt x="228" y="75"/>
                    </a:lnTo>
                    <a:lnTo>
                      <a:pt x="239" y="84"/>
                    </a:lnTo>
                    <a:lnTo>
                      <a:pt x="251" y="95"/>
                    </a:lnTo>
                    <a:lnTo>
                      <a:pt x="260" y="99"/>
                    </a:lnTo>
                    <a:lnTo>
                      <a:pt x="283" y="106"/>
                    </a:lnTo>
                    <a:lnTo>
                      <a:pt x="319" y="117"/>
                    </a:lnTo>
                    <a:lnTo>
                      <a:pt x="340" y="123"/>
                    </a:lnTo>
                    <a:lnTo>
                      <a:pt x="364" y="130"/>
                    </a:lnTo>
                    <a:lnTo>
                      <a:pt x="387" y="140"/>
                    </a:lnTo>
                    <a:lnTo>
                      <a:pt x="411" y="150"/>
                    </a:lnTo>
                    <a:lnTo>
                      <a:pt x="429" y="162"/>
                    </a:lnTo>
                    <a:lnTo>
                      <a:pt x="436" y="170"/>
                    </a:lnTo>
                    <a:lnTo>
                      <a:pt x="439" y="174"/>
                    </a:lnTo>
                    <a:lnTo>
                      <a:pt x="436" y="178"/>
                    </a:lnTo>
                    <a:lnTo>
                      <a:pt x="425" y="181"/>
                    </a:lnTo>
                    <a:lnTo>
                      <a:pt x="395" y="186"/>
                    </a:lnTo>
                    <a:lnTo>
                      <a:pt x="367" y="190"/>
                    </a:lnTo>
                    <a:lnTo>
                      <a:pt x="367" y="212"/>
                    </a:lnTo>
                    <a:lnTo>
                      <a:pt x="385" y="255"/>
                    </a:lnTo>
                    <a:lnTo>
                      <a:pt x="392" y="272"/>
                    </a:lnTo>
                    <a:lnTo>
                      <a:pt x="397" y="297"/>
                    </a:lnTo>
                    <a:lnTo>
                      <a:pt x="396" y="301"/>
                    </a:lnTo>
                    <a:lnTo>
                      <a:pt x="393" y="305"/>
                    </a:lnTo>
                    <a:lnTo>
                      <a:pt x="387" y="308"/>
                    </a:lnTo>
                    <a:lnTo>
                      <a:pt x="381" y="310"/>
                    </a:lnTo>
                    <a:lnTo>
                      <a:pt x="375" y="310"/>
                    </a:lnTo>
                    <a:lnTo>
                      <a:pt x="355" y="309"/>
                    </a:lnTo>
                    <a:lnTo>
                      <a:pt x="341" y="307"/>
                    </a:lnTo>
                    <a:lnTo>
                      <a:pt x="339" y="319"/>
                    </a:lnTo>
                    <a:lnTo>
                      <a:pt x="346" y="329"/>
                    </a:lnTo>
                    <a:lnTo>
                      <a:pt x="370" y="358"/>
                    </a:lnTo>
                    <a:lnTo>
                      <a:pt x="383" y="375"/>
                    </a:lnTo>
                    <a:lnTo>
                      <a:pt x="399" y="395"/>
                    </a:lnTo>
                    <a:lnTo>
                      <a:pt x="425" y="424"/>
                    </a:lnTo>
                    <a:lnTo>
                      <a:pt x="433" y="449"/>
                    </a:lnTo>
                    <a:lnTo>
                      <a:pt x="480" y="481"/>
                    </a:lnTo>
                    <a:lnTo>
                      <a:pt x="518" y="504"/>
                    </a:lnTo>
                    <a:lnTo>
                      <a:pt x="523" y="516"/>
                    </a:lnTo>
                    <a:lnTo>
                      <a:pt x="534" y="540"/>
                    </a:lnTo>
                    <a:lnTo>
                      <a:pt x="541" y="562"/>
                    </a:lnTo>
                    <a:lnTo>
                      <a:pt x="549" y="583"/>
                    </a:lnTo>
                    <a:lnTo>
                      <a:pt x="565" y="623"/>
                    </a:lnTo>
                    <a:lnTo>
                      <a:pt x="580" y="650"/>
                    </a:lnTo>
                    <a:lnTo>
                      <a:pt x="608" y="690"/>
                    </a:lnTo>
                    <a:lnTo>
                      <a:pt x="618" y="697"/>
                    </a:lnTo>
                    <a:lnTo>
                      <a:pt x="628" y="703"/>
                    </a:lnTo>
                    <a:lnTo>
                      <a:pt x="638" y="708"/>
                    </a:lnTo>
                    <a:lnTo>
                      <a:pt x="646" y="711"/>
                    </a:lnTo>
                    <a:lnTo>
                      <a:pt x="665" y="713"/>
                    </a:lnTo>
                    <a:lnTo>
                      <a:pt x="675" y="714"/>
                    </a:lnTo>
                    <a:lnTo>
                      <a:pt x="695" y="719"/>
                    </a:lnTo>
                    <a:lnTo>
                      <a:pt x="718" y="724"/>
                    </a:lnTo>
                    <a:lnTo>
                      <a:pt x="738" y="730"/>
                    </a:lnTo>
                    <a:lnTo>
                      <a:pt x="755" y="737"/>
                    </a:lnTo>
                    <a:lnTo>
                      <a:pt x="774" y="745"/>
                    </a:lnTo>
                    <a:lnTo>
                      <a:pt x="787" y="750"/>
                    </a:lnTo>
                    <a:lnTo>
                      <a:pt x="799" y="757"/>
                    </a:lnTo>
                    <a:lnTo>
                      <a:pt x="804" y="761"/>
                    </a:lnTo>
                    <a:lnTo>
                      <a:pt x="808" y="767"/>
                    </a:lnTo>
                    <a:lnTo>
                      <a:pt x="807" y="772"/>
                    </a:lnTo>
                    <a:lnTo>
                      <a:pt x="807" y="777"/>
                    </a:lnTo>
                    <a:lnTo>
                      <a:pt x="801" y="778"/>
                    </a:lnTo>
                    <a:lnTo>
                      <a:pt x="788" y="779"/>
                    </a:lnTo>
                    <a:lnTo>
                      <a:pt x="754" y="784"/>
                    </a:lnTo>
                    <a:lnTo>
                      <a:pt x="704" y="779"/>
                    </a:lnTo>
                    <a:lnTo>
                      <a:pt x="620" y="783"/>
                    </a:lnTo>
                    <a:lnTo>
                      <a:pt x="544" y="783"/>
                    </a:lnTo>
                    <a:lnTo>
                      <a:pt x="525" y="782"/>
                    </a:lnTo>
                    <a:lnTo>
                      <a:pt x="518" y="781"/>
                    </a:lnTo>
                    <a:lnTo>
                      <a:pt x="513" y="779"/>
                    </a:lnTo>
                    <a:lnTo>
                      <a:pt x="510" y="769"/>
                    </a:lnTo>
                    <a:lnTo>
                      <a:pt x="506" y="733"/>
                    </a:lnTo>
                    <a:lnTo>
                      <a:pt x="496" y="659"/>
                    </a:lnTo>
                    <a:lnTo>
                      <a:pt x="493" y="627"/>
                    </a:lnTo>
                    <a:lnTo>
                      <a:pt x="485" y="599"/>
                    </a:lnTo>
                    <a:lnTo>
                      <a:pt x="478" y="587"/>
                    </a:lnTo>
                    <a:lnTo>
                      <a:pt x="470" y="582"/>
                    </a:lnTo>
                    <a:lnTo>
                      <a:pt x="459" y="580"/>
                    </a:lnTo>
                    <a:lnTo>
                      <a:pt x="442" y="576"/>
                    </a:lnTo>
                    <a:lnTo>
                      <a:pt x="427" y="575"/>
                    </a:lnTo>
                    <a:lnTo>
                      <a:pt x="404" y="574"/>
                    </a:lnTo>
                    <a:lnTo>
                      <a:pt x="374" y="573"/>
                    </a:lnTo>
                    <a:lnTo>
                      <a:pt x="318" y="575"/>
                    </a:lnTo>
                    <a:lnTo>
                      <a:pt x="268" y="577"/>
                    </a:lnTo>
                    <a:lnTo>
                      <a:pt x="255" y="577"/>
                    </a:lnTo>
                    <a:lnTo>
                      <a:pt x="245" y="577"/>
                    </a:lnTo>
                    <a:lnTo>
                      <a:pt x="235" y="575"/>
                    </a:lnTo>
                    <a:lnTo>
                      <a:pt x="227" y="574"/>
                    </a:lnTo>
                    <a:lnTo>
                      <a:pt x="221" y="571"/>
                    </a:lnTo>
                    <a:lnTo>
                      <a:pt x="217" y="568"/>
                    </a:lnTo>
                    <a:lnTo>
                      <a:pt x="212" y="563"/>
                    </a:lnTo>
                    <a:lnTo>
                      <a:pt x="208" y="558"/>
                    </a:lnTo>
                    <a:lnTo>
                      <a:pt x="204" y="551"/>
                    </a:lnTo>
                    <a:lnTo>
                      <a:pt x="199" y="544"/>
                    </a:lnTo>
                    <a:lnTo>
                      <a:pt x="189" y="527"/>
                    </a:lnTo>
                    <a:lnTo>
                      <a:pt x="180" y="512"/>
                    </a:lnTo>
                    <a:lnTo>
                      <a:pt x="170" y="496"/>
                    </a:lnTo>
                    <a:lnTo>
                      <a:pt x="160" y="481"/>
                    </a:lnTo>
                    <a:lnTo>
                      <a:pt x="146" y="464"/>
                    </a:lnTo>
                    <a:lnTo>
                      <a:pt x="137" y="454"/>
                    </a:lnTo>
                    <a:lnTo>
                      <a:pt x="130" y="445"/>
                    </a:lnTo>
                    <a:lnTo>
                      <a:pt x="127" y="440"/>
                    </a:lnTo>
                    <a:lnTo>
                      <a:pt x="125" y="432"/>
                    </a:lnTo>
                    <a:lnTo>
                      <a:pt x="123" y="408"/>
                    </a:lnTo>
                    <a:lnTo>
                      <a:pt x="117" y="348"/>
                    </a:lnTo>
                    <a:lnTo>
                      <a:pt x="113" y="321"/>
                    </a:lnTo>
                    <a:lnTo>
                      <a:pt x="119" y="296"/>
                    </a:lnTo>
                    <a:lnTo>
                      <a:pt x="123" y="272"/>
                    </a:lnTo>
                    <a:lnTo>
                      <a:pt x="97" y="233"/>
                    </a:lnTo>
                    <a:lnTo>
                      <a:pt x="89" y="214"/>
                    </a:lnTo>
                    <a:lnTo>
                      <a:pt x="82" y="198"/>
                    </a:lnTo>
                    <a:lnTo>
                      <a:pt x="76" y="184"/>
                    </a:lnTo>
                    <a:lnTo>
                      <a:pt x="64" y="17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642960" y="1193760"/>
              <a:ext cx="376200" cy="596880"/>
              <a:chOff x="642960" y="1193760"/>
              <a:chExt cx="376200" cy="59688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714240" y="1193760"/>
                <a:ext cx="81000" cy="111240"/>
                <a:chOff x="714240" y="1193760"/>
                <a:chExt cx="81000" cy="11124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790560" y="1239840"/>
                  <a:ext cx="4680" cy="65160"/>
                </a:xfrm>
                <a:prstGeom prst="ellipse">
                  <a:avLst/>
                </a:prstGeom>
                <a:solidFill>
                  <a:srgbClr val="ffc5c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5" name=""/>
                <p:cNvGrpSpPr/>
                <p:nvPr/>
              </p:nvGrpSpPr>
              <p:grpSpPr>
                <a:xfrm>
                  <a:off x="714240" y="1193760"/>
                  <a:ext cx="46080" cy="54000"/>
                  <a:chOff x="714240" y="1193760"/>
                  <a:chExt cx="46080" cy="54000"/>
                </a:xfrm>
              </p:grpSpPr>
              <p:sp>
                <p:nvSpPr>
                  <p:cNvPr id="566" name=""/>
                  <p:cNvSpPr/>
                  <p:nvPr/>
                </p:nvSpPr>
                <p:spPr>
                  <a:xfrm>
                    <a:off x="720720" y="1198440"/>
                    <a:ext cx="334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7">
                        <a:moveTo>
                          <a:pt x="20" y="0"/>
                        </a:moveTo>
                        <a:lnTo>
                          <a:pt x="14" y="1"/>
                        </a:lnTo>
                        <a:lnTo>
                          <a:pt x="10" y="2"/>
                        </a:lnTo>
                        <a:lnTo>
                          <a:pt x="6" y="5"/>
                        </a:lnTo>
                        <a:lnTo>
                          <a:pt x="4" y="7"/>
                        </a:lnTo>
                        <a:lnTo>
                          <a:pt x="2" y="11"/>
                        </a:lnTo>
                        <a:lnTo>
                          <a:pt x="0" y="17"/>
                        </a:lnTo>
                        <a:lnTo>
                          <a:pt x="0" y="21"/>
                        </a:lnTo>
                        <a:lnTo>
                          <a:pt x="1" y="26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714240" y="1193760"/>
                    <a:ext cx="4608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4">
                        <a:moveTo>
                          <a:pt x="28" y="0"/>
                        </a:moveTo>
                        <a:lnTo>
                          <a:pt x="20" y="1"/>
                        </a:lnTo>
                        <a:lnTo>
                          <a:pt x="14" y="3"/>
                        </a:lnTo>
                        <a:lnTo>
                          <a:pt x="9" y="5"/>
                        </a:lnTo>
                        <a:lnTo>
                          <a:pt x="5" y="9"/>
                        </a:lnTo>
                        <a:lnTo>
                          <a:pt x="3" y="15"/>
                        </a:lnTo>
                        <a:lnTo>
                          <a:pt x="0" y="21"/>
                        </a:lnTo>
                        <a:lnTo>
                          <a:pt x="0" y="27"/>
                        </a:lnTo>
                        <a:lnTo>
                          <a:pt x="1" y="3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68" name=""/>
              <p:cNvGrpSpPr/>
              <p:nvPr/>
            </p:nvGrpSpPr>
            <p:grpSpPr>
              <a:xfrm>
                <a:off x="642960" y="1440000"/>
                <a:ext cx="376200" cy="350640"/>
                <a:chOff x="642960" y="1440000"/>
                <a:chExt cx="376200" cy="350640"/>
              </a:xfrm>
            </p:grpSpPr>
            <p:grpSp>
              <p:nvGrpSpPr>
                <p:cNvPr id="569" name=""/>
                <p:cNvGrpSpPr/>
                <p:nvPr/>
              </p:nvGrpSpPr>
              <p:grpSpPr>
                <a:xfrm>
                  <a:off x="642960" y="1638360"/>
                  <a:ext cx="376200" cy="152280"/>
                  <a:chOff x="642960" y="1638360"/>
                  <a:chExt cx="376200" cy="152280"/>
                </a:xfrm>
              </p:grpSpPr>
              <p:sp>
                <p:nvSpPr>
                  <p:cNvPr id="570" name=""/>
                  <p:cNvSpPr/>
                  <p:nvPr/>
                </p:nvSpPr>
                <p:spPr>
                  <a:xfrm>
                    <a:off x="649440" y="1644480"/>
                    <a:ext cx="3632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87">
                        <a:moveTo>
                          <a:pt x="0" y="0"/>
                        </a:moveTo>
                        <a:lnTo>
                          <a:pt x="11" y="8"/>
                        </a:lnTo>
                        <a:lnTo>
                          <a:pt x="30" y="24"/>
                        </a:lnTo>
                        <a:lnTo>
                          <a:pt x="51" y="40"/>
                        </a:lnTo>
                        <a:lnTo>
                          <a:pt x="71" y="54"/>
                        </a:lnTo>
                        <a:lnTo>
                          <a:pt x="88" y="65"/>
                        </a:lnTo>
                        <a:lnTo>
                          <a:pt x="102" y="72"/>
                        </a:lnTo>
                        <a:lnTo>
                          <a:pt x="111" y="77"/>
                        </a:lnTo>
                        <a:lnTo>
                          <a:pt x="122" y="80"/>
                        </a:lnTo>
                        <a:lnTo>
                          <a:pt x="135" y="82"/>
                        </a:lnTo>
                        <a:lnTo>
                          <a:pt x="151" y="84"/>
                        </a:lnTo>
                        <a:lnTo>
                          <a:pt x="165" y="86"/>
                        </a:lnTo>
                        <a:lnTo>
                          <a:pt x="175" y="86"/>
                        </a:lnTo>
                        <a:lnTo>
                          <a:pt x="186" y="83"/>
                        </a:lnTo>
                        <a:lnTo>
                          <a:pt x="196" y="80"/>
                        </a:lnTo>
                        <a:lnTo>
                          <a:pt x="205" y="79"/>
                        </a:lnTo>
                        <a:lnTo>
                          <a:pt x="215" y="77"/>
                        </a:lnTo>
                        <a:lnTo>
                          <a:pt x="228" y="7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642960" y="1638360"/>
                    <a:ext cx="37620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7" h="96">
                        <a:moveTo>
                          <a:pt x="0" y="0"/>
                        </a:moveTo>
                        <a:lnTo>
                          <a:pt x="11" y="10"/>
                        </a:lnTo>
                        <a:lnTo>
                          <a:pt x="31" y="27"/>
                        </a:lnTo>
                        <a:lnTo>
                          <a:pt x="53" y="44"/>
                        </a:lnTo>
                        <a:lnTo>
                          <a:pt x="74" y="60"/>
                        </a:lnTo>
                        <a:lnTo>
                          <a:pt x="91" y="72"/>
                        </a:lnTo>
                        <a:lnTo>
                          <a:pt x="106" y="79"/>
                        </a:lnTo>
                        <a:lnTo>
                          <a:pt x="115" y="84"/>
                        </a:lnTo>
                        <a:lnTo>
                          <a:pt x="126" y="88"/>
                        </a:lnTo>
                        <a:lnTo>
                          <a:pt x="140" y="90"/>
                        </a:lnTo>
                        <a:lnTo>
                          <a:pt x="156" y="93"/>
                        </a:lnTo>
                        <a:lnTo>
                          <a:pt x="171" y="95"/>
                        </a:lnTo>
                        <a:lnTo>
                          <a:pt x="181" y="95"/>
                        </a:lnTo>
                        <a:lnTo>
                          <a:pt x="193" y="91"/>
                        </a:lnTo>
                        <a:lnTo>
                          <a:pt x="203" y="88"/>
                        </a:lnTo>
                        <a:lnTo>
                          <a:pt x="212" y="86"/>
                        </a:lnTo>
                        <a:lnTo>
                          <a:pt x="223" y="84"/>
                        </a:lnTo>
                        <a:lnTo>
                          <a:pt x="236" y="8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2" name=""/>
                <p:cNvGrpSpPr/>
                <p:nvPr/>
              </p:nvGrpSpPr>
              <p:grpSpPr>
                <a:xfrm>
                  <a:off x="695160" y="1440000"/>
                  <a:ext cx="217800" cy="258480"/>
                  <a:chOff x="695160" y="1440000"/>
                  <a:chExt cx="217800" cy="258480"/>
                </a:xfrm>
              </p:grpSpPr>
              <p:sp>
                <p:nvSpPr>
                  <p:cNvPr id="573" name=""/>
                  <p:cNvSpPr/>
                  <p:nvPr/>
                </p:nvSpPr>
                <p:spPr>
                  <a:xfrm>
                    <a:off x="701640" y="1446120"/>
                    <a:ext cx="204840" cy="24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155">
                        <a:moveTo>
                          <a:pt x="128" y="58"/>
                        </a:moveTo>
                        <a:lnTo>
                          <a:pt x="124" y="47"/>
                        </a:lnTo>
                        <a:lnTo>
                          <a:pt x="122" y="38"/>
                        </a:lnTo>
                        <a:lnTo>
                          <a:pt x="121" y="27"/>
                        </a:lnTo>
                        <a:lnTo>
                          <a:pt x="122" y="20"/>
                        </a:lnTo>
                        <a:lnTo>
                          <a:pt x="124" y="14"/>
                        </a:lnTo>
                        <a:lnTo>
                          <a:pt x="123" y="7"/>
                        </a:lnTo>
                        <a:lnTo>
                          <a:pt x="121" y="1"/>
                        </a:lnTo>
                        <a:lnTo>
                          <a:pt x="119" y="1"/>
                        </a:lnTo>
                        <a:lnTo>
                          <a:pt x="117" y="1"/>
                        </a:lnTo>
                        <a:lnTo>
                          <a:pt x="110" y="7"/>
                        </a:lnTo>
                        <a:lnTo>
                          <a:pt x="104" y="12"/>
                        </a:lnTo>
                        <a:lnTo>
                          <a:pt x="93" y="12"/>
                        </a:lnTo>
                        <a:lnTo>
                          <a:pt x="89" y="6"/>
                        </a:lnTo>
                        <a:lnTo>
                          <a:pt x="85" y="2"/>
                        </a:lnTo>
                        <a:lnTo>
                          <a:pt x="77" y="1"/>
                        </a:lnTo>
                        <a:lnTo>
                          <a:pt x="69" y="0"/>
                        </a:lnTo>
                        <a:lnTo>
                          <a:pt x="65" y="6"/>
                        </a:lnTo>
                        <a:lnTo>
                          <a:pt x="62" y="12"/>
                        </a:lnTo>
                        <a:lnTo>
                          <a:pt x="49" y="12"/>
                        </a:lnTo>
                        <a:lnTo>
                          <a:pt x="46" y="10"/>
                        </a:lnTo>
                        <a:lnTo>
                          <a:pt x="42" y="6"/>
                        </a:lnTo>
                        <a:lnTo>
                          <a:pt x="38" y="5"/>
                        </a:lnTo>
                        <a:lnTo>
                          <a:pt x="34" y="5"/>
                        </a:lnTo>
                        <a:lnTo>
                          <a:pt x="29" y="7"/>
                        </a:lnTo>
                        <a:lnTo>
                          <a:pt x="27" y="10"/>
                        </a:lnTo>
                        <a:lnTo>
                          <a:pt x="27" y="27"/>
                        </a:lnTo>
                        <a:lnTo>
                          <a:pt x="20" y="25"/>
                        </a:lnTo>
                        <a:lnTo>
                          <a:pt x="10" y="24"/>
                        </a:lnTo>
                        <a:lnTo>
                          <a:pt x="4" y="24"/>
                        </a:lnTo>
                        <a:lnTo>
                          <a:pt x="3" y="26"/>
                        </a:lnTo>
                        <a:lnTo>
                          <a:pt x="3" y="29"/>
                        </a:lnTo>
                        <a:lnTo>
                          <a:pt x="6" y="37"/>
                        </a:lnTo>
                        <a:lnTo>
                          <a:pt x="9" y="47"/>
                        </a:lnTo>
                        <a:lnTo>
                          <a:pt x="11" y="51"/>
                        </a:lnTo>
                        <a:lnTo>
                          <a:pt x="0" y="84"/>
                        </a:lnTo>
                        <a:lnTo>
                          <a:pt x="6" y="87"/>
                        </a:lnTo>
                        <a:lnTo>
                          <a:pt x="16" y="92"/>
                        </a:lnTo>
                        <a:lnTo>
                          <a:pt x="49" y="106"/>
                        </a:lnTo>
                        <a:lnTo>
                          <a:pt x="61" y="106"/>
                        </a:lnTo>
                        <a:lnTo>
                          <a:pt x="78" y="117"/>
                        </a:lnTo>
                        <a:lnTo>
                          <a:pt x="121" y="154"/>
                        </a:lnTo>
                        <a:lnTo>
                          <a:pt x="128" y="58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695160" y="1440000"/>
                    <a:ext cx="21780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7" h="163">
                        <a:moveTo>
                          <a:pt x="136" y="61"/>
                        </a:moveTo>
                        <a:lnTo>
                          <a:pt x="132" y="50"/>
                        </a:lnTo>
                        <a:lnTo>
                          <a:pt x="130" y="41"/>
                        </a:lnTo>
                        <a:lnTo>
                          <a:pt x="129" y="29"/>
                        </a:lnTo>
                        <a:lnTo>
                          <a:pt x="130" y="22"/>
                        </a:lnTo>
                        <a:lnTo>
                          <a:pt x="132" y="16"/>
                        </a:lnTo>
                        <a:lnTo>
                          <a:pt x="131" y="8"/>
                        </a:lnTo>
                        <a:lnTo>
                          <a:pt x="129" y="2"/>
                        </a:lnTo>
                        <a:lnTo>
                          <a:pt x="126" y="1"/>
                        </a:lnTo>
                        <a:lnTo>
                          <a:pt x="124" y="2"/>
                        </a:lnTo>
                        <a:lnTo>
                          <a:pt x="117" y="8"/>
                        </a:lnTo>
                        <a:lnTo>
                          <a:pt x="110" y="13"/>
                        </a:lnTo>
                        <a:lnTo>
                          <a:pt x="99" y="13"/>
                        </a:lnTo>
                        <a:lnTo>
                          <a:pt x="95" y="6"/>
                        </a:lnTo>
                        <a:lnTo>
                          <a:pt x="90" y="3"/>
                        </a:lnTo>
                        <a:lnTo>
                          <a:pt x="82" y="2"/>
                        </a:lnTo>
                        <a:lnTo>
                          <a:pt x="73" y="0"/>
                        </a:lnTo>
                        <a:lnTo>
                          <a:pt x="69" y="6"/>
                        </a:lnTo>
                        <a:lnTo>
                          <a:pt x="66" y="13"/>
                        </a:lnTo>
                        <a:lnTo>
                          <a:pt x="52" y="13"/>
                        </a:lnTo>
                        <a:lnTo>
                          <a:pt x="49" y="11"/>
                        </a:lnTo>
                        <a:lnTo>
                          <a:pt x="45" y="6"/>
                        </a:lnTo>
                        <a:lnTo>
                          <a:pt x="40" y="5"/>
                        </a:lnTo>
                        <a:lnTo>
                          <a:pt x="36" y="5"/>
                        </a:lnTo>
                        <a:lnTo>
                          <a:pt x="31" y="7"/>
                        </a:lnTo>
                        <a:lnTo>
                          <a:pt x="29" y="11"/>
                        </a:lnTo>
                        <a:lnTo>
                          <a:pt x="29" y="29"/>
                        </a:lnTo>
                        <a:lnTo>
                          <a:pt x="21" y="27"/>
                        </a:lnTo>
                        <a:lnTo>
                          <a:pt x="11" y="25"/>
                        </a:lnTo>
                        <a:lnTo>
                          <a:pt x="4" y="26"/>
                        </a:lnTo>
                        <a:lnTo>
                          <a:pt x="3" y="28"/>
                        </a:lnTo>
                        <a:lnTo>
                          <a:pt x="3" y="31"/>
                        </a:lnTo>
                        <a:lnTo>
                          <a:pt x="6" y="40"/>
                        </a:lnTo>
                        <a:lnTo>
                          <a:pt x="10" y="49"/>
                        </a:lnTo>
                        <a:lnTo>
                          <a:pt x="12" y="54"/>
                        </a:lnTo>
                        <a:lnTo>
                          <a:pt x="0" y="89"/>
                        </a:lnTo>
                        <a:lnTo>
                          <a:pt x="6" y="92"/>
                        </a:lnTo>
                        <a:lnTo>
                          <a:pt x="17" y="97"/>
                        </a:lnTo>
                        <a:lnTo>
                          <a:pt x="52" y="113"/>
                        </a:lnTo>
                        <a:lnTo>
                          <a:pt x="65" y="113"/>
                        </a:lnTo>
                        <a:lnTo>
                          <a:pt x="83" y="124"/>
                        </a:lnTo>
                        <a:lnTo>
                          <a:pt x="129" y="16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575" name=""/>
          <p:cNvGrpSpPr/>
          <p:nvPr/>
        </p:nvGrpSpPr>
        <p:grpSpPr>
          <a:xfrm>
            <a:off x="1044720" y="1668600"/>
            <a:ext cx="1027080" cy="615960"/>
            <a:chOff x="1044720" y="1668600"/>
            <a:chExt cx="1027080" cy="615960"/>
          </a:xfrm>
        </p:grpSpPr>
        <p:sp>
          <p:nvSpPr>
            <p:cNvPr id="576" name=""/>
            <p:cNvSpPr/>
            <p:nvPr/>
          </p:nvSpPr>
          <p:spPr>
            <a:xfrm>
              <a:off x="1050840" y="1674720"/>
              <a:ext cx="1014480" cy="601920"/>
            </a:xfrm>
            <a:custGeom>
              <a:avLst/>
              <a:gdLst/>
              <a:ahLst/>
              <a:rect l="l" t="t" r="r" b="b"/>
              <a:pathLst>
                <a:path w="639" h="379">
                  <a:moveTo>
                    <a:pt x="638" y="378"/>
                  </a:moveTo>
                  <a:lnTo>
                    <a:pt x="638" y="183"/>
                  </a:lnTo>
                  <a:lnTo>
                    <a:pt x="629" y="27"/>
                  </a:lnTo>
                  <a:lnTo>
                    <a:pt x="317" y="0"/>
                  </a:lnTo>
                  <a:lnTo>
                    <a:pt x="11" y="31"/>
                  </a:lnTo>
                  <a:lnTo>
                    <a:pt x="0" y="183"/>
                  </a:lnTo>
                  <a:lnTo>
                    <a:pt x="0" y="374"/>
                  </a:lnTo>
                  <a:lnTo>
                    <a:pt x="53" y="374"/>
                  </a:lnTo>
                  <a:lnTo>
                    <a:pt x="59" y="101"/>
                  </a:lnTo>
                  <a:lnTo>
                    <a:pt x="579" y="101"/>
                  </a:lnTo>
                  <a:lnTo>
                    <a:pt x="585" y="378"/>
                  </a:lnTo>
                  <a:lnTo>
                    <a:pt x="638" y="378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044720" y="1668600"/>
              <a:ext cx="1027080" cy="615960"/>
            </a:xfrm>
            <a:custGeom>
              <a:avLst/>
              <a:gdLst/>
              <a:ahLst/>
              <a:rect l="l" t="t" r="r" b="b"/>
              <a:pathLst>
                <a:path w="647" h="388">
                  <a:moveTo>
                    <a:pt x="646" y="386"/>
                  </a:moveTo>
                  <a:lnTo>
                    <a:pt x="646" y="187"/>
                  </a:lnTo>
                  <a:lnTo>
                    <a:pt x="637" y="29"/>
                  </a:lnTo>
                  <a:lnTo>
                    <a:pt x="321" y="0"/>
                  </a:lnTo>
                  <a:lnTo>
                    <a:pt x="11" y="33"/>
                  </a:lnTo>
                  <a:lnTo>
                    <a:pt x="0" y="187"/>
                  </a:lnTo>
                  <a:lnTo>
                    <a:pt x="0" y="383"/>
                  </a:lnTo>
                  <a:lnTo>
                    <a:pt x="54" y="383"/>
                  </a:lnTo>
                  <a:lnTo>
                    <a:pt x="60" y="104"/>
                  </a:lnTo>
                  <a:lnTo>
                    <a:pt x="586" y="104"/>
                  </a:lnTo>
                  <a:lnTo>
                    <a:pt x="592" y="387"/>
                  </a:lnTo>
                  <a:lnTo>
                    <a:pt x="646" y="3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1168560" y="1655640"/>
            <a:ext cx="433080" cy="196920"/>
            <a:chOff x="1168560" y="1655640"/>
            <a:chExt cx="433080" cy="196920"/>
          </a:xfrm>
        </p:grpSpPr>
        <p:grpSp>
          <p:nvGrpSpPr>
            <p:cNvPr id="579" name=""/>
            <p:cNvGrpSpPr/>
            <p:nvPr/>
          </p:nvGrpSpPr>
          <p:grpSpPr>
            <a:xfrm>
              <a:off x="1168560" y="1655640"/>
              <a:ext cx="433080" cy="196920"/>
              <a:chOff x="1168560" y="1655640"/>
              <a:chExt cx="433080" cy="196920"/>
            </a:xfrm>
          </p:grpSpPr>
          <p:grpSp>
            <p:nvGrpSpPr>
              <p:cNvPr id="580" name=""/>
              <p:cNvGrpSpPr/>
              <p:nvPr/>
            </p:nvGrpSpPr>
            <p:grpSpPr>
              <a:xfrm>
                <a:off x="1174680" y="1655640"/>
                <a:ext cx="426960" cy="165240"/>
                <a:chOff x="1174680" y="1655640"/>
                <a:chExt cx="426960" cy="16524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1181160" y="1660680"/>
                  <a:ext cx="414360" cy="152280"/>
                </a:xfrm>
                <a:custGeom>
                  <a:avLst/>
                  <a:gdLst/>
                  <a:ahLst/>
                  <a:rect l="l" t="t" r="r" b="b"/>
                  <a:pathLst>
                    <a:path w="261" h="96">
                      <a:moveTo>
                        <a:pt x="0" y="20"/>
                      </a:moveTo>
                      <a:lnTo>
                        <a:pt x="119" y="0"/>
                      </a:lnTo>
                      <a:lnTo>
                        <a:pt x="260" y="68"/>
                      </a:lnTo>
                      <a:lnTo>
                        <a:pt x="138" y="95"/>
                      </a:lnTo>
                      <a:lnTo>
                        <a:pt x="72" y="56"/>
                      </a:lnTo>
                      <a:lnTo>
                        <a:pt x="50" y="44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1174680" y="1655640"/>
                  <a:ext cx="426960" cy="165240"/>
                </a:xfrm>
                <a:custGeom>
                  <a:avLst/>
                  <a:gdLst/>
                  <a:ahLst/>
                  <a:rect l="l" t="t" r="r" b="b"/>
                  <a:pathLst>
                    <a:path w="269" h="104">
                      <a:moveTo>
                        <a:pt x="0" y="22"/>
                      </a:moveTo>
                      <a:lnTo>
                        <a:pt x="123" y="0"/>
                      </a:lnTo>
                      <a:lnTo>
                        <a:pt x="268" y="73"/>
                      </a:lnTo>
                      <a:lnTo>
                        <a:pt x="142" y="103"/>
                      </a:lnTo>
                      <a:lnTo>
                        <a:pt x="74" y="61"/>
                      </a:lnTo>
                      <a:lnTo>
                        <a:pt x="52" y="48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1389240" y="1771560"/>
                <a:ext cx="212400" cy="81000"/>
                <a:chOff x="1389240" y="1771560"/>
                <a:chExt cx="212400" cy="8100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1395360" y="1778040"/>
                  <a:ext cx="200160" cy="68400"/>
                </a:xfrm>
                <a:custGeom>
                  <a:avLst/>
                  <a:gdLst/>
                  <a:ahLst/>
                  <a:rect l="l" t="t" r="r" b="b"/>
                  <a:pathLst>
                    <a:path w="126" h="43">
                      <a:moveTo>
                        <a:pt x="6" y="24"/>
                      </a:moveTo>
                      <a:lnTo>
                        <a:pt x="125" y="0"/>
                      </a:lnTo>
                      <a:lnTo>
                        <a:pt x="125" y="12"/>
                      </a:lnTo>
                      <a:lnTo>
                        <a:pt x="0" y="42"/>
                      </a:lnTo>
                      <a:lnTo>
                        <a:pt x="6" y="24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1389240" y="1771560"/>
                  <a:ext cx="212400" cy="81000"/>
                </a:xfrm>
                <a:custGeom>
                  <a:avLst/>
                  <a:gdLst/>
                  <a:ahLst/>
                  <a:rect l="l" t="t" r="r" b="b"/>
                  <a:pathLst>
                    <a:path w="134" h="51">
                      <a:moveTo>
                        <a:pt x="6" y="30"/>
                      </a:moveTo>
                      <a:lnTo>
                        <a:pt x="133" y="0"/>
                      </a:lnTo>
                      <a:lnTo>
                        <a:pt x="133" y="14"/>
                      </a:lnTo>
                      <a:lnTo>
                        <a:pt x="0" y="50"/>
                      </a:lnTo>
                      <a:lnTo>
                        <a:pt x="6" y="3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1168560" y="1689120"/>
                <a:ext cx="231480" cy="163440"/>
                <a:chOff x="1168560" y="1689120"/>
                <a:chExt cx="231480" cy="16344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1174680" y="1695600"/>
                  <a:ext cx="219240" cy="150840"/>
                </a:xfrm>
                <a:custGeom>
                  <a:avLst/>
                  <a:gdLst/>
                  <a:ahLst/>
                  <a:rect l="l" t="t" r="r" b="b"/>
                  <a:pathLst>
                    <a:path w="138" h="95">
                      <a:moveTo>
                        <a:pt x="59" y="27"/>
                      </a:moveTo>
                      <a:lnTo>
                        <a:pt x="103" y="53"/>
                      </a:lnTo>
                      <a:lnTo>
                        <a:pt x="137" y="75"/>
                      </a:lnTo>
                      <a:lnTo>
                        <a:pt x="131" y="94"/>
                      </a:lnTo>
                      <a:lnTo>
                        <a:pt x="83" y="66"/>
                      </a:lnTo>
                      <a:lnTo>
                        <a:pt x="41" y="42"/>
                      </a:lnTo>
                      <a:lnTo>
                        <a:pt x="0" y="20"/>
                      </a:lnTo>
                      <a:lnTo>
                        <a:pt x="4" y="0"/>
                      </a:lnTo>
                      <a:lnTo>
                        <a:pt x="28" y="12"/>
                      </a:lnTo>
                      <a:lnTo>
                        <a:pt x="59" y="27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1168560" y="1689120"/>
                  <a:ext cx="231480" cy="163440"/>
                </a:xfrm>
                <a:custGeom>
                  <a:avLst/>
                  <a:gdLst/>
                  <a:ahLst/>
                  <a:rect l="l" t="t" r="r" b="b"/>
                  <a:pathLst>
                    <a:path w="146" h="103">
                      <a:moveTo>
                        <a:pt x="62" y="29"/>
                      </a:moveTo>
                      <a:lnTo>
                        <a:pt x="109" y="58"/>
                      </a:lnTo>
                      <a:lnTo>
                        <a:pt x="145" y="82"/>
                      </a:lnTo>
                      <a:lnTo>
                        <a:pt x="139" y="102"/>
                      </a:lnTo>
                      <a:lnTo>
                        <a:pt x="88" y="73"/>
                      </a:lnTo>
                      <a:lnTo>
                        <a:pt x="43" y="46"/>
                      </a:lnTo>
                      <a:lnTo>
                        <a:pt x="0" y="22"/>
                      </a:lnTo>
                      <a:lnTo>
                        <a:pt x="4" y="0"/>
                      </a:lnTo>
                      <a:lnTo>
                        <a:pt x="30" y="14"/>
                      </a:lnTo>
                      <a:lnTo>
                        <a:pt x="62" y="2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9" name=""/>
            <p:cNvGrpSpPr/>
            <p:nvPr/>
          </p:nvGrpSpPr>
          <p:grpSpPr>
            <a:xfrm>
              <a:off x="1235160" y="1681200"/>
              <a:ext cx="284040" cy="114120"/>
              <a:chOff x="1235160" y="1681200"/>
              <a:chExt cx="284040" cy="114120"/>
            </a:xfrm>
          </p:grpSpPr>
          <p:grpSp>
            <p:nvGrpSpPr>
              <p:cNvPr id="590" name=""/>
              <p:cNvGrpSpPr/>
              <p:nvPr/>
            </p:nvGrpSpPr>
            <p:grpSpPr>
              <a:xfrm>
                <a:off x="1255680" y="1687680"/>
                <a:ext cx="255600" cy="106200"/>
                <a:chOff x="1255680" y="1687680"/>
                <a:chExt cx="255600" cy="10620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1359000" y="1687680"/>
                  <a:ext cx="152280" cy="88560"/>
                </a:xfrm>
                <a:custGeom>
                  <a:avLst/>
                  <a:gdLst/>
                  <a:ahLst/>
                  <a:rect l="l" t="t" r="r" b="b"/>
                  <a:pathLst>
                    <a:path w="96" h="56">
                      <a:moveTo>
                        <a:pt x="0" y="0"/>
                      </a:moveTo>
                      <a:lnTo>
                        <a:pt x="37" y="23"/>
                      </a:lnTo>
                      <a:lnTo>
                        <a:pt x="95" y="5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1312920" y="1695600"/>
                  <a:ext cx="146160" cy="87120"/>
                </a:xfrm>
                <a:custGeom>
                  <a:avLst/>
                  <a:gdLst/>
                  <a:ahLst/>
                  <a:rect l="l" t="t" r="r" b="b"/>
                  <a:pathLst>
                    <a:path w="92" h="55">
                      <a:moveTo>
                        <a:pt x="0" y="0"/>
                      </a:moveTo>
                      <a:lnTo>
                        <a:pt x="50" y="29"/>
                      </a:lnTo>
                      <a:lnTo>
                        <a:pt x="91" y="5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1255680" y="1704960"/>
                  <a:ext cx="176400" cy="88920"/>
                </a:xfrm>
                <a:custGeom>
                  <a:avLst/>
                  <a:gdLst/>
                  <a:ahLst/>
                  <a:rect l="l" t="t" r="r" b="b"/>
                  <a:pathLst>
                    <a:path w="111" h="56">
                      <a:moveTo>
                        <a:pt x="0" y="0"/>
                      </a:moveTo>
                      <a:lnTo>
                        <a:pt x="50" y="21"/>
                      </a:lnTo>
                      <a:lnTo>
                        <a:pt x="81" y="39"/>
                      </a:lnTo>
                      <a:lnTo>
                        <a:pt x="110" y="5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" name=""/>
              <p:cNvGrpSpPr/>
              <p:nvPr/>
            </p:nvGrpSpPr>
            <p:grpSpPr>
              <a:xfrm>
                <a:off x="1235160" y="1681200"/>
                <a:ext cx="284040" cy="114120"/>
                <a:chOff x="1235160" y="1681200"/>
                <a:chExt cx="284040" cy="11412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1235160" y="1681200"/>
                  <a:ext cx="131760" cy="25200"/>
                </a:xfrm>
                <a:custGeom>
                  <a:avLst/>
                  <a:gdLst/>
                  <a:ahLst/>
                  <a:rect l="l" t="t" r="r" b="b"/>
                  <a:pathLst>
                    <a:path w="83" h="16">
                      <a:moveTo>
                        <a:pt x="0" y="15"/>
                      </a:moveTo>
                      <a:lnTo>
                        <a:pt x="8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1282680" y="1703520"/>
                  <a:ext cx="120600" cy="23760"/>
                </a:xfrm>
                <a:custGeom>
                  <a:avLst/>
                  <a:gdLst/>
                  <a:ahLst/>
                  <a:rect l="l" t="t" r="r" b="b"/>
                  <a:pathLst>
                    <a:path w="76" h="15">
                      <a:moveTo>
                        <a:pt x="0" y="14"/>
                      </a:moveTo>
                      <a:lnTo>
                        <a:pt x="7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1322280" y="1716120"/>
                  <a:ext cx="115920" cy="28440"/>
                </a:xfrm>
                <a:custGeom>
                  <a:avLst/>
                  <a:gdLst/>
                  <a:ahLst/>
                  <a:rect l="l" t="t" r="r" b="b"/>
                  <a:pathLst>
                    <a:path w="73" h="18">
                      <a:moveTo>
                        <a:pt x="0" y="17"/>
                      </a:moveTo>
                      <a:lnTo>
                        <a:pt x="7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1353960" y="1735200"/>
                  <a:ext cx="108000" cy="28440"/>
                </a:xfrm>
                <a:custGeom>
                  <a:avLst/>
                  <a:gdLst/>
                  <a:ahLst/>
                  <a:rect l="l" t="t" r="r" b="b"/>
                  <a:pathLst>
                    <a:path w="68" h="18">
                      <a:moveTo>
                        <a:pt x="0" y="17"/>
                      </a:moveTo>
                      <a:lnTo>
                        <a:pt x="67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1389240" y="1744560"/>
                  <a:ext cx="109440" cy="33480"/>
                </a:xfrm>
                <a:custGeom>
                  <a:avLst/>
                  <a:gdLst/>
                  <a:ahLst/>
                  <a:rect l="l" t="t" r="r" b="b"/>
                  <a:pathLst>
                    <a:path w="69" h="21">
                      <a:moveTo>
                        <a:pt x="0" y="20"/>
                      </a:moveTo>
                      <a:lnTo>
                        <a:pt x="6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1403280" y="1768320"/>
                  <a:ext cx="115920" cy="27000"/>
                </a:xfrm>
                <a:custGeom>
                  <a:avLst/>
                  <a:gdLst/>
                  <a:ahLst/>
                  <a:rect l="l" t="t" r="r" b="b"/>
                  <a:pathLst>
                    <a:path w="73" h="17">
                      <a:moveTo>
                        <a:pt x="0" y="16"/>
                      </a:moveTo>
                      <a:lnTo>
                        <a:pt x="7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01" name=""/>
          <p:cNvSpPr/>
          <p:nvPr/>
        </p:nvSpPr>
        <p:spPr>
          <a:xfrm>
            <a:off x="1504800" y="1781280"/>
            <a:ext cx="222480" cy="96840"/>
          </a:xfrm>
          <a:custGeom>
            <a:avLst/>
            <a:gdLst/>
            <a:ahLst/>
            <a:rect l="l" t="t" r="r" b="b"/>
            <a:pathLst>
              <a:path w="140" h="61">
                <a:moveTo>
                  <a:pt x="0" y="16"/>
                </a:moveTo>
                <a:lnTo>
                  <a:pt x="3" y="28"/>
                </a:lnTo>
                <a:lnTo>
                  <a:pt x="8" y="39"/>
                </a:lnTo>
                <a:lnTo>
                  <a:pt x="15" y="48"/>
                </a:lnTo>
                <a:lnTo>
                  <a:pt x="28" y="54"/>
                </a:lnTo>
                <a:lnTo>
                  <a:pt x="44" y="58"/>
                </a:lnTo>
                <a:lnTo>
                  <a:pt x="59" y="60"/>
                </a:lnTo>
                <a:lnTo>
                  <a:pt x="77" y="57"/>
                </a:lnTo>
                <a:lnTo>
                  <a:pt x="92" y="50"/>
                </a:lnTo>
                <a:lnTo>
                  <a:pt x="104" y="38"/>
                </a:lnTo>
                <a:lnTo>
                  <a:pt x="107" y="26"/>
                </a:lnTo>
                <a:lnTo>
                  <a:pt x="115" y="16"/>
                </a:lnTo>
                <a:lnTo>
                  <a:pt x="125" y="6"/>
                </a:lnTo>
                <a:lnTo>
                  <a:pt x="13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1434960" y="1112760"/>
            <a:ext cx="959040" cy="700200"/>
            <a:chOff x="1434960" y="1112760"/>
            <a:chExt cx="959040" cy="700200"/>
          </a:xfrm>
        </p:grpSpPr>
        <p:sp>
          <p:nvSpPr>
            <p:cNvPr id="603" name=""/>
            <p:cNvSpPr/>
            <p:nvPr/>
          </p:nvSpPr>
          <p:spPr>
            <a:xfrm>
              <a:off x="1441440" y="1119240"/>
              <a:ext cx="946080" cy="687240"/>
            </a:xfrm>
            <a:custGeom>
              <a:avLst/>
              <a:gdLst/>
              <a:ahLst/>
              <a:rect l="l" t="t" r="r" b="b"/>
              <a:pathLst>
                <a:path w="596" h="433">
                  <a:moveTo>
                    <a:pt x="112" y="86"/>
                  </a:moveTo>
                  <a:lnTo>
                    <a:pt x="125" y="57"/>
                  </a:lnTo>
                  <a:lnTo>
                    <a:pt x="134" y="38"/>
                  </a:lnTo>
                  <a:lnTo>
                    <a:pt x="138" y="32"/>
                  </a:lnTo>
                  <a:lnTo>
                    <a:pt x="143" y="27"/>
                  </a:lnTo>
                  <a:lnTo>
                    <a:pt x="147" y="26"/>
                  </a:lnTo>
                  <a:lnTo>
                    <a:pt x="153" y="25"/>
                  </a:lnTo>
                  <a:lnTo>
                    <a:pt x="228" y="14"/>
                  </a:lnTo>
                  <a:lnTo>
                    <a:pt x="309" y="3"/>
                  </a:lnTo>
                  <a:lnTo>
                    <a:pt x="382" y="0"/>
                  </a:lnTo>
                  <a:lnTo>
                    <a:pt x="424" y="0"/>
                  </a:lnTo>
                  <a:lnTo>
                    <a:pt x="511" y="2"/>
                  </a:lnTo>
                  <a:lnTo>
                    <a:pt x="574" y="5"/>
                  </a:lnTo>
                  <a:lnTo>
                    <a:pt x="583" y="6"/>
                  </a:lnTo>
                  <a:lnTo>
                    <a:pt x="589" y="8"/>
                  </a:lnTo>
                  <a:lnTo>
                    <a:pt x="592" y="10"/>
                  </a:lnTo>
                  <a:lnTo>
                    <a:pt x="595" y="13"/>
                  </a:lnTo>
                  <a:lnTo>
                    <a:pt x="595" y="17"/>
                  </a:lnTo>
                  <a:lnTo>
                    <a:pt x="592" y="28"/>
                  </a:lnTo>
                  <a:lnTo>
                    <a:pt x="580" y="67"/>
                  </a:lnTo>
                  <a:lnTo>
                    <a:pt x="571" y="96"/>
                  </a:lnTo>
                  <a:lnTo>
                    <a:pt x="551" y="162"/>
                  </a:lnTo>
                  <a:lnTo>
                    <a:pt x="538" y="202"/>
                  </a:lnTo>
                  <a:lnTo>
                    <a:pt x="502" y="297"/>
                  </a:lnTo>
                  <a:lnTo>
                    <a:pt x="468" y="371"/>
                  </a:lnTo>
                  <a:lnTo>
                    <a:pt x="461" y="386"/>
                  </a:lnTo>
                  <a:lnTo>
                    <a:pt x="458" y="395"/>
                  </a:lnTo>
                  <a:lnTo>
                    <a:pt x="454" y="403"/>
                  </a:lnTo>
                  <a:lnTo>
                    <a:pt x="450" y="406"/>
                  </a:lnTo>
                  <a:lnTo>
                    <a:pt x="444" y="411"/>
                  </a:lnTo>
                  <a:lnTo>
                    <a:pt x="438" y="414"/>
                  </a:lnTo>
                  <a:lnTo>
                    <a:pt x="427" y="415"/>
                  </a:lnTo>
                  <a:lnTo>
                    <a:pt x="407" y="417"/>
                  </a:lnTo>
                  <a:lnTo>
                    <a:pt x="373" y="417"/>
                  </a:lnTo>
                  <a:lnTo>
                    <a:pt x="344" y="419"/>
                  </a:lnTo>
                  <a:lnTo>
                    <a:pt x="306" y="423"/>
                  </a:lnTo>
                  <a:lnTo>
                    <a:pt x="267" y="428"/>
                  </a:lnTo>
                  <a:lnTo>
                    <a:pt x="241" y="432"/>
                  </a:lnTo>
                  <a:lnTo>
                    <a:pt x="208" y="432"/>
                  </a:lnTo>
                  <a:lnTo>
                    <a:pt x="202" y="428"/>
                  </a:lnTo>
                  <a:lnTo>
                    <a:pt x="18" y="343"/>
                  </a:lnTo>
                  <a:lnTo>
                    <a:pt x="9" y="337"/>
                  </a:lnTo>
                  <a:lnTo>
                    <a:pt x="2" y="331"/>
                  </a:lnTo>
                  <a:lnTo>
                    <a:pt x="0" y="324"/>
                  </a:lnTo>
                  <a:lnTo>
                    <a:pt x="0" y="316"/>
                  </a:lnTo>
                  <a:lnTo>
                    <a:pt x="2" y="309"/>
                  </a:lnTo>
                  <a:lnTo>
                    <a:pt x="54" y="203"/>
                  </a:lnTo>
                  <a:lnTo>
                    <a:pt x="88" y="135"/>
                  </a:lnTo>
                  <a:lnTo>
                    <a:pt x="112" y="8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434960" y="1112760"/>
              <a:ext cx="959040" cy="700200"/>
            </a:xfrm>
            <a:custGeom>
              <a:avLst/>
              <a:gdLst/>
              <a:ahLst/>
              <a:rect l="l" t="t" r="r" b="b"/>
              <a:pathLst>
                <a:path w="604" h="441">
                  <a:moveTo>
                    <a:pt x="113" y="89"/>
                  </a:moveTo>
                  <a:lnTo>
                    <a:pt x="127" y="59"/>
                  </a:lnTo>
                  <a:lnTo>
                    <a:pt x="136" y="40"/>
                  </a:lnTo>
                  <a:lnTo>
                    <a:pt x="140" y="34"/>
                  </a:lnTo>
                  <a:lnTo>
                    <a:pt x="145" y="29"/>
                  </a:lnTo>
                  <a:lnTo>
                    <a:pt x="149" y="27"/>
                  </a:lnTo>
                  <a:lnTo>
                    <a:pt x="155" y="25"/>
                  </a:lnTo>
                  <a:lnTo>
                    <a:pt x="231" y="14"/>
                  </a:lnTo>
                  <a:lnTo>
                    <a:pt x="313" y="4"/>
                  </a:lnTo>
                  <a:lnTo>
                    <a:pt x="387" y="0"/>
                  </a:lnTo>
                  <a:lnTo>
                    <a:pt x="430" y="0"/>
                  </a:lnTo>
                  <a:lnTo>
                    <a:pt x="518" y="3"/>
                  </a:lnTo>
                  <a:lnTo>
                    <a:pt x="582" y="6"/>
                  </a:lnTo>
                  <a:lnTo>
                    <a:pt x="591" y="6"/>
                  </a:lnTo>
                  <a:lnTo>
                    <a:pt x="597" y="8"/>
                  </a:lnTo>
                  <a:lnTo>
                    <a:pt x="600" y="11"/>
                  </a:lnTo>
                  <a:lnTo>
                    <a:pt x="603" y="13"/>
                  </a:lnTo>
                  <a:lnTo>
                    <a:pt x="603" y="18"/>
                  </a:lnTo>
                  <a:lnTo>
                    <a:pt x="600" y="30"/>
                  </a:lnTo>
                  <a:lnTo>
                    <a:pt x="588" y="69"/>
                  </a:lnTo>
                  <a:lnTo>
                    <a:pt x="579" y="99"/>
                  </a:lnTo>
                  <a:lnTo>
                    <a:pt x="558" y="165"/>
                  </a:lnTo>
                  <a:lnTo>
                    <a:pt x="545" y="206"/>
                  </a:lnTo>
                  <a:lnTo>
                    <a:pt x="509" y="302"/>
                  </a:lnTo>
                  <a:lnTo>
                    <a:pt x="474" y="379"/>
                  </a:lnTo>
                  <a:lnTo>
                    <a:pt x="467" y="394"/>
                  </a:lnTo>
                  <a:lnTo>
                    <a:pt x="464" y="403"/>
                  </a:lnTo>
                  <a:lnTo>
                    <a:pt x="460" y="410"/>
                  </a:lnTo>
                  <a:lnTo>
                    <a:pt x="456" y="415"/>
                  </a:lnTo>
                  <a:lnTo>
                    <a:pt x="450" y="420"/>
                  </a:lnTo>
                  <a:lnTo>
                    <a:pt x="444" y="422"/>
                  </a:lnTo>
                  <a:lnTo>
                    <a:pt x="433" y="424"/>
                  </a:lnTo>
                  <a:lnTo>
                    <a:pt x="412" y="426"/>
                  </a:lnTo>
                  <a:lnTo>
                    <a:pt x="378" y="426"/>
                  </a:lnTo>
                  <a:lnTo>
                    <a:pt x="349" y="427"/>
                  </a:lnTo>
                  <a:lnTo>
                    <a:pt x="310" y="432"/>
                  </a:lnTo>
                  <a:lnTo>
                    <a:pt x="271" y="437"/>
                  </a:lnTo>
                  <a:lnTo>
                    <a:pt x="244" y="440"/>
                  </a:lnTo>
                  <a:lnTo>
                    <a:pt x="211" y="440"/>
                  </a:lnTo>
                  <a:lnTo>
                    <a:pt x="205" y="437"/>
                  </a:lnTo>
                  <a:lnTo>
                    <a:pt x="18" y="349"/>
                  </a:lnTo>
                  <a:lnTo>
                    <a:pt x="9" y="343"/>
                  </a:lnTo>
                  <a:lnTo>
                    <a:pt x="2" y="337"/>
                  </a:lnTo>
                  <a:lnTo>
                    <a:pt x="0" y="331"/>
                  </a:lnTo>
                  <a:lnTo>
                    <a:pt x="0" y="323"/>
                  </a:lnTo>
                  <a:lnTo>
                    <a:pt x="2" y="316"/>
                  </a:lnTo>
                  <a:lnTo>
                    <a:pt x="55" y="207"/>
                  </a:lnTo>
                  <a:lnTo>
                    <a:pt x="89" y="139"/>
                  </a:lnTo>
                  <a:lnTo>
                    <a:pt x="113" y="8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484280" y="1181160"/>
            <a:ext cx="571680" cy="533520"/>
            <a:chOff x="1484280" y="1181160"/>
            <a:chExt cx="571680" cy="533520"/>
          </a:xfrm>
        </p:grpSpPr>
        <p:sp>
          <p:nvSpPr>
            <p:cNvPr id="606" name=""/>
            <p:cNvSpPr/>
            <p:nvPr/>
          </p:nvSpPr>
          <p:spPr>
            <a:xfrm>
              <a:off x="1490760" y="1187280"/>
              <a:ext cx="558720" cy="519120"/>
            </a:xfrm>
            <a:custGeom>
              <a:avLst/>
              <a:gdLst/>
              <a:ahLst/>
              <a:rect l="l" t="t" r="r" b="b"/>
              <a:pathLst>
                <a:path w="352" h="327">
                  <a:moveTo>
                    <a:pt x="80" y="98"/>
                  </a:moveTo>
                  <a:lnTo>
                    <a:pt x="106" y="51"/>
                  </a:lnTo>
                  <a:lnTo>
                    <a:pt x="128" y="9"/>
                  </a:lnTo>
                  <a:lnTo>
                    <a:pt x="131" y="7"/>
                  </a:lnTo>
                  <a:lnTo>
                    <a:pt x="135" y="7"/>
                  </a:lnTo>
                  <a:lnTo>
                    <a:pt x="143" y="6"/>
                  </a:lnTo>
                  <a:lnTo>
                    <a:pt x="243" y="1"/>
                  </a:lnTo>
                  <a:lnTo>
                    <a:pt x="341" y="0"/>
                  </a:lnTo>
                  <a:lnTo>
                    <a:pt x="346" y="1"/>
                  </a:lnTo>
                  <a:lnTo>
                    <a:pt x="349" y="2"/>
                  </a:lnTo>
                  <a:lnTo>
                    <a:pt x="351" y="7"/>
                  </a:lnTo>
                  <a:lnTo>
                    <a:pt x="343" y="36"/>
                  </a:lnTo>
                  <a:lnTo>
                    <a:pt x="329" y="61"/>
                  </a:lnTo>
                  <a:lnTo>
                    <a:pt x="302" y="107"/>
                  </a:lnTo>
                  <a:lnTo>
                    <a:pt x="252" y="188"/>
                  </a:lnTo>
                  <a:lnTo>
                    <a:pt x="209" y="259"/>
                  </a:lnTo>
                  <a:lnTo>
                    <a:pt x="198" y="285"/>
                  </a:lnTo>
                  <a:lnTo>
                    <a:pt x="192" y="303"/>
                  </a:lnTo>
                  <a:lnTo>
                    <a:pt x="185" y="313"/>
                  </a:lnTo>
                  <a:lnTo>
                    <a:pt x="178" y="320"/>
                  </a:lnTo>
                  <a:lnTo>
                    <a:pt x="173" y="324"/>
                  </a:lnTo>
                  <a:lnTo>
                    <a:pt x="170" y="326"/>
                  </a:lnTo>
                  <a:lnTo>
                    <a:pt x="163" y="326"/>
                  </a:lnTo>
                  <a:lnTo>
                    <a:pt x="157" y="325"/>
                  </a:lnTo>
                  <a:lnTo>
                    <a:pt x="148" y="321"/>
                  </a:lnTo>
                  <a:lnTo>
                    <a:pt x="137" y="316"/>
                  </a:lnTo>
                  <a:lnTo>
                    <a:pt x="127" y="309"/>
                  </a:lnTo>
                  <a:lnTo>
                    <a:pt x="115" y="303"/>
                  </a:lnTo>
                  <a:lnTo>
                    <a:pt x="104" y="297"/>
                  </a:lnTo>
                  <a:lnTo>
                    <a:pt x="5" y="268"/>
                  </a:lnTo>
                  <a:lnTo>
                    <a:pt x="2" y="266"/>
                  </a:lnTo>
                  <a:lnTo>
                    <a:pt x="0" y="264"/>
                  </a:lnTo>
                  <a:lnTo>
                    <a:pt x="1" y="260"/>
                  </a:lnTo>
                  <a:lnTo>
                    <a:pt x="3" y="256"/>
                  </a:lnTo>
                  <a:lnTo>
                    <a:pt x="80" y="98"/>
                  </a:lnTo>
                </a:path>
              </a:pathLst>
            </a:cu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484280" y="1181160"/>
              <a:ext cx="571680" cy="533520"/>
            </a:xfrm>
            <a:custGeom>
              <a:avLst/>
              <a:gdLst/>
              <a:ahLst/>
              <a:rect l="l" t="t" r="r" b="b"/>
              <a:pathLst>
                <a:path w="360" h="336">
                  <a:moveTo>
                    <a:pt x="82" y="101"/>
                  </a:moveTo>
                  <a:lnTo>
                    <a:pt x="108" y="53"/>
                  </a:lnTo>
                  <a:lnTo>
                    <a:pt x="131" y="10"/>
                  </a:lnTo>
                  <a:lnTo>
                    <a:pt x="134" y="8"/>
                  </a:lnTo>
                  <a:lnTo>
                    <a:pt x="138" y="7"/>
                  </a:lnTo>
                  <a:lnTo>
                    <a:pt x="146" y="6"/>
                  </a:lnTo>
                  <a:lnTo>
                    <a:pt x="249" y="1"/>
                  </a:lnTo>
                  <a:lnTo>
                    <a:pt x="349" y="0"/>
                  </a:lnTo>
                  <a:lnTo>
                    <a:pt x="354" y="1"/>
                  </a:lnTo>
                  <a:lnTo>
                    <a:pt x="357" y="3"/>
                  </a:lnTo>
                  <a:lnTo>
                    <a:pt x="359" y="7"/>
                  </a:lnTo>
                  <a:lnTo>
                    <a:pt x="351" y="37"/>
                  </a:lnTo>
                  <a:lnTo>
                    <a:pt x="336" y="63"/>
                  </a:lnTo>
                  <a:lnTo>
                    <a:pt x="309" y="111"/>
                  </a:lnTo>
                  <a:lnTo>
                    <a:pt x="258" y="193"/>
                  </a:lnTo>
                  <a:lnTo>
                    <a:pt x="214" y="265"/>
                  </a:lnTo>
                  <a:lnTo>
                    <a:pt x="203" y="293"/>
                  </a:lnTo>
                  <a:lnTo>
                    <a:pt x="196" y="311"/>
                  </a:lnTo>
                  <a:lnTo>
                    <a:pt x="189" y="322"/>
                  </a:lnTo>
                  <a:lnTo>
                    <a:pt x="182" y="329"/>
                  </a:lnTo>
                  <a:lnTo>
                    <a:pt x="177" y="333"/>
                  </a:lnTo>
                  <a:lnTo>
                    <a:pt x="174" y="335"/>
                  </a:lnTo>
                  <a:lnTo>
                    <a:pt x="167" y="335"/>
                  </a:lnTo>
                  <a:lnTo>
                    <a:pt x="161" y="334"/>
                  </a:lnTo>
                  <a:lnTo>
                    <a:pt x="151" y="330"/>
                  </a:lnTo>
                  <a:lnTo>
                    <a:pt x="140" y="324"/>
                  </a:lnTo>
                  <a:lnTo>
                    <a:pt x="130" y="318"/>
                  </a:lnTo>
                  <a:lnTo>
                    <a:pt x="118" y="311"/>
                  </a:lnTo>
                  <a:lnTo>
                    <a:pt x="106" y="305"/>
                  </a:lnTo>
                  <a:lnTo>
                    <a:pt x="5" y="276"/>
                  </a:lnTo>
                  <a:lnTo>
                    <a:pt x="2" y="274"/>
                  </a:lnTo>
                  <a:lnTo>
                    <a:pt x="0" y="270"/>
                  </a:lnTo>
                  <a:lnTo>
                    <a:pt x="1" y="267"/>
                  </a:lnTo>
                  <a:lnTo>
                    <a:pt x="3" y="263"/>
                  </a:lnTo>
                  <a:lnTo>
                    <a:pt x="82" y="10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2135160" y="1733400"/>
            <a:ext cx="141480" cy="297000"/>
            <a:chOff x="2135160" y="1733400"/>
            <a:chExt cx="141480" cy="297000"/>
          </a:xfrm>
        </p:grpSpPr>
        <p:sp>
          <p:nvSpPr>
            <p:cNvPr id="609" name=""/>
            <p:cNvSpPr/>
            <p:nvPr/>
          </p:nvSpPr>
          <p:spPr>
            <a:xfrm>
              <a:off x="2135160" y="1738440"/>
              <a:ext cx="141480" cy="291960"/>
            </a:xfrm>
            <a:custGeom>
              <a:avLst/>
              <a:gdLst/>
              <a:ahLst/>
              <a:rect l="l" t="t" r="r" b="b"/>
              <a:pathLst>
                <a:path w="89" h="184">
                  <a:moveTo>
                    <a:pt x="0" y="0"/>
                  </a:moveTo>
                  <a:lnTo>
                    <a:pt x="3" y="12"/>
                  </a:lnTo>
                  <a:lnTo>
                    <a:pt x="7" y="21"/>
                  </a:lnTo>
                  <a:lnTo>
                    <a:pt x="15" y="30"/>
                  </a:lnTo>
                  <a:lnTo>
                    <a:pt x="26" y="35"/>
                  </a:lnTo>
                  <a:lnTo>
                    <a:pt x="41" y="39"/>
                  </a:lnTo>
                  <a:lnTo>
                    <a:pt x="52" y="46"/>
                  </a:lnTo>
                  <a:lnTo>
                    <a:pt x="62" y="55"/>
                  </a:lnTo>
                  <a:lnTo>
                    <a:pt x="71" y="69"/>
                  </a:lnTo>
                  <a:lnTo>
                    <a:pt x="75" y="81"/>
                  </a:lnTo>
                  <a:lnTo>
                    <a:pt x="71" y="92"/>
                  </a:lnTo>
                  <a:lnTo>
                    <a:pt x="62" y="100"/>
                  </a:lnTo>
                  <a:lnTo>
                    <a:pt x="53" y="108"/>
                  </a:lnTo>
                  <a:lnTo>
                    <a:pt x="47" y="117"/>
                  </a:lnTo>
                  <a:lnTo>
                    <a:pt x="42" y="127"/>
                  </a:lnTo>
                  <a:lnTo>
                    <a:pt x="40" y="140"/>
                  </a:lnTo>
                  <a:lnTo>
                    <a:pt x="45" y="151"/>
                  </a:lnTo>
                  <a:lnTo>
                    <a:pt x="51" y="159"/>
                  </a:lnTo>
                  <a:lnTo>
                    <a:pt x="64" y="168"/>
                  </a:lnTo>
                  <a:lnTo>
                    <a:pt x="75" y="175"/>
                  </a:lnTo>
                  <a:lnTo>
                    <a:pt x="88" y="18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135160" y="1733400"/>
              <a:ext cx="3240" cy="6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2927520" y="2943360"/>
            <a:ext cx="229212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Hiérarchie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de traduc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563840" y="1228680"/>
            <a:ext cx="3445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890800" y="811080"/>
            <a:ext cx="20437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a=8, b=4,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=a+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883920" y="1928880"/>
            <a:ext cx="21945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 A,(F800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,(F810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 (F820h),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118240" y="4629240"/>
            <a:ext cx="166284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8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8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8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AF8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B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6F8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B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F8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B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776920" y="4202280"/>
            <a:ext cx="20102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AF8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6F8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F8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2681280" y="3214800"/>
            <a:ext cx="1495440" cy="1155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651720" y="1643040"/>
            <a:ext cx="1890720" cy="23605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 flipV="1">
            <a:off x="3546000" y="2319120"/>
            <a:ext cx="2605320" cy="81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4379760" y="2381400"/>
            <a:ext cx="14400" cy="261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553680" y="6256440"/>
            <a:ext cx="817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251000" y="3758400"/>
            <a:ext cx="1138320" cy="885960"/>
          </a:xfrm>
          <a:custGeom>
            <a:avLst/>
            <a:gdLst>
              <a:gd name="textAreaLeft" fmla="*/ 250200 w 1138320"/>
              <a:gd name="textAreaRight" fmla="*/ 888120 w 1138320"/>
              <a:gd name="textAreaTop" fmla="*/ 194760 h 885960"/>
              <a:gd name="textAreaBottom" fmla="*/ 691200 h 8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754280" y="4449600"/>
            <a:ext cx="203040" cy="193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731760" y="441324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1820880" y="2712600"/>
            <a:ext cx="0" cy="104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1814040" y="3543480"/>
            <a:ext cx="871560" cy="4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738360" y="2513160"/>
            <a:ext cx="44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44480" y="2519280"/>
            <a:ext cx="0" cy="3710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0960" y="5132520"/>
            <a:ext cx="70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1461960" y="464328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178000" y="4656240"/>
            <a:ext cx="0" cy="1573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3828960" y="5330520"/>
            <a:ext cx="0" cy="911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196040" y="5213520"/>
            <a:ext cx="3240" cy="1015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7988400" y="51879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7196040" y="4022640"/>
            <a:ext cx="3240" cy="835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 flipV="1">
            <a:off x="7981560" y="4022640"/>
            <a:ext cx="17640" cy="83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085040" y="2008080"/>
            <a:ext cx="1738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mula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262240" y="1081080"/>
            <a:ext cx="1585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teu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987680" y="4576680"/>
            <a:ext cx="13410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73400" y="6284880"/>
            <a:ext cx="2022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 de d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371480" y="2363760"/>
            <a:ext cx="1924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 d’adr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3403440" y="4374720"/>
            <a:ext cx="0" cy="65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593800" y="5013360"/>
            <a:ext cx="12384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672440" y="4867200"/>
            <a:ext cx="1356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424880" y="3990960"/>
            <a:ext cx="911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.A.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016360" y="2944800"/>
            <a:ext cx="54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657440" y="48736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012680" y="5562720"/>
            <a:ext cx="545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446200" y="556272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024080" y="556272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39288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818532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464160" y="4322880"/>
            <a:ext cx="51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185320" y="43228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C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569120" y="4322880"/>
            <a:ext cx="556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834800" y="2676600"/>
            <a:ext cx="49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948040" y="1198440"/>
            <a:ext cx="490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949480" y="175896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809960" y="1758960"/>
            <a:ext cx="546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79320" y="5619600"/>
            <a:ext cx="13032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79320" y="5683320"/>
            <a:ext cx="2732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119320" y="5626080"/>
            <a:ext cx="119160" cy="114480"/>
          </a:xfrm>
          <a:prstGeom prst="ellipse">
            <a:avLst/>
          </a:prstGeom>
          <a:noFill/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119320" y="5683320"/>
            <a:ext cx="262080" cy="0"/>
          </a:xfrm>
          <a:prstGeom prst="line">
            <a:avLst/>
          </a:prstGeom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768840" y="5626080"/>
            <a:ext cx="118800" cy="114480"/>
          </a:xfrm>
          <a:prstGeom prst="ellipse">
            <a:avLst/>
          </a:prstGeom>
          <a:noFill/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768840" y="5683320"/>
            <a:ext cx="261720" cy="0"/>
          </a:xfrm>
          <a:prstGeom prst="line">
            <a:avLst/>
          </a:prstGeom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929720" y="5626080"/>
            <a:ext cx="118800" cy="114480"/>
          </a:xfrm>
          <a:prstGeom prst="ellipse">
            <a:avLst/>
          </a:prstGeom>
          <a:noFill/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929720" y="5683320"/>
            <a:ext cx="261720" cy="0"/>
          </a:xfrm>
          <a:prstGeom prst="line">
            <a:avLst/>
          </a:prstGeom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929720" y="4387680"/>
            <a:ext cx="118800" cy="111240"/>
          </a:xfrm>
          <a:prstGeom prst="ellipse">
            <a:avLst/>
          </a:prstGeom>
          <a:noFill/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29720" y="4443480"/>
            <a:ext cx="261720" cy="0"/>
          </a:xfrm>
          <a:prstGeom prst="line">
            <a:avLst/>
          </a:prstGeom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313160" y="4387680"/>
            <a:ext cx="119160" cy="111240"/>
          </a:xfrm>
          <a:prstGeom prst="ellipse">
            <a:avLst/>
          </a:prstGeom>
          <a:noFill/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313160" y="4443480"/>
            <a:ext cx="262080" cy="0"/>
          </a:xfrm>
          <a:prstGeom prst="line">
            <a:avLst/>
          </a:prstGeom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401840" y="4938840"/>
            <a:ext cx="119160" cy="112680"/>
          </a:xfrm>
          <a:prstGeom prst="ellipse">
            <a:avLst/>
          </a:prstGeom>
          <a:noFill/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401840" y="4992840"/>
            <a:ext cx="261720" cy="0"/>
          </a:xfrm>
          <a:prstGeom prst="line">
            <a:avLst/>
          </a:prstGeom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760400" y="3076560"/>
            <a:ext cx="119160" cy="114480"/>
          </a:xfrm>
          <a:prstGeom prst="ellipse">
            <a:avLst/>
          </a:prstGeom>
          <a:noFill/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760400" y="3133800"/>
            <a:ext cx="262080" cy="0"/>
          </a:xfrm>
          <a:prstGeom prst="line">
            <a:avLst/>
          </a:prstGeom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465800" y="1849320"/>
            <a:ext cx="117360" cy="111240"/>
          </a:xfrm>
          <a:prstGeom prst="ellipse">
            <a:avLst/>
          </a:prstGeom>
          <a:noFill/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478400" y="1906560"/>
            <a:ext cx="260280" cy="0"/>
          </a:xfrm>
          <a:prstGeom prst="line">
            <a:avLst/>
          </a:prstGeom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4916520" y="2319480"/>
            <a:ext cx="262080" cy="114120"/>
            <a:chOff x="4916520" y="2319480"/>
            <a:chExt cx="262080" cy="114120"/>
          </a:xfrm>
        </p:grpSpPr>
        <p:sp>
          <p:nvSpPr>
            <p:cNvPr id="679" name=""/>
            <p:cNvSpPr/>
            <p:nvPr/>
          </p:nvSpPr>
          <p:spPr>
            <a:xfrm>
              <a:off x="4916520" y="2319480"/>
              <a:ext cx="119160" cy="114120"/>
            </a:xfrm>
            <a:prstGeom prst="ellipse">
              <a:avLst/>
            </a:prstGeom>
            <a:noFill/>
            <a:ln w="25560">
              <a:solidFill>
                <a:srgbClr val="fc01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060880" y="2374920"/>
              <a:ext cx="117720" cy="0"/>
            </a:xfrm>
            <a:prstGeom prst="line">
              <a:avLst/>
            </a:prstGeom>
            <a:ln w="25560">
              <a:solidFill>
                <a:srgbClr val="fc01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7140600" y="5626080"/>
            <a:ext cx="119160" cy="114480"/>
          </a:xfrm>
          <a:prstGeom prst="ellipse">
            <a:avLst/>
          </a:prstGeom>
          <a:noFill/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997680" y="5683320"/>
            <a:ext cx="262080" cy="0"/>
          </a:xfrm>
          <a:prstGeom prst="line">
            <a:avLst/>
          </a:prstGeom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140600" y="4387680"/>
            <a:ext cx="119160" cy="111240"/>
          </a:xfrm>
          <a:prstGeom prst="ellipse">
            <a:avLst/>
          </a:prstGeom>
          <a:noFill/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997680" y="4443480"/>
            <a:ext cx="262080" cy="0"/>
          </a:xfrm>
          <a:prstGeom prst="line">
            <a:avLst/>
          </a:prstGeom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751200" y="1849320"/>
            <a:ext cx="119160" cy="111240"/>
          </a:xfrm>
          <a:prstGeom prst="ellipse">
            <a:avLst/>
          </a:prstGeom>
          <a:noFill/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603600" y="1905120"/>
            <a:ext cx="262080" cy="0"/>
          </a:xfrm>
          <a:prstGeom prst="line">
            <a:avLst/>
          </a:prstGeom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976640" y="2319480"/>
            <a:ext cx="0" cy="250560"/>
          </a:xfrm>
          <a:prstGeom prst="line">
            <a:avLst/>
          </a:prstGeom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3822840" y="153036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527720" y="1536840"/>
            <a:ext cx="0" cy="83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6200000">
            <a:off x="5495040" y="2580840"/>
            <a:ext cx="2019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re adr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6208200" y="1623960"/>
            <a:ext cx="41940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flipV="1">
            <a:off x="6203880" y="3422520"/>
            <a:ext cx="42408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860640" y="438300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6213600" y="2035080"/>
            <a:ext cx="0" cy="14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212840" y="2381400"/>
            <a:ext cx="1219320" cy="33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054240" y="5035680"/>
            <a:ext cx="1587600" cy="33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486240" y="1187280"/>
            <a:ext cx="1498680" cy="31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054920" y="4870440"/>
            <a:ext cx="1104840" cy="31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997520" y="133344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090400" y="116676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708360" y="504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251840" y="16192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1013472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L’architecture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2681280" y="3214800"/>
            <a:ext cx="1495440" cy="1155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 flipV="1">
            <a:off x="3546000" y="2319120"/>
            <a:ext cx="2605320" cy="81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4379760" y="2381400"/>
            <a:ext cx="14400" cy="261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H="1">
            <a:off x="553680" y="6256440"/>
            <a:ext cx="817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1251000" y="3758400"/>
            <a:ext cx="1138320" cy="885960"/>
          </a:xfrm>
          <a:custGeom>
            <a:avLst/>
            <a:gdLst>
              <a:gd name="textAreaLeft" fmla="*/ 250200 w 1138320"/>
              <a:gd name="textAreaRight" fmla="*/ 888120 w 1138320"/>
              <a:gd name="textAreaTop" fmla="*/ 194760 h 885960"/>
              <a:gd name="textAreaBottom" fmla="*/ 691200 h 8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754280" y="4449600"/>
            <a:ext cx="203040" cy="193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731760" y="441324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1820880" y="2712600"/>
            <a:ext cx="0" cy="104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1814040" y="3543480"/>
            <a:ext cx="871560" cy="4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738360" y="2513160"/>
            <a:ext cx="44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44480" y="2519280"/>
            <a:ext cx="0" cy="3710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50960" y="5132520"/>
            <a:ext cx="70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1461960" y="464328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178000" y="4656240"/>
            <a:ext cx="0" cy="1573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3828960" y="5330520"/>
            <a:ext cx="0" cy="911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196040" y="5213520"/>
            <a:ext cx="3240" cy="1015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7988400" y="51879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7196040" y="4022640"/>
            <a:ext cx="3240" cy="835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 flipV="1">
            <a:off x="7981560" y="4022640"/>
            <a:ext cx="17640" cy="83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085040" y="2008080"/>
            <a:ext cx="1738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mula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62240" y="1081080"/>
            <a:ext cx="1585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teu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987680" y="4576680"/>
            <a:ext cx="13410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173400" y="6284880"/>
            <a:ext cx="2022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 de d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371480" y="2363760"/>
            <a:ext cx="1924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 d’adr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3403440" y="4374720"/>
            <a:ext cx="0" cy="65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593800" y="5013360"/>
            <a:ext cx="12384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672440" y="4867200"/>
            <a:ext cx="1356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424880" y="3990960"/>
            <a:ext cx="911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.A.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016360" y="2944800"/>
            <a:ext cx="54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657440" y="48736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012680" y="5562720"/>
            <a:ext cx="545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446200" y="556272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024080" y="556272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39288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818532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464160" y="4322880"/>
            <a:ext cx="51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8185320" y="43228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C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569120" y="4322880"/>
            <a:ext cx="556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834800" y="2676600"/>
            <a:ext cx="49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948040" y="1198440"/>
            <a:ext cx="490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949480" y="175896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809960" y="1758960"/>
            <a:ext cx="546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9320" y="5619600"/>
            <a:ext cx="13032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79320" y="5683320"/>
            <a:ext cx="2732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119320" y="5626080"/>
            <a:ext cx="119160" cy="114480"/>
          </a:xfrm>
          <a:prstGeom prst="ellipse">
            <a:avLst/>
          </a:prstGeom>
          <a:noFill/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119320" y="5683320"/>
            <a:ext cx="262080" cy="0"/>
          </a:xfrm>
          <a:prstGeom prst="line">
            <a:avLst/>
          </a:prstGeom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768840" y="5626080"/>
            <a:ext cx="118800" cy="114480"/>
          </a:xfrm>
          <a:prstGeom prst="ellipse">
            <a:avLst/>
          </a:prstGeom>
          <a:noFill/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768840" y="5683320"/>
            <a:ext cx="261720" cy="0"/>
          </a:xfrm>
          <a:prstGeom prst="line">
            <a:avLst/>
          </a:prstGeom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929720" y="5626080"/>
            <a:ext cx="118800" cy="114480"/>
          </a:xfrm>
          <a:prstGeom prst="ellipse">
            <a:avLst/>
          </a:prstGeom>
          <a:noFill/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929720" y="5683320"/>
            <a:ext cx="261720" cy="0"/>
          </a:xfrm>
          <a:prstGeom prst="line">
            <a:avLst/>
          </a:prstGeom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929720" y="4387680"/>
            <a:ext cx="118800" cy="111240"/>
          </a:xfrm>
          <a:prstGeom prst="ellipse">
            <a:avLst/>
          </a:prstGeom>
          <a:noFill/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929720" y="4443480"/>
            <a:ext cx="261720" cy="0"/>
          </a:xfrm>
          <a:prstGeom prst="line">
            <a:avLst/>
          </a:prstGeom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313160" y="4387680"/>
            <a:ext cx="119160" cy="111240"/>
          </a:xfrm>
          <a:prstGeom prst="ellipse">
            <a:avLst/>
          </a:prstGeom>
          <a:noFill/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313160" y="4443480"/>
            <a:ext cx="262080" cy="0"/>
          </a:xfrm>
          <a:prstGeom prst="line">
            <a:avLst/>
          </a:prstGeom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401840" y="4938840"/>
            <a:ext cx="119160" cy="112680"/>
          </a:xfrm>
          <a:prstGeom prst="ellipse">
            <a:avLst/>
          </a:prstGeom>
          <a:noFill/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401840" y="4992840"/>
            <a:ext cx="261720" cy="0"/>
          </a:xfrm>
          <a:prstGeom prst="line">
            <a:avLst/>
          </a:prstGeom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760400" y="3076560"/>
            <a:ext cx="119160" cy="114480"/>
          </a:xfrm>
          <a:prstGeom prst="ellipse">
            <a:avLst/>
          </a:prstGeom>
          <a:noFill/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760400" y="3133800"/>
            <a:ext cx="262080" cy="0"/>
          </a:xfrm>
          <a:prstGeom prst="line">
            <a:avLst/>
          </a:prstGeom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465800" y="1849320"/>
            <a:ext cx="117360" cy="111240"/>
          </a:xfrm>
          <a:prstGeom prst="ellipse">
            <a:avLst/>
          </a:prstGeom>
          <a:noFill/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478400" y="1906560"/>
            <a:ext cx="260280" cy="0"/>
          </a:xfrm>
          <a:prstGeom prst="line">
            <a:avLst/>
          </a:prstGeom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4916520" y="2319480"/>
            <a:ext cx="262080" cy="114120"/>
            <a:chOff x="4916520" y="2319480"/>
            <a:chExt cx="262080" cy="114120"/>
          </a:xfrm>
        </p:grpSpPr>
        <p:sp>
          <p:nvSpPr>
            <p:cNvPr id="765" name=""/>
            <p:cNvSpPr/>
            <p:nvPr/>
          </p:nvSpPr>
          <p:spPr>
            <a:xfrm>
              <a:off x="4916520" y="2319480"/>
              <a:ext cx="119160" cy="114120"/>
            </a:xfrm>
            <a:prstGeom prst="ellipse">
              <a:avLst/>
            </a:prstGeom>
            <a:noFill/>
            <a:ln w="25560">
              <a:solidFill>
                <a:srgbClr val="fc01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060880" y="2374920"/>
              <a:ext cx="117720" cy="0"/>
            </a:xfrm>
            <a:prstGeom prst="line">
              <a:avLst/>
            </a:prstGeom>
            <a:ln w="25560">
              <a:solidFill>
                <a:srgbClr val="fc01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7140600" y="5626080"/>
            <a:ext cx="119160" cy="114480"/>
          </a:xfrm>
          <a:prstGeom prst="ellipse">
            <a:avLst/>
          </a:prstGeom>
          <a:noFill/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997680" y="5683320"/>
            <a:ext cx="262080" cy="0"/>
          </a:xfrm>
          <a:prstGeom prst="line">
            <a:avLst/>
          </a:prstGeom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140600" y="4387680"/>
            <a:ext cx="119160" cy="111240"/>
          </a:xfrm>
          <a:prstGeom prst="ellipse">
            <a:avLst/>
          </a:prstGeom>
          <a:noFill/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997680" y="4443480"/>
            <a:ext cx="262080" cy="0"/>
          </a:xfrm>
          <a:prstGeom prst="line">
            <a:avLst/>
          </a:prstGeom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751200" y="1849320"/>
            <a:ext cx="119160" cy="111240"/>
          </a:xfrm>
          <a:prstGeom prst="ellipse">
            <a:avLst/>
          </a:prstGeom>
          <a:noFill/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603600" y="1905120"/>
            <a:ext cx="262080" cy="0"/>
          </a:xfrm>
          <a:prstGeom prst="line">
            <a:avLst/>
          </a:prstGeom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976640" y="2319480"/>
            <a:ext cx="0" cy="250560"/>
          </a:xfrm>
          <a:prstGeom prst="line">
            <a:avLst/>
          </a:prstGeom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3822840" y="153036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527720" y="1536840"/>
            <a:ext cx="0" cy="831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5495040" y="2580840"/>
            <a:ext cx="2019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re adr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6208200" y="1623960"/>
            <a:ext cx="41940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 flipV="1">
            <a:off x="6203880" y="3422520"/>
            <a:ext cx="42408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860640" y="438300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6213600" y="2035080"/>
            <a:ext cx="0" cy="14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212840" y="2381400"/>
            <a:ext cx="1219320" cy="33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054240" y="5035680"/>
            <a:ext cx="1587600" cy="33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486240" y="1187280"/>
            <a:ext cx="1498680" cy="31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054920" y="4870440"/>
            <a:ext cx="1104840" cy="31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97520" y="133344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090400" y="116676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708360" y="504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251840" y="16192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3581280" y="1143000"/>
            <a:ext cx="4876560" cy="2676960"/>
            <a:chOff x="3581280" y="1143000"/>
            <a:chExt cx="4876560" cy="2676960"/>
          </a:xfrm>
        </p:grpSpPr>
        <p:sp>
          <p:nvSpPr>
            <p:cNvPr id="790" name=""/>
            <p:cNvSpPr/>
            <p:nvPr/>
          </p:nvSpPr>
          <p:spPr>
            <a:xfrm>
              <a:off x="6444360" y="1589760"/>
              <a:ext cx="2013480" cy="2230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ae00"/>
                  </a:solidFill>
                  <a:uFillTx/>
                  <a:latin typeface="Times New Roman"/>
                </a:rPr>
                <a:t>Donné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ae00"/>
                  </a:solidFill>
                  <a:latin typeface="Times New Roman"/>
                </a:rPr>
                <a:t>F800</a:t>
              </a:r>
              <a:r>
                <a:rPr b="1" lang="en-US" sz="1600" spc="-1" strike="noStrike">
                  <a:solidFill>
                    <a:srgbClr val="00ae00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00ae00"/>
                  </a:solidFill>
                  <a:latin typeface="Times New Roman"/>
                </a:rPr>
                <a:t>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ae00"/>
                  </a:solidFill>
                  <a:latin typeface="Times New Roman"/>
                </a:rPr>
                <a:t>F810</a:t>
              </a:r>
              <a:r>
                <a:rPr b="1" lang="en-US" sz="1600" spc="-1" strike="noStrike">
                  <a:solidFill>
                    <a:srgbClr val="00ae00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00ae00"/>
                  </a:solidFill>
                  <a:latin typeface="Times New Roman"/>
                </a:rPr>
                <a:t>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ae00"/>
                  </a:solidFill>
                  <a:latin typeface="Times New Roman"/>
                </a:rPr>
                <a:t>F820</a:t>
              </a:r>
              <a:r>
                <a:rPr b="1" lang="en-US" sz="1600" spc="-1" strike="noStrike">
                  <a:solidFill>
                    <a:srgbClr val="00ae00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00ae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ae00"/>
                  </a:solidFill>
                  <a:uFillTx/>
                  <a:latin typeface="Times New Roman"/>
                </a:rPr>
                <a:t>Instru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ae00"/>
                  </a:solidFill>
                  <a:latin typeface="Times New Roman"/>
                </a:rPr>
                <a:t>FB00</a:t>
              </a:r>
              <a:r>
                <a:rPr b="1" lang="en-US" sz="1600" spc="-1" strike="noStrike">
                  <a:solidFill>
                    <a:srgbClr val="00ae00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00ae00"/>
                  </a:solidFill>
                  <a:latin typeface="Times New Roman"/>
                </a:rPr>
                <a:t>3A F8 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ae00"/>
                  </a:solidFill>
                  <a:latin typeface="Times New Roman"/>
                </a:rPr>
                <a:t>FB01</a:t>
              </a:r>
              <a:r>
                <a:rPr b="1" lang="en-US" sz="1600" spc="-1" strike="noStrike">
                  <a:solidFill>
                    <a:srgbClr val="00ae00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00ae00"/>
                  </a:solidFill>
                  <a:latin typeface="Times New Roman"/>
                </a:rPr>
                <a:t>C6 F8 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ae00"/>
                  </a:solidFill>
                  <a:latin typeface="Times New Roman"/>
                </a:rPr>
                <a:t>FB02</a:t>
              </a:r>
              <a:r>
                <a:rPr b="1" lang="en-US" sz="1600" spc="-1" strike="noStrike">
                  <a:solidFill>
                    <a:srgbClr val="00ae00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00ae00"/>
                  </a:solidFill>
                  <a:latin typeface="Times New Roman"/>
                </a:rPr>
                <a:t>32 F8 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581280" y="1143000"/>
              <a:ext cx="1129320" cy="302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ae00"/>
                  </a:solidFill>
                  <a:latin typeface="Times New Roman"/>
                </a:rPr>
                <a:t>FB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1013472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Charger le programme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 flipV="1">
            <a:off x="3809880" y="1486080"/>
            <a:ext cx="0" cy="914400"/>
          </a:xfrm>
          <a:prstGeom prst="line">
            <a:avLst/>
          </a:prstGeom>
          <a:ln w="76320">
            <a:solidFill>
              <a:srgbClr val="00ae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632640" y="1623960"/>
            <a:ext cx="1928880" cy="239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 flipV="1">
            <a:off x="3546000" y="2319120"/>
            <a:ext cx="2605320" cy="81000"/>
          </a:xfrm>
          <a:prstGeom prst="line">
            <a:avLst/>
          </a:prstGeom>
          <a:ln w="7632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4379760" y="2381400"/>
            <a:ext cx="14400" cy="261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553680" y="6256440"/>
            <a:ext cx="8170920" cy="0"/>
          </a:xfrm>
          <a:prstGeom prst="line">
            <a:avLst/>
          </a:prstGeom>
          <a:ln w="7632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1251000" y="3758400"/>
            <a:ext cx="1138320" cy="885960"/>
          </a:xfrm>
          <a:custGeom>
            <a:avLst/>
            <a:gdLst>
              <a:gd name="textAreaLeft" fmla="*/ 250200 w 1138320"/>
              <a:gd name="textAreaRight" fmla="*/ 888120 w 1138320"/>
              <a:gd name="textAreaTop" fmla="*/ 194760 h 885960"/>
              <a:gd name="textAreaBottom" fmla="*/ 691200 h 8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754280" y="4449600"/>
            <a:ext cx="203040" cy="193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731760" y="441324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1820880" y="2712600"/>
            <a:ext cx="0" cy="104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1814040" y="3543480"/>
            <a:ext cx="871560" cy="4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738360" y="2513160"/>
            <a:ext cx="44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44480" y="2519280"/>
            <a:ext cx="0" cy="3710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50960" y="5132520"/>
            <a:ext cx="70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1461960" y="464328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178000" y="4656240"/>
            <a:ext cx="0" cy="1573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3828960" y="5298840"/>
            <a:ext cx="0" cy="97452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196040" y="5245200"/>
            <a:ext cx="3240" cy="95256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988400" y="51879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7196040" y="3990960"/>
            <a:ext cx="3240" cy="898560"/>
          </a:xfrm>
          <a:prstGeom prst="line">
            <a:avLst/>
          </a:prstGeom>
          <a:ln w="76320">
            <a:solidFill>
              <a:srgbClr val="00ae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 flipV="1">
            <a:off x="7981560" y="4022640"/>
            <a:ext cx="17640" cy="83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249560" y="2076480"/>
            <a:ext cx="1194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umulat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580480" y="1076400"/>
            <a:ext cx="9417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te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d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646960" y="1131840"/>
            <a:ext cx="180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moire cent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8191440" y="4759200"/>
            <a:ext cx="8229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173760" y="6353280"/>
            <a:ext cx="130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 de donn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089880" y="2394000"/>
            <a:ext cx="1251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 d’a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3403440" y="4374720"/>
            <a:ext cx="0" cy="65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593800" y="5013360"/>
            <a:ext cx="12384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670640" y="4935600"/>
            <a:ext cx="960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514880" y="4046400"/>
            <a:ext cx="678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.A.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016360" y="2944800"/>
            <a:ext cx="54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657440" y="48736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012680" y="5562720"/>
            <a:ext cx="545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446200" y="556272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024080" y="556272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39288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818532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464160" y="4319640"/>
            <a:ext cx="51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8185320" y="43228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C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569120" y="4322880"/>
            <a:ext cx="556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834800" y="2676600"/>
            <a:ext cx="49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948040" y="1198440"/>
            <a:ext cx="490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949480" y="175896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809960" y="1758960"/>
            <a:ext cx="546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23240" y="1112760"/>
            <a:ext cx="1525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té Cent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79320" y="5619600"/>
            <a:ext cx="13032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79320" y="5683320"/>
            <a:ext cx="2732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11284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11284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774960" y="5632560"/>
            <a:ext cx="106560" cy="10152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774960" y="5683320"/>
            <a:ext cx="24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92324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92324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923240" y="4381560"/>
            <a:ext cx="13176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923240" y="444348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307040" y="4381560"/>
            <a:ext cx="13176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307040" y="4443480"/>
            <a:ext cx="27432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395360" y="4932360"/>
            <a:ext cx="131760" cy="1252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395360" y="499284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754280" y="307008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754280" y="313380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459320" y="1843200"/>
            <a:ext cx="13032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471920" y="1906560"/>
            <a:ext cx="2732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4923000" y="2324160"/>
            <a:ext cx="249120" cy="102960"/>
            <a:chOff x="4923000" y="2324160"/>
            <a:chExt cx="249120" cy="102960"/>
          </a:xfrm>
        </p:grpSpPr>
        <p:sp>
          <p:nvSpPr>
            <p:cNvPr id="857" name=""/>
            <p:cNvSpPr/>
            <p:nvPr/>
          </p:nvSpPr>
          <p:spPr>
            <a:xfrm>
              <a:off x="4923000" y="2324160"/>
              <a:ext cx="106200" cy="10296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067360" y="2373480"/>
              <a:ext cx="10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9" name=""/>
          <p:cNvSpPr/>
          <p:nvPr/>
        </p:nvSpPr>
        <p:spPr>
          <a:xfrm>
            <a:off x="7147080" y="5632560"/>
            <a:ext cx="106200" cy="10152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004160" y="5683320"/>
            <a:ext cx="249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147080" y="4392720"/>
            <a:ext cx="106200" cy="10008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004160" y="4443480"/>
            <a:ext cx="249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757680" y="1854360"/>
            <a:ext cx="106200" cy="9972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976640" y="2322360"/>
            <a:ext cx="0" cy="241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527720" y="1530360"/>
            <a:ext cx="0" cy="84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rot="16200000">
            <a:off x="6140520" y="2541960"/>
            <a:ext cx="702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FB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6208200" y="1623960"/>
            <a:ext cx="41940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 flipV="1">
            <a:off x="6203880" y="3422520"/>
            <a:ext cx="42408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860640" y="438300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6213600" y="2035080"/>
            <a:ext cx="0" cy="14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212840" y="2381400"/>
            <a:ext cx="1219320" cy="33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054920" y="4870440"/>
            <a:ext cx="1104840" cy="31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997520" y="133344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090400" y="116676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708360" y="504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073320" y="5054760"/>
            <a:ext cx="1549440" cy="291960"/>
          </a:xfrm>
          <a:prstGeom prst="rect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505320" y="1206360"/>
            <a:ext cx="1460520" cy="279720"/>
          </a:xfrm>
          <a:prstGeom prst="rect">
            <a:avLst/>
          </a:prstGeom>
          <a:noFill/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703920" y="1677960"/>
            <a:ext cx="176688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nn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2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Times New Roman"/>
              </a:rPr>
              <a:t>FB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400" spc="-1" strike="noStrike">
                <a:solidFill>
                  <a:srgbClr val="fc0128"/>
                </a:solidFill>
                <a:latin typeface="Times New Roman"/>
              </a:rPr>
              <a:t>3A F8 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6 F8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2 F8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251840" y="16192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684600" y="1233360"/>
            <a:ext cx="1190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FB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185960" y="4746600"/>
            <a:ext cx="105912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3A F8 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017520" y="4924440"/>
            <a:ext cx="146484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3A     F8 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2876040" y="1924200"/>
            <a:ext cx="723960" cy="126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3689280" y="2660760"/>
            <a:ext cx="133344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H="1" flipV="1">
            <a:off x="4158720" y="3498480"/>
            <a:ext cx="2883240" cy="96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H="1" flipV="1">
            <a:off x="4146480" y="3981240"/>
            <a:ext cx="2895840" cy="172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 flipV="1">
            <a:off x="3549240" y="4375080"/>
            <a:ext cx="507960" cy="13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610080" y="1905120"/>
            <a:ext cx="249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3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Extraction de l ’instruction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286080" y="3328920"/>
            <a:ext cx="243000" cy="34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364560" y="3444840"/>
            <a:ext cx="291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842920" y="3423240"/>
            <a:ext cx="438120" cy="62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3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rot="10800000">
            <a:off x="3272040" y="3670200"/>
            <a:ext cx="355320" cy="44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819520" y="3319560"/>
            <a:ext cx="241200" cy="3474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rot="10800000">
            <a:off x="3160800" y="3650040"/>
            <a:ext cx="35172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341880" y="3395520"/>
            <a:ext cx="37404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943360" y="3311280"/>
            <a:ext cx="221400" cy="71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027240" y="3200400"/>
            <a:ext cx="603000" cy="33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43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435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837520" y="3200400"/>
            <a:ext cx="97992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692080" y="4092840"/>
            <a:ext cx="89532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878200" y="2955960"/>
            <a:ext cx="523080" cy="138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057480" y="3897360"/>
            <a:ext cx="241200" cy="344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533760" y="3894120"/>
            <a:ext cx="241200" cy="347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720960" y="3322800"/>
            <a:ext cx="241560" cy="347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743200" y="3124080"/>
            <a:ext cx="1371600" cy="129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6632640" y="1623960"/>
            <a:ext cx="1928880" cy="239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 flipV="1">
            <a:off x="3546000" y="2319120"/>
            <a:ext cx="2605320" cy="81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4379760" y="2381400"/>
            <a:ext cx="14400" cy="261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H="1">
            <a:off x="553680" y="6256440"/>
            <a:ext cx="817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1251000" y="3758400"/>
            <a:ext cx="1138320" cy="885960"/>
          </a:xfrm>
          <a:custGeom>
            <a:avLst/>
            <a:gdLst>
              <a:gd name="textAreaLeft" fmla="*/ 250200 w 1138320"/>
              <a:gd name="textAreaRight" fmla="*/ 888120 w 1138320"/>
              <a:gd name="textAreaTop" fmla="*/ 194760 h 885960"/>
              <a:gd name="textAreaBottom" fmla="*/ 691200 h 8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754280" y="4449600"/>
            <a:ext cx="203040" cy="193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731760" y="441324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1820880" y="2712600"/>
            <a:ext cx="0" cy="104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1814040" y="3543480"/>
            <a:ext cx="871560" cy="4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738360" y="2513160"/>
            <a:ext cx="44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44480" y="2519280"/>
            <a:ext cx="0" cy="3710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50960" y="5132520"/>
            <a:ext cx="70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1461960" y="464328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178000" y="4656240"/>
            <a:ext cx="0" cy="1573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3828960" y="5330520"/>
            <a:ext cx="0" cy="911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196040" y="5213520"/>
            <a:ext cx="3240" cy="1015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7988400" y="51879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7196040" y="4022640"/>
            <a:ext cx="3240" cy="835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 flipV="1">
            <a:off x="7981560" y="4022640"/>
            <a:ext cx="17640" cy="83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249560" y="2076480"/>
            <a:ext cx="1194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umulat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580480" y="1076400"/>
            <a:ext cx="9417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te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d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646960" y="1131840"/>
            <a:ext cx="180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moire cent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8191440" y="4759200"/>
            <a:ext cx="8229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173760" y="6353280"/>
            <a:ext cx="130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 de donn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089880" y="2394000"/>
            <a:ext cx="1251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 d’a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3403440" y="4374720"/>
            <a:ext cx="0" cy="652680"/>
          </a:xfrm>
          <a:prstGeom prst="line">
            <a:avLst/>
          </a:prstGeom>
          <a:ln w="5724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593800" y="5013360"/>
            <a:ext cx="12384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670640" y="4935600"/>
            <a:ext cx="960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514880" y="4046400"/>
            <a:ext cx="678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.A.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016360" y="2944800"/>
            <a:ext cx="54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657440" y="48736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012680" y="5562720"/>
            <a:ext cx="545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446200" y="556272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024080" y="556272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39288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818532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464160" y="4319640"/>
            <a:ext cx="51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185320" y="43228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C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569120" y="4322880"/>
            <a:ext cx="556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834800" y="2676600"/>
            <a:ext cx="49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948040" y="1198440"/>
            <a:ext cx="490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949480" y="175896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809960" y="1758960"/>
            <a:ext cx="546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23240" y="1112760"/>
            <a:ext cx="1525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té Cent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79320" y="5619600"/>
            <a:ext cx="13032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79320" y="5683320"/>
            <a:ext cx="2732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11284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11284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774960" y="5632560"/>
            <a:ext cx="106560" cy="101520"/>
          </a:xfrm>
          <a:prstGeom prst="ellipse">
            <a:avLst/>
          </a:prstGeom>
          <a:noFill/>
          <a:ln w="38160">
            <a:solidFill>
              <a:srgbClr val="91919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774960" y="5683320"/>
            <a:ext cx="249480" cy="0"/>
          </a:xfrm>
          <a:prstGeom prst="line">
            <a:avLst/>
          </a:prstGeom>
          <a:ln w="38160">
            <a:solidFill>
              <a:srgbClr val="91919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92324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92324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923240" y="4381560"/>
            <a:ext cx="13176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923240" y="444348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307040" y="4381560"/>
            <a:ext cx="13176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307040" y="4443480"/>
            <a:ext cx="27432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395360" y="4932360"/>
            <a:ext cx="131760" cy="1252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395360" y="499284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754280" y="307008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754280" y="313380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459320" y="1843200"/>
            <a:ext cx="13032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471920" y="1906560"/>
            <a:ext cx="2732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4923000" y="2324160"/>
            <a:ext cx="249120" cy="102960"/>
            <a:chOff x="4923000" y="2324160"/>
            <a:chExt cx="249120" cy="102960"/>
          </a:xfrm>
        </p:grpSpPr>
        <p:sp>
          <p:nvSpPr>
            <p:cNvPr id="969" name=""/>
            <p:cNvSpPr/>
            <p:nvPr/>
          </p:nvSpPr>
          <p:spPr>
            <a:xfrm>
              <a:off x="4923000" y="2324160"/>
              <a:ext cx="106200" cy="102960"/>
            </a:xfrm>
            <a:prstGeom prst="ellipse">
              <a:avLst/>
            </a:prstGeom>
            <a:noFill/>
            <a:ln w="38160">
              <a:solidFill>
                <a:srgbClr val="91919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067360" y="2373480"/>
              <a:ext cx="104760" cy="0"/>
            </a:xfrm>
            <a:prstGeom prst="line">
              <a:avLst/>
            </a:prstGeom>
            <a:ln w="38160">
              <a:solidFill>
                <a:srgbClr val="91919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7147080" y="5632560"/>
            <a:ext cx="106200" cy="101520"/>
          </a:xfrm>
          <a:prstGeom prst="ellipse">
            <a:avLst/>
          </a:prstGeom>
          <a:noFill/>
          <a:ln w="38160">
            <a:solidFill>
              <a:srgbClr val="91919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7004160" y="5683320"/>
            <a:ext cx="249120" cy="0"/>
          </a:xfrm>
          <a:prstGeom prst="line">
            <a:avLst/>
          </a:prstGeom>
          <a:ln w="38160">
            <a:solidFill>
              <a:srgbClr val="91919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147080" y="4392720"/>
            <a:ext cx="106200" cy="100080"/>
          </a:xfrm>
          <a:prstGeom prst="ellipse">
            <a:avLst/>
          </a:prstGeom>
          <a:noFill/>
          <a:ln w="38160">
            <a:solidFill>
              <a:srgbClr val="91919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004160" y="4443480"/>
            <a:ext cx="249120" cy="0"/>
          </a:xfrm>
          <a:prstGeom prst="line">
            <a:avLst/>
          </a:prstGeom>
          <a:ln w="38160">
            <a:solidFill>
              <a:srgbClr val="91919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757680" y="1854360"/>
            <a:ext cx="106200" cy="99720"/>
          </a:xfrm>
          <a:prstGeom prst="ellipse">
            <a:avLst/>
          </a:prstGeom>
          <a:noFill/>
          <a:ln w="38160">
            <a:solidFill>
              <a:srgbClr val="91919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610080" y="1905120"/>
            <a:ext cx="249120" cy="0"/>
          </a:xfrm>
          <a:prstGeom prst="line">
            <a:avLst/>
          </a:prstGeom>
          <a:ln w="38160">
            <a:solidFill>
              <a:srgbClr val="91919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976640" y="2322360"/>
            <a:ext cx="0" cy="241560"/>
          </a:xfrm>
          <a:prstGeom prst="line">
            <a:avLst/>
          </a:prstGeom>
          <a:ln w="38160">
            <a:solidFill>
              <a:srgbClr val="91919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3809880" y="1517400"/>
            <a:ext cx="0" cy="850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527720" y="1530360"/>
            <a:ext cx="0" cy="84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16200000">
            <a:off x="6139800" y="2586240"/>
            <a:ext cx="57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6208200" y="1623960"/>
            <a:ext cx="41940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 flipV="1">
            <a:off x="6203880" y="3422520"/>
            <a:ext cx="42408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860640" y="438300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V="1">
            <a:off x="6213600" y="2035080"/>
            <a:ext cx="0" cy="14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212840" y="2381400"/>
            <a:ext cx="1219320" cy="33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054920" y="4870440"/>
            <a:ext cx="1104840" cy="31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997520" y="133344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039640" y="1179360"/>
            <a:ext cx="373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Times New Roman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703920" y="1677960"/>
            <a:ext cx="176688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nn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2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A F8 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6 F8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2 F8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251840" y="16192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684600" y="1233360"/>
            <a:ext cx="1190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Times New Roman"/>
              </a:rPr>
              <a:t>FB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184880" y="4811760"/>
            <a:ext cx="8564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A F8 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708360" y="504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054240" y="5035680"/>
            <a:ext cx="1587600" cy="33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133440" y="4989600"/>
            <a:ext cx="15087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 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505320" y="1206360"/>
            <a:ext cx="1460520" cy="279720"/>
          </a:xfrm>
          <a:prstGeom prst="rect">
            <a:avLst/>
          </a:prstGeom>
          <a:noFill/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3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Le compteur ordinal est incrémenté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860640" y="438300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286080" y="3328920"/>
            <a:ext cx="243000" cy="34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364560" y="3444840"/>
            <a:ext cx="291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842920" y="3423240"/>
            <a:ext cx="438120" cy="62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3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rot="10800000">
            <a:off x="3272040" y="3670200"/>
            <a:ext cx="355320" cy="44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819520" y="3319560"/>
            <a:ext cx="241200" cy="347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rot="10800000">
            <a:off x="3160800" y="3650040"/>
            <a:ext cx="35172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341880" y="3395520"/>
            <a:ext cx="37404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943360" y="3311280"/>
            <a:ext cx="221400" cy="71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027240" y="3200400"/>
            <a:ext cx="603000" cy="33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43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435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837520" y="3200400"/>
            <a:ext cx="97992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692080" y="4092840"/>
            <a:ext cx="89532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878200" y="2955960"/>
            <a:ext cx="523080" cy="138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057480" y="3897360"/>
            <a:ext cx="241200" cy="344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533760" y="3894120"/>
            <a:ext cx="241200" cy="347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720960" y="3322800"/>
            <a:ext cx="241560" cy="347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743200" y="3124080"/>
            <a:ext cx="1371600" cy="129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6632640" y="1623960"/>
            <a:ext cx="1928880" cy="239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H="1" flipV="1">
            <a:off x="3546000" y="2319120"/>
            <a:ext cx="2605320" cy="81000"/>
          </a:xfrm>
          <a:prstGeom prst="line">
            <a:avLst/>
          </a:prstGeom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4379760" y="2381400"/>
            <a:ext cx="14400" cy="2616120"/>
          </a:xfrm>
          <a:prstGeom prst="line">
            <a:avLst/>
          </a:prstGeom>
          <a:ln w="57240">
            <a:solidFill>
              <a:srgbClr val="00ae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>
            <a:off x="553680" y="6256440"/>
            <a:ext cx="8170920" cy="0"/>
          </a:xfrm>
          <a:prstGeom prst="line">
            <a:avLst/>
          </a:prstGeom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1251000" y="3758400"/>
            <a:ext cx="1138320" cy="885960"/>
          </a:xfrm>
          <a:custGeom>
            <a:avLst/>
            <a:gdLst>
              <a:gd name="textAreaLeft" fmla="*/ 250200 w 1138320"/>
              <a:gd name="textAreaRight" fmla="*/ 888120 w 1138320"/>
              <a:gd name="textAreaTop" fmla="*/ 194760 h 885960"/>
              <a:gd name="textAreaBottom" fmla="*/ 691200 h 8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754280" y="4449600"/>
            <a:ext cx="203040" cy="193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930400" y="3600360"/>
            <a:ext cx="954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731760" y="441324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1820880" y="2712600"/>
            <a:ext cx="0" cy="1047960"/>
          </a:xfrm>
          <a:prstGeom prst="line">
            <a:avLst/>
          </a:prstGeom>
          <a:ln w="572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1814040" y="3543480"/>
            <a:ext cx="871560" cy="4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738360" y="2513160"/>
            <a:ext cx="44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44480" y="2519280"/>
            <a:ext cx="0" cy="3710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50960" y="5132520"/>
            <a:ext cx="70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1461960" y="464328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178000" y="4656240"/>
            <a:ext cx="0" cy="1573200"/>
          </a:xfrm>
          <a:prstGeom prst="line">
            <a:avLst/>
          </a:prstGeom>
          <a:ln w="57240">
            <a:solidFill>
              <a:srgbClr val="00ae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3828960" y="5330520"/>
            <a:ext cx="0" cy="911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196040" y="5213520"/>
            <a:ext cx="3240" cy="1015920"/>
          </a:xfrm>
          <a:prstGeom prst="line">
            <a:avLst/>
          </a:prstGeom>
          <a:ln w="572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7988400" y="51879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7196040" y="4022640"/>
            <a:ext cx="3240" cy="835200"/>
          </a:xfrm>
          <a:prstGeom prst="line">
            <a:avLst/>
          </a:prstGeom>
          <a:ln w="57240">
            <a:solidFill>
              <a:srgbClr val="00ae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H="1" flipV="1">
            <a:off x="7981560" y="4022640"/>
            <a:ext cx="17640" cy="83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249560" y="2076480"/>
            <a:ext cx="1194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umulat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580480" y="1076400"/>
            <a:ext cx="9417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te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d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646960" y="1131840"/>
            <a:ext cx="180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moire cent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8191440" y="4759200"/>
            <a:ext cx="8229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173760" y="6353280"/>
            <a:ext cx="130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 de donn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089880" y="2394000"/>
            <a:ext cx="1251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 d’a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3403440" y="4374720"/>
            <a:ext cx="0" cy="65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593800" y="5013360"/>
            <a:ext cx="12384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670640" y="4935600"/>
            <a:ext cx="960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514880" y="4046400"/>
            <a:ext cx="678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.A.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016360" y="2944800"/>
            <a:ext cx="54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657440" y="48736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012680" y="5562720"/>
            <a:ext cx="545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446200" y="556272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024080" y="556272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39288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818532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464160" y="4319640"/>
            <a:ext cx="51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8185320" y="43228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C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569120" y="4322880"/>
            <a:ext cx="556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834800" y="2676600"/>
            <a:ext cx="49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948040" y="1198440"/>
            <a:ext cx="490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949480" y="175896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809960" y="1758960"/>
            <a:ext cx="546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23240" y="1112760"/>
            <a:ext cx="1525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té Cent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79320" y="5619600"/>
            <a:ext cx="13032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79320" y="5683320"/>
            <a:ext cx="2732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125800" y="5632560"/>
            <a:ext cx="106200" cy="10152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125800" y="5683320"/>
            <a:ext cx="249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76236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76236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92324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92324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923240" y="4381560"/>
            <a:ext cx="13176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923240" y="444348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319640" y="4394160"/>
            <a:ext cx="106200" cy="9864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319640" y="4443480"/>
            <a:ext cx="249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395360" y="4932360"/>
            <a:ext cx="131760" cy="1252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395360" y="499284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766880" y="3083040"/>
            <a:ext cx="106200" cy="10152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766880" y="3133800"/>
            <a:ext cx="249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459320" y="1843200"/>
            <a:ext cx="13032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471920" y="1906560"/>
            <a:ext cx="2732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4923000" y="2324160"/>
            <a:ext cx="249120" cy="102960"/>
            <a:chOff x="4923000" y="2324160"/>
            <a:chExt cx="249120" cy="102960"/>
          </a:xfrm>
        </p:grpSpPr>
        <p:sp>
          <p:nvSpPr>
            <p:cNvPr id="1079" name=""/>
            <p:cNvSpPr/>
            <p:nvPr/>
          </p:nvSpPr>
          <p:spPr>
            <a:xfrm>
              <a:off x="4923000" y="2324160"/>
              <a:ext cx="106200" cy="10296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067360" y="2373480"/>
              <a:ext cx="10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1" name=""/>
          <p:cNvSpPr/>
          <p:nvPr/>
        </p:nvSpPr>
        <p:spPr>
          <a:xfrm>
            <a:off x="7147080" y="5632560"/>
            <a:ext cx="106200" cy="10152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004160" y="5683320"/>
            <a:ext cx="249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147080" y="4392720"/>
            <a:ext cx="106200" cy="10008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004160" y="4443480"/>
            <a:ext cx="249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745080" y="1841400"/>
            <a:ext cx="131760" cy="1256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597120" y="19051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976640" y="2322360"/>
            <a:ext cx="0" cy="241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3809880" y="1517400"/>
            <a:ext cx="0" cy="850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527720" y="1530360"/>
            <a:ext cx="0" cy="84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rot="16200000">
            <a:off x="6139800" y="2586240"/>
            <a:ext cx="57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6208200" y="1623960"/>
            <a:ext cx="41940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 flipV="1">
            <a:off x="6203880" y="3422520"/>
            <a:ext cx="42408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860640" y="438300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V="1">
            <a:off x="6213600" y="2035080"/>
            <a:ext cx="0" cy="14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212840" y="2381400"/>
            <a:ext cx="1219320" cy="33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7054920" y="4870440"/>
            <a:ext cx="1104840" cy="31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997520" y="133344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090400" y="116676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708360" y="504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054240" y="5035680"/>
            <a:ext cx="1587600" cy="33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486240" y="1187280"/>
            <a:ext cx="1498680" cy="31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703920" y="1677960"/>
            <a:ext cx="176688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nn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2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A F8 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6 F8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2 F8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251840" y="16192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684600" y="1233360"/>
            <a:ext cx="1190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185240" y="4811760"/>
            <a:ext cx="3614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133440" y="4989600"/>
            <a:ext cx="15087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 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V="1">
            <a:off x="2381400" y="4349520"/>
            <a:ext cx="507960" cy="1384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H="1" flipV="1">
            <a:off x="3587400" y="4362120"/>
            <a:ext cx="3365640" cy="134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 flipV="1">
            <a:off x="4159080" y="4032000"/>
            <a:ext cx="43200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 flipV="1">
            <a:off x="4146120" y="3562200"/>
            <a:ext cx="2832120" cy="889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3320640" y="2584440"/>
            <a:ext cx="1676520" cy="622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050920" y="3143160"/>
            <a:ext cx="6098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3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Le chargement : les signaux à piloter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1585080" y="23004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imes New Roman"/>
              </a:rPr>
              <a:t>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860640" y="438300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286080" y="3328920"/>
            <a:ext cx="243000" cy="34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364560" y="3444840"/>
            <a:ext cx="291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842920" y="3423240"/>
            <a:ext cx="438120" cy="62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3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rot="10800000">
            <a:off x="3272040" y="3670200"/>
            <a:ext cx="355320" cy="44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819520" y="3319560"/>
            <a:ext cx="241200" cy="347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rot="10800000">
            <a:off x="3160800" y="3650040"/>
            <a:ext cx="35172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341880" y="3395520"/>
            <a:ext cx="37404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943360" y="3311280"/>
            <a:ext cx="221400" cy="71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027240" y="3200400"/>
            <a:ext cx="603000" cy="33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43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435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837520" y="3200400"/>
            <a:ext cx="97992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692080" y="4092840"/>
            <a:ext cx="89532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878200" y="2955960"/>
            <a:ext cx="523080" cy="138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057480" y="3897360"/>
            <a:ext cx="241200" cy="344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533760" y="3894120"/>
            <a:ext cx="241200" cy="347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720960" y="3322800"/>
            <a:ext cx="241560" cy="3474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743200" y="3124080"/>
            <a:ext cx="1371600" cy="129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/>
          <p:nvPr/>
        </p:nvSpPr>
        <p:spPr>
          <a:xfrm flipV="1">
            <a:off x="3809880" y="1486080"/>
            <a:ext cx="0" cy="914400"/>
          </a:xfrm>
          <a:prstGeom prst="line">
            <a:avLst/>
          </a:prstGeom>
          <a:ln w="76320">
            <a:solidFill>
              <a:srgbClr val="00ae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632640" y="1623960"/>
            <a:ext cx="1928880" cy="239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H="1" flipV="1">
            <a:off x="3546000" y="2319120"/>
            <a:ext cx="2605320" cy="81000"/>
          </a:xfrm>
          <a:prstGeom prst="line">
            <a:avLst/>
          </a:prstGeom>
          <a:ln w="7632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H="1">
            <a:off x="4379760" y="2381400"/>
            <a:ext cx="14400" cy="261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553680" y="6256440"/>
            <a:ext cx="8170920" cy="0"/>
          </a:xfrm>
          <a:prstGeom prst="line">
            <a:avLst/>
          </a:prstGeom>
          <a:ln w="7632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1251000" y="3758400"/>
            <a:ext cx="1138320" cy="885960"/>
          </a:xfrm>
          <a:custGeom>
            <a:avLst/>
            <a:gdLst>
              <a:gd name="textAreaLeft" fmla="*/ 250200 w 1138320"/>
              <a:gd name="textAreaRight" fmla="*/ 888120 w 1138320"/>
              <a:gd name="textAreaTop" fmla="*/ 194760 h 885960"/>
              <a:gd name="textAreaBottom" fmla="*/ 691200 h 8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754280" y="4449600"/>
            <a:ext cx="203040" cy="193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731760" y="441324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V="1">
            <a:off x="1820880" y="2712600"/>
            <a:ext cx="0" cy="104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H="1">
            <a:off x="1814040" y="3543480"/>
            <a:ext cx="871560" cy="4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738360" y="2513160"/>
            <a:ext cx="44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44480" y="2519280"/>
            <a:ext cx="0" cy="3710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50960" y="5132520"/>
            <a:ext cx="70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1461960" y="464328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178000" y="4656240"/>
            <a:ext cx="0" cy="1573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V="1">
            <a:off x="3828960" y="5298840"/>
            <a:ext cx="0" cy="97452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196040" y="5245200"/>
            <a:ext cx="3240" cy="95256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7988400" y="51879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7196040" y="3990960"/>
            <a:ext cx="3240" cy="898560"/>
          </a:xfrm>
          <a:prstGeom prst="line">
            <a:avLst/>
          </a:prstGeom>
          <a:ln w="76320">
            <a:solidFill>
              <a:srgbClr val="00ae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H="1" flipV="1">
            <a:off x="7981560" y="4022640"/>
            <a:ext cx="17640" cy="83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249560" y="2076480"/>
            <a:ext cx="1194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umulat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580480" y="1076400"/>
            <a:ext cx="9417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te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d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646960" y="1131840"/>
            <a:ext cx="180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moire cent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8191440" y="4759200"/>
            <a:ext cx="8229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173760" y="6353280"/>
            <a:ext cx="130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 de donn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089880" y="2394000"/>
            <a:ext cx="1251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 d’a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V="1">
            <a:off x="3403440" y="4374720"/>
            <a:ext cx="0" cy="65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593800" y="5013360"/>
            <a:ext cx="12384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670640" y="4935600"/>
            <a:ext cx="960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514880" y="4046400"/>
            <a:ext cx="678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.A.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016360" y="2944800"/>
            <a:ext cx="54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657440" y="48736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012680" y="5562720"/>
            <a:ext cx="545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446200" y="556272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024080" y="556272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639288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818532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464160" y="4319640"/>
            <a:ext cx="51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8185320" y="43228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C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569120" y="4322880"/>
            <a:ext cx="556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834800" y="2676600"/>
            <a:ext cx="49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948040" y="1198440"/>
            <a:ext cx="490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949480" y="175896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809960" y="1758960"/>
            <a:ext cx="546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723240" y="1112760"/>
            <a:ext cx="1525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té Cent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79320" y="5619600"/>
            <a:ext cx="13032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79320" y="5683320"/>
            <a:ext cx="2732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11284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11284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774960" y="5632560"/>
            <a:ext cx="106560" cy="10152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774960" y="5683320"/>
            <a:ext cx="24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792324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92324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923240" y="4381560"/>
            <a:ext cx="13176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923240" y="444348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307040" y="4381560"/>
            <a:ext cx="13176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307040" y="4443480"/>
            <a:ext cx="27432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395360" y="4932360"/>
            <a:ext cx="131760" cy="1252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395360" y="499284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754280" y="307008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754280" y="313380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459320" y="1843200"/>
            <a:ext cx="13032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471920" y="1906560"/>
            <a:ext cx="2732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4923000" y="2324160"/>
            <a:ext cx="249120" cy="102960"/>
            <a:chOff x="4923000" y="2324160"/>
            <a:chExt cx="249120" cy="102960"/>
          </a:xfrm>
        </p:grpSpPr>
        <p:sp>
          <p:nvSpPr>
            <p:cNvPr id="1196" name=""/>
            <p:cNvSpPr/>
            <p:nvPr/>
          </p:nvSpPr>
          <p:spPr>
            <a:xfrm>
              <a:off x="4923000" y="2324160"/>
              <a:ext cx="106200" cy="10296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067360" y="2373480"/>
              <a:ext cx="10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8" name=""/>
          <p:cNvSpPr/>
          <p:nvPr/>
        </p:nvSpPr>
        <p:spPr>
          <a:xfrm>
            <a:off x="7147080" y="5632560"/>
            <a:ext cx="106200" cy="10152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7004160" y="5683320"/>
            <a:ext cx="249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7147080" y="4392720"/>
            <a:ext cx="106200" cy="10008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004160" y="4443480"/>
            <a:ext cx="249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757680" y="1854360"/>
            <a:ext cx="106200" cy="9972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976640" y="2322360"/>
            <a:ext cx="0" cy="241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527720" y="1530360"/>
            <a:ext cx="0" cy="84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rot="16200000">
            <a:off x="6140520" y="2540160"/>
            <a:ext cx="702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FB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H="1">
            <a:off x="6208200" y="1623960"/>
            <a:ext cx="41940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H="1" flipV="1">
            <a:off x="6203880" y="3422520"/>
            <a:ext cx="42408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860640" y="438300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6213600" y="2035080"/>
            <a:ext cx="0" cy="14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212840" y="2381400"/>
            <a:ext cx="1219320" cy="33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054920" y="4870440"/>
            <a:ext cx="1104840" cy="31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997520" y="133344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090400" y="116676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708360" y="504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073320" y="5054760"/>
            <a:ext cx="1549440" cy="291960"/>
          </a:xfrm>
          <a:prstGeom prst="rect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505320" y="1206360"/>
            <a:ext cx="1460520" cy="279720"/>
          </a:xfrm>
          <a:prstGeom prst="rect">
            <a:avLst/>
          </a:prstGeom>
          <a:noFill/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703920" y="1677960"/>
            <a:ext cx="190656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nn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2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0           3A F8 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Times New Roman"/>
              </a:rPr>
              <a:t>FB01</a:t>
            </a:r>
            <a:r>
              <a:rPr b="1" lang="en-US" sz="14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c0128"/>
                </a:solidFill>
                <a:latin typeface="Times New Roman"/>
              </a:rPr>
              <a:t>C6 F8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2 F8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7251840" y="16192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684600" y="1233360"/>
            <a:ext cx="1190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FB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7186680" y="4746600"/>
            <a:ext cx="181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021120" y="5029200"/>
            <a:ext cx="1550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</a:rPr>
              <a:t>C6       F8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2876040" y="1924200"/>
            <a:ext cx="723960" cy="126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H="1">
            <a:off x="3689280" y="2660760"/>
            <a:ext cx="133344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H="1" flipV="1">
            <a:off x="4158720" y="3498480"/>
            <a:ext cx="2883240" cy="96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H="1" flipV="1">
            <a:off x="4146480" y="3981240"/>
            <a:ext cx="2895840" cy="172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H="1" flipV="1">
            <a:off x="3549240" y="4375080"/>
            <a:ext cx="507960" cy="13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610080" y="1905120"/>
            <a:ext cx="249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3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Extraction de l ’instruction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585080" y="23004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imes New Roman"/>
              </a:rPr>
              <a:t>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164000" y="485136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Times New Roman"/>
              </a:rPr>
              <a:t>C6 F8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860640" y="438300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286080" y="3328920"/>
            <a:ext cx="243000" cy="34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364560" y="3444840"/>
            <a:ext cx="291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842920" y="3423240"/>
            <a:ext cx="438120" cy="62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3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rot="10800000">
            <a:off x="3272040" y="3670200"/>
            <a:ext cx="355320" cy="44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819520" y="3319560"/>
            <a:ext cx="241200" cy="3474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rot="10800000">
            <a:off x="3160800" y="3650040"/>
            <a:ext cx="35172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341880" y="3395520"/>
            <a:ext cx="37404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943360" y="3311280"/>
            <a:ext cx="221400" cy="71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027240" y="3200400"/>
            <a:ext cx="603000" cy="33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43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435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837520" y="3200400"/>
            <a:ext cx="97992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692080" y="4092840"/>
            <a:ext cx="89532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878200" y="2955960"/>
            <a:ext cx="523080" cy="138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057480" y="3897360"/>
            <a:ext cx="241200" cy="344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533760" y="3894120"/>
            <a:ext cx="241200" cy="347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720960" y="3322800"/>
            <a:ext cx="241560" cy="347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743200" y="3124080"/>
            <a:ext cx="1371600" cy="129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3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63de8"/>
                </a:solidFill>
                <a:latin typeface="Arial"/>
              </a:rPr>
              <a:t>Les microprogrammes 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114800" y="10666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cycle d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exemple com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 ’exé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"/>
          <p:cNvSpPr/>
          <p:nvPr/>
        </p:nvSpPr>
        <p:spPr>
          <a:xfrm>
            <a:off x="6632640" y="1623960"/>
            <a:ext cx="1928880" cy="239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H="1" flipV="1">
            <a:off x="3546000" y="2319120"/>
            <a:ext cx="2605320" cy="81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4379760" y="2381400"/>
            <a:ext cx="14400" cy="261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H="1">
            <a:off x="553680" y="6256440"/>
            <a:ext cx="817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V="1">
            <a:off x="1251000" y="3758400"/>
            <a:ext cx="1138320" cy="885960"/>
          </a:xfrm>
          <a:custGeom>
            <a:avLst/>
            <a:gdLst>
              <a:gd name="textAreaLeft" fmla="*/ 250200 w 1138320"/>
              <a:gd name="textAreaRight" fmla="*/ 888120 w 1138320"/>
              <a:gd name="textAreaTop" fmla="*/ 194760 h 885960"/>
              <a:gd name="textAreaBottom" fmla="*/ 691200 h 8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754280" y="4449600"/>
            <a:ext cx="203040" cy="193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638440" y="3452760"/>
            <a:ext cx="164628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731760" y="441324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1820880" y="2712600"/>
            <a:ext cx="0" cy="104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H="1">
            <a:off x="1814040" y="3543480"/>
            <a:ext cx="871560" cy="4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H="1">
            <a:off x="738360" y="2513160"/>
            <a:ext cx="44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44480" y="2519280"/>
            <a:ext cx="0" cy="3710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50960" y="5132520"/>
            <a:ext cx="70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V="1">
            <a:off x="1461960" y="464328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2178000" y="4656240"/>
            <a:ext cx="0" cy="1573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3828960" y="5330520"/>
            <a:ext cx="0" cy="911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7196040" y="5213520"/>
            <a:ext cx="3240" cy="1015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 flipV="1">
            <a:off x="7988400" y="51879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>
            <a:off x="7196040" y="4022640"/>
            <a:ext cx="3240" cy="835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H="1" flipV="1">
            <a:off x="7981560" y="4022640"/>
            <a:ext cx="17640" cy="83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249560" y="2076480"/>
            <a:ext cx="1194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umulat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580480" y="1076400"/>
            <a:ext cx="9417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te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d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646960" y="1131840"/>
            <a:ext cx="180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moire cent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8191440" y="4759200"/>
            <a:ext cx="8229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173760" y="6353280"/>
            <a:ext cx="130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 de donn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089880" y="2394000"/>
            <a:ext cx="1251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 d’a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V="1">
            <a:off x="3403440" y="4374720"/>
            <a:ext cx="0" cy="652680"/>
          </a:xfrm>
          <a:prstGeom prst="line">
            <a:avLst/>
          </a:prstGeom>
          <a:ln w="5724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593800" y="5013360"/>
            <a:ext cx="12384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670640" y="4935600"/>
            <a:ext cx="960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514880" y="4046400"/>
            <a:ext cx="678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.A.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016360" y="2944800"/>
            <a:ext cx="54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657440" y="48736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012680" y="5562720"/>
            <a:ext cx="545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446200" y="556272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024080" y="556272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39288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818532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6464160" y="4319640"/>
            <a:ext cx="51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8185320" y="43228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C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569120" y="4322880"/>
            <a:ext cx="556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834800" y="2676600"/>
            <a:ext cx="49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2948040" y="1198440"/>
            <a:ext cx="490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949480" y="175896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809960" y="1758960"/>
            <a:ext cx="546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723240" y="1112760"/>
            <a:ext cx="1525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té Cent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79320" y="5619600"/>
            <a:ext cx="13032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79320" y="5683320"/>
            <a:ext cx="2732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11284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11284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774960" y="5632560"/>
            <a:ext cx="106560" cy="101520"/>
          </a:xfrm>
          <a:prstGeom prst="ellipse">
            <a:avLst/>
          </a:prstGeom>
          <a:noFill/>
          <a:ln w="38160">
            <a:solidFill>
              <a:srgbClr val="91919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774960" y="5683320"/>
            <a:ext cx="249480" cy="0"/>
          </a:xfrm>
          <a:prstGeom prst="line">
            <a:avLst/>
          </a:prstGeom>
          <a:ln w="38160">
            <a:solidFill>
              <a:srgbClr val="91919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792324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792324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923240" y="4381560"/>
            <a:ext cx="13176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7923240" y="444348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307040" y="4381560"/>
            <a:ext cx="13176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4307040" y="4443480"/>
            <a:ext cx="27432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395360" y="4932360"/>
            <a:ext cx="131760" cy="1252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395360" y="499284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754280" y="307008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754280" y="313380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459320" y="1843200"/>
            <a:ext cx="13032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471920" y="1906560"/>
            <a:ext cx="2732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4923000" y="2324160"/>
            <a:ext cx="249120" cy="102960"/>
            <a:chOff x="4923000" y="2324160"/>
            <a:chExt cx="249120" cy="102960"/>
          </a:xfrm>
        </p:grpSpPr>
        <p:sp>
          <p:nvSpPr>
            <p:cNvPr id="1312" name=""/>
            <p:cNvSpPr/>
            <p:nvPr/>
          </p:nvSpPr>
          <p:spPr>
            <a:xfrm>
              <a:off x="4923000" y="2324160"/>
              <a:ext cx="106200" cy="102960"/>
            </a:xfrm>
            <a:prstGeom prst="ellipse">
              <a:avLst/>
            </a:prstGeom>
            <a:noFill/>
            <a:ln w="38160">
              <a:solidFill>
                <a:srgbClr val="91919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67360" y="2373480"/>
              <a:ext cx="104760" cy="0"/>
            </a:xfrm>
            <a:prstGeom prst="line">
              <a:avLst/>
            </a:prstGeom>
            <a:ln w="38160">
              <a:solidFill>
                <a:srgbClr val="91919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4" name=""/>
          <p:cNvSpPr/>
          <p:nvPr/>
        </p:nvSpPr>
        <p:spPr>
          <a:xfrm>
            <a:off x="7147080" y="5632560"/>
            <a:ext cx="106200" cy="101520"/>
          </a:xfrm>
          <a:prstGeom prst="ellipse">
            <a:avLst/>
          </a:prstGeom>
          <a:noFill/>
          <a:ln w="38160">
            <a:solidFill>
              <a:srgbClr val="91919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7004160" y="5683320"/>
            <a:ext cx="249120" cy="0"/>
          </a:xfrm>
          <a:prstGeom prst="line">
            <a:avLst/>
          </a:prstGeom>
          <a:ln w="38160">
            <a:solidFill>
              <a:srgbClr val="91919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147080" y="4392720"/>
            <a:ext cx="106200" cy="100080"/>
          </a:xfrm>
          <a:prstGeom prst="ellipse">
            <a:avLst/>
          </a:prstGeom>
          <a:noFill/>
          <a:ln w="38160">
            <a:solidFill>
              <a:srgbClr val="91919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7004160" y="4443480"/>
            <a:ext cx="249120" cy="0"/>
          </a:xfrm>
          <a:prstGeom prst="line">
            <a:avLst/>
          </a:prstGeom>
          <a:ln w="38160">
            <a:solidFill>
              <a:srgbClr val="91919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757680" y="1854360"/>
            <a:ext cx="106200" cy="99720"/>
          </a:xfrm>
          <a:prstGeom prst="ellipse">
            <a:avLst/>
          </a:prstGeom>
          <a:noFill/>
          <a:ln w="38160">
            <a:solidFill>
              <a:srgbClr val="91919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610080" y="1905120"/>
            <a:ext cx="249120" cy="0"/>
          </a:xfrm>
          <a:prstGeom prst="line">
            <a:avLst/>
          </a:prstGeom>
          <a:ln w="38160">
            <a:solidFill>
              <a:srgbClr val="91919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976640" y="2322360"/>
            <a:ext cx="0" cy="241560"/>
          </a:xfrm>
          <a:prstGeom prst="line">
            <a:avLst/>
          </a:prstGeom>
          <a:ln w="38160">
            <a:solidFill>
              <a:srgbClr val="91919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flipV="1">
            <a:off x="3809880" y="1517400"/>
            <a:ext cx="0" cy="850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527720" y="1530360"/>
            <a:ext cx="0" cy="84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rot="16200000">
            <a:off x="6139800" y="2586240"/>
            <a:ext cx="57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flipH="1">
            <a:off x="6208200" y="1623960"/>
            <a:ext cx="41940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 flipH="1" flipV="1">
            <a:off x="6203880" y="3422520"/>
            <a:ext cx="42408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860640" y="438300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 flipV="1">
            <a:off x="6213600" y="2035080"/>
            <a:ext cx="0" cy="14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212840" y="2381400"/>
            <a:ext cx="1219320" cy="33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054920" y="4870440"/>
            <a:ext cx="1104840" cy="31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997520" y="133344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039640" y="1179360"/>
            <a:ext cx="373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Times New Roman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703920" y="1677960"/>
            <a:ext cx="176688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nn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2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A F8 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6 F8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2 F8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251840" y="16192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657600" y="1143000"/>
            <a:ext cx="1190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</a:rPr>
              <a:t>FB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184880" y="4811760"/>
            <a:ext cx="8564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A F8 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708360" y="504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054240" y="5035680"/>
            <a:ext cx="1587600" cy="33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3133440" y="4989600"/>
            <a:ext cx="15087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 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505320" y="1206360"/>
            <a:ext cx="1460520" cy="279720"/>
          </a:xfrm>
          <a:prstGeom prst="rect">
            <a:avLst/>
          </a:prstGeom>
          <a:noFill/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3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²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3860640" y="438300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3286080" y="3328920"/>
            <a:ext cx="243000" cy="34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364560" y="3444840"/>
            <a:ext cx="291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842920" y="3423240"/>
            <a:ext cx="438120" cy="62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3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rot="10800000">
            <a:off x="3272040" y="3670200"/>
            <a:ext cx="355320" cy="44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819520" y="3319560"/>
            <a:ext cx="241200" cy="347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rot="10800000">
            <a:off x="3160800" y="3650040"/>
            <a:ext cx="35172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341880" y="3395520"/>
            <a:ext cx="37404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2943360" y="3311280"/>
            <a:ext cx="221400" cy="71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3027240" y="3200400"/>
            <a:ext cx="603000" cy="33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43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435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837520" y="3200400"/>
            <a:ext cx="97992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692080" y="4092840"/>
            <a:ext cx="89532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878200" y="2955960"/>
            <a:ext cx="523080" cy="138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057480" y="3897360"/>
            <a:ext cx="241200" cy="344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533760" y="3894120"/>
            <a:ext cx="241200" cy="347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3720960" y="3322800"/>
            <a:ext cx="241560" cy="347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743200" y="3124080"/>
            <a:ext cx="1371600" cy="129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"/>
          <p:cNvSpPr/>
          <p:nvPr/>
        </p:nvSpPr>
        <p:spPr>
          <a:xfrm>
            <a:off x="6632640" y="1623960"/>
            <a:ext cx="1928880" cy="239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H="1" flipV="1">
            <a:off x="3558960" y="2332080"/>
            <a:ext cx="2579400" cy="55440"/>
          </a:xfrm>
          <a:prstGeom prst="line">
            <a:avLst/>
          </a:prstGeom>
          <a:ln w="507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H="1">
            <a:off x="4360680" y="2400480"/>
            <a:ext cx="52200" cy="257796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H="1">
            <a:off x="566280" y="6256440"/>
            <a:ext cx="8145720" cy="0"/>
          </a:xfrm>
          <a:prstGeom prst="line">
            <a:avLst/>
          </a:prstGeom>
          <a:ln w="507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V="1">
            <a:off x="1251000" y="3758400"/>
            <a:ext cx="1138320" cy="885960"/>
          </a:xfrm>
          <a:custGeom>
            <a:avLst/>
            <a:gdLst>
              <a:gd name="textAreaLeft" fmla="*/ 250200 w 1138320"/>
              <a:gd name="textAreaRight" fmla="*/ 888120 w 1138320"/>
              <a:gd name="textAreaTop" fmla="*/ 194760 h 885960"/>
              <a:gd name="textAreaBottom" fmla="*/ 691200 h 8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754280" y="4449600"/>
            <a:ext cx="203040" cy="193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731760" y="441324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flipV="1">
            <a:off x="1820880" y="2693520"/>
            <a:ext cx="0" cy="1086120"/>
          </a:xfrm>
          <a:prstGeom prst="line">
            <a:avLst/>
          </a:prstGeom>
          <a:ln w="507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H="1">
            <a:off x="1814040" y="3543480"/>
            <a:ext cx="871560" cy="4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H="1">
            <a:off x="719280" y="2513160"/>
            <a:ext cx="480960" cy="0"/>
          </a:xfrm>
          <a:prstGeom prst="line">
            <a:avLst/>
          </a:prstGeom>
          <a:ln w="507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744480" y="2538360"/>
            <a:ext cx="4680" cy="2541600"/>
          </a:xfrm>
          <a:prstGeom prst="line">
            <a:avLst/>
          </a:prstGeom>
          <a:ln w="507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70040" y="5132520"/>
            <a:ext cx="666720" cy="0"/>
          </a:xfrm>
          <a:prstGeom prst="line">
            <a:avLst/>
          </a:prstGeom>
          <a:ln w="507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flipV="1">
            <a:off x="1461960" y="4624200"/>
            <a:ext cx="0" cy="533160"/>
          </a:xfrm>
          <a:prstGeom prst="line">
            <a:avLst/>
          </a:prstGeom>
          <a:ln w="507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178000" y="4675320"/>
            <a:ext cx="0" cy="153504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 flipV="1">
            <a:off x="3828960" y="5330520"/>
            <a:ext cx="0" cy="911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7196040" y="5232240"/>
            <a:ext cx="3240" cy="978120"/>
          </a:xfrm>
          <a:prstGeom prst="line">
            <a:avLst/>
          </a:prstGeom>
          <a:ln w="507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V="1">
            <a:off x="7988400" y="51879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 flipV="1">
            <a:off x="7196040" y="4003560"/>
            <a:ext cx="3240" cy="87336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 flipH="1" flipV="1">
            <a:off x="7981560" y="4022640"/>
            <a:ext cx="17640" cy="83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249560" y="2076480"/>
            <a:ext cx="1194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umulat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2580480" y="1076400"/>
            <a:ext cx="9417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te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d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646960" y="1131840"/>
            <a:ext cx="180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moire cent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8191440" y="4759200"/>
            <a:ext cx="8229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173760" y="6353280"/>
            <a:ext cx="130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 de donn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089880" y="2394000"/>
            <a:ext cx="1251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 d’a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 flipV="1">
            <a:off x="3403440" y="4374720"/>
            <a:ext cx="0" cy="65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593800" y="5013360"/>
            <a:ext cx="12384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670640" y="4935600"/>
            <a:ext cx="960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514880" y="4046400"/>
            <a:ext cx="678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.A.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2016360" y="2944800"/>
            <a:ext cx="54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657440" y="48736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012680" y="5562720"/>
            <a:ext cx="545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2446200" y="556272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024080" y="556272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639288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818532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464160" y="4322880"/>
            <a:ext cx="51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8185320" y="43228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C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569120" y="4322880"/>
            <a:ext cx="556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834800" y="2676600"/>
            <a:ext cx="49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948040" y="1198440"/>
            <a:ext cx="490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949480" y="175896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809960" y="1758960"/>
            <a:ext cx="546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23240" y="1112760"/>
            <a:ext cx="1525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té Cent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79320" y="5619600"/>
            <a:ext cx="13032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79320" y="5683320"/>
            <a:ext cx="2732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76236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76236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792324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92324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923240" y="4381560"/>
            <a:ext cx="13176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7923240" y="444348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459320" y="1843200"/>
            <a:ext cx="13032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471920" y="1906560"/>
            <a:ext cx="2732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740040" y="1843200"/>
            <a:ext cx="136800" cy="12852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3587760" y="1905120"/>
            <a:ext cx="2840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4976640" y="2313000"/>
            <a:ext cx="0" cy="27288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flipV="1">
            <a:off x="3809880" y="1517400"/>
            <a:ext cx="0" cy="850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527720" y="1530360"/>
            <a:ext cx="0" cy="84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rot="16200000">
            <a:off x="6140520" y="2529000"/>
            <a:ext cx="664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F8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H="1">
            <a:off x="6208200" y="1623960"/>
            <a:ext cx="41940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H="1" flipV="1">
            <a:off x="6203880" y="3422520"/>
            <a:ext cx="42408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3860640" y="438300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V="1">
            <a:off x="6213600" y="2035080"/>
            <a:ext cx="0" cy="14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212840" y="2381400"/>
            <a:ext cx="1219320" cy="33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7054920" y="4870440"/>
            <a:ext cx="1104840" cy="31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708360" y="504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054240" y="5035680"/>
            <a:ext cx="1587600" cy="33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703920" y="1677960"/>
            <a:ext cx="176688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nn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2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A F8 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6 F8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2 F8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251840" y="16192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7186680" y="4746600"/>
            <a:ext cx="41004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081240" y="4989600"/>
            <a:ext cx="1559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1611360" y="2270160"/>
            <a:ext cx="41004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125800" y="5632560"/>
            <a:ext cx="106200" cy="10152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125800" y="5683320"/>
            <a:ext cx="249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4319640" y="4394160"/>
            <a:ext cx="106200" cy="9864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319640" y="4443480"/>
            <a:ext cx="249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1407960" y="4944960"/>
            <a:ext cx="106560" cy="10008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407960" y="4992840"/>
            <a:ext cx="24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4913280" y="2325600"/>
            <a:ext cx="258840" cy="106560"/>
            <a:chOff x="4913280" y="2325600"/>
            <a:chExt cx="258840" cy="106560"/>
          </a:xfrm>
        </p:grpSpPr>
        <p:sp>
          <p:nvSpPr>
            <p:cNvPr id="1438" name=""/>
            <p:cNvSpPr/>
            <p:nvPr/>
          </p:nvSpPr>
          <p:spPr>
            <a:xfrm>
              <a:off x="4913280" y="2325600"/>
              <a:ext cx="111240" cy="10656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062680" y="2376360"/>
              <a:ext cx="109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0" name=""/>
          <p:cNvSpPr/>
          <p:nvPr/>
        </p:nvSpPr>
        <p:spPr>
          <a:xfrm>
            <a:off x="7147080" y="5632560"/>
            <a:ext cx="106200" cy="10152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7004160" y="5683320"/>
            <a:ext cx="249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7142040" y="4394160"/>
            <a:ext cx="111240" cy="10332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994440" y="4443480"/>
            <a:ext cx="258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766880" y="3083040"/>
            <a:ext cx="106200" cy="10152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766880" y="3133800"/>
            <a:ext cx="249120" cy="0"/>
          </a:xfrm>
          <a:prstGeom prst="line">
            <a:avLst/>
          </a:prstGeom>
          <a:ln w="381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49160" y="516240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4997520" y="133344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5090400" y="116676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486240" y="1187280"/>
            <a:ext cx="1498680" cy="31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684600" y="1233360"/>
            <a:ext cx="1190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2050920" y="3168720"/>
            <a:ext cx="5968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V="1">
            <a:off x="1695600" y="3816000"/>
            <a:ext cx="965160" cy="1181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V="1">
            <a:off x="2394000" y="4362120"/>
            <a:ext cx="609480" cy="134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H="1" flipV="1">
            <a:off x="3498480" y="4362120"/>
            <a:ext cx="3505320" cy="135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H="1" flipV="1">
            <a:off x="4158720" y="4070520"/>
            <a:ext cx="406440" cy="40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 flipV="1">
            <a:off x="4158720" y="3511440"/>
            <a:ext cx="2870280" cy="95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H="1">
            <a:off x="3333600" y="2394000"/>
            <a:ext cx="1866960" cy="81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004840" y="4251240"/>
            <a:ext cx="41004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1280880" y="4251240"/>
            <a:ext cx="41004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3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Exécution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3860640" y="438300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3286080" y="3328920"/>
            <a:ext cx="243000" cy="34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364560" y="3444840"/>
            <a:ext cx="291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842920" y="3423240"/>
            <a:ext cx="438120" cy="62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3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 rot="10800000">
            <a:off x="3272040" y="3670200"/>
            <a:ext cx="355320" cy="44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2819520" y="3319560"/>
            <a:ext cx="241200" cy="347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 rot="10800000">
            <a:off x="3160800" y="3650040"/>
            <a:ext cx="35172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3341880" y="3395520"/>
            <a:ext cx="37404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943360" y="3311280"/>
            <a:ext cx="221400" cy="71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027240" y="3200400"/>
            <a:ext cx="603000" cy="33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43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435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2837520" y="3200400"/>
            <a:ext cx="97992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692080" y="4092840"/>
            <a:ext cx="89532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878200" y="2955960"/>
            <a:ext cx="523080" cy="138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3057480" y="3897360"/>
            <a:ext cx="241200" cy="344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533760" y="3894120"/>
            <a:ext cx="241200" cy="347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720960" y="3322800"/>
            <a:ext cx="241560" cy="347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2743200" y="3124080"/>
            <a:ext cx="1371600" cy="129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"/>
          <p:cNvSpPr/>
          <p:nvPr/>
        </p:nvSpPr>
        <p:spPr>
          <a:xfrm flipV="1">
            <a:off x="3809880" y="1486080"/>
            <a:ext cx="0" cy="914400"/>
          </a:xfrm>
          <a:prstGeom prst="line">
            <a:avLst/>
          </a:prstGeom>
          <a:ln w="76320">
            <a:solidFill>
              <a:srgbClr val="00ae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6632640" y="1623960"/>
            <a:ext cx="1928880" cy="239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H="1" flipV="1">
            <a:off x="3546000" y="2319120"/>
            <a:ext cx="2605320" cy="81000"/>
          </a:xfrm>
          <a:prstGeom prst="line">
            <a:avLst/>
          </a:prstGeom>
          <a:ln w="7632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H="1">
            <a:off x="4379760" y="2381400"/>
            <a:ext cx="14400" cy="261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553680" y="6256440"/>
            <a:ext cx="8170920" cy="0"/>
          </a:xfrm>
          <a:prstGeom prst="line">
            <a:avLst/>
          </a:prstGeom>
          <a:ln w="7632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V="1">
            <a:off x="1251000" y="3758400"/>
            <a:ext cx="1138320" cy="885960"/>
          </a:xfrm>
          <a:custGeom>
            <a:avLst/>
            <a:gdLst>
              <a:gd name="textAreaLeft" fmla="*/ 250200 w 1138320"/>
              <a:gd name="textAreaRight" fmla="*/ 888120 w 1138320"/>
              <a:gd name="textAreaTop" fmla="*/ 194760 h 885960"/>
              <a:gd name="textAreaBottom" fmla="*/ 691200 h 8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1754280" y="4449600"/>
            <a:ext cx="203040" cy="193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731760" y="441324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V="1">
            <a:off x="1820880" y="2712600"/>
            <a:ext cx="0" cy="104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flipH="1">
            <a:off x="1814040" y="3543480"/>
            <a:ext cx="871560" cy="4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flipH="1">
            <a:off x="738360" y="2513160"/>
            <a:ext cx="44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744480" y="2519280"/>
            <a:ext cx="0" cy="3710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750960" y="5132520"/>
            <a:ext cx="70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1461960" y="464328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2178000" y="4656240"/>
            <a:ext cx="0" cy="1573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V="1">
            <a:off x="3828960" y="5298840"/>
            <a:ext cx="0" cy="97452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7196040" y="5245200"/>
            <a:ext cx="3240" cy="95256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V="1">
            <a:off x="7988400" y="51879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 flipV="1">
            <a:off x="7196040" y="3990960"/>
            <a:ext cx="3240" cy="898560"/>
          </a:xfrm>
          <a:prstGeom prst="line">
            <a:avLst/>
          </a:prstGeom>
          <a:ln w="76320">
            <a:solidFill>
              <a:srgbClr val="00ae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flipH="1" flipV="1">
            <a:off x="7981560" y="4022640"/>
            <a:ext cx="17640" cy="83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249560" y="2076480"/>
            <a:ext cx="1194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umulat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580480" y="1076400"/>
            <a:ext cx="9417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te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d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646960" y="1131840"/>
            <a:ext cx="180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moire cent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8191440" y="4759200"/>
            <a:ext cx="8229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3173760" y="6353280"/>
            <a:ext cx="130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 de donn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3089880" y="2394000"/>
            <a:ext cx="1251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 d’a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V="1">
            <a:off x="3403440" y="4374720"/>
            <a:ext cx="0" cy="65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593800" y="5013360"/>
            <a:ext cx="12384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670640" y="4935600"/>
            <a:ext cx="960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1514880" y="4046400"/>
            <a:ext cx="678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.A.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2016360" y="2944800"/>
            <a:ext cx="54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1657440" y="48736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1012680" y="5562720"/>
            <a:ext cx="545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446200" y="556272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024080" y="556272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39288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818532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464160" y="4319640"/>
            <a:ext cx="51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8185320" y="43228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C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4569120" y="4322880"/>
            <a:ext cx="556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4834800" y="2676600"/>
            <a:ext cx="49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2948040" y="1198440"/>
            <a:ext cx="490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2949480" y="175896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4809960" y="1758960"/>
            <a:ext cx="546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723240" y="1112760"/>
            <a:ext cx="1525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té Cent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79320" y="5619600"/>
            <a:ext cx="13032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679320" y="5683320"/>
            <a:ext cx="2732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211284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11284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3774960" y="5632560"/>
            <a:ext cx="106560" cy="10152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3774960" y="5683320"/>
            <a:ext cx="24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92324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92324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7923240" y="4381560"/>
            <a:ext cx="13176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7923240" y="444348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4307040" y="4381560"/>
            <a:ext cx="13176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307040" y="4443480"/>
            <a:ext cx="27432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395360" y="4932360"/>
            <a:ext cx="131760" cy="1252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1395360" y="499284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754280" y="307008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1754280" y="313380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459320" y="1843200"/>
            <a:ext cx="13032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4471920" y="1906560"/>
            <a:ext cx="2732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1" name=""/>
          <p:cNvGrpSpPr/>
          <p:nvPr/>
        </p:nvGrpSpPr>
        <p:grpSpPr>
          <a:xfrm>
            <a:off x="4923000" y="2324160"/>
            <a:ext cx="249120" cy="102960"/>
            <a:chOff x="4923000" y="2324160"/>
            <a:chExt cx="249120" cy="102960"/>
          </a:xfrm>
        </p:grpSpPr>
        <p:sp>
          <p:nvSpPr>
            <p:cNvPr id="1542" name=""/>
            <p:cNvSpPr/>
            <p:nvPr/>
          </p:nvSpPr>
          <p:spPr>
            <a:xfrm>
              <a:off x="4923000" y="2324160"/>
              <a:ext cx="106200" cy="10296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067360" y="2373480"/>
              <a:ext cx="10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4" name=""/>
          <p:cNvSpPr/>
          <p:nvPr/>
        </p:nvSpPr>
        <p:spPr>
          <a:xfrm>
            <a:off x="7147080" y="5632560"/>
            <a:ext cx="106200" cy="10152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004160" y="5683320"/>
            <a:ext cx="249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7147080" y="4392720"/>
            <a:ext cx="106200" cy="10008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7004160" y="4443480"/>
            <a:ext cx="249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3757680" y="1854360"/>
            <a:ext cx="106200" cy="9972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976640" y="2322360"/>
            <a:ext cx="0" cy="241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4527720" y="1530360"/>
            <a:ext cx="0" cy="84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rot="16200000">
            <a:off x="6140520" y="2540160"/>
            <a:ext cx="702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FB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H="1">
            <a:off x="6208200" y="1623960"/>
            <a:ext cx="41940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flipH="1" flipV="1">
            <a:off x="6203880" y="3422520"/>
            <a:ext cx="42408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860640" y="438300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6213600" y="2035080"/>
            <a:ext cx="0" cy="14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212840" y="2381400"/>
            <a:ext cx="1219320" cy="33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7054920" y="4870440"/>
            <a:ext cx="1104840" cy="31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4997520" y="133344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5090400" y="116676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3708360" y="504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073320" y="5054760"/>
            <a:ext cx="1549440" cy="291960"/>
          </a:xfrm>
          <a:prstGeom prst="rect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505320" y="1206360"/>
            <a:ext cx="1460520" cy="279720"/>
          </a:xfrm>
          <a:prstGeom prst="rect">
            <a:avLst/>
          </a:prstGeom>
          <a:noFill/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703920" y="1677960"/>
            <a:ext cx="176688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nn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2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0           3A F8 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6 F8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Times New Roman"/>
              </a:rPr>
              <a:t>FB02</a:t>
            </a:r>
            <a:r>
              <a:rPr b="1" lang="en-US" sz="14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c0128"/>
                </a:solidFill>
                <a:latin typeface="Times New Roman"/>
              </a:rPr>
              <a:t>32 F8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251840" y="16192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3684600" y="1233360"/>
            <a:ext cx="1190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FB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7183440" y="4746600"/>
            <a:ext cx="1104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</a:rPr>
              <a:t>32 F8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016080" y="4924440"/>
            <a:ext cx="1553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c0128"/>
                </a:solidFill>
                <a:latin typeface="Times New Roman"/>
              </a:rPr>
              <a:t>32     F8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 flipH="1">
            <a:off x="2876040" y="1924200"/>
            <a:ext cx="723960" cy="126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 flipH="1">
            <a:off x="3689280" y="2660760"/>
            <a:ext cx="133344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flipH="1" flipV="1">
            <a:off x="4158720" y="3498480"/>
            <a:ext cx="2883240" cy="96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 flipH="1" flipV="1">
            <a:off x="4146480" y="3981240"/>
            <a:ext cx="2895840" cy="172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H="1" flipV="1">
            <a:off x="3549240" y="4375080"/>
            <a:ext cx="507960" cy="13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610080" y="1905120"/>
            <a:ext cx="249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3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Extraction de l ’instruction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1585800" y="2327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860640" y="438300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3286080" y="3328920"/>
            <a:ext cx="243000" cy="34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3364560" y="3444840"/>
            <a:ext cx="291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2842920" y="3423240"/>
            <a:ext cx="438120" cy="62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3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rot="10800000">
            <a:off x="3272040" y="3670200"/>
            <a:ext cx="355320" cy="44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819520" y="3319560"/>
            <a:ext cx="241200" cy="3474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 rot="10800000">
            <a:off x="3160800" y="3650040"/>
            <a:ext cx="35172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341880" y="3395520"/>
            <a:ext cx="37404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2943360" y="3311280"/>
            <a:ext cx="221400" cy="71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3027240" y="3200400"/>
            <a:ext cx="603000" cy="33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43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435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2837520" y="3200400"/>
            <a:ext cx="97992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2692080" y="4092840"/>
            <a:ext cx="89532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2878200" y="2955960"/>
            <a:ext cx="523080" cy="138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3057480" y="3897360"/>
            <a:ext cx="241200" cy="344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533760" y="3894120"/>
            <a:ext cx="241200" cy="347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3720960" y="3322800"/>
            <a:ext cx="241560" cy="347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743200" y="3124080"/>
            <a:ext cx="1371600" cy="129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3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Le compteur ordinal est incrémenté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 flipV="1">
            <a:off x="3809880" y="1486080"/>
            <a:ext cx="0" cy="91440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632640" y="1623960"/>
            <a:ext cx="1928880" cy="239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 flipV="1">
            <a:off x="3546000" y="2319120"/>
            <a:ext cx="2605320" cy="81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 flipH="1">
            <a:off x="4379760" y="2381400"/>
            <a:ext cx="14400" cy="261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 flipH="1">
            <a:off x="553680" y="6256440"/>
            <a:ext cx="81709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 flipV="1">
            <a:off x="1251000" y="3758400"/>
            <a:ext cx="1138320" cy="885960"/>
          </a:xfrm>
          <a:custGeom>
            <a:avLst/>
            <a:gdLst>
              <a:gd name="textAreaLeft" fmla="*/ 250200 w 1138320"/>
              <a:gd name="textAreaRight" fmla="*/ 888120 w 1138320"/>
              <a:gd name="textAreaTop" fmla="*/ 194760 h 885960"/>
              <a:gd name="textAreaBottom" fmla="*/ 691200 h 8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754280" y="4449600"/>
            <a:ext cx="203040" cy="193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3731760" y="441324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 flipV="1">
            <a:off x="1820880" y="2712600"/>
            <a:ext cx="0" cy="104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 flipH="1">
            <a:off x="1814040" y="3543480"/>
            <a:ext cx="871560" cy="4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 flipH="1">
            <a:off x="738360" y="2513160"/>
            <a:ext cx="44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744480" y="2519280"/>
            <a:ext cx="0" cy="3710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750960" y="5132520"/>
            <a:ext cx="70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 flipV="1">
            <a:off x="1461960" y="464328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178000" y="4656240"/>
            <a:ext cx="0" cy="1573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 flipV="1">
            <a:off x="3828960" y="5298840"/>
            <a:ext cx="0" cy="9745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7196040" y="5245200"/>
            <a:ext cx="3240" cy="9525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V="1">
            <a:off x="7988400" y="51879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 flipV="1">
            <a:off x="7196040" y="3990960"/>
            <a:ext cx="3240" cy="89856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H="1" flipV="1">
            <a:off x="7981560" y="4022640"/>
            <a:ext cx="17640" cy="83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249560" y="2076480"/>
            <a:ext cx="1194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umulat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580480" y="1076400"/>
            <a:ext cx="9417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te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d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5646960" y="1131840"/>
            <a:ext cx="180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moire cent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8191440" y="4759200"/>
            <a:ext cx="8229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3173760" y="6353280"/>
            <a:ext cx="130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 de donn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3089880" y="2394000"/>
            <a:ext cx="1251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 d’a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 flipV="1">
            <a:off x="3403440" y="4374720"/>
            <a:ext cx="0" cy="652680"/>
          </a:xfrm>
          <a:prstGeom prst="line">
            <a:avLst/>
          </a:prstGeom>
          <a:ln w="5724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2593800" y="5013360"/>
            <a:ext cx="12384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4670640" y="4935600"/>
            <a:ext cx="960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1514880" y="4046400"/>
            <a:ext cx="678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.A.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2016360" y="2944800"/>
            <a:ext cx="54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1657440" y="48736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1012680" y="5562720"/>
            <a:ext cx="545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446200" y="556272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024080" y="556272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39288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818532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6464160" y="4319640"/>
            <a:ext cx="51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8185320" y="43228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C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4569120" y="4322880"/>
            <a:ext cx="556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834800" y="2676600"/>
            <a:ext cx="49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2948040" y="1198440"/>
            <a:ext cx="490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2949480" y="175896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4809960" y="1758960"/>
            <a:ext cx="546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723240" y="1112760"/>
            <a:ext cx="1525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té Cent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679320" y="5619600"/>
            <a:ext cx="13032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679320" y="5683320"/>
            <a:ext cx="2732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211284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211284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3774960" y="5632560"/>
            <a:ext cx="106560" cy="10152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3774960" y="5683320"/>
            <a:ext cx="24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792324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792324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923240" y="4381560"/>
            <a:ext cx="13176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7923240" y="444348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4307040" y="4381560"/>
            <a:ext cx="13176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4307040" y="4443480"/>
            <a:ext cx="27432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1395360" y="4932360"/>
            <a:ext cx="131760" cy="1252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1395360" y="499284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1754280" y="307008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1754280" y="313380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4459320" y="1843200"/>
            <a:ext cx="13032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4471920" y="1906560"/>
            <a:ext cx="2732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7" name=""/>
          <p:cNvGrpSpPr/>
          <p:nvPr/>
        </p:nvGrpSpPr>
        <p:grpSpPr>
          <a:xfrm>
            <a:off x="4923000" y="2324160"/>
            <a:ext cx="249120" cy="102960"/>
            <a:chOff x="4923000" y="2324160"/>
            <a:chExt cx="249120" cy="102960"/>
          </a:xfrm>
        </p:grpSpPr>
        <p:sp>
          <p:nvSpPr>
            <p:cNvPr id="1658" name=""/>
            <p:cNvSpPr/>
            <p:nvPr/>
          </p:nvSpPr>
          <p:spPr>
            <a:xfrm>
              <a:off x="4923000" y="2324160"/>
              <a:ext cx="106200" cy="10296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067360" y="2373480"/>
              <a:ext cx="10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0" name=""/>
          <p:cNvSpPr/>
          <p:nvPr/>
        </p:nvSpPr>
        <p:spPr>
          <a:xfrm>
            <a:off x="7147080" y="5632560"/>
            <a:ext cx="106200" cy="10152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7147080" y="4392720"/>
            <a:ext cx="106200" cy="10008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757680" y="1854360"/>
            <a:ext cx="106200" cy="9972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4527720" y="1530360"/>
            <a:ext cx="0" cy="84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 rot="16200000">
            <a:off x="6147360" y="2545560"/>
            <a:ext cx="689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B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6208200" y="1623960"/>
            <a:ext cx="41940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 flipH="1" flipV="1">
            <a:off x="6203880" y="3422520"/>
            <a:ext cx="42408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3860640" y="438300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6213600" y="2035080"/>
            <a:ext cx="0" cy="14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1212840" y="2381400"/>
            <a:ext cx="1219320" cy="33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7054920" y="4870440"/>
            <a:ext cx="1104840" cy="31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4997520" y="133344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5090400" y="116676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708360" y="504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073320" y="5054760"/>
            <a:ext cx="1549440" cy="291960"/>
          </a:xfrm>
          <a:prstGeom prst="rect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505320" y="1206360"/>
            <a:ext cx="1460520" cy="279720"/>
          </a:xfrm>
          <a:prstGeom prst="rect">
            <a:avLst/>
          </a:prstGeom>
          <a:noFill/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703920" y="1677960"/>
            <a:ext cx="176688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nn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2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0           3A F8 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6 F8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2 F8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7251840" y="16192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3684600" y="1233360"/>
            <a:ext cx="1190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FB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183440" y="4746600"/>
            <a:ext cx="1091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 F8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3015720" y="4924440"/>
            <a:ext cx="1539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     F8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1585800" y="2327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3860640" y="438300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3286080" y="3328920"/>
            <a:ext cx="243000" cy="346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3364560" y="3444840"/>
            <a:ext cx="291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2842920" y="3423240"/>
            <a:ext cx="438120" cy="62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3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 rot="10800000">
            <a:off x="3272040" y="3670200"/>
            <a:ext cx="355320" cy="44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2819520" y="3319560"/>
            <a:ext cx="241200" cy="347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rot="10800000">
            <a:off x="3160800" y="3650040"/>
            <a:ext cx="35172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3341880" y="3395520"/>
            <a:ext cx="37404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2943360" y="3311280"/>
            <a:ext cx="221400" cy="71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027240" y="3200400"/>
            <a:ext cx="603000" cy="33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43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435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2837520" y="3200400"/>
            <a:ext cx="97992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2692080" y="4092840"/>
            <a:ext cx="89532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2878200" y="2955960"/>
            <a:ext cx="523080" cy="138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057480" y="3897360"/>
            <a:ext cx="241200" cy="344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3533760" y="3894120"/>
            <a:ext cx="241200" cy="347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3720960" y="3322800"/>
            <a:ext cx="241560" cy="347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2743200" y="3124080"/>
            <a:ext cx="1371600" cy="129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"/>
          <p:cNvSpPr/>
          <p:nvPr/>
        </p:nvSpPr>
        <p:spPr>
          <a:xfrm>
            <a:off x="6632640" y="1623960"/>
            <a:ext cx="1928880" cy="239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 flipH="1" flipV="1">
            <a:off x="3558960" y="2332080"/>
            <a:ext cx="2579400" cy="55440"/>
          </a:xfrm>
          <a:prstGeom prst="line">
            <a:avLst/>
          </a:prstGeom>
          <a:ln w="7632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 flipH="1">
            <a:off x="4360680" y="2400480"/>
            <a:ext cx="52200" cy="2577960"/>
          </a:xfrm>
          <a:prstGeom prst="line">
            <a:avLst/>
          </a:prstGeom>
          <a:ln w="76320">
            <a:solidFill>
              <a:srgbClr val="00ae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 flipH="1">
            <a:off x="566280" y="6256440"/>
            <a:ext cx="8145720" cy="0"/>
          </a:xfrm>
          <a:prstGeom prst="line">
            <a:avLst/>
          </a:prstGeom>
          <a:ln w="7632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 flipV="1">
            <a:off x="1251000" y="3758400"/>
            <a:ext cx="1138320" cy="885960"/>
          </a:xfrm>
          <a:custGeom>
            <a:avLst/>
            <a:gdLst>
              <a:gd name="textAreaLeft" fmla="*/ 250200 w 1138320"/>
              <a:gd name="textAreaRight" fmla="*/ 888120 w 1138320"/>
              <a:gd name="textAreaTop" fmla="*/ 194760 h 885960"/>
              <a:gd name="textAreaBottom" fmla="*/ 691200 h 8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1754280" y="4449600"/>
            <a:ext cx="203040" cy="193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3731760" y="441324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 flipV="1">
            <a:off x="1820880" y="2712600"/>
            <a:ext cx="0" cy="104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 flipH="1">
            <a:off x="1814040" y="3543480"/>
            <a:ext cx="871560" cy="4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 flipH="1">
            <a:off x="719280" y="2513160"/>
            <a:ext cx="480960" cy="0"/>
          </a:xfrm>
          <a:prstGeom prst="line">
            <a:avLst/>
          </a:prstGeom>
          <a:ln w="7632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744480" y="2538360"/>
            <a:ext cx="0" cy="367200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50960" y="5132520"/>
            <a:ext cx="70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 flipV="1">
            <a:off x="1461960" y="464328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2178000" y="4656240"/>
            <a:ext cx="0" cy="1573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 flipV="1">
            <a:off x="3828960" y="5330520"/>
            <a:ext cx="0" cy="911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7196040" y="5213520"/>
            <a:ext cx="3240" cy="1015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 flipV="1">
            <a:off x="7988400" y="5168880"/>
            <a:ext cx="0" cy="109224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 flipV="1">
            <a:off x="7196040" y="4022640"/>
            <a:ext cx="3240" cy="835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 flipH="1" flipV="1">
            <a:off x="7962480" y="4003560"/>
            <a:ext cx="55800" cy="87336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1249560" y="2076480"/>
            <a:ext cx="1194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umulat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2580480" y="1076400"/>
            <a:ext cx="9417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te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d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5646960" y="1131840"/>
            <a:ext cx="180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moire cent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8191440" y="4759200"/>
            <a:ext cx="8229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3173760" y="6353280"/>
            <a:ext cx="130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 de donn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3089880" y="2394000"/>
            <a:ext cx="1251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 d’a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 flipV="1">
            <a:off x="3403440" y="4374720"/>
            <a:ext cx="0" cy="65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2593800" y="5013360"/>
            <a:ext cx="12384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4670640" y="4935600"/>
            <a:ext cx="960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1514880" y="4046400"/>
            <a:ext cx="678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.A.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2016360" y="2944800"/>
            <a:ext cx="54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1657440" y="48736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1012680" y="5562720"/>
            <a:ext cx="545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2446200" y="556272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4024080" y="556272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639288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818532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6464160" y="4322880"/>
            <a:ext cx="51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8185320" y="43228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C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569120" y="4322880"/>
            <a:ext cx="556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834800" y="2676600"/>
            <a:ext cx="49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2948040" y="1198440"/>
            <a:ext cx="490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2949480" y="175896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4809960" y="1758960"/>
            <a:ext cx="546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723240" y="1112760"/>
            <a:ext cx="1525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té Cent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692280" y="5632560"/>
            <a:ext cx="104760" cy="10152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692280" y="568332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211284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211284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376236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376236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935840" y="5632560"/>
            <a:ext cx="106560" cy="10152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935840" y="5683320"/>
            <a:ext cx="24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7935840" y="4394160"/>
            <a:ext cx="106560" cy="9864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7935840" y="4443480"/>
            <a:ext cx="24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4319640" y="4394160"/>
            <a:ext cx="106200" cy="9864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4319640" y="4443480"/>
            <a:ext cx="249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1395360" y="4932360"/>
            <a:ext cx="131760" cy="1252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1395360" y="499284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1754280" y="307008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1754280" y="313380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4459320" y="1843200"/>
            <a:ext cx="13032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4471920" y="1906560"/>
            <a:ext cx="2732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1" name=""/>
          <p:cNvGrpSpPr/>
          <p:nvPr/>
        </p:nvGrpSpPr>
        <p:grpSpPr>
          <a:xfrm>
            <a:off x="4913280" y="2325600"/>
            <a:ext cx="258840" cy="106560"/>
            <a:chOff x="4913280" y="2325600"/>
            <a:chExt cx="258840" cy="106560"/>
          </a:xfrm>
        </p:grpSpPr>
        <p:sp>
          <p:nvSpPr>
            <p:cNvPr id="1762" name=""/>
            <p:cNvSpPr/>
            <p:nvPr/>
          </p:nvSpPr>
          <p:spPr>
            <a:xfrm>
              <a:off x="4913280" y="2325600"/>
              <a:ext cx="111240" cy="10656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062680" y="2376360"/>
              <a:ext cx="109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4" name=""/>
          <p:cNvSpPr/>
          <p:nvPr/>
        </p:nvSpPr>
        <p:spPr>
          <a:xfrm>
            <a:off x="713412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99120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7129440" y="4381560"/>
            <a:ext cx="136440" cy="12852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6981840" y="4443480"/>
            <a:ext cx="2840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3740040" y="1843200"/>
            <a:ext cx="136800" cy="12852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587760" y="1905120"/>
            <a:ext cx="2840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4976640" y="232560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 flipV="1">
            <a:off x="3809880" y="1517400"/>
            <a:ext cx="0" cy="850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4527720" y="1530360"/>
            <a:ext cx="0" cy="84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 rot="16200000">
            <a:off x="6089760" y="2554560"/>
            <a:ext cx="664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F8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 flipH="1">
            <a:off x="6208200" y="1623960"/>
            <a:ext cx="41940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 flipH="1" flipV="1">
            <a:off x="6203880" y="3422520"/>
            <a:ext cx="42408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3860640" y="438300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 flipV="1">
            <a:off x="6213600" y="2035080"/>
            <a:ext cx="0" cy="14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1212840" y="2381400"/>
            <a:ext cx="1219320" cy="33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054920" y="4870440"/>
            <a:ext cx="1104840" cy="31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4997520" y="133344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5090400" y="116676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3708360" y="504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054240" y="5035680"/>
            <a:ext cx="1587600" cy="33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3486240" y="1187280"/>
            <a:ext cx="1498680" cy="31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703920" y="1677960"/>
            <a:ext cx="176688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nn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Times New Roman"/>
              </a:rPr>
              <a:t>F820</a:t>
            </a:r>
            <a:r>
              <a:rPr b="1" lang="en-US" sz="14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c0128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A F8 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6 F8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2 F8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7251840" y="16192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3684600" y="1233360"/>
            <a:ext cx="1190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186680" y="4746600"/>
            <a:ext cx="41004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3081240" y="4989600"/>
            <a:ext cx="1559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1611360" y="2270160"/>
            <a:ext cx="41004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 flipV="1">
            <a:off x="958680" y="3752640"/>
            <a:ext cx="1676520" cy="19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 flipH="1" flipV="1">
            <a:off x="3448080" y="4349880"/>
            <a:ext cx="4749840" cy="135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 flipH="1" flipV="1">
            <a:off x="4133880" y="4070520"/>
            <a:ext cx="457200" cy="40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 flipH="1" flipV="1">
            <a:off x="4133520" y="3447720"/>
            <a:ext cx="4102200" cy="100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 flipH="1">
            <a:off x="3333600" y="2419200"/>
            <a:ext cx="1866960" cy="77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3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Exécution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3860640" y="438300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3286080" y="3328920"/>
            <a:ext cx="243000" cy="34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3364560" y="3444840"/>
            <a:ext cx="291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2842920" y="3423240"/>
            <a:ext cx="438120" cy="62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3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 rot="10800000">
            <a:off x="3272040" y="3670200"/>
            <a:ext cx="355320" cy="44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2819520" y="3319560"/>
            <a:ext cx="241200" cy="347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 rot="10800000">
            <a:off x="3160800" y="3650040"/>
            <a:ext cx="35172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3341880" y="3395520"/>
            <a:ext cx="37404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2943360" y="3311280"/>
            <a:ext cx="221400" cy="71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3027240" y="3200400"/>
            <a:ext cx="603000" cy="33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43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435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2837520" y="3200400"/>
            <a:ext cx="97992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2692080" y="4092840"/>
            <a:ext cx="89532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2878200" y="2955960"/>
            <a:ext cx="523080" cy="138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3057480" y="3897360"/>
            <a:ext cx="241200" cy="3445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533760" y="3894120"/>
            <a:ext cx="241200" cy="347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3720960" y="3322800"/>
            <a:ext cx="241560" cy="347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2743200" y="3124080"/>
            <a:ext cx="1371600" cy="129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"/>
          <p:cNvSpPr/>
          <p:nvPr/>
        </p:nvSpPr>
        <p:spPr>
          <a:xfrm>
            <a:off x="2681280" y="3214800"/>
            <a:ext cx="1495440" cy="1155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6632640" y="1623960"/>
            <a:ext cx="1928880" cy="239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 flipH="1" flipV="1">
            <a:off x="3546000" y="2319120"/>
            <a:ext cx="2605320" cy="81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 flipH="1">
            <a:off x="4379760" y="2381400"/>
            <a:ext cx="14400" cy="261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 flipH="1">
            <a:off x="553680" y="6256440"/>
            <a:ext cx="817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 flipV="1">
            <a:off x="1251000" y="3758400"/>
            <a:ext cx="1138320" cy="885960"/>
          </a:xfrm>
          <a:custGeom>
            <a:avLst/>
            <a:gdLst>
              <a:gd name="textAreaLeft" fmla="*/ 250200 w 1138320"/>
              <a:gd name="textAreaRight" fmla="*/ 888120 w 1138320"/>
              <a:gd name="textAreaTop" fmla="*/ 194760 h 885960"/>
              <a:gd name="textAreaBottom" fmla="*/ 691200 h 8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1754280" y="4449600"/>
            <a:ext cx="203040" cy="193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2928240" y="3602160"/>
            <a:ext cx="958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rôl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3731760" y="441324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 flipV="1">
            <a:off x="1820880" y="2712600"/>
            <a:ext cx="0" cy="104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 flipH="1">
            <a:off x="1814040" y="3543480"/>
            <a:ext cx="871560" cy="4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 flipH="1">
            <a:off x="738360" y="2513160"/>
            <a:ext cx="44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744480" y="2519280"/>
            <a:ext cx="0" cy="3710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750960" y="5132520"/>
            <a:ext cx="70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 flipV="1">
            <a:off x="1461960" y="464328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2178000" y="4656240"/>
            <a:ext cx="0" cy="15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 flipV="1">
            <a:off x="3828960" y="5330520"/>
            <a:ext cx="0" cy="911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7196040" y="5213520"/>
            <a:ext cx="3240" cy="1015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 flipV="1">
            <a:off x="7988400" y="51879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 flipV="1">
            <a:off x="7196040" y="4022640"/>
            <a:ext cx="3240" cy="83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 flipH="1" flipV="1">
            <a:off x="7981560" y="4022640"/>
            <a:ext cx="17640" cy="83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1249560" y="2076480"/>
            <a:ext cx="1194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umulat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2580480" y="1076400"/>
            <a:ext cx="9417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te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d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5646960" y="1131840"/>
            <a:ext cx="180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moire cent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8191440" y="4759200"/>
            <a:ext cx="8229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3173760" y="6353280"/>
            <a:ext cx="130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 de donn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3089880" y="2394000"/>
            <a:ext cx="1251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 d’a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 flipV="1">
            <a:off x="3403440" y="4374720"/>
            <a:ext cx="0" cy="65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2593800" y="5013360"/>
            <a:ext cx="12384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4670640" y="4935600"/>
            <a:ext cx="960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1514880" y="4046400"/>
            <a:ext cx="678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.A.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2016360" y="2944800"/>
            <a:ext cx="54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1657440" y="48736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1012680" y="5562720"/>
            <a:ext cx="545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2446200" y="556272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4024080" y="556272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639288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818532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464160" y="4319640"/>
            <a:ext cx="51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8185320" y="43228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C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4569120" y="4322880"/>
            <a:ext cx="556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4834800" y="2676600"/>
            <a:ext cx="49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2948040" y="1198440"/>
            <a:ext cx="490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2949480" y="175896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4809960" y="1758960"/>
            <a:ext cx="546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723240" y="1112760"/>
            <a:ext cx="1525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té Cent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679320" y="5619600"/>
            <a:ext cx="13032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679320" y="5683320"/>
            <a:ext cx="2732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211284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211284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376236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376236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792324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792324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923240" y="4381560"/>
            <a:ext cx="13176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923240" y="444348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4307040" y="4381560"/>
            <a:ext cx="13176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4307040" y="4443480"/>
            <a:ext cx="27432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1395360" y="4932360"/>
            <a:ext cx="131760" cy="1252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1395360" y="499284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1754280" y="307008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1754280" y="313380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459320" y="1843200"/>
            <a:ext cx="13032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4471920" y="1906560"/>
            <a:ext cx="2732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8" name=""/>
          <p:cNvGrpSpPr/>
          <p:nvPr/>
        </p:nvGrpSpPr>
        <p:grpSpPr>
          <a:xfrm>
            <a:off x="4910040" y="2311560"/>
            <a:ext cx="274680" cy="128520"/>
            <a:chOff x="4910040" y="2311560"/>
            <a:chExt cx="274680" cy="128520"/>
          </a:xfrm>
        </p:grpSpPr>
        <p:sp>
          <p:nvSpPr>
            <p:cNvPr id="1879" name=""/>
            <p:cNvSpPr/>
            <p:nvPr/>
          </p:nvSpPr>
          <p:spPr>
            <a:xfrm>
              <a:off x="4910040" y="2311560"/>
              <a:ext cx="131760" cy="128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5054760" y="2373480"/>
              <a:ext cx="129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1" name=""/>
          <p:cNvSpPr/>
          <p:nvPr/>
        </p:nvSpPr>
        <p:spPr>
          <a:xfrm>
            <a:off x="713412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699120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7134120" y="4379760"/>
            <a:ext cx="131760" cy="1256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6991200" y="444348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3745080" y="1841400"/>
            <a:ext cx="131760" cy="1256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3597120" y="19051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4976640" y="2309760"/>
            <a:ext cx="0" cy="266760"/>
          </a:xfrm>
          <a:prstGeom prst="line">
            <a:avLst/>
          </a:prstGeom>
          <a:ln w="12600">
            <a:solidFill>
              <a:srgbClr val="91919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8" name=""/>
          <p:cNvGrpSpPr/>
          <p:nvPr/>
        </p:nvGrpSpPr>
        <p:grpSpPr>
          <a:xfrm>
            <a:off x="3035160" y="2951280"/>
            <a:ext cx="717840" cy="469800"/>
            <a:chOff x="3035160" y="2951280"/>
            <a:chExt cx="717840" cy="469800"/>
          </a:xfrm>
        </p:grpSpPr>
        <p:sp>
          <p:nvSpPr>
            <p:cNvPr id="1889" name=""/>
            <p:cNvSpPr/>
            <p:nvPr/>
          </p:nvSpPr>
          <p:spPr>
            <a:xfrm>
              <a:off x="3322800" y="2951280"/>
              <a:ext cx="0" cy="469800"/>
            </a:xfrm>
            <a:prstGeom prst="line">
              <a:avLst/>
            </a:prstGeom>
            <a:ln w="12600">
              <a:solidFill>
                <a:srgbClr val="919191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610080" y="2951280"/>
              <a:ext cx="0" cy="469800"/>
            </a:xfrm>
            <a:prstGeom prst="line">
              <a:avLst/>
            </a:prstGeom>
            <a:ln w="12600">
              <a:solidFill>
                <a:srgbClr val="919191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467160" y="2951280"/>
              <a:ext cx="0" cy="469800"/>
            </a:xfrm>
            <a:prstGeom prst="line">
              <a:avLst/>
            </a:prstGeom>
            <a:ln w="12600">
              <a:solidFill>
                <a:srgbClr val="919191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753000" y="2951280"/>
              <a:ext cx="0" cy="469800"/>
            </a:xfrm>
            <a:prstGeom prst="line">
              <a:avLst/>
            </a:prstGeom>
            <a:ln w="12600">
              <a:solidFill>
                <a:srgbClr val="919191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179880" y="2951280"/>
              <a:ext cx="0" cy="469800"/>
            </a:xfrm>
            <a:prstGeom prst="line">
              <a:avLst/>
            </a:prstGeom>
            <a:ln w="12600">
              <a:solidFill>
                <a:srgbClr val="919191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035160" y="2951280"/>
              <a:ext cx="0" cy="469800"/>
            </a:xfrm>
            <a:prstGeom prst="line">
              <a:avLst/>
            </a:prstGeom>
            <a:ln w="12600">
              <a:solidFill>
                <a:srgbClr val="919191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5" name=""/>
          <p:cNvSpPr/>
          <p:nvPr/>
        </p:nvSpPr>
        <p:spPr>
          <a:xfrm flipV="1">
            <a:off x="3809880" y="1517400"/>
            <a:ext cx="0" cy="850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4527720" y="1530360"/>
            <a:ext cx="0" cy="84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660240" y="254160"/>
            <a:ext cx="80265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Le programme est terminé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 rot="16200000">
            <a:off x="6138360" y="2586600"/>
            <a:ext cx="550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 flipH="1">
            <a:off x="6208200" y="1623960"/>
            <a:ext cx="41940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 flipH="1" flipV="1">
            <a:off x="6203880" y="3422520"/>
            <a:ext cx="42408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3860640" y="438300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 flipV="1">
            <a:off x="6213600" y="2035080"/>
            <a:ext cx="0" cy="14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1212840" y="2381400"/>
            <a:ext cx="1219320" cy="33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7054920" y="4870440"/>
            <a:ext cx="1104840" cy="31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4997520" y="133344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5090400" y="116676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3708360" y="504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3054240" y="5035680"/>
            <a:ext cx="1587600" cy="33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3505320" y="1206360"/>
            <a:ext cx="1460520" cy="279720"/>
          </a:xfrm>
          <a:prstGeom prst="rect">
            <a:avLst/>
          </a:prstGeom>
          <a:noFill/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6703920" y="1677960"/>
            <a:ext cx="176688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nn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2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A F8 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6 F8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2 F8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7251840" y="16192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3684600" y="1233360"/>
            <a:ext cx="1190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7186680" y="4811760"/>
            <a:ext cx="1814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3135240" y="4989600"/>
            <a:ext cx="1814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"/>
          <p:cNvSpPr/>
          <p:nvPr/>
        </p:nvSpPr>
        <p:spPr>
          <a:xfrm>
            <a:off x="2457360" y="4349880"/>
            <a:ext cx="1130400" cy="1130040"/>
          </a:xfrm>
          <a:prstGeom prst="rect">
            <a:avLst/>
          </a:prstGeom>
          <a:gradFill rotWithShape="0">
            <a:gsLst>
              <a:gs pos="0">
                <a:srgbClr val="51dc00"/>
              </a:gs>
              <a:gs pos="100000">
                <a:srgbClr val="b8f0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3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La micro-programmation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1415880" y="1765440"/>
            <a:ext cx="6388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1415880" y="2044800"/>
            <a:ext cx="6388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1415880" y="2324160"/>
            <a:ext cx="6388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1415880" y="2603520"/>
            <a:ext cx="6388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2679840" y="154296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3111480" y="154296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543480" y="154296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3975120" y="154296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4406760" y="154296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6921360" y="154296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502320" y="154296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7327800" y="154296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1456200" y="1773360"/>
            <a:ext cx="8276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e 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1456200" y="2039760"/>
            <a:ext cx="9799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e i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3994560" y="3056040"/>
            <a:ext cx="15577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-comma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2317680" y="1555920"/>
            <a:ext cx="507960" cy="342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 flipH="1">
            <a:off x="3295440" y="1517760"/>
            <a:ext cx="5461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 flipH="1">
            <a:off x="7130520" y="1504800"/>
            <a:ext cx="520920" cy="40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3145320" y="1138320"/>
            <a:ext cx="12499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and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1481400" y="1138320"/>
            <a:ext cx="12499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and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7005960" y="1138320"/>
            <a:ext cx="12499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ande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2753640" y="177336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3198240" y="177336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3629880" y="178596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6576480" y="17604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7008120" y="17604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2753640" y="203976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3198240" y="20527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3629880" y="20527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753640" y="23194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3198240" y="23320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3629880" y="23320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6576480" y="20653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7008120" y="20779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6576480" y="2344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7008120" y="2357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 flipV="1">
            <a:off x="2317680" y="2825280"/>
            <a:ext cx="444600" cy="34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7169040" y="2838600"/>
            <a:ext cx="355680" cy="393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1506600" y="3195720"/>
            <a:ext cx="14587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gement 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6888240" y="3259080"/>
            <a:ext cx="1955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gement drape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7422120" y="1760400"/>
            <a:ext cx="15530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resse suiv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7396560" y="2065320"/>
            <a:ext cx="15530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resse suiv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692280" y="4349880"/>
            <a:ext cx="1562040" cy="1130040"/>
          </a:xfrm>
          <a:prstGeom prst="rect">
            <a:avLst/>
          </a:prstGeom>
          <a:gradFill rotWithShape="0">
            <a:gsLst>
              <a:gs pos="0">
                <a:srgbClr val="c9f3b1"/>
              </a:gs>
              <a:gs pos="100000">
                <a:srgbClr val="51dc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4177440" y="4660920"/>
            <a:ext cx="1071360" cy="30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5852880" y="4648320"/>
            <a:ext cx="1060920" cy="30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écod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7515720" y="4559400"/>
            <a:ext cx="1108080" cy="52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2474280" y="5168880"/>
            <a:ext cx="9266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re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785520" y="5118120"/>
            <a:ext cx="13320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an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664200" y="4033800"/>
            <a:ext cx="25772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émoire de micro-program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3738600" y="4021200"/>
            <a:ext cx="234324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resse de la micro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 suiv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901800" y="551808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1028880" y="551808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1155600" y="551808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1282680" y="551808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1409760" y="551808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1536840" y="551808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1663560" y="551808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790640" y="551808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1917720" y="551808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2336760" y="551808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2343240" y="5880240"/>
            <a:ext cx="307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 flipV="1">
            <a:off x="5423040" y="4946760"/>
            <a:ext cx="0" cy="93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 flipH="1">
            <a:off x="5264280" y="495288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3595680" y="4653000"/>
            <a:ext cx="569880" cy="344520"/>
          </a:xfrm>
          <a:custGeom>
            <a:avLst/>
            <a:gdLst/>
            <a:ahLst/>
            <a:rect l="l" t="t" r="r" b="b"/>
            <a:pathLst>
              <a:path w="359" h="217">
                <a:moveTo>
                  <a:pt x="358" y="162"/>
                </a:moveTo>
                <a:lnTo>
                  <a:pt x="220" y="162"/>
                </a:lnTo>
                <a:lnTo>
                  <a:pt x="252" y="216"/>
                </a:lnTo>
                <a:lnTo>
                  <a:pt x="0" y="108"/>
                </a:lnTo>
                <a:lnTo>
                  <a:pt x="252" y="0"/>
                </a:lnTo>
                <a:lnTo>
                  <a:pt x="220" y="54"/>
                </a:lnTo>
                <a:lnTo>
                  <a:pt x="358" y="54"/>
                </a:lnTo>
                <a:lnTo>
                  <a:pt x="358" y="162"/>
                </a:lnTo>
              </a:path>
            </a:pathLst>
          </a:custGeom>
          <a:gradFill rotWithShape="0">
            <a:gsLst>
              <a:gs pos="0">
                <a:srgbClr val="fcf1e0"/>
              </a:gs>
              <a:gs pos="100000">
                <a:srgbClr val="f6bf6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5259240" y="4640400"/>
            <a:ext cx="570240" cy="344520"/>
          </a:xfrm>
          <a:custGeom>
            <a:avLst/>
            <a:gdLst/>
            <a:ahLst/>
            <a:rect l="l" t="t" r="r" b="b"/>
            <a:pathLst>
              <a:path w="359" h="217">
                <a:moveTo>
                  <a:pt x="358" y="162"/>
                </a:moveTo>
                <a:lnTo>
                  <a:pt x="220" y="162"/>
                </a:lnTo>
                <a:lnTo>
                  <a:pt x="252" y="216"/>
                </a:lnTo>
                <a:lnTo>
                  <a:pt x="0" y="108"/>
                </a:lnTo>
                <a:lnTo>
                  <a:pt x="252" y="0"/>
                </a:lnTo>
                <a:lnTo>
                  <a:pt x="220" y="54"/>
                </a:lnTo>
                <a:lnTo>
                  <a:pt x="358" y="54"/>
                </a:lnTo>
                <a:lnTo>
                  <a:pt x="358" y="162"/>
                </a:lnTo>
              </a:path>
            </a:pathLst>
          </a:custGeom>
          <a:gradFill rotWithShape="0">
            <a:gsLst>
              <a:gs pos="0">
                <a:srgbClr val="fcf1e0"/>
              </a:gs>
              <a:gs pos="100000">
                <a:srgbClr val="f6bf6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6923160" y="4627440"/>
            <a:ext cx="569880" cy="344520"/>
          </a:xfrm>
          <a:custGeom>
            <a:avLst/>
            <a:gdLst/>
            <a:ahLst/>
            <a:rect l="l" t="t" r="r" b="b"/>
            <a:pathLst>
              <a:path w="359" h="217">
                <a:moveTo>
                  <a:pt x="358" y="162"/>
                </a:moveTo>
                <a:lnTo>
                  <a:pt x="220" y="162"/>
                </a:lnTo>
                <a:lnTo>
                  <a:pt x="252" y="216"/>
                </a:lnTo>
                <a:lnTo>
                  <a:pt x="0" y="108"/>
                </a:lnTo>
                <a:lnTo>
                  <a:pt x="252" y="0"/>
                </a:lnTo>
                <a:lnTo>
                  <a:pt x="220" y="54"/>
                </a:lnTo>
                <a:lnTo>
                  <a:pt x="358" y="54"/>
                </a:lnTo>
                <a:lnTo>
                  <a:pt x="358" y="162"/>
                </a:lnTo>
              </a:path>
            </a:pathLst>
          </a:custGeom>
          <a:gradFill rotWithShape="0">
            <a:gsLst>
              <a:gs pos="0">
                <a:srgbClr val="fcf1e0"/>
              </a:gs>
              <a:gs pos="100000">
                <a:srgbClr val="f6bf6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4524480" y="5094360"/>
            <a:ext cx="350640" cy="652320"/>
          </a:xfrm>
          <a:custGeom>
            <a:avLst/>
            <a:gdLst/>
            <a:ahLst/>
            <a:rect l="l" t="t" r="r" b="b"/>
            <a:pathLst>
              <a:path w="221" h="411">
                <a:moveTo>
                  <a:pt x="220" y="138"/>
                </a:moveTo>
                <a:lnTo>
                  <a:pt x="133" y="0"/>
                </a:lnTo>
                <a:lnTo>
                  <a:pt x="37" y="138"/>
                </a:lnTo>
                <a:lnTo>
                  <a:pt x="87" y="138"/>
                </a:lnTo>
                <a:lnTo>
                  <a:pt x="86" y="263"/>
                </a:lnTo>
                <a:lnTo>
                  <a:pt x="80" y="285"/>
                </a:lnTo>
                <a:lnTo>
                  <a:pt x="68" y="300"/>
                </a:lnTo>
                <a:lnTo>
                  <a:pt x="51" y="310"/>
                </a:lnTo>
                <a:lnTo>
                  <a:pt x="27" y="312"/>
                </a:lnTo>
                <a:lnTo>
                  <a:pt x="0" y="312"/>
                </a:lnTo>
                <a:lnTo>
                  <a:pt x="0" y="410"/>
                </a:lnTo>
                <a:lnTo>
                  <a:pt x="41" y="409"/>
                </a:lnTo>
                <a:lnTo>
                  <a:pt x="60" y="405"/>
                </a:lnTo>
                <a:lnTo>
                  <a:pt x="80" y="402"/>
                </a:lnTo>
                <a:lnTo>
                  <a:pt x="94" y="396"/>
                </a:lnTo>
                <a:lnTo>
                  <a:pt x="109" y="388"/>
                </a:lnTo>
                <a:lnTo>
                  <a:pt x="122" y="378"/>
                </a:lnTo>
                <a:lnTo>
                  <a:pt x="136" y="363"/>
                </a:lnTo>
                <a:lnTo>
                  <a:pt x="149" y="347"/>
                </a:lnTo>
                <a:lnTo>
                  <a:pt x="157" y="330"/>
                </a:lnTo>
                <a:lnTo>
                  <a:pt x="166" y="311"/>
                </a:lnTo>
                <a:lnTo>
                  <a:pt x="171" y="286"/>
                </a:lnTo>
                <a:lnTo>
                  <a:pt x="172" y="263"/>
                </a:lnTo>
                <a:lnTo>
                  <a:pt x="172" y="138"/>
                </a:lnTo>
                <a:lnTo>
                  <a:pt x="220" y="138"/>
                </a:lnTo>
              </a:path>
            </a:pathLst>
          </a:custGeom>
          <a:gradFill rotWithShape="0">
            <a:gsLst>
              <a:gs pos="0">
                <a:srgbClr val="fcf1e0"/>
              </a:gs>
              <a:gs pos="100000">
                <a:srgbClr val="f6bf6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2876400" y="5594400"/>
            <a:ext cx="1683000" cy="152280"/>
          </a:xfrm>
          <a:prstGeom prst="rect">
            <a:avLst/>
          </a:prstGeom>
          <a:solidFill>
            <a:srgbClr val="f6b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2873520" y="5508720"/>
            <a:ext cx="152280" cy="234720"/>
          </a:xfrm>
          <a:prstGeom prst="rect">
            <a:avLst/>
          </a:prstGeom>
          <a:solidFill>
            <a:srgbClr val="f6b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2266920" y="4349880"/>
            <a:ext cx="177840" cy="1130040"/>
          </a:xfrm>
          <a:prstGeom prst="rect">
            <a:avLst/>
          </a:prstGeom>
          <a:gradFill rotWithShape="0">
            <a:gsLst>
              <a:gs pos="0">
                <a:srgbClr val="184100"/>
              </a:gs>
              <a:gs pos="50000">
                <a:srgbClr val="51dc00"/>
              </a:gs>
              <a:gs pos="100000">
                <a:srgbClr val="1841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3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Cycle de base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317680" y="1517400"/>
            <a:ext cx="5344560" cy="2895840"/>
            <a:chOff x="2317680" y="1517400"/>
            <a:chExt cx="5344560" cy="2895840"/>
          </a:xfrm>
        </p:grpSpPr>
        <p:sp>
          <p:nvSpPr>
            <p:cNvPr id="46" name=""/>
            <p:cNvSpPr/>
            <p:nvPr/>
          </p:nvSpPr>
          <p:spPr>
            <a:xfrm>
              <a:off x="3244680" y="1922400"/>
              <a:ext cx="3622680" cy="454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cherche de l’instru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74920" y="3510000"/>
              <a:ext cx="3555720" cy="454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écution de l’instru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76760" y="2620800"/>
              <a:ext cx="4785480" cy="454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ointage vers l’instruction suiva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46440" y="153036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43560" y="23814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43560" y="31050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43560" y="39942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2317680" y="440676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2324160" y="1517400"/>
              <a:ext cx="0" cy="28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330280" y="1523880"/>
              <a:ext cx="221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3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Réalisation du contrôleur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76480" y="1092240"/>
            <a:ext cx="3822840" cy="3035160"/>
          </a:xfrm>
          <a:prstGeom prst="rect">
            <a:avLst/>
          </a:prstGeom>
          <a:solidFill>
            <a:srgbClr val="eaec5e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4084560" y="4611600"/>
            <a:ext cx="2105280" cy="480960"/>
            <a:chOff x="4084560" y="4611600"/>
            <a:chExt cx="2105280" cy="480960"/>
          </a:xfrm>
        </p:grpSpPr>
        <p:sp>
          <p:nvSpPr>
            <p:cNvPr id="59" name=""/>
            <p:cNvSpPr/>
            <p:nvPr/>
          </p:nvSpPr>
          <p:spPr>
            <a:xfrm>
              <a:off x="4108320" y="4635360"/>
              <a:ext cx="2032200" cy="457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84560" y="4611600"/>
              <a:ext cx="2105280" cy="393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gistre d’ét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4667400" y="412128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84920" y="413388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78400" y="414648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21480" y="4121280"/>
            <a:ext cx="0" cy="495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9160" y="413388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05000" y="412128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25640" y="412128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95520" y="412128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4800600"/>
            <a:ext cx="352260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trées venant 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amp de code-op 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gistre 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31000" y="367020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56520" y="3689280"/>
            <a:ext cx="0" cy="172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727600" y="5410080"/>
            <a:ext cx="63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734080" y="51116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31000" y="3340080"/>
            <a:ext cx="66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97720" y="3346560"/>
            <a:ext cx="0" cy="231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346720" y="5664240"/>
            <a:ext cx="12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353200" y="5111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31000" y="3048120"/>
            <a:ext cx="97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27840" y="3067200"/>
            <a:ext cx="0" cy="298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965480" y="60580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984920" y="5098680"/>
            <a:ext cx="0" cy="965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18040" y="2743200"/>
            <a:ext cx="133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57960" y="2762280"/>
            <a:ext cx="0" cy="36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533480" y="6464160"/>
            <a:ext cx="273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540320" y="509904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18040" y="231156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05440" y="180324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05440" y="205740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18040" y="152388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90440" y="1600200"/>
            <a:ext cx="2657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Sorties de contrôle 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chemin de d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613120" y="1486080"/>
            <a:ext cx="190800" cy="2438280"/>
            <a:chOff x="5613120" y="1486080"/>
            <a:chExt cx="190800" cy="2438280"/>
          </a:xfrm>
        </p:grpSpPr>
        <p:sp>
          <p:nvSpPr>
            <p:cNvPr id="92" name=""/>
            <p:cNvSpPr/>
            <p:nvPr/>
          </p:nvSpPr>
          <p:spPr>
            <a:xfrm flipH="1">
              <a:off x="5613120" y="2698920"/>
              <a:ext cx="8892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5626080" y="1486080"/>
              <a:ext cx="177840" cy="2438280"/>
              <a:chOff x="5626080" y="1486080"/>
              <a:chExt cx="177840" cy="2438280"/>
            </a:xfrm>
          </p:grpSpPr>
          <p:sp>
            <p:nvSpPr>
              <p:cNvPr id="94" name=""/>
              <p:cNvSpPr/>
              <p:nvPr/>
            </p:nvSpPr>
            <p:spPr>
              <a:xfrm flipH="1">
                <a:off x="5689440" y="148608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695920" y="1492200"/>
                <a:ext cx="0" cy="11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626080" y="2825640"/>
                <a:ext cx="63360" cy="6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708520" y="2914560"/>
                <a:ext cx="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715000" y="3924360"/>
                <a:ext cx="6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2444760" y="3943080"/>
            <a:ext cx="3314520" cy="152640"/>
            <a:chOff x="2444760" y="3943080"/>
            <a:chExt cx="3314520" cy="152640"/>
          </a:xfrm>
        </p:grpSpPr>
        <p:sp>
          <p:nvSpPr>
            <p:cNvPr id="100" name=""/>
            <p:cNvSpPr/>
            <p:nvPr/>
          </p:nvSpPr>
          <p:spPr>
            <a:xfrm flipV="1">
              <a:off x="4091040" y="3943080"/>
              <a:ext cx="14292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2444760" y="3956040"/>
              <a:ext cx="3314520" cy="139680"/>
              <a:chOff x="2444760" y="3956040"/>
              <a:chExt cx="3314520" cy="139680"/>
            </a:xfrm>
          </p:grpSpPr>
          <p:sp>
            <p:nvSpPr>
              <p:cNvPr id="102" name=""/>
              <p:cNvSpPr/>
              <p:nvPr/>
            </p:nvSpPr>
            <p:spPr>
              <a:xfrm flipV="1">
                <a:off x="2444760" y="4003560"/>
                <a:ext cx="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451240" y="4010040"/>
                <a:ext cx="160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264200" y="3956040"/>
                <a:ext cx="90360" cy="4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84800" y="4019400"/>
                <a:ext cx="135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759280" y="4025880"/>
                <a:ext cx="0" cy="4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"/>
          <p:cNvSpPr/>
          <p:nvPr/>
        </p:nvSpPr>
        <p:spPr>
          <a:xfrm>
            <a:off x="7259760" y="4471920"/>
            <a:ext cx="1812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État suiv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920600" y="869400"/>
            <a:ext cx="3642120" cy="2883240"/>
            <a:chOff x="1920600" y="869400"/>
            <a:chExt cx="3642120" cy="2883240"/>
          </a:xfrm>
        </p:grpSpPr>
        <p:sp>
          <p:nvSpPr>
            <p:cNvPr id="109" name=""/>
            <p:cNvSpPr/>
            <p:nvPr/>
          </p:nvSpPr>
          <p:spPr>
            <a:xfrm>
              <a:off x="3623400" y="1638000"/>
              <a:ext cx="694440" cy="725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59920" y="1882440"/>
              <a:ext cx="291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+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58000" y="1839960"/>
              <a:ext cx="1249560" cy="12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0800000">
              <a:off x="3580560" y="2349360"/>
              <a:ext cx="1022760" cy="92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86000" y="1616040"/>
              <a:ext cx="694080" cy="725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86520" y="1626840"/>
              <a:ext cx="42696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L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S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LE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LM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R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0800000">
              <a:off x="3265920" y="2305440"/>
              <a:ext cx="1002600" cy="100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87920" y="1779480"/>
              <a:ext cx="106452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36280" y="1599480"/>
              <a:ext cx="642600" cy="148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83240" y="1371600"/>
              <a:ext cx="172260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74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74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32440" y="1371600"/>
              <a:ext cx="2813040" cy="516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20600" y="3235320"/>
              <a:ext cx="256644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50880" y="869400"/>
              <a:ext cx="1506600" cy="288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64960" y="2820600"/>
              <a:ext cx="694080" cy="725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333320" y="2815200"/>
              <a:ext cx="694080" cy="725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35640" y="2825640"/>
              <a:ext cx="42696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S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LE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LM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E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67360" y="1638000"/>
              <a:ext cx="42696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S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LE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LM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E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68280" y="1626840"/>
              <a:ext cx="694440" cy="725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50000" y="2749320"/>
              <a:ext cx="42696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S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C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M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3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Cycle de base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4560" y="5086440"/>
            <a:ext cx="8644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adresse de l’instruction à exécuter est dans le compteur ord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adresse est mise dans le registre d’adresse de la mémo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instruction passe de la mémoire au registre instruction par l’intermédia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 registre m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17680" y="1517400"/>
            <a:ext cx="5344560" cy="2895840"/>
            <a:chOff x="2317680" y="1517400"/>
            <a:chExt cx="5344560" cy="2895840"/>
          </a:xfrm>
        </p:grpSpPr>
        <p:sp>
          <p:nvSpPr>
            <p:cNvPr id="131" name=""/>
            <p:cNvSpPr/>
            <p:nvPr/>
          </p:nvSpPr>
          <p:spPr>
            <a:xfrm>
              <a:off x="3244680" y="1922400"/>
              <a:ext cx="3622680" cy="454680"/>
            </a:xfrm>
            <a:prstGeom prst="rect">
              <a:avLst/>
            </a:prstGeom>
            <a:solidFill>
              <a:srgbClr val="66d9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cherche de l’instru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74920" y="3510000"/>
              <a:ext cx="3555720" cy="454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écution de l’instru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76760" y="2620800"/>
              <a:ext cx="4785480" cy="454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ointage vers l’instruction suiva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46440" y="153036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43560" y="23814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43560" y="31050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43560" y="39942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2317680" y="440676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2324160" y="1517400"/>
              <a:ext cx="0" cy="28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30280" y="1523880"/>
              <a:ext cx="221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3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Le fonctionnement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71720" y="1092240"/>
            <a:ext cx="3822840" cy="3035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879800" y="4611600"/>
            <a:ext cx="2105280" cy="480960"/>
            <a:chOff x="4879800" y="4611600"/>
            <a:chExt cx="2105280" cy="480960"/>
          </a:xfrm>
        </p:grpSpPr>
        <p:sp>
          <p:nvSpPr>
            <p:cNvPr id="144" name=""/>
            <p:cNvSpPr/>
            <p:nvPr/>
          </p:nvSpPr>
          <p:spPr>
            <a:xfrm>
              <a:off x="4903560" y="4635360"/>
              <a:ext cx="203220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79800" y="4611600"/>
              <a:ext cx="2105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5462640" y="412128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80160" y="413388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73640" y="414648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16720" y="4121280"/>
            <a:ext cx="0" cy="495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54400" y="413388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00600" y="412128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21240" y="412128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90760" y="412128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4876920"/>
            <a:ext cx="35226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26240" y="367020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151760" y="3689280"/>
            <a:ext cx="0" cy="172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522840" y="5410080"/>
            <a:ext cx="63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529320" y="51116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26240" y="3340080"/>
            <a:ext cx="66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92960" y="3346560"/>
            <a:ext cx="0" cy="231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141600" y="5664240"/>
            <a:ext cx="125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148440" y="5111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26240" y="3048120"/>
            <a:ext cx="97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723080" y="3067200"/>
            <a:ext cx="0" cy="298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760720" y="60580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780160" y="5098680"/>
            <a:ext cx="0" cy="965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13640" y="2743200"/>
            <a:ext cx="133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053560" y="2762280"/>
            <a:ext cx="0" cy="36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328720" y="6464160"/>
            <a:ext cx="273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335560" y="509904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13640" y="231156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0680" y="180324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00680" y="205740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13640" y="152388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408360" y="1486080"/>
            <a:ext cx="190800" cy="2438280"/>
            <a:chOff x="6408360" y="1486080"/>
            <a:chExt cx="190800" cy="2438280"/>
          </a:xfrm>
        </p:grpSpPr>
        <p:sp>
          <p:nvSpPr>
            <p:cNvPr id="176" name=""/>
            <p:cNvSpPr/>
            <p:nvPr/>
          </p:nvSpPr>
          <p:spPr>
            <a:xfrm flipH="1">
              <a:off x="6408360" y="2698920"/>
              <a:ext cx="8892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6421320" y="1486080"/>
              <a:ext cx="177840" cy="2438280"/>
              <a:chOff x="6421320" y="1486080"/>
              <a:chExt cx="177840" cy="2438280"/>
            </a:xfrm>
          </p:grpSpPr>
          <p:sp>
            <p:nvSpPr>
              <p:cNvPr id="178" name=""/>
              <p:cNvSpPr/>
              <p:nvPr/>
            </p:nvSpPr>
            <p:spPr>
              <a:xfrm flipH="1">
                <a:off x="6484680" y="148608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491160" y="1492200"/>
                <a:ext cx="0" cy="11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421320" y="2825640"/>
                <a:ext cx="63360" cy="6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503760" y="2914560"/>
                <a:ext cx="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510240" y="3924360"/>
                <a:ext cx="6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" name=""/>
          <p:cNvGrpSpPr/>
          <p:nvPr/>
        </p:nvGrpSpPr>
        <p:grpSpPr>
          <a:xfrm>
            <a:off x="3240000" y="3943080"/>
            <a:ext cx="3314520" cy="152640"/>
            <a:chOff x="3240000" y="3943080"/>
            <a:chExt cx="3314520" cy="152640"/>
          </a:xfrm>
        </p:grpSpPr>
        <p:sp>
          <p:nvSpPr>
            <p:cNvPr id="184" name=""/>
            <p:cNvSpPr/>
            <p:nvPr/>
          </p:nvSpPr>
          <p:spPr>
            <a:xfrm flipV="1">
              <a:off x="4886280" y="3943080"/>
              <a:ext cx="14292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3240000" y="3956040"/>
              <a:ext cx="3314520" cy="139680"/>
              <a:chOff x="3240000" y="3956040"/>
              <a:chExt cx="3314520" cy="139680"/>
            </a:xfrm>
          </p:grpSpPr>
          <p:sp>
            <p:nvSpPr>
              <p:cNvPr id="186" name=""/>
              <p:cNvSpPr/>
              <p:nvPr/>
            </p:nvSpPr>
            <p:spPr>
              <a:xfrm flipV="1">
                <a:off x="3240000" y="4003560"/>
                <a:ext cx="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246480" y="4010040"/>
                <a:ext cx="160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059440" y="3956040"/>
                <a:ext cx="90360" cy="4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180040" y="4019400"/>
                <a:ext cx="135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554520" y="4025880"/>
                <a:ext cx="0" cy="4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1" name=""/>
          <p:cNvSpPr/>
          <p:nvPr/>
        </p:nvSpPr>
        <p:spPr>
          <a:xfrm>
            <a:off x="4417920" y="1638360"/>
            <a:ext cx="695520" cy="723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55160" y="1882800"/>
            <a:ext cx="291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52520" y="1838880"/>
            <a:ext cx="1251000" cy="12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10800000">
            <a:off x="4377240" y="2349360"/>
            <a:ext cx="102132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81240" y="1616040"/>
            <a:ext cx="693720" cy="7254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81400" y="1627200"/>
            <a:ext cx="426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M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0800000">
            <a:off x="4061160" y="2305440"/>
            <a:ext cx="1002960" cy="100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81360" y="1779840"/>
            <a:ext cx="106668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32240" y="1598760"/>
            <a:ext cx="641160" cy="148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78120" y="1371600"/>
            <a:ext cx="1724040" cy="69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43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435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5880" y="1371600"/>
            <a:ext cx="2815920" cy="51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14400" y="3235320"/>
            <a:ext cx="2568600" cy="51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46480" y="870120"/>
            <a:ext cx="1508040" cy="288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60920" y="2820960"/>
            <a:ext cx="693720" cy="725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29280" y="2814480"/>
            <a:ext cx="693720" cy="725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0880" y="2825640"/>
            <a:ext cx="426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M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62960" y="1638360"/>
            <a:ext cx="426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M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64240" y="1627200"/>
            <a:ext cx="693720" cy="725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45240" y="2749680"/>
            <a:ext cx="426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C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M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186040" y="1066680"/>
            <a:ext cx="73008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58120" y="461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2438640" cy="132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3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Cycle de base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8240" y="4844880"/>
            <a:ext cx="854856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compteur ordinal est incrémenté de 1 pour pointer sur l’adresse de l’instruction suivan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rque : Pour une instruction conditionnelle (Si Alors Sinon), le compteur ordinal n’est pas incrémenté, il est chargé avec l’adresse de l’instruction à exécu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317680" y="1517400"/>
            <a:ext cx="5344560" cy="2895840"/>
            <a:chOff x="2317680" y="1517400"/>
            <a:chExt cx="5344560" cy="2895840"/>
          </a:xfrm>
        </p:grpSpPr>
        <p:sp>
          <p:nvSpPr>
            <p:cNvPr id="216" name=""/>
            <p:cNvSpPr/>
            <p:nvPr/>
          </p:nvSpPr>
          <p:spPr>
            <a:xfrm>
              <a:off x="3244680" y="1922400"/>
              <a:ext cx="3622680" cy="454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cherche de l’instru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74920" y="3510000"/>
              <a:ext cx="3555720" cy="454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écution de l’instru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876760" y="2620800"/>
              <a:ext cx="4785480" cy="454680"/>
            </a:xfrm>
            <a:prstGeom prst="rect">
              <a:avLst/>
            </a:prstGeom>
            <a:solidFill>
              <a:srgbClr val="66d9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ointage vers l’instruction suiva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46440" y="153036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43560" y="23814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43560" y="31050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3560" y="39942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317680" y="440676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324160" y="1517400"/>
              <a:ext cx="0" cy="28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330280" y="1523880"/>
              <a:ext cx="221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3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Le fonctionnement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76600" y="1092240"/>
            <a:ext cx="3822840" cy="3035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584680" y="4611600"/>
            <a:ext cx="2105280" cy="480960"/>
            <a:chOff x="5584680" y="4611600"/>
            <a:chExt cx="2105280" cy="480960"/>
          </a:xfrm>
        </p:grpSpPr>
        <p:sp>
          <p:nvSpPr>
            <p:cNvPr id="229" name=""/>
            <p:cNvSpPr/>
            <p:nvPr/>
          </p:nvSpPr>
          <p:spPr>
            <a:xfrm>
              <a:off x="5608440" y="4635360"/>
              <a:ext cx="203220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84680" y="4611600"/>
              <a:ext cx="2105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167520" y="412128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85040" y="413388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78520" y="414648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221600" y="4121280"/>
            <a:ext cx="0" cy="495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59280" y="413388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05480" y="412128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25760" y="412128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95640" y="412128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033640" y="4800600"/>
            <a:ext cx="35226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=C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431120" y="367020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856640" y="3689280"/>
            <a:ext cx="0" cy="172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7227720" y="5410080"/>
            <a:ext cx="63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7234200" y="51116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431120" y="3340080"/>
            <a:ext cx="66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97840" y="3346560"/>
            <a:ext cx="0" cy="231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846480" y="5664240"/>
            <a:ext cx="125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6853320" y="5111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431120" y="3048120"/>
            <a:ext cx="97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427960" y="3067200"/>
            <a:ext cx="0" cy="298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465600" y="60580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6485040" y="5098680"/>
            <a:ext cx="0" cy="965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418520" y="2743200"/>
            <a:ext cx="133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758080" y="2762280"/>
            <a:ext cx="0" cy="36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6033600" y="6464160"/>
            <a:ext cx="273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6040440" y="509904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418520" y="2311560"/>
            <a:ext cx="723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405560" y="180324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405560" y="205740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418520" y="1523880"/>
            <a:ext cx="723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7113240" y="1486080"/>
            <a:ext cx="190800" cy="2438280"/>
            <a:chOff x="7113240" y="1486080"/>
            <a:chExt cx="190800" cy="2438280"/>
          </a:xfrm>
        </p:grpSpPr>
        <p:sp>
          <p:nvSpPr>
            <p:cNvPr id="261" name=""/>
            <p:cNvSpPr/>
            <p:nvPr/>
          </p:nvSpPr>
          <p:spPr>
            <a:xfrm flipH="1">
              <a:off x="7113240" y="2698920"/>
              <a:ext cx="8892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7126200" y="1486080"/>
              <a:ext cx="177840" cy="2438280"/>
              <a:chOff x="7126200" y="1486080"/>
              <a:chExt cx="177840" cy="2438280"/>
            </a:xfrm>
          </p:grpSpPr>
          <p:sp>
            <p:nvSpPr>
              <p:cNvPr id="263" name=""/>
              <p:cNvSpPr/>
              <p:nvPr/>
            </p:nvSpPr>
            <p:spPr>
              <a:xfrm flipH="1">
                <a:off x="7189560" y="148608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196040" y="1492200"/>
                <a:ext cx="0" cy="11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126200" y="2825640"/>
                <a:ext cx="63360" cy="6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208640" y="2914560"/>
                <a:ext cx="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215120" y="3924360"/>
                <a:ext cx="6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3944880" y="3943080"/>
            <a:ext cx="3314520" cy="152640"/>
            <a:chOff x="3944880" y="3943080"/>
            <a:chExt cx="3314520" cy="152640"/>
          </a:xfrm>
        </p:grpSpPr>
        <p:sp>
          <p:nvSpPr>
            <p:cNvPr id="269" name=""/>
            <p:cNvSpPr/>
            <p:nvPr/>
          </p:nvSpPr>
          <p:spPr>
            <a:xfrm flipV="1">
              <a:off x="5591160" y="3943080"/>
              <a:ext cx="14292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3944880" y="3956040"/>
              <a:ext cx="3314520" cy="139680"/>
              <a:chOff x="3944880" y="3956040"/>
              <a:chExt cx="3314520" cy="139680"/>
            </a:xfrm>
          </p:grpSpPr>
          <p:sp>
            <p:nvSpPr>
              <p:cNvPr id="271" name=""/>
              <p:cNvSpPr/>
              <p:nvPr/>
            </p:nvSpPr>
            <p:spPr>
              <a:xfrm flipV="1">
                <a:off x="3944880" y="4003560"/>
                <a:ext cx="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951360" y="4010040"/>
                <a:ext cx="160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764320" y="3956040"/>
                <a:ext cx="90360" cy="4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884920" y="4019400"/>
                <a:ext cx="135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259400" y="4025880"/>
                <a:ext cx="0" cy="4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6" name=""/>
          <p:cNvSpPr/>
          <p:nvPr/>
        </p:nvSpPr>
        <p:spPr>
          <a:xfrm>
            <a:off x="5122800" y="1638360"/>
            <a:ext cx="695520" cy="7239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60040" y="1882800"/>
            <a:ext cx="291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57760" y="1838880"/>
            <a:ext cx="1250280" cy="12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10800000">
            <a:off x="5081760" y="2349360"/>
            <a:ext cx="102204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86120" y="1616040"/>
            <a:ext cx="693720" cy="725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86280" y="1627200"/>
            <a:ext cx="426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M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10800000">
            <a:off x="4765680" y="2305440"/>
            <a:ext cx="1002600" cy="100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286240" y="1779840"/>
            <a:ext cx="106668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37120" y="1598760"/>
            <a:ext cx="641160" cy="148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383000" y="1371600"/>
            <a:ext cx="1724040" cy="69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43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435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30760" y="1371600"/>
            <a:ext cx="2815920" cy="51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419640" y="3235320"/>
            <a:ext cx="2567880" cy="51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51360" y="870120"/>
            <a:ext cx="1507320" cy="288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65800" y="2820960"/>
            <a:ext cx="693720" cy="725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34160" y="2814480"/>
            <a:ext cx="693720" cy="725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35760" y="2825640"/>
            <a:ext cx="426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M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567480" y="1638360"/>
            <a:ext cx="426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M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369120" y="1627200"/>
            <a:ext cx="693720" cy="725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649760" y="2749680"/>
            <a:ext cx="426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C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M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363000" y="461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343360" y="16416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63de8"/>
                </a:solidFill>
                <a:latin typeface="Times New Roman"/>
              </a:rPr>
              <a:t>I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3048120" cy="18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3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Cycle de base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-13680" y="4756320"/>
            <a:ext cx="91425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partie code de l’opération (ce que doit faire l’instruction) du regist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 est décodé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contrôleur envoie les signaux de contrôle pour piloter le chemin de donné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données se propagent à travers le chemin de donné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est nécessaire de mettre au point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e méthodologie de synchronis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ur  définir à quel moment les signaux peuvent être lus et écr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2317680" y="1517400"/>
            <a:ext cx="5344560" cy="2895840"/>
            <a:chOff x="2317680" y="1517400"/>
            <a:chExt cx="5344560" cy="2895840"/>
          </a:xfrm>
        </p:grpSpPr>
        <p:sp>
          <p:nvSpPr>
            <p:cNvPr id="301" name=""/>
            <p:cNvSpPr/>
            <p:nvPr/>
          </p:nvSpPr>
          <p:spPr>
            <a:xfrm>
              <a:off x="3244680" y="1922400"/>
              <a:ext cx="3622680" cy="454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cherche de l’instru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74920" y="3510000"/>
              <a:ext cx="3555720" cy="454680"/>
            </a:xfrm>
            <a:prstGeom prst="rect">
              <a:avLst/>
            </a:prstGeom>
            <a:solidFill>
              <a:srgbClr val="66d9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écution de l’instru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76760" y="2620800"/>
              <a:ext cx="4785480" cy="454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ointage vers l’instruction suiva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46440" y="153036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543560" y="23814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543560" y="31050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43560" y="39942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2317680" y="440676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324160" y="1517400"/>
              <a:ext cx="0" cy="28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330280" y="1523880"/>
              <a:ext cx="221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3T19:33:55Z</dcterms:created>
  <dc:creator>LaMI</dc:creator>
  <dc:description/>
  <dc:language>en-US</dc:language>
  <cp:lastModifiedBy>Denis Dupont</cp:lastModifiedBy>
  <cp:lastPrinted>2001-10-23T14:40:39Z</cp:lastPrinted>
  <dcterms:modified xsi:type="dcterms:W3CDTF">2004-02-03T16:12:16Z</dcterms:modified>
  <cp:revision>56</cp:revision>
  <dc:subject/>
  <dc:title>Chemin de donnŽes</dc:title>
</cp:coreProperties>
</file>