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10080625" cy="7559675"/>
  <p:notesSz cx="75628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36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596600" y="1004760"/>
            <a:ext cx="4576680" cy="34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1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tte feuille est  mieux structur₫e mais il n'est pas possible d'utiliser de copier/coller pour le calcul du prix T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transparent suivant  en explique la raison et  constitue le premier pas vers la notion d'adressage absolu/rel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47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tte version corrig₫e de notre feuille permet des ajouts par copier/co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'est pas forc₫ment inutile de r₫p₫ter les transformations subies par les formules lors du copier/coller de fa₤on à ce que les ₫tudiants le comprennent b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e faut pas h₫siter à mentionner qu'il n'est pas rare de travailler sur des feuilles ayant des centaines de lig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ce cas, le copier/coller est v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18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r₫sum₫ qui a pour seul int₫r₨t de rappeler le vocab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exemple d'adressage diff₫rent sur ligne et colonne viendra plus t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51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ajout d'un nouveau trimestre se fait par copier/coller des deux colonnes du trimest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a explique que la formule de la cell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8 soit =D8*$C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$ devant le C est là pour que quand on la recopie en H8, le formule devienne : =G8*$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$ devant le 8 de $B8 pour qu'une recopie vers le bas fonctionne ($B8 devient alors  $B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formules de sommes pr₫voient que l'on puisse ins₫rer des nouveaux types de travaux (=&gt; ligne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acros, c'est simple et bien pra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'h₫sitez à insister sur la simplicit₫ d'emploi et sur la comparaison avec une cam₫ra ou un magn₫tophone qui est assez par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5480" y="4772160"/>
            <a:ext cx="5405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f/absolu : le re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faudra utiliser l'exemple pour illustrer ₤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51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cro a ₫t₫ enregistr₫e en mode "r₫f₫rences relatives"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 s'est plac₫ e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 a enregistr₫ la macro (cr₫ation des bords en gras autour des colonnes C et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 s'est plac₫ en 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 a rejou₫ la macro (₤a a mis en gras les bords ad hoc des colonnes E et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m en G1 (idem : bors en gras pour les colonnes G et 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urait pu faire ₤a avec un copier/coller de format (cf Edition/Collage sp₫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153800" y="5087880"/>
            <a:ext cx="5259240" cy="32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avons d₫jà vu qu'il existe un grand nombre de fonctions pr₫d₫finies, comme par exemple les fonctions statistiques (MAX,MIN,MOYENNE...), ou la condition (S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allons en voir d'autres comme la fonction NB.SI, les fonctions sur les chaînes de caract₩res, et l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nctions de reche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d₫faut, l'affichage des chaînes de caract₩res est gauche, celui des nombre à dro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en sûr, on peut imposer l'affichage à gauche pour les nombres et l'affichage à droite pour les chaînes de caract₩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marque pr₫cedente ne peut donc aider qu'avant la phase de mise en forme (d'où l'utilit₫ de s₫parer la phase de d₫veloppement de celle de mise en fo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153800" y="5087880"/>
            <a:ext cx="5259240" cy="32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emi₩re fonction sur les chaînes de caract₩res est l'op₫ration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cat₫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it que l'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cat₩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ux chaînes quand on les met bout à 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n'est pas une op₫ration commutative (c'est pour cela qu'on ne peut pas donner en r₫f₫rence une zone rectangulaire), mais elle est associ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fonctions Majuscule/minuscule seront utiles lorsque l'on voudra comparer deux chaînes de caract₩res. Une lettre majuscule est diff₫rente de la lettre minuscule correspond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on veut tester si deux chaînes sont identiques en dehors de la casse, il faudra les prendre toutes les deux en majuscule ou en minus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onction NomPropre est juste une fonction de mise en for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voit bien dans la colonne B qu'un espace est un caract₩re comme les aut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Les cellules sont les constituants de base d'une feuille de calcul. Nous allons d₫tailler apr₩s ce que contient une cellule et comment la pr₫sen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Un ensemble de feuilles de calcul regroup₫s dans le m₨me document est 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;Times"/>
              </a:rPr>
              <a:t>class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. Les feuilles d'un m₨me classeur sont ind₫pendantes par d₫faut mais peuvent ₨tre utilis₫es conjointement si on le d₫sire (plus de d₫tail dans un prochain cour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os de la remarque et de la derni₩re ligne du tableau, revenir sur l'utilit₫ des fonctions « majuscule » et « minuscule 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153800" y="5087880"/>
            <a:ext cx="52592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en de plus à dir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deux icônes permettent de trier une colonne par ordre croissant ou d₫crois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e cas où on a deux colonnes, qu'on veut classer suivant la premi₩re colonne, il fa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ol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lectionner les deux colonnes, sinon on perd les correspond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l est possible aussi de classer deux colonnes suivant la deuxi₩me : aller dans le menu Donn₫es/Trier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153800" y="5087880"/>
            <a:ext cx="5259240" cy="54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Attention i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le tableau soi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i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exactement que la premi₩re colonne du tableau soit tri₫e par ordre croissant (d'où la n₫cessit₫ des fonctions de tr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Si la valeur recherch₫e n'existe pas, la fonction retourne la valeur qui correspond à l'₫l₫ment juste inf₫rieur (suivant l'ordre utilis₫) à la valeur cherch₫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e : Si à la place de « corsa », on cherchait « BMW420 », l'₫lt juste inf₫rieur est « BMW320 » et la fonction retournerait « C 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153800" y="5087880"/>
            <a:ext cx="52592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Là aussi, il faut que la premi₩ere ligne soit tri₫e par ordre crois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La m₨me r₩gle est mise en oeuvre dans le cas où on recherche une valeur qui n'appartient pas à la ligne : on renvoie la valeur correspondante à l'₫l₫ment juste inf₫ri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41360" y="1071720"/>
            <a:ext cx="4880160" cy="3659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53800" y="5087520"/>
            <a:ext cx="5259240" cy="51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aire de la figu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one bleu : zone de rech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one jaune : zone de sor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i, la zone de recherche est une ligne. La zone de sortie peut ₨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oit une ligne (ne commencant pas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₨me colon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oit une colon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₤a march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ation : on cherche le nombre « 13 » dans la zone bleu. C'est le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Times New Roman"/>
              </a:rPr>
              <a:t>₩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₫l₫ment de la zone de recherche. On renvoie donc le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Times New Roman"/>
              </a:rPr>
              <a:t>₩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₫l₫ment de la zone de sortie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On notera que le r₫sultat d'une formule est un objet du type nombre, texte, dat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Une illustration simple de l'utilisation des forma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On voit dans ces exemples les diverses fa₤on de pr₫senter des dates par ex. Notez que l'on peut changer la « langue » du format ce qui traduit automatiquement les dates dans la langue s₫lectionn₫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;Times"/>
              </a:rPr>
              <a:t>On peut aussi sp₫cifier la pr₫cision d'affichage apr₩s la virgule pour les champs num₫riques. Tout cela est disponible dans le menu Format/Cell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85480" y="4772160"/>
            <a:ext cx="54054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tte feuille de calcul est tr₩s mal structur₫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fficile d'ajouter des articles à la f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 taux de TVA est cabl₫ dans les formules ce qui le rend difficile à corr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85480" y="4772160"/>
            <a:ext cx="540540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i, on donne des informations de base sur la bonne structuration d'une feuille de calc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pas h₫siter à rappeler le principe de base vu au cours pr₫c₫d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une cellule à sa valeur qui d₫pend d'une ou plusieurs autres cellules, elle doit en d₫pendre automatiquement (avec une formule et pas un calcul à la 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85480" y="4771800"/>
            <a:ext cx="540540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explique que par d₫faut excel utilise des r₫f₫rences rel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terme « d₫placement » est important car il donne une vision intuitive de la notion d'adressage relat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F079-302E-496E-A5EA-27BA3AC74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2239560"/>
            <a:ext cx="1008072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24FB-1C92-4A6A-BD8C-AC947697E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223956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5280" y="223956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EE4D-61E6-4541-BEBF-080FE763A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8480" y="92340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16960" y="92340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223956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8480" y="223956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16960" y="2239560"/>
            <a:ext cx="324576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BCCE-216E-4F1D-8521-8EC89B807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B0D8-D7FD-4F30-8609-C7505B7EF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8121-EC9C-464D-8033-EC9EE2602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491904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5280" y="923400"/>
            <a:ext cx="491904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A4C6-E945-4AC4-AE82-D7055593E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9C2B-ECCD-4F0B-9B3C-17DE2E13C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0807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AFE4-278A-41FF-8BDF-F2B97684F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923400"/>
            <a:ext cx="491904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223956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94F5-3ACC-4436-8C72-BE8CDF886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491904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5280" y="223956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A5C5-F83E-4A55-BE2D-D125C34C4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923400"/>
            <a:ext cx="491904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2239560"/>
            <a:ext cx="10080720" cy="12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633B-0D50-4856-AC28-97911EB7F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3000"/>
          </a:bodyPr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230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9800" indent="-183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7360" indent="-183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55640" indent="-1839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55640" indent="-1839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55640" indent="-1839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80480" y="7139160"/>
            <a:ext cx="2100240" cy="42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fr-F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DF6FF3A-A154-4BF8-B731-9B6EC00F0D7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587520"/>
            <a:ext cx="10080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492800" cy="430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Excel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9480" y="1295280"/>
          <a:ext cx="885060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8506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383760" y="6870600"/>
            <a:ext cx="45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AA4B-0F29-466A-8773-5E4EFF9AFF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3200" y="4191120"/>
            <a:ext cx="4204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a c5 s’est elle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épla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477120" y="30477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Structuration d'une feuille de calcul (3) 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383760" y="6870600"/>
            <a:ext cx="45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BEC-BD56-48C6-BF80-764D9563C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Adressage absolu :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67000"/>
          </a:bodyPr>
          <a:p>
            <a:pPr marL="253080" indent="-25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rmule souhaitée : =C9*(1+C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faut donc indiquer à Excel qu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1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8 est bien une référence relative (un déplacement). Ainsi, C8 deviendra C9 lors du copier/coll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1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5 désigne la case C5, pas la case située 1 case à gauche et 3 cases vers le haut. Ainsi, C5 sera inchangée lors du copier/coll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lution : préfixer lignes et colonnes par $.  On parle alors d'adressage abso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tre formule devient : =C8*(1+$C$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33360" y="1149480"/>
          <a:ext cx="934416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49480"/>
                    <a:ext cx="934416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Structuration d'une feuille de calcul : version définitiv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Manières de désigner une case dans une formule :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3000"/>
          </a:bodyPr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 désignant sa position par rapport à la case courante. On indique le déplacement qu'il faudrait faire pour rejoindre la case. On parle d'adressage relatif. C'est le mode d'adressage par d₫fa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 désignant la case par ses coordonnées. Cette désignation est indépendante de la cellule courante. On parle alors d'adressage absolu. Il faut utiliser le symbole $ pour c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est possible de traiter distinctement lignes et colonnes et d'avoir la colonne en adressage relatif et la ligne en adressage absol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Adressage absolu vs adresse relatif : intérêt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rmet de contrôler le comportement d'Excel lors des copier/coller de formu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e sert donc que lors de copier/coll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de grands tableaux, c'est une fonctionnalité indispens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Exemple : calcul du coût de reprographie (1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1000"/>
          </a:bodyPr>
          <a:p>
            <a:pPr marL="343800" indent="-343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souhaite calculer le coût trimestriel des travaux de reprograph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travaux peuvent être de 3 sortes:  photocopie NB, photocopies couleur ou reli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ur chaque trimestre et chaque type de travail, on souhaite avoir : le prix HT et T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ur chaque trimestre, on souhaite avoir le prix total HT et T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438280"/>
          <a:ext cx="9547200" cy="29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954720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Exemple :calcul du coût de reprographie (2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590920"/>
          <a:ext cx="9699480" cy="22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96994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Exemple : calcul du coût de reprographie (3) : formu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383760" y="6870600"/>
            <a:ext cx="45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A59-FFDA-4D86-A6BC-80BB7A902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 (1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macro permet d'automatiser les tâches de rout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rmet d'enregistrer et de rejouer une série d'a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st désignée par son n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ut être affectée à une séquence de touches ou à l'entrée d'un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macro peut être définie dans le classeur courant ou dans Excel (accessible dans tous les classeur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920" indent="-249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m : si le bouton n ’est pas visible faire Affichage/Barre d ’outils/personnaliser/arrêt de l ’enregist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4755" t="25774" r="38415" b="66419"/>
          <a:stretch/>
        </p:blipFill>
        <p:spPr>
          <a:xfrm>
            <a:off x="1143000" y="480060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383760" y="6870600"/>
            <a:ext cx="45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3A5-E8CA-4AED-8945-ACC0D7144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 : utilisation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1000"/>
          </a:bodyPr>
          <a:p>
            <a:pPr marL="343800" indent="-343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'utilisation est très proche de celle d'un magnétophone. On peut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87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ncer la création d'une macro grâce au sous-menu macro du menu out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87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est possible de faire une pause dans l'enregistrement d'une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287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arrête l'enregistrement en appuyant sur le bouton stop de l'enregistre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Utilisation possible d ’un tableur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65000"/>
          </a:bodyPr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enir ses comptes personnels : salaires, impôts, dépenses et recettes diverse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enir les comptes d'une (petite) associ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Éditer divers types de plannings (classes, associations, petites entreprises...). Calculer automatiquement des états de serv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ur un enseignant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aisir des no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lculer automatiquement des moyennes, le rang des élèves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Éditer des relevé₫s de notes personnalisées + PV de ju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 : mode relatif ou absolu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rsque les positions des cellules modifiées doivent être mémorisées par rapport à la cellule courante : références relat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rsque les positions des cellules sont mémorisées indépendamment de la position de la cellule courante : références abso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passe d'un mode à l'autre à volonté à l'aide d'un bouton visible lors de l'enregistrement des mac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Macros Excel : programmation en VBA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macro est une suite de command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cel mémorise cette suite de commandes sous la forme d'instructions du langage de programmation Visual 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peut créer ou modifier une macro directement en tapant un programme visual 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'est un travail de programmation qui sort du domaine de l'utilisation de base d'un outil bureau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383760" y="687060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: exemple d'utilisation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767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88840" y="838080"/>
            <a:ext cx="8636040" cy="647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36196" t="24469" r="56970" b="41672"/>
          <a:stretch/>
        </p:blipFill>
        <p:spPr>
          <a:xfrm>
            <a:off x="6324480" y="1981080"/>
            <a:ext cx="1209960" cy="4496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92120" y="3581280"/>
            <a:ext cx="3289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sérer un bou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macro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984240"/>
            <a:ext cx="8767800" cy="657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03000" y="4692600"/>
            <a:ext cx="3472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ffecter une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u bou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Excel : Fonctions Avancées Fonction NB.SI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3000"/>
          </a:bodyPr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bjectif : compter le nombre de cellules à l'intérieur d'une zone répondant à un critè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NB.SI(zone rectangulaire, « critère 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NB.SI(A1:C12;  « &gt;10 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nction NB.SI : Exemple Comp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230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d₫sire compter le nombre de jours de présence de chaque membre d'une équip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133720" y="2438280"/>
          <a:ext cx="3581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38280"/>
                    <a:ext cx="3581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chaînes de caractèr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1000"/>
          </a:bodyPr>
          <a:p>
            <a:pPr marL="192600" indent="-19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appe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160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fichage à gauche (par défaut) : chaîne de caractè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160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fichage à droite (par défaut) : valeur numér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26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opérations ne sont pas les mêm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160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mbres : toutes les opérations numériques (+ - * / 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160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înes :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ncaténatio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extraction de sous-chaîn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mise en majuscule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6858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 sur les chaînes de caractères (1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7000"/>
          </a:bodyPr>
          <a:p>
            <a:pPr marL="215280" indent="-21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elques fonctions sur les chaînes de caractèr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CATENER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179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 bout à bout plusieurs chaî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179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CONCATENER(texte1;texte2;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179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179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ttention aux esp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760" y="3124080"/>
            <a:ext cx="4408560" cy="1087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33920" y="5943600"/>
            <a:ext cx="4038480" cy="1287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 sur les chaînes (2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23760"/>
            <a:ext cx="9699840" cy="181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33000"/>
          </a:bodyPr>
          <a:p>
            <a:pPr marL="124560" indent="-124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inuscule / Majusc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mpose la casse d'un tex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minuscule(Tex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245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2456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24560" indent="-124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mProp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 en majuscule la 1re lettre de chaque m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nompropre(Tex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6760" y="501012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582120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 sur les chaînes (3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B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te le nombre de caractères contenus dans une chaîne (un espace est un caractère comme un aut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NBCAR(Tex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Feuille de calcul : les </a:t>
            </a:r>
            <a:r>
              <a:rPr b="0" i="1" lang="fr-FR" sz="3100" spc="-1" strike="noStrike">
                <a:solidFill>
                  <a:srgbClr val="3333cc"/>
                </a:solidFill>
                <a:latin typeface="Arial"/>
              </a:rPr>
              <a:t>cellu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6800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feuille de calcul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st composée de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cellules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cellules sont organisées en table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cellule a des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coordonnées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la feuille. Par exemple </a:t>
            </a: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A13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B45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classeu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st composé de plusieurs feuilles de calc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401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casse A6 de la feuille 2 est référencée par : 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Feuil2!A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8839080" cy="1411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 sur les chaînes (4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42000"/>
          </a:bodyPr>
          <a:p>
            <a:pPr marL="158760" indent="-15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-132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este si deux chaînes sont ₫g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-132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EXACT(chaîne 1; chaîne 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-132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800" indent="-132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29200" indent="-10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ensibilité à la cas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29200" indent="-10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chaînes vides sont ég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7846920" cy="99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 sur les chaînes (5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UPPRE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upprime les espaces inutiles dans un tex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SUPPRESPACE(Tex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opération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8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UBSTITUE : recherche une chaîne dans un texte et la remplace par une aut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substitue(texte;chaîne;nouvelle chaî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OUVE : renvoie la position d'une sous-chaîne dans une chaî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t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TROUVE(chaîne ; sous-chaî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59200" y="2557440"/>
            <a:ext cx="784080" cy="149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57320" y="2571840"/>
            <a:ext cx="784440" cy="149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16600" y="2562120"/>
            <a:ext cx="784080" cy="1490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156280" y="5033880"/>
            <a:ext cx="2235240" cy="184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523880" y="5041800"/>
            <a:ext cx="2252880" cy="18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43280" y="3343320"/>
            <a:ext cx="86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9080" y="331488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0640" y="5775480"/>
            <a:ext cx="121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994120" y="2730600"/>
            <a:ext cx="506160" cy="46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959360" y="2730600"/>
            <a:ext cx="501480" cy="452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191120" y="5176800"/>
            <a:ext cx="506160" cy="466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Trier des données (1)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25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3000"/>
          </a:bodyPr>
          <a:p>
            <a:pPr marL="275760" indent="-275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icônes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230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défaut : trie par lig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2304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lusieurs colonnes : Sélectionner les différentes colon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535720" cy="4174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Fonctions de recherche : RechercheV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cherche une valeur (valeur numérique ou chaîne de caractères) dans la 1₩re colonne d'un tableau, et renvoie la valeur correspondante dans la colonne spécif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RechercheV(valeur;zone;numéro_colonne)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4495680"/>
            <a:ext cx="457200" cy="17528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10080720" cy="22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Fonctions de recherche : RechercheH 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cherche une valeur (valeur numérique ou chaîne de caractères) dans la 1ére ligne d'un tableau, et renvoie la valeur correspondante dans la ligne spécif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RechercheH(valeur; zone; numéro_lig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2767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71440" y="4495680"/>
            <a:ext cx="205740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6560" y="2992320"/>
            <a:ext cx="8923680" cy="4141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Fonctions de recherche : Recherche 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cherche une valeur (valeur numérique ou chaîne de caractères) dans une zone, et renvoie la valeur correspondante dans une autre z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: =</a:t>
            </a:r>
            <a:r>
              <a:rPr b="0" lang="fr-FR" sz="2600" spc="-1" strike="noStrike">
                <a:solidFill>
                  <a:srgbClr val="3333cc"/>
                </a:solidFill>
                <a:latin typeface="Arial"/>
              </a:rPr>
              <a:t>Recherche(valeur;zone_recherche;zone_sor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6668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04960" y="4191120"/>
            <a:ext cx="205740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5410080"/>
            <a:ext cx="685800" cy="990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filtres élaboré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5644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filtres élaboré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066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33366"/>
          <a:stretch/>
        </p:blipFill>
        <p:spPr>
          <a:xfrm>
            <a:off x="152280" y="1371600"/>
            <a:ext cx="9758520" cy="4876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3504960" y="3352680"/>
            <a:ext cx="144756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752120" y="3352680"/>
            <a:ext cx="205740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886200"/>
            <a:ext cx="1447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2680" y="4768920"/>
            <a:ext cx="2923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 résul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e votre fil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50480" y="3321000"/>
            <a:ext cx="2558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ritères :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filtres élaboré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32049"/>
          <a:stretch/>
        </p:blipFill>
        <p:spPr>
          <a:xfrm>
            <a:off x="73080" y="1143000"/>
            <a:ext cx="10007640" cy="5100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7680" y="2406600"/>
            <a:ext cx="237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ritère :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57520" y="3581280"/>
            <a:ext cx="2923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 résul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e votre fil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 classeur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942400" cy="670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3276720"/>
            <a:ext cx="51786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 classeur est compo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e plusieurs feuilles que vous pouvez renommer, déplac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erreurs de saisi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60" t="1034" r="0" b="18230"/>
          <a:stretch/>
        </p:blipFill>
        <p:spPr>
          <a:xfrm>
            <a:off x="228600" y="914400"/>
            <a:ext cx="9448920" cy="5724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257800" y="3473280"/>
            <a:ext cx="41911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n cas d ’erreur de sais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ous pouvez écrire un message d ’al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u d ’err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34680" y="5987880"/>
            <a:ext cx="475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ur cette exe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s notes sont &gt;0 et &lt;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gril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6320" y="1143000"/>
            <a:ext cx="438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sertion/Nom/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Grill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8555" t="35163" r="17969" b="28382"/>
          <a:stretch/>
        </p:blipFill>
        <p:spPr>
          <a:xfrm>
            <a:off x="1905120" y="3809880"/>
            <a:ext cx="6324480" cy="272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02080" y="3778200"/>
            <a:ext cx="420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essage de Micr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Grill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Bouton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56920" y="2101680"/>
            <a:ext cx="6581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ffichage/barred’outils/Form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047760" y="3352680"/>
            <a:ext cx="5331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3680" y="5638680"/>
            <a:ext cx="456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Zone de liste 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7760" y="3701880"/>
            <a:ext cx="237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Bouton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bouton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89680" y="34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bouton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859280" y="2101680"/>
            <a:ext cx="4204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nvoie la posit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 ’élément sélectio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Modè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82342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38320" y="85392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 </a:t>
            </a:r>
            <a:r>
              <a:rPr b="0" i="1" lang="fr-FR" sz="3100" spc="-1" strike="noStrike">
                <a:solidFill>
                  <a:srgbClr val="3333cc"/>
                </a:solidFill>
                <a:latin typeface="Arial"/>
              </a:rPr>
              <a:t>contenu </a:t>
            </a: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des cellu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marL="296640" indent="-254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que cellule peut contenir divers objet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200" indent="-25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nombres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entiers, ou décimau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200" indent="-25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texte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36840" indent="-254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noms de person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36840" indent="-254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noms de produit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200" indent="-25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dat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6200" indent="-25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i="1" lang="fr-FR" sz="2600" spc="-1" strike="noStrike">
                <a:solidFill>
                  <a:srgbClr val="ff0000"/>
                </a:solidFill>
                <a:latin typeface="Arial"/>
              </a:rPr>
              <a:t>formules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i peuvent faire référenc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36840" indent="-254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des cellules de la feuille et/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36840" indent="-254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des cellules d'une autre feu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Les </a:t>
            </a:r>
            <a:r>
              <a:rPr b="0" i="1" lang="fr-FR" sz="3100" spc="-1" strike="noStrike">
                <a:solidFill>
                  <a:srgbClr val="3333cc"/>
                </a:solidFill>
                <a:latin typeface="Arial"/>
              </a:rPr>
              <a:t>formats </a:t>
            </a: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des cellu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440" y="1969560"/>
            <a:ext cx="41940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 peut spécifier l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d'une cellule (menu Format). Ex.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mbre simple, mon₫taire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s formats sont disponibles sous plusieur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varian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étermine le « type » du contenu mais ne change pas la vale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41240" y="2101680"/>
          <a:ext cx="4197600" cy="22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2101680"/>
                    <a:ext cx="4197600" cy="22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41240" y="4587840"/>
          <a:ext cx="4199040" cy="22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240" y="4587840"/>
                    <a:ext cx="4199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18960" y="1523880"/>
          <a:ext cx="976176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523880"/>
                    <a:ext cx="976176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Structuration d'une feuille de calcul (1) : facture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Critiques et améliorations possibles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65000"/>
          </a:bodyPr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est important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'avoir des feuilles exten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regrouper les constantes dans un tableau de bord de la feuille (la TVA dans notre cas) pour faciliter la compréhension de la feuille et les mod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v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tre le taux de TVA dans une cell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tiliser la valeur de cette cellule dans les form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2080" indent="-205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rriger le taux de T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383760" y="6870600"/>
            <a:ext cx="45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524-3118-4ED6-83CC-4F525FAC7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58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3100" spc="-1" strike="noStrike">
                <a:solidFill>
                  <a:srgbClr val="3333cc"/>
                </a:solidFill>
                <a:latin typeface="Arial"/>
              </a:rPr>
              <a:t>Copier/coller des formules : adressage relatif</a:t>
            </a:r>
            <a:endParaRPr b="0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23400"/>
            <a:ext cx="10080720" cy="251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64000"/>
          </a:bodyPr>
          <a:p>
            <a:pPr marL="241920" indent="-241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 que mémorise Excel, c'est le déplacement à faire pour aller de la case C9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160" indent="-201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la case C8 : une case à gau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160" indent="-201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la case C5 : une case à gauche et 3 cases vers le ha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1920" indent="-241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copiée dans la cellule D9, on obtient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160" indent="-201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case à gauche : C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160" indent="-201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case à gauche et 3 cases vers le haut : C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1920" indent="-241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formule devient donc =C9*(1+C6) qui n'est pas celle que nous souha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4160" indent="-201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isser de la place pour ajouter des arti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4:19:01Z</dcterms:created>
  <dc:creator>Pascal PETIT</dc:creator>
  <dc:description/>
  <dc:language>en-US</dc:language>
  <cp:lastModifiedBy>dupont</cp:lastModifiedBy>
  <cp:lastPrinted>2001-09-18T09:46:37Z</cp:lastPrinted>
  <dcterms:modified xsi:type="dcterms:W3CDTF">2001-09-24T15:10:36Z</dcterms:modified>
  <cp:revision>26</cp:revision>
  <dc:subject/>
  <dc:title>Structuration d'une feuille de calcul (1) : facture</dc:title>
</cp:coreProperties>
</file>