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lick to move the slide</a:t>
            </a:r>
            <a:endParaRPr b="0" lang="en-US" sz="2800" spc="-1" strike="noStrike">
              <a:solidFill>
                <a:srgbClr val="3333cc"/>
              </a:solidFill>
              <a:latin typeface="Arial"/>
            </a:endParaRPr>
          </a:p>
        </p:txBody>
      </p:sp>
      <p:sp>
        <p:nvSpPr>
          <p:cNvPr id="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F283E-70F3-47CB-A371-4CCD9A57405E}"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cocuouc</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023BFC1-3E57-4A80-8983-69AFBF66FC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26" name="PlaceHolder 2"/>
          <p:cNvSpPr>
            <a:spLocks noGrp="1"/>
          </p:cNvSpPr>
          <p:nvPr>
            <p:ph/>
          </p:nvPr>
        </p:nvSpPr>
        <p:spPr>
          <a:xfrm>
            <a:off x="0" y="838080"/>
            <a:ext cx="91440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0" y="2032200"/>
            <a:ext cx="91440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65151CB4-D605-4F61-A2A2-112392678A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29" name="PlaceHolder 2"/>
          <p:cNvSpPr>
            <a:spLocks noGrp="1"/>
          </p:cNvSpPr>
          <p:nvPr>
            <p:ph/>
          </p:nvPr>
        </p:nvSpPr>
        <p:spPr>
          <a:xfrm>
            <a:off x="0" y="838080"/>
            <a:ext cx="44622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685760" y="838080"/>
            <a:ext cx="44622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0" y="2032200"/>
            <a:ext cx="44622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5"/>
          <p:cNvSpPr>
            <a:spLocks noGrp="1"/>
          </p:cNvSpPr>
          <p:nvPr>
            <p:ph/>
          </p:nvPr>
        </p:nvSpPr>
        <p:spPr>
          <a:xfrm>
            <a:off x="4685760" y="2032200"/>
            <a:ext cx="44622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B1A4093B-905C-4724-90F2-2D19A8723E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34" name="PlaceHolder 2"/>
          <p:cNvSpPr>
            <a:spLocks noGrp="1"/>
          </p:cNvSpPr>
          <p:nvPr>
            <p:ph/>
          </p:nvPr>
        </p:nvSpPr>
        <p:spPr>
          <a:xfrm>
            <a:off x="0" y="838080"/>
            <a:ext cx="294408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3091680" y="838080"/>
            <a:ext cx="294408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6183360" y="838080"/>
            <a:ext cx="294408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0" y="2032200"/>
            <a:ext cx="294408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6"/>
          <p:cNvSpPr>
            <a:spLocks noGrp="1"/>
          </p:cNvSpPr>
          <p:nvPr>
            <p:ph/>
          </p:nvPr>
        </p:nvSpPr>
        <p:spPr>
          <a:xfrm>
            <a:off x="3091680" y="2032200"/>
            <a:ext cx="294408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7"/>
          <p:cNvSpPr>
            <a:spLocks noGrp="1"/>
          </p:cNvSpPr>
          <p:nvPr>
            <p:ph/>
          </p:nvPr>
        </p:nvSpPr>
        <p:spPr>
          <a:xfrm>
            <a:off x="6183360" y="2032200"/>
            <a:ext cx="294408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552F430A-7BEE-4CA5-B63B-0E7E2E8F82D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5" name="PlaceHolder 2"/>
          <p:cNvSpPr>
            <a:spLocks noGrp="1"/>
          </p:cNvSpPr>
          <p:nvPr>
            <p:ph type="subTitle"/>
          </p:nvPr>
        </p:nvSpPr>
        <p:spPr>
          <a:xfrm>
            <a:off x="0" y="838080"/>
            <a:ext cx="9144000" cy="22860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9359B03-7348-4E00-ADB6-DA6D88CF5C0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7"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960C8B-E3BF-4D5F-B322-8152C8B18C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9" name="PlaceHolder 2"/>
          <p:cNvSpPr>
            <a:spLocks noGrp="1"/>
          </p:cNvSpPr>
          <p:nvPr>
            <p:ph/>
          </p:nvPr>
        </p:nvSpPr>
        <p:spPr>
          <a:xfrm>
            <a:off x="0" y="838080"/>
            <a:ext cx="4462200" cy="228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3"/>
          <p:cNvSpPr>
            <a:spLocks noGrp="1"/>
          </p:cNvSpPr>
          <p:nvPr>
            <p:ph/>
          </p:nvPr>
        </p:nvSpPr>
        <p:spPr>
          <a:xfrm>
            <a:off x="4685760" y="838080"/>
            <a:ext cx="4462200" cy="228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7406D452-B97D-4A30-8E01-5A8E91AC79C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3" name="PlaceHolder 2"/>
          <p:cNvSpPr>
            <a:spLocks noGrp="1"/>
          </p:cNvSpPr>
          <p:nvPr>
            <p:ph type="sldNum" idx="1"/>
          </p:nvPr>
        </p:nvSpPr>
        <p:spPr/>
        <p:txBody>
          <a:bodyPr/>
          <a:p>
            <a:fld id="{EA47F090-5F1F-48C2-A82C-DD70D060244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0"/>
            <a:ext cx="9144000" cy="24742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AC5EC956-88D2-4AA0-BFA4-44798E2F3D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14" name="PlaceHolder 2"/>
          <p:cNvSpPr>
            <a:spLocks noGrp="1"/>
          </p:cNvSpPr>
          <p:nvPr>
            <p:ph/>
          </p:nvPr>
        </p:nvSpPr>
        <p:spPr>
          <a:xfrm>
            <a:off x="0" y="838080"/>
            <a:ext cx="44622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85760" y="838080"/>
            <a:ext cx="4462200" cy="228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4"/>
          <p:cNvSpPr>
            <a:spLocks noGrp="1"/>
          </p:cNvSpPr>
          <p:nvPr>
            <p:ph/>
          </p:nvPr>
        </p:nvSpPr>
        <p:spPr>
          <a:xfrm>
            <a:off x="0" y="2032200"/>
            <a:ext cx="44622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1B81B632-5E25-48C4-B2A2-2858F91713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18" name="PlaceHolder 2"/>
          <p:cNvSpPr>
            <a:spLocks noGrp="1"/>
          </p:cNvSpPr>
          <p:nvPr>
            <p:ph/>
          </p:nvPr>
        </p:nvSpPr>
        <p:spPr>
          <a:xfrm>
            <a:off x="0" y="838080"/>
            <a:ext cx="4462200" cy="228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685760" y="838080"/>
            <a:ext cx="44622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4685760" y="2032200"/>
            <a:ext cx="44622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610B2AA-6D86-4C28-B628-CFB2D92B75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22" name="PlaceHolder 2"/>
          <p:cNvSpPr>
            <a:spLocks noGrp="1"/>
          </p:cNvSpPr>
          <p:nvPr>
            <p:ph/>
          </p:nvPr>
        </p:nvSpPr>
        <p:spPr>
          <a:xfrm>
            <a:off x="0" y="838080"/>
            <a:ext cx="44622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685760" y="838080"/>
            <a:ext cx="44622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0" y="2032200"/>
            <a:ext cx="9144000" cy="10900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81426747-503C-4F4B-953E-C2A5FCD2B7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lick to edit the title text format</a:t>
            </a:r>
            <a:endParaRPr b="0" lang="en-US" sz="2800" spc="-1" strike="noStrike">
              <a:solidFill>
                <a:srgbClr val="3333cc"/>
              </a:solidFill>
              <a:latin typeface="Arial"/>
            </a:endParaRPr>
          </a:p>
        </p:txBody>
      </p:sp>
      <p:sp>
        <p:nvSpPr>
          <p:cNvPr id="1" name="PlaceHolder 2"/>
          <p:cNvSpPr>
            <a:spLocks noGrp="1"/>
          </p:cNvSpPr>
          <p:nvPr>
            <p:ph type="body"/>
          </p:nvPr>
        </p:nvSpPr>
        <p:spPr>
          <a:xfrm>
            <a:off x="0" y="838080"/>
            <a:ext cx="9144000" cy="2286000"/>
          </a:xfrm>
          <a:prstGeom prst="rect">
            <a:avLst/>
          </a:prstGeom>
          <a:noFill/>
          <a:ln w="0">
            <a:noFill/>
          </a:ln>
        </p:spPr>
        <p:txBody>
          <a:bodyPr lIns="90000" rIns="90000" tIns="46800" bIns="46800" anchor="t">
            <a:normAutofit fontScale="72000"/>
          </a:bodyPr>
          <a:p>
            <a:pPr marL="246960" indent="-246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534960" indent="-205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822960" indent="-164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152000" indent="-164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481040" indent="-164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481040" indent="-164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481040" indent="-164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sldNum" idx="1"/>
          </p:nvPr>
        </p:nvSpPr>
        <p:spPr>
          <a:xfrm>
            <a:off x="7238880" y="647712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7C157-5A15-4D91-87F1-DF60B47248D6}"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 name=""/>
          <p:cNvSpPr/>
          <p:nvPr/>
        </p:nvSpPr>
        <p:spPr>
          <a:xfrm>
            <a:off x="0" y="533520"/>
            <a:ext cx="914400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Initiation à Power Point</a:t>
            </a:r>
            <a:endParaRPr b="0" lang="en-US" sz="2800" spc="-1" strike="noStrike">
              <a:solidFill>
                <a:srgbClr val="3333cc"/>
              </a:solidFill>
              <a:latin typeface="Arial"/>
            </a:endParaRPr>
          </a:p>
        </p:txBody>
      </p:sp>
      <p:sp>
        <p:nvSpPr>
          <p:cNvPr id="48"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
          <p:cNvSpPr/>
          <p:nvPr/>
        </p:nvSpPr>
        <p:spPr>
          <a:xfrm>
            <a:off x="2819520" y="2514600"/>
            <a:ext cx="2730240" cy="2678040"/>
          </a:xfrm>
          <a:custGeom>
            <a:avLst/>
            <a:gdLst/>
            <a:ahLst/>
            <a:rect l="l" t="t" r="r" b="b"/>
            <a:pathLst>
              <a:path w="3440" h="3374">
                <a:moveTo>
                  <a:pt x="0" y="42"/>
                </a:moveTo>
                <a:lnTo>
                  <a:pt x="251" y="2970"/>
                </a:lnTo>
                <a:lnTo>
                  <a:pt x="489" y="2968"/>
                </a:lnTo>
                <a:lnTo>
                  <a:pt x="425" y="3358"/>
                </a:lnTo>
                <a:lnTo>
                  <a:pt x="535" y="3358"/>
                </a:lnTo>
                <a:lnTo>
                  <a:pt x="772" y="2966"/>
                </a:lnTo>
                <a:lnTo>
                  <a:pt x="2804" y="2949"/>
                </a:lnTo>
                <a:lnTo>
                  <a:pt x="3062" y="3374"/>
                </a:lnTo>
                <a:lnTo>
                  <a:pt x="3217" y="3374"/>
                </a:lnTo>
                <a:lnTo>
                  <a:pt x="3078" y="2947"/>
                </a:lnTo>
                <a:lnTo>
                  <a:pt x="3290" y="2945"/>
                </a:lnTo>
                <a:lnTo>
                  <a:pt x="3440" y="0"/>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3203640" y="4869000"/>
            <a:ext cx="181080" cy="271440"/>
          </a:xfrm>
          <a:custGeom>
            <a:avLst/>
            <a:gdLst/>
            <a:ahLst/>
            <a:rect l="l" t="t" r="r" b="b"/>
            <a:pathLst>
              <a:path w="228" h="342">
                <a:moveTo>
                  <a:pt x="23" y="342"/>
                </a:moveTo>
                <a:lnTo>
                  <a:pt x="0" y="342"/>
                </a:lnTo>
                <a:lnTo>
                  <a:pt x="56" y="2"/>
                </a:lnTo>
                <a:lnTo>
                  <a:pt x="228" y="0"/>
                </a:lnTo>
                <a:lnTo>
                  <a:pt x="23" y="3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5091120" y="4854600"/>
            <a:ext cx="228600" cy="299880"/>
          </a:xfrm>
          <a:custGeom>
            <a:avLst/>
            <a:gdLst/>
            <a:ahLst/>
            <a:rect l="l" t="t" r="r" b="b"/>
            <a:pathLst>
              <a:path w="287" h="378">
                <a:moveTo>
                  <a:pt x="287" y="378"/>
                </a:moveTo>
                <a:lnTo>
                  <a:pt x="228" y="378"/>
                </a:lnTo>
                <a:lnTo>
                  <a:pt x="0" y="2"/>
                </a:lnTo>
                <a:lnTo>
                  <a:pt x="163" y="0"/>
                </a:lnTo>
                <a:lnTo>
                  <a:pt x="287" y="3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2862360" y="2554200"/>
            <a:ext cx="2646360" cy="2278080"/>
          </a:xfrm>
          <a:custGeom>
            <a:avLst/>
            <a:gdLst/>
            <a:ahLst/>
            <a:rect l="l" t="t" r="r" b="b"/>
            <a:pathLst>
              <a:path w="3334" h="2870">
                <a:moveTo>
                  <a:pt x="3189" y="2845"/>
                </a:moveTo>
                <a:lnTo>
                  <a:pt x="242" y="2870"/>
                </a:lnTo>
                <a:lnTo>
                  <a:pt x="0" y="40"/>
                </a:lnTo>
                <a:lnTo>
                  <a:pt x="3334" y="0"/>
                </a:lnTo>
                <a:lnTo>
                  <a:pt x="3189" y="28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3024360" y="2646360"/>
            <a:ext cx="2338200" cy="2082960"/>
          </a:xfrm>
          <a:custGeom>
            <a:avLst/>
            <a:gdLst/>
            <a:ahLst/>
            <a:rect l="l" t="t" r="r" b="b"/>
            <a:pathLst>
              <a:path w="2945" h="2624">
                <a:moveTo>
                  <a:pt x="2929" y="62"/>
                </a:moveTo>
                <a:lnTo>
                  <a:pt x="2928" y="40"/>
                </a:lnTo>
                <a:lnTo>
                  <a:pt x="2907" y="38"/>
                </a:lnTo>
                <a:lnTo>
                  <a:pt x="2905" y="38"/>
                </a:lnTo>
                <a:lnTo>
                  <a:pt x="2900" y="38"/>
                </a:lnTo>
                <a:lnTo>
                  <a:pt x="2891" y="36"/>
                </a:lnTo>
                <a:lnTo>
                  <a:pt x="2879" y="36"/>
                </a:lnTo>
                <a:lnTo>
                  <a:pt x="2865" y="36"/>
                </a:lnTo>
                <a:lnTo>
                  <a:pt x="2848" y="34"/>
                </a:lnTo>
                <a:lnTo>
                  <a:pt x="2827" y="33"/>
                </a:lnTo>
                <a:lnTo>
                  <a:pt x="2802" y="33"/>
                </a:lnTo>
                <a:lnTo>
                  <a:pt x="2776" y="31"/>
                </a:lnTo>
                <a:lnTo>
                  <a:pt x="2747" y="29"/>
                </a:lnTo>
                <a:lnTo>
                  <a:pt x="2713" y="27"/>
                </a:lnTo>
                <a:lnTo>
                  <a:pt x="2679" y="26"/>
                </a:lnTo>
                <a:lnTo>
                  <a:pt x="2640" y="24"/>
                </a:lnTo>
                <a:lnTo>
                  <a:pt x="2600" y="22"/>
                </a:lnTo>
                <a:lnTo>
                  <a:pt x="2557" y="20"/>
                </a:lnTo>
                <a:lnTo>
                  <a:pt x="2511" y="19"/>
                </a:lnTo>
                <a:lnTo>
                  <a:pt x="2463" y="17"/>
                </a:lnTo>
                <a:lnTo>
                  <a:pt x="2412" y="15"/>
                </a:lnTo>
                <a:lnTo>
                  <a:pt x="2358" y="14"/>
                </a:lnTo>
                <a:lnTo>
                  <a:pt x="2302" y="12"/>
                </a:lnTo>
                <a:lnTo>
                  <a:pt x="2243" y="10"/>
                </a:lnTo>
                <a:lnTo>
                  <a:pt x="2182" y="10"/>
                </a:lnTo>
                <a:lnTo>
                  <a:pt x="2120" y="8"/>
                </a:lnTo>
                <a:lnTo>
                  <a:pt x="2055" y="7"/>
                </a:lnTo>
                <a:lnTo>
                  <a:pt x="1987" y="5"/>
                </a:lnTo>
                <a:lnTo>
                  <a:pt x="1917" y="3"/>
                </a:lnTo>
                <a:lnTo>
                  <a:pt x="1844" y="3"/>
                </a:lnTo>
                <a:lnTo>
                  <a:pt x="1771" y="1"/>
                </a:lnTo>
                <a:lnTo>
                  <a:pt x="1695" y="1"/>
                </a:lnTo>
                <a:lnTo>
                  <a:pt x="1616" y="0"/>
                </a:lnTo>
                <a:lnTo>
                  <a:pt x="1536" y="0"/>
                </a:lnTo>
                <a:lnTo>
                  <a:pt x="1454" y="0"/>
                </a:lnTo>
                <a:lnTo>
                  <a:pt x="1372" y="0"/>
                </a:lnTo>
                <a:lnTo>
                  <a:pt x="1292" y="0"/>
                </a:lnTo>
                <a:lnTo>
                  <a:pt x="1214" y="1"/>
                </a:lnTo>
                <a:lnTo>
                  <a:pt x="1139" y="3"/>
                </a:lnTo>
                <a:lnTo>
                  <a:pt x="1064" y="3"/>
                </a:lnTo>
                <a:lnTo>
                  <a:pt x="993" y="7"/>
                </a:lnTo>
                <a:lnTo>
                  <a:pt x="925" y="8"/>
                </a:lnTo>
                <a:lnTo>
                  <a:pt x="857" y="10"/>
                </a:lnTo>
                <a:lnTo>
                  <a:pt x="792" y="14"/>
                </a:lnTo>
                <a:lnTo>
                  <a:pt x="730" y="15"/>
                </a:lnTo>
                <a:lnTo>
                  <a:pt x="670" y="19"/>
                </a:lnTo>
                <a:lnTo>
                  <a:pt x="613" y="22"/>
                </a:lnTo>
                <a:lnTo>
                  <a:pt x="557" y="26"/>
                </a:lnTo>
                <a:lnTo>
                  <a:pt x="505" y="29"/>
                </a:lnTo>
                <a:lnTo>
                  <a:pt x="454" y="33"/>
                </a:lnTo>
                <a:lnTo>
                  <a:pt x="407" y="36"/>
                </a:lnTo>
                <a:lnTo>
                  <a:pt x="362" y="40"/>
                </a:lnTo>
                <a:lnTo>
                  <a:pt x="320" y="43"/>
                </a:lnTo>
                <a:lnTo>
                  <a:pt x="280" y="47"/>
                </a:lnTo>
                <a:lnTo>
                  <a:pt x="244" y="50"/>
                </a:lnTo>
                <a:lnTo>
                  <a:pt x="209" y="54"/>
                </a:lnTo>
                <a:lnTo>
                  <a:pt x="177" y="55"/>
                </a:lnTo>
                <a:lnTo>
                  <a:pt x="148" y="59"/>
                </a:lnTo>
                <a:lnTo>
                  <a:pt x="122" y="62"/>
                </a:lnTo>
                <a:lnTo>
                  <a:pt x="99" y="64"/>
                </a:lnTo>
                <a:lnTo>
                  <a:pt x="78" y="68"/>
                </a:lnTo>
                <a:lnTo>
                  <a:pt x="62" y="69"/>
                </a:lnTo>
                <a:lnTo>
                  <a:pt x="47" y="71"/>
                </a:lnTo>
                <a:lnTo>
                  <a:pt x="36" y="73"/>
                </a:lnTo>
                <a:lnTo>
                  <a:pt x="28" y="73"/>
                </a:lnTo>
                <a:lnTo>
                  <a:pt x="22" y="75"/>
                </a:lnTo>
                <a:lnTo>
                  <a:pt x="21" y="75"/>
                </a:lnTo>
                <a:lnTo>
                  <a:pt x="0" y="76"/>
                </a:lnTo>
                <a:lnTo>
                  <a:pt x="0" y="99"/>
                </a:lnTo>
                <a:lnTo>
                  <a:pt x="0" y="129"/>
                </a:lnTo>
                <a:lnTo>
                  <a:pt x="2" y="207"/>
                </a:lnTo>
                <a:lnTo>
                  <a:pt x="5" y="327"/>
                </a:lnTo>
                <a:lnTo>
                  <a:pt x="12" y="484"/>
                </a:lnTo>
                <a:lnTo>
                  <a:pt x="19" y="671"/>
                </a:lnTo>
                <a:lnTo>
                  <a:pt x="31" y="880"/>
                </a:lnTo>
                <a:lnTo>
                  <a:pt x="45" y="1103"/>
                </a:lnTo>
                <a:lnTo>
                  <a:pt x="64" y="1336"/>
                </a:lnTo>
                <a:lnTo>
                  <a:pt x="87" y="1568"/>
                </a:lnTo>
                <a:lnTo>
                  <a:pt x="111" y="1788"/>
                </a:lnTo>
                <a:lnTo>
                  <a:pt x="136" y="1993"/>
                </a:lnTo>
                <a:lnTo>
                  <a:pt x="158" y="2175"/>
                </a:lnTo>
                <a:lnTo>
                  <a:pt x="179" y="2328"/>
                </a:lnTo>
                <a:lnTo>
                  <a:pt x="195" y="2446"/>
                </a:lnTo>
                <a:lnTo>
                  <a:pt x="205" y="2523"/>
                </a:lnTo>
                <a:lnTo>
                  <a:pt x="211" y="2551"/>
                </a:lnTo>
                <a:lnTo>
                  <a:pt x="212" y="2570"/>
                </a:lnTo>
                <a:lnTo>
                  <a:pt x="231" y="2572"/>
                </a:lnTo>
                <a:lnTo>
                  <a:pt x="233" y="2572"/>
                </a:lnTo>
                <a:lnTo>
                  <a:pt x="240" y="2572"/>
                </a:lnTo>
                <a:lnTo>
                  <a:pt x="249" y="2574"/>
                </a:lnTo>
                <a:lnTo>
                  <a:pt x="259" y="2574"/>
                </a:lnTo>
                <a:lnTo>
                  <a:pt x="275" y="2575"/>
                </a:lnTo>
                <a:lnTo>
                  <a:pt x="292" y="2577"/>
                </a:lnTo>
                <a:lnTo>
                  <a:pt x="313" y="2579"/>
                </a:lnTo>
                <a:lnTo>
                  <a:pt x="338" y="2581"/>
                </a:lnTo>
                <a:lnTo>
                  <a:pt x="364" y="2582"/>
                </a:lnTo>
                <a:lnTo>
                  <a:pt x="393" y="2586"/>
                </a:lnTo>
                <a:lnTo>
                  <a:pt x="425" y="2588"/>
                </a:lnTo>
                <a:lnTo>
                  <a:pt x="458" y="2589"/>
                </a:lnTo>
                <a:lnTo>
                  <a:pt x="494" y="2593"/>
                </a:lnTo>
                <a:lnTo>
                  <a:pt x="533" y="2595"/>
                </a:lnTo>
                <a:lnTo>
                  <a:pt x="575" y="2598"/>
                </a:lnTo>
                <a:lnTo>
                  <a:pt x="616" y="2600"/>
                </a:lnTo>
                <a:lnTo>
                  <a:pt x="662" y="2603"/>
                </a:lnTo>
                <a:lnTo>
                  <a:pt x="709" y="2605"/>
                </a:lnTo>
                <a:lnTo>
                  <a:pt x="757" y="2607"/>
                </a:lnTo>
                <a:lnTo>
                  <a:pt x="808" y="2610"/>
                </a:lnTo>
                <a:lnTo>
                  <a:pt x="860" y="2612"/>
                </a:lnTo>
                <a:lnTo>
                  <a:pt x="914" y="2614"/>
                </a:lnTo>
                <a:lnTo>
                  <a:pt x="970" y="2617"/>
                </a:lnTo>
                <a:lnTo>
                  <a:pt x="1027" y="2619"/>
                </a:lnTo>
                <a:lnTo>
                  <a:pt x="1087" y="2621"/>
                </a:lnTo>
                <a:lnTo>
                  <a:pt x="1146" y="2621"/>
                </a:lnTo>
                <a:lnTo>
                  <a:pt x="1207" y="2622"/>
                </a:lnTo>
                <a:lnTo>
                  <a:pt x="1270" y="2624"/>
                </a:lnTo>
                <a:lnTo>
                  <a:pt x="1332" y="2624"/>
                </a:lnTo>
                <a:lnTo>
                  <a:pt x="1397" y="2624"/>
                </a:lnTo>
                <a:lnTo>
                  <a:pt x="1461" y="2624"/>
                </a:lnTo>
                <a:lnTo>
                  <a:pt x="1527" y="2624"/>
                </a:lnTo>
                <a:lnTo>
                  <a:pt x="1594" y="2624"/>
                </a:lnTo>
                <a:lnTo>
                  <a:pt x="1658" y="2622"/>
                </a:lnTo>
                <a:lnTo>
                  <a:pt x="1722" y="2621"/>
                </a:lnTo>
                <a:lnTo>
                  <a:pt x="1785" y="2619"/>
                </a:lnTo>
                <a:lnTo>
                  <a:pt x="1846" y="2617"/>
                </a:lnTo>
                <a:lnTo>
                  <a:pt x="1905" y="2615"/>
                </a:lnTo>
                <a:lnTo>
                  <a:pt x="1965" y="2614"/>
                </a:lnTo>
                <a:lnTo>
                  <a:pt x="2022" y="2610"/>
                </a:lnTo>
                <a:lnTo>
                  <a:pt x="2078" y="2608"/>
                </a:lnTo>
                <a:lnTo>
                  <a:pt x="2132" y="2605"/>
                </a:lnTo>
                <a:lnTo>
                  <a:pt x="2184" y="2602"/>
                </a:lnTo>
                <a:lnTo>
                  <a:pt x="2234" y="2598"/>
                </a:lnTo>
                <a:lnTo>
                  <a:pt x="2283" y="2596"/>
                </a:lnTo>
                <a:lnTo>
                  <a:pt x="2330" y="2593"/>
                </a:lnTo>
                <a:lnTo>
                  <a:pt x="2376" y="2589"/>
                </a:lnTo>
                <a:lnTo>
                  <a:pt x="2419" y="2586"/>
                </a:lnTo>
                <a:lnTo>
                  <a:pt x="2461" y="2582"/>
                </a:lnTo>
                <a:lnTo>
                  <a:pt x="2499" y="2579"/>
                </a:lnTo>
                <a:lnTo>
                  <a:pt x="2536" y="2575"/>
                </a:lnTo>
                <a:lnTo>
                  <a:pt x="2571" y="2572"/>
                </a:lnTo>
                <a:lnTo>
                  <a:pt x="2602" y="2570"/>
                </a:lnTo>
                <a:lnTo>
                  <a:pt x="2632" y="2567"/>
                </a:lnTo>
                <a:lnTo>
                  <a:pt x="2659" y="2565"/>
                </a:lnTo>
                <a:lnTo>
                  <a:pt x="2684" y="2561"/>
                </a:lnTo>
                <a:lnTo>
                  <a:pt x="2706" y="2560"/>
                </a:lnTo>
                <a:lnTo>
                  <a:pt x="2726" y="2558"/>
                </a:lnTo>
                <a:lnTo>
                  <a:pt x="2743" y="2556"/>
                </a:lnTo>
                <a:lnTo>
                  <a:pt x="2757" y="2554"/>
                </a:lnTo>
                <a:lnTo>
                  <a:pt x="2767" y="2553"/>
                </a:lnTo>
                <a:lnTo>
                  <a:pt x="2776" y="2551"/>
                </a:lnTo>
                <a:lnTo>
                  <a:pt x="2781" y="2551"/>
                </a:lnTo>
                <a:lnTo>
                  <a:pt x="2783" y="2551"/>
                </a:lnTo>
                <a:lnTo>
                  <a:pt x="2802" y="2547"/>
                </a:lnTo>
                <a:lnTo>
                  <a:pt x="2804" y="2528"/>
                </a:lnTo>
                <a:lnTo>
                  <a:pt x="2808" y="2500"/>
                </a:lnTo>
                <a:lnTo>
                  <a:pt x="2816" y="2424"/>
                </a:lnTo>
                <a:lnTo>
                  <a:pt x="2832" y="2304"/>
                </a:lnTo>
                <a:lnTo>
                  <a:pt x="2849" y="2145"/>
                </a:lnTo>
                <a:lnTo>
                  <a:pt x="2868" y="1957"/>
                </a:lnTo>
                <a:lnTo>
                  <a:pt x="2889" y="1742"/>
                </a:lnTo>
                <a:lnTo>
                  <a:pt x="2909" y="1509"/>
                </a:lnTo>
                <a:lnTo>
                  <a:pt x="2926" y="1261"/>
                </a:lnTo>
                <a:lnTo>
                  <a:pt x="2945" y="789"/>
                </a:lnTo>
                <a:lnTo>
                  <a:pt x="2943" y="409"/>
                </a:lnTo>
                <a:lnTo>
                  <a:pt x="2935" y="156"/>
                </a:lnTo>
                <a:lnTo>
                  <a:pt x="2929"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3063960" y="2685960"/>
            <a:ext cx="2259000" cy="2003400"/>
          </a:xfrm>
          <a:custGeom>
            <a:avLst/>
            <a:gdLst/>
            <a:ahLst/>
            <a:rect l="l" t="t" r="r" b="b"/>
            <a:pathLst>
              <a:path w="2846" h="2524">
                <a:moveTo>
                  <a:pt x="2825" y="1208"/>
                </a:moveTo>
                <a:lnTo>
                  <a:pt x="2810" y="1431"/>
                </a:lnTo>
                <a:lnTo>
                  <a:pt x="2792" y="1644"/>
                </a:lnTo>
                <a:lnTo>
                  <a:pt x="2775" y="1840"/>
                </a:lnTo>
                <a:lnTo>
                  <a:pt x="2758" y="2018"/>
                </a:lnTo>
                <a:lnTo>
                  <a:pt x="2740" y="2172"/>
                </a:lnTo>
                <a:lnTo>
                  <a:pt x="2726" y="2299"/>
                </a:lnTo>
                <a:lnTo>
                  <a:pt x="2714" y="2395"/>
                </a:lnTo>
                <a:lnTo>
                  <a:pt x="2707" y="2454"/>
                </a:lnTo>
                <a:lnTo>
                  <a:pt x="2697" y="2456"/>
                </a:lnTo>
                <a:lnTo>
                  <a:pt x="2684" y="2457"/>
                </a:lnTo>
                <a:lnTo>
                  <a:pt x="2669" y="2459"/>
                </a:lnTo>
                <a:lnTo>
                  <a:pt x="2651" y="2461"/>
                </a:lnTo>
                <a:lnTo>
                  <a:pt x="2632" y="2463"/>
                </a:lnTo>
                <a:lnTo>
                  <a:pt x="2611" y="2464"/>
                </a:lnTo>
                <a:lnTo>
                  <a:pt x="2587" y="2466"/>
                </a:lnTo>
                <a:lnTo>
                  <a:pt x="2562" y="2470"/>
                </a:lnTo>
                <a:lnTo>
                  <a:pt x="2535" y="2471"/>
                </a:lnTo>
                <a:lnTo>
                  <a:pt x="2505" y="2475"/>
                </a:lnTo>
                <a:lnTo>
                  <a:pt x="2474" y="2478"/>
                </a:lnTo>
                <a:lnTo>
                  <a:pt x="2441" y="2480"/>
                </a:lnTo>
                <a:lnTo>
                  <a:pt x="2406" y="2484"/>
                </a:lnTo>
                <a:lnTo>
                  <a:pt x="2369" y="2487"/>
                </a:lnTo>
                <a:lnTo>
                  <a:pt x="2333" y="2489"/>
                </a:lnTo>
                <a:lnTo>
                  <a:pt x="2292" y="2492"/>
                </a:lnTo>
                <a:lnTo>
                  <a:pt x="2251" y="2496"/>
                </a:lnTo>
                <a:lnTo>
                  <a:pt x="2207" y="2497"/>
                </a:lnTo>
                <a:lnTo>
                  <a:pt x="2164" y="2501"/>
                </a:lnTo>
                <a:lnTo>
                  <a:pt x="2118" y="2503"/>
                </a:lnTo>
                <a:lnTo>
                  <a:pt x="2071" y="2506"/>
                </a:lnTo>
                <a:lnTo>
                  <a:pt x="2022" y="2508"/>
                </a:lnTo>
                <a:lnTo>
                  <a:pt x="1974" y="2511"/>
                </a:lnTo>
                <a:lnTo>
                  <a:pt x="1921" y="2513"/>
                </a:lnTo>
                <a:lnTo>
                  <a:pt x="1871" y="2515"/>
                </a:lnTo>
                <a:lnTo>
                  <a:pt x="1817" y="2517"/>
                </a:lnTo>
                <a:lnTo>
                  <a:pt x="1763" y="2518"/>
                </a:lnTo>
                <a:lnTo>
                  <a:pt x="1707" y="2520"/>
                </a:lnTo>
                <a:lnTo>
                  <a:pt x="1651" y="2522"/>
                </a:lnTo>
                <a:lnTo>
                  <a:pt x="1594" y="2522"/>
                </a:lnTo>
                <a:lnTo>
                  <a:pt x="1537" y="2524"/>
                </a:lnTo>
                <a:lnTo>
                  <a:pt x="1477" y="2524"/>
                </a:lnTo>
                <a:lnTo>
                  <a:pt x="1418" y="2524"/>
                </a:lnTo>
                <a:lnTo>
                  <a:pt x="1359" y="2524"/>
                </a:lnTo>
                <a:lnTo>
                  <a:pt x="1301" y="2524"/>
                </a:lnTo>
                <a:lnTo>
                  <a:pt x="1246" y="2524"/>
                </a:lnTo>
                <a:lnTo>
                  <a:pt x="1188" y="2522"/>
                </a:lnTo>
                <a:lnTo>
                  <a:pt x="1134" y="2522"/>
                </a:lnTo>
                <a:lnTo>
                  <a:pt x="1080" y="2520"/>
                </a:lnTo>
                <a:lnTo>
                  <a:pt x="1026" y="2520"/>
                </a:lnTo>
                <a:lnTo>
                  <a:pt x="974" y="2518"/>
                </a:lnTo>
                <a:lnTo>
                  <a:pt x="923" y="2517"/>
                </a:lnTo>
                <a:lnTo>
                  <a:pt x="873" y="2515"/>
                </a:lnTo>
                <a:lnTo>
                  <a:pt x="824" y="2513"/>
                </a:lnTo>
                <a:lnTo>
                  <a:pt x="777" y="2511"/>
                </a:lnTo>
                <a:lnTo>
                  <a:pt x="732" y="2508"/>
                </a:lnTo>
                <a:lnTo>
                  <a:pt x="687" y="2506"/>
                </a:lnTo>
                <a:lnTo>
                  <a:pt x="643" y="2504"/>
                </a:lnTo>
                <a:lnTo>
                  <a:pt x="603" y="2503"/>
                </a:lnTo>
                <a:lnTo>
                  <a:pt x="563" y="2499"/>
                </a:lnTo>
                <a:lnTo>
                  <a:pt x="525" y="2497"/>
                </a:lnTo>
                <a:lnTo>
                  <a:pt x="488" y="2496"/>
                </a:lnTo>
                <a:lnTo>
                  <a:pt x="453" y="2494"/>
                </a:lnTo>
                <a:lnTo>
                  <a:pt x="420" y="2491"/>
                </a:lnTo>
                <a:lnTo>
                  <a:pt x="389" y="2489"/>
                </a:lnTo>
                <a:lnTo>
                  <a:pt x="361" y="2487"/>
                </a:lnTo>
                <a:lnTo>
                  <a:pt x="333" y="2485"/>
                </a:lnTo>
                <a:lnTo>
                  <a:pt x="309" y="2484"/>
                </a:lnTo>
                <a:lnTo>
                  <a:pt x="286" y="2482"/>
                </a:lnTo>
                <a:lnTo>
                  <a:pt x="265" y="2480"/>
                </a:lnTo>
                <a:lnTo>
                  <a:pt x="246" y="2478"/>
                </a:lnTo>
                <a:lnTo>
                  <a:pt x="230" y="2477"/>
                </a:lnTo>
                <a:lnTo>
                  <a:pt x="216" y="2477"/>
                </a:lnTo>
                <a:lnTo>
                  <a:pt x="206" y="2475"/>
                </a:lnTo>
                <a:lnTo>
                  <a:pt x="197" y="2416"/>
                </a:lnTo>
                <a:lnTo>
                  <a:pt x="185" y="2323"/>
                </a:lnTo>
                <a:lnTo>
                  <a:pt x="168" y="2198"/>
                </a:lnTo>
                <a:lnTo>
                  <a:pt x="148" y="2048"/>
                </a:lnTo>
                <a:lnTo>
                  <a:pt x="127" y="1877"/>
                </a:lnTo>
                <a:lnTo>
                  <a:pt x="107" y="1689"/>
                </a:lnTo>
                <a:lnTo>
                  <a:pt x="84" y="1488"/>
                </a:lnTo>
                <a:lnTo>
                  <a:pt x="65" y="1281"/>
                </a:lnTo>
                <a:lnTo>
                  <a:pt x="47" y="1074"/>
                </a:lnTo>
                <a:lnTo>
                  <a:pt x="33" y="873"/>
                </a:lnTo>
                <a:lnTo>
                  <a:pt x="23" y="683"/>
                </a:lnTo>
                <a:lnTo>
                  <a:pt x="14" y="509"/>
                </a:lnTo>
                <a:lnTo>
                  <a:pt x="9" y="356"/>
                </a:lnTo>
                <a:lnTo>
                  <a:pt x="4" y="228"/>
                </a:lnTo>
                <a:lnTo>
                  <a:pt x="2" y="131"/>
                </a:lnTo>
                <a:lnTo>
                  <a:pt x="0" y="70"/>
                </a:lnTo>
                <a:lnTo>
                  <a:pt x="11" y="68"/>
                </a:lnTo>
                <a:lnTo>
                  <a:pt x="25" y="66"/>
                </a:lnTo>
                <a:lnTo>
                  <a:pt x="40" y="65"/>
                </a:lnTo>
                <a:lnTo>
                  <a:pt x="60" y="63"/>
                </a:lnTo>
                <a:lnTo>
                  <a:pt x="80" y="61"/>
                </a:lnTo>
                <a:lnTo>
                  <a:pt x="103" y="58"/>
                </a:lnTo>
                <a:lnTo>
                  <a:pt x="127" y="56"/>
                </a:lnTo>
                <a:lnTo>
                  <a:pt x="155" y="52"/>
                </a:lnTo>
                <a:lnTo>
                  <a:pt x="185" y="51"/>
                </a:lnTo>
                <a:lnTo>
                  <a:pt x="216" y="47"/>
                </a:lnTo>
                <a:lnTo>
                  <a:pt x="249" y="44"/>
                </a:lnTo>
                <a:lnTo>
                  <a:pt x="284" y="42"/>
                </a:lnTo>
                <a:lnTo>
                  <a:pt x="323" y="38"/>
                </a:lnTo>
                <a:lnTo>
                  <a:pt x="363" y="35"/>
                </a:lnTo>
                <a:lnTo>
                  <a:pt x="404" y="31"/>
                </a:lnTo>
                <a:lnTo>
                  <a:pt x="448" y="30"/>
                </a:lnTo>
                <a:lnTo>
                  <a:pt x="493" y="26"/>
                </a:lnTo>
                <a:lnTo>
                  <a:pt x="542" y="23"/>
                </a:lnTo>
                <a:lnTo>
                  <a:pt x="591" y="21"/>
                </a:lnTo>
                <a:lnTo>
                  <a:pt x="643" y="18"/>
                </a:lnTo>
                <a:lnTo>
                  <a:pt x="697" y="16"/>
                </a:lnTo>
                <a:lnTo>
                  <a:pt x="753" y="12"/>
                </a:lnTo>
                <a:lnTo>
                  <a:pt x="810" y="11"/>
                </a:lnTo>
                <a:lnTo>
                  <a:pt x="869" y="9"/>
                </a:lnTo>
                <a:lnTo>
                  <a:pt x="929" y="7"/>
                </a:lnTo>
                <a:lnTo>
                  <a:pt x="991" y="5"/>
                </a:lnTo>
                <a:lnTo>
                  <a:pt x="1056" y="4"/>
                </a:lnTo>
                <a:lnTo>
                  <a:pt x="1122" y="2"/>
                </a:lnTo>
                <a:lnTo>
                  <a:pt x="1190" y="2"/>
                </a:lnTo>
                <a:lnTo>
                  <a:pt x="1260" y="0"/>
                </a:lnTo>
                <a:lnTo>
                  <a:pt x="1331" y="0"/>
                </a:lnTo>
                <a:lnTo>
                  <a:pt x="1404" y="0"/>
                </a:lnTo>
                <a:lnTo>
                  <a:pt x="1477" y="0"/>
                </a:lnTo>
                <a:lnTo>
                  <a:pt x="1549" y="0"/>
                </a:lnTo>
                <a:lnTo>
                  <a:pt x="1618" y="0"/>
                </a:lnTo>
                <a:lnTo>
                  <a:pt x="1686" y="2"/>
                </a:lnTo>
                <a:lnTo>
                  <a:pt x="1754" y="2"/>
                </a:lnTo>
                <a:lnTo>
                  <a:pt x="1819" y="4"/>
                </a:lnTo>
                <a:lnTo>
                  <a:pt x="1883" y="4"/>
                </a:lnTo>
                <a:lnTo>
                  <a:pt x="1944" y="5"/>
                </a:lnTo>
                <a:lnTo>
                  <a:pt x="2003" y="5"/>
                </a:lnTo>
                <a:lnTo>
                  <a:pt x="2063" y="7"/>
                </a:lnTo>
                <a:lnTo>
                  <a:pt x="2118" y="9"/>
                </a:lnTo>
                <a:lnTo>
                  <a:pt x="2172" y="11"/>
                </a:lnTo>
                <a:lnTo>
                  <a:pt x="2226" y="11"/>
                </a:lnTo>
                <a:lnTo>
                  <a:pt x="2277" y="12"/>
                </a:lnTo>
                <a:lnTo>
                  <a:pt x="2326" y="14"/>
                </a:lnTo>
                <a:lnTo>
                  <a:pt x="2373" y="16"/>
                </a:lnTo>
                <a:lnTo>
                  <a:pt x="2418" y="18"/>
                </a:lnTo>
                <a:lnTo>
                  <a:pt x="2460" y="19"/>
                </a:lnTo>
                <a:lnTo>
                  <a:pt x="2501" y="21"/>
                </a:lnTo>
                <a:lnTo>
                  <a:pt x="2540" y="23"/>
                </a:lnTo>
                <a:lnTo>
                  <a:pt x="2576" y="23"/>
                </a:lnTo>
                <a:lnTo>
                  <a:pt x="2611" y="25"/>
                </a:lnTo>
                <a:lnTo>
                  <a:pt x="2644" y="26"/>
                </a:lnTo>
                <a:lnTo>
                  <a:pt x="2674" y="28"/>
                </a:lnTo>
                <a:lnTo>
                  <a:pt x="2702" y="30"/>
                </a:lnTo>
                <a:lnTo>
                  <a:pt x="2728" y="31"/>
                </a:lnTo>
                <a:lnTo>
                  <a:pt x="2751" y="31"/>
                </a:lnTo>
                <a:lnTo>
                  <a:pt x="2771" y="33"/>
                </a:lnTo>
                <a:lnTo>
                  <a:pt x="2791" y="35"/>
                </a:lnTo>
                <a:lnTo>
                  <a:pt x="2806" y="35"/>
                </a:lnTo>
                <a:lnTo>
                  <a:pt x="2820" y="37"/>
                </a:lnTo>
                <a:lnTo>
                  <a:pt x="2832" y="37"/>
                </a:lnTo>
                <a:lnTo>
                  <a:pt x="2839" y="180"/>
                </a:lnTo>
                <a:lnTo>
                  <a:pt x="2846" y="438"/>
                </a:lnTo>
                <a:lnTo>
                  <a:pt x="2843" y="788"/>
                </a:lnTo>
                <a:lnTo>
                  <a:pt x="2825" y="120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3124080" y="2743200"/>
            <a:ext cx="2171880" cy="1935000"/>
          </a:xfrm>
          <a:custGeom>
            <a:avLst/>
            <a:gdLst/>
            <a:ahLst/>
            <a:rect l="l" t="t" r="r" b="b"/>
            <a:pathLst>
              <a:path w="2736" h="2438">
                <a:moveTo>
                  <a:pt x="2722" y="36"/>
                </a:moveTo>
                <a:lnTo>
                  <a:pt x="2699" y="35"/>
                </a:lnTo>
                <a:lnTo>
                  <a:pt x="2698" y="35"/>
                </a:lnTo>
                <a:lnTo>
                  <a:pt x="2692" y="35"/>
                </a:lnTo>
                <a:lnTo>
                  <a:pt x="2684" y="35"/>
                </a:lnTo>
                <a:lnTo>
                  <a:pt x="2673" y="33"/>
                </a:lnTo>
                <a:lnTo>
                  <a:pt x="2659" y="33"/>
                </a:lnTo>
                <a:lnTo>
                  <a:pt x="2644" y="31"/>
                </a:lnTo>
                <a:lnTo>
                  <a:pt x="2624" y="31"/>
                </a:lnTo>
                <a:lnTo>
                  <a:pt x="2602" y="29"/>
                </a:lnTo>
                <a:lnTo>
                  <a:pt x="2577" y="28"/>
                </a:lnTo>
                <a:lnTo>
                  <a:pt x="2549" y="28"/>
                </a:lnTo>
                <a:lnTo>
                  <a:pt x="2520" y="26"/>
                </a:lnTo>
                <a:lnTo>
                  <a:pt x="2487" y="24"/>
                </a:lnTo>
                <a:lnTo>
                  <a:pt x="2452" y="22"/>
                </a:lnTo>
                <a:lnTo>
                  <a:pt x="2414" y="21"/>
                </a:lnTo>
                <a:lnTo>
                  <a:pt x="2374" y="19"/>
                </a:lnTo>
                <a:lnTo>
                  <a:pt x="2332" y="17"/>
                </a:lnTo>
                <a:lnTo>
                  <a:pt x="2286" y="15"/>
                </a:lnTo>
                <a:lnTo>
                  <a:pt x="2239" y="15"/>
                </a:lnTo>
                <a:lnTo>
                  <a:pt x="2189" y="14"/>
                </a:lnTo>
                <a:lnTo>
                  <a:pt x="2137" y="12"/>
                </a:lnTo>
                <a:lnTo>
                  <a:pt x="2083" y="10"/>
                </a:lnTo>
                <a:lnTo>
                  <a:pt x="2027" y="8"/>
                </a:lnTo>
                <a:lnTo>
                  <a:pt x="1968" y="7"/>
                </a:lnTo>
                <a:lnTo>
                  <a:pt x="1907" y="7"/>
                </a:lnTo>
                <a:lnTo>
                  <a:pt x="1844" y="5"/>
                </a:lnTo>
                <a:lnTo>
                  <a:pt x="1780" y="3"/>
                </a:lnTo>
                <a:lnTo>
                  <a:pt x="1713" y="3"/>
                </a:lnTo>
                <a:lnTo>
                  <a:pt x="1644" y="1"/>
                </a:lnTo>
                <a:lnTo>
                  <a:pt x="1572" y="1"/>
                </a:lnTo>
                <a:lnTo>
                  <a:pt x="1501" y="0"/>
                </a:lnTo>
                <a:lnTo>
                  <a:pt x="1426" y="0"/>
                </a:lnTo>
                <a:lnTo>
                  <a:pt x="1349" y="0"/>
                </a:lnTo>
                <a:lnTo>
                  <a:pt x="1273" y="0"/>
                </a:lnTo>
                <a:lnTo>
                  <a:pt x="1200" y="0"/>
                </a:lnTo>
                <a:lnTo>
                  <a:pt x="1126" y="1"/>
                </a:lnTo>
                <a:lnTo>
                  <a:pt x="1057" y="1"/>
                </a:lnTo>
                <a:lnTo>
                  <a:pt x="989" y="3"/>
                </a:lnTo>
                <a:lnTo>
                  <a:pt x="923" y="5"/>
                </a:lnTo>
                <a:lnTo>
                  <a:pt x="858" y="7"/>
                </a:lnTo>
                <a:lnTo>
                  <a:pt x="796" y="10"/>
                </a:lnTo>
                <a:lnTo>
                  <a:pt x="736" y="12"/>
                </a:lnTo>
                <a:lnTo>
                  <a:pt x="677" y="15"/>
                </a:lnTo>
                <a:lnTo>
                  <a:pt x="623" y="17"/>
                </a:lnTo>
                <a:lnTo>
                  <a:pt x="569" y="21"/>
                </a:lnTo>
                <a:lnTo>
                  <a:pt x="519" y="24"/>
                </a:lnTo>
                <a:lnTo>
                  <a:pt x="470" y="26"/>
                </a:lnTo>
                <a:lnTo>
                  <a:pt x="423" y="29"/>
                </a:lnTo>
                <a:lnTo>
                  <a:pt x="379" y="33"/>
                </a:lnTo>
                <a:lnTo>
                  <a:pt x="337" y="36"/>
                </a:lnTo>
                <a:lnTo>
                  <a:pt x="297" y="40"/>
                </a:lnTo>
                <a:lnTo>
                  <a:pt x="261" y="43"/>
                </a:lnTo>
                <a:lnTo>
                  <a:pt x="226" y="45"/>
                </a:lnTo>
                <a:lnTo>
                  <a:pt x="195" y="48"/>
                </a:lnTo>
                <a:lnTo>
                  <a:pt x="165" y="52"/>
                </a:lnTo>
                <a:lnTo>
                  <a:pt x="139" y="54"/>
                </a:lnTo>
                <a:lnTo>
                  <a:pt x="114" y="57"/>
                </a:lnTo>
                <a:lnTo>
                  <a:pt x="94" y="59"/>
                </a:lnTo>
                <a:lnTo>
                  <a:pt x="74" y="61"/>
                </a:lnTo>
                <a:lnTo>
                  <a:pt x="59" y="62"/>
                </a:lnTo>
                <a:lnTo>
                  <a:pt x="45" y="64"/>
                </a:lnTo>
                <a:lnTo>
                  <a:pt x="34" y="66"/>
                </a:lnTo>
                <a:lnTo>
                  <a:pt x="27" y="68"/>
                </a:lnTo>
                <a:lnTo>
                  <a:pt x="22" y="68"/>
                </a:lnTo>
                <a:lnTo>
                  <a:pt x="20" y="68"/>
                </a:lnTo>
                <a:lnTo>
                  <a:pt x="0" y="71"/>
                </a:lnTo>
                <a:lnTo>
                  <a:pt x="0" y="92"/>
                </a:lnTo>
                <a:lnTo>
                  <a:pt x="0" y="120"/>
                </a:lnTo>
                <a:lnTo>
                  <a:pt x="1" y="193"/>
                </a:lnTo>
                <a:lnTo>
                  <a:pt x="5" y="305"/>
                </a:lnTo>
                <a:lnTo>
                  <a:pt x="10" y="451"/>
                </a:lnTo>
                <a:lnTo>
                  <a:pt x="19" y="624"/>
                </a:lnTo>
                <a:lnTo>
                  <a:pt x="29" y="817"/>
                </a:lnTo>
                <a:lnTo>
                  <a:pt x="43" y="1024"/>
                </a:lnTo>
                <a:lnTo>
                  <a:pt x="60" y="1241"/>
                </a:lnTo>
                <a:lnTo>
                  <a:pt x="81" y="1455"/>
                </a:lnTo>
                <a:lnTo>
                  <a:pt x="104" y="1661"/>
                </a:lnTo>
                <a:lnTo>
                  <a:pt x="127" y="1850"/>
                </a:lnTo>
                <a:lnTo>
                  <a:pt x="148" y="2020"/>
                </a:lnTo>
                <a:lnTo>
                  <a:pt x="167" y="2162"/>
                </a:lnTo>
                <a:lnTo>
                  <a:pt x="181" y="2271"/>
                </a:lnTo>
                <a:lnTo>
                  <a:pt x="191" y="2342"/>
                </a:lnTo>
                <a:lnTo>
                  <a:pt x="195" y="2368"/>
                </a:lnTo>
                <a:lnTo>
                  <a:pt x="198" y="2387"/>
                </a:lnTo>
                <a:lnTo>
                  <a:pt x="217" y="2389"/>
                </a:lnTo>
                <a:lnTo>
                  <a:pt x="219" y="2389"/>
                </a:lnTo>
                <a:lnTo>
                  <a:pt x="224" y="2391"/>
                </a:lnTo>
                <a:lnTo>
                  <a:pt x="233" y="2391"/>
                </a:lnTo>
                <a:lnTo>
                  <a:pt x="243" y="2392"/>
                </a:lnTo>
                <a:lnTo>
                  <a:pt x="257" y="2392"/>
                </a:lnTo>
                <a:lnTo>
                  <a:pt x="273" y="2394"/>
                </a:lnTo>
                <a:lnTo>
                  <a:pt x="294" y="2396"/>
                </a:lnTo>
                <a:lnTo>
                  <a:pt x="315" y="2398"/>
                </a:lnTo>
                <a:lnTo>
                  <a:pt x="339" y="2399"/>
                </a:lnTo>
                <a:lnTo>
                  <a:pt x="365" y="2403"/>
                </a:lnTo>
                <a:lnTo>
                  <a:pt x="395" y="2405"/>
                </a:lnTo>
                <a:lnTo>
                  <a:pt x="426" y="2406"/>
                </a:lnTo>
                <a:lnTo>
                  <a:pt x="461" y="2408"/>
                </a:lnTo>
                <a:lnTo>
                  <a:pt x="496" y="2412"/>
                </a:lnTo>
                <a:lnTo>
                  <a:pt x="534" y="2413"/>
                </a:lnTo>
                <a:lnTo>
                  <a:pt x="574" y="2415"/>
                </a:lnTo>
                <a:lnTo>
                  <a:pt x="616" y="2419"/>
                </a:lnTo>
                <a:lnTo>
                  <a:pt x="660" y="2420"/>
                </a:lnTo>
                <a:lnTo>
                  <a:pt x="705" y="2422"/>
                </a:lnTo>
                <a:lnTo>
                  <a:pt x="752" y="2426"/>
                </a:lnTo>
                <a:lnTo>
                  <a:pt x="801" y="2427"/>
                </a:lnTo>
                <a:lnTo>
                  <a:pt x="851" y="2429"/>
                </a:lnTo>
                <a:lnTo>
                  <a:pt x="902" y="2431"/>
                </a:lnTo>
                <a:lnTo>
                  <a:pt x="956" y="2433"/>
                </a:lnTo>
                <a:lnTo>
                  <a:pt x="1010" y="2434"/>
                </a:lnTo>
                <a:lnTo>
                  <a:pt x="1065" y="2436"/>
                </a:lnTo>
                <a:lnTo>
                  <a:pt x="1121" y="2436"/>
                </a:lnTo>
                <a:lnTo>
                  <a:pt x="1179" y="2438"/>
                </a:lnTo>
                <a:lnTo>
                  <a:pt x="1238" y="2438"/>
                </a:lnTo>
                <a:lnTo>
                  <a:pt x="1297" y="2438"/>
                </a:lnTo>
                <a:lnTo>
                  <a:pt x="1358" y="2438"/>
                </a:lnTo>
                <a:lnTo>
                  <a:pt x="1419" y="2438"/>
                </a:lnTo>
                <a:lnTo>
                  <a:pt x="1480" y="2438"/>
                </a:lnTo>
                <a:lnTo>
                  <a:pt x="1541" y="2436"/>
                </a:lnTo>
                <a:lnTo>
                  <a:pt x="1600" y="2434"/>
                </a:lnTo>
                <a:lnTo>
                  <a:pt x="1658" y="2433"/>
                </a:lnTo>
                <a:lnTo>
                  <a:pt x="1715" y="2431"/>
                </a:lnTo>
                <a:lnTo>
                  <a:pt x="1771" y="2429"/>
                </a:lnTo>
                <a:lnTo>
                  <a:pt x="1825" y="2427"/>
                </a:lnTo>
                <a:lnTo>
                  <a:pt x="1879" y="2426"/>
                </a:lnTo>
                <a:lnTo>
                  <a:pt x="1929" y="2422"/>
                </a:lnTo>
                <a:lnTo>
                  <a:pt x="1980" y="2420"/>
                </a:lnTo>
                <a:lnTo>
                  <a:pt x="2029" y="2417"/>
                </a:lnTo>
                <a:lnTo>
                  <a:pt x="2076" y="2413"/>
                </a:lnTo>
                <a:lnTo>
                  <a:pt x="2121" y="2412"/>
                </a:lnTo>
                <a:lnTo>
                  <a:pt x="2165" y="2408"/>
                </a:lnTo>
                <a:lnTo>
                  <a:pt x="2206" y="2405"/>
                </a:lnTo>
                <a:lnTo>
                  <a:pt x="2246" y="2401"/>
                </a:lnTo>
                <a:lnTo>
                  <a:pt x="2285" y="2399"/>
                </a:lnTo>
                <a:lnTo>
                  <a:pt x="2321" y="2396"/>
                </a:lnTo>
                <a:lnTo>
                  <a:pt x="2354" y="2392"/>
                </a:lnTo>
                <a:lnTo>
                  <a:pt x="2387" y="2391"/>
                </a:lnTo>
                <a:lnTo>
                  <a:pt x="2417" y="2387"/>
                </a:lnTo>
                <a:lnTo>
                  <a:pt x="2445" y="2384"/>
                </a:lnTo>
                <a:lnTo>
                  <a:pt x="2469" y="2382"/>
                </a:lnTo>
                <a:lnTo>
                  <a:pt x="2492" y="2380"/>
                </a:lnTo>
                <a:lnTo>
                  <a:pt x="2513" y="2377"/>
                </a:lnTo>
                <a:lnTo>
                  <a:pt x="2532" y="2375"/>
                </a:lnTo>
                <a:lnTo>
                  <a:pt x="2546" y="2373"/>
                </a:lnTo>
                <a:lnTo>
                  <a:pt x="2560" y="2373"/>
                </a:lnTo>
                <a:lnTo>
                  <a:pt x="2570" y="2372"/>
                </a:lnTo>
                <a:lnTo>
                  <a:pt x="2577" y="2370"/>
                </a:lnTo>
                <a:lnTo>
                  <a:pt x="2583" y="2370"/>
                </a:lnTo>
                <a:lnTo>
                  <a:pt x="2584" y="2370"/>
                </a:lnTo>
                <a:lnTo>
                  <a:pt x="2603" y="2368"/>
                </a:lnTo>
                <a:lnTo>
                  <a:pt x="2605" y="2349"/>
                </a:lnTo>
                <a:lnTo>
                  <a:pt x="2609" y="2323"/>
                </a:lnTo>
                <a:lnTo>
                  <a:pt x="2617" y="2251"/>
                </a:lnTo>
                <a:lnTo>
                  <a:pt x="2631" y="2140"/>
                </a:lnTo>
                <a:lnTo>
                  <a:pt x="2647" y="1993"/>
                </a:lnTo>
                <a:lnTo>
                  <a:pt x="2666" y="1817"/>
                </a:lnTo>
                <a:lnTo>
                  <a:pt x="2684" y="1619"/>
                </a:lnTo>
                <a:lnTo>
                  <a:pt x="2703" y="1401"/>
                </a:lnTo>
                <a:lnTo>
                  <a:pt x="2718" y="1171"/>
                </a:lnTo>
                <a:lnTo>
                  <a:pt x="2736" y="733"/>
                </a:lnTo>
                <a:lnTo>
                  <a:pt x="2736" y="381"/>
                </a:lnTo>
                <a:lnTo>
                  <a:pt x="2729" y="144"/>
                </a:lnTo>
                <a:lnTo>
                  <a:pt x="2724" y="57"/>
                </a:lnTo>
                <a:lnTo>
                  <a:pt x="272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3365640" y="2928960"/>
            <a:ext cx="900000" cy="1176480"/>
          </a:xfrm>
          <a:custGeom>
            <a:avLst/>
            <a:gdLst/>
            <a:ahLst/>
            <a:rect l="l" t="t" r="r" b="b"/>
            <a:pathLst>
              <a:path w="1134" h="1481">
                <a:moveTo>
                  <a:pt x="89" y="617"/>
                </a:moveTo>
                <a:lnTo>
                  <a:pt x="84" y="612"/>
                </a:lnTo>
                <a:lnTo>
                  <a:pt x="71" y="599"/>
                </a:lnTo>
                <a:lnTo>
                  <a:pt x="54" y="582"/>
                </a:lnTo>
                <a:lnTo>
                  <a:pt x="38" y="561"/>
                </a:lnTo>
                <a:lnTo>
                  <a:pt x="23" y="538"/>
                </a:lnTo>
                <a:lnTo>
                  <a:pt x="14" y="517"/>
                </a:lnTo>
                <a:lnTo>
                  <a:pt x="14" y="497"/>
                </a:lnTo>
                <a:lnTo>
                  <a:pt x="28" y="483"/>
                </a:lnTo>
                <a:lnTo>
                  <a:pt x="49" y="477"/>
                </a:lnTo>
                <a:lnTo>
                  <a:pt x="71" y="486"/>
                </a:lnTo>
                <a:lnTo>
                  <a:pt x="92" y="502"/>
                </a:lnTo>
                <a:lnTo>
                  <a:pt x="111" y="524"/>
                </a:lnTo>
                <a:lnTo>
                  <a:pt x="127" y="547"/>
                </a:lnTo>
                <a:lnTo>
                  <a:pt x="139" y="568"/>
                </a:lnTo>
                <a:lnTo>
                  <a:pt x="148" y="584"/>
                </a:lnTo>
                <a:lnTo>
                  <a:pt x="152" y="589"/>
                </a:lnTo>
                <a:lnTo>
                  <a:pt x="212" y="571"/>
                </a:lnTo>
                <a:lnTo>
                  <a:pt x="153" y="415"/>
                </a:lnTo>
                <a:lnTo>
                  <a:pt x="146" y="411"/>
                </a:lnTo>
                <a:lnTo>
                  <a:pt x="131" y="401"/>
                </a:lnTo>
                <a:lnTo>
                  <a:pt x="108" y="385"/>
                </a:lnTo>
                <a:lnTo>
                  <a:pt x="84" y="366"/>
                </a:lnTo>
                <a:lnTo>
                  <a:pt x="59" y="341"/>
                </a:lnTo>
                <a:lnTo>
                  <a:pt x="38" y="314"/>
                </a:lnTo>
                <a:lnTo>
                  <a:pt x="26" y="284"/>
                </a:lnTo>
                <a:lnTo>
                  <a:pt x="26" y="254"/>
                </a:lnTo>
                <a:lnTo>
                  <a:pt x="35" y="226"/>
                </a:lnTo>
                <a:lnTo>
                  <a:pt x="47" y="205"/>
                </a:lnTo>
                <a:lnTo>
                  <a:pt x="63" y="188"/>
                </a:lnTo>
                <a:lnTo>
                  <a:pt x="78" y="176"/>
                </a:lnTo>
                <a:lnTo>
                  <a:pt x="94" y="169"/>
                </a:lnTo>
                <a:lnTo>
                  <a:pt x="108" y="164"/>
                </a:lnTo>
                <a:lnTo>
                  <a:pt x="117" y="160"/>
                </a:lnTo>
                <a:lnTo>
                  <a:pt x="120" y="160"/>
                </a:lnTo>
                <a:lnTo>
                  <a:pt x="115" y="153"/>
                </a:lnTo>
                <a:lnTo>
                  <a:pt x="101" y="136"/>
                </a:lnTo>
                <a:lnTo>
                  <a:pt x="84" y="111"/>
                </a:lnTo>
                <a:lnTo>
                  <a:pt x="68" y="82"/>
                </a:lnTo>
                <a:lnTo>
                  <a:pt x="56" y="52"/>
                </a:lnTo>
                <a:lnTo>
                  <a:pt x="56" y="28"/>
                </a:lnTo>
                <a:lnTo>
                  <a:pt x="70" y="9"/>
                </a:lnTo>
                <a:lnTo>
                  <a:pt x="101" y="0"/>
                </a:lnTo>
                <a:lnTo>
                  <a:pt x="122" y="0"/>
                </a:lnTo>
                <a:lnTo>
                  <a:pt x="141" y="2"/>
                </a:lnTo>
                <a:lnTo>
                  <a:pt x="159" y="3"/>
                </a:lnTo>
                <a:lnTo>
                  <a:pt x="174" y="7"/>
                </a:lnTo>
                <a:lnTo>
                  <a:pt x="192" y="12"/>
                </a:lnTo>
                <a:lnTo>
                  <a:pt x="207" y="17"/>
                </a:lnTo>
                <a:lnTo>
                  <a:pt x="223" y="24"/>
                </a:lnTo>
                <a:lnTo>
                  <a:pt x="240" y="29"/>
                </a:lnTo>
                <a:lnTo>
                  <a:pt x="260" y="35"/>
                </a:lnTo>
                <a:lnTo>
                  <a:pt x="279" y="40"/>
                </a:lnTo>
                <a:lnTo>
                  <a:pt x="300" y="43"/>
                </a:lnTo>
                <a:lnTo>
                  <a:pt x="324" y="47"/>
                </a:lnTo>
                <a:lnTo>
                  <a:pt x="350" y="49"/>
                </a:lnTo>
                <a:lnTo>
                  <a:pt x="380" y="49"/>
                </a:lnTo>
                <a:lnTo>
                  <a:pt x="413" y="45"/>
                </a:lnTo>
                <a:lnTo>
                  <a:pt x="449" y="42"/>
                </a:lnTo>
                <a:lnTo>
                  <a:pt x="456" y="42"/>
                </a:lnTo>
                <a:lnTo>
                  <a:pt x="465" y="40"/>
                </a:lnTo>
                <a:lnTo>
                  <a:pt x="472" y="38"/>
                </a:lnTo>
                <a:lnTo>
                  <a:pt x="481" y="36"/>
                </a:lnTo>
                <a:lnTo>
                  <a:pt x="488" y="35"/>
                </a:lnTo>
                <a:lnTo>
                  <a:pt x="495" y="33"/>
                </a:lnTo>
                <a:lnTo>
                  <a:pt x="502" y="31"/>
                </a:lnTo>
                <a:lnTo>
                  <a:pt x="509" y="29"/>
                </a:lnTo>
                <a:lnTo>
                  <a:pt x="566" y="61"/>
                </a:lnTo>
                <a:lnTo>
                  <a:pt x="622" y="97"/>
                </a:lnTo>
                <a:lnTo>
                  <a:pt x="676" y="139"/>
                </a:lnTo>
                <a:lnTo>
                  <a:pt x="728" y="183"/>
                </a:lnTo>
                <a:lnTo>
                  <a:pt x="777" y="230"/>
                </a:lnTo>
                <a:lnTo>
                  <a:pt x="822" y="280"/>
                </a:lnTo>
                <a:lnTo>
                  <a:pt x="866" y="331"/>
                </a:lnTo>
                <a:lnTo>
                  <a:pt x="907" y="383"/>
                </a:lnTo>
                <a:lnTo>
                  <a:pt x="946" y="436"/>
                </a:lnTo>
                <a:lnTo>
                  <a:pt x="981" y="488"/>
                </a:lnTo>
                <a:lnTo>
                  <a:pt x="1012" y="540"/>
                </a:lnTo>
                <a:lnTo>
                  <a:pt x="1040" y="591"/>
                </a:lnTo>
                <a:lnTo>
                  <a:pt x="1064" y="639"/>
                </a:lnTo>
                <a:lnTo>
                  <a:pt x="1085" y="685"/>
                </a:lnTo>
                <a:lnTo>
                  <a:pt x="1103" y="727"/>
                </a:lnTo>
                <a:lnTo>
                  <a:pt x="1116" y="765"/>
                </a:lnTo>
                <a:lnTo>
                  <a:pt x="1130" y="817"/>
                </a:lnTo>
                <a:lnTo>
                  <a:pt x="1134" y="850"/>
                </a:lnTo>
                <a:lnTo>
                  <a:pt x="1132" y="868"/>
                </a:lnTo>
                <a:lnTo>
                  <a:pt x="1130" y="875"/>
                </a:lnTo>
                <a:lnTo>
                  <a:pt x="1090" y="894"/>
                </a:lnTo>
                <a:lnTo>
                  <a:pt x="1049" y="906"/>
                </a:lnTo>
                <a:lnTo>
                  <a:pt x="1008" y="911"/>
                </a:lnTo>
                <a:lnTo>
                  <a:pt x="974" y="913"/>
                </a:lnTo>
                <a:lnTo>
                  <a:pt x="941" y="913"/>
                </a:lnTo>
                <a:lnTo>
                  <a:pt x="916" y="910"/>
                </a:lnTo>
                <a:lnTo>
                  <a:pt x="900" y="908"/>
                </a:lnTo>
                <a:lnTo>
                  <a:pt x="894" y="906"/>
                </a:lnTo>
                <a:lnTo>
                  <a:pt x="853" y="896"/>
                </a:lnTo>
                <a:lnTo>
                  <a:pt x="920" y="1141"/>
                </a:lnTo>
                <a:lnTo>
                  <a:pt x="894" y="1147"/>
                </a:lnTo>
                <a:lnTo>
                  <a:pt x="871" y="1152"/>
                </a:lnTo>
                <a:lnTo>
                  <a:pt x="848" y="1155"/>
                </a:lnTo>
                <a:lnTo>
                  <a:pt x="827" y="1157"/>
                </a:lnTo>
                <a:lnTo>
                  <a:pt x="810" y="1159"/>
                </a:lnTo>
                <a:lnTo>
                  <a:pt x="793" y="1157"/>
                </a:lnTo>
                <a:lnTo>
                  <a:pt x="779" y="1155"/>
                </a:lnTo>
                <a:lnTo>
                  <a:pt x="766" y="1152"/>
                </a:lnTo>
                <a:lnTo>
                  <a:pt x="739" y="1138"/>
                </a:lnTo>
                <a:lnTo>
                  <a:pt x="709" y="1119"/>
                </a:lnTo>
                <a:lnTo>
                  <a:pt x="683" y="1098"/>
                </a:lnTo>
                <a:lnTo>
                  <a:pt x="657" y="1075"/>
                </a:lnTo>
                <a:lnTo>
                  <a:pt x="636" y="1054"/>
                </a:lnTo>
                <a:lnTo>
                  <a:pt x="618" y="1037"/>
                </a:lnTo>
                <a:lnTo>
                  <a:pt x="608" y="1026"/>
                </a:lnTo>
                <a:lnTo>
                  <a:pt x="603" y="1021"/>
                </a:lnTo>
                <a:lnTo>
                  <a:pt x="561" y="1042"/>
                </a:lnTo>
                <a:lnTo>
                  <a:pt x="564" y="1058"/>
                </a:lnTo>
                <a:lnTo>
                  <a:pt x="575" y="1091"/>
                </a:lnTo>
                <a:lnTo>
                  <a:pt x="590" y="1136"/>
                </a:lnTo>
                <a:lnTo>
                  <a:pt x="615" y="1188"/>
                </a:lnTo>
                <a:lnTo>
                  <a:pt x="648" y="1242"/>
                </a:lnTo>
                <a:lnTo>
                  <a:pt x="690" y="1289"/>
                </a:lnTo>
                <a:lnTo>
                  <a:pt x="740" y="1326"/>
                </a:lnTo>
                <a:lnTo>
                  <a:pt x="803" y="1347"/>
                </a:lnTo>
                <a:lnTo>
                  <a:pt x="826" y="1350"/>
                </a:lnTo>
                <a:lnTo>
                  <a:pt x="847" y="1352"/>
                </a:lnTo>
                <a:lnTo>
                  <a:pt x="869" y="1354"/>
                </a:lnTo>
                <a:lnTo>
                  <a:pt x="890" y="1354"/>
                </a:lnTo>
                <a:lnTo>
                  <a:pt x="913" y="1354"/>
                </a:lnTo>
                <a:lnTo>
                  <a:pt x="934" y="1352"/>
                </a:lnTo>
                <a:lnTo>
                  <a:pt x="954" y="1350"/>
                </a:lnTo>
                <a:lnTo>
                  <a:pt x="975" y="1349"/>
                </a:lnTo>
                <a:lnTo>
                  <a:pt x="1010" y="1481"/>
                </a:lnTo>
                <a:lnTo>
                  <a:pt x="240" y="1342"/>
                </a:lnTo>
                <a:lnTo>
                  <a:pt x="225" y="1307"/>
                </a:lnTo>
                <a:lnTo>
                  <a:pt x="200" y="1249"/>
                </a:lnTo>
                <a:lnTo>
                  <a:pt x="171" y="1176"/>
                </a:lnTo>
                <a:lnTo>
                  <a:pt x="136" y="1087"/>
                </a:lnTo>
                <a:lnTo>
                  <a:pt x="101" y="986"/>
                </a:lnTo>
                <a:lnTo>
                  <a:pt x="64" y="878"/>
                </a:lnTo>
                <a:lnTo>
                  <a:pt x="30" y="763"/>
                </a:lnTo>
                <a:lnTo>
                  <a:pt x="0" y="645"/>
                </a:lnTo>
                <a:lnTo>
                  <a:pt x="89" y="6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4237200" y="4197240"/>
            <a:ext cx="96840" cy="122400"/>
          </a:xfrm>
          <a:custGeom>
            <a:avLst/>
            <a:gdLst/>
            <a:ahLst/>
            <a:rect l="l" t="t" r="r" b="b"/>
            <a:pathLst>
              <a:path w="122" h="155">
                <a:moveTo>
                  <a:pt x="53" y="155"/>
                </a:moveTo>
                <a:lnTo>
                  <a:pt x="0" y="0"/>
                </a:lnTo>
                <a:lnTo>
                  <a:pt x="122" y="84"/>
                </a:lnTo>
                <a:lnTo>
                  <a:pt x="115" y="93"/>
                </a:lnTo>
                <a:lnTo>
                  <a:pt x="108" y="101"/>
                </a:lnTo>
                <a:lnTo>
                  <a:pt x="100" y="110"/>
                </a:lnTo>
                <a:lnTo>
                  <a:pt x="93" y="119"/>
                </a:lnTo>
                <a:lnTo>
                  <a:pt x="82" y="127"/>
                </a:lnTo>
                <a:lnTo>
                  <a:pt x="73" y="138"/>
                </a:lnTo>
                <a:lnTo>
                  <a:pt x="63" y="147"/>
                </a:lnTo>
                <a:lnTo>
                  <a:pt x="53" y="1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470400" y="4033800"/>
            <a:ext cx="988920" cy="579600"/>
          </a:xfrm>
          <a:custGeom>
            <a:avLst/>
            <a:gdLst/>
            <a:ahLst/>
            <a:rect l="l" t="t" r="r" b="b"/>
            <a:pathLst>
              <a:path w="1246" h="730">
                <a:moveTo>
                  <a:pt x="103" y="0"/>
                </a:moveTo>
                <a:lnTo>
                  <a:pt x="892" y="142"/>
                </a:lnTo>
                <a:lnTo>
                  <a:pt x="978" y="393"/>
                </a:lnTo>
                <a:lnTo>
                  <a:pt x="969" y="400"/>
                </a:lnTo>
                <a:lnTo>
                  <a:pt x="960" y="406"/>
                </a:lnTo>
                <a:lnTo>
                  <a:pt x="951" y="413"/>
                </a:lnTo>
                <a:lnTo>
                  <a:pt x="941" y="420"/>
                </a:lnTo>
                <a:lnTo>
                  <a:pt x="930" y="427"/>
                </a:lnTo>
                <a:lnTo>
                  <a:pt x="920" y="432"/>
                </a:lnTo>
                <a:lnTo>
                  <a:pt x="910" y="439"/>
                </a:lnTo>
                <a:lnTo>
                  <a:pt x="899" y="446"/>
                </a:lnTo>
                <a:lnTo>
                  <a:pt x="856" y="465"/>
                </a:lnTo>
                <a:lnTo>
                  <a:pt x="809" y="474"/>
                </a:lnTo>
                <a:lnTo>
                  <a:pt x="760" y="474"/>
                </a:lnTo>
                <a:lnTo>
                  <a:pt x="708" y="465"/>
                </a:lnTo>
                <a:lnTo>
                  <a:pt x="655" y="451"/>
                </a:lnTo>
                <a:lnTo>
                  <a:pt x="603" y="432"/>
                </a:lnTo>
                <a:lnTo>
                  <a:pt x="551" y="407"/>
                </a:lnTo>
                <a:lnTo>
                  <a:pt x="500" y="381"/>
                </a:lnTo>
                <a:lnTo>
                  <a:pt x="453" y="353"/>
                </a:lnTo>
                <a:lnTo>
                  <a:pt x="408" y="325"/>
                </a:lnTo>
                <a:lnTo>
                  <a:pt x="368" y="298"/>
                </a:lnTo>
                <a:lnTo>
                  <a:pt x="333" y="273"/>
                </a:lnTo>
                <a:lnTo>
                  <a:pt x="305" y="251"/>
                </a:lnTo>
                <a:lnTo>
                  <a:pt x="283" y="233"/>
                </a:lnTo>
                <a:lnTo>
                  <a:pt x="269" y="223"/>
                </a:lnTo>
                <a:lnTo>
                  <a:pt x="263" y="217"/>
                </a:lnTo>
                <a:lnTo>
                  <a:pt x="230" y="256"/>
                </a:lnTo>
                <a:lnTo>
                  <a:pt x="239" y="263"/>
                </a:lnTo>
                <a:lnTo>
                  <a:pt x="255" y="275"/>
                </a:lnTo>
                <a:lnTo>
                  <a:pt x="279" y="296"/>
                </a:lnTo>
                <a:lnTo>
                  <a:pt x="310" y="318"/>
                </a:lnTo>
                <a:lnTo>
                  <a:pt x="349" y="346"/>
                </a:lnTo>
                <a:lnTo>
                  <a:pt x="392" y="374"/>
                </a:lnTo>
                <a:lnTo>
                  <a:pt x="439" y="404"/>
                </a:lnTo>
                <a:lnTo>
                  <a:pt x="490" y="432"/>
                </a:lnTo>
                <a:lnTo>
                  <a:pt x="544" y="460"/>
                </a:lnTo>
                <a:lnTo>
                  <a:pt x="600" y="482"/>
                </a:lnTo>
                <a:lnTo>
                  <a:pt x="655" y="501"/>
                </a:lnTo>
                <a:lnTo>
                  <a:pt x="713" y="515"/>
                </a:lnTo>
                <a:lnTo>
                  <a:pt x="768" y="522"/>
                </a:lnTo>
                <a:lnTo>
                  <a:pt x="822" y="521"/>
                </a:lnTo>
                <a:lnTo>
                  <a:pt x="875" y="510"/>
                </a:lnTo>
                <a:lnTo>
                  <a:pt x="924" y="488"/>
                </a:lnTo>
                <a:lnTo>
                  <a:pt x="991" y="444"/>
                </a:lnTo>
                <a:lnTo>
                  <a:pt x="1047" y="400"/>
                </a:lnTo>
                <a:lnTo>
                  <a:pt x="1091" y="360"/>
                </a:lnTo>
                <a:lnTo>
                  <a:pt x="1127" y="320"/>
                </a:lnTo>
                <a:lnTo>
                  <a:pt x="1153" y="284"/>
                </a:lnTo>
                <a:lnTo>
                  <a:pt x="1173" y="252"/>
                </a:lnTo>
                <a:lnTo>
                  <a:pt x="1185" y="224"/>
                </a:lnTo>
                <a:lnTo>
                  <a:pt x="1193" y="203"/>
                </a:lnTo>
                <a:lnTo>
                  <a:pt x="1246" y="203"/>
                </a:lnTo>
                <a:lnTo>
                  <a:pt x="1239" y="247"/>
                </a:lnTo>
                <a:lnTo>
                  <a:pt x="1225" y="306"/>
                </a:lnTo>
                <a:lnTo>
                  <a:pt x="1207" y="374"/>
                </a:lnTo>
                <a:lnTo>
                  <a:pt x="1181" y="446"/>
                </a:lnTo>
                <a:lnTo>
                  <a:pt x="1146" y="519"/>
                </a:lnTo>
                <a:lnTo>
                  <a:pt x="1103" y="583"/>
                </a:lnTo>
                <a:lnTo>
                  <a:pt x="1049" y="637"/>
                </a:lnTo>
                <a:lnTo>
                  <a:pt x="984" y="674"/>
                </a:lnTo>
                <a:lnTo>
                  <a:pt x="941" y="688"/>
                </a:lnTo>
                <a:lnTo>
                  <a:pt x="899" y="700"/>
                </a:lnTo>
                <a:lnTo>
                  <a:pt x="856" y="709"/>
                </a:lnTo>
                <a:lnTo>
                  <a:pt x="814" y="716"/>
                </a:lnTo>
                <a:lnTo>
                  <a:pt x="772" y="721"/>
                </a:lnTo>
                <a:lnTo>
                  <a:pt x="732" y="723"/>
                </a:lnTo>
                <a:lnTo>
                  <a:pt x="694" y="723"/>
                </a:lnTo>
                <a:lnTo>
                  <a:pt x="659" y="723"/>
                </a:lnTo>
                <a:lnTo>
                  <a:pt x="624" y="721"/>
                </a:lnTo>
                <a:lnTo>
                  <a:pt x="594" y="719"/>
                </a:lnTo>
                <a:lnTo>
                  <a:pt x="566" y="716"/>
                </a:lnTo>
                <a:lnTo>
                  <a:pt x="544" y="714"/>
                </a:lnTo>
                <a:lnTo>
                  <a:pt x="525" y="711"/>
                </a:lnTo>
                <a:lnTo>
                  <a:pt x="511" y="709"/>
                </a:lnTo>
                <a:lnTo>
                  <a:pt x="502" y="707"/>
                </a:lnTo>
                <a:lnTo>
                  <a:pt x="499" y="705"/>
                </a:lnTo>
                <a:lnTo>
                  <a:pt x="493" y="730"/>
                </a:lnTo>
                <a:lnTo>
                  <a:pt x="457" y="728"/>
                </a:lnTo>
                <a:lnTo>
                  <a:pt x="420" y="726"/>
                </a:lnTo>
                <a:lnTo>
                  <a:pt x="385" y="726"/>
                </a:lnTo>
                <a:lnTo>
                  <a:pt x="350" y="725"/>
                </a:lnTo>
                <a:lnTo>
                  <a:pt x="317" y="723"/>
                </a:lnTo>
                <a:lnTo>
                  <a:pt x="284" y="721"/>
                </a:lnTo>
                <a:lnTo>
                  <a:pt x="251" y="719"/>
                </a:lnTo>
                <a:lnTo>
                  <a:pt x="220" y="718"/>
                </a:lnTo>
                <a:lnTo>
                  <a:pt x="190" y="716"/>
                </a:lnTo>
                <a:lnTo>
                  <a:pt x="159" y="716"/>
                </a:lnTo>
                <a:lnTo>
                  <a:pt x="131" y="714"/>
                </a:lnTo>
                <a:lnTo>
                  <a:pt x="103" y="712"/>
                </a:lnTo>
                <a:lnTo>
                  <a:pt x="75" y="711"/>
                </a:lnTo>
                <a:lnTo>
                  <a:pt x="49" y="709"/>
                </a:lnTo>
                <a:lnTo>
                  <a:pt x="25" y="707"/>
                </a:lnTo>
                <a:lnTo>
                  <a:pt x="0" y="705"/>
                </a:lnTo>
                <a:lnTo>
                  <a:pt x="0" y="439"/>
                </a:lnTo>
                <a:lnTo>
                  <a:pt x="4" y="357"/>
                </a:lnTo>
                <a:lnTo>
                  <a:pt x="13" y="282"/>
                </a:lnTo>
                <a:lnTo>
                  <a:pt x="27" y="214"/>
                </a:lnTo>
                <a:lnTo>
                  <a:pt x="42" y="153"/>
                </a:lnTo>
                <a:lnTo>
                  <a:pt x="60" y="101"/>
                </a:lnTo>
                <a:lnTo>
                  <a:pt x="77" y="57"/>
                </a:lnTo>
                <a:lnTo>
                  <a:pt x="91" y="24"/>
                </a:lnTo>
                <a:lnTo>
                  <a:pt x="10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4340160" y="3849840"/>
            <a:ext cx="306360" cy="306360"/>
          </a:xfrm>
          <a:custGeom>
            <a:avLst/>
            <a:gdLst/>
            <a:ahLst/>
            <a:rect l="l" t="t" r="r" b="b"/>
            <a:pathLst>
              <a:path w="387" h="387">
                <a:moveTo>
                  <a:pt x="2" y="132"/>
                </a:moveTo>
                <a:lnTo>
                  <a:pt x="0" y="127"/>
                </a:lnTo>
                <a:lnTo>
                  <a:pt x="0" y="122"/>
                </a:lnTo>
                <a:lnTo>
                  <a:pt x="0" y="117"/>
                </a:lnTo>
                <a:lnTo>
                  <a:pt x="0" y="111"/>
                </a:lnTo>
                <a:lnTo>
                  <a:pt x="3" y="113"/>
                </a:lnTo>
                <a:lnTo>
                  <a:pt x="7" y="115"/>
                </a:lnTo>
                <a:lnTo>
                  <a:pt x="10" y="117"/>
                </a:lnTo>
                <a:lnTo>
                  <a:pt x="14" y="118"/>
                </a:lnTo>
                <a:lnTo>
                  <a:pt x="30" y="132"/>
                </a:lnTo>
                <a:lnTo>
                  <a:pt x="42" y="153"/>
                </a:lnTo>
                <a:lnTo>
                  <a:pt x="54" y="179"/>
                </a:lnTo>
                <a:lnTo>
                  <a:pt x="63" y="207"/>
                </a:lnTo>
                <a:lnTo>
                  <a:pt x="70" y="226"/>
                </a:lnTo>
                <a:lnTo>
                  <a:pt x="77" y="244"/>
                </a:lnTo>
                <a:lnTo>
                  <a:pt x="85" y="261"/>
                </a:lnTo>
                <a:lnTo>
                  <a:pt x="96" y="277"/>
                </a:lnTo>
                <a:lnTo>
                  <a:pt x="106" y="289"/>
                </a:lnTo>
                <a:lnTo>
                  <a:pt x="120" y="298"/>
                </a:lnTo>
                <a:lnTo>
                  <a:pt x="136" y="301"/>
                </a:lnTo>
                <a:lnTo>
                  <a:pt x="155" y="298"/>
                </a:lnTo>
                <a:lnTo>
                  <a:pt x="171" y="291"/>
                </a:lnTo>
                <a:lnTo>
                  <a:pt x="183" y="279"/>
                </a:lnTo>
                <a:lnTo>
                  <a:pt x="195" y="263"/>
                </a:lnTo>
                <a:lnTo>
                  <a:pt x="205" y="244"/>
                </a:lnTo>
                <a:lnTo>
                  <a:pt x="214" y="223"/>
                </a:lnTo>
                <a:lnTo>
                  <a:pt x="223" y="198"/>
                </a:lnTo>
                <a:lnTo>
                  <a:pt x="232" y="172"/>
                </a:lnTo>
                <a:lnTo>
                  <a:pt x="240" y="144"/>
                </a:lnTo>
                <a:lnTo>
                  <a:pt x="246" y="125"/>
                </a:lnTo>
                <a:lnTo>
                  <a:pt x="253" y="104"/>
                </a:lnTo>
                <a:lnTo>
                  <a:pt x="259" y="85"/>
                </a:lnTo>
                <a:lnTo>
                  <a:pt x="266" y="64"/>
                </a:lnTo>
                <a:lnTo>
                  <a:pt x="273" y="47"/>
                </a:lnTo>
                <a:lnTo>
                  <a:pt x="282" y="31"/>
                </a:lnTo>
                <a:lnTo>
                  <a:pt x="289" y="21"/>
                </a:lnTo>
                <a:lnTo>
                  <a:pt x="298" y="15"/>
                </a:lnTo>
                <a:lnTo>
                  <a:pt x="319" y="8"/>
                </a:lnTo>
                <a:lnTo>
                  <a:pt x="336" y="5"/>
                </a:lnTo>
                <a:lnTo>
                  <a:pt x="352" y="2"/>
                </a:lnTo>
                <a:lnTo>
                  <a:pt x="364" y="0"/>
                </a:lnTo>
                <a:lnTo>
                  <a:pt x="373" y="0"/>
                </a:lnTo>
                <a:lnTo>
                  <a:pt x="380" y="0"/>
                </a:lnTo>
                <a:lnTo>
                  <a:pt x="383" y="2"/>
                </a:lnTo>
                <a:lnTo>
                  <a:pt x="387" y="2"/>
                </a:lnTo>
                <a:lnTo>
                  <a:pt x="385" y="7"/>
                </a:lnTo>
                <a:lnTo>
                  <a:pt x="381" y="15"/>
                </a:lnTo>
                <a:lnTo>
                  <a:pt x="374" y="28"/>
                </a:lnTo>
                <a:lnTo>
                  <a:pt x="362" y="43"/>
                </a:lnTo>
                <a:lnTo>
                  <a:pt x="343" y="71"/>
                </a:lnTo>
                <a:lnTo>
                  <a:pt x="327" y="101"/>
                </a:lnTo>
                <a:lnTo>
                  <a:pt x="313" y="129"/>
                </a:lnTo>
                <a:lnTo>
                  <a:pt x="305" y="157"/>
                </a:lnTo>
                <a:lnTo>
                  <a:pt x="296" y="186"/>
                </a:lnTo>
                <a:lnTo>
                  <a:pt x="291" y="212"/>
                </a:lnTo>
                <a:lnTo>
                  <a:pt x="287" y="240"/>
                </a:lnTo>
                <a:lnTo>
                  <a:pt x="284" y="266"/>
                </a:lnTo>
                <a:lnTo>
                  <a:pt x="280" y="280"/>
                </a:lnTo>
                <a:lnTo>
                  <a:pt x="272" y="294"/>
                </a:lnTo>
                <a:lnTo>
                  <a:pt x="259" y="310"/>
                </a:lnTo>
                <a:lnTo>
                  <a:pt x="244" y="327"/>
                </a:lnTo>
                <a:lnTo>
                  <a:pt x="226" y="343"/>
                </a:lnTo>
                <a:lnTo>
                  <a:pt x="207" y="359"/>
                </a:lnTo>
                <a:lnTo>
                  <a:pt x="188" y="374"/>
                </a:lnTo>
                <a:lnTo>
                  <a:pt x="169" y="387"/>
                </a:lnTo>
                <a:lnTo>
                  <a:pt x="91" y="387"/>
                </a:lnTo>
                <a:lnTo>
                  <a:pt x="77" y="369"/>
                </a:lnTo>
                <a:lnTo>
                  <a:pt x="63" y="350"/>
                </a:lnTo>
                <a:lnTo>
                  <a:pt x="47" y="326"/>
                </a:lnTo>
                <a:lnTo>
                  <a:pt x="31" y="301"/>
                </a:lnTo>
                <a:lnTo>
                  <a:pt x="19" y="275"/>
                </a:lnTo>
                <a:lnTo>
                  <a:pt x="9" y="247"/>
                </a:lnTo>
                <a:lnTo>
                  <a:pt x="2" y="221"/>
                </a:lnTo>
                <a:lnTo>
                  <a:pt x="0" y="197"/>
                </a:lnTo>
                <a:lnTo>
                  <a:pt x="2" y="178"/>
                </a:lnTo>
                <a:lnTo>
                  <a:pt x="2" y="162"/>
                </a:lnTo>
                <a:lnTo>
                  <a:pt x="2" y="146"/>
                </a:lnTo>
                <a:lnTo>
                  <a:pt x="2" y="1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4419720" y="3716280"/>
            <a:ext cx="68040" cy="247680"/>
          </a:xfrm>
          <a:custGeom>
            <a:avLst/>
            <a:gdLst/>
            <a:ahLst/>
            <a:rect l="l" t="t" r="r" b="b"/>
            <a:pathLst>
              <a:path w="85" h="312">
                <a:moveTo>
                  <a:pt x="19" y="0"/>
                </a:moveTo>
                <a:lnTo>
                  <a:pt x="66" y="0"/>
                </a:lnTo>
                <a:lnTo>
                  <a:pt x="73" y="2"/>
                </a:lnTo>
                <a:lnTo>
                  <a:pt x="80" y="6"/>
                </a:lnTo>
                <a:lnTo>
                  <a:pt x="84" y="13"/>
                </a:lnTo>
                <a:lnTo>
                  <a:pt x="85" y="20"/>
                </a:lnTo>
                <a:lnTo>
                  <a:pt x="85" y="293"/>
                </a:lnTo>
                <a:lnTo>
                  <a:pt x="84" y="300"/>
                </a:lnTo>
                <a:lnTo>
                  <a:pt x="80" y="307"/>
                </a:lnTo>
                <a:lnTo>
                  <a:pt x="73" y="311"/>
                </a:lnTo>
                <a:lnTo>
                  <a:pt x="66" y="312"/>
                </a:lnTo>
                <a:lnTo>
                  <a:pt x="19" y="312"/>
                </a:lnTo>
                <a:lnTo>
                  <a:pt x="12" y="311"/>
                </a:lnTo>
                <a:lnTo>
                  <a:pt x="5" y="307"/>
                </a:lnTo>
                <a:lnTo>
                  <a:pt x="2" y="300"/>
                </a:lnTo>
                <a:lnTo>
                  <a:pt x="0" y="293"/>
                </a:lnTo>
                <a:lnTo>
                  <a:pt x="0" y="20"/>
                </a:lnTo>
                <a:lnTo>
                  <a:pt x="2" y="13"/>
                </a:lnTo>
                <a:lnTo>
                  <a:pt x="5" y="6"/>
                </a:lnTo>
                <a:lnTo>
                  <a:pt x="12" y="2"/>
                </a:lnTo>
                <a:lnTo>
                  <a:pt x="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429080" y="4003560"/>
            <a:ext cx="47520" cy="44640"/>
          </a:xfrm>
          <a:custGeom>
            <a:avLst/>
            <a:gdLst/>
            <a:ahLst/>
            <a:rect l="l" t="t" r="r" b="b"/>
            <a:pathLst>
              <a:path w="61" h="58">
                <a:moveTo>
                  <a:pt x="61" y="0"/>
                </a:moveTo>
                <a:lnTo>
                  <a:pt x="54" y="21"/>
                </a:lnTo>
                <a:lnTo>
                  <a:pt x="46" y="39"/>
                </a:lnTo>
                <a:lnTo>
                  <a:pt x="39" y="53"/>
                </a:lnTo>
                <a:lnTo>
                  <a:pt x="30" y="58"/>
                </a:lnTo>
                <a:lnTo>
                  <a:pt x="23" y="54"/>
                </a:lnTo>
                <a:lnTo>
                  <a:pt x="16" y="40"/>
                </a:lnTo>
                <a:lnTo>
                  <a:pt x="7" y="21"/>
                </a:lnTo>
                <a:lnTo>
                  <a:pt x="0" y="0"/>
                </a:lnTo>
                <a:lnTo>
                  <a:pt x="2" y="2"/>
                </a:lnTo>
                <a:lnTo>
                  <a:pt x="4" y="2"/>
                </a:lnTo>
                <a:lnTo>
                  <a:pt x="7" y="2"/>
                </a:lnTo>
                <a:lnTo>
                  <a:pt x="9" y="2"/>
                </a:lnTo>
                <a:lnTo>
                  <a:pt x="56" y="2"/>
                </a:lnTo>
                <a:lnTo>
                  <a:pt x="58" y="2"/>
                </a:lnTo>
                <a:lnTo>
                  <a:pt x="60" y="2"/>
                </a:lnTo>
                <a:lnTo>
                  <a:pt x="60" y="2"/>
                </a:lnTo>
                <a:lnTo>
                  <a:pt x="61" y="0"/>
                </a:lnTo>
                <a:close/>
              </a:path>
            </a:pathLst>
          </a:custGeom>
          <a:solidFill>
            <a:srgbClr val="bcff23"/>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62" name=""/>
          <p:cNvSpPr/>
          <p:nvPr/>
        </p:nvSpPr>
        <p:spPr>
          <a:xfrm>
            <a:off x="4729320" y="3946680"/>
            <a:ext cx="201600" cy="241200"/>
          </a:xfrm>
          <a:custGeom>
            <a:avLst/>
            <a:gdLst/>
            <a:ahLst/>
            <a:rect l="l" t="t" r="r" b="b"/>
            <a:pathLst>
              <a:path w="255" h="305">
                <a:moveTo>
                  <a:pt x="35" y="22"/>
                </a:moveTo>
                <a:lnTo>
                  <a:pt x="72" y="12"/>
                </a:lnTo>
                <a:lnTo>
                  <a:pt x="107" y="5"/>
                </a:lnTo>
                <a:lnTo>
                  <a:pt x="140" y="2"/>
                </a:lnTo>
                <a:lnTo>
                  <a:pt x="171" y="0"/>
                </a:lnTo>
                <a:lnTo>
                  <a:pt x="199" y="0"/>
                </a:lnTo>
                <a:lnTo>
                  <a:pt x="222" y="2"/>
                </a:lnTo>
                <a:lnTo>
                  <a:pt x="241" y="5"/>
                </a:lnTo>
                <a:lnTo>
                  <a:pt x="255" y="8"/>
                </a:lnTo>
                <a:lnTo>
                  <a:pt x="236" y="22"/>
                </a:lnTo>
                <a:lnTo>
                  <a:pt x="215" y="35"/>
                </a:lnTo>
                <a:lnTo>
                  <a:pt x="192" y="45"/>
                </a:lnTo>
                <a:lnTo>
                  <a:pt x="169" y="52"/>
                </a:lnTo>
                <a:lnTo>
                  <a:pt x="148" y="59"/>
                </a:lnTo>
                <a:lnTo>
                  <a:pt x="131" y="63"/>
                </a:lnTo>
                <a:lnTo>
                  <a:pt x="121" y="66"/>
                </a:lnTo>
                <a:lnTo>
                  <a:pt x="115" y="66"/>
                </a:lnTo>
                <a:lnTo>
                  <a:pt x="93" y="71"/>
                </a:lnTo>
                <a:lnTo>
                  <a:pt x="121" y="242"/>
                </a:lnTo>
                <a:lnTo>
                  <a:pt x="162" y="235"/>
                </a:lnTo>
                <a:lnTo>
                  <a:pt x="216" y="258"/>
                </a:lnTo>
                <a:lnTo>
                  <a:pt x="159" y="305"/>
                </a:lnTo>
                <a:lnTo>
                  <a:pt x="75" y="279"/>
                </a:lnTo>
                <a:lnTo>
                  <a:pt x="63" y="258"/>
                </a:lnTo>
                <a:lnTo>
                  <a:pt x="47" y="230"/>
                </a:lnTo>
                <a:lnTo>
                  <a:pt x="33" y="200"/>
                </a:lnTo>
                <a:lnTo>
                  <a:pt x="20" y="169"/>
                </a:lnTo>
                <a:lnTo>
                  <a:pt x="9" y="136"/>
                </a:lnTo>
                <a:lnTo>
                  <a:pt x="2" y="104"/>
                </a:lnTo>
                <a:lnTo>
                  <a:pt x="0" y="75"/>
                </a:lnTo>
                <a:lnTo>
                  <a:pt x="4" y="50"/>
                </a:lnTo>
                <a:lnTo>
                  <a:pt x="9" y="42"/>
                </a:lnTo>
                <a:lnTo>
                  <a:pt x="16" y="33"/>
                </a:lnTo>
                <a:lnTo>
                  <a:pt x="25" y="28"/>
                </a:lnTo>
                <a:lnTo>
                  <a:pt x="35"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406760" y="4210200"/>
            <a:ext cx="430200" cy="271440"/>
          </a:xfrm>
          <a:custGeom>
            <a:avLst/>
            <a:gdLst/>
            <a:ahLst/>
            <a:rect l="l" t="t" r="r" b="b"/>
            <a:pathLst>
              <a:path w="541" h="341">
                <a:moveTo>
                  <a:pt x="484" y="0"/>
                </a:moveTo>
                <a:lnTo>
                  <a:pt x="541" y="15"/>
                </a:lnTo>
                <a:lnTo>
                  <a:pt x="534" y="45"/>
                </a:lnTo>
                <a:lnTo>
                  <a:pt x="522" y="83"/>
                </a:lnTo>
                <a:lnTo>
                  <a:pt x="505" y="129"/>
                </a:lnTo>
                <a:lnTo>
                  <a:pt x="480" y="174"/>
                </a:lnTo>
                <a:lnTo>
                  <a:pt x="451" y="219"/>
                </a:lnTo>
                <a:lnTo>
                  <a:pt x="411" y="261"/>
                </a:lnTo>
                <a:lnTo>
                  <a:pt x="362" y="292"/>
                </a:lnTo>
                <a:lnTo>
                  <a:pt x="304" y="313"/>
                </a:lnTo>
                <a:lnTo>
                  <a:pt x="276" y="319"/>
                </a:lnTo>
                <a:lnTo>
                  <a:pt x="250" y="324"/>
                </a:lnTo>
                <a:lnTo>
                  <a:pt x="226" y="329"/>
                </a:lnTo>
                <a:lnTo>
                  <a:pt x="202" y="333"/>
                </a:lnTo>
                <a:lnTo>
                  <a:pt x="179" y="334"/>
                </a:lnTo>
                <a:lnTo>
                  <a:pt x="156" y="338"/>
                </a:lnTo>
                <a:lnTo>
                  <a:pt x="135" y="339"/>
                </a:lnTo>
                <a:lnTo>
                  <a:pt x="116" y="339"/>
                </a:lnTo>
                <a:lnTo>
                  <a:pt x="97" y="341"/>
                </a:lnTo>
                <a:lnTo>
                  <a:pt x="80" y="341"/>
                </a:lnTo>
                <a:lnTo>
                  <a:pt x="62" y="341"/>
                </a:lnTo>
                <a:lnTo>
                  <a:pt x="48" y="341"/>
                </a:lnTo>
                <a:lnTo>
                  <a:pt x="34" y="339"/>
                </a:lnTo>
                <a:lnTo>
                  <a:pt x="20" y="339"/>
                </a:lnTo>
                <a:lnTo>
                  <a:pt x="10" y="339"/>
                </a:lnTo>
                <a:lnTo>
                  <a:pt x="0" y="338"/>
                </a:lnTo>
                <a:lnTo>
                  <a:pt x="12" y="315"/>
                </a:lnTo>
                <a:lnTo>
                  <a:pt x="24" y="292"/>
                </a:lnTo>
                <a:lnTo>
                  <a:pt x="34" y="268"/>
                </a:lnTo>
                <a:lnTo>
                  <a:pt x="45" y="244"/>
                </a:lnTo>
                <a:lnTo>
                  <a:pt x="55" y="221"/>
                </a:lnTo>
                <a:lnTo>
                  <a:pt x="64" y="197"/>
                </a:lnTo>
                <a:lnTo>
                  <a:pt x="71" y="174"/>
                </a:lnTo>
                <a:lnTo>
                  <a:pt x="78" y="151"/>
                </a:lnTo>
                <a:lnTo>
                  <a:pt x="88" y="153"/>
                </a:lnTo>
                <a:lnTo>
                  <a:pt x="99" y="156"/>
                </a:lnTo>
                <a:lnTo>
                  <a:pt x="113" y="160"/>
                </a:lnTo>
                <a:lnTo>
                  <a:pt x="127" y="162"/>
                </a:lnTo>
                <a:lnTo>
                  <a:pt x="142" y="165"/>
                </a:lnTo>
                <a:lnTo>
                  <a:pt x="160" y="167"/>
                </a:lnTo>
                <a:lnTo>
                  <a:pt x="177" y="169"/>
                </a:lnTo>
                <a:lnTo>
                  <a:pt x="196" y="170"/>
                </a:lnTo>
                <a:lnTo>
                  <a:pt x="216" y="172"/>
                </a:lnTo>
                <a:lnTo>
                  <a:pt x="236" y="170"/>
                </a:lnTo>
                <a:lnTo>
                  <a:pt x="256" y="170"/>
                </a:lnTo>
                <a:lnTo>
                  <a:pt x="276" y="167"/>
                </a:lnTo>
                <a:lnTo>
                  <a:pt x="297" y="163"/>
                </a:lnTo>
                <a:lnTo>
                  <a:pt x="317" y="158"/>
                </a:lnTo>
                <a:lnTo>
                  <a:pt x="337" y="153"/>
                </a:lnTo>
                <a:lnTo>
                  <a:pt x="357" y="144"/>
                </a:lnTo>
                <a:lnTo>
                  <a:pt x="388" y="127"/>
                </a:lnTo>
                <a:lnTo>
                  <a:pt x="412" y="109"/>
                </a:lnTo>
                <a:lnTo>
                  <a:pt x="433" y="90"/>
                </a:lnTo>
                <a:lnTo>
                  <a:pt x="451" y="71"/>
                </a:lnTo>
                <a:lnTo>
                  <a:pt x="463" y="52"/>
                </a:lnTo>
                <a:lnTo>
                  <a:pt x="473" y="33"/>
                </a:lnTo>
                <a:lnTo>
                  <a:pt x="480" y="15"/>
                </a:lnTo>
                <a:lnTo>
                  <a:pt x="48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232160" y="4584600"/>
            <a:ext cx="81000" cy="33480"/>
          </a:xfrm>
          <a:custGeom>
            <a:avLst/>
            <a:gdLst/>
            <a:ahLst/>
            <a:rect l="l" t="t" r="r" b="b"/>
            <a:pathLst>
              <a:path w="101" h="40">
                <a:moveTo>
                  <a:pt x="0" y="40"/>
                </a:moveTo>
                <a:lnTo>
                  <a:pt x="11" y="37"/>
                </a:lnTo>
                <a:lnTo>
                  <a:pt x="21" y="33"/>
                </a:lnTo>
                <a:lnTo>
                  <a:pt x="31" y="30"/>
                </a:lnTo>
                <a:lnTo>
                  <a:pt x="42" y="26"/>
                </a:lnTo>
                <a:lnTo>
                  <a:pt x="54" y="21"/>
                </a:lnTo>
                <a:lnTo>
                  <a:pt x="68" y="14"/>
                </a:lnTo>
                <a:lnTo>
                  <a:pt x="80" y="7"/>
                </a:lnTo>
                <a:lnTo>
                  <a:pt x="92" y="0"/>
                </a:lnTo>
                <a:lnTo>
                  <a:pt x="101" y="38"/>
                </a:lnTo>
                <a:lnTo>
                  <a:pt x="78" y="38"/>
                </a:lnTo>
                <a:lnTo>
                  <a:pt x="59" y="40"/>
                </a:lnTo>
                <a:lnTo>
                  <a:pt x="42" y="40"/>
                </a:lnTo>
                <a:lnTo>
                  <a:pt x="28" y="40"/>
                </a:lnTo>
                <a:lnTo>
                  <a:pt x="18" y="40"/>
                </a:lnTo>
                <a:lnTo>
                  <a:pt x="9" y="40"/>
                </a:lnTo>
                <a:lnTo>
                  <a:pt x="4" y="40"/>
                </a:lnTo>
                <a:lnTo>
                  <a:pt x="0" y="40"/>
                </a:lnTo>
                <a:close/>
              </a:path>
            </a:pathLst>
          </a:custGeom>
          <a:solidFill>
            <a:srgbClr val="bcff2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65" name=""/>
          <p:cNvSpPr/>
          <p:nvPr/>
        </p:nvSpPr>
        <p:spPr>
          <a:xfrm>
            <a:off x="3151080" y="2759040"/>
            <a:ext cx="2094120" cy="1857240"/>
          </a:xfrm>
          <a:custGeom>
            <a:avLst/>
            <a:gdLst/>
            <a:ahLst/>
            <a:rect l="l" t="t" r="r" b="b"/>
            <a:pathLst>
              <a:path w="2639" h="2339">
                <a:moveTo>
                  <a:pt x="2620" y="1121"/>
                </a:moveTo>
                <a:lnTo>
                  <a:pt x="2606" y="1327"/>
                </a:lnTo>
                <a:lnTo>
                  <a:pt x="2588" y="1522"/>
                </a:lnTo>
                <a:lnTo>
                  <a:pt x="2573" y="1705"/>
                </a:lnTo>
                <a:lnTo>
                  <a:pt x="2555" y="1869"/>
                </a:lnTo>
                <a:lnTo>
                  <a:pt x="2540" y="2012"/>
                </a:lnTo>
                <a:lnTo>
                  <a:pt x="2527" y="2130"/>
                </a:lnTo>
                <a:lnTo>
                  <a:pt x="2517" y="2219"/>
                </a:lnTo>
                <a:lnTo>
                  <a:pt x="2510" y="2275"/>
                </a:lnTo>
                <a:lnTo>
                  <a:pt x="2489" y="2277"/>
                </a:lnTo>
                <a:lnTo>
                  <a:pt x="2463" y="2280"/>
                </a:lnTo>
                <a:lnTo>
                  <a:pt x="2430" y="2283"/>
                </a:lnTo>
                <a:lnTo>
                  <a:pt x="2390" y="2287"/>
                </a:lnTo>
                <a:lnTo>
                  <a:pt x="2343" y="2292"/>
                </a:lnTo>
                <a:lnTo>
                  <a:pt x="2292" y="2297"/>
                </a:lnTo>
                <a:lnTo>
                  <a:pt x="2235" y="2303"/>
                </a:lnTo>
                <a:lnTo>
                  <a:pt x="2172" y="2306"/>
                </a:lnTo>
                <a:lnTo>
                  <a:pt x="2104" y="2311"/>
                </a:lnTo>
                <a:lnTo>
                  <a:pt x="2033" y="2317"/>
                </a:lnTo>
                <a:lnTo>
                  <a:pt x="1956" y="2322"/>
                </a:lnTo>
                <a:lnTo>
                  <a:pt x="1876" y="2327"/>
                </a:lnTo>
                <a:lnTo>
                  <a:pt x="1791" y="2331"/>
                </a:lnTo>
                <a:lnTo>
                  <a:pt x="1702" y="2334"/>
                </a:lnTo>
                <a:lnTo>
                  <a:pt x="1609" y="2338"/>
                </a:lnTo>
                <a:lnTo>
                  <a:pt x="1515" y="2339"/>
                </a:lnTo>
                <a:lnTo>
                  <a:pt x="1496" y="2270"/>
                </a:lnTo>
                <a:lnTo>
                  <a:pt x="1503" y="2263"/>
                </a:lnTo>
                <a:lnTo>
                  <a:pt x="1510" y="2256"/>
                </a:lnTo>
                <a:lnTo>
                  <a:pt x="1517" y="2249"/>
                </a:lnTo>
                <a:lnTo>
                  <a:pt x="1524" y="2242"/>
                </a:lnTo>
                <a:lnTo>
                  <a:pt x="1531" y="2235"/>
                </a:lnTo>
                <a:lnTo>
                  <a:pt x="1536" y="2228"/>
                </a:lnTo>
                <a:lnTo>
                  <a:pt x="1543" y="2219"/>
                </a:lnTo>
                <a:lnTo>
                  <a:pt x="1550" y="2212"/>
                </a:lnTo>
                <a:lnTo>
                  <a:pt x="1559" y="2214"/>
                </a:lnTo>
                <a:lnTo>
                  <a:pt x="1569" y="2216"/>
                </a:lnTo>
                <a:lnTo>
                  <a:pt x="1582" y="2216"/>
                </a:lnTo>
                <a:lnTo>
                  <a:pt x="1595" y="2217"/>
                </a:lnTo>
                <a:lnTo>
                  <a:pt x="1611" y="2219"/>
                </a:lnTo>
                <a:lnTo>
                  <a:pt x="1629" y="2219"/>
                </a:lnTo>
                <a:lnTo>
                  <a:pt x="1648" y="2219"/>
                </a:lnTo>
                <a:lnTo>
                  <a:pt x="1669" y="2219"/>
                </a:lnTo>
                <a:lnTo>
                  <a:pt x="1691" y="2219"/>
                </a:lnTo>
                <a:lnTo>
                  <a:pt x="1717" y="2217"/>
                </a:lnTo>
                <a:lnTo>
                  <a:pt x="1744" y="2216"/>
                </a:lnTo>
                <a:lnTo>
                  <a:pt x="1770" y="2212"/>
                </a:lnTo>
                <a:lnTo>
                  <a:pt x="1799" y="2209"/>
                </a:lnTo>
                <a:lnTo>
                  <a:pt x="1831" y="2203"/>
                </a:lnTo>
                <a:lnTo>
                  <a:pt x="1864" y="2198"/>
                </a:lnTo>
                <a:lnTo>
                  <a:pt x="1897" y="2191"/>
                </a:lnTo>
                <a:lnTo>
                  <a:pt x="1970" y="2165"/>
                </a:lnTo>
                <a:lnTo>
                  <a:pt x="2029" y="2123"/>
                </a:lnTo>
                <a:lnTo>
                  <a:pt x="2076" y="2073"/>
                </a:lnTo>
                <a:lnTo>
                  <a:pt x="2113" y="2019"/>
                </a:lnTo>
                <a:lnTo>
                  <a:pt x="2139" y="1963"/>
                </a:lnTo>
                <a:lnTo>
                  <a:pt x="2156" y="1912"/>
                </a:lnTo>
                <a:lnTo>
                  <a:pt x="2169" y="1869"/>
                </a:lnTo>
                <a:lnTo>
                  <a:pt x="2174" y="1841"/>
                </a:lnTo>
                <a:lnTo>
                  <a:pt x="2254" y="1776"/>
                </a:lnTo>
                <a:lnTo>
                  <a:pt x="2339" y="1811"/>
                </a:lnTo>
                <a:lnTo>
                  <a:pt x="2510" y="1198"/>
                </a:lnTo>
                <a:lnTo>
                  <a:pt x="2372" y="835"/>
                </a:lnTo>
                <a:lnTo>
                  <a:pt x="2085" y="1011"/>
                </a:lnTo>
                <a:lnTo>
                  <a:pt x="1993" y="1477"/>
                </a:lnTo>
                <a:lnTo>
                  <a:pt x="1977" y="1485"/>
                </a:lnTo>
                <a:lnTo>
                  <a:pt x="1963" y="1498"/>
                </a:lnTo>
                <a:lnTo>
                  <a:pt x="1953" y="1513"/>
                </a:lnTo>
                <a:lnTo>
                  <a:pt x="1944" y="1529"/>
                </a:lnTo>
                <a:lnTo>
                  <a:pt x="1937" y="1565"/>
                </a:lnTo>
                <a:lnTo>
                  <a:pt x="1939" y="1604"/>
                </a:lnTo>
                <a:lnTo>
                  <a:pt x="1949" y="1646"/>
                </a:lnTo>
                <a:lnTo>
                  <a:pt x="1961" y="1686"/>
                </a:lnTo>
                <a:lnTo>
                  <a:pt x="1979" y="1724"/>
                </a:lnTo>
                <a:lnTo>
                  <a:pt x="1994" y="1757"/>
                </a:lnTo>
                <a:lnTo>
                  <a:pt x="2010" y="1783"/>
                </a:lnTo>
                <a:lnTo>
                  <a:pt x="2020" y="1802"/>
                </a:lnTo>
                <a:lnTo>
                  <a:pt x="2019" y="1813"/>
                </a:lnTo>
                <a:lnTo>
                  <a:pt x="2015" y="1825"/>
                </a:lnTo>
                <a:lnTo>
                  <a:pt x="2010" y="1841"/>
                </a:lnTo>
                <a:lnTo>
                  <a:pt x="2001" y="1858"/>
                </a:lnTo>
                <a:lnTo>
                  <a:pt x="1987" y="1876"/>
                </a:lnTo>
                <a:lnTo>
                  <a:pt x="1970" y="1895"/>
                </a:lnTo>
                <a:lnTo>
                  <a:pt x="1947" y="1912"/>
                </a:lnTo>
                <a:lnTo>
                  <a:pt x="1918" y="1928"/>
                </a:lnTo>
                <a:lnTo>
                  <a:pt x="1885" y="1940"/>
                </a:lnTo>
                <a:lnTo>
                  <a:pt x="1848" y="1947"/>
                </a:lnTo>
                <a:lnTo>
                  <a:pt x="1813" y="1951"/>
                </a:lnTo>
                <a:lnTo>
                  <a:pt x="1778" y="1951"/>
                </a:lnTo>
                <a:lnTo>
                  <a:pt x="1745" y="1947"/>
                </a:lnTo>
                <a:lnTo>
                  <a:pt x="1717" y="1942"/>
                </a:lnTo>
                <a:lnTo>
                  <a:pt x="1693" y="1937"/>
                </a:lnTo>
                <a:lnTo>
                  <a:pt x="1674" y="1931"/>
                </a:lnTo>
                <a:lnTo>
                  <a:pt x="1683" y="1888"/>
                </a:lnTo>
                <a:lnTo>
                  <a:pt x="1691" y="1851"/>
                </a:lnTo>
                <a:lnTo>
                  <a:pt x="1697" y="1820"/>
                </a:lnTo>
                <a:lnTo>
                  <a:pt x="1698" y="1799"/>
                </a:lnTo>
                <a:lnTo>
                  <a:pt x="1714" y="1789"/>
                </a:lnTo>
                <a:lnTo>
                  <a:pt x="1733" y="1773"/>
                </a:lnTo>
                <a:lnTo>
                  <a:pt x="1754" y="1755"/>
                </a:lnTo>
                <a:lnTo>
                  <a:pt x="1775" y="1736"/>
                </a:lnTo>
                <a:lnTo>
                  <a:pt x="1796" y="1715"/>
                </a:lnTo>
                <a:lnTo>
                  <a:pt x="1813" y="1693"/>
                </a:lnTo>
                <a:lnTo>
                  <a:pt x="1825" y="1670"/>
                </a:lnTo>
                <a:lnTo>
                  <a:pt x="1831" y="1646"/>
                </a:lnTo>
                <a:lnTo>
                  <a:pt x="1834" y="1621"/>
                </a:lnTo>
                <a:lnTo>
                  <a:pt x="1838" y="1597"/>
                </a:lnTo>
                <a:lnTo>
                  <a:pt x="1843" y="1572"/>
                </a:lnTo>
                <a:lnTo>
                  <a:pt x="1850" y="1548"/>
                </a:lnTo>
                <a:lnTo>
                  <a:pt x="1858" y="1524"/>
                </a:lnTo>
                <a:lnTo>
                  <a:pt x="1869" y="1498"/>
                </a:lnTo>
                <a:lnTo>
                  <a:pt x="1883" y="1473"/>
                </a:lnTo>
                <a:lnTo>
                  <a:pt x="1900" y="1447"/>
                </a:lnTo>
                <a:lnTo>
                  <a:pt x="1912" y="1430"/>
                </a:lnTo>
                <a:lnTo>
                  <a:pt x="1926" y="1405"/>
                </a:lnTo>
                <a:lnTo>
                  <a:pt x="1933" y="1376"/>
                </a:lnTo>
                <a:lnTo>
                  <a:pt x="1925" y="1348"/>
                </a:lnTo>
                <a:lnTo>
                  <a:pt x="1916" y="1339"/>
                </a:lnTo>
                <a:lnTo>
                  <a:pt x="1906" y="1332"/>
                </a:lnTo>
                <a:lnTo>
                  <a:pt x="1892" y="1328"/>
                </a:lnTo>
                <a:lnTo>
                  <a:pt x="1876" y="1327"/>
                </a:lnTo>
                <a:lnTo>
                  <a:pt x="1857" y="1327"/>
                </a:lnTo>
                <a:lnTo>
                  <a:pt x="1836" y="1328"/>
                </a:lnTo>
                <a:lnTo>
                  <a:pt x="1810" y="1334"/>
                </a:lnTo>
                <a:lnTo>
                  <a:pt x="1782" y="1341"/>
                </a:lnTo>
                <a:lnTo>
                  <a:pt x="1768" y="1348"/>
                </a:lnTo>
                <a:lnTo>
                  <a:pt x="1756" y="1358"/>
                </a:lnTo>
                <a:lnTo>
                  <a:pt x="1744" y="1370"/>
                </a:lnTo>
                <a:lnTo>
                  <a:pt x="1733" y="1386"/>
                </a:lnTo>
                <a:lnTo>
                  <a:pt x="1733" y="1226"/>
                </a:lnTo>
                <a:lnTo>
                  <a:pt x="1731" y="1213"/>
                </a:lnTo>
                <a:lnTo>
                  <a:pt x="1728" y="1199"/>
                </a:lnTo>
                <a:lnTo>
                  <a:pt x="1723" y="1187"/>
                </a:lnTo>
                <a:lnTo>
                  <a:pt x="1714" y="1177"/>
                </a:lnTo>
                <a:lnTo>
                  <a:pt x="1703" y="1168"/>
                </a:lnTo>
                <a:lnTo>
                  <a:pt x="1691" y="1163"/>
                </a:lnTo>
                <a:lnTo>
                  <a:pt x="1677" y="1159"/>
                </a:lnTo>
                <a:lnTo>
                  <a:pt x="1665" y="1158"/>
                </a:lnTo>
                <a:lnTo>
                  <a:pt x="1660" y="1158"/>
                </a:lnTo>
                <a:lnTo>
                  <a:pt x="1660" y="1128"/>
                </a:lnTo>
                <a:lnTo>
                  <a:pt x="1693" y="1114"/>
                </a:lnTo>
                <a:lnTo>
                  <a:pt x="1702" y="1109"/>
                </a:lnTo>
                <a:lnTo>
                  <a:pt x="1707" y="1102"/>
                </a:lnTo>
                <a:lnTo>
                  <a:pt x="1709" y="1091"/>
                </a:lnTo>
                <a:lnTo>
                  <a:pt x="1707" y="1083"/>
                </a:lnTo>
                <a:lnTo>
                  <a:pt x="1702" y="1074"/>
                </a:lnTo>
                <a:lnTo>
                  <a:pt x="1695" y="1069"/>
                </a:lnTo>
                <a:lnTo>
                  <a:pt x="1684" y="1067"/>
                </a:lnTo>
                <a:lnTo>
                  <a:pt x="1676" y="1069"/>
                </a:lnTo>
                <a:lnTo>
                  <a:pt x="1660" y="1076"/>
                </a:lnTo>
                <a:lnTo>
                  <a:pt x="1660" y="1048"/>
                </a:lnTo>
                <a:lnTo>
                  <a:pt x="1693" y="1034"/>
                </a:lnTo>
                <a:lnTo>
                  <a:pt x="1702" y="1029"/>
                </a:lnTo>
                <a:lnTo>
                  <a:pt x="1707" y="1022"/>
                </a:lnTo>
                <a:lnTo>
                  <a:pt x="1709" y="1011"/>
                </a:lnTo>
                <a:lnTo>
                  <a:pt x="1707" y="1003"/>
                </a:lnTo>
                <a:lnTo>
                  <a:pt x="1702" y="994"/>
                </a:lnTo>
                <a:lnTo>
                  <a:pt x="1695" y="989"/>
                </a:lnTo>
                <a:lnTo>
                  <a:pt x="1684" y="987"/>
                </a:lnTo>
                <a:lnTo>
                  <a:pt x="1676" y="989"/>
                </a:lnTo>
                <a:lnTo>
                  <a:pt x="1660" y="996"/>
                </a:lnTo>
                <a:lnTo>
                  <a:pt x="1660" y="968"/>
                </a:lnTo>
                <a:lnTo>
                  <a:pt x="1693" y="954"/>
                </a:lnTo>
                <a:lnTo>
                  <a:pt x="1702" y="949"/>
                </a:lnTo>
                <a:lnTo>
                  <a:pt x="1707" y="942"/>
                </a:lnTo>
                <a:lnTo>
                  <a:pt x="1709" y="931"/>
                </a:lnTo>
                <a:lnTo>
                  <a:pt x="1707" y="922"/>
                </a:lnTo>
                <a:lnTo>
                  <a:pt x="1702" y="914"/>
                </a:lnTo>
                <a:lnTo>
                  <a:pt x="1695" y="908"/>
                </a:lnTo>
                <a:lnTo>
                  <a:pt x="1684" y="907"/>
                </a:lnTo>
                <a:lnTo>
                  <a:pt x="1676" y="908"/>
                </a:lnTo>
                <a:lnTo>
                  <a:pt x="1660" y="915"/>
                </a:lnTo>
                <a:lnTo>
                  <a:pt x="1660" y="888"/>
                </a:lnTo>
                <a:lnTo>
                  <a:pt x="1693" y="874"/>
                </a:lnTo>
                <a:lnTo>
                  <a:pt x="1702" y="868"/>
                </a:lnTo>
                <a:lnTo>
                  <a:pt x="1707" y="860"/>
                </a:lnTo>
                <a:lnTo>
                  <a:pt x="1709" y="851"/>
                </a:lnTo>
                <a:lnTo>
                  <a:pt x="1707" y="842"/>
                </a:lnTo>
                <a:lnTo>
                  <a:pt x="1702" y="834"/>
                </a:lnTo>
                <a:lnTo>
                  <a:pt x="1695" y="828"/>
                </a:lnTo>
                <a:lnTo>
                  <a:pt x="1684" y="827"/>
                </a:lnTo>
                <a:lnTo>
                  <a:pt x="1676" y="828"/>
                </a:lnTo>
                <a:lnTo>
                  <a:pt x="1660" y="835"/>
                </a:lnTo>
                <a:lnTo>
                  <a:pt x="1660" y="807"/>
                </a:lnTo>
                <a:lnTo>
                  <a:pt x="1693" y="793"/>
                </a:lnTo>
                <a:lnTo>
                  <a:pt x="1702" y="788"/>
                </a:lnTo>
                <a:lnTo>
                  <a:pt x="1707" y="779"/>
                </a:lnTo>
                <a:lnTo>
                  <a:pt x="1709" y="771"/>
                </a:lnTo>
                <a:lnTo>
                  <a:pt x="1707" y="762"/>
                </a:lnTo>
                <a:lnTo>
                  <a:pt x="1702" y="753"/>
                </a:lnTo>
                <a:lnTo>
                  <a:pt x="1695" y="748"/>
                </a:lnTo>
                <a:lnTo>
                  <a:pt x="1684" y="746"/>
                </a:lnTo>
                <a:lnTo>
                  <a:pt x="1676" y="748"/>
                </a:lnTo>
                <a:lnTo>
                  <a:pt x="1660" y="755"/>
                </a:lnTo>
                <a:lnTo>
                  <a:pt x="1660" y="706"/>
                </a:lnTo>
                <a:lnTo>
                  <a:pt x="1658" y="696"/>
                </a:lnTo>
                <a:lnTo>
                  <a:pt x="1653" y="689"/>
                </a:lnTo>
                <a:lnTo>
                  <a:pt x="1646" y="684"/>
                </a:lnTo>
                <a:lnTo>
                  <a:pt x="1636" y="682"/>
                </a:lnTo>
                <a:lnTo>
                  <a:pt x="1625" y="684"/>
                </a:lnTo>
                <a:lnTo>
                  <a:pt x="1618" y="689"/>
                </a:lnTo>
                <a:lnTo>
                  <a:pt x="1613" y="696"/>
                </a:lnTo>
                <a:lnTo>
                  <a:pt x="1611" y="706"/>
                </a:lnTo>
                <a:lnTo>
                  <a:pt x="1611" y="774"/>
                </a:lnTo>
                <a:lnTo>
                  <a:pt x="1583" y="785"/>
                </a:lnTo>
                <a:lnTo>
                  <a:pt x="1575" y="790"/>
                </a:lnTo>
                <a:lnTo>
                  <a:pt x="1569" y="799"/>
                </a:lnTo>
                <a:lnTo>
                  <a:pt x="1568" y="807"/>
                </a:lnTo>
                <a:lnTo>
                  <a:pt x="1569" y="818"/>
                </a:lnTo>
                <a:lnTo>
                  <a:pt x="1575" y="825"/>
                </a:lnTo>
                <a:lnTo>
                  <a:pt x="1583" y="830"/>
                </a:lnTo>
                <a:lnTo>
                  <a:pt x="1592" y="834"/>
                </a:lnTo>
                <a:lnTo>
                  <a:pt x="1601" y="832"/>
                </a:lnTo>
                <a:lnTo>
                  <a:pt x="1611" y="827"/>
                </a:lnTo>
                <a:lnTo>
                  <a:pt x="1611" y="854"/>
                </a:lnTo>
                <a:lnTo>
                  <a:pt x="1583" y="865"/>
                </a:lnTo>
                <a:lnTo>
                  <a:pt x="1575" y="870"/>
                </a:lnTo>
                <a:lnTo>
                  <a:pt x="1569" y="879"/>
                </a:lnTo>
                <a:lnTo>
                  <a:pt x="1568" y="888"/>
                </a:lnTo>
                <a:lnTo>
                  <a:pt x="1569" y="898"/>
                </a:lnTo>
                <a:lnTo>
                  <a:pt x="1575" y="907"/>
                </a:lnTo>
                <a:lnTo>
                  <a:pt x="1583" y="912"/>
                </a:lnTo>
                <a:lnTo>
                  <a:pt x="1592" y="914"/>
                </a:lnTo>
                <a:lnTo>
                  <a:pt x="1601" y="912"/>
                </a:lnTo>
                <a:lnTo>
                  <a:pt x="1611" y="907"/>
                </a:lnTo>
                <a:lnTo>
                  <a:pt x="1611" y="935"/>
                </a:lnTo>
                <a:lnTo>
                  <a:pt x="1583" y="945"/>
                </a:lnTo>
                <a:lnTo>
                  <a:pt x="1575" y="950"/>
                </a:lnTo>
                <a:lnTo>
                  <a:pt x="1569" y="959"/>
                </a:lnTo>
                <a:lnTo>
                  <a:pt x="1568" y="968"/>
                </a:lnTo>
                <a:lnTo>
                  <a:pt x="1569" y="978"/>
                </a:lnTo>
                <a:lnTo>
                  <a:pt x="1575" y="987"/>
                </a:lnTo>
                <a:lnTo>
                  <a:pt x="1583" y="992"/>
                </a:lnTo>
                <a:lnTo>
                  <a:pt x="1592" y="994"/>
                </a:lnTo>
                <a:lnTo>
                  <a:pt x="1601" y="992"/>
                </a:lnTo>
                <a:lnTo>
                  <a:pt x="1611" y="989"/>
                </a:lnTo>
                <a:lnTo>
                  <a:pt x="1611" y="1015"/>
                </a:lnTo>
                <a:lnTo>
                  <a:pt x="1583" y="1025"/>
                </a:lnTo>
                <a:lnTo>
                  <a:pt x="1575" y="1030"/>
                </a:lnTo>
                <a:lnTo>
                  <a:pt x="1569" y="1039"/>
                </a:lnTo>
                <a:lnTo>
                  <a:pt x="1568" y="1048"/>
                </a:lnTo>
                <a:lnTo>
                  <a:pt x="1569" y="1058"/>
                </a:lnTo>
                <a:lnTo>
                  <a:pt x="1575" y="1067"/>
                </a:lnTo>
                <a:lnTo>
                  <a:pt x="1583" y="1072"/>
                </a:lnTo>
                <a:lnTo>
                  <a:pt x="1592" y="1074"/>
                </a:lnTo>
                <a:lnTo>
                  <a:pt x="1601" y="1072"/>
                </a:lnTo>
                <a:lnTo>
                  <a:pt x="1611" y="1069"/>
                </a:lnTo>
                <a:lnTo>
                  <a:pt x="1611" y="1095"/>
                </a:lnTo>
                <a:lnTo>
                  <a:pt x="1583" y="1105"/>
                </a:lnTo>
                <a:lnTo>
                  <a:pt x="1575" y="1111"/>
                </a:lnTo>
                <a:lnTo>
                  <a:pt x="1569" y="1119"/>
                </a:lnTo>
                <a:lnTo>
                  <a:pt x="1568" y="1128"/>
                </a:lnTo>
                <a:lnTo>
                  <a:pt x="1569" y="1138"/>
                </a:lnTo>
                <a:lnTo>
                  <a:pt x="1575" y="1147"/>
                </a:lnTo>
                <a:lnTo>
                  <a:pt x="1583" y="1152"/>
                </a:lnTo>
                <a:lnTo>
                  <a:pt x="1592" y="1154"/>
                </a:lnTo>
                <a:lnTo>
                  <a:pt x="1601" y="1152"/>
                </a:lnTo>
                <a:lnTo>
                  <a:pt x="1611" y="1149"/>
                </a:lnTo>
                <a:lnTo>
                  <a:pt x="1611" y="1158"/>
                </a:lnTo>
                <a:lnTo>
                  <a:pt x="1599" y="1159"/>
                </a:lnTo>
                <a:lnTo>
                  <a:pt x="1587" y="1165"/>
                </a:lnTo>
                <a:lnTo>
                  <a:pt x="1576" y="1172"/>
                </a:lnTo>
                <a:lnTo>
                  <a:pt x="1568" y="1180"/>
                </a:lnTo>
                <a:lnTo>
                  <a:pt x="1559" y="1189"/>
                </a:lnTo>
                <a:lnTo>
                  <a:pt x="1554" y="1201"/>
                </a:lnTo>
                <a:lnTo>
                  <a:pt x="1550" y="1213"/>
                </a:lnTo>
                <a:lnTo>
                  <a:pt x="1548" y="1226"/>
                </a:lnTo>
                <a:lnTo>
                  <a:pt x="1548" y="1457"/>
                </a:lnTo>
                <a:lnTo>
                  <a:pt x="1545" y="1456"/>
                </a:lnTo>
                <a:lnTo>
                  <a:pt x="1541" y="1452"/>
                </a:lnTo>
                <a:lnTo>
                  <a:pt x="1538" y="1450"/>
                </a:lnTo>
                <a:lnTo>
                  <a:pt x="1535" y="1449"/>
                </a:lnTo>
                <a:lnTo>
                  <a:pt x="1526" y="1443"/>
                </a:lnTo>
                <a:lnTo>
                  <a:pt x="1519" y="1440"/>
                </a:lnTo>
                <a:lnTo>
                  <a:pt x="1510" y="1437"/>
                </a:lnTo>
                <a:lnTo>
                  <a:pt x="1501" y="1433"/>
                </a:lnTo>
                <a:lnTo>
                  <a:pt x="1493" y="1431"/>
                </a:lnTo>
                <a:lnTo>
                  <a:pt x="1484" y="1431"/>
                </a:lnTo>
                <a:lnTo>
                  <a:pt x="1477" y="1433"/>
                </a:lnTo>
                <a:lnTo>
                  <a:pt x="1468" y="1437"/>
                </a:lnTo>
                <a:lnTo>
                  <a:pt x="1456" y="1449"/>
                </a:lnTo>
                <a:lnTo>
                  <a:pt x="1451" y="1464"/>
                </a:lnTo>
                <a:lnTo>
                  <a:pt x="1449" y="1484"/>
                </a:lnTo>
                <a:lnTo>
                  <a:pt x="1449" y="1508"/>
                </a:lnTo>
                <a:lnTo>
                  <a:pt x="1449" y="1520"/>
                </a:lnTo>
                <a:lnTo>
                  <a:pt x="1449" y="1534"/>
                </a:lnTo>
                <a:lnTo>
                  <a:pt x="1449" y="1550"/>
                </a:lnTo>
                <a:lnTo>
                  <a:pt x="1449" y="1567"/>
                </a:lnTo>
                <a:lnTo>
                  <a:pt x="1451" y="1600"/>
                </a:lnTo>
                <a:lnTo>
                  <a:pt x="1460" y="1635"/>
                </a:lnTo>
                <a:lnTo>
                  <a:pt x="1472" y="1668"/>
                </a:lnTo>
                <a:lnTo>
                  <a:pt x="1487" y="1700"/>
                </a:lnTo>
                <a:lnTo>
                  <a:pt x="1505" y="1729"/>
                </a:lnTo>
                <a:lnTo>
                  <a:pt x="1521" y="1754"/>
                </a:lnTo>
                <a:lnTo>
                  <a:pt x="1536" y="1775"/>
                </a:lnTo>
                <a:lnTo>
                  <a:pt x="1548" y="1790"/>
                </a:lnTo>
                <a:lnTo>
                  <a:pt x="1545" y="1801"/>
                </a:lnTo>
                <a:lnTo>
                  <a:pt x="1540" y="1816"/>
                </a:lnTo>
                <a:lnTo>
                  <a:pt x="1531" y="1834"/>
                </a:lnTo>
                <a:lnTo>
                  <a:pt x="1519" y="1855"/>
                </a:lnTo>
                <a:lnTo>
                  <a:pt x="1341" y="1733"/>
                </a:lnTo>
                <a:lnTo>
                  <a:pt x="1336" y="1721"/>
                </a:lnTo>
                <a:lnTo>
                  <a:pt x="1282" y="1508"/>
                </a:lnTo>
                <a:lnTo>
                  <a:pt x="1259" y="1511"/>
                </a:lnTo>
                <a:lnTo>
                  <a:pt x="1238" y="1515"/>
                </a:lnTo>
                <a:lnTo>
                  <a:pt x="1216" y="1517"/>
                </a:lnTo>
                <a:lnTo>
                  <a:pt x="1193" y="1518"/>
                </a:lnTo>
                <a:lnTo>
                  <a:pt x="1172" y="1520"/>
                </a:lnTo>
                <a:lnTo>
                  <a:pt x="1150" y="1518"/>
                </a:lnTo>
                <a:lnTo>
                  <a:pt x="1127" y="1518"/>
                </a:lnTo>
                <a:lnTo>
                  <a:pt x="1103" y="1517"/>
                </a:lnTo>
                <a:lnTo>
                  <a:pt x="1080" y="1513"/>
                </a:lnTo>
                <a:lnTo>
                  <a:pt x="1050" y="1504"/>
                </a:lnTo>
                <a:lnTo>
                  <a:pt x="1022" y="1491"/>
                </a:lnTo>
                <a:lnTo>
                  <a:pt x="998" y="1473"/>
                </a:lnTo>
                <a:lnTo>
                  <a:pt x="975" y="1450"/>
                </a:lnTo>
                <a:lnTo>
                  <a:pt x="956" y="1424"/>
                </a:lnTo>
                <a:lnTo>
                  <a:pt x="939" y="1398"/>
                </a:lnTo>
                <a:lnTo>
                  <a:pt x="923" y="1370"/>
                </a:lnTo>
                <a:lnTo>
                  <a:pt x="911" y="1342"/>
                </a:lnTo>
                <a:lnTo>
                  <a:pt x="923" y="1353"/>
                </a:lnTo>
                <a:lnTo>
                  <a:pt x="935" y="1363"/>
                </a:lnTo>
                <a:lnTo>
                  <a:pt x="949" y="1374"/>
                </a:lnTo>
                <a:lnTo>
                  <a:pt x="961" y="1382"/>
                </a:lnTo>
                <a:lnTo>
                  <a:pt x="975" y="1391"/>
                </a:lnTo>
                <a:lnTo>
                  <a:pt x="989" y="1400"/>
                </a:lnTo>
                <a:lnTo>
                  <a:pt x="1003" y="1407"/>
                </a:lnTo>
                <a:lnTo>
                  <a:pt x="1017" y="1412"/>
                </a:lnTo>
                <a:lnTo>
                  <a:pt x="1035" y="1417"/>
                </a:lnTo>
                <a:lnTo>
                  <a:pt x="1056" y="1421"/>
                </a:lnTo>
                <a:lnTo>
                  <a:pt x="1078" y="1423"/>
                </a:lnTo>
                <a:lnTo>
                  <a:pt x="1104" y="1421"/>
                </a:lnTo>
                <a:lnTo>
                  <a:pt x="1130" y="1419"/>
                </a:lnTo>
                <a:lnTo>
                  <a:pt x="1162" y="1414"/>
                </a:lnTo>
                <a:lnTo>
                  <a:pt x="1193" y="1405"/>
                </a:lnTo>
                <a:lnTo>
                  <a:pt x="1228" y="1396"/>
                </a:lnTo>
                <a:lnTo>
                  <a:pt x="1251" y="1389"/>
                </a:lnTo>
                <a:lnTo>
                  <a:pt x="1193" y="1175"/>
                </a:lnTo>
                <a:lnTo>
                  <a:pt x="1214" y="1177"/>
                </a:lnTo>
                <a:lnTo>
                  <a:pt x="1240" y="1177"/>
                </a:lnTo>
                <a:lnTo>
                  <a:pt x="1266" y="1177"/>
                </a:lnTo>
                <a:lnTo>
                  <a:pt x="1296" y="1175"/>
                </a:lnTo>
                <a:lnTo>
                  <a:pt x="1327" y="1170"/>
                </a:lnTo>
                <a:lnTo>
                  <a:pt x="1360" y="1161"/>
                </a:lnTo>
                <a:lnTo>
                  <a:pt x="1392" y="1149"/>
                </a:lnTo>
                <a:lnTo>
                  <a:pt x="1425" y="1133"/>
                </a:lnTo>
                <a:lnTo>
                  <a:pt x="1446" y="1111"/>
                </a:lnTo>
                <a:lnTo>
                  <a:pt x="1453" y="1076"/>
                </a:lnTo>
                <a:lnTo>
                  <a:pt x="1449" y="1027"/>
                </a:lnTo>
                <a:lnTo>
                  <a:pt x="1434" y="966"/>
                </a:lnTo>
                <a:lnTo>
                  <a:pt x="1420" y="928"/>
                </a:lnTo>
                <a:lnTo>
                  <a:pt x="1404" y="886"/>
                </a:lnTo>
                <a:lnTo>
                  <a:pt x="1383" y="840"/>
                </a:lnTo>
                <a:lnTo>
                  <a:pt x="1359" y="793"/>
                </a:lnTo>
                <a:lnTo>
                  <a:pt x="1331" y="743"/>
                </a:lnTo>
                <a:lnTo>
                  <a:pt x="1299" y="692"/>
                </a:lnTo>
                <a:lnTo>
                  <a:pt x="1266" y="640"/>
                </a:lnTo>
                <a:lnTo>
                  <a:pt x="1230" y="588"/>
                </a:lnTo>
                <a:lnTo>
                  <a:pt x="1190" y="536"/>
                </a:lnTo>
                <a:lnTo>
                  <a:pt x="1146" y="483"/>
                </a:lnTo>
                <a:lnTo>
                  <a:pt x="1101" y="433"/>
                </a:lnTo>
                <a:lnTo>
                  <a:pt x="1054" y="386"/>
                </a:lnTo>
                <a:lnTo>
                  <a:pt x="1003" y="339"/>
                </a:lnTo>
                <a:lnTo>
                  <a:pt x="951" y="297"/>
                </a:lnTo>
                <a:lnTo>
                  <a:pt x="897" y="257"/>
                </a:lnTo>
                <a:lnTo>
                  <a:pt x="840" y="222"/>
                </a:lnTo>
                <a:lnTo>
                  <a:pt x="878" y="201"/>
                </a:lnTo>
                <a:lnTo>
                  <a:pt x="909" y="176"/>
                </a:lnTo>
                <a:lnTo>
                  <a:pt x="935" y="154"/>
                </a:lnTo>
                <a:lnTo>
                  <a:pt x="955" y="131"/>
                </a:lnTo>
                <a:lnTo>
                  <a:pt x="968" y="110"/>
                </a:lnTo>
                <a:lnTo>
                  <a:pt x="979" y="95"/>
                </a:lnTo>
                <a:lnTo>
                  <a:pt x="984" y="84"/>
                </a:lnTo>
                <a:lnTo>
                  <a:pt x="986" y="81"/>
                </a:lnTo>
                <a:lnTo>
                  <a:pt x="982" y="82"/>
                </a:lnTo>
                <a:lnTo>
                  <a:pt x="972" y="89"/>
                </a:lnTo>
                <a:lnTo>
                  <a:pt x="955" y="98"/>
                </a:lnTo>
                <a:lnTo>
                  <a:pt x="930" y="105"/>
                </a:lnTo>
                <a:lnTo>
                  <a:pt x="899" y="112"/>
                </a:lnTo>
                <a:lnTo>
                  <a:pt x="859" y="112"/>
                </a:lnTo>
                <a:lnTo>
                  <a:pt x="812" y="107"/>
                </a:lnTo>
                <a:lnTo>
                  <a:pt x="758" y="93"/>
                </a:lnTo>
                <a:lnTo>
                  <a:pt x="726" y="84"/>
                </a:lnTo>
                <a:lnTo>
                  <a:pt x="693" y="75"/>
                </a:lnTo>
                <a:lnTo>
                  <a:pt x="657" y="68"/>
                </a:lnTo>
                <a:lnTo>
                  <a:pt x="618" y="63"/>
                </a:lnTo>
                <a:lnTo>
                  <a:pt x="580" y="58"/>
                </a:lnTo>
                <a:lnTo>
                  <a:pt x="540" y="54"/>
                </a:lnTo>
                <a:lnTo>
                  <a:pt x="498" y="53"/>
                </a:lnTo>
                <a:lnTo>
                  <a:pt x="458" y="53"/>
                </a:lnTo>
                <a:lnTo>
                  <a:pt x="418" y="53"/>
                </a:lnTo>
                <a:lnTo>
                  <a:pt x="381" y="56"/>
                </a:lnTo>
                <a:lnTo>
                  <a:pt x="345" y="58"/>
                </a:lnTo>
                <a:lnTo>
                  <a:pt x="312" y="63"/>
                </a:lnTo>
                <a:lnTo>
                  <a:pt x="280" y="70"/>
                </a:lnTo>
                <a:lnTo>
                  <a:pt x="254" y="77"/>
                </a:lnTo>
                <a:lnTo>
                  <a:pt x="230" y="86"/>
                </a:lnTo>
                <a:lnTo>
                  <a:pt x="213" y="96"/>
                </a:lnTo>
                <a:lnTo>
                  <a:pt x="188" y="117"/>
                </a:lnTo>
                <a:lnTo>
                  <a:pt x="172" y="136"/>
                </a:lnTo>
                <a:lnTo>
                  <a:pt x="165" y="154"/>
                </a:lnTo>
                <a:lnTo>
                  <a:pt x="164" y="168"/>
                </a:lnTo>
                <a:lnTo>
                  <a:pt x="167" y="178"/>
                </a:lnTo>
                <a:lnTo>
                  <a:pt x="172" y="187"/>
                </a:lnTo>
                <a:lnTo>
                  <a:pt x="176" y="192"/>
                </a:lnTo>
                <a:lnTo>
                  <a:pt x="178" y="194"/>
                </a:lnTo>
                <a:lnTo>
                  <a:pt x="176" y="194"/>
                </a:lnTo>
                <a:lnTo>
                  <a:pt x="172" y="192"/>
                </a:lnTo>
                <a:lnTo>
                  <a:pt x="167" y="190"/>
                </a:lnTo>
                <a:lnTo>
                  <a:pt x="159" y="190"/>
                </a:lnTo>
                <a:lnTo>
                  <a:pt x="150" y="190"/>
                </a:lnTo>
                <a:lnTo>
                  <a:pt x="139" y="192"/>
                </a:lnTo>
                <a:lnTo>
                  <a:pt x="127" y="196"/>
                </a:lnTo>
                <a:lnTo>
                  <a:pt x="115" y="201"/>
                </a:lnTo>
                <a:lnTo>
                  <a:pt x="99" y="222"/>
                </a:lnTo>
                <a:lnTo>
                  <a:pt x="82" y="267"/>
                </a:lnTo>
                <a:lnTo>
                  <a:pt x="64" y="328"/>
                </a:lnTo>
                <a:lnTo>
                  <a:pt x="49" y="398"/>
                </a:lnTo>
                <a:lnTo>
                  <a:pt x="38" y="473"/>
                </a:lnTo>
                <a:lnTo>
                  <a:pt x="37" y="544"/>
                </a:lnTo>
                <a:lnTo>
                  <a:pt x="47" y="605"/>
                </a:lnTo>
                <a:lnTo>
                  <a:pt x="71" y="651"/>
                </a:lnTo>
                <a:lnTo>
                  <a:pt x="94" y="677"/>
                </a:lnTo>
                <a:lnTo>
                  <a:pt x="117" y="703"/>
                </a:lnTo>
                <a:lnTo>
                  <a:pt x="138" y="731"/>
                </a:lnTo>
                <a:lnTo>
                  <a:pt x="157" y="757"/>
                </a:lnTo>
                <a:lnTo>
                  <a:pt x="174" y="783"/>
                </a:lnTo>
                <a:lnTo>
                  <a:pt x="192" y="806"/>
                </a:lnTo>
                <a:lnTo>
                  <a:pt x="206" y="827"/>
                </a:lnTo>
                <a:lnTo>
                  <a:pt x="216" y="844"/>
                </a:lnTo>
                <a:lnTo>
                  <a:pt x="246" y="968"/>
                </a:lnTo>
                <a:lnTo>
                  <a:pt x="280" y="1090"/>
                </a:lnTo>
                <a:lnTo>
                  <a:pt x="319" y="1205"/>
                </a:lnTo>
                <a:lnTo>
                  <a:pt x="355" y="1309"/>
                </a:lnTo>
                <a:lnTo>
                  <a:pt x="392" y="1403"/>
                </a:lnTo>
                <a:lnTo>
                  <a:pt x="423" y="1482"/>
                </a:lnTo>
                <a:lnTo>
                  <a:pt x="448" y="1541"/>
                </a:lnTo>
                <a:lnTo>
                  <a:pt x="465" y="1578"/>
                </a:lnTo>
                <a:lnTo>
                  <a:pt x="453" y="1600"/>
                </a:lnTo>
                <a:lnTo>
                  <a:pt x="437" y="1635"/>
                </a:lnTo>
                <a:lnTo>
                  <a:pt x="418" y="1680"/>
                </a:lnTo>
                <a:lnTo>
                  <a:pt x="399" y="1735"/>
                </a:lnTo>
                <a:lnTo>
                  <a:pt x="381" y="1801"/>
                </a:lnTo>
                <a:lnTo>
                  <a:pt x="366" y="1874"/>
                </a:lnTo>
                <a:lnTo>
                  <a:pt x="355" y="1956"/>
                </a:lnTo>
                <a:lnTo>
                  <a:pt x="352" y="2045"/>
                </a:lnTo>
                <a:lnTo>
                  <a:pt x="352" y="2308"/>
                </a:lnTo>
                <a:lnTo>
                  <a:pt x="324" y="2306"/>
                </a:lnTo>
                <a:lnTo>
                  <a:pt x="298" y="2303"/>
                </a:lnTo>
                <a:lnTo>
                  <a:pt x="273" y="2301"/>
                </a:lnTo>
                <a:lnTo>
                  <a:pt x="253" y="2299"/>
                </a:lnTo>
                <a:lnTo>
                  <a:pt x="233" y="2297"/>
                </a:lnTo>
                <a:lnTo>
                  <a:pt x="216" y="2297"/>
                </a:lnTo>
                <a:lnTo>
                  <a:pt x="202" y="2296"/>
                </a:lnTo>
                <a:lnTo>
                  <a:pt x="192" y="2294"/>
                </a:lnTo>
                <a:lnTo>
                  <a:pt x="183" y="2240"/>
                </a:lnTo>
                <a:lnTo>
                  <a:pt x="171" y="2153"/>
                </a:lnTo>
                <a:lnTo>
                  <a:pt x="155" y="2038"/>
                </a:lnTo>
                <a:lnTo>
                  <a:pt x="138" y="1898"/>
                </a:lnTo>
                <a:lnTo>
                  <a:pt x="118" y="1740"/>
                </a:lnTo>
                <a:lnTo>
                  <a:pt x="98" y="1565"/>
                </a:lnTo>
                <a:lnTo>
                  <a:pt x="78" y="1381"/>
                </a:lnTo>
                <a:lnTo>
                  <a:pt x="59" y="1189"/>
                </a:lnTo>
                <a:lnTo>
                  <a:pt x="44" y="997"/>
                </a:lnTo>
                <a:lnTo>
                  <a:pt x="30" y="811"/>
                </a:lnTo>
                <a:lnTo>
                  <a:pt x="21" y="637"/>
                </a:lnTo>
                <a:lnTo>
                  <a:pt x="12" y="475"/>
                </a:lnTo>
                <a:lnTo>
                  <a:pt x="7" y="333"/>
                </a:lnTo>
                <a:lnTo>
                  <a:pt x="4" y="215"/>
                </a:lnTo>
                <a:lnTo>
                  <a:pt x="2" y="124"/>
                </a:lnTo>
                <a:lnTo>
                  <a:pt x="0" y="67"/>
                </a:lnTo>
                <a:lnTo>
                  <a:pt x="10" y="65"/>
                </a:lnTo>
                <a:lnTo>
                  <a:pt x="24" y="63"/>
                </a:lnTo>
                <a:lnTo>
                  <a:pt x="38" y="61"/>
                </a:lnTo>
                <a:lnTo>
                  <a:pt x="56" y="60"/>
                </a:lnTo>
                <a:lnTo>
                  <a:pt x="75" y="58"/>
                </a:lnTo>
                <a:lnTo>
                  <a:pt x="96" y="54"/>
                </a:lnTo>
                <a:lnTo>
                  <a:pt x="120" y="53"/>
                </a:lnTo>
                <a:lnTo>
                  <a:pt x="145" y="51"/>
                </a:lnTo>
                <a:lnTo>
                  <a:pt x="172" y="48"/>
                </a:lnTo>
                <a:lnTo>
                  <a:pt x="202" y="44"/>
                </a:lnTo>
                <a:lnTo>
                  <a:pt x="233" y="42"/>
                </a:lnTo>
                <a:lnTo>
                  <a:pt x="267" y="39"/>
                </a:lnTo>
                <a:lnTo>
                  <a:pt x="301" y="37"/>
                </a:lnTo>
                <a:lnTo>
                  <a:pt x="338" y="34"/>
                </a:lnTo>
                <a:lnTo>
                  <a:pt x="376" y="30"/>
                </a:lnTo>
                <a:lnTo>
                  <a:pt x="418" y="28"/>
                </a:lnTo>
                <a:lnTo>
                  <a:pt x="460" y="25"/>
                </a:lnTo>
                <a:lnTo>
                  <a:pt x="503" y="21"/>
                </a:lnTo>
                <a:lnTo>
                  <a:pt x="550" y="20"/>
                </a:lnTo>
                <a:lnTo>
                  <a:pt x="597" y="16"/>
                </a:lnTo>
                <a:lnTo>
                  <a:pt x="648" y="14"/>
                </a:lnTo>
                <a:lnTo>
                  <a:pt x="698" y="13"/>
                </a:lnTo>
                <a:lnTo>
                  <a:pt x="751" y="11"/>
                </a:lnTo>
                <a:lnTo>
                  <a:pt x="806" y="7"/>
                </a:lnTo>
                <a:lnTo>
                  <a:pt x="862" y="6"/>
                </a:lnTo>
                <a:lnTo>
                  <a:pt x="920" y="4"/>
                </a:lnTo>
                <a:lnTo>
                  <a:pt x="979" y="4"/>
                </a:lnTo>
                <a:lnTo>
                  <a:pt x="1040" y="2"/>
                </a:lnTo>
                <a:lnTo>
                  <a:pt x="1103" y="2"/>
                </a:lnTo>
                <a:lnTo>
                  <a:pt x="1167" y="0"/>
                </a:lnTo>
                <a:lnTo>
                  <a:pt x="1233" y="0"/>
                </a:lnTo>
                <a:lnTo>
                  <a:pt x="1299" y="0"/>
                </a:lnTo>
                <a:lnTo>
                  <a:pt x="1367" y="0"/>
                </a:lnTo>
                <a:lnTo>
                  <a:pt x="1434" y="0"/>
                </a:lnTo>
                <a:lnTo>
                  <a:pt x="1498" y="2"/>
                </a:lnTo>
                <a:lnTo>
                  <a:pt x="1562" y="2"/>
                </a:lnTo>
                <a:lnTo>
                  <a:pt x="1623" y="2"/>
                </a:lnTo>
                <a:lnTo>
                  <a:pt x="1684" y="4"/>
                </a:lnTo>
                <a:lnTo>
                  <a:pt x="1742" y="4"/>
                </a:lnTo>
                <a:lnTo>
                  <a:pt x="1799" y="6"/>
                </a:lnTo>
                <a:lnTo>
                  <a:pt x="1855" y="7"/>
                </a:lnTo>
                <a:lnTo>
                  <a:pt x="1909" y="7"/>
                </a:lnTo>
                <a:lnTo>
                  <a:pt x="1961" y="9"/>
                </a:lnTo>
                <a:lnTo>
                  <a:pt x="2012" y="11"/>
                </a:lnTo>
                <a:lnTo>
                  <a:pt x="2061" y="11"/>
                </a:lnTo>
                <a:lnTo>
                  <a:pt x="2108" y="13"/>
                </a:lnTo>
                <a:lnTo>
                  <a:pt x="2153" y="14"/>
                </a:lnTo>
                <a:lnTo>
                  <a:pt x="2196" y="16"/>
                </a:lnTo>
                <a:lnTo>
                  <a:pt x="2238" y="18"/>
                </a:lnTo>
                <a:lnTo>
                  <a:pt x="2278" y="20"/>
                </a:lnTo>
                <a:lnTo>
                  <a:pt x="2317" y="20"/>
                </a:lnTo>
                <a:lnTo>
                  <a:pt x="2351" y="21"/>
                </a:lnTo>
                <a:lnTo>
                  <a:pt x="2386" y="23"/>
                </a:lnTo>
                <a:lnTo>
                  <a:pt x="2418" y="25"/>
                </a:lnTo>
                <a:lnTo>
                  <a:pt x="2449" y="27"/>
                </a:lnTo>
                <a:lnTo>
                  <a:pt x="2477" y="27"/>
                </a:lnTo>
                <a:lnTo>
                  <a:pt x="2503" y="28"/>
                </a:lnTo>
                <a:lnTo>
                  <a:pt x="2526" y="30"/>
                </a:lnTo>
                <a:lnTo>
                  <a:pt x="2548" y="30"/>
                </a:lnTo>
                <a:lnTo>
                  <a:pt x="2567" y="32"/>
                </a:lnTo>
                <a:lnTo>
                  <a:pt x="2585" y="34"/>
                </a:lnTo>
                <a:lnTo>
                  <a:pt x="2600" y="34"/>
                </a:lnTo>
                <a:lnTo>
                  <a:pt x="2614" y="35"/>
                </a:lnTo>
                <a:lnTo>
                  <a:pt x="2625" y="35"/>
                </a:lnTo>
                <a:lnTo>
                  <a:pt x="2632" y="170"/>
                </a:lnTo>
                <a:lnTo>
                  <a:pt x="2639" y="408"/>
                </a:lnTo>
                <a:lnTo>
                  <a:pt x="2635" y="732"/>
                </a:lnTo>
                <a:lnTo>
                  <a:pt x="2620" y="1121"/>
                </a:lnTo>
                <a:close/>
              </a:path>
            </a:pathLst>
          </a:custGeom>
          <a:solidFill>
            <a:srgbClr val="bcff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024440" y="3335400"/>
            <a:ext cx="85680" cy="100080"/>
          </a:xfrm>
          <a:custGeom>
            <a:avLst/>
            <a:gdLst/>
            <a:ahLst/>
            <a:rect l="l" t="t" r="r" b="b"/>
            <a:pathLst>
              <a:path w="106" h="128">
                <a:moveTo>
                  <a:pt x="56" y="128"/>
                </a:moveTo>
                <a:lnTo>
                  <a:pt x="64" y="126"/>
                </a:lnTo>
                <a:lnTo>
                  <a:pt x="73" y="124"/>
                </a:lnTo>
                <a:lnTo>
                  <a:pt x="82" y="121"/>
                </a:lnTo>
                <a:lnTo>
                  <a:pt x="89" y="115"/>
                </a:lnTo>
                <a:lnTo>
                  <a:pt x="96" y="109"/>
                </a:lnTo>
                <a:lnTo>
                  <a:pt x="101" y="100"/>
                </a:lnTo>
                <a:lnTo>
                  <a:pt x="104" y="91"/>
                </a:lnTo>
                <a:lnTo>
                  <a:pt x="106" y="79"/>
                </a:lnTo>
                <a:lnTo>
                  <a:pt x="103" y="63"/>
                </a:lnTo>
                <a:lnTo>
                  <a:pt x="96" y="51"/>
                </a:lnTo>
                <a:lnTo>
                  <a:pt x="85" y="42"/>
                </a:lnTo>
                <a:lnTo>
                  <a:pt x="71" y="39"/>
                </a:lnTo>
                <a:lnTo>
                  <a:pt x="59" y="42"/>
                </a:lnTo>
                <a:lnTo>
                  <a:pt x="49" y="51"/>
                </a:lnTo>
                <a:lnTo>
                  <a:pt x="42" y="63"/>
                </a:lnTo>
                <a:lnTo>
                  <a:pt x="38" y="79"/>
                </a:lnTo>
                <a:lnTo>
                  <a:pt x="38" y="82"/>
                </a:lnTo>
                <a:lnTo>
                  <a:pt x="38" y="86"/>
                </a:lnTo>
                <a:lnTo>
                  <a:pt x="38" y="89"/>
                </a:lnTo>
                <a:lnTo>
                  <a:pt x="40" y="93"/>
                </a:lnTo>
                <a:lnTo>
                  <a:pt x="31" y="82"/>
                </a:lnTo>
                <a:lnTo>
                  <a:pt x="26" y="70"/>
                </a:lnTo>
                <a:lnTo>
                  <a:pt x="22" y="58"/>
                </a:lnTo>
                <a:lnTo>
                  <a:pt x="21" y="44"/>
                </a:lnTo>
                <a:lnTo>
                  <a:pt x="22" y="32"/>
                </a:lnTo>
                <a:lnTo>
                  <a:pt x="24" y="20"/>
                </a:lnTo>
                <a:lnTo>
                  <a:pt x="29" y="9"/>
                </a:lnTo>
                <a:lnTo>
                  <a:pt x="36" y="0"/>
                </a:lnTo>
                <a:lnTo>
                  <a:pt x="22" y="9"/>
                </a:lnTo>
                <a:lnTo>
                  <a:pt x="10" y="23"/>
                </a:lnTo>
                <a:lnTo>
                  <a:pt x="3" y="41"/>
                </a:lnTo>
                <a:lnTo>
                  <a:pt x="0" y="61"/>
                </a:lnTo>
                <a:lnTo>
                  <a:pt x="2" y="75"/>
                </a:lnTo>
                <a:lnTo>
                  <a:pt x="5" y="88"/>
                </a:lnTo>
                <a:lnTo>
                  <a:pt x="10" y="98"/>
                </a:lnTo>
                <a:lnTo>
                  <a:pt x="17" y="109"/>
                </a:lnTo>
                <a:lnTo>
                  <a:pt x="24" y="117"/>
                </a:lnTo>
                <a:lnTo>
                  <a:pt x="35" y="122"/>
                </a:lnTo>
                <a:lnTo>
                  <a:pt x="45" y="126"/>
                </a:lnTo>
                <a:lnTo>
                  <a:pt x="56"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3763800" y="3314880"/>
            <a:ext cx="84240" cy="101520"/>
          </a:xfrm>
          <a:custGeom>
            <a:avLst/>
            <a:gdLst/>
            <a:ahLst/>
            <a:rect l="l" t="t" r="r" b="b"/>
            <a:pathLst>
              <a:path w="106" h="129">
                <a:moveTo>
                  <a:pt x="55" y="129"/>
                </a:moveTo>
                <a:lnTo>
                  <a:pt x="64" y="128"/>
                </a:lnTo>
                <a:lnTo>
                  <a:pt x="73" y="126"/>
                </a:lnTo>
                <a:lnTo>
                  <a:pt x="81" y="121"/>
                </a:lnTo>
                <a:lnTo>
                  <a:pt x="88" y="115"/>
                </a:lnTo>
                <a:lnTo>
                  <a:pt x="95" y="108"/>
                </a:lnTo>
                <a:lnTo>
                  <a:pt x="101" y="101"/>
                </a:lnTo>
                <a:lnTo>
                  <a:pt x="104" y="91"/>
                </a:lnTo>
                <a:lnTo>
                  <a:pt x="106" y="80"/>
                </a:lnTo>
                <a:lnTo>
                  <a:pt x="102" y="65"/>
                </a:lnTo>
                <a:lnTo>
                  <a:pt x="95" y="53"/>
                </a:lnTo>
                <a:lnTo>
                  <a:pt x="85" y="44"/>
                </a:lnTo>
                <a:lnTo>
                  <a:pt x="73" y="40"/>
                </a:lnTo>
                <a:lnTo>
                  <a:pt x="59" y="44"/>
                </a:lnTo>
                <a:lnTo>
                  <a:pt x="48" y="53"/>
                </a:lnTo>
                <a:lnTo>
                  <a:pt x="41" y="65"/>
                </a:lnTo>
                <a:lnTo>
                  <a:pt x="38" y="80"/>
                </a:lnTo>
                <a:lnTo>
                  <a:pt x="38" y="84"/>
                </a:lnTo>
                <a:lnTo>
                  <a:pt x="38" y="87"/>
                </a:lnTo>
                <a:lnTo>
                  <a:pt x="38" y="91"/>
                </a:lnTo>
                <a:lnTo>
                  <a:pt x="40" y="94"/>
                </a:lnTo>
                <a:lnTo>
                  <a:pt x="33" y="84"/>
                </a:lnTo>
                <a:lnTo>
                  <a:pt x="26" y="72"/>
                </a:lnTo>
                <a:lnTo>
                  <a:pt x="22" y="60"/>
                </a:lnTo>
                <a:lnTo>
                  <a:pt x="21" y="46"/>
                </a:lnTo>
                <a:lnTo>
                  <a:pt x="22" y="33"/>
                </a:lnTo>
                <a:lnTo>
                  <a:pt x="26" y="21"/>
                </a:lnTo>
                <a:lnTo>
                  <a:pt x="29" y="11"/>
                </a:lnTo>
                <a:lnTo>
                  <a:pt x="36" y="0"/>
                </a:lnTo>
                <a:lnTo>
                  <a:pt x="22" y="11"/>
                </a:lnTo>
                <a:lnTo>
                  <a:pt x="10" y="25"/>
                </a:lnTo>
                <a:lnTo>
                  <a:pt x="3" y="42"/>
                </a:lnTo>
                <a:lnTo>
                  <a:pt x="0" y="63"/>
                </a:lnTo>
                <a:lnTo>
                  <a:pt x="1" y="77"/>
                </a:lnTo>
                <a:lnTo>
                  <a:pt x="5" y="89"/>
                </a:lnTo>
                <a:lnTo>
                  <a:pt x="10" y="100"/>
                </a:lnTo>
                <a:lnTo>
                  <a:pt x="17" y="110"/>
                </a:lnTo>
                <a:lnTo>
                  <a:pt x="24" y="119"/>
                </a:lnTo>
                <a:lnTo>
                  <a:pt x="34" y="124"/>
                </a:lnTo>
                <a:lnTo>
                  <a:pt x="45" y="128"/>
                </a:lnTo>
                <a:lnTo>
                  <a:pt x="55"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4843440" y="3629160"/>
            <a:ext cx="193680" cy="233280"/>
          </a:xfrm>
          <a:custGeom>
            <a:avLst/>
            <a:gdLst/>
            <a:ahLst/>
            <a:rect l="l" t="t" r="r" b="b"/>
            <a:pathLst>
              <a:path w="244" h="292">
                <a:moveTo>
                  <a:pt x="221" y="41"/>
                </a:moveTo>
                <a:lnTo>
                  <a:pt x="211" y="36"/>
                </a:lnTo>
                <a:lnTo>
                  <a:pt x="202" y="31"/>
                </a:lnTo>
                <a:lnTo>
                  <a:pt x="197" y="29"/>
                </a:lnTo>
                <a:lnTo>
                  <a:pt x="193" y="28"/>
                </a:lnTo>
                <a:lnTo>
                  <a:pt x="186" y="26"/>
                </a:lnTo>
                <a:lnTo>
                  <a:pt x="179" y="22"/>
                </a:lnTo>
                <a:lnTo>
                  <a:pt x="171" y="21"/>
                </a:lnTo>
                <a:lnTo>
                  <a:pt x="162" y="21"/>
                </a:lnTo>
                <a:lnTo>
                  <a:pt x="162" y="0"/>
                </a:lnTo>
                <a:lnTo>
                  <a:pt x="134" y="0"/>
                </a:lnTo>
                <a:lnTo>
                  <a:pt x="134" y="19"/>
                </a:lnTo>
                <a:lnTo>
                  <a:pt x="115" y="19"/>
                </a:lnTo>
                <a:lnTo>
                  <a:pt x="115" y="0"/>
                </a:lnTo>
                <a:lnTo>
                  <a:pt x="85" y="0"/>
                </a:lnTo>
                <a:lnTo>
                  <a:pt x="85" y="24"/>
                </a:lnTo>
                <a:lnTo>
                  <a:pt x="80" y="26"/>
                </a:lnTo>
                <a:lnTo>
                  <a:pt x="73" y="28"/>
                </a:lnTo>
                <a:lnTo>
                  <a:pt x="68" y="31"/>
                </a:lnTo>
                <a:lnTo>
                  <a:pt x="61" y="33"/>
                </a:lnTo>
                <a:lnTo>
                  <a:pt x="52" y="38"/>
                </a:lnTo>
                <a:lnTo>
                  <a:pt x="43" y="43"/>
                </a:lnTo>
                <a:lnTo>
                  <a:pt x="37" y="50"/>
                </a:lnTo>
                <a:lnTo>
                  <a:pt x="30" y="57"/>
                </a:lnTo>
                <a:lnTo>
                  <a:pt x="24" y="66"/>
                </a:lnTo>
                <a:lnTo>
                  <a:pt x="21" y="75"/>
                </a:lnTo>
                <a:lnTo>
                  <a:pt x="19" y="83"/>
                </a:lnTo>
                <a:lnTo>
                  <a:pt x="17" y="94"/>
                </a:lnTo>
                <a:lnTo>
                  <a:pt x="19" y="106"/>
                </a:lnTo>
                <a:lnTo>
                  <a:pt x="21" y="118"/>
                </a:lnTo>
                <a:lnTo>
                  <a:pt x="28" y="129"/>
                </a:lnTo>
                <a:lnTo>
                  <a:pt x="35" y="137"/>
                </a:lnTo>
                <a:lnTo>
                  <a:pt x="43" y="144"/>
                </a:lnTo>
                <a:lnTo>
                  <a:pt x="56" y="151"/>
                </a:lnTo>
                <a:lnTo>
                  <a:pt x="71" y="157"/>
                </a:lnTo>
                <a:lnTo>
                  <a:pt x="87" y="160"/>
                </a:lnTo>
                <a:lnTo>
                  <a:pt x="87" y="231"/>
                </a:lnTo>
                <a:lnTo>
                  <a:pt x="75" y="228"/>
                </a:lnTo>
                <a:lnTo>
                  <a:pt x="64" y="223"/>
                </a:lnTo>
                <a:lnTo>
                  <a:pt x="52" y="216"/>
                </a:lnTo>
                <a:lnTo>
                  <a:pt x="40" y="209"/>
                </a:lnTo>
                <a:lnTo>
                  <a:pt x="45" y="197"/>
                </a:lnTo>
                <a:lnTo>
                  <a:pt x="30" y="190"/>
                </a:lnTo>
                <a:lnTo>
                  <a:pt x="0" y="242"/>
                </a:lnTo>
                <a:lnTo>
                  <a:pt x="16" y="249"/>
                </a:lnTo>
                <a:lnTo>
                  <a:pt x="21" y="240"/>
                </a:lnTo>
                <a:lnTo>
                  <a:pt x="40" y="251"/>
                </a:lnTo>
                <a:lnTo>
                  <a:pt x="66" y="263"/>
                </a:lnTo>
                <a:lnTo>
                  <a:pt x="70" y="265"/>
                </a:lnTo>
                <a:lnTo>
                  <a:pt x="75" y="266"/>
                </a:lnTo>
                <a:lnTo>
                  <a:pt x="80" y="268"/>
                </a:lnTo>
                <a:lnTo>
                  <a:pt x="87" y="270"/>
                </a:lnTo>
                <a:lnTo>
                  <a:pt x="87" y="292"/>
                </a:lnTo>
                <a:lnTo>
                  <a:pt x="115" y="292"/>
                </a:lnTo>
                <a:lnTo>
                  <a:pt x="115" y="273"/>
                </a:lnTo>
                <a:lnTo>
                  <a:pt x="117" y="273"/>
                </a:lnTo>
                <a:lnTo>
                  <a:pt x="118" y="273"/>
                </a:lnTo>
                <a:lnTo>
                  <a:pt x="118" y="273"/>
                </a:lnTo>
                <a:lnTo>
                  <a:pt x="120" y="275"/>
                </a:lnTo>
                <a:lnTo>
                  <a:pt x="127" y="275"/>
                </a:lnTo>
                <a:lnTo>
                  <a:pt x="134" y="273"/>
                </a:lnTo>
                <a:lnTo>
                  <a:pt x="136" y="273"/>
                </a:lnTo>
                <a:lnTo>
                  <a:pt x="136" y="273"/>
                </a:lnTo>
                <a:lnTo>
                  <a:pt x="136" y="273"/>
                </a:lnTo>
                <a:lnTo>
                  <a:pt x="136" y="273"/>
                </a:lnTo>
                <a:lnTo>
                  <a:pt x="134" y="273"/>
                </a:lnTo>
                <a:lnTo>
                  <a:pt x="134" y="292"/>
                </a:lnTo>
                <a:lnTo>
                  <a:pt x="162" y="292"/>
                </a:lnTo>
                <a:lnTo>
                  <a:pt x="162" y="270"/>
                </a:lnTo>
                <a:lnTo>
                  <a:pt x="169" y="268"/>
                </a:lnTo>
                <a:lnTo>
                  <a:pt x="176" y="266"/>
                </a:lnTo>
                <a:lnTo>
                  <a:pt x="183" y="263"/>
                </a:lnTo>
                <a:lnTo>
                  <a:pt x="190" y="261"/>
                </a:lnTo>
                <a:lnTo>
                  <a:pt x="207" y="251"/>
                </a:lnTo>
                <a:lnTo>
                  <a:pt x="219" y="238"/>
                </a:lnTo>
                <a:lnTo>
                  <a:pt x="228" y="226"/>
                </a:lnTo>
                <a:lnTo>
                  <a:pt x="233" y="211"/>
                </a:lnTo>
                <a:lnTo>
                  <a:pt x="233" y="197"/>
                </a:lnTo>
                <a:lnTo>
                  <a:pt x="233" y="181"/>
                </a:lnTo>
                <a:lnTo>
                  <a:pt x="228" y="169"/>
                </a:lnTo>
                <a:lnTo>
                  <a:pt x="221" y="157"/>
                </a:lnTo>
                <a:lnTo>
                  <a:pt x="211" y="146"/>
                </a:lnTo>
                <a:lnTo>
                  <a:pt x="200" y="141"/>
                </a:lnTo>
                <a:lnTo>
                  <a:pt x="188" y="136"/>
                </a:lnTo>
                <a:lnTo>
                  <a:pt x="176" y="132"/>
                </a:lnTo>
                <a:lnTo>
                  <a:pt x="164" y="129"/>
                </a:lnTo>
                <a:lnTo>
                  <a:pt x="164" y="57"/>
                </a:lnTo>
                <a:lnTo>
                  <a:pt x="176" y="61"/>
                </a:lnTo>
                <a:lnTo>
                  <a:pt x="186" y="64"/>
                </a:lnTo>
                <a:lnTo>
                  <a:pt x="195" y="69"/>
                </a:lnTo>
                <a:lnTo>
                  <a:pt x="204" y="76"/>
                </a:lnTo>
                <a:lnTo>
                  <a:pt x="199" y="85"/>
                </a:lnTo>
                <a:lnTo>
                  <a:pt x="212" y="96"/>
                </a:lnTo>
                <a:lnTo>
                  <a:pt x="244" y="41"/>
                </a:lnTo>
                <a:lnTo>
                  <a:pt x="228" y="31"/>
                </a:lnTo>
                <a:lnTo>
                  <a:pt x="221"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4933800" y="3670200"/>
            <a:ext cx="16200" cy="58680"/>
          </a:xfrm>
          <a:custGeom>
            <a:avLst/>
            <a:gdLst/>
            <a:ahLst/>
            <a:rect l="l" t="t" r="r" b="b"/>
            <a:pathLst>
              <a:path w="19" h="73">
                <a:moveTo>
                  <a:pt x="0" y="0"/>
                </a:moveTo>
                <a:lnTo>
                  <a:pt x="10" y="0"/>
                </a:lnTo>
                <a:lnTo>
                  <a:pt x="17" y="0"/>
                </a:lnTo>
                <a:lnTo>
                  <a:pt x="19" y="0"/>
                </a:lnTo>
                <a:lnTo>
                  <a:pt x="19" y="73"/>
                </a:lnTo>
                <a:lnTo>
                  <a:pt x="0" y="71"/>
                </a:lnTo>
                <a:lnTo>
                  <a:pt x="0" y="0"/>
                </a:lnTo>
                <a:close/>
              </a:path>
            </a:pathLst>
          </a:custGeom>
          <a:solidFill>
            <a:srgbClr val="fc0c2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70" name=""/>
          <p:cNvSpPr/>
          <p:nvPr/>
        </p:nvSpPr>
        <p:spPr>
          <a:xfrm>
            <a:off x="4890960" y="3678120"/>
            <a:ext cx="22320" cy="46080"/>
          </a:xfrm>
          <a:custGeom>
            <a:avLst/>
            <a:gdLst/>
            <a:ahLst/>
            <a:rect l="l" t="t" r="r" b="b"/>
            <a:pathLst>
              <a:path w="28" h="59">
                <a:moveTo>
                  <a:pt x="0" y="36"/>
                </a:moveTo>
                <a:lnTo>
                  <a:pt x="2" y="26"/>
                </a:lnTo>
                <a:lnTo>
                  <a:pt x="5" y="17"/>
                </a:lnTo>
                <a:lnTo>
                  <a:pt x="12" y="8"/>
                </a:lnTo>
                <a:lnTo>
                  <a:pt x="21" y="1"/>
                </a:lnTo>
                <a:lnTo>
                  <a:pt x="28" y="0"/>
                </a:lnTo>
                <a:lnTo>
                  <a:pt x="28" y="59"/>
                </a:lnTo>
                <a:lnTo>
                  <a:pt x="16" y="55"/>
                </a:lnTo>
                <a:lnTo>
                  <a:pt x="7" y="50"/>
                </a:lnTo>
                <a:lnTo>
                  <a:pt x="2" y="45"/>
                </a:lnTo>
                <a:lnTo>
                  <a:pt x="0" y="36"/>
                </a:lnTo>
                <a:close/>
              </a:path>
            </a:pathLst>
          </a:custGeom>
          <a:solidFill>
            <a:srgbClr val="fc0c23"/>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1" name=""/>
          <p:cNvSpPr/>
          <p:nvPr/>
        </p:nvSpPr>
        <p:spPr>
          <a:xfrm>
            <a:off x="4971960" y="3763800"/>
            <a:ext cx="25560" cy="49320"/>
          </a:xfrm>
          <a:custGeom>
            <a:avLst/>
            <a:gdLst/>
            <a:ahLst/>
            <a:rect l="l" t="t" r="r" b="b"/>
            <a:pathLst>
              <a:path w="31" h="62">
                <a:moveTo>
                  <a:pt x="9" y="59"/>
                </a:moveTo>
                <a:lnTo>
                  <a:pt x="0" y="62"/>
                </a:lnTo>
                <a:lnTo>
                  <a:pt x="0" y="0"/>
                </a:lnTo>
                <a:lnTo>
                  <a:pt x="14" y="3"/>
                </a:lnTo>
                <a:lnTo>
                  <a:pt x="24" y="10"/>
                </a:lnTo>
                <a:lnTo>
                  <a:pt x="30" y="17"/>
                </a:lnTo>
                <a:lnTo>
                  <a:pt x="31" y="28"/>
                </a:lnTo>
                <a:lnTo>
                  <a:pt x="30" y="36"/>
                </a:lnTo>
                <a:lnTo>
                  <a:pt x="28" y="43"/>
                </a:lnTo>
                <a:lnTo>
                  <a:pt x="23" y="50"/>
                </a:lnTo>
                <a:lnTo>
                  <a:pt x="17" y="55"/>
                </a:lnTo>
                <a:lnTo>
                  <a:pt x="9" y="59"/>
                </a:lnTo>
                <a:close/>
              </a:path>
            </a:pathLst>
          </a:custGeom>
          <a:solidFill>
            <a:srgbClr val="fc0c23"/>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Mode plan </a:t>
            </a:r>
            <a:endParaRPr b="0" lang="en-US" sz="2800" spc="-1" strike="noStrike">
              <a:solidFill>
                <a:srgbClr val="3333cc"/>
              </a:solidFill>
              <a:latin typeface="Arial"/>
            </a:endParaRPr>
          </a:p>
        </p:txBody>
      </p:sp>
      <p:pic>
        <p:nvPicPr>
          <p:cNvPr id="105" name="" descr=""/>
          <p:cNvPicPr/>
          <p:nvPr/>
        </p:nvPicPr>
        <p:blipFill>
          <a:blip r:embed="rId1"/>
          <a:stretch/>
        </p:blipFill>
        <p:spPr>
          <a:xfrm>
            <a:off x="457200" y="762120"/>
            <a:ext cx="7802640" cy="5851440"/>
          </a:xfrm>
          <a:prstGeom prst="rect">
            <a:avLst/>
          </a:prstGeom>
          <a:ln w="0">
            <a:noFill/>
          </a:ln>
        </p:spPr>
      </p:pic>
      <p:sp>
        <p:nvSpPr>
          <p:cNvPr id="106" name=""/>
          <p:cNvSpPr/>
          <p:nvPr/>
        </p:nvSpPr>
        <p:spPr>
          <a:xfrm>
            <a:off x="2530440" y="2273400"/>
            <a:ext cx="6172200" cy="1922760"/>
          </a:xfrm>
          <a:prstGeom prst="rect">
            <a:avLst/>
          </a:prstGeom>
          <a:solidFill>
            <a:srgbClr val="ffff00"/>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urier New"/>
              </a:rPr>
              <a:t>Abaisse(augmente) le paragraphe sélectionné au niveau de titre immédiatement inférieur(supérieur) (d'un niveau vers la droite(gauche)).</a:t>
            </a:r>
            <a:endParaRPr b="0" lang="en-US" sz="2400" spc="-1" strike="noStrike">
              <a:solidFill>
                <a:srgbClr val="000000"/>
              </a:solidFill>
              <a:latin typeface="Times New Roman"/>
            </a:endParaRPr>
          </a:p>
        </p:txBody>
      </p:sp>
      <p:sp>
        <p:nvSpPr>
          <p:cNvPr id="107" name=""/>
          <p:cNvSpPr/>
          <p:nvPr/>
        </p:nvSpPr>
        <p:spPr>
          <a:xfrm flipH="1" flipV="1">
            <a:off x="685800" y="1904760"/>
            <a:ext cx="1844640" cy="368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186000" y="1693800"/>
            <a:ext cx="5514840" cy="398880"/>
          </a:xfrm>
          <a:prstGeom prst="rect">
            <a:avLst/>
          </a:prstGeom>
          <a:solidFill>
            <a:srgbClr val="ffff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Boutons pour structurer le document</a:t>
            </a:r>
            <a:endParaRPr b="0" lang="en-US" sz="2000" spc="-1" strike="noStrike">
              <a:solidFill>
                <a:srgbClr val="000000"/>
              </a:solidFill>
              <a:latin typeface="Times New Roman"/>
            </a:endParaRPr>
          </a:p>
        </p:txBody>
      </p:sp>
      <p:sp>
        <p:nvSpPr>
          <p:cNvPr id="109" name=""/>
          <p:cNvSpPr/>
          <p:nvPr/>
        </p:nvSpPr>
        <p:spPr>
          <a:xfrm flipH="1">
            <a:off x="761760" y="1828800"/>
            <a:ext cx="243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1179720" y="4644000"/>
            <a:ext cx="3838320" cy="398880"/>
          </a:xfrm>
          <a:prstGeom prst="rect">
            <a:avLst/>
          </a:prstGeom>
          <a:solidFill>
            <a:srgbClr val="ffff00"/>
          </a:solidFill>
          <a:ln w="0">
            <a:noFill/>
          </a:ln>
          <a:effectLst>
            <a:outerShdw dist="153753"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Déplacer une diapositive</a:t>
            </a:r>
            <a:endParaRPr b="0" lang="en-US" sz="2000" spc="-1" strike="noStrike">
              <a:solidFill>
                <a:srgbClr val="000000"/>
              </a:solidFill>
              <a:latin typeface="Times New Roman"/>
            </a:endParaRPr>
          </a:p>
        </p:txBody>
      </p:sp>
      <p:sp>
        <p:nvSpPr>
          <p:cNvPr id="111" name=""/>
          <p:cNvSpPr/>
          <p:nvPr/>
        </p:nvSpPr>
        <p:spPr>
          <a:xfrm flipH="1" flipV="1">
            <a:off x="685440" y="2273400"/>
            <a:ext cx="1328760" cy="237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Mode diapositive</a:t>
            </a:r>
            <a:endParaRPr b="0" lang="en-US" sz="2800" spc="-1" strike="noStrike">
              <a:solidFill>
                <a:srgbClr val="3333cc"/>
              </a:solidFill>
              <a:latin typeface="Arial"/>
            </a:endParaRPr>
          </a:p>
        </p:txBody>
      </p:sp>
      <p:sp>
        <p:nvSpPr>
          <p:cNvPr id="113"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4" name="" descr=""/>
          <p:cNvPicPr/>
          <p:nvPr/>
        </p:nvPicPr>
        <p:blipFill>
          <a:blip r:embed="rId1"/>
          <a:stretch/>
        </p:blipFill>
        <p:spPr>
          <a:xfrm>
            <a:off x="685800" y="762120"/>
            <a:ext cx="7802640" cy="5851440"/>
          </a:xfrm>
          <a:prstGeom prst="rect">
            <a:avLst/>
          </a:prstGeom>
          <a:ln w="0">
            <a:noFill/>
          </a:ln>
          <a:effectLst>
            <a:outerShdw dist="107932" dir="8100000" blurRad="0" rotWithShape="0">
              <a:srgbClr val="808080"/>
            </a:outerShdw>
          </a:effectLst>
        </p:spPr>
      </p:pic>
      <p:sp>
        <p:nvSpPr>
          <p:cNvPr id="115" name=""/>
          <p:cNvSpPr/>
          <p:nvPr/>
        </p:nvSpPr>
        <p:spPr>
          <a:xfrm>
            <a:off x="976320" y="4818240"/>
            <a:ext cx="4143240" cy="398880"/>
          </a:xfrm>
          <a:prstGeom prst="rect">
            <a:avLst/>
          </a:prstGeom>
          <a:solidFill>
            <a:srgbClr val="ffff00"/>
          </a:solidFill>
          <a:ln w="0">
            <a:noFill/>
          </a:ln>
          <a:effectLst>
            <a:outerShdw dist="17819" dir="2700000" blurRad="0" rotWithShape="0">
              <a:srgbClr val="9898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Passez en mode diapositive</a:t>
            </a:r>
            <a:endParaRPr b="0" lang="en-US" sz="2000" spc="-1" strike="noStrike">
              <a:solidFill>
                <a:srgbClr val="000000"/>
              </a:solidFill>
              <a:latin typeface="Times New Roman"/>
            </a:endParaRPr>
          </a:p>
        </p:txBody>
      </p:sp>
      <p:sp>
        <p:nvSpPr>
          <p:cNvPr id="116" name=""/>
          <p:cNvSpPr/>
          <p:nvPr/>
        </p:nvSpPr>
        <p:spPr>
          <a:xfrm flipH="1">
            <a:off x="761760" y="5181480"/>
            <a:ext cx="15228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5257800" y="2743200"/>
            <a:ext cx="3352680" cy="1008720"/>
          </a:xfrm>
          <a:prstGeom prst="rect">
            <a:avLst/>
          </a:prstGeom>
          <a:solidFill>
            <a:srgbClr val="ffff00"/>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Nous allons créer notre propre masque de diapo.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cc"/>
              </a:solidFill>
              <a:latin typeface="Arial"/>
            </a:endParaRPr>
          </a:p>
        </p:txBody>
      </p:sp>
      <p:sp>
        <p:nvSpPr>
          <p:cNvPr id="119"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0" name="" descr=""/>
          <p:cNvPicPr/>
          <p:nvPr/>
        </p:nvPicPr>
        <p:blipFill>
          <a:blip r:embed="rId1"/>
          <a:stretch/>
        </p:blipFill>
        <p:spPr>
          <a:xfrm>
            <a:off x="609480" y="838080"/>
            <a:ext cx="7802640" cy="5851800"/>
          </a:xfrm>
          <a:prstGeom prst="rect">
            <a:avLst/>
          </a:prstGeom>
          <a:ln w="0">
            <a:noFill/>
          </a:ln>
        </p:spPr>
      </p:pic>
      <p:sp>
        <p:nvSpPr>
          <p:cNvPr id="121" name=""/>
          <p:cNvSpPr/>
          <p:nvPr/>
        </p:nvSpPr>
        <p:spPr>
          <a:xfrm>
            <a:off x="3888000" y="3962520"/>
            <a:ext cx="5362200" cy="1618560"/>
          </a:xfrm>
          <a:prstGeom prst="rect">
            <a:avLst/>
          </a:prstGeom>
          <a:solidFill>
            <a:srgbClr val="ffff00"/>
          </a:solidFill>
          <a:ln w="0">
            <a:noFill/>
          </a:ln>
          <a:effectLst>
            <a:outerShdw dist="107932" dir="189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Modifier le style du tit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et du tex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Déplacer le titre et le tex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Revenir ensuite en affichage diap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Dessiner des objets et écrire du texte</a:t>
            </a:r>
            <a:endParaRPr b="0" lang="en-US" sz="2800" spc="-1" strike="noStrike">
              <a:solidFill>
                <a:srgbClr val="3333cc"/>
              </a:solidFill>
              <a:latin typeface="Arial"/>
            </a:endParaRPr>
          </a:p>
        </p:txBody>
      </p:sp>
      <p:sp>
        <p:nvSpPr>
          <p:cNvPr id="123" name=""/>
          <p:cNvSpPr/>
          <p:nvPr/>
        </p:nvSpPr>
        <p:spPr>
          <a:xfrm>
            <a:off x="1371600" y="1905120"/>
            <a:ext cx="2438280" cy="2590560"/>
          </a:xfrm>
          <a:prstGeom prst="ellipse">
            <a:avLst/>
          </a:prstGeom>
          <a:solidFill>
            <a:srgbClr val="00cc99"/>
          </a:solidFill>
          <a:ln w="9360">
            <a:solidFill>
              <a:srgbClr val="000000"/>
            </a:solidFill>
            <a:miter/>
          </a:ln>
          <a:effectLst>
            <a:outerShdw dist="107932" dir="189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666880" y="4038480"/>
            <a:ext cx="1143000" cy="1981440"/>
          </a:xfrm>
          <a:prstGeom prst="rect">
            <a:avLst/>
          </a:prstGeom>
          <a:gradFill rotWithShape="0">
            <a:gsLst>
              <a:gs pos="0">
                <a:srgbClr val="fefefe"/>
              </a:gs>
              <a:gs pos="100000">
                <a:srgbClr val="000000"/>
              </a:gs>
            </a:gsLst>
            <a:lin ang="5400000"/>
          </a:gra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419720" y="4952880"/>
            <a:ext cx="3276360" cy="1008720"/>
          </a:xfrm>
          <a:prstGeom prst="rect">
            <a:avLst/>
          </a:prstGeom>
          <a:solidFill>
            <a:srgbClr val="ffff00"/>
          </a:solidFill>
          <a:ln w="0">
            <a:noFill/>
          </a:ln>
          <a:effectLst>
            <a:outerShdw dist="107932" dir="189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Vérifier que ce Blabla n</a:t>
            </a:r>
            <a:r>
              <a:rPr b="0" lang="fr-FR" sz="2000" spc="-1" strike="noStrike">
                <a:solidFill>
                  <a:srgbClr val="3333cc"/>
                </a:solidFill>
                <a:latin typeface="Times New Roman"/>
              </a:rPr>
              <a:t>’apparaît pas</a:t>
            </a:r>
            <a:r>
              <a:rPr b="0" lang="fr-FR" sz="2000" spc="-1" strike="noStrike">
                <a:solidFill>
                  <a:srgbClr val="000000"/>
                </a:solidFill>
                <a:latin typeface="Times New Roman"/>
              </a:rPr>
              <a:t> dans le mode plan.  </a:t>
            </a:r>
            <a:endParaRPr b="0" lang="en-US" sz="2000" spc="-1" strike="noStrike">
              <a:solidFill>
                <a:srgbClr val="000000"/>
              </a:solidFill>
              <a:latin typeface="Times New Roman"/>
            </a:endParaRPr>
          </a:p>
        </p:txBody>
      </p:sp>
      <p:sp>
        <p:nvSpPr>
          <p:cNvPr id="126" name=""/>
          <p:cNvSpPr/>
          <p:nvPr/>
        </p:nvSpPr>
        <p:spPr>
          <a:xfrm>
            <a:off x="2897280" y="990720"/>
            <a:ext cx="5057640" cy="703800"/>
          </a:xfrm>
          <a:prstGeom prst="rect">
            <a:avLst/>
          </a:prstGeom>
          <a:solidFill>
            <a:srgbClr val="ffff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Vous pouvez dessiner des form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insérer des images ...</a:t>
            </a:r>
            <a:endParaRPr b="0" lang="en-US" sz="2000" spc="-1" strike="noStrike">
              <a:solidFill>
                <a:srgbClr val="000000"/>
              </a:solidFill>
              <a:latin typeface="Times New Roman"/>
            </a:endParaRPr>
          </a:p>
        </p:txBody>
      </p:sp>
      <p:grpSp>
        <p:nvGrpSpPr>
          <p:cNvPr id="127" name=""/>
          <p:cNvGrpSpPr/>
          <p:nvPr/>
        </p:nvGrpSpPr>
        <p:grpSpPr>
          <a:xfrm>
            <a:off x="5638680" y="1905120"/>
            <a:ext cx="2730240" cy="2678040"/>
            <a:chOff x="5638680" y="1905120"/>
            <a:chExt cx="2730240" cy="2678040"/>
          </a:xfrm>
        </p:grpSpPr>
        <p:sp>
          <p:nvSpPr>
            <p:cNvPr id="128" name=""/>
            <p:cNvSpPr/>
            <p:nvPr/>
          </p:nvSpPr>
          <p:spPr>
            <a:xfrm>
              <a:off x="5638680" y="1905120"/>
              <a:ext cx="2730240" cy="2678040"/>
            </a:xfrm>
            <a:custGeom>
              <a:avLst/>
              <a:gdLst/>
              <a:ahLst/>
              <a:rect l="l" t="t" r="r" b="b"/>
              <a:pathLst>
                <a:path w="3440" h="3374">
                  <a:moveTo>
                    <a:pt x="0" y="42"/>
                  </a:moveTo>
                  <a:lnTo>
                    <a:pt x="251" y="2970"/>
                  </a:lnTo>
                  <a:lnTo>
                    <a:pt x="489" y="2968"/>
                  </a:lnTo>
                  <a:lnTo>
                    <a:pt x="425" y="3358"/>
                  </a:lnTo>
                  <a:lnTo>
                    <a:pt x="535" y="3358"/>
                  </a:lnTo>
                  <a:lnTo>
                    <a:pt x="772" y="2966"/>
                  </a:lnTo>
                  <a:lnTo>
                    <a:pt x="2804" y="2949"/>
                  </a:lnTo>
                  <a:lnTo>
                    <a:pt x="3062" y="3374"/>
                  </a:lnTo>
                  <a:lnTo>
                    <a:pt x="3217" y="3374"/>
                  </a:lnTo>
                  <a:lnTo>
                    <a:pt x="3078" y="2947"/>
                  </a:lnTo>
                  <a:lnTo>
                    <a:pt x="3290" y="2945"/>
                  </a:lnTo>
                  <a:lnTo>
                    <a:pt x="3440" y="0"/>
                  </a:lnTo>
                  <a:lnTo>
                    <a:pt x="0" y="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6022800" y="4259520"/>
              <a:ext cx="181080" cy="271440"/>
            </a:xfrm>
            <a:custGeom>
              <a:avLst/>
              <a:gdLst/>
              <a:ahLst/>
              <a:rect l="l" t="t" r="r" b="b"/>
              <a:pathLst>
                <a:path w="228" h="342">
                  <a:moveTo>
                    <a:pt x="23" y="342"/>
                  </a:moveTo>
                  <a:lnTo>
                    <a:pt x="0" y="342"/>
                  </a:lnTo>
                  <a:lnTo>
                    <a:pt x="56" y="2"/>
                  </a:lnTo>
                  <a:lnTo>
                    <a:pt x="228" y="0"/>
                  </a:lnTo>
                  <a:lnTo>
                    <a:pt x="23" y="34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910280" y="4245120"/>
              <a:ext cx="228600" cy="299880"/>
            </a:xfrm>
            <a:custGeom>
              <a:avLst/>
              <a:gdLst/>
              <a:ahLst/>
              <a:rect l="l" t="t" r="r" b="b"/>
              <a:pathLst>
                <a:path w="287" h="378">
                  <a:moveTo>
                    <a:pt x="287" y="378"/>
                  </a:moveTo>
                  <a:lnTo>
                    <a:pt x="228" y="378"/>
                  </a:lnTo>
                  <a:lnTo>
                    <a:pt x="0" y="2"/>
                  </a:lnTo>
                  <a:lnTo>
                    <a:pt x="163" y="0"/>
                  </a:lnTo>
                  <a:lnTo>
                    <a:pt x="287" y="37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681520" y="1944720"/>
              <a:ext cx="2646360" cy="2278080"/>
            </a:xfrm>
            <a:custGeom>
              <a:avLst/>
              <a:gdLst/>
              <a:ahLst/>
              <a:rect l="l" t="t" r="r" b="b"/>
              <a:pathLst>
                <a:path w="3334" h="2870">
                  <a:moveTo>
                    <a:pt x="3189" y="2845"/>
                  </a:moveTo>
                  <a:lnTo>
                    <a:pt x="242" y="2870"/>
                  </a:lnTo>
                  <a:lnTo>
                    <a:pt x="0" y="40"/>
                  </a:lnTo>
                  <a:lnTo>
                    <a:pt x="3334" y="0"/>
                  </a:lnTo>
                  <a:lnTo>
                    <a:pt x="3189" y="28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843520" y="2036880"/>
              <a:ext cx="2338200" cy="2082960"/>
            </a:xfrm>
            <a:custGeom>
              <a:avLst/>
              <a:gdLst/>
              <a:ahLst/>
              <a:rect l="l" t="t" r="r" b="b"/>
              <a:pathLst>
                <a:path w="2945" h="2624">
                  <a:moveTo>
                    <a:pt x="2929" y="62"/>
                  </a:moveTo>
                  <a:lnTo>
                    <a:pt x="2928" y="40"/>
                  </a:lnTo>
                  <a:lnTo>
                    <a:pt x="2907" y="38"/>
                  </a:lnTo>
                  <a:lnTo>
                    <a:pt x="2905" y="38"/>
                  </a:lnTo>
                  <a:lnTo>
                    <a:pt x="2900" y="38"/>
                  </a:lnTo>
                  <a:lnTo>
                    <a:pt x="2891" y="36"/>
                  </a:lnTo>
                  <a:lnTo>
                    <a:pt x="2879" y="36"/>
                  </a:lnTo>
                  <a:lnTo>
                    <a:pt x="2865" y="36"/>
                  </a:lnTo>
                  <a:lnTo>
                    <a:pt x="2848" y="34"/>
                  </a:lnTo>
                  <a:lnTo>
                    <a:pt x="2827" y="33"/>
                  </a:lnTo>
                  <a:lnTo>
                    <a:pt x="2802" y="33"/>
                  </a:lnTo>
                  <a:lnTo>
                    <a:pt x="2776" y="31"/>
                  </a:lnTo>
                  <a:lnTo>
                    <a:pt x="2747" y="29"/>
                  </a:lnTo>
                  <a:lnTo>
                    <a:pt x="2713" y="27"/>
                  </a:lnTo>
                  <a:lnTo>
                    <a:pt x="2679" y="26"/>
                  </a:lnTo>
                  <a:lnTo>
                    <a:pt x="2640" y="24"/>
                  </a:lnTo>
                  <a:lnTo>
                    <a:pt x="2600" y="22"/>
                  </a:lnTo>
                  <a:lnTo>
                    <a:pt x="2557" y="20"/>
                  </a:lnTo>
                  <a:lnTo>
                    <a:pt x="2511" y="19"/>
                  </a:lnTo>
                  <a:lnTo>
                    <a:pt x="2463" y="17"/>
                  </a:lnTo>
                  <a:lnTo>
                    <a:pt x="2412" y="15"/>
                  </a:lnTo>
                  <a:lnTo>
                    <a:pt x="2358" y="14"/>
                  </a:lnTo>
                  <a:lnTo>
                    <a:pt x="2302" y="12"/>
                  </a:lnTo>
                  <a:lnTo>
                    <a:pt x="2243" y="10"/>
                  </a:lnTo>
                  <a:lnTo>
                    <a:pt x="2182" y="10"/>
                  </a:lnTo>
                  <a:lnTo>
                    <a:pt x="2120" y="8"/>
                  </a:lnTo>
                  <a:lnTo>
                    <a:pt x="2055" y="7"/>
                  </a:lnTo>
                  <a:lnTo>
                    <a:pt x="1987" y="5"/>
                  </a:lnTo>
                  <a:lnTo>
                    <a:pt x="1917" y="3"/>
                  </a:lnTo>
                  <a:lnTo>
                    <a:pt x="1844" y="3"/>
                  </a:lnTo>
                  <a:lnTo>
                    <a:pt x="1771" y="1"/>
                  </a:lnTo>
                  <a:lnTo>
                    <a:pt x="1695" y="1"/>
                  </a:lnTo>
                  <a:lnTo>
                    <a:pt x="1616" y="0"/>
                  </a:lnTo>
                  <a:lnTo>
                    <a:pt x="1536" y="0"/>
                  </a:lnTo>
                  <a:lnTo>
                    <a:pt x="1454" y="0"/>
                  </a:lnTo>
                  <a:lnTo>
                    <a:pt x="1372" y="0"/>
                  </a:lnTo>
                  <a:lnTo>
                    <a:pt x="1292" y="0"/>
                  </a:lnTo>
                  <a:lnTo>
                    <a:pt x="1214" y="1"/>
                  </a:lnTo>
                  <a:lnTo>
                    <a:pt x="1139" y="3"/>
                  </a:lnTo>
                  <a:lnTo>
                    <a:pt x="1064" y="3"/>
                  </a:lnTo>
                  <a:lnTo>
                    <a:pt x="993" y="7"/>
                  </a:lnTo>
                  <a:lnTo>
                    <a:pt x="925" y="8"/>
                  </a:lnTo>
                  <a:lnTo>
                    <a:pt x="857" y="10"/>
                  </a:lnTo>
                  <a:lnTo>
                    <a:pt x="792" y="14"/>
                  </a:lnTo>
                  <a:lnTo>
                    <a:pt x="730" y="15"/>
                  </a:lnTo>
                  <a:lnTo>
                    <a:pt x="670" y="19"/>
                  </a:lnTo>
                  <a:lnTo>
                    <a:pt x="613" y="22"/>
                  </a:lnTo>
                  <a:lnTo>
                    <a:pt x="557" y="26"/>
                  </a:lnTo>
                  <a:lnTo>
                    <a:pt x="505" y="29"/>
                  </a:lnTo>
                  <a:lnTo>
                    <a:pt x="454" y="33"/>
                  </a:lnTo>
                  <a:lnTo>
                    <a:pt x="407" y="36"/>
                  </a:lnTo>
                  <a:lnTo>
                    <a:pt x="362" y="40"/>
                  </a:lnTo>
                  <a:lnTo>
                    <a:pt x="320" y="43"/>
                  </a:lnTo>
                  <a:lnTo>
                    <a:pt x="280" y="47"/>
                  </a:lnTo>
                  <a:lnTo>
                    <a:pt x="244" y="50"/>
                  </a:lnTo>
                  <a:lnTo>
                    <a:pt x="209" y="54"/>
                  </a:lnTo>
                  <a:lnTo>
                    <a:pt x="177" y="55"/>
                  </a:lnTo>
                  <a:lnTo>
                    <a:pt x="148" y="59"/>
                  </a:lnTo>
                  <a:lnTo>
                    <a:pt x="122" y="62"/>
                  </a:lnTo>
                  <a:lnTo>
                    <a:pt x="99" y="64"/>
                  </a:lnTo>
                  <a:lnTo>
                    <a:pt x="78" y="68"/>
                  </a:lnTo>
                  <a:lnTo>
                    <a:pt x="62" y="69"/>
                  </a:lnTo>
                  <a:lnTo>
                    <a:pt x="47" y="71"/>
                  </a:lnTo>
                  <a:lnTo>
                    <a:pt x="36" y="73"/>
                  </a:lnTo>
                  <a:lnTo>
                    <a:pt x="28" y="73"/>
                  </a:lnTo>
                  <a:lnTo>
                    <a:pt x="22" y="75"/>
                  </a:lnTo>
                  <a:lnTo>
                    <a:pt x="21" y="75"/>
                  </a:lnTo>
                  <a:lnTo>
                    <a:pt x="0" y="76"/>
                  </a:lnTo>
                  <a:lnTo>
                    <a:pt x="0" y="99"/>
                  </a:lnTo>
                  <a:lnTo>
                    <a:pt x="0" y="129"/>
                  </a:lnTo>
                  <a:lnTo>
                    <a:pt x="2" y="207"/>
                  </a:lnTo>
                  <a:lnTo>
                    <a:pt x="5" y="327"/>
                  </a:lnTo>
                  <a:lnTo>
                    <a:pt x="12" y="484"/>
                  </a:lnTo>
                  <a:lnTo>
                    <a:pt x="19" y="671"/>
                  </a:lnTo>
                  <a:lnTo>
                    <a:pt x="31" y="880"/>
                  </a:lnTo>
                  <a:lnTo>
                    <a:pt x="45" y="1103"/>
                  </a:lnTo>
                  <a:lnTo>
                    <a:pt x="64" y="1336"/>
                  </a:lnTo>
                  <a:lnTo>
                    <a:pt x="87" y="1568"/>
                  </a:lnTo>
                  <a:lnTo>
                    <a:pt x="111" y="1788"/>
                  </a:lnTo>
                  <a:lnTo>
                    <a:pt x="136" y="1993"/>
                  </a:lnTo>
                  <a:lnTo>
                    <a:pt x="158" y="2175"/>
                  </a:lnTo>
                  <a:lnTo>
                    <a:pt x="179" y="2328"/>
                  </a:lnTo>
                  <a:lnTo>
                    <a:pt x="195" y="2446"/>
                  </a:lnTo>
                  <a:lnTo>
                    <a:pt x="205" y="2523"/>
                  </a:lnTo>
                  <a:lnTo>
                    <a:pt x="211" y="2551"/>
                  </a:lnTo>
                  <a:lnTo>
                    <a:pt x="212" y="2570"/>
                  </a:lnTo>
                  <a:lnTo>
                    <a:pt x="231" y="2572"/>
                  </a:lnTo>
                  <a:lnTo>
                    <a:pt x="233" y="2572"/>
                  </a:lnTo>
                  <a:lnTo>
                    <a:pt x="240" y="2572"/>
                  </a:lnTo>
                  <a:lnTo>
                    <a:pt x="249" y="2574"/>
                  </a:lnTo>
                  <a:lnTo>
                    <a:pt x="259" y="2574"/>
                  </a:lnTo>
                  <a:lnTo>
                    <a:pt x="275" y="2575"/>
                  </a:lnTo>
                  <a:lnTo>
                    <a:pt x="292" y="2577"/>
                  </a:lnTo>
                  <a:lnTo>
                    <a:pt x="313" y="2579"/>
                  </a:lnTo>
                  <a:lnTo>
                    <a:pt x="338" y="2581"/>
                  </a:lnTo>
                  <a:lnTo>
                    <a:pt x="364" y="2582"/>
                  </a:lnTo>
                  <a:lnTo>
                    <a:pt x="393" y="2586"/>
                  </a:lnTo>
                  <a:lnTo>
                    <a:pt x="425" y="2588"/>
                  </a:lnTo>
                  <a:lnTo>
                    <a:pt x="458" y="2589"/>
                  </a:lnTo>
                  <a:lnTo>
                    <a:pt x="494" y="2593"/>
                  </a:lnTo>
                  <a:lnTo>
                    <a:pt x="533" y="2595"/>
                  </a:lnTo>
                  <a:lnTo>
                    <a:pt x="575" y="2598"/>
                  </a:lnTo>
                  <a:lnTo>
                    <a:pt x="616" y="2600"/>
                  </a:lnTo>
                  <a:lnTo>
                    <a:pt x="662" y="2603"/>
                  </a:lnTo>
                  <a:lnTo>
                    <a:pt x="709" y="2605"/>
                  </a:lnTo>
                  <a:lnTo>
                    <a:pt x="757" y="2607"/>
                  </a:lnTo>
                  <a:lnTo>
                    <a:pt x="808" y="2610"/>
                  </a:lnTo>
                  <a:lnTo>
                    <a:pt x="860" y="2612"/>
                  </a:lnTo>
                  <a:lnTo>
                    <a:pt x="914" y="2614"/>
                  </a:lnTo>
                  <a:lnTo>
                    <a:pt x="970" y="2617"/>
                  </a:lnTo>
                  <a:lnTo>
                    <a:pt x="1027" y="2619"/>
                  </a:lnTo>
                  <a:lnTo>
                    <a:pt x="1087" y="2621"/>
                  </a:lnTo>
                  <a:lnTo>
                    <a:pt x="1146" y="2621"/>
                  </a:lnTo>
                  <a:lnTo>
                    <a:pt x="1207" y="2622"/>
                  </a:lnTo>
                  <a:lnTo>
                    <a:pt x="1270" y="2624"/>
                  </a:lnTo>
                  <a:lnTo>
                    <a:pt x="1332" y="2624"/>
                  </a:lnTo>
                  <a:lnTo>
                    <a:pt x="1397" y="2624"/>
                  </a:lnTo>
                  <a:lnTo>
                    <a:pt x="1461" y="2624"/>
                  </a:lnTo>
                  <a:lnTo>
                    <a:pt x="1527" y="2624"/>
                  </a:lnTo>
                  <a:lnTo>
                    <a:pt x="1594" y="2624"/>
                  </a:lnTo>
                  <a:lnTo>
                    <a:pt x="1658" y="2622"/>
                  </a:lnTo>
                  <a:lnTo>
                    <a:pt x="1722" y="2621"/>
                  </a:lnTo>
                  <a:lnTo>
                    <a:pt x="1785" y="2619"/>
                  </a:lnTo>
                  <a:lnTo>
                    <a:pt x="1846" y="2617"/>
                  </a:lnTo>
                  <a:lnTo>
                    <a:pt x="1905" y="2615"/>
                  </a:lnTo>
                  <a:lnTo>
                    <a:pt x="1965" y="2614"/>
                  </a:lnTo>
                  <a:lnTo>
                    <a:pt x="2022" y="2610"/>
                  </a:lnTo>
                  <a:lnTo>
                    <a:pt x="2078" y="2608"/>
                  </a:lnTo>
                  <a:lnTo>
                    <a:pt x="2132" y="2605"/>
                  </a:lnTo>
                  <a:lnTo>
                    <a:pt x="2184" y="2602"/>
                  </a:lnTo>
                  <a:lnTo>
                    <a:pt x="2234" y="2598"/>
                  </a:lnTo>
                  <a:lnTo>
                    <a:pt x="2283" y="2596"/>
                  </a:lnTo>
                  <a:lnTo>
                    <a:pt x="2330" y="2593"/>
                  </a:lnTo>
                  <a:lnTo>
                    <a:pt x="2376" y="2589"/>
                  </a:lnTo>
                  <a:lnTo>
                    <a:pt x="2419" y="2586"/>
                  </a:lnTo>
                  <a:lnTo>
                    <a:pt x="2461" y="2582"/>
                  </a:lnTo>
                  <a:lnTo>
                    <a:pt x="2499" y="2579"/>
                  </a:lnTo>
                  <a:lnTo>
                    <a:pt x="2536" y="2575"/>
                  </a:lnTo>
                  <a:lnTo>
                    <a:pt x="2571" y="2572"/>
                  </a:lnTo>
                  <a:lnTo>
                    <a:pt x="2602" y="2570"/>
                  </a:lnTo>
                  <a:lnTo>
                    <a:pt x="2632" y="2567"/>
                  </a:lnTo>
                  <a:lnTo>
                    <a:pt x="2659" y="2565"/>
                  </a:lnTo>
                  <a:lnTo>
                    <a:pt x="2684" y="2561"/>
                  </a:lnTo>
                  <a:lnTo>
                    <a:pt x="2706" y="2560"/>
                  </a:lnTo>
                  <a:lnTo>
                    <a:pt x="2726" y="2558"/>
                  </a:lnTo>
                  <a:lnTo>
                    <a:pt x="2743" y="2556"/>
                  </a:lnTo>
                  <a:lnTo>
                    <a:pt x="2757" y="2554"/>
                  </a:lnTo>
                  <a:lnTo>
                    <a:pt x="2767" y="2553"/>
                  </a:lnTo>
                  <a:lnTo>
                    <a:pt x="2776" y="2551"/>
                  </a:lnTo>
                  <a:lnTo>
                    <a:pt x="2781" y="2551"/>
                  </a:lnTo>
                  <a:lnTo>
                    <a:pt x="2783" y="2551"/>
                  </a:lnTo>
                  <a:lnTo>
                    <a:pt x="2802" y="2547"/>
                  </a:lnTo>
                  <a:lnTo>
                    <a:pt x="2804" y="2528"/>
                  </a:lnTo>
                  <a:lnTo>
                    <a:pt x="2808" y="2500"/>
                  </a:lnTo>
                  <a:lnTo>
                    <a:pt x="2816" y="2424"/>
                  </a:lnTo>
                  <a:lnTo>
                    <a:pt x="2832" y="2304"/>
                  </a:lnTo>
                  <a:lnTo>
                    <a:pt x="2849" y="2145"/>
                  </a:lnTo>
                  <a:lnTo>
                    <a:pt x="2868" y="1957"/>
                  </a:lnTo>
                  <a:lnTo>
                    <a:pt x="2889" y="1742"/>
                  </a:lnTo>
                  <a:lnTo>
                    <a:pt x="2909" y="1509"/>
                  </a:lnTo>
                  <a:lnTo>
                    <a:pt x="2926" y="1261"/>
                  </a:lnTo>
                  <a:lnTo>
                    <a:pt x="2945" y="789"/>
                  </a:lnTo>
                  <a:lnTo>
                    <a:pt x="2943" y="409"/>
                  </a:lnTo>
                  <a:lnTo>
                    <a:pt x="2935" y="156"/>
                  </a:lnTo>
                  <a:lnTo>
                    <a:pt x="2929"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883120" y="2076480"/>
              <a:ext cx="2259000" cy="2003400"/>
            </a:xfrm>
            <a:custGeom>
              <a:avLst/>
              <a:gdLst/>
              <a:ahLst/>
              <a:rect l="l" t="t" r="r" b="b"/>
              <a:pathLst>
                <a:path w="2846" h="2524">
                  <a:moveTo>
                    <a:pt x="2825" y="1208"/>
                  </a:moveTo>
                  <a:lnTo>
                    <a:pt x="2810" y="1431"/>
                  </a:lnTo>
                  <a:lnTo>
                    <a:pt x="2792" y="1644"/>
                  </a:lnTo>
                  <a:lnTo>
                    <a:pt x="2775" y="1840"/>
                  </a:lnTo>
                  <a:lnTo>
                    <a:pt x="2758" y="2018"/>
                  </a:lnTo>
                  <a:lnTo>
                    <a:pt x="2740" y="2172"/>
                  </a:lnTo>
                  <a:lnTo>
                    <a:pt x="2726" y="2299"/>
                  </a:lnTo>
                  <a:lnTo>
                    <a:pt x="2714" y="2395"/>
                  </a:lnTo>
                  <a:lnTo>
                    <a:pt x="2707" y="2454"/>
                  </a:lnTo>
                  <a:lnTo>
                    <a:pt x="2697" y="2456"/>
                  </a:lnTo>
                  <a:lnTo>
                    <a:pt x="2684" y="2457"/>
                  </a:lnTo>
                  <a:lnTo>
                    <a:pt x="2669" y="2459"/>
                  </a:lnTo>
                  <a:lnTo>
                    <a:pt x="2651" y="2461"/>
                  </a:lnTo>
                  <a:lnTo>
                    <a:pt x="2632" y="2463"/>
                  </a:lnTo>
                  <a:lnTo>
                    <a:pt x="2611" y="2464"/>
                  </a:lnTo>
                  <a:lnTo>
                    <a:pt x="2587" y="2466"/>
                  </a:lnTo>
                  <a:lnTo>
                    <a:pt x="2562" y="2470"/>
                  </a:lnTo>
                  <a:lnTo>
                    <a:pt x="2535" y="2471"/>
                  </a:lnTo>
                  <a:lnTo>
                    <a:pt x="2505" y="2475"/>
                  </a:lnTo>
                  <a:lnTo>
                    <a:pt x="2474" y="2478"/>
                  </a:lnTo>
                  <a:lnTo>
                    <a:pt x="2441" y="2480"/>
                  </a:lnTo>
                  <a:lnTo>
                    <a:pt x="2406" y="2484"/>
                  </a:lnTo>
                  <a:lnTo>
                    <a:pt x="2369" y="2487"/>
                  </a:lnTo>
                  <a:lnTo>
                    <a:pt x="2333" y="2489"/>
                  </a:lnTo>
                  <a:lnTo>
                    <a:pt x="2292" y="2492"/>
                  </a:lnTo>
                  <a:lnTo>
                    <a:pt x="2251" y="2496"/>
                  </a:lnTo>
                  <a:lnTo>
                    <a:pt x="2207" y="2497"/>
                  </a:lnTo>
                  <a:lnTo>
                    <a:pt x="2164" y="2501"/>
                  </a:lnTo>
                  <a:lnTo>
                    <a:pt x="2118" y="2503"/>
                  </a:lnTo>
                  <a:lnTo>
                    <a:pt x="2071" y="2506"/>
                  </a:lnTo>
                  <a:lnTo>
                    <a:pt x="2022" y="2508"/>
                  </a:lnTo>
                  <a:lnTo>
                    <a:pt x="1974" y="2511"/>
                  </a:lnTo>
                  <a:lnTo>
                    <a:pt x="1921" y="2513"/>
                  </a:lnTo>
                  <a:lnTo>
                    <a:pt x="1871" y="2515"/>
                  </a:lnTo>
                  <a:lnTo>
                    <a:pt x="1817" y="2517"/>
                  </a:lnTo>
                  <a:lnTo>
                    <a:pt x="1763" y="2518"/>
                  </a:lnTo>
                  <a:lnTo>
                    <a:pt x="1707" y="2520"/>
                  </a:lnTo>
                  <a:lnTo>
                    <a:pt x="1651" y="2522"/>
                  </a:lnTo>
                  <a:lnTo>
                    <a:pt x="1594" y="2522"/>
                  </a:lnTo>
                  <a:lnTo>
                    <a:pt x="1537" y="2524"/>
                  </a:lnTo>
                  <a:lnTo>
                    <a:pt x="1477" y="2524"/>
                  </a:lnTo>
                  <a:lnTo>
                    <a:pt x="1418" y="2524"/>
                  </a:lnTo>
                  <a:lnTo>
                    <a:pt x="1359" y="2524"/>
                  </a:lnTo>
                  <a:lnTo>
                    <a:pt x="1301" y="2524"/>
                  </a:lnTo>
                  <a:lnTo>
                    <a:pt x="1246" y="2524"/>
                  </a:lnTo>
                  <a:lnTo>
                    <a:pt x="1188" y="2522"/>
                  </a:lnTo>
                  <a:lnTo>
                    <a:pt x="1134" y="2522"/>
                  </a:lnTo>
                  <a:lnTo>
                    <a:pt x="1080" y="2520"/>
                  </a:lnTo>
                  <a:lnTo>
                    <a:pt x="1026" y="2520"/>
                  </a:lnTo>
                  <a:lnTo>
                    <a:pt x="974" y="2518"/>
                  </a:lnTo>
                  <a:lnTo>
                    <a:pt x="923" y="2517"/>
                  </a:lnTo>
                  <a:lnTo>
                    <a:pt x="873" y="2515"/>
                  </a:lnTo>
                  <a:lnTo>
                    <a:pt x="824" y="2513"/>
                  </a:lnTo>
                  <a:lnTo>
                    <a:pt x="777" y="2511"/>
                  </a:lnTo>
                  <a:lnTo>
                    <a:pt x="732" y="2508"/>
                  </a:lnTo>
                  <a:lnTo>
                    <a:pt x="687" y="2506"/>
                  </a:lnTo>
                  <a:lnTo>
                    <a:pt x="643" y="2504"/>
                  </a:lnTo>
                  <a:lnTo>
                    <a:pt x="603" y="2503"/>
                  </a:lnTo>
                  <a:lnTo>
                    <a:pt x="563" y="2499"/>
                  </a:lnTo>
                  <a:lnTo>
                    <a:pt x="525" y="2497"/>
                  </a:lnTo>
                  <a:lnTo>
                    <a:pt x="488" y="2496"/>
                  </a:lnTo>
                  <a:lnTo>
                    <a:pt x="453" y="2494"/>
                  </a:lnTo>
                  <a:lnTo>
                    <a:pt x="420" y="2491"/>
                  </a:lnTo>
                  <a:lnTo>
                    <a:pt x="389" y="2489"/>
                  </a:lnTo>
                  <a:lnTo>
                    <a:pt x="361" y="2487"/>
                  </a:lnTo>
                  <a:lnTo>
                    <a:pt x="333" y="2485"/>
                  </a:lnTo>
                  <a:lnTo>
                    <a:pt x="309" y="2484"/>
                  </a:lnTo>
                  <a:lnTo>
                    <a:pt x="286" y="2482"/>
                  </a:lnTo>
                  <a:lnTo>
                    <a:pt x="265" y="2480"/>
                  </a:lnTo>
                  <a:lnTo>
                    <a:pt x="246" y="2478"/>
                  </a:lnTo>
                  <a:lnTo>
                    <a:pt x="230" y="2477"/>
                  </a:lnTo>
                  <a:lnTo>
                    <a:pt x="216" y="2477"/>
                  </a:lnTo>
                  <a:lnTo>
                    <a:pt x="206" y="2475"/>
                  </a:lnTo>
                  <a:lnTo>
                    <a:pt x="197" y="2416"/>
                  </a:lnTo>
                  <a:lnTo>
                    <a:pt x="185" y="2323"/>
                  </a:lnTo>
                  <a:lnTo>
                    <a:pt x="168" y="2198"/>
                  </a:lnTo>
                  <a:lnTo>
                    <a:pt x="148" y="2048"/>
                  </a:lnTo>
                  <a:lnTo>
                    <a:pt x="127" y="1877"/>
                  </a:lnTo>
                  <a:lnTo>
                    <a:pt x="107" y="1689"/>
                  </a:lnTo>
                  <a:lnTo>
                    <a:pt x="84" y="1488"/>
                  </a:lnTo>
                  <a:lnTo>
                    <a:pt x="65" y="1281"/>
                  </a:lnTo>
                  <a:lnTo>
                    <a:pt x="47" y="1074"/>
                  </a:lnTo>
                  <a:lnTo>
                    <a:pt x="33" y="873"/>
                  </a:lnTo>
                  <a:lnTo>
                    <a:pt x="23" y="683"/>
                  </a:lnTo>
                  <a:lnTo>
                    <a:pt x="14" y="509"/>
                  </a:lnTo>
                  <a:lnTo>
                    <a:pt x="9" y="356"/>
                  </a:lnTo>
                  <a:lnTo>
                    <a:pt x="4" y="228"/>
                  </a:lnTo>
                  <a:lnTo>
                    <a:pt x="2" y="131"/>
                  </a:lnTo>
                  <a:lnTo>
                    <a:pt x="0" y="70"/>
                  </a:lnTo>
                  <a:lnTo>
                    <a:pt x="11" y="68"/>
                  </a:lnTo>
                  <a:lnTo>
                    <a:pt x="25" y="66"/>
                  </a:lnTo>
                  <a:lnTo>
                    <a:pt x="40" y="65"/>
                  </a:lnTo>
                  <a:lnTo>
                    <a:pt x="60" y="63"/>
                  </a:lnTo>
                  <a:lnTo>
                    <a:pt x="80" y="61"/>
                  </a:lnTo>
                  <a:lnTo>
                    <a:pt x="103" y="58"/>
                  </a:lnTo>
                  <a:lnTo>
                    <a:pt x="127" y="56"/>
                  </a:lnTo>
                  <a:lnTo>
                    <a:pt x="155" y="52"/>
                  </a:lnTo>
                  <a:lnTo>
                    <a:pt x="185" y="51"/>
                  </a:lnTo>
                  <a:lnTo>
                    <a:pt x="216" y="47"/>
                  </a:lnTo>
                  <a:lnTo>
                    <a:pt x="249" y="44"/>
                  </a:lnTo>
                  <a:lnTo>
                    <a:pt x="284" y="42"/>
                  </a:lnTo>
                  <a:lnTo>
                    <a:pt x="323" y="38"/>
                  </a:lnTo>
                  <a:lnTo>
                    <a:pt x="363" y="35"/>
                  </a:lnTo>
                  <a:lnTo>
                    <a:pt x="404" y="31"/>
                  </a:lnTo>
                  <a:lnTo>
                    <a:pt x="448" y="30"/>
                  </a:lnTo>
                  <a:lnTo>
                    <a:pt x="493" y="26"/>
                  </a:lnTo>
                  <a:lnTo>
                    <a:pt x="542" y="23"/>
                  </a:lnTo>
                  <a:lnTo>
                    <a:pt x="591" y="21"/>
                  </a:lnTo>
                  <a:lnTo>
                    <a:pt x="643" y="18"/>
                  </a:lnTo>
                  <a:lnTo>
                    <a:pt x="697" y="16"/>
                  </a:lnTo>
                  <a:lnTo>
                    <a:pt x="753" y="12"/>
                  </a:lnTo>
                  <a:lnTo>
                    <a:pt x="810" y="11"/>
                  </a:lnTo>
                  <a:lnTo>
                    <a:pt x="869" y="9"/>
                  </a:lnTo>
                  <a:lnTo>
                    <a:pt x="929" y="7"/>
                  </a:lnTo>
                  <a:lnTo>
                    <a:pt x="991" y="5"/>
                  </a:lnTo>
                  <a:lnTo>
                    <a:pt x="1056" y="4"/>
                  </a:lnTo>
                  <a:lnTo>
                    <a:pt x="1122" y="2"/>
                  </a:lnTo>
                  <a:lnTo>
                    <a:pt x="1190" y="2"/>
                  </a:lnTo>
                  <a:lnTo>
                    <a:pt x="1260" y="0"/>
                  </a:lnTo>
                  <a:lnTo>
                    <a:pt x="1331" y="0"/>
                  </a:lnTo>
                  <a:lnTo>
                    <a:pt x="1404" y="0"/>
                  </a:lnTo>
                  <a:lnTo>
                    <a:pt x="1477" y="0"/>
                  </a:lnTo>
                  <a:lnTo>
                    <a:pt x="1549" y="0"/>
                  </a:lnTo>
                  <a:lnTo>
                    <a:pt x="1618" y="0"/>
                  </a:lnTo>
                  <a:lnTo>
                    <a:pt x="1686" y="2"/>
                  </a:lnTo>
                  <a:lnTo>
                    <a:pt x="1754" y="2"/>
                  </a:lnTo>
                  <a:lnTo>
                    <a:pt x="1819" y="4"/>
                  </a:lnTo>
                  <a:lnTo>
                    <a:pt x="1883" y="4"/>
                  </a:lnTo>
                  <a:lnTo>
                    <a:pt x="1944" y="5"/>
                  </a:lnTo>
                  <a:lnTo>
                    <a:pt x="2003" y="5"/>
                  </a:lnTo>
                  <a:lnTo>
                    <a:pt x="2063" y="7"/>
                  </a:lnTo>
                  <a:lnTo>
                    <a:pt x="2118" y="9"/>
                  </a:lnTo>
                  <a:lnTo>
                    <a:pt x="2172" y="11"/>
                  </a:lnTo>
                  <a:lnTo>
                    <a:pt x="2226" y="11"/>
                  </a:lnTo>
                  <a:lnTo>
                    <a:pt x="2277" y="12"/>
                  </a:lnTo>
                  <a:lnTo>
                    <a:pt x="2326" y="14"/>
                  </a:lnTo>
                  <a:lnTo>
                    <a:pt x="2373" y="16"/>
                  </a:lnTo>
                  <a:lnTo>
                    <a:pt x="2418" y="18"/>
                  </a:lnTo>
                  <a:lnTo>
                    <a:pt x="2460" y="19"/>
                  </a:lnTo>
                  <a:lnTo>
                    <a:pt x="2501" y="21"/>
                  </a:lnTo>
                  <a:lnTo>
                    <a:pt x="2540" y="23"/>
                  </a:lnTo>
                  <a:lnTo>
                    <a:pt x="2576" y="23"/>
                  </a:lnTo>
                  <a:lnTo>
                    <a:pt x="2611" y="25"/>
                  </a:lnTo>
                  <a:lnTo>
                    <a:pt x="2644" y="26"/>
                  </a:lnTo>
                  <a:lnTo>
                    <a:pt x="2674" y="28"/>
                  </a:lnTo>
                  <a:lnTo>
                    <a:pt x="2702" y="30"/>
                  </a:lnTo>
                  <a:lnTo>
                    <a:pt x="2728" y="31"/>
                  </a:lnTo>
                  <a:lnTo>
                    <a:pt x="2751" y="31"/>
                  </a:lnTo>
                  <a:lnTo>
                    <a:pt x="2771" y="33"/>
                  </a:lnTo>
                  <a:lnTo>
                    <a:pt x="2791" y="35"/>
                  </a:lnTo>
                  <a:lnTo>
                    <a:pt x="2806" y="35"/>
                  </a:lnTo>
                  <a:lnTo>
                    <a:pt x="2820" y="37"/>
                  </a:lnTo>
                  <a:lnTo>
                    <a:pt x="2832" y="37"/>
                  </a:lnTo>
                  <a:lnTo>
                    <a:pt x="2839" y="180"/>
                  </a:lnTo>
                  <a:lnTo>
                    <a:pt x="2846" y="438"/>
                  </a:lnTo>
                  <a:lnTo>
                    <a:pt x="2843" y="788"/>
                  </a:lnTo>
                  <a:lnTo>
                    <a:pt x="2825" y="120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943240" y="2133720"/>
              <a:ext cx="2171880" cy="1935000"/>
            </a:xfrm>
            <a:custGeom>
              <a:avLst/>
              <a:gdLst/>
              <a:ahLst/>
              <a:rect l="l" t="t" r="r" b="b"/>
              <a:pathLst>
                <a:path w="2736" h="2438">
                  <a:moveTo>
                    <a:pt x="2722" y="36"/>
                  </a:moveTo>
                  <a:lnTo>
                    <a:pt x="2699" y="35"/>
                  </a:lnTo>
                  <a:lnTo>
                    <a:pt x="2698" y="35"/>
                  </a:lnTo>
                  <a:lnTo>
                    <a:pt x="2692" y="35"/>
                  </a:lnTo>
                  <a:lnTo>
                    <a:pt x="2684" y="35"/>
                  </a:lnTo>
                  <a:lnTo>
                    <a:pt x="2673" y="33"/>
                  </a:lnTo>
                  <a:lnTo>
                    <a:pt x="2659" y="33"/>
                  </a:lnTo>
                  <a:lnTo>
                    <a:pt x="2644" y="31"/>
                  </a:lnTo>
                  <a:lnTo>
                    <a:pt x="2624" y="31"/>
                  </a:lnTo>
                  <a:lnTo>
                    <a:pt x="2602" y="29"/>
                  </a:lnTo>
                  <a:lnTo>
                    <a:pt x="2577" y="28"/>
                  </a:lnTo>
                  <a:lnTo>
                    <a:pt x="2549" y="28"/>
                  </a:lnTo>
                  <a:lnTo>
                    <a:pt x="2520" y="26"/>
                  </a:lnTo>
                  <a:lnTo>
                    <a:pt x="2487" y="24"/>
                  </a:lnTo>
                  <a:lnTo>
                    <a:pt x="2452" y="22"/>
                  </a:lnTo>
                  <a:lnTo>
                    <a:pt x="2414" y="21"/>
                  </a:lnTo>
                  <a:lnTo>
                    <a:pt x="2374" y="19"/>
                  </a:lnTo>
                  <a:lnTo>
                    <a:pt x="2332" y="17"/>
                  </a:lnTo>
                  <a:lnTo>
                    <a:pt x="2286" y="15"/>
                  </a:lnTo>
                  <a:lnTo>
                    <a:pt x="2239" y="15"/>
                  </a:lnTo>
                  <a:lnTo>
                    <a:pt x="2189" y="14"/>
                  </a:lnTo>
                  <a:lnTo>
                    <a:pt x="2137" y="12"/>
                  </a:lnTo>
                  <a:lnTo>
                    <a:pt x="2083" y="10"/>
                  </a:lnTo>
                  <a:lnTo>
                    <a:pt x="2027" y="8"/>
                  </a:lnTo>
                  <a:lnTo>
                    <a:pt x="1968" y="7"/>
                  </a:lnTo>
                  <a:lnTo>
                    <a:pt x="1907" y="7"/>
                  </a:lnTo>
                  <a:lnTo>
                    <a:pt x="1844" y="5"/>
                  </a:lnTo>
                  <a:lnTo>
                    <a:pt x="1780" y="3"/>
                  </a:lnTo>
                  <a:lnTo>
                    <a:pt x="1713" y="3"/>
                  </a:lnTo>
                  <a:lnTo>
                    <a:pt x="1644" y="1"/>
                  </a:lnTo>
                  <a:lnTo>
                    <a:pt x="1572" y="1"/>
                  </a:lnTo>
                  <a:lnTo>
                    <a:pt x="1501" y="0"/>
                  </a:lnTo>
                  <a:lnTo>
                    <a:pt x="1426" y="0"/>
                  </a:lnTo>
                  <a:lnTo>
                    <a:pt x="1349" y="0"/>
                  </a:lnTo>
                  <a:lnTo>
                    <a:pt x="1273" y="0"/>
                  </a:lnTo>
                  <a:lnTo>
                    <a:pt x="1200" y="0"/>
                  </a:lnTo>
                  <a:lnTo>
                    <a:pt x="1126" y="1"/>
                  </a:lnTo>
                  <a:lnTo>
                    <a:pt x="1057" y="1"/>
                  </a:lnTo>
                  <a:lnTo>
                    <a:pt x="989" y="3"/>
                  </a:lnTo>
                  <a:lnTo>
                    <a:pt x="923" y="5"/>
                  </a:lnTo>
                  <a:lnTo>
                    <a:pt x="858" y="7"/>
                  </a:lnTo>
                  <a:lnTo>
                    <a:pt x="796" y="10"/>
                  </a:lnTo>
                  <a:lnTo>
                    <a:pt x="736" y="12"/>
                  </a:lnTo>
                  <a:lnTo>
                    <a:pt x="677" y="15"/>
                  </a:lnTo>
                  <a:lnTo>
                    <a:pt x="623" y="17"/>
                  </a:lnTo>
                  <a:lnTo>
                    <a:pt x="569" y="21"/>
                  </a:lnTo>
                  <a:lnTo>
                    <a:pt x="519" y="24"/>
                  </a:lnTo>
                  <a:lnTo>
                    <a:pt x="470" y="26"/>
                  </a:lnTo>
                  <a:lnTo>
                    <a:pt x="423" y="29"/>
                  </a:lnTo>
                  <a:lnTo>
                    <a:pt x="379" y="33"/>
                  </a:lnTo>
                  <a:lnTo>
                    <a:pt x="337" y="36"/>
                  </a:lnTo>
                  <a:lnTo>
                    <a:pt x="297" y="40"/>
                  </a:lnTo>
                  <a:lnTo>
                    <a:pt x="261" y="43"/>
                  </a:lnTo>
                  <a:lnTo>
                    <a:pt x="226" y="45"/>
                  </a:lnTo>
                  <a:lnTo>
                    <a:pt x="195" y="48"/>
                  </a:lnTo>
                  <a:lnTo>
                    <a:pt x="165" y="52"/>
                  </a:lnTo>
                  <a:lnTo>
                    <a:pt x="139" y="54"/>
                  </a:lnTo>
                  <a:lnTo>
                    <a:pt x="114" y="57"/>
                  </a:lnTo>
                  <a:lnTo>
                    <a:pt x="94" y="59"/>
                  </a:lnTo>
                  <a:lnTo>
                    <a:pt x="74" y="61"/>
                  </a:lnTo>
                  <a:lnTo>
                    <a:pt x="59" y="62"/>
                  </a:lnTo>
                  <a:lnTo>
                    <a:pt x="45" y="64"/>
                  </a:lnTo>
                  <a:lnTo>
                    <a:pt x="34" y="66"/>
                  </a:lnTo>
                  <a:lnTo>
                    <a:pt x="27" y="68"/>
                  </a:lnTo>
                  <a:lnTo>
                    <a:pt x="22" y="68"/>
                  </a:lnTo>
                  <a:lnTo>
                    <a:pt x="20" y="68"/>
                  </a:lnTo>
                  <a:lnTo>
                    <a:pt x="0" y="71"/>
                  </a:lnTo>
                  <a:lnTo>
                    <a:pt x="0" y="92"/>
                  </a:lnTo>
                  <a:lnTo>
                    <a:pt x="0" y="120"/>
                  </a:lnTo>
                  <a:lnTo>
                    <a:pt x="1" y="193"/>
                  </a:lnTo>
                  <a:lnTo>
                    <a:pt x="5" y="305"/>
                  </a:lnTo>
                  <a:lnTo>
                    <a:pt x="10" y="451"/>
                  </a:lnTo>
                  <a:lnTo>
                    <a:pt x="19" y="624"/>
                  </a:lnTo>
                  <a:lnTo>
                    <a:pt x="29" y="817"/>
                  </a:lnTo>
                  <a:lnTo>
                    <a:pt x="43" y="1024"/>
                  </a:lnTo>
                  <a:lnTo>
                    <a:pt x="60" y="1241"/>
                  </a:lnTo>
                  <a:lnTo>
                    <a:pt x="81" y="1455"/>
                  </a:lnTo>
                  <a:lnTo>
                    <a:pt x="104" y="1661"/>
                  </a:lnTo>
                  <a:lnTo>
                    <a:pt x="127" y="1850"/>
                  </a:lnTo>
                  <a:lnTo>
                    <a:pt x="148" y="2020"/>
                  </a:lnTo>
                  <a:lnTo>
                    <a:pt x="167" y="2162"/>
                  </a:lnTo>
                  <a:lnTo>
                    <a:pt x="181" y="2271"/>
                  </a:lnTo>
                  <a:lnTo>
                    <a:pt x="191" y="2342"/>
                  </a:lnTo>
                  <a:lnTo>
                    <a:pt x="195" y="2368"/>
                  </a:lnTo>
                  <a:lnTo>
                    <a:pt x="198" y="2387"/>
                  </a:lnTo>
                  <a:lnTo>
                    <a:pt x="217" y="2389"/>
                  </a:lnTo>
                  <a:lnTo>
                    <a:pt x="219" y="2389"/>
                  </a:lnTo>
                  <a:lnTo>
                    <a:pt x="224" y="2391"/>
                  </a:lnTo>
                  <a:lnTo>
                    <a:pt x="233" y="2391"/>
                  </a:lnTo>
                  <a:lnTo>
                    <a:pt x="243" y="2392"/>
                  </a:lnTo>
                  <a:lnTo>
                    <a:pt x="257" y="2392"/>
                  </a:lnTo>
                  <a:lnTo>
                    <a:pt x="273" y="2394"/>
                  </a:lnTo>
                  <a:lnTo>
                    <a:pt x="294" y="2396"/>
                  </a:lnTo>
                  <a:lnTo>
                    <a:pt x="315" y="2398"/>
                  </a:lnTo>
                  <a:lnTo>
                    <a:pt x="339" y="2399"/>
                  </a:lnTo>
                  <a:lnTo>
                    <a:pt x="365" y="2403"/>
                  </a:lnTo>
                  <a:lnTo>
                    <a:pt x="395" y="2405"/>
                  </a:lnTo>
                  <a:lnTo>
                    <a:pt x="426" y="2406"/>
                  </a:lnTo>
                  <a:lnTo>
                    <a:pt x="461" y="2408"/>
                  </a:lnTo>
                  <a:lnTo>
                    <a:pt x="496" y="2412"/>
                  </a:lnTo>
                  <a:lnTo>
                    <a:pt x="534" y="2413"/>
                  </a:lnTo>
                  <a:lnTo>
                    <a:pt x="574" y="2415"/>
                  </a:lnTo>
                  <a:lnTo>
                    <a:pt x="616" y="2419"/>
                  </a:lnTo>
                  <a:lnTo>
                    <a:pt x="660" y="2420"/>
                  </a:lnTo>
                  <a:lnTo>
                    <a:pt x="705" y="2422"/>
                  </a:lnTo>
                  <a:lnTo>
                    <a:pt x="752" y="2426"/>
                  </a:lnTo>
                  <a:lnTo>
                    <a:pt x="801" y="2427"/>
                  </a:lnTo>
                  <a:lnTo>
                    <a:pt x="851" y="2429"/>
                  </a:lnTo>
                  <a:lnTo>
                    <a:pt x="902" y="2431"/>
                  </a:lnTo>
                  <a:lnTo>
                    <a:pt x="956" y="2433"/>
                  </a:lnTo>
                  <a:lnTo>
                    <a:pt x="1010" y="2434"/>
                  </a:lnTo>
                  <a:lnTo>
                    <a:pt x="1065" y="2436"/>
                  </a:lnTo>
                  <a:lnTo>
                    <a:pt x="1121" y="2436"/>
                  </a:lnTo>
                  <a:lnTo>
                    <a:pt x="1179" y="2438"/>
                  </a:lnTo>
                  <a:lnTo>
                    <a:pt x="1238" y="2438"/>
                  </a:lnTo>
                  <a:lnTo>
                    <a:pt x="1297" y="2438"/>
                  </a:lnTo>
                  <a:lnTo>
                    <a:pt x="1358" y="2438"/>
                  </a:lnTo>
                  <a:lnTo>
                    <a:pt x="1419" y="2438"/>
                  </a:lnTo>
                  <a:lnTo>
                    <a:pt x="1480" y="2438"/>
                  </a:lnTo>
                  <a:lnTo>
                    <a:pt x="1541" y="2436"/>
                  </a:lnTo>
                  <a:lnTo>
                    <a:pt x="1600" y="2434"/>
                  </a:lnTo>
                  <a:lnTo>
                    <a:pt x="1658" y="2433"/>
                  </a:lnTo>
                  <a:lnTo>
                    <a:pt x="1715" y="2431"/>
                  </a:lnTo>
                  <a:lnTo>
                    <a:pt x="1771" y="2429"/>
                  </a:lnTo>
                  <a:lnTo>
                    <a:pt x="1825" y="2427"/>
                  </a:lnTo>
                  <a:lnTo>
                    <a:pt x="1879" y="2426"/>
                  </a:lnTo>
                  <a:lnTo>
                    <a:pt x="1929" y="2422"/>
                  </a:lnTo>
                  <a:lnTo>
                    <a:pt x="1980" y="2420"/>
                  </a:lnTo>
                  <a:lnTo>
                    <a:pt x="2029" y="2417"/>
                  </a:lnTo>
                  <a:lnTo>
                    <a:pt x="2076" y="2413"/>
                  </a:lnTo>
                  <a:lnTo>
                    <a:pt x="2121" y="2412"/>
                  </a:lnTo>
                  <a:lnTo>
                    <a:pt x="2165" y="2408"/>
                  </a:lnTo>
                  <a:lnTo>
                    <a:pt x="2206" y="2405"/>
                  </a:lnTo>
                  <a:lnTo>
                    <a:pt x="2246" y="2401"/>
                  </a:lnTo>
                  <a:lnTo>
                    <a:pt x="2285" y="2399"/>
                  </a:lnTo>
                  <a:lnTo>
                    <a:pt x="2321" y="2396"/>
                  </a:lnTo>
                  <a:lnTo>
                    <a:pt x="2354" y="2392"/>
                  </a:lnTo>
                  <a:lnTo>
                    <a:pt x="2387" y="2391"/>
                  </a:lnTo>
                  <a:lnTo>
                    <a:pt x="2417" y="2387"/>
                  </a:lnTo>
                  <a:lnTo>
                    <a:pt x="2445" y="2384"/>
                  </a:lnTo>
                  <a:lnTo>
                    <a:pt x="2469" y="2382"/>
                  </a:lnTo>
                  <a:lnTo>
                    <a:pt x="2492" y="2380"/>
                  </a:lnTo>
                  <a:lnTo>
                    <a:pt x="2513" y="2377"/>
                  </a:lnTo>
                  <a:lnTo>
                    <a:pt x="2532" y="2375"/>
                  </a:lnTo>
                  <a:lnTo>
                    <a:pt x="2546" y="2373"/>
                  </a:lnTo>
                  <a:lnTo>
                    <a:pt x="2560" y="2373"/>
                  </a:lnTo>
                  <a:lnTo>
                    <a:pt x="2570" y="2372"/>
                  </a:lnTo>
                  <a:lnTo>
                    <a:pt x="2577" y="2370"/>
                  </a:lnTo>
                  <a:lnTo>
                    <a:pt x="2583" y="2370"/>
                  </a:lnTo>
                  <a:lnTo>
                    <a:pt x="2584" y="2370"/>
                  </a:lnTo>
                  <a:lnTo>
                    <a:pt x="2603" y="2368"/>
                  </a:lnTo>
                  <a:lnTo>
                    <a:pt x="2605" y="2349"/>
                  </a:lnTo>
                  <a:lnTo>
                    <a:pt x="2609" y="2323"/>
                  </a:lnTo>
                  <a:lnTo>
                    <a:pt x="2617" y="2251"/>
                  </a:lnTo>
                  <a:lnTo>
                    <a:pt x="2631" y="2140"/>
                  </a:lnTo>
                  <a:lnTo>
                    <a:pt x="2647" y="1993"/>
                  </a:lnTo>
                  <a:lnTo>
                    <a:pt x="2666" y="1817"/>
                  </a:lnTo>
                  <a:lnTo>
                    <a:pt x="2684" y="1619"/>
                  </a:lnTo>
                  <a:lnTo>
                    <a:pt x="2703" y="1401"/>
                  </a:lnTo>
                  <a:lnTo>
                    <a:pt x="2718" y="1171"/>
                  </a:lnTo>
                  <a:lnTo>
                    <a:pt x="2736" y="733"/>
                  </a:lnTo>
                  <a:lnTo>
                    <a:pt x="2736" y="381"/>
                  </a:lnTo>
                  <a:lnTo>
                    <a:pt x="2729" y="144"/>
                  </a:lnTo>
                  <a:lnTo>
                    <a:pt x="2724" y="57"/>
                  </a:lnTo>
                  <a:lnTo>
                    <a:pt x="2722" y="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6184800" y="2319480"/>
              <a:ext cx="900000" cy="1176480"/>
            </a:xfrm>
            <a:custGeom>
              <a:avLst/>
              <a:gdLst/>
              <a:ahLst/>
              <a:rect l="l" t="t" r="r" b="b"/>
              <a:pathLst>
                <a:path w="1134" h="1481">
                  <a:moveTo>
                    <a:pt x="89" y="617"/>
                  </a:moveTo>
                  <a:lnTo>
                    <a:pt x="84" y="612"/>
                  </a:lnTo>
                  <a:lnTo>
                    <a:pt x="71" y="599"/>
                  </a:lnTo>
                  <a:lnTo>
                    <a:pt x="54" y="582"/>
                  </a:lnTo>
                  <a:lnTo>
                    <a:pt x="38" y="561"/>
                  </a:lnTo>
                  <a:lnTo>
                    <a:pt x="23" y="538"/>
                  </a:lnTo>
                  <a:lnTo>
                    <a:pt x="14" y="517"/>
                  </a:lnTo>
                  <a:lnTo>
                    <a:pt x="14" y="497"/>
                  </a:lnTo>
                  <a:lnTo>
                    <a:pt x="28" y="483"/>
                  </a:lnTo>
                  <a:lnTo>
                    <a:pt x="49" y="477"/>
                  </a:lnTo>
                  <a:lnTo>
                    <a:pt x="71" y="486"/>
                  </a:lnTo>
                  <a:lnTo>
                    <a:pt x="92" y="502"/>
                  </a:lnTo>
                  <a:lnTo>
                    <a:pt x="111" y="524"/>
                  </a:lnTo>
                  <a:lnTo>
                    <a:pt x="127" y="547"/>
                  </a:lnTo>
                  <a:lnTo>
                    <a:pt x="139" y="568"/>
                  </a:lnTo>
                  <a:lnTo>
                    <a:pt x="148" y="584"/>
                  </a:lnTo>
                  <a:lnTo>
                    <a:pt x="152" y="589"/>
                  </a:lnTo>
                  <a:lnTo>
                    <a:pt x="212" y="571"/>
                  </a:lnTo>
                  <a:lnTo>
                    <a:pt x="153" y="415"/>
                  </a:lnTo>
                  <a:lnTo>
                    <a:pt x="146" y="411"/>
                  </a:lnTo>
                  <a:lnTo>
                    <a:pt x="131" y="401"/>
                  </a:lnTo>
                  <a:lnTo>
                    <a:pt x="108" y="385"/>
                  </a:lnTo>
                  <a:lnTo>
                    <a:pt x="84" y="366"/>
                  </a:lnTo>
                  <a:lnTo>
                    <a:pt x="59" y="341"/>
                  </a:lnTo>
                  <a:lnTo>
                    <a:pt x="38" y="314"/>
                  </a:lnTo>
                  <a:lnTo>
                    <a:pt x="26" y="284"/>
                  </a:lnTo>
                  <a:lnTo>
                    <a:pt x="26" y="254"/>
                  </a:lnTo>
                  <a:lnTo>
                    <a:pt x="35" y="226"/>
                  </a:lnTo>
                  <a:lnTo>
                    <a:pt x="47" y="205"/>
                  </a:lnTo>
                  <a:lnTo>
                    <a:pt x="63" y="188"/>
                  </a:lnTo>
                  <a:lnTo>
                    <a:pt x="78" y="176"/>
                  </a:lnTo>
                  <a:lnTo>
                    <a:pt x="94" y="169"/>
                  </a:lnTo>
                  <a:lnTo>
                    <a:pt x="108" y="164"/>
                  </a:lnTo>
                  <a:lnTo>
                    <a:pt x="117" y="160"/>
                  </a:lnTo>
                  <a:lnTo>
                    <a:pt x="120" y="160"/>
                  </a:lnTo>
                  <a:lnTo>
                    <a:pt x="115" y="153"/>
                  </a:lnTo>
                  <a:lnTo>
                    <a:pt x="101" y="136"/>
                  </a:lnTo>
                  <a:lnTo>
                    <a:pt x="84" y="111"/>
                  </a:lnTo>
                  <a:lnTo>
                    <a:pt x="68" y="82"/>
                  </a:lnTo>
                  <a:lnTo>
                    <a:pt x="56" y="52"/>
                  </a:lnTo>
                  <a:lnTo>
                    <a:pt x="56" y="28"/>
                  </a:lnTo>
                  <a:lnTo>
                    <a:pt x="70" y="9"/>
                  </a:lnTo>
                  <a:lnTo>
                    <a:pt x="101" y="0"/>
                  </a:lnTo>
                  <a:lnTo>
                    <a:pt x="122" y="0"/>
                  </a:lnTo>
                  <a:lnTo>
                    <a:pt x="141" y="2"/>
                  </a:lnTo>
                  <a:lnTo>
                    <a:pt x="159" y="3"/>
                  </a:lnTo>
                  <a:lnTo>
                    <a:pt x="174" y="7"/>
                  </a:lnTo>
                  <a:lnTo>
                    <a:pt x="192" y="12"/>
                  </a:lnTo>
                  <a:lnTo>
                    <a:pt x="207" y="17"/>
                  </a:lnTo>
                  <a:lnTo>
                    <a:pt x="223" y="24"/>
                  </a:lnTo>
                  <a:lnTo>
                    <a:pt x="240" y="29"/>
                  </a:lnTo>
                  <a:lnTo>
                    <a:pt x="260" y="35"/>
                  </a:lnTo>
                  <a:lnTo>
                    <a:pt x="279" y="40"/>
                  </a:lnTo>
                  <a:lnTo>
                    <a:pt x="300" y="43"/>
                  </a:lnTo>
                  <a:lnTo>
                    <a:pt x="324" y="47"/>
                  </a:lnTo>
                  <a:lnTo>
                    <a:pt x="350" y="49"/>
                  </a:lnTo>
                  <a:lnTo>
                    <a:pt x="380" y="49"/>
                  </a:lnTo>
                  <a:lnTo>
                    <a:pt x="413" y="45"/>
                  </a:lnTo>
                  <a:lnTo>
                    <a:pt x="449" y="42"/>
                  </a:lnTo>
                  <a:lnTo>
                    <a:pt x="456" y="42"/>
                  </a:lnTo>
                  <a:lnTo>
                    <a:pt x="465" y="40"/>
                  </a:lnTo>
                  <a:lnTo>
                    <a:pt x="472" y="38"/>
                  </a:lnTo>
                  <a:lnTo>
                    <a:pt x="481" y="36"/>
                  </a:lnTo>
                  <a:lnTo>
                    <a:pt x="488" y="35"/>
                  </a:lnTo>
                  <a:lnTo>
                    <a:pt x="495" y="33"/>
                  </a:lnTo>
                  <a:lnTo>
                    <a:pt x="502" y="31"/>
                  </a:lnTo>
                  <a:lnTo>
                    <a:pt x="509" y="29"/>
                  </a:lnTo>
                  <a:lnTo>
                    <a:pt x="566" y="61"/>
                  </a:lnTo>
                  <a:lnTo>
                    <a:pt x="622" y="97"/>
                  </a:lnTo>
                  <a:lnTo>
                    <a:pt x="676" y="139"/>
                  </a:lnTo>
                  <a:lnTo>
                    <a:pt x="728" y="183"/>
                  </a:lnTo>
                  <a:lnTo>
                    <a:pt x="777" y="230"/>
                  </a:lnTo>
                  <a:lnTo>
                    <a:pt x="822" y="280"/>
                  </a:lnTo>
                  <a:lnTo>
                    <a:pt x="866" y="331"/>
                  </a:lnTo>
                  <a:lnTo>
                    <a:pt x="907" y="383"/>
                  </a:lnTo>
                  <a:lnTo>
                    <a:pt x="946" y="436"/>
                  </a:lnTo>
                  <a:lnTo>
                    <a:pt x="981" y="488"/>
                  </a:lnTo>
                  <a:lnTo>
                    <a:pt x="1012" y="540"/>
                  </a:lnTo>
                  <a:lnTo>
                    <a:pt x="1040" y="591"/>
                  </a:lnTo>
                  <a:lnTo>
                    <a:pt x="1064" y="639"/>
                  </a:lnTo>
                  <a:lnTo>
                    <a:pt x="1085" y="685"/>
                  </a:lnTo>
                  <a:lnTo>
                    <a:pt x="1103" y="727"/>
                  </a:lnTo>
                  <a:lnTo>
                    <a:pt x="1116" y="765"/>
                  </a:lnTo>
                  <a:lnTo>
                    <a:pt x="1130" y="817"/>
                  </a:lnTo>
                  <a:lnTo>
                    <a:pt x="1134" y="850"/>
                  </a:lnTo>
                  <a:lnTo>
                    <a:pt x="1132" y="868"/>
                  </a:lnTo>
                  <a:lnTo>
                    <a:pt x="1130" y="875"/>
                  </a:lnTo>
                  <a:lnTo>
                    <a:pt x="1090" y="894"/>
                  </a:lnTo>
                  <a:lnTo>
                    <a:pt x="1049" y="906"/>
                  </a:lnTo>
                  <a:lnTo>
                    <a:pt x="1008" y="911"/>
                  </a:lnTo>
                  <a:lnTo>
                    <a:pt x="974" y="913"/>
                  </a:lnTo>
                  <a:lnTo>
                    <a:pt x="941" y="913"/>
                  </a:lnTo>
                  <a:lnTo>
                    <a:pt x="916" y="910"/>
                  </a:lnTo>
                  <a:lnTo>
                    <a:pt x="900" y="908"/>
                  </a:lnTo>
                  <a:lnTo>
                    <a:pt x="894" y="906"/>
                  </a:lnTo>
                  <a:lnTo>
                    <a:pt x="853" y="896"/>
                  </a:lnTo>
                  <a:lnTo>
                    <a:pt x="920" y="1141"/>
                  </a:lnTo>
                  <a:lnTo>
                    <a:pt x="894" y="1147"/>
                  </a:lnTo>
                  <a:lnTo>
                    <a:pt x="871" y="1152"/>
                  </a:lnTo>
                  <a:lnTo>
                    <a:pt x="848" y="1155"/>
                  </a:lnTo>
                  <a:lnTo>
                    <a:pt x="827" y="1157"/>
                  </a:lnTo>
                  <a:lnTo>
                    <a:pt x="810" y="1159"/>
                  </a:lnTo>
                  <a:lnTo>
                    <a:pt x="793" y="1157"/>
                  </a:lnTo>
                  <a:lnTo>
                    <a:pt x="779" y="1155"/>
                  </a:lnTo>
                  <a:lnTo>
                    <a:pt x="766" y="1152"/>
                  </a:lnTo>
                  <a:lnTo>
                    <a:pt x="739" y="1138"/>
                  </a:lnTo>
                  <a:lnTo>
                    <a:pt x="709" y="1119"/>
                  </a:lnTo>
                  <a:lnTo>
                    <a:pt x="683" y="1098"/>
                  </a:lnTo>
                  <a:lnTo>
                    <a:pt x="657" y="1075"/>
                  </a:lnTo>
                  <a:lnTo>
                    <a:pt x="636" y="1054"/>
                  </a:lnTo>
                  <a:lnTo>
                    <a:pt x="618" y="1037"/>
                  </a:lnTo>
                  <a:lnTo>
                    <a:pt x="608" y="1026"/>
                  </a:lnTo>
                  <a:lnTo>
                    <a:pt x="603" y="1021"/>
                  </a:lnTo>
                  <a:lnTo>
                    <a:pt x="561" y="1042"/>
                  </a:lnTo>
                  <a:lnTo>
                    <a:pt x="564" y="1058"/>
                  </a:lnTo>
                  <a:lnTo>
                    <a:pt x="575" y="1091"/>
                  </a:lnTo>
                  <a:lnTo>
                    <a:pt x="590" y="1136"/>
                  </a:lnTo>
                  <a:lnTo>
                    <a:pt x="615" y="1188"/>
                  </a:lnTo>
                  <a:lnTo>
                    <a:pt x="648" y="1242"/>
                  </a:lnTo>
                  <a:lnTo>
                    <a:pt x="690" y="1289"/>
                  </a:lnTo>
                  <a:lnTo>
                    <a:pt x="740" y="1326"/>
                  </a:lnTo>
                  <a:lnTo>
                    <a:pt x="803" y="1347"/>
                  </a:lnTo>
                  <a:lnTo>
                    <a:pt x="826" y="1350"/>
                  </a:lnTo>
                  <a:lnTo>
                    <a:pt x="847" y="1352"/>
                  </a:lnTo>
                  <a:lnTo>
                    <a:pt x="869" y="1354"/>
                  </a:lnTo>
                  <a:lnTo>
                    <a:pt x="890" y="1354"/>
                  </a:lnTo>
                  <a:lnTo>
                    <a:pt x="913" y="1354"/>
                  </a:lnTo>
                  <a:lnTo>
                    <a:pt x="934" y="1352"/>
                  </a:lnTo>
                  <a:lnTo>
                    <a:pt x="954" y="1350"/>
                  </a:lnTo>
                  <a:lnTo>
                    <a:pt x="975" y="1349"/>
                  </a:lnTo>
                  <a:lnTo>
                    <a:pt x="1010" y="1481"/>
                  </a:lnTo>
                  <a:lnTo>
                    <a:pt x="240" y="1342"/>
                  </a:lnTo>
                  <a:lnTo>
                    <a:pt x="225" y="1307"/>
                  </a:lnTo>
                  <a:lnTo>
                    <a:pt x="200" y="1249"/>
                  </a:lnTo>
                  <a:lnTo>
                    <a:pt x="171" y="1176"/>
                  </a:lnTo>
                  <a:lnTo>
                    <a:pt x="136" y="1087"/>
                  </a:lnTo>
                  <a:lnTo>
                    <a:pt x="101" y="986"/>
                  </a:lnTo>
                  <a:lnTo>
                    <a:pt x="64" y="878"/>
                  </a:lnTo>
                  <a:lnTo>
                    <a:pt x="30" y="763"/>
                  </a:lnTo>
                  <a:lnTo>
                    <a:pt x="0" y="645"/>
                  </a:lnTo>
                  <a:lnTo>
                    <a:pt x="89" y="6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056360" y="3587760"/>
              <a:ext cx="96840" cy="122400"/>
            </a:xfrm>
            <a:custGeom>
              <a:avLst/>
              <a:gdLst/>
              <a:ahLst/>
              <a:rect l="l" t="t" r="r" b="b"/>
              <a:pathLst>
                <a:path w="122" h="155">
                  <a:moveTo>
                    <a:pt x="53" y="155"/>
                  </a:moveTo>
                  <a:lnTo>
                    <a:pt x="0" y="0"/>
                  </a:lnTo>
                  <a:lnTo>
                    <a:pt x="122" y="84"/>
                  </a:lnTo>
                  <a:lnTo>
                    <a:pt x="115" y="93"/>
                  </a:lnTo>
                  <a:lnTo>
                    <a:pt x="108" y="101"/>
                  </a:lnTo>
                  <a:lnTo>
                    <a:pt x="100" y="110"/>
                  </a:lnTo>
                  <a:lnTo>
                    <a:pt x="93" y="119"/>
                  </a:lnTo>
                  <a:lnTo>
                    <a:pt x="82" y="127"/>
                  </a:lnTo>
                  <a:lnTo>
                    <a:pt x="73" y="138"/>
                  </a:lnTo>
                  <a:lnTo>
                    <a:pt x="63" y="147"/>
                  </a:lnTo>
                  <a:lnTo>
                    <a:pt x="53" y="1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289560" y="3424320"/>
              <a:ext cx="988920" cy="579600"/>
            </a:xfrm>
            <a:custGeom>
              <a:avLst/>
              <a:gdLst/>
              <a:ahLst/>
              <a:rect l="l" t="t" r="r" b="b"/>
              <a:pathLst>
                <a:path w="1246" h="730">
                  <a:moveTo>
                    <a:pt x="103" y="0"/>
                  </a:moveTo>
                  <a:lnTo>
                    <a:pt x="892" y="142"/>
                  </a:lnTo>
                  <a:lnTo>
                    <a:pt x="978" y="393"/>
                  </a:lnTo>
                  <a:lnTo>
                    <a:pt x="969" y="400"/>
                  </a:lnTo>
                  <a:lnTo>
                    <a:pt x="960" y="406"/>
                  </a:lnTo>
                  <a:lnTo>
                    <a:pt x="951" y="413"/>
                  </a:lnTo>
                  <a:lnTo>
                    <a:pt x="941" y="420"/>
                  </a:lnTo>
                  <a:lnTo>
                    <a:pt x="930" y="427"/>
                  </a:lnTo>
                  <a:lnTo>
                    <a:pt x="920" y="432"/>
                  </a:lnTo>
                  <a:lnTo>
                    <a:pt x="910" y="439"/>
                  </a:lnTo>
                  <a:lnTo>
                    <a:pt x="899" y="446"/>
                  </a:lnTo>
                  <a:lnTo>
                    <a:pt x="856" y="465"/>
                  </a:lnTo>
                  <a:lnTo>
                    <a:pt x="809" y="474"/>
                  </a:lnTo>
                  <a:lnTo>
                    <a:pt x="760" y="474"/>
                  </a:lnTo>
                  <a:lnTo>
                    <a:pt x="708" y="465"/>
                  </a:lnTo>
                  <a:lnTo>
                    <a:pt x="655" y="451"/>
                  </a:lnTo>
                  <a:lnTo>
                    <a:pt x="603" y="432"/>
                  </a:lnTo>
                  <a:lnTo>
                    <a:pt x="551" y="407"/>
                  </a:lnTo>
                  <a:lnTo>
                    <a:pt x="500" y="381"/>
                  </a:lnTo>
                  <a:lnTo>
                    <a:pt x="453" y="353"/>
                  </a:lnTo>
                  <a:lnTo>
                    <a:pt x="408" y="325"/>
                  </a:lnTo>
                  <a:lnTo>
                    <a:pt x="368" y="298"/>
                  </a:lnTo>
                  <a:lnTo>
                    <a:pt x="333" y="273"/>
                  </a:lnTo>
                  <a:lnTo>
                    <a:pt x="305" y="251"/>
                  </a:lnTo>
                  <a:lnTo>
                    <a:pt x="283" y="233"/>
                  </a:lnTo>
                  <a:lnTo>
                    <a:pt x="269" y="223"/>
                  </a:lnTo>
                  <a:lnTo>
                    <a:pt x="263" y="217"/>
                  </a:lnTo>
                  <a:lnTo>
                    <a:pt x="230" y="256"/>
                  </a:lnTo>
                  <a:lnTo>
                    <a:pt x="239" y="263"/>
                  </a:lnTo>
                  <a:lnTo>
                    <a:pt x="255" y="275"/>
                  </a:lnTo>
                  <a:lnTo>
                    <a:pt x="279" y="296"/>
                  </a:lnTo>
                  <a:lnTo>
                    <a:pt x="310" y="318"/>
                  </a:lnTo>
                  <a:lnTo>
                    <a:pt x="349" y="346"/>
                  </a:lnTo>
                  <a:lnTo>
                    <a:pt x="392" y="374"/>
                  </a:lnTo>
                  <a:lnTo>
                    <a:pt x="439" y="404"/>
                  </a:lnTo>
                  <a:lnTo>
                    <a:pt x="490" y="432"/>
                  </a:lnTo>
                  <a:lnTo>
                    <a:pt x="544" y="460"/>
                  </a:lnTo>
                  <a:lnTo>
                    <a:pt x="600" y="482"/>
                  </a:lnTo>
                  <a:lnTo>
                    <a:pt x="655" y="501"/>
                  </a:lnTo>
                  <a:lnTo>
                    <a:pt x="713" y="515"/>
                  </a:lnTo>
                  <a:lnTo>
                    <a:pt x="768" y="522"/>
                  </a:lnTo>
                  <a:lnTo>
                    <a:pt x="822" y="521"/>
                  </a:lnTo>
                  <a:lnTo>
                    <a:pt x="875" y="510"/>
                  </a:lnTo>
                  <a:lnTo>
                    <a:pt x="924" y="488"/>
                  </a:lnTo>
                  <a:lnTo>
                    <a:pt x="991" y="444"/>
                  </a:lnTo>
                  <a:lnTo>
                    <a:pt x="1047" y="400"/>
                  </a:lnTo>
                  <a:lnTo>
                    <a:pt x="1091" y="360"/>
                  </a:lnTo>
                  <a:lnTo>
                    <a:pt x="1127" y="320"/>
                  </a:lnTo>
                  <a:lnTo>
                    <a:pt x="1153" y="284"/>
                  </a:lnTo>
                  <a:lnTo>
                    <a:pt x="1173" y="252"/>
                  </a:lnTo>
                  <a:lnTo>
                    <a:pt x="1185" y="224"/>
                  </a:lnTo>
                  <a:lnTo>
                    <a:pt x="1193" y="203"/>
                  </a:lnTo>
                  <a:lnTo>
                    <a:pt x="1246" y="203"/>
                  </a:lnTo>
                  <a:lnTo>
                    <a:pt x="1239" y="247"/>
                  </a:lnTo>
                  <a:lnTo>
                    <a:pt x="1225" y="306"/>
                  </a:lnTo>
                  <a:lnTo>
                    <a:pt x="1207" y="374"/>
                  </a:lnTo>
                  <a:lnTo>
                    <a:pt x="1181" y="446"/>
                  </a:lnTo>
                  <a:lnTo>
                    <a:pt x="1146" y="519"/>
                  </a:lnTo>
                  <a:lnTo>
                    <a:pt x="1103" y="583"/>
                  </a:lnTo>
                  <a:lnTo>
                    <a:pt x="1049" y="637"/>
                  </a:lnTo>
                  <a:lnTo>
                    <a:pt x="984" y="674"/>
                  </a:lnTo>
                  <a:lnTo>
                    <a:pt x="941" y="688"/>
                  </a:lnTo>
                  <a:lnTo>
                    <a:pt x="899" y="700"/>
                  </a:lnTo>
                  <a:lnTo>
                    <a:pt x="856" y="709"/>
                  </a:lnTo>
                  <a:lnTo>
                    <a:pt x="814" y="716"/>
                  </a:lnTo>
                  <a:lnTo>
                    <a:pt x="772" y="721"/>
                  </a:lnTo>
                  <a:lnTo>
                    <a:pt x="732" y="723"/>
                  </a:lnTo>
                  <a:lnTo>
                    <a:pt x="694" y="723"/>
                  </a:lnTo>
                  <a:lnTo>
                    <a:pt x="659" y="723"/>
                  </a:lnTo>
                  <a:lnTo>
                    <a:pt x="624" y="721"/>
                  </a:lnTo>
                  <a:lnTo>
                    <a:pt x="594" y="719"/>
                  </a:lnTo>
                  <a:lnTo>
                    <a:pt x="566" y="716"/>
                  </a:lnTo>
                  <a:lnTo>
                    <a:pt x="544" y="714"/>
                  </a:lnTo>
                  <a:lnTo>
                    <a:pt x="525" y="711"/>
                  </a:lnTo>
                  <a:lnTo>
                    <a:pt x="511" y="709"/>
                  </a:lnTo>
                  <a:lnTo>
                    <a:pt x="502" y="707"/>
                  </a:lnTo>
                  <a:lnTo>
                    <a:pt x="499" y="705"/>
                  </a:lnTo>
                  <a:lnTo>
                    <a:pt x="493" y="730"/>
                  </a:lnTo>
                  <a:lnTo>
                    <a:pt x="457" y="728"/>
                  </a:lnTo>
                  <a:lnTo>
                    <a:pt x="420" y="726"/>
                  </a:lnTo>
                  <a:lnTo>
                    <a:pt x="385" y="726"/>
                  </a:lnTo>
                  <a:lnTo>
                    <a:pt x="350" y="725"/>
                  </a:lnTo>
                  <a:lnTo>
                    <a:pt x="317" y="723"/>
                  </a:lnTo>
                  <a:lnTo>
                    <a:pt x="284" y="721"/>
                  </a:lnTo>
                  <a:lnTo>
                    <a:pt x="251" y="719"/>
                  </a:lnTo>
                  <a:lnTo>
                    <a:pt x="220" y="718"/>
                  </a:lnTo>
                  <a:lnTo>
                    <a:pt x="190" y="716"/>
                  </a:lnTo>
                  <a:lnTo>
                    <a:pt x="159" y="716"/>
                  </a:lnTo>
                  <a:lnTo>
                    <a:pt x="131" y="714"/>
                  </a:lnTo>
                  <a:lnTo>
                    <a:pt x="103" y="712"/>
                  </a:lnTo>
                  <a:lnTo>
                    <a:pt x="75" y="711"/>
                  </a:lnTo>
                  <a:lnTo>
                    <a:pt x="49" y="709"/>
                  </a:lnTo>
                  <a:lnTo>
                    <a:pt x="25" y="707"/>
                  </a:lnTo>
                  <a:lnTo>
                    <a:pt x="0" y="705"/>
                  </a:lnTo>
                  <a:lnTo>
                    <a:pt x="0" y="439"/>
                  </a:lnTo>
                  <a:lnTo>
                    <a:pt x="4" y="357"/>
                  </a:lnTo>
                  <a:lnTo>
                    <a:pt x="13" y="282"/>
                  </a:lnTo>
                  <a:lnTo>
                    <a:pt x="27" y="214"/>
                  </a:lnTo>
                  <a:lnTo>
                    <a:pt x="42" y="153"/>
                  </a:lnTo>
                  <a:lnTo>
                    <a:pt x="60" y="101"/>
                  </a:lnTo>
                  <a:lnTo>
                    <a:pt x="77" y="57"/>
                  </a:lnTo>
                  <a:lnTo>
                    <a:pt x="91" y="24"/>
                  </a:lnTo>
                  <a:lnTo>
                    <a:pt x="103"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7159320" y="3240360"/>
              <a:ext cx="306360" cy="306360"/>
            </a:xfrm>
            <a:custGeom>
              <a:avLst/>
              <a:gdLst/>
              <a:ahLst/>
              <a:rect l="l" t="t" r="r" b="b"/>
              <a:pathLst>
                <a:path w="387" h="387">
                  <a:moveTo>
                    <a:pt x="2" y="132"/>
                  </a:moveTo>
                  <a:lnTo>
                    <a:pt x="0" y="127"/>
                  </a:lnTo>
                  <a:lnTo>
                    <a:pt x="0" y="122"/>
                  </a:lnTo>
                  <a:lnTo>
                    <a:pt x="0" y="117"/>
                  </a:lnTo>
                  <a:lnTo>
                    <a:pt x="0" y="111"/>
                  </a:lnTo>
                  <a:lnTo>
                    <a:pt x="3" y="113"/>
                  </a:lnTo>
                  <a:lnTo>
                    <a:pt x="7" y="115"/>
                  </a:lnTo>
                  <a:lnTo>
                    <a:pt x="10" y="117"/>
                  </a:lnTo>
                  <a:lnTo>
                    <a:pt x="14" y="118"/>
                  </a:lnTo>
                  <a:lnTo>
                    <a:pt x="30" y="132"/>
                  </a:lnTo>
                  <a:lnTo>
                    <a:pt x="42" y="153"/>
                  </a:lnTo>
                  <a:lnTo>
                    <a:pt x="54" y="179"/>
                  </a:lnTo>
                  <a:lnTo>
                    <a:pt x="63" y="207"/>
                  </a:lnTo>
                  <a:lnTo>
                    <a:pt x="70" y="226"/>
                  </a:lnTo>
                  <a:lnTo>
                    <a:pt x="77" y="244"/>
                  </a:lnTo>
                  <a:lnTo>
                    <a:pt x="85" y="261"/>
                  </a:lnTo>
                  <a:lnTo>
                    <a:pt x="96" y="277"/>
                  </a:lnTo>
                  <a:lnTo>
                    <a:pt x="106" y="289"/>
                  </a:lnTo>
                  <a:lnTo>
                    <a:pt x="120" y="298"/>
                  </a:lnTo>
                  <a:lnTo>
                    <a:pt x="136" y="301"/>
                  </a:lnTo>
                  <a:lnTo>
                    <a:pt x="155" y="298"/>
                  </a:lnTo>
                  <a:lnTo>
                    <a:pt x="171" y="291"/>
                  </a:lnTo>
                  <a:lnTo>
                    <a:pt x="183" y="279"/>
                  </a:lnTo>
                  <a:lnTo>
                    <a:pt x="195" y="263"/>
                  </a:lnTo>
                  <a:lnTo>
                    <a:pt x="205" y="244"/>
                  </a:lnTo>
                  <a:lnTo>
                    <a:pt x="214" y="223"/>
                  </a:lnTo>
                  <a:lnTo>
                    <a:pt x="223" y="198"/>
                  </a:lnTo>
                  <a:lnTo>
                    <a:pt x="232" y="172"/>
                  </a:lnTo>
                  <a:lnTo>
                    <a:pt x="240" y="144"/>
                  </a:lnTo>
                  <a:lnTo>
                    <a:pt x="246" y="125"/>
                  </a:lnTo>
                  <a:lnTo>
                    <a:pt x="253" y="104"/>
                  </a:lnTo>
                  <a:lnTo>
                    <a:pt x="259" y="85"/>
                  </a:lnTo>
                  <a:lnTo>
                    <a:pt x="266" y="64"/>
                  </a:lnTo>
                  <a:lnTo>
                    <a:pt x="273" y="47"/>
                  </a:lnTo>
                  <a:lnTo>
                    <a:pt x="282" y="31"/>
                  </a:lnTo>
                  <a:lnTo>
                    <a:pt x="289" y="21"/>
                  </a:lnTo>
                  <a:lnTo>
                    <a:pt x="298" y="15"/>
                  </a:lnTo>
                  <a:lnTo>
                    <a:pt x="319" y="8"/>
                  </a:lnTo>
                  <a:lnTo>
                    <a:pt x="336" y="5"/>
                  </a:lnTo>
                  <a:lnTo>
                    <a:pt x="352" y="2"/>
                  </a:lnTo>
                  <a:lnTo>
                    <a:pt x="364" y="0"/>
                  </a:lnTo>
                  <a:lnTo>
                    <a:pt x="373" y="0"/>
                  </a:lnTo>
                  <a:lnTo>
                    <a:pt x="380" y="0"/>
                  </a:lnTo>
                  <a:lnTo>
                    <a:pt x="383" y="2"/>
                  </a:lnTo>
                  <a:lnTo>
                    <a:pt x="387" y="2"/>
                  </a:lnTo>
                  <a:lnTo>
                    <a:pt x="385" y="7"/>
                  </a:lnTo>
                  <a:lnTo>
                    <a:pt x="381" y="15"/>
                  </a:lnTo>
                  <a:lnTo>
                    <a:pt x="374" y="28"/>
                  </a:lnTo>
                  <a:lnTo>
                    <a:pt x="362" y="43"/>
                  </a:lnTo>
                  <a:lnTo>
                    <a:pt x="343" y="71"/>
                  </a:lnTo>
                  <a:lnTo>
                    <a:pt x="327" y="101"/>
                  </a:lnTo>
                  <a:lnTo>
                    <a:pt x="313" y="129"/>
                  </a:lnTo>
                  <a:lnTo>
                    <a:pt x="305" y="157"/>
                  </a:lnTo>
                  <a:lnTo>
                    <a:pt x="296" y="186"/>
                  </a:lnTo>
                  <a:lnTo>
                    <a:pt x="291" y="212"/>
                  </a:lnTo>
                  <a:lnTo>
                    <a:pt x="287" y="240"/>
                  </a:lnTo>
                  <a:lnTo>
                    <a:pt x="284" y="266"/>
                  </a:lnTo>
                  <a:lnTo>
                    <a:pt x="280" y="280"/>
                  </a:lnTo>
                  <a:lnTo>
                    <a:pt x="272" y="294"/>
                  </a:lnTo>
                  <a:lnTo>
                    <a:pt x="259" y="310"/>
                  </a:lnTo>
                  <a:lnTo>
                    <a:pt x="244" y="327"/>
                  </a:lnTo>
                  <a:lnTo>
                    <a:pt x="226" y="343"/>
                  </a:lnTo>
                  <a:lnTo>
                    <a:pt x="207" y="359"/>
                  </a:lnTo>
                  <a:lnTo>
                    <a:pt x="188" y="374"/>
                  </a:lnTo>
                  <a:lnTo>
                    <a:pt x="169" y="387"/>
                  </a:lnTo>
                  <a:lnTo>
                    <a:pt x="91" y="387"/>
                  </a:lnTo>
                  <a:lnTo>
                    <a:pt x="77" y="369"/>
                  </a:lnTo>
                  <a:lnTo>
                    <a:pt x="63" y="350"/>
                  </a:lnTo>
                  <a:lnTo>
                    <a:pt x="47" y="326"/>
                  </a:lnTo>
                  <a:lnTo>
                    <a:pt x="31" y="301"/>
                  </a:lnTo>
                  <a:lnTo>
                    <a:pt x="19" y="275"/>
                  </a:lnTo>
                  <a:lnTo>
                    <a:pt x="9" y="247"/>
                  </a:lnTo>
                  <a:lnTo>
                    <a:pt x="2" y="221"/>
                  </a:lnTo>
                  <a:lnTo>
                    <a:pt x="0" y="197"/>
                  </a:lnTo>
                  <a:lnTo>
                    <a:pt x="2" y="178"/>
                  </a:lnTo>
                  <a:lnTo>
                    <a:pt x="2" y="162"/>
                  </a:lnTo>
                  <a:lnTo>
                    <a:pt x="2" y="146"/>
                  </a:lnTo>
                  <a:lnTo>
                    <a:pt x="2" y="13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7238880" y="3106800"/>
              <a:ext cx="68040" cy="247680"/>
            </a:xfrm>
            <a:custGeom>
              <a:avLst/>
              <a:gdLst/>
              <a:ahLst/>
              <a:rect l="l" t="t" r="r" b="b"/>
              <a:pathLst>
                <a:path w="85" h="312">
                  <a:moveTo>
                    <a:pt x="19" y="0"/>
                  </a:moveTo>
                  <a:lnTo>
                    <a:pt x="66" y="0"/>
                  </a:lnTo>
                  <a:lnTo>
                    <a:pt x="73" y="2"/>
                  </a:lnTo>
                  <a:lnTo>
                    <a:pt x="80" y="6"/>
                  </a:lnTo>
                  <a:lnTo>
                    <a:pt x="84" y="13"/>
                  </a:lnTo>
                  <a:lnTo>
                    <a:pt x="85" y="20"/>
                  </a:lnTo>
                  <a:lnTo>
                    <a:pt x="85" y="293"/>
                  </a:lnTo>
                  <a:lnTo>
                    <a:pt x="84" y="300"/>
                  </a:lnTo>
                  <a:lnTo>
                    <a:pt x="80" y="307"/>
                  </a:lnTo>
                  <a:lnTo>
                    <a:pt x="73" y="311"/>
                  </a:lnTo>
                  <a:lnTo>
                    <a:pt x="66" y="312"/>
                  </a:lnTo>
                  <a:lnTo>
                    <a:pt x="19" y="312"/>
                  </a:lnTo>
                  <a:lnTo>
                    <a:pt x="12" y="311"/>
                  </a:lnTo>
                  <a:lnTo>
                    <a:pt x="5" y="307"/>
                  </a:lnTo>
                  <a:lnTo>
                    <a:pt x="2" y="300"/>
                  </a:lnTo>
                  <a:lnTo>
                    <a:pt x="0" y="293"/>
                  </a:lnTo>
                  <a:lnTo>
                    <a:pt x="0" y="20"/>
                  </a:lnTo>
                  <a:lnTo>
                    <a:pt x="2" y="13"/>
                  </a:lnTo>
                  <a:lnTo>
                    <a:pt x="5" y="6"/>
                  </a:lnTo>
                  <a:lnTo>
                    <a:pt x="12" y="2"/>
                  </a:lnTo>
                  <a:lnTo>
                    <a:pt x="1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7248240" y="3394080"/>
              <a:ext cx="47520" cy="44640"/>
            </a:xfrm>
            <a:custGeom>
              <a:avLst/>
              <a:gdLst/>
              <a:ahLst/>
              <a:rect l="l" t="t" r="r" b="b"/>
              <a:pathLst>
                <a:path w="61" h="58">
                  <a:moveTo>
                    <a:pt x="61" y="0"/>
                  </a:moveTo>
                  <a:lnTo>
                    <a:pt x="54" y="21"/>
                  </a:lnTo>
                  <a:lnTo>
                    <a:pt x="46" y="39"/>
                  </a:lnTo>
                  <a:lnTo>
                    <a:pt x="39" y="53"/>
                  </a:lnTo>
                  <a:lnTo>
                    <a:pt x="30" y="58"/>
                  </a:lnTo>
                  <a:lnTo>
                    <a:pt x="23" y="54"/>
                  </a:lnTo>
                  <a:lnTo>
                    <a:pt x="16" y="40"/>
                  </a:lnTo>
                  <a:lnTo>
                    <a:pt x="7" y="21"/>
                  </a:lnTo>
                  <a:lnTo>
                    <a:pt x="0" y="0"/>
                  </a:lnTo>
                  <a:lnTo>
                    <a:pt x="2" y="2"/>
                  </a:lnTo>
                  <a:lnTo>
                    <a:pt x="4" y="2"/>
                  </a:lnTo>
                  <a:lnTo>
                    <a:pt x="7" y="2"/>
                  </a:lnTo>
                  <a:lnTo>
                    <a:pt x="9" y="2"/>
                  </a:lnTo>
                  <a:lnTo>
                    <a:pt x="56" y="2"/>
                  </a:lnTo>
                  <a:lnTo>
                    <a:pt x="58" y="2"/>
                  </a:lnTo>
                  <a:lnTo>
                    <a:pt x="60" y="2"/>
                  </a:lnTo>
                  <a:lnTo>
                    <a:pt x="60" y="2"/>
                  </a:lnTo>
                  <a:lnTo>
                    <a:pt x="61" y="0"/>
                  </a:lnTo>
                  <a:close/>
                </a:path>
              </a:pathLst>
            </a:custGeom>
            <a:solidFill>
              <a:srgbClr val="bcff23"/>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41" name=""/>
            <p:cNvSpPr/>
            <p:nvPr/>
          </p:nvSpPr>
          <p:spPr>
            <a:xfrm>
              <a:off x="7548480" y="3337200"/>
              <a:ext cx="201600" cy="241200"/>
            </a:xfrm>
            <a:custGeom>
              <a:avLst/>
              <a:gdLst/>
              <a:ahLst/>
              <a:rect l="l" t="t" r="r" b="b"/>
              <a:pathLst>
                <a:path w="255" h="305">
                  <a:moveTo>
                    <a:pt x="35" y="22"/>
                  </a:moveTo>
                  <a:lnTo>
                    <a:pt x="72" y="12"/>
                  </a:lnTo>
                  <a:lnTo>
                    <a:pt x="107" y="5"/>
                  </a:lnTo>
                  <a:lnTo>
                    <a:pt x="140" y="2"/>
                  </a:lnTo>
                  <a:lnTo>
                    <a:pt x="171" y="0"/>
                  </a:lnTo>
                  <a:lnTo>
                    <a:pt x="199" y="0"/>
                  </a:lnTo>
                  <a:lnTo>
                    <a:pt x="222" y="2"/>
                  </a:lnTo>
                  <a:lnTo>
                    <a:pt x="241" y="5"/>
                  </a:lnTo>
                  <a:lnTo>
                    <a:pt x="255" y="8"/>
                  </a:lnTo>
                  <a:lnTo>
                    <a:pt x="236" y="22"/>
                  </a:lnTo>
                  <a:lnTo>
                    <a:pt x="215" y="35"/>
                  </a:lnTo>
                  <a:lnTo>
                    <a:pt x="192" y="45"/>
                  </a:lnTo>
                  <a:lnTo>
                    <a:pt x="169" y="52"/>
                  </a:lnTo>
                  <a:lnTo>
                    <a:pt x="148" y="59"/>
                  </a:lnTo>
                  <a:lnTo>
                    <a:pt x="131" y="63"/>
                  </a:lnTo>
                  <a:lnTo>
                    <a:pt x="121" y="66"/>
                  </a:lnTo>
                  <a:lnTo>
                    <a:pt x="115" y="66"/>
                  </a:lnTo>
                  <a:lnTo>
                    <a:pt x="93" y="71"/>
                  </a:lnTo>
                  <a:lnTo>
                    <a:pt x="121" y="242"/>
                  </a:lnTo>
                  <a:lnTo>
                    <a:pt x="162" y="235"/>
                  </a:lnTo>
                  <a:lnTo>
                    <a:pt x="216" y="258"/>
                  </a:lnTo>
                  <a:lnTo>
                    <a:pt x="159" y="305"/>
                  </a:lnTo>
                  <a:lnTo>
                    <a:pt x="75" y="279"/>
                  </a:lnTo>
                  <a:lnTo>
                    <a:pt x="63" y="258"/>
                  </a:lnTo>
                  <a:lnTo>
                    <a:pt x="47" y="230"/>
                  </a:lnTo>
                  <a:lnTo>
                    <a:pt x="33" y="200"/>
                  </a:lnTo>
                  <a:lnTo>
                    <a:pt x="20" y="169"/>
                  </a:lnTo>
                  <a:lnTo>
                    <a:pt x="9" y="136"/>
                  </a:lnTo>
                  <a:lnTo>
                    <a:pt x="2" y="104"/>
                  </a:lnTo>
                  <a:lnTo>
                    <a:pt x="0" y="75"/>
                  </a:lnTo>
                  <a:lnTo>
                    <a:pt x="4" y="50"/>
                  </a:lnTo>
                  <a:lnTo>
                    <a:pt x="9" y="42"/>
                  </a:lnTo>
                  <a:lnTo>
                    <a:pt x="16" y="33"/>
                  </a:lnTo>
                  <a:lnTo>
                    <a:pt x="25" y="28"/>
                  </a:lnTo>
                  <a:lnTo>
                    <a:pt x="35" y="2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7225920" y="3600720"/>
              <a:ext cx="430200" cy="271440"/>
            </a:xfrm>
            <a:custGeom>
              <a:avLst/>
              <a:gdLst/>
              <a:ahLst/>
              <a:rect l="l" t="t" r="r" b="b"/>
              <a:pathLst>
                <a:path w="541" h="341">
                  <a:moveTo>
                    <a:pt x="484" y="0"/>
                  </a:moveTo>
                  <a:lnTo>
                    <a:pt x="541" y="15"/>
                  </a:lnTo>
                  <a:lnTo>
                    <a:pt x="534" y="45"/>
                  </a:lnTo>
                  <a:lnTo>
                    <a:pt x="522" y="83"/>
                  </a:lnTo>
                  <a:lnTo>
                    <a:pt x="505" y="129"/>
                  </a:lnTo>
                  <a:lnTo>
                    <a:pt x="480" y="174"/>
                  </a:lnTo>
                  <a:lnTo>
                    <a:pt x="451" y="219"/>
                  </a:lnTo>
                  <a:lnTo>
                    <a:pt x="411" y="261"/>
                  </a:lnTo>
                  <a:lnTo>
                    <a:pt x="362" y="292"/>
                  </a:lnTo>
                  <a:lnTo>
                    <a:pt x="304" y="313"/>
                  </a:lnTo>
                  <a:lnTo>
                    <a:pt x="276" y="319"/>
                  </a:lnTo>
                  <a:lnTo>
                    <a:pt x="250" y="324"/>
                  </a:lnTo>
                  <a:lnTo>
                    <a:pt x="226" y="329"/>
                  </a:lnTo>
                  <a:lnTo>
                    <a:pt x="202" y="333"/>
                  </a:lnTo>
                  <a:lnTo>
                    <a:pt x="179" y="334"/>
                  </a:lnTo>
                  <a:lnTo>
                    <a:pt x="156" y="338"/>
                  </a:lnTo>
                  <a:lnTo>
                    <a:pt x="135" y="339"/>
                  </a:lnTo>
                  <a:lnTo>
                    <a:pt x="116" y="339"/>
                  </a:lnTo>
                  <a:lnTo>
                    <a:pt x="97" y="341"/>
                  </a:lnTo>
                  <a:lnTo>
                    <a:pt x="80" y="341"/>
                  </a:lnTo>
                  <a:lnTo>
                    <a:pt x="62" y="341"/>
                  </a:lnTo>
                  <a:lnTo>
                    <a:pt x="48" y="341"/>
                  </a:lnTo>
                  <a:lnTo>
                    <a:pt x="34" y="339"/>
                  </a:lnTo>
                  <a:lnTo>
                    <a:pt x="20" y="339"/>
                  </a:lnTo>
                  <a:lnTo>
                    <a:pt x="10" y="339"/>
                  </a:lnTo>
                  <a:lnTo>
                    <a:pt x="0" y="338"/>
                  </a:lnTo>
                  <a:lnTo>
                    <a:pt x="12" y="315"/>
                  </a:lnTo>
                  <a:lnTo>
                    <a:pt x="24" y="292"/>
                  </a:lnTo>
                  <a:lnTo>
                    <a:pt x="34" y="268"/>
                  </a:lnTo>
                  <a:lnTo>
                    <a:pt x="45" y="244"/>
                  </a:lnTo>
                  <a:lnTo>
                    <a:pt x="55" y="221"/>
                  </a:lnTo>
                  <a:lnTo>
                    <a:pt x="64" y="197"/>
                  </a:lnTo>
                  <a:lnTo>
                    <a:pt x="71" y="174"/>
                  </a:lnTo>
                  <a:lnTo>
                    <a:pt x="78" y="151"/>
                  </a:lnTo>
                  <a:lnTo>
                    <a:pt x="88" y="153"/>
                  </a:lnTo>
                  <a:lnTo>
                    <a:pt x="99" y="156"/>
                  </a:lnTo>
                  <a:lnTo>
                    <a:pt x="113" y="160"/>
                  </a:lnTo>
                  <a:lnTo>
                    <a:pt x="127" y="162"/>
                  </a:lnTo>
                  <a:lnTo>
                    <a:pt x="142" y="165"/>
                  </a:lnTo>
                  <a:lnTo>
                    <a:pt x="160" y="167"/>
                  </a:lnTo>
                  <a:lnTo>
                    <a:pt x="177" y="169"/>
                  </a:lnTo>
                  <a:lnTo>
                    <a:pt x="196" y="170"/>
                  </a:lnTo>
                  <a:lnTo>
                    <a:pt x="216" y="172"/>
                  </a:lnTo>
                  <a:lnTo>
                    <a:pt x="236" y="170"/>
                  </a:lnTo>
                  <a:lnTo>
                    <a:pt x="256" y="170"/>
                  </a:lnTo>
                  <a:lnTo>
                    <a:pt x="276" y="167"/>
                  </a:lnTo>
                  <a:lnTo>
                    <a:pt x="297" y="163"/>
                  </a:lnTo>
                  <a:lnTo>
                    <a:pt x="317" y="158"/>
                  </a:lnTo>
                  <a:lnTo>
                    <a:pt x="337" y="153"/>
                  </a:lnTo>
                  <a:lnTo>
                    <a:pt x="357" y="144"/>
                  </a:lnTo>
                  <a:lnTo>
                    <a:pt x="388" y="127"/>
                  </a:lnTo>
                  <a:lnTo>
                    <a:pt x="412" y="109"/>
                  </a:lnTo>
                  <a:lnTo>
                    <a:pt x="433" y="90"/>
                  </a:lnTo>
                  <a:lnTo>
                    <a:pt x="451" y="71"/>
                  </a:lnTo>
                  <a:lnTo>
                    <a:pt x="463" y="52"/>
                  </a:lnTo>
                  <a:lnTo>
                    <a:pt x="473" y="33"/>
                  </a:lnTo>
                  <a:lnTo>
                    <a:pt x="480" y="15"/>
                  </a:lnTo>
                  <a:lnTo>
                    <a:pt x="48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7051320" y="3975120"/>
              <a:ext cx="81000" cy="33480"/>
            </a:xfrm>
            <a:custGeom>
              <a:avLst/>
              <a:gdLst/>
              <a:ahLst/>
              <a:rect l="l" t="t" r="r" b="b"/>
              <a:pathLst>
                <a:path w="101" h="40">
                  <a:moveTo>
                    <a:pt x="0" y="40"/>
                  </a:moveTo>
                  <a:lnTo>
                    <a:pt x="11" y="37"/>
                  </a:lnTo>
                  <a:lnTo>
                    <a:pt x="21" y="33"/>
                  </a:lnTo>
                  <a:lnTo>
                    <a:pt x="31" y="30"/>
                  </a:lnTo>
                  <a:lnTo>
                    <a:pt x="42" y="26"/>
                  </a:lnTo>
                  <a:lnTo>
                    <a:pt x="54" y="21"/>
                  </a:lnTo>
                  <a:lnTo>
                    <a:pt x="68" y="14"/>
                  </a:lnTo>
                  <a:lnTo>
                    <a:pt x="80" y="7"/>
                  </a:lnTo>
                  <a:lnTo>
                    <a:pt x="92" y="0"/>
                  </a:lnTo>
                  <a:lnTo>
                    <a:pt x="101" y="38"/>
                  </a:lnTo>
                  <a:lnTo>
                    <a:pt x="78" y="38"/>
                  </a:lnTo>
                  <a:lnTo>
                    <a:pt x="59" y="40"/>
                  </a:lnTo>
                  <a:lnTo>
                    <a:pt x="42" y="40"/>
                  </a:lnTo>
                  <a:lnTo>
                    <a:pt x="28" y="40"/>
                  </a:lnTo>
                  <a:lnTo>
                    <a:pt x="18" y="40"/>
                  </a:lnTo>
                  <a:lnTo>
                    <a:pt x="9" y="40"/>
                  </a:lnTo>
                  <a:lnTo>
                    <a:pt x="4" y="40"/>
                  </a:lnTo>
                  <a:lnTo>
                    <a:pt x="0" y="40"/>
                  </a:lnTo>
                  <a:close/>
                </a:path>
              </a:pathLst>
            </a:custGeom>
            <a:solidFill>
              <a:srgbClr val="bcff2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4" name=""/>
            <p:cNvSpPr/>
            <p:nvPr/>
          </p:nvSpPr>
          <p:spPr>
            <a:xfrm>
              <a:off x="5970240" y="2149560"/>
              <a:ext cx="2094120" cy="1857240"/>
            </a:xfrm>
            <a:custGeom>
              <a:avLst/>
              <a:gdLst/>
              <a:ahLst/>
              <a:rect l="l" t="t" r="r" b="b"/>
              <a:pathLst>
                <a:path w="2639" h="2339">
                  <a:moveTo>
                    <a:pt x="2620" y="1121"/>
                  </a:moveTo>
                  <a:lnTo>
                    <a:pt x="2606" y="1327"/>
                  </a:lnTo>
                  <a:lnTo>
                    <a:pt x="2588" y="1522"/>
                  </a:lnTo>
                  <a:lnTo>
                    <a:pt x="2573" y="1705"/>
                  </a:lnTo>
                  <a:lnTo>
                    <a:pt x="2555" y="1869"/>
                  </a:lnTo>
                  <a:lnTo>
                    <a:pt x="2540" y="2012"/>
                  </a:lnTo>
                  <a:lnTo>
                    <a:pt x="2527" y="2130"/>
                  </a:lnTo>
                  <a:lnTo>
                    <a:pt x="2517" y="2219"/>
                  </a:lnTo>
                  <a:lnTo>
                    <a:pt x="2510" y="2275"/>
                  </a:lnTo>
                  <a:lnTo>
                    <a:pt x="2489" y="2277"/>
                  </a:lnTo>
                  <a:lnTo>
                    <a:pt x="2463" y="2280"/>
                  </a:lnTo>
                  <a:lnTo>
                    <a:pt x="2430" y="2283"/>
                  </a:lnTo>
                  <a:lnTo>
                    <a:pt x="2390" y="2287"/>
                  </a:lnTo>
                  <a:lnTo>
                    <a:pt x="2343" y="2292"/>
                  </a:lnTo>
                  <a:lnTo>
                    <a:pt x="2292" y="2297"/>
                  </a:lnTo>
                  <a:lnTo>
                    <a:pt x="2235" y="2303"/>
                  </a:lnTo>
                  <a:lnTo>
                    <a:pt x="2172" y="2306"/>
                  </a:lnTo>
                  <a:lnTo>
                    <a:pt x="2104" y="2311"/>
                  </a:lnTo>
                  <a:lnTo>
                    <a:pt x="2033" y="2317"/>
                  </a:lnTo>
                  <a:lnTo>
                    <a:pt x="1956" y="2322"/>
                  </a:lnTo>
                  <a:lnTo>
                    <a:pt x="1876" y="2327"/>
                  </a:lnTo>
                  <a:lnTo>
                    <a:pt x="1791" y="2331"/>
                  </a:lnTo>
                  <a:lnTo>
                    <a:pt x="1702" y="2334"/>
                  </a:lnTo>
                  <a:lnTo>
                    <a:pt x="1609" y="2338"/>
                  </a:lnTo>
                  <a:lnTo>
                    <a:pt x="1515" y="2339"/>
                  </a:lnTo>
                  <a:lnTo>
                    <a:pt x="1496" y="2270"/>
                  </a:lnTo>
                  <a:lnTo>
                    <a:pt x="1503" y="2263"/>
                  </a:lnTo>
                  <a:lnTo>
                    <a:pt x="1510" y="2256"/>
                  </a:lnTo>
                  <a:lnTo>
                    <a:pt x="1517" y="2249"/>
                  </a:lnTo>
                  <a:lnTo>
                    <a:pt x="1524" y="2242"/>
                  </a:lnTo>
                  <a:lnTo>
                    <a:pt x="1531" y="2235"/>
                  </a:lnTo>
                  <a:lnTo>
                    <a:pt x="1536" y="2228"/>
                  </a:lnTo>
                  <a:lnTo>
                    <a:pt x="1543" y="2219"/>
                  </a:lnTo>
                  <a:lnTo>
                    <a:pt x="1550" y="2212"/>
                  </a:lnTo>
                  <a:lnTo>
                    <a:pt x="1559" y="2214"/>
                  </a:lnTo>
                  <a:lnTo>
                    <a:pt x="1569" y="2216"/>
                  </a:lnTo>
                  <a:lnTo>
                    <a:pt x="1582" y="2216"/>
                  </a:lnTo>
                  <a:lnTo>
                    <a:pt x="1595" y="2217"/>
                  </a:lnTo>
                  <a:lnTo>
                    <a:pt x="1611" y="2219"/>
                  </a:lnTo>
                  <a:lnTo>
                    <a:pt x="1629" y="2219"/>
                  </a:lnTo>
                  <a:lnTo>
                    <a:pt x="1648" y="2219"/>
                  </a:lnTo>
                  <a:lnTo>
                    <a:pt x="1669" y="2219"/>
                  </a:lnTo>
                  <a:lnTo>
                    <a:pt x="1691" y="2219"/>
                  </a:lnTo>
                  <a:lnTo>
                    <a:pt x="1717" y="2217"/>
                  </a:lnTo>
                  <a:lnTo>
                    <a:pt x="1744" y="2216"/>
                  </a:lnTo>
                  <a:lnTo>
                    <a:pt x="1770" y="2212"/>
                  </a:lnTo>
                  <a:lnTo>
                    <a:pt x="1799" y="2209"/>
                  </a:lnTo>
                  <a:lnTo>
                    <a:pt x="1831" y="2203"/>
                  </a:lnTo>
                  <a:lnTo>
                    <a:pt x="1864" y="2198"/>
                  </a:lnTo>
                  <a:lnTo>
                    <a:pt x="1897" y="2191"/>
                  </a:lnTo>
                  <a:lnTo>
                    <a:pt x="1970" y="2165"/>
                  </a:lnTo>
                  <a:lnTo>
                    <a:pt x="2029" y="2123"/>
                  </a:lnTo>
                  <a:lnTo>
                    <a:pt x="2076" y="2073"/>
                  </a:lnTo>
                  <a:lnTo>
                    <a:pt x="2113" y="2019"/>
                  </a:lnTo>
                  <a:lnTo>
                    <a:pt x="2139" y="1963"/>
                  </a:lnTo>
                  <a:lnTo>
                    <a:pt x="2156" y="1912"/>
                  </a:lnTo>
                  <a:lnTo>
                    <a:pt x="2169" y="1869"/>
                  </a:lnTo>
                  <a:lnTo>
                    <a:pt x="2174" y="1841"/>
                  </a:lnTo>
                  <a:lnTo>
                    <a:pt x="2254" y="1776"/>
                  </a:lnTo>
                  <a:lnTo>
                    <a:pt x="2339" y="1811"/>
                  </a:lnTo>
                  <a:lnTo>
                    <a:pt x="2510" y="1198"/>
                  </a:lnTo>
                  <a:lnTo>
                    <a:pt x="2372" y="835"/>
                  </a:lnTo>
                  <a:lnTo>
                    <a:pt x="2085" y="1011"/>
                  </a:lnTo>
                  <a:lnTo>
                    <a:pt x="1993" y="1477"/>
                  </a:lnTo>
                  <a:lnTo>
                    <a:pt x="1977" y="1485"/>
                  </a:lnTo>
                  <a:lnTo>
                    <a:pt x="1963" y="1498"/>
                  </a:lnTo>
                  <a:lnTo>
                    <a:pt x="1953" y="1513"/>
                  </a:lnTo>
                  <a:lnTo>
                    <a:pt x="1944" y="1529"/>
                  </a:lnTo>
                  <a:lnTo>
                    <a:pt x="1937" y="1565"/>
                  </a:lnTo>
                  <a:lnTo>
                    <a:pt x="1939" y="1604"/>
                  </a:lnTo>
                  <a:lnTo>
                    <a:pt x="1949" y="1646"/>
                  </a:lnTo>
                  <a:lnTo>
                    <a:pt x="1961" y="1686"/>
                  </a:lnTo>
                  <a:lnTo>
                    <a:pt x="1979" y="1724"/>
                  </a:lnTo>
                  <a:lnTo>
                    <a:pt x="1994" y="1757"/>
                  </a:lnTo>
                  <a:lnTo>
                    <a:pt x="2010" y="1783"/>
                  </a:lnTo>
                  <a:lnTo>
                    <a:pt x="2020" y="1802"/>
                  </a:lnTo>
                  <a:lnTo>
                    <a:pt x="2019" y="1813"/>
                  </a:lnTo>
                  <a:lnTo>
                    <a:pt x="2015" y="1825"/>
                  </a:lnTo>
                  <a:lnTo>
                    <a:pt x="2010" y="1841"/>
                  </a:lnTo>
                  <a:lnTo>
                    <a:pt x="2001" y="1858"/>
                  </a:lnTo>
                  <a:lnTo>
                    <a:pt x="1987" y="1876"/>
                  </a:lnTo>
                  <a:lnTo>
                    <a:pt x="1970" y="1895"/>
                  </a:lnTo>
                  <a:lnTo>
                    <a:pt x="1947" y="1912"/>
                  </a:lnTo>
                  <a:lnTo>
                    <a:pt x="1918" y="1928"/>
                  </a:lnTo>
                  <a:lnTo>
                    <a:pt x="1885" y="1940"/>
                  </a:lnTo>
                  <a:lnTo>
                    <a:pt x="1848" y="1947"/>
                  </a:lnTo>
                  <a:lnTo>
                    <a:pt x="1813" y="1951"/>
                  </a:lnTo>
                  <a:lnTo>
                    <a:pt x="1778" y="1951"/>
                  </a:lnTo>
                  <a:lnTo>
                    <a:pt x="1745" y="1947"/>
                  </a:lnTo>
                  <a:lnTo>
                    <a:pt x="1717" y="1942"/>
                  </a:lnTo>
                  <a:lnTo>
                    <a:pt x="1693" y="1937"/>
                  </a:lnTo>
                  <a:lnTo>
                    <a:pt x="1674" y="1931"/>
                  </a:lnTo>
                  <a:lnTo>
                    <a:pt x="1683" y="1888"/>
                  </a:lnTo>
                  <a:lnTo>
                    <a:pt x="1691" y="1851"/>
                  </a:lnTo>
                  <a:lnTo>
                    <a:pt x="1697" y="1820"/>
                  </a:lnTo>
                  <a:lnTo>
                    <a:pt x="1698" y="1799"/>
                  </a:lnTo>
                  <a:lnTo>
                    <a:pt x="1714" y="1789"/>
                  </a:lnTo>
                  <a:lnTo>
                    <a:pt x="1733" y="1773"/>
                  </a:lnTo>
                  <a:lnTo>
                    <a:pt x="1754" y="1755"/>
                  </a:lnTo>
                  <a:lnTo>
                    <a:pt x="1775" y="1736"/>
                  </a:lnTo>
                  <a:lnTo>
                    <a:pt x="1796" y="1715"/>
                  </a:lnTo>
                  <a:lnTo>
                    <a:pt x="1813" y="1693"/>
                  </a:lnTo>
                  <a:lnTo>
                    <a:pt x="1825" y="1670"/>
                  </a:lnTo>
                  <a:lnTo>
                    <a:pt x="1831" y="1646"/>
                  </a:lnTo>
                  <a:lnTo>
                    <a:pt x="1834" y="1621"/>
                  </a:lnTo>
                  <a:lnTo>
                    <a:pt x="1838" y="1597"/>
                  </a:lnTo>
                  <a:lnTo>
                    <a:pt x="1843" y="1572"/>
                  </a:lnTo>
                  <a:lnTo>
                    <a:pt x="1850" y="1548"/>
                  </a:lnTo>
                  <a:lnTo>
                    <a:pt x="1858" y="1524"/>
                  </a:lnTo>
                  <a:lnTo>
                    <a:pt x="1869" y="1498"/>
                  </a:lnTo>
                  <a:lnTo>
                    <a:pt x="1883" y="1473"/>
                  </a:lnTo>
                  <a:lnTo>
                    <a:pt x="1900" y="1447"/>
                  </a:lnTo>
                  <a:lnTo>
                    <a:pt x="1912" y="1430"/>
                  </a:lnTo>
                  <a:lnTo>
                    <a:pt x="1926" y="1405"/>
                  </a:lnTo>
                  <a:lnTo>
                    <a:pt x="1933" y="1376"/>
                  </a:lnTo>
                  <a:lnTo>
                    <a:pt x="1925" y="1348"/>
                  </a:lnTo>
                  <a:lnTo>
                    <a:pt x="1916" y="1339"/>
                  </a:lnTo>
                  <a:lnTo>
                    <a:pt x="1906" y="1332"/>
                  </a:lnTo>
                  <a:lnTo>
                    <a:pt x="1892" y="1328"/>
                  </a:lnTo>
                  <a:lnTo>
                    <a:pt x="1876" y="1327"/>
                  </a:lnTo>
                  <a:lnTo>
                    <a:pt x="1857" y="1327"/>
                  </a:lnTo>
                  <a:lnTo>
                    <a:pt x="1836" y="1328"/>
                  </a:lnTo>
                  <a:lnTo>
                    <a:pt x="1810" y="1334"/>
                  </a:lnTo>
                  <a:lnTo>
                    <a:pt x="1782" y="1341"/>
                  </a:lnTo>
                  <a:lnTo>
                    <a:pt x="1768" y="1348"/>
                  </a:lnTo>
                  <a:lnTo>
                    <a:pt x="1756" y="1358"/>
                  </a:lnTo>
                  <a:lnTo>
                    <a:pt x="1744" y="1370"/>
                  </a:lnTo>
                  <a:lnTo>
                    <a:pt x="1733" y="1386"/>
                  </a:lnTo>
                  <a:lnTo>
                    <a:pt x="1733" y="1226"/>
                  </a:lnTo>
                  <a:lnTo>
                    <a:pt x="1731" y="1213"/>
                  </a:lnTo>
                  <a:lnTo>
                    <a:pt x="1728" y="1199"/>
                  </a:lnTo>
                  <a:lnTo>
                    <a:pt x="1723" y="1187"/>
                  </a:lnTo>
                  <a:lnTo>
                    <a:pt x="1714" y="1177"/>
                  </a:lnTo>
                  <a:lnTo>
                    <a:pt x="1703" y="1168"/>
                  </a:lnTo>
                  <a:lnTo>
                    <a:pt x="1691" y="1163"/>
                  </a:lnTo>
                  <a:lnTo>
                    <a:pt x="1677" y="1159"/>
                  </a:lnTo>
                  <a:lnTo>
                    <a:pt x="1665" y="1158"/>
                  </a:lnTo>
                  <a:lnTo>
                    <a:pt x="1660" y="1158"/>
                  </a:lnTo>
                  <a:lnTo>
                    <a:pt x="1660" y="1128"/>
                  </a:lnTo>
                  <a:lnTo>
                    <a:pt x="1693" y="1114"/>
                  </a:lnTo>
                  <a:lnTo>
                    <a:pt x="1702" y="1109"/>
                  </a:lnTo>
                  <a:lnTo>
                    <a:pt x="1707" y="1102"/>
                  </a:lnTo>
                  <a:lnTo>
                    <a:pt x="1709" y="1091"/>
                  </a:lnTo>
                  <a:lnTo>
                    <a:pt x="1707" y="1083"/>
                  </a:lnTo>
                  <a:lnTo>
                    <a:pt x="1702" y="1074"/>
                  </a:lnTo>
                  <a:lnTo>
                    <a:pt x="1695" y="1069"/>
                  </a:lnTo>
                  <a:lnTo>
                    <a:pt x="1684" y="1067"/>
                  </a:lnTo>
                  <a:lnTo>
                    <a:pt x="1676" y="1069"/>
                  </a:lnTo>
                  <a:lnTo>
                    <a:pt x="1660" y="1076"/>
                  </a:lnTo>
                  <a:lnTo>
                    <a:pt x="1660" y="1048"/>
                  </a:lnTo>
                  <a:lnTo>
                    <a:pt x="1693" y="1034"/>
                  </a:lnTo>
                  <a:lnTo>
                    <a:pt x="1702" y="1029"/>
                  </a:lnTo>
                  <a:lnTo>
                    <a:pt x="1707" y="1022"/>
                  </a:lnTo>
                  <a:lnTo>
                    <a:pt x="1709" y="1011"/>
                  </a:lnTo>
                  <a:lnTo>
                    <a:pt x="1707" y="1003"/>
                  </a:lnTo>
                  <a:lnTo>
                    <a:pt x="1702" y="994"/>
                  </a:lnTo>
                  <a:lnTo>
                    <a:pt x="1695" y="989"/>
                  </a:lnTo>
                  <a:lnTo>
                    <a:pt x="1684" y="987"/>
                  </a:lnTo>
                  <a:lnTo>
                    <a:pt x="1676" y="989"/>
                  </a:lnTo>
                  <a:lnTo>
                    <a:pt x="1660" y="996"/>
                  </a:lnTo>
                  <a:lnTo>
                    <a:pt x="1660" y="968"/>
                  </a:lnTo>
                  <a:lnTo>
                    <a:pt x="1693" y="954"/>
                  </a:lnTo>
                  <a:lnTo>
                    <a:pt x="1702" y="949"/>
                  </a:lnTo>
                  <a:lnTo>
                    <a:pt x="1707" y="942"/>
                  </a:lnTo>
                  <a:lnTo>
                    <a:pt x="1709" y="931"/>
                  </a:lnTo>
                  <a:lnTo>
                    <a:pt x="1707" y="922"/>
                  </a:lnTo>
                  <a:lnTo>
                    <a:pt x="1702" y="914"/>
                  </a:lnTo>
                  <a:lnTo>
                    <a:pt x="1695" y="908"/>
                  </a:lnTo>
                  <a:lnTo>
                    <a:pt x="1684" y="907"/>
                  </a:lnTo>
                  <a:lnTo>
                    <a:pt x="1676" y="908"/>
                  </a:lnTo>
                  <a:lnTo>
                    <a:pt x="1660" y="915"/>
                  </a:lnTo>
                  <a:lnTo>
                    <a:pt x="1660" y="888"/>
                  </a:lnTo>
                  <a:lnTo>
                    <a:pt x="1693" y="874"/>
                  </a:lnTo>
                  <a:lnTo>
                    <a:pt x="1702" y="868"/>
                  </a:lnTo>
                  <a:lnTo>
                    <a:pt x="1707" y="860"/>
                  </a:lnTo>
                  <a:lnTo>
                    <a:pt x="1709" y="851"/>
                  </a:lnTo>
                  <a:lnTo>
                    <a:pt x="1707" y="842"/>
                  </a:lnTo>
                  <a:lnTo>
                    <a:pt x="1702" y="834"/>
                  </a:lnTo>
                  <a:lnTo>
                    <a:pt x="1695" y="828"/>
                  </a:lnTo>
                  <a:lnTo>
                    <a:pt x="1684" y="827"/>
                  </a:lnTo>
                  <a:lnTo>
                    <a:pt x="1676" y="828"/>
                  </a:lnTo>
                  <a:lnTo>
                    <a:pt x="1660" y="835"/>
                  </a:lnTo>
                  <a:lnTo>
                    <a:pt x="1660" y="807"/>
                  </a:lnTo>
                  <a:lnTo>
                    <a:pt x="1693" y="793"/>
                  </a:lnTo>
                  <a:lnTo>
                    <a:pt x="1702" y="788"/>
                  </a:lnTo>
                  <a:lnTo>
                    <a:pt x="1707" y="779"/>
                  </a:lnTo>
                  <a:lnTo>
                    <a:pt x="1709" y="771"/>
                  </a:lnTo>
                  <a:lnTo>
                    <a:pt x="1707" y="762"/>
                  </a:lnTo>
                  <a:lnTo>
                    <a:pt x="1702" y="753"/>
                  </a:lnTo>
                  <a:lnTo>
                    <a:pt x="1695" y="748"/>
                  </a:lnTo>
                  <a:lnTo>
                    <a:pt x="1684" y="746"/>
                  </a:lnTo>
                  <a:lnTo>
                    <a:pt x="1676" y="748"/>
                  </a:lnTo>
                  <a:lnTo>
                    <a:pt x="1660" y="755"/>
                  </a:lnTo>
                  <a:lnTo>
                    <a:pt x="1660" y="706"/>
                  </a:lnTo>
                  <a:lnTo>
                    <a:pt x="1658" y="696"/>
                  </a:lnTo>
                  <a:lnTo>
                    <a:pt x="1653" y="689"/>
                  </a:lnTo>
                  <a:lnTo>
                    <a:pt x="1646" y="684"/>
                  </a:lnTo>
                  <a:lnTo>
                    <a:pt x="1636" y="682"/>
                  </a:lnTo>
                  <a:lnTo>
                    <a:pt x="1625" y="684"/>
                  </a:lnTo>
                  <a:lnTo>
                    <a:pt x="1618" y="689"/>
                  </a:lnTo>
                  <a:lnTo>
                    <a:pt x="1613" y="696"/>
                  </a:lnTo>
                  <a:lnTo>
                    <a:pt x="1611" y="706"/>
                  </a:lnTo>
                  <a:lnTo>
                    <a:pt x="1611" y="774"/>
                  </a:lnTo>
                  <a:lnTo>
                    <a:pt x="1583" y="785"/>
                  </a:lnTo>
                  <a:lnTo>
                    <a:pt x="1575" y="790"/>
                  </a:lnTo>
                  <a:lnTo>
                    <a:pt x="1569" y="799"/>
                  </a:lnTo>
                  <a:lnTo>
                    <a:pt x="1568" y="807"/>
                  </a:lnTo>
                  <a:lnTo>
                    <a:pt x="1569" y="818"/>
                  </a:lnTo>
                  <a:lnTo>
                    <a:pt x="1575" y="825"/>
                  </a:lnTo>
                  <a:lnTo>
                    <a:pt x="1583" y="830"/>
                  </a:lnTo>
                  <a:lnTo>
                    <a:pt x="1592" y="834"/>
                  </a:lnTo>
                  <a:lnTo>
                    <a:pt x="1601" y="832"/>
                  </a:lnTo>
                  <a:lnTo>
                    <a:pt x="1611" y="827"/>
                  </a:lnTo>
                  <a:lnTo>
                    <a:pt x="1611" y="854"/>
                  </a:lnTo>
                  <a:lnTo>
                    <a:pt x="1583" y="865"/>
                  </a:lnTo>
                  <a:lnTo>
                    <a:pt x="1575" y="870"/>
                  </a:lnTo>
                  <a:lnTo>
                    <a:pt x="1569" y="879"/>
                  </a:lnTo>
                  <a:lnTo>
                    <a:pt x="1568" y="888"/>
                  </a:lnTo>
                  <a:lnTo>
                    <a:pt x="1569" y="898"/>
                  </a:lnTo>
                  <a:lnTo>
                    <a:pt x="1575" y="907"/>
                  </a:lnTo>
                  <a:lnTo>
                    <a:pt x="1583" y="912"/>
                  </a:lnTo>
                  <a:lnTo>
                    <a:pt x="1592" y="914"/>
                  </a:lnTo>
                  <a:lnTo>
                    <a:pt x="1601" y="912"/>
                  </a:lnTo>
                  <a:lnTo>
                    <a:pt x="1611" y="907"/>
                  </a:lnTo>
                  <a:lnTo>
                    <a:pt x="1611" y="935"/>
                  </a:lnTo>
                  <a:lnTo>
                    <a:pt x="1583" y="945"/>
                  </a:lnTo>
                  <a:lnTo>
                    <a:pt x="1575" y="950"/>
                  </a:lnTo>
                  <a:lnTo>
                    <a:pt x="1569" y="959"/>
                  </a:lnTo>
                  <a:lnTo>
                    <a:pt x="1568" y="968"/>
                  </a:lnTo>
                  <a:lnTo>
                    <a:pt x="1569" y="978"/>
                  </a:lnTo>
                  <a:lnTo>
                    <a:pt x="1575" y="987"/>
                  </a:lnTo>
                  <a:lnTo>
                    <a:pt x="1583" y="992"/>
                  </a:lnTo>
                  <a:lnTo>
                    <a:pt x="1592" y="994"/>
                  </a:lnTo>
                  <a:lnTo>
                    <a:pt x="1601" y="992"/>
                  </a:lnTo>
                  <a:lnTo>
                    <a:pt x="1611" y="989"/>
                  </a:lnTo>
                  <a:lnTo>
                    <a:pt x="1611" y="1015"/>
                  </a:lnTo>
                  <a:lnTo>
                    <a:pt x="1583" y="1025"/>
                  </a:lnTo>
                  <a:lnTo>
                    <a:pt x="1575" y="1030"/>
                  </a:lnTo>
                  <a:lnTo>
                    <a:pt x="1569" y="1039"/>
                  </a:lnTo>
                  <a:lnTo>
                    <a:pt x="1568" y="1048"/>
                  </a:lnTo>
                  <a:lnTo>
                    <a:pt x="1569" y="1058"/>
                  </a:lnTo>
                  <a:lnTo>
                    <a:pt x="1575" y="1067"/>
                  </a:lnTo>
                  <a:lnTo>
                    <a:pt x="1583" y="1072"/>
                  </a:lnTo>
                  <a:lnTo>
                    <a:pt x="1592" y="1074"/>
                  </a:lnTo>
                  <a:lnTo>
                    <a:pt x="1601" y="1072"/>
                  </a:lnTo>
                  <a:lnTo>
                    <a:pt x="1611" y="1069"/>
                  </a:lnTo>
                  <a:lnTo>
                    <a:pt x="1611" y="1095"/>
                  </a:lnTo>
                  <a:lnTo>
                    <a:pt x="1583" y="1105"/>
                  </a:lnTo>
                  <a:lnTo>
                    <a:pt x="1575" y="1111"/>
                  </a:lnTo>
                  <a:lnTo>
                    <a:pt x="1569" y="1119"/>
                  </a:lnTo>
                  <a:lnTo>
                    <a:pt x="1568" y="1128"/>
                  </a:lnTo>
                  <a:lnTo>
                    <a:pt x="1569" y="1138"/>
                  </a:lnTo>
                  <a:lnTo>
                    <a:pt x="1575" y="1147"/>
                  </a:lnTo>
                  <a:lnTo>
                    <a:pt x="1583" y="1152"/>
                  </a:lnTo>
                  <a:lnTo>
                    <a:pt x="1592" y="1154"/>
                  </a:lnTo>
                  <a:lnTo>
                    <a:pt x="1601" y="1152"/>
                  </a:lnTo>
                  <a:lnTo>
                    <a:pt x="1611" y="1149"/>
                  </a:lnTo>
                  <a:lnTo>
                    <a:pt x="1611" y="1158"/>
                  </a:lnTo>
                  <a:lnTo>
                    <a:pt x="1599" y="1159"/>
                  </a:lnTo>
                  <a:lnTo>
                    <a:pt x="1587" y="1165"/>
                  </a:lnTo>
                  <a:lnTo>
                    <a:pt x="1576" y="1172"/>
                  </a:lnTo>
                  <a:lnTo>
                    <a:pt x="1568" y="1180"/>
                  </a:lnTo>
                  <a:lnTo>
                    <a:pt x="1559" y="1189"/>
                  </a:lnTo>
                  <a:lnTo>
                    <a:pt x="1554" y="1201"/>
                  </a:lnTo>
                  <a:lnTo>
                    <a:pt x="1550" y="1213"/>
                  </a:lnTo>
                  <a:lnTo>
                    <a:pt x="1548" y="1226"/>
                  </a:lnTo>
                  <a:lnTo>
                    <a:pt x="1548" y="1457"/>
                  </a:lnTo>
                  <a:lnTo>
                    <a:pt x="1545" y="1456"/>
                  </a:lnTo>
                  <a:lnTo>
                    <a:pt x="1541" y="1452"/>
                  </a:lnTo>
                  <a:lnTo>
                    <a:pt x="1538" y="1450"/>
                  </a:lnTo>
                  <a:lnTo>
                    <a:pt x="1535" y="1449"/>
                  </a:lnTo>
                  <a:lnTo>
                    <a:pt x="1526" y="1443"/>
                  </a:lnTo>
                  <a:lnTo>
                    <a:pt x="1519" y="1440"/>
                  </a:lnTo>
                  <a:lnTo>
                    <a:pt x="1510" y="1437"/>
                  </a:lnTo>
                  <a:lnTo>
                    <a:pt x="1501" y="1433"/>
                  </a:lnTo>
                  <a:lnTo>
                    <a:pt x="1493" y="1431"/>
                  </a:lnTo>
                  <a:lnTo>
                    <a:pt x="1484" y="1431"/>
                  </a:lnTo>
                  <a:lnTo>
                    <a:pt x="1477" y="1433"/>
                  </a:lnTo>
                  <a:lnTo>
                    <a:pt x="1468" y="1437"/>
                  </a:lnTo>
                  <a:lnTo>
                    <a:pt x="1456" y="1449"/>
                  </a:lnTo>
                  <a:lnTo>
                    <a:pt x="1451" y="1464"/>
                  </a:lnTo>
                  <a:lnTo>
                    <a:pt x="1449" y="1484"/>
                  </a:lnTo>
                  <a:lnTo>
                    <a:pt x="1449" y="1508"/>
                  </a:lnTo>
                  <a:lnTo>
                    <a:pt x="1449" y="1520"/>
                  </a:lnTo>
                  <a:lnTo>
                    <a:pt x="1449" y="1534"/>
                  </a:lnTo>
                  <a:lnTo>
                    <a:pt x="1449" y="1550"/>
                  </a:lnTo>
                  <a:lnTo>
                    <a:pt x="1449" y="1567"/>
                  </a:lnTo>
                  <a:lnTo>
                    <a:pt x="1451" y="1600"/>
                  </a:lnTo>
                  <a:lnTo>
                    <a:pt x="1460" y="1635"/>
                  </a:lnTo>
                  <a:lnTo>
                    <a:pt x="1472" y="1668"/>
                  </a:lnTo>
                  <a:lnTo>
                    <a:pt x="1487" y="1700"/>
                  </a:lnTo>
                  <a:lnTo>
                    <a:pt x="1505" y="1729"/>
                  </a:lnTo>
                  <a:lnTo>
                    <a:pt x="1521" y="1754"/>
                  </a:lnTo>
                  <a:lnTo>
                    <a:pt x="1536" y="1775"/>
                  </a:lnTo>
                  <a:lnTo>
                    <a:pt x="1548" y="1790"/>
                  </a:lnTo>
                  <a:lnTo>
                    <a:pt x="1545" y="1801"/>
                  </a:lnTo>
                  <a:lnTo>
                    <a:pt x="1540" y="1816"/>
                  </a:lnTo>
                  <a:lnTo>
                    <a:pt x="1531" y="1834"/>
                  </a:lnTo>
                  <a:lnTo>
                    <a:pt x="1519" y="1855"/>
                  </a:lnTo>
                  <a:lnTo>
                    <a:pt x="1341" y="1733"/>
                  </a:lnTo>
                  <a:lnTo>
                    <a:pt x="1336" y="1721"/>
                  </a:lnTo>
                  <a:lnTo>
                    <a:pt x="1282" y="1508"/>
                  </a:lnTo>
                  <a:lnTo>
                    <a:pt x="1259" y="1511"/>
                  </a:lnTo>
                  <a:lnTo>
                    <a:pt x="1238" y="1515"/>
                  </a:lnTo>
                  <a:lnTo>
                    <a:pt x="1216" y="1517"/>
                  </a:lnTo>
                  <a:lnTo>
                    <a:pt x="1193" y="1518"/>
                  </a:lnTo>
                  <a:lnTo>
                    <a:pt x="1172" y="1520"/>
                  </a:lnTo>
                  <a:lnTo>
                    <a:pt x="1150" y="1518"/>
                  </a:lnTo>
                  <a:lnTo>
                    <a:pt x="1127" y="1518"/>
                  </a:lnTo>
                  <a:lnTo>
                    <a:pt x="1103" y="1517"/>
                  </a:lnTo>
                  <a:lnTo>
                    <a:pt x="1080" y="1513"/>
                  </a:lnTo>
                  <a:lnTo>
                    <a:pt x="1050" y="1504"/>
                  </a:lnTo>
                  <a:lnTo>
                    <a:pt x="1022" y="1491"/>
                  </a:lnTo>
                  <a:lnTo>
                    <a:pt x="998" y="1473"/>
                  </a:lnTo>
                  <a:lnTo>
                    <a:pt x="975" y="1450"/>
                  </a:lnTo>
                  <a:lnTo>
                    <a:pt x="956" y="1424"/>
                  </a:lnTo>
                  <a:lnTo>
                    <a:pt x="939" y="1398"/>
                  </a:lnTo>
                  <a:lnTo>
                    <a:pt x="923" y="1370"/>
                  </a:lnTo>
                  <a:lnTo>
                    <a:pt x="911" y="1342"/>
                  </a:lnTo>
                  <a:lnTo>
                    <a:pt x="923" y="1353"/>
                  </a:lnTo>
                  <a:lnTo>
                    <a:pt x="935" y="1363"/>
                  </a:lnTo>
                  <a:lnTo>
                    <a:pt x="949" y="1374"/>
                  </a:lnTo>
                  <a:lnTo>
                    <a:pt x="961" y="1382"/>
                  </a:lnTo>
                  <a:lnTo>
                    <a:pt x="975" y="1391"/>
                  </a:lnTo>
                  <a:lnTo>
                    <a:pt x="989" y="1400"/>
                  </a:lnTo>
                  <a:lnTo>
                    <a:pt x="1003" y="1407"/>
                  </a:lnTo>
                  <a:lnTo>
                    <a:pt x="1017" y="1412"/>
                  </a:lnTo>
                  <a:lnTo>
                    <a:pt x="1035" y="1417"/>
                  </a:lnTo>
                  <a:lnTo>
                    <a:pt x="1056" y="1421"/>
                  </a:lnTo>
                  <a:lnTo>
                    <a:pt x="1078" y="1423"/>
                  </a:lnTo>
                  <a:lnTo>
                    <a:pt x="1104" y="1421"/>
                  </a:lnTo>
                  <a:lnTo>
                    <a:pt x="1130" y="1419"/>
                  </a:lnTo>
                  <a:lnTo>
                    <a:pt x="1162" y="1414"/>
                  </a:lnTo>
                  <a:lnTo>
                    <a:pt x="1193" y="1405"/>
                  </a:lnTo>
                  <a:lnTo>
                    <a:pt x="1228" y="1396"/>
                  </a:lnTo>
                  <a:lnTo>
                    <a:pt x="1251" y="1389"/>
                  </a:lnTo>
                  <a:lnTo>
                    <a:pt x="1193" y="1175"/>
                  </a:lnTo>
                  <a:lnTo>
                    <a:pt x="1214" y="1177"/>
                  </a:lnTo>
                  <a:lnTo>
                    <a:pt x="1240" y="1177"/>
                  </a:lnTo>
                  <a:lnTo>
                    <a:pt x="1266" y="1177"/>
                  </a:lnTo>
                  <a:lnTo>
                    <a:pt x="1296" y="1175"/>
                  </a:lnTo>
                  <a:lnTo>
                    <a:pt x="1327" y="1170"/>
                  </a:lnTo>
                  <a:lnTo>
                    <a:pt x="1360" y="1161"/>
                  </a:lnTo>
                  <a:lnTo>
                    <a:pt x="1392" y="1149"/>
                  </a:lnTo>
                  <a:lnTo>
                    <a:pt x="1425" y="1133"/>
                  </a:lnTo>
                  <a:lnTo>
                    <a:pt x="1446" y="1111"/>
                  </a:lnTo>
                  <a:lnTo>
                    <a:pt x="1453" y="1076"/>
                  </a:lnTo>
                  <a:lnTo>
                    <a:pt x="1449" y="1027"/>
                  </a:lnTo>
                  <a:lnTo>
                    <a:pt x="1434" y="966"/>
                  </a:lnTo>
                  <a:lnTo>
                    <a:pt x="1420" y="928"/>
                  </a:lnTo>
                  <a:lnTo>
                    <a:pt x="1404" y="886"/>
                  </a:lnTo>
                  <a:lnTo>
                    <a:pt x="1383" y="840"/>
                  </a:lnTo>
                  <a:lnTo>
                    <a:pt x="1359" y="793"/>
                  </a:lnTo>
                  <a:lnTo>
                    <a:pt x="1331" y="743"/>
                  </a:lnTo>
                  <a:lnTo>
                    <a:pt x="1299" y="692"/>
                  </a:lnTo>
                  <a:lnTo>
                    <a:pt x="1266" y="640"/>
                  </a:lnTo>
                  <a:lnTo>
                    <a:pt x="1230" y="588"/>
                  </a:lnTo>
                  <a:lnTo>
                    <a:pt x="1190" y="536"/>
                  </a:lnTo>
                  <a:lnTo>
                    <a:pt x="1146" y="483"/>
                  </a:lnTo>
                  <a:lnTo>
                    <a:pt x="1101" y="433"/>
                  </a:lnTo>
                  <a:lnTo>
                    <a:pt x="1054" y="386"/>
                  </a:lnTo>
                  <a:lnTo>
                    <a:pt x="1003" y="339"/>
                  </a:lnTo>
                  <a:lnTo>
                    <a:pt x="951" y="297"/>
                  </a:lnTo>
                  <a:lnTo>
                    <a:pt x="897" y="257"/>
                  </a:lnTo>
                  <a:lnTo>
                    <a:pt x="840" y="222"/>
                  </a:lnTo>
                  <a:lnTo>
                    <a:pt x="878" y="201"/>
                  </a:lnTo>
                  <a:lnTo>
                    <a:pt x="909" y="176"/>
                  </a:lnTo>
                  <a:lnTo>
                    <a:pt x="935" y="154"/>
                  </a:lnTo>
                  <a:lnTo>
                    <a:pt x="955" y="131"/>
                  </a:lnTo>
                  <a:lnTo>
                    <a:pt x="968" y="110"/>
                  </a:lnTo>
                  <a:lnTo>
                    <a:pt x="979" y="95"/>
                  </a:lnTo>
                  <a:lnTo>
                    <a:pt x="984" y="84"/>
                  </a:lnTo>
                  <a:lnTo>
                    <a:pt x="986" y="81"/>
                  </a:lnTo>
                  <a:lnTo>
                    <a:pt x="982" y="82"/>
                  </a:lnTo>
                  <a:lnTo>
                    <a:pt x="972" y="89"/>
                  </a:lnTo>
                  <a:lnTo>
                    <a:pt x="955" y="98"/>
                  </a:lnTo>
                  <a:lnTo>
                    <a:pt x="930" y="105"/>
                  </a:lnTo>
                  <a:lnTo>
                    <a:pt x="899" y="112"/>
                  </a:lnTo>
                  <a:lnTo>
                    <a:pt x="859" y="112"/>
                  </a:lnTo>
                  <a:lnTo>
                    <a:pt x="812" y="107"/>
                  </a:lnTo>
                  <a:lnTo>
                    <a:pt x="758" y="93"/>
                  </a:lnTo>
                  <a:lnTo>
                    <a:pt x="726" y="84"/>
                  </a:lnTo>
                  <a:lnTo>
                    <a:pt x="693" y="75"/>
                  </a:lnTo>
                  <a:lnTo>
                    <a:pt x="657" y="68"/>
                  </a:lnTo>
                  <a:lnTo>
                    <a:pt x="618" y="63"/>
                  </a:lnTo>
                  <a:lnTo>
                    <a:pt x="580" y="58"/>
                  </a:lnTo>
                  <a:lnTo>
                    <a:pt x="540" y="54"/>
                  </a:lnTo>
                  <a:lnTo>
                    <a:pt x="498" y="53"/>
                  </a:lnTo>
                  <a:lnTo>
                    <a:pt x="458" y="53"/>
                  </a:lnTo>
                  <a:lnTo>
                    <a:pt x="418" y="53"/>
                  </a:lnTo>
                  <a:lnTo>
                    <a:pt x="381" y="56"/>
                  </a:lnTo>
                  <a:lnTo>
                    <a:pt x="345" y="58"/>
                  </a:lnTo>
                  <a:lnTo>
                    <a:pt x="312" y="63"/>
                  </a:lnTo>
                  <a:lnTo>
                    <a:pt x="280" y="70"/>
                  </a:lnTo>
                  <a:lnTo>
                    <a:pt x="254" y="77"/>
                  </a:lnTo>
                  <a:lnTo>
                    <a:pt x="230" y="86"/>
                  </a:lnTo>
                  <a:lnTo>
                    <a:pt x="213" y="96"/>
                  </a:lnTo>
                  <a:lnTo>
                    <a:pt x="188" y="117"/>
                  </a:lnTo>
                  <a:lnTo>
                    <a:pt x="172" y="136"/>
                  </a:lnTo>
                  <a:lnTo>
                    <a:pt x="165" y="154"/>
                  </a:lnTo>
                  <a:lnTo>
                    <a:pt x="164" y="168"/>
                  </a:lnTo>
                  <a:lnTo>
                    <a:pt x="167" y="178"/>
                  </a:lnTo>
                  <a:lnTo>
                    <a:pt x="172" y="187"/>
                  </a:lnTo>
                  <a:lnTo>
                    <a:pt x="176" y="192"/>
                  </a:lnTo>
                  <a:lnTo>
                    <a:pt x="178" y="194"/>
                  </a:lnTo>
                  <a:lnTo>
                    <a:pt x="176" y="194"/>
                  </a:lnTo>
                  <a:lnTo>
                    <a:pt x="172" y="192"/>
                  </a:lnTo>
                  <a:lnTo>
                    <a:pt x="167" y="190"/>
                  </a:lnTo>
                  <a:lnTo>
                    <a:pt x="159" y="190"/>
                  </a:lnTo>
                  <a:lnTo>
                    <a:pt x="150" y="190"/>
                  </a:lnTo>
                  <a:lnTo>
                    <a:pt x="139" y="192"/>
                  </a:lnTo>
                  <a:lnTo>
                    <a:pt x="127" y="196"/>
                  </a:lnTo>
                  <a:lnTo>
                    <a:pt x="115" y="201"/>
                  </a:lnTo>
                  <a:lnTo>
                    <a:pt x="99" y="222"/>
                  </a:lnTo>
                  <a:lnTo>
                    <a:pt x="82" y="267"/>
                  </a:lnTo>
                  <a:lnTo>
                    <a:pt x="64" y="328"/>
                  </a:lnTo>
                  <a:lnTo>
                    <a:pt x="49" y="398"/>
                  </a:lnTo>
                  <a:lnTo>
                    <a:pt x="38" y="473"/>
                  </a:lnTo>
                  <a:lnTo>
                    <a:pt x="37" y="544"/>
                  </a:lnTo>
                  <a:lnTo>
                    <a:pt x="47" y="605"/>
                  </a:lnTo>
                  <a:lnTo>
                    <a:pt x="71" y="651"/>
                  </a:lnTo>
                  <a:lnTo>
                    <a:pt x="94" y="677"/>
                  </a:lnTo>
                  <a:lnTo>
                    <a:pt x="117" y="703"/>
                  </a:lnTo>
                  <a:lnTo>
                    <a:pt x="138" y="731"/>
                  </a:lnTo>
                  <a:lnTo>
                    <a:pt x="157" y="757"/>
                  </a:lnTo>
                  <a:lnTo>
                    <a:pt x="174" y="783"/>
                  </a:lnTo>
                  <a:lnTo>
                    <a:pt x="192" y="806"/>
                  </a:lnTo>
                  <a:lnTo>
                    <a:pt x="206" y="827"/>
                  </a:lnTo>
                  <a:lnTo>
                    <a:pt x="216" y="844"/>
                  </a:lnTo>
                  <a:lnTo>
                    <a:pt x="246" y="968"/>
                  </a:lnTo>
                  <a:lnTo>
                    <a:pt x="280" y="1090"/>
                  </a:lnTo>
                  <a:lnTo>
                    <a:pt x="319" y="1205"/>
                  </a:lnTo>
                  <a:lnTo>
                    <a:pt x="355" y="1309"/>
                  </a:lnTo>
                  <a:lnTo>
                    <a:pt x="392" y="1403"/>
                  </a:lnTo>
                  <a:lnTo>
                    <a:pt x="423" y="1482"/>
                  </a:lnTo>
                  <a:lnTo>
                    <a:pt x="448" y="1541"/>
                  </a:lnTo>
                  <a:lnTo>
                    <a:pt x="465" y="1578"/>
                  </a:lnTo>
                  <a:lnTo>
                    <a:pt x="453" y="1600"/>
                  </a:lnTo>
                  <a:lnTo>
                    <a:pt x="437" y="1635"/>
                  </a:lnTo>
                  <a:lnTo>
                    <a:pt x="418" y="1680"/>
                  </a:lnTo>
                  <a:lnTo>
                    <a:pt x="399" y="1735"/>
                  </a:lnTo>
                  <a:lnTo>
                    <a:pt x="381" y="1801"/>
                  </a:lnTo>
                  <a:lnTo>
                    <a:pt x="366" y="1874"/>
                  </a:lnTo>
                  <a:lnTo>
                    <a:pt x="355" y="1956"/>
                  </a:lnTo>
                  <a:lnTo>
                    <a:pt x="352" y="2045"/>
                  </a:lnTo>
                  <a:lnTo>
                    <a:pt x="352" y="2308"/>
                  </a:lnTo>
                  <a:lnTo>
                    <a:pt x="324" y="2306"/>
                  </a:lnTo>
                  <a:lnTo>
                    <a:pt x="298" y="2303"/>
                  </a:lnTo>
                  <a:lnTo>
                    <a:pt x="273" y="2301"/>
                  </a:lnTo>
                  <a:lnTo>
                    <a:pt x="253" y="2299"/>
                  </a:lnTo>
                  <a:lnTo>
                    <a:pt x="233" y="2297"/>
                  </a:lnTo>
                  <a:lnTo>
                    <a:pt x="216" y="2297"/>
                  </a:lnTo>
                  <a:lnTo>
                    <a:pt x="202" y="2296"/>
                  </a:lnTo>
                  <a:lnTo>
                    <a:pt x="192" y="2294"/>
                  </a:lnTo>
                  <a:lnTo>
                    <a:pt x="183" y="2240"/>
                  </a:lnTo>
                  <a:lnTo>
                    <a:pt x="171" y="2153"/>
                  </a:lnTo>
                  <a:lnTo>
                    <a:pt x="155" y="2038"/>
                  </a:lnTo>
                  <a:lnTo>
                    <a:pt x="138" y="1898"/>
                  </a:lnTo>
                  <a:lnTo>
                    <a:pt x="118" y="1740"/>
                  </a:lnTo>
                  <a:lnTo>
                    <a:pt x="98" y="1565"/>
                  </a:lnTo>
                  <a:lnTo>
                    <a:pt x="78" y="1381"/>
                  </a:lnTo>
                  <a:lnTo>
                    <a:pt x="59" y="1189"/>
                  </a:lnTo>
                  <a:lnTo>
                    <a:pt x="44" y="997"/>
                  </a:lnTo>
                  <a:lnTo>
                    <a:pt x="30" y="811"/>
                  </a:lnTo>
                  <a:lnTo>
                    <a:pt x="21" y="637"/>
                  </a:lnTo>
                  <a:lnTo>
                    <a:pt x="12" y="475"/>
                  </a:lnTo>
                  <a:lnTo>
                    <a:pt x="7" y="333"/>
                  </a:lnTo>
                  <a:lnTo>
                    <a:pt x="4" y="215"/>
                  </a:lnTo>
                  <a:lnTo>
                    <a:pt x="2" y="124"/>
                  </a:lnTo>
                  <a:lnTo>
                    <a:pt x="0" y="67"/>
                  </a:lnTo>
                  <a:lnTo>
                    <a:pt x="10" y="65"/>
                  </a:lnTo>
                  <a:lnTo>
                    <a:pt x="24" y="63"/>
                  </a:lnTo>
                  <a:lnTo>
                    <a:pt x="38" y="61"/>
                  </a:lnTo>
                  <a:lnTo>
                    <a:pt x="56" y="60"/>
                  </a:lnTo>
                  <a:lnTo>
                    <a:pt x="75" y="58"/>
                  </a:lnTo>
                  <a:lnTo>
                    <a:pt x="96" y="54"/>
                  </a:lnTo>
                  <a:lnTo>
                    <a:pt x="120" y="53"/>
                  </a:lnTo>
                  <a:lnTo>
                    <a:pt x="145" y="51"/>
                  </a:lnTo>
                  <a:lnTo>
                    <a:pt x="172" y="48"/>
                  </a:lnTo>
                  <a:lnTo>
                    <a:pt x="202" y="44"/>
                  </a:lnTo>
                  <a:lnTo>
                    <a:pt x="233" y="42"/>
                  </a:lnTo>
                  <a:lnTo>
                    <a:pt x="267" y="39"/>
                  </a:lnTo>
                  <a:lnTo>
                    <a:pt x="301" y="37"/>
                  </a:lnTo>
                  <a:lnTo>
                    <a:pt x="338" y="34"/>
                  </a:lnTo>
                  <a:lnTo>
                    <a:pt x="376" y="30"/>
                  </a:lnTo>
                  <a:lnTo>
                    <a:pt x="418" y="28"/>
                  </a:lnTo>
                  <a:lnTo>
                    <a:pt x="460" y="25"/>
                  </a:lnTo>
                  <a:lnTo>
                    <a:pt x="503" y="21"/>
                  </a:lnTo>
                  <a:lnTo>
                    <a:pt x="550" y="20"/>
                  </a:lnTo>
                  <a:lnTo>
                    <a:pt x="597" y="16"/>
                  </a:lnTo>
                  <a:lnTo>
                    <a:pt x="648" y="14"/>
                  </a:lnTo>
                  <a:lnTo>
                    <a:pt x="698" y="13"/>
                  </a:lnTo>
                  <a:lnTo>
                    <a:pt x="751" y="11"/>
                  </a:lnTo>
                  <a:lnTo>
                    <a:pt x="806" y="7"/>
                  </a:lnTo>
                  <a:lnTo>
                    <a:pt x="862" y="6"/>
                  </a:lnTo>
                  <a:lnTo>
                    <a:pt x="920" y="4"/>
                  </a:lnTo>
                  <a:lnTo>
                    <a:pt x="979" y="4"/>
                  </a:lnTo>
                  <a:lnTo>
                    <a:pt x="1040" y="2"/>
                  </a:lnTo>
                  <a:lnTo>
                    <a:pt x="1103" y="2"/>
                  </a:lnTo>
                  <a:lnTo>
                    <a:pt x="1167" y="0"/>
                  </a:lnTo>
                  <a:lnTo>
                    <a:pt x="1233" y="0"/>
                  </a:lnTo>
                  <a:lnTo>
                    <a:pt x="1299" y="0"/>
                  </a:lnTo>
                  <a:lnTo>
                    <a:pt x="1367" y="0"/>
                  </a:lnTo>
                  <a:lnTo>
                    <a:pt x="1434" y="0"/>
                  </a:lnTo>
                  <a:lnTo>
                    <a:pt x="1498" y="2"/>
                  </a:lnTo>
                  <a:lnTo>
                    <a:pt x="1562" y="2"/>
                  </a:lnTo>
                  <a:lnTo>
                    <a:pt x="1623" y="2"/>
                  </a:lnTo>
                  <a:lnTo>
                    <a:pt x="1684" y="4"/>
                  </a:lnTo>
                  <a:lnTo>
                    <a:pt x="1742" y="4"/>
                  </a:lnTo>
                  <a:lnTo>
                    <a:pt x="1799" y="6"/>
                  </a:lnTo>
                  <a:lnTo>
                    <a:pt x="1855" y="7"/>
                  </a:lnTo>
                  <a:lnTo>
                    <a:pt x="1909" y="7"/>
                  </a:lnTo>
                  <a:lnTo>
                    <a:pt x="1961" y="9"/>
                  </a:lnTo>
                  <a:lnTo>
                    <a:pt x="2012" y="11"/>
                  </a:lnTo>
                  <a:lnTo>
                    <a:pt x="2061" y="11"/>
                  </a:lnTo>
                  <a:lnTo>
                    <a:pt x="2108" y="13"/>
                  </a:lnTo>
                  <a:lnTo>
                    <a:pt x="2153" y="14"/>
                  </a:lnTo>
                  <a:lnTo>
                    <a:pt x="2196" y="16"/>
                  </a:lnTo>
                  <a:lnTo>
                    <a:pt x="2238" y="18"/>
                  </a:lnTo>
                  <a:lnTo>
                    <a:pt x="2278" y="20"/>
                  </a:lnTo>
                  <a:lnTo>
                    <a:pt x="2317" y="20"/>
                  </a:lnTo>
                  <a:lnTo>
                    <a:pt x="2351" y="21"/>
                  </a:lnTo>
                  <a:lnTo>
                    <a:pt x="2386" y="23"/>
                  </a:lnTo>
                  <a:lnTo>
                    <a:pt x="2418" y="25"/>
                  </a:lnTo>
                  <a:lnTo>
                    <a:pt x="2449" y="27"/>
                  </a:lnTo>
                  <a:lnTo>
                    <a:pt x="2477" y="27"/>
                  </a:lnTo>
                  <a:lnTo>
                    <a:pt x="2503" y="28"/>
                  </a:lnTo>
                  <a:lnTo>
                    <a:pt x="2526" y="30"/>
                  </a:lnTo>
                  <a:lnTo>
                    <a:pt x="2548" y="30"/>
                  </a:lnTo>
                  <a:lnTo>
                    <a:pt x="2567" y="32"/>
                  </a:lnTo>
                  <a:lnTo>
                    <a:pt x="2585" y="34"/>
                  </a:lnTo>
                  <a:lnTo>
                    <a:pt x="2600" y="34"/>
                  </a:lnTo>
                  <a:lnTo>
                    <a:pt x="2614" y="35"/>
                  </a:lnTo>
                  <a:lnTo>
                    <a:pt x="2625" y="35"/>
                  </a:lnTo>
                  <a:lnTo>
                    <a:pt x="2632" y="170"/>
                  </a:lnTo>
                  <a:lnTo>
                    <a:pt x="2639" y="408"/>
                  </a:lnTo>
                  <a:lnTo>
                    <a:pt x="2635" y="732"/>
                  </a:lnTo>
                  <a:lnTo>
                    <a:pt x="2620" y="1121"/>
                  </a:lnTo>
                  <a:close/>
                </a:path>
              </a:pathLst>
            </a:custGeom>
            <a:solidFill>
              <a:srgbClr val="bcff2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843600" y="2725920"/>
              <a:ext cx="85680" cy="100080"/>
            </a:xfrm>
            <a:custGeom>
              <a:avLst/>
              <a:gdLst/>
              <a:ahLst/>
              <a:rect l="l" t="t" r="r" b="b"/>
              <a:pathLst>
                <a:path w="106" h="128">
                  <a:moveTo>
                    <a:pt x="56" y="128"/>
                  </a:moveTo>
                  <a:lnTo>
                    <a:pt x="64" y="126"/>
                  </a:lnTo>
                  <a:lnTo>
                    <a:pt x="73" y="124"/>
                  </a:lnTo>
                  <a:lnTo>
                    <a:pt x="82" y="121"/>
                  </a:lnTo>
                  <a:lnTo>
                    <a:pt x="89" y="115"/>
                  </a:lnTo>
                  <a:lnTo>
                    <a:pt x="96" y="109"/>
                  </a:lnTo>
                  <a:lnTo>
                    <a:pt x="101" y="100"/>
                  </a:lnTo>
                  <a:lnTo>
                    <a:pt x="104" y="91"/>
                  </a:lnTo>
                  <a:lnTo>
                    <a:pt x="106" y="79"/>
                  </a:lnTo>
                  <a:lnTo>
                    <a:pt x="103" y="63"/>
                  </a:lnTo>
                  <a:lnTo>
                    <a:pt x="96" y="51"/>
                  </a:lnTo>
                  <a:lnTo>
                    <a:pt x="85" y="42"/>
                  </a:lnTo>
                  <a:lnTo>
                    <a:pt x="71" y="39"/>
                  </a:lnTo>
                  <a:lnTo>
                    <a:pt x="59" y="42"/>
                  </a:lnTo>
                  <a:lnTo>
                    <a:pt x="49" y="51"/>
                  </a:lnTo>
                  <a:lnTo>
                    <a:pt x="42" y="63"/>
                  </a:lnTo>
                  <a:lnTo>
                    <a:pt x="38" y="79"/>
                  </a:lnTo>
                  <a:lnTo>
                    <a:pt x="38" y="82"/>
                  </a:lnTo>
                  <a:lnTo>
                    <a:pt x="38" y="86"/>
                  </a:lnTo>
                  <a:lnTo>
                    <a:pt x="38" y="89"/>
                  </a:lnTo>
                  <a:lnTo>
                    <a:pt x="40" y="93"/>
                  </a:lnTo>
                  <a:lnTo>
                    <a:pt x="31" y="82"/>
                  </a:lnTo>
                  <a:lnTo>
                    <a:pt x="26" y="70"/>
                  </a:lnTo>
                  <a:lnTo>
                    <a:pt x="22" y="58"/>
                  </a:lnTo>
                  <a:lnTo>
                    <a:pt x="21" y="44"/>
                  </a:lnTo>
                  <a:lnTo>
                    <a:pt x="22" y="32"/>
                  </a:lnTo>
                  <a:lnTo>
                    <a:pt x="24" y="20"/>
                  </a:lnTo>
                  <a:lnTo>
                    <a:pt x="29" y="9"/>
                  </a:lnTo>
                  <a:lnTo>
                    <a:pt x="36" y="0"/>
                  </a:lnTo>
                  <a:lnTo>
                    <a:pt x="22" y="9"/>
                  </a:lnTo>
                  <a:lnTo>
                    <a:pt x="10" y="23"/>
                  </a:lnTo>
                  <a:lnTo>
                    <a:pt x="3" y="41"/>
                  </a:lnTo>
                  <a:lnTo>
                    <a:pt x="0" y="61"/>
                  </a:lnTo>
                  <a:lnTo>
                    <a:pt x="2" y="75"/>
                  </a:lnTo>
                  <a:lnTo>
                    <a:pt x="5" y="88"/>
                  </a:lnTo>
                  <a:lnTo>
                    <a:pt x="10" y="98"/>
                  </a:lnTo>
                  <a:lnTo>
                    <a:pt x="17" y="109"/>
                  </a:lnTo>
                  <a:lnTo>
                    <a:pt x="24" y="117"/>
                  </a:lnTo>
                  <a:lnTo>
                    <a:pt x="35" y="122"/>
                  </a:lnTo>
                  <a:lnTo>
                    <a:pt x="45" y="126"/>
                  </a:lnTo>
                  <a:lnTo>
                    <a:pt x="56" y="1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582960" y="2705400"/>
              <a:ext cx="84240" cy="101520"/>
            </a:xfrm>
            <a:custGeom>
              <a:avLst/>
              <a:gdLst/>
              <a:ahLst/>
              <a:rect l="l" t="t" r="r" b="b"/>
              <a:pathLst>
                <a:path w="106" h="129">
                  <a:moveTo>
                    <a:pt x="55" y="129"/>
                  </a:moveTo>
                  <a:lnTo>
                    <a:pt x="64" y="128"/>
                  </a:lnTo>
                  <a:lnTo>
                    <a:pt x="73" y="126"/>
                  </a:lnTo>
                  <a:lnTo>
                    <a:pt x="81" y="121"/>
                  </a:lnTo>
                  <a:lnTo>
                    <a:pt x="88" y="115"/>
                  </a:lnTo>
                  <a:lnTo>
                    <a:pt x="95" y="108"/>
                  </a:lnTo>
                  <a:lnTo>
                    <a:pt x="101" y="101"/>
                  </a:lnTo>
                  <a:lnTo>
                    <a:pt x="104" y="91"/>
                  </a:lnTo>
                  <a:lnTo>
                    <a:pt x="106" y="80"/>
                  </a:lnTo>
                  <a:lnTo>
                    <a:pt x="102" y="65"/>
                  </a:lnTo>
                  <a:lnTo>
                    <a:pt x="95" y="53"/>
                  </a:lnTo>
                  <a:lnTo>
                    <a:pt x="85" y="44"/>
                  </a:lnTo>
                  <a:lnTo>
                    <a:pt x="73" y="40"/>
                  </a:lnTo>
                  <a:lnTo>
                    <a:pt x="59" y="44"/>
                  </a:lnTo>
                  <a:lnTo>
                    <a:pt x="48" y="53"/>
                  </a:lnTo>
                  <a:lnTo>
                    <a:pt x="41" y="65"/>
                  </a:lnTo>
                  <a:lnTo>
                    <a:pt x="38" y="80"/>
                  </a:lnTo>
                  <a:lnTo>
                    <a:pt x="38" y="84"/>
                  </a:lnTo>
                  <a:lnTo>
                    <a:pt x="38" y="87"/>
                  </a:lnTo>
                  <a:lnTo>
                    <a:pt x="38" y="91"/>
                  </a:lnTo>
                  <a:lnTo>
                    <a:pt x="40" y="94"/>
                  </a:lnTo>
                  <a:lnTo>
                    <a:pt x="33" y="84"/>
                  </a:lnTo>
                  <a:lnTo>
                    <a:pt x="26" y="72"/>
                  </a:lnTo>
                  <a:lnTo>
                    <a:pt x="22" y="60"/>
                  </a:lnTo>
                  <a:lnTo>
                    <a:pt x="21" y="46"/>
                  </a:lnTo>
                  <a:lnTo>
                    <a:pt x="22" y="33"/>
                  </a:lnTo>
                  <a:lnTo>
                    <a:pt x="26" y="21"/>
                  </a:lnTo>
                  <a:lnTo>
                    <a:pt x="29" y="11"/>
                  </a:lnTo>
                  <a:lnTo>
                    <a:pt x="36" y="0"/>
                  </a:lnTo>
                  <a:lnTo>
                    <a:pt x="22" y="11"/>
                  </a:lnTo>
                  <a:lnTo>
                    <a:pt x="10" y="25"/>
                  </a:lnTo>
                  <a:lnTo>
                    <a:pt x="3" y="42"/>
                  </a:lnTo>
                  <a:lnTo>
                    <a:pt x="0" y="63"/>
                  </a:lnTo>
                  <a:lnTo>
                    <a:pt x="1" y="77"/>
                  </a:lnTo>
                  <a:lnTo>
                    <a:pt x="5" y="89"/>
                  </a:lnTo>
                  <a:lnTo>
                    <a:pt x="10" y="100"/>
                  </a:lnTo>
                  <a:lnTo>
                    <a:pt x="17" y="110"/>
                  </a:lnTo>
                  <a:lnTo>
                    <a:pt x="24" y="119"/>
                  </a:lnTo>
                  <a:lnTo>
                    <a:pt x="34" y="124"/>
                  </a:lnTo>
                  <a:lnTo>
                    <a:pt x="45" y="128"/>
                  </a:lnTo>
                  <a:lnTo>
                    <a:pt x="55"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7662600" y="3019680"/>
              <a:ext cx="193680" cy="233280"/>
            </a:xfrm>
            <a:custGeom>
              <a:avLst/>
              <a:gdLst/>
              <a:ahLst/>
              <a:rect l="l" t="t" r="r" b="b"/>
              <a:pathLst>
                <a:path w="244" h="292">
                  <a:moveTo>
                    <a:pt x="221" y="41"/>
                  </a:moveTo>
                  <a:lnTo>
                    <a:pt x="211" y="36"/>
                  </a:lnTo>
                  <a:lnTo>
                    <a:pt x="202" y="31"/>
                  </a:lnTo>
                  <a:lnTo>
                    <a:pt x="197" y="29"/>
                  </a:lnTo>
                  <a:lnTo>
                    <a:pt x="193" y="28"/>
                  </a:lnTo>
                  <a:lnTo>
                    <a:pt x="186" y="26"/>
                  </a:lnTo>
                  <a:lnTo>
                    <a:pt x="179" y="22"/>
                  </a:lnTo>
                  <a:lnTo>
                    <a:pt x="171" y="21"/>
                  </a:lnTo>
                  <a:lnTo>
                    <a:pt x="162" y="21"/>
                  </a:lnTo>
                  <a:lnTo>
                    <a:pt x="162" y="0"/>
                  </a:lnTo>
                  <a:lnTo>
                    <a:pt x="134" y="0"/>
                  </a:lnTo>
                  <a:lnTo>
                    <a:pt x="134" y="19"/>
                  </a:lnTo>
                  <a:lnTo>
                    <a:pt x="115" y="19"/>
                  </a:lnTo>
                  <a:lnTo>
                    <a:pt x="115" y="0"/>
                  </a:lnTo>
                  <a:lnTo>
                    <a:pt x="85" y="0"/>
                  </a:lnTo>
                  <a:lnTo>
                    <a:pt x="85" y="24"/>
                  </a:lnTo>
                  <a:lnTo>
                    <a:pt x="80" y="26"/>
                  </a:lnTo>
                  <a:lnTo>
                    <a:pt x="73" y="28"/>
                  </a:lnTo>
                  <a:lnTo>
                    <a:pt x="68" y="31"/>
                  </a:lnTo>
                  <a:lnTo>
                    <a:pt x="61" y="33"/>
                  </a:lnTo>
                  <a:lnTo>
                    <a:pt x="52" y="38"/>
                  </a:lnTo>
                  <a:lnTo>
                    <a:pt x="43" y="43"/>
                  </a:lnTo>
                  <a:lnTo>
                    <a:pt x="37" y="50"/>
                  </a:lnTo>
                  <a:lnTo>
                    <a:pt x="30" y="57"/>
                  </a:lnTo>
                  <a:lnTo>
                    <a:pt x="24" y="66"/>
                  </a:lnTo>
                  <a:lnTo>
                    <a:pt x="21" y="75"/>
                  </a:lnTo>
                  <a:lnTo>
                    <a:pt x="19" y="83"/>
                  </a:lnTo>
                  <a:lnTo>
                    <a:pt x="17" y="94"/>
                  </a:lnTo>
                  <a:lnTo>
                    <a:pt x="19" y="106"/>
                  </a:lnTo>
                  <a:lnTo>
                    <a:pt x="21" y="118"/>
                  </a:lnTo>
                  <a:lnTo>
                    <a:pt x="28" y="129"/>
                  </a:lnTo>
                  <a:lnTo>
                    <a:pt x="35" y="137"/>
                  </a:lnTo>
                  <a:lnTo>
                    <a:pt x="43" y="144"/>
                  </a:lnTo>
                  <a:lnTo>
                    <a:pt x="56" y="151"/>
                  </a:lnTo>
                  <a:lnTo>
                    <a:pt x="71" y="157"/>
                  </a:lnTo>
                  <a:lnTo>
                    <a:pt x="87" y="160"/>
                  </a:lnTo>
                  <a:lnTo>
                    <a:pt x="87" y="231"/>
                  </a:lnTo>
                  <a:lnTo>
                    <a:pt x="75" y="228"/>
                  </a:lnTo>
                  <a:lnTo>
                    <a:pt x="64" y="223"/>
                  </a:lnTo>
                  <a:lnTo>
                    <a:pt x="52" y="216"/>
                  </a:lnTo>
                  <a:lnTo>
                    <a:pt x="40" y="209"/>
                  </a:lnTo>
                  <a:lnTo>
                    <a:pt x="45" y="197"/>
                  </a:lnTo>
                  <a:lnTo>
                    <a:pt x="30" y="190"/>
                  </a:lnTo>
                  <a:lnTo>
                    <a:pt x="0" y="242"/>
                  </a:lnTo>
                  <a:lnTo>
                    <a:pt x="16" y="249"/>
                  </a:lnTo>
                  <a:lnTo>
                    <a:pt x="21" y="240"/>
                  </a:lnTo>
                  <a:lnTo>
                    <a:pt x="40" y="251"/>
                  </a:lnTo>
                  <a:lnTo>
                    <a:pt x="66" y="263"/>
                  </a:lnTo>
                  <a:lnTo>
                    <a:pt x="70" y="265"/>
                  </a:lnTo>
                  <a:lnTo>
                    <a:pt x="75" y="266"/>
                  </a:lnTo>
                  <a:lnTo>
                    <a:pt x="80" y="268"/>
                  </a:lnTo>
                  <a:lnTo>
                    <a:pt x="87" y="270"/>
                  </a:lnTo>
                  <a:lnTo>
                    <a:pt x="87" y="292"/>
                  </a:lnTo>
                  <a:lnTo>
                    <a:pt x="115" y="292"/>
                  </a:lnTo>
                  <a:lnTo>
                    <a:pt x="115" y="273"/>
                  </a:lnTo>
                  <a:lnTo>
                    <a:pt x="117" y="273"/>
                  </a:lnTo>
                  <a:lnTo>
                    <a:pt x="118" y="273"/>
                  </a:lnTo>
                  <a:lnTo>
                    <a:pt x="118" y="273"/>
                  </a:lnTo>
                  <a:lnTo>
                    <a:pt x="120" y="275"/>
                  </a:lnTo>
                  <a:lnTo>
                    <a:pt x="127" y="275"/>
                  </a:lnTo>
                  <a:lnTo>
                    <a:pt x="134" y="273"/>
                  </a:lnTo>
                  <a:lnTo>
                    <a:pt x="136" y="273"/>
                  </a:lnTo>
                  <a:lnTo>
                    <a:pt x="136" y="273"/>
                  </a:lnTo>
                  <a:lnTo>
                    <a:pt x="136" y="273"/>
                  </a:lnTo>
                  <a:lnTo>
                    <a:pt x="136" y="273"/>
                  </a:lnTo>
                  <a:lnTo>
                    <a:pt x="134" y="273"/>
                  </a:lnTo>
                  <a:lnTo>
                    <a:pt x="134" y="292"/>
                  </a:lnTo>
                  <a:lnTo>
                    <a:pt x="162" y="292"/>
                  </a:lnTo>
                  <a:lnTo>
                    <a:pt x="162" y="270"/>
                  </a:lnTo>
                  <a:lnTo>
                    <a:pt x="169" y="268"/>
                  </a:lnTo>
                  <a:lnTo>
                    <a:pt x="176" y="266"/>
                  </a:lnTo>
                  <a:lnTo>
                    <a:pt x="183" y="263"/>
                  </a:lnTo>
                  <a:lnTo>
                    <a:pt x="190" y="261"/>
                  </a:lnTo>
                  <a:lnTo>
                    <a:pt x="207" y="251"/>
                  </a:lnTo>
                  <a:lnTo>
                    <a:pt x="219" y="238"/>
                  </a:lnTo>
                  <a:lnTo>
                    <a:pt x="228" y="226"/>
                  </a:lnTo>
                  <a:lnTo>
                    <a:pt x="233" y="211"/>
                  </a:lnTo>
                  <a:lnTo>
                    <a:pt x="233" y="197"/>
                  </a:lnTo>
                  <a:lnTo>
                    <a:pt x="233" y="181"/>
                  </a:lnTo>
                  <a:lnTo>
                    <a:pt x="228" y="169"/>
                  </a:lnTo>
                  <a:lnTo>
                    <a:pt x="221" y="157"/>
                  </a:lnTo>
                  <a:lnTo>
                    <a:pt x="211" y="146"/>
                  </a:lnTo>
                  <a:lnTo>
                    <a:pt x="200" y="141"/>
                  </a:lnTo>
                  <a:lnTo>
                    <a:pt x="188" y="136"/>
                  </a:lnTo>
                  <a:lnTo>
                    <a:pt x="176" y="132"/>
                  </a:lnTo>
                  <a:lnTo>
                    <a:pt x="164" y="129"/>
                  </a:lnTo>
                  <a:lnTo>
                    <a:pt x="164" y="57"/>
                  </a:lnTo>
                  <a:lnTo>
                    <a:pt x="176" y="61"/>
                  </a:lnTo>
                  <a:lnTo>
                    <a:pt x="186" y="64"/>
                  </a:lnTo>
                  <a:lnTo>
                    <a:pt x="195" y="69"/>
                  </a:lnTo>
                  <a:lnTo>
                    <a:pt x="204" y="76"/>
                  </a:lnTo>
                  <a:lnTo>
                    <a:pt x="199" y="85"/>
                  </a:lnTo>
                  <a:lnTo>
                    <a:pt x="212" y="96"/>
                  </a:lnTo>
                  <a:lnTo>
                    <a:pt x="244" y="41"/>
                  </a:lnTo>
                  <a:lnTo>
                    <a:pt x="228" y="31"/>
                  </a:lnTo>
                  <a:lnTo>
                    <a:pt x="221" y="4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752960" y="3060720"/>
              <a:ext cx="16200" cy="58680"/>
            </a:xfrm>
            <a:custGeom>
              <a:avLst/>
              <a:gdLst/>
              <a:ahLst/>
              <a:rect l="l" t="t" r="r" b="b"/>
              <a:pathLst>
                <a:path w="19" h="73">
                  <a:moveTo>
                    <a:pt x="0" y="0"/>
                  </a:moveTo>
                  <a:lnTo>
                    <a:pt x="10" y="0"/>
                  </a:lnTo>
                  <a:lnTo>
                    <a:pt x="17" y="0"/>
                  </a:lnTo>
                  <a:lnTo>
                    <a:pt x="19" y="0"/>
                  </a:lnTo>
                  <a:lnTo>
                    <a:pt x="19" y="73"/>
                  </a:lnTo>
                  <a:lnTo>
                    <a:pt x="0" y="71"/>
                  </a:lnTo>
                  <a:lnTo>
                    <a:pt x="0" y="0"/>
                  </a:lnTo>
                  <a:close/>
                </a:path>
              </a:pathLst>
            </a:custGeom>
            <a:solidFill>
              <a:srgbClr val="fc0c23"/>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9" name=""/>
            <p:cNvSpPr/>
            <p:nvPr/>
          </p:nvSpPr>
          <p:spPr>
            <a:xfrm>
              <a:off x="7710120" y="3068640"/>
              <a:ext cx="22320" cy="46080"/>
            </a:xfrm>
            <a:custGeom>
              <a:avLst/>
              <a:gdLst/>
              <a:ahLst/>
              <a:rect l="l" t="t" r="r" b="b"/>
              <a:pathLst>
                <a:path w="28" h="59">
                  <a:moveTo>
                    <a:pt x="0" y="36"/>
                  </a:moveTo>
                  <a:lnTo>
                    <a:pt x="2" y="26"/>
                  </a:lnTo>
                  <a:lnTo>
                    <a:pt x="5" y="17"/>
                  </a:lnTo>
                  <a:lnTo>
                    <a:pt x="12" y="8"/>
                  </a:lnTo>
                  <a:lnTo>
                    <a:pt x="21" y="1"/>
                  </a:lnTo>
                  <a:lnTo>
                    <a:pt x="28" y="0"/>
                  </a:lnTo>
                  <a:lnTo>
                    <a:pt x="28" y="59"/>
                  </a:lnTo>
                  <a:lnTo>
                    <a:pt x="16" y="55"/>
                  </a:lnTo>
                  <a:lnTo>
                    <a:pt x="7" y="50"/>
                  </a:lnTo>
                  <a:lnTo>
                    <a:pt x="2" y="45"/>
                  </a:lnTo>
                  <a:lnTo>
                    <a:pt x="0" y="36"/>
                  </a:lnTo>
                  <a:close/>
                </a:path>
              </a:pathLst>
            </a:custGeom>
            <a:solidFill>
              <a:srgbClr val="fc0c23"/>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50" name=""/>
            <p:cNvSpPr/>
            <p:nvPr/>
          </p:nvSpPr>
          <p:spPr>
            <a:xfrm>
              <a:off x="7791120" y="3154320"/>
              <a:ext cx="25560" cy="49320"/>
            </a:xfrm>
            <a:custGeom>
              <a:avLst/>
              <a:gdLst/>
              <a:ahLst/>
              <a:rect l="l" t="t" r="r" b="b"/>
              <a:pathLst>
                <a:path w="31" h="62">
                  <a:moveTo>
                    <a:pt x="9" y="59"/>
                  </a:moveTo>
                  <a:lnTo>
                    <a:pt x="0" y="62"/>
                  </a:lnTo>
                  <a:lnTo>
                    <a:pt x="0" y="0"/>
                  </a:lnTo>
                  <a:lnTo>
                    <a:pt x="14" y="3"/>
                  </a:lnTo>
                  <a:lnTo>
                    <a:pt x="24" y="10"/>
                  </a:lnTo>
                  <a:lnTo>
                    <a:pt x="30" y="17"/>
                  </a:lnTo>
                  <a:lnTo>
                    <a:pt x="31" y="28"/>
                  </a:lnTo>
                  <a:lnTo>
                    <a:pt x="30" y="36"/>
                  </a:lnTo>
                  <a:lnTo>
                    <a:pt x="28" y="43"/>
                  </a:lnTo>
                  <a:lnTo>
                    <a:pt x="23" y="50"/>
                  </a:lnTo>
                  <a:lnTo>
                    <a:pt x="17" y="55"/>
                  </a:lnTo>
                  <a:lnTo>
                    <a:pt x="9" y="59"/>
                  </a:lnTo>
                  <a:close/>
                </a:path>
              </a:pathLst>
            </a:custGeom>
            <a:solidFill>
              <a:srgbClr val="fc0c23"/>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Le diaporama</a:t>
            </a:r>
            <a:endParaRPr b="0" lang="en-US" sz="2800" spc="-1" strike="noStrike">
              <a:solidFill>
                <a:srgbClr val="3333cc"/>
              </a:solidFill>
              <a:latin typeface="Arial"/>
            </a:endParaRPr>
          </a:p>
        </p:txBody>
      </p:sp>
      <p:sp>
        <p:nvSpPr>
          <p:cNvPr id="152" name=""/>
          <p:cNvSpPr/>
          <p:nvPr/>
        </p:nvSpPr>
        <p:spPr>
          <a:xfrm>
            <a:off x="3886200" y="2286000"/>
            <a:ext cx="380880" cy="8380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657600" y="3657600"/>
            <a:ext cx="1981080" cy="213372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429000" y="2209680"/>
            <a:ext cx="2362320" cy="1447920"/>
          </a:xfrm>
          <a:prstGeom prst="flowChartExtra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419720" y="4800600"/>
            <a:ext cx="533160" cy="9907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3962520" y="4114800"/>
            <a:ext cx="53316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962520" y="4114800"/>
            <a:ext cx="15228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4419720" y="4114800"/>
            <a:ext cx="152280" cy="3808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Le diaporama</a:t>
            </a:r>
            <a:endParaRPr b="0" lang="en-US" sz="2800" spc="-1" strike="noStrike">
              <a:solidFill>
                <a:srgbClr val="3333cc"/>
              </a:solidFill>
              <a:latin typeface="Arial"/>
            </a:endParaRPr>
          </a:p>
        </p:txBody>
      </p:sp>
      <p:sp>
        <p:nvSpPr>
          <p:cNvPr id="160"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 descr=""/>
          <p:cNvPicPr/>
          <p:nvPr/>
        </p:nvPicPr>
        <p:blipFill>
          <a:blip r:embed="rId1"/>
          <a:stretch/>
        </p:blipFill>
        <p:spPr>
          <a:xfrm>
            <a:off x="685800" y="1006560"/>
            <a:ext cx="7802640" cy="5851440"/>
          </a:xfrm>
          <a:prstGeom prst="rect">
            <a:avLst/>
          </a:prstGeom>
          <a:ln w="0">
            <a:noFill/>
          </a:ln>
        </p:spPr>
      </p:pic>
      <p:sp>
        <p:nvSpPr>
          <p:cNvPr id="162" name=""/>
          <p:cNvSpPr/>
          <p:nvPr/>
        </p:nvSpPr>
        <p:spPr>
          <a:xfrm>
            <a:off x="5548320" y="2913120"/>
            <a:ext cx="3381120" cy="398880"/>
          </a:xfrm>
          <a:prstGeom prst="rect">
            <a:avLst/>
          </a:prstGeom>
          <a:solidFill>
            <a:srgbClr val="ffff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Votre dessin ou texte</a:t>
            </a:r>
            <a:endParaRPr b="0" lang="en-US" sz="2000" spc="-1" strike="noStrike">
              <a:solidFill>
                <a:srgbClr val="000000"/>
              </a:solidFill>
              <a:latin typeface="Times New Roman"/>
            </a:endParaRPr>
          </a:p>
        </p:txBody>
      </p:sp>
      <p:sp>
        <p:nvSpPr>
          <p:cNvPr id="163" name=""/>
          <p:cNvSpPr/>
          <p:nvPr/>
        </p:nvSpPr>
        <p:spPr>
          <a:xfrm flipH="1" flipV="1">
            <a:off x="5105520" y="2742840"/>
            <a:ext cx="4572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252680" y="4056120"/>
            <a:ext cx="3228840" cy="398880"/>
          </a:xfrm>
          <a:prstGeom prst="rect">
            <a:avLst/>
          </a:prstGeom>
          <a:solidFill>
            <a:srgbClr val="ffff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es objets du dessin</a:t>
            </a:r>
            <a:endParaRPr b="0" lang="en-US" sz="2000" spc="-1" strike="noStrike">
              <a:solidFill>
                <a:srgbClr val="000000"/>
              </a:solidFill>
              <a:latin typeface="Times New Roman"/>
            </a:endParaRPr>
          </a:p>
        </p:txBody>
      </p:sp>
      <p:sp>
        <p:nvSpPr>
          <p:cNvPr id="165" name=""/>
          <p:cNvSpPr/>
          <p:nvPr/>
        </p:nvSpPr>
        <p:spPr>
          <a:xfrm flipH="1">
            <a:off x="3504960" y="42670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54080" y="3048120"/>
            <a:ext cx="2466720" cy="703800"/>
          </a:xfrm>
          <a:prstGeom prst="rect">
            <a:avLst/>
          </a:prstGeom>
          <a:solidFill>
            <a:srgbClr val="ffff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Choisir l’ord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de l ’anim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diaporama</a:t>
            </a:r>
            <a:endParaRPr b="0" lang="en-US" sz="2800" spc="-1" strike="noStrike">
              <a:solidFill>
                <a:srgbClr val="3333cc"/>
              </a:solidFill>
              <a:latin typeface="Arial"/>
            </a:endParaRPr>
          </a:p>
        </p:txBody>
      </p:sp>
      <p:sp>
        <p:nvSpPr>
          <p:cNvPr id="168"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9" name="" descr=""/>
          <p:cNvPicPr/>
          <p:nvPr/>
        </p:nvPicPr>
        <p:blipFill>
          <a:blip r:embed="rId1"/>
          <a:stretch/>
        </p:blipFill>
        <p:spPr>
          <a:xfrm>
            <a:off x="685800" y="838080"/>
            <a:ext cx="7802640" cy="5851800"/>
          </a:xfrm>
          <a:prstGeom prst="rect">
            <a:avLst/>
          </a:prstGeom>
          <a:ln w="0">
            <a:noFill/>
          </a:ln>
        </p:spPr>
      </p:pic>
      <p:sp>
        <p:nvSpPr>
          <p:cNvPr id="170" name=""/>
          <p:cNvSpPr/>
          <p:nvPr/>
        </p:nvSpPr>
        <p:spPr>
          <a:xfrm>
            <a:off x="5640480" y="4876920"/>
            <a:ext cx="2466720" cy="1313640"/>
          </a:xfrm>
          <a:prstGeom prst="rect">
            <a:avLst/>
          </a:prstGeom>
          <a:solidFill>
            <a:srgbClr val="ffff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On construit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e mu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e to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171" name=""/>
          <p:cNvSpPr/>
          <p:nvPr/>
        </p:nvSpPr>
        <p:spPr>
          <a:xfrm flipH="1" flipV="1">
            <a:off x="4724280" y="4343400"/>
            <a:ext cx="9144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Les effets</a:t>
            </a:r>
            <a:endParaRPr b="0" lang="en-US" sz="2800" spc="-1" strike="noStrike">
              <a:solidFill>
                <a:srgbClr val="3333cc"/>
              </a:solidFill>
              <a:latin typeface="Arial"/>
            </a:endParaRPr>
          </a:p>
        </p:txBody>
      </p:sp>
      <p:sp>
        <p:nvSpPr>
          <p:cNvPr id="173"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74" name=""/>
          <p:cNvGrpSpPr/>
          <p:nvPr/>
        </p:nvGrpSpPr>
        <p:grpSpPr>
          <a:xfrm>
            <a:off x="2209680" y="914400"/>
            <a:ext cx="4419720" cy="4800600"/>
            <a:chOff x="2209680" y="914400"/>
            <a:chExt cx="4419720" cy="4800600"/>
          </a:xfrm>
        </p:grpSpPr>
        <p:grpSp>
          <p:nvGrpSpPr>
            <p:cNvPr id="175" name=""/>
            <p:cNvGrpSpPr/>
            <p:nvPr/>
          </p:nvGrpSpPr>
          <p:grpSpPr>
            <a:xfrm>
              <a:off x="2209680" y="914400"/>
              <a:ext cx="4419720" cy="4800600"/>
              <a:chOff x="2209680" y="914400"/>
              <a:chExt cx="4419720" cy="4800600"/>
            </a:xfrm>
          </p:grpSpPr>
          <p:sp>
            <p:nvSpPr>
              <p:cNvPr id="176" name=""/>
              <p:cNvSpPr/>
              <p:nvPr/>
            </p:nvSpPr>
            <p:spPr>
              <a:xfrm>
                <a:off x="3065400" y="1016280"/>
                <a:ext cx="712800" cy="1123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2637000" y="2854440"/>
                <a:ext cx="3706560" cy="28605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209680" y="914400"/>
                <a:ext cx="4419720" cy="1940040"/>
              </a:xfrm>
              <a:prstGeom prst="flowChartExtra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062240" y="4388040"/>
                <a:ext cx="998640" cy="13269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0" name=""/>
            <p:cNvSpPr/>
            <p:nvPr/>
          </p:nvSpPr>
          <p:spPr>
            <a:xfrm>
              <a:off x="3505320" y="3352680"/>
              <a:ext cx="533160" cy="50976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1" name=""/>
          <p:cNvSpPr/>
          <p:nvPr/>
        </p:nvSpPr>
        <p:spPr>
          <a:xfrm>
            <a:off x="3208320" y="3373560"/>
            <a:ext cx="284040" cy="50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4062240" y="3373560"/>
            <a:ext cx="285840" cy="50940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 name=""/>
          <p:cNvGrpSpPr/>
          <p:nvPr/>
        </p:nvGrpSpPr>
        <p:grpSpPr>
          <a:xfrm>
            <a:off x="3505320" y="3360600"/>
            <a:ext cx="533160" cy="533520"/>
            <a:chOff x="3505320" y="3360600"/>
            <a:chExt cx="533160" cy="533520"/>
          </a:xfrm>
        </p:grpSpPr>
        <p:sp>
          <p:nvSpPr>
            <p:cNvPr id="184" name=""/>
            <p:cNvSpPr/>
            <p:nvPr/>
          </p:nvSpPr>
          <p:spPr>
            <a:xfrm>
              <a:off x="3505320" y="3360600"/>
              <a:ext cx="533160" cy="5335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771720" y="3419640"/>
              <a:ext cx="0" cy="415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571920" y="3656880"/>
              <a:ext cx="466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Les effets</a:t>
            </a:r>
            <a:endParaRPr b="0" lang="en-US" sz="2800" spc="-1" strike="noStrike">
              <a:solidFill>
                <a:srgbClr val="3333cc"/>
              </a:solidFill>
              <a:latin typeface="Arial"/>
            </a:endParaRPr>
          </a:p>
        </p:txBody>
      </p:sp>
      <p:sp>
        <p:nvSpPr>
          <p:cNvPr id="188"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9" name="" descr=""/>
          <p:cNvPicPr/>
          <p:nvPr/>
        </p:nvPicPr>
        <p:blipFill>
          <a:blip r:embed="rId1"/>
          <a:stretch/>
        </p:blipFill>
        <p:spPr>
          <a:xfrm>
            <a:off x="685800" y="838080"/>
            <a:ext cx="7802640" cy="5851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1924200" y="3429000"/>
            <a:ext cx="1371600" cy="1752480"/>
          </a:xfrm>
          <a:prstGeom prst="rect">
            <a:avLst/>
          </a:prstGeom>
          <a:noFill/>
          <a:ln w="572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Courier New"/>
              </a:rPr>
              <a:t>Émetteur</a:t>
            </a:r>
            <a:endParaRPr b="0" lang="en-US" sz="2000" spc="-1" strike="noStrike">
              <a:solidFill>
                <a:srgbClr val="000000"/>
              </a:solidFill>
              <a:latin typeface="Times New Roman"/>
            </a:endParaRPr>
          </a:p>
        </p:txBody>
      </p:sp>
      <p:sp>
        <p:nvSpPr>
          <p:cNvPr id="191" name=""/>
          <p:cNvSpPr/>
          <p:nvPr/>
        </p:nvSpPr>
        <p:spPr>
          <a:xfrm>
            <a:off x="5683320" y="3429000"/>
            <a:ext cx="1371600" cy="1752480"/>
          </a:xfrm>
          <a:prstGeom prst="rect">
            <a:avLst/>
          </a:prstGeom>
          <a:noFill/>
          <a:ln w="57240">
            <a:solidFill>
              <a:srgbClr val="ff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Courier New"/>
              </a:rPr>
              <a:t>Récepteur</a:t>
            </a:r>
            <a:endParaRPr b="0" lang="en-US" sz="2000" spc="-1" strike="noStrike">
              <a:solidFill>
                <a:srgbClr val="000000"/>
              </a:solidFill>
              <a:latin typeface="Times New Roman"/>
            </a:endParaRPr>
          </a:p>
        </p:txBody>
      </p:sp>
      <p:sp>
        <p:nvSpPr>
          <p:cNvPr id="192" name=""/>
          <p:cNvSpPr/>
          <p:nvPr/>
        </p:nvSpPr>
        <p:spPr>
          <a:xfrm>
            <a:off x="1295280" y="2209680"/>
            <a:ext cx="6553440" cy="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flipV="1">
            <a:off x="2514600" y="220932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flipV="1">
            <a:off x="6324480" y="2209320"/>
            <a:ext cx="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1295280" y="2209680"/>
            <a:ext cx="65534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Exemple suivant</a:t>
            </a:r>
            <a:endParaRPr b="0" lang="en-US" sz="2800" spc="-1" strike="noStrike">
              <a:solidFill>
                <a:srgbClr val="3333cc"/>
              </a:solidFill>
              <a:latin typeface="Arial"/>
            </a:endParaRPr>
          </a:p>
        </p:txBody>
      </p:sp>
      <p:sp>
        <p:nvSpPr>
          <p:cNvPr id="197" name=""/>
          <p:cNvSpPr/>
          <p:nvPr/>
        </p:nvSpPr>
        <p:spPr>
          <a:xfrm flipV="1">
            <a:off x="2514600" y="2209320"/>
            <a:ext cx="0" cy="12193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6324480" y="2209320"/>
            <a:ext cx="0" cy="121932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924200" y="3429000"/>
            <a:ext cx="1371600" cy="175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2b2b2"/>
                </a:solidFill>
                <a:latin typeface="Courier New"/>
              </a:rPr>
              <a:t>Émetteur</a:t>
            </a:r>
            <a:endParaRPr b="0" lang="en-US" sz="2000" spc="-1" strike="noStrike">
              <a:solidFill>
                <a:srgbClr val="000000"/>
              </a:solidFill>
              <a:latin typeface="Times New Roman"/>
            </a:endParaRPr>
          </a:p>
        </p:txBody>
      </p:sp>
      <p:sp>
        <p:nvSpPr>
          <p:cNvPr id="200" name=""/>
          <p:cNvSpPr/>
          <p:nvPr/>
        </p:nvSpPr>
        <p:spPr>
          <a:xfrm>
            <a:off x="5683320" y="3429000"/>
            <a:ext cx="1371600" cy="175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b2b2b2"/>
                </a:solidFill>
                <a:latin typeface="Courier New"/>
              </a:rPr>
              <a:t>Récepteu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Plan</a:t>
            </a:r>
            <a:endParaRPr b="0" lang="en-US" sz="2800" spc="-1" strike="noStrike">
              <a:solidFill>
                <a:srgbClr val="3333cc"/>
              </a:solidFill>
              <a:latin typeface="Arial"/>
            </a:endParaRPr>
          </a:p>
        </p:txBody>
      </p:sp>
      <p:sp>
        <p:nvSpPr>
          <p:cNvPr id="73"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Objectif du cou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remières éta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Transition entre les diapos</a:t>
            </a:r>
            <a:endParaRPr b="0" lang="en-US" sz="2800" spc="-1" strike="noStrike">
              <a:solidFill>
                <a:srgbClr val="3333cc"/>
              </a:solidFill>
              <a:latin typeface="Arial"/>
            </a:endParaRPr>
          </a:p>
        </p:txBody>
      </p:sp>
      <p:sp>
        <p:nvSpPr>
          <p:cNvPr id="202"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3" name="" descr=""/>
          <p:cNvPicPr/>
          <p:nvPr/>
        </p:nvPicPr>
        <p:blipFill>
          <a:blip r:embed="rId1"/>
          <a:stretch/>
        </p:blipFill>
        <p:spPr>
          <a:xfrm>
            <a:off x="685800" y="838080"/>
            <a:ext cx="7802640" cy="5851800"/>
          </a:xfrm>
          <a:prstGeom prst="rect">
            <a:avLst/>
          </a:prstGeom>
          <a:ln w="0">
            <a:noFill/>
          </a:ln>
        </p:spPr>
      </p:pic>
      <p:sp>
        <p:nvSpPr>
          <p:cNvPr id="204" name=""/>
          <p:cNvSpPr/>
          <p:nvPr/>
        </p:nvSpPr>
        <p:spPr>
          <a:xfrm>
            <a:off x="5335560" y="3505320"/>
            <a:ext cx="3686040" cy="703800"/>
          </a:xfrm>
          <a:prstGeom prst="rect">
            <a:avLst/>
          </a:prstGeom>
          <a:solidFill>
            <a:srgbClr val="ffff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Choisir une transi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à appliquer à une diapo</a:t>
            </a:r>
            <a:endParaRPr b="0" lang="en-US" sz="2000" spc="-1" strike="noStrike">
              <a:solidFill>
                <a:srgbClr val="000000"/>
              </a:solidFill>
              <a:latin typeface="Times New Roman"/>
            </a:endParaRPr>
          </a:p>
        </p:txBody>
      </p:sp>
      <p:sp>
        <p:nvSpPr>
          <p:cNvPr id="205" name=""/>
          <p:cNvSpPr/>
          <p:nvPr/>
        </p:nvSpPr>
        <p:spPr>
          <a:xfrm flipH="1">
            <a:off x="4876920" y="380988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flipV="1">
            <a:off x="5486400" y="32000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Mode pages de commentaires</a:t>
            </a:r>
            <a:endParaRPr b="0" lang="en-US" sz="2800" spc="-1" strike="noStrike">
              <a:solidFill>
                <a:srgbClr val="3333cc"/>
              </a:solidFill>
              <a:latin typeface="Arial"/>
            </a:endParaRPr>
          </a:p>
        </p:txBody>
      </p:sp>
      <p:sp>
        <p:nvSpPr>
          <p:cNvPr id="208"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9" name="" descr=""/>
          <p:cNvPicPr/>
          <p:nvPr/>
        </p:nvPicPr>
        <p:blipFill>
          <a:blip r:embed="rId1"/>
          <a:stretch/>
        </p:blipFill>
        <p:spPr>
          <a:xfrm>
            <a:off x="669960" y="838080"/>
            <a:ext cx="7802640" cy="5851800"/>
          </a:xfrm>
          <a:prstGeom prst="rect">
            <a:avLst/>
          </a:prstGeom>
          <a:ln w="0">
            <a:noFill/>
          </a:ln>
        </p:spPr>
      </p:pic>
      <p:sp>
        <p:nvSpPr>
          <p:cNvPr id="210" name=""/>
          <p:cNvSpPr/>
          <p:nvPr/>
        </p:nvSpPr>
        <p:spPr>
          <a:xfrm>
            <a:off x="260280" y="4580640"/>
            <a:ext cx="3381120" cy="703800"/>
          </a:xfrm>
          <a:prstGeom prst="rect">
            <a:avLst/>
          </a:prstGeom>
          <a:solidFill>
            <a:srgbClr val="ffff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Passer en mod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pages de commentaires</a:t>
            </a:r>
            <a:endParaRPr b="0" lang="en-US" sz="2000" spc="-1" strike="noStrike">
              <a:solidFill>
                <a:srgbClr val="000000"/>
              </a:solidFill>
              <a:latin typeface="Times New Roman"/>
            </a:endParaRPr>
          </a:p>
        </p:txBody>
      </p:sp>
      <p:sp>
        <p:nvSpPr>
          <p:cNvPr id="211" name=""/>
          <p:cNvSpPr/>
          <p:nvPr/>
        </p:nvSpPr>
        <p:spPr>
          <a:xfrm>
            <a:off x="5299200" y="3521520"/>
            <a:ext cx="2161800" cy="703800"/>
          </a:xfrm>
          <a:prstGeom prst="rect">
            <a:avLst/>
          </a:prstGeom>
          <a:solidFill>
            <a:srgbClr val="ffff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Écrire votre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texte ici</a:t>
            </a:r>
            <a:endParaRPr b="0" lang="en-US" sz="2000" spc="-1" strike="noStrike">
              <a:solidFill>
                <a:srgbClr val="000000"/>
              </a:solidFill>
              <a:latin typeface="Times New Roman"/>
            </a:endParaRPr>
          </a:p>
        </p:txBody>
      </p:sp>
      <p:sp>
        <p:nvSpPr>
          <p:cNvPr id="212" name=""/>
          <p:cNvSpPr/>
          <p:nvPr/>
        </p:nvSpPr>
        <p:spPr>
          <a:xfrm flipH="1">
            <a:off x="3642840" y="3809880"/>
            <a:ext cx="1654200" cy="206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Mode Diaporama</a:t>
            </a:r>
            <a:endParaRPr b="0" lang="en-US" sz="2800" spc="-1" strike="noStrike">
              <a:solidFill>
                <a:srgbClr val="3333cc"/>
              </a:solidFill>
              <a:latin typeface="Arial"/>
            </a:endParaRPr>
          </a:p>
        </p:txBody>
      </p:sp>
      <p:sp>
        <p:nvSpPr>
          <p:cNvPr id="214"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5" name="" descr=""/>
          <p:cNvPicPr/>
          <p:nvPr/>
        </p:nvPicPr>
        <p:blipFill>
          <a:blip r:embed="rId1"/>
          <a:stretch/>
        </p:blipFill>
        <p:spPr>
          <a:xfrm>
            <a:off x="669960" y="838080"/>
            <a:ext cx="7802640" cy="5851800"/>
          </a:xfrm>
          <a:prstGeom prst="rect">
            <a:avLst/>
          </a:prstGeom>
          <a:ln w="0">
            <a:noFill/>
          </a:ln>
        </p:spPr>
      </p:pic>
      <p:sp>
        <p:nvSpPr>
          <p:cNvPr id="216" name=""/>
          <p:cNvSpPr/>
          <p:nvPr/>
        </p:nvSpPr>
        <p:spPr>
          <a:xfrm>
            <a:off x="3117960" y="3881880"/>
            <a:ext cx="3838320" cy="703800"/>
          </a:xfrm>
          <a:prstGeom prst="rect">
            <a:avLst/>
          </a:prstGeom>
          <a:solidFill>
            <a:srgbClr val="ffff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Passez en mode diaporam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pour sortir touche </a:t>
            </a:r>
            <a:r>
              <a:rPr b="1" lang="fr-FR" sz="2000" spc="-1" strike="noStrike">
                <a:solidFill>
                  <a:srgbClr val="000000"/>
                </a:solidFill>
                <a:latin typeface="Courier New"/>
              </a:rPr>
              <a:t>ESC</a:t>
            </a:r>
            <a:endParaRPr b="0" lang="en-US" sz="2000" spc="-1" strike="noStrike">
              <a:solidFill>
                <a:srgbClr val="000000"/>
              </a:solidFill>
              <a:latin typeface="Times New Roman"/>
            </a:endParaRPr>
          </a:p>
        </p:txBody>
      </p:sp>
      <p:sp>
        <p:nvSpPr>
          <p:cNvPr id="217" name=""/>
          <p:cNvSpPr/>
          <p:nvPr/>
        </p:nvSpPr>
        <p:spPr>
          <a:xfrm flipH="1">
            <a:off x="1341360" y="4584600"/>
            <a:ext cx="2446560" cy="123984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Créer un modèle</a:t>
            </a:r>
            <a:endParaRPr b="0" lang="en-US" sz="2800" spc="-1" strike="noStrike">
              <a:solidFill>
                <a:srgbClr val="3333cc"/>
              </a:solidFill>
              <a:latin typeface="Arial"/>
            </a:endParaRPr>
          </a:p>
        </p:txBody>
      </p:sp>
      <p:sp>
        <p:nvSpPr>
          <p:cNvPr id="219"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1440" y="1676520"/>
            <a:ext cx="914400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ntroduction</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hapitre 1</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hapitre 2</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hapitre 3</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nclusion</a:t>
            </a:r>
            <a:endParaRPr b="0" lang="en-US" sz="2400" spc="-1" strike="noStrike">
              <a:solidFill>
                <a:srgbClr val="000000"/>
              </a:solidFill>
              <a:latin typeface="Times New Roman"/>
            </a:endParaRPr>
          </a:p>
        </p:txBody>
      </p:sp>
      <p:sp>
        <p:nvSpPr>
          <p:cNvPr id="221"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Animation de texte</a:t>
            </a:r>
            <a:endParaRPr b="0" lang="en-US" sz="2800" spc="-1" strike="noStrike">
              <a:solidFill>
                <a:srgbClr val="3333cc"/>
              </a:solidFill>
              <a:latin typeface="Arial"/>
            </a:endParaRPr>
          </a:p>
        </p:txBody>
      </p:sp>
      <p:sp>
        <p:nvSpPr>
          <p:cNvPr id="222" name="PlaceHolder 2"/>
          <p:cNvSpPr>
            <a:spLocks noGrp="1"/>
          </p:cNvSpPr>
          <p:nvPr>
            <p:ph/>
          </p:nvPr>
        </p:nvSpPr>
        <p:spPr>
          <a:xfrm>
            <a:off x="0" y="1676520"/>
            <a:ext cx="9144000" cy="2286000"/>
          </a:xfrm>
          <a:prstGeom prst="rect">
            <a:avLst/>
          </a:prstGeom>
          <a:noFill/>
          <a:ln w="0">
            <a:noFill/>
          </a:ln>
        </p:spPr>
        <p:txBody>
          <a:bodyPr lIns="90000" rIns="90000" tIns="46800" bIns="46800" anchor="t">
            <a:normAutofit/>
          </a:bodyPr>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Introduction</a:t>
            </a:r>
            <a:endParaRPr b="0" lang="en-US" sz="2400" spc="-1" strike="noStrike">
              <a:solidFill>
                <a:srgbClr val="000000"/>
              </a:solidFill>
              <a:latin typeface="Arial"/>
            </a:endParaRPr>
          </a:p>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Chapitre 1</a:t>
            </a:r>
            <a:endParaRPr b="0" lang="en-US" sz="2400" spc="-1" strike="noStrike">
              <a:solidFill>
                <a:srgbClr val="000000"/>
              </a:solidFill>
              <a:latin typeface="Arial"/>
            </a:endParaRPr>
          </a:p>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Chapitre 2</a:t>
            </a:r>
            <a:endParaRPr b="0" lang="en-US" sz="2400" spc="-1" strike="noStrike">
              <a:solidFill>
                <a:srgbClr val="000000"/>
              </a:solidFill>
              <a:latin typeface="Arial"/>
            </a:endParaRPr>
          </a:p>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Chapitre 3</a:t>
            </a:r>
            <a:endParaRPr b="0" lang="en-US" sz="2400" spc="-1" strike="noStrike">
              <a:solidFill>
                <a:srgbClr val="000000"/>
              </a:solidFill>
              <a:latin typeface="Arial"/>
            </a:endParaRPr>
          </a:p>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3300"/>
                </a:solidFill>
                <a:latin typeface="Arial"/>
              </a:rPr>
              <a:t>Conclu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Objectif du cours</a:t>
            </a:r>
            <a:endParaRPr b="0" lang="en-US" sz="2800" spc="-1" strike="noStrike">
              <a:solidFill>
                <a:srgbClr val="3333cc"/>
              </a:solidFill>
              <a:latin typeface="Arial"/>
            </a:endParaRPr>
          </a:p>
        </p:txBody>
      </p:sp>
      <p:sp>
        <p:nvSpPr>
          <p:cNvPr id="75"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fontScale="75000"/>
          </a:bodyPr>
          <a:p>
            <a:pPr marL="25704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 ’objectif de ce cours est d ’apprendre à maîtriser les bases du logiciel PowerPoint.</a:t>
            </a:r>
            <a:endParaRPr b="0" lang="en-US" sz="2400" spc="-1" strike="noStrike">
              <a:solidFill>
                <a:srgbClr val="000000"/>
              </a:solidFill>
              <a:latin typeface="Arial"/>
            </a:endParaRPr>
          </a:p>
          <a:p>
            <a:pPr marL="257040" indent="-257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e logiciel vous donne accès à des didacticiels, des modèles de conception professionnelle ou des textures, sons et clips d'animation supplémentaires. </a:t>
            </a:r>
            <a:endParaRPr b="0" lang="en-US" sz="2400" spc="-1" strike="noStrike">
              <a:solidFill>
                <a:srgbClr val="000000"/>
              </a:solidFill>
              <a:latin typeface="Arial"/>
            </a:endParaRPr>
          </a:p>
          <a:p>
            <a:pPr lvl="1" marL="557280" indent="-214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ar exemple, si vous souhaitez projeter un film pendant votre présentation, PowerPoint Central vous connecte aux films fournis par Microsoft et d'autres fournisseurs sur le CD-ROM Compléments ainsi qu'à des films situés sur le site PowerPoint ou sur celui d'autres fournisseurs sur Intern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Lancement de l ’application</a:t>
            </a:r>
            <a:endParaRPr b="0" lang="en-US" sz="2800" spc="-1" strike="noStrike">
              <a:solidFill>
                <a:srgbClr val="3333cc"/>
              </a:solidFill>
              <a:latin typeface="Arial"/>
            </a:endParaRPr>
          </a:p>
        </p:txBody>
      </p:sp>
      <p:sp>
        <p:nvSpPr>
          <p:cNvPr id="77"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8" name="" descr=""/>
          <p:cNvPicPr/>
          <p:nvPr/>
        </p:nvPicPr>
        <p:blipFill>
          <a:blip r:embed="rId1"/>
          <a:stretch/>
        </p:blipFill>
        <p:spPr>
          <a:xfrm>
            <a:off x="838080" y="762120"/>
            <a:ext cx="7802640" cy="5851440"/>
          </a:xfrm>
          <a:prstGeom prst="rect">
            <a:avLst/>
          </a:prstGeom>
          <a:ln w="0">
            <a:noFill/>
          </a:ln>
        </p:spPr>
      </p:pic>
      <p:sp>
        <p:nvSpPr>
          <p:cNvPr id="79" name=""/>
          <p:cNvSpPr/>
          <p:nvPr/>
        </p:nvSpPr>
        <p:spPr>
          <a:xfrm>
            <a:off x="4938840" y="3751200"/>
            <a:ext cx="3381120" cy="1313640"/>
          </a:xfrm>
          <a:prstGeom prst="rect">
            <a:avLst/>
          </a:prstGeom>
          <a:solidFill>
            <a:srgbClr val="ffff00"/>
          </a:solidFill>
          <a:ln w="0">
            <a:noFill/>
          </a:ln>
          <a:effectLst>
            <a:outerShdw dist="107932" dir="189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Vous pouvez utilise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des modèles exista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ou créer votre prop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présent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L ’assistant </a:t>
            </a:r>
            <a:endParaRPr b="0" lang="en-US" sz="2800" spc="-1" strike="noStrike">
              <a:solidFill>
                <a:srgbClr val="3333cc"/>
              </a:solidFill>
              <a:latin typeface="Arial"/>
            </a:endParaRPr>
          </a:p>
        </p:txBody>
      </p:sp>
      <p:sp>
        <p:nvSpPr>
          <p:cNvPr id="81"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fontScale="69000"/>
          </a:bodyPr>
          <a:p>
            <a:pPr marL="236520" indent="-236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ssistant Sommaire automatique de PowerPoint 97 vous aide à choisir parmi de nombreux nouveaux modèles de sommaire prédéfinis et vous fournit des idées, un texte d'introduction, une mise en forme et une organisation pour votre présentation. Les modèles couvrent de nombreux domaines.</a:t>
            </a:r>
            <a:endParaRPr b="0" lang="en-US" sz="2400" spc="-1" strike="noStrike">
              <a:solidFill>
                <a:srgbClr val="000000"/>
              </a:solidFill>
              <a:latin typeface="Arial"/>
            </a:endParaRPr>
          </a:p>
          <a:p>
            <a:pPr marL="236520" indent="-236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n grand nombre de modèles peuvent être appliqués à vos diapositives, parmi lesquels certains modèles animés avec animation prédéfinie.</a:t>
            </a:r>
            <a:endParaRPr b="0" lang="en-US" sz="2400" spc="-1" strike="noStrike">
              <a:solidFill>
                <a:srgbClr val="000000"/>
              </a:solidFill>
              <a:latin typeface="Arial"/>
            </a:endParaRPr>
          </a:p>
          <a:p>
            <a:pPr marL="236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36520" indent="-236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hoisir  </a:t>
            </a:r>
            <a:r>
              <a:rPr b="0" lang="fr-FR" sz="2400" spc="-1" strike="noStrike">
                <a:solidFill>
                  <a:srgbClr val="000000"/>
                </a:solidFill>
                <a:latin typeface="Courier New"/>
              </a:rPr>
              <a:t>Nouvelle présent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Sélectionnez une mise en page</a:t>
            </a:r>
            <a:endParaRPr b="0" lang="en-US" sz="2800" spc="-1" strike="noStrike">
              <a:solidFill>
                <a:srgbClr val="3333cc"/>
              </a:solidFill>
              <a:latin typeface="Arial"/>
            </a:endParaRPr>
          </a:p>
        </p:txBody>
      </p:sp>
      <p:sp>
        <p:nvSpPr>
          <p:cNvPr id="83"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4" name="" descr=""/>
          <p:cNvPicPr/>
          <p:nvPr/>
        </p:nvPicPr>
        <p:blipFill>
          <a:blip r:embed="rId1"/>
          <a:stretch/>
        </p:blipFill>
        <p:spPr>
          <a:xfrm>
            <a:off x="685800" y="762120"/>
            <a:ext cx="7802640" cy="5851440"/>
          </a:xfrm>
          <a:prstGeom prst="rect">
            <a:avLst/>
          </a:prstGeom>
          <a:ln w="0">
            <a:noFill/>
          </a:ln>
        </p:spPr>
      </p:pic>
      <p:sp>
        <p:nvSpPr>
          <p:cNvPr id="85" name=""/>
          <p:cNvSpPr/>
          <p:nvPr/>
        </p:nvSpPr>
        <p:spPr>
          <a:xfrm>
            <a:off x="3659400" y="4343400"/>
            <a:ext cx="4905000" cy="1008720"/>
          </a:xfrm>
          <a:prstGeom prst="rect">
            <a:avLst/>
          </a:prstGeom>
          <a:solidFill>
            <a:srgbClr val="ffff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Vous disposez d’un grand nomb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de mise en pa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Sélectionnez en une.</a:t>
            </a:r>
            <a:endParaRPr b="0" lang="en-US" sz="2000" spc="-1" strike="noStrike">
              <a:solidFill>
                <a:srgbClr val="000000"/>
              </a:solidFill>
              <a:latin typeface="Times New Roman"/>
            </a:endParaRPr>
          </a:p>
        </p:txBody>
      </p:sp>
      <p:sp>
        <p:nvSpPr>
          <p:cNvPr id="86" name=""/>
          <p:cNvSpPr/>
          <p:nvPr/>
        </p:nvSpPr>
        <p:spPr>
          <a:xfrm flipH="1" flipV="1">
            <a:off x="3962520" y="3429000"/>
            <a:ext cx="30456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Les modes d ’affichage</a:t>
            </a:r>
            <a:endParaRPr b="0" lang="en-US" sz="2800" spc="-1" strike="noStrike">
              <a:solidFill>
                <a:srgbClr val="3333cc"/>
              </a:solidFill>
              <a:latin typeface="Arial"/>
            </a:endParaRPr>
          </a:p>
        </p:txBody>
      </p:sp>
      <p:sp>
        <p:nvSpPr>
          <p:cNvPr id="88"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1"/>
          <a:stretch/>
        </p:blipFill>
        <p:spPr>
          <a:xfrm>
            <a:off x="685800" y="685800"/>
            <a:ext cx="7802640" cy="5851440"/>
          </a:xfrm>
          <a:prstGeom prst="rect">
            <a:avLst/>
          </a:prstGeom>
          <a:ln w="0">
            <a:noFill/>
          </a:ln>
        </p:spPr>
      </p:pic>
      <p:sp>
        <p:nvSpPr>
          <p:cNvPr id="90" name=""/>
          <p:cNvSpPr/>
          <p:nvPr/>
        </p:nvSpPr>
        <p:spPr>
          <a:xfrm>
            <a:off x="2209680" y="4191120"/>
            <a:ext cx="4267440" cy="703800"/>
          </a:xfrm>
          <a:prstGeom prst="rect">
            <a:avLst/>
          </a:prstGeom>
          <a:solidFill>
            <a:srgbClr val="ffff00"/>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Vous disposez de plusieurs mode d ’affichage</a:t>
            </a:r>
            <a:endParaRPr b="0" lang="en-US" sz="2000" spc="-1" strike="noStrike">
              <a:solidFill>
                <a:srgbClr val="000000"/>
              </a:solidFill>
              <a:latin typeface="Times New Roman"/>
            </a:endParaRPr>
          </a:p>
        </p:txBody>
      </p:sp>
      <p:sp>
        <p:nvSpPr>
          <p:cNvPr id="91" name=""/>
          <p:cNvSpPr/>
          <p:nvPr/>
        </p:nvSpPr>
        <p:spPr>
          <a:xfrm flipH="1">
            <a:off x="838080" y="4876920"/>
            <a:ext cx="27432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Les modes d ’affichage</a:t>
            </a:r>
            <a:endParaRPr b="0" lang="en-US" sz="2800" spc="-1" strike="noStrike">
              <a:solidFill>
                <a:srgbClr val="3333cc"/>
              </a:solidFill>
              <a:latin typeface="Arial"/>
            </a:endParaRPr>
          </a:p>
        </p:txBody>
      </p:sp>
      <p:sp>
        <p:nvSpPr>
          <p:cNvPr id="93"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4" name="" descr=""/>
          <p:cNvPicPr/>
          <p:nvPr/>
        </p:nvPicPr>
        <p:blipFill>
          <a:blip r:embed="rId1"/>
          <a:srcRect l="2436" t="13087" r="29270" b="32283"/>
          <a:stretch/>
        </p:blipFill>
        <p:spPr>
          <a:xfrm>
            <a:off x="533520" y="838080"/>
            <a:ext cx="7924680" cy="5678640"/>
          </a:xfrm>
          <a:prstGeom prst="rect">
            <a:avLst/>
          </a:prstGeom>
          <a:ln w="0">
            <a:noFill/>
          </a:ln>
        </p:spPr>
      </p:pic>
      <p:sp>
        <p:nvSpPr>
          <p:cNvPr id="95" name=""/>
          <p:cNvSpPr/>
          <p:nvPr/>
        </p:nvSpPr>
        <p:spPr>
          <a:xfrm>
            <a:off x="1754280" y="5638680"/>
            <a:ext cx="4143240" cy="398880"/>
          </a:xfrm>
          <a:prstGeom prst="rect">
            <a:avLst/>
          </a:prstGeom>
          <a:solidFill>
            <a:srgbClr val="ffff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Mode pages de commentaires</a:t>
            </a:r>
            <a:endParaRPr b="0" lang="en-US" sz="2000" spc="-1" strike="noStrike">
              <a:solidFill>
                <a:srgbClr val="000000"/>
              </a:solidFill>
              <a:latin typeface="Times New Roman"/>
            </a:endParaRPr>
          </a:p>
        </p:txBody>
      </p:sp>
      <p:sp>
        <p:nvSpPr>
          <p:cNvPr id="96" name=""/>
          <p:cNvSpPr/>
          <p:nvPr/>
        </p:nvSpPr>
        <p:spPr>
          <a:xfrm>
            <a:off x="442800" y="4589640"/>
            <a:ext cx="1552320" cy="398880"/>
          </a:xfrm>
          <a:prstGeom prst="rect">
            <a:avLst/>
          </a:prstGeom>
          <a:solidFill>
            <a:srgbClr val="ffff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Mode plan</a:t>
            </a:r>
            <a:endParaRPr b="0" lang="en-US" sz="2000" spc="-1" strike="noStrike">
              <a:solidFill>
                <a:srgbClr val="000000"/>
              </a:solidFill>
              <a:latin typeface="Times New Roman"/>
            </a:endParaRPr>
          </a:p>
        </p:txBody>
      </p:sp>
      <p:sp>
        <p:nvSpPr>
          <p:cNvPr id="97" name=""/>
          <p:cNvSpPr/>
          <p:nvPr/>
        </p:nvSpPr>
        <p:spPr>
          <a:xfrm>
            <a:off x="6843600" y="5732640"/>
            <a:ext cx="1857240" cy="398880"/>
          </a:xfrm>
          <a:prstGeom prst="rect">
            <a:avLst/>
          </a:prstGeom>
          <a:solidFill>
            <a:srgbClr val="ffff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Mode masque</a:t>
            </a:r>
            <a:endParaRPr b="0" lang="en-US" sz="2000" spc="-1" strike="noStrike">
              <a:solidFill>
                <a:srgbClr val="000000"/>
              </a:solidFill>
              <a:latin typeface="Times New Roman"/>
            </a:endParaRPr>
          </a:p>
        </p:txBody>
      </p:sp>
      <p:sp>
        <p:nvSpPr>
          <p:cNvPr id="98" name=""/>
          <p:cNvSpPr/>
          <p:nvPr/>
        </p:nvSpPr>
        <p:spPr>
          <a:xfrm>
            <a:off x="5867280" y="4495680"/>
            <a:ext cx="2667240" cy="703800"/>
          </a:xfrm>
          <a:prstGeom prst="rect">
            <a:avLst/>
          </a:prstGeom>
          <a:solidFill>
            <a:srgbClr val="ffff00"/>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Mode trieus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de diapositives</a:t>
            </a:r>
            <a:endParaRPr b="0" lang="en-US" sz="2000" spc="-1" strike="noStrike">
              <a:solidFill>
                <a:srgbClr val="000000"/>
              </a:solidFill>
              <a:latin typeface="Times New Roman"/>
            </a:endParaRPr>
          </a:p>
        </p:txBody>
      </p:sp>
      <p:sp>
        <p:nvSpPr>
          <p:cNvPr id="99" name=""/>
          <p:cNvSpPr/>
          <p:nvPr/>
        </p:nvSpPr>
        <p:spPr>
          <a:xfrm>
            <a:off x="3262320" y="1846440"/>
            <a:ext cx="2619000" cy="398880"/>
          </a:xfrm>
          <a:prstGeom prst="rect">
            <a:avLst/>
          </a:prstGeom>
          <a:solidFill>
            <a:srgbClr val="ffff00"/>
          </a:solidFill>
          <a:ln w="0">
            <a:noFill/>
          </a:ln>
          <a:effectLst>
            <a:outerShdw dist="107932" dir="2700000" blurRad="0" rotWithShape="0">
              <a:srgbClr val="80808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Mode diapositiv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3333cc"/>
                </a:solidFill>
                <a:latin typeface="Arial"/>
              </a:rPr>
              <a:t>Mode plan</a:t>
            </a:r>
            <a:endParaRPr b="0" lang="en-US" sz="2800" spc="-1" strike="noStrike">
              <a:solidFill>
                <a:srgbClr val="3333cc"/>
              </a:solidFill>
              <a:latin typeface="Arial"/>
            </a:endParaRPr>
          </a:p>
        </p:txBody>
      </p:sp>
      <p:sp>
        <p:nvSpPr>
          <p:cNvPr id="101" name="PlaceHolder 2"/>
          <p:cNvSpPr>
            <a:spLocks noGrp="1"/>
          </p:cNvSpPr>
          <p:nvPr>
            <p:ph/>
          </p:nvPr>
        </p:nvSpPr>
        <p:spPr>
          <a:xfrm>
            <a:off x="0" y="838080"/>
            <a:ext cx="9144000" cy="228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2" name="" descr=""/>
          <p:cNvPicPr/>
          <p:nvPr/>
        </p:nvPicPr>
        <p:blipFill>
          <a:blip r:embed="rId1"/>
          <a:stretch/>
        </p:blipFill>
        <p:spPr>
          <a:xfrm>
            <a:off x="609480" y="838080"/>
            <a:ext cx="7802640" cy="5851800"/>
          </a:xfrm>
          <a:prstGeom prst="rect">
            <a:avLst/>
          </a:prstGeom>
          <a:ln w="0">
            <a:noFill/>
          </a:ln>
        </p:spPr>
      </p:pic>
      <p:sp>
        <p:nvSpPr>
          <p:cNvPr id="103" name=""/>
          <p:cNvSpPr/>
          <p:nvPr/>
        </p:nvSpPr>
        <p:spPr>
          <a:xfrm>
            <a:off x="1600200" y="2895480"/>
            <a:ext cx="6248520" cy="2654280"/>
          </a:xfrm>
          <a:prstGeom prst="rect">
            <a:avLst/>
          </a:prstGeom>
          <a:solidFill>
            <a:srgbClr val="ffff00"/>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urier New"/>
              </a:rPr>
              <a:t>Vous pouvez examiner et réviser la structure de votre fichier sous la forme d'un plan classiqu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ourier New"/>
              </a:rPr>
              <a:t>Passez en mode Plan si vous souhaitez organiser et développer le contenu de votre fichi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13T12:45:53Z</dcterms:created>
  <dc:creator>dc</dc:creator>
  <dc:description/>
  <dc:language>en-US</dc:language>
  <cp:lastModifiedBy>Denis Dupont</cp:lastModifiedBy>
  <cp:lastPrinted>2001-09-25T15:38:46Z</cp:lastPrinted>
  <dcterms:modified xsi:type="dcterms:W3CDTF">2002-11-25T14:21:14Z</dcterms:modified>
  <cp:revision>27</cp:revision>
  <dc:subject/>
  <dc:title>Initiation à Power Point</dc:title>
</cp:coreProperties>
</file>