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1200" y="3799080"/>
            <a:ext cx="852192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415836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8000" y="704520"/>
            <a:ext cx="415836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41200" y="3799080"/>
            <a:ext cx="415836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08000" y="3799080"/>
            <a:ext cx="415836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274392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22640" y="704520"/>
            <a:ext cx="274392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4080" y="704520"/>
            <a:ext cx="274392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41200" y="3799080"/>
            <a:ext cx="274392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22640" y="3799080"/>
            <a:ext cx="274392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4080" y="3799080"/>
            <a:ext cx="274392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415836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08000" y="704520"/>
            <a:ext cx="415836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91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415836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000" y="704520"/>
            <a:ext cx="415836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41200" y="3799080"/>
            <a:ext cx="415836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415836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8000" y="704520"/>
            <a:ext cx="415836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08000" y="3799080"/>
            <a:ext cx="415836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415836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8000" y="704520"/>
            <a:ext cx="415836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41200" y="3799080"/>
            <a:ext cx="8521920" cy="282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480" y="533520"/>
            <a:ext cx="90550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21600" y="6595920"/>
            <a:ext cx="867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  </a:t>
            </a:r>
            <a:fld id="{305B8A29-8D81-4F97-B05D-38BBD066C590}" type="slidenum">
              <a:rPr b="0" lang="en-US" sz="1000" spc="-1" strike="noStrike">
                <a:solidFill>
                  <a:srgbClr val="000000"/>
                </a:solidFill>
                <a:latin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xlproCells.htm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résentation rapide de VBA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E01616_" descr=""/>
          <p:cNvPicPr/>
          <p:nvPr/>
        </p:nvPicPr>
        <p:blipFill>
          <a:blip r:embed="rId1"/>
          <a:stretch/>
        </p:blipFill>
        <p:spPr>
          <a:xfrm>
            <a:off x="2722680" y="1693800"/>
            <a:ext cx="36972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Boîte à outils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36664" b="51450"/>
          <a:stretch/>
        </p:blipFill>
        <p:spPr>
          <a:xfrm>
            <a:off x="241200" y="704880"/>
            <a:ext cx="5397480" cy="287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6440" y="5410080"/>
            <a:ext cx="50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Utiliser l’icône ou affichage/boîte à out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0" r="67190" b="43752"/>
          <a:stretch/>
        </p:blipFill>
        <p:spPr>
          <a:xfrm>
            <a:off x="228600" y="68580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Le UserForm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704880"/>
            <a:ext cx="8521560" cy="59245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456840" y="1905120"/>
            <a:ext cx="4648320" cy="1313640"/>
            <a:chOff x="456840" y="1905120"/>
            <a:chExt cx="4648320" cy="1313640"/>
          </a:xfrm>
        </p:grpSpPr>
        <p:sp>
          <p:nvSpPr>
            <p:cNvPr id="70" name=""/>
            <p:cNvSpPr/>
            <p:nvPr/>
          </p:nvSpPr>
          <p:spPr>
            <a:xfrm>
              <a:off x="1050840" y="1905120"/>
              <a:ext cx="4054320" cy="131364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neva"/>
                </a:rPr>
                <a:t>Cette fenêtre présente les feuilles, les modules et tous les éléments qui constituent le pro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56840" y="25002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85440" y="5257800"/>
            <a:ext cx="4648320" cy="1008720"/>
            <a:chOff x="685440" y="5257800"/>
            <a:chExt cx="4648320" cy="1008720"/>
          </a:xfrm>
        </p:grpSpPr>
        <p:sp>
          <p:nvSpPr>
            <p:cNvPr id="73" name=""/>
            <p:cNvSpPr/>
            <p:nvPr/>
          </p:nvSpPr>
          <p:spPr>
            <a:xfrm>
              <a:off x="1279440" y="5257800"/>
              <a:ext cx="4054320" cy="10087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neva"/>
                </a:rPr>
                <a:t>Cette fenêtre donne accès aux propriétés d’un contrôle (taille, couleur, …)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85440" y="585288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409720" y="3429000"/>
            <a:ext cx="3978720" cy="2838240"/>
            <a:chOff x="5409720" y="3429000"/>
            <a:chExt cx="3978720" cy="2838240"/>
          </a:xfrm>
        </p:grpSpPr>
        <p:sp>
          <p:nvSpPr>
            <p:cNvPr id="76" name=""/>
            <p:cNvSpPr/>
            <p:nvPr/>
          </p:nvSpPr>
          <p:spPr>
            <a:xfrm>
              <a:off x="6019560" y="3429000"/>
              <a:ext cx="3368880" cy="283824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eneva"/>
                </a:rPr>
                <a:t>Voici la boîte standard des composants prêts à être utilisés dans une feuil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eneva"/>
                </a:rPr>
                <a:t>_ Option but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eneva"/>
                </a:rPr>
                <a:t>_ TextB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eneva"/>
                </a:rPr>
                <a:t>_ 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eneva"/>
                </a:rPr>
                <a:t>_ Lab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eneva"/>
                </a:rPr>
                <a:t>_ Command But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eneva"/>
                </a:rPr>
                <a:t>_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409720" y="4647960"/>
              <a:ext cx="762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089680" y="2285640"/>
            <a:ext cx="4054320" cy="1466280"/>
            <a:chOff x="5089680" y="2285640"/>
            <a:chExt cx="4054320" cy="1466280"/>
          </a:xfrm>
        </p:grpSpPr>
        <p:sp>
          <p:nvSpPr>
            <p:cNvPr id="79" name=""/>
            <p:cNvSpPr/>
            <p:nvPr/>
          </p:nvSpPr>
          <p:spPr>
            <a:xfrm flipH="1">
              <a:off x="5089680" y="3048120"/>
              <a:ext cx="4054320" cy="7038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neva"/>
                </a:rPr>
                <a:t>La réalisation de la partie graphique d’un pro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6095520" y="2285640"/>
              <a:ext cx="2286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198800" y="1218960"/>
            <a:ext cx="2895120" cy="627840"/>
            <a:chOff x="1198800" y="1218960"/>
            <a:chExt cx="2895120" cy="627840"/>
          </a:xfrm>
        </p:grpSpPr>
        <p:sp>
          <p:nvSpPr>
            <p:cNvPr id="82" name=""/>
            <p:cNvSpPr/>
            <p:nvPr/>
          </p:nvSpPr>
          <p:spPr>
            <a:xfrm>
              <a:off x="1198800" y="1447920"/>
              <a:ext cx="2895120" cy="39888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neva"/>
                </a:rPr>
                <a:t>Pour lancer l’exé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905120" y="1218960"/>
              <a:ext cx="45720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Création d’un convertisseur Dollar Euro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1200" y="704880"/>
            <a:ext cx="8521920" cy="5924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55760" y="4129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2080" y="3962520"/>
            <a:ext cx="7607160" cy="1218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ravail à réaliser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réer l’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socier aux boutons des actions en fonction des évén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1 création de l’interfac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200" y="704880"/>
            <a:ext cx="8521920" cy="5924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896000" y="3429000"/>
            <a:ext cx="433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Geneva"/>
              </a:rPr>
              <a:t>Ajouter des contrôle à la User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352320" y="2590560"/>
            <a:ext cx="12193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572000" y="25905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3733920" y="1981080"/>
            <a:ext cx="380880" cy="198144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962520" y="1828440"/>
            <a:ext cx="419040" cy="2133720"/>
          </a:xfrm>
          <a:prstGeom prst="line">
            <a:avLst/>
          </a:prstGeom>
          <a:ln cap="rnd" w="38160">
            <a:solidFill>
              <a:srgbClr val="00279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5195880"/>
            <a:ext cx="70866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neva"/>
              </a:rPr>
              <a:t>Vous pouvez modifier directement les propriétés de La Userform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 : Apparence/Caption = Convertion dollar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361960" y="4190760"/>
            <a:ext cx="6858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Modification des propriétés d’un bouton 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62594" b="0"/>
          <a:stretch/>
        </p:blipFill>
        <p:spPr>
          <a:xfrm>
            <a:off x="241200" y="704880"/>
            <a:ext cx="3187800" cy="5924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88000" y="1766880"/>
            <a:ext cx="441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neva"/>
              </a:rPr>
              <a:t>Dans Apparenc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neva"/>
              </a:rPr>
              <a:t>Caption -&gt; Calc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neva"/>
              </a:rPr>
              <a:t>Name</a:t>
            </a:r>
            <a:r>
              <a:rPr b="0" lang="fr-FR" sz="20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Geneva"/>
              </a:rPr>
              <a:t>-&gt; CommandButtonCalc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2 Création du cod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ublic Function DollarToEuro(valeur%) As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ollarToEuro = valeur %* 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257800" y="762120"/>
            <a:ext cx="3733920" cy="1866960"/>
            <a:chOff x="5257800" y="762120"/>
            <a:chExt cx="3733920" cy="18669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rcRect l="27572" t="11254" r="40241" b="65596"/>
            <a:stretch/>
          </p:blipFill>
          <p:spPr>
            <a:xfrm>
              <a:off x="5257800" y="762120"/>
              <a:ext cx="37339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5257800" y="762120"/>
              <a:ext cx="3733920" cy="186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Courier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295280" y="4054320"/>
            <a:ext cx="68580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rivate Sub CommandButtonQuitter_Cli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572000"/>
            <a:ext cx="1218960" cy="304920"/>
          </a:xfrm>
          <a:prstGeom prst="rect">
            <a:avLst/>
          </a:prstGeom>
          <a:solidFill>
            <a:srgbClr val="b500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273640"/>
            <a:ext cx="78487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rivate Sub CommandButtonCalculer_Cli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bEuro.Caption = DollarToEuro(TxtDollard.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791320"/>
            <a:ext cx="1295280" cy="304560"/>
          </a:xfrm>
          <a:prstGeom prst="rect">
            <a:avLst/>
          </a:prstGeom>
          <a:solidFill>
            <a:srgbClr val="b500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c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9920" y="849240"/>
            <a:ext cx="42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r dans : Affichage/code 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ton/droite ou F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Inserer un bouton dans la feuille pour afficher Userform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21560" cy="5943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63543" r="25003" b="0"/>
          <a:stretch/>
        </p:blipFill>
        <p:spPr>
          <a:xfrm>
            <a:off x="228600" y="3962520"/>
            <a:ext cx="7315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Ajouter le code 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1200" y="704880"/>
            <a:ext cx="8521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Autre exemple : Copier d’une liste à l’autr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190760" cy="2913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1200" y="4267080"/>
            <a:ext cx="8521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ear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liste2 est vidée de son cont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it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itialise la liste1 avec 20 élé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pie les données sélectionnées dans la list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Cod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990720"/>
            <a:ext cx="8001000" cy="242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rivate Sub CmdCopie_Cli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istBox2.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For i% = 0 To (ListBox1.ListCount -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f (ListBox1.Selected(i%) = True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istBox2.AddItem ListBox1.List(i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Next i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371600"/>
            <a:ext cx="762120" cy="380880"/>
          </a:xfrm>
          <a:prstGeom prst="rect">
            <a:avLst/>
          </a:prstGeom>
          <a:solidFill>
            <a:srgbClr val="b500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733920"/>
            <a:ext cx="7010640" cy="195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rivate Sub Cmdinit_Cli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istBox1.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For i% = 1 To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istBox1.AddItem Trim$(Str(i%)) + "-donné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Next i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4191120"/>
            <a:ext cx="762120" cy="380880"/>
          </a:xfrm>
          <a:prstGeom prst="rect">
            <a:avLst/>
          </a:prstGeom>
          <a:solidFill>
            <a:srgbClr val="b500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objectif est de découvrir comment modifier l’ergonomie ou le fonctionnement d’une application, voire de l’enrichir de nouvelles fonctionnalit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cours n’est qu’une int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Autre Exemple :  avec excel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1200" y="685800"/>
            <a:ext cx="8521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ent sélectionner une donnée à partir d’une liste et la recopier dans une ligne d’un tabl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13540" r="53907" b="43752"/>
          <a:stretch/>
        </p:blipFill>
        <p:spPr>
          <a:xfrm>
            <a:off x="1905120" y="1981080"/>
            <a:ext cx="563868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Autre Exemple :  avec Excel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1200" y="685800"/>
            <a:ext cx="8521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ent sélectionner une donnée à partir d’une liste et la recopier dans une ligne d’un tabl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117880"/>
            <a:ext cx="914400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rivate Sub CommandButton1_Cli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boBox1.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For i% = 1 To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boBox1.AddItem (Str(i%) + " dat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Nex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rivate Sub CommandButton2_Cli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im ind As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d = ComboBox1.List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nge("A" &amp; ind + 1) = ComboBox1.List(i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Création de message d’avertissement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us avons le choix entre procédure MsgBox et la fonction Msg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sg utilise trois argument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chaîne à aff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boutons et les icô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ntitulé de la boîte d’affich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473280" y="3657600"/>
            <a:ext cx="2197440" cy="1527120"/>
            <a:chOff x="3473280" y="3657600"/>
            <a:chExt cx="2197440" cy="152712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3473280" y="3657600"/>
              <a:ext cx="219744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 txBox="1"/>
            <p:nvPr/>
          </p:nvSpPr>
          <p:spPr>
            <a:xfrm>
              <a:off x="3473280" y="3657600"/>
              <a:ext cx="2197440" cy="152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562720" y="41148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49568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429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22400" y="323064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Liste des constantes boutons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397160"/>
          <a:ext cx="7925040" cy="4522680"/>
        </p:xfrm>
        <a:graphic>
          <a:graphicData uri="http://schemas.openxmlformats.org/drawingml/2006/table">
            <a:tbl>
              <a:tblPr/>
              <a:tblGrid>
                <a:gridCol w="2438640"/>
                <a:gridCol w="2590560"/>
                <a:gridCol w="1676520"/>
                <a:gridCol w="121932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ton 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é p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Only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, Annu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AbortRetryIgn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andon,répéter, igno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YesNo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,Non, Annu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Yes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, 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Retry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péter,Annu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Liste des constantes icônes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ônes affich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Cri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ône d’ale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Excla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ône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304776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3200400" y="1981080"/>
            <a:ext cx="2197080" cy="1527120"/>
            <a:chOff x="3200400" y="1981080"/>
            <a:chExt cx="2197080" cy="152712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3200400" y="1981080"/>
              <a:ext cx="219708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3200400" y="1981080"/>
              <a:ext cx="2197080" cy="152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rmAutofit/>
            </a:bodyPr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57200" y="3886200"/>
            <a:ext cx="8534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rivate Sub CommandButton1_Cli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sgBox "attention aux entrées",0+64,"conversio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4120" y="5105520"/>
          <a:ext cx="2209680" cy="1025280"/>
        </p:xfrm>
        <a:graphic>
          <a:graphicData uri="http://schemas.openxmlformats.org/drawingml/2006/table">
            <a:tbl>
              <a:tblPr/>
              <a:tblGrid>
                <a:gridCol w="1513080"/>
                <a:gridCol w="216000"/>
                <a:gridCol w="4806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 flipH="1">
            <a:off x="6400800" y="45720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Valeur retourné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Ab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ando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R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ess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Ign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o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Autre Exempl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05280" y="3429000"/>
            <a:ext cx="94489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rivate Sub CommandButton1_Cli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im retour As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etour = MsgBox("Etes-vous sûr de vouloir quitter?", 4 + 32 + vbDefaultButton2, "Fermeture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f retour = 6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1528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éférence à des cellules et des plages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des tâches courantes dans l'utilisation de Visual Basic consiste à spécifier une cellule ou une plage de cellules, puis d'y effectuer des actions comme saisir une formule ou modifier le form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existe une instruction permettant à la fois d'identifier la plage et de modifier une propriété ou d'appliquer une métho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obj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Visual Basic peut être soit une seule cellule soit une plage de cell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Comment référencer des cellules ?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1200" y="1257480"/>
            <a:ext cx="8521920" cy="53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éférenc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ig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Range("A1")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llule 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Range("A1:B5")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llules A1 à B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Range("C5:D9,G9:H16")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élection multi-z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Range("A:A")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lon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Range("1:1")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gn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Range("A:C")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lonnes A à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Range("1:5")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gnes 1 à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Range("1:1,3:3,8:8")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gnes 1, 3 et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Range("A:A,C:C,F:F")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lonnes A, C et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Caractéristique de VBA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A est un outil de développement orienté ob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objets sont les éléments de votre application VBA et de ses docu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objets Excel comprennent les cellules, les plages de cellules, les graphiques, les feuill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Défin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objet est un élément nommé ayant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ropriété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paramètres que vous vérifier et mod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étho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actions que l’objet est capable d’effectu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Évén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choses qui arrivent à l’objet, auxquelles celui-ci peut répondre automatiquement par un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1200" y="1177560"/>
            <a:ext cx="852192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rocédur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suivante montre comment affecter le style gras à la plage A1:D5 et lui affecter le texte « coucou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895480"/>
            <a:ext cx="841392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ub FormatRange()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Workbooks("Book1").Sheets("Sheet1"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nge("A1:D5").Font.Bold = Tr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Workbooks("Book1").Sheets("Sheet1"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nge("A1:D5").Value= "Coucou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éférence à des cellules par le numéro d'index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ous pouvez utiliser la propriété </a:t>
            </a:r>
            <a:r>
              <a:rPr b="0" lang="fr-FR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Cell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faire référence à une seule cellule à l'aide des numéros d'index de ligne et de colonne. Cette propriété renvoie un obje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qui représente une seule cellu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ropriété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ll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st efficace pour effectuer des boucles sur une plage de cellules car vous pouvez substituer des variables aux numéros d'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ub EnterValu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Worksheets("Feuil1").Cells(6, 1).Value =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ub CycleThrough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im counter As Inte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For counter = 1 To 20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Worksheets("feuil1").Cells(counter, 3).Value =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Next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524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éférence à des cellules à l'aide d'un objet Range</a:t>
            </a:r>
            <a:br>
              <a:rPr sz="2800"/>
            </a:b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1200" y="704880"/>
            <a:ext cx="85219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vous affectez une variable objet à un obje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vous pouvez aisément manipuler la plage en utilisant le nom de la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rocédure suivante montre comment créer la variable objet maPlage puis l'affecter à la plage A1:D5 de la feuille Sheet1 du classeur acti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instructions suivantes modifient les propriétés de la plage en remplaçant l'obje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le nom de la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809880"/>
            <a:ext cx="88390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ub Random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im myRange As R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et myRange = Worksheets("Sheet1").Range("A1:D5"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yRange.Formula = "=RAND()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yRange.Font.Bold = Tr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Syntaxe VisualBasic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1219320"/>
            <a:ext cx="7010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nge("C23"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ctiveCell.FormulaR1C1 = "=RC[-2]+RC[-1]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ctiveCell.FormulaR1C1 = "=RC[-5]+R23C2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8240" y="3059280"/>
            <a:ext cx="7835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iCj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férence abso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[+-i]C[+-j]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rapport à la cellule sélectionnée à droite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 à gauche (-) de i case(s) et en bas(+) ou en h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-) de j case(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ub ref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' ref Mac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' Macro enregistrée par DU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nge("</a:t>
            </a:r>
            <a:r>
              <a:rPr b="0" lang="fr-FR" sz="2000" spc="-1" strike="noStrike">
                <a:solidFill>
                  <a:srgbClr val="00ae00"/>
                </a:solidFill>
                <a:latin typeface="Courier New"/>
              </a:rPr>
              <a:t>D23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").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ctiveCell.FormulaR1C1 = "=R23C23+ R[-2]C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election.AutoFill Destination:=Range("</a:t>
            </a:r>
            <a:r>
              <a:rPr b="0" lang="fr-FR" sz="2000" spc="-1" strike="noStrike">
                <a:solidFill>
                  <a:srgbClr val="00ae00"/>
                </a:solidFill>
                <a:latin typeface="Courier New"/>
              </a:rPr>
              <a:t>D23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:D28"),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Type:=xlFill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441972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oFill exécute une recopie incrémentée sur les cellules de la p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pécifié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Destin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  Obje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bligatoire. Les cellules à remplir. La destination doit inclure la plage 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  Argument de typ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ari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facultatif. Spécifie le type de recopie incrémenté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Sélection et activation de cellules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que vous utilisez Microsoft Excel, vous sélectionnez généralement une ou plusieurs cellules puis exécutez une action telle que la mise en forme des cellules ou l'affectation d'une valeur à ces cell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c Visual Basic, il n'est en général pas nécessaire de sélectionner les cellules avant de les modifi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25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vous voulez entrer une formule dans la cellule D6 avec Visual Basic, il est inutile de sélectionner cette cellu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voyez simplement l'obj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is affectez votre formule à la propriét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581280"/>
            <a:ext cx="89154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ub EnterFormula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Worksheets("Sheet1").Range("D6").Formula="=SUM(D2:D5)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Utilisation de la méthode Select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métho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ctive des feuilles et des objets dans des feuil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ropriété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renvoie un objet qui représente la sélection en cours dans la feuille active du classeur actif. Avant d'utiliser la propriété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vous devez activer un classeur, activer ou sélectionner une feuille, puis sélectionner une plage (ou un autre objet) à l'aide de la métho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enregistreur de macro crée souvent des macros utilisant la métho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la propriété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Sub Macro1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Sheets("Sheet1").Sel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ange("A1").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ActiveCell.FormulaR1C1 = "Name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ange("B1").Sel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ActiveCell.FormulaR1C1 = "Address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ange("A1:B1").Sel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Selection.Font.Bold 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dure équivalent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Sub Labels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With Worksheets("Sheet1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.Range("A1") = "Name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.Range("B1") = "Address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.Range("A1:B1").Font.Bold 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End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rogrammation par événements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s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un langage tradition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ous pourriez écrire une application pour faire une tasse de caf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plir une bouilloire d’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umez le g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tez du caf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re ébull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ez 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s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V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us formuler les choses comme s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er du café, une bouilloire, du lait et une tasse à l’util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isser l’utilisateur faire son caf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us fournissez les codes pour gérer les événements. Ici l’ordre des événements est laissé à la discrétion de l’utilis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lection de cellules sur la feuille de calcul active 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1200" y="704880"/>
            <a:ext cx="8521920" cy="340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vous utilisez la métho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our sélectionner des cellules, n'oubliez pas qu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ne fonctionne que sur la feuille de calcul ac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vous lancez votre procédur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à partir du module, la métho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échoue à moins que votre procédure n'active la feuille de calcul avant d'utiliser la métho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ur une plage de cellu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Sub CopyRow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Worksheets("Sheet1").Rows(1).Copy </a:t>
            </a:r>
            <a:r>
              <a:rPr b="1" i="1" lang="fr-FR" sz="1800" spc="-1" strike="noStrike">
                <a:solidFill>
                  <a:srgbClr val="00ae00"/>
                </a:solidFill>
                <a:latin typeface="Courier New"/>
              </a:rPr>
              <a:t>Worksheets("Sheet2").Select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Worksheets("Sheet2").Rows(1).Select Worksheets("Sheet2").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Machine à calculer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m va As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m vb As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vate Sub CommandButton1_Cli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xtBox1.Text = TextBox1.Text &amp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vate Sub CommandButton2_Cli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xtBox1.Text = TextBox1.Text &amp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cod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vate Sub CommandButton3_Cli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xtBox1.Text = TextBox1.Text &amp;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vate Sub CommandButton4_Cli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 = TextBox1.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xtBox1.Text = "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vate Sub CommandButton5_Cli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b = TextBox1.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 = va * 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xtBox1.Text = 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vate Sub CommandButton6_Cli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b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xtBox1.Text = "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TD : Création d’un agenda 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24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cod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vate Sub Calendar_Cli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serForm1.Label1.Caption = Calendar.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bel3.Caption = Calendar.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vate Sub CommandButton1_Cli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CommandButton1.Caption = "CalVisible"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lendar.Visible =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mandButton2.Visible =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mandButton1.Caption = "CalInvisibl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lendar.Visible =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mandButton2.Visible =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mandButton1.Caption = "CalVisibl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vate Sub CommandButton2_Cli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serForm1.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xemple d’utilisation du langage VB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une commande permettant d’enregistrer une selection de texte dans un fichier séparé.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N’existe pas comme fonction de base dans W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vail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pier le texte sélectionné dans le presse papier, créer un nouveau document, coller le texte, puis enregistrer et fer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bjectif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socier à un bouton de commande l’ensemble de ces ét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xemple de code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1200" y="704520"/>
            <a:ext cx="8521920" cy="59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ublic Sub deni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election.Range.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'copie la selction dans le presse pap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ocuments.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'Crée un nouveau 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election.Range.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' copie presse papier dans new 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ialogs(wdDialogFileSaveAs).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' affiche boite de dialogue enregistrer s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ctiveDocument.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'ferme le new 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Appel de Visual Basic Editor dans Excel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200" y="704880"/>
            <a:ext cx="8521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79f"/>
                </a:solidFill>
                <a:latin typeface="Arial"/>
              </a:rPr>
              <a:t>Faire apparaître le UserForm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1200" y="704880"/>
            <a:ext cx="8521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Faire apparaître la fenêtre de propriétés</a:t>
            </a:r>
            <a:endParaRPr b="0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41200" y="1143000"/>
            <a:ext cx="5778720" cy="4017960"/>
            <a:chOff x="241200" y="1143000"/>
            <a:chExt cx="5778720" cy="40179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241200" y="1143000"/>
              <a:ext cx="5778720" cy="40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 txBox="1"/>
            <p:nvPr/>
          </p:nvSpPr>
          <p:spPr>
            <a:xfrm>
              <a:off x="241200" y="1143000"/>
              <a:ext cx="5778720" cy="401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7400" y="4724280"/>
            <a:ext cx="616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ffichage/fenêtre de propriétés ou F4 ou icô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Bouton de droit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23438" t="61461" r="62501" b="20835"/>
          <a:stretch/>
        </p:blipFill>
        <p:spPr>
          <a:xfrm>
            <a:off x="2895480" y="5410080"/>
            <a:ext cx="13716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7:43:12Z</dcterms:created>
  <dc:creator>Denis Dupont</dc:creator>
  <dc:description/>
  <dc:language>en-US</dc:language>
  <cp:lastModifiedBy>Denis Dupont</cp:lastModifiedBy>
  <cp:lastPrinted>2000-12-18T11:47:21Z</cp:lastPrinted>
  <dcterms:modified xsi:type="dcterms:W3CDTF">2004-03-01T13:09:34Z</dcterms:modified>
  <cp:revision>40</cp:revision>
  <dc:subject/>
  <dc:title>Création d’un convertisseur Dollar Euro</dc:title>
</cp:coreProperties>
</file>