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39F-A8AE-424F-AE86-DD1CE1E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BEC-38F2-415A-B726-E0CE1864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557-610A-4877-ACC8-5127F090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9A7-B3CE-46BA-917B-3A2D24F8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259-C171-41CA-AF7F-526B2BA8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97B-B316-4447-AF0A-4ABDD0D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719-0D0F-4A0C-BF92-C0ADE1D5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533-FF74-4F09-97BD-A5D89BD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E11-8C1C-40EF-A4C7-0F9C489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DB9-8945-4D16-8040-27C8EBF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B59-2C9D-47BD-B975-F40BA61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58F-8007-4B0D-AA2D-6CFFC3D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104-1C7F-45EA-B283-D9B8FC066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1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5.wmf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3933720"/>
            <a:ext cx="2016000" cy="100656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40720" y="4724280"/>
            <a:ext cx="1152360" cy="1152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1640" y="2924280"/>
            <a:ext cx="1513080" cy="865080"/>
          </a:xfrm>
          <a:prstGeom prst="ellipse">
            <a:avLst/>
          </a:prstGeom>
          <a:solidFill>
            <a:srgbClr val="ff99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260280"/>
            <a:ext cx="2266920" cy="1081080"/>
          </a:xfrm>
          <a:prstGeom prst="rect">
            <a:avLst/>
          </a:prstGeom>
          <a:solidFill>
            <a:srgbClr val="cc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3860640"/>
            <a:ext cx="1656000" cy="187344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284640"/>
            <a:ext cx="1081080" cy="151272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5589720"/>
            <a:ext cx="1800360" cy="100800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5516640"/>
            <a:ext cx="2016000" cy="115236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12000" y="1413000"/>
            <a:ext cx="1081080" cy="12240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2421000"/>
            <a:ext cx="2016000" cy="129528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492280"/>
            <a:ext cx="1224000" cy="230364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49360"/>
            <a:ext cx="2016360" cy="93492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779480"/>
            <a:ext cx="1112760" cy="70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1765440"/>
            <a:ext cx="1152360" cy="73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16360" y="5589720"/>
            <a:ext cx="1656000" cy="126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9640" y="5734080"/>
            <a:ext cx="606600" cy="75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484360" y="5589720"/>
            <a:ext cx="505080" cy="90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708360" y="2565360"/>
            <a:ext cx="504720" cy="9032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62160" y="3322800"/>
            <a:ext cx="769320" cy="804240"/>
            <a:chOff x="362160" y="3322800"/>
            <a:chExt cx="769320" cy="804240"/>
          </a:xfrm>
        </p:grpSpPr>
        <p:grpSp>
          <p:nvGrpSpPr>
            <p:cNvPr id="60" name=""/>
            <p:cNvGrpSpPr/>
            <p:nvPr/>
          </p:nvGrpSpPr>
          <p:grpSpPr>
            <a:xfrm>
              <a:off x="362160" y="3322800"/>
              <a:ext cx="769320" cy="804240"/>
              <a:chOff x="362160" y="3322800"/>
              <a:chExt cx="769320" cy="804240"/>
            </a:xfrm>
          </p:grpSpPr>
          <p:sp>
            <p:nvSpPr>
              <p:cNvPr id="61" name=""/>
              <p:cNvSpPr/>
              <p:nvPr/>
            </p:nvSpPr>
            <p:spPr>
              <a:xfrm rot="20494200">
                <a:off x="653040" y="337644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494200">
                <a:off x="901440" y="3411720"/>
                <a:ext cx="16668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94200">
                <a:off x="695880" y="336852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494200">
                <a:off x="693720" y="344304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494200">
                <a:off x="707400" y="345240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494200">
                <a:off x="627480" y="342828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494200">
                <a:off x="691560" y="3717720"/>
                <a:ext cx="30852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494200">
                <a:off x="384480" y="380412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494200">
                <a:off x="536040" y="3940200"/>
                <a:ext cx="51480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494200">
                <a:off x="395640" y="387216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20494200">
                <a:off x="736200" y="3949920"/>
                <a:ext cx="7452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0494200">
                <a:off x="550800" y="3816720"/>
                <a:ext cx="16308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20494200">
                <a:off x="428760" y="388800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494200">
                <a:off x="432000" y="3886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0494200">
                <a:off x="432720" y="3888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20494200">
                <a:off x="434520" y="3894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20494200">
                <a:off x="439920" y="3891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494200">
                <a:off x="444960" y="389808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494200">
                <a:off x="546120" y="3847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0494200">
                <a:off x="498600" y="38646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494200">
                <a:off x="498600" y="3864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4200">
                <a:off x="502200" y="3864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0494200">
                <a:off x="504000" y="3871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0494200">
                <a:off x="509400" y="3869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0494200">
                <a:off x="511560" y="387576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0494200">
                <a:off x="515520" y="38754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0494200">
                <a:off x="515160" y="387468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20494200">
                <a:off x="522360" y="3877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0494200">
                <a:off x="522360" y="3878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494200">
                <a:off x="524520" y="387756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494200">
                <a:off x="526680" y="3883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20494200">
                <a:off x="533160" y="38826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20494200">
                <a:off x="534960" y="3886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494200">
                <a:off x="541080" y="3887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494200">
                <a:off x="542880" y="3892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494200">
                <a:off x="544680" y="3890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0494200">
                <a:off x="547200" y="3898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0494200">
                <a:off x="553680" y="3897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494200">
                <a:off x="553680" y="38962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494200">
                <a:off x="557640" y="3900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494200">
                <a:off x="557640" y="39016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0494200">
                <a:off x="564480" y="3903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494200">
                <a:off x="564840" y="3904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94200">
                <a:off x="569880" y="3910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494200">
                <a:off x="575280" y="3908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494200">
                <a:off x="576360" y="3910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494200">
                <a:off x="583200" y="39142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494200">
                <a:off x="583200" y="391392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494200">
                <a:off x="588240" y="3917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494200">
                <a:off x="588240" y="3918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494200">
                <a:off x="595080" y="3920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0494200">
                <a:off x="595800" y="3922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494200">
                <a:off x="600840" y="3927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494200">
                <a:off x="600840" y="3926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494200">
                <a:off x="608400" y="3931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494200">
                <a:off x="608400" y="3932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494200">
                <a:off x="611640" y="3931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494200">
                <a:off x="613800" y="39376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494200">
                <a:off x="619200" y="3936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494200">
                <a:off x="619200" y="3935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494200">
                <a:off x="623520" y="3939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494200">
                <a:off x="630000" y="39387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494200">
                <a:off x="630000" y="39380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494200">
                <a:off x="631800" y="39445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494200">
                <a:off x="637560" y="39438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4200">
                <a:off x="637560" y="39434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494200">
                <a:off x="641880" y="39499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0494200">
                <a:off x="643320" y="3955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0494200">
                <a:off x="650160" y="3952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0494200">
                <a:off x="651240" y="3955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94200">
                <a:off x="654120" y="3957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494200">
                <a:off x="659520" y="3956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494200">
                <a:off x="661680" y="3962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494200">
                <a:off x="470880" y="387396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494200">
                <a:off x="475920" y="3871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494200">
                <a:off x="478080" y="3878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494200">
                <a:off x="482040" y="3878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494200">
                <a:off x="487080" y="3876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494200">
                <a:off x="488880" y="388332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494200">
                <a:off x="489240" y="38840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494200">
                <a:off x="495000" y="388188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494200">
                <a:off x="499680" y="3885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494200">
                <a:off x="499680" y="3886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494200">
                <a:off x="505080" y="3884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494200">
                <a:off x="507240" y="3890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494200">
                <a:off x="512280" y="3895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494200">
                <a:off x="512280" y="3894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94200">
                <a:off x="518400" y="3894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494200">
                <a:off x="519840" y="3900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94200">
                <a:off x="523440" y="38988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494200">
                <a:off x="525600" y="39056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494200">
                <a:off x="531000" y="3904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94200">
                <a:off x="531000" y="3903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94200">
                <a:off x="534960" y="3907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494200">
                <a:off x="536400" y="39135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494200">
                <a:off x="542880" y="3911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494200">
                <a:off x="543600" y="39128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494200">
                <a:off x="550800" y="3917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94200">
                <a:off x="552960" y="3916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4200">
                <a:off x="555480" y="3922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94200">
                <a:off x="555480" y="3923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94200">
                <a:off x="561960" y="39207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94200">
                <a:off x="563040" y="392544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494200">
                <a:off x="567000" y="39301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494200">
                <a:off x="572400" y="3928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494200">
                <a:off x="575280" y="3935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494200">
                <a:off x="578160" y="3935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494200">
                <a:off x="578160" y="3934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494200">
                <a:off x="579960" y="394020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494200">
                <a:off x="586080" y="3940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94200">
                <a:off x="591480" y="393840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94200">
                <a:off x="593640" y="39448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494200">
                <a:off x="596880" y="3944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494200">
                <a:off x="596880" y="3943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0494200">
                <a:off x="604080" y="3947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494200">
                <a:off x="604080" y="39474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494200">
                <a:off x="608400" y="3949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494200">
                <a:off x="609120" y="3952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494200">
                <a:off x="614880" y="39513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94200">
                <a:off x="616680" y="3956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94200">
                <a:off x="620280" y="3957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0494200">
                <a:off x="621720" y="3962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0494200">
                <a:off x="627480" y="3961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494200">
                <a:off x="628200" y="3962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0494200">
                <a:off x="631440" y="3965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0494200">
                <a:off x="631440" y="3964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494200">
                <a:off x="640440" y="39697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494200">
                <a:off x="451080" y="38804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94200">
                <a:off x="454320" y="3879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94200">
                <a:off x="456840" y="3886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494200">
                <a:off x="462240" y="3885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494200">
                <a:off x="462240" y="3884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0494200">
                <a:off x="466560" y="389088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494200">
                <a:off x="466920" y="38916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494200">
                <a:off x="473400" y="38894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494200">
                <a:off x="475200" y="38937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0494200">
                <a:off x="477360" y="38937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94200">
                <a:off x="477360" y="3892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94200">
                <a:off x="484920" y="3897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0494200">
                <a:off x="486720" y="3903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494200">
                <a:off x="489960" y="3901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0494200">
                <a:off x="495720" y="3902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494200">
                <a:off x="497520" y="3907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494200">
                <a:off x="502920" y="3906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0494200">
                <a:off x="505080" y="39128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494200">
                <a:off x="508320" y="3912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94200">
                <a:off x="508320" y="3911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94200">
                <a:off x="509760" y="391608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0494200">
                <a:off x="516960" y="3920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494200">
                <a:off x="519840" y="3918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494200">
                <a:off x="520920" y="3920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494200">
                <a:off x="528120" y="3924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494200">
                <a:off x="528120" y="3923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494200">
                <a:off x="533880" y="39301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494200">
                <a:off x="533880" y="3930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94200">
                <a:off x="539280" y="3928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94200">
                <a:off x="541080" y="3933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94200">
                <a:off x="544320" y="393768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494200">
                <a:off x="544320" y="3936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494200">
                <a:off x="553680" y="39427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494200">
                <a:off x="553680" y="3943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494200">
                <a:off x="559080" y="3941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0494200">
                <a:off x="561240" y="3948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0494200">
                <a:off x="563400" y="3947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94200">
                <a:off x="563400" y="3946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94200">
                <a:off x="572040" y="39517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94200">
                <a:off x="572040" y="3952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494200">
                <a:off x="574200" y="3950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94200">
                <a:off x="575640" y="395496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494200">
                <a:off x="581400" y="39549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494200">
                <a:off x="586080" y="3958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494200">
                <a:off x="586800" y="3959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494200">
                <a:off x="586800" y="39607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94200">
                <a:off x="594000" y="3963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94200">
                <a:off x="594360" y="396540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494200">
                <a:off x="601920" y="39693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0494200">
                <a:off x="604800" y="3968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494200">
                <a:off x="605880" y="3970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0494200">
                <a:off x="445320" y="38988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0494200">
                <a:off x="450720" y="38970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0494200">
                <a:off x="452520" y="3900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0494200">
                <a:off x="457560" y="3900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94200">
                <a:off x="457560" y="3899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94200">
                <a:off x="463320" y="39052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0494200">
                <a:off x="465120" y="3911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0494200">
                <a:off x="470160" y="3909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0494200">
                <a:off x="470880" y="3911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0494200">
                <a:off x="474840" y="3915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494200">
                <a:off x="474840" y="3914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0494200">
                <a:off x="483840" y="39196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494200">
                <a:off x="483840" y="3920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94200">
                <a:off x="486000" y="3918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94200">
                <a:off x="487800" y="3923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494200">
                <a:off x="494280" y="3927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94200">
                <a:off x="494280" y="3926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94200">
                <a:off x="498600" y="3927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494200">
                <a:off x="500400" y="3933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494200">
                <a:off x="505440" y="3931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494200">
                <a:off x="507600" y="3938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494200">
                <a:off x="513360" y="3937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rot="20494200">
              <a:off x="516240" y="3936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494200">
              <a:off x="518040" y="3940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0494200">
              <a:off x="524880" y="3944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494200">
              <a:off x="524880" y="39438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494200">
              <a:off x="530640" y="3949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0494200">
              <a:off x="530640" y="3951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494200">
              <a:off x="536040" y="3949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494200">
              <a:off x="538560" y="39549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494200">
              <a:off x="541800" y="3954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494200">
              <a:off x="541800" y="395424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494200">
              <a:off x="549720" y="3958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494200">
              <a:off x="549720" y="3960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494200">
              <a:off x="551520" y="3958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494200">
              <a:off x="553320" y="3963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494200">
              <a:off x="559800" y="3962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494200">
              <a:off x="566640" y="3964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94200">
              <a:off x="567720" y="39668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494200">
              <a:off x="567720" y="39672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494200">
              <a:off x="571320" y="3971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494200">
              <a:off x="572400" y="3973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494200">
              <a:off x="513360" y="3851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494200">
              <a:off x="515520" y="38505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494200">
              <a:off x="518040" y="38577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494200">
              <a:off x="518760" y="38606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494200">
              <a:off x="525240" y="3858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494200">
              <a:off x="533160" y="3864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494200">
              <a:off x="533160" y="3864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494200">
              <a:off x="535320" y="3863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494200">
              <a:off x="537840" y="3869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494200">
              <a:off x="544320" y="3868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0494200">
              <a:off x="544320" y="386784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0494200">
              <a:off x="548640" y="38743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494200">
              <a:off x="554040" y="3872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94200">
              <a:off x="554040" y="3872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494200">
              <a:off x="560160" y="38811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494200">
              <a:off x="560160" y="3881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0494200">
              <a:off x="565920" y="3879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494200">
              <a:off x="573840" y="388548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494200">
              <a:off x="573840" y="388548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494200">
              <a:off x="576720" y="3884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494200">
              <a:off x="579240" y="389160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494200">
              <a:off x="579240" y="38916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494200">
              <a:off x="585360" y="3892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494200">
              <a:off x="590760" y="3898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494200">
              <a:off x="590760" y="38980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494200">
              <a:off x="596160" y="3896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494200">
              <a:off x="601920" y="39027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494200">
              <a:off x="601920" y="3903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494200">
              <a:off x="607320" y="3901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494200">
              <a:off x="609840" y="3908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494200">
              <a:off x="609840" y="3908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494200">
              <a:off x="612000" y="39067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494200">
              <a:off x="621720" y="3914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494200">
              <a:off x="621720" y="3914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494200">
              <a:off x="627120" y="3912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494200">
              <a:off x="631440" y="3919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494200">
              <a:off x="631440" y="39193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494200">
              <a:off x="638280" y="3917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494200">
              <a:off x="640800" y="3924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494200">
              <a:off x="640800" y="3924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494200">
              <a:off x="642600" y="3924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494200">
              <a:off x="651240" y="3931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494200">
              <a:off x="651240" y="3931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494200">
              <a:off x="654480" y="39304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494200">
              <a:off x="656640" y="39373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494200">
              <a:off x="662040" y="3935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494200">
              <a:off x="662040" y="3934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494200">
              <a:off x="667800" y="39420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494200">
              <a:off x="669240" y="3947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494200">
              <a:off x="675000" y="3945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494200">
              <a:off x="681840" y="3948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494200">
              <a:off x="681840" y="3948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94200">
              <a:off x="685440" y="3947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494200">
              <a:off x="693000" y="3952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494200">
              <a:off x="693000" y="3952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494200">
              <a:off x="696240" y="3951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494200">
              <a:off x="700200" y="3963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494200">
              <a:off x="563400" y="385452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494200">
              <a:off x="576360" y="38649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494200">
              <a:off x="588240" y="38710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494200">
              <a:off x="603360" y="3879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494200">
              <a:off x="621000" y="3888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494200">
              <a:off x="633960" y="3896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494200">
              <a:off x="650880" y="39009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494200">
              <a:off x="664560" y="3912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494200">
              <a:off x="681840" y="391860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494200">
              <a:off x="693360" y="3924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494200">
              <a:off x="709200" y="3935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494200">
              <a:off x="406080" y="3895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494200">
              <a:off x="412560" y="38930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494200">
              <a:off x="414720" y="389988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494200">
              <a:off x="416880" y="3900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94200">
              <a:off x="423360" y="3900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494200">
              <a:off x="424800" y="390528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494200">
              <a:off x="428760" y="39067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494200">
              <a:off x="428760" y="3905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494200">
              <a:off x="436680" y="39106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494200">
              <a:off x="440640" y="3913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494200">
              <a:off x="440640" y="39124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494200">
              <a:off x="448560" y="3917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494200">
              <a:off x="457560" y="391716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0494200">
              <a:off x="459000" y="391320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494200">
              <a:off x="515520" y="396216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494200">
              <a:off x="516600" y="3966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494200">
              <a:off x="522000" y="396360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494200">
              <a:off x="524520" y="397080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0494200">
              <a:off x="527760" y="39704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0494200">
              <a:off x="533160" y="3968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494200">
              <a:off x="535320" y="39747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494200">
              <a:off x="664920" y="3962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494200">
              <a:off x="664920" y="39610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494200">
              <a:off x="672840" y="39661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494200">
              <a:off x="580320" y="3976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494200">
              <a:off x="580320" y="397584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494200">
              <a:off x="583920" y="3980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494200">
              <a:off x="583920" y="3981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494200">
              <a:off x="583920" y="3980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494200">
              <a:off x="591840" y="3985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494200">
              <a:off x="608400" y="397332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494200">
              <a:off x="612000" y="396684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494200">
              <a:off x="626040" y="398412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494200">
              <a:off x="585000" y="3992760"/>
              <a:ext cx="23904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494200">
              <a:off x="616680" y="399816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494200">
              <a:off x="627480" y="403632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494200">
              <a:off x="964800" y="383616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494200">
              <a:off x="700920" y="372060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494200">
              <a:off x="885240" y="380448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8360" y="381600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494200">
              <a:off x="698760" y="3756240"/>
              <a:ext cx="6552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494200">
              <a:off x="842760" y="380952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0494200">
              <a:off x="831600" y="380520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494200">
              <a:off x="821880" y="380088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494200">
              <a:off x="804960" y="379800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0494200">
              <a:off x="794160" y="379368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494200">
              <a:off x="783360" y="378972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494200">
              <a:off x="772200" y="378756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494200">
              <a:off x="756720" y="378504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494200">
              <a:off x="734760" y="376020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494200">
              <a:off x="900360" y="389124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6084720" y="4005360"/>
            <a:ext cx="606600" cy="755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7956720" y="4724280"/>
            <a:ext cx="718920" cy="544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flipH="1">
            <a:off x="3276360" y="1341360"/>
            <a:ext cx="142920" cy="50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2133720"/>
            <a:ext cx="1656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0200" y="3284640"/>
            <a:ext cx="86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508720" y="1125360"/>
            <a:ext cx="15112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8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2846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08720" y="3429000"/>
            <a:ext cx="576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6084720" y="2852640"/>
            <a:ext cx="606600" cy="755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48360" y="3429000"/>
            <a:ext cx="2952720" cy="1512720"/>
          </a:xfrm>
          <a:custGeom>
            <a:avLst/>
            <a:gdLst/>
            <a:ahLst/>
            <a:rect l="l" t="t" r="r" b="b"/>
            <a:pathLst>
              <a:path w="1860" h="953">
                <a:moveTo>
                  <a:pt x="0" y="0"/>
                </a:moveTo>
                <a:lnTo>
                  <a:pt x="0" y="953"/>
                </a:lnTo>
                <a:lnTo>
                  <a:pt x="1860" y="9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3080" y="5877000"/>
            <a:ext cx="1295280" cy="504720"/>
          </a:xfrm>
          <a:custGeom>
            <a:avLst/>
            <a:gdLst/>
            <a:ahLst/>
            <a:rect l="l" t="t" r="r" b="b"/>
            <a:pathLst>
              <a:path w="907" h="409">
                <a:moveTo>
                  <a:pt x="907" y="0"/>
                </a:moveTo>
                <a:lnTo>
                  <a:pt x="907" y="409"/>
                </a:lnTo>
                <a:lnTo>
                  <a:pt x="0" y="40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826920" y="4941720"/>
            <a:ext cx="720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08000" y="5013360"/>
            <a:ext cx="57636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6720" y="1239840"/>
            <a:ext cx="897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1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98720" y="1239840"/>
            <a:ext cx="897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1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10880" y="50846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G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4880" y="4005360"/>
            <a:ext cx="93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XY-P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HTTP 65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P 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240" y="3645000"/>
            <a:ext cx="87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SO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31960" y="2781360"/>
            <a:ext cx="1393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STER2-P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C /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ain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EWPLM2.PR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17440" y="5661000"/>
            <a:ext cx="1409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STER-EU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20.10.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C / DHCP /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ain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UROPE.PR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2349360"/>
            <a:ext cx="647640" cy="2303640"/>
          </a:xfrm>
          <a:custGeom>
            <a:avLst/>
            <a:gdLst/>
            <a:ahLst/>
            <a:rect l="l" t="t" r="r" b="b"/>
            <a:pathLst>
              <a:path w="408" h="1451">
                <a:moveTo>
                  <a:pt x="0" y="0"/>
                </a:moveTo>
                <a:lnTo>
                  <a:pt x="0" y="499"/>
                </a:lnTo>
                <a:lnTo>
                  <a:pt x="408" y="499"/>
                </a:lnTo>
                <a:lnTo>
                  <a:pt x="408" y="1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3933720"/>
            <a:ext cx="504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9280" y="2133720"/>
            <a:ext cx="100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3860640"/>
            <a:ext cx="847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ces P.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802.11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9800" y="4076640"/>
            <a:ext cx="621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89040" y="141300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B-ANN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94560" y="476280"/>
            <a:ext cx="13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B-MICH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accorp.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87640" y="587700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20.10.x (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94760" y="177336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10.17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0000" y="177336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10.1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2421000"/>
            <a:ext cx="1152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tEthernet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20.1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2421000"/>
            <a:ext cx="1079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tEthernet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2.168.0.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1280" y="4221000"/>
            <a:ext cx="103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20.10.x (5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5040" y="2492280"/>
            <a:ext cx="124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WLAN-DES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88000" y="6237360"/>
            <a:ext cx="623880" cy="284040"/>
            <a:chOff x="6588000" y="6237360"/>
            <a:chExt cx="623880" cy="284040"/>
          </a:xfrm>
        </p:grpSpPr>
        <p:grpSp>
          <p:nvGrpSpPr>
            <p:cNvPr id="436" name=""/>
            <p:cNvGrpSpPr/>
            <p:nvPr/>
          </p:nvGrpSpPr>
          <p:grpSpPr>
            <a:xfrm>
              <a:off x="6588000" y="6237360"/>
              <a:ext cx="623880" cy="284040"/>
              <a:chOff x="6588000" y="6237360"/>
              <a:chExt cx="623880" cy="284040"/>
            </a:xfrm>
          </p:grpSpPr>
          <p:sp>
            <p:nvSpPr>
              <p:cNvPr id="437" name=""/>
              <p:cNvSpPr/>
              <p:nvPr/>
            </p:nvSpPr>
            <p:spPr>
              <a:xfrm>
                <a:off x="6588000" y="6237360"/>
                <a:ext cx="623880" cy="284040"/>
              </a:xfrm>
              <a:custGeom>
                <a:avLst/>
                <a:gdLst/>
                <a:ahLst/>
                <a:rect l="l" t="t" r="r" b="b"/>
                <a:pathLst>
                  <a:path w="1220" h="366">
                    <a:moveTo>
                      <a:pt x="92" y="0"/>
                    </a:moveTo>
                    <a:lnTo>
                      <a:pt x="0" y="92"/>
                    </a:lnTo>
                    <a:lnTo>
                      <a:pt x="0" y="366"/>
                    </a:lnTo>
                    <a:lnTo>
                      <a:pt x="1128" y="366"/>
                    </a:lnTo>
                    <a:lnTo>
                      <a:pt x="1220" y="274"/>
                    </a:lnTo>
                    <a:lnTo>
                      <a:pt x="1220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88000" y="6237360"/>
                <a:ext cx="623880" cy="71280"/>
              </a:xfrm>
              <a:custGeom>
                <a:avLst/>
                <a:gdLst/>
                <a:ahLst/>
                <a:rect l="l" t="t" r="r" b="b"/>
                <a:pathLst>
                  <a:path w="1220" h="92">
                    <a:moveTo>
                      <a:pt x="0" y="92"/>
                    </a:moveTo>
                    <a:lnTo>
                      <a:pt x="1128" y="92"/>
                    </a:lnTo>
                    <a:lnTo>
                      <a:pt x="1220" y="0"/>
                    </a:lnTo>
                    <a:lnTo>
                      <a:pt x="92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65080" y="6237360"/>
                <a:ext cx="46800" cy="284040"/>
              </a:xfrm>
              <a:custGeom>
                <a:avLst/>
                <a:gdLst/>
                <a:ahLst/>
                <a:rect l="l" t="t" r="r" b="b"/>
                <a:pathLst>
                  <a:path w="92" h="366">
                    <a:moveTo>
                      <a:pt x="0" y="92"/>
                    </a:moveTo>
                    <a:lnTo>
                      <a:pt x="92" y="0"/>
                    </a:lnTo>
                    <a:lnTo>
                      <a:pt x="92" y="274"/>
                    </a:lnTo>
                    <a:lnTo>
                      <a:pt x="0" y="36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588000" y="6237360"/>
                <a:ext cx="623880" cy="284040"/>
              </a:xfrm>
              <a:custGeom>
                <a:avLst/>
                <a:gdLst/>
                <a:ahLst/>
                <a:rect l="l" t="t" r="r" b="b"/>
                <a:pathLst>
                  <a:path w="1220" h="366">
                    <a:moveTo>
                      <a:pt x="92" y="0"/>
                    </a:moveTo>
                    <a:lnTo>
                      <a:pt x="0" y="92"/>
                    </a:lnTo>
                    <a:lnTo>
                      <a:pt x="0" y="366"/>
                    </a:lnTo>
                    <a:lnTo>
                      <a:pt x="1128" y="366"/>
                    </a:lnTo>
                    <a:lnTo>
                      <a:pt x="1220" y="274"/>
                    </a:lnTo>
                    <a:lnTo>
                      <a:pt x="1220" y="0"/>
                    </a:lnTo>
                    <a:lnTo>
                      <a:pt x="92" y="0"/>
                    </a:lnTo>
                    <a:close/>
                  </a:path>
                </a:pathLst>
              </a:custGeom>
              <a:noFill/>
              <a:ln w="3168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88000" y="6237360"/>
                <a:ext cx="623880" cy="71280"/>
              </a:xfrm>
              <a:custGeom>
                <a:avLst/>
                <a:gdLst/>
                <a:ahLst/>
                <a:rect l="l" t="t" r="r" b="b"/>
                <a:pathLst>
                  <a:path w="1220" h="92">
                    <a:moveTo>
                      <a:pt x="0" y="92"/>
                    </a:moveTo>
                    <a:lnTo>
                      <a:pt x="1128" y="92"/>
                    </a:lnTo>
                    <a:lnTo>
                      <a:pt x="1220" y="0"/>
                    </a:lnTo>
                  </a:path>
                </a:pathLst>
              </a:custGeom>
              <a:noFill/>
              <a:ln w="3168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65080" y="6308640"/>
                <a:ext cx="360" cy="212400"/>
              </a:xfrm>
              <a:prstGeom prst="line">
                <a:avLst/>
              </a:prstGeom>
              <a:ln w="316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624720" y="6351120"/>
              <a:ext cx="487080" cy="112680"/>
              <a:chOff x="6624720" y="6351120"/>
              <a:chExt cx="487080" cy="112680"/>
            </a:xfrm>
          </p:grpSpPr>
          <p:sp>
            <p:nvSpPr>
              <p:cNvPr id="444" name=""/>
              <p:cNvSpPr/>
              <p:nvPr/>
            </p:nvSpPr>
            <p:spPr>
              <a:xfrm>
                <a:off x="6624720" y="6351120"/>
                <a:ext cx="487080" cy="112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61800" y="6378480"/>
                <a:ext cx="37080" cy="56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36680" y="6378480"/>
                <a:ext cx="37080" cy="56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11920" y="6378480"/>
                <a:ext cx="37080" cy="561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6300720" y="638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18880" y="5805360"/>
            <a:ext cx="6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51640" y="5300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5084640"/>
            <a:ext cx="2160720" cy="36036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UROPE.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115920"/>
            <a:ext cx="2160720" cy="36036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PLM2.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12000" y="6021360"/>
            <a:ext cx="935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.49.115.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6720" y="6381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5.0.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59280" y="5805360"/>
            <a:ext cx="15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HCP PP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NS : 80.10.246.1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t 80.10.246.1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3800" y="40464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 TRAFI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_D2_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80000" y="549360"/>
            <a:ext cx="1008000" cy="12240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3240" y="54936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KE-CI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64000" y="1628640"/>
            <a:ext cx="6480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37440" y="64072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99"/>
                </a:solidFill>
                <a:latin typeface="Arial"/>
              </a:rPr>
              <a:t>10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5080" y="148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99"/>
                </a:solidFill>
                <a:latin typeface="Arial"/>
              </a:rPr>
              <a:t>1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05440" y="530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8243640" y="2276640"/>
            <a:ext cx="323640" cy="720000"/>
            <a:chOff x="8243640" y="2276640"/>
            <a:chExt cx="323640" cy="720000"/>
          </a:xfrm>
        </p:grpSpPr>
        <p:sp>
          <p:nvSpPr>
            <p:cNvPr id="464" name=""/>
            <p:cNvSpPr/>
            <p:nvPr/>
          </p:nvSpPr>
          <p:spPr>
            <a:xfrm rot="5400000">
              <a:off x="8266680" y="2353680"/>
              <a:ext cx="26676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8178840" y="2608200"/>
              <a:ext cx="45324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098480" y="1086120"/>
            <a:ext cx="838080" cy="2019240"/>
            <a:chOff x="7098480" y="1086120"/>
            <a:chExt cx="838080" cy="2019240"/>
          </a:xfrm>
        </p:grpSpPr>
        <p:sp>
          <p:nvSpPr>
            <p:cNvPr id="467" name=""/>
            <p:cNvSpPr/>
            <p:nvPr/>
          </p:nvSpPr>
          <p:spPr>
            <a:xfrm rot="4335600">
              <a:off x="6887520" y="1408680"/>
              <a:ext cx="7603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4335600">
              <a:off x="6939720" y="2279160"/>
              <a:ext cx="129168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730200" y="3195720"/>
            <a:ext cx="803880" cy="363600"/>
            <a:chOff x="6730200" y="3195720"/>
            <a:chExt cx="803880" cy="363600"/>
          </a:xfrm>
        </p:grpSpPr>
        <p:sp>
          <p:nvSpPr>
            <p:cNvPr id="470" name=""/>
            <p:cNvSpPr/>
            <p:nvPr/>
          </p:nvSpPr>
          <p:spPr>
            <a:xfrm rot="285600">
              <a:off x="6734160" y="3294000"/>
              <a:ext cx="29196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85600">
              <a:off x="7025400" y="3215520"/>
              <a:ext cx="49608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8173080" y="3717360"/>
            <a:ext cx="323640" cy="973800"/>
            <a:chOff x="8173080" y="3717360"/>
            <a:chExt cx="323640" cy="973800"/>
          </a:xfrm>
        </p:grpSpPr>
        <p:sp>
          <p:nvSpPr>
            <p:cNvPr id="473" name=""/>
            <p:cNvSpPr/>
            <p:nvPr/>
          </p:nvSpPr>
          <p:spPr>
            <a:xfrm rot="16200000">
              <a:off x="8159760" y="4454280"/>
              <a:ext cx="3607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028360" y="3862080"/>
              <a:ext cx="61308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863840" y="3094200"/>
            <a:ext cx="71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802.11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4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923240" y="1730520"/>
            <a:ext cx="769320" cy="804240"/>
            <a:chOff x="7923240" y="1730520"/>
            <a:chExt cx="769320" cy="804240"/>
          </a:xfrm>
        </p:grpSpPr>
        <p:grpSp>
          <p:nvGrpSpPr>
            <p:cNvPr id="477" name=""/>
            <p:cNvGrpSpPr/>
            <p:nvPr/>
          </p:nvGrpSpPr>
          <p:grpSpPr>
            <a:xfrm>
              <a:off x="7923240" y="1730520"/>
              <a:ext cx="769320" cy="804240"/>
              <a:chOff x="7923240" y="1730520"/>
              <a:chExt cx="769320" cy="804240"/>
            </a:xfrm>
          </p:grpSpPr>
          <p:sp>
            <p:nvSpPr>
              <p:cNvPr id="478" name=""/>
              <p:cNvSpPr/>
              <p:nvPr/>
            </p:nvSpPr>
            <p:spPr>
              <a:xfrm rot="20494200">
                <a:off x="8214120" y="178416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494200">
                <a:off x="8462520" y="1819440"/>
                <a:ext cx="16668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494200">
                <a:off x="8256960" y="177624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494200">
                <a:off x="8254800" y="185076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494200">
                <a:off x="8268480" y="186012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494200">
                <a:off x="8188560" y="183600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494200">
                <a:off x="8252640" y="2125440"/>
                <a:ext cx="30852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0494200">
                <a:off x="7945560" y="221184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494200">
                <a:off x="8097120" y="2347920"/>
                <a:ext cx="51480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494200">
                <a:off x="7956720" y="227988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494200">
                <a:off x="8297280" y="2357640"/>
                <a:ext cx="7452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0494200">
                <a:off x="8111880" y="2224440"/>
                <a:ext cx="16308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0494200">
                <a:off x="7989840" y="229572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94200">
                <a:off x="7993080" y="2294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494200">
                <a:off x="7993800" y="2295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494200">
                <a:off x="7995600" y="2302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0494200">
                <a:off x="8001000" y="2299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494200">
                <a:off x="8006040" y="230580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494200">
                <a:off x="8107200" y="2255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494200">
                <a:off x="8059680" y="22723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494200">
                <a:off x="8059680" y="2271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0494200">
                <a:off x="8063280" y="2272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494200">
                <a:off x="8065080" y="2278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494200">
                <a:off x="8070480" y="2277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494200">
                <a:off x="8072640" y="228348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494200">
                <a:off x="8076600" y="22831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494200">
                <a:off x="8076240" y="228240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494200">
                <a:off x="8083440" y="2285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494200">
                <a:off x="8083440" y="2286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494200">
                <a:off x="8085600" y="22852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494200">
                <a:off x="8087760" y="2291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494200">
                <a:off x="8094240" y="22903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494200">
                <a:off x="8096040" y="22946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0494200">
                <a:off x="8102160" y="2295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494200">
                <a:off x="8103960" y="2300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494200">
                <a:off x="8105760" y="2298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0494200">
                <a:off x="8108280" y="2305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494200">
                <a:off x="8114760" y="2304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20494200">
                <a:off x="8114760" y="23040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494200">
                <a:off x="8118720" y="2308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20494200">
                <a:off x="8118720" y="23094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0494200">
                <a:off x="8125560" y="2310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494200">
                <a:off x="8125920" y="2312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494200">
                <a:off x="8130960" y="2318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494200">
                <a:off x="8136360" y="2316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0494200">
                <a:off x="8137440" y="2318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494200">
                <a:off x="8144280" y="232200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494200">
                <a:off x="8144280" y="23216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494200">
                <a:off x="8149320" y="2324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0494200">
                <a:off x="8149320" y="2325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494200">
                <a:off x="8156160" y="2328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494200">
                <a:off x="8156880" y="2330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494200">
                <a:off x="8161920" y="2335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494200">
                <a:off x="8161920" y="2334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494200">
                <a:off x="8169480" y="2339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494200">
                <a:off x="8169480" y="2340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494200">
                <a:off x="8172720" y="2338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494200">
                <a:off x="8174880" y="23454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0494200">
                <a:off x="8180280" y="2344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494200">
                <a:off x="8180280" y="2343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494200">
                <a:off x="8184600" y="2347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494200">
                <a:off x="8191080" y="23464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494200">
                <a:off x="8191080" y="23457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494200">
                <a:off x="8192880" y="235224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494200">
                <a:off x="8198640" y="23515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494200">
                <a:off x="8198640" y="23511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494200">
                <a:off x="8202960" y="23576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494200">
                <a:off x="8204400" y="2363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494200">
                <a:off x="8211240" y="2360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494200">
                <a:off x="8212320" y="2363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494200">
                <a:off x="8215200" y="2365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494200">
                <a:off x="8220600" y="2363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494200">
                <a:off x="8222760" y="2369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494200">
                <a:off x="8031960" y="228168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494200">
                <a:off x="8037000" y="2278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494200">
                <a:off x="8039160" y="2286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494200">
                <a:off x="8043120" y="2286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494200">
                <a:off x="8048160" y="2284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494200">
                <a:off x="8049960" y="229104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494200">
                <a:off x="8050320" y="22917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494200">
                <a:off x="8056080" y="228960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494200">
                <a:off x="8060760" y="2292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494200">
                <a:off x="8060760" y="2293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494200">
                <a:off x="8066160" y="2292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494200">
                <a:off x="8068320" y="2298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94200">
                <a:off x="8073360" y="2302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494200">
                <a:off x="8073360" y="2301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494200">
                <a:off x="8079480" y="2302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494200">
                <a:off x="8080920" y="2307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494200">
                <a:off x="8084520" y="230652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494200">
                <a:off x="8086680" y="23133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494200">
                <a:off x="8092080" y="2312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494200">
                <a:off x="8092080" y="2311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494200">
                <a:off x="8096040" y="2315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494200">
                <a:off x="8097480" y="23212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0494200">
                <a:off x="8103960" y="2319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494200">
                <a:off x="8104680" y="23205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494200">
                <a:off x="8111880" y="2324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494200">
                <a:off x="8114040" y="2324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494200">
                <a:off x="8116560" y="2330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494200">
                <a:off x="8116560" y="2331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494200">
                <a:off x="8123040" y="2328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494200">
                <a:off x="8124120" y="233316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494200">
                <a:off x="8128080" y="23378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494200">
                <a:off x="8133480" y="2336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494200">
                <a:off x="8136360" y="2342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494200">
                <a:off x="8139240" y="2342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0494200">
                <a:off x="8139240" y="2341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494200">
                <a:off x="8141040" y="234792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494200">
                <a:off x="8147160" y="2347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494200">
                <a:off x="8152560" y="23461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494200">
                <a:off x="8154720" y="235260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494200">
                <a:off x="8157960" y="2351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494200">
                <a:off x="8157960" y="2350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0494200">
                <a:off x="8165160" y="2354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494200">
                <a:off x="8165160" y="23551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494200">
                <a:off x="8169480" y="2357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494200">
                <a:off x="8170200" y="2359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494200">
                <a:off x="8175960" y="23590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494200">
                <a:off x="8177760" y="2363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0494200">
                <a:off x="8181360" y="2365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494200">
                <a:off x="8182800" y="2370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20494200">
                <a:off x="8188560" y="2368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20494200">
                <a:off x="8189280" y="2370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0494200">
                <a:off x="8192520" y="2373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0494200">
                <a:off x="8192520" y="2372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0494200">
                <a:off x="8201520" y="23774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494200">
                <a:off x="8012160" y="22881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20494200">
                <a:off x="8015400" y="2287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0494200">
                <a:off x="8017920" y="2293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0494200">
                <a:off x="8023320" y="2292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0494200">
                <a:off x="8023320" y="2292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0494200">
                <a:off x="8027640" y="229860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20494200">
                <a:off x="8028000" y="22993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494200">
                <a:off x="8034480" y="22971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0494200">
                <a:off x="8036280" y="23014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0494200">
                <a:off x="8038440" y="23014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494200">
                <a:off x="8038440" y="2300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494200">
                <a:off x="8046000" y="2305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0494200">
                <a:off x="8047800" y="2311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0494200">
                <a:off x="8051040" y="2309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0494200">
                <a:off x="8056800" y="2309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0494200">
                <a:off x="8058600" y="2315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494200">
                <a:off x="8064000" y="2313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0494200">
                <a:off x="8066160" y="232056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0494200">
                <a:off x="8069400" y="2319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494200">
                <a:off x="8069400" y="2318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494200">
                <a:off x="8070840" y="232380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494200">
                <a:off x="8078040" y="2327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494200">
                <a:off x="8080920" y="2326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0494200">
                <a:off x="8082000" y="2328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0494200">
                <a:off x="8089200" y="2332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0494200">
                <a:off x="8089200" y="2331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94200">
                <a:off x="8094960" y="23378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494200">
                <a:off x="8094960" y="2338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494200">
                <a:off x="8100360" y="2336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0494200">
                <a:off x="8102160" y="2340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0494200">
                <a:off x="8105400" y="234540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94200">
                <a:off x="8105400" y="2344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494200">
                <a:off x="8114760" y="2350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494200">
                <a:off x="8114760" y="2351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494200">
                <a:off x="8120160" y="2349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494200">
                <a:off x="8122320" y="235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494200">
                <a:off x="8124480" y="2355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494200">
                <a:off x="8124480" y="2354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494200">
                <a:off x="8133120" y="2359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20494200">
                <a:off x="8133120" y="2360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0494200">
                <a:off x="8135280" y="2358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20494200">
                <a:off x="8136720" y="236268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20494200">
                <a:off x="8142480" y="23626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0494200">
                <a:off x="8147160" y="2365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0494200">
                <a:off x="8147880" y="2367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20494200">
                <a:off x="8147880" y="23684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0494200">
                <a:off x="8155080" y="2370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0494200">
                <a:off x="8155440" y="237312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0494200">
                <a:off x="8163000" y="23770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0494200">
                <a:off x="8165880" y="2376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0494200">
                <a:off x="8166960" y="2377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0494200">
                <a:off x="8006400" y="23065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0494200">
                <a:off x="8011800" y="23047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0494200">
                <a:off x="8013600" y="2308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494200">
                <a:off x="8018640" y="2307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494200">
                <a:off x="8018640" y="2307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494200">
                <a:off x="8024400" y="23130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494200">
                <a:off x="8026200" y="2318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494200">
                <a:off x="8031240" y="2316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0494200">
                <a:off x="8031960" y="2318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494200">
                <a:off x="8035920" y="2323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494200">
                <a:off x="8035920" y="2322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494200">
                <a:off x="8044920" y="23274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0494200">
                <a:off x="8044920" y="2328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94200">
                <a:off x="8047080" y="2326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94200">
                <a:off x="8048880" y="2331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494200">
                <a:off x="8055360" y="2335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494200">
                <a:off x="8055360" y="2334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94200">
                <a:off x="8059680" y="2335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494200">
                <a:off x="8061480" y="2341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94200">
                <a:off x="8066520" y="2338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494200">
                <a:off x="8068680" y="2345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494200">
                <a:off x="8074440" y="2345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rot="20494200">
              <a:off x="8077320" y="2344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494200">
              <a:off x="8079120" y="2348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494200">
              <a:off x="8085960" y="2351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494200">
              <a:off x="8085960" y="23515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494200">
              <a:off x="8091720" y="2357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494200">
              <a:off x="8091720" y="2358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494200">
              <a:off x="8097120" y="2356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94200">
              <a:off x="8099640" y="23626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494200">
              <a:off x="8102880" y="2362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94200">
              <a:off x="8102880" y="236196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494200">
              <a:off x="8110800" y="2366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494200">
              <a:off x="8110800" y="2367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494200">
              <a:off x="8112600" y="2365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494200">
              <a:off x="8114400" y="23709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494200">
              <a:off x="8120880" y="2369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494200">
              <a:off x="8127720" y="2372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494200">
              <a:off x="8128800" y="23745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494200">
              <a:off x="8128800" y="2374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494200">
              <a:off x="8132400" y="2379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494200">
              <a:off x="8133480" y="23810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494200">
              <a:off x="8074440" y="22593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494200">
              <a:off x="8076600" y="22582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494200">
              <a:off x="8079120" y="22654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494200">
              <a:off x="8079840" y="226836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494200">
              <a:off x="8086320" y="2266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494200">
              <a:off x="8094240" y="2271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494200">
              <a:off x="8094240" y="2271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494200">
              <a:off x="8096400" y="2271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494200">
              <a:off x="8098920" y="2277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494200">
              <a:off x="8105400" y="2276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494200">
              <a:off x="8105400" y="227556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494200">
              <a:off x="8109720" y="22820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494200">
              <a:off x="8115120" y="22806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494200">
              <a:off x="8115120" y="2280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494200">
              <a:off x="8121240" y="22888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494200">
              <a:off x="8121240" y="2289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494200">
              <a:off x="8127000" y="2287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494200">
              <a:off x="8134920" y="229320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494200">
              <a:off x="8134920" y="229320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494200">
              <a:off x="8137800" y="2292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494200">
              <a:off x="8140320" y="229932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494200">
              <a:off x="8140320" y="22993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494200">
              <a:off x="8146440" y="2300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494200">
              <a:off x="8151840" y="2305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494200">
              <a:off x="8151840" y="2305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494200">
              <a:off x="8157240" y="2304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494200">
              <a:off x="8163000" y="23104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494200">
              <a:off x="8163000" y="2310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494200">
              <a:off x="8168400" y="2309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494200">
              <a:off x="8170920" y="2315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494200">
              <a:off x="8170920" y="2315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494200">
              <a:off x="8173080" y="231444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494200">
              <a:off x="8182800" y="2322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494200">
              <a:off x="8182800" y="23223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494200">
              <a:off x="8188200" y="2320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494200">
              <a:off x="8192520" y="2327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494200">
              <a:off x="8192520" y="23270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494200">
              <a:off x="8199360" y="2324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494200">
              <a:off x="8201880" y="2332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494200">
              <a:off x="8201880" y="2332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494200">
              <a:off x="8203680" y="2331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494200">
              <a:off x="8212320" y="2339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494200">
              <a:off x="8212320" y="2339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494200">
              <a:off x="8215560" y="23382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494200">
              <a:off x="8217720" y="23450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494200">
              <a:off x="8223120" y="2343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494200">
              <a:off x="8223120" y="2342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494200">
              <a:off x="8228880" y="23497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494200">
              <a:off x="8230320" y="2354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494200">
              <a:off x="8236080" y="2352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494200">
              <a:off x="8242920" y="2356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494200">
              <a:off x="8242920" y="2356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494200">
              <a:off x="8246520" y="2355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494200">
              <a:off x="8254080" y="2360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494200">
              <a:off x="8254080" y="2360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494200">
              <a:off x="8257320" y="2359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494200">
              <a:off x="8261280" y="2371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494200">
              <a:off x="8124480" y="22622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0494200">
              <a:off x="8137440" y="2272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494200">
              <a:off x="8149320" y="2278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0494200">
              <a:off x="8164440" y="22870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0494200">
              <a:off x="8182080" y="2295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0494200">
              <a:off x="8195040" y="2304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0494200">
              <a:off x="8211960" y="23086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0494200">
              <a:off x="8225640" y="2320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0494200">
              <a:off x="8242920" y="232632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0494200">
              <a:off x="8254440" y="23320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0494200">
              <a:off x="8270280" y="2343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0494200">
              <a:off x="7967160" y="2303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0494200">
              <a:off x="7973640" y="23007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494200">
              <a:off x="7975800" y="230760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494200">
              <a:off x="7977960" y="2307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494200">
              <a:off x="7984440" y="2308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494200">
              <a:off x="7985880" y="231300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494200">
              <a:off x="7989840" y="23144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0494200">
              <a:off x="7989840" y="2313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20494200">
              <a:off x="7997760" y="23184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0494200">
              <a:off x="8001720" y="2321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0494200">
              <a:off x="8001720" y="2320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494200">
              <a:off x="8009640" y="2325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0494200">
              <a:off x="8018640" y="232488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494200">
              <a:off x="8020080" y="232092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494200">
              <a:off x="8076600" y="236988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494200">
              <a:off x="8077680" y="2373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494200">
              <a:off x="8083080" y="23713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494200">
              <a:off x="8085600" y="23785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494200">
              <a:off x="8088840" y="2378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494200">
              <a:off x="8094240" y="2376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494200">
              <a:off x="8096400" y="23824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494200">
              <a:off x="8226000" y="2369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494200">
              <a:off x="8226000" y="2368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494200">
              <a:off x="8233920" y="2373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0494200">
              <a:off x="8141400" y="2384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0494200">
              <a:off x="8141400" y="238356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0494200">
              <a:off x="8145000" y="2387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0494200">
              <a:off x="8145000" y="2388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0494200">
              <a:off x="8145000" y="2387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0494200">
              <a:off x="8152920" y="2392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494200">
              <a:off x="8169480" y="238104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0494200">
              <a:off x="8173080" y="237456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20494200">
              <a:off x="8187120" y="239184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0494200">
              <a:off x="8146080" y="2400480"/>
              <a:ext cx="23904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494200">
              <a:off x="8177760" y="240588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0494200">
              <a:off x="8188560" y="244404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0494200">
              <a:off x="8525880" y="224388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0494200">
              <a:off x="8262000" y="212832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0494200">
              <a:off x="8446320" y="221220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479440" y="222372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0494200">
              <a:off x="8259840" y="2163960"/>
              <a:ext cx="6552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494200">
              <a:off x="8403840" y="221724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494200">
              <a:off x="8392680" y="221292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0494200">
              <a:off x="8382960" y="220860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0494200">
              <a:off x="8366040" y="220572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0494200">
              <a:off x="8355240" y="220140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0494200">
              <a:off x="8344440" y="219744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0494200">
              <a:off x="8333280" y="219528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0494200">
              <a:off x="8317800" y="219276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0494200">
              <a:off x="8295840" y="216792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0494200">
              <a:off x="8461440" y="229896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7" name="" descr=""/>
          <p:cNvPicPr/>
          <p:nvPr/>
        </p:nvPicPr>
        <p:blipFill>
          <a:blip r:embed="rId10"/>
          <a:stretch/>
        </p:blipFill>
        <p:spPr>
          <a:xfrm>
            <a:off x="1403280" y="4653000"/>
            <a:ext cx="719280" cy="5461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11"/>
          <a:stretch/>
        </p:blipFill>
        <p:spPr>
          <a:xfrm>
            <a:off x="2627280" y="1844640"/>
            <a:ext cx="719280" cy="546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773800" y="220500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 8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65440" y="436572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 12 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150160" y="342900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   1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8360" y="5084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2"/>
          <a:stretch/>
        </p:blipFill>
        <p:spPr>
          <a:xfrm>
            <a:off x="7956720" y="5516640"/>
            <a:ext cx="834840" cy="53172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477800" y="3500280"/>
            <a:ext cx="735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717800" y="4149720"/>
            <a:ext cx="735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3"/>
          <a:stretch/>
        </p:blipFill>
        <p:spPr>
          <a:xfrm>
            <a:off x="3059280" y="620640"/>
            <a:ext cx="606240" cy="7556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4"/>
          <a:stretch/>
        </p:blipFill>
        <p:spPr>
          <a:xfrm>
            <a:off x="5796000" y="981000"/>
            <a:ext cx="598320" cy="7444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3780000" y="765000"/>
            <a:ext cx="9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EU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10.17.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211280" y="3429000"/>
            <a:ext cx="64764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5"/>
          <a:stretch/>
        </p:blipFill>
        <p:spPr>
          <a:xfrm>
            <a:off x="4788000" y="3068640"/>
            <a:ext cx="718920" cy="54468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6"/>
          <a:stretch/>
        </p:blipFill>
        <p:spPr>
          <a:xfrm>
            <a:off x="3708360" y="4005360"/>
            <a:ext cx="598680" cy="744480"/>
          </a:xfrm>
          <a:prstGeom prst="rect">
            <a:avLst/>
          </a:prstGeom>
          <a:ln w="0">
            <a:noFill/>
          </a:ln>
        </p:spPr>
      </p:pic>
      <p:grpSp>
        <p:nvGrpSpPr>
          <p:cNvPr id="832" name=""/>
          <p:cNvGrpSpPr/>
          <p:nvPr/>
        </p:nvGrpSpPr>
        <p:grpSpPr>
          <a:xfrm>
            <a:off x="6915240" y="443160"/>
            <a:ext cx="769320" cy="804240"/>
            <a:chOff x="6915240" y="443160"/>
            <a:chExt cx="769320" cy="804240"/>
          </a:xfrm>
        </p:grpSpPr>
        <p:grpSp>
          <p:nvGrpSpPr>
            <p:cNvPr id="833" name=""/>
            <p:cNvGrpSpPr/>
            <p:nvPr/>
          </p:nvGrpSpPr>
          <p:grpSpPr>
            <a:xfrm>
              <a:off x="6915240" y="443160"/>
              <a:ext cx="769320" cy="804240"/>
              <a:chOff x="6915240" y="443160"/>
              <a:chExt cx="769320" cy="804240"/>
            </a:xfrm>
          </p:grpSpPr>
          <p:sp>
            <p:nvSpPr>
              <p:cNvPr id="834" name=""/>
              <p:cNvSpPr/>
              <p:nvPr/>
            </p:nvSpPr>
            <p:spPr>
              <a:xfrm rot="20494200">
                <a:off x="7206120" y="49680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494200">
                <a:off x="7454520" y="532080"/>
                <a:ext cx="16668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494200">
                <a:off x="7248960" y="48888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0494200">
                <a:off x="7246800" y="56340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94200">
                <a:off x="7260480" y="57276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494200">
                <a:off x="7180560" y="54864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0494200">
                <a:off x="7244640" y="838080"/>
                <a:ext cx="30852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0494200">
                <a:off x="6937560" y="92448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0494200">
                <a:off x="7089120" y="1060560"/>
                <a:ext cx="51480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494200">
                <a:off x="6948720" y="99252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494200">
                <a:off x="7289280" y="1070280"/>
                <a:ext cx="7452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494200">
                <a:off x="7103880" y="937080"/>
                <a:ext cx="16308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0494200">
                <a:off x="6981840" y="100836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494200">
                <a:off x="6985080" y="1006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494200">
                <a:off x="6985800" y="1008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0494200">
                <a:off x="6987600" y="1014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0494200">
                <a:off x="6993000" y="1011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0494200">
                <a:off x="6998040" y="101844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494200">
                <a:off x="7099200" y="968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494200">
                <a:off x="7051680" y="9849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0494200">
                <a:off x="7051680" y="984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494200">
                <a:off x="7055280" y="985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494200">
                <a:off x="7057080" y="991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494200">
                <a:off x="7062480" y="989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494200">
                <a:off x="7064640" y="99612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494200">
                <a:off x="7068600" y="9957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494200">
                <a:off x="7068240" y="99504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494200">
                <a:off x="7075440" y="997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494200">
                <a:off x="7075440" y="999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494200">
                <a:off x="7077600" y="99792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0494200">
                <a:off x="7079760" y="1004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0494200">
                <a:off x="7086240" y="10029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0494200">
                <a:off x="7088040" y="10072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494200">
                <a:off x="7094160" y="1008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494200">
                <a:off x="7095960" y="1013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494200">
                <a:off x="7097760" y="1011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494200">
                <a:off x="7100280" y="1018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0494200">
                <a:off x="7106760" y="1017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494200">
                <a:off x="7106760" y="10166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494200">
                <a:off x="7110720" y="1020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494200">
                <a:off x="7110720" y="10220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0494200">
                <a:off x="7117560" y="1023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0494200">
                <a:off x="7117920" y="1025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0494200">
                <a:off x="7122960" y="1031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494200">
                <a:off x="7128360" y="1029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494200">
                <a:off x="7129440" y="1030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20494200">
                <a:off x="7136280" y="10346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0494200">
                <a:off x="7136280" y="10342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20494200">
                <a:off x="7141320" y="1037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0494200">
                <a:off x="7141320" y="1038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20494200">
                <a:off x="7148160" y="1041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0494200">
                <a:off x="7148880" y="1043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494200">
                <a:off x="7153920" y="1047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20494200">
                <a:off x="7153920" y="1046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20494200">
                <a:off x="7161480" y="1051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0494200">
                <a:off x="7161480" y="1053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0494200">
                <a:off x="7164720" y="1051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0494200">
                <a:off x="7166880" y="10580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0494200">
                <a:off x="7172280" y="1056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0494200">
                <a:off x="7172280" y="1055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0494200">
                <a:off x="7176600" y="1060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20494200">
                <a:off x="7183080" y="10591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94200">
                <a:off x="7183080" y="10584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494200">
                <a:off x="7184880" y="106488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0494200">
                <a:off x="7190640" y="10641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20494200">
                <a:off x="7190640" y="10638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0494200">
                <a:off x="7194960" y="10702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494200">
                <a:off x="7196400" y="1076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0494200">
                <a:off x="7203240" y="1073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0494200">
                <a:off x="7204320" y="1076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20494200">
                <a:off x="7207200" y="1078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0494200">
                <a:off x="7212600" y="1076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494200">
                <a:off x="7214760" y="1082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494200">
                <a:off x="7023960" y="99432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0494200">
                <a:off x="7029000" y="991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494200">
                <a:off x="7031160" y="998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494200">
                <a:off x="7035120" y="999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494200">
                <a:off x="7040160" y="997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0494200">
                <a:off x="7041960" y="100368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94200">
                <a:off x="7042320" y="10044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494200">
                <a:off x="7048080" y="100224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94200">
                <a:off x="7052760" y="1005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494200">
                <a:off x="7052760" y="1006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494200">
                <a:off x="7058160" y="1004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494200">
                <a:off x="7060320" y="1011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494200">
                <a:off x="7065360" y="1015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494200">
                <a:off x="7065360" y="1014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494200">
                <a:off x="7071480" y="1014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494200">
                <a:off x="7072920" y="1020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0494200">
                <a:off x="7076520" y="10191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94200">
                <a:off x="7078680" y="10260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494200">
                <a:off x="7084080" y="1024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0494200">
                <a:off x="7084080" y="1023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0494200">
                <a:off x="7088040" y="1028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0494200">
                <a:off x="7089480" y="10339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0494200">
                <a:off x="7095960" y="1031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494200">
                <a:off x="7096680" y="1033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494200">
                <a:off x="7103880" y="1037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0494200">
                <a:off x="7106040" y="1036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0494200">
                <a:off x="7108560" y="1042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0494200">
                <a:off x="7108560" y="1044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494200">
                <a:off x="7115040" y="10411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0494200">
                <a:off x="7116120" y="104580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0494200">
                <a:off x="7120080" y="10504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0494200">
                <a:off x="7125480" y="1048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0494200">
                <a:off x="7128360" y="1055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494200">
                <a:off x="7131240" y="1055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494200">
                <a:off x="7131240" y="1054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0494200">
                <a:off x="7133040" y="106056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0494200">
                <a:off x="7139160" y="1060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0494200">
                <a:off x="7144560" y="10587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0494200">
                <a:off x="7146720" y="10652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20494200">
                <a:off x="7149960" y="1064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20494200">
                <a:off x="7149960" y="1063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20494200">
                <a:off x="7157160" y="1067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20494200">
                <a:off x="7157160" y="10677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0494200">
                <a:off x="7161480" y="1070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0494200">
                <a:off x="7162200" y="1072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0494200">
                <a:off x="7167960" y="10717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0494200">
                <a:off x="7169760" y="1076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0494200">
                <a:off x="7173360" y="10778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0494200">
                <a:off x="7174800" y="1083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0494200">
                <a:off x="7180560" y="1081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0494200">
                <a:off x="7181280" y="1082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494200">
                <a:off x="7184520" y="1085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0494200">
                <a:off x="7184520" y="1084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494200">
                <a:off x="7193520" y="10900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0494200">
                <a:off x="7004160" y="10008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494200">
                <a:off x="7007400" y="999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494200">
                <a:off x="7009920" y="10065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94200">
                <a:off x="7015320" y="1005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494200">
                <a:off x="7015320" y="1005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494200">
                <a:off x="7019640" y="101124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494200">
                <a:off x="7020000" y="10119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494200">
                <a:off x="7026480" y="10098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494200">
                <a:off x="7028280" y="10141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494200">
                <a:off x="7030440" y="10141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494200">
                <a:off x="7030440" y="1013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0494200">
                <a:off x="7038000" y="1018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0494200">
                <a:off x="7039800" y="1024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20494200">
                <a:off x="7043040" y="1022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20494200">
                <a:off x="7048800" y="1022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20494200">
                <a:off x="7050600" y="1028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0494200">
                <a:off x="7056000" y="1026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0494200">
                <a:off x="7058160" y="103320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20494200">
                <a:off x="7061400" y="1032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0494200">
                <a:off x="7061400" y="1031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494200">
                <a:off x="7062840" y="103644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494200">
                <a:off x="7070040" y="1040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494200">
                <a:off x="7072920" y="103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494200">
                <a:off x="7074000" y="1040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0494200">
                <a:off x="7081200" y="1045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494200">
                <a:off x="7081200" y="1044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0494200">
                <a:off x="7086960" y="10504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20494200">
                <a:off x="7086960" y="1051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20494200">
                <a:off x="7092360" y="1049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20494200">
                <a:off x="7094160" y="1053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20494200">
                <a:off x="7097400" y="105804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20494200">
                <a:off x="7097400" y="1056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0494200">
                <a:off x="7106760" y="10630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20494200">
                <a:off x="7106760" y="1063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20494200">
                <a:off x="7112160" y="1061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20494200">
                <a:off x="7114320" y="1068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0494200">
                <a:off x="7116480" y="1068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20494200">
                <a:off x="7116480" y="1067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20494200">
                <a:off x="7125120" y="10720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20494200">
                <a:off x="7125120" y="1072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20494200">
                <a:off x="7127280" y="1071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20494200">
                <a:off x="7128720" y="107532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20494200">
                <a:off x="7134480" y="10753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20494200">
                <a:off x="7139160" y="1078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20494200">
                <a:off x="7139880" y="1080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0494200">
                <a:off x="7139880" y="10810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0494200">
                <a:off x="7147080" y="1083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0494200">
                <a:off x="7147440" y="108576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0494200">
                <a:off x="7155000" y="10897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20494200">
                <a:off x="7157880" y="1089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0494200">
                <a:off x="7158960" y="1090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20494200">
                <a:off x="6998400" y="10191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0494200">
                <a:off x="7003800" y="10173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0494200">
                <a:off x="7005600" y="1021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0494200">
                <a:off x="7010640" y="1020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0494200">
                <a:off x="7010640" y="1020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0494200">
                <a:off x="7016400" y="10256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0494200">
                <a:off x="7018200" y="1031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0494200">
                <a:off x="7023240" y="1029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20494200">
                <a:off x="7023960" y="1031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0494200">
                <a:off x="7027920" y="1035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494200">
                <a:off x="7027920" y="1034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0494200">
                <a:off x="7036920" y="10400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0494200">
                <a:off x="7036920" y="1040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0494200">
                <a:off x="7039080" y="1038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494200">
                <a:off x="7040880" y="1044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0494200">
                <a:off x="7047360" y="1047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0494200">
                <a:off x="7047360" y="1046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0494200">
                <a:off x="7051680" y="1047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494200">
                <a:off x="7053480" y="1054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494200">
                <a:off x="7058520" y="1051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94200">
                <a:off x="7060680" y="1058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494200">
                <a:off x="7066440" y="1057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 rot="20494200">
              <a:off x="7069320" y="1056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0494200">
              <a:off x="7071120" y="1060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20494200">
              <a:off x="7077960" y="1064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20494200">
              <a:off x="7077960" y="10641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0494200">
              <a:off x="7083720" y="1070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20494200">
              <a:off x="7083720" y="1071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20494200">
              <a:off x="7089120" y="1069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20494200">
              <a:off x="7091640" y="1075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20494200">
              <a:off x="7094880" y="1075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20494200">
              <a:off x="7094880" y="107460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20494200">
              <a:off x="7102800" y="1079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20494200">
              <a:off x="7102800" y="1080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20494200">
              <a:off x="7104600" y="1078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20494200">
              <a:off x="7106400" y="1083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20494200">
              <a:off x="7112880" y="1082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20494200">
              <a:off x="7119720" y="1085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20494200">
              <a:off x="7120800" y="10872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20494200">
              <a:off x="7120800" y="1087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20494200">
              <a:off x="7124400" y="1092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20494200">
              <a:off x="7125480" y="10936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20494200">
              <a:off x="7066440" y="9720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20494200">
              <a:off x="7068600" y="9709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20494200">
              <a:off x="7071120" y="9781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20494200">
              <a:off x="7071840" y="98100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20494200">
              <a:off x="7078320" y="978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20494200">
              <a:off x="7086240" y="984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20494200">
              <a:off x="7086240" y="984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20494200">
              <a:off x="7088400" y="984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20494200">
              <a:off x="7090920" y="990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20494200">
              <a:off x="7097400" y="988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20494200">
              <a:off x="7097400" y="98820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20494200">
              <a:off x="7101720" y="994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20494200">
              <a:off x="7107120" y="993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20494200">
              <a:off x="7107120" y="993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20494200">
              <a:off x="7113240" y="10015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20494200">
              <a:off x="7113240" y="1001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20494200">
              <a:off x="7119000" y="1000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20494200">
              <a:off x="7126920" y="10058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20494200">
              <a:off x="7126920" y="10058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20494200">
              <a:off x="7129800" y="1004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20494200">
              <a:off x="7132320" y="101196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20494200">
              <a:off x="7132320" y="10119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20494200">
              <a:off x="7138440" y="1012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20494200">
              <a:off x="7143840" y="1018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20494200">
              <a:off x="7143840" y="10184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20494200">
              <a:off x="7149240" y="1016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20494200">
              <a:off x="7155000" y="10231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20494200">
              <a:off x="7155000" y="1023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20494200">
              <a:off x="7160400" y="1021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20494200">
              <a:off x="7162920" y="1028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20494200">
              <a:off x="7162920" y="1028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20494200">
              <a:off x="7165080" y="10270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20494200">
              <a:off x="7174800" y="1035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20494200">
              <a:off x="7174800" y="10350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20494200">
              <a:off x="7180200" y="1033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20494200">
              <a:off x="7184520" y="1039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20494200">
              <a:off x="7184520" y="10396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20494200">
              <a:off x="7191360" y="1037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20494200">
              <a:off x="7193880" y="1045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20494200">
              <a:off x="7193880" y="1045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20494200">
              <a:off x="7195680" y="1044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20494200">
              <a:off x="7204320" y="1051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20494200">
              <a:off x="7204320" y="1051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20494200">
              <a:off x="7207560" y="10508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20494200">
              <a:off x="7209720" y="1057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20494200">
              <a:off x="7215120" y="1055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20494200">
              <a:off x="7215120" y="1054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20494200">
              <a:off x="7220880" y="10623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20494200">
              <a:off x="7222320" y="1067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20494200">
              <a:off x="7228080" y="1065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20494200">
              <a:off x="7234920" y="1068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20494200">
              <a:off x="7234920" y="1068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20494200">
              <a:off x="7238520" y="1067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20494200">
              <a:off x="7246080" y="1073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20494200">
              <a:off x="7246080" y="1073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20494200">
              <a:off x="7249320" y="1072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20494200">
              <a:off x="7253280" y="1083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20494200">
              <a:off x="7116480" y="97488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0494200">
              <a:off x="7129440" y="9853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20494200">
              <a:off x="7141320" y="991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20494200">
              <a:off x="7156440" y="999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0494200">
              <a:off x="7174080" y="1008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0494200">
              <a:off x="7187040" y="1016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20494200">
              <a:off x="7203960" y="1021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20494200">
              <a:off x="7217640" y="1033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20494200">
              <a:off x="7234920" y="103896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0494200">
              <a:off x="7246440" y="1044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20494200">
              <a:off x="7262280" y="1055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20494200">
              <a:off x="6959160" y="1015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20494200">
              <a:off x="6965640" y="1013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20494200">
              <a:off x="6967800" y="102024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20494200">
              <a:off x="6969960" y="1020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20494200">
              <a:off x="6976440" y="1021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20494200">
              <a:off x="6977880" y="102564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20494200">
              <a:off x="6981840" y="10270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20494200">
              <a:off x="6981840" y="1026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20494200">
              <a:off x="6989760" y="10310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20494200">
              <a:off x="6993720" y="1033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20494200">
              <a:off x="6993720" y="1032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20494200">
              <a:off x="7001640" y="1038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20494200">
              <a:off x="7010640" y="103752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20494200">
              <a:off x="7012080" y="103356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20494200">
              <a:off x="7068600" y="108252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20494200">
              <a:off x="7069680" y="1086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20494200">
              <a:off x="7075080" y="10839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20494200">
              <a:off x="7077600" y="10911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0494200">
              <a:off x="7080840" y="1090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20494200">
              <a:off x="7086240" y="1088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20494200">
              <a:off x="7088400" y="10951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20494200">
              <a:off x="7218000" y="1082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20494200">
              <a:off x="7218000" y="1081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20494200">
              <a:off x="7225920" y="10864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20494200">
              <a:off x="7133400" y="1096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20494200">
              <a:off x="7133400" y="109620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20494200">
              <a:off x="7137000" y="1100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20494200">
              <a:off x="7137000" y="1101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20494200">
              <a:off x="7137000" y="1100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20494200">
              <a:off x="7144920" y="1105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20494200">
              <a:off x="7161480" y="109368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20494200">
              <a:off x="7165080" y="108720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20494200">
              <a:off x="7179120" y="110448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494200">
              <a:off x="7138080" y="1113120"/>
              <a:ext cx="23904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20494200">
              <a:off x="7169760" y="111852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20494200">
              <a:off x="7180560" y="115668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0494200">
              <a:off x="7517880" y="95652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20494200">
              <a:off x="7254000" y="84096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20494200">
              <a:off x="7438320" y="92484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71440" y="93636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20494200">
              <a:off x="7251840" y="876600"/>
              <a:ext cx="6552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20494200">
              <a:off x="7395840" y="92988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0494200">
              <a:off x="7384680" y="92556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20494200">
              <a:off x="7374960" y="92124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20494200">
              <a:off x="7358040" y="91836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20494200">
              <a:off x="7347240" y="91404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0494200">
              <a:off x="7336440" y="91008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4200">
              <a:off x="7325280" y="90792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20494200">
              <a:off x="7309800" y="90540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94200">
              <a:off x="7287840" y="88056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20494200">
              <a:off x="7453440" y="101160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5796000" y="4653000"/>
            <a:ext cx="1368360" cy="2016000"/>
          </a:xfrm>
          <a:prstGeom prst="rect">
            <a:avLst/>
          </a:prstGeom>
          <a:solidFill>
            <a:srgbClr val="cc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00720" y="1916280"/>
            <a:ext cx="2158920" cy="237636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79280" y="4653000"/>
            <a:ext cx="5400720" cy="20160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50920" y="189000"/>
            <a:ext cx="6985080" cy="158436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234200" y="1844640"/>
            <a:ext cx="1513080" cy="865080"/>
          </a:xfrm>
          <a:prstGeom prst="ellipse">
            <a:avLst/>
          </a:prstGeom>
          <a:solidFill>
            <a:srgbClr val="ff99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94560" y="333360"/>
            <a:ext cx="1081080" cy="12240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7236000" y="5373720"/>
            <a:ext cx="1655640" cy="126828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178000" y="2205000"/>
            <a:ext cx="897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1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178000" y="3500280"/>
            <a:ext cx="897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1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438520" y="3284640"/>
            <a:ext cx="93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XY-P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HTTP 65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P 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693440" y="5734080"/>
            <a:ext cx="87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SO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5600" y="5734080"/>
            <a:ext cx="1393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STER2-P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C /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ain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EWPLM2.PR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693440" y="620640"/>
            <a:ext cx="1409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STER-EU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20.10.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C / DHCP /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ain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UROPE.PR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234200" y="2781360"/>
            <a:ext cx="847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ces P.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802.11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172360" y="2997360"/>
            <a:ext cx="621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671600" y="33336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B-ANN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796000" y="5734080"/>
            <a:ext cx="1311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B-MICH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om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accorp.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C No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85080" y="83664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20.10.x (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067640" y="907920"/>
            <a:ext cx="103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20.10.x (5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847960" y="5734080"/>
            <a:ext cx="124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WLAN-DES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948360" y="393372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524720" y="5518080"/>
            <a:ext cx="1150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HCP PPo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NS : 80.10.246.1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t 80.10.246.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-500040" y="271296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 TRAFI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_D2_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573800" y="580536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KE-CI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92.168.0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8026200" y="1197000"/>
            <a:ext cx="323640" cy="720000"/>
            <a:chOff x="8026200" y="1197000"/>
            <a:chExt cx="323640" cy="720000"/>
          </a:xfrm>
        </p:grpSpPr>
        <p:sp>
          <p:nvSpPr>
            <p:cNvPr id="1198" name=""/>
            <p:cNvSpPr/>
            <p:nvPr/>
          </p:nvSpPr>
          <p:spPr>
            <a:xfrm rot="5400000">
              <a:off x="8049240" y="1274040"/>
              <a:ext cx="26676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5400000">
              <a:off x="7961400" y="1528560"/>
              <a:ext cx="45324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955640" y="2637720"/>
            <a:ext cx="323640" cy="973440"/>
            <a:chOff x="7955640" y="2637720"/>
            <a:chExt cx="323640" cy="973440"/>
          </a:xfrm>
        </p:grpSpPr>
        <p:sp>
          <p:nvSpPr>
            <p:cNvPr id="1201" name=""/>
            <p:cNvSpPr/>
            <p:nvPr/>
          </p:nvSpPr>
          <p:spPr>
            <a:xfrm rot="16200000">
              <a:off x="7942320" y="3374280"/>
              <a:ext cx="3607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6200000">
              <a:off x="7810920" y="2782080"/>
              <a:ext cx="61272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7646400" y="2014560"/>
            <a:ext cx="71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802.11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4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84360" y="1700280"/>
            <a:ext cx="6840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11280" y="4508640"/>
            <a:ext cx="69134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908000" y="3068640"/>
            <a:ext cx="475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437800" y="2060640"/>
            <a:ext cx="117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C-EU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.10.17.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 CONF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564000" y="141300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790560" cy="50328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3203640" y="3573360"/>
            <a:ext cx="792000" cy="50508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1401840" y="13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724360" y="14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90000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268360" y="4508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5898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5075280" y="4508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32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16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4"/>
          <a:stretch/>
        </p:blipFill>
        <p:spPr>
          <a:xfrm>
            <a:off x="1042920" y="549360"/>
            <a:ext cx="5047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220" name=""/>
          <p:cNvGrpSpPr/>
          <p:nvPr/>
        </p:nvGrpSpPr>
        <p:grpSpPr>
          <a:xfrm>
            <a:off x="3386160" y="730440"/>
            <a:ext cx="769320" cy="804240"/>
            <a:chOff x="3386160" y="730440"/>
            <a:chExt cx="769320" cy="804240"/>
          </a:xfrm>
        </p:grpSpPr>
        <p:grpSp>
          <p:nvGrpSpPr>
            <p:cNvPr id="1221" name=""/>
            <p:cNvGrpSpPr/>
            <p:nvPr/>
          </p:nvGrpSpPr>
          <p:grpSpPr>
            <a:xfrm>
              <a:off x="3386160" y="730440"/>
              <a:ext cx="769320" cy="804240"/>
              <a:chOff x="3386160" y="730440"/>
              <a:chExt cx="769320" cy="804240"/>
            </a:xfrm>
          </p:grpSpPr>
          <p:sp>
            <p:nvSpPr>
              <p:cNvPr id="1222" name=""/>
              <p:cNvSpPr/>
              <p:nvPr/>
            </p:nvSpPr>
            <p:spPr>
              <a:xfrm rot="20494200">
                <a:off x="3677040" y="78408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20494200">
                <a:off x="3925440" y="819360"/>
                <a:ext cx="16668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94200">
                <a:off x="3719880" y="77616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494200">
                <a:off x="3717720" y="85068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0494200">
                <a:off x="3731400" y="86004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20494200">
                <a:off x="3651480" y="83592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20494200">
                <a:off x="3715560" y="1125360"/>
                <a:ext cx="30852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0494200">
                <a:off x="3408480" y="121176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20494200">
                <a:off x="3560040" y="1347840"/>
                <a:ext cx="51480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20494200">
                <a:off x="3419640" y="127980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20494200">
                <a:off x="3760200" y="1357560"/>
                <a:ext cx="7452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20494200">
                <a:off x="3574800" y="1224360"/>
                <a:ext cx="16308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20494200">
                <a:off x="3452760" y="129564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20494200">
                <a:off x="3456000" y="1294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20494200">
                <a:off x="3456720" y="1295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20494200">
                <a:off x="3458520" y="1302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0494200">
                <a:off x="3463920" y="1299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20494200">
                <a:off x="3468960" y="130572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20494200">
                <a:off x="3570120" y="1255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20494200">
                <a:off x="3522600" y="12722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20494200">
                <a:off x="3522600" y="1271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20494200">
                <a:off x="3526200" y="1272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20494200">
                <a:off x="3528000" y="1278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20494200">
                <a:off x="3533400" y="1276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494200">
                <a:off x="3535560" y="128340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494200">
                <a:off x="3539520" y="12830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494200">
                <a:off x="3539160" y="128232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494200">
                <a:off x="3546360" y="1285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494200">
                <a:off x="3546360" y="1286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494200">
                <a:off x="3548520" y="128520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494200">
                <a:off x="3550680" y="1291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494200">
                <a:off x="3557160" y="12902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494200">
                <a:off x="3558960" y="12945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494200">
                <a:off x="3565080" y="1295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494200">
                <a:off x="3566880" y="1300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494200">
                <a:off x="3568680" y="1298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494200">
                <a:off x="3571200" y="1305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494200">
                <a:off x="3577680" y="1304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494200">
                <a:off x="3577680" y="1303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494200">
                <a:off x="3581640" y="1308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494200">
                <a:off x="3581640" y="13093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494200">
                <a:off x="3588480" y="1310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494200">
                <a:off x="3588840" y="1312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20494200">
                <a:off x="3593880" y="1318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20494200">
                <a:off x="3599280" y="1316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20494200">
                <a:off x="3600360" y="1317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20494200">
                <a:off x="3607200" y="13219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494200">
                <a:off x="3607200" y="132156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494200">
                <a:off x="3612240" y="1324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494200">
                <a:off x="3612240" y="1325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494200">
                <a:off x="3619080" y="1328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494200">
                <a:off x="3619800" y="1330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494200">
                <a:off x="3624840" y="1335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494200">
                <a:off x="3624840" y="1334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494200">
                <a:off x="3632400" y="1339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494200">
                <a:off x="3632400" y="1340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494200">
                <a:off x="3635640" y="1338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494200">
                <a:off x="3637800" y="13453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494200">
                <a:off x="3643200" y="1344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494200">
                <a:off x="3643200" y="1343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494200">
                <a:off x="3647520" y="1347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494200">
                <a:off x="3654000" y="13464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494200">
                <a:off x="3654000" y="13456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494200">
                <a:off x="3655800" y="135216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494200">
                <a:off x="3661560" y="13514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494200">
                <a:off x="3661560" y="13510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494200">
                <a:off x="3665880" y="13575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494200">
                <a:off x="3667320" y="1363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494200">
                <a:off x="3674160" y="1360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494200">
                <a:off x="3675240" y="1363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20494200">
                <a:off x="3678120" y="1365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494200">
                <a:off x="3683520" y="1363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20494200">
                <a:off x="3685680" y="1369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494200">
                <a:off x="3494880" y="128160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494200">
                <a:off x="3499920" y="1278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20494200">
                <a:off x="3502080" y="1285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20494200">
                <a:off x="3506040" y="1286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20494200">
                <a:off x="3511080" y="1284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20494200">
                <a:off x="3512880" y="129096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0494200">
                <a:off x="3513240" y="12916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0494200">
                <a:off x="3519000" y="128952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0494200">
                <a:off x="3523680" y="1292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0494200">
                <a:off x="3523680" y="1293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494200">
                <a:off x="3529080" y="1292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0494200">
                <a:off x="3531240" y="1298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0494200">
                <a:off x="3536280" y="1302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0494200">
                <a:off x="3536280" y="1301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494200">
                <a:off x="3542400" y="1302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494200">
                <a:off x="3543840" y="1307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494200">
                <a:off x="3547440" y="13064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494200">
                <a:off x="3549600" y="13132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494200">
                <a:off x="3555000" y="1312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494200">
                <a:off x="3555000" y="1311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494200">
                <a:off x="3558960" y="1315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20494200">
                <a:off x="3560400" y="132120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20494200">
                <a:off x="3566880" y="1319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20494200">
                <a:off x="3567600" y="1320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0494200">
                <a:off x="3574800" y="1324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20494200">
                <a:off x="3576960" y="1324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20494200">
                <a:off x="3579480" y="1330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20494200">
                <a:off x="3579480" y="1331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20494200">
                <a:off x="3585960" y="13284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20494200">
                <a:off x="3587040" y="133308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20494200">
                <a:off x="3591000" y="13377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20494200">
                <a:off x="3596400" y="1335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0494200">
                <a:off x="3599280" y="1342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20494200">
                <a:off x="3602160" y="1342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20494200">
                <a:off x="3602160" y="1341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20494200">
                <a:off x="3603960" y="13478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20494200">
                <a:off x="3610080" y="1347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20494200">
                <a:off x="3615480" y="13460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20494200">
                <a:off x="3617640" y="135252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20494200">
                <a:off x="3620880" y="1351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20494200">
                <a:off x="3620880" y="1350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20494200">
                <a:off x="3628080" y="1354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20494200">
                <a:off x="3628080" y="13550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20494200">
                <a:off x="3632400" y="1357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20494200">
                <a:off x="3633120" y="1359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20494200">
                <a:off x="3638880" y="13590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20494200">
                <a:off x="3640680" y="1363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20494200">
                <a:off x="3644280" y="13651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20494200">
                <a:off x="3645720" y="1370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20494200">
                <a:off x="3651480" y="1368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20494200">
                <a:off x="3652200" y="1370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20494200">
                <a:off x="3655440" y="1373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20494200">
                <a:off x="3655440" y="1371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20494200">
                <a:off x="3664440" y="13773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20494200">
                <a:off x="3475080" y="12880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20494200">
                <a:off x="3478320" y="1287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20494200">
                <a:off x="3480840" y="12938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20494200">
                <a:off x="3486240" y="1292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20494200">
                <a:off x="3486240" y="1292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20494200">
                <a:off x="3490560" y="129852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20494200">
                <a:off x="3490920" y="12992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20494200">
                <a:off x="3497400" y="12970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20494200">
                <a:off x="3499200" y="13014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20494200">
                <a:off x="3501360" y="130140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20494200">
                <a:off x="3501360" y="1300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20494200">
                <a:off x="3508920" y="1305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20494200">
                <a:off x="3510720" y="1311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20494200">
                <a:off x="3513960" y="1309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20494200">
                <a:off x="3519720" y="1309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20494200">
                <a:off x="3521520" y="1315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20494200">
                <a:off x="3526920" y="1313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20494200">
                <a:off x="3529080" y="13204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20494200">
                <a:off x="3532320" y="1319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20494200">
                <a:off x="3532320" y="1318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20494200">
                <a:off x="3533760" y="13237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0494200">
                <a:off x="3540960" y="1327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20494200">
                <a:off x="3543840" y="1326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20494200">
                <a:off x="3544920" y="1328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20494200">
                <a:off x="3552120" y="1332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20494200">
                <a:off x="3552120" y="1331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20494200">
                <a:off x="3557880" y="13377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20494200">
                <a:off x="3557880" y="1338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494200">
                <a:off x="3563280" y="1336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0494200">
                <a:off x="3565080" y="1340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0494200">
                <a:off x="3568320" y="134532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20494200">
                <a:off x="3568320" y="1344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20494200">
                <a:off x="3577680" y="13503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20494200">
                <a:off x="3577680" y="1351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20494200">
                <a:off x="3583080" y="1348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20494200">
                <a:off x="3585240" y="1355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20494200">
                <a:off x="3587400" y="1355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20494200">
                <a:off x="3587400" y="1354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20494200">
                <a:off x="3596040" y="13593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20494200">
                <a:off x="3596040" y="1360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20494200">
                <a:off x="3598200" y="1358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20494200">
                <a:off x="3599640" y="136260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0494200">
                <a:off x="3605400" y="13626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20494200">
                <a:off x="3610080" y="136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20494200">
                <a:off x="3610800" y="1367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20494200">
                <a:off x="3610800" y="13683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20494200">
                <a:off x="3618000" y="1370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20494200">
                <a:off x="3618360" y="137304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20494200">
                <a:off x="3625920" y="137700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20494200">
                <a:off x="3628800" y="1376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20494200">
                <a:off x="3629880" y="1377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20494200">
                <a:off x="3469320" y="13064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20494200">
                <a:off x="3474720" y="130464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20494200">
                <a:off x="3476520" y="1308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20494200">
                <a:off x="3481560" y="1307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20494200">
                <a:off x="3481560" y="1307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20494200">
                <a:off x="3487320" y="1312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20494200">
                <a:off x="3489120" y="1318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20494200">
                <a:off x="3494160" y="1316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20494200">
                <a:off x="3494880" y="1318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20494200">
                <a:off x="3498840" y="1323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20494200">
                <a:off x="3498840" y="1321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20494200">
                <a:off x="3507840" y="13273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20494200">
                <a:off x="3507840" y="1328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20494200">
                <a:off x="3510000" y="1326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20494200">
                <a:off x="3511800" y="1331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20494200">
                <a:off x="3518280" y="1335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20494200">
                <a:off x="3518280" y="1334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20494200">
                <a:off x="3522600" y="1335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20494200">
                <a:off x="3524400" y="1341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20494200">
                <a:off x="3529440" y="1338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20494200">
                <a:off x="3531600" y="1345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20494200">
                <a:off x="3537360" y="1344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 rot="20494200">
              <a:off x="3540240" y="1344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20494200">
              <a:off x="3542040" y="1348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20494200">
              <a:off x="3548880" y="1351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20494200">
              <a:off x="3548880" y="13514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20494200">
              <a:off x="3554640" y="1357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20494200">
              <a:off x="3554640" y="1358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20494200">
              <a:off x="3560040" y="1356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20494200">
              <a:off x="3562560" y="1362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20494200">
              <a:off x="3565800" y="1362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20494200">
              <a:off x="3565800" y="136188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20494200">
              <a:off x="3573720" y="1366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20494200">
              <a:off x="3573720" y="1367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20494200">
              <a:off x="3575520" y="1365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20494200">
              <a:off x="3577320" y="1370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20494200">
              <a:off x="3583800" y="1369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20494200">
              <a:off x="3590640" y="1372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20494200">
              <a:off x="3591720" y="13744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494200">
              <a:off x="3591720" y="13748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20494200">
              <a:off x="3595320" y="1379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20494200">
              <a:off x="3596400" y="13809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20494200">
              <a:off x="3537360" y="1259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20494200">
              <a:off x="3539520" y="125820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20494200">
              <a:off x="3542040" y="126540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20494200">
              <a:off x="3542760" y="126828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rot="20494200">
              <a:off x="3549240" y="1266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20494200">
              <a:off x="3557160" y="1271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20494200">
              <a:off x="3557160" y="1271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20494200">
              <a:off x="3559320" y="1271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20494200">
              <a:off x="3561840" y="1277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20494200">
              <a:off x="3568320" y="12762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20494200">
              <a:off x="3568320" y="127548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20494200">
              <a:off x="3572640" y="12819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20494200">
              <a:off x="3578040" y="1280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20494200">
              <a:off x="3578040" y="1280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20494200">
              <a:off x="3584160" y="12888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20494200">
              <a:off x="3584160" y="1289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0494200">
              <a:off x="3589920" y="1287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20494200">
              <a:off x="3597840" y="129312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0494200">
              <a:off x="3597840" y="129312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20494200">
              <a:off x="3600720" y="1292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20494200">
              <a:off x="3603240" y="129924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20494200">
              <a:off x="3603240" y="1299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20494200">
              <a:off x="3609360" y="1299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20494200">
              <a:off x="3614760" y="1305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20494200">
              <a:off x="3614760" y="13057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20494200">
              <a:off x="3620160" y="1303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20494200">
              <a:off x="3625920" y="1310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20494200">
              <a:off x="3625920" y="1310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20494200">
              <a:off x="3631320" y="1308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20494200">
              <a:off x="3633840" y="1315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20494200">
              <a:off x="3633840" y="1315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20494200">
              <a:off x="3636000" y="13143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20494200">
              <a:off x="3645720" y="1322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20494200">
              <a:off x="3645720" y="1322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20494200">
              <a:off x="3651120" y="1320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20494200">
              <a:off x="3655440" y="1326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20494200">
              <a:off x="3655440" y="13269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20494200">
              <a:off x="3662280" y="1324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20494200">
              <a:off x="3664800" y="1332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20494200">
              <a:off x="3664800" y="1332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20494200">
              <a:off x="3666600" y="1331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20494200">
              <a:off x="3675240" y="1339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20494200">
              <a:off x="3675240" y="13392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20494200">
              <a:off x="3678480" y="13381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20494200">
              <a:off x="3680640" y="13449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20494200">
              <a:off x="3686040" y="1343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20494200">
              <a:off x="3686040" y="13420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20494200">
              <a:off x="3691800" y="13496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20494200">
              <a:off x="3693240" y="1354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20494200">
              <a:off x="3699000" y="1352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20494200">
              <a:off x="3705840" y="1356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20494200">
              <a:off x="3705840" y="1356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20494200">
              <a:off x="3709440" y="1355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20494200">
              <a:off x="3717000" y="13604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20494200">
              <a:off x="3717000" y="13604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20494200">
              <a:off x="3720240" y="1359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20494200">
              <a:off x="3724200" y="1371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494200">
              <a:off x="3587400" y="126216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20494200">
              <a:off x="3600360" y="12726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20494200">
              <a:off x="3612240" y="1278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20494200">
              <a:off x="3627360" y="1287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20494200">
              <a:off x="3645000" y="1295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20494200">
              <a:off x="3657960" y="1303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20494200">
              <a:off x="3674880" y="1308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20494200">
              <a:off x="3688560" y="13204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20494200">
              <a:off x="3705840" y="132624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20494200">
              <a:off x="3717360" y="1332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20494200">
              <a:off x="3733200" y="1343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20494200">
              <a:off x="3430080" y="13032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20494200">
              <a:off x="3436560" y="1300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20494200">
              <a:off x="3438720" y="130752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20494200">
              <a:off x="3440880" y="1307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0494200">
              <a:off x="3447360" y="1308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20494200">
              <a:off x="3448800" y="131292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20494200">
              <a:off x="3452760" y="13143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20494200">
              <a:off x="3452760" y="1313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20494200">
              <a:off x="3460680" y="1318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20494200">
              <a:off x="3464640" y="13212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20494200">
              <a:off x="3464640" y="13201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20494200">
              <a:off x="3472560" y="1325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20494200">
              <a:off x="3481560" y="132480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20494200">
              <a:off x="3483000" y="132084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20494200">
              <a:off x="3539520" y="136980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20494200">
              <a:off x="3540600" y="1373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20494200">
              <a:off x="3546000" y="137124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20494200">
              <a:off x="3548520" y="137844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20494200">
              <a:off x="3551760" y="13780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20494200">
              <a:off x="3557160" y="1375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20494200">
              <a:off x="3559320" y="1382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20494200">
              <a:off x="3688920" y="1369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0494200">
              <a:off x="3688920" y="1368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20494200">
              <a:off x="3696840" y="13737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20494200">
              <a:off x="3604320" y="1384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0494200">
              <a:off x="3604320" y="138348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0494200">
              <a:off x="3607920" y="1387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0494200">
              <a:off x="3607920" y="1388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0494200">
              <a:off x="3607920" y="1387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0494200">
              <a:off x="3615840" y="1392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20494200">
              <a:off x="3632400" y="138096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20494200">
              <a:off x="3636000" y="137448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20494200">
              <a:off x="3650040" y="139176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20494200">
              <a:off x="3609000" y="1400400"/>
              <a:ext cx="23904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20494200">
              <a:off x="3640680" y="140580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20494200">
              <a:off x="3651480" y="144396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20494200">
              <a:off x="3988800" y="124380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20494200">
              <a:off x="3724920" y="112824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20494200">
              <a:off x="3909240" y="121212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42360" y="122364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20494200">
              <a:off x="3722760" y="1163880"/>
              <a:ext cx="6552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0494200">
              <a:off x="3866760" y="121716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20494200">
              <a:off x="3855600" y="121284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20494200">
              <a:off x="3845880" y="120852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0494200">
              <a:off x="3828960" y="120564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20494200">
              <a:off x="3818160" y="120132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494200">
              <a:off x="3807360" y="119736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20494200">
              <a:off x="3796200" y="119520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20494200">
              <a:off x="3780720" y="119268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20494200">
              <a:off x="3758760" y="116784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20494200">
              <a:off x="3924360" y="129888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1" name="" descr=""/>
          <p:cNvPicPr/>
          <p:nvPr/>
        </p:nvPicPr>
        <p:blipFill>
          <a:blip r:embed="rId5"/>
          <a:stretch/>
        </p:blipFill>
        <p:spPr>
          <a:xfrm>
            <a:off x="5508720" y="765000"/>
            <a:ext cx="606240" cy="75600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6"/>
          <a:stretch/>
        </p:blipFill>
        <p:spPr>
          <a:xfrm>
            <a:off x="4643280" y="2060640"/>
            <a:ext cx="598680" cy="7444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7"/>
          <a:stretch/>
        </p:blipFill>
        <p:spPr>
          <a:xfrm>
            <a:off x="4643280" y="3284640"/>
            <a:ext cx="598680" cy="7444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8"/>
          <a:stretch/>
        </p:blipFill>
        <p:spPr>
          <a:xfrm>
            <a:off x="4643280" y="4869000"/>
            <a:ext cx="598680" cy="744480"/>
          </a:xfrm>
          <a:prstGeom prst="rect">
            <a:avLst/>
          </a:prstGeom>
          <a:ln w="0">
            <a:noFill/>
          </a:ln>
        </p:spPr>
      </p:pic>
      <p:grpSp>
        <p:nvGrpSpPr>
          <p:cNvPr id="1565" name=""/>
          <p:cNvGrpSpPr/>
          <p:nvPr/>
        </p:nvGrpSpPr>
        <p:grpSpPr>
          <a:xfrm>
            <a:off x="6122880" y="4907160"/>
            <a:ext cx="770040" cy="804240"/>
            <a:chOff x="6122880" y="4907160"/>
            <a:chExt cx="770040" cy="804240"/>
          </a:xfrm>
        </p:grpSpPr>
        <p:grpSp>
          <p:nvGrpSpPr>
            <p:cNvPr id="1566" name=""/>
            <p:cNvGrpSpPr/>
            <p:nvPr/>
          </p:nvGrpSpPr>
          <p:grpSpPr>
            <a:xfrm>
              <a:off x="6122880" y="4907160"/>
              <a:ext cx="770040" cy="804240"/>
              <a:chOff x="6122880" y="4907160"/>
              <a:chExt cx="770040" cy="804240"/>
            </a:xfrm>
          </p:grpSpPr>
          <p:sp>
            <p:nvSpPr>
              <p:cNvPr id="1567" name=""/>
              <p:cNvSpPr/>
              <p:nvPr/>
            </p:nvSpPr>
            <p:spPr>
              <a:xfrm rot="20494200">
                <a:off x="6413760" y="496080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494200">
                <a:off x="6662520" y="4995720"/>
                <a:ext cx="16704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94200">
                <a:off x="6456960" y="495288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494200">
                <a:off x="6454440" y="502740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0494200">
                <a:off x="6468480" y="503676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0494200">
                <a:off x="6388560" y="501228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20494200">
                <a:off x="6452280" y="5302080"/>
                <a:ext cx="30888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0494200">
                <a:off x="6145200" y="538848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0494200">
                <a:off x="6296760" y="5524560"/>
                <a:ext cx="51516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0494200">
                <a:off x="6156360" y="545652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494200">
                <a:off x="6497280" y="5534280"/>
                <a:ext cx="7488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0494200">
                <a:off x="6311520" y="5401080"/>
                <a:ext cx="16344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20494200">
                <a:off x="6189480" y="547236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0494200">
                <a:off x="6192720" y="5470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0494200">
                <a:off x="6193440" y="5472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20494200">
                <a:off x="6195240" y="5478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0494200">
                <a:off x="6200640" y="5475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494200">
                <a:off x="6205680" y="548244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20494200">
                <a:off x="6306840" y="5432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0494200">
                <a:off x="6259320" y="54489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20494200">
                <a:off x="6259320" y="5448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20494200">
                <a:off x="6263280" y="5449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20494200">
                <a:off x="6265080" y="5455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0494200">
                <a:off x="6270120" y="5453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20494200">
                <a:off x="6272280" y="546012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20494200">
                <a:off x="6276240" y="54597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20494200">
                <a:off x="6275880" y="545904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20494200">
                <a:off x="6283080" y="5461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20494200">
                <a:off x="6283080" y="5463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20494200">
                <a:off x="6285240" y="546192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20494200">
                <a:off x="6287400" y="5468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0494200">
                <a:off x="6293880" y="54669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20494200">
                <a:off x="6295680" y="54712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20494200">
                <a:off x="6301800" y="5472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20494200">
                <a:off x="6303600" y="5477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20494200">
                <a:off x="6305400" y="5475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20494200">
                <a:off x="6307920" y="5482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20494200">
                <a:off x="6314400" y="5481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20494200">
                <a:off x="6314400" y="54806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20494200">
                <a:off x="6318360" y="5484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20494200">
                <a:off x="6318360" y="54860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20494200">
                <a:off x="6325200" y="5487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20494200">
                <a:off x="6325560" y="5489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20494200">
                <a:off x="6330600" y="5495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20494200">
                <a:off x="6336000" y="5493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20494200">
                <a:off x="6337080" y="5494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20494200">
                <a:off x="6343920" y="54986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20494200">
                <a:off x="6343920" y="54982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20494200">
                <a:off x="6349320" y="5501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20494200">
                <a:off x="6349320" y="5502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20494200">
                <a:off x="6355800" y="5505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20494200">
                <a:off x="6356520" y="5507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20494200">
                <a:off x="6361920" y="5511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20494200">
                <a:off x="6361920" y="5510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20494200">
                <a:off x="6369120" y="5515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20494200">
                <a:off x="6369120" y="5517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20494200">
                <a:off x="6372720" y="5515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20494200">
                <a:off x="6374880" y="55220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20494200">
                <a:off x="6380280" y="5520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20494200">
                <a:off x="6380280" y="5519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20494200">
                <a:off x="6384240" y="5524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20494200">
                <a:off x="6390720" y="55231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0494200">
                <a:off x="6390720" y="55224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0494200">
                <a:off x="6392520" y="552888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0494200">
                <a:off x="6398280" y="55281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0494200">
                <a:off x="6398280" y="55278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0494200">
                <a:off x="6402960" y="55342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0494200">
                <a:off x="6404400" y="5539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0494200">
                <a:off x="6410880" y="5537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20494200">
                <a:off x="6411960" y="5540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20494200">
                <a:off x="6414840" y="5542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20494200">
                <a:off x="6420240" y="5540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20494200">
                <a:off x="6422400" y="5546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20494200">
                <a:off x="6231600" y="545832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20494200">
                <a:off x="6236640" y="5455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20494200">
                <a:off x="6238800" y="5462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20494200">
                <a:off x="6242760" y="5463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20494200">
                <a:off x="6247800" y="5461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0494200">
                <a:off x="6249600" y="546768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20494200">
                <a:off x="6249960" y="54684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20494200">
                <a:off x="6255720" y="546624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20494200">
                <a:off x="6260400" y="5469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0494200">
                <a:off x="6260400" y="5470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20494200">
                <a:off x="6265800" y="5468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20494200">
                <a:off x="6267960" y="5475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20494200">
                <a:off x="6273360" y="5479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20494200">
                <a:off x="6273360" y="5478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20494200">
                <a:off x="6279120" y="5478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20494200">
                <a:off x="6280560" y="5484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20494200">
                <a:off x="6284160" y="54831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20494200">
                <a:off x="6286320" y="54900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20494200">
                <a:off x="6291720" y="5488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20494200">
                <a:off x="6291720" y="54878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20494200">
                <a:off x="6295680" y="5492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20494200">
                <a:off x="6297120" y="54979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20494200">
                <a:off x="6303600" y="5495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20494200">
                <a:off x="6304320" y="5497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20494200">
                <a:off x="6311520" y="5501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20494200">
                <a:off x="6313680" y="5500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20494200">
                <a:off x="6316200" y="5506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20494200">
                <a:off x="6316200" y="5508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20494200">
                <a:off x="6322680" y="55051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20494200">
                <a:off x="6323760" y="550980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20494200">
                <a:off x="6327720" y="55144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20494200">
                <a:off x="6333120" y="5512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20494200">
                <a:off x="6336000" y="55195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20494200">
                <a:off x="6338880" y="5519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20494200">
                <a:off x="6338880" y="5518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20494200">
                <a:off x="6340680" y="552456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20494200">
                <a:off x="6346800" y="5524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20494200">
                <a:off x="6352200" y="55227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20494200">
                <a:off x="6354360" y="55292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20494200">
                <a:off x="6357960" y="5528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20494200">
                <a:off x="6357960" y="5527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20494200">
                <a:off x="6364800" y="5531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20494200">
                <a:off x="6364800" y="55317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20494200">
                <a:off x="6369480" y="5533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0494200">
                <a:off x="6370200" y="5536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20494200">
                <a:off x="6375600" y="55357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20494200">
                <a:off x="6377400" y="5540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20494200">
                <a:off x="6381360" y="55418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20494200">
                <a:off x="6382800" y="5546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20494200">
                <a:off x="6388560" y="5545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20494200">
                <a:off x="6389280" y="5546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20494200">
                <a:off x="6392160" y="5549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20494200">
                <a:off x="6392160" y="5548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20494200">
                <a:off x="6401160" y="55540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494200">
                <a:off x="6211800" y="54648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20494200">
                <a:off x="6215040" y="5463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20494200">
                <a:off x="6217560" y="54705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20494200">
                <a:off x="6222960" y="5469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20494200">
                <a:off x="6222960" y="546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494200">
                <a:off x="6227280" y="547524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0494200">
                <a:off x="6227640" y="54759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20494200">
                <a:off x="6234120" y="547380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0494200">
                <a:off x="6235920" y="54781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20494200">
                <a:off x="6238080" y="54781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0494200">
                <a:off x="6238080" y="5477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20494200">
                <a:off x="6245640" y="5482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20494200">
                <a:off x="6247440" y="5488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0494200">
                <a:off x="6250680" y="5486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20494200">
                <a:off x="6256440" y="5486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20494200">
                <a:off x="6258240" y="5492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0494200">
                <a:off x="6263640" y="5490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0494200">
                <a:off x="6265800" y="549720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20494200">
                <a:off x="6269040" y="5496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20494200">
                <a:off x="6269040" y="5495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20494200">
                <a:off x="6270480" y="550044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20494200">
                <a:off x="6277680" y="5504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20494200">
                <a:off x="6280920" y="5503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20494200">
                <a:off x="6282000" y="5504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rot="20494200">
                <a:off x="6288840" y="5509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rot="20494200">
                <a:off x="6288840" y="5508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20494200">
                <a:off x="6294600" y="551448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rot="20494200">
                <a:off x="6294600" y="5515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20494200">
                <a:off x="6300000" y="5513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rot="20494200">
                <a:off x="6301800" y="5517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20494200">
                <a:off x="6305040" y="552204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20494200">
                <a:off x="6305040" y="5520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rot="20494200">
                <a:off x="6314400" y="55270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20494200">
                <a:off x="6314400" y="5527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20494200">
                <a:off x="6319800" y="5525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20494200">
                <a:off x="6321960" y="5532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20494200">
                <a:off x="6324120" y="5532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20494200">
                <a:off x="6324120" y="5531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20494200">
                <a:off x="6332760" y="55360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20494200">
                <a:off x="6332760" y="5536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20494200">
                <a:off x="6334920" y="5535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20494200">
                <a:off x="6336360" y="553932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20494200">
                <a:off x="6342120" y="55393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20494200">
                <a:off x="6346800" y="5542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rot="20494200">
                <a:off x="6347520" y="5544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rot="20494200">
                <a:off x="6347520" y="55450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20494200">
                <a:off x="6354720" y="5547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20494200">
                <a:off x="6355080" y="554976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rot="20494200">
                <a:off x="6362640" y="555372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20494200">
                <a:off x="6365880" y="5552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20494200">
                <a:off x="6366960" y="55544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20494200">
                <a:off x="6206040" y="54831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20494200">
                <a:off x="6211440" y="548136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20494200">
                <a:off x="6213240" y="5485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20494200">
                <a:off x="6218280" y="5484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20494200">
                <a:off x="6218280" y="5484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20494200">
                <a:off x="6224040" y="54896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20494200">
                <a:off x="6225840" y="5495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20494200">
                <a:off x="6231240" y="54936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20494200">
                <a:off x="6231960" y="5495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20494200">
                <a:off x="6235560" y="5499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20494200">
                <a:off x="6235560" y="5498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20494200">
                <a:off x="6244560" y="55040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20494200">
                <a:off x="6244560" y="5504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20494200">
                <a:off x="6246720" y="5502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20494200">
                <a:off x="6248520" y="5508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20494200">
                <a:off x="6255000" y="5511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20494200">
                <a:off x="6255000" y="5510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20494200">
                <a:off x="6259320" y="5511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20494200">
                <a:off x="6261120" y="5518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20494200">
                <a:off x="6266160" y="5515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20494200">
                <a:off x="6268320" y="5522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20494200">
                <a:off x="6274080" y="5521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7" name=""/>
            <p:cNvSpPr/>
            <p:nvPr/>
          </p:nvSpPr>
          <p:spPr>
            <a:xfrm rot="20494200">
              <a:off x="6276960" y="5520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20494200">
              <a:off x="6278760" y="5524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20494200">
              <a:off x="6285600" y="5528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20494200">
              <a:off x="6285600" y="55281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20494200">
              <a:off x="6291720" y="5534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20494200">
              <a:off x="6291720" y="5535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20494200">
              <a:off x="6296760" y="5533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20494200">
              <a:off x="6299280" y="5539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20494200">
              <a:off x="6302520" y="5539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20494200">
              <a:off x="6302520" y="553860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20494200">
              <a:off x="6310440" y="5543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20494200">
              <a:off x="6310440" y="5544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20494200">
              <a:off x="6312240" y="5542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20494200">
              <a:off x="6314040" y="5547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20494200">
              <a:off x="6320520" y="5546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rot="20494200">
              <a:off x="6327360" y="5549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 rot="20494200">
              <a:off x="6328440" y="55512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20494200">
              <a:off x="6328440" y="55515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20494200">
              <a:off x="6332040" y="5556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20494200">
              <a:off x="6333120" y="55576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rot="20494200">
              <a:off x="6274080" y="54360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20494200">
              <a:off x="6276240" y="54349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 rot="20494200">
              <a:off x="6278760" y="544212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20494200">
              <a:off x="6279480" y="544500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rot="20494200">
              <a:off x="6285960" y="5442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20494200">
              <a:off x="6293880" y="5448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20494200">
              <a:off x="6293880" y="5448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20494200">
              <a:off x="6296040" y="5448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20494200">
              <a:off x="6298560" y="5454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20494200">
              <a:off x="6305040" y="5452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20494200">
              <a:off x="6305040" y="545220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20494200">
              <a:off x="6309360" y="5458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20494200">
              <a:off x="6314760" y="5457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20494200">
              <a:off x="6314760" y="5457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20494200">
              <a:off x="6320880" y="54655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20494200">
              <a:off x="6320880" y="5465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rot="20494200">
              <a:off x="6326640" y="5464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20494200">
              <a:off x="6334560" y="54698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20494200">
              <a:off x="6334560" y="546984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20494200">
              <a:off x="6337800" y="5468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rot="20494200">
              <a:off x="6340320" y="547596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20494200">
              <a:off x="6340320" y="54759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rot="20494200">
              <a:off x="6346080" y="5476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20494200">
              <a:off x="6351840" y="5482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20494200">
              <a:off x="6351840" y="54820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20494200">
              <a:off x="6356880" y="5480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20494200">
              <a:off x="6363000" y="54867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20494200">
              <a:off x="6363000" y="5487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20494200">
              <a:off x="6368400" y="5485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20494200">
              <a:off x="6370920" y="5492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20494200">
              <a:off x="6370920" y="5492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rot="20494200">
              <a:off x="6372720" y="54910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20494200">
              <a:off x="6382440" y="54990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20494200">
              <a:off x="6382440" y="54990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20494200">
              <a:off x="6387840" y="5497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20494200">
              <a:off x="6392520" y="5503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20494200">
              <a:off x="6392520" y="55036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20494200">
              <a:off x="6399000" y="5501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20494200">
              <a:off x="6401520" y="5509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20494200">
              <a:off x="6401520" y="5509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20494200">
              <a:off x="6403320" y="5508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20494200">
              <a:off x="6411960" y="5515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20494200">
              <a:off x="6411960" y="5515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20494200">
              <a:off x="6415200" y="55148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20494200">
              <a:off x="6417360" y="55216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20494200">
              <a:off x="6422760" y="5519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20494200">
              <a:off x="6422760" y="55188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20494200">
              <a:off x="6428880" y="55263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20494200">
              <a:off x="6430320" y="5531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20494200">
              <a:off x="6435720" y="5529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rot="20494200">
              <a:off x="6442560" y="5532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20494200">
              <a:off x="6442560" y="55328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20494200">
              <a:off x="6446160" y="5531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rot="20494200">
              <a:off x="6454080" y="5537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rot="20494200">
              <a:off x="6454080" y="5537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20494200">
              <a:off x="6456960" y="5536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20494200">
              <a:off x="6460920" y="5547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20494200">
              <a:off x="6324120" y="543888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rot="20494200">
              <a:off x="6337080" y="54493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20494200">
              <a:off x="6348960" y="5455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20494200">
              <a:off x="6364080" y="5463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20494200">
              <a:off x="6382080" y="5472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20494200">
              <a:off x="6394680" y="5480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20494200">
              <a:off x="6411600" y="5485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20494200">
              <a:off x="6425280" y="5497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20494200">
              <a:off x="6442560" y="550296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20494200">
              <a:off x="6454440" y="5508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20494200">
              <a:off x="6469920" y="55198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20494200">
              <a:off x="6166800" y="5479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20494200">
              <a:off x="6173280" y="5477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20494200">
              <a:off x="6175440" y="548424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20494200">
              <a:off x="6177600" y="5484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20494200">
              <a:off x="6184080" y="5485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rot="20494200">
              <a:off x="6185520" y="548964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20494200">
              <a:off x="6189480" y="54910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rot="20494200">
              <a:off x="6189480" y="5490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20494200">
              <a:off x="6197400" y="54950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20494200">
              <a:off x="6201360" y="54979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20494200">
              <a:off x="6201360" y="54968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20494200">
              <a:off x="6209280" y="5502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20494200">
              <a:off x="6218280" y="550152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20494200">
              <a:off x="6219720" y="549756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20494200">
              <a:off x="6276240" y="554652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20494200">
              <a:off x="6277320" y="5550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20494200">
              <a:off x="6282720" y="55479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20494200">
              <a:off x="6285240" y="555516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20494200">
              <a:off x="6288480" y="5554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20494200">
              <a:off x="6293880" y="5552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20494200">
              <a:off x="6296040" y="55591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rot="20494200">
              <a:off x="6425640" y="5546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20494200">
              <a:off x="6425640" y="5545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20494200">
              <a:off x="6433560" y="55504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rot="20494200">
              <a:off x="6341040" y="5560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20494200">
              <a:off x="6341040" y="556020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20494200">
              <a:off x="6344640" y="5564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rot="20494200">
              <a:off x="6344640" y="55656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rot="20494200">
              <a:off x="6344640" y="5564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20494200">
              <a:off x="6352560" y="5569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20494200">
              <a:off x="6369480" y="555732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rot="20494200">
              <a:off x="6372720" y="555120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20494200">
              <a:off x="6386760" y="556848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20494200">
              <a:off x="6345720" y="5577120"/>
              <a:ext cx="23940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20494200">
              <a:off x="6377400" y="558252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20494200">
              <a:off x="6388560" y="562068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20494200">
              <a:off x="6725520" y="542052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20494200">
              <a:off x="6461640" y="530496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20494200">
              <a:off x="6646320" y="538848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79440" y="540036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20494200">
              <a:off x="6459480" y="5340600"/>
              <a:ext cx="6588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20494200">
              <a:off x="6603480" y="539388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rot="20494200">
              <a:off x="6592680" y="538956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rot="20494200">
              <a:off x="6582600" y="538524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rot="20494200">
              <a:off x="6566040" y="538236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rot="20494200">
              <a:off x="6555240" y="537804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20494200">
              <a:off x="6544440" y="537408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rot="20494200">
              <a:off x="6533280" y="537192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rot="20494200">
              <a:off x="6517440" y="536940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rot="20494200">
              <a:off x="6495480" y="534456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20494200">
              <a:off x="6661440" y="547524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6" name="" descr=""/>
          <p:cNvPicPr/>
          <p:nvPr/>
        </p:nvPicPr>
        <p:blipFill>
          <a:blip r:embed="rId9"/>
          <a:stretch/>
        </p:blipFill>
        <p:spPr>
          <a:xfrm>
            <a:off x="3276720" y="4869000"/>
            <a:ext cx="606240" cy="755640"/>
          </a:xfrm>
          <a:prstGeom prst="rect">
            <a:avLst/>
          </a:prstGeom>
          <a:ln w="0">
            <a:noFill/>
          </a:ln>
        </p:spPr>
      </p:pic>
      <p:pic>
        <p:nvPicPr>
          <p:cNvPr id="1907" name="" descr=""/>
          <p:cNvPicPr/>
          <p:nvPr/>
        </p:nvPicPr>
        <p:blipFill>
          <a:blip r:embed="rId10"/>
          <a:stretch/>
        </p:blipFill>
        <p:spPr>
          <a:xfrm>
            <a:off x="1835280" y="4869000"/>
            <a:ext cx="606240" cy="755640"/>
          </a:xfrm>
          <a:prstGeom prst="rect">
            <a:avLst/>
          </a:prstGeom>
          <a:ln w="0">
            <a:noFill/>
          </a:ln>
        </p:spPr>
      </p:pic>
      <p:pic>
        <p:nvPicPr>
          <p:cNvPr id="1908" name="" descr=""/>
          <p:cNvPicPr/>
          <p:nvPr/>
        </p:nvPicPr>
        <p:blipFill>
          <a:blip r:embed="rId11"/>
          <a:stretch/>
        </p:blipFill>
        <p:spPr>
          <a:xfrm>
            <a:off x="611280" y="4797360"/>
            <a:ext cx="504720" cy="903240"/>
          </a:xfrm>
          <a:prstGeom prst="rect">
            <a:avLst/>
          </a:prstGeom>
          <a:ln w="0">
            <a:noFill/>
          </a:ln>
        </p:spPr>
      </p:pic>
      <p:pic>
        <p:nvPicPr>
          <p:cNvPr id="1909" name="" descr=""/>
          <p:cNvPicPr/>
          <p:nvPr/>
        </p:nvPicPr>
        <p:blipFill>
          <a:blip r:embed="rId12"/>
          <a:stretch/>
        </p:blipFill>
        <p:spPr>
          <a:xfrm>
            <a:off x="7740720" y="3645000"/>
            <a:ext cx="834840" cy="531720"/>
          </a:xfrm>
          <a:prstGeom prst="rect">
            <a:avLst/>
          </a:prstGeom>
          <a:ln w="0">
            <a:noFill/>
          </a:ln>
        </p:spPr>
      </p:pic>
      <p:grpSp>
        <p:nvGrpSpPr>
          <p:cNvPr id="1910" name=""/>
          <p:cNvGrpSpPr/>
          <p:nvPr/>
        </p:nvGrpSpPr>
        <p:grpSpPr>
          <a:xfrm>
            <a:off x="7705800" y="650880"/>
            <a:ext cx="769320" cy="804240"/>
            <a:chOff x="7705800" y="650880"/>
            <a:chExt cx="769320" cy="804240"/>
          </a:xfrm>
        </p:grpSpPr>
        <p:grpSp>
          <p:nvGrpSpPr>
            <p:cNvPr id="1911" name=""/>
            <p:cNvGrpSpPr/>
            <p:nvPr/>
          </p:nvGrpSpPr>
          <p:grpSpPr>
            <a:xfrm>
              <a:off x="7705800" y="650880"/>
              <a:ext cx="769320" cy="804240"/>
              <a:chOff x="7705800" y="650880"/>
              <a:chExt cx="769320" cy="804240"/>
            </a:xfrm>
          </p:grpSpPr>
          <p:sp>
            <p:nvSpPr>
              <p:cNvPr id="1912" name=""/>
              <p:cNvSpPr/>
              <p:nvPr/>
            </p:nvSpPr>
            <p:spPr>
              <a:xfrm rot="20494200">
                <a:off x="7996680" y="704520"/>
                <a:ext cx="408600" cy="49356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20494200">
                <a:off x="8245080" y="739800"/>
                <a:ext cx="166680" cy="4251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20494200">
                <a:off x="8039520" y="696600"/>
                <a:ext cx="305280" cy="9468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20494200">
                <a:off x="8037360" y="771120"/>
                <a:ext cx="275400" cy="36576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20494200">
                <a:off x="8051040" y="780480"/>
                <a:ext cx="249480" cy="34128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20494200">
                <a:off x="7971120" y="756360"/>
                <a:ext cx="121320" cy="31824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20494200">
                <a:off x="8035200" y="1045800"/>
                <a:ext cx="308520" cy="20592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20494200">
                <a:off x="7728120" y="1132200"/>
                <a:ext cx="570960" cy="18144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20494200">
                <a:off x="7879680" y="1268280"/>
                <a:ext cx="514800" cy="6660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20494200">
                <a:off x="7739280" y="1200240"/>
                <a:ext cx="148680" cy="23724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20494200">
                <a:off x="8079840" y="1278000"/>
                <a:ext cx="7452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20494200">
                <a:off x="7894440" y="1144800"/>
                <a:ext cx="163080" cy="17856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20494200">
                <a:off x="7772400" y="121608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20494200">
                <a:off x="7775640" y="1214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20494200">
                <a:off x="7776360" y="1216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20494200">
                <a:off x="7778160" y="12225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20494200">
                <a:off x="7783560" y="1219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20494200">
                <a:off x="7788600" y="122616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20494200">
                <a:off x="7889760" y="1175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20494200">
                <a:off x="7842240" y="11926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20494200">
                <a:off x="7842240" y="1192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20494200">
                <a:off x="7845840" y="1193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20494200">
                <a:off x="7847640" y="1199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20494200">
                <a:off x="7853040" y="11973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20494200">
                <a:off x="7855200" y="120384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20494200">
                <a:off x="7859160" y="12034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20494200">
                <a:off x="7858800" y="1202760"/>
                <a:ext cx="23400" cy="15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20494200">
                <a:off x="7866000" y="1205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20494200">
                <a:off x="7866000" y="1206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20494200">
                <a:off x="7868160" y="12056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20494200">
                <a:off x="7870320" y="1211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20494200">
                <a:off x="7876800" y="12106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20494200">
                <a:off x="7878600" y="12150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20494200">
                <a:off x="7884720" y="1215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20494200">
                <a:off x="7886520" y="1220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20494200">
                <a:off x="7888320" y="12189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20494200">
                <a:off x="7890840" y="1226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20494200">
                <a:off x="7897320" y="1225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20494200">
                <a:off x="7897320" y="12243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20494200">
                <a:off x="7901280" y="1228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20494200">
                <a:off x="7901280" y="12297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20494200">
                <a:off x="7908120" y="1231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20494200">
                <a:off x="7908480" y="1233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20494200">
                <a:off x="7913520" y="1238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20494200">
                <a:off x="7918920" y="1236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20494200">
                <a:off x="7920000" y="1238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20494200">
                <a:off x="7926840" y="124236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20494200">
                <a:off x="7926840" y="124200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20494200">
                <a:off x="7931880" y="1245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20494200">
                <a:off x="7931880" y="1246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20494200">
                <a:off x="7938720" y="1248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20494200">
                <a:off x="7939440" y="1251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20494200">
                <a:off x="7944480" y="1255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20494200">
                <a:off x="7944480" y="1254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20494200">
                <a:off x="7952040" y="1259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20494200">
                <a:off x="7952040" y="1260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20494200">
                <a:off x="7955280" y="1259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20494200">
                <a:off x="7957440" y="12657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20494200">
                <a:off x="7962840" y="1264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20494200">
                <a:off x="7962840" y="1263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20494200">
                <a:off x="7967160" y="12679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20494200">
                <a:off x="7973640" y="12668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20494200">
                <a:off x="7973640" y="12661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20494200">
                <a:off x="7975440" y="127260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20494200">
                <a:off x="7981200" y="12718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20494200">
                <a:off x="7981200" y="127152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20494200">
                <a:off x="7985520" y="12780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20494200">
                <a:off x="7986960" y="1283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20494200">
                <a:off x="7993800" y="1280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20494200">
                <a:off x="7994880" y="1283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20494200">
                <a:off x="7997760" y="1285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20494200">
                <a:off x="8003160" y="1284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20494200">
                <a:off x="8005320" y="1290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20494200">
                <a:off x="7814520" y="120204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20494200">
                <a:off x="7819560" y="1199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494200">
                <a:off x="7821720" y="1206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20494200">
                <a:off x="7825680" y="1206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20494200">
                <a:off x="7830720" y="1204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20494200">
                <a:off x="7832520" y="121140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20494200">
                <a:off x="7832880" y="12121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20494200">
                <a:off x="7838640" y="1209960"/>
                <a:ext cx="22320" cy="151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20494200">
                <a:off x="7843320" y="1213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20494200">
                <a:off x="7843320" y="1214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20494200">
                <a:off x="7848720" y="1212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20494200">
                <a:off x="7850880" y="1218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20494200">
                <a:off x="7855920" y="1223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20494200">
                <a:off x="7855920" y="12222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20494200">
                <a:off x="7862040" y="1222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20494200">
                <a:off x="7863480" y="1228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20494200">
                <a:off x="7867080" y="12268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20494200">
                <a:off x="7869240" y="123372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20494200">
                <a:off x="7874640" y="12326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20494200">
                <a:off x="7874640" y="12315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20494200">
                <a:off x="7878600" y="12358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20494200">
                <a:off x="7880040" y="12416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20494200">
                <a:off x="7886520" y="1239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20494200">
                <a:off x="7887240" y="124092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20494200">
                <a:off x="7894440" y="1245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20494200">
                <a:off x="7896600" y="1244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20494200">
                <a:off x="7899120" y="12506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20494200">
                <a:off x="7899120" y="1251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20494200">
                <a:off x="7905600" y="12488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20494200">
                <a:off x="7906680" y="12535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20494200">
                <a:off x="7910640" y="12582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20494200">
                <a:off x="7916040" y="1256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20494200">
                <a:off x="7918920" y="12632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20494200">
                <a:off x="7921800" y="1263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20494200">
                <a:off x="7921800" y="1262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20494200">
                <a:off x="7923600" y="126828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20494200">
                <a:off x="7929720" y="1268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20494200">
                <a:off x="7935120" y="12664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20494200">
                <a:off x="7937280" y="127296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20494200">
                <a:off x="7940520" y="12722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20494200">
                <a:off x="7940520" y="1271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20494200">
                <a:off x="7947720" y="1275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20494200">
                <a:off x="7947720" y="127548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20494200">
                <a:off x="7952040" y="12780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20494200">
                <a:off x="7952760" y="1280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20494200">
                <a:off x="7958520" y="12794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20494200">
                <a:off x="7960320" y="1284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20494200">
                <a:off x="7963920" y="12855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20494200">
                <a:off x="7965360" y="12909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20494200">
                <a:off x="7971120" y="12891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20494200">
                <a:off x="7971840" y="1290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20494200">
                <a:off x="7975080" y="1293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20494200">
                <a:off x="7975080" y="12924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20494200">
                <a:off x="7984080" y="12978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20494200">
                <a:off x="7794720" y="120852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20494200">
                <a:off x="7797960" y="1207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20494200">
                <a:off x="7800480" y="12142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20494200">
                <a:off x="7805880" y="1213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20494200">
                <a:off x="7805880" y="1212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20494200">
                <a:off x="7810200" y="121896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20494200">
                <a:off x="7810560" y="12196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20494200">
                <a:off x="7817040" y="121752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20494200">
                <a:off x="7818840" y="122184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20494200">
                <a:off x="7821000" y="12218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20494200">
                <a:off x="7821000" y="1220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20494200">
                <a:off x="7828560" y="12258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20494200">
                <a:off x="7830360" y="1231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rot="20494200">
                <a:off x="7833600" y="1229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20494200">
                <a:off x="7839360" y="1230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20494200">
                <a:off x="7841160" y="12358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20494200">
                <a:off x="7846560" y="12340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20494200">
                <a:off x="7848720" y="124092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20494200">
                <a:off x="7851960" y="12402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20494200">
                <a:off x="7851960" y="12391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20494200">
                <a:off x="7853400" y="124416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20494200">
                <a:off x="7860600" y="1248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20494200">
                <a:off x="7863480" y="12470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20494200">
                <a:off x="7864560" y="12484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rot="20494200">
                <a:off x="7871760" y="1252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0494200">
                <a:off x="7871760" y="1251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0494200">
                <a:off x="7877520" y="125820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0494200">
                <a:off x="7877520" y="12589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0494200">
                <a:off x="7882920" y="1256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94200">
                <a:off x="7884720" y="12610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94200">
                <a:off x="7887960" y="1265760"/>
                <a:ext cx="1872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94200">
                <a:off x="7887960" y="1264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94200">
                <a:off x="7897320" y="12708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94200">
                <a:off x="7897320" y="1271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94200">
                <a:off x="7902720" y="1269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94200">
                <a:off x="7904880" y="1276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94200">
                <a:off x="7907040" y="12758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94200">
                <a:off x="7907040" y="12747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94200">
                <a:off x="7915680" y="12798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94200">
                <a:off x="7915680" y="1280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20494200">
                <a:off x="7917840" y="1278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20494200">
                <a:off x="7919280" y="12830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0494200">
                <a:off x="7925040" y="128304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0494200">
                <a:off x="7929720" y="1286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20494200">
                <a:off x="7930440" y="1287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0494200">
                <a:off x="7930440" y="12888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0494200">
                <a:off x="7937640" y="12913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20494200">
                <a:off x="7938000" y="129348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20494200">
                <a:off x="7945560" y="129744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20494200">
                <a:off x="7948440" y="12967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20494200">
                <a:off x="7949520" y="12981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20494200">
                <a:off x="7788960" y="12268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20494200">
                <a:off x="7794360" y="1225080"/>
                <a:ext cx="19080" cy="15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20494200">
                <a:off x="7796160" y="122904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20494200">
                <a:off x="7801200" y="1228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20494200">
                <a:off x="7801200" y="1227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20494200">
                <a:off x="7806960" y="12333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20494200">
                <a:off x="7808760" y="12391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20494200">
                <a:off x="7813800" y="1237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0494200">
                <a:off x="7814520" y="123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20494200">
                <a:off x="7818480" y="124344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20494200">
                <a:off x="7818480" y="124236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20494200">
                <a:off x="7827480" y="1247760"/>
                <a:ext cx="2340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20494200">
                <a:off x="7827480" y="12484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0494200">
                <a:off x="7829640" y="1246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20494200">
                <a:off x="7831440" y="125172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20494200">
                <a:off x="7837920" y="1255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20494200">
                <a:off x="7837920" y="125460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20494200">
                <a:off x="7842240" y="12556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20494200">
                <a:off x="7844040" y="1261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20494200">
                <a:off x="7849080" y="1259280"/>
                <a:ext cx="2484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20494200">
                <a:off x="7851240" y="12661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20494200">
                <a:off x="7857000" y="12654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 rot="20494200">
              <a:off x="7859880" y="1264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20494200">
              <a:off x="7861680" y="12686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20494200">
              <a:off x="7868520" y="1272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20494200">
              <a:off x="7868520" y="12718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 rot="20494200">
              <a:off x="7874280" y="1278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20494200">
              <a:off x="7874280" y="1279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20494200">
              <a:off x="7879680" y="12772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20494200">
              <a:off x="7882200" y="12830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20494200">
              <a:off x="7885440" y="1283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20494200">
              <a:off x="7885440" y="1282320"/>
              <a:ext cx="2340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20494200">
              <a:off x="7893360" y="12870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20494200">
              <a:off x="7893360" y="1288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20494200">
              <a:off x="7895160" y="1286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20494200">
              <a:off x="7896960" y="12913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20494200">
              <a:off x="7903440" y="1290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20494200">
              <a:off x="7910280" y="12927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20494200">
              <a:off x="7911360" y="12949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rot="20494200">
              <a:off x="7911360" y="12952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20494200">
              <a:off x="7914960" y="1299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rot="20494200">
              <a:off x="7916040" y="13014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20494200">
              <a:off x="7857000" y="11797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20494200">
              <a:off x="7859160" y="117864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20494200">
              <a:off x="7861680" y="118584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20494200">
              <a:off x="7862400" y="118872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20494200">
              <a:off x="7868880" y="1186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20494200">
              <a:off x="7876800" y="1192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20494200">
              <a:off x="7876800" y="1192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20494200">
              <a:off x="7878960" y="1191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20494200">
              <a:off x="7881480" y="1197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rot="20494200">
              <a:off x="7887960" y="1196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rot="20494200">
              <a:off x="7887960" y="119592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20494200">
              <a:off x="7892280" y="1202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rot="20494200">
              <a:off x="7897680" y="12009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rot="20494200">
              <a:off x="7897680" y="12009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20494200">
              <a:off x="7903800" y="12092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0494200">
              <a:off x="7903800" y="12096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0494200">
              <a:off x="7909560" y="1207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20494200">
              <a:off x="7917480" y="121356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rot="20494200">
              <a:off x="7917480" y="121356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rot="20494200">
              <a:off x="7920360" y="1212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rot="20494200">
              <a:off x="7922880" y="1219680"/>
              <a:ext cx="190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20494200">
              <a:off x="7922880" y="12196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20494200">
              <a:off x="7929000" y="1220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20494200">
              <a:off x="7934400" y="12261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20494200">
              <a:off x="7934400" y="122616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rot="20494200">
              <a:off x="7939800" y="1224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20494200">
              <a:off x="7945560" y="12308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rot="20494200">
              <a:off x="7945560" y="1231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rot="20494200">
              <a:off x="7950960" y="1229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rot="20494200">
              <a:off x="7953480" y="1236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rot="20494200">
              <a:off x="7953480" y="1236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rot="20494200">
              <a:off x="7955640" y="123480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rot="20494200">
              <a:off x="7965360" y="12427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rot="20494200">
              <a:off x="7965360" y="12427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rot="20494200">
              <a:off x="7970760" y="12409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rot="20494200">
              <a:off x="7975080" y="12474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rot="20494200">
              <a:off x="7975080" y="12474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rot="20494200">
              <a:off x="7981920" y="12452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20494200">
              <a:off x="7984440" y="1252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rot="20494200">
              <a:off x="7984440" y="1252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20494200">
              <a:off x="7986240" y="1252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20494200">
              <a:off x="7994880" y="1259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20494200">
              <a:off x="7994880" y="1259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20494200">
              <a:off x="7998120" y="125856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20494200">
              <a:off x="8000280" y="126540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20494200">
              <a:off x="8005680" y="12636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rot="20494200">
              <a:off x="8005680" y="12625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20494200">
              <a:off x="8011440" y="127008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20494200">
              <a:off x="8012880" y="12751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20494200">
              <a:off x="8018640" y="1273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20494200">
              <a:off x="8025480" y="1276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20494200">
              <a:off x="8025480" y="12765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rot="20494200">
              <a:off x="8029080" y="12754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rot="20494200">
              <a:off x="8036640" y="12808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rot="20494200">
              <a:off x="8036640" y="128088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rot="20494200">
              <a:off x="8039880" y="12798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rot="20494200">
              <a:off x="8043840" y="12916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rot="20494200">
              <a:off x="7907040" y="1182600"/>
              <a:ext cx="1872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 rot="20494200">
              <a:off x="7920000" y="11930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20494200">
              <a:off x="7931880" y="1199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20494200">
              <a:off x="7947000" y="1207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20494200">
              <a:off x="7964640" y="121608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 rot="20494200">
              <a:off x="7977600" y="12243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 rot="20494200">
              <a:off x="7994520" y="12290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rot="20494200">
              <a:off x="8008200" y="12409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 rot="20494200">
              <a:off x="8025480" y="1246680"/>
              <a:ext cx="2124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 rot="20494200">
              <a:off x="8037000" y="12524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 rot="20494200">
              <a:off x="8052840" y="12636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 rot="20494200">
              <a:off x="7749720" y="1223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 rot="20494200">
              <a:off x="7756200" y="122112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 rot="20494200">
              <a:off x="7758360" y="1227960"/>
              <a:ext cx="270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rot="20494200">
              <a:off x="7760520" y="1228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rot="20494200">
              <a:off x="7767000" y="12290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rot="20494200">
              <a:off x="7768440" y="1233360"/>
              <a:ext cx="22320" cy="151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20494200">
              <a:off x="7772400" y="123480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20494200">
              <a:off x="7772400" y="123372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 rot="20494200">
              <a:off x="7780320" y="12387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 rot="20494200">
              <a:off x="7784280" y="12416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20494200">
              <a:off x="7784280" y="12405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 rot="20494200">
              <a:off x="7792200" y="12459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 rot="20494200">
              <a:off x="7801200" y="1245240"/>
              <a:ext cx="50760" cy="666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rot="20494200">
              <a:off x="7802640" y="1241280"/>
              <a:ext cx="71280" cy="5940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rot="20494200">
              <a:off x="7859160" y="1290240"/>
              <a:ext cx="280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20494200">
              <a:off x="7860240" y="129420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 rot="20494200">
              <a:off x="7865640" y="12916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rot="20494200">
              <a:off x="7868160" y="1298880"/>
              <a:ext cx="2232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rot="20494200">
              <a:off x="7871400" y="129852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 rot="20494200">
              <a:off x="7876800" y="129636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rot="20494200">
              <a:off x="7878960" y="1302840"/>
              <a:ext cx="2160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 rot="20494200">
              <a:off x="8008560" y="1290240"/>
              <a:ext cx="1908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rot="20494200">
              <a:off x="8008560" y="128916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 rot="20494200">
              <a:off x="8016480" y="129420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rot="20494200">
              <a:off x="7923960" y="130464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rot="20494200">
              <a:off x="7923960" y="1303920"/>
              <a:ext cx="2376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 rot="20494200">
              <a:off x="7927560" y="1308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 rot="20494200">
              <a:off x="7927560" y="13093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rot="20494200">
              <a:off x="7927560" y="130824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 rot="20494200">
              <a:off x="7935480" y="1313280"/>
              <a:ext cx="2484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rot="20494200">
              <a:off x="7952040" y="1301400"/>
              <a:ext cx="19080" cy="28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rot="20494200">
              <a:off x="7955640" y="1294920"/>
              <a:ext cx="50760" cy="20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rot="20494200">
              <a:off x="7969680" y="1312200"/>
              <a:ext cx="4500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rot="20494200">
              <a:off x="7928640" y="1320840"/>
              <a:ext cx="239040" cy="334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rot="20494200">
              <a:off x="7960320" y="1326240"/>
              <a:ext cx="186840" cy="1908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rot="20494200">
              <a:off x="7971120" y="1364400"/>
              <a:ext cx="1800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rot="20494200">
              <a:off x="8308440" y="1164240"/>
              <a:ext cx="54360" cy="435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rot="20494200">
              <a:off x="8044560" y="1048680"/>
              <a:ext cx="249480" cy="17316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20494200">
              <a:off x="8228880" y="1132560"/>
              <a:ext cx="83880" cy="774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62000" y="1144080"/>
              <a:ext cx="46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 rot="20494200">
              <a:off x="8042400" y="1084320"/>
              <a:ext cx="65520" cy="619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rot="20494200">
              <a:off x="8186400" y="113760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20494200">
              <a:off x="8175240" y="1133280"/>
              <a:ext cx="37440" cy="41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rot="20494200">
              <a:off x="8165520" y="112896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rot="20494200">
              <a:off x="8148600" y="112608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rot="20494200">
              <a:off x="8137800" y="1121760"/>
              <a:ext cx="3600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20494200">
              <a:off x="8127000" y="1117800"/>
              <a:ext cx="36000" cy="40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rot="20494200">
              <a:off x="8115840" y="1115640"/>
              <a:ext cx="36000" cy="3888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rot="20494200">
              <a:off x="8100360" y="1113120"/>
              <a:ext cx="36000" cy="410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rot="20494200">
              <a:off x="8078400" y="1088280"/>
              <a:ext cx="28080" cy="162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rot="20494200">
              <a:off x="8244000" y="1219320"/>
              <a:ext cx="5400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6804000" y="3860640"/>
            <a:ext cx="936720" cy="648000"/>
          </a:xfrm>
          <a:custGeom>
            <a:avLst/>
            <a:gdLst/>
            <a:ahLst/>
            <a:rect l="l" t="t" r="r" b="b"/>
            <a:pathLst>
              <a:path w="590" h="408">
                <a:moveTo>
                  <a:pt x="590" y="0"/>
                </a:moveTo>
                <a:lnTo>
                  <a:pt x="0" y="0"/>
                </a:lnTo>
                <a:lnTo>
                  <a:pt x="0" y="408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204360" y="1916280"/>
            <a:ext cx="776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20.1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132720" y="2637000"/>
            <a:ext cx="776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10.1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204360" y="3284640"/>
            <a:ext cx="776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10.17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059280" y="4076640"/>
            <a:ext cx="986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2.168.0.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817236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7669800" y="4508640"/>
            <a:ext cx="1049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G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7812000" y="4149720"/>
            <a:ext cx="935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.49.115.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7740720" y="4941720"/>
            <a:ext cx="93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5.0.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195640" y="6165720"/>
            <a:ext cx="2160360" cy="36036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PLM2.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419640" y="260280"/>
            <a:ext cx="2160360" cy="36036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UROPE.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6872760" y="4924800"/>
            <a:ext cx="519480" cy="348840"/>
            <a:chOff x="6872760" y="4924800"/>
            <a:chExt cx="519480" cy="348840"/>
          </a:xfrm>
        </p:grpSpPr>
        <p:sp>
          <p:nvSpPr>
            <p:cNvPr id="2263" name=""/>
            <p:cNvSpPr/>
            <p:nvPr/>
          </p:nvSpPr>
          <p:spPr>
            <a:xfrm rot="285600">
              <a:off x="6877080" y="5027040"/>
              <a:ext cx="1861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 rot="285600">
              <a:off x="7062840" y="4937040"/>
              <a:ext cx="31644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3920040" y="4937400"/>
            <a:ext cx="519480" cy="348840"/>
            <a:chOff x="3920040" y="4937400"/>
            <a:chExt cx="519480" cy="348840"/>
          </a:xfrm>
        </p:grpSpPr>
        <p:sp>
          <p:nvSpPr>
            <p:cNvPr id="2266" name=""/>
            <p:cNvSpPr/>
            <p:nvPr/>
          </p:nvSpPr>
          <p:spPr>
            <a:xfrm rot="285600">
              <a:off x="3924360" y="5039640"/>
              <a:ext cx="1861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285600">
              <a:off x="4110120" y="4949640"/>
              <a:ext cx="31644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6895440" y="2296800"/>
            <a:ext cx="488160" cy="526680"/>
            <a:chOff x="6895440" y="2296800"/>
            <a:chExt cx="488160" cy="526680"/>
          </a:xfrm>
        </p:grpSpPr>
        <p:sp>
          <p:nvSpPr>
            <p:cNvPr id="2269" name=""/>
            <p:cNvSpPr/>
            <p:nvPr/>
          </p:nvSpPr>
          <p:spPr>
            <a:xfrm rot="7833000">
              <a:off x="7187040" y="2347560"/>
              <a:ext cx="186120" cy="112680"/>
            </a:xfrm>
            <a:custGeom>
              <a:avLst/>
              <a:gdLst/>
              <a:ahLst/>
              <a:rect l="l" t="t" r="r" b="b"/>
              <a:pathLst>
                <a:path w="463" h="448">
                  <a:moveTo>
                    <a:pt x="0" y="213"/>
                  </a:moveTo>
                  <a:lnTo>
                    <a:pt x="6" y="175"/>
                  </a:lnTo>
                  <a:lnTo>
                    <a:pt x="15" y="137"/>
                  </a:lnTo>
                  <a:lnTo>
                    <a:pt x="22" y="109"/>
                  </a:lnTo>
                  <a:lnTo>
                    <a:pt x="33" y="96"/>
                  </a:lnTo>
                  <a:lnTo>
                    <a:pt x="44" y="87"/>
                  </a:lnTo>
                  <a:lnTo>
                    <a:pt x="56" y="86"/>
                  </a:lnTo>
                  <a:lnTo>
                    <a:pt x="70" y="89"/>
                  </a:lnTo>
                  <a:lnTo>
                    <a:pt x="82" y="101"/>
                  </a:lnTo>
                  <a:lnTo>
                    <a:pt x="89" y="117"/>
                  </a:lnTo>
                  <a:lnTo>
                    <a:pt x="94" y="138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29" y="312"/>
                  </a:lnTo>
                  <a:lnTo>
                    <a:pt x="144" y="322"/>
                  </a:lnTo>
                  <a:lnTo>
                    <a:pt x="158" y="323"/>
                  </a:lnTo>
                  <a:lnTo>
                    <a:pt x="170" y="316"/>
                  </a:lnTo>
                  <a:lnTo>
                    <a:pt x="178" y="300"/>
                  </a:lnTo>
                  <a:lnTo>
                    <a:pt x="184" y="277"/>
                  </a:lnTo>
                  <a:lnTo>
                    <a:pt x="216" y="73"/>
                  </a:lnTo>
                  <a:lnTo>
                    <a:pt x="221" y="43"/>
                  </a:lnTo>
                  <a:lnTo>
                    <a:pt x="227" y="24"/>
                  </a:lnTo>
                  <a:lnTo>
                    <a:pt x="235" y="10"/>
                  </a:lnTo>
                  <a:lnTo>
                    <a:pt x="244" y="3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85" y="21"/>
                  </a:lnTo>
                  <a:lnTo>
                    <a:pt x="291" y="36"/>
                  </a:lnTo>
                  <a:lnTo>
                    <a:pt x="296" y="57"/>
                  </a:lnTo>
                  <a:lnTo>
                    <a:pt x="345" y="385"/>
                  </a:lnTo>
                  <a:lnTo>
                    <a:pt x="351" y="412"/>
                  </a:lnTo>
                  <a:lnTo>
                    <a:pt x="360" y="435"/>
                  </a:lnTo>
                  <a:lnTo>
                    <a:pt x="370" y="444"/>
                  </a:lnTo>
                  <a:lnTo>
                    <a:pt x="387" y="448"/>
                  </a:lnTo>
                  <a:lnTo>
                    <a:pt x="401" y="434"/>
                  </a:lnTo>
                  <a:lnTo>
                    <a:pt x="409" y="414"/>
                  </a:lnTo>
                  <a:lnTo>
                    <a:pt x="416" y="386"/>
                  </a:lnTo>
                  <a:lnTo>
                    <a:pt x="463" y="89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7833000">
              <a:off x="6963120" y="2436120"/>
              <a:ext cx="316080" cy="323640"/>
            </a:xfrm>
            <a:custGeom>
              <a:avLst/>
              <a:gdLst/>
              <a:ahLst/>
              <a:rect l="l" t="t" r="r" b="b"/>
              <a:pathLst>
                <a:path w="790" h="1277">
                  <a:moveTo>
                    <a:pt x="0" y="521"/>
                  </a:moveTo>
                  <a:lnTo>
                    <a:pt x="41" y="281"/>
                  </a:lnTo>
                  <a:lnTo>
                    <a:pt x="46" y="262"/>
                  </a:lnTo>
                  <a:lnTo>
                    <a:pt x="59" y="252"/>
                  </a:lnTo>
                  <a:lnTo>
                    <a:pt x="70" y="249"/>
                  </a:lnTo>
                  <a:lnTo>
                    <a:pt x="88" y="252"/>
                  </a:lnTo>
                  <a:lnTo>
                    <a:pt x="97" y="263"/>
                  </a:lnTo>
                  <a:lnTo>
                    <a:pt x="102" y="281"/>
                  </a:lnTo>
                  <a:lnTo>
                    <a:pt x="198" y="975"/>
                  </a:lnTo>
                  <a:lnTo>
                    <a:pt x="207" y="1011"/>
                  </a:lnTo>
                  <a:lnTo>
                    <a:pt x="216" y="1024"/>
                  </a:lnTo>
                  <a:lnTo>
                    <a:pt x="231" y="1030"/>
                  </a:lnTo>
                  <a:lnTo>
                    <a:pt x="243" y="1034"/>
                  </a:lnTo>
                  <a:lnTo>
                    <a:pt x="259" y="1028"/>
                  </a:lnTo>
                  <a:lnTo>
                    <a:pt x="271" y="1013"/>
                  </a:lnTo>
                  <a:lnTo>
                    <a:pt x="281" y="975"/>
                  </a:lnTo>
                  <a:lnTo>
                    <a:pt x="375" y="171"/>
                  </a:lnTo>
                  <a:lnTo>
                    <a:pt x="381" y="132"/>
                  </a:lnTo>
                  <a:lnTo>
                    <a:pt x="387" y="120"/>
                  </a:lnTo>
                  <a:lnTo>
                    <a:pt x="394" y="108"/>
                  </a:lnTo>
                  <a:lnTo>
                    <a:pt x="405" y="99"/>
                  </a:lnTo>
                  <a:lnTo>
                    <a:pt x="418" y="97"/>
                  </a:lnTo>
                  <a:lnTo>
                    <a:pt x="433" y="102"/>
                  </a:lnTo>
                  <a:lnTo>
                    <a:pt x="445" y="110"/>
                  </a:lnTo>
                  <a:lnTo>
                    <a:pt x="452" y="120"/>
                  </a:lnTo>
                  <a:lnTo>
                    <a:pt x="459" y="132"/>
                  </a:lnTo>
                  <a:lnTo>
                    <a:pt x="465" y="165"/>
                  </a:lnTo>
                  <a:lnTo>
                    <a:pt x="551" y="1196"/>
                  </a:lnTo>
                  <a:lnTo>
                    <a:pt x="557" y="1240"/>
                  </a:lnTo>
                  <a:lnTo>
                    <a:pt x="565" y="1261"/>
                  </a:lnTo>
                  <a:lnTo>
                    <a:pt x="580" y="1271"/>
                  </a:lnTo>
                  <a:lnTo>
                    <a:pt x="595" y="1277"/>
                  </a:lnTo>
                  <a:lnTo>
                    <a:pt x="609" y="1271"/>
                  </a:lnTo>
                  <a:lnTo>
                    <a:pt x="617" y="1261"/>
                  </a:lnTo>
                  <a:lnTo>
                    <a:pt x="622" y="1243"/>
                  </a:lnTo>
                  <a:lnTo>
                    <a:pt x="627" y="1200"/>
                  </a:lnTo>
                  <a:lnTo>
                    <a:pt x="739" y="73"/>
                  </a:lnTo>
                  <a:lnTo>
                    <a:pt x="744" y="49"/>
                  </a:lnTo>
                  <a:lnTo>
                    <a:pt x="752" y="28"/>
                  </a:lnTo>
                  <a:lnTo>
                    <a:pt x="761" y="14"/>
                  </a:lnTo>
                  <a:lnTo>
                    <a:pt x="770" y="4"/>
                  </a:lnTo>
                  <a:lnTo>
                    <a:pt x="780" y="0"/>
                  </a:lnTo>
                  <a:lnTo>
                    <a:pt x="790" y="0"/>
                  </a:lnTo>
                </a:path>
              </a:pathLst>
            </a:custGeom>
            <a:noFill/>
            <a:ln w="255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1" name=""/>
          <p:cNvGraphicFramePr/>
          <p:nvPr/>
        </p:nvGraphicFramePr>
        <p:xfrm>
          <a:off x="468360" y="476280"/>
          <a:ext cx="8229240" cy="5851080"/>
        </p:xfrm>
        <a:graphic>
          <a:graphicData uri="http://schemas.openxmlformats.org/drawingml/2006/table">
            <a:tbl>
              <a:tblPr/>
              <a:tblGrid>
                <a:gridCol w="1380600"/>
                <a:gridCol w="1724400"/>
                <a:gridCol w="1526400"/>
                <a:gridCol w="1130040"/>
                <a:gridCol w="1588320"/>
                <a:gridCol w="879480"/>
              </a:tblGrid>
              <a:tr h="388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GENE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 ou SERV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/ Rô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resses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resse 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C-EUR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x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0-10-4B-45-7A-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0.10.17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STER-EU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C, DHCP,D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-50-04-0A-79-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.20.1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UROPE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2K SR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ARM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Portable Comp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00-48-54-C0-03-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0.20.1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EUROPE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WIN 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-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x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10-5A-A7-FB-3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0.10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P S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STER2-P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C, DNS, SER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-10-5A-E7-B1-3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2.168.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2K SR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NB-MICH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Portable D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00-B0-D0-E8-E3-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92.168.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EACCORP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C-SOPH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x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0-08-C7-FA-9D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2.168.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IKE-CI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x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0-05-1B-80-08-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2.168.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NB-ANN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Portable D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00-09-5B-93-E9-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92.168.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ROXY-P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C, PROXY 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0-00-E8-22-42-9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2.168.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WPLM2.PRIV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2K 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/ Rô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resses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resse 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M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ER CISCO 1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D-28-DC-FB-1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0.17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Etherne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9-43-09-5E-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68.0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astEtherne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ER CISCO 1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D-28-DC-FB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0.1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Etherne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9-43-09-5E-C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0.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astEtherne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G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B ROUTER WI-F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9-5B-9C-6B-A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68.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 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-09-5B-9C-6B-A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x.xxx.xxx.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 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6:49:29Z</dcterms:created>
  <dc:creator>mike</dc:creator>
  <dc:description/>
  <dc:language>en-US</dc:language>
  <cp:lastModifiedBy>mike</cp:lastModifiedBy>
  <dcterms:modified xsi:type="dcterms:W3CDTF">2005-06-06T18:01:35Z</dcterms:modified>
  <cp:revision>11</cp:revision>
  <dc:subject/>
  <dc:title>Diapositive 1</dc:title>
</cp:coreProperties>
</file>