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B2C5-75DE-430E-BFE9-25FF57278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0E16-8967-44EA-9412-BD712302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7F3B-51E5-4E7A-88F5-5802BB1C4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B9B8-156D-4714-98DA-DC5DFDDBA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DB7B-176A-43C1-9DAE-7FB11EFA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8733-C481-4C58-B82D-53DC3A8D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125B-1122-4D69-9497-DE3A088C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9631-171F-453C-8BFF-134D552C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3F13-2BF3-4702-8C99-13477201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97E5-30BB-42DE-90D6-0E5B0AE0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1890-F4A0-468A-82D5-2DEC7DA4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547E-0901-4955-8750-C756B91C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3A06-2E7D-4D03-A72E-5A0FA49C3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47280" y="11556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WINDn.CAP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95640" y="4581360"/>
            <a:ext cx="658800" cy="1179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907920"/>
            <a:ext cx="671400" cy="83664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4788000" y="1268280"/>
            <a:ext cx="1007280" cy="1008000"/>
            <a:chOff x="4788000" y="1268280"/>
            <a:chExt cx="1007280" cy="1008000"/>
          </a:xfrm>
        </p:grpSpPr>
        <p:grpSp>
          <p:nvGrpSpPr>
            <p:cNvPr id="45" name=""/>
            <p:cNvGrpSpPr/>
            <p:nvPr/>
          </p:nvGrpSpPr>
          <p:grpSpPr>
            <a:xfrm>
              <a:off x="4788000" y="1521360"/>
              <a:ext cx="779400" cy="754920"/>
              <a:chOff x="4788000" y="1521360"/>
              <a:chExt cx="779400" cy="754920"/>
            </a:xfrm>
          </p:grpSpPr>
          <p:pic>
            <p:nvPicPr>
              <p:cNvPr id="4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788000" y="1902960"/>
                <a:ext cx="779400" cy="37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"/>
              <p:cNvSpPr/>
              <p:nvPr/>
            </p:nvSpPr>
            <p:spPr>
              <a:xfrm>
                <a:off x="5328360" y="1521360"/>
                <a:ext cx="0" cy="19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5394960" y="1268280"/>
              <a:ext cx="400320" cy="490680"/>
              <a:chOff x="5394960" y="1268280"/>
              <a:chExt cx="400320" cy="490680"/>
            </a:xfrm>
          </p:grpSpPr>
          <p:sp>
            <p:nvSpPr>
              <p:cNvPr id="49" name=""/>
              <p:cNvSpPr/>
              <p:nvPr/>
            </p:nvSpPr>
            <p:spPr>
              <a:xfrm>
                <a:off x="5736960" y="1268280"/>
                <a:ext cx="58320" cy="490680"/>
              </a:xfrm>
              <a:custGeom>
                <a:avLst/>
                <a:gdLst/>
                <a:ahLst/>
                <a:rect l="l" t="t" r="r" b="b"/>
                <a:pathLst>
                  <a:path w="355" h="2415">
                    <a:moveTo>
                      <a:pt x="177" y="0"/>
                    </a:moveTo>
                    <a:lnTo>
                      <a:pt x="193" y="56"/>
                    </a:lnTo>
                    <a:lnTo>
                      <a:pt x="221" y="147"/>
                    </a:lnTo>
                    <a:lnTo>
                      <a:pt x="245" y="228"/>
                    </a:lnTo>
                    <a:lnTo>
                      <a:pt x="265" y="312"/>
                    </a:lnTo>
                    <a:lnTo>
                      <a:pt x="285" y="396"/>
                    </a:lnTo>
                    <a:lnTo>
                      <a:pt x="301" y="491"/>
                    </a:lnTo>
                    <a:lnTo>
                      <a:pt x="318" y="589"/>
                    </a:lnTo>
                    <a:lnTo>
                      <a:pt x="331" y="701"/>
                    </a:lnTo>
                    <a:lnTo>
                      <a:pt x="342" y="794"/>
                    </a:lnTo>
                    <a:lnTo>
                      <a:pt x="347" y="902"/>
                    </a:lnTo>
                    <a:lnTo>
                      <a:pt x="352" y="994"/>
                    </a:lnTo>
                    <a:lnTo>
                      <a:pt x="355" y="1112"/>
                    </a:lnTo>
                    <a:lnTo>
                      <a:pt x="354" y="1230"/>
                    </a:lnTo>
                    <a:lnTo>
                      <a:pt x="350" y="1350"/>
                    </a:lnTo>
                    <a:lnTo>
                      <a:pt x="346" y="1445"/>
                    </a:lnTo>
                    <a:lnTo>
                      <a:pt x="339" y="1529"/>
                    </a:lnTo>
                    <a:lnTo>
                      <a:pt x="327" y="1634"/>
                    </a:lnTo>
                    <a:lnTo>
                      <a:pt x="315" y="1730"/>
                    </a:lnTo>
                    <a:lnTo>
                      <a:pt x="297" y="1837"/>
                    </a:lnTo>
                    <a:lnTo>
                      <a:pt x="277" y="1937"/>
                    </a:lnTo>
                    <a:lnTo>
                      <a:pt x="255" y="2034"/>
                    </a:lnTo>
                    <a:lnTo>
                      <a:pt x="233" y="2122"/>
                    </a:lnTo>
                    <a:lnTo>
                      <a:pt x="202" y="2216"/>
                    </a:lnTo>
                    <a:lnTo>
                      <a:pt x="170" y="2303"/>
                    </a:lnTo>
                    <a:lnTo>
                      <a:pt x="134" y="2392"/>
                    </a:lnTo>
                    <a:lnTo>
                      <a:pt x="125" y="2415"/>
                    </a:lnTo>
                    <a:lnTo>
                      <a:pt x="0" y="2359"/>
                    </a:lnTo>
                    <a:lnTo>
                      <a:pt x="36" y="2291"/>
                    </a:lnTo>
                    <a:lnTo>
                      <a:pt x="73" y="2206"/>
                    </a:lnTo>
                    <a:lnTo>
                      <a:pt x="102" y="2118"/>
                    </a:lnTo>
                    <a:lnTo>
                      <a:pt x="126" y="2023"/>
                    </a:lnTo>
                    <a:lnTo>
                      <a:pt x="154" y="1915"/>
                    </a:lnTo>
                    <a:lnTo>
                      <a:pt x="173" y="1814"/>
                    </a:lnTo>
                    <a:lnTo>
                      <a:pt x="189" y="1717"/>
                    </a:lnTo>
                    <a:lnTo>
                      <a:pt x="202" y="1602"/>
                    </a:lnTo>
                    <a:lnTo>
                      <a:pt x="213" y="1497"/>
                    </a:lnTo>
                    <a:lnTo>
                      <a:pt x="221" y="1394"/>
                    </a:lnTo>
                    <a:lnTo>
                      <a:pt x="225" y="1289"/>
                    </a:lnTo>
                    <a:lnTo>
                      <a:pt x="229" y="1206"/>
                    </a:lnTo>
                    <a:lnTo>
                      <a:pt x="227" y="1096"/>
                    </a:lnTo>
                    <a:lnTo>
                      <a:pt x="224" y="981"/>
                    </a:lnTo>
                    <a:lnTo>
                      <a:pt x="217" y="874"/>
                    </a:lnTo>
                    <a:lnTo>
                      <a:pt x="209" y="765"/>
                    </a:lnTo>
                    <a:lnTo>
                      <a:pt x="194" y="653"/>
                    </a:lnTo>
                    <a:lnTo>
                      <a:pt x="178" y="549"/>
                    </a:lnTo>
                    <a:lnTo>
                      <a:pt x="161" y="443"/>
                    </a:lnTo>
                    <a:lnTo>
                      <a:pt x="138" y="347"/>
                    </a:lnTo>
                    <a:lnTo>
                      <a:pt x="110" y="240"/>
                    </a:lnTo>
                    <a:lnTo>
                      <a:pt x="81" y="147"/>
                    </a:lnTo>
                    <a:lnTo>
                      <a:pt x="49" y="64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692680" y="1296000"/>
                <a:ext cx="49680" cy="437040"/>
              </a:xfrm>
              <a:custGeom>
                <a:avLst/>
                <a:gdLst/>
                <a:ahLst/>
                <a:rect l="l" t="t" r="r" b="b"/>
                <a:pathLst>
                  <a:path w="299" h="2151">
                    <a:moveTo>
                      <a:pt x="161" y="0"/>
                    </a:moveTo>
                    <a:lnTo>
                      <a:pt x="189" y="91"/>
                    </a:lnTo>
                    <a:lnTo>
                      <a:pt x="209" y="175"/>
                    </a:lnTo>
                    <a:lnTo>
                      <a:pt x="229" y="259"/>
                    </a:lnTo>
                    <a:lnTo>
                      <a:pt x="245" y="354"/>
                    </a:lnTo>
                    <a:lnTo>
                      <a:pt x="261" y="452"/>
                    </a:lnTo>
                    <a:lnTo>
                      <a:pt x="275" y="564"/>
                    </a:lnTo>
                    <a:lnTo>
                      <a:pt x="285" y="657"/>
                    </a:lnTo>
                    <a:lnTo>
                      <a:pt x="291" y="765"/>
                    </a:lnTo>
                    <a:lnTo>
                      <a:pt x="296" y="857"/>
                    </a:lnTo>
                    <a:lnTo>
                      <a:pt x="299" y="975"/>
                    </a:lnTo>
                    <a:lnTo>
                      <a:pt x="297" y="1093"/>
                    </a:lnTo>
                    <a:lnTo>
                      <a:pt x="293" y="1213"/>
                    </a:lnTo>
                    <a:lnTo>
                      <a:pt x="289" y="1308"/>
                    </a:lnTo>
                    <a:lnTo>
                      <a:pt x="283" y="1392"/>
                    </a:lnTo>
                    <a:lnTo>
                      <a:pt x="271" y="1497"/>
                    </a:lnTo>
                    <a:lnTo>
                      <a:pt x="259" y="1593"/>
                    </a:lnTo>
                    <a:lnTo>
                      <a:pt x="241" y="1700"/>
                    </a:lnTo>
                    <a:lnTo>
                      <a:pt x="221" y="1800"/>
                    </a:lnTo>
                    <a:lnTo>
                      <a:pt x="198" y="1897"/>
                    </a:lnTo>
                    <a:lnTo>
                      <a:pt x="177" y="1985"/>
                    </a:lnTo>
                    <a:lnTo>
                      <a:pt x="146" y="2079"/>
                    </a:lnTo>
                    <a:lnTo>
                      <a:pt x="121" y="2151"/>
                    </a:lnTo>
                    <a:lnTo>
                      <a:pt x="0" y="2089"/>
                    </a:lnTo>
                    <a:lnTo>
                      <a:pt x="16" y="2069"/>
                    </a:lnTo>
                    <a:lnTo>
                      <a:pt x="46" y="1981"/>
                    </a:lnTo>
                    <a:lnTo>
                      <a:pt x="70" y="1886"/>
                    </a:lnTo>
                    <a:lnTo>
                      <a:pt x="98" y="1778"/>
                    </a:lnTo>
                    <a:lnTo>
                      <a:pt x="117" y="1677"/>
                    </a:lnTo>
                    <a:lnTo>
                      <a:pt x="133" y="1580"/>
                    </a:lnTo>
                    <a:lnTo>
                      <a:pt x="146" y="1465"/>
                    </a:lnTo>
                    <a:lnTo>
                      <a:pt x="157" y="1360"/>
                    </a:lnTo>
                    <a:lnTo>
                      <a:pt x="165" y="1257"/>
                    </a:lnTo>
                    <a:lnTo>
                      <a:pt x="169" y="1152"/>
                    </a:lnTo>
                    <a:lnTo>
                      <a:pt x="173" y="1069"/>
                    </a:lnTo>
                    <a:lnTo>
                      <a:pt x="170" y="959"/>
                    </a:lnTo>
                    <a:lnTo>
                      <a:pt x="168" y="844"/>
                    </a:lnTo>
                    <a:lnTo>
                      <a:pt x="161" y="737"/>
                    </a:lnTo>
                    <a:lnTo>
                      <a:pt x="153" y="628"/>
                    </a:lnTo>
                    <a:lnTo>
                      <a:pt x="138" y="516"/>
                    </a:lnTo>
                    <a:lnTo>
                      <a:pt x="122" y="412"/>
                    </a:lnTo>
                    <a:lnTo>
                      <a:pt x="105" y="306"/>
                    </a:lnTo>
                    <a:lnTo>
                      <a:pt x="82" y="210"/>
                    </a:lnTo>
                    <a:lnTo>
                      <a:pt x="54" y="103"/>
                    </a:lnTo>
                    <a:lnTo>
                      <a:pt x="32" y="52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646960" y="1321200"/>
                <a:ext cx="42120" cy="384120"/>
              </a:xfrm>
              <a:custGeom>
                <a:avLst/>
                <a:gdLst/>
                <a:ahLst/>
                <a:rect l="l" t="t" r="r" b="b"/>
                <a:pathLst>
                  <a:path w="255" h="1889">
                    <a:moveTo>
                      <a:pt x="165" y="51"/>
                    </a:moveTo>
                    <a:lnTo>
                      <a:pt x="185" y="135"/>
                    </a:lnTo>
                    <a:lnTo>
                      <a:pt x="201" y="230"/>
                    </a:lnTo>
                    <a:lnTo>
                      <a:pt x="217" y="328"/>
                    </a:lnTo>
                    <a:lnTo>
                      <a:pt x="231" y="440"/>
                    </a:lnTo>
                    <a:lnTo>
                      <a:pt x="241" y="533"/>
                    </a:lnTo>
                    <a:lnTo>
                      <a:pt x="247" y="641"/>
                    </a:lnTo>
                    <a:lnTo>
                      <a:pt x="252" y="733"/>
                    </a:lnTo>
                    <a:lnTo>
                      <a:pt x="255" y="851"/>
                    </a:lnTo>
                    <a:lnTo>
                      <a:pt x="253" y="983"/>
                    </a:lnTo>
                    <a:lnTo>
                      <a:pt x="249" y="1089"/>
                    </a:lnTo>
                    <a:lnTo>
                      <a:pt x="245" y="1184"/>
                    </a:lnTo>
                    <a:lnTo>
                      <a:pt x="239" y="1268"/>
                    </a:lnTo>
                    <a:lnTo>
                      <a:pt x="227" y="1373"/>
                    </a:lnTo>
                    <a:lnTo>
                      <a:pt x="214" y="1469"/>
                    </a:lnTo>
                    <a:lnTo>
                      <a:pt x="197" y="1576"/>
                    </a:lnTo>
                    <a:lnTo>
                      <a:pt x="177" y="1676"/>
                    </a:lnTo>
                    <a:lnTo>
                      <a:pt x="154" y="1773"/>
                    </a:lnTo>
                    <a:lnTo>
                      <a:pt x="133" y="1861"/>
                    </a:lnTo>
                    <a:lnTo>
                      <a:pt x="121" y="1889"/>
                    </a:lnTo>
                    <a:lnTo>
                      <a:pt x="0" y="1833"/>
                    </a:lnTo>
                    <a:lnTo>
                      <a:pt x="26" y="1762"/>
                    </a:lnTo>
                    <a:lnTo>
                      <a:pt x="54" y="1654"/>
                    </a:lnTo>
                    <a:lnTo>
                      <a:pt x="73" y="1553"/>
                    </a:lnTo>
                    <a:lnTo>
                      <a:pt x="89" y="1456"/>
                    </a:lnTo>
                    <a:lnTo>
                      <a:pt x="102" y="1341"/>
                    </a:lnTo>
                    <a:lnTo>
                      <a:pt x="113" y="1236"/>
                    </a:lnTo>
                    <a:lnTo>
                      <a:pt x="121" y="1133"/>
                    </a:lnTo>
                    <a:lnTo>
                      <a:pt x="125" y="1028"/>
                    </a:lnTo>
                    <a:lnTo>
                      <a:pt x="129" y="945"/>
                    </a:lnTo>
                    <a:lnTo>
                      <a:pt x="126" y="835"/>
                    </a:lnTo>
                    <a:lnTo>
                      <a:pt x="123" y="720"/>
                    </a:lnTo>
                    <a:lnTo>
                      <a:pt x="117" y="613"/>
                    </a:lnTo>
                    <a:lnTo>
                      <a:pt x="109" y="504"/>
                    </a:lnTo>
                    <a:lnTo>
                      <a:pt x="94" y="392"/>
                    </a:lnTo>
                    <a:lnTo>
                      <a:pt x="78" y="288"/>
                    </a:lnTo>
                    <a:lnTo>
                      <a:pt x="61" y="182"/>
                    </a:lnTo>
                    <a:lnTo>
                      <a:pt x="38" y="86"/>
                    </a:lnTo>
                    <a:lnTo>
                      <a:pt x="30" y="60"/>
                    </a:lnTo>
                    <a:lnTo>
                      <a:pt x="153" y="0"/>
                    </a:lnTo>
                    <a:lnTo>
                      <a:pt x="165" y="51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604120" y="1346760"/>
                <a:ext cx="37080" cy="332640"/>
              </a:xfrm>
              <a:custGeom>
                <a:avLst/>
                <a:gdLst/>
                <a:ahLst/>
                <a:rect l="l" t="t" r="r" b="b"/>
                <a:pathLst>
                  <a:path w="223" h="1638">
                    <a:moveTo>
                      <a:pt x="153" y="0"/>
                    </a:moveTo>
                    <a:lnTo>
                      <a:pt x="169" y="95"/>
                    </a:lnTo>
                    <a:lnTo>
                      <a:pt x="185" y="193"/>
                    </a:lnTo>
                    <a:lnTo>
                      <a:pt x="198" y="305"/>
                    </a:lnTo>
                    <a:lnTo>
                      <a:pt x="209" y="398"/>
                    </a:lnTo>
                    <a:lnTo>
                      <a:pt x="215" y="506"/>
                    </a:lnTo>
                    <a:lnTo>
                      <a:pt x="220" y="598"/>
                    </a:lnTo>
                    <a:lnTo>
                      <a:pt x="223" y="716"/>
                    </a:lnTo>
                    <a:lnTo>
                      <a:pt x="221" y="834"/>
                    </a:lnTo>
                    <a:lnTo>
                      <a:pt x="217" y="954"/>
                    </a:lnTo>
                    <a:lnTo>
                      <a:pt x="213" y="1049"/>
                    </a:lnTo>
                    <a:lnTo>
                      <a:pt x="206" y="1133"/>
                    </a:lnTo>
                    <a:lnTo>
                      <a:pt x="194" y="1238"/>
                    </a:lnTo>
                    <a:lnTo>
                      <a:pt x="182" y="1334"/>
                    </a:lnTo>
                    <a:lnTo>
                      <a:pt x="165" y="1441"/>
                    </a:lnTo>
                    <a:lnTo>
                      <a:pt x="145" y="1541"/>
                    </a:lnTo>
                    <a:lnTo>
                      <a:pt x="122" y="1638"/>
                    </a:lnTo>
                    <a:lnTo>
                      <a:pt x="0" y="1582"/>
                    </a:lnTo>
                    <a:lnTo>
                      <a:pt x="22" y="1519"/>
                    </a:lnTo>
                    <a:lnTo>
                      <a:pt x="41" y="1418"/>
                    </a:lnTo>
                    <a:lnTo>
                      <a:pt x="57" y="1321"/>
                    </a:lnTo>
                    <a:lnTo>
                      <a:pt x="70" y="1206"/>
                    </a:lnTo>
                    <a:lnTo>
                      <a:pt x="81" y="1101"/>
                    </a:lnTo>
                    <a:lnTo>
                      <a:pt x="89" y="998"/>
                    </a:lnTo>
                    <a:lnTo>
                      <a:pt x="93" y="893"/>
                    </a:lnTo>
                    <a:lnTo>
                      <a:pt x="97" y="810"/>
                    </a:lnTo>
                    <a:lnTo>
                      <a:pt x="94" y="700"/>
                    </a:lnTo>
                    <a:lnTo>
                      <a:pt x="91" y="585"/>
                    </a:lnTo>
                    <a:lnTo>
                      <a:pt x="85" y="478"/>
                    </a:lnTo>
                    <a:lnTo>
                      <a:pt x="77" y="369"/>
                    </a:lnTo>
                    <a:lnTo>
                      <a:pt x="62" y="257"/>
                    </a:lnTo>
                    <a:lnTo>
                      <a:pt x="46" y="153"/>
                    </a:lnTo>
                    <a:lnTo>
                      <a:pt x="26" y="58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562000" y="1372320"/>
                <a:ext cx="31320" cy="282240"/>
              </a:xfrm>
              <a:custGeom>
                <a:avLst/>
                <a:gdLst/>
                <a:ahLst/>
                <a:rect l="l" t="t" r="r" b="b"/>
                <a:pathLst>
                  <a:path w="190" h="1387">
                    <a:moveTo>
                      <a:pt x="134" y="0"/>
                    </a:moveTo>
                    <a:lnTo>
                      <a:pt x="153" y="75"/>
                    </a:lnTo>
                    <a:lnTo>
                      <a:pt x="166" y="187"/>
                    </a:lnTo>
                    <a:lnTo>
                      <a:pt x="177" y="280"/>
                    </a:lnTo>
                    <a:lnTo>
                      <a:pt x="182" y="388"/>
                    </a:lnTo>
                    <a:lnTo>
                      <a:pt x="188" y="480"/>
                    </a:lnTo>
                    <a:lnTo>
                      <a:pt x="190" y="598"/>
                    </a:lnTo>
                    <a:lnTo>
                      <a:pt x="189" y="716"/>
                    </a:lnTo>
                    <a:lnTo>
                      <a:pt x="185" y="836"/>
                    </a:lnTo>
                    <a:lnTo>
                      <a:pt x="181" y="931"/>
                    </a:lnTo>
                    <a:lnTo>
                      <a:pt x="174" y="1015"/>
                    </a:lnTo>
                    <a:lnTo>
                      <a:pt x="162" y="1120"/>
                    </a:lnTo>
                    <a:lnTo>
                      <a:pt x="150" y="1216"/>
                    </a:lnTo>
                    <a:lnTo>
                      <a:pt x="133" y="1323"/>
                    </a:lnTo>
                    <a:lnTo>
                      <a:pt x="125" y="1387"/>
                    </a:lnTo>
                    <a:lnTo>
                      <a:pt x="0" y="1331"/>
                    </a:lnTo>
                    <a:lnTo>
                      <a:pt x="8" y="1300"/>
                    </a:lnTo>
                    <a:lnTo>
                      <a:pt x="25" y="1203"/>
                    </a:lnTo>
                    <a:lnTo>
                      <a:pt x="38" y="1088"/>
                    </a:lnTo>
                    <a:lnTo>
                      <a:pt x="49" y="983"/>
                    </a:lnTo>
                    <a:lnTo>
                      <a:pt x="57" y="880"/>
                    </a:lnTo>
                    <a:lnTo>
                      <a:pt x="61" y="775"/>
                    </a:lnTo>
                    <a:lnTo>
                      <a:pt x="65" y="692"/>
                    </a:lnTo>
                    <a:lnTo>
                      <a:pt x="62" y="582"/>
                    </a:lnTo>
                    <a:lnTo>
                      <a:pt x="59" y="467"/>
                    </a:lnTo>
                    <a:lnTo>
                      <a:pt x="53" y="360"/>
                    </a:lnTo>
                    <a:lnTo>
                      <a:pt x="45" y="251"/>
                    </a:lnTo>
                    <a:lnTo>
                      <a:pt x="30" y="139"/>
                    </a:lnTo>
                    <a:lnTo>
                      <a:pt x="6" y="52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520600" y="1391400"/>
                <a:ext cx="30240" cy="240840"/>
              </a:xfrm>
              <a:custGeom>
                <a:avLst/>
                <a:gdLst/>
                <a:ahLst/>
                <a:rect l="l" t="t" r="r" b="b"/>
                <a:pathLst>
                  <a:path w="182" h="1184">
                    <a:moveTo>
                      <a:pt x="149" y="0"/>
                    </a:moveTo>
                    <a:lnTo>
                      <a:pt x="161" y="68"/>
                    </a:lnTo>
                    <a:lnTo>
                      <a:pt x="168" y="147"/>
                    </a:lnTo>
                    <a:lnTo>
                      <a:pt x="178" y="261"/>
                    </a:lnTo>
                    <a:lnTo>
                      <a:pt x="179" y="348"/>
                    </a:lnTo>
                    <a:lnTo>
                      <a:pt x="182" y="466"/>
                    </a:lnTo>
                    <a:lnTo>
                      <a:pt x="180" y="584"/>
                    </a:lnTo>
                    <a:lnTo>
                      <a:pt x="176" y="704"/>
                    </a:lnTo>
                    <a:lnTo>
                      <a:pt x="172" y="799"/>
                    </a:lnTo>
                    <a:lnTo>
                      <a:pt x="165" y="883"/>
                    </a:lnTo>
                    <a:lnTo>
                      <a:pt x="153" y="988"/>
                    </a:lnTo>
                    <a:lnTo>
                      <a:pt x="141" y="1084"/>
                    </a:lnTo>
                    <a:lnTo>
                      <a:pt x="124" y="1184"/>
                    </a:lnTo>
                    <a:lnTo>
                      <a:pt x="0" y="1123"/>
                    </a:lnTo>
                    <a:lnTo>
                      <a:pt x="16" y="1071"/>
                    </a:lnTo>
                    <a:lnTo>
                      <a:pt x="29" y="955"/>
                    </a:lnTo>
                    <a:lnTo>
                      <a:pt x="40" y="851"/>
                    </a:lnTo>
                    <a:lnTo>
                      <a:pt x="48" y="748"/>
                    </a:lnTo>
                    <a:lnTo>
                      <a:pt x="52" y="642"/>
                    </a:lnTo>
                    <a:lnTo>
                      <a:pt x="56" y="559"/>
                    </a:lnTo>
                    <a:lnTo>
                      <a:pt x="53" y="450"/>
                    </a:lnTo>
                    <a:lnTo>
                      <a:pt x="53" y="333"/>
                    </a:lnTo>
                    <a:lnTo>
                      <a:pt x="49" y="225"/>
                    </a:lnTo>
                    <a:lnTo>
                      <a:pt x="36" y="119"/>
                    </a:lnTo>
                    <a:lnTo>
                      <a:pt x="21" y="60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478840" y="1419480"/>
                <a:ext cx="25200" cy="187560"/>
              </a:xfrm>
              <a:custGeom>
                <a:avLst/>
                <a:gdLst/>
                <a:ahLst/>
                <a:rect l="l" t="t" r="r" b="b"/>
                <a:pathLst>
                  <a:path w="153" h="925">
                    <a:moveTo>
                      <a:pt x="129" y="0"/>
                    </a:moveTo>
                    <a:lnTo>
                      <a:pt x="141" y="80"/>
                    </a:lnTo>
                    <a:lnTo>
                      <a:pt x="145" y="167"/>
                    </a:lnTo>
                    <a:lnTo>
                      <a:pt x="151" y="259"/>
                    </a:lnTo>
                    <a:lnTo>
                      <a:pt x="153" y="377"/>
                    </a:lnTo>
                    <a:lnTo>
                      <a:pt x="152" y="495"/>
                    </a:lnTo>
                    <a:lnTo>
                      <a:pt x="148" y="615"/>
                    </a:lnTo>
                    <a:lnTo>
                      <a:pt x="144" y="710"/>
                    </a:lnTo>
                    <a:lnTo>
                      <a:pt x="137" y="794"/>
                    </a:lnTo>
                    <a:lnTo>
                      <a:pt x="136" y="879"/>
                    </a:lnTo>
                    <a:lnTo>
                      <a:pt x="132" y="925"/>
                    </a:lnTo>
                    <a:lnTo>
                      <a:pt x="0" y="857"/>
                    </a:lnTo>
                    <a:lnTo>
                      <a:pt x="12" y="762"/>
                    </a:lnTo>
                    <a:lnTo>
                      <a:pt x="20" y="659"/>
                    </a:lnTo>
                    <a:lnTo>
                      <a:pt x="24" y="554"/>
                    </a:lnTo>
                    <a:lnTo>
                      <a:pt x="28" y="471"/>
                    </a:lnTo>
                    <a:lnTo>
                      <a:pt x="29" y="349"/>
                    </a:lnTo>
                    <a:lnTo>
                      <a:pt x="25" y="245"/>
                    </a:lnTo>
                    <a:lnTo>
                      <a:pt x="16" y="139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435640" y="1443600"/>
                <a:ext cx="23760" cy="136440"/>
              </a:xfrm>
              <a:custGeom>
                <a:avLst/>
                <a:gdLst/>
                <a:ahLst/>
                <a:rect l="l" t="t" r="r" b="b"/>
                <a:pathLst>
                  <a:path w="145" h="673">
                    <a:moveTo>
                      <a:pt x="129" y="0"/>
                    </a:moveTo>
                    <a:lnTo>
                      <a:pt x="143" y="123"/>
                    </a:lnTo>
                    <a:lnTo>
                      <a:pt x="145" y="241"/>
                    </a:lnTo>
                    <a:lnTo>
                      <a:pt x="144" y="359"/>
                    </a:lnTo>
                    <a:lnTo>
                      <a:pt x="140" y="479"/>
                    </a:lnTo>
                    <a:lnTo>
                      <a:pt x="136" y="574"/>
                    </a:lnTo>
                    <a:lnTo>
                      <a:pt x="120" y="673"/>
                    </a:lnTo>
                    <a:lnTo>
                      <a:pt x="0" y="617"/>
                    </a:lnTo>
                    <a:lnTo>
                      <a:pt x="12" y="523"/>
                    </a:lnTo>
                    <a:lnTo>
                      <a:pt x="16" y="418"/>
                    </a:lnTo>
                    <a:lnTo>
                      <a:pt x="20" y="335"/>
                    </a:lnTo>
                    <a:lnTo>
                      <a:pt x="17" y="213"/>
                    </a:lnTo>
                    <a:lnTo>
                      <a:pt x="14" y="110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394960" y="1464480"/>
                <a:ext cx="22680" cy="91080"/>
              </a:xfrm>
              <a:custGeom>
                <a:avLst/>
                <a:gdLst/>
                <a:ahLst/>
                <a:rect l="l" t="t" r="r" b="b"/>
                <a:pathLst>
                  <a:path w="138" h="450">
                    <a:moveTo>
                      <a:pt x="135" y="66"/>
                    </a:moveTo>
                    <a:lnTo>
                      <a:pt x="138" y="181"/>
                    </a:lnTo>
                    <a:lnTo>
                      <a:pt x="136" y="295"/>
                    </a:lnTo>
                    <a:lnTo>
                      <a:pt x="130" y="394"/>
                    </a:lnTo>
                    <a:lnTo>
                      <a:pt x="121" y="450"/>
                    </a:lnTo>
                    <a:lnTo>
                      <a:pt x="0" y="398"/>
                    </a:lnTo>
                    <a:lnTo>
                      <a:pt x="8" y="277"/>
                    </a:lnTo>
                    <a:lnTo>
                      <a:pt x="9" y="166"/>
                    </a:lnTo>
                    <a:lnTo>
                      <a:pt x="9" y="61"/>
                    </a:lnTo>
                    <a:lnTo>
                      <a:pt x="130" y="0"/>
                    </a:lnTo>
                    <a:lnTo>
                      <a:pt x="135" y="66"/>
                    </a:lnTo>
                    <a:close/>
                  </a:path>
                </a:pathLst>
              </a:cu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4850280" y="1273680"/>
              <a:ext cx="411840" cy="492840"/>
              <a:chOff x="4850280" y="1273680"/>
              <a:chExt cx="411840" cy="492840"/>
            </a:xfrm>
          </p:grpSpPr>
          <p:sp>
            <p:nvSpPr>
              <p:cNvPr id="59" name=""/>
              <p:cNvSpPr/>
              <p:nvPr/>
            </p:nvSpPr>
            <p:spPr>
              <a:xfrm rot="10662000">
                <a:off x="4860000" y="1274400"/>
                <a:ext cx="58320" cy="490680"/>
              </a:xfrm>
              <a:custGeom>
                <a:avLst/>
                <a:gdLst/>
                <a:ahLst/>
                <a:rect l="l" t="t" r="r" b="b"/>
                <a:pathLst>
                  <a:path w="355" h="2415">
                    <a:moveTo>
                      <a:pt x="177" y="0"/>
                    </a:moveTo>
                    <a:lnTo>
                      <a:pt x="193" y="56"/>
                    </a:lnTo>
                    <a:lnTo>
                      <a:pt x="221" y="147"/>
                    </a:lnTo>
                    <a:lnTo>
                      <a:pt x="245" y="228"/>
                    </a:lnTo>
                    <a:lnTo>
                      <a:pt x="265" y="312"/>
                    </a:lnTo>
                    <a:lnTo>
                      <a:pt x="285" y="396"/>
                    </a:lnTo>
                    <a:lnTo>
                      <a:pt x="301" y="491"/>
                    </a:lnTo>
                    <a:lnTo>
                      <a:pt x="318" y="589"/>
                    </a:lnTo>
                    <a:lnTo>
                      <a:pt x="331" y="701"/>
                    </a:lnTo>
                    <a:lnTo>
                      <a:pt x="342" y="794"/>
                    </a:lnTo>
                    <a:lnTo>
                      <a:pt x="347" y="902"/>
                    </a:lnTo>
                    <a:lnTo>
                      <a:pt x="352" y="994"/>
                    </a:lnTo>
                    <a:lnTo>
                      <a:pt x="355" y="1112"/>
                    </a:lnTo>
                    <a:lnTo>
                      <a:pt x="354" y="1230"/>
                    </a:lnTo>
                    <a:lnTo>
                      <a:pt x="350" y="1350"/>
                    </a:lnTo>
                    <a:lnTo>
                      <a:pt x="346" y="1445"/>
                    </a:lnTo>
                    <a:lnTo>
                      <a:pt x="339" y="1529"/>
                    </a:lnTo>
                    <a:lnTo>
                      <a:pt x="327" y="1634"/>
                    </a:lnTo>
                    <a:lnTo>
                      <a:pt x="315" y="1730"/>
                    </a:lnTo>
                    <a:lnTo>
                      <a:pt x="297" y="1837"/>
                    </a:lnTo>
                    <a:lnTo>
                      <a:pt x="277" y="1937"/>
                    </a:lnTo>
                    <a:lnTo>
                      <a:pt x="255" y="2034"/>
                    </a:lnTo>
                    <a:lnTo>
                      <a:pt x="233" y="2122"/>
                    </a:lnTo>
                    <a:lnTo>
                      <a:pt x="202" y="2216"/>
                    </a:lnTo>
                    <a:lnTo>
                      <a:pt x="170" y="2303"/>
                    </a:lnTo>
                    <a:lnTo>
                      <a:pt x="134" y="2392"/>
                    </a:lnTo>
                    <a:lnTo>
                      <a:pt x="125" y="2415"/>
                    </a:lnTo>
                    <a:lnTo>
                      <a:pt x="0" y="2359"/>
                    </a:lnTo>
                    <a:lnTo>
                      <a:pt x="36" y="2291"/>
                    </a:lnTo>
                    <a:lnTo>
                      <a:pt x="73" y="2206"/>
                    </a:lnTo>
                    <a:lnTo>
                      <a:pt x="102" y="2118"/>
                    </a:lnTo>
                    <a:lnTo>
                      <a:pt x="126" y="2023"/>
                    </a:lnTo>
                    <a:lnTo>
                      <a:pt x="154" y="1915"/>
                    </a:lnTo>
                    <a:lnTo>
                      <a:pt x="173" y="1814"/>
                    </a:lnTo>
                    <a:lnTo>
                      <a:pt x="189" y="1717"/>
                    </a:lnTo>
                    <a:lnTo>
                      <a:pt x="202" y="1602"/>
                    </a:lnTo>
                    <a:lnTo>
                      <a:pt x="213" y="1497"/>
                    </a:lnTo>
                    <a:lnTo>
                      <a:pt x="221" y="1394"/>
                    </a:lnTo>
                    <a:lnTo>
                      <a:pt x="225" y="1289"/>
                    </a:lnTo>
                    <a:lnTo>
                      <a:pt x="229" y="1206"/>
                    </a:lnTo>
                    <a:lnTo>
                      <a:pt x="227" y="1096"/>
                    </a:lnTo>
                    <a:lnTo>
                      <a:pt x="224" y="981"/>
                    </a:lnTo>
                    <a:lnTo>
                      <a:pt x="217" y="874"/>
                    </a:lnTo>
                    <a:lnTo>
                      <a:pt x="209" y="765"/>
                    </a:lnTo>
                    <a:lnTo>
                      <a:pt x="194" y="653"/>
                    </a:lnTo>
                    <a:lnTo>
                      <a:pt x="178" y="549"/>
                    </a:lnTo>
                    <a:lnTo>
                      <a:pt x="161" y="443"/>
                    </a:lnTo>
                    <a:lnTo>
                      <a:pt x="138" y="347"/>
                    </a:lnTo>
                    <a:lnTo>
                      <a:pt x="110" y="240"/>
                    </a:lnTo>
                    <a:lnTo>
                      <a:pt x="81" y="147"/>
                    </a:lnTo>
                    <a:lnTo>
                      <a:pt x="49" y="64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10662000">
                <a:off x="4912560" y="1298520"/>
                <a:ext cx="49680" cy="437040"/>
              </a:xfrm>
              <a:custGeom>
                <a:avLst/>
                <a:gdLst/>
                <a:ahLst/>
                <a:rect l="l" t="t" r="r" b="b"/>
                <a:pathLst>
                  <a:path w="299" h="2151">
                    <a:moveTo>
                      <a:pt x="161" y="0"/>
                    </a:moveTo>
                    <a:lnTo>
                      <a:pt x="189" y="91"/>
                    </a:lnTo>
                    <a:lnTo>
                      <a:pt x="209" y="175"/>
                    </a:lnTo>
                    <a:lnTo>
                      <a:pt x="229" y="259"/>
                    </a:lnTo>
                    <a:lnTo>
                      <a:pt x="245" y="354"/>
                    </a:lnTo>
                    <a:lnTo>
                      <a:pt x="261" y="452"/>
                    </a:lnTo>
                    <a:lnTo>
                      <a:pt x="275" y="564"/>
                    </a:lnTo>
                    <a:lnTo>
                      <a:pt x="285" y="657"/>
                    </a:lnTo>
                    <a:lnTo>
                      <a:pt x="291" y="765"/>
                    </a:lnTo>
                    <a:lnTo>
                      <a:pt x="296" y="857"/>
                    </a:lnTo>
                    <a:lnTo>
                      <a:pt x="299" y="975"/>
                    </a:lnTo>
                    <a:lnTo>
                      <a:pt x="297" y="1093"/>
                    </a:lnTo>
                    <a:lnTo>
                      <a:pt x="293" y="1213"/>
                    </a:lnTo>
                    <a:lnTo>
                      <a:pt x="289" y="1308"/>
                    </a:lnTo>
                    <a:lnTo>
                      <a:pt x="283" y="1392"/>
                    </a:lnTo>
                    <a:lnTo>
                      <a:pt x="271" y="1497"/>
                    </a:lnTo>
                    <a:lnTo>
                      <a:pt x="259" y="1593"/>
                    </a:lnTo>
                    <a:lnTo>
                      <a:pt x="241" y="1700"/>
                    </a:lnTo>
                    <a:lnTo>
                      <a:pt x="221" y="1800"/>
                    </a:lnTo>
                    <a:lnTo>
                      <a:pt x="198" y="1897"/>
                    </a:lnTo>
                    <a:lnTo>
                      <a:pt x="177" y="1985"/>
                    </a:lnTo>
                    <a:lnTo>
                      <a:pt x="146" y="2079"/>
                    </a:lnTo>
                    <a:lnTo>
                      <a:pt x="121" y="2151"/>
                    </a:lnTo>
                    <a:lnTo>
                      <a:pt x="0" y="2089"/>
                    </a:lnTo>
                    <a:lnTo>
                      <a:pt x="16" y="2069"/>
                    </a:lnTo>
                    <a:lnTo>
                      <a:pt x="46" y="1981"/>
                    </a:lnTo>
                    <a:lnTo>
                      <a:pt x="70" y="1886"/>
                    </a:lnTo>
                    <a:lnTo>
                      <a:pt x="98" y="1778"/>
                    </a:lnTo>
                    <a:lnTo>
                      <a:pt x="117" y="1677"/>
                    </a:lnTo>
                    <a:lnTo>
                      <a:pt x="133" y="1580"/>
                    </a:lnTo>
                    <a:lnTo>
                      <a:pt x="146" y="1465"/>
                    </a:lnTo>
                    <a:lnTo>
                      <a:pt x="157" y="1360"/>
                    </a:lnTo>
                    <a:lnTo>
                      <a:pt x="165" y="1257"/>
                    </a:lnTo>
                    <a:lnTo>
                      <a:pt x="169" y="1152"/>
                    </a:lnTo>
                    <a:lnTo>
                      <a:pt x="173" y="1069"/>
                    </a:lnTo>
                    <a:lnTo>
                      <a:pt x="170" y="959"/>
                    </a:lnTo>
                    <a:lnTo>
                      <a:pt x="168" y="844"/>
                    </a:lnTo>
                    <a:lnTo>
                      <a:pt x="161" y="737"/>
                    </a:lnTo>
                    <a:lnTo>
                      <a:pt x="153" y="628"/>
                    </a:lnTo>
                    <a:lnTo>
                      <a:pt x="138" y="516"/>
                    </a:lnTo>
                    <a:lnTo>
                      <a:pt x="122" y="412"/>
                    </a:lnTo>
                    <a:lnTo>
                      <a:pt x="105" y="306"/>
                    </a:lnTo>
                    <a:lnTo>
                      <a:pt x="82" y="210"/>
                    </a:lnTo>
                    <a:lnTo>
                      <a:pt x="54" y="103"/>
                    </a:lnTo>
                    <a:lnTo>
                      <a:pt x="32" y="52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10662000">
                <a:off x="4966200" y="1324080"/>
                <a:ext cx="42120" cy="384120"/>
              </a:xfrm>
              <a:custGeom>
                <a:avLst/>
                <a:gdLst/>
                <a:ahLst/>
                <a:rect l="l" t="t" r="r" b="b"/>
                <a:pathLst>
                  <a:path w="255" h="1889">
                    <a:moveTo>
                      <a:pt x="165" y="51"/>
                    </a:moveTo>
                    <a:lnTo>
                      <a:pt x="185" y="135"/>
                    </a:lnTo>
                    <a:lnTo>
                      <a:pt x="201" y="230"/>
                    </a:lnTo>
                    <a:lnTo>
                      <a:pt x="217" y="328"/>
                    </a:lnTo>
                    <a:lnTo>
                      <a:pt x="231" y="440"/>
                    </a:lnTo>
                    <a:lnTo>
                      <a:pt x="241" y="533"/>
                    </a:lnTo>
                    <a:lnTo>
                      <a:pt x="247" y="641"/>
                    </a:lnTo>
                    <a:lnTo>
                      <a:pt x="252" y="733"/>
                    </a:lnTo>
                    <a:lnTo>
                      <a:pt x="255" y="851"/>
                    </a:lnTo>
                    <a:lnTo>
                      <a:pt x="253" y="983"/>
                    </a:lnTo>
                    <a:lnTo>
                      <a:pt x="249" y="1089"/>
                    </a:lnTo>
                    <a:lnTo>
                      <a:pt x="245" y="1184"/>
                    </a:lnTo>
                    <a:lnTo>
                      <a:pt x="239" y="1268"/>
                    </a:lnTo>
                    <a:lnTo>
                      <a:pt x="227" y="1373"/>
                    </a:lnTo>
                    <a:lnTo>
                      <a:pt x="214" y="1469"/>
                    </a:lnTo>
                    <a:lnTo>
                      <a:pt x="197" y="1576"/>
                    </a:lnTo>
                    <a:lnTo>
                      <a:pt x="177" y="1676"/>
                    </a:lnTo>
                    <a:lnTo>
                      <a:pt x="154" y="1773"/>
                    </a:lnTo>
                    <a:lnTo>
                      <a:pt x="133" y="1861"/>
                    </a:lnTo>
                    <a:lnTo>
                      <a:pt x="121" y="1889"/>
                    </a:lnTo>
                    <a:lnTo>
                      <a:pt x="0" y="1833"/>
                    </a:lnTo>
                    <a:lnTo>
                      <a:pt x="26" y="1762"/>
                    </a:lnTo>
                    <a:lnTo>
                      <a:pt x="54" y="1654"/>
                    </a:lnTo>
                    <a:lnTo>
                      <a:pt x="73" y="1553"/>
                    </a:lnTo>
                    <a:lnTo>
                      <a:pt x="89" y="1456"/>
                    </a:lnTo>
                    <a:lnTo>
                      <a:pt x="102" y="1341"/>
                    </a:lnTo>
                    <a:lnTo>
                      <a:pt x="113" y="1236"/>
                    </a:lnTo>
                    <a:lnTo>
                      <a:pt x="121" y="1133"/>
                    </a:lnTo>
                    <a:lnTo>
                      <a:pt x="125" y="1028"/>
                    </a:lnTo>
                    <a:lnTo>
                      <a:pt x="129" y="945"/>
                    </a:lnTo>
                    <a:lnTo>
                      <a:pt x="126" y="835"/>
                    </a:lnTo>
                    <a:lnTo>
                      <a:pt x="123" y="720"/>
                    </a:lnTo>
                    <a:lnTo>
                      <a:pt x="117" y="613"/>
                    </a:lnTo>
                    <a:lnTo>
                      <a:pt x="109" y="504"/>
                    </a:lnTo>
                    <a:lnTo>
                      <a:pt x="94" y="392"/>
                    </a:lnTo>
                    <a:lnTo>
                      <a:pt x="78" y="288"/>
                    </a:lnTo>
                    <a:lnTo>
                      <a:pt x="61" y="182"/>
                    </a:lnTo>
                    <a:lnTo>
                      <a:pt x="38" y="86"/>
                    </a:lnTo>
                    <a:lnTo>
                      <a:pt x="30" y="60"/>
                    </a:lnTo>
                    <a:lnTo>
                      <a:pt x="153" y="0"/>
                    </a:lnTo>
                    <a:lnTo>
                      <a:pt x="165" y="51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0662000">
                <a:off x="5014080" y="1348560"/>
                <a:ext cx="37080" cy="332640"/>
              </a:xfrm>
              <a:custGeom>
                <a:avLst/>
                <a:gdLst/>
                <a:ahLst/>
                <a:rect l="l" t="t" r="r" b="b"/>
                <a:pathLst>
                  <a:path w="223" h="1638">
                    <a:moveTo>
                      <a:pt x="153" y="0"/>
                    </a:moveTo>
                    <a:lnTo>
                      <a:pt x="169" y="95"/>
                    </a:lnTo>
                    <a:lnTo>
                      <a:pt x="185" y="193"/>
                    </a:lnTo>
                    <a:lnTo>
                      <a:pt x="198" y="305"/>
                    </a:lnTo>
                    <a:lnTo>
                      <a:pt x="209" y="398"/>
                    </a:lnTo>
                    <a:lnTo>
                      <a:pt x="215" y="506"/>
                    </a:lnTo>
                    <a:lnTo>
                      <a:pt x="220" y="598"/>
                    </a:lnTo>
                    <a:lnTo>
                      <a:pt x="223" y="716"/>
                    </a:lnTo>
                    <a:lnTo>
                      <a:pt x="221" y="834"/>
                    </a:lnTo>
                    <a:lnTo>
                      <a:pt x="217" y="954"/>
                    </a:lnTo>
                    <a:lnTo>
                      <a:pt x="213" y="1049"/>
                    </a:lnTo>
                    <a:lnTo>
                      <a:pt x="206" y="1133"/>
                    </a:lnTo>
                    <a:lnTo>
                      <a:pt x="194" y="1238"/>
                    </a:lnTo>
                    <a:lnTo>
                      <a:pt x="182" y="1334"/>
                    </a:lnTo>
                    <a:lnTo>
                      <a:pt x="165" y="1441"/>
                    </a:lnTo>
                    <a:lnTo>
                      <a:pt x="145" y="1541"/>
                    </a:lnTo>
                    <a:lnTo>
                      <a:pt x="122" y="1638"/>
                    </a:lnTo>
                    <a:lnTo>
                      <a:pt x="0" y="1582"/>
                    </a:lnTo>
                    <a:lnTo>
                      <a:pt x="22" y="1519"/>
                    </a:lnTo>
                    <a:lnTo>
                      <a:pt x="41" y="1418"/>
                    </a:lnTo>
                    <a:lnTo>
                      <a:pt x="57" y="1321"/>
                    </a:lnTo>
                    <a:lnTo>
                      <a:pt x="70" y="1206"/>
                    </a:lnTo>
                    <a:lnTo>
                      <a:pt x="81" y="1101"/>
                    </a:lnTo>
                    <a:lnTo>
                      <a:pt x="89" y="998"/>
                    </a:lnTo>
                    <a:lnTo>
                      <a:pt x="93" y="893"/>
                    </a:lnTo>
                    <a:lnTo>
                      <a:pt x="97" y="810"/>
                    </a:lnTo>
                    <a:lnTo>
                      <a:pt x="94" y="700"/>
                    </a:lnTo>
                    <a:lnTo>
                      <a:pt x="91" y="585"/>
                    </a:lnTo>
                    <a:lnTo>
                      <a:pt x="85" y="478"/>
                    </a:lnTo>
                    <a:lnTo>
                      <a:pt x="77" y="369"/>
                    </a:lnTo>
                    <a:lnTo>
                      <a:pt x="62" y="257"/>
                    </a:lnTo>
                    <a:lnTo>
                      <a:pt x="46" y="153"/>
                    </a:lnTo>
                    <a:lnTo>
                      <a:pt x="26" y="58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0662000">
                <a:off x="5061960" y="1371600"/>
                <a:ext cx="31320" cy="282240"/>
              </a:xfrm>
              <a:custGeom>
                <a:avLst/>
                <a:gdLst/>
                <a:ahLst/>
                <a:rect l="l" t="t" r="r" b="b"/>
                <a:pathLst>
                  <a:path w="190" h="1387">
                    <a:moveTo>
                      <a:pt x="134" y="0"/>
                    </a:moveTo>
                    <a:lnTo>
                      <a:pt x="153" y="75"/>
                    </a:lnTo>
                    <a:lnTo>
                      <a:pt x="166" y="187"/>
                    </a:lnTo>
                    <a:lnTo>
                      <a:pt x="177" y="280"/>
                    </a:lnTo>
                    <a:lnTo>
                      <a:pt x="182" y="388"/>
                    </a:lnTo>
                    <a:lnTo>
                      <a:pt x="188" y="480"/>
                    </a:lnTo>
                    <a:lnTo>
                      <a:pt x="190" y="598"/>
                    </a:lnTo>
                    <a:lnTo>
                      <a:pt x="189" y="716"/>
                    </a:lnTo>
                    <a:lnTo>
                      <a:pt x="185" y="836"/>
                    </a:lnTo>
                    <a:lnTo>
                      <a:pt x="181" y="931"/>
                    </a:lnTo>
                    <a:lnTo>
                      <a:pt x="174" y="1015"/>
                    </a:lnTo>
                    <a:lnTo>
                      <a:pt x="162" y="1120"/>
                    </a:lnTo>
                    <a:lnTo>
                      <a:pt x="150" y="1216"/>
                    </a:lnTo>
                    <a:lnTo>
                      <a:pt x="133" y="1323"/>
                    </a:lnTo>
                    <a:lnTo>
                      <a:pt x="125" y="1387"/>
                    </a:lnTo>
                    <a:lnTo>
                      <a:pt x="0" y="1331"/>
                    </a:lnTo>
                    <a:lnTo>
                      <a:pt x="8" y="1300"/>
                    </a:lnTo>
                    <a:lnTo>
                      <a:pt x="25" y="1203"/>
                    </a:lnTo>
                    <a:lnTo>
                      <a:pt x="38" y="1088"/>
                    </a:lnTo>
                    <a:lnTo>
                      <a:pt x="49" y="983"/>
                    </a:lnTo>
                    <a:lnTo>
                      <a:pt x="57" y="880"/>
                    </a:lnTo>
                    <a:lnTo>
                      <a:pt x="61" y="775"/>
                    </a:lnTo>
                    <a:lnTo>
                      <a:pt x="65" y="692"/>
                    </a:lnTo>
                    <a:lnTo>
                      <a:pt x="62" y="582"/>
                    </a:lnTo>
                    <a:lnTo>
                      <a:pt x="59" y="467"/>
                    </a:lnTo>
                    <a:lnTo>
                      <a:pt x="53" y="360"/>
                    </a:lnTo>
                    <a:lnTo>
                      <a:pt x="45" y="251"/>
                    </a:lnTo>
                    <a:lnTo>
                      <a:pt x="30" y="139"/>
                    </a:lnTo>
                    <a:lnTo>
                      <a:pt x="6" y="52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10662000">
                <a:off x="5104080" y="1391760"/>
                <a:ext cx="30240" cy="240840"/>
              </a:xfrm>
              <a:custGeom>
                <a:avLst/>
                <a:gdLst/>
                <a:ahLst/>
                <a:rect l="l" t="t" r="r" b="b"/>
                <a:pathLst>
                  <a:path w="182" h="1184">
                    <a:moveTo>
                      <a:pt x="149" y="0"/>
                    </a:moveTo>
                    <a:lnTo>
                      <a:pt x="161" y="68"/>
                    </a:lnTo>
                    <a:lnTo>
                      <a:pt x="168" y="147"/>
                    </a:lnTo>
                    <a:lnTo>
                      <a:pt x="178" y="261"/>
                    </a:lnTo>
                    <a:lnTo>
                      <a:pt x="179" y="348"/>
                    </a:lnTo>
                    <a:lnTo>
                      <a:pt x="182" y="466"/>
                    </a:lnTo>
                    <a:lnTo>
                      <a:pt x="180" y="584"/>
                    </a:lnTo>
                    <a:lnTo>
                      <a:pt x="176" y="704"/>
                    </a:lnTo>
                    <a:lnTo>
                      <a:pt x="172" y="799"/>
                    </a:lnTo>
                    <a:lnTo>
                      <a:pt x="165" y="883"/>
                    </a:lnTo>
                    <a:lnTo>
                      <a:pt x="153" y="988"/>
                    </a:lnTo>
                    <a:lnTo>
                      <a:pt x="141" y="1084"/>
                    </a:lnTo>
                    <a:lnTo>
                      <a:pt x="124" y="1184"/>
                    </a:lnTo>
                    <a:lnTo>
                      <a:pt x="0" y="1123"/>
                    </a:lnTo>
                    <a:lnTo>
                      <a:pt x="16" y="1071"/>
                    </a:lnTo>
                    <a:lnTo>
                      <a:pt x="29" y="955"/>
                    </a:lnTo>
                    <a:lnTo>
                      <a:pt x="40" y="851"/>
                    </a:lnTo>
                    <a:lnTo>
                      <a:pt x="48" y="748"/>
                    </a:lnTo>
                    <a:lnTo>
                      <a:pt x="52" y="642"/>
                    </a:lnTo>
                    <a:lnTo>
                      <a:pt x="56" y="559"/>
                    </a:lnTo>
                    <a:lnTo>
                      <a:pt x="53" y="450"/>
                    </a:lnTo>
                    <a:lnTo>
                      <a:pt x="53" y="333"/>
                    </a:lnTo>
                    <a:lnTo>
                      <a:pt x="49" y="225"/>
                    </a:lnTo>
                    <a:lnTo>
                      <a:pt x="36" y="119"/>
                    </a:lnTo>
                    <a:lnTo>
                      <a:pt x="21" y="60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10662000">
                <a:off x="5150880" y="1415520"/>
                <a:ext cx="25200" cy="187560"/>
              </a:xfrm>
              <a:custGeom>
                <a:avLst/>
                <a:gdLst/>
                <a:ahLst/>
                <a:rect l="l" t="t" r="r" b="b"/>
                <a:pathLst>
                  <a:path w="153" h="925">
                    <a:moveTo>
                      <a:pt x="129" y="0"/>
                    </a:moveTo>
                    <a:lnTo>
                      <a:pt x="141" y="80"/>
                    </a:lnTo>
                    <a:lnTo>
                      <a:pt x="145" y="167"/>
                    </a:lnTo>
                    <a:lnTo>
                      <a:pt x="151" y="259"/>
                    </a:lnTo>
                    <a:lnTo>
                      <a:pt x="153" y="377"/>
                    </a:lnTo>
                    <a:lnTo>
                      <a:pt x="152" y="495"/>
                    </a:lnTo>
                    <a:lnTo>
                      <a:pt x="148" y="615"/>
                    </a:lnTo>
                    <a:lnTo>
                      <a:pt x="144" y="710"/>
                    </a:lnTo>
                    <a:lnTo>
                      <a:pt x="137" y="794"/>
                    </a:lnTo>
                    <a:lnTo>
                      <a:pt x="136" y="879"/>
                    </a:lnTo>
                    <a:lnTo>
                      <a:pt x="132" y="925"/>
                    </a:lnTo>
                    <a:lnTo>
                      <a:pt x="0" y="857"/>
                    </a:lnTo>
                    <a:lnTo>
                      <a:pt x="12" y="762"/>
                    </a:lnTo>
                    <a:lnTo>
                      <a:pt x="20" y="659"/>
                    </a:lnTo>
                    <a:lnTo>
                      <a:pt x="24" y="554"/>
                    </a:lnTo>
                    <a:lnTo>
                      <a:pt x="28" y="471"/>
                    </a:lnTo>
                    <a:lnTo>
                      <a:pt x="29" y="349"/>
                    </a:lnTo>
                    <a:lnTo>
                      <a:pt x="25" y="245"/>
                    </a:lnTo>
                    <a:lnTo>
                      <a:pt x="16" y="139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0662000">
                <a:off x="5195520" y="1440720"/>
                <a:ext cx="23760" cy="136440"/>
              </a:xfrm>
              <a:custGeom>
                <a:avLst/>
                <a:gdLst/>
                <a:ahLst/>
                <a:rect l="l" t="t" r="r" b="b"/>
                <a:pathLst>
                  <a:path w="145" h="673">
                    <a:moveTo>
                      <a:pt x="129" y="0"/>
                    </a:moveTo>
                    <a:lnTo>
                      <a:pt x="143" y="123"/>
                    </a:lnTo>
                    <a:lnTo>
                      <a:pt x="145" y="241"/>
                    </a:lnTo>
                    <a:lnTo>
                      <a:pt x="144" y="359"/>
                    </a:lnTo>
                    <a:lnTo>
                      <a:pt x="140" y="479"/>
                    </a:lnTo>
                    <a:lnTo>
                      <a:pt x="136" y="574"/>
                    </a:lnTo>
                    <a:lnTo>
                      <a:pt x="120" y="673"/>
                    </a:lnTo>
                    <a:lnTo>
                      <a:pt x="0" y="617"/>
                    </a:lnTo>
                    <a:lnTo>
                      <a:pt x="12" y="523"/>
                    </a:lnTo>
                    <a:lnTo>
                      <a:pt x="16" y="418"/>
                    </a:lnTo>
                    <a:lnTo>
                      <a:pt x="20" y="335"/>
                    </a:lnTo>
                    <a:lnTo>
                      <a:pt x="17" y="213"/>
                    </a:lnTo>
                    <a:lnTo>
                      <a:pt x="14" y="110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0662000">
                <a:off x="5237280" y="1463760"/>
                <a:ext cx="22680" cy="91080"/>
              </a:xfrm>
              <a:custGeom>
                <a:avLst/>
                <a:gdLst/>
                <a:ahLst/>
                <a:rect l="l" t="t" r="r" b="b"/>
                <a:pathLst>
                  <a:path w="138" h="450">
                    <a:moveTo>
                      <a:pt x="135" y="66"/>
                    </a:moveTo>
                    <a:lnTo>
                      <a:pt x="138" y="181"/>
                    </a:lnTo>
                    <a:lnTo>
                      <a:pt x="136" y="295"/>
                    </a:lnTo>
                    <a:lnTo>
                      <a:pt x="130" y="394"/>
                    </a:lnTo>
                    <a:lnTo>
                      <a:pt x="121" y="450"/>
                    </a:lnTo>
                    <a:lnTo>
                      <a:pt x="0" y="398"/>
                    </a:lnTo>
                    <a:lnTo>
                      <a:pt x="8" y="277"/>
                    </a:lnTo>
                    <a:lnTo>
                      <a:pt x="9" y="166"/>
                    </a:lnTo>
                    <a:lnTo>
                      <a:pt x="9" y="61"/>
                    </a:lnTo>
                    <a:lnTo>
                      <a:pt x="130" y="0"/>
                    </a:lnTo>
                    <a:lnTo>
                      <a:pt x="135" y="66"/>
                    </a:lnTo>
                    <a:close/>
                  </a:path>
                </a:pathLst>
              </a:cu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3765600" y="3141720"/>
            <a:ext cx="806400" cy="573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611280" y="3166920"/>
            <a:ext cx="734760" cy="522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56360" y="2708280"/>
            <a:ext cx="28796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NB-MICHEL  00:20:a6:51:9d:7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(proxim 802.11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NB-MICHEL  00:b0:d0:e8:e3:5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(3com 802.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192.168.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6227640" y="2205000"/>
            <a:ext cx="289080" cy="484200"/>
            <a:chOff x="6227640" y="2205000"/>
            <a:chExt cx="289080" cy="484200"/>
          </a:xfrm>
        </p:grpSpPr>
        <p:sp>
          <p:nvSpPr>
            <p:cNvPr id="72" name=""/>
            <p:cNvSpPr/>
            <p:nvPr/>
          </p:nvSpPr>
          <p:spPr>
            <a:xfrm>
              <a:off x="6474600" y="2205000"/>
              <a:ext cx="42120" cy="484200"/>
            </a:xfrm>
            <a:custGeom>
              <a:avLst/>
              <a:gdLst/>
              <a:ahLst/>
              <a:rect l="l" t="t" r="r" b="b"/>
              <a:pathLst>
                <a:path w="355" h="2415">
                  <a:moveTo>
                    <a:pt x="177" y="0"/>
                  </a:moveTo>
                  <a:lnTo>
                    <a:pt x="193" y="56"/>
                  </a:lnTo>
                  <a:lnTo>
                    <a:pt x="221" y="147"/>
                  </a:lnTo>
                  <a:lnTo>
                    <a:pt x="245" y="228"/>
                  </a:lnTo>
                  <a:lnTo>
                    <a:pt x="265" y="312"/>
                  </a:lnTo>
                  <a:lnTo>
                    <a:pt x="285" y="396"/>
                  </a:lnTo>
                  <a:lnTo>
                    <a:pt x="301" y="491"/>
                  </a:lnTo>
                  <a:lnTo>
                    <a:pt x="318" y="589"/>
                  </a:lnTo>
                  <a:lnTo>
                    <a:pt x="331" y="701"/>
                  </a:lnTo>
                  <a:lnTo>
                    <a:pt x="342" y="794"/>
                  </a:lnTo>
                  <a:lnTo>
                    <a:pt x="347" y="902"/>
                  </a:lnTo>
                  <a:lnTo>
                    <a:pt x="352" y="994"/>
                  </a:lnTo>
                  <a:lnTo>
                    <a:pt x="355" y="1112"/>
                  </a:lnTo>
                  <a:lnTo>
                    <a:pt x="354" y="1230"/>
                  </a:lnTo>
                  <a:lnTo>
                    <a:pt x="350" y="1350"/>
                  </a:lnTo>
                  <a:lnTo>
                    <a:pt x="346" y="1445"/>
                  </a:lnTo>
                  <a:lnTo>
                    <a:pt x="339" y="1529"/>
                  </a:lnTo>
                  <a:lnTo>
                    <a:pt x="327" y="1634"/>
                  </a:lnTo>
                  <a:lnTo>
                    <a:pt x="315" y="1730"/>
                  </a:lnTo>
                  <a:lnTo>
                    <a:pt x="297" y="1837"/>
                  </a:lnTo>
                  <a:lnTo>
                    <a:pt x="277" y="1937"/>
                  </a:lnTo>
                  <a:lnTo>
                    <a:pt x="255" y="2034"/>
                  </a:lnTo>
                  <a:lnTo>
                    <a:pt x="233" y="2122"/>
                  </a:lnTo>
                  <a:lnTo>
                    <a:pt x="202" y="2216"/>
                  </a:lnTo>
                  <a:lnTo>
                    <a:pt x="170" y="2303"/>
                  </a:lnTo>
                  <a:lnTo>
                    <a:pt x="134" y="2392"/>
                  </a:lnTo>
                  <a:lnTo>
                    <a:pt x="125" y="2415"/>
                  </a:lnTo>
                  <a:lnTo>
                    <a:pt x="0" y="2359"/>
                  </a:lnTo>
                  <a:lnTo>
                    <a:pt x="36" y="2291"/>
                  </a:lnTo>
                  <a:lnTo>
                    <a:pt x="73" y="2206"/>
                  </a:lnTo>
                  <a:lnTo>
                    <a:pt x="102" y="2118"/>
                  </a:lnTo>
                  <a:lnTo>
                    <a:pt x="126" y="2023"/>
                  </a:lnTo>
                  <a:lnTo>
                    <a:pt x="154" y="1915"/>
                  </a:lnTo>
                  <a:lnTo>
                    <a:pt x="173" y="1814"/>
                  </a:lnTo>
                  <a:lnTo>
                    <a:pt x="189" y="1717"/>
                  </a:lnTo>
                  <a:lnTo>
                    <a:pt x="202" y="1602"/>
                  </a:lnTo>
                  <a:lnTo>
                    <a:pt x="213" y="1497"/>
                  </a:lnTo>
                  <a:lnTo>
                    <a:pt x="221" y="1394"/>
                  </a:lnTo>
                  <a:lnTo>
                    <a:pt x="225" y="1289"/>
                  </a:lnTo>
                  <a:lnTo>
                    <a:pt x="229" y="1206"/>
                  </a:lnTo>
                  <a:lnTo>
                    <a:pt x="227" y="1096"/>
                  </a:lnTo>
                  <a:lnTo>
                    <a:pt x="224" y="981"/>
                  </a:lnTo>
                  <a:lnTo>
                    <a:pt x="217" y="874"/>
                  </a:lnTo>
                  <a:lnTo>
                    <a:pt x="209" y="765"/>
                  </a:lnTo>
                  <a:lnTo>
                    <a:pt x="194" y="653"/>
                  </a:lnTo>
                  <a:lnTo>
                    <a:pt x="178" y="549"/>
                  </a:lnTo>
                  <a:lnTo>
                    <a:pt x="161" y="443"/>
                  </a:lnTo>
                  <a:lnTo>
                    <a:pt x="138" y="347"/>
                  </a:lnTo>
                  <a:lnTo>
                    <a:pt x="110" y="240"/>
                  </a:lnTo>
                  <a:lnTo>
                    <a:pt x="81" y="147"/>
                  </a:lnTo>
                  <a:lnTo>
                    <a:pt x="49" y="64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8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442560" y="2232360"/>
              <a:ext cx="35640" cy="431280"/>
            </a:xfrm>
            <a:custGeom>
              <a:avLst/>
              <a:gdLst/>
              <a:ahLst/>
              <a:rect l="l" t="t" r="r" b="b"/>
              <a:pathLst>
                <a:path w="299" h="2151">
                  <a:moveTo>
                    <a:pt x="161" y="0"/>
                  </a:moveTo>
                  <a:lnTo>
                    <a:pt x="189" y="91"/>
                  </a:lnTo>
                  <a:lnTo>
                    <a:pt x="209" y="175"/>
                  </a:lnTo>
                  <a:lnTo>
                    <a:pt x="229" y="259"/>
                  </a:lnTo>
                  <a:lnTo>
                    <a:pt x="245" y="354"/>
                  </a:lnTo>
                  <a:lnTo>
                    <a:pt x="261" y="452"/>
                  </a:lnTo>
                  <a:lnTo>
                    <a:pt x="275" y="564"/>
                  </a:lnTo>
                  <a:lnTo>
                    <a:pt x="285" y="657"/>
                  </a:lnTo>
                  <a:lnTo>
                    <a:pt x="291" y="765"/>
                  </a:lnTo>
                  <a:lnTo>
                    <a:pt x="296" y="857"/>
                  </a:lnTo>
                  <a:lnTo>
                    <a:pt x="299" y="975"/>
                  </a:lnTo>
                  <a:lnTo>
                    <a:pt x="297" y="1093"/>
                  </a:lnTo>
                  <a:lnTo>
                    <a:pt x="293" y="1213"/>
                  </a:lnTo>
                  <a:lnTo>
                    <a:pt x="289" y="1308"/>
                  </a:lnTo>
                  <a:lnTo>
                    <a:pt x="283" y="1392"/>
                  </a:lnTo>
                  <a:lnTo>
                    <a:pt x="271" y="1497"/>
                  </a:lnTo>
                  <a:lnTo>
                    <a:pt x="259" y="1593"/>
                  </a:lnTo>
                  <a:lnTo>
                    <a:pt x="241" y="1700"/>
                  </a:lnTo>
                  <a:lnTo>
                    <a:pt x="221" y="1800"/>
                  </a:lnTo>
                  <a:lnTo>
                    <a:pt x="198" y="1897"/>
                  </a:lnTo>
                  <a:lnTo>
                    <a:pt x="177" y="1985"/>
                  </a:lnTo>
                  <a:lnTo>
                    <a:pt x="146" y="2079"/>
                  </a:lnTo>
                  <a:lnTo>
                    <a:pt x="121" y="2151"/>
                  </a:lnTo>
                  <a:lnTo>
                    <a:pt x="0" y="2089"/>
                  </a:lnTo>
                  <a:lnTo>
                    <a:pt x="16" y="2069"/>
                  </a:lnTo>
                  <a:lnTo>
                    <a:pt x="46" y="1981"/>
                  </a:lnTo>
                  <a:lnTo>
                    <a:pt x="70" y="1886"/>
                  </a:lnTo>
                  <a:lnTo>
                    <a:pt x="98" y="1778"/>
                  </a:lnTo>
                  <a:lnTo>
                    <a:pt x="117" y="1677"/>
                  </a:lnTo>
                  <a:lnTo>
                    <a:pt x="133" y="1580"/>
                  </a:lnTo>
                  <a:lnTo>
                    <a:pt x="146" y="1465"/>
                  </a:lnTo>
                  <a:lnTo>
                    <a:pt x="157" y="1360"/>
                  </a:lnTo>
                  <a:lnTo>
                    <a:pt x="165" y="1257"/>
                  </a:lnTo>
                  <a:lnTo>
                    <a:pt x="169" y="1152"/>
                  </a:lnTo>
                  <a:lnTo>
                    <a:pt x="173" y="1069"/>
                  </a:lnTo>
                  <a:lnTo>
                    <a:pt x="170" y="959"/>
                  </a:lnTo>
                  <a:lnTo>
                    <a:pt x="168" y="844"/>
                  </a:lnTo>
                  <a:lnTo>
                    <a:pt x="161" y="737"/>
                  </a:lnTo>
                  <a:lnTo>
                    <a:pt x="153" y="628"/>
                  </a:lnTo>
                  <a:lnTo>
                    <a:pt x="138" y="516"/>
                  </a:lnTo>
                  <a:lnTo>
                    <a:pt x="122" y="412"/>
                  </a:lnTo>
                  <a:lnTo>
                    <a:pt x="105" y="306"/>
                  </a:lnTo>
                  <a:lnTo>
                    <a:pt x="82" y="210"/>
                  </a:lnTo>
                  <a:lnTo>
                    <a:pt x="54" y="103"/>
                  </a:lnTo>
                  <a:lnTo>
                    <a:pt x="32" y="52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a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09440" y="2257200"/>
              <a:ext cx="30240" cy="378720"/>
            </a:xfrm>
            <a:custGeom>
              <a:avLst/>
              <a:gdLst/>
              <a:ahLst/>
              <a:rect l="l" t="t" r="r" b="b"/>
              <a:pathLst>
                <a:path w="255" h="1889">
                  <a:moveTo>
                    <a:pt x="165" y="51"/>
                  </a:moveTo>
                  <a:lnTo>
                    <a:pt x="185" y="135"/>
                  </a:lnTo>
                  <a:lnTo>
                    <a:pt x="201" y="230"/>
                  </a:lnTo>
                  <a:lnTo>
                    <a:pt x="217" y="328"/>
                  </a:lnTo>
                  <a:lnTo>
                    <a:pt x="231" y="440"/>
                  </a:lnTo>
                  <a:lnTo>
                    <a:pt x="241" y="533"/>
                  </a:lnTo>
                  <a:lnTo>
                    <a:pt x="247" y="641"/>
                  </a:lnTo>
                  <a:lnTo>
                    <a:pt x="252" y="733"/>
                  </a:lnTo>
                  <a:lnTo>
                    <a:pt x="255" y="851"/>
                  </a:lnTo>
                  <a:lnTo>
                    <a:pt x="253" y="983"/>
                  </a:lnTo>
                  <a:lnTo>
                    <a:pt x="249" y="1089"/>
                  </a:lnTo>
                  <a:lnTo>
                    <a:pt x="245" y="1184"/>
                  </a:lnTo>
                  <a:lnTo>
                    <a:pt x="239" y="1268"/>
                  </a:lnTo>
                  <a:lnTo>
                    <a:pt x="227" y="1373"/>
                  </a:lnTo>
                  <a:lnTo>
                    <a:pt x="214" y="1469"/>
                  </a:lnTo>
                  <a:lnTo>
                    <a:pt x="197" y="1576"/>
                  </a:lnTo>
                  <a:lnTo>
                    <a:pt x="177" y="1676"/>
                  </a:lnTo>
                  <a:lnTo>
                    <a:pt x="154" y="1773"/>
                  </a:lnTo>
                  <a:lnTo>
                    <a:pt x="133" y="1861"/>
                  </a:lnTo>
                  <a:lnTo>
                    <a:pt x="121" y="1889"/>
                  </a:lnTo>
                  <a:lnTo>
                    <a:pt x="0" y="1833"/>
                  </a:lnTo>
                  <a:lnTo>
                    <a:pt x="26" y="1762"/>
                  </a:lnTo>
                  <a:lnTo>
                    <a:pt x="54" y="1654"/>
                  </a:lnTo>
                  <a:lnTo>
                    <a:pt x="73" y="1553"/>
                  </a:lnTo>
                  <a:lnTo>
                    <a:pt x="89" y="1456"/>
                  </a:lnTo>
                  <a:lnTo>
                    <a:pt x="102" y="1341"/>
                  </a:lnTo>
                  <a:lnTo>
                    <a:pt x="113" y="1236"/>
                  </a:lnTo>
                  <a:lnTo>
                    <a:pt x="121" y="1133"/>
                  </a:lnTo>
                  <a:lnTo>
                    <a:pt x="125" y="1028"/>
                  </a:lnTo>
                  <a:lnTo>
                    <a:pt x="129" y="945"/>
                  </a:lnTo>
                  <a:lnTo>
                    <a:pt x="126" y="835"/>
                  </a:lnTo>
                  <a:lnTo>
                    <a:pt x="123" y="720"/>
                  </a:lnTo>
                  <a:lnTo>
                    <a:pt x="117" y="613"/>
                  </a:lnTo>
                  <a:lnTo>
                    <a:pt x="109" y="504"/>
                  </a:lnTo>
                  <a:lnTo>
                    <a:pt x="94" y="392"/>
                  </a:lnTo>
                  <a:lnTo>
                    <a:pt x="78" y="288"/>
                  </a:lnTo>
                  <a:lnTo>
                    <a:pt x="61" y="182"/>
                  </a:lnTo>
                  <a:lnTo>
                    <a:pt x="38" y="86"/>
                  </a:lnTo>
                  <a:lnTo>
                    <a:pt x="30" y="60"/>
                  </a:lnTo>
                  <a:lnTo>
                    <a:pt x="153" y="0"/>
                  </a:lnTo>
                  <a:lnTo>
                    <a:pt x="165" y="5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378480" y="2282400"/>
              <a:ext cx="26640" cy="328320"/>
            </a:xfrm>
            <a:custGeom>
              <a:avLst/>
              <a:gdLst/>
              <a:ahLst/>
              <a:rect l="l" t="t" r="r" b="b"/>
              <a:pathLst>
                <a:path w="223" h="1638">
                  <a:moveTo>
                    <a:pt x="153" y="0"/>
                  </a:moveTo>
                  <a:lnTo>
                    <a:pt x="169" y="95"/>
                  </a:lnTo>
                  <a:lnTo>
                    <a:pt x="185" y="193"/>
                  </a:lnTo>
                  <a:lnTo>
                    <a:pt x="198" y="305"/>
                  </a:lnTo>
                  <a:lnTo>
                    <a:pt x="209" y="398"/>
                  </a:lnTo>
                  <a:lnTo>
                    <a:pt x="215" y="506"/>
                  </a:lnTo>
                  <a:lnTo>
                    <a:pt x="220" y="598"/>
                  </a:lnTo>
                  <a:lnTo>
                    <a:pt x="223" y="716"/>
                  </a:lnTo>
                  <a:lnTo>
                    <a:pt x="221" y="834"/>
                  </a:lnTo>
                  <a:lnTo>
                    <a:pt x="217" y="954"/>
                  </a:lnTo>
                  <a:lnTo>
                    <a:pt x="213" y="1049"/>
                  </a:lnTo>
                  <a:lnTo>
                    <a:pt x="206" y="1133"/>
                  </a:lnTo>
                  <a:lnTo>
                    <a:pt x="194" y="1238"/>
                  </a:lnTo>
                  <a:lnTo>
                    <a:pt x="182" y="1334"/>
                  </a:lnTo>
                  <a:lnTo>
                    <a:pt x="165" y="1441"/>
                  </a:lnTo>
                  <a:lnTo>
                    <a:pt x="145" y="1541"/>
                  </a:lnTo>
                  <a:lnTo>
                    <a:pt x="122" y="1638"/>
                  </a:lnTo>
                  <a:lnTo>
                    <a:pt x="0" y="1582"/>
                  </a:lnTo>
                  <a:lnTo>
                    <a:pt x="22" y="1519"/>
                  </a:lnTo>
                  <a:lnTo>
                    <a:pt x="41" y="1418"/>
                  </a:lnTo>
                  <a:lnTo>
                    <a:pt x="57" y="1321"/>
                  </a:lnTo>
                  <a:lnTo>
                    <a:pt x="70" y="1206"/>
                  </a:lnTo>
                  <a:lnTo>
                    <a:pt x="81" y="1101"/>
                  </a:lnTo>
                  <a:lnTo>
                    <a:pt x="89" y="998"/>
                  </a:lnTo>
                  <a:lnTo>
                    <a:pt x="93" y="893"/>
                  </a:lnTo>
                  <a:lnTo>
                    <a:pt x="97" y="810"/>
                  </a:lnTo>
                  <a:lnTo>
                    <a:pt x="94" y="700"/>
                  </a:lnTo>
                  <a:lnTo>
                    <a:pt x="91" y="585"/>
                  </a:lnTo>
                  <a:lnTo>
                    <a:pt x="85" y="478"/>
                  </a:lnTo>
                  <a:lnTo>
                    <a:pt x="77" y="369"/>
                  </a:lnTo>
                  <a:lnTo>
                    <a:pt x="62" y="257"/>
                  </a:lnTo>
                  <a:lnTo>
                    <a:pt x="46" y="153"/>
                  </a:lnTo>
                  <a:lnTo>
                    <a:pt x="26" y="58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48240" y="2307600"/>
              <a:ext cx="22320" cy="278640"/>
            </a:xfrm>
            <a:custGeom>
              <a:avLst/>
              <a:gdLst/>
              <a:ahLst/>
              <a:rect l="l" t="t" r="r" b="b"/>
              <a:pathLst>
                <a:path w="190" h="1387">
                  <a:moveTo>
                    <a:pt x="134" y="0"/>
                  </a:moveTo>
                  <a:lnTo>
                    <a:pt x="153" y="75"/>
                  </a:lnTo>
                  <a:lnTo>
                    <a:pt x="166" y="187"/>
                  </a:lnTo>
                  <a:lnTo>
                    <a:pt x="177" y="280"/>
                  </a:lnTo>
                  <a:lnTo>
                    <a:pt x="182" y="388"/>
                  </a:lnTo>
                  <a:lnTo>
                    <a:pt x="188" y="480"/>
                  </a:lnTo>
                  <a:lnTo>
                    <a:pt x="190" y="598"/>
                  </a:lnTo>
                  <a:lnTo>
                    <a:pt x="189" y="716"/>
                  </a:lnTo>
                  <a:lnTo>
                    <a:pt x="185" y="836"/>
                  </a:lnTo>
                  <a:lnTo>
                    <a:pt x="181" y="931"/>
                  </a:lnTo>
                  <a:lnTo>
                    <a:pt x="174" y="1015"/>
                  </a:lnTo>
                  <a:lnTo>
                    <a:pt x="162" y="1120"/>
                  </a:lnTo>
                  <a:lnTo>
                    <a:pt x="150" y="1216"/>
                  </a:lnTo>
                  <a:lnTo>
                    <a:pt x="133" y="1323"/>
                  </a:lnTo>
                  <a:lnTo>
                    <a:pt x="125" y="1387"/>
                  </a:lnTo>
                  <a:lnTo>
                    <a:pt x="0" y="1331"/>
                  </a:lnTo>
                  <a:lnTo>
                    <a:pt x="8" y="1300"/>
                  </a:lnTo>
                  <a:lnTo>
                    <a:pt x="25" y="1203"/>
                  </a:lnTo>
                  <a:lnTo>
                    <a:pt x="38" y="1088"/>
                  </a:lnTo>
                  <a:lnTo>
                    <a:pt x="49" y="983"/>
                  </a:lnTo>
                  <a:lnTo>
                    <a:pt x="57" y="880"/>
                  </a:lnTo>
                  <a:lnTo>
                    <a:pt x="61" y="775"/>
                  </a:lnTo>
                  <a:lnTo>
                    <a:pt x="65" y="692"/>
                  </a:lnTo>
                  <a:lnTo>
                    <a:pt x="62" y="582"/>
                  </a:lnTo>
                  <a:lnTo>
                    <a:pt x="59" y="467"/>
                  </a:lnTo>
                  <a:lnTo>
                    <a:pt x="53" y="360"/>
                  </a:lnTo>
                  <a:lnTo>
                    <a:pt x="45" y="251"/>
                  </a:lnTo>
                  <a:lnTo>
                    <a:pt x="30" y="139"/>
                  </a:lnTo>
                  <a:lnTo>
                    <a:pt x="6" y="52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18360" y="2326320"/>
              <a:ext cx="21600" cy="237600"/>
            </a:xfrm>
            <a:custGeom>
              <a:avLst/>
              <a:gdLst/>
              <a:ahLst/>
              <a:rect l="l" t="t" r="r" b="b"/>
              <a:pathLst>
                <a:path w="182" h="1184">
                  <a:moveTo>
                    <a:pt x="149" y="0"/>
                  </a:moveTo>
                  <a:lnTo>
                    <a:pt x="161" y="68"/>
                  </a:lnTo>
                  <a:lnTo>
                    <a:pt x="168" y="147"/>
                  </a:lnTo>
                  <a:lnTo>
                    <a:pt x="178" y="261"/>
                  </a:lnTo>
                  <a:lnTo>
                    <a:pt x="179" y="348"/>
                  </a:lnTo>
                  <a:lnTo>
                    <a:pt x="182" y="466"/>
                  </a:lnTo>
                  <a:lnTo>
                    <a:pt x="180" y="584"/>
                  </a:lnTo>
                  <a:lnTo>
                    <a:pt x="176" y="704"/>
                  </a:lnTo>
                  <a:lnTo>
                    <a:pt x="172" y="799"/>
                  </a:lnTo>
                  <a:lnTo>
                    <a:pt x="165" y="883"/>
                  </a:lnTo>
                  <a:lnTo>
                    <a:pt x="153" y="988"/>
                  </a:lnTo>
                  <a:lnTo>
                    <a:pt x="141" y="1084"/>
                  </a:lnTo>
                  <a:lnTo>
                    <a:pt x="124" y="1184"/>
                  </a:lnTo>
                  <a:lnTo>
                    <a:pt x="0" y="1123"/>
                  </a:lnTo>
                  <a:lnTo>
                    <a:pt x="16" y="1071"/>
                  </a:lnTo>
                  <a:lnTo>
                    <a:pt x="29" y="955"/>
                  </a:lnTo>
                  <a:lnTo>
                    <a:pt x="40" y="851"/>
                  </a:lnTo>
                  <a:lnTo>
                    <a:pt x="48" y="748"/>
                  </a:lnTo>
                  <a:lnTo>
                    <a:pt x="52" y="642"/>
                  </a:lnTo>
                  <a:lnTo>
                    <a:pt x="56" y="559"/>
                  </a:lnTo>
                  <a:lnTo>
                    <a:pt x="53" y="450"/>
                  </a:lnTo>
                  <a:lnTo>
                    <a:pt x="53" y="333"/>
                  </a:lnTo>
                  <a:lnTo>
                    <a:pt x="49" y="225"/>
                  </a:lnTo>
                  <a:lnTo>
                    <a:pt x="36" y="119"/>
                  </a:lnTo>
                  <a:lnTo>
                    <a:pt x="21" y="6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88120" y="2354040"/>
              <a:ext cx="18000" cy="185040"/>
            </a:xfrm>
            <a:custGeom>
              <a:avLst/>
              <a:gdLst/>
              <a:ahLst/>
              <a:rect l="l" t="t" r="r" b="b"/>
              <a:pathLst>
                <a:path w="153" h="925">
                  <a:moveTo>
                    <a:pt x="129" y="0"/>
                  </a:moveTo>
                  <a:lnTo>
                    <a:pt x="141" y="80"/>
                  </a:lnTo>
                  <a:lnTo>
                    <a:pt x="145" y="167"/>
                  </a:lnTo>
                  <a:lnTo>
                    <a:pt x="151" y="259"/>
                  </a:lnTo>
                  <a:lnTo>
                    <a:pt x="153" y="377"/>
                  </a:lnTo>
                  <a:lnTo>
                    <a:pt x="152" y="495"/>
                  </a:lnTo>
                  <a:lnTo>
                    <a:pt x="148" y="615"/>
                  </a:lnTo>
                  <a:lnTo>
                    <a:pt x="144" y="710"/>
                  </a:lnTo>
                  <a:lnTo>
                    <a:pt x="137" y="794"/>
                  </a:lnTo>
                  <a:lnTo>
                    <a:pt x="136" y="879"/>
                  </a:lnTo>
                  <a:lnTo>
                    <a:pt x="132" y="925"/>
                  </a:lnTo>
                  <a:lnTo>
                    <a:pt x="0" y="857"/>
                  </a:lnTo>
                  <a:lnTo>
                    <a:pt x="12" y="762"/>
                  </a:lnTo>
                  <a:lnTo>
                    <a:pt x="20" y="659"/>
                  </a:lnTo>
                  <a:lnTo>
                    <a:pt x="24" y="554"/>
                  </a:lnTo>
                  <a:lnTo>
                    <a:pt x="28" y="471"/>
                  </a:lnTo>
                  <a:lnTo>
                    <a:pt x="29" y="349"/>
                  </a:lnTo>
                  <a:lnTo>
                    <a:pt x="25" y="245"/>
                  </a:lnTo>
                  <a:lnTo>
                    <a:pt x="16" y="139"/>
                  </a:lnTo>
                  <a:lnTo>
                    <a:pt x="5" y="56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6800" y="2378160"/>
              <a:ext cx="16920" cy="134640"/>
            </a:xfrm>
            <a:custGeom>
              <a:avLst/>
              <a:gdLst/>
              <a:ahLst/>
              <a:rect l="l" t="t" r="r" b="b"/>
              <a:pathLst>
                <a:path w="145" h="673">
                  <a:moveTo>
                    <a:pt x="129" y="0"/>
                  </a:moveTo>
                  <a:lnTo>
                    <a:pt x="143" y="123"/>
                  </a:lnTo>
                  <a:lnTo>
                    <a:pt x="145" y="241"/>
                  </a:lnTo>
                  <a:lnTo>
                    <a:pt x="144" y="359"/>
                  </a:lnTo>
                  <a:lnTo>
                    <a:pt x="140" y="479"/>
                  </a:lnTo>
                  <a:lnTo>
                    <a:pt x="136" y="574"/>
                  </a:lnTo>
                  <a:lnTo>
                    <a:pt x="120" y="673"/>
                  </a:lnTo>
                  <a:lnTo>
                    <a:pt x="0" y="617"/>
                  </a:lnTo>
                  <a:lnTo>
                    <a:pt x="12" y="523"/>
                  </a:lnTo>
                  <a:lnTo>
                    <a:pt x="16" y="418"/>
                  </a:lnTo>
                  <a:lnTo>
                    <a:pt x="20" y="335"/>
                  </a:lnTo>
                  <a:lnTo>
                    <a:pt x="17" y="213"/>
                  </a:lnTo>
                  <a:lnTo>
                    <a:pt x="14" y="110"/>
                  </a:lnTo>
                  <a:lnTo>
                    <a:pt x="5" y="56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27640" y="2398680"/>
              <a:ext cx="16200" cy="90000"/>
            </a:xfrm>
            <a:custGeom>
              <a:avLst/>
              <a:gdLst/>
              <a:ahLst/>
              <a:rect l="l" t="t" r="r" b="b"/>
              <a:pathLst>
                <a:path w="138" h="450">
                  <a:moveTo>
                    <a:pt x="135" y="66"/>
                  </a:moveTo>
                  <a:lnTo>
                    <a:pt x="138" y="181"/>
                  </a:lnTo>
                  <a:lnTo>
                    <a:pt x="136" y="295"/>
                  </a:lnTo>
                  <a:lnTo>
                    <a:pt x="130" y="394"/>
                  </a:lnTo>
                  <a:lnTo>
                    <a:pt x="121" y="450"/>
                  </a:lnTo>
                  <a:lnTo>
                    <a:pt x="0" y="398"/>
                  </a:lnTo>
                  <a:lnTo>
                    <a:pt x="8" y="277"/>
                  </a:lnTo>
                  <a:lnTo>
                    <a:pt x="9" y="166"/>
                  </a:lnTo>
                  <a:lnTo>
                    <a:pt x="9" y="61"/>
                  </a:lnTo>
                  <a:lnTo>
                    <a:pt x="130" y="0"/>
                  </a:lnTo>
                  <a:lnTo>
                    <a:pt x="135" y="66"/>
                  </a:lnTo>
                  <a:close/>
                </a:path>
              </a:pathLst>
            </a:custGeom>
            <a:solidFill>
              <a:srgbClr val="ffe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258920" y="4148280"/>
            <a:ext cx="288720" cy="484200"/>
            <a:chOff x="1258920" y="4148280"/>
            <a:chExt cx="288720" cy="484200"/>
          </a:xfrm>
        </p:grpSpPr>
        <p:sp>
          <p:nvSpPr>
            <p:cNvPr id="82" name=""/>
            <p:cNvSpPr/>
            <p:nvPr/>
          </p:nvSpPr>
          <p:spPr>
            <a:xfrm>
              <a:off x="1505520" y="4148280"/>
              <a:ext cx="42120" cy="484200"/>
            </a:xfrm>
            <a:custGeom>
              <a:avLst/>
              <a:gdLst/>
              <a:ahLst/>
              <a:rect l="l" t="t" r="r" b="b"/>
              <a:pathLst>
                <a:path w="355" h="2415">
                  <a:moveTo>
                    <a:pt x="177" y="0"/>
                  </a:moveTo>
                  <a:lnTo>
                    <a:pt x="193" y="56"/>
                  </a:lnTo>
                  <a:lnTo>
                    <a:pt x="221" y="147"/>
                  </a:lnTo>
                  <a:lnTo>
                    <a:pt x="245" y="228"/>
                  </a:lnTo>
                  <a:lnTo>
                    <a:pt x="265" y="312"/>
                  </a:lnTo>
                  <a:lnTo>
                    <a:pt x="285" y="396"/>
                  </a:lnTo>
                  <a:lnTo>
                    <a:pt x="301" y="491"/>
                  </a:lnTo>
                  <a:lnTo>
                    <a:pt x="318" y="589"/>
                  </a:lnTo>
                  <a:lnTo>
                    <a:pt x="331" y="701"/>
                  </a:lnTo>
                  <a:lnTo>
                    <a:pt x="342" y="794"/>
                  </a:lnTo>
                  <a:lnTo>
                    <a:pt x="347" y="902"/>
                  </a:lnTo>
                  <a:lnTo>
                    <a:pt x="352" y="994"/>
                  </a:lnTo>
                  <a:lnTo>
                    <a:pt x="355" y="1112"/>
                  </a:lnTo>
                  <a:lnTo>
                    <a:pt x="354" y="1230"/>
                  </a:lnTo>
                  <a:lnTo>
                    <a:pt x="350" y="1350"/>
                  </a:lnTo>
                  <a:lnTo>
                    <a:pt x="346" y="1445"/>
                  </a:lnTo>
                  <a:lnTo>
                    <a:pt x="339" y="1529"/>
                  </a:lnTo>
                  <a:lnTo>
                    <a:pt x="327" y="1634"/>
                  </a:lnTo>
                  <a:lnTo>
                    <a:pt x="315" y="1730"/>
                  </a:lnTo>
                  <a:lnTo>
                    <a:pt x="297" y="1837"/>
                  </a:lnTo>
                  <a:lnTo>
                    <a:pt x="277" y="1937"/>
                  </a:lnTo>
                  <a:lnTo>
                    <a:pt x="255" y="2034"/>
                  </a:lnTo>
                  <a:lnTo>
                    <a:pt x="233" y="2122"/>
                  </a:lnTo>
                  <a:lnTo>
                    <a:pt x="202" y="2216"/>
                  </a:lnTo>
                  <a:lnTo>
                    <a:pt x="170" y="2303"/>
                  </a:lnTo>
                  <a:lnTo>
                    <a:pt x="134" y="2392"/>
                  </a:lnTo>
                  <a:lnTo>
                    <a:pt x="125" y="2415"/>
                  </a:lnTo>
                  <a:lnTo>
                    <a:pt x="0" y="2359"/>
                  </a:lnTo>
                  <a:lnTo>
                    <a:pt x="36" y="2291"/>
                  </a:lnTo>
                  <a:lnTo>
                    <a:pt x="73" y="2206"/>
                  </a:lnTo>
                  <a:lnTo>
                    <a:pt x="102" y="2118"/>
                  </a:lnTo>
                  <a:lnTo>
                    <a:pt x="126" y="2023"/>
                  </a:lnTo>
                  <a:lnTo>
                    <a:pt x="154" y="1915"/>
                  </a:lnTo>
                  <a:lnTo>
                    <a:pt x="173" y="1814"/>
                  </a:lnTo>
                  <a:lnTo>
                    <a:pt x="189" y="1717"/>
                  </a:lnTo>
                  <a:lnTo>
                    <a:pt x="202" y="1602"/>
                  </a:lnTo>
                  <a:lnTo>
                    <a:pt x="213" y="1497"/>
                  </a:lnTo>
                  <a:lnTo>
                    <a:pt x="221" y="1394"/>
                  </a:lnTo>
                  <a:lnTo>
                    <a:pt x="225" y="1289"/>
                  </a:lnTo>
                  <a:lnTo>
                    <a:pt x="229" y="1206"/>
                  </a:lnTo>
                  <a:lnTo>
                    <a:pt x="227" y="1096"/>
                  </a:lnTo>
                  <a:lnTo>
                    <a:pt x="224" y="981"/>
                  </a:lnTo>
                  <a:lnTo>
                    <a:pt x="217" y="874"/>
                  </a:lnTo>
                  <a:lnTo>
                    <a:pt x="209" y="765"/>
                  </a:lnTo>
                  <a:lnTo>
                    <a:pt x="194" y="653"/>
                  </a:lnTo>
                  <a:lnTo>
                    <a:pt x="178" y="549"/>
                  </a:lnTo>
                  <a:lnTo>
                    <a:pt x="161" y="443"/>
                  </a:lnTo>
                  <a:lnTo>
                    <a:pt x="138" y="347"/>
                  </a:lnTo>
                  <a:lnTo>
                    <a:pt x="110" y="240"/>
                  </a:lnTo>
                  <a:lnTo>
                    <a:pt x="81" y="147"/>
                  </a:lnTo>
                  <a:lnTo>
                    <a:pt x="49" y="64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8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73480" y="4175640"/>
              <a:ext cx="35640" cy="431280"/>
            </a:xfrm>
            <a:custGeom>
              <a:avLst/>
              <a:gdLst/>
              <a:ahLst/>
              <a:rect l="l" t="t" r="r" b="b"/>
              <a:pathLst>
                <a:path w="299" h="2151">
                  <a:moveTo>
                    <a:pt x="161" y="0"/>
                  </a:moveTo>
                  <a:lnTo>
                    <a:pt x="189" y="91"/>
                  </a:lnTo>
                  <a:lnTo>
                    <a:pt x="209" y="175"/>
                  </a:lnTo>
                  <a:lnTo>
                    <a:pt x="229" y="259"/>
                  </a:lnTo>
                  <a:lnTo>
                    <a:pt x="245" y="354"/>
                  </a:lnTo>
                  <a:lnTo>
                    <a:pt x="261" y="452"/>
                  </a:lnTo>
                  <a:lnTo>
                    <a:pt x="275" y="564"/>
                  </a:lnTo>
                  <a:lnTo>
                    <a:pt x="285" y="657"/>
                  </a:lnTo>
                  <a:lnTo>
                    <a:pt x="291" y="765"/>
                  </a:lnTo>
                  <a:lnTo>
                    <a:pt x="296" y="857"/>
                  </a:lnTo>
                  <a:lnTo>
                    <a:pt x="299" y="975"/>
                  </a:lnTo>
                  <a:lnTo>
                    <a:pt x="297" y="1093"/>
                  </a:lnTo>
                  <a:lnTo>
                    <a:pt x="293" y="1213"/>
                  </a:lnTo>
                  <a:lnTo>
                    <a:pt x="289" y="1308"/>
                  </a:lnTo>
                  <a:lnTo>
                    <a:pt x="283" y="1392"/>
                  </a:lnTo>
                  <a:lnTo>
                    <a:pt x="271" y="1497"/>
                  </a:lnTo>
                  <a:lnTo>
                    <a:pt x="259" y="1593"/>
                  </a:lnTo>
                  <a:lnTo>
                    <a:pt x="241" y="1700"/>
                  </a:lnTo>
                  <a:lnTo>
                    <a:pt x="221" y="1800"/>
                  </a:lnTo>
                  <a:lnTo>
                    <a:pt x="198" y="1897"/>
                  </a:lnTo>
                  <a:lnTo>
                    <a:pt x="177" y="1985"/>
                  </a:lnTo>
                  <a:lnTo>
                    <a:pt x="146" y="2079"/>
                  </a:lnTo>
                  <a:lnTo>
                    <a:pt x="121" y="2151"/>
                  </a:lnTo>
                  <a:lnTo>
                    <a:pt x="0" y="2089"/>
                  </a:lnTo>
                  <a:lnTo>
                    <a:pt x="16" y="2069"/>
                  </a:lnTo>
                  <a:lnTo>
                    <a:pt x="46" y="1981"/>
                  </a:lnTo>
                  <a:lnTo>
                    <a:pt x="70" y="1886"/>
                  </a:lnTo>
                  <a:lnTo>
                    <a:pt x="98" y="1778"/>
                  </a:lnTo>
                  <a:lnTo>
                    <a:pt x="117" y="1677"/>
                  </a:lnTo>
                  <a:lnTo>
                    <a:pt x="133" y="1580"/>
                  </a:lnTo>
                  <a:lnTo>
                    <a:pt x="146" y="1465"/>
                  </a:lnTo>
                  <a:lnTo>
                    <a:pt x="157" y="1360"/>
                  </a:lnTo>
                  <a:lnTo>
                    <a:pt x="165" y="1257"/>
                  </a:lnTo>
                  <a:lnTo>
                    <a:pt x="169" y="1152"/>
                  </a:lnTo>
                  <a:lnTo>
                    <a:pt x="173" y="1069"/>
                  </a:lnTo>
                  <a:lnTo>
                    <a:pt x="170" y="959"/>
                  </a:lnTo>
                  <a:lnTo>
                    <a:pt x="168" y="844"/>
                  </a:lnTo>
                  <a:lnTo>
                    <a:pt x="161" y="737"/>
                  </a:lnTo>
                  <a:lnTo>
                    <a:pt x="153" y="628"/>
                  </a:lnTo>
                  <a:lnTo>
                    <a:pt x="138" y="516"/>
                  </a:lnTo>
                  <a:lnTo>
                    <a:pt x="122" y="412"/>
                  </a:lnTo>
                  <a:lnTo>
                    <a:pt x="105" y="306"/>
                  </a:lnTo>
                  <a:lnTo>
                    <a:pt x="82" y="210"/>
                  </a:lnTo>
                  <a:lnTo>
                    <a:pt x="54" y="103"/>
                  </a:lnTo>
                  <a:lnTo>
                    <a:pt x="32" y="52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a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440720" y="4200480"/>
              <a:ext cx="30240" cy="378720"/>
            </a:xfrm>
            <a:custGeom>
              <a:avLst/>
              <a:gdLst/>
              <a:ahLst/>
              <a:rect l="l" t="t" r="r" b="b"/>
              <a:pathLst>
                <a:path w="255" h="1889">
                  <a:moveTo>
                    <a:pt x="165" y="51"/>
                  </a:moveTo>
                  <a:lnTo>
                    <a:pt x="185" y="135"/>
                  </a:lnTo>
                  <a:lnTo>
                    <a:pt x="201" y="230"/>
                  </a:lnTo>
                  <a:lnTo>
                    <a:pt x="217" y="328"/>
                  </a:lnTo>
                  <a:lnTo>
                    <a:pt x="231" y="440"/>
                  </a:lnTo>
                  <a:lnTo>
                    <a:pt x="241" y="533"/>
                  </a:lnTo>
                  <a:lnTo>
                    <a:pt x="247" y="641"/>
                  </a:lnTo>
                  <a:lnTo>
                    <a:pt x="252" y="733"/>
                  </a:lnTo>
                  <a:lnTo>
                    <a:pt x="255" y="851"/>
                  </a:lnTo>
                  <a:lnTo>
                    <a:pt x="253" y="983"/>
                  </a:lnTo>
                  <a:lnTo>
                    <a:pt x="249" y="1089"/>
                  </a:lnTo>
                  <a:lnTo>
                    <a:pt x="245" y="1184"/>
                  </a:lnTo>
                  <a:lnTo>
                    <a:pt x="239" y="1268"/>
                  </a:lnTo>
                  <a:lnTo>
                    <a:pt x="227" y="1373"/>
                  </a:lnTo>
                  <a:lnTo>
                    <a:pt x="214" y="1469"/>
                  </a:lnTo>
                  <a:lnTo>
                    <a:pt x="197" y="1576"/>
                  </a:lnTo>
                  <a:lnTo>
                    <a:pt x="177" y="1676"/>
                  </a:lnTo>
                  <a:lnTo>
                    <a:pt x="154" y="1773"/>
                  </a:lnTo>
                  <a:lnTo>
                    <a:pt x="133" y="1861"/>
                  </a:lnTo>
                  <a:lnTo>
                    <a:pt x="121" y="1889"/>
                  </a:lnTo>
                  <a:lnTo>
                    <a:pt x="0" y="1833"/>
                  </a:lnTo>
                  <a:lnTo>
                    <a:pt x="26" y="1762"/>
                  </a:lnTo>
                  <a:lnTo>
                    <a:pt x="54" y="1654"/>
                  </a:lnTo>
                  <a:lnTo>
                    <a:pt x="73" y="1553"/>
                  </a:lnTo>
                  <a:lnTo>
                    <a:pt x="89" y="1456"/>
                  </a:lnTo>
                  <a:lnTo>
                    <a:pt x="102" y="1341"/>
                  </a:lnTo>
                  <a:lnTo>
                    <a:pt x="113" y="1236"/>
                  </a:lnTo>
                  <a:lnTo>
                    <a:pt x="121" y="1133"/>
                  </a:lnTo>
                  <a:lnTo>
                    <a:pt x="125" y="1028"/>
                  </a:lnTo>
                  <a:lnTo>
                    <a:pt x="129" y="945"/>
                  </a:lnTo>
                  <a:lnTo>
                    <a:pt x="126" y="835"/>
                  </a:lnTo>
                  <a:lnTo>
                    <a:pt x="123" y="720"/>
                  </a:lnTo>
                  <a:lnTo>
                    <a:pt x="117" y="613"/>
                  </a:lnTo>
                  <a:lnTo>
                    <a:pt x="109" y="504"/>
                  </a:lnTo>
                  <a:lnTo>
                    <a:pt x="94" y="392"/>
                  </a:lnTo>
                  <a:lnTo>
                    <a:pt x="78" y="288"/>
                  </a:lnTo>
                  <a:lnTo>
                    <a:pt x="61" y="182"/>
                  </a:lnTo>
                  <a:lnTo>
                    <a:pt x="38" y="86"/>
                  </a:lnTo>
                  <a:lnTo>
                    <a:pt x="30" y="60"/>
                  </a:lnTo>
                  <a:lnTo>
                    <a:pt x="153" y="0"/>
                  </a:lnTo>
                  <a:lnTo>
                    <a:pt x="165" y="5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09760" y="4225680"/>
              <a:ext cx="26640" cy="328320"/>
            </a:xfrm>
            <a:custGeom>
              <a:avLst/>
              <a:gdLst/>
              <a:ahLst/>
              <a:rect l="l" t="t" r="r" b="b"/>
              <a:pathLst>
                <a:path w="223" h="1638">
                  <a:moveTo>
                    <a:pt x="153" y="0"/>
                  </a:moveTo>
                  <a:lnTo>
                    <a:pt x="169" y="95"/>
                  </a:lnTo>
                  <a:lnTo>
                    <a:pt x="185" y="193"/>
                  </a:lnTo>
                  <a:lnTo>
                    <a:pt x="198" y="305"/>
                  </a:lnTo>
                  <a:lnTo>
                    <a:pt x="209" y="398"/>
                  </a:lnTo>
                  <a:lnTo>
                    <a:pt x="215" y="506"/>
                  </a:lnTo>
                  <a:lnTo>
                    <a:pt x="220" y="598"/>
                  </a:lnTo>
                  <a:lnTo>
                    <a:pt x="223" y="716"/>
                  </a:lnTo>
                  <a:lnTo>
                    <a:pt x="221" y="834"/>
                  </a:lnTo>
                  <a:lnTo>
                    <a:pt x="217" y="954"/>
                  </a:lnTo>
                  <a:lnTo>
                    <a:pt x="213" y="1049"/>
                  </a:lnTo>
                  <a:lnTo>
                    <a:pt x="206" y="1133"/>
                  </a:lnTo>
                  <a:lnTo>
                    <a:pt x="194" y="1238"/>
                  </a:lnTo>
                  <a:lnTo>
                    <a:pt x="182" y="1334"/>
                  </a:lnTo>
                  <a:lnTo>
                    <a:pt x="165" y="1441"/>
                  </a:lnTo>
                  <a:lnTo>
                    <a:pt x="145" y="1541"/>
                  </a:lnTo>
                  <a:lnTo>
                    <a:pt x="122" y="1638"/>
                  </a:lnTo>
                  <a:lnTo>
                    <a:pt x="0" y="1582"/>
                  </a:lnTo>
                  <a:lnTo>
                    <a:pt x="22" y="1519"/>
                  </a:lnTo>
                  <a:lnTo>
                    <a:pt x="41" y="1418"/>
                  </a:lnTo>
                  <a:lnTo>
                    <a:pt x="57" y="1321"/>
                  </a:lnTo>
                  <a:lnTo>
                    <a:pt x="70" y="1206"/>
                  </a:lnTo>
                  <a:lnTo>
                    <a:pt x="81" y="1101"/>
                  </a:lnTo>
                  <a:lnTo>
                    <a:pt x="89" y="998"/>
                  </a:lnTo>
                  <a:lnTo>
                    <a:pt x="93" y="893"/>
                  </a:lnTo>
                  <a:lnTo>
                    <a:pt x="97" y="810"/>
                  </a:lnTo>
                  <a:lnTo>
                    <a:pt x="94" y="700"/>
                  </a:lnTo>
                  <a:lnTo>
                    <a:pt x="91" y="585"/>
                  </a:lnTo>
                  <a:lnTo>
                    <a:pt x="85" y="478"/>
                  </a:lnTo>
                  <a:lnTo>
                    <a:pt x="77" y="369"/>
                  </a:lnTo>
                  <a:lnTo>
                    <a:pt x="62" y="257"/>
                  </a:lnTo>
                  <a:lnTo>
                    <a:pt x="46" y="153"/>
                  </a:lnTo>
                  <a:lnTo>
                    <a:pt x="26" y="58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79160" y="4250880"/>
              <a:ext cx="22320" cy="278640"/>
            </a:xfrm>
            <a:custGeom>
              <a:avLst/>
              <a:gdLst/>
              <a:ahLst/>
              <a:rect l="l" t="t" r="r" b="b"/>
              <a:pathLst>
                <a:path w="190" h="1387">
                  <a:moveTo>
                    <a:pt x="134" y="0"/>
                  </a:moveTo>
                  <a:lnTo>
                    <a:pt x="153" y="75"/>
                  </a:lnTo>
                  <a:lnTo>
                    <a:pt x="166" y="187"/>
                  </a:lnTo>
                  <a:lnTo>
                    <a:pt x="177" y="280"/>
                  </a:lnTo>
                  <a:lnTo>
                    <a:pt x="182" y="388"/>
                  </a:lnTo>
                  <a:lnTo>
                    <a:pt x="188" y="480"/>
                  </a:lnTo>
                  <a:lnTo>
                    <a:pt x="190" y="598"/>
                  </a:lnTo>
                  <a:lnTo>
                    <a:pt x="189" y="716"/>
                  </a:lnTo>
                  <a:lnTo>
                    <a:pt x="185" y="836"/>
                  </a:lnTo>
                  <a:lnTo>
                    <a:pt x="181" y="931"/>
                  </a:lnTo>
                  <a:lnTo>
                    <a:pt x="174" y="1015"/>
                  </a:lnTo>
                  <a:lnTo>
                    <a:pt x="162" y="1120"/>
                  </a:lnTo>
                  <a:lnTo>
                    <a:pt x="150" y="1216"/>
                  </a:lnTo>
                  <a:lnTo>
                    <a:pt x="133" y="1323"/>
                  </a:lnTo>
                  <a:lnTo>
                    <a:pt x="125" y="1387"/>
                  </a:lnTo>
                  <a:lnTo>
                    <a:pt x="0" y="1331"/>
                  </a:lnTo>
                  <a:lnTo>
                    <a:pt x="8" y="1300"/>
                  </a:lnTo>
                  <a:lnTo>
                    <a:pt x="25" y="1203"/>
                  </a:lnTo>
                  <a:lnTo>
                    <a:pt x="38" y="1088"/>
                  </a:lnTo>
                  <a:lnTo>
                    <a:pt x="49" y="983"/>
                  </a:lnTo>
                  <a:lnTo>
                    <a:pt x="57" y="880"/>
                  </a:lnTo>
                  <a:lnTo>
                    <a:pt x="61" y="775"/>
                  </a:lnTo>
                  <a:lnTo>
                    <a:pt x="65" y="692"/>
                  </a:lnTo>
                  <a:lnTo>
                    <a:pt x="62" y="582"/>
                  </a:lnTo>
                  <a:lnTo>
                    <a:pt x="59" y="467"/>
                  </a:lnTo>
                  <a:lnTo>
                    <a:pt x="53" y="360"/>
                  </a:lnTo>
                  <a:lnTo>
                    <a:pt x="45" y="251"/>
                  </a:lnTo>
                  <a:lnTo>
                    <a:pt x="30" y="139"/>
                  </a:lnTo>
                  <a:lnTo>
                    <a:pt x="6" y="52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49640" y="4269600"/>
              <a:ext cx="21600" cy="237600"/>
            </a:xfrm>
            <a:custGeom>
              <a:avLst/>
              <a:gdLst/>
              <a:ahLst/>
              <a:rect l="l" t="t" r="r" b="b"/>
              <a:pathLst>
                <a:path w="182" h="1184">
                  <a:moveTo>
                    <a:pt x="149" y="0"/>
                  </a:moveTo>
                  <a:lnTo>
                    <a:pt x="161" y="68"/>
                  </a:lnTo>
                  <a:lnTo>
                    <a:pt x="168" y="147"/>
                  </a:lnTo>
                  <a:lnTo>
                    <a:pt x="178" y="261"/>
                  </a:lnTo>
                  <a:lnTo>
                    <a:pt x="179" y="348"/>
                  </a:lnTo>
                  <a:lnTo>
                    <a:pt x="182" y="466"/>
                  </a:lnTo>
                  <a:lnTo>
                    <a:pt x="180" y="584"/>
                  </a:lnTo>
                  <a:lnTo>
                    <a:pt x="176" y="704"/>
                  </a:lnTo>
                  <a:lnTo>
                    <a:pt x="172" y="799"/>
                  </a:lnTo>
                  <a:lnTo>
                    <a:pt x="165" y="883"/>
                  </a:lnTo>
                  <a:lnTo>
                    <a:pt x="153" y="988"/>
                  </a:lnTo>
                  <a:lnTo>
                    <a:pt x="141" y="1084"/>
                  </a:lnTo>
                  <a:lnTo>
                    <a:pt x="124" y="1184"/>
                  </a:lnTo>
                  <a:lnTo>
                    <a:pt x="0" y="1123"/>
                  </a:lnTo>
                  <a:lnTo>
                    <a:pt x="16" y="1071"/>
                  </a:lnTo>
                  <a:lnTo>
                    <a:pt x="29" y="955"/>
                  </a:lnTo>
                  <a:lnTo>
                    <a:pt x="40" y="851"/>
                  </a:lnTo>
                  <a:lnTo>
                    <a:pt x="48" y="748"/>
                  </a:lnTo>
                  <a:lnTo>
                    <a:pt x="52" y="642"/>
                  </a:lnTo>
                  <a:lnTo>
                    <a:pt x="56" y="559"/>
                  </a:lnTo>
                  <a:lnTo>
                    <a:pt x="53" y="450"/>
                  </a:lnTo>
                  <a:lnTo>
                    <a:pt x="53" y="333"/>
                  </a:lnTo>
                  <a:lnTo>
                    <a:pt x="49" y="225"/>
                  </a:lnTo>
                  <a:lnTo>
                    <a:pt x="36" y="119"/>
                  </a:lnTo>
                  <a:lnTo>
                    <a:pt x="21" y="6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319400" y="4297320"/>
              <a:ext cx="18000" cy="185040"/>
            </a:xfrm>
            <a:custGeom>
              <a:avLst/>
              <a:gdLst/>
              <a:ahLst/>
              <a:rect l="l" t="t" r="r" b="b"/>
              <a:pathLst>
                <a:path w="153" h="925">
                  <a:moveTo>
                    <a:pt x="129" y="0"/>
                  </a:moveTo>
                  <a:lnTo>
                    <a:pt x="141" y="80"/>
                  </a:lnTo>
                  <a:lnTo>
                    <a:pt x="145" y="167"/>
                  </a:lnTo>
                  <a:lnTo>
                    <a:pt x="151" y="259"/>
                  </a:lnTo>
                  <a:lnTo>
                    <a:pt x="153" y="377"/>
                  </a:lnTo>
                  <a:lnTo>
                    <a:pt x="152" y="495"/>
                  </a:lnTo>
                  <a:lnTo>
                    <a:pt x="148" y="615"/>
                  </a:lnTo>
                  <a:lnTo>
                    <a:pt x="144" y="710"/>
                  </a:lnTo>
                  <a:lnTo>
                    <a:pt x="137" y="794"/>
                  </a:lnTo>
                  <a:lnTo>
                    <a:pt x="136" y="879"/>
                  </a:lnTo>
                  <a:lnTo>
                    <a:pt x="132" y="925"/>
                  </a:lnTo>
                  <a:lnTo>
                    <a:pt x="0" y="857"/>
                  </a:lnTo>
                  <a:lnTo>
                    <a:pt x="12" y="762"/>
                  </a:lnTo>
                  <a:lnTo>
                    <a:pt x="20" y="659"/>
                  </a:lnTo>
                  <a:lnTo>
                    <a:pt x="24" y="554"/>
                  </a:lnTo>
                  <a:lnTo>
                    <a:pt x="28" y="471"/>
                  </a:lnTo>
                  <a:lnTo>
                    <a:pt x="29" y="349"/>
                  </a:lnTo>
                  <a:lnTo>
                    <a:pt x="25" y="245"/>
                  </a:lnTo>
                  <a:lnTo>
                    <a:pt x="16" y="139"/>
                  </a:lnTo>
                  <a:lnTo>
                    <a:pt x="5" y="56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288080" y="4321440"/>
              <a:ext cx="16920" cy="134640"/>
            </a:xfrm>
            <a:custGeom>
              <a:avLst/>
              <a:gdLst/>
              <a:ahLst/>
              <a:rect l="l" t="t" r="r" b="b"/>
              <a:pathLst>
                <a:path w="145" h="673">
                  <a:moveTo>
                    <a:pt x="129" y="0"/>
                  </a:moveTo>
                  <a:lnTo>
                    <a:pt x="143" y="123"/>
                  </a:lnTo>
                  <a:lnTo>
                    <a:pt x="145" y="241"/>
                  </a:lnTo>
                  <a:lnTo>
                    <a:pt x="144" y="359"/>
                  </a:lnTo>
                  <a:lnTo>
                    <a:pt x="140" y="479"/>
                  </a:lnTo>
                  <a:lnTo>
                    <a:pt x="136" y="574"/>
                  </a:lnTo>
                  <a:lnTo>
                    <a:pt x="120" y="673"/>
                  </a:lnTo>
                  <a:lnTo>
                    <a:pt x="0" y="617"/>
                  </a:lnTo>
                  <a:lnTo>
                    <a:pt x="12" y="523"/>
                  </a:lnTo>
                  <a:lnTo>
                    <a:pt x="16" y="418"/>
                  </a:lnTo>
                  <a:lnTo>
                    <a:pt x="20" y="335"/>
                  </a:lnTo>
                  <a:lnTo>
                    <a:pt x="17" y="213"/>
                  </a:lnTo>
                  <a:lnTo>
                    <a:pt x="14" y="110"/>
                  </a:lnTo>
                  <a:lnTo>
                    <a:pt x="5" y="56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58920" y="4341960"/>
              <a:ext cx="16200" cy="90000"/>
            </a:xfrm>
            <a:custGeom>
              <a:avLst/>
              <a:gdLst/>
              <a:ahLst/>
              <a:rect l="l" t="t" r="r" b="b"/>
              <a:pathLst>
                <a:path w="138" h="450">
                  <a:moveTo>
                    <a:pt x="135" y="66"/>
                  </a:moveTo>
                  <a:lnTo>
                    <a:pt x="138" y="181"/>
                  </a:lnTo>
                  <a:lnTo>
                    <a:pt x="136" y="295"/>
                  </a:lnTo>
                  <a:lnTo>
                    <a:pt x="130" y="394"/>
                  </a:lnTo>
                  <a:lnTo>
                    <a:pt x="121" y="450"/>
                  </a:lnTo>
                  <a:lnTo>
                    <a:pt x="0" y="398"/>
                  </a:lnTo>
                  <a:lnTo>
                    <a:pt x="8" y="277"/>
                  </a:lnTo>
                  <a:lnTo>
                    <a:pt x="9" y="166"/>
                  </a:lnTo>
                  <a:lnTo>
                    <a:pt x="9" y="61"/>
                  </a:lnTo>
                  <a:lnTo>
                    <a:pt x="130" y="0"/>
                  </a:lnTo>
                  <a:lnTo>
                    <a:pt x="135" y="66"/>
                  </a:lnTo>
                  <a:close/>
                </a:path>
              </a:pathLst>
            </a:custGeom>
            <a:solidFill>
              <a:srgbClr val="ffe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61080" y="4105080"/>
            <a:ext cx="864000" cy="829080"/>
            <a:chOff x="361080" y="4105080"/>
            <a:chExt cx="864000" cy="829080"/>
          </a:xfrm>
        </p:grpSpPr>
        <p:grpSp>
          <p:nvGrpSpPr>
            <p:cNvPr id="92" name=""/>
            <p:cNvGrpSpPr/>
            <p:nvPr/>
          </p:nvGrpSpPr>
          <p:grpSpPr>
            <a:xfrm>
              <a:off x="361080" y="4105080"/>
              <a:ext cx="864000" cy="829080"/>
              <a:chOff x="361080" y="4105080"/>
              <a:chExt cx="864000" cy="829080"/>
            </a:xfrm>
          </p:grpSpPr>
          <p:sp>
            <p:nvSpPr>
              <p:cNvPr id="93" name=""/>
              <p:cNvSpPr/>
              <p:nvPr/>
            </p:nvSpPr>
            <p:spPr>
              <a:xfrm rot="20566800">
                <a:off x="698760" y="4163400"/>
                <a:ext cx="460080" cy="500040"/>
              </a:xfrm>
              <a:custGeom>
                <a:avLst/>
                <a:gdLst/>
                <a:ahLst/>
                <a:rect l="l" t="t" r="r" b="b"/>
                <a:pathLst>
                  <a:path w="360" h="541">
                    <a:moveTo>
                      <a:pt x="249" y="537"/>
                    </a:moveTo>
                    <a:lnTo>
                      <a:pt x="241" y="540"/>
                    </a:lnTo>
                    <a:lnTo>
                      <a:pt x="0" y="345"/>
                    </a:lnTo>
                    <a:lnTo>
                      <a:pt x="80" y="16"/>
                    </a:lnTo>
                    <a:lnTo>
                      <a:pt x="93" y="2"/>
                    </a:lnTo>
                    <a:lnTo>
                      <a:pt x="104" y="0"/>
                    </a:lnTo>
                    <a:lnTo>
                      <a:pt x="111" y="2"/>
                    </a:lnTo>
                    <a:lnTo>
                      <a:pt x="345" y="94"/>
                    </a:lnTo>
                    <a:lnTo>
                      <a:pt x="353" y="100"/>
                    </a:lnTo>
                    <a:lnTo>
                      <a:pt x="359" y="100"/>
                    </a:lnTo>
                    <a:lnTo>
                      <a:pt x="359" y="102"/>
                    </a:lnTo>
                    <a:lnTo>
                      <a:pt x="254" y="540"/>
                    </a:lnTo>
                    <a:lnTo>
                      <a:pt x="249" y="537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20566800">
                <a:off x="977400" y="4197960"/>
                <a:ext cx="187920" cy="430920"/>
              </a:xfrm>
              <a:custGeom>
                <a:avLst/>
                <a:gdLst/>
                <a:ahLst/>
                <a:rect l="l" t="t" r="r" b="b"/>
                <a:pathLst>
                  <a:path w="147" h="466">
                    <a:moveTo>
                      <a:pt x="146" y="19"/>
                    </a:moveTo>
                    <a:lnTo>
                      <a:pt x="146" y="27"/>
                    </a:lnTo>
                    <a:lnTo>
                      <a:pt x="41" y="448"/>
                    </a:lnTo>
                    <a:lnTo>
                      <a:pt x="41" y="456"/>
                    </a:lnTo>
                    <a:lnTo>
                      <a:pt x="36" y="462"/>
                    </a:lnTo>
                    <a:lnTo>
                      <a:pt x="31" y="465"/>
                    </a:lnTo>
                    <a:lnTo>
                      <a:pt x="28" y="462"/>
                    </a:lnTo>
                    <a:lnTo>
                      <a:pt x="23" y="456"/>
                    </a:lnTo>
                    <a:lnTo>
                      <a:pt x="0" y="439"/>
                    </a:lnTo>
                    <a:lnTo>
                      <a:pt x="109" y="8"/>
                    </a:lnTo>
                    <a:lnTo>
                      <a:pt x="109" y="2"/>
                    </a:lnTo>
                    <a:lnTo>
                      <a:pt x="101" y="0"/>
                    </a:lnTo>
                    <a:lnTo>
                      <a:pt x="114" y="2"/>
                    </a:lnTo>
                    <a:lnTo>
                      <a:pt x="138" y="11"/>
                    </a:lnTo>
                    <a:lnTo>
                      <a:pt x="140" y="16"/>
                    </a:lnTo>
                    <a:lnTo>
                      <a:pt x="146" y="19"/>
                    </a:lnTo>
                  </a:path>
                </a:pathLst>
              </a:custGeom>
              <a:solidFill>
                <a:srgbClr val="202020"/>
              </a:solidFill>
              <a:ln cap="rnd" w="12600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20566800">
                <a:off x="758160" y="4153680"/>
                <a:ext cx="343800" cy="95760"/>
              </a:xfrm>
              <a:custGeom>
                <a:avLst/>
                <a:gdLst/>
                <a:ahLst/>
                <a:rect l="l" t="t" r="r" b="b"/>
                <a:pathLst>
                  <a:path w="269" h="104">
                    <a:moveTo>
                      <a:pt x="0" y="0"/>
                    </a:moveTo>
                    <a:lnTo>
                      <a:pt x="7" y="0"/>
                    </a:lnTo>
                    <a:lnTo>
                      <a:pt x="15" y="2"/>
                    </a:lnTo>
                    <a:lnTo>
                      <a:pt x="254" y="94"/>
                    </a:lnTo>
                    <a:lnTo>
                      <a:pt x="262" y="100"/>
                    </a:lnTo>
                    <a:lnTo>
                      <a:pt x="268" y="10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cap="rnd" w="12600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20566800">
                <a:off x="744480" y="4231440"/>
                <a:ext cx="309960" cy="370800"/>
              </a:xfrm>
              <a:custGeom>
                <a:avLst/>
                <a:gdLst/>
                <a:ahLst/>
                <a:rect l="l" t="t" r="r" b="b"/>
                <a:pathLst>
                  <a:path w="243" h="401">
                    <a:moveTo>
                      <a:pt x="156" y="400"/>
                    </a:moveTo>
                    <a:lnTo>
                      <a:pt x="0" y="283"/>
                    </a:lnTo>
                    <a:lnTo>
                      <a:pt x="75" y="0"/>
                    </a:lnTo>
                    <a:lnTo>
                      <a:pt x="242" y="72"/>
                    </a:lnTo>
                    <a:lnTo>
                      <a:pt x="156" y="40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20566800">
                <a:off x="760320" y="4241160"/>
                <a:ext cx="280800" cy="345960"/>
              </a:xfrm>
              <a:custGeom>
                <a:avLst/>
                <a:gdLst/>
                <a:ahLst/>
                <a:rect l="l" t="t" r="r" b="b"/>
                <a:pathLst>
                  <a:path w="220" h="374">
                    <a:moveTo>
                      <a:pt x="138" y="373"/>
                    </a:moveTo>
                    <a:lnTo>
                      <a:pt x="0" y="264"/>
                    </a:lnTo>
                    <a:lnTo>
                      <a:pt x="67" y="0"/>
                    </a:lnTo>
                    <a:lnTo>
                      <a:pt x="219" y="64"/>
                    </a:lnTo>
                    <a:lnTo>
                      <a:pt x="138" y="373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20566800">
                <a:off x="673560" y="4217040"/>
                <a:ext cx="136440" cy="322560"/>
              </a:xfrm>
              <a:custGeom>
                <a:avLst/>
                <a:gdLst/>
                <a:ahLst/>
                <a:rect l="l" t="t" r="r" b="b"/>
                <a:pathLst>
                  <a:path w="107" h="349">
                    <a:moveTo>
                      <a:pt x="100" y="0"/>
                    </a:moveTo>
                    <a:lnTo>
                      <a:pt x="93" y="2"/>
                    </a:lnTo>
                    <a:lnTo>
                      <a:pt x="90" y="2"/>
                    </a:lnTo>
                    <a:lnTo>
                      <a:pt x="85" y="8"/>
                    </a:lnTo>
                    <a:lnTo>
                      <a:pt x="82" y="16"/>
                    </a:lnTo>
                    <a:lnTo>
                      <a:pt x="82" y="19"/>
                    </a:lnTo>
                    <a:lnTo>
                      <a:pt x="0" y="345"/>
                    </a:lnTo>
                    <a:lnTo>
                      <a:pt x="5" y="348"/>
                    </a:lnTo>
                    <a:lnTo>
                      <a:pt x="85" y="19"/>
                    </a:lnTo>
                    <a:lnTo>
                      <a:pt x="90" y="11"/>
                    </a:lnTo>
                    <a:lnTo>
                      <a:pt x="93" y="8"/>
                    </a:lnTo>
                    <a:lnTo>
                      <a:pt x="98" y="2"/>
                    </a:lnTo>
                    <a:lnTo>
                      <a:pt x="100" y="2"/>
                    </a:lnTo>
                    <a:lnTo>
                      <a:pt x="106" y="0"/>
                    </a:lnTo>
                    <a:lnTo>
                      <a:pt x="10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20566800">
                <a:off x="730800" y="4511880"/>
                <a:ext cx="347400" cy="208800"/>
              </a:xfrm>
              <a:custGeom>
                <a:avLst/>
                <a:gdLst/>
                <a:ahLst/>
                <a:rect l="l" t="t" r="r" b="b"/>
                <a:pathLst>
                  <a:path w="272" h="226">
                    <a:moveTo>
                      <a:pt x="271" y="225"/>
                    </a:moveTo>
                    <a:lnTo>
                      <a:pt x="265" y="197"/>
                    </a:lnTo>
                    <a:lnTo>
                      <a:pt x="257" y="180"/>
                    </a:lnTo>
                    <a:lnTo>
                      <a:pt x="36" y="0"/>
                    </a:lnTo>
                    <a:lnTo>
                      <a:pt x="28" y="0"/>
                    </a:lnTo>
                    <a:lnTo>
                      <a:pt x="15" y="0"/>
                    </a:lnTo>
                    <a:lnTo>
                      <a:pt x="7" y="8"/>
                    </a:lnTo>
                    <a:lnTo>
                      <a:pt x="0" y="33"/>
                    </a:lnTo>
                    <a:lnTo>
                      <a:pt x="221" y="225"/>
                    </a:lnTo>
                    <a:lnTo>
                      <a:pt x="271" y="225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20566800">
                <a:off x="383400" y="4602240"/>
                <a:ext cx="642600" cy="183960"/>
              </a:xfrm>
              <a:custGeom>
                <a:avLst/>
                <a:gdLst/>
                <a:ahLst/>
                <a:rect l="l" t="t" r="r" b="b"/>
                <a:pathLst>
                  <a:path w="503" h="199">
                    <a:moveTo>
                      <a:pt x="0" y="0"/>
                    </a:moveTo>
                    <a:lnTo>
                      <a:pt x="283" y="2"/>
                    </a:lnTo>
                    <a:lnTo>
                      <a:pt x="502" y="189"/>
                    </a:lnTo>
                    <a:lnTo>
                      <a:pt x="122" y="1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20566800">
                <a:off x="547920" y="4739040"/>
                <a:ext cx="579960" cy="67320"/>
              </a:xfrm>
              <a:custGeom>
                <a:avLst/>
                <a:gdLst/>
                <a:ahLst/>
                <a:rect l="l" t="t" r="r" b="b"/>
                <a:pathLst>
                  <a:path w="454" h="73">
                    <a:moveTo>
                      <a:pt x="15" y="11"/>
                    </a:moveTo>
                    <a:lnTo>
                      <a:pt x="0" y="72"/>
                    </a:lnTo>
                    <a:lnTo>
                      <a:pt x="447" y="60"/>
                    </a:lnTo>
                    <a:lnTo>
                      <a:pt x="453" y="38"/>
                    </a:lnTo>
                    <a:lnTo>
                      <a:pt x="453" y="19"/>
                    </a:lnTo>
                    <a:lnTo>
                      <a:pt x="447" y="0"/>
                    </a:lnTo>
                    <a:lnTo>
                      <a:pt x="15" y="11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20566800">
                <a:off x="392760" y="4674240"/>
                <a:ext cx="167400" cy="240480"/>
              </a:xfrm>
              <a:custGeom>
                <a:avLst/>
                <a:gdLst/>
                <a:ahLst/>
                <a:rect l="l" t="t" r="r" b="b"/>
                <a:pathLst>
                  <a:path w="131" h="260">
                    <a:moveTo>
                      <a:pt x="7" y="0"/>
                    </a:moveTo>
                    <a:lnTo>
                      <a:pt x="0" y="47"/>
                    </a:lnTo>
                    <a:lnTo>
                      <a:pt x="117" y="259"/>
                    </a:lnTo>
                    <a:lnTo>
                      <a:pt x="130" y="20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20566800">
                <a:off x="775080" y="4749120"/>
                <a:ext cx="84240" cy="15480"/>
              </a:xfrm>
              <a:custGeom>
                <a:avLst/>
                <a:gdLst/>
                <a:ahLst/>
                <a:rect l="l" t="t" r="r" b="b"/>
                <a:pathLst>
                  <a:path w="66" h="17">
                    <a:moveTo>
                      <a:pt x="0" y="16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65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20566800">
                <a:off x="570600" y="4615200"/>
                <a:ext cx="183960" cy="181080"/>
              </a:xfrm>
              <a:custGeom>
                <a:avLst/>
                <a:gdLst/>
                <a:ahLst/>
                <a:rect l="l" t="t" r="r" b="b"/>
                <a:pathLst>
                  <a:path w="144" h="196">
                    <a:moveTo>
                      <a:pt x="143" y="186"/>
                    </a:moveTo>
                    <a:lnTo>
                      <a:pt x="0" y="0"/>
                    </a:lnTo>
                    <a:lnTo>
                      <a:pt x="143" y="195"/>
                    </a:lnTo>
                    <a:lnTo>
                      <a:pt x="143" y="186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20566800">
                <a:off x="435240" y="4689000"/>
                <a:ext cx="21240" cy="1656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17"/>
                    </a:moveTo>
                    <a:lnTo>
                      <a:pt x="0" y="2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16" y="17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20566800">
                <a:off x="438840" y="4687560"/>
                <a:ext cx="2412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2" y="0"/>
                    </a:lnTo>
                    <a:lnTo>
                      <a:pt x="18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20566800">
                <a:off x="439560" y="468936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9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20566800">
                <a:off x="441720" y="46958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20566800">
                <a:off x="447120" y="469296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5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5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20566800">
                <a:off x="452880" y="469944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20566800">
                <a:off x="568080" y="464652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7" y="16"/>
                    </a:lnTo>
                    <a:lnTo>
                      <a:pt x="21" y="16"/>
                    </a:lnTo>
                    <a:lnTo>
                      <a:pt x="1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20566800">
                <a:off x="514440" y="4664520"/>
                <a:ext cx="21600" cy="1656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17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6" y="2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20566800">
                <a:off x="514080" y="4664160"/>
                <a:ext cx="2412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0" y="0"/>
                    </a:lnTo>
                    <a:lnTo>
                      <a:pt x="15" y="0"/>
                    </a:lnTo>
                    <a:lnTo>
                      <a:pt x="18" y="16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20566800">
                <a:off x="518760" y="466488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20566800">
                <a:off x="520560" y="467136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20566800">
                <a:off x="526680" y="46692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566800">
                <a:off x="528840" y="467532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20566800">
                <a:off x="532800" y="467532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20566800">
                <a:off x="532440" y="467460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0"/>
                    </a:moveTo>
                    <a:lnTo>
                      <a:pt x="12" y="0"/>
                    </a:lnTo>
                    <a:lnTo>
                      <a:pt x="15" y="8"/>
                    </a:lnTo>
                    <a:lnTo>
                      <a:pt x="20" y="16"/>
                    </a:lnTo>
                    <a:lnTo>
                      <a:pt x="5" y="16"/>
                    </a:lnTo>
                    <a:lnTo>
                      <a:pt x="5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20566800">
                <a:off x="540360" y="467748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566800">
                <a:off x="540720" y="467856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20566800">
                <a:off x="542520" y="4677120"/>
                <a:ext cx="25200" cy="1548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0" y="0"/>
                    </a:moveTo>
                    <a:lnTo>
                      <a:pt x="13" y="0"/>
                    </a:lnTo>
                    <a:lnTo>
                      <a:pt x="13" y="5"/>
                    </a:lnTo>
                    <a:lnTo>
                      <a:pt x="19" y="16"/>
                    </a:lnTo>
                    <a:lnTo>
                      <a:pt x="5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20566800">
                <a:off x="544680" y="468360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20566800">
                <a:off x="552240" y="4682520"/>
                <a:ext cx="21600" cy="1656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17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16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20566800">
                <a:off x="553680" y="468720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5" y="0"/>
                    </a:moveTo>
                    <a:lnTo>
                      <a:pt x="15" y="0"/>
                    </a:lnTo>
                    <a:lnTo>
                      <a:pt x="20" y="16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20566800">
                <a:off x="560520" y="4687560"/>
                <a:ext cx="2412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5"/>
                    </a:lnTo>
                    <a:lnTo>
                      <a:pt x="2" y="0"/>
                    </a:lnTo>
                    <a:lnTo>
                      <a:pt x="15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20566800">
                <a:off x="562680" y="469332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20566800">
                <a:off x="564480" y="469152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3" y="5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20566800">
                <a:off x="566640" y="469836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21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20566800">
                <a:off x="574200" y="46972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566800">
                <a:off x="573840" y="469656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0"/>
                    </a:moveTo>
                    <a:lnTo>
                      <a:pt x="15" y="0"/>
                    </a:lnTo>
                    <a:lnTo>
                      <a:pt x="15" y="8"/>
                    </a:lnTo>
                    <a:lnTo>
                      <a:pt x="20" y="16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566800">
                <a:off x="578160" y="470088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566800">
                <a:off x="578520" y="4701960"/>
                <a:ext cx="21600" cy="1656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17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20566800">
                <a:off x="585720" y="470340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20566800">
                <a:off x="586440" y="4705560"/>
                <a:ext cx="31680" cy="1548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16"/>
                    </a:moveTo>
                    <a:lnTo>
                      <a:pt x="2" y="5"/>
                    </a:lnTo>
                    <a:lnTo>
                      <a:pt x="2" y="0"/>
                    </a:lnTo>
                    <a:lnTo>
                      <a:pt x="18" y="0"/>
                    </a:lnTo>
                    <a:lnTo>
                      <a:pt x="24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20566800">
                <a:off x="591840" y="471096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0" y="3"/>
                    </a:lnTo>
                    <a:lnTo>
                      <a:pt x="8" y="0"/>
                    </a:lnTo>
                    <a:lnTo>
                      <a:pt x="16" y="3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20566800">
                <a:off x="597960" y="470916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20566800">
                <a:off x="598320" y="471060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12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20566800">
                <a:off x="606240" y="4714560"/>
                <a:ext cx="2124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20566800">
                <a:off x="605880" y="4713840"/>
                <a:ext cx="25200" cy="1548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8"/>
                    </a:lnTo>
                    <a:lnTo>
                      <a:pt x="19" y="16"/>
                    </a:lnTo>
                    <a:lnTo>
                      <a:pt x="2" y="16"/>
                    </a:lnTo>
                    <a:lnTo>
                      <a:pt x="2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20566800">
                <a:off x="611280" y="471744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20566800">
                <a:off x="611640" y="471852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0566800">
                <a:off x="618840" y="47210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20566800">
                <a:off x="619560" y="4723560"/>
                <a:ext cx="2412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16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15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0566800">
                <a:off x="625320" y="47278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6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20566800">
                <a:off x="624960" y="472680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20566800">
                <a:off x="633240" y="473184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20566800">
                <a:off x="633600" y="473292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0566800">
                <a:off x="636840" y="4731480"/>
                <a:ext cx="2412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2" y="0"/>
                    </a:lnTo>
                    <a:lnTo>
                      <a:pt x="12" y="5"/>
                    </a:lnTo>
                    <a:lnTo>
                      <a:pt x="18" y="16"/>
                    </a:lnTo>
                    <a:lnTo>
                      <a:pt x="5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20566800">
                <a:off x="639000" y="473832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20566800">
                <a:off x="645480" y="47368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20566800">
                <a:off x="645120" y="473580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5" y="0"/>
                    </a:moveTo>
                    <a:lnTo>
                      <a:pt x="15" y="0"/>
                    </a:lnTo>
                    <a:lnTo>
                      <a:pt x="15" y="8"/>
                    </a:lnTo>
                    <a:lnTo>
                      <a:pt x="21" y="16"/>
                    </a:lnTo>
                    <a:lnTo>
                      <a:pt x="7" y="16"/>
                    </a:lnTo>
                    <a:lnTo>
                      <a:pt x="5" y="8"/>
                    </a:ln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20566800">
                <a:off x="649080" y="474048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0566800">
                <a:off x="657000" y="4739400"/>
                <a:ext cx="21600" cy="1656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17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20566800">
                <a:off x="656640" y="473868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0"/>
                    </a:moveTo>
                    <a:lnTo>
                      <a:pt x="12" y="0"/>
                    </a:lnTo>
                    <a:lnTo>
                      <a:pt x="12" y="5"/>
                    </a:lnTo>
                    <a:lnTo>
                      <a:pt x="15" y="5"/>
                    </a:lnTo>
                    <a:lnTo>
                      <a:pt x="20" y="16"/>
                    </a:lnTo>
                    <a:lnTo>
                      <a:pt x="5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20566800">
                <a:off x="658800" y="4744800"/>
                <a:ext cx="30240" cy="1548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0" y="16"/>
                    </a:moveTo>
                    <a:lnTo>
                      <a:pt x="0" y="5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17" y="0"/>
                    </a:lnTo>
                    <a:lnTo>
                      <a:pt x="23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20566800">
                <a:off x="664920" y="4744440"/>
                <a:ext cx="21600" cy="1656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17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16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20566800">
                <a:off x="664560" y="474408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0" y="0"/>
                    </a:lnTo>
                    <a:lnTo>
                      <a:pt x="15" y="5"/>
                    </a:lnTo>
                    <a:lnTo>
                      <a:pt x="18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0566800">
                <a:off x="669600" y="475092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20566800">
                <a:off x="671400" y="475632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16" y="3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20566800">
                <a:off x="678600" y="4753800"/>
                <a:ext cx="2412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0" y="0"/>
                    </a:lnTo>
                    <a:lnTo>
                      <a:pt x="18" y="16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20566800">
                <a:off x="679320" y="4755960"/>
                <a:ext cx="2412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12"/>
                    </a:lnTo>
                    <a:lnTo>
                      <a:pt x="2" y="4"/>
                    </a:lnTo>
                    <a:lnTo>
                      <a:pt x="2" y="0"/>
                    </a:lnTo>
                    <a:lnTo>
                      <a:pt x="18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20566800">
                <a:off x="682920" y="47584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2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0566800">
                <a:off x="689040" y="47566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20566800">
                <a:off x="691200" y="476280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20566800">
                <a:off x="483120" y="4674240"/>
                <a:ext cx="21240" cy="1656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17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16" y="2"/>
                    </a:lnTo>
                    <a:lnTo>
                      <a:pt x="5" y="17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20566800">
                <a:off x="488520" y="467136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20566800">
                <a:off x="491040" y="4678920"/>
                <a:ext cx="31680" cy="1548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16"/>
                    </a:moveTo>
                    <a:lnTo>
                      <a:pt x="0" y="5"/>
                    </a:lnTo>
                    <a:lnTo>
                      <a:pt x="2" y="0"/>
                    </a:lnTo>
                    <a:lnTo>
                      <a:pt x="18" y="0"/>
                    </a:lnTo>
                    <a:lnTo>
                      <a:pt x="24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20566800">
                <a:off x="495360" y="46792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16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20566800">
                <a:off x="501480" y="467712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20566800">
                <a:off x="503280" y="468324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20566800">
                <a:off x="503640" y="468432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20566800">
                <a:off x="509040" y="4681800"/>
                <a:ext cx="25200" cy="1548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8"/>
                    </a:lnTo>
                    <a:lnTo>
                      <a:pt x="19" y="16"/>
                    </a:lnTo>
                    <a:lnTo>
                      <a:pt x="2" y="16"/>
                    </a:lnTo>
                    <a:lnTo>
                      <a:pt x="2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20566800">
                <a:off x="514440" y="468540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20566800">
                <a:off x="514800" y="46864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20566800">
                <a:off x="520560" y="46846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20566800">
                <a:off x="522360" y="4691160"/>
                <a:ext cx="2412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5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15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20566800">
                <a:off x="528480" y="46958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6" y="2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20566800">
                <a:off x="528120" y="469476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20566800">
                <a:off x="534600" y="469476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20566800">
                <a:off x="536760" y="47012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20566800">
                <a:off x="540000" y="469980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2" y="0"/>
                    </a:lnTo>
                    <a:lnTo>
                      <a:pt x="12" y="5"/>
                    </a:lnTo>
                    <a:lnTo>
                      <a:pt x="18" y="16"/>
                    </a:lnTo>
                    <a:lnTo>
                      <a:pt x="5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20566800">
                <a:off x="542160" y="470628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20566800">
                <a:off x="549000" y="47052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20566800">
                <a:off x="548640" y="470412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15" y="8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20566800">
                <a:off x="552600" y="470880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20566800">
                <a:off x="554400" y="4714200"/>
                <a:ext cx="2124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0" y="4"/>
                    </a:lnTo>
                    <a:lnTo>
                      <a:pt x="8" y="0"/>
                    </a:lnTo>
                    <a:lnTo>
                      <a:pt x="16" y="4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20566800">
                <a:off x="561600" y="47120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20566800">
                <a:off x="561960" y="471384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16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20566800">
                <a:off x="570240" y="47178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16" y="0"/>
                    </a:lnTo>
                    <a:lnTo>
                      <a:pt x="16" y="3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20566800">
                <a:off x="572400" y="47170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20566800">
                <a:off x="574560" y="472320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20566800">
                <a:off x="574920" y="47242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20566800">
                <a:off x="581760" y="472140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0"/>
                    </a:moveTo>
                    <a:lnTo>
                      <a:pt x="12" y="0"/>
                    </a:lnTo>
                    <a:lnTo>
                      <a:pt x="15" y="8"/>
                    </a:lnTo>
                    <a:lnTo>
                      <a:pt x="20" y="16"/>
                    </a:lnTo>
                    <a:lnTo>
                      <a:pt x="5" y="16"/>
                    </a:lnTo>
                    <a:lnTo>
                      <a:pt x="5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20566800">
                <a:off x="583200" y="4725720"/>
                <a:ext cx="30600" cy="1548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0" y="16"/>
                    </a:moveTo>
                    <a:lnTo>
                      <a:pt x="2" y="5"/>
                    </a:lnTo>
                    <a:lnTo>
                      <a:pt x="2" y="0"/>
                    </a:lnTo>
                    <a:lnTo>
                      <a:pt x="17" y="0"/>
                    </a:lnTo>
                    <a:lnTo>
                      <a:pt x="23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20566800">
                <a:off x="587520" y="4730760"/>
                <a:ext cx="21600" cy="1656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17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16" y="2"/>
                    </a:lnTo>
                    <a:lnTo>
                      <a:pt x="5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20566800">
                <a:off x="593640" y="472896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20566800">
                <a:off x="595800" y="473580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20566800">
                <a:off x="599400" y="47358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20566800">
                <a:off x="599040" y="473472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5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5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20566800">
                <a:off x="601200" y="4740840"/>
                <a:ext cx="34200" cy="1548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6"/>
                    </a:moveTo>
                    <a:lnTo>
                      <a:pt x="5" y="5"/>
                    </a:lnTo>
                    <a:lnTo>
                      <a:pt x="5" y="0"/>
                    </a:lnTo>
                    <a:lnTo>
                      <a:pt x="20" y="0"/>
                    </a:lnTo>
                    <a:lnTo>
                      <a:pt x="26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20566800">
                <a:off x="608040" y="47412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20566800">
                <a:off x="614160" y="4739040"/>
                <a:ext cx="2124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20566800">
                <a:off x="615960" y="4745160"/>
                <a:ext cx="25200" cy="1548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0" y="16"/>
                    </a:moveTo>
                    <a:lnTo>
                      <a:pt x="0" y="8"/>
                    </a:lnTo>
                    <a:lnTo>
                      <a:pt x="2" y="0"/>
                    </a:lnTo>
                    <a:lnTo>
                      <a:pt x="16" y="0"/>
                    </a:lnTo>
                    <a:lnTo>
                      <a:pt x="19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20566800">
                <a:off x="619920" y="47448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20566800">
                <a:off x="619560" y="474372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15" y="8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20566800">
                <a:off x="627120" y="4748040"/>
                <a:ext cx="2412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20566800">
                <a:off x="627480" y="4748400"/>
                <a:ext cx="21600" cy="1656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17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20566800">
                <a:off x="632160" y="475092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20566800">
                <a:off x="633240" y="475308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21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20566800">
                <a:off x="639720" y="4752360"/>
                <a:ext cx="21600" cy="1656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17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16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20566800">
                <a:off x="640800" y="475668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20566800">
                <a:off x="645120" y="475884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20566800">
                <a:off x="646920" y="47638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16" y="3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20566800">
                <a:off x="653040" y="47620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20566800">
                <a:off x="653400" y="476352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12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20566800">
                <a:off x="657360" y="47664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20566800">
                <a:off x="657000" y="476532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5" y="0"/>
                    </a:moveTo>
                    <a:lnTo>
                      <a:pt x="15" y="0"/>
                    </a:lnTo>
                    <a:lnTo>
                      <a:pt x="15" y="5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5" y="5"/>
                    </a:ln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20566800">
                <a:off x="666720" y="477072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20566800">
                <a:off x="460800" y="4681080"/>
                <a:ext cx="21600" cy="1656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17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16" y="2"/>
                    </a:lnTo>
                    <a:lnTo>
                      <a:pt x="5" y="17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20566800">
                <a:off x="464400" y="46800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20566800">
                <a:off x="466560" y="468720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20566800">
                <a:off x="473040" y="468612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20566800">
                <a:off x="472680" y="4685760"/>
                <a:ext cx="2412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0" y="0"/>
                    </a:lnTo>
                    <a:lnTo>
                      <a:pt x="15" y="5"/>
                    </a:lnTo>
                    <a:lnTo>
                      <a:pt x="18" y="16"/>
                    </a:lnTo>
                    <a:lnTo>
                      <a:pt x="2" y="16"/>
                    </a:ln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20566800">
                <a:off x="477360" y="469152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20566800">
                <a:off x="477720" y="46926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20566800">
                <a:off x="485280" y="46900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8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2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20566800">
                <a:off x="486720" y="469440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20566800">
                <a:off x="489240" y="4694400"/>
                <a:ext cx="2124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20566800">
                <a:off x="488880" y="469332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5" y="0"/>
                    </a:moveTo>
                    <a:lnTo>
                      <a:pt x="15" y="0"/>
                    </a:lnTo>
                    <a:lnTo>
                      <a:pt x="15" y="5"/>
                    </a:lnTo>
                    <a:lnTo>
                      <a:pt x="21" y="16"/>
                    </a:lnTo>
                    <a:lnTo>
                      <a:pt x="7" y="16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0566800">
                <a:off x="497160" y="469836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0566800">
                <a:off x="498960" y="47052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16" y="2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0566800">
                <a:off x="502560" y="470268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0566800">
                <a:off x="509400" y="470268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20566800">
                <a:off x="511200" y="470916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20566800">
                <a:off x="516960" y="470736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20566800">
                <a:off x="518760" y="4713480"/>
                <a:ext cx="25200" cy="1548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6" y="0"/>
                    </a:lnTo>
                    <a:lnTo>
                      <a:pt x="19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20566800">
                <a:off x="523080" y="471312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20566800">
                <a:off x="522720" y="471204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8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20566800">
                <a:off x="524520" y="4717080"/>
                <a:ext cx="30600" cy="1548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0" y="16"/>
                    </a:moveTo>
                    <a:lnTo>
                      <a:pt x="2" y="5"/>
                    </a:lnTo>
                    <a:lnTo>
                      <a:pt x="2" y="0"/>
                    </a:lnTo>
                    <a:lnTo>
                      <a:pt x="17" y="0"/>
                    </a:lnTo>
                    <a:lnTo>
                      <a:pt x="23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20566800">
                <a:off x="532080" y="47214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4"/>
                    </a:lnTo>
                    <a:lnTo>
                      <a:pt x="5" y="0"/>
                    </a:lnTo>
                    <a:lnTo>
                      <a:pt x="16" y="4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20566800">
                <a:off x="535680" y="471996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20566800">
                <a:off x="536040" y="472140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20566800">
                <a:off x="544320" y="472572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6" y="3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20566800">
                <a:off x="543960" y="472464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20566800">
                <a:off x="550080" y="473112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0566800">
                <a:off x="550440" y="47318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0566800">
                <a:off x="556560" y="47296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8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0566800">
                <a:off x="557640" y="473400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0566800">
                <a:off x="561960" y="4738680"/>
                <a:ext cx="21240" cy="1656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17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6" y="2"/>
                    </a:lnTo>
                    <a:lnTo>
                      <a:pt x="16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566800">
                <a:off x="561600" y="473760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0566800">
                <a:off x="571320" y="474372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0566800">
                <a:off x="571680" y="47444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0566800">
                <a:off x="577440" y="4742280"/>
                <a:ext cx="2412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8" y="16"/>
                    </a:lnTo>
                    <a:lnTo>
                      <a:pt x="2" y="16"/>
                    </a:ln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566800">
                <a:off x="579600" y="4749480"/>
                <a:ext cx="2412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5"/>
                    </a:lnTo>
                    <a:lnTo>
                      <a:pt x="2" y="0"/>
                    </a:lnTo>
                    <a:lnTo>
                      <a:pt x="18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566800">
                <a:off x="582480" y="474912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566800">
                <a:off x="582120" y="474804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5" y="0"/>
                    </a:moveTo>
                    <a:lnTo>
                      <a:pt x="15" y="0"/>
                    </a:lnTo>
                    <a:lnTo>
                      <a:pt x="15" y="5"/>
                    </a:lnTo>
                    <a:lnTo>
                      <a:pt x="21" y="16"/>
                    </a:lnTo>
                    <a:lnTo>
                      <a:pt x="7" y="16"/>
                    </a:lnTo>
                    <a:lnTo>
                      <a:pt x="5" y="5"/>
                    </a:ln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566800">
                <a:off x="591480" y="475272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566800">
                <a:off x="591840" y="47534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566800">
                <a:off x="593640" y="475164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8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566800">
                <a:off x="595440" y="4756320"/>
                <a:ext cx="34200" cy="1548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6"/>
                    </a:moveTo>
                    <a:lnTo>
                      <a:pt x="5" y="5"/>
                    </a:lnTo>
                    <a:lnTo>
                      <a:pt x="5" y="0"/>
                    </a:lnTo>
                    <a:lnTo>
                      <a:pt x="20" y="0"/>
                    </a:lnTo>
                    <a:lnTo>
                      <a:pt x="26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566800">
                <a:off x="601920" y="4756320"/>
                <a:ext cx="21600" cy="1656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17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20566800">
                <a:off x="606600" y="4759560"/>
                <a:ext cx="2412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2" y="0"/>
                    </a:lnTo>
                    <a:lnTo>
                      <a:pt x="18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20566800">
                <a:off x="607320" y="476100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20566800">
                <a:off x="607680" y="4762080"/>
                <a:ext cx="21600" cy="1656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8" y="17"/>
                    </a:moveTo>
                    <a:lnTo>
                      <a:pt x="0" y="8"/>
                    </a:lnTo>
                    <a:lnTo>
                      <a:pt x="8" y="0"/>
                    </a:lnTo>
                    <a:lnTo>
                      <a:pt x="16" y="8"/>
                    </a:lnTo>
                    <a:lnTo>
                      <a:pt x="8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20566800">
                <a:off x="615240" y="476460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20566800">
                <a:off x="615960" y="4766760"/>
                <a:ext cx="32040" cy="1548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16"/>
                    </a:moveTo>
                    <a:lnTo>
                      <a:pt x="2" y="16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18" y="0"/>
                    </a:lnTo>
                    <a:lnTo>
                      <a:pt x="24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20566800">
                <a:off x="623880" y="4771080"/>
                <a:ext cx="2124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16" y="0"/>
                    </a:lnTo>
                    <a:lnTo>
                      <a:pt x="16" y="3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20566800">
                <a:off x="627840" y="47700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20566800">
                <a:off x="628200" y="477144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12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20566800">
                <a:off x="453240" y="470016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0" y="6"/>
                    </a:lnTo>
                    <a:lnTo>
                      <a:pt x="8" y="0"/>
                    </a:lnTo>
                    <a:lnTo>
                      <a:pt x="16" y="6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20566800">
                <a:off x="459720" y="46980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8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0566800">
                <a:off x="460800" y="470232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20566800">
                <a:off x="466920" y="47012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20566800">
                <a:off x="466560" y="4700880"/>
                <a:ext cx="2412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0" y="0"/>
                    </a:lnTo>
                    <a:lnTo>
                      <a:pt x="15" y="5"/>
                    </a:lnTo>
                    <a:lnTo>
                      <a:pt x="18" y="16"/>
                    </a:lnTo>
                    <a:lnTo>
                      <a:pt x="2" y="16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20566800">
                <a:off x="472680" y="470628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20566800">
                <a:off x="474840" y="471276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16" y="2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20566800">
                <a:off x="480960" y="47106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20566800">
                <a:off x="480960" y="4712040"/>
                <a:ext cx="2412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9"/>
                    </a:lnTo>
                    <a:lnTo>
                      <a:pt x="2" y="6"/>
                    </a:lnTo>
                    <a:lnTo>
                      <a:pt x="2" y="0"/>
                    </a:lnTo>
                    <a:lnTo>
                      <a:pt x="15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20566800">
                <a:off x="485640" y="47170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20566800">
                <a:off x="485280" y="471600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15" y="5"/>
                    </a:lnTo>
                    <a:lnTo>
                      <a:pt x="21" y="16"/>
                    </a:lnTo>
                    <a:lnTo>
                      <a:pt x="7" y="16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566800">
                <a:off x="495000" y="472104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20566800">
                <a:off x="495360" y="472176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20566800">
                <a:off x="497160" y="471996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3" y="8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20566800">
                <a:off x="498960" y="472536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21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20566800">
                <a:off x="506520" y="472896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16" y="4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20566800">
                <a:off x="506160" y="472788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5" y="0"/>
                    </a:moveTo>
                    <a:lnTo>
                      <a:pt x="15" y="0"/>
                    </a:lnTo>
                    <a:lnTo>
                      <a:pt x="21" y="16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20566800">
                <a:off x="510840" y="472932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20566800">
                <a:off x="512640" y="47354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0" y="3"/>
                    </a:lnTo>
                    <a:lnTo>
                      <a:pt x="8" y="0"/>
                    </a:lnTo>
                    <a:lnTo>
                      <a:pt x="16" y="3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20566800">
                <a:off x="518400" y="473256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20566800">
                <a:off x="520560" y="4739400"/>
                <a:ext cx="31680" cy="1548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16"/>
                    </a:moveTo>
                    <a:lnTo>
                      <a:pt x="2" y="8"/>
                    </a:lnTo>
                    <a:lnTo>
                      <a:pt x="2" y="0"/>
                    </a:lnTo>
                    <a:lnTo>
                      <a:pt x="18" y="0"/>
                    </a:lnTo>
                    <a:lnTo>
                      <a:pt x="24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20566800">
                <a:off x="527040" y="47390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 rot="20566800">
              <a:off x="530640" y="473796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0" y="8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20566800">
              <a:off x="532080" y="474192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20566800">
              <a:off x="539640" y="4745520"/>
              <a:ext cx="21600" cy="165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17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6" y="2"/>
                  </a:lnTo>
                  <a:lnTo>
                    <a:pt x="16" y="17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20566800">
              <a:off x="539280" y="4745160"/>
              <a:ext cx="2412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10" y="0"/>
                  </a:lnTo>
                  <a:lnTo>
                    <a:pt x="15" y="0"/>
                  </a:lnTo>
                  <a:lnTo>
                    <a:pt x="18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20566800">
              <a:off x="545400" y="475128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20566800">
              <a:off x="545760" y="475236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2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6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20566800">
              <a:off x="551880" y="475056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0" y="5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20566800">
              <a:off x="553680" y="475668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20566800">
              <a:off x="558000" y="475668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16" y="6"/>
                  </a:lnTo>
                  <a:lnTo>
                    <a:pt x="16" y="16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20566800">
              <a:off x="557640" y="4755960"/>
              <a:ext cx="26640" cy="1548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0"/>
                  </a:moveTo>
                  <a:lnTo>
                    <a:pt x="12" y="0"/>
                  </a:lnTo>
                  <a:lnTo>
                    <a:pt x="15" y="0"/>
                  </a:lnTo>
                  <a:lnTo>
                    <a:pt x="15" y="5"/>
                  </a:lnTo>
                  <a:lnTo>
                    <a:pt x="20" y="16"/>
                  </a:lnTo>
                  <a:lnTo>
                    <a:pt x="5" y="16"/>
                  </a:lnTo>
                  <a:lnTo>
                    <a:pt x="5" y="5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20566800">
              <a:off x="565920" y="476028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20566800">
              <a:off x="566280" y="476136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6"/>
                  </a:lnTo>
                  <a:lnTo>
                    <a:pt x="5" y="0"/>
                  </a:lnTo>
                  <a:lnTo>
                    <a:pt x="16" y="6"/>
                  </a:lnTo>
                  <a:lnTo>
                    <a:pt x="5" y="16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20566800">
              <a:off x="568440" y="475956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13" y="0"/>
                  </a:lnTo>
                  <a:lnTo>
                    <a:pt x="13" y="8"/>
                  </a:lnTo>
                  <a:lnTo>
                    <a:pt x="21" y="16"/>
                  </a:lnTo>
                  <a:lnTo>
                    <a:pt x="5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20566800">
              <a:off x="570240" y="476532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5" y="0"/>
                  </a:lnTo>
                  <a:lnTo>
                    <a:pt x="21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20566800">
              <a:off x="577800" y="4763880"/>
              <a:ext cx="21600" cy="165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17"/>
                  </a:moveTo>
                  <a:lnTo>
                    <a:pt x="0" y="8"/>
                  </a:lnTo>
                  <a:lnTo>
                    <a:pt x="16" y="0"/>
                  </a:lnTo>
                  <a:lnTo>
                    <a:pt x="16" y="8"/>
                  </a:lnTo>
                  <a:lnTo>
                    <a:pt x="16" y="17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20566800">
              <a:off x="585360" y="476640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20566800">
              <a:off x="585720" y="4768560"/>
              <a:ext cx="2412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0" y="5"/>
                  </a:lnTo>
                  <a:lnTo>
                    <a:pt x="2" y="0"/>
                  </a:lnTo>
                  <a:lnTo>
                    <a:pt x="15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20566800">
              <a:off x="586080" y="4768920"/>
              <a:ext cx="21600" cy="165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20566800">
              <a:off x="590040" y="477360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20566800">
              <a:off x="590760" y="477540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16"/>
                  </a:lnTo>
                  <a:lnTo>
                    <a:pt x="5" y="5"/>
                  </a:lnTo>
                  <a:lnTo>
                    <a:pt x="5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20566800">
              <a:off x="532080" y="4651200"/>
              <a:ext cx="21600" cy="165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20566800">
              <a:off x="534240" y="4649760"/>
              <a:ext cx="25200" cy="154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0"/>
                  </a:moveTo>
                  <a:lnTo>
                    <a:pt x="8" y="0"/>
                  </a:lnTo>
                  <a:lnTo>
                    <a:pt x="19" y="16"/>
                  </a:lnTo>
                  <a:lnTo>
                    <a:pt x="5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20566800">
              <a:off x="536400" y="4656960"/>
              <a:ext cx="25200" cy="154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16"/>
                  </a:moveTo>
                  <a:lnTo>
                    <a:pt x="5" y="0"/>
                  </a:lnTo>
                  <a:lnTo>
                    <a:pt x="19" y="0"/>
                  </a:lnTo>
                  <a:lnTo>
                    <a:pt x="19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20566800">
              <a:off x="537480" y="4660200"/>
              <a:ext cx="2124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1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6" y="6"/>
                  </a:lnTo>
                  <a:lnTo>
                    <a:pt x="9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20566800">
              <a:off x="544680" y="465804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20566800">
              <a:off x="553320" y="466416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20566800">
              <a:off x="553320" y="466416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20566800">
              <a:off x="555840" y="466344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20566800">
              <a:off x="557640" y="466920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5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20566800">
              <a:off x="565200" y="4668120"/>
              <a:ext cx="21600" cy="165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20566800">
              <a:off x="564840" y="4667400"/>
              <a:ext cx="26640" cy="1548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0"/>
                  </a:moveTo>
                  <a:lnTo>
                    <a:pt x="12" y="0"/>
                  </a:lnTo>
                  <a:lnTo>
                    <a:pt x="20" y="16"/>
                  </a:lnTo>
                  <a:lnTo>
                    <a:pt x="7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20566800">
              <a:off x="569520" y="4674240"/>
              <a:ext cx="2412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5" y="0"/>
                  </a:lnTo>
                  <a:lnTo>
                    <a:pt x="18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20566800">
              <a:off x="576000" y="4672440"/>
              <a:ext cx="21600" cy="165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20566800">
              <a:off x="576000" y="467244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20566800">
              <a:off x="582120" y="4680720"/>
              <a:ext cx="2412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5" y="0"/>
                  </a:lnTo>
                  <a:lnTo>
                    <a:pt x="12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20566800">
              <a:off x="582480" y="4681080"/>
              <a:ext cx="21600" cy="165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9" y="17"/>
                  </a:moveTo>
                  <a:lnTo>
                    <a:pt x="0" y="8"/>
                  </a:lnTo>
                  <a:lnTo>
                    <a:pt x="6" y="0"/>
                  </a:lnTo>
                  <a:lnTo>
                    <a:pt x="16" y="8"/>
                  </a:lnTo>
                  <a:lnTo>
                    <a:pt x="9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20566800">
              <a:off x="588600" y="467928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20566800">
              <a:off x="597240" y="4685040"/>
              <a:ext cx="2124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20566800">
              <a:off x="597240" y="4685040"/>
              <a:ext cx="2124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5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20566800">
              <a:off x="601200" y="468396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20566800">
              <a:off x="603360" y="469116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20566800">
              <a:off x="603360" y="4691160"/>
              <a:ext cx="21600" cy="165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9" y="17"/>
                  </a:moveTo>
                  <a:lnTo>
                    <a:pt x="0" y="8"/>
                  </a:lnTo>
                  <a:lnTo>
                    <a:pt x="6" y="0"/>
                  </a:lnTo>
                  <a:lnTo>
                    <a:pt x="16" y="8"/>
                  </a:lnTo>
                  <a:lnTo>
                    <a:pt x="9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20566800">
              <a:off x="610200" y="469224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20566800">
              <a:off x="615960" y="469800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20566800">
              <a:off x="615960" y="4698000"/>
              <a:ext cx="21600" cy="165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9" y="17"/>
                  </a:moveTo>
                  <a:lnTo>
                    <a:pt x="0" y="8"/>
                  </a:lnTo>
                  <a:lnTo>
                    <a:pt x="6" y="0"/>
                  </a:lnTo>
                  <a:lnTo>
                    <a:pt x="16" y="8"/>
                  </a:lnTo>
                  <a:lnTo>
                    <a:pt x="9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20566800">
              <a:off x="622080" y="469584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20566800">
              <a:off x="627840" y="4702320"/>
              <a:ext cx="2412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20566800">
              <a:off x="628200" y="470268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20566800">
              <a:off x="634320" y="470088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20566800">
              <a:off x="636480" y="470808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20566800">
              <a:off x="636480" y="4708080"/>
              <a:ext cx="21600" cy="165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9" y="17"/>
                  </a:moveTo>
                  <a:lnTo>
                    <a:pt x="0" y="8"/>
                  </a:lnTo>
                  <a:lnTo>
                    <a:pt x="6" y="0"/>
                  </a:lnTo>
                  <a:lnTo>
                    <a:pt x="16" y="8"/>
                  </a:lnTo>
                  <a:lnTo>
                    <a:pt x="9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20566800">
              <a:off x="638640" y="4706640"/>
              <a:ext cx="25200" cy="154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0"/>
                  </a:moveTo>
                  <a:lnTo>
                    <a:pt x="13" y="0"/>
                  </a:lnTo>
                  <a:lnTo>
                    <a:pt x="19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20566800">
              <a:off x="649440" y="471456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20566800">
              <a:off x="649440" y="4714560"/>
              <a:ext cx="21600" cy="165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6" y="17"/>
                  </a:moveTo>
                  <a:lnTo>
                    <a:pt x="0" y="8"/>
                  </a:lnTo>
                  <a:lnTo>
                    <a:pt x="6" y="0"/>
                  </a:lnTo>
                  <a:lnTo>
                    <a:pt x="16" y="8"/>
                  </a:lnTo>
                  <a:lnTo>
                    <a:pt x="6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20566800">
              <a:off x="655200" y="471276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20566800">
              <a:off x="659880" y="471924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20566800">
              <a:off x="659880" y="4719240"/>
              <a:ext cx="21600" cy="165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20566800">
              <a:off x="667440" y="471708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20566800">
              <a:off x="669960" y="472464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20566800">
              <a:off x="669960" y="472464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6"/>
                  </a:moveTo>
                  <a:lnTo>
                    <a:pt x="0" y="8"/>
                  </a:lnTo>
                  <a:lnTo>
                    <a:pt x="4" y="0"/>
                  </a:lnTo>
                  <a:lnTo>
                    <a:pt x="16" y="8"/>
                  </a:lnTo>
                  <a:lnTo>
                    <a:pt x="12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20566800">
              <a:off x="672120" y="472392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20566800">
              <a:off x="681480" y="473184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20566800">
              <a:off x="681480" y="4731840"/>
              <a:ext cx="21600" cy="165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20566800">
              <a:off x="684720" y="4730400"/>
              <a:ext cx="2412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7" y="0"/>
                  </a:lnTo>
                  <a:lnTo>
                    <a:pt x="18" y="16"/>
                  </a:lnTo>
                  <a:lnTo>
                    <a:pt x="5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20566800">
              <a:off x="686880" y="4737240"/>
              <a:ext cx="2412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5" y="0"/>
                  </a:lnTo>
                  <a:lnTo>
                    <a:pt x="18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20566800">
              <a:off x="693360" y="4735800"/>
              <a:ext cx="21600" cy="165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20566800">
              <a:off x="693000" y="473472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13" y="0"/>
                  </a:lnTo>
                  <a:lnTo>
                    <a:pt x="21" y="16"/>
                  </a:lnTo>
                  <a:lnTo>
                    <a:pt x="7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20566800">
              <a:off x="698760" y="4742640"/>
              <a:ext cx="2412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5" y="0"/>
                  </a:lnTo>
                  <a:lnTo>
                    <a:pt x="18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20566800">
              <a:off x="700560" y="474732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1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6" y="6"/>
                  </a:lnTo>
                  <a:lnTo>
                    <a:pt x="9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20566800">
              <a:off x="706680" y="474552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20566800">
              <a:off x="714600" y="474876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20566800">
              <a:off x="714600" y="474876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6"/>
                  </a:moveTo>
                  <a:lnTo>
                    <a:pt x="0" y="8"/>
                  </a:lnTo>
                  <a:lnTo>
                    <a:pt x="4" y="0"/>
                  </a:lnTo>
                  <a:lnTo>
                    <a:pt x="16" y="8"/>
                  </a:lnTo>
                  <a:lnTo>
                    <a:pt x="12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20566800">
              <a:off x="718560" y="474768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20566800">
              <a:off x="726840" y="475272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20566800">
              <a:off x="726840" y="4752720"/>
              <a:ext cx="21600" cy="165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20566800">
              <a:off x="730440" y="475164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20566800">
              <a:off x="734040" y="476388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20566800">
              <a:off x="587520" y="4653360"/>
              <a:ext cx="2124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2" y="16"/>
                  </a:lnTo>
                  <a:lnTo>
                    <a:pt x="16" y="16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20566800">
              <a:off x="601200" y="4664160"/>
              <a:ext cx="2412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7" y="16"/>
                  </a:lnTo>
                  <a:lnTo>
                    <a:pt x="18" y="16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20566800">
              <a:off x="614160" y="467028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5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20566800">
              <a:off x="630000" y="467892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3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20566800">
              <a:off x="650160" y="468720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2" y="16"/>
                  </a:lnTo>
                  <a:lnTo>
                    <a:pt x="16" y="16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20566800">
              <a:off x="663480" y="469548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3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20566800">
              <a:off x="682200" y="470016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3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20566800">
              <a:off x="696600" y="471240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5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20566800">
              <a:off x="715680" y="4717800"/>
              <a:ext cx="2376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2" y="16"/>
                  </a:lnTo>
                  <a:lnTo>
                    <a:pt x="18" y="16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20566800">
              <a:off x="728280" y="472356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5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20566800">
              <a:off x="745200" y="473508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3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20566800">
              <a:off x="409680" y="4696920"/>
              <a:ext cx="21600" cy="165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2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20566800">
              <a:off x="416520" y="4694400"/>
              <a:ext cx="2412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10" y="0"/>
                  </a:lnTo>
                  <a:lnTo>
                    <a:pt x="15" y="5"/>
                  </a:lnTo>
                  <a:lnTo>
                    <a:pt x="18" y="16"/>
                  </a:lnTo>
                  <a:lnTo>
                    <a:pt x="2" y="16"/>
                  </a:lnTo>
                  <a:lnTo>
                    <a:pt x="2" y="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20566800">
              <a:off x="418680" y="4701240"/>
              <a:ext cx="30600" cy="1548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16"/>
                  </a:moveTo>
                  <a:lnTo>
                    <a:pt x="2" y="5"/>
                  </a:lnTo>
                  <a:lnTo>
                    <a:pt x="2" y="0"/>
                  </a:lnTo>
                  <a:lnTo>
                    <a:pt x="17" y="0"/>
                  </a:lnTo>
                  <a:lnTo>
                    <a:pt x="23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20566800">
              <a:off x="421920" y="470196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6"/>
                  </a:lnTo>
                  <a:lnTo>
                    <a:pt x="5" y="0"/>
                  </a:lnTo>
                  <a:lnTo>
                    <a:pt x="16" y="6"/>
                  </a:lnTo>
                  <a:lnTo>
                    <a:pt x="5" y="16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20566800">
              <a:off x="428760" y="470268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20566800">
              <a:off x="429840" y="4706640"/>
              <a:ext cx="25200" cy="154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16"/>
                  </a:moveTo>
                  <a:lnTo>
                    <a:pt x="0" y="8"/>
                  </a:lnTo>
                  <a:lnTo>
                    <a:pt x="2" y="0"/>
                  </a:lnTo>
                  <a:lnTo>
                    <a:pt x="16" y="0"/>
                  </a:lnTo>
                  <a:lnTo>
                    <a:pt x="19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20566800">
              <a:off x="434520" y="4708440"/>
              <a:ext cx="21600" cy="165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17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17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20566800">
              <a:off x="434160" y="470736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5" y="0"/>
                  </a:moveTo>
                  <a:lnTo>
                    <a:pt x="15" y="0"/>
                  </a:lnTo>
                  <a:lnTo>
                    <a:pt x="15" y="5"/>
                  </a:lnTo>
                  <a:lnTo>
                    <a:pt x="21" y="16"/>
                  </a:lnTo>
                  <a:lnTo>
                    <a:pt x="7" y="16"/>
                  </a:lnTo>
                  <a:lnTo>
                    <a:pt x="5" y="5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20566800">
              <a:off x="442800" y="471276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20566800">
              <a:off x="447480" y="4714920"/>
              <a:ext cx="21600" cy="165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17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17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20566800">
              <a:off x="447120" y="471384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13" y="0"/>
                  </a:lnTo>
                  <a:lnTo>
                    <a:pt x="15" y="5"/>
                  </a:lnTo>
                  <a:lnTo>
                    <a:pt x="21" y="16"/>
                  </a:lnTo>
                  <a:lnTo>
                    <a:pt x="5" y="16"/>
                  </a:lnTo>
                  <a:lnTo>
                    <a:pt x="5" y="5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20566800">
              <a:off x="455400" y="471924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20566800">
              <a:off x="464040" y="4719600"/>
              <a:ext cx="57240" cy="67320"/>
            </a:xfrm>
            <a:custGeom>
              <a:avLst/>
              <a:gdLst/>
              <a:ahLst/>
              <a:rect l="l" t="t" r="r" b="b"/>
              <a:pathLst>
                <a:path w="45" h="73">
                  <a:moveTo>
                    <a:pt x="44" y="72"/>
                  </a:moveTo>
                  <a:lnTo>
                    <a:pt x="0" y="2"/>
                  </a:lnTo>
                  <a:lnTo>
                    <a:pt x="5" y="0"/>
                  </a:lnTo>
                  <a:lnTo>
                    <a:pt x="44" y="63"/>
                  </a:lnTo>
                  <a:lnTo>
                    <a:pt x="44" y="72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rot="20566800">
              <a:off x="466200" y="4714920"/>
              <a:ext cx="80280" cy="60120"/>
            </a:xfrm>
            <a:custGeom>
              <a:avLst/>
              <a:gdLst/>
              <a:ahLst/>
              <a:rect l="l" t="t" r="r" b="b"/>
              <a:pathLst>
                <a:path w="63" h="65">
                  <a:moveTo>
                    <a:pt x="0" y="0"/>
                  </a:moveTo>
                  <a:lnTo>
                    <a:pt x="12" y="0"/>
                  </a:lnTo>
                  <a:lnTo>
                    <a:pt x="15" y="0"/>
                  </a:lnTo>
                  <a:lnTo>
                    <a:pt x="62" y="64"/>
                  </a:lnTo>
                  <a:lnTo>
                    <a:pt x="41" y="64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20566800">
              <a:off x="528480" y="4764240"/>
              <a:ext cx="31680" cy="1548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6" y="0"/>
                  </a:lnTo>
                  <a:lnTo>
                    <a:pt x="24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20566800">
              <a:off x="529560" y="476784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2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6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20566800">
              <a:off x="534960" y="4765320"/>
              <a:ext cx="25200" cy="154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0"/>
                  </a:moveTo>
                  <a:lnTo>
                    <a:pt x="10" y="0"/>
                  </a:lnTo>
                  <a:lnTo>
                    <a:pt x="19" y="16"/>
                  </a:lnTo>
                  <a:lnTo>
                    <a:pt x="2" y="16"/>
                  </a:lnTo>
                  <a:lnTo>
                    <a:pt x="2" y="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20566800">
              <a:off x="537120" y="4772520"/>
              <a:ext cx="25200" cy="154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16"/>
                  </a:moveTo>
                  <a:lnTo>
                    <a:pt x="0" y="5"/>
                  </a:lnTo>
                  <a:lnTo>
                    <a:pt x="2" y="0"/>
                  </a:lnTo>
                  <a:lnTo>
                    <a:pt x="19" y="0"/>
                  </a:lnTo>
                  <a:lnTo>
                    <a:pt x="19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20566800">
              <a:off x="541440" y="4772160"/>
              <a:ext cx="21600" cy="165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20566800">
              <a:off x="547200" y="477036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0" y="5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20566800">
              <a:off x="549000" y="4777200"/>
              <a:ext cx="2412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0" y="5"/>
                  </a:lnTo>
                  <a:lnTo>
                    <a:pt x="2" y="0"/>
                  </a:lnTo>
                  <a:lnTo>
                    <a:pt x="15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20566800">
              <a:off x="694800" y="4762800"/>
              <a:ext cx="21600" cy="165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17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17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20566800">
              <a:off x="694440" y="476172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13" y="0"/>
                  </a:lnTo>
                  <a:lnTo>
                    <a:pt x="15" y="5"/>
                  </a:lnTo>
                  <a:lnTo>
                    <a:pt x="21" y="16"/>
                  </a:lnTo>
                  <a:lnTo>
                    <a:pt x="5" y="16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20566800">
              <a:off x="702720" y="476676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20566800">
              <a:off x="599400" y="477864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16" y="6"/>
                  </a:lnTo>
                  <a:lnTo>
                    <a:pt x="16" y="16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20566800">
              <a:off x="599040" y="4777920"/>
              <a:ext cx="26640" cy="1548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0"/>
                  </a:moveTo>
                  <a:lnTo>
                    <a:pt x="12" y="0"/>
                  </a:lnTo>
                  <a:lnTo>
                    <a:pt x="15" y="8"/>
                  </a:lnTo>
                  <a:lnTo>
                    <a:pt x="20" y="16"/>
                  </a:lnTo>
                  <a:lnTo>
                    <a:pt x="5" y="16"/>
                  </a:lnTo>
                  <a:lnTo>
                    <a:pt x="5" y="8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20566800">
              <a:off x="603360" y="478188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20566800">
              <a:off x="603720" y="478296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16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rot="20566800">
              <a:off x="603360" y="478188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5" y="0"/>
                  </a:moveTo>
                  <a:lnTo>
                    <a:pt x="15" y="0"/>
                  </a:lnTo>
                  <a:lnTo>
                    <a:pt x="15" y="5"/>
                  </a:lnTo>
                  <a:lnTo>
                    <a:pt x="21" y="16"/>
                  </a:lnTo>
                  <a:lnTo>
                    <a:pt x="7" y="16"/>
                  </a:lnTo>
                  <a:lnTo>
                    <a:pt x="5" y="5"/>
                  </a:lnTo>
                  <a:lnTo>
                    <a:pt x="0" y="5"/>
                  </a:lnTo>
                  <a:lnTo>
                    <a:pt x="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20566800">
              <a:off x="611640" y="478728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20566800">
              <a:off x="631080" y="4774680"/>
              <a:ext cx="21600" cy="2844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0" y="30"/>
                  </a:moveTo>
                  <a:lnTo>
                    <a:pt x="0" y="8"/>
                  </a:lnTo>
                  <a:lnTo>
                    <a:pt x="0" y="5"/>
                  </a:lnTo>
                  <a:lnTo>
                    <a:pt x="2" y="0"/>
                  </a:lnTo>
                  <a:lnTo>
                    <a:pt x="16" y="21"/>
                  </a:lnTo>
                  <a:lnTo>
                    <a:pt x="10" y="3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rot="20566800">
              <a:off x="635040" y="4767840"/>
              <a:ext cx="57240" cy="2124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0" y="0"/>
                  </a:moveTo>
                  <a:lnTo>
                    <a:pt x="15" y="0"/>
                  </a:lnTo>
                  <a:lnTo>
                    <a:pt x="15" y="5"/>
                  </a:lnTo>
                  <a:lnTo>
                    <a:pt x="20" y="8"/>
                  </a:lnTo>
                  <a:lnTo>
                    <a:pt x="38" y="8"/>
                  </a:lnTo>
                  <a:lnTo>
                    <a:pt x="38" y="13"/>
                  </a:lnTo>
                  <a:lnTo>
                    <a:pt x="44" y="16"/>
                  </a:lnTo>
                  <a:lnTo>
                    <a:pt x="44" y="22"/>
                  </a:lnTo>
                  <a:lnTo>
                    <a:pt x="15" y="22"/>
                  </a:lnTo>
                  <a:lnTo>
                    <a:pt x="12" y="22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20566800">
              <a:off x="650520" y="4785120"/>
              <a:ext cx="50760" cy="1548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0" y="16"/>
                  </a:moveTo>
                  <a:lnTo>
                    <a:pt x="0" y="5"/>
                  </a:lnTo>
                  <a:lnTo>
                    <a:pt x="2" y="0"/>
                  </a:lnTo>
                  <a:lnTo>
                    <a:pt x="33" y="0"/>
                  </a:lnTo>
                  <a:lnTo>
                    <a:pt x="39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20566800">
              <a:off x="602280" y="4793760"/>
              <a:ext cx="269280" cy="33840"/>
            </a:xfrm>
            <a:custGeom>
              <a:avLst/>
              <a:gdLst/>
              <a:ahLst/>
              <a:rect l="l" t="t" r="r" b="b"/>
              <a:pathLst>
                <a:path w="211" h="37">
                  <a:moveTo>
                    <a:pt x="7" y="2"/>
                  </a:moveTo>
                  <a:lnTo>
                    <a:pt x="5" y="2"/>
                  </a:lnTo>
                  <a:lnTo>
                    <a:pt x="5" y="1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5" y="33"/>
                  </a:lnTo>
                  <a:lnTo>
                    <a:pt x="7" y="36"/>
                  </a:lnTo>
                  <a:lnTo>
                    <a:pt x="197" y="33"/>
                  </a:lnTo>
                  <a:lnTo>
                    <a:pt x="204" y="27"/>
                  </a:lnTo>
                  <a:lnTo>
                    <a:pt x="204" y="24"/>
                  </a:lnTo>
                  <a:lnTo>
                    <a:pt x="210" y="11"/>
                  </a:lnTo>
                  <a:lnTo>
                    <a:pt x="204" y="2"/>
                  </a:lnTo>
                  <a:lnTo>
                    <a:pt x="202" y="0"/>
                  </a:lnTo>
                  <a:lnTo>
                    <a:pt x="197" y="0"/>
                  </a:lnTo>
                  <a:lnTo>
                    <a:pt x="7" y="2"/>
                  </a:lnTo>
                </a:path>
              </a:pathLst>
            </a:custGeom>
            <a:solidFill>
              <a:srgbClr val="20202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20566800">
              <a:off x="637560" y="4799520"/>
              <a:ext cx="210600" cy="19440"/>
            </a:xfrm>
            <a:custGeom>
              <a:avLst/>
              <a:gdLst/>
              <a:ahLst/>
              <a:rect l="l" t="t" r="r" b="b"/>
              <a:pathLst>
                <a:path w="165" h="21">
                  <a:moveTo>
                    <a:pt x="0" y="2"/>
                  </a:moveTo>
                  <a:lnTo>
                    <a:pt x="0" y="11"/>
                  </a:lnTo>
                  <a:lnTo>
                    <a:pt x="36" y="11"/>
                  </a:lnTo>
                  <a:lnTo>
                    <a:pt x="36" y="20"/>
                  </a:lnTo>
                  <a:lnTo>
                    <a:pt x="124" y="17"/>
                  </a:lnTo>
                  <a:lnTo>
                    <a:pt x="124" y="11"/>
                  </a:lnTo>
                  <a:lnTo>
                    <a:pt x="164" y="11"/>
                  </a:lnTo>
                  <a:lnTo>
                    <a:pt x="164" y="2"/>
                  </a:lnTo>
                  <a:lnTo>
                    <a:pt x="124" y="2"/>
                  </a:lnTo>
                  <a:lnTo>
                    <a:pt x="124" y="0"/>
                  </a:lnTo>
                  <a:lnTo>
                    <a:pt x="36" y="0"/>
                  </a:lnTo>
                  <a:lnTo>
                    <a:pt x="36" y="2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20566800">
              <a:off x="648720" y="4838760"/>
              <a:ext cx="20160" cy="14400"/>
            </a:xfrm>
            <a:prstGeom prst="rect">
              <a:avLst/>
            </a:prstGeom>
            <a:solidFill>
              <a:srgbClr val="0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20566800">
              <a:off x="1035000" y="4630320"/>
              <a:ext cx="6120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31" y="2"/>
                  </a:moveTo>
                  <a:lnTo>
                    <a:pt x="23" y="0"/>
                  </a:lnTo>
                  <a:lnTo>
                    <a:pt x="15" y="0"/>
                  </a:lnTo>
                  <a:lnTo>
                    <a:pt x="7" y="2"/>
                  </a:lnTo>
                  <a:lnTo>
                    <a:pt x="2" y="11"/>
                  </a:lnTo>
                  <a:lnTo>
                    <a:pt x="0" y="22"/>
                  </a:lnTo>
                  <a:lnTo>
                    <a:pt x="0" y="30"/>
                  </a:lnTo>
                  <a:lnTo>
                    <a:pt x="0" y="47"/>
                  </a:lnTo>
                  <a:lnTo>
                    <a:pt x="47" y="47"/>
                  </a:lnTo>
                  <a:lnTo>
                    <a:pt x="47" y="19"/>
                  </a:lnTo>
                  <a:lnTo>
                    <a:pt x="39" y="8"/>
                  </a:lnTo>
                  <a:lnTo>
                    <a:pt x="31" y="2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20566800">
              <a:off x="742320" y="4514400"/>
              <a:ext cx="280800" cy="175320"/>
            </a:xfrm>
            <a:custGeom>
              <a:avLst/>
              <a:gdLst/>
              <a:ahLst/>
              <a:rect l="l" t="t" r="r" b="b"/>
              <a:pathLst>
                <a:path w="220" h="190">
                  <a:moveTo>
                    <a:pt x="0" y="0"/>
                  </a:moveTo>
                  <a:lnTo>
                    <a:pt x="219" y="180"/>
                  </a:lnTo>
                  <a:lnTo>
                    <a:pt x="219" y="186"/>
                  </a:lnTo>
                  <a:lnTo>
                    <a:pt x="213" y="189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20566800">
              <a:off x="947160" y="4599000"/>
              <a:ext cx="94680" cy="78480"/>
            </a:xfrm>
            <a:custGeom>
              <a:avLst/>
              <a:gdLst/>
              <a:ahLst/>
              <a:rect l="l" t="t" r="r" b="b"/>
              <a:pathLst>
                <a:path w="74" h="85">
                  <a:moveTo>
                    <a:pt x="5" y="19"/>
                  </a:moveTo>
                  <a:lnTo>
                    <a:pt x="7" y="11"/>
                  </a:lnTo>
                  <a:lnTo>
                    <a:pt x="15" y="8"/>
                  </a:lnTo>
                  <a:lnTo>
                    <a:pt x="20" y="8"/>
                  </a:lnTo>
                  <a:lnTo>
                    <a:pt x="31" y="8"/>
                  </a:lnTo>
                  <a:lnTo>
                    <a:pt x="31" y="0"/>
                  </a:lnTo>
                  <a:lnTo>
                    <a:pt x="73" y="28"/>
                  </a:lnTo>
                  <a:lnTo>
                    <a:pt x="67" y="39"/>
                  </a:lnTo>
                  <a:lnTo>
                    <a:pt x="57" y="39"/>
                  </a:lnTo>
                  <a:lnTo>
                    <a:pt x="49" y="44"/>
                  </a:lnTo>
                  <a:lnTo>
                    <a:pt x="41" y="47"/>
                  </a:lnTo>
                  <a:lnTo>
                    <a:pt x="41" y="53"/>
                  </a:lnTo>
                  <a:lnTo>
                    <a:pt x="41" y="67"/>
                  </a:lnTo>
                  <a:lnTo>
                    <a:pt x="41" y="81"/>
                  </a:lnTo>
                  <a:lnTo>
                    <a:pt x="41" y="84"/>
                  </a:lnTo>
                  <a:lnTo>
                    <a:pt x="0" y="53"/>
                  </a:lnTo>
                  <a:lnTo>
                    <a:pt x="0" y="30"/>
                  </a:lnTo>
                  <a:lnTo>
                    <a:pt x="5" y="19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985680" y="4610520"/>
              <a:ext cx="514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20566800">
              <a:off x="742320" y="4551840"/>
              <a:ext cx="74160" cy="62640"/>
            </a:xfrm>
            <a:custGeom>
              <a:avLst/>
              <a:gdLst/>
              <a:ahLst/>
              <a:rect l="l" t="t" r="r" b="b"/>
              <a:pathLst>
                <a:path w="58" h="68">
                  <a:moveTo>
                    <a:pt x="5" y="22"/>
                  </a:moveTo>
                  <a:lnTo>
                    <a:pt x="7" y="16"/>
                  </a:lnTo>
                  <a:lnTo>
                    <a:pt x="12" y="11"/>
                  </a:lnTo>
                  <a:lnTo>
                    <a:pt x="20" y="8"/>
                  </a:lnTo>
                  <a:lnTo>
                    <a:pt x="33" y="8"/>
                  </a:lnTo>
                  <a:lnTo>
                    <a:pt x="36" y="0"/>
                  </a:lnTo>
                  <a:lnTo>
                    <a:pt x="57" y="19"/>
                  </a:lnTo>
                  <a:lnTo>
                    <a:pt x="57" y="27"/>
                  </a:lnTo>
                  <a:lnTo>
                    <a:pt x="49" y="27"/>
                  </a:lnTo>
                  <a:lnTo>
                    <a:pt x="44" y="27"/>
                  </a:lnTo>
                  <a:lnTo>
                    <a:pt x="36" y="27"/>
                  </a:lnTo>
                  <a:lnTo>
                    <a:pt x="33" y="30"/>
                  </a:lnTo>
                  <a:lnTo>
                    <a:pt x="28" y="36"/>
                  </a:lnTo>
                  <a:lnTo>
                    <a:pt x="23" y="44"/>
                  </a:lnTo>
                  <a:lnTo>
                    <a:pt x="23" y="67"/>
                  </a:lnTo>
                  <a:lnTo>
                    <a:pt x="0" y="44"/>
                  </a:lnTo>
                  <a:lnTo>
                    <a:pt x="0" y="30"/>
                  </a:lnTo>
                  <a:lnTo>
                    <a:pt x="5" y="22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20566800">
              <a:off x="900360" y="4604400"/>
              <a:ext cx="40680" cy="4248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31" y="0"/>
                  </a:moveTo>
                  <a:lnTo>
                    <a:pt x="15" y="0"/>
                  </a:lnTo>
                  <a:lnTo>
                    <a:pt x="7" y="0"/>
                  </a:lnTo>
                  <a:lnTo>
                    <a:pt x="2" y="8"/>
                  </a:lnTo>
                  <a:lnTo>
                    <a:pt x="0" y="19"/>
                  </a:lnTo>
                  <a:lnTo>
                    <a:pt x="0" y="45"/>
                  </a:lnTo>
                  <a:lnTo>
                    <a:pt x="0" y="4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20566800">
              <a:off x="888120" y="4600440"/>
              <a:ext cx="42120" cy="4212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32" y="0"/>
                  </a:moveTo>
                  <a:lnTo>
                    <a:pt x="16" y="0"/>
                  </a:lnTo>
                  <a:lnTo>
                    <a:pt x="8" y="2"/>
                  </a:lnTo>
                  <a:lnTo>
                    <a:pt x="2" y="8"/>
                  </a:lnTo>
                  <a:lnTo>
                    <a:pt x="0" y="19"/>
                  </a:lnTo>
                  <a:lnTo>
                    <a:pt x="0" y="45"/>
                  </a:lnTo>
                  <a:lnTo>
                    <a:pt x="0" y="4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20566800">
              <a:off x="877680" y="4595760"/>
              <a:ext cx="40680" cy="4140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31" y="0"/>
                  </a:moveTo>
                  <a:lnTo>
                    <a:pt x="15" y="0"/>
                  </a:lnTo>
                  <a:lnTo>
                    <a:pt x="7" y="2"/>
                  </a:lnTo>
                  <a:lnTo>
                    <a:pt x="0" y="8"/>
                  </a:lnTo>
                  <a:lnTo>
                    <a:pt x="0" y="19"/>
                  </a:lnTo>
                  <a:lnTo>
                    <a:pt x="0" y="44"/>
                  </a:lnTo>
                  <a:lnTo>
                    <a:pt x="0" y="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20566800">
              <a:off x="858960" y="4592880"/>
              <a:ext cx="40680" cy="4212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31" y="0"/>
                  </a:moveTo>
                  <a:lnTo>
                    <a:pt x="15" y="0"/>
                  </a:lnTo>
                  <a:lnTo>
                    <a:pt x="7" y="2"/>
                  </a:lnTo>
                  <a:lnTo>
                    <a:pt x="2" y="8"/>
                  </a:lnTo>
                  <a:lnTo>
                    <a:pt x="0" y="19"/>
                  </a:lnTo>
                  <a:lnTo>
                    <a:pt x="0" y="4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20566800">
              <a:off x="847080" y="4588560"/>
              <a:ext cx="40680" cy="4248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31" y="0"/>
                  </a:moveTo>
                  <a:lnTo>
                    <a:pt x="15" y="0"/>
                  </a:lnTo>
                  <a:lnTo>
                    <a:pt x="7" y="2"/>
                  </a:lnTo>
                  <a:lnTo>
                    <a:pt x="2" y="8"/>
                  </a:lnTo>
                  <a:lnTo>
                    <a:pt x="0" y="19"/>
                  </a:lnTo>
                  <a:lnTo>
                    <a:pt x="0" y="4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20566800">
              <a:off x="835560" y="4584600"/>
              <a:ext cx="40680" cy="4140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31" y="0"/>
                  </a:moveTo>
                  <a:lnTo>
                    <a:pt x="10" y="0"/>
                  </a:lnTo>
                  <a:lnTo>
                    <a:pt x="7" y="2"/>
                  </a:lnTo>
                  <a:lnTo>
                    <a:pt x="0" y="8"/>
                  </a:lnTo>
                  <a:lnTo>
                    <a:pt x="0" y="19"/>
                  </a:lnTo>
                  <a:lnTo>
                    <a:pt x="0" y="44"/>
                  </a:lnTo>
                  <a:lnTo>
                    <a:pt x="0" y="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20566800">
              <a:off x="823680" y="4582440"/>
              <a:ext cx="40680" cy="39600"/>
            </a:xfrm>
            <a:custGeom>
              <a:avLst/>
              <a:gdLst/>
              <a:ahLst/>
              <a:rect l="l" t="t" r="r" b="b"/>
              <a:pathLst>
                <a:path w="32" h="43">
                  <a:moveTo>
                    <a:pt x="31" y="0"/>
                  </a:moveTo>
                  <a:lnTo>
                    <a:pt x="10" y="0"/>
                  </a:lnTo>
                  <a:lnTo>
                    <a:pt x="7" y="2"/>
                  </a:lnTo>
                  <a:lnTo>
                    <a:pt x="0" y="8"/>
                  </a:lnTo>
                  <a:lnTo>
                    <a:pt x="0" y="19"/>
                  </a:lnTo>
                  <a:lnTo>
                    <a:pt x="0" y="42"/>
                  </a:lnTo>
                  <a:lnTo>
                    <a:pt x="0" y="3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20566800">
              <a:off x="805680" y="4580280"/>
              <a:ext cx="40680" cy="4140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31" y="0"/>
                  </a:moveTo>
                  <a:lnTo>
                    <a:pt x="15" y="0"/>
                  </a:lnTo>
                  <a:lnTo>
                    <a:pt x="7" y="2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0" y="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20566800">
              <a:off x="783360" y="4555080"/>
              <a:ext cx="31680" cy="1656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0" y="0"/>
                  </a:moveTo>
                  <a:lnTo>
                    <a:pt x="18" y="17"/>
                  </a:lnTo>
                  <a:lnTo>
                    <a:pt x="24" y="17"/>
                  </a:lnTo>
                  <a:lnTo>
                    <a:pt x="18" y="1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20566800">
              <a:off x="961200" y="4687200"/>
              <a:ext cx="60840" cy="15480"/>
            </a:xfrm>
            <a:custGeom>
              <a:avLst/>
              <a:gdLst/>
              <a:ahLst/>
              <a:rect l="l" t="t" r="r" b="b"/>
              <a:pathLst>
                <a:path w="48" h="17">
                  <a:moveTo>
                    <a:pt x="0" y="16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47" y="16"/>
                  </a:lnTo>
                  <a:lnTo>
                    <a:pt x="0" y="16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179280" y="5084640"/>
            <a:ext cx="4032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ARMADA  00:09:5b:93:e9:4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(NetGear 802.11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RMADA   00:48:54:c0:03:7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NetGear 802.3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P 10.10.16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258920" y="1125360"/>
            <a:ext cx="273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WLAN-DESK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00:48:54:C0:03:71 (NetGear 802.3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P 10.10.16.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372360" y="1484280"/>
            <a:ext cx="25192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GEAR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c:6b:a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802.11g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.168.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573800" y="2565360"/>
            <a:ext cx="114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LL INSP 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903960" y="4869000"/>
            <a:ext cx="131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AQ ARM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062520" y="5661000"/>
            <a:ext cx="11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P VECTRA 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216320" y="1052640"/>
            <a:ext cx="22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SS POINT &amp; HUB ROUT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411280" y="5950080"/>
            <a:ext cx="2880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MASTER2-PLM  00:10:5a:e7:b1:3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P 192.168.0.1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Rôle : Domain Controler et D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124000" y="4005360"/>
            <a:ext cx="180036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:09:C0:30:43:5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ut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wind 802.3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.168.0.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2843280" y="3644640"/>
            <a:ext cx="28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116000" y="2276640"/>
            <a:ext cx="180036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ut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wind 802.3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0.16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6"/>
          <a:stretch/>
        </p:blipFill>
        <p:spPr>
          <a:xfrm>
            <a:off x="6877080" y="404640"/>
            <a:ext cx="1361880" cy="100836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6949800" y="71604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763640" y="2924280"/>
            <a:ext cx="216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79280" y="1628640"/>
            <a:ext cx="432000" cy="1800360"/>
          </a:xfrm>
          <a:custGeom>
            <a:avLst/>
            <a:gdLst/>
            <a:ahLst/>
            <a:rect l="l" t="t" r="r" b="b"/>
            <a:pathLst>
              <a:path w="277" h="1134">
                <a:moveTo>
                  <a:pt x="136" y="0"/>
                </a:moveTo>
                <a:lnTo>
                  <a:pt x="0" y="0"/>
                </a:lnTo>
                <a:lnTo>
                  <a:pt x="0" y="1134"/>
                </a:lnTo>
                <a:lnTo>
                  <a:pt x="277" y="1127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26920" y="357336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332000" y="3429000"/>
            <a:ext cx="24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7"/>
          <a:stretch/>
        </p:blipFill>
        <p:spPr>
          <a:xfrm>
            <a:off x="2050920" y="3090960"/>
            <a:ext cx="849600" cy="67608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4211640" y="1989000"/>
            <a:ext cx="576360" cy="1152720"/>
          </a:xfrm>
          <a:custGeom>
            <a:avLst/>
            <a:gdLst/>
            <a:ahLst/>
            <a:rect l="l" t="t" r="r" b="b"/>
            <a:pathLst>
              <a:path w="363" h="726">
                <a:moveTo>
                  <a:pt x="0" y="726"/>
                </a:moveTo>
                <a:lnTo>
                  <a:pt x="0" y="0"/>
                </a:lnTo>
                <a:lnTo>
                  <a:pt x="363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580000" y="1197000"/>
            <a:ext cx="1728720" cy="792000"/>
          </a:xfrm>
          <a:custGeom>
            <a:avLst/>
            <a:gdLst/>
            <a:ahLst/>
            <a:rect l="l" t="t" r="r" b="b"/>
            <a:pathLst>
              <a:path w="1089" h="499">
                <a:moveTo>
                  <a:pt x="0" y="499"/>
                </a:moveTo>
                <a:lnTo>
                  <a:pt x="408" y="499"/>
                </a:lnTo>
                <a:lnTo>
                  <a:pt x="408" y="136"/>
                </a:lnTo>
                <a:lnTo>
                  <a:pt x="1089" y="136"/>
                </a:lnTo>
                <a:lnTo>
                  <a:pt x="1089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572000" y="2852640"/>
            <a:ext cx="1224000" cy="576360"/>
          </a:xfrm>
          <a:custGeom>
            <a:avLst/>
            <a:gdLst/>
            <a:ahLst/>
            <a:rect l="l" t="t" r="r" b="b"/>
            <a:pathLst>
              <a:path w="1089" h="181">
                <a:moveTo>
                  <a:pt x="0" y="181"/>
                </a:moveTo>
                <a:lnTo>
                  <a:pt x="272" y="181"/>
                </a:lnTo>
                <a:lnTo>
                  <a:pt x="272" y="0"/>
                </a:lnTo>
                <a:lnTo>
                  <a:pt x="1089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5405040" y="2515680"/>
            <a:ext cx="861120" cy="842400"/>
            <a:chOff x="5405040" y="2515680"/>
            <a:chExt cx="861120" cy="842400"/>
          </a:xfrm>
        </p:grpSpPr>
        <p:grpSp>
          <p:nvGrpSpPr>
            <p:cNvPr id="454" name=""/>
            <p:cNvGrpSpPr/>
            <p:nvPr/>
          </p:nvGrpSpPr>
          <p:grpSpPr>
            <a:xfrm>
              <a:off x="5405040" y="2515680"/>
              <a:ext cx="861120" cy="842400"/>
              <a:chOff x="5405040" y="2515680"/>
              <a:chExt cx="861120" cy="842400"/>
            </a:xfrm>
          </p:grpSpPr>
          <p:sp>
            <p:nvSpPr>
              <p:cNvPr id="455" name=""/>
              <p:cNvSpPr/>
              <p:nvPr/>
            </p:nvSpPr>
            <p:spPr>
              <a:xfrm rot="20494200">
                <a:off x="5736600" y="2577600"/>
                <a:ext cx="460080" cy="499680"/>
              </a:xfrm>
              <a:custGeom>
                <a:avLst/>
                <a:gdLst/>
                <a:ahLst/>
                <a:rect l="l" t="t" r="r" b="b"/>
                <a:pathLst>
                  <a:path w="360" h="541">
                    <a:moveTo>
                      <a:pt x="249" y="537"/>
                    </a:moveTo>
                    <a:lnTo>
                      <a:pt x="241" y="540"/>
                    </a:lnTo>
                    <a:lnTo>
                      <a:pt x="0" y="345"/>
                    </a:lnTo>
                    <a:lnTo>
                      <a:pt x="80" y="16"/>
                    </a:lnTo>
                    <a:lnTo>
                      <a:pt x="93" y="2"/>
                    </a:lnTo>
                    <a:lnTo>
                      <a:pt x="104" y="0"/>
                    </a:lnTo>
                    <a:lnTo>
                      <a:pt x="111" y="2"/>
                    </a:lnTo>
                    <a:lnTo>
                      <a:pt x="345" y="94"/>
                    </a:lnTo>
                    <a:lnTo>
                      <a:pt x="353" y="100"/>
                    </a:lnTo>
                    <a:lnTo>
                      <a:pt x="359" y="100"/>
                    </a:lnTo>
                    <a:lnTo>
                      <a:pt x="359" y="102"/>
                    </a:lnTo>
                    <a:lnTo>
                      <a:pt x="254" y="540"/>
                    </a:lnTo>
                    <a:lnTo>
                      <a:pt x="249" y="537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rot="20494200">
                <a:off x="6014880" y="2608920"/>
                <a:ext cx="187920" cy="430560"/>
              </a:xfrm>
              <a:custGeom>
                <a:avLst/>
                <a:gdLst/>
                <a:ahLst/>
                <a:rect l="l" t="t" r="r" b="b"/>
                <a:pathLst>
                  <a:path w="147" h="466">
                    <a:moveTo>
                      <a:pt x="146" y="19"/>
                    </a:moveTo>
                    <a:lnTo>
                      <a:pt x="146" y="27"/>
                    </a:lnTo>
                    <a:lnTo>
                      <a:pt x="41" y="448"/>
                    </a:lnTo>
                    <a:lnTo>
                      <a:pt x="41" y="456"/>
                    </a:lnTo>
                    <a:lnTo>
                      <a:pt x="36" y="462"/>
                    </a:lnTo>
                    <a:lnTo>
                      <a:pt x="31" y="465"/>
                    </a:lnTo>
                    <a:lnTo>
                      <a:pt x="28" y="462"/>
                    </a:lnTo>
                    <a:lnTo>
                      <a:pt x="23" y="456"/>
                    </a:lnTo>
                    <a:lnTo>
                      <a:pt x="0" y="439"/>
                    </a:lnTo>
                    <a:lnTo>
                      <a:pt x="109" y="8"/>
                    </a:lnTo>
                    <a:lnTo>
                      <a:pt x="109" y="2"/>
                    </a:lnTo>
                    <a:lnTo>
                      <a:pt x="101" y="0"/>
                    </a:lnTo>
                    <a:lnTo>
                      <a:pt x="114" y="2"/>
                    </a:lnTo>
                    <a:lnTo>
                      <a:pt x="138" y="11"/>
                    </a:lnTo>
                    <a:lnTo>
                      <a:pt x="140" y="16"/>
                    </a:lnTo>
                    <a:lnTo>
                      <a:pt x="146" y="19"/>
                    </a:lnTo>
                  </a:path>
                </a:pathLst>
              </a:custGeom>
              <a:solidFill>
                <a:srgbClr val="202020"/>
              </a:solidFill>
              <a:ln cap="rnd" w="12600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rot="20494200">
                <a:off x="5792040" y="2567520"/>
                <a:ext cx="343800" cy="95760"/>
              </a:xfrm>
              <a:custGeom>
                <a:avLst/>
                <a:gdLst/>
                <a:ahLst/>
                <a:rect l="l" t="t" r="r" b="b"/>
                <a:pathLst>
                  <a:path w="269" h="104">
                    <a:moveTo>
                      <a:pt x="0" y="0"/>
                    </a:moveTo>
                    <a:lnTo>
                      <a:pt x="7" y="0"/>
                    </a:lnTo>
                    <a:lnTo>
                      <a:pt x="15" y="2"/>
                    </a:lnTo>
                    <a:lnTo>
                      <a:pt x="254" y="94"/>
                    </a:lnTo>
                    <a:lnTo>
                      <a:pt x="262" y="100"/>
                    </a:lnTo>
                    <a:lnTo>
                      <a:pt x="268" y="10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cap="rnd" w="12600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rot="20494200">
                <a:off x="5782320" y="2646000"/>
                <a:ext cx="310320" cy="370440"/>
              </a:xfrm>
              <a:custGeom>
                <a:avLst/>
                <a:gdLst/>
                <a:ahLst/>
                <a:rect l="l" t="t" r="r" b="b"/>
                <a:pathLst>
                  <a:path w="243" h="401">
                    <a:moveTo>
                      <a:pt x="156" y="400"/>
                    </a:moveTo>
                    <a:lnTo>
                      <a:pt x="0" y="283"/>
                    </a:lnTo>
                    <a:lnTo>
                      <a:pt x="75" y="0"/>
                    </a:lnTo>
                    <a:lnTo>
                      <a:pt x="242" y="72"/>
                    </a:lnTo>
                    <a:lnTo>
                      <a:pt x="156" y="40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rot="20494200">
                <a:off x="5797800" y="2655360"/>
                <a:ext cx="281160" cy="345600"/>
              </a:xfrm>
              <a:custGeom>
                <a:avLst/>
                <a:gdLst/>
                <a:ahLst/>
                <a:rect l="l" t="t" r="r" b="b"/>
                <a:pathLst>
                  <a:path w="220" h="374">
                    <a:moveTo>
                      <a:pt x="138" y="373"/>
                    </a:moveTo>
                    <a:lnTo>
                      <a:pt x="0" y="264"/>
                    </a:lnTo>
                    <a:lnTo>
                      <a:pt x="67" y="0"/>
                    </a:lnTo>
                    <a:lnTo>
                      <a:pt x="219" y="64"/>
                    </a:lnTo>
                    <a:lnTo>
                      <a:pt x="138" y="373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20494200">
                <a:off x="5710680" y="2634840"/>
                <a:ext cx="136800" cy="322560"/>
              </a:xfrm>
              <a:custGeom>
                <a:avLst/>
                <a:gdLst/>
                <a:ahLst/>
                <a:rect l="l" t="t" r="r" b="b"/>
                <a:pathLst>
                  <a:path w="107" h="349">
                    <a:moveTo>
                      <a:pt x="100" y="0"/>
                    </a:moveTo>
                    <a:lnTo>
                      <a:pt x="93" y="2"/>
                    </a:lnTo>
                    <a:lnTo>
                      <a:pt x="90" y="2"/>
                    </a:lnTo>
                    <a:lnTo>
                      <a:pt x="85" y="8"/>
                    </a:lnTo>
                    <a:lnTo>
                      <a:pt x="82" y="16"/>
                    </a:lnTo>
                    <a:lnTo>
                      <a:pt x="82" y="19"/>
                    </a:lnTo>
                    <a:lnTo>
                      <a:pt x="0" y="345"/>
                    </a:lnTo>
                    <a:lnTo>
                      <a:pt x="5" y="348"/>
                    </a:lnTo>
                    <a:lnTo>
                      <a:pt x="85" y="19"/>
                    </a:lnTo>
                    <a:lnTo>
                      <a:pt x="90" y="11"/>
                    </a:lnTo>
                    <a:lnTo>
                      <a:pt x="93" y="8"/>
                    </a:lnTo>
                    <a:lnTo>
                      <a:pt x="98" y="2"/>
                    </a:lnTo>
                    <a:lnTo>
                      <a:pt x="100" y="2"/>
                    </a:lnTo>
                    <a:lnTo>
                      <a:pt x="106" y="0"/>
                    </a:lnTo>
                    <a:lnTo>
                      <a:pt x="10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rot="20494200">
                <a:off x="5772600" y="2925720"/>
                <a:ext cx="347760" cy="208440"/>
              </a:xfrm>
              <a:custGeom>
                <a:avLst/>
                <a:gdLst/>
                <a:ahLst/>
                <a:rect l="l" t="t" r="r" b="b"/>
                <a:pathLst>
                  <a:path w="272" h="226">
                    <a:moveTo>
                      <a:pt x="271" y="225"/>
                    </a:moveTo>
                    <a:lnTo>
                      <a:pt x="265" y="197"/>
                    </a:lnTo>
                    <a:lnTo>
                      <a:pt x="257" y="180"/>
                    </a:lnTo>
                    <a:lnTo>
                      <a:pt x="36" y="0"/>
                    </a:lnTo>
                    <a:lnTo>
                      <a:pt x="28" y="0"/>
                    </a:lnTo>
                    <a:lnTo>
                      <a:pt x="15" y="0"/>
                    </a:lnTo>
                    <a:lnTo>
                      <a:pt x="7" y="8"/>
                    </a:lnTo>
                    <a:lnTo>
                      <a:pt x="0" y="33"/>
                    </a:lnTo>
                    <a:lnTo>
                      <a:pt x="221" y="225"/>
                    </a:lnTo>
                    <a:lnTo>
                      <a:pt x="271" y="225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rot="20494200">
                <a:off x="5426640" y="3020400"/>
                <a:ext cx="642960" cy="183960"/>
              </a:xfrm>
              <a:custGeom>
                <a:avLst/>
                <a:gdLst/>
                <a:ahLst/>
                <a:rect l="l" t="t" r="r" b="b"/>
                <a:pathLst>
                  <a:path w="503" h="199">
                    <a:moveTo>
                      <a:pt x="0" y="0"/>
                    </a:moveTo>
                    <a:lnTo>
                      <a:pt x="283" y="2"/>
                    </a:lnTo>
                    <a:lnTo>
                      <a:pt x="502" y="189"/>
                    </a:lnTo>
                    <a:lnTo>
                      <a:pt x="122" y="1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20494200">
                <a:off x="5593320" y="3154320"/>
                <a:ext cx="579960" cy="67320"/>
              </a:xfrm>
              <a:custGeom>
                <a:avLst/>
                <a:gdLst/>
                <a:ahLst/>
                <a:rect l="l" t="t" r="r" b="b"/>
                <a:pathLst>
                  <a:path w="454" h="73">
                    <a:moveTo>
                      <a:pt x="15" y="11"/>
                    </a:moveTo>
                    <a:lnTo>
                      <a:pt x="0" y="72"/>
                    </a:lnTo>
                    <a:lnTo>
                      <a:pt x="447" y="60"/>
                    </a:lnTo>
                    <a:lnTo>
                      <a:pt x="453" y="38"/>
                    </a:lnTo>
                    <a:lnTo>
                      <a:pt x="453" y="19"/>
                    </a:lnTo>
                    <a:lnTo>
                      <a:pt x="447" y="0"/>
                    </a:lnTo>
                    <a:lnTo>
                      <a:pt x="15" y="11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20494200">
                <a:off x="5438520" y="3097440"/>
                <a:ext cx="167400" cy="240120"/>
              </a:xfrm>
              <a:custGeom>
                <a:avLst/>
                <a:gdLst/>
                <a:ahLst/>
                <a:rect l="l" t="t" r="r" b="b"/>
                <a:pathLst>
                  <a:path w="131" h="260">
                    <a:moveTo>
                      <a:pt x="7" y="0"/>
                    </a:moveTo>
                    <a:lnTo>
                      <a:pt x="0" y="47"/>
                    </a:lnTo>
                    <a:lnTo>
                      <a:pt x="117" y="259"/>
                    </a:lnTo>
                    <a:lnTo>
                      <a:pt x="130" y="20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rot="20494200">
                <a:off x="5819760" y="3164760"/>
                <a:ext cx="84240" cy="15480"/>
              </a:xfrm>
              <a:custGeom>
                <a:avLst/>
                <a:gdLst/>
                <a:ahLst/>
                <a:rect l="l" t="t" r="r" b="b"/>
                <a:pathLst>
                  <a:path w="66" h="17">
                    <a:moveTo>
                      <a:pt x="0" y="16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65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20494200">
                <a:off x="5614200" y="3034440"/>
                <a:ext cx="183960" cy="181080"/>
              </a:xfrm>
              <a:custGeom>
                <a:avLst/>
                <a:gdLst/>
                <a:ahLst/>
                <a:rect l="l" t="t" r="r" b="b"/>
                <a:pathLst>
                  <a:path w="144" h="196">
                    <a:moveTo>
                      <a:pt x="143" y="186"/>
                    </a:moveTo>
                    <a:lnTo>
                      <a:pt x="0" y="0"/>
                    </a:lnTo>
                    <a:lnTo>
                      <a:pt x="143" y="195"/>
                    </a:lnTo>
                    <a:lnTo>
                      <a:pt x="143" y="186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rot="20494200">
                <a:off x="5479200" y="3112920"/>
                <a:ext cx="2124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17"/>
                    </a:moveTo>
                    <a:lnTo>
                      <a:pt x="0" y="2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16" y="17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rot="20494200">
                <a:off x="5482800" y="3111480"/>
                <a:ext cx="2412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2" y="0"/>
                    </a:lnTo>
                    <a:lnTo>
                      <a:pt x="18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rot="20494200">
                <a:off x="5483160" y="311292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9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rot="20494200">
                <a:off x="5485320" y="31194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rot="20494200">
                <a:off x="5491080" y="311616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5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5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rot="20494200">
                <a:off x="5496840" y="312264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rot="20494200">
                <a:off x="5610960" y="306792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7" y="16"/>
                    </a:lnTo>
                    <a:lnTo>
                      <a:pt x="21" y="16"/>
                    </a:lnTo>
                    <a:lnTo>
                      <a:pt x="1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rot="20494200">
                <a:off x="5558040" y="3086640"/>
                <a:ext cx="2160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17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6" y="2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rot="20494200">
                <a:off x="5558040" y="3086280"/>
                <a:ext cx="2412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0" y="0"/>
                    </a:lnTo>
                    <a:lnTo>
                      <a:pt x="15" y="0"/>
                    </a:lnTo>
                    <a:lnTo>
                      <a:pt x="18" y="16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20494200">
                <a:off x="5561640" y="308700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rot="20494200">
                <a:off x="5563800" y="309312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rot="20494200">
                <a:off x="5569920" y="309096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20494200">
                <a:off x="5572080" y="309708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20494200">
                <a:off x="5576040" y="30970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20494200">
                <a:off x="5575680" y="309636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0"/>
                    </a:moveTo>
                    <a:lnTo>
                      <a:pt x="12" y="0"/>
                    </a:lnTo>
                    <a:lnTo>
                      <a:pt x="15" y="8"/>
                    </a:lnTo>
                    <a:lnTo>
                      <a:pt x="20" y="16"/>
                    </a:lnTo>
                    <a:lnTo>
                      <a:pt x="5" y="16"/>
                    </a:lnTo>
                    <a:lnTo>
                      <a:pt x="5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20494200">
                <a:off x="5583600" y="309888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20494200">
                <a:off x="5583960" y="309996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20494200">
                <a:off x="5586480" y="3098520"/>
                <a:ext cx="25200" cy="1548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0" y="0"/>
                    </a:moveTo>
                    <a:lnTo>
                      <a:pt x="13" y="0"/>
                    </a:lnTo>
                    <a:lnTo>
                      <a:pt x="13" y="5"/>
                    </a:lnTo>
                    <a:lnTo>
                      <a:pt x="19" y="16"/>
                    </a:lnTo>
                    <a:lnTo>
                      <a:pt x="5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rot="20494200">
                <a:off x="5588280" y="310536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rot="20494200">
                <a:off x="5595840" y="3103920"/>
                <a:ext cx="21600" cy="1656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17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16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rot="20494200">
                <a:off x="5597280" y="310860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5" y="0"/>
                    </a:moveTo>
                    <a:lnTo>
                      <a:pt x="15" y="0"/>
                    </a:lnTo>
                    <a:lnTo>
                      <a:pt x="20" y="16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20494200">
                <a:off x="5604480" y="3108600"/>
                <a:ext cx="2412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5"/>
                    </a:lnTo>
                    <a:lnTo>
                      <a:pt x="2" y="0"/>
                    </a:lnTo>
                    <a:lnTo>
                      <a:pt x="15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rot="20494200">
                <a:off x="5606280" y="311436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rot="20494200">
                <a:off x="5608080" y="311220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3" y="5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rot="20494200">
                <a:off x="5610600" y="311904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21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rot="20494200">
                <a:off x="5618160" y="311796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rot="20494200">
                <a:off x="5617800" y="311724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0"/>
                    </a:moveTo>
                    <a:lnTo>
                      <a:pt x="15" y="0"/>
                    </a:lnTo>
                    <a:lnTo>
                      <a:pt x="15" y="8"/>
                    </a:lnTo>
                    <a:lnTo>
                      <a:pt x="20" y="16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rot="20494200">
                <a:off x="5621760" y="312156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rot="20494200">
                <a:off x="5622120" y="3122640"/>
                <a:ext cx="2160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17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rot="20494200">
                <a:off x="5629680" y="312372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20494200">
                <a:off x="5630400" y="3125520"/>
                <a:ext cx="31680" cy="1548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16"/>
                    </a:moveTo>
                    <a:lnTo>
                      <a:pt x="2" y="5"/>
                    </a:lnTo>
                    <a:lnTo>
                      <a:pt x="2" y="0"/>
                    </a:lnTo>
                    <a:lnTo>
                      <a:pt x="18" y="0"/>
                    </a:lnTo>
                    <a:lnTo>
                      <a:pt x="24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20494200">
                <a:off x="5635800" y="31316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0" y="3"/>
                    </a:lnTo>
                    <a:lnTo>
                      <a:pt x="8" y="0"/>
                    </a:lnTo>
                    <a:lnTo>
                      <a:pt x="16" y="3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rot="20494200">
                <a:off x="5641920" y="31294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20494200">
                <a:off x="5642640" y="313128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12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20494200">
                <a:off x="5650920" y="3134160"/>
                <a:ext cx="2124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20494200">
                <a:off x="5650920" y="3133440"/>
                <a:ext cx="25200" cy="1548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8"/>
                    </a:lnTo>
                    <a:lnTo>
                      <a:pt x="19" y="16"/>
                    </a:lnTo>
                    <a:lnTo>
                      <a:pt x="2" y="16"/>
                    </a:lnTo>
                    <a:lnTo>
                      <a:pt x="2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20494200">
                <a:off x="5655600" y="313740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rot="20494200">
                <a:off x="5655960" y="31384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rot="20494200">
                <a:off x="5663520" y="31406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rot="20494200">
                <a:off x="5664600" y="3143160"/>
                <a:ext cx="2412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16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15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rot="20494200">
                <a:off x="5669640" y="31478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6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rot="20494200">
                <a:off x="5669280" y="314676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rot="20494200">
                <a:off x="5677920" y="315144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20494200">
                <a:off x="5678280" y="315252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20494200">
                <a:off x="5681520" y="3151080"/>
                <a:ext cx="2412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2" y="0"/>
                    </a:lnTo>
                    <a:lnTo>
                      <a:pt x="12" y="5"/>
                    </a:lnTo>
                    <a:lnTo>
                      <a:pt x="18" y="16"/>
                    </a:lnTo>
                    <a:lnTo>
                      <a:pt x="5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20494200">
                <a:off x="5683680" y="315756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20494200">
                <a:off x="5690160" y="315612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rot="20494200">
                <a:off x="5689800" y="315504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5" y="0"/>
                    </a:moveTo>
                    <a:lnTo>
                      <a:pt x="15" y="0"/>
                    </a:lnTo>
                    <a:lnTo>
                      <a:pt x="15" y="8"/>
                    </a:lnTo>
                    <a:lnTo>
                      <a:pt x="21" y="16"/>
                    </a:lnTo>
                    <a:lnTo>
                      <a:pt x="7" y="16"/>
                    </a:lnTo>
                    <a:lnTo>
                      <a:pt x="5" y="8"/>
                    </a:ln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rot="20494200">
                <a:off x="5693760" y="315972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rot="20494200">
                <a:off x="5701680" y="3158280"/>
                <a:ext cx="2160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17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rot="20494200">
                <a:off x="5701320" y="315756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0"/>
                    </a:moveTo>
                    <a:lnTo>
                      <a:pt x="12" y="0"/>
                    </a:lnTo>
                    <a:lnTo>
                      <a:pt x="12" y="5"/>
                    </a:lnTo>
                    <a:lnTo>
                      <a:pt x="15" y="5"/>
                    </a:lnTo>
                    <a:lnTo>
                      <a:pt x="20" y="16"/>
                    </a:lnTo>
                    <a:lnTo>
                      <a:pt x="5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rot="20494200">
                <a:off x="5703840" y="3164040"/>
                <a:ext cx="30240" cy="1548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0" y="16"/>
                    </a:moveTo>
                    <a:lnTo>
                      <a:pt x="0" y="5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17" y="0"/>
                    </a:lnTo>
                    <a:lnTo>
                      <a:pt x="23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rot="20494200">
                <a:off x="5710320" y="3163320"/>
                <a:ext cx="21600" cy="1656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17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16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20494200">
                <a:off x="5710320" y="316296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0" y="0"/>
                    </a:lnTo>
                    <a:lnTo>
                      <a:pt x="15" y="5"/>
                    </a:lnTo>
                    <a:lnTo>
                      <a:pt x="18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rot="20494200">
                <a:off x="5714640" y="316944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rot="20494200">
                <a:off x="5716440" y="31752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16" y="3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rot="20494200">
                <a:off x="5724000" y="3172320"/>
                <a:ext cx="2412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0" y="0"/>
                    </a:lnTo>
                    <a:lnTo>
                      <a:pt x="18" y="16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20494200">
                <a:off x="5724720" y="3174480"/>
                <a:ext cx="2412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12"/>
                    </a:lnTo>
                    <a:lnTo>
                      <a:pt x="2" y="4"/>
                    </a:lnTo>
                    <a:lnTo>
                      <a:pt x="2" y="0"/>
                    </a:lnTo>
                    <a:lnTo>
                      <a:pt x="18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rot="20494200">
                <a:off x="5727960" y="31770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2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20494200">
                <a:off x="5734080" y="31748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20494200">
                <a:off x="5736240" y="318096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20494200">
                <a:off x="5526360" y="3097080"/>
                <a:ext cx="2124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17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16" y="2"/>
                    </a:lnTo>
                    <a:lnTo>
                      <a:pt x="5" y="17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rot="20494200">
                <a:off x="5532480" y="309420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rot="20494200">
                <a:off x="5535000" y="3100680"/>
                <a:ext cx="31680" cy="1548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16"/>
                    </a:moveTo>
                    <a:lnTo>
                      <a:pt x="0" y="5"/>
                    </a:lnTo>
                    <a:lnTo>
                      <a:pt x="2" y="0"/>
                    </a:lnTo>
                    <a:lnTo>
                      <a:pt x="18" y="0"/>
                    </a:lnTo>
                    <a:lnTo>
                      <a:pt x="24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rot="20494200">
                <a:off x="5538600" y="31014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16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rot="20494200">
                <a:off x="5544720" y="30996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rot="20494200">
                <a:off x="5546880" y="310572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20494200">
                <a:off x="5547240" y="31068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20494200">
                <a:off x="5553000" y="3103920"/>
                <a:ext cx="25200" cy="1548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8"/>
                    </a:lnTo>
                    <a:lnTo>
                      <a:pt x="19" y="16"/>
                    </a:lnTo>
                    <a:lnTo>
                      <a:pt x="2" y="16"/>
                    </a:lnTo>
                    <a:lnTo>
                      <a:pt x="2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rot="20494200">
                <a:off x="5558040" y="310752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20494200">
                <a:off x="5558400" y="31086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20494200">
                <a:off x="5564520" y="31064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20494200">
                <a:off x="5567040" y="3113280"/>
                <a:ext cx="2412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5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15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rot="20494200">
                <a:off x="5572080" y="311796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6" y="2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20494200">
                <a:off x="5571720" y="311688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rot="20494200">
                <a:off x="5578560" y="311652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rot="20494200">
                <a:off x="5580720" y="31226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20494200">
                <a:off x="5584320" y="312120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2" y="0"/>
                    </a:lnTo>
                    <a:lnTo>
                      <a:pt x="12" y="5"/>
                    </a:lnTo>
                    <a:lnTo>
                      <a:pt x="18" y="16"/>
                    </a:lnTo>
                    <a:lnTo>
                      <a:pt x="5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rot="20494200">
                <a:off x="5586120" y="312768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rot="20494200">
                <a:off x="5592960" y="31262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rot="20494200">
                <a:off x="5592600" y="312516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15" y="8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rot="20494200">
                <a:off x="5596560" y="312984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rot="20494200">
                <a:off x="5598360" y="3135600"/>
                <a:ext cx="2124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0" y="4"/>
                    </a:lnTo>
                    <a:lnTo>
                      <a:pt x="8" y="0"/>
                    </a:lnTo>
                    <a:lnTo>
                      <a:pt x="16" y="4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20494200">
                <a:off x="5605560" y="31330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rot="20494200">
                <a:off x="5605920" y="313488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16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rot="20494200">
                <a:off x="5614560" y="31388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16" y="0"/>
                    </a:lnTo>
                    <a:lnTo>
                      <a:pt x="16" y="3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20494200">
                <a:off x="5616720" y="313812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rot="20494200">
                <a:off x="5618880" y="314388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rot="20494200">
                <a:off x="5619240" y="314496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20494200">
                <a:off x="5625720" y="314172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0"/>
                    </a:moveTo>
                    <a:lnTo>
                      <a:pt x="12" y="0"/>
                    </a:lnTo>
                    <a:lnTo>
                      <a:pt x="15" y="8"/>
                    </a:lnTo>
                    <a:lnTo>
                      <a:pt x="20" y="16"/>
                    </a:lnTo>
                    <a:lnTo>
                      <a:pt x="5" y="16"/>
                    </a:lnTo>
                    <a:lnTo>
                      <a:pt x="5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rot="20494200">
                <a:off x="5627880" y="3146400"/>
                <a:ext cx="30600" cy="1548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0" y="16"/>
                    </a:moveTo>
                    <a:lnTo>
                      <a:pt x="2" y="5"/>
                    </a:lnTo>
                    <a:lnTo>
                      <a:pt x="2" y="0"/>
                    </a:lnTo>
                    <a:lnTo>
                      <a:pt x="17" y="0"/>
                    </a:lnTo>
                    <a:lnTo>
                      <a:pt x="23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20494200">
                <a:off x="5631840" y="3151080"/>
                <a:ext cx="21600" cy="1656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17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16" y="2"/>
                    </a:lnTo>
                    <a:lnTo>
                      <a:pt x="5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20494200">
                <a:off x="5637960" y="31492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rot="20494200">
                <a:off x="5640480" y="315648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rot="20494200">
                <a:off x="5644080" y="315612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rot="20494200">
                <a:off x="5643720" y="315504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5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5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rot="20494200">
                <a:off x="5645880" y="3160800"/>
                <a:ext cx="34200" cy="1548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6"/>
                    </a:moveTo>
                    <a:lnTo>
                      <a:pt x="5" y="5"/>
                    </a:lnTo>
                    <a:lnTo>
                      <a:pt x="5" y="0"/>
                    </a:lnTo>
                    <a:lnTo>
                      <a:pt x="20" y="0"/>
                    </a:lnTo>
                    <a:lnTo>
                      <a:pt x="26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rot="20494200">
                <a:off x="5652720" y="316116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rot="20494200">
                <a:off x="5659200" y="3159000"/>
                <a:ext cx="2124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rot="20494200">
                <a:off x="5661360" y="3165120"/>
                <a:ext cx="25200" cy="1548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0" y="16"/>
                    </a:moveTo>
                    <a:lnTo>
                      <a:pt x="0" y="8"/>
                    </a:lnTo>
                    <a:lnTo>
                      <a:pt x="2" y="0"/>
                    </a:lnTo>
                    <a:lnTo>
                      <a:pt x="16" y="0"/>
                    </a:lnTo>
                    <a:lnTo>
                      <a:pt x="19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rot="20494200">
                <a:off x="5664600" y="31644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rot="20494200">
                <a:off x="5664240" y="316332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15" y="8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rot="20494200">
                <a:off x="5672880" y="3167640"/>
                <a:ext cx="2412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rot="20494200">
                <a:off x="5672880" y="3168000"/>
                <a:ext cx="2160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17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rot="20494200">
                <a:off x="5677200" y="317016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rot="20494200">
                <a:off x="5678280" y="317304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21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rot="20494200">
                <a:off x="5684760" y="3171960"/>
                <a:ext cx="21600" cy="1656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17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16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rot="20494200">
                <a:off x="5685840" y="317592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rot="20494200">
                <a:off x="5690160" y="317808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rot="20494200">
                <a:off x="5692320" y="318312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16" y="3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rot="20494200">
                <a:off x="5698440" y="318096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20494200">
                <a:off x="5698800" y="318240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12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rot="20494200">
                <a:off x="5702400" y="31852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20494200">
                <a:off x="5702040" y="318420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5" y="0"/>
                    </a:moveTo>
                    <a:lnTo>
                      <a:pt x="15" y="0"/>
                    </a:lnTo>
                    <a:lnTo>
                      <a:pt x="15" y="5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5" y="5"/>
                    </a:ln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rot="20494200">
                <a:off x="5712120" y="318924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rot="20494200">
                <a:off x="5504400" y="3104640"/>
                <a:ext cx="2160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17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16" y="2"/>
                    </a:lnTo>
                    <a:lnTo>
                      <a:pt x="5" y="17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rot="20494200">
                <a:off x="5508000" y="31032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rot="20494200">
                <a:off x="5510160" y="311004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rot="20494200">
                <a:off x="5516640" y="310896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rot="20494200">
                <a:off x="5516640" y="3108600"/>
                <a:ext cx="2412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0" y="0"/>
                    </a:lnTo>
                    <a:lnTo>
                      <a:pt x="15" y="5"/>
                    </a:lnTo>
                    <a:lnTo>
                      <a:pt x="18" y="16"/>
                    </a:lnTo>
                    <a:lnTo>
                      <a:pt x="2" y="16"/>
                    </a:ln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rot="20494200">
                <a:off x="5521320" y="311400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rot="20494200">
                <a:off x="5521680" y="31150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20494200">
                <a:off x="5528880" y="311256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8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2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20494200">
                <a:off x="5530320" y="311688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20494200">
                <a:off x="5533200" y="3116880"/>
                <a:ext cx="2124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20494200">
                <a:off x="5532840" y="311580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5" y="0"/>
                    </a:moveTo>
                    <a:lnTo>
                      <a:pt x="15" y="0"/>
                    </a:lnTo>
                    <a:lnTo>
                      <a:pt x="15" y="5"/>
                    </a:lnTo>
                    <a:lnTo>
                      <a:pt x="21" y="16"/>
                    </a:lnTo>
                    <a:lnTo>
                      <a:pt x="7" y="16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20494200">
                <a:off x="5541480" y="312120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20494200">
                <a:off x="5543640" y="31276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16" y="2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20494200">
                <a:off x="5546520" y="312552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20494200">
                <a:off x="5553360" y="312516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20494200">
                <a:off x="5555160" y="31312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20494200">
                <a:off x="5561280" y="312912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20494200">
                <a:off x="5563440" y="3135240"/>
                <a:ext cx="25200" cy="1548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6" y="0"/>
                    </a:lnTo>
                    <a:lnTo>
                      <a:pt x="19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20494200">
                <a:off x="5567040" y="31348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20494200">
                <a:off x="5566680" y="313380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8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20494200">
                <a:off x="5568480" y="3138840"/>
                <a:ext cx="30600" cy="1548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0" y="16"/>
                    </a:moveTo>
                    <a:lnTo>
                      <a:pt x="2" y="5"/>
                    </a:lnTo>
                    <a:lnTo>
                      <a:pt x="2" y="0"/>
                    </a:lnTo>
                    <a:lnTo>
                      <a:pt x="17" y="0"/>
                    </a:lnTo>
                    <a:lnTo>
                      <a:pt x="23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20494200">
                <a:off x="5576760" y="31428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4"/>
                    </a:lnTo>
                    <a:lnTo>
                      <a:pt x="5" y="0"/>
                    </a:lnTo>
                    <a:lnTo>
                      <a:pt x="16" y="4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20494200">
                <a:off x="5580000" y="314172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20494200">
                <a:off x="5580360" y="314280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20494200">
                <a:off x="5588640" y="31474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6" y="3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20494200">
                <a:off x="5588280" y="314640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20494200">
                <a:off x="5594400" y="315216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20494200">
                <a:off x="5594760" y="31528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20494200">
                <a:off x="5600880" y="31510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8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20494200">
                <a:off x="5602320" y="315540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0494200">
                <a:off x="5606640" y="3159720"/>
                <a:ext cx="21240" cy="1656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17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6" y="2"/>
                    </a:lnTo>
                    <a:lnTo>
                      <a:pt x="16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0494200">
                <a:off x="5606280" y="315864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0494200">
                <a:off x="5616000" y="316476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0494200">
                <a:off x="5616360" y="31654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20494200">
                <a:off x="5622480" y="3162960"/>
                <a:ext cx="2412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8" y="16"/>
                    </a:lnTo>
                    <a:lnTo>
                      <a:pt x="2" y="16"/>
                    </a:ln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20494200">
                <a:off x="5625000" y="3169800"/>
                <a:ext cx="2412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5"/>
                    </a:lnTo>
                    <a:lnTo>
                      <a:pt x="2" y="0"/>
                    </a:lnTo>
                    <a:lnTo>
                      <a:pt x="18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20494200">
                <a:off x="5627160" y="31694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20494200">
                <a:off x="5626800" y="316836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5" y="0"/>
                    </a:moveTo>
                    <a:lnTo>
                      <a:pt x="15" y="0"/>
                    </a:lnTo>
                    <a:lnTo>
                      <a:pt x="15" y="5"/>
                    </a:lnTo>
                    <a:lnTo>
                      <a:pt x="21" y="16"/>
                    </a:lnTo>
                    <a:lnTo>
                      <a:pt x="7" y="16"/>
                    </a:lnTo>
                    <a:lnTo>
                      <a:pt x="5" y="5"/>
                    </a:ln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20494200">
                <a:off x="5636520" y="317304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20494200">
                <a:off x="5636880" y="317376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20494200">
                <a:off x="5638680" y="317196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8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20494200">
                <a:off x="5640480" y="3176280"/>
                <a:ext cx="34200" cy="1548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6"/>
                    </a:moveTo>
                    <a:lnTo>
                      <a:pt x="5" y="5"/>
                    </a:lnTo>
                    <a:lnTo>
                      <a:pt x="5" y="0"/>
                    </a:lnTo>
                    <a:lnTo>
                      <a:pt x="20" y="0"/>
                    </a:lnTo>
                    <a:lnTo>
                      <a:pt x="26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20494200">
                <a:off x="5646960" y="3176640"/>
                <a:ext cx="2160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17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20494200">
                <a:off x="5652000" y="3179520"/>
                <a:ext cx="2412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2" y="0"/>
                    </a:lnTo>
                    <a:lnTo>
                      <a:pt x="18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20494200">
                <a:off x="5652360" y="318132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20494200">
                <a:off x="5652720" y="3182400"/>
                <a:ext cx="21600" cy="1656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8" y="17"/>
                    </a:moveTo>
                    <a:lnTo>
                      <a:pt x="0" y="8"/>
                    </a:lnTo>
                    <a:lnTo>
                      <a:pt x="8" y="0"/>
                    </a:lnTo>
                    <a:lnTo>
                      <a:pt x="16" y="8"/>
                    </a:lnTo>
                    <a:lnTo>
                      <a:pt x="8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0494200">
                <a:off x="5660280" y="318456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0494200">
                <a:off x="5661360" y="3186720"/>
                <a:ext cx="32040" cy="1548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16"/>
                    </a:moveTo>
                    <a:lnTo>
                      <a:pt x="2" y="16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18" y="0"/>
                    </a:lnTo>
                    <a:lnTo>
                      <a:pt x="24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0494200">
                <a:off x="5669640" y="3190680"/>
                <a:ext cx="2124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16" y="0"/>
                    </a:lnTo>
                    <a:lnTo>
                      <a:pt x="16" y="3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0494200">
                <a:off x="5672880" y="31896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494200">
                <a:off x="5673600" y="319068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12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0494200">
                <a:off x="5497200" y="312336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0" y="6"/>
                    </a:lnTo>
                    <a:lnTo>
                      <a:pt x="8" y="0"/>
                    </a:lnTo>
                    <a:lnTo>
                      <a:pt x="16" y="6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0494200">
                <a:off x="5503320" y="31212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8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0494200">
                <a:off x="5504760" y="312516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94200">
                <a:off x="5510880" y="31244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494200">
                <a:off x="5510880" y="3124080"/>
                <a:ext cx="2412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0" y="0"/>
                    </a:lnTo>
                    <a:lnTo>
                      <a:pt x="15" y="5"/>
                    </a:lnTo>
                    <a:lnTo>
                      <a:pt x="18" y="16"/>
                    </a:lnTo>
                    <a:lnTo>
                      <a:pt x="2" y="16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494200">
                <a:off x="5516640" y="312948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494200">
                <a:off x="5518800" y="31356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16" y="2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494200">
                <a:off x="5524920" y="31338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494200">
                <a:off x="5525640" y="3135240"/>
                <a:ext cx="2412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9"/>
                    </a:lnTo>
                    <a:lnTo>
                      <a:pt x="2" y="6"/>
                    </a:lnTo>
                    <a:lnTo>
                      <a:pt x="2" y="0"/>
                    </a:lnTo>
                    <a:lnTo>
                      <a:pt x="15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494200">
                <a:off x="5529600" y="313992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494200">
                <a:off x="5529240" y="313884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15" y="5"/>
                    </a:lnTo>
                    <a:lnTo>
                      <a:pt x="21" y="16"/>
                    </a:lnTo>
                    <a:lnTo>
                      <a:pt x="7" y="16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20494200">
                <a:off x="5539320" y="314352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20494200">
                <a:off x="5539680" y="31442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20494200">
                <a:off x="5541480" y="314208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3" y="8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20494200">
                <a:off x="5543280" y="314784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21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20494200">
                <a:off x="5551200" y="31510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16" y="4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20494200">
                <a:off x="5550840" y="315000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5" y="0"/>
                    </a:moveTo>
                    <a:lnTo>
                      <a:pt x="15" y="0"/>
                    </a:lnTo>
                    <a:lnTo>
                      <a:pt x="21" y="16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20494200">
                <a:off x="5555160" y="315144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20494200">
                <a:off x="5557320" y="315792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0" y="3"/>
                    </a:lnTo>
                    <a:lnTo>
                      <a:pt x="8" y="0"/>
                    </a:lnTo>
                    <a:lnTo>
                      <a:pt x="16" y="3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rot="20494200">
                <a:off x="5563080" y="315468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20494200">
                <a:off x="5565600" y="3160800"/>
                <a:ext cx="31680" cy="1548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16"/>
                    </a:moveTo>
                    <a:lnTo>
                      <a:pt x="2" y="8"/>
                    </a:lnTo>
                    <a:lnTo>
                      <a:pt x="2" y="0"/>
                    </a:lnTo>
                    <a:lnTo>
                      <a:pt x="18" y="0"/>
                    </a:lnTo>
                    <a:lnTo>
                      <a:pt x="24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0494200">
                <a:off x="5571720" y="31608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5" name=""/>
            <p:cNvSpPr/>
            <p:nvPr/>
          </p:nvSpPr>
          <p:spPr>
            <a:xfrm rot="20494200">
              <a:off x="5575320" y="315936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0" y="8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20494200">
              <a:off x="5576760" y="316368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rot="20494200">
              <a:off x="5584680" y="3166920"/>
              <a:ext cx="21600" cy="165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17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6" y="2"/>
                  </a:lnTo>
                  <a:lnTo>
                    <a:pt x="16" y="17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rot="20494200">
              <a:off x="5584680" y="3166560"/>
              <a:ext cx="2412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10" y="0"/>
                  </a:lnTo>
                  <a:lnTo>
                    <a:pt x="15" y="0"/>
                  </a:lnTo>
                  <a:lnTo>
                    <a:pt x="18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rot="20494200">
              <a:off x="5590440" y="317304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20494200">
              <a:off x="5590800" y="317412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2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6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20494200">
              <a:off x="5596920" y="317196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0" y="5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rot="20494200">
              <a:off x="5599080" y="317772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20494200">
              <a:off x="5603040" y="317772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16" y="6"/>
                  </a:lnTo>
                  <a:lnTo>
                    <a:pt x="16" y="16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20494200">
              <a:off x="5602680" y="3177000"/>
              <a:ext cx="26640" cy="1548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0"/>
                  </a:moveTo>
                  <a:lnTo>
                    <a:pt x="12" y="0"/>
                  </a:lnTo>
                  <a:lnTo>
                    <a:pt x="15" y="0"/>
                  </a:lnTo>
                  <a:lnTo>
                    <a:pt x="15" y="5"/>
                  </a:lnTo>
                  <a:lnTo>
                    <a:pt x="20" y="16"/>
                  </a:lnTo>
                  <a:lnTo>
                    <a:pt x="5" y="16"/>
                  </a:lnTo>
                  <a:lnTo>
                    <a:pt x="5" y="5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20494200">
              <a:off x="5610960" y="318132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20494200">
              <a:off x="5611320" y="318240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6"/>
                  </a:lnTo>
                  <a:lnTo>
                    <a:pt x="5" y="0"/>
                  </a:lnTo>
                  <a:lnTo>
                    <a:pt x="16" y="6"/>
                  </a:lnTo>
                  <a:lnTo>
                    <a:pt x="5" y="16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rot="20494200">
              <a:off x="5613480" y="318060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13" y="0"/>
                  </a:lnTo>
                  <a:lnTo>
                    <a:pt x="13" y="8"/>
                  </a:lnTo>
                  <a:lnTo>
                    <a:pt x="21" y="16"/>
                  </a:lnTo>
                  <a:lnTo>
                    <a:pt x="5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rot="20494200">
              <a:off x="5615280" y="318600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5" y="0"/>
                  </a:lnTo>
                  <a:lnTo>
                    <a:pt x="21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rot="20494200">
              <a:off x="5622840" y="3184560"/>
              <a:ext cx="2160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17"/>
                  </a:moveTo>
                  <a:lnTo>
                    <a:pt x="0" y="8"/>
                  </a:lnTo>
                  <a:lnTo>
                    <a:pt x="16" y="0"/>
                  </a:lnTo>
                  <a:lnTo>
                    <a:pt x="16" y="8"/>
                  </a:lnTo>
                  <a:lnTo>
                    <a:pt x="16" y="17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20494200">
              <a:off x="5630400" y="318708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rot="20494200">
              <a:off x="5631480" y="3189240"/>
              <a:ext cx="2412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0" y="5"/>
                  </a:lnTo>
                  <a:lnTo>
                    <a:pt x="2" y="0"/>
                  </a:lnTo>
                  <a:lnTo>
                    <a:pt x="15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rot="20494200">
              <a:off x="5631480" y="3189600"/>
              <a:ext cx="21600" cy="165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rot="20494200">
              <a:off x="5635440" y="319392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20494200">
              <a:off x="5636160" y="319572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16"/>
                  </a:lnTo>
                  <a:lnTo>
                    <a:pt x="5" y="5"/>
                  </a:lnTo>
                  <a:lnTo>
                    <a:pt x="5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20494200">
              <a:off x="5574960" y="3072960"/>
              <a:ext cx="21600" cy="165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20494200">
              <a:off x="5577480" y="3071520"/>
              <a:ext cx="25200" cy="154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0"/>
                  </a:moveTo>
                  <a:lnTo>
                    <a:pt x="8" y="0"/>
                  </a:lnTo>
                  <a:lnTo>
                    <a:pt x="19" y="16"/>
                  </a:lnTo>
                  <a:lnTo>
                    <a:pt x="5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20494200">
              <a:off x="5579640" y="3078720"/>
              <a:ext cx="25200" cy="154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16"/>
                  </a:moveTo>
                  <a:lnTo>
                    <a:pt x="5" y="0"/>
                  </a:lnTo>
                  <a:lnTo>
                    <a:pt x="19" y="0"/>
                  </a:lnTo>
                  <a:lnTo>
                    <a:pt x="19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20494200">
              <a:off x="5580720" y="3081960"/>
              <a:ext cx="2124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1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6" y="6"/>
                  </a:lnTo>
                  <a:lnTo>
                    <a:pt x="9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20494200">
              <a:off x="5587920" y="307944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20494200">
              <a:off x="5596560" y="308520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20494200">
              <a:off x="5596560" y="308520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20494200">
              <a:off x="5599080" y="308448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 rot="20494200">
              <a:off x="5600880" y="309060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5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20494200">
              <a:off x="5608440" y="3089160"/>
              <a:ext cx="2160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494200">
              <a:off x="5608080" y="3088440"/>
              <a:ext cx="26640" cy="1548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0"/>
                  </a:moveTo>
                  <a:lnTo>
                    <a:pt x="12" y="0"/>
                  </a:lnTo>
                  <a:lnTo>
                    <a:pt x="20" y="16"/>
                  </a:lnTo>
                  <a:lnTo>
                    <a:pt x="7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rot="20494200">
              <a:off x="5613120" y="3094920"/>
              <a:ext cx="2412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5" y="0"/>
                  </a:lnTo>
                  <a:lnTo>
                    <a:pt x="18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20494200">
              <a:off x="5619240" y="3093120"/>
              <a:ext cx="2160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20494200">
              <a:off x="5619240" y="309312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20494200">
              <a:off x="5626080" y="3101760"/>
              <a:ext cx="2412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5" y="0"/>
                  </a:lnTo>
                  <a:lnTo>
                    <a:pt x="12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 rot="20494200">
              <a:off x="5626080" y="3102120"/>
              <a:ext cx="2160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9" y="17"/>
                  </a:moveTo>
                  <a:lnTo>
                    <a:pt x="0" y="8"/>
                  </a:lnTo>
                  <a:lnTo>
                    <a:pt x="6" y="0"/>
                  </a:lnTo>
                  <a:lnTo>
                    <a:pt x="16" y="8"/>
                  </a:lnTo>
                  <a:lnTo>
                    <a:pt x="9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 rot="20494200">
              <a:off x="5632200" y="309996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rot="20494200">
              <a:off x="5641200" y="3105360"/>
              <a:ext cx="2124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rot="20494200">
              <a:off x="5641200" y="3105360"/>
              <a:ext cx="2124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5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 rot="20494200">
              <a:off x="5644440" y="310428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rot="20494200">
              <a:off x="5646960" y="311112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 rot="20494200">
              <a:off x="5646960" y="3111120"/>
              <a:ext cx="2160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9" y="17"/>
                  </a:moveTo>
                  <a:lnTo>
                    <a:pt x="0" y="8"/>
                  </a:lnTo>
                  <a:lnTo>
                    <a:pt x="6" y="0"/>
                  </a:lnTo>
                  <a:lnTo>
                    <a:pt x="16" y="8"/>
                  </a:lnTo>
                  <a:lnTo>
                    <a:pt x="9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20494200">
              <a:off x="5654160" y="311184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 rot="20494200">
              <a:off x="5659560" y="311760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20494200">
              <a:off x="5659560" y="3117600"/>
              <a:ext cx="2160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9" y="17"/>
                  </a:moveTo>
                  <a:lnTo>
                    <a:pt x="0" y="8"/>
                  </a:lnTo>
                  <a:lnTo>
                    <a:pt x="6" y="0"/>
                  </a:lnTo>
                  <a:lnTo>
                    <a:pt x="16" y="8"/>
                  </a:lnTo>
                  <a:lnTo>
                    <a:pt x="9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 rot="20494200">
              <a:off x="5666040" y="311580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rot="20494200">
              <a:off x="5672160" y="3122280"/>
              <a:ext cx="2412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20494200">
              <a:off x="5672160" y="312264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20494200">
              <a:off x="5678280" y="312048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20494200">
              <a:off x="5680440" y="312732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20494200">
              <a:off x="5680440" y="3127320"/>
              <a:ext cx="2160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9" y="17"/>
                  </a:moveTo>
                  <a:lnTo>
                    <a:pt x="0" y="8"/>
                  </a:lnTo>
                  <a:lnTo>
                    <a:pt x="6" y="0"/>
                  </a:lnTo>
                  <a:lnTo>
                    <a:pt x="16" y="8"/>
                  </a:lnTo>
                  <a:lnTo>
                    <a:pt x="9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 rot="20494200">
              <a:off x="5682960" y="3125880"/>
              <a:ext cx="25200" cy="154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0"/>
                  </a:moveTo>
                  <a:lnTo>
                    <a:pt x="13" y="0"/>
                  </a:lnTo>
                  <a:lnTo>
                    <a:pt x="19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20494200">
              <a:off x="5693400" y="313380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20494200">
              <a:off x="5693400" y="3133800"/>
              <a:ext cx="21600" cy="165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6" y="17"/>
                  </a:moveTo>
                  <a:lnTo>
                    <a:pt x="0" y="8"/>
                  </a:lnTo>
                  <a:lnTo>
                    <a:pt x="6" y="0"/>
                  </a:lnTo>
                  <a:lnTo>
                    <a:pt x="16" y="8"/>
                  </a:lnTo>
                  <a:lnTo>
                    <a:pt x="6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20494200">
              <a:off x="5699520" y="313164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rot="20494200">
              <a:off x="5704200" y="313812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 rot="20494200">
              <a:off x="5704200" y="3138120"/>
              <a:ext cx="2160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rot="20494200">
              <a:off x="5711760" y="313560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 rot="20494200">
              <a:off x="5714280" y="314352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rot="20494200">
              <a:off x="5714280" y="314352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6"/>
                  </a:moveTo>
                  <a:lnTo>
                    <a:pt x="0" y="8"/>
                  </a:lnTo>
                  <a:lnTo>
                    <a:pt x="4" y="0"/>
                  </a:lnTo>
                  <a:lnTo>
                    <a:pt x="16" y="8"/>
                  </a:lnTo>
                  <a:lnTo>
                    <a:pt x="12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rot="20494200">
              <a:off x="5716800" y="314280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 rot="20494200">
              <a:off x="5726160" y="315036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rot="20494200">
              <a:off x="5726160" y="3150360"/>
              <a:ext cx="2160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rot="20494200">
              <a:off x="5729400" y="3148560"/>
              <a:ext cx="2412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7" y="0"/>
                  </a:lnTo>
                  <a:lnTo>
                    <a:pt x="18" y="16"/>
                  </a:lnTo>
                  <a:lnTo>
                    <a:pt x="5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rot="20494200">
              <a:off x="5731920" y="3155760"/>
              <a:ext cx="2412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5" y="0"/>
                  </a:lnTo>
                  <a:lnTo>
                    <a:pt x="18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rot="20494200">
              <a:off x="5738040" y="3154320"/>
              <a:ext cx="21600" cy="165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rot="20494200">
              <a:off x="5737680" y="315324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13" y="0"/>
                  </a:lnTo>
                  <a:lnTo>
                    <a:pt x="21" y="16"/>
                  </a:lnTo>
                  <a:lnTo>
                    <a:pt x="7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rot="20494200">
              <a:off x="5744160" y="3160440"/>
              <a:ext cx="2412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5" y="0"/>
                  </a:lnTo>
                  <a:lnTo>
                    <a:pt x="18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rot="20494200">
              <a:off x="5745960" y="316512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1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6" y="6"/>
                  </a:lnTo>
                  <a:lnTo>
                    <a:pt x="9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rot="20494200">
              <a:off x="5751720" y="316332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rot="20494200">
              <a:off x="5759280" y="316656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rot="20494200">
              <a:off x="5759280" y="316656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6"/>
                  </a:moveTo>
                  <a:lnTo>
                    <a:pt x="0" y="8"/>
                  </a:lnTo>
                  <a:lnTo>
                    <a:pt x="4" y="0"/>
                  </a:lnTo>
                  <a:lnTo>
                    <a:pt x="16" y="8"/>
                  </a:lnTo>
                  <a:lnTo>
                    <a:pt x="12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rot="20494200">
              <a:off x="5763240" y="316512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rot="20494200">
              <a:off x="5771880" y="317016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rot="20494200">
              <a:off x="5771880" y="3170160"/>
              <a:ext cx="2160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rot="20494200">
              <a:off x="5775120" y="316908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20494200">
              <a:off x="5779080" y="318096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rot="20494200">
              <a:off x="5630760" y="3073680"/>
              <a:ext cx="2124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2" y="16"/>
                  </a:lnTo>
                  <a:lnTo>
                    <a:pt x="16" y="16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rot="20494200">
              <a:off x="5644800" y="3084120"/>
              <a:ext cx="2412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7" y="16"/>
                  </a:lnTo>
                  <a:lnTo>
                    <a:pt x="18" y="16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20494200">
              <a:off x="5657400" y="309024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5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20494200">
              <a:off x="5673240" y="309816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3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rot="20494200">
              <a:off x="5693400" y="310644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2" y="16"/>
                  </a:lnTo>
                  <a:lnTo>
                    <a:pt x="16" y="16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20494200">
              <a:off x="5707080" y="311436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3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20494200">
              <a:off x="5726160" y="311868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3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20494200">
              <a:off x="5740560" y="313056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5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20494200">
              <a:off x="5760360" y="3135600"/>
              <a:ext cx="2376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2" y="16"/>
                  </a:lnTo>
                  <a:lnTo>
                    <a:pt x="18" y="16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20494200">
              <a:off x="5772600" y="314136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5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20494200">
              <a:off x="5789880" y="315216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3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20494200">
              <a:off x="5453640" y="3121560"/>
              <a:ext cx="2160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2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rot="20494200">
              <a:off x="5460480" y="3118680"/>
              <a:ext cx="2412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10" y="0"/>
                  </a:lnTo>
                  <a:lnTo>
                    <a:pt x="15" y="5"/>
                  </a:lnTo>
                  <a:lnTo>
                    <a:pt x="18" y="16"/>
                  </a:lnTo>
                  <a:lnTo>
                    <a:pt x="2" y="16"/>
                  </a:lnTo>
                  <a:lnTo>
                    <a:pt x="2" y="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rot="20494200">
              <a:off x="5462640" y="3125160"/>
              <a:ext cx="30600" cy="1548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16"/>
                  </a:moveTo>
                  <a:lnTo>
                    <a:pt x="2" y="5"/>
                  </a:lnTo>
                  <a:lnTo>
                    <a:pt x="2" y="0"/>
                  </a:lnTo>
                  <a:lnTo>
                    <a:pt x="17" y="0"/>
                  </a:lnTo>
                  <a:lnTo>
                    <a:pt x="23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20494200">
              <a:off x="5465880" y="312588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6"/>
                  </a:lnTo>
                  <a:lnTo>
                    <a:pt x="5" y="0"/>
                  </a:lnTo>
                  <a:lnTo>
                    <a:pt x="16" y="6"/>
                  </a:lnTo>
                  <a:lnTo>
                    <a:pt x="5" y="16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 rot="20494200">
              <a:off x="5472720" y="312660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20494200">
              <a:off x="5474160" y="3130200"/>
              <a:ext cx="25200" cy="154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16"/>
                  </a:moveTo>
                  <a:lnTo>
                    <a:pt x="0" y="8"/>
                  </a:lnTo>
                  <a:lnTo>
                    <a:pt x="2" y="0"/>
                  </a:lnTo>
                  <a:lnTo>
                    <a:pt x="16" y="0"/>
                  </a:lnTo>
                  <a:lnTo>
                    <a:pt x="19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rot="20494200">
              <a:off x="5478840" y="3132360"/>
              <a:ext cx="2160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17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17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 rot="20494200">
              <a:off x="5478480" y="313128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5" y="0"/>
                  </a:moveTo>
                  <a:lnTo>
                    <a:pt x="15" y="0"/>
                  </a:lnTo>
                  <a:lnTo>
                    <a:pt x="15" y="5"/>
                  </a:lnTo>
                  <a:lnTo>
                    <a:pt x="21" y="16"/>
                  </a:lnTo>
                  <a:lnTo>
                    <a:pt x="7" y="16"/>
                  </a:lnTo>
                  <a:lnTo>
                    <a:pt x="5" y="5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 rot="20494200">
              <a:off x="5486760" y="313632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 rot="20494200">
              <a:off x="5491800" y="3138840"/>
              <a:ext cx="21600" cy="165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17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17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rot="20494200">
              <a:off x="5491440" y="313776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13" y="0"/>
                  </a:lnTo>
                  <a:lnTo>
                    <a:pt x="15" y="5"/>
                  </a:lnTo>
                  <a:lnTo>
                    <a:pt x="21" y="16"/>
                  </a:lnTo>
                  <a:lnTo>
                    <a:pt x="5" y="16"/>
                  </a:lnTo>
                  <a:lnTo>
                    <a:pt x="5" y="5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 rot="20494200">
              <a:off x="5500080" y="314280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rot="20494200">
              <a:off x="5509080" y="3142080"/>
              <a:ext cx="57240" cy="67320"/>
            </a:xfrm>
            <a:custGeom>
              <a:avLst/>
              <a:gdLst/>
              <a:ahLst/>
              <a:rect l="l" t="t" r="r" b="b"/>
              <a:pathLst>
                <a:path w="45" h="73">
                  <a:moveTo>
                    <a:pt x="44" y="72"/>
                  </a:moveTo>
                  <a:lnTo>
                    <a:pt x="0" y="2"/>
                  </a:lnTo>
                  <a:lnTo>
                    <a:pt x="5" y="0"/>
                  </a:lnTo>
                  <a:lnTo>
                    <a:pt x="44" y="63"/>
                  </a:lnTo>
                  <a:lnTo>
                    <a:pt x="44" y="72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rot="20494200">
              <a:off x="5510880" y="3137400"/>
              <a:ext cx="80280" cy="60120"/>
            </a:xfrm>
            <a:custGeom>
              <a:avLst/>
              <a:gdLst/>
              <a:ahLst/>
              <a:rect l="l" t="t" r="r" b="b"/>
              <a:pathLst>
                <a:path w="63" h="65">
                  <a:moveTo>
                    <a:pt x="0" y="0"/>
                  </a:moveTo>
                  <a:lnTo>
                    <a:pt x="12" y="0"/>
                  </a:lnTo>
                  <a:lnTo>
                    <a:pt x="15" y="0"/>
                  </a:lnTo>
                  <a:lnTo>
                    <a:pt x="62" y="64"/>
                  </a:lnTo>
                  <a:lnTo>
                    <a:pt x="41" y="64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rot="20494200">
              <a:off x="5573520" y="3185280"/>
              <a:ext cx="31680" cy="1548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6" y="0"/>
                  </a:lnTo>
                  <a:lnTo>
                    <a:pt x="24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rot="20494200">
              <a:off x="5574960" y="318996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2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6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rot="20494200">
              <a:off x="5580720" y="3187440"/>
              <a:ext cx="25200" cy="154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0"/>
                  </a:moveTo>
                  <a:lnTo>
                    <a:pt x="10" y="0"/>
                  </a:lnTo>
                  <a:lnTo>
                    <a:pt x="19" y="16"/>
                  </a:lnTo>
                  <a:lnTo>
                    <a:pt x="2" y="16"/>
                  </a:lnTo>
                  <a:lnTo>
                    <a:pt x="2" y="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rot="20494200">
              <a:off x="5583240" y="3194640"/>
              <a:ext cx="25200" cy="154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16"/>
                  </a:moveTo>
                  <a:lnTo>
                    <a:pt x="0" y="5"/>
                  </a:lnTo>
                  <a:lnTo>
                    <a:pt x="2" y="0"/>
                  </a:lnTo>
                  <a:lnTo>
                    <a:pt x="19" y="0"/>
                  </a:lnTo>
                  <a:lnTo>
                    <a:pt x="19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20494200">
              <a:off x="5586840" y="3193920"/>
              <a:ext cx="2160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rot="20494200">
              <a:off x="5592960" y="319176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0" y="5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rot="20494200">
              <a:off x="5595120" y="3198240"/>
              <a:ext cx="2412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0" y="5"/>
                  </a:lnTo>
                  <a:lnTo>
                    <a:pt x="2" y="0"/>
                  </a:lnTo>
                  <a:lnTo>
                    <a:pt x="15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rot="20494200">
              <a:off x="5739840" y="3180960"/>
              <a:ext cx="2160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17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17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rot="20494200">
              <a:off x="5739480" y="317988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13" y="0"/>
                  </a:lnTo>
                  <a:lnTo>
                    <a:pt x="15" y="5"/>
                  </a:lnTo>
                  <a:lnTo>
                    <a:pt x="21" y="16"/>
                  </a:lnTo>
                  <a:lnTo>
                    <a:pt x="5" y="16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rot="20494200">
              <a:off x="5748120" y="318456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rot="20494200">
              <a:off x="5645160" y="319896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16" y="6"/>
                  </a:lnTo>
                  <a:lnTo>
                    <a:pt x="16" y="16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 rot="20494200">
              <a:off x="5644800" y="3198240"/>
              <a:ext cx="26640" cy="1548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0"/>
                  </a:moveTo>
                  <a:lnTo>
                    <a:pt x="12" y="0"/>
                  </a:lnTo>
                  <a:lnTo>
                    <a:pt x="15" y="8"/>
                  </a:lnTo>
                  <a:lnTo>
                    <a:pt x="20" y="16"/>
                  </a:lnTo>
                  <a:lnTo>
                    <a:pt x="5" y="16"/>
                  </a:lnTo>
                  <a:lnTo>
                    <a:pt x="5" y="8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20494200">
              <a:off x="5648760" y="320220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 rot="20494200">
              <a:off x="5649120" y="320328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16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rot="20494200">
              <a:off x="5648760" y="320220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5" y="0"/>
                  </a:moveTo>
                  <a:lnTo>
                    <a:pt x="15" y="0"/>
                  </a:lnTo>
                  <a:lnTo>
                    <a:pt x="15" y="5"/>
                  </a:lnTo>
                  <a:lnTo>
                    <a:pt x="21" y="16"/>
                  </a:lnTo>
                  <a:lnTo>
                    <a:pt x="7" y="16"/>
                  </a:lnTo>
                  <a:lnTo>
                    <a:pt x="5" y="5"/>
                  </a:lnTo>
                  <a:lnTo>
                    <a:pt x="0" y="5"/>
                  </a:lnTo>
                  <a:lnTo>
                    <a:pt x="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rot="20494200">
              <a:off x="5657400" y="320724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rot="20494200">
              <a:off x="5676480" y="3194280"/>
              <a:ext cx="21600" cy="2844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0" y="30"/>
                  </a:moveTo>
                  <a:lnTo>
                    <a:pt x="0" y="8"/>
                  </a:lnTo>
                  <a:lnTo>
                    <a:pt x="0" y="5"/>
                  </a:lnTo>
                  <a:lnTo>
                    <a:pt x="2" y="0"/>
                  </a:lnTo>
                  <a:lnTo>
                    <a:pt x="16" y="21"/>
                  </a:lnTo>
                  <a:lnTo>
                    <a:pt x="10" y="3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 rot="20494200">
              <a:off x="5680800" y="3186720"/>
              <a:ext cx="57240" cy="2124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0" y="0"/>
                  </a:moveTo>
                  <a:lnTo>
                    <a:pt x="15" y="0"/>
                  </a:lnTo>
                  <a:lnTo>
                    <a:pt x="15" y="5"/>
                  </a:lnTo>
                  <a:lnTo>
                    <a:pt x="20" y="8"/>
                  </a:lnTo>
                  <a:lnTo>
                    <a:pt x="38" y="8"/>
                  </a:lnTo>
                  <a:lnTo>
                    <a:pt x="38" y="13"/>
                  </a:lnTo>
                  <a:lnTo>
                    <a:pt x="44" y="16"/>
                  </a:lnTo>
                  <a:lnTo>
                    <a:pt x="44" y="22"/>
                  </a:lnTo>
                  <a:lnTo>
                    <a:pt x="15" y="22"/>
                  </a:lnTo>
                  <a:lnTo>
                    <a:pt x="12" y="22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 rot="20494200">
              <a:off x="5696280" y="3204000"/>
              <a:ext cx="50760" cy="1548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0" y="16"/>
                  </a:moveTo>
                  <a:lnTo>
                    <a:pt x="0" y="5"/>
                  </a:lnTo>
                  <a:lnTo>
                    <a:pt x="2" y="0"/>
                  </a:lnTo>
                  <a:lnTo>
                    <a:pt x="33" y="0"/>
                  </a:lnTo>
                  <a:lnTo>
                    <a:pt x="39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rot="20494200">
              <a:off x="5648040" y="3211200"/>
              <a:ext cx="269280" cy="33840"/>
            </a:xfrm>
            <a:custGeom>
              <a:avLst/>
              <a:gdLst/>
              <a:ahLst/>
              <a:rect l="l" t="t" r="r" b="b"/>
              <a:pathLst>
                <a:path w="211" h="37">
                  <a:moveTo>
                    <a:pt x="7" y="2"/>
                  </a:moveTo>
                  <a:lnTo>
                    <a:pt x="5" y="2"/>
                  </a:lnTo>
                  <a:lnTo>
                    <a:pt x="5" y="1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5" y="33"/>
                  </a:lnTo>
                  <a:lnTo>
                    <a:pt x="7" y="36"/>
                  </a:lnTo>
                  <a:lnTo>
                    <a:pt x="197" y="33"/>
                  </a:lnTo>
                  <a:lnTo>
                    <a:pt x="204" y="27"/>
                  </a:lnTo>
                  <a:lnTo>
                    <a:pt x="204" y="24"/>
                  </a:lnTo>
                  <a:lnTo>
                    <a:pt x="210" y="11"/>
                  </a:lnTo>
                  <a:lnTo>
                    <a:pt x="204" y="2"/>
                  </a:lnTo>
                  <a:lnTo>
                    <a:pt x="202" y="0"/>
                  </a:lnTo>
                  <a:lnTo>
                    <a:pt x="197" y="0"/>
                  </a:lnTo>
                  <a:lnTo>
                    <a:pt x="7" y="2"/>
                  </a:lnTo>
                </a:path>
              </a:pathLst>
            </a:custGeom>
            <a:solidFill>
              <a:srgbClr val="20202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 rot="20494200">
              <a:off x="5684040" y="3216600"/>
              <a:ext cx="210600" cy="19440"/>
            </a:xfrm>
            <a:custGeom>
              <a:avLst/>
              <a:gdLst/>
              <a:ahLst/>
              <a:rect l="l" t="t" r="r" b="b"/>
              <a:pathLst>
                <a:path w="165" h="21">
                  <a:moveTo>
                    <a:pt x="0" y="2"/>
                  </a:moveTo>
                  <a:lnTo>
                    <a:pt x="0" y="11"/>
                  </a:lnTo>
                  <a:lnTo>
                    <a:pt x="36" y="11"/>
                  </a:lnTo>
                  <a:lnTo>
                    <a:pt x="36" y="20"/>
                  </a:lnTo>
                  <a:lnTo>
                    <a:pt x="124" y="17"/>
                  </a:lnTo>
                  <a:lnTo>
                    <a:pt x="124" y="11"/>
                  </a:lnTo>
                  <a:lnTo>
                    <a:pt x="164" y="11"/>
                  </a:lnTo>
                  <a:lnTo>
                    <a:pt x="164" y="2"/>
                  </a:lnTo>
                  <a:lnTo>
                    <a:pt x="124" y="2"/>
                  </a:lnTo>
                  <a:lnTo>
                    <a:pt x="124" y="0"/>
                  </a:lnTo>
                  <a:lnTo>
                    <a:pt x="36" y="0"/>
                  </a:lnTo>
                  <a:lnTo>
                    <a:pt x="36" y="2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rot="20494200">
              <a:off x="5695560" y="3258000"/>
              <a:ext cx="20160" cy="14400"/>
            </a:xfrm>
            <a:prstGeom prst="rect">
              <a:avLst/>
            </a:prstGeom>
            <a:solidFill>
              <a:srgbClr val="0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20494200">
              <a:off x="6077520" y="3040560"/>
              <a:ext cx="6120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31" y="2"/>
                  </a:moveTo>
                  <a:lnTo>
                    <a:pt x="23" y="0"/>
                  </a:lnTo>
                  <a:lnTo>
                    <a:pt x="15" y="0"/>
                  </a:lnTo>
                  <a:lnTo>
                    <a:pt x="7" y="2"/>
                  </a:lnTo>
                  <a:lnTo>
                    <a:pt x="2" y="11"/>
                  </a:lnTo>
                  <a:lnTo>
                    <a:pt x="0" y="22"/>
                  </a:lnTo>
                  <a:lnTo>
                    <a:pt x="0" y="30"/>
                  </a:lnTo>
                  <a:lnTo>
                    <a:pt x="0" y="47"/>
                  </a:lnTo>
                  <a:lnTo>
                    <a:pt x="47" y="47"/>
                  </a:lnTo>
                  <a:lnTo>
                    <a:pt x="47" y="19"/>
                  </a:lnTo>
                  <a:lnTo>
                    <a:pt x="39" y="8"/>
                  </a:lnTo>
                  <a:lnTo>
                    <a:pt x="31" y="2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rot="20494200">
              <a:off x="5784120" y="2929680"/>
              <a:ext cx="281160" cy="175320"/>
            </a:xfrm>
            <a:custGeom>
              <a:avLst/>
              <a:gdLst/>
              <a:ahLst/>
              <a:rect l="l" t="t" r="r" b="b"/>
              <a:pathLst>
                <a:path w="220" h="190">
                  <a:moveTo>
                    <a:pt x="0" y="0"/>
                  </a:moveTo>
                  <a:lnTo>
                    <a:pt x="219" y="180"/>
                  </a:lnTo>
                  <a:lnTo>
                    <a:pt x="219" y="186"/>
                  </a:lnTo>
                  <a:lnTo>
                    <a:pt x="213" y="189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rot="20494200">
              <a:off x="5989320" y="3010680"/>
              <a:ext cx="94680" cy="78480"/>
            </a:xfrm>
            <a:custGeom>
              <a:avLst/>
              <a:gdLst/>
              <a:ahLst/>
              <a:rect l="l" t="t" r="r" b="b"/>
              <a:pathLst>
                <a:path w="74" h="85">
                  <a:moveTo>
                    <a:pt x="5" y="19"/>
                  </a:moveTo>
                  <a:lnTo>
                    <a:pt x="7" y="11"/>
                  </a:lnTo>
                  <a:lnTo>
                    <a:pt x="15" y="8"/>
                  </a:lnTo>
                  <a:lnTo>
                    <a:pt x="20" y="8"/>
                  </a:lnTo>
                  <a:lnTo>
                    <a:pt x="31" y="8"/>
                  </a:lnTo>
                  <a:lnTo>
                    <a:pt x="31" y="0"/>
                  </a:lnTo>
                  <a:lnTo>
                    <a:pt x="73" y="28"/>
                  </a:lnTo>
                  <a:lnTo>
                    <a:pt x="67" y="39"/>
                  </a:lnTo>
                  <a:lnTo>
                    <a:pt x="57" y="39"/>
                  </a:lnTo>
                  <a:lnTo>
                    <a:pt x="49" y="44"/>
                  </a:lnTo>
                  <a:lnTo>
                    <a:pt x="41" y="47"/>
                  </a:lnTo>
                  <a:lnTo>
                    <a:pt x="41" y="53"/>
                  </a:lnTo>
                  <a:lnTo>
                    <a:pt x="41" y="67"/>
                  </a:lnTo>
                  <a:lnTo>
                    <a:pt x="41" y="81"/>
                  </a:lnTo>
                  <a:lnTo>
                    <a:pt x="41" y="84"/>
                  </a:lnTo>
                  <a:lnTo>
                    <a:pt x="0" y="53"/>
                  </a:lnTo>
                  <a:lnTo>
                    <a:pt x="0" y="30"/>
                  </a:lnTo>
                  <a:lnTo>
                    <a:pt x="5" y="19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027840" y="3022560"/>
              <a:ext cx="51480" cy="1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rot="20494200">
              <a:off x="5783760" y="2968560"/>
              <a:ext cx="74160" cy="62640"/>
            </a:xfrm>
            <a:custGeom>
              <a:avLst/>
              <a:gdLst/>
              <a:ahLst/>
              <a:rect l="l" t="t" r="r" b="b"/>
              <a:pathLst>
                <a:path w="58" h="68">
                  <a:moveTo>
                    <a:pt x="5" y="22"/>
                  </a:moveTo>
                  <a:lnTo>
                    <a:pt x="7" y="16"/>
                  </a:lnTo>
                  <a:lnTo>
                    <a:pt x="12" y="11"/>
                  </a:lnTo>
                  <a:lnTo>
                    <a:pt x="20" y="8"/>
                  </a:lnTo>
                  <a:lnTo>
                    <a:pt x="33" y="8"/>
                  </a:lnTo>
                  <a:lnTo>
                    <a:pt x="36" y="0"/>
                  </a:lnTo>
                  <a:lnTo>
                    <a:pt x="57" y="19"/>
                  </a:lnTo>
                  <a:lnTo>
                    <a:pt x="57" y="27"/>
                  </a:lnTo>
                  <a:lnTo>
                    <a:pt x="49" y="27"/>
                  </a:lnTo>
                  <a:lnTo>
                    <a:pt x="44" y="27"/>
                  </a:lnTo>
                  <a:lnTo>
                    <a:pt x="36" y="27"/>
                  </a:lnTo>
                  <a:lnTo>
                    <a:pt x="33" y="30"/>
                  </a:lnTo>
                  <a:lnTo>
                    <a:pt x="28" y="36"/>
                  </a:lnTo>
                  <a:lnTo>
                    <a:pt x="23" y="44"/>
                  </a:lnTo>
                  <a:lnTo>
                    <a:pt x="23" y="67"/>
                  </a:lnTo>
                  <a:lnTo>
                    <a:pt x="0" y="44"/>
                  </a:lnTo>
                  <a:lnTo>
                    <a:pt x="0" y="30"/>
                  </a:lnTo>
                  <a:lnTo>
                    <a:pt x="5" y="22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 rot="20494200">
              <a:off x="5942880" y="3018240"/>
              <a:ext cx="40680" cy="4248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31" y="0"/>
                  </a:moveTo>
                  <a:lnTo>
                    <a:pt x="15" y="0"/>
                  </a:lnTo>
                  <a:lnTo>
                    <a:pt x="7" y="0"/>
                  </a:lnTo>
                  <a:lnTo>
                    <a:pt x="2" y="8"/>
                  </a:lnTo>
                  <a:lnTo>
                    <a:pt x="0" y="19"/>
                  </a:lnTo>
                  <a:lnTo>
                    <a:pt x="0" y="45"/>
                  </a:lnTo>
                  <a:lnTo>
                    <a:pt x="0" y="4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rot="20494200">
              <a:off x="5930640" y="3013920"/>
              <a:ext cx="42120" cy="4212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32" y="0"/>
                  </a:moveTo>
                  <a:lnTo>
                    <a:pt x="16" y="0"/>
                  </a:lnTo>
                  <a:lnTo>
                    <a:pt x="8" y="2"/>
                  </a:lnTo>
                  <a:lnTo>
                    <a:pt x="2" y="8"/>
                  </a:lnTo>
                  <a:lnTo>
                    <a:pt x="0" y="19"/>
                  </a:lnTo>
                  <a:lnTo>
                    <a:pt x="0" y="45"/>
                  </a:lnTo>
                  <a:lnTo>
                    <a:pt x="0" y="4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20494200">
              <a:off x="5920200" y="3009960"/>
              <a:ext cx="40680" cy="4140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31" y="0"/>
                  </a:moveTo>
                  <a:lnTo>
                    <a:pt x="15" y="0"/>
                  </a:lnTo>
                  <a:lnTo>
                    <a:pt x="7" y="2"/>
                  </a:lnTo>
                  <a:lnTo>
                    <a:pt x="0" y="8"/>
                  </a:lnTo>
                  <a:lnTo>
                    <a:pt x="0" y="19"/>
                  </a:lnTo>
                  <a:lnTo>
                    <a:pt x="0" y="44"/>
                  </a:lnTo>
                  <a:lnTo>
                    <a:pt x="0" y="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rot="20494200">
              <a:off x="5901480" y="3007800"/>
              <a:ext cx="40680" cy="4212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31" y="0"/>
                  </a:moveTo>
                  <a:lnTo>
                    <a:pt x="15" y="0"/>
                  </a:lnTo>
                  <a:lnTo>
                    <a:pt x="7" y="2"/>
                  </a:lnTo>
                  <a:lnTo>
                    <a:pt x="2" y="8"/>
                  </a:lnTo>
                  <a:lnTo>
                    <a:pt x="0" y="19"/>
                  </a:lnTo>
                  <a:lnTo>
                    <a:pt x="0" y="4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20494200">
              <a:off x="5889600" y="3003840"/>
              <a:ext cx="40680" cy="4248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31" y="0"/>
                  </a:moveTo>
                  <a:lnTo>
                    <a:pt x="15" y="0"/>
                  </a:lnTo>
                  <a:lnTo>
                    <a:pt x="7" y="2"/>
                  </a:lnTo>
                  <a:lnTo>
                    <a:pt x="2" y="8"/>
                  </a:lnTo>
                  <a:lnTo>
                    <a:pt x="0" y="19"/>
                  </a:lnTo>
                  <a:lnTo>
                    <a:pt x="0" y="4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20494200">
              <a:off x="5877360" y="2999880"/>
              <a:ext cx="40680" cy="4140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31" y="0"/>
                  </a:moveTo>
                  <a:lnTo>
                    <a:pt x="10" y="0"/>
                  </a:lnTo>
                  <a:lnTo>
                    <a:pt x="7" y="2"/>
                  </a:lnTo>
                  <a:lnTo>
                    <a:pt x="0" y="8"/>
                  </a:lnTo>
                  <a:lnTo>
                    <a:pt x="0" y="19"/>
                  </a:lnTo>
                  <a:lnTo>
                    <a:pt x="0" y="44"/>
                  </a:lnTo>
                  <a:lnTo>
                    <a:pt x="0" y="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rot="20494200">
              <a:off x="5865120" y="2998080"/>
              <a:ext cx="40680" cy="39600"/>
            </a:xfrm>
            <a:custGeom>
              <a:avLst/>
              <a:gdLst/>
              <a:ahLst/>
              <a:rect l="l" t="t" r="r" b="b"/>
              <a:pathLst>
                <a:path w="32" h="43">
                  <a:moveTo>
                    <a:pt x="31" y="0"/>
                  </a:moveTo>
                  <a:lnTo>
                    <a:pt x="10" y="0"/>
                  </a:lnTo>
                  <a:lnTo>
                    <a:pt x="7" y="2"/>
                  </a:lnTo>
                  <a:lnTo>
                    <a:pt x="0" y="8"/>
                  </a:lnTo>
                  <a:lnTo>
                    <a:pt x="0" y="19"/>
                  </a:lnTo>
                  <a:lnTo>
                    <a:pt x="0" y="42"/>
                  </a:lnTo>
                  <a:lnTo>
                    <a:pt x="0" y="3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rot="20494200">
              <a:off x="5847840" y="2995920"/>
              <a:ext cx="40680" cy="4140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31" y="0"/>
                  </a:moveTo>
                  <a:lnTo>
                    <a:pt x="15" y="0"/>
                  </a:lnTo>
                  <a:lnTo>
                    <a:pt x="7" y="2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0" y="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20494200">
              <a:off x="5824440" y="2971440"/>
              <a:ext cx="31680" cy="1656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0" y="0"/>
                  </a:moveTo>
                  <a:lnTo>
                    <a:pt x="18" y="17"/>
                  </a:lnTo>
                  <a:lnTo>
                    <a:pt x="24" y="17"/>
                  </a:lnTo>
                  <a:lnTo>
                    <a:pt x="18" y="1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rot="20494200">
              <a:off x="6005160" y="3099240"/>
              <a:ext cx="60840" cy="15480"/>
            </a:xfrm>
            <a:custGeom>
              <a:avLst/>
              <a:gdLst/>
              <a:ahLst/>
              <a:rect l="l" t="t" r="r" b="b"/>
              <a:pathLst>
                <a:path w="48" h="17">
                  <a:moveTo>
                    <a:pt x="0" y="16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47" y="16"/>
                  </a:lnTo>
                  <a:lnTo>
                    <a:pt x="0" y="16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4" name="" descr=""/>
          <p:cNvPicPr/>
          <p:nvPr/>
        </p:nvPicPr>
        <p:blipFill>
          <a:blip r:embed="rId8"/>
          <a:stretch/>
        </p:blipFill>
        <p:spPr>
          <a:xfrm>
            <a:off x="5724360" y="4869000"/>
            <a:ext cx="658800" cy="1179360"/>
          </a:xfrm>
          <a:prstGeom prst="rect">
            <a:avLst/>
          </a:prstGeom>
          <a:ln w="0">
            <a:noFill/>
          </a:ln>
        </p:spPr>
      </p:pic>
      <p:pic>
        <p:nvPicPr>
          <p:cNvPr id="795" name="" descr=""/>
          <p:cNvPicPr/>
          <p:nvPr/>
        </p:nvPicPr>
        <p:blipFill>
          <a:blip r:embed="rId9"/>
          <a:stretch/>
        </p:blipFill>
        <p:spPr>
          <a:xfrm>
            <a:off x="7740720" y="4221000"/>
            <a:ext cx="658800" cy="1179720"/>
          </a:xfrm>
          <a:prstGeom prst="rect">
            <a:avLst/>
          </a:prstGeom>
          <a:ln w="0">
            <a:noFill/>
          </a:ln>
        </p:spPr>
      </p:pic>
      <p:sp>
        <p:nvSpPr>
          <p:cNvPr id="796" name=""/>
          <p:cNvSpPr/>
          <p:nvPr/>
        </p:nvSpPr>
        <p:spPr>
          <a:xfrm>
            <a:off x="5221440" y="4797360"/>
            <a:ext cx="57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B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239600" y="5445000"/>
            <a:ext cx="131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JITSU-SIEME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219640" y="4149720"/>
            <a:ext cx="194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M-CIBOX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00:05:1b:80:08: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P 192.168.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7236000" y="5661000"/>
            <a:ext cx="165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PC-SOPH  00:08:c7:fa:9d: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P 192.168.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4356000" y="3573360"/>
            <a:ext cx="3529080" cy="719280"/>
          </a:xfrm>
          <a:custGeom>
            <a:avLst/>
            <a:gdLst/>
            <a:ahLst/>
            <a:rect l="l" t="t" r="r" b="b"/>
            <a:pathLst>
              <a:path w="2359" h="453">
                <a:moveTo>
                  <a:pt x="0" y="0"/>
                </a:moveTo>
                <a:lnTo>
                  <a:pt x="0" y="272"/>
                </a:lnTo>
                <a:lnTo>
                  <a:pt x="2359" y="272"/>
                </a:lnTo>
                <a:lnTo>
                  <a:pt x="2359" y="453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4140360" y="3573360"/>
            <a:ext cx="1584000" cy="1871640"/>
          </a:xfrm>
          <a:custGeom>
            <a:avLst/>
            <a:gdLst/>
            <a:ahLst/>
            <a:rect l="l" t="t" r="r" b="b"/>
            <a:pathLst>
              <a:path w="998" h="1179">
                <a:moveTo>
                  <a:pt x="0" y="0"/>
                </a:moveTo>
                <a:lnTo>
                  <a:pt x="0" y="408"/>
                </a:lnTo>
                <a:lnTo>
                  <a:pt x="635" y="408"/>
                </a:lnTo>
                <a:lnTo>
                  <a:pt x="635" y="1179"/>
                </a:lnTo>
                <a:lnTo>
                  <a:pt x="998" y="117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3924360" y="3573360"/>
            <a:ext cx="431640" cy="1008000"/>
          </a:xfrm>
          <a:custGeom>
            <a:avLst/>
            <a:gdLst/>
            <a:ahLst/>
            <a:rect l="l" t="t" r="r" b="b"/>
            <a:pathLst>
              <a:path w="272" h="635">
                <a:moveTo>
                  <a:pt x="0" y="0"/>
                </a:moveTo>
                <a:lnTo>
                  <a:pt x="0" y="544"/>
                </a:lnTo>
                <a:lnTo>
                  <a:pt x="272" y="544"/>
                </a:lnTo>
                <a:lnTo>
                  <a:pt x="272" y="635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730560" y="115920"/>
            <a:ext cx="173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S (FAI) 80.10.246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09:48:34Z</dcterms:created>
  <dc:creator>mike</dc:creator>
  <dc:description/>
  <dc:language>en-US</dc:language>
  <cp:lastModifiedBy>mike</cp:lastModifiedBy>
  <dcterms:modified xsi:type="dcterms:W3CDTF">2005-01-27T18:08:51Z</dcterms:modified>
  <cp:revision>5</cp:revision>
  <dc:subject/>
  <dc:title>6WINDn.CAP </dc:title>
</cp:coreProperties>
</file>