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8B5E-2CF8-45AE-BAAB-144B8810A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993600" y="692280"/>
            <a:ext cx="2484720" cy="186372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151920" y="2700360"/>
            <a:ext cx="6629400" cy="61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e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BSS (Basic Service Set) ou cell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AP (access Point) fournit le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stations peuvent être associées à un point d’accè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stations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peuvent êtr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Fixes ou mobiles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rtent une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carte Wi-F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993600" y="692280"/>
            <a:ext cx="2484720" cy="186372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151920" y="2700360"/>
            <a:ext cx="6629400" cy="61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e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BSS (Basic Service Set) ou cell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AP (access Point) fournit le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stations peuvent être associées à un point d’accè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stations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peuvent êtr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Fixes ou mobiles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rtent une </a:t>
            </a:r>
            <a:r>
              <a:rPr b="0" lang="fr-FR" sz="1200" spc="-1" strike="noStrike">
                <a:solidFill>
                  <a:srgbClr val="3333cc"/>
                </a:solidFill>
                <a:latin typeface="Arial"/>
              </a:rPr>
              <a:t>carte Wi-F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93600" y="692280"/>
            <a:ext cx="2484720" cy="18637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51920" y="2700360"/>
            <a:ext cx="6629400" cy="61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e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993600" y="692280"/>
            <a:ext cx="2484720" cy="186372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151920" y="2700360"/>
            <a:ext cx="6629400" cy="61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e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993600" y="692280"/>
            <a:ext cx="2484720" cy="186372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151920" y="2700360"/>
            <a:ext cx="6629400" cy="61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e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154-3AFA-4D0D-ADC6-DA4FF659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F7C-AD99-4C75-B290-FAAD72D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B2F-BAC4-4246-82BF-8956698B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E82-AF77-4220-8CEF-FDD92CB8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F2B0-E8DD-4652-94DC-7D16BDF6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AA9-846A-40D0-8B42-D532252B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E06F-62F1-4A63-A7C1-0392629E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F10F-EC75-44E8-BEA1-B72E31D3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6CCB-3B95-434E-A16A-472FAEFC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B115-8B66-4070-9F48-DEEB1079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CF6-9CED-43DA-9FC4-B6E8CE3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8FE-30CD-4316-B383-42CA9FB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C71A-F521-401C-BFFF-573EEB3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E0A8-45E8-48F5-8C66-D9E52F63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043-B86F-474C-BBBC-DE585AA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261-0308-4903-9A3B-03CBF984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0E18-73C9-47C2-9C7F-2DC40138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D3A-3409-48D9-81C8-25E18F0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D77-1864-4E93-AE00-A2819C6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BF9-3BC8-4F87-BC57-9C79286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64D-F57C-4090-A23B-BA5419F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064-4EBB-490D-B7A0-7912B31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604-B177-49B8-ABCA-90815FC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5A3-279E-4FC2-ACAB-1295FAF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F65-5FF2-49D3-8CC4-724CA3D268E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4506-8384-4731-B7CD-3FA91485216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Arial"/>
              </a:rPr>
              <a:t>Wi-Fi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D d’analyse de tra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340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345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827120" y="6467400"/>
            <a:ext cx="9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 BE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1480" y="6445080"/>
            <a:ext cx="7714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age 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mada et WlanD Boo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rmada et WlanD Dhcp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ma-Wland et  Armada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51280" y="1557360"/>
            <a:ext cx="1007280" cy="1007640"/>
            <a:chOff x="3851280" y="1557360"/>
            <a:chExt cx="1007280" cy="1007640"/>
          </a:xfrm>
        </p:grpSpPr>
        <p:grpSp>
          <p:nvGrpSpPr>
            <p:cNvPr id="353" name=""/>
            <p:cNvGrpSpPr/>
            <p:nvPr/>
          </p:nvGrpSpPr>
          <p:grpSpPr>
            <a:xfrm>
              <a:off x="3851280" y="1810080"/>
              <a:ext cx="779400" cy="754920"/>
              <a:chOff x="3851280" y="1810080"/>
              <a:chExt cx="779400" cy="75492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1280" y="2191680"/>
                <a:ext cx="7794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4391640" y="1810080"/>
                <a:ext cx="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458240" y="1557360"/>
              <a:ext cx="400320" cy="490680"/>
              <a:chOff x="4458240" y="1557360"/>
              <a:chExt cx="400320" cy="490680"/>
            </a:xfrm>
          </p:grpSpPr>
          <p:sp>
            <p:nvSpPr>
              <p:cNvPr id="357" name=""/>
              <p:cNvSpPr/>
              <p:nvPr/>
            </p:nvSpPr>
            <p:spPr>
              <a:xfrm>
                <a:off x="4800240" y="1557360"/>
                <a:ext cx="58320" cy="49068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5960" y="1585080"/>
                <a:ext cx="49680" cy="4370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10240" y="1610280"/>
                <a:ext cx="42120" cy="38412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7400" y="1635840"/>
                <a:ext cx="37080" cy="33264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25280" y="1661400"/>
                <a:ext cx="31320" cy="28224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83880" y="1680480"/>
                <a:ext cx="30240" cy="24084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42120" y="1708560"/>
                <a:ext cx="25200" cy="18756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98920" y="1732680"/>
                <a:ext cx="23760" cy="13644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58240" y="1753560"/>
                <a:ext cx="22680" cy="9108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913560" y="1562760"/>
              <a:ext cx="411840" cy="492840"/>
              <a:chOff x="3913560" y="1562760"/>
              <a:chExt cx="411840" cy="492840"/>
            </a:xfrm>
          </p:grpSpPr>
          <p:sp>
            <p:nvSpPr>
              <p:cNvPr id="367" name=""/>
              <p:cNvSpPr/>
              <p:nvPr/>
            </p:nvSpPr>
            <p:spPr>
              <a:xfrm rot="10662000">
                <a:off x="3923280" y="1563480"/>
                <a:ext cx="58320" cy="49068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0662000">
                <a:off x="3975840" y="1587600"/>
                <a:ext cx="49680" cy="4370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662000">
                <a:off x="4029480" y="1613160"/>
                <a:ext cx="42120" cy="38412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0662000">
                <a:off x="4077360" y="1637640"/>
                <a:ext cx="37080" cy="33264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0662000">
                <a:off x="4125240" y="1660680"/>
                <a:ext cx="31320" cy="28224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0662000">
                <a:off x="4167360" y="1680840"/>
                <a:ext cx="30240" cy="24084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0662000">
                <a:off x="4214160" y="1704600"/>
                <a:ext cx="25200" cy="18756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0662000">
                <a:off x="4258800" y="1729800"/>
                <a:ext cx="23760" cy="13644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0662000">
                <a:off x="4300560" y="1752840"/>
                <a:ext cx="22680" cy="9108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2916360" y="184464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1557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tgear9c:6b:a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NS (FAI) 80.10.24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093760" y="3472920"/>
            <a:ext cx="861120" cy="842040"/>
            <a:chOff x="2093760" y="3472920"/>
            <a:chExt cx="861120" cy="842040"/>
          </a:xfrm>
        </p:grpSpPr>
        <p:grpSp>
          <p:nvGrpSpPr>
            <p:cNvPr id="379" name=""/>
            <p:cNvGrpSpPr/>
            <p:nvPr/>
          </p:nvGrpSpPr>
          <p:grpSpPr>
            <a:xfrm>
              <a:off x="2093760" y="3472920"/>
              <a:ext cx="861120" cy="842040"/>
              <a:chOff x="2093760" y="3472920"/>
              <a:chExt cx="861120" cy="842040"/>
            </a:xfrm>
          </p:grpSpPr>
          <p:sp>
            <p:nvSpPr>
              <p:cNvPr id="380" name=""/>
              <p:cNvSpPr/>
              <p:nvPr/>
            </p:nvSpPr>
            <p:spPr>
              <a:xfrm rot="20494200">
                <a:off x="2424960" y="3534480"/>
                <a:ext cx="460080" cy="49968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0494200">
                <a:off x="2703600" y="3566160"/>
                <a:ext cx="187920" cy="43056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20494200">
                <a:off x="2480400" y="3524760"/>
                <a:ext cx="343800" cy="9576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0494200">
                <a:off x="2471040" y="3603240"/>
                <a:ext cx="309960" cy="37044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494200">
                <a:off x="2486520" y="3612960"/>
                <a:ext cx="280800" cy="34560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494200">
                <a:off x="2399040" y="3592440"/>
                <a:ext cx="136440" cy="32256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494200">
                <a:off x="2460960" y="3882960"/>
                <a:ext cx="347400" cy="20844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494200">
                <a:off x="2115360" y="3977280"/>
                <a:ext cx="642600" cy="18396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494200">
                <a:off x="2282040" y="4111560"/>
                <a:ext cx="579960" cy="6732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494200">
                <a:off x="2127240" y="4054320"/>
                <a:ext cx="167400" cy="24012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494200">
                <a:off x="2508480" y="4122000"/>
                <a:ext cx="8424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494200">
                <a:off x="2302920" y="3991680"/>
                <a:ext cx="183960" cy="18108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0494200">
                <a:off x="2167920" y="407016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94200">
                <a:off x="2171520" y="40683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0494200">
                <a:off x="2171880" y="4070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0494200">
                <a:off x="2174040" y="4076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0494200">
                <a:off x="2179440" y="4073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0494200">
                <a:off x="2185560" y="40795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494200">
                <a:off x="2299680" y="4025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0494200">
                <a:off x="2246400" y="404388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494200">
                <a:off x="2246400" y="40435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0494200">
                <a:off x="2250360" y="4043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20494200">
                <a:off x="2252520" y="4050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0494200">
                <a:off x="2258640" y="4048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494200">
                <a:off x="2260800" y="4054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494200">
                <a:off x="2264760" y="4053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494200">
                <a:off x="2264400" y="4053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494200">
                <a:off x="2272320" y="40561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94200">
                <a:off x="2272680" y="4057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494200">
                <a:off x="2275200" y="40557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94200">
                <a:off x="2277000" y="4062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494200">
                <a:off x="2284560" y="40611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494200">
                <a:off x="2286000" y="40658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494200">
                <a:off x="2293200" y="40658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494200">
                <a:off x="2295000" y="4071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0494200">
                <a:off x="2296800" y="4069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0494200">
                <a:off x="2299320" y="4076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0494200">
                <a:off x="2306880" y="4075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0494200">
                <a:off x="2306520" y="40744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94200">
                <a:off x="2310480" y="4078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494200">
                <a:off x="2310840" y="407952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94200">
                <a:off x="2318400" y="4080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494200">
                <a:off x="2319120" y="408276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94200">
                <a:off x="2324520" y="4088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494200">
                <a:off x="2330640" y="4086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494200">
                <a:off x="2331360" y="4088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0494200">
                <a:off x="2339280" y="40914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0494200">
                <a:off x="2339280" y="40906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0494200">
                <a:off x="2344320" y="4094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494200">
                <a:off x="2344680" y="4095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0494200">
                <a:off x="2351880" y="4097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0494200">
                <a:off x="2352960" y="41004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0494200">
                <a:off x="2358360" y="4104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0494200">
                <a:off x="2358000" y="4103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0494200">
                <a:off x="2366640" y="4108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0494200">
                <a:off x="2367000" y="4109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494200">
                <a:off x="2370240" y="41079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0494200">
                <a:off x="2372040" y="41144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0494200">
                <a:off x="2378880" y="4113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94200">
                <a:off x="2378520" y="4112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494200">
                <a:off x="2382480" y="4116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494200">
                <a:off x="2390400" y="411552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494200">
                <a:off x="2390040" y="41148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0494200">
                <a:off x="2392560" y="412128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0494200">
                <a:off x="2398680" y="41205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0494200">
                <a:off x="2398680" y="4120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0494200">
                <a:off x="2403360" y="4126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0494200">
                <a:off x="2405160" y="4132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0494200">
                <a:off x="2412720" y="41292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0494200">
                <a:off x="2413440" y="41317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0494200">
                <a:off x="2416680" y="4133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0494200">
                <a:off x="2422800" y="4132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0494200">
                <a:off x="2424960" y="4138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494200">
                <a:off x="2215080" y="405432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0494200">
                <a:off x="2220840" y="4051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0494200">
                <a:off x="2223360" y="405792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0494200">
                <a:off x="2227320" y="4058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494200">
                <a:off x="2233440" y="4056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0494200">
                <a:off x="2235600" y="4062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494200">
                <a:off x="2235960" y="4063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494200">
                <a:off x="2241720" y="40611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494200">
                <a:off x="2246760" y="4064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494200">
                <a:off x="2247120" y="406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0494200">
                <a:off x="2252880" y="4063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0494200">
                <a:off x="2255400" y="40705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494200">
                <a:off x="2260800" y="4075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20494200">
                <a:off x="2260440" y="40741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0494200">
                <a:off x="2267280" y="4073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0494200">
                <a:off x="2269440" y="4079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494200">
                <a:off x="2273040" y="4078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0494200">
                <a:off x="2274840" y="40849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494200">
                <a:off x="2281320" y="4083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0494200">
                <a:off x="2280960" y="4082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494200">
                <a:off x="2285280" y="4087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0494200">
                <a:off x="2287080" y="40924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494200">
                <a:off x="2294280" y="4090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494200">
                <a:off x="2294640" y="40917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494200">
                <a:off x="2303280" y="4096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494200">
                <a:off x="2305440" y="4095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494200">
                <a:off x="2307600" y="4100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494200">
                <a:off x="2307960" y="4101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494200">
                <a:off x="2314440" y="40989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494200">
                <a:off x="2316600" y="41036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494200">
                <a:off x="2320560" y="41083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494200">
                <a:off x="2326680" y="4106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0494200">
                <a:off x="2329200" y="4113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494200">
                <a:off x="2332800" y="4113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494200">
                <a:off x="2332440" y="4112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494200">
                <a:off x="2334600" y="411804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0494200">
                <a:off x="2341080" y="4118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0494200">
                <a:off x="2347560" y="41162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94200">
                <a:off x="2349720" y="41223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494200">
                <a:off x="2353320" y="4121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494200">
                <a:off x="2352960" y="4120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0494200">
                <a:off x="2361240" y="41248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494200">
                <a:off x="2361240" y="412524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494200">
                <a:off x="2365920" y="4127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494200">
                <a:off x="2367000" y="4129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494200">
                <a:off x="2373480" y="41292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0494200">
                <a:off x="2374560" y="4133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494200">
                <a:off x="2378880" y="41349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494200">
                <a:off x="2381040" y="4140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494200">
                <a:off x="2387160" y="4138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494200">
                <a:off x="2387520" y="4139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494200">
                <a:off x="2391120" y="4142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494200">
                <a:off x="2390760" y="4141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494200">
                <a:off x="2400840" y="41464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494200">
                <a:off x="2193120" y="406152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494200">
                <a:off x="2196720" y="4060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494200">
                <a:off x="2198880" y="40672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494200">
                <a:off x="2205360" y="4065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0494200">
                <a:off x="2205360" y="4065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494200">
                <a:off x="2210040" y="40712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494200">
                <a:off x="2210400" y="4072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0494200">
                <a:off x="2217600" y="4069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494200">
                <a:off x="2219040" y="40741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20494200">
                <a:off x="2221920" y="407412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494200">
                <a:off x="2221560" y="4073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20494200">
                <a:off x="2229840" y="4078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0494200">
                <a:off x="2232000" y="4084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494200">
                <a:off x="2235240" y="4082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494200">
                <a:off x="2242080" y="4082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494200">
                <a:off x="2243880" y="40881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0494200">
                <a:off x="2250000" y="4086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494200">
                <a:off x="2252160" y="40924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494200">
                <a:off x="2255760" y="4092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494200">
                <a:off x="2255400" y="4091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0494200">
                <a:off x="2257200" y="409608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494200">
                <a:off x="2265120" y="4100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494200">
                <a:off x="2268720" y="4098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494200">
                <a:off x="2269080" y="4100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494200">
                <a:off x="2277360" y="4104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494200">
                <a:off x="2277000" y="4103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494200">
                <a:off x="2283120" y="41094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494200">
                <a:off x="2283480" y="4110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494200">
                <a:off x="2289600" y="4107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0494200">
                <a:off x="2291040" y="41122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494200">
                <a:off x="2295360" y="411696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494200">
                <a:off x="2295000" y="4115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494200">
                <a:off x="2304720" y="41220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494200">
                <a:off x="2305080" y="4122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494200">
                <a:off x="2311200" y="41202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494200">
                <a:off x="2313720" y="4127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494200">
                <a:off x="2315880" y="4126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494200">
                <a:off x="2315520" y="41256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494200">
                <a:off x="2325240" y="41302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494200">
                <a:off x="2325600" y="4131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494200">
                <a:off x="2327400" y="4129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494200">
                <a:off x="2329200" y="413352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494200">
                <a:off x="2335680" y="4133520"/>
                <a:ext cx="2160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494200">
                <a:off x="2340720" y="41367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494200">
                <a:off x="2341080" y="4138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494200">
                <a:off x="2341440" y="413964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494200">
                <a:off x="2349000" y="4141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494200">
                <a:off x="2350080" y="4143600"/>
                <a:ext cx="320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494200">
                <a:off x="2358000" y="414792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494200">
                <a:off x="2361600" y="4146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494200">
                <a:off x="2362320" y="4147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494200">
                <a:off x="2185920" y="4080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494200">
                <a:off x="2192040" y="4078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494200">
                <a:off x="2193480" y="4082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494200">
                <a:off x="2199600" y="4081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494200">
                <a:off x="2199600" y="40813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94200">
                <a:off x="2205360" y="4086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494200">
                <a:off x="2207520" y="4092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494200">
                <a:off x="2213640" y="4090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494200">
                <a:off x="2214360" y="40921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494200">
                <a:off x="2218320" y="4096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494200">
                <a:off x="2217960" y="4095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494200">
                <a:off x="2227680" y="41004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494200">
                <a:off x="2228040" y="4101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494200">
                <a:off x="2230200" y="4099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494200">
                <a:off x="2232000" y="4104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0494200">
                <a:off x="2239560" y="4108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494200">
                <a:off x="2239200" y="41072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494200">
                <a:off x="2243880" y="4108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494200">
                <a:off x="2246040" y="4114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494200">
                <a:off x="2251800" y="4111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494200">
                <a:off x="2254320" y="411804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494200">
                <a:off x="2260440" y="41176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rot="20494200">
              <a:off x="2264040" y="4116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494200">
              <a:off x="2265480" y="4120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494200">
              <a:off x="2273040" y="41241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494200">
              <a:off x="2273040" y="41238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494200">
              <a:off x="2279160" y="4129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494200">
              <a:off x="2279520" y="41310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494200">
              <a:off x="2285640" y="4129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494200">
              <a:off x="2287440" y="41349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494200">
              <a:off x="2291760" y="4134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494200">
              <a:off x="2291400" y="413388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494200">
              <a:off x="2299680" y="4138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494200">
              <a:off x="2300040" y="41392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494200">
              <a:off x="2302200" y="41374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494200">
              <a:off x="2304000" y="4142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494200">
              <a:off x="2311560" y="41418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494200">
              <a:off x="2319120" y="4143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494200">
              <a:off x="2320200" y="41464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494200">
              <a:off x="2320200" y="41468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494200">
              <a:off x="2324160" y="4151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494200">
              <a:off x="2324880" y="41529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494200">
              <a:off x="2263680" y="40302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494200">
              <a:off x="2266200" y="40287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494200">
              <a:off x="2268360" y="40359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494200">
              <a:off x="2269440" y="403884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494200">
              <a:off x="2276640" y="4036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494200">
              <a:off x="2285280" y="4042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494200">
              <a:off x="2285280" y="4042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94200">
              <a:off x="2287800" y="40417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494200">
              <a:off x="2289600" y="40474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494200">
              <a:off x="2297160" y="40464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494200">
              <a:off x="2296800" y="404568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494200">
              <a:off x="2301840" y="40521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0494200">
              <a:off x="2307960" y="40503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0494200">
              <a:off x="2307960" y="4050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494200">
              <a:off x="2314800" y="40586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0494200">
              <a:off x="2314800" y="40590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0494200">
              <a:off x="2320920" y="4057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494200">
              <a:off x="2329560" y="406260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0494200">
              <a:off x="2329560" y="406260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494200">
              <a:off x="2333160" y="4061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0494200">
              <a:off x="2335680" y="4068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0494200">
              <a:off x="2335680" y="40683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494200">
              <a:off x="2342520" y="4069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494200">
              <a:off x="2348280" y="4074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494200">
              <a:off x="2348280" y="407484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494200">
              <a:off x="2354400" y="4072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494200">
              <a:off x="2360880" y="40795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494200">
              <a:off x="2360880" y="40798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494200">
              <a:off x="2367000" y="40777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494200">
              <a:off x="2369160" y="4084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494200">
              <a:off x="2369160" y="40845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494200">
              <a:off x="2371680" y="40831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494200">
              <a:off x="2382120" y="4090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494200">
              <a:off x="2382120" y="409068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494200">
              <a:off x="2387880" y="40888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494200">
              <a:off x="2392920" y="4095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494200">
              <a:off x="2392920" y="40953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494200">
              <a:off x="2400480" y="4092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494200">
              <a:off x="2403000" y="4100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494200">
              <a:off x="2403000" y="4100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494200">
              <a:off x="2405520" y="4099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494200">
              <a:off x="2414520" y="41072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494200">
              <a:off x="2414520" y="410724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494200">
              <a:off x="2418120" y="41058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494200">
              <a:off x="2420640" y="41130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0494200">
              <a:off x="2426760" y="41112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0494200">
              <a:off x="2426400" y="41101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494200">
              <a:off x="2432520" y="41176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494200">
              <a:off x="2434320" y="4122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494200">
              <a:off x="2440440" y="41205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494200">
              <a:off x="2448000" y="4123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494200">
              <a:off x="2448000" y="4123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494200">
              <a:off x="2451960" y="4122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94200">
              <a:off x="2460600" y="41274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494200">
              <a:off x="2460600" y="41274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494200">
              <a:off x="2463840" y="4126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494200">
              <a:off x="2467800" y="4138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494200">
              <a:off x="2319120" y="403092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494200">
              <a:off x="2333160" y="40413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494200">
              <a:off x="2346120" y="40474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494200">
              <a:off x="236196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494200">
              <a:off x="2382120" y="40636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494200">
              <a:off x="2395800" y="40716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494200">
              <a:off x="2414880" y="4075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494200">
              <a:off x="2429280" y="40874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494200">
              <a:off x="2449080" y="4092840"/>
              <a:ext cx="2376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494200">
              <a:off x="2461320" y="40986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0494200">
              <a:off x="2478240" y="41094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494200">
              <a:off x="2142000" y="40788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0494200">
              <a:off x="2149200" y="40759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494200">
              <a:off x="2151360" y="4082400"/>
              <a:ext cx="306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494200">
              <a:off x="2154600" y="40827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494200">
              <a:off x="2161440" y="4083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494200">
              <a:off x="2162880" y="408744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0494200">
              <a:off x="2167560" y="408960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494200">
              <a:off x="2167200" y="40885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494200">
              <a:off x="2175480" y="4093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494200">
              <a:off x="2180520" y="40957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494200">
              <a:off x="2180160" y="40946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494200">
              <a:off x="2188440" y="41000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494200">
              <a:off x="2197440" y="4099320"/>
              <a:ext cx="57240" cy="673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494200">
              <a:off x="2199600" y="4094640"/>
              <a:ext cx="80280" cy="60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494200">
              <a:off x="2262240" y="4142520"/>
              <a:ext cx="316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494200">
              <a:off x="2263680" y="4147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494200">
              <a:off x="2269440" y="41443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94200">
              <a:off x="2271960" y="41515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494200">
              <a:off x="2275560" y="415116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94200">
              <a:off x="2281320" y="41490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494200">
              <a:off x="2283480" y="41554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494200">
              <a:off x="2428560" y="4137840"/>
              <a:ext cx="2160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494200">
              <a:off x="2428200" y="41367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494200">
              <a:off x="2436840" y="41418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494200">
              <a:off x="2333880" y="4155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494200">
              <a:off x="2333520" y="415512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494200">
              <a:off x="2337480" y="41590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494200">
              <a:off x="2337840" y="4160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494200">
              <a:off x="2337480" y="41590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494200">
              <a:off x="2346120" y="41644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494200">
              <a:off x="2365200" y="4151520"/>
              <a:ext cx="21600" cy="284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494200">
              <a:off x="2369160" y="4143960"/>
              <a:ext cx="57240" cy="21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494200">
              <a:off x="2384640" y="4160880"/>
              <a:ext cx="5076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494200">
              <a:off x="2336760" y="4168440"/>
              <a:ext cx="269280" cy="3384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494200">
              <a:off x="2372400" y="4173840"/>
              <a:ext cx="210600" cy="1944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494200">
              <a:off x="2384280" y="4215240"/>
              <a:ext cx="2016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494200">
              <a:off x="2765880" y="3997800"/>
              <a:ext cx="6120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494200">
              <a:off x="2472840" y="3886560"/>
              <a:ext cx="280800" cy="1753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494200">
              <a:off x="2678040" y="3967920"/>
              <a:ext cx="94680" cy="7848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16200" y="3979800"/>
              <a:ext cx="5148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494200">
              <a:off x="2472480" y="3925800"/>
              <a:ext cx="74160" cy="62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494200">
              <a:off x="2631240" y="397548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494200">
              <a:off x="2619000" y="3971160"/>
              <a:ext cx="42120" cy="421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494200">
              <a:off x="2608560" y="396720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494200">
              <a:off x="2589840" y="3965040"/>
              <a:ext cx="4068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494200">
              <a:off x="2577960" y="396108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494200">
              <a:off x="2566080" y="395712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494200">
              <a:off x="2553840" y="3955320"/>
              <a:ext cx="40680" cy="39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494200">
              <a:off x="2536200" y="395316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494200">
              <a:off x="2513160" y="3928680"/>
              <a:ext cx="31680" cy="165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494200">
              <a:off x="2693520" y="4056480"/>
              <a:ext cx="6084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690560" y="2781360"/>
            <a:ext cx="289080" cy="484200"/>
            <a:chOff x="1690560" y="2781360"/>
            <a:chExt cx="289080" cy="484200"/>
          </a:xfrm>
        </p:grpSpPr>
        <p:sp>
          <p:nvSpPr>
            <p:cNvPr id="720" name=""/>
            <p:cNvSpPr/>
            <p:nvPr/>
          </p:nvSpPr>
          <p:spPr>
            <a:xfrm>
              <a:off x="1937520" y="2781360"/>
              <a:ext cx="42120" cy="484200"/>
            </a:xfrm>
            <a:custGeom>
              <a:avLst/>
              <a:gdLst/>
              <a:ahLst/>
              <a:rect l="l" t="t" r="r" b="b"/>
              <a:pathLst>
                <a:path w="355" h="2415">
                  <a:moveTo>
                    <a:pt x="177" y="0"/>
                  </a:moveTo>
                  <a:lnTo>
                    <a:pt x="193" y="56"/>
                  </a:lnTo>
                  <a:lnTo>
                    <a:pt x="221" y="147"/>
                  </a:lnTo>
                  <a:lnTo>
                    <a:pt x="245" y="228"/>
                  </a:lnTo>
                  <a:lnTo>
                    <a:pt x="265" y="312"/>
                  </a:lnTo>
                  <a:lnTo>
                    <a:pt x="285" y="396"/>
                  </a:lnTo>
                  <a:lnTo>
                    <a:pt x="301" y="491"/>
                  </a:lnTo>
                  <a:lnTo>
                    <a:pt x="318" y="589"/>
                  </a:lnTo>
                  <a:lnTo>
                    <a:pt x="331" y="701"/>
                  </a:lnTo>
                  <a:lnTo>
                    <a:pt x="342" y="794"/>
                  </a:lnTo>
                  <a:lnTo>
                    <a:pt x="347" y="902"/>
                  </a:lnTo>
                  <a:lnTo>
                    <a:pt x="352" y="994"/>
                  </a:lnTo>
                  <a:lnTo>
                    <a:pt x="355" y="1112"/>
                  </a:lnTo>
                  <a:lnTo>
                    <a:pt x="354" y="1230"/>
                  </a:lnTo>
                  <a:lnTo>
                    <a:pt x="350" y="1350"/>
                  </a:lnTo>
                  <a:lnTo>
                    <a:pt x="346" y="1445"/>
                  </a:lnTo>
                  <a:lnTo>
                    <a:pt x="339" y="1529"/>
                  </a:lnTo>
                  <a:lnTo>
                    <a:pt x="327" y="1634"/>
                  </a:lnTo>
                  <a:lnTo>
                    <a:pt x="315" y="1730"/>
                  </a:lnTo>
                  <a:lnTo>
                    <a:pt x="297" y="1837"/>
                  </a:lnTo>
                  <a:lnTo>
                    <a:pt x="277" y="1937"/>
                  </a:lnTo>
                  <a:lnTo>
                    <a:pt x="255" y="2034"/>
                  </a:lnTo>
                  <a:lnTo>
                    <a:pt x="233" y="2122"/>
                  </a:lnTo>
                  <a:lnTo>
                    <a:pt x="202" y="2216"/>
                  </a:lnTo>
                  <a:lnTo>
                    <a:pt x="170" y="2303"/>
                  </a:lnTo>
                  <a:lnTo>
                    <a:pt x="134" y="2392"/>
                  </a:lnTo>
                  <a:lnTo>
                    <a:pt x="125" y="2415"/>
                  </a:lnTo>
                  <a:lnTo>
                    <a:pt x="0" y="2359"/>
                  </a:lnTo>
                  <a:lnTo>
                    <a:pt x="36" y="2291"/>
                  </a:lnTo>
                  <a:lnTo>
                    <a:pt x="73" y="2206"/>
                  </a:lnTo>
                  <a:lnTo>
                    <a:pt x="102" y="2118"/>
                  </a:lnTo>
                  <a:lnTo>
                    <a:pt x="126" y="2023"/>
                  </a:lnTo>
                  <a:lnTo>
                    <a:pt x="154" y="1915"/>
                  </a:lnTo>
                  <a:lnTo>
                    <a:pt x="173" y="1814"/>
                  </a:lnTo>
                  <a:lnTo>
                    <a:pt x="189" y="1717"/>
                  </a:lnTo>
                  <a:lnTo>
                    <a:pt x="202" y="1602"/>
                  </a:lnTo>
                  <a:lnTo>
                    <a:pt x="213" y="1497"/>
                  </a:lnTo>
                  <a:lnTo>
                    <a:pt x="221" y="1394"/>
                  </a:lnTo>
                  <a:lnTo>
                    <a:pt x="225" y="1289"/>
                  </a:lnTo>
                  <a:lnTo>
                    <a:pt x="229" y="1206"/>
                  </a:lnTo>
                  <a:lnTo>
                    <a:pt x="227" y="1096"/>
                  </a:lnTo>
                  <a:lnTo>
                    <a:pt x="224" y="981"/>
                  </a:lnTo>
                  <a:lnTo>
                    <a:pt x="217" y="874"/>
                  </a:lnTo>
                  <a:lnTo>
                    <a:pt x="209" y="765"/>
                  </a:lnTo>
                  <a:lnTo>
                    <a:pt x="194" y="653"/>
                  </a:lnTo>
                  <a:lnTo>
                    <a:pt x="178" y="549"/>
                  </a:lnTo>
                  <a:lnTo>
                    <a:pt x="161" y="443"/>
                  </a:lnTo>
                  <a:lnTo>
                    <a:pt x="138" y="347"/>
                  </a:lnTo>
                  <a:lnTo>
                    <a:pt x="110" y="240"/>
                  </a:lnTo>
                  <a:lnTo>
                    <a:pt x="81" y="147"/>
                  </a:lnTo>
                  <a:lnTo>
                    <a:pt x="49" y="6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5480" y="2808720"/>
              <a:ext cx="35640" cy="431280"/>
            </a:xfrm>
            <a:custGeom>
              <a:avLst/>
              <a:gdLst/>
              <a:ahLst/>
              <a:rect l="l" t="t" r="r" b="b"/>
              <a:pathLst>
                <a:path w="299" h="2151">
                  <a:moveTo>
                    <a:pt x="161" y="0"/>
                  </a:moveTo>
                  <a:lnTo>
                    <a:pt x="189" y="91"/>
                  </a:lnTo>
                  <a:lnTo>
                    <a:pt x="209" y="175"/>
                  </a:lnTo>
                  <a:lnTo>
                    <a:pt x="229" y="259"/>
                  </a:lnTo>
                  <a:lnTo>
                    <a:pt x="245" y="354"/>
                  </a:lnTo>
                  <a:lnTo>
                    <a:pt x="261" y="452"/>
                  </a:lnTo>
                  <a:lnTo>
                    <a:pt x="275" y="564"/>
                  </a:lnTo>
                  <a:lnTo>
                    <a:pt x="285" y="657"/>
                  </a:lnTo>
                  <a:lnTo>
                    <a:pt x="291" y="765"/>
                  </a:lnTo>
                  <a:lnTo>
                    <a:pt x="296" y="857"/>
                  </a:lnTo>
                  <a:lnTo>
                    <a:pt x="299" y="975"/>
                  </a:lnTo>
                  <a:lnTo>
                    <a:pt x="297" y="1093"/>
                  </a:lnTo>
                  <a:lnTo>
                    <a:pt x="293" y="1213"/>
                  </a:lnTo>
                  <a:lnTo>
                    <a:pt x="289" y="1308"/>
                  </a:lnTo>
                  <a:lnTo>
                    <a:pt x="283" y="1392"/>
                  </a:lnTo>
                  <a:lnTo>
                    <a:pt x="271" y="1497"/>
                  </a:lnTo>
                  <a:lnTo>
                    <a:pt x="259" y="1593"/>
                  </a:lnTo>
                  <a:lnTo>
                    <a:pt x="241" y="1700"/>
                  </a:lnTo>
                  <a:lnTo>
                    <a:pt x="221" y="1800"/>
                  </a:lnTo>
                  <a:lnTo>
                    <a:pt x="198" y="1897"/>
                  </a:lnTo>
                  <a:lnTo>
                    <a:pt x="177" y="1985"/>
                  </a:lnTo>
                  <a:lnTo>
                    <a:pt x="146" y="2079"/>
                  </a:lnTo>
                  <a:lnTo>
                    <a:pt x="121" y="2151"/>
                  </a:lnTo>
                  <a:lnTo>
                    <a:pt x="0" y="2089"/>
                  </a:lnTo>
                  <a:lnTo>
                    <a:pt x="16" y="2069"/>
                  </a:lnTo>
                  <a:lnTo>
                    <a:pt x="46" y="1981"/>
                  </a:lnTo>
                  <a:lnTo>
                    <a:pt x="70" y="1886"/>
                  </a:lnTo>
                  <a:lnTo>
                    <a:pt x="98" y="1778"/>
                  </a:lnTo>
                  <a:lnTo>
                    <a:pt x="117" y="1677"/>
                  </a:lnTo>
                  <a:lnTo>
                    <a:pt x="133" y="1580"/>
                  </a:lnTo>
                  <a:lnTo>
                    <a:pt x="146" y="1465"/>
                  </a:lnTo>
                  <a:lnTo>
                    <a:pt x="157" y="1360"/>
                  </a:lnTo>
                  <a:lnTo>
                    <a:pt x="165" y="1257"/>
                  </a:lnTo>
                  <a:lnTo>
                    <a:pt x="169" y="1152"/>
                  </a:lnTo>
                  <a:lnTo>
                    <a:pt x="173" y="1069"/>
                  </a:lnTo>
                  <a:lnTo>
                    <a:pt x="170" y="959"/>
                  </a:lnTo>
                  <a:lnTo>
                    <a:pt x="168" y="844"/>
                  </a:lnTo>
                  <a:lnTo>
                    <a:pt x="161" y="737"/>
                  </a:lnTo>
                  <a:lnTo>
                    <a:pt x="153" y="628"/>
                  </a:lnTo>
                  <a:lnTo>
                    <a:pt x="138" y="516"/>
                  </a:lnTo>
                  <a:lnTo>
                    <a:pt x="122" y="412"/>
                  </a:lnTo>
                  <a:lnTo>
                    <a:pt x="105" y="306"/>
                  </a:lnTo>
                  <a:lnTo>
                    <a:pt x="82" y="210"/>
                  </a:lnTo>
                  <a:lnTo>
                    <a:pt x="54" y="103"/>
                  </a:lnTo>
                  <a:lnTo>
                    <a:pt x="32" y="5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72360" y="2833560"/>
              <a:ext cx="30240" cy="378720"/>
            </a:xfrm>
            <a:custGeom>
              <a:avLst/>
              <a:gdLst/>
              <a:ahLst/>
              <a:rect l="l" t="t" r="r" b="b"/>
              <a:pathLst>
                <a:path w="255" h="1889">
                  <a:moveTo>
                    <a:pt x="165" y="51"/>
                  </a:moveTo>
                  <a:lnTo>
                    <a:pt x="185" y="135"/>
                  </a:lnTo>
                  <a:lnTo>
                    <a:pt x="201" y="230"/>
                  </a:lnTo>
                  <a:lnTo>
                    <a:pt x="217" y="328"/>
                  </a:lnTo>
                  <a:lnTo>
                    <a:pt x="231" y="440"/>
                  </a:lnTo>
                  <a:lnTo>
                    <a:pt x="241" y="533"/>
                  </a:lnTo>
                  <a:lnTo>
                    <a:pt x="247" y="641"/>
                  </a:lnTo>
                  <a:lnTo>
                    <a:pt x="252" y="733"/>
                  </a:lnTo>
                  <a:lnTo>
                    <a:pt x="255" y="851"/>
                  </a:lnTo>
                  <a:lnTo>
                    <a:pt x="253" y="983"/>
                  </a:lnTo>
                  <a:lnTo>
                    <a:pt x="249" y="1089"/>
                  </a:lnTo>
                  <a:lnTo>
                    <a:pt x="245" y="1184"/>
                  </a:lnTo>
                  <a:lnTo>
                    <a:pt x="239" y="1268"/>
                  </a:lnTo>
                  <a:lnTo>
                    <a:pt x="227" y="1373"/>
                  </a:lnTo>
                  <a:lnTo>
                    <a:pt x="214" y="1469"/>
                  </a:lnTo>
                  <a:lnTo>
                    <a:pt x="197" y="1576"/>
                  </a:lnTo>
                  <a:lnTo>
                    <a:pt x="177" y="1676"/>
                  </a:lnTo>
                  <a:lnTo>
                    <a:pt x="154" y="1773"/>
                  </a:lnTo>
                  <a:lnTo>
                    <a:pt x="133" y="1861"/>
                  </a:lnTo>
                  <a:lnTo>
                    <a:pt x="121" y="1889"/>
                  </a:lnTo>
                  <a:lnTo>
                    <a:pt x="0" y="1833"/>
                  </a:lnTo>
                  <a:lnTo>
                    <a:pt x="26" y="1762"/>
                  </a:lnTo>
                  <a:lnTo>
                    <a:pt x="54" y="1654"/>
                  </a:lnTo>
                  <a:lnTo>
                    <a:pt x="73" y="1553"/>
                  </a:lnTo>
                  <a:lnTo>
                    <a:pt x="89" y="1456"/>
                  </a:lnTo>
                  <a:lnTo>
                    <a:pt x="102" y="1341"/>
                  </a:lnTo>
                  <a:lnTo>
                    <a:pt x="113" y="1236"/>
                  </a:lnTo>
                  <a:lnTo>
                    <a:pt x="121" y="1133"/>
                  </a:lnTo>
                  <a:lnTo>
                    <a:pt x="125" y="1028"/>
                  </a:lnTo>
                  <a:lnTo>
                    <a:pt x="129" y="945"/>
                  </a:lnTo>
                  <a:lnTo>
                    <a:pt x="126" y="835"/>
                  </a:lnTo>
                  <a:lnTo>
                    <a:pt x="123" y="720"/>
                  </a:lnTo>
                  <a:lnTo>
                    <a:pt x="117" y="613"/>
                  </a:lnTo>
                  <a:lnTo>
                    <a:pt x="109" y="504"/>
                  </a:lnTo>
                  <a:lnTo>
                    <a:pt x="94" y="392"/>
                  </a:lnTo>
                  <a:lnTo>
                    <a:pt x="78" y="288"/>
                  </a:lnTo>
                  <a:lnTo>
                    <a:pt x="61" y="182"/>
                  </a:lnTo>
                  <a:lnTo>
                    <a:pt x="38" y="86"/>
                  </a:lnTo>
                  <a:lnTo>
                    <a:pt x="30" y="60"/>
                  </a:lnTo>
                  <a:lnTo>
                    <a:pt x="153" y="0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41400" y="2858760"/>
              <a:ext cx="26640" cy="328320"/>
            </a:xfrm>
            <a:custGeom>
              <a:avLst/>
              <a:gdLst/>
              <a:ahLst/>
              <a:rect l="l" t="t" r="r" b="b"/>
              <a:pathLst>
                <a:path w="223" h="1638">
                  <a:moveTo>
                    <a:pt x="153" y="0"/>
                  </a:moveTo>
                  <a:lnTo>
                    <a:pt x="169" y="95"/>
                  </a:lnTo>
                  <a:lnTo>
                    <a:pt x="185" y="193"/>
                  </a:lnTo>
                  <a:lnTo>
                    <a:pt x="198" y="305"/>
                  </a:lnTo>
                  <a:lnTo>
                    <a:pt x="209" y="398"/>
                  </a:lnTo>
                  <a:lnTo>
                    <a:pt x="215" y="506"/>
                  </a:lnTo>
                  <a:lnTo>
                    <a:pt x="220" y="598"/>
                  </a:lnTo>
                  <a:lnTo>
                    <a:pt x="223" y="716"/>
                  </a:lnTo>
                  <a:lnTo>
                    <a:pt x="221" y="834"/>
                  </a:lnTo>
                  <a:lnTo>
                    <a:pt x="217" y="954"/>
                  </a:lnTo>
                  <a:lnTo>
                    <a:pt x="213" y="1049"/>
                  </a:lnTo>
                  <a:lnTo>
                    <a:pt x="206" y="1133"/>
                  </a:lnTo>
                  <a:lnTo>
                    <a:pt x="194" y="1238"/>
                  </a:lnTo>
                  <a:lnTo>
                    <a:pt x="182" y="1334"/>
                  </a:lnTo>
                  <a:lnTo>
                    <a:pt x="165" y="1441"/>
                  </a:lnTo>
                  <a:lnTo>
                    <a:pt x="145" y="1541"/>
                  </a:lnTo>
                  <a:lnTo>
                    <a:pt x="122" y="1638"/>
                  </a:lnTo>
                  <a:lnTo>
                    <a:pt x="0" y="1582"/>
                  </a:lnTo>
                  <a:lnTo>
                    <a:pt x="22" y="1519"/>
                  </a:lnTo>
                  <a:lnTo>
                    <a:pt x="41" y="1418"/>
                  </a:lnTo>
                  <a:lnTo>
                    <a:pt x="57" y="1321"/>
                  </a:lnTo>
                  <a:lnTo>
                    <a:pt x="70" y="1206"/>
                  </a:lnTo>
                  <a:lnTo>
                    <a:pt x="81" y="1101"/>
                  </a:lnTo>
                  <a:lnTo>
                    <a:pt x="89" y="998"/>
                  </a:lnTo>
                  <a:lnTo>
                    <a:pt x="93" y="893"/>
                  </a:lnTo>
                  <a:lnTo>
                    <a:pt x="97" y="810"/>
                  </a:lnTo>
                  <a:lnTo>
                    <a:pt x="94" y="700"/>
                  </a:lnTo>
                  <a:lnTo>
                    <a:pt x="91" y="585"/>
                  </a:lnTo>
                  <a:lnTo>
                    <a:pt x="85" y="478"/>
                  </a:lnTo>
                  <a:lnTo>
                    <a:pt x="77" y="369"/>
                  </a:lnTo>
                  <a:lnTo>
                    <a:pt x="62" y="257"/>
                  </a:lnTo>
                  <a:lnTo>
                    <a:pt x="46" y="153"/>
                  </a:lnTo>
                  <a:lnTo>
                    <a:pt x="26" y="5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11160" y="2883960"/>
              <a:ext cx="22320" cy="278640"/>
            </a:xfrm>
            <a:custGeom>
              <a:avLst/>
              <a:gdLst/>
              <a:ahLst/>
              <a:rect l="l" t="t" r="r" b="b"/>
              <a:pathLst>
                <a:path w="190" h="1387">
                  <a:moveTo>
                    <a:pt x="134" y="0"/>
                  </a:moveTo>
                  <a:lnTo>
                    <a:pt x="153" y="75"/>
                  </a:lnTo>
                  <a:lnTo>
                    <a:pt x="166" y="187"/>
                  </a:lnTo>
                  <a:lnTo>
                    <a:pt x="177" y="280"/>
                  </a:lnTo>
                  <a:lnTo>
                    <a:pt x="182" y="388"/>
                  </a:lnTo>
                  <a:lnTo>
                    <a:pt x="188" y="480"/>
                  </a:lnTo>
                  <a:lnTo>
                    <a:pt x="190" y="598"/>
                  </a:lnTo>
                  <a:lnTo>
                    <a:pt x="189" y="716"/>
                  </a:lnTo>
                  <a:lnTo>
                    <a:pt x="185" y="836"/>
                  </a:lnTo>
                  <a:lnTo>
                    <a:pt x="181" y="931"/>
                  </a:lnTo>
                  <a:lnTo>
                    <a:pt x="174" y="1015"/>
                  </a:lnTo>
                  <a:lnTo>
                    <a:pt x="162" y="1120"/>
                  </a:lnTo>
                  <a:lnTo>
                    <a:pt x="150" y="1216"/>
                  </a:lnTo>
                  <a:lnTo>
                    <a:pt x="133" y="1323"/>
                  </a:lnTo>
                  <a:lnTo>
                    <a:pt x="125" y="1387"/>
                  </a:lnTo>
                  <a:lnTo>
                    <a:pt x="0" y="1331"/>
                  </a:lnTo>
                  <a:lnTo>
                    <a:pt x="8" y="1300"/>
                  </a:lnTo>
                  <a:lnTo>
                    <a:pt x="25" y="1203"/>
                  </a:lnTo>
                  <a:lnTo>
                    <a:pt x="38" y="1088"/>
                  </a:lnTo>
                  <a:lnTo>
                    <a:pt x="49" y="983"/>
                  </a:lnTo>
                  <a:lnTo>
                    <a:pt x="57" y="880"/>
                  </a:lnTo>
                  <a:lnTo>
                    <a:pt x="61" y="775"/>
                  </a:lnTo>
                  <a:lnTo>
                    <a:pt x="65" y="692"/>
                  </a:lnTo>
                  <a:lnTo>
                    <a:pt x="62" y="582"/>
                  </a:lnTo>
                  <a:lnTo>
                    <a:pt x="59" y="467"/>
                  </a:lnTo>
                  <a:lnTo>
                    <a:pt x="53" y="360"/>
                  </a:lnTo>
                  <a:lnTo>
                    <a:pt x="45" y="251"/>
                  </a:lnTo>
                  <a:lnTo>
                    <a:pt x="30" y="139"/>
                  </a:lnTo>
                  <a:lnTo>
                    <a:pt x="6" y="5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81280" y="2902680"/>
              <a:ext cx="21600" cy="237600"/>
            </a:xfrm>
            <a:custGeom>
              <a:avLst/>
              <a:gdLst/>
              <a:ahLst/>
              <a:rect l="l" t="t" r="r" b="b"/>
              <a:pathLst>
                <a:path w="182" h="1184">
                  <a:moveTo>
                    <a:pt x="149" y="0"/>
                  </a:moveTo>
                  <a:lnTo>
                    <a:pt x="161" y="68"/>
                  </a:lnTo>
                  <a:lnTo>
                    <a:pt x="168" y="147"/>
                  </a:lnTo>
                  <a:lnTo>
                    <a:pt x="178" y="261"/>
                  </a:lnTo>
                  <a:lnTo>
                    <a:pt x="179" y="348"/>
                  </a:lnTo>
                  <a:lnTo>
                    <a:pt x="182" y="466"/>
                  </a:lnTo>
                  <a:lnTo>
                    <a:pt x="180" y="584"/>
                  </a:lnTo>
                  <a:lnTo>
                    <a:pt x="176" y="704"/>
                  </a:lnTo>
                  <a:lnTo>
                    <a:pt x="172" y="799"/>
                  </a:lnTo>
                  <a:lnTo>
                    <a:pt x="165" y="883"/>
                  </a:lnTo>
                  <a:lnTo>
                    <a:pt x="153" y="988"/>
                  </a:lnTo>
                  <a:lnTo>
                    <a:pt x="141" y="1084"/>
                  </a:lnTo>
                  <a:lnTo>
                    <a:pt x="124" y="1184"/>
                  </a:lnTo>
                  <a:lnTo>
                    <a:pt x="0" y="1123"/>
                  </a:lnTo>
                  <a:lnTo>
                    <a:pt x="16" y="1071"/>
                  </a:lnTo>
                  <a:lnTo>
                    <a:pt x="29" y="955"/>
                  </a:lnTo>
                  <a:lnTo>
                    <a:pt x="40" y="851"/>
                  </a:lnTo>
                  <a:lnTo>
                    <a:pt x="48" y="748"/>
                  </a:lnTo>
                  <a:lnTo>
                    <a:pt x="52" y="642"/>
                  </a:lnTo>
                  <a:lnTo>
                    <a:pt x="56" y="559"/>
                  </a:lnTo>
                  <a:lnTo>
                    <a:pt x="53" y="450"/>
                  </a:lnTo>
                  <a:lnTo>
                    <a:pt x="53" y="333"/>
                  </a:lnTo>
                  <a:lnTo>
                    <a:pt x="49" y="225"/>
                  </a:lnTo>
                  <a:lnTo>
                    <a:pt x="36" y="119"/>
                  </a:lnTo>
                  <a:lnTo>
                    <a:pt x="21" y="6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51040" y="2930400"/>
              <a:ext cx="18000" cy="185040"/>
            </a:xfrm>
            <a:custGeom>
              <a:avLst/>
              <a:gdLst/>
              <a:ahLst/>
              <a:rect l="l" t="t" r="r" b="b"/>
              <a:pathLst>
                <a:path w="153" h="925">
                  <a:moveTo>
                    <a:pt x="129" y="0"/>
                  </a:moveTo>
                  <a:lnTo>
                    <a:pt x="141" y="80"/>
                  </a:lnTo>
                  <a:lnTo>
                    <a:pt x="145" y="167"/>
                  </a:lnTo>
                  <a:lnTo>
                    <a:pt x="151" y="259"/>
                  </a:lnTo>
                  <a:lnTo>
                    <a:pt x="153" y="377"/>
                  </a:lnTo>
                  <a:lnTo>
                    <a:pt x="152" y="495"/>
                  </a:lnTo>
                  <a:lnTo>
                    <a:pt x="148" y="615"/>
                  </a:lnTo>
                  <a:lnTo>
                    <a:pt x="144" y="710"/>
                  </a:lnTo>
                  <a:lnTo>
                    <a:pt x="137" y="794"/>
                  </a:lnTo>
                  <a:lnTo>
                    <a:pt x="136" y="879"/>
                  </a:lnTo>
                  <a:lnTo>
                    <a:pt x="132" y="925"/>
                  </a:lnTo>
                  <a:lnTo>
                    <a:pt x="0" y="857"/>
                  </a:lnTo>
                  <a:lnTo>
                    <a:pt x="12" y="762"/>
                  </a:lnTo>
                  <a:lnTo>
                    <a:pt x="20" y="659"/>
                  </a:lnTo>
                  <a:lnTo>
                    <a:pt x="24" y="554"/>
                  </a:lnTo>
                  <a:lnTo>
                    <a:pt x="28" y="471"/>
                  </a:lnTo>
                  <a:lnTo>
                    <a:pt x="29" y="349"/>
                  </a:lnTo>
                  <a:lnTo>
                    <a:pt x="25" y="245"/>
                  </a:lnTo>
                  <a:lnTo>
                    <a:pt x="16" y="139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19720" y="2954520"/>
              <a:ext cx="16920" cy="134640"/>
            </a:xfrm>
            <a:custGeom>
              <a:avLst/>
              <a:gdLst/>
              <a:ahLst/>
              <a:rect l="l" t="t" r="r" b="b"/>
              <a:pathLst>
                <a:path w="145" h="673">
                  <a:moveTo>
                    <a:pt x="129" y="0"/>
                  </a:moveTo>
                  <a:lnTo>
                    <a:pt x="143" y="123"/>
                  </a:lnTo>
                  <a:lnTo>
                    <a:pt x="145" y="241"/>
                  </a:lnTo>
                  <a:lnTo>
                    <a:pt x="144" y="359"/>
                  </a:lnTo>
                  <a:lnTo>
                    <a:pt x="140" y="479"/>
                  </a:lnTo>
                  <a:lnTo>
                    <a:pt x="136" y="574"/>
                  </a:lnTo>
                  <a:lnTo>
                    <a:pt x="120" y="673"/>
                  </a:lnTo>
                  <a:lnTo>
                    <a:pt x="0" y="617"/>
                  </a:lnTo>
                  <a:lnTo>
                    <a:pt x="12" y="523"/>
                  </a:lnTo>
                  <a:lnTo>
                    <a:pt x="16" y="418"/>
                  </a:lnTo>
                  <a:lnTo>
                    <a:pt x="20" y="335"/>
                  </a:lnTo>
                  <a:lnTo>
                    <a:pt x="17" y="213"/>
                  </a:lnTo>
                  <a:lnTo>
                    <a:pt x="14" y="110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90560" y="2975040"/>
              <a:ext cx="16200" cy="90000"/>
            </a:xfrm>
            <a:custGeom>
              <a:avLst/>
              <a:gdLst/>
              <a:ahLst/>
              <a:rect l="l" t="t" r="r" b="b"/>
              <a:pathLst>
                <a:path w="138" h="450">
                  <a:moveTo>
                    <a:pt x="135" y="66"/>
                  </a:moveTo>
                  <a:lnTo>
                    <a:pt x="138" y="181"/>
                  </a:lnTo>
                  <a:lnTo>
                    <a:pt x="136" y="295"/>
                  </a:lnTo>
                  <a:lnTo>
                    <a:pt x="130" y="394"/>
                  </a:lnTo>
                  <a:lnTo>
                    <a:pt x="121" y="450"/>
                  </a:lnTo>
                  <a:lnTo>
                    <a:pt x="0" y="398"/>
                  </a:lnTo>
                  <a:lnTo>
                    <a:pt x="8" y="277"/>
                  </a:lnTo>
                  <a:lnTo>
                    <a:pt x="9" y="166"/>
                  </a:lnTo>
                  <a:lnTo>
                    <a:pt x="9" y="61"/>
                  </a:lnTo>
                  <a:lnTo>
                    <a:pt x="130" y="0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411280" y="5373720"/>
            <a:ext cx="648000" cy="11588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603000" cy="108108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796680" y="2731320"/>
            <a:ext cx="861480" cy="842760"/>
            <a:chOff x="796680" y="2731320"/>
            <a:chExt cx="861480" cy="842760"/>
          </a:xfrm>
        </p:grpSpPr>
        <p:grpSp>
          <p:nvGrpSpPr>
            <p:cNvPr id="732" name=""/>
            <p:cNvGrpSpPr/>
            <p:nvPr/>
          </p:nvGrpSpPr>
          <p:grpSpPr>
            <a:xfrm>
              <a:off x="796680" y="2731320"/>
              <a:ext cx="861480" cy="842760"/>
              <a:chOff x="796680" y="2731320"/>
              <a:chExt cx="861480" cy="842760"/>
            </a:xfrm>
          </p:grpSpPr>
          <p:sp>
            <p:nvSpPr>
              <p:cNvPr id="733" name=""/>
              <p:cNvSpPr/>
              <p:nvPr/>
            </p:nvSpPr>
            <p:spPr>
              <a:xfrm rot="20494200">
                <a:off x="1127880" y="2792880"/>
                <a:ext cx="460080" cy="500040"/>
              </a:xfrm>
              <a:custGeom>
                <a:avLst/>
                <a:gdLst/>
                <a:ahLst/>
                <a:rect l="l" t="t" r="r" b="b"/>
                <a:pathLst>
                  <a:path w="360" h="541">
                    <a:moveTo>
                      <a:pt x="249" y="537"/>
                    </a:moveTo>
                    <a:lnTo>
                      <a:pt x="241" y="540"/>
                    </a:lnTo>
                    <a:lnTo>
                      <a:pt x="0" y="345"/>
                    </a:lnTo>
                    <a:lnTo>
                      <a:pt x="80" y="16"/>
                    </a:lnTo>
                    <a:lnTo>
                      <a:pt x="93" y="2"/>
                    </a:lnTo>
                    <a:lnTo>
                      <a:pt x="104" y="0"/>
                    </a:lnTo>
                    <a:lnTo>
                      <a:pt x="111" y="2"/>
                    </a:lnTo>
                    <a:lnTo>
                      <a:pt x="345" y="94"/>
                    </a:lnTo>
                    <a:lnTo>
                      <a:pt x="353" y="100"/>
                    </a:lnTo>
                    <a:lnTo>
                      <a:pt x="359" y="100"/>
                    </a:lnTo>
                    <a:lnTo>
                      <a:pt x="359" y="102"/>
                    </a:lnTo>
                    <a:lnTo>
                      <a:pt x="254" y="540"/>
                    </a:lnTo>
                    <a:lnTo>
                      <a:pt x="249" y="53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20494200">
                <a:off x="1406520" y="2824560"/>
                <a:ext cx="187920" cy="430920"/>
              </a:xfrm>
              <a:custGeom>
                <a:avLst/>
                <a:gdLst/>
                <a:ahLst/>
                <a:rect l="l" t="t" r="r" b="b"/>
                <a:pathLst>
                  <a:path w="147" h="466">
                    <a:moveTo>
                      <a:pt x="146" y="19"/>
                    </a:moveTo>
                    <a:lnTo>
                      <a:pt x="146" y="27"/>
                    </a:lnTo>
                    <a:lnTo>
                      <a:pt x="41" y="448"/>
                    </a:lnTo>
                    <a:lnTo>
                      <a:pt x="41" y="456"/>
                    </a:lnTo>
                    <a:lnTo>
                      <a:pt x="36" y="462"/>
                    </a:lnTo>
                    <a:lnTo>
                      <a:pt x="31" y="465"/>
                    </a:lnTo>
                    <a:lnTo>
                      <a:pt x="28" y="462"/>
                    </a:lnTo>
                    <a:lnTo>
                      <a:pt x="23" y="456"/>
                    </a:lnTo>
                    <a:lnTo>
                      <a:pt x="0" y="439"/>
                    </a:lnTo>
                    <a:lnTo>
                      <a:pt x="109" y="8"/>
                    </a:lnTo>
                    <a:lnTo>
                      <a:pt x="109" y="2"/>
                    </a:lnTo>
                    <a:lnTo>
                      <a:pt x="101" y="0"/>
                    </a:lnTo>
                    <a:lnTo>
                      <a:pt x="114" y="2"/>
                    </a:lnTo>
                    <a:lnTo>
                      <a:pt x="138" y="11"/>
                    </a:lnTo>
                    <a:lnTo>
                      <a:pt x="140" y="16"/>
                    </a:lnTo>
                    <a:lnTo>
                      <a:pt x="146" y="19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20494200">
                <a:off x="1183320" y="2783160"/>
                <a:ext cx="343800" cy="95760"/>
              </a:xfrm>
              <a:custGeom>
                <a:avLst/>
                <a:gdLst/>
                <a:ahLst/>
                <a:rect l="l" t="t" r="r" b="b"/>
                <a:pathLst>
                  <a:path w="269" h="104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  <a:lnTo>
                      <a:pt x="254" y="94"/>
                    </a:lnTo>
                    <a:lnTo>
                      <a:pt x="262" y="100"/>
                    </a:lnTo>
                    <a:lnTo>
                      <a:pt x="268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20494200">
                <a:off x="1173960" y="2861640"/>
                <a:ext cx="309960" cy="370800"/>
              </a:xfrm>
              <a:custGeom>
                <a:avLst/>
                <a:gdLst/>
                <a:ahLst/>
                <a:rect l="l" t="t" r="r" b="b"/>
                <a:pathLst>
                  <a:path w="243" h="401">
                    <a:moveTo>
                      <a:pt x="156" y="400"/>
                    </a:moveTo>
                    <a:lnTo>
                      <a:pt x="0" y="283"/>
                    </a:lnTo>
                    <a:lnTo>
                      <a:pt x="75" y="0"/>
                    </a:lnTo>
                    <a:lnTo>
                      <a:pt x="242" y="72"/>
                    </a:lnTo>
                    <a:lnTo>
                      <a:pt x="156" y="40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0494200">
                <a:off x="1189440" y="2871360"/>
                <a:ext cx="280800" cy="345960"/>
              </a:xfrm>
              <a:custGeom>
                <a:avLst/>
                <a:gdLst/>
                <a:ahLst/>
                <a:rect l="l" t="t" r="r" b="b"/>
                <a:pathLst>
                  <a:path w="220" h="374">
                    <a:moveTo>
                      <a:pt x="138" y="373"/>
                    </a:moveTo>
                    <a:lnTo>
                      <a:pt x="0" y="264"/>
                    </a:lnTo>
                    <a:lnTo>
                      <a:pt x="67" y="0"/>
                    </a:lnTo>
                    <a:lnTo>
                      <a:pt x="219" y="64"/>
                    </a:lnTo>
                    <a:lnTo>
                      <a:pt x="138" y="37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494200">
                <a:off x="1101960" y="2850840"/>
                <a:ext cx="136440" cy="322560"/>
              </a:xfrm>
              <a:custGeom>
                <a:avLst/>
                <a:gdLst/>
                <a:ahLst/>
                <a:rect l="l" t="t" r="r" b="b"/>
                <a:pathLst>
                  <a:path w="107" h="349">
                    <a:moveTo>
                      <a:pt x="100" y="0"/>
                    </a:moveTo>
                    <a:lnTo>
                      <a:pt x="93" y="2"/>
                    </a:lnTo>
                    <a:lnTo>
                      <a:pt x="90" y="2"/>
                    </a:lnTo>
                    <a:lnTo>
                      <a:pt x="85" y="8"/>
                    </a:lnTo>
                    <a:lnTo>
                      <a:pt x="82" y="16"/>
                    </a:lnTo>
                    <a:lnTo>
                      <a:pt x="82" y="19"/>
                    </a:lnTo>
                    <a:lnTo>
                      <a:pt x="0" y="345"/>
                    </a:lnTo>
                    <a:lnTo>
                      <a:pt x="5" y="348"/>
                    </a:lnTo>
                    <a:lnTo>
                      <a:pt x="85" y="19"/>
                    </a:lnTo>
                    <a:lnTo>
                      <a:pt x="90" y="11"/>
                    </a:lnTo>
                    <a:lnTo>
                      <a:pt x="93" y="8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0494200">
                <a:off x="1164240" y="3141720"/>
                <a:ext cx="347400" cy="208800"/>
              </a:xfrm>
              <a:custGeom>
                <a:avLst/>
                <a:gdLst/>
                <a:ahLst/>
                <a:rect l="l" t="t" r="r" b="b"/>
                <a:pathLst>
                  <a:path w="272" h="226">
                    <a:moveTo>
                      <a:pt x="271" y="225"/>
                    </a:moveTo>
                    <a:lnTo>
                      <a:pt x="265" y="197"/>
                    </a:lnTo>
                    <a:lnTo>
                      <a:pt x="257" y="18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7" y="8"/>
                    </a:lnTo>
                    <a:lnTo>
                      <a:pt x="0" y="33"/>
                    </a:lnTo>
                    <a:lnTo>
                      <a:pt x="221" y="225"/>
                    </a:lnTo>
                    <a:lnTo>
                      <a:pt x="271" y="22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0494200">
                <a:off x="818640" y="3236040"/>
                <a:ext cx="642600" cy="183960"/>
              </a:xfrm>
              <a:custGeom>
                <a:avLst/>
                <a:gdLst/>
                <a:ahLst/>
                <a:rect l="l" t="t" r="r" b="b"/>
                <a:pathLst>
                  <a:path w="503" h="199">
                    <a:moveTo>
                      <a:pt x="0" y="0"/>
                    </a:moveTo>
                    <a:lnTo>
                      <a:pt x="283" y="2"/>
                    </a:lnTo>
                    <a:lnTo>
                      <a:pt x="502" y="189"/>
                    </a:lnTo>
                    <a:lnTo>
                      <a:pt x="122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0494200">
                <a:off x="984960" y="3370320"/>
                <a:ext cx="579960" cy="67320"/>
              </a:xfrm>
              <a:custGeom>
                <a:avLst/>
                <a:gdLst/>
                <a:ahLst/>
                <a:rect l="l" t="t" r="r" b="b"/>
                <a:pathLst>
                  <a:path w="454" h="73">
                    <a:moveTo>
                      <a:pt x="15" y="11"/>
                    </a:moveTo>
                    <a:lnTo>
                      <a:pt x="0" y="72"/>
                    </a:lnTo>
                    <a:lnTo>
                      <a:pt x="447" y="60"/>
                    </a:lnTo>
                    <a:lnTo>
                      <a:pt x="453" y="38"/>
                    </a:lnTo>
                    <a:lnTo>
                      <a:pt x="453" y="19"/>
                    </a:lnTo>
                    <a:lnTo>
                      <a:pt x="447" y="0"/>
                    </a:lnTo>
                    <a:lnTo>
                      <a:pt x="15" y="1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0494200">
                <a:off x="830160" y="3313080"/>
                <a:ext cx="167400" cy="240480"/>
              </a:xfrm>
              <a:custGeom>
                <a:avLst/>
                <a:gdLst/>
                <a:ahLst/>
                <a:rect l="l" t="t" r="r" b="b"/>
                <a:pathLst>
                  <a:path w="131" h="260">
                    <a:moveTo>
                      <a:pt x="7" y="0"/>
                    </a:moveTo>
                    <a:lnTo>
                      <a:pt x="0" y="47"/>
                    </a:lnTo>
                    <a:lnTo>
                      <a:pt x="117" y="259"/>
                    </a:lnTo>
                    <a:lnTo>
                      <a:pt x="130" y="20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494200">
                <a:off x="1211400" y="3380760"/>
                <a:ext cx="84240" cy="1548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6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5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494200">
                <a:off x="1005840" y="3250440"/>
                <a:ext cx="183960" cy="181080"/>
              </a:xfrm>
              <a:custGeom>
                <a:avLst/>
                <a:gdLst/>
                <a:ahLst/>
                <a:rect l="l" t="t" r="r" b="b"/>
                <a:pathLst>
                  <a:path w="144" h="196">
                    <a:moveTo>
                      <a:pt x="143" y="186"/>
                    </a:moveTo>
                    <a:lnTo>
                      <a:pt x="0" y="0"/>
                    </a:lnTo>
                    <a:lnTo>
                      <a:pt x="143" y="195"/>
                    </a:lnTo>
                    <a:lnTo>
                      <a:pt x="143" y="18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494200">
                <a:off x="870840" y="332856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0494200">
                <a:off x="874440" y="33267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0494200">
                <a:off x="875160" y="3328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494200">
                <a:off x="876960" y="33350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494200">
                <a:off x="882360" y="3332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494200">
                <a:off x="888480" y="33382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494200">
                <a:off x="1002600" y="3283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7" y="16"/>
                    </a:lnTo>
                    <a:lnTo>
                      <a:pt x="21" y="16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494200">
                <a:off x="949320" y="33022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494200">
                <a:off x="949320" y="33019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494200">
                <a:off x="953640" y="3302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0494200">
                <a:off x="955440" y="330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0494200">
                <a:off x="961920" y="3306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0494200">
                <a:off x="963720" y="3313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0494200">
                <a:off x="968040" y="3312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0494200">
                <a:off x="967680" y="33120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0494200">
                <a:off x="975240" y="33148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494200">
                <a:off x="975600" y="3315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0494200">
                <a:off x="978120" y="33145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19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0494200">
                <a:off x="979920" y="3321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0494200">
                <a:off x="987480" y="33195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0494200">
                <a:off x="988920" y="3324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5" y="0"/>
                    </a:moveTo>
                    <a:lnTo>
                      <a:pt x="15" y="0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494200">
                <a:off x="996120" y="33242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0494200">
                <a:off x="997920" y="3330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0494200">
                <a:off x="1000080" y="3328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494200">
                <a:off x="1002240" y="3335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494200">
                <a:off x="1009800" y="3333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494200">
                <a:off x="1009440" y="33328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494200">
                <a:off x="1013760" y="3337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0494200">
                <a:off x="1014120" y="33382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0494200">
                <a:off x="1021320" y="3339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494200">
                <a:off x="1022040" y="334152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20494200">
                <a:off x="1027440" y="3347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20494200">
                <a:off x="1033560" y="3345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20494200">
                <a:off x="1034280" y="3346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20494200">
                <a:off x="1042200" y="33501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20494200">
                <a:off x="1042200" y="33494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494200">
                <a:off x="1047240" y="3353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20494200">
                <a:off x="1047600" y="3354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0494200">
                <a:off x="1055160" y="3356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20494200">
                <a:off x="1055880" y="33591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20494200">
                <a:off x="1061280" y="3363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0494200">
                <a:off x="1060920" y="3362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20494200">
                <a:off x="1069560" y="3367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0494200">
                <a:off x="1069920" y="33685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0494200">
                <a:off x="1073160" y="33667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494200">
                <a:off x="1075320" y="33732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494200">
                <a:off x="1081800" y="3372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494200">
                <a:off x="1081440" y="33710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0494200">
                <a:off x="1085760" y="33757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494200">
                <a:off x="1093320" y="33742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494200">
                <a:off x="1092960" y="33735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494200">
                <a:off x="1095480" y="337968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494200">
                <a:off x="1101600" y="337896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494200">
                <a:off x="1101600" y="33786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494200">
                <a:off x="1106280" y="3385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494200">
                <a:off x="1108080" y="3390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0494200">
                <a:off x="1115640" y="33879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0494200">
                <a:off x="1116360" y="339048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20494200">
                <a:off x="1119600" y="3392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0494200">
                <a:off x="1126080" y="3390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494200">
                <a:off x="1127880" y="3396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0494200">
                <a:off x="918000" y="331272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494200">
                <a:off x="923760" y="3309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494200">
                <a:off x="926280" y="331668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20494200">
                <a:off x="930240" y="3317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20494200">
                <a:off x="936360" y="3315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20494200">
                <a:off x="938520" y="3321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20494200">
                <a:off x="938880" y="3322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20494200">
                <a:off x="944640" y="33199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8"/>
                    </a:lnTo>
                    <a:lnTo>
                      <a:pt x="19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20494200">
                <a:off x="949680" y="3323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0494200">
                <a:off x="950040" y="3324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494200">
                <a:off x="955800" y="3322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494200">
                <a:off x="958320" y="33289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494200">
                <a:off x="963720" y="3333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494200">
                <a:off x="963360" y="3332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0494200">
                <a:off x="970200" y="3332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0494200">
                <a:off x="972360" y="33386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0494200">
                <a:off x="975960" y="333720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494200">
                <a:off x="978120" y="33436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494200">
                <a:off x="984600" y="3342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494200">
                <a:off x="984240" y="3341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494200">
                <a:off x="988200" y="3345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494200">
                <a:off x="990360" y="33512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94200">
                <a:off x="997560" y="3349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494200">
                <a:off x="997920" y="33505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494200">
                <a:off x="1006200" y="33544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494200">
                <a:off x="1008360" y="3353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494200">
                <a:off x="1010520" y="33595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494200">
                <a:off x="1010880" y="3360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494200">
                <a:off x="1017720" y="3357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0"/>
                    </a:lnTo>
                    <a:lnTo>
                      <a:pt x="15" y="8"/>
                    </a:lnTo>
                    <a:lnTo>
                      <a:pt x="20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494200">
                <a:off x="1019520" y="33620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494200">
                <a:off x="1023480" y="33670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0494200">
                <a:off x="1029600" y="3364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94200">
                <a:off x="1032120" y="33717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494200">
                <a:off x="1035720" y="3371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0494200">
                <a:off x="1035360" y="3370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0494200">
                <a:off x="1037880" y="337680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0494200">
                <a:off x="1044360" y="3376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494200">
                <a:off x="1050480" y="33750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494200">
                <a:off x="1052640" y="338112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494200">
                <a:off x="1056600" y="33804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0494200">
                <a:off x="1056240" y="3379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494200">
                <a:off x="1064160" y="33836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494200">
                <a:off x="1064160" y="33840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0494200">
                <a:off x="1068840" y="3386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0494200">
                <a:off x="1069920" y="3388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0494200">
                <a:off x="1076400" y="338760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494200">
                <a:off x="1077840" y="33919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494200">
                <a:off x="1082160" y="33937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0494200">
                <a:off x="1083960" y="3399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494200">
                <a:off x="1090080" y="33969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494200">
                <a:off x="1090440" y="33984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494200">
                <a:off x="1094040" y="34012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494200">
                <a:off x="1093680" y="34002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494200">
                <a:off x="1103760" y="3405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494200">
                <a:off x="896040" y="33199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494200">
                <a:off x="899640" y="33188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494200">
                <a:off x="901800" y="33260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494200">
                <a:off x="908640" y="33246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0494200">
                <a:off x="908640" y="33242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0494200">
                <a:off x="912960" y="3330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0494200">
                <a:off x="913320" y="3331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494200">
                <a:off x="920880" y="3328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494200">
                <a:off x="921960" y="333288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494200">
                <a:off x="924840" y="33328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494200">
                <a:off x="924480" y="3331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0494200">
                <a:off x="932760" y="33368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494200">
                <a:off x="934920" y="33433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494200">
                <a:off x="938160" y="3340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494200">
                <a:off x="945000" y="33404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0494200">
                <a:off x="947160" y="33469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0494200">
                <a:off x="952920" y="3345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0494200">
                <a:off x="955080" y="33512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6" y="0"/>
                    </a:lnTo>
                    <a:lnTo>
                      <a:pt x="19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494200">
                <a:off x="959040" y="3350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494200">
                <a:off x="958680" y="3349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20494200">
                <a:off x="960480" y="3354840"/>
                <a:ext cx="30600" cy="15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6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0494200">
                <a:off x="968040" y="3358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20494200">
                <a:off x="971640" y="33573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0494200">
                <a:off x="972360" y="33588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20494200">
                <a:off x="980280" y="3362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0494200">
                <a:off x="979920" y="3361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494200">
                <a:off x="986040" y="33681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20494200">
                <a:off x="986400" y="3368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20494200">
                <a:off x="992880" y="33667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0494200">
                <a:off x="993960" y="3370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0494200">
                <a:off x="998280" y="337572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16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0494200">
                <a:off x="997920" y="337464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0494200">
                <a:off x="1007640" y="338040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0494200">
                <a:off x="1008000" y="338112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0494200">
                <a:off x="1014120" y="33786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20494200">
                <a:off x="1016640" y="338580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94200">
                <a:off x="1019160" y="3385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494200">
                <a:off x="1018800" y="3384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0494200">
                <a:off x="1028160" y="33890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20494200">
                <a:off x="1028520" y="33897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0494200">
                <a:off x="1030320" y="3387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494200">
                <a:off x="1032480" y="3392280"/>
                <a:ext cx="34200" cy="154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6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0494200">
                <a:off x="1038960" y="339228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17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6" y="8"/>
                    </a:lnTo>
                    <a:lnTo>
                      <a:pt x="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0494200">
                <a:off x="1043640" y="339516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2" y="0"/>
                    </a:lnTo>
                    <a:lnTo>
                      <a:pt x="1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20494200">
                <a:off x="1044000" y="33969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0494200">
                <a:off x="1044360" y="339804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17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494200">
                <a:off x="1052280" y="34005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494200">
                <a:off x="1053000" y="3402360"/>
                <a:ext cx="3204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16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0494200">
                <a:off x="1060920" y="34066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3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494200">
                <a:off x="1064880" y="3405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494200">
                <a:off x="1065240" y="34066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494200">
                <a:off x="888840" y="33390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0494200">
                <a:off x="895320" y="3337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94200">
                <a:off x="896400" y="33411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494200">
                <a:off x="902520" y="3340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94200">
                <a:off x="902520" y="33397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0" y="0"/>
                    </a:lnTo>
                    <a:lnTo>
                      <a:pt x="15" y="5"/>
                    </a:lnTo>
                    <a:lnTo>
                      <a:pt x="18" y="16"/>
                    </a:lnTo>
                    <a:lnTo>
                      <a:pt x="2" y="1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494200">
                <a:off x="908280" y="334512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494200">
                <a:off x="910440" y="33512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494200">
                <a:off x="916560" y="3349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0" y="0"/>
                    </a:lnTo>
                    <a:lnTo>
                      <a:pt x="16" y="16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494200">
                <a:off x="917280" y="335052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0" y="9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494200">
                <a:off x="921600" y="335556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494200">
                <a:off x="921240" y="33544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494200">
                <a:off x="930960" y="335916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0494200">
                <a:off x="931320" y="33598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94200">
                <a:off x="933120" y="3358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3" y="8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494200">
                <a:off x="934920" y="33634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0494200">
                <a:off x="942840" y="336708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0494200">
                <a:off x="942480" y="336600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5" y="0"/>
                    </a:moveTo>
                    <a:lnTo>
                      <a:pt x="15" y="0"/>
                    </a:lnTo>
                    <a:lnTo>
                      <a:pt x="2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0494200">
                <a:off x="946800" y="336708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0494200">
                <a:off x="948960" y="33732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494200">
                <a:off x="954720" y="337032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21" y="16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494200">
                <a:off x="957240" y="337680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6"/>
                    </a:moveTo>
                    <a:lnTo>
                      <a:pt x="2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0494200">
                <a:off x="963360" y="337644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 rot="20494200">
              <a:off x="966960" y="3375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20494200">
              <a:off x="968400" y="33793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20494200">
              <a:off x="975960" y="33829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0494200">
              <a:off x="975960" y="33825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20494200">
              <a:off x="982080" y="33883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20494200">
              <a:off x="982440" y="33894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20494200">
              <a:off x="988560" y="3387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20494200">
              <a:off x="990720" y="3393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0494200">
              <a:off x="994680" y="33933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20494200">
              <a:off x="994320" y="339264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20494200">
              <a:off x="1002960" y="33969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20494200">
              <a:off x="1003320" y="33980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20494200">
              <a:off x="1005120" y="3396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20494200">
              <a:off x="1006920" y="34016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20494200">
              <a:off x="1014480" y="34005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20494200">
              <a:off x="1022040" y="34027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20494200">
              <a:off x="1023120" y="340488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0494200">
              <a:off x="1023120" y="34052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20494200">
              <a:off x="1027080" y="34099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20494200">
              <a:off x="1027800" y="34117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494200">
              <a:off x="966600" y="32886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94200">
              <a:off x="969120" y="32871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8" y="0"/>
                  </a:lnTo>
                  <a:lnTo>
                    <a:pt x="19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20494200">
              <a:off x="971280" y="329436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0494200">
              <a:off x="972360" y="329760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20494200">
              <a:off x="979560" y="3295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0494200">
              <a:off x="988200" y="3301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20494200">
              <a:off x="988200" y="3301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20494200">
              <a:off x="990720" y="3300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20494200">
              <a:off x="992520" y="3305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94200">
              <a:off x="1000080" y="33048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20494200">
              <a:off x="999720" y="330408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20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20494200">
              <a:off x="1004760" y="33109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20494200">
              <a:off x="1010880" y="33091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0494200">
              <a:off x="1010880" y="3309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20494200">
              <a:off x="1017720" y="33170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20494200">
              <a:off x="1017720" y="33174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20494200">
              <a:off x="1023840" y="3315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20494200">
              <a:off x="1032480" y="33213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20494200">
              <a:off x="1032480" y="332136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20494200">
              <a:off x="1036440" y="33199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20494200">
              <a:off x="1038600" y="3327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20494200">
              <a:off x="1038600" y="33271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20494200">
              <a:off x="1045440" y="33278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20494200">
              <a:off x="1051560" y="3333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20494200">
              <a:off x="1051560" y="33336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20494200">
              <a:off x="1057680" y="3331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20494200">
              <a:off x="1063800" y="33379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20494200">
              <a:off x="1063800" y="33382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20494200">
              <a:off x="1069920" y="3336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20494200">
              <a:off x="1072080" y="3343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20494200">
              <a:off x="1072080" y="33433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9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494200">
              <a:off x="1074600" y="334188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3" y="0"/>
                  </a:lnTo>
                  <a:lnTo>
                    <a:pt x="19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20494200">
              <a:off x="1085400" y="3349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494200">
              <a:off x="1085400" y="334944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17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6" y="8"/>
                  </a:lnTo>
                  <a:lnTo>
                    <a:pt x="6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94200">
              <a:off x="1091160" y="33476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20494200">
              <a:off x="1095840" y="3354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0494200">
              <a:off x="1095840" y="33541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20494200">
              <a:off x="1103400" y="3351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20494200">
              <a:off x="1105920" y="3359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20494200">
              <a:off x="1105920" y="3359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0494200">
              <a:off x="1108440" y="3358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20494200">
              <a:off x="1117800" y="33660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20494200">
              <a:off x="1117800" y="33660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20494200">
              <a:off x="1121040" y="336456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0"/>
                  </a:lnTo>
                  <a:lnTo>
                    <a:pt x="18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20494200">
              <a:off x="1123560" y="337140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494200">
              <a:off x="1129680" y="33696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0494200">
              <a:off x="1129320" y="33685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20494200">
              <a:off x="1135800" y="33764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5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494200">
              <a:off x="1137240" y="3381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6" y="6"/>
                  </a:lnTo>
                  <a:lnTo>
                    <a:pt x="9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494200">
              <a:off x="1143360" y="33793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0494200">
              <a:off x="1151280" y="3382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20494200">
              <a:off x="1151280" y="33822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6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20494200">
              <a:off x="1154880" y="33811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20494200">
              <a:off x="1163520" y="33861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20494200">
              <a:off x="1163520" y="33861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0494200">
              <a:off x="1166760" y="338508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20494200">
              <a:off x="1170720" y="339696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20494200">
              <a:off x="1022040" y="3289680"/>
              <a:ext cx="2124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20494200">
              <a:off x="1036440" y="33001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7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20494200">
              <a:off x="1049040" y="33058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20494200">
              <a:off x="1065240" y="33141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20494200">
              <a:off x="1085400" y="33224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20494200">
              <a:off x="1099080" y="33303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20494200">
              <a:off x="1117800" y="333468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20494200">
              <a:off x="1132560" y="33462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0494200">
              <a:off x="1152000" y="3351240"/>
              <a:ext cx="2376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6"/>
                  </a:lnTo>
                  <a:lnTo>
                    <a:pt x="18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20494200">
              <a:off x="1164240" y="335700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20494200">
              <a:off x="1181160" y="33681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7" y="16"/>
                  </a:lnTo>
                  <a:lnTo>
                    <a:pt x="21" y="16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20494200">
              <a:off x="844920" y="33372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20494200">
              <a:off x="852120" y="333432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0" y="0"/>
                  </a:lnTo>
                  <a:lnTo>
                    <a:pt x="15" y="5"/>
                  </a:lnTo>
                  <a:lnTo>
                    <a:pt x="18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20494200">
              <a:off x="854640" y="3341160"/>
              <a:ext cx="30600" cy="154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17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20494200">
              <a:off x="857520" y="33415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20494200">
              <a:off x="864360" y="334224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20494200">
              <a:off x="865800" y="334620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0494200">
              <a:off x="870480" y="33480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20494200">
              <a:off x="870120" y="33469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20494200">
              <a:off x="878400" y="33519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20494200">
              <a:off x="883440" y="335412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20494200">
              <a:off x="883080" y="33530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20494200">
              <a:off x="891360" y="33584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20494200">
              <a:off x="900720" y="3358080"/>
              <a:ext cx="57240" cy="673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4" y="72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44" y="63"/>
                  </a:lnTo>
                  <a:lnTo>
                    <a:pt x="44" y="7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20494200">
              <a:off x="902520" y="3353400"/>
              <a:ext cx="80280" cy="60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62" y="64"/>
                  </a:lnTo>
                  <a:lnTo>
                    <a:pt x="41" y="6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0494200">
              <a:off x="965520" y="3401280"/>
              <a:ext cx="31680" cy="1548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20494200">
              <a:off x="966600" y="3405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20494200">
              <a:off x="972360" y="34027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0494200">
              <a:off x="974880" y="3409920"/>
              <a:ext cx="25200" cy="154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20494200">
              <a:off x="978480" y="340956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5" y="17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16" y="8"/>
                  </a:lnTo>
                  <a:lnTo>
                    <a:pt x="5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20494200">
              <a:off x="984240" y="34074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20494200">
              <a:off x="986760" y="3414240"/>
              <a:ext cx="24120" cy="154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8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20494200">
              <a:off x="1131840" y="3396600"/>
              <a:ext cx="21600" cy="16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20494200">
              <a:off x="1131480" y="339552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3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5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20494200">
              <a:off x="1139760" y="340056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20494200">
              <a:off x="1036800" y="341460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20494200">
              <a:off x="1036440" y="3413880"/>
              <a:ext cx="26640" cy="154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0"/>
                  </a:lnTo>
                  <a:lnTo>
                    <a:pt x="15" y="8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20494200">
              <a:off x="1040400" y="34178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20494200">
              <a:off x="1040760" y="3418920"/>
              <a:ext cx="21600" cy="154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20494200">
              <a:off x="1040400" y="34178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1" y="16"/>
                  </a:lnTo>
                  <a:lnTo>
                    <a:pt x="7" y="16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20494200">
              <a:off x="1049040" y="3423240"/>
              <a:ext cx="28080" cy="15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20494200">
              <a:off x="1068120" y="3410280"/>
              <a:ext cx="21600" cy="284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0" y="3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21"/>
                  </a:lnTo>
                  <a:lnTo>
                    <a:pt x="10" y="3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20494200">
              <a:off x="1072440" y="3402720"/>
              <a:ext cx="57240" cy="21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20494200">
              <a:off x="1087920" y="3419640"/>
              <a:ext cx="50760" cy="154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6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3" y="0"/>
                  </a:lnTo>
                  <a:lnTo>
                    <a:pt x="39" y="16"/>
                  </a:lnTo>
                  <a:lnTo>
                    <a:pt x="0" y="1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20494200">
              <a:off x="1040040" y="3427200"/>
              <a:ext cx="269280" cy="3384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7" y="2"/>
                  </a:moveTo>
                  <a:lnTo>
                    <a:pt x="5" y="2"/>
                  </a:lnTo>
                  <a:lnTo>
                    <a:pt x="5" y="1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97" y="33"/>
                  </a:lnTo>
                  <a:lnTo>
                    <a:pt x="204" y="27"/>
                  </a:lnTo>
                  <a:lnTo>
                    <a:pt x="204" y="24"/>
                  </a:lnTo>
                  <a:lnTo>
                    <a:pt x="210" y="11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7" y="2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20494200">
              <a:off x="1075320" y="3432600"/>
              <a:ext cx="210600" cy="19440"/>
            </a:xfrm>
            <a:custGeom>
              <a:avLst/>
              <a:gdLst/>
              <a:ahLst/>
              <a:rect l="l" t="t" r="r" b="b"/>
              <a:pathLst>
                <a:path w="165" h="21">
                  <a:moveTo>
                    <a:pt x="0" y="2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20"/>
                  </a:lnTo>
                  <a:lnTo>
                    <a:pt x="124" y="17"/>
                  </a:lnTo>
                  <a:lnTo>
                    <a:pt x="124" y="11"/>
                  </a:lnTo>
                  <a:lnTo>
                    <a:pt x="164" y="11"/>
                  </a:lnTo>
                  <a:lnTo>
                    <a:pt x="164" y="2"/>
                  </a:lnTo>
                  <a:lnTo>
                    <a:pt x="124" y="2"/>
                  </a:lnTo>
                  <a:lnTo>
                    <a:pt x="12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20494200">
              <a:off x="1087200" y="3474000"/>
              <a:ext cx="20160" cy="14400"/>
            </a:xfrm>
            <a:prstGeom prst="rect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20494200">
              <a:off x="1469160" y="3256560"/>
              <a:ext cx="6120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1" y="2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47" y="47"/>
                  </a:lnTo>
                  <a:lnTo>
                    <a:pt x="47" y="19"/>
                  </a:lnTo>
                  <a:lnTo>
                    <a:pt x="39" y="8"/>
                  </a:lnTo>
                  <a:lnTo>
                    <a:pt x="31" y="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20494200">
              <a:off x="1175760" y="3144960"/>
              <a:ext cx="280800" cy="1753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0"/>
                  </a:moveTo>
                  <a:lnTo>
                    <a:pt x="219" y="180"/>
                  </a:lnTo>
                  <a:lnTo>
                    <a:pt x="219" y="186"/>
                  </a:lnTo>
                  <a:lnTo>
                    <a:pt x="213" y="18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20494200">
              <a:off x="1380960" y="3226680"/>
              <a:ext cx="94680" cy="7848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5" y="19"/>
                  </a:moveTo>
                  <a:lnTo>
                    <a:pt x="7" y="11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73" y="28"/>
                  </a:lnTo>
                  <a:lnTo>
                    <a:pt x="67" y="39"/>
                  </a:lnTo>
                  <a:lnTo>
                    <a:pt x="57" y="39"/>
                  </a:lnTo>
                  <a:lnTo>
                    <a:pt x="49" y="44"/>
                  </a:lnTo>
                  <a:lnTo>
                    <a:pt x="41" y="47"/>
                  </a:lnTo>
                  <a:lnTo>
                    <a:pt x="41" y="53"/>
                  </a:lnTo>
                  <a:lnTo>
                    <a:pt x="41" y="67"/>
                  </a:lnTo>
                  <a:lnTo>
                    <a:pt x="41" y="81"/>
                  </a:lnTo>
                  <a:lnTo>
                    <a:pt x="41" y="84"/>
                  </a:lnTo>
                  <a:lnTo>
                    <a:pt x="0" y="53"/>
                  </a:lnTo>
                  <a:lnTo>
                    <a:pt x="0" y="30"/>
                  </a:lnTo>
                  <a:lnTo>
                    <a:pt x="5" y="19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19480" y="3238560"/>
              <a:ext cx="5148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20494200">
              <a:off x="1175400" y="3184200"/>
              <a:ext cx="74160" cy="62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" y="22"/>
                  </a:moveTo>
                  <a:lnTo>
                    <a:pt x="7" y="16"/>
                  </a:lnTo>
                  <a:lnTo>
                    <a:pt x="12" y="11"/>
                  </a:lnTo>
                  <a:lnTo>
                    <a:pt x="20" y="8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49" y="27"/>
                  </a:lnTo>
                  <a:lnTo>
                    <a:pt x="44" y="27"/>
                  </a:lnTo>
                  <a:lnTo>
                    <a:pt x="36" y="27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3" y="44"/>
                  </a:lnTo>
                  <a:lnTo>
                    <a:pt x="23" y="6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" y="22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20494200">
              <a:off x="1334160" y="323424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0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20494200">
              <a:off x="1321920" y="3229920"/>
              <a:ext cx="42120" cy="421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2" y="0"/>
                  </a:move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20494200">
              <a:off x="1311480" y="322596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20494200">
              <a:off x="1292760" y="3223440"/>
              <a:ext cx="4068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20494200">
              <a:off x="1280880" y="3219480"/>
              <a:ext cx="4068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20494200">
              <a:off x="1269000" y="32158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20494200">
              <a:off x="1257120" y="3214080"/>
              <a:ext cx="40680" cy="39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0"/>
                  </a:moveTo>
                  <a:lnTo>
                    <a:pt x="10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20494200">
              <a:off x="1239120" y="321192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1" y="0"/>
                  </a:moveTo>
                  <a:lnTo>
                    <a:pt x="15" y="0"/>
                  </a:lnTo>
                  <a:lnTo>
                    <a:pt x="7" y="2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20494200">
              <a:off x="1216080" y="3187440"/>
              <a:ext cx="31680" cy="165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17"/>
                  </a:lnTo>
                  <a:lnTo>
                    <a:pt x="24" y="17"/>
                  </a:lnTo>
                  <a:lnTo>
                    <a:pt x="18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20494200">
              <a:off x="1396440" y="3315240"/>
              <a:ext cx="60840" cy="154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7" y="16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2197080" y="2924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MADA  00:09:5b:93:e9: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635280" y="3573360"/>
            <a:ext cx="50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B-MICHEL  00:20:a6:51:9d:7c (prox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B-MICHEL  00:b0:d0:e8:e3:54 (3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56000" y="4724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WLAN-DESK  00:20:a6:51:4f: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2987640" y="3594240"/>
            <a:ext cx="289080" cy="484200"/>
            <a:chOff x="2987640" y="3594240"/>
            <a:chExt cx="289080" cy="484200"/>
          </a:xfrm>
        </p:grpSpPr>
        <p:sp>
          <p:nvSpPr>
            <p:cNvPr id="1076" name=""/>
            <p:cNvSpPr/>
            <p:nvPr/>
          </p:nvSpPr>
          <p:spPr>
            <a:xfrm>
              <a:off x="3234600" y="3594240"/>
              <a:ext cx="42120" cy="484200"/>
            </a:xfrm>
            <a:custGeom>
              <a:avLst/>
              <a:gdLst/>
              <a:ahLst/>
              <a:rect l="l" t="t" r="r" b="b"/>
              <a:pathLst>
                <a:path w="355" h="2415">
                  <a:moveTo>
                    <a:pt x="177" y="0"/>
                  </a:moveTo>
                  <a:lnTo>
                    <a:pt x="193" y="56"/>
                  </a:lnTo>
                  <a:lnTo>
                    <a:pt x="221" y="147"/>
                  </a:lnTo>
                  <a:lnTo>
                    <a:pt x="245" y="228"/>
                  </a:lnTo>
                  <a:lnTo>
                    <a:pt x="265" y="312"/>
                  </a:lnTo>
                  <a:lnTo>
                    <a:pt x="285" y="396"/>
                  </a:lnTo>
                  <a:lnTo>
                    <a:pt x="301" y="491"/>
                  </a:lnTo>
                  <a:lnTo>
                    <a:pt x="318" y="589"/>
                  </a:lnTo>
                  <a:lnTo>
                    <a:pt x="331" y="701"/>
                  </a:lnTo>
                  <a:lnTo>
                    <a:pt x="342" y="794"/>
                  </a:lnTo>
                  <a:lnTo>
                    <a:pt x="347" y="902"/>
                  </a:lnTo>
                  <a:lnTo>
                    <a:pt x="352" y="994"/>
                  </a:lnTo>
                  <a:lnTo>
                    <a:pt x="355" y="1112"/>
                  </a:lnTo>
                  <a:lnTo>
                    <a:pt x="354" y="1230"/>
                  </a:lnTo>
                  <a:lnTo>
                    <a:pt x="350" y="1350"/>
                  </a:lnTo>
                  <a:lnTo>
                    <a:pt x="346" y="1445"/>
                  </a:lnTo>
                  <a:lnTo>
                    <a:pt x="339" y="1529"/>
                  </a:lnTo>
                  <a:lnTo>
                    <a:pt x="327" y="1634"/>
                  </a:lnTo>
                  <a:lnTo>
                    <a:pt x="315" y="1730"/>
                  </a:lnTo>
                  <a:lnTo>
                    <a:pt x="297" y="1837"/>
                  </a:lnTo>
                  <a:lnTo>
                    <a:pt x="277" y="1937"/>
                  </a:lnTo>
                  <a:lnTo>
                    <a:pt x="255" y="2034"/>
                  </a:lnTo>
                  <a:lnTo>
                    <a:pt x="233" y="2122"/>
                  </a:lnTo>
                  <a:lnTo>
                    <a:pt x="202" y="2216"/>
                  </a:lnTo>
                  <a:lnTo>
                    <a:pt x="170" y="2303"/>
                  </a:lnTo>
                  <a:lnTo>
                    <a:pt x="134" y="2392"/>
                  </a:lnTo>
                  <a:lnTo>
                    <a:pt x="125" y="2415"/>
                  </a:lnTo>
                  <a:lnTo>
                    <a:pt x="0" y="2359"/>
                  </a:lnTo>
                  <a:lnTo>
                    <a:pt x="36" y="2291"/>
                  </a:lnTo>
                  <a:lnTo>
                    <a:pt x="73" y="2206"/>
                  </a:lnTo>
                  <a:lnTo>
                    <a:pt x="102" y="2118"/>
                  </a:lnTo>
                  <a:lnTo>
                    <a:pt x="126" y="2023"/>
                  </a:lnTo>
                  <a:lnTo>
                    <a:pt x="154" y="1915"/>
                  </a:lnTo>
                  <a:lnTo>
                    <a:pt x="173" y="1814"/>
                  </a:lnTo>
                  <a:lnTo>
                    <a:pt x="189" y="1717"/>
                  </a:lnTo>
                  <a:lnTo>
                    <a:pt x="202" y="1602"/>
                  </a:lnTo>
                  <a:lnTo>
                    <a:pt x="213" y="1497"/>
                  </a:lnTo>
                  <a:lnTo>
                    <a:pt x="221" y="1394"/>
                  </a:lnTo>
                  <a:lnTo>
                    <a:pt x="225" y="1289"/>
                  </a:lnTo>
                  <a:lnTo>
                    <a:pt x="229" y="1206"/>
                  </a:lnTo>
                  <a:lnTo>
                    <a:pt x="227" y="1096"/>
                  </a:lnTo>
                  <a:lnTo>
                    <a:pt x="224" y="981"/>
                  </a:lnTo>
                  <a:lnTo>
                    <a:pt x="217" y="874"/>
                  </a:lnTo>
                  <a:lnTo>
                    <a:pt x="209" y="765"/>
                  </a:lnTo>
                  <a:lnTo>
                    <a:pt x="194" y="653"/>
                  </a:lnTo>
                  <a:lnTo>
                    <a:pt x="178" y="549"/>
                  </a:lnTo>
                  <a:lnTo>
                    <a:pt x="161" y="443"/>
                  </a:lnTo>
                  <a:lnTo>
                    <a:pt x="138" y="347"/>
                  </a:lnTo>
                  <a:lnTo>
                    <a:pt x="110" y="240"/>
                  </a:lnTo>
                  <a:lnTo>
                    <a:pt x="81" y="147"/>
                  </a:lnTo>
                  <a:lnTo>
                    <a:pt x="49" y="6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02560" y="3621600"/>
              <a:ext cx="35640" cy="431280"/>
            </a:xfrm>
            <a:custGeom>
              <a:avLst/>
              <a:gdLst/>
              <a:ahLst/>
              <a:rect l="l" t="t" r="r" b="b"/>
              <a:pathLst>
                <a:path w="299" h="2151">
                  <a:moveTo>
                    <a:pt x="161" y="0"/>
                  </a:moveTo>
                  <a:lnTo>
                    <a:pt x="189" y="91"/>
                  </a:lnTo>
                  <a:lnTo>
                    <a:pt x="209" y="175"/>
                  </a:lnTo>
                  <a:lnTo>
                    <a:pt x="229" y="259"/>
                  </a:lnTo>
                  <a:lnTo>
                    <a:pt x="245" y="354"/>
                  </a:lnTo>
                  <a:lnTo>
                    <a:pt x="261" y="452"/>
                  </a:lnTo>
                  <a:lnTo>
                    <a:pt x="275" y="564"/>
                  </a:lnTo>
                  <a:lnTo>
                    <a:pt x="285" y="657"/>
                  </a:lnTo>
                  <a:lnTo>
                    <a:pt x="291" y="765"/>
                  </a:lnTo>
                  <a:lnTo>
                    <a:pt x="296" y="857"/>
                  </a:lnTo>
                  <a:lnTo>
                    <a:pt x="299" y="975"/>
                  </a:lnTo>
                  <a:lnTo>
                    <a:pt x="297" y="1093"/>
                  </a:lnTo>
                  <a:lnTo>
                    <a:pt x="293" y="1213"/>
                  </a:lnTo>
                  <a:lnTo>
                    <a:pt x="289" y="1308"/>
                  </a:lnTo>
                  <a:lnTo>
                    <a:pt x="283" y="1392"/>
                  </a:lnTo>
                  <a:lnTo>
                    <a:pt x="271" y="1497"/>
                  </a:lnTo>
                  <a:lnTo>
                    <a:pt x="259" y="1593"/>
                  </a:lnTo>
                  <a:lnTo>
                    <a:pt x="241" y="1700"/>
                  </a:lnTo>
                  <a:lnTo>
                    <a:pt x="221" y="1800"/>
                  </a:lnTo>
                  <a:lnTo>
                    <a:pt x="198" y="1897"/>
                  </a:lnTo>
                  <a:lnTo>
                    <a:pt x="177" y="1985"/>
                  </a:lnTo>
                  <a:lnTo>
                    <a:pt x="146" y="2079"/>
                  </a:lnTo>
                  <a:lnTo>
                    <a:pt x="121" y="2151"/>
                  </a:lnTo>
                  <a:lnTo>
                    <a:pt x="0" y="2089"/>
                  </a:lnTo>
                  <a:lnTo>
                    <a:pt x="16" y="2069"/>
                  </a:lnTo>
                  <a:lnTo>
                    <a:pt x="46" y="1981"/>
                  </a:lnTo>
                  <a:lnTo>
                    <a:pt x="70" y="1886"/>
                  </a:lnTo>
                  <a:lnTo>
                    <a:pt x="98" y="1778"/>
                  </a:lnTo>
                  <a:lnTo>
                    <a:pt x="117" y="1677"/>
                  </a:lnTo>
                  <a:lnTo>
                    <a:pt x="133" y="1580"/>
                  </a:lnTo>
                  <a:lnTo>
                    <a:pt x="146" y="1465"/>
                  </a:lnTo>
                  <a:lnTo>
                    <a:pt x="157" y="1360"/>
                  </a:lnTo>
                  <a:lnTo>
                    <a:pt x="165" y="1257"/>
                  </a:lnTo>
                  <a:lnTo>
                    <a:pt x="169" y="1152"/>
                  </a:lnTo>
                  <a:lnTo>
                    <a:pt x="173" y="1069"/>
                  </a:lnTo>
                  <a:lnTo>
                    <a:pt x="170" y="959"/>
                  </a:lnTo>
                  <a:lnTo>
                    <a:pt x="168" y="844"/>
                  </a:lnTo>
                  <a:lnTo>
                    <a:pt x="161" y="737"/>
                  </a:lnTo>
                  <a:lnTo>
                    <a:pt x="153" y="628"/>
                  </a:lnTo>
                  <a:lnTo>
                    <a:pt x="138" y="516"/>
                  </a:lnTo>
                  <a:lnTo>
                    <a:pt x="122" y="412"/>
                  </a:lnTo>
                  <a:lnTo>
                    <a:pt x="105" y="306"/>
                  </a:lnTo>
                  <a:lnTo>
                    <a:pt x="82" y="210"/>
                  </a:lnTo>
                  <a:lnTo>
                    <a:pt x="54" y="103"/>
                  </a:lnTo>
                  <a:lnTo>
                    <a:pt x="32" y="5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169440" y="3646440"/>
              <a:ext cx="30240" cy="378720"/>
            </a:xfrm>
            <a:custGeom>
              <a:avLst/>
              <a:gdLst/>
              <a:ahLst/>
              <a:rect l="l" t="t" r="r" b="b"/>
              <a:pathLst>
                <a:path w="255" h="1889">
                  <a:moveTo>
                    <a:pt x="165" y="51"/>
                  </a:moveTo>
                  <a:lnTo>
                    <a:pt x="185" y="135"/>
                  </a:lnTo>
                  <a:lnTo>
                    <a:pt x="201" y="230"/>
                  </a:lnTo>
                  <a:lnTo>
                    <a:pt x="217" y="328"/>
                  </a:lnTo>
                  <a:lnTo>
                    <a:pt x="231" y="440"/>
                  </a:lnTo>
                  <a:lnTo>
                    <a:pt x="241" y="533"/>
                  </a:lnTo>
                  <a:lnTo>
                    <a:pt x="247" y="641"/>
                  </a:lnTo>
                  <a:lnTo>
                    <a:pt x="252" y="733"/>
                  </a:lnTo>
                  <a:lnTo>
                    <a:pt x="255" y="851"/>
                  </a:lnTo>
                  <a:lnTo>
                    <a:pt x="253" y="983"/>
                  </a:lnTo>
                  <a:lnTo>
                    <a:pt x="249" y="1089"/>
                  </a:lnTo>
                  <a:lnTo>
                    <a:pt x="245" y="1184"/>
                  </a:lnTo>
                  <a:lnTo>
                    <a:pt x="239" y="1268"/>
                  </a:lnTo>
                  <a:lnTo>
                    <a:pt x="227" y="1373"/>
                  </a:lnTo>
                  <a:lnTo>
                    <a:pt x="214" y="1469"/>
                  </a:lnTo>
                  <a:lnTo>
                    <a:pt x="197" y="1576"/>
                  </a:lnTo>
                  <a:lnTo>
                    <a:pt x="177" y="1676"/>
                  </a:lnTo>
                  <a:lnTo>
                    <a:pt x="154" y="1773"/>
                  </a:lnTo>
                  <a:lnTo>
                    <a:pt x="133" y="1861"/>
                  </a:lnTo>
                  <a:lnTo>
                    <a:pt x="121" y="1889"/>
                  </a:lnTo>
                  <a:lnTo>
                    <a:pt x="0" y="1833"/>
                  </a:lnTo>
                  <a:lnTo>
                    <a:pt x="26" y="1762"/>
                  </a:lnTo>
                  <a:lnTo>
                    <a:pt x="54" y="1654"/>
                  </a:lnTo>
                  <a:lnTo>
                    <a:pt x="73" y="1553"/>
                  </a:lnTo>
                  <a:lnTo>
                    <a:pt x="89" y="1456"/>
                  </a:lnTo>
                  <a:lnTo>
                    <a:pt x="102" y="1341"/>
                  </a:lnTo>
                  <a:lnTo>
                    <a:pt x="113" y="1236"/>
                  </a:lnTo>
                  <a:lnTo>
                    <a:pt x="121" y="1133"/>
                  </a:lnTo>
                  <a:lnTo>
                    <a:pt x="125" y="1028"/>
                  </a:lnTo>
                  <a:lnTo>
                    <a:pt x="129" y="945"/>
                  </a:lnTo>
                  <a:lnTo>
                    <a:pt x="126" y="835"/>
                  </a:lnTo>
                  <a:lnTo>
                    <a:pt x="123" y="720"/>
                  </a:lnTo>
                  <a:lnTo>
                    <a:pt x="117" y="613"/>
                  </a:lnTo>
                  <a:lnTo>
                    <a:pt x="109" y="504"/>
                  </a:lnTo>
                  <a:lnTo>
                    <a:pt x="94" y="392"/>
                  </a:lnTo>
                  <a:lnTo>
                    <a:pt x="78" y="288"/>
                  </a:lnTo>
                  <a:lnTo>
                    <a:pt x="61" y="182"/>
                  </a:lnTo>
                  <a:lnTo>
                    <a:pt x="38" y="86"/>
                  </a:lnTo>
                  <a:lnTo>
                    <a:pt x="30" y="60"/>
                  </a:lnTo>
                  <a:lnTo>
                    <a:pt x="153" y="0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138480" y="3671640"/>
              <a:ext cx="26640" cy="328320"/>
            </a:xfrm>
            <a:custGeom>
              <a:avLst/>
              <a:gdLst/>
              <a:ahLst/>
              <a:rect l="l" t="t" r="r" b="b"/>
              <a:pathLst>
                <a:path w="223" h="1638">
                  <a:moveTo>
                    <a:pt x="153" y="0"/>
                  </a:moveTo>
                  <a:lnTo>
                    <a:pt x="169" y="95"/>
                  </a:lnTo>
                  <a:lnTo>
                    <a:pt x="185" y="193"/>
                  </a:lnTo>
                  <a:lnTo>
                    <a:pt x="198" y="305"/>
                  </a:lnTo>
                  <a:lnTo>
                    <a:pt x="209" y="398"/>
                  </a:lnTo>
                  <a:lnTo>
                    <a:pt x="215" y="506"/>
                  </a:lnTo>
                  <a:lnTo>
                    <a:pt x="220" y="598"/>
                  </a:lnTo>
                  <a:lnTo>
                    <a:pt x="223" y="716"/>
                  </a:lnTo>
                  <a:lnTo>
                    <a:pt x="221" y="834"/>
                  </a:lnTo>
                  <a:lnTo>
                    <a:pt x="217" y="954"/>
                  </a:lnTo>
                  <a:lnTo>
                    <a:pt x="213" y="1049"/>
                  </a:lnTo>
                  <a:lnTo>
                    <a:pt x="206" y="1133"/>
                  </a:lnTo>
                  <a:lnTo>
                    <a:pt x="194" y="1238"/>
                  </a:lnTo>
                  <a:lnTo>
                    <a:pt x="182" y="1334"/>
                  </a:lnTo>
                  <a:lnTo>
                    <a:pt x="165" y="1441"/>
                  </a:lnTo>
                  <a:lnTo>
                    <a:pt x="145" y="1541"/>
                  </a:lnTo>
                  <a:lnTo>
                    <a:pt x="122" y="1638"/>
                  </a:lnTo>
                  <a:lnTo>
                    <a:pt x="0" y="1582"/>
                  </a:lnTo>
                  <a:lnTo>
                    <a:pt x="22" y="1519"/>
                  </a:lnTo>
                  <a:lnTo>
                    <a:pt x="41" y="1418"/>
                  </a:lnTo>
                  <a:lnTo>
                    <a:pt x="57" y="1321"/>
                  </a:lnTo>
                  <a:lnTo>
                    <a:pt x="70" y="1206"/>
                  </a:lnTo>
                  <a:lnTo>
                    <a:pt x="81" y="1101"/>
                  </a:lnTo>
                  <a:lnTo>
                    <a:pt x="89" y="998"/>
                  </a:lnTo>
                  <a:lnTo>
                    <a:pt x="93" y="893"/>
                  </a:lnTo>
                  <a:lnTo>
                    <a:pt x="97" y="810"/>
                  </a:lnTo>
                  <a:lnTo>
                    <a:pt x="94" y="700"/>
                  </a:lnTo>
                  <a:lnTo>
                    <a:pt x="91" y="585"/>
                  </a:lnTo>
                  <a:lnTo>
                    <a:pt x="85" y="478"/>
                  </a:lnTo>
                  <a:lnTo>
                    <a:pt x="77" y="369"/>
                  </a:lnTo>
                  <a:lnTo>
                    <a:pt x="62" y="257"/>
                  </a:lnTo>
                  <a:lnTo>
                    <a:pt x="46" y="153"/>
                  </a:lnTo>
                  <a:lnTo>
                    <a:pt x="26" y="5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08240" y="3696840"/>
              <a:ext cx="22320" cy="278640"/>
            </a:xfrm>
            <a:custGeom>
              <a:avLst/>
              <a:gdLst/>
              <a:ahLst/>
              <a:rect l="l" t="t" r="r" b="b"/>
              <a:pathLst>
                <a:path w="190" h="1387">
                  <a:moveTo>
                    <a:pt x="134" y="0"/>
                  </a:moveTo>
                  <a:lnTo>
                    <a:pt x="153" y="75"/>
                  </a:lnTo>
                  <a:lnTo>
                    <a:pt x="166" y="187"/>
                  </a:lnTo>
                  <a:lnTo>
                    <a:pt x="177" y="280"/>
                  </a:lnTo>
                  <a:lnTo>
                    <a:pt x="182" y="388"/>
                  </a:lnTo>
                  <a:lnTo>
                    <a:pt x="188" y="480"/>
                  </a:lnTo>
                  <a:lnTo>
                    <a:pt x="190" y="598"/>
                  </a:lnTo>
                  <a:lnTo>
                    <a:pt x="189" y="716"/>
                  </a:lnTo>
                  <a:lnTo>
                    <a:pt x="185" y="836"/>
                  </a:lnTo>
                  <a:lnTo>
                    <a:pt x="181" y="931"/>
                  </a:lnTo>
                  <a:lnTo>
                    <a:pt x="174" y="1015"/>
                  </a:lnTo>
                  <a:lnTo>
                    <a:pt x="162" y="1120"/>
                  </a:lnTo>
                  <a:lnTo>
                    <a:pt x="150" y="1216"/>
                  </a:lnTo>
                  <a:lnTo>
                    <a:pt x="133" y="1323"/>
                  </a:lnTo>
                  <a:lnTo>
                    <a:pt x="125" y="1387"/>
                  </a:lnTo>
                  <a:lnTo>
                    <a:pt x="0" y="1331"/>
                  </a:lnTo>
                  <a:lnTo>
                    <a:pt x="8" y="1300"/>
                  </a:lnTo>
                  <a:lnTo>
                    <a:pt x="25" y="1203"/>
                  </a:lnTo>
                  <a:lnTo>
                    <a:pt x="38" y="1088"/>
                  </a:lnTo>
                  <a:lnTo>
                    <a:pt x="49" y="983"/>
                  </a:lnTo>
                  <a:lnTo>
                    <a:pt x="57" y="880"/>
                  </a:lnTo>
                  <a:lnTo>
                    <a:pt x="61" y="775"/>
                  </a:lnTo>
                  <a:lnTo>
                    <a:pt x="65" y="692"/>
                  </a:lnTo>
                  <a:lnTo>
                    <a:pt x="62" y="582"/>
                  </a:lnTo>
                  <a:lnTo>
                    <a:pt x="59" y="467"/>
                  </a:lnTo>
                  <a:lnTo>
                    <a:pt x="53" y="360"/>
                  </a:lnTo>
                  <a:lnTo>
                    <a:pt x="45" y="251"/>
                  </a:lnTo>
                  <a:lnTo>
                    <a:pt x="30" y="139"/>
                  </a:lnTo>
                  <a:lnTo>
                    <a:pt x="6" y="5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78360" y="3715560"/>
              <a:ext cx="21600" cy="237600"/>
            </a:xfrm>
            <a:custGeom>
              <a:avLst/>
              <a:gdLst/>
              <a:ahLst/>
              <a:rect l="l" t="t" r="r" b="b"/>
              <a:pathLst>
                <a:path w="182" h="1184">
                  <a:moveTo>
                    <a:pt x="149" y="0"/>
                  </a:moveTo>
                  <a:lnTo>
                    <a:pt x="161" y="68"/>
                  </a:lnTo>
                  <a:lnTo>
                    <a:pt x="168" y="147"/>
                  </a:lnTo>
                  <a:lnTo>
                    <a:pt x="178" y="261"/>
                  </a:lnTo>
                  <a:lnTo>
                    <a:pt x="179" y="348"/>
                  </a:lnTo>
                  <a:lnTo>
                    <a:pt x="182" y="466"/>
                  </a:lnTo>
                  <a:lnTo>
                    <a:pt x="180" y="584"/>
                  </a:lnTo>
                  <a:lnTo>
                    <a:pt x="176" y="704"/>
                  </a:lnTo>
                  <a:lnTo>
                    <a:pt x="172" y="799"/>
                  </a:lnTo>
                  <a:lnTo>
                    <a:pt x="165" y="883"/>
                  </a:lnTo>
                  <a:lnTo>
                    <a:pt x="153" y="988"/>
                  </a:lnTo>
                  <a:lnTo>
                    <a:pt x="141" y="1084"/>
                  </a:lnTo>
                  <a:lnTo>
                    <a:pt x="124" y="1184"/>
                  </a:lnTo>
                  <a:lnTo>
                    <a:pt x="0" y="1123"/>
                  </a:lnTo>
                  <a:lnTo>
                    <a:pt x="16" y="1071"/>
                  </a:lnTo>
                  <a:lnTo>
                    <a:pt x="29" y="955"/>
                  </a:lnTo>
                  <a:lnTo>
                    <a:pt x="40" y="851"/>
                  </a:lnTo>
                  <a:lnTo>
                    <a:pt x="48" y="748"/>
                  </a:lnTo>
                  <a:lnTo>
                    <a:pt x="52" y="642"/>
                  </a:lnTo>
                  <a:lnTo>
                    <a:pt x="56" y="559"/>
                  </a:lnTo>
                  <a:lnTo>
                    <a:pt x="53" y="450"/>
                  </a:lnTo>
                  <a:lnTo>
                    <a:pt x="53" y="333"/>
                  </a:lnTo>
                  <a:lnTo>
                    <a:pt x="49" y="225"/>
                  </a:lnTo>
                  <a:lnTo>
                    <a:pt x="36" y="119"/>
                  </a:lnTo>
                  <a:lnTo>
                    <a:pt x="21" y="6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48120" y="3743280"/>
              <a:ext cx="18000" cy="185040"/>
            </a:xfrm>
            <a:custGeom>
              <a:avLst/>
              <a:gdLst/>
              <a:ahLst/>
              <a:rect l="l" t="t" r="r" b="b"/>
              <a:pathLst>
                <a:path w="153" h="925">
                  <a:moveTo>
                    <a:pt x="129" y="0"/>
                  </a:moveTo>
                  <a:lnTo>
                    <a:pt x="141" y="80"/>
                  </a:lnTo>
                  <a:lnTo>
                    <a:pt x="145" y="167"/>
                  </a:lnTo>
                  <a:lnTo>
                    <a:pt x="151" y="259"/>
                  </a:lnTo>
                  <a:lnTo>
                    <a:pt x="153" y="377"/>
                  </a:lnTo>
                  <a:lnTo>
                    <a:pt x="152" y="495"/>
                  </a:lnTo>
                  <a:lnTo>
                    <a:pt x="148" y="615"/>
                  </a:lnTo>
                  <a:lnTo>
                    <a:pt x="144" y="710"/>
                  </a:lnTo>
                  <a:lnTo>
                    <a:pt x="137" y="794"/>
                  </a:lnTo>
                  <a:lnTo>
                    <a:pt x="136" y="879"/>
                  </a:lnTo>
                  <a:lnTo>
                    <a:pt x="132" y="925"/>
                  </a:lnTo>
                  <a:lnTo>
                    <a:pt x="0" y="857"/>
                  </a:lnTo>
                  <a:lnTo>
                    <a:pt x="12" y="762"/>
                  </a:lnTo>
                  <a:lnTo>
                    <a:pt x="20" y="659"/>
                  </a:lnTo>
                  <a:lnTo>
                    <a:pt x="24" y="554"/>
                  </a:lnTo>
                  <a:lnTo>
                    <a:pt x="28" y="471"/>
                  </a:lnTo>
                  <a:lnTo>
                    <a:pt x="29" y="349"/>
                  </a:lnTo>
                  <a:lnTo>
                    <a:pt x="25" y="245"/>
                  </a:lnTo>
                  <a:lnTo>
                    <a:pt x="16" y="139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16800" y="3767400"/>
              <a:ext cx="16920" cy="134640"/>
            </a:xfrm>
            <a:custGeom>
              <a:avLst/>
              <a:gdLst/>
              <a:ahLst/>
              <a:rect l="l" t="t" r="r" b="b"/>
              <a:pathLst>
                <a:path w="145" h="673">
                  <a:moveTo>
                    <a:pt x="129" y="0"/>
                  </a:moveTo>
                  <a:lnTo>
                    <a:pt x="143" y="123"/>
                  </a:lnTo>
                  <a:lnTo>
                    <a:pt x="145" y="241"/>
                  </a:lnTo>
                  <a:lnTo>
                    <a:pt x="144" y="359"/>
                  </a:lnTo>
                  <a:lnTo>
                    <a:pt x="140" y="479"/>
                  </a:lnTo>
                  <a:lnTo>
                    <a:pt x="136" y="574"/>
                  </a:lnTo>
                  <a:lnTo>
                    <a:pt x="120" y="673"/>
                  </a:lnTo>
                  <a:lnTo>
                    <a:pt x="0" y="617"/>
                  </a:lnTo>
                  <a:lnTo>
                    <a:pt x="12" y="523"/>
                  </a:lnTo>
                  <a:lnTo>
                    <a:pt x="16" y="418"/>
                  </a:lnTo>
                  <a:lnTo>
                    <a:pt x="20" y="335"/>
                  </a:lnTo>
                  <a:lnTo>
                    <a:pt x="17" y="213"/>
                  </a:lnTo>
                  <a:lnTo>
                    <a:pt x="14" y="110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87640" y="3787920"/>
              <a:ext cx="16200" cy="90000"/>
            </a:xfrm>
            <a:custGeom>
              <a:avLst/>
              <a:gdLst/>
              <a:ahLst/>
              <a:rect l="l" t="t" r="r" b="b"/>
              <a:pathLst>
                <a:path w="138" h="450">
                  <a:moveTo>
                    <a:pt x="135" y="66"/>
                  </a:moveTo>
                  <a:lnTo>
                    <a:pt x="138" y="181"/>
                  </a:lnTo>
                  <a:lnTo>
                    <a:pt x="136" y="295"/>
                  </a:lnTo>
                  <a:lnTo>
                    <a:pt x="130" y="394"/>
                  </a:lnTo>
                  <a:lnTo>
                    <a:pt x="121" y="450"/>
                  </a:lnTo>
                  <a:lnTo>
                    <a:pt x="0" y="398"/>
                  </a:lnTo>
                  <a:lnTo>
                    <a:pt x="8" y="277"/>
                  </a:lnTo>
                  <a:lnTo>
                    <a:pt x="9" y="166"/>
                  </a:lnTo>
                  <a:lnTo>
                    <a:pt x="9" y="61"/>
                  </a:lnTo>
                  <a:lnTo>
                    <a:pt x="130" y="0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2050920" y="4581360"/>
            <a:ext cx="289080" cy="484200"/>
            <a:chOff x="2050920" y="4581360"/>
            <a:chExt cx="289080" cy="484200"/>
          </a:xfrm>
        </p:grpSpPr>
        <p:sp>
          <p:nvSpPr>
            <p:cNvPr id="1086" name=""/>
            <p:cNvSpPr/>
            <p:nvPr/>
          </p:nvSpPr>
          <p:spPr>
            <a:xfrm>
              <a:off x="2297880" y="4581360"/>
              <a:ext cx="42120" cy="484200"/>
            </a:xfrm>
            <a:custGeom>
              <a:avLst/>
              <a:gdLst/>
              <a:ahLst/>
              <a:rect l="l" t="t" r="r" b="b"/>
              <a:pathLst>
                <a:path w="355" h="2415">
                  <a:moveTo>
                    <a:pt x="177" y="0"/>
                  </a:moveTo>
                  <a:lnTo>
                    <a:pt x="193" y="56"/>
                  </a:lnTo>
                  <a:lnTo>
                    <a:pt x="221" y="147"/>
                  </a:lnTo>
                  <a:lnTo>
                    <a:pt x="245" y="228"/>
                  </a:lnTo>
                  <a:lnTo>
                    <a:pt x="265" y="312"/>
                  </a:lnTo>
                  <a:lnTo>
                    <a:pt x="285" y="396"/>
                  </a:lnTo>
                  <a:lnTo>
                    <a:pt x="301" y="491"/>
                  </a:lnTo>
                  <a:lnTo>
                    <a:pt x="318" y="589"/>
                  </a:lnTo>
                  <a:lnTo>
                    <a:pt x="331" y="701"/>
                  </a:lnTo>
                  <a:lnTo>
                    <a:pt x="342" y="794"/>
                  </a:lnTo>
                  <a:lnTo>
                    <a:pt x="347" y="902"/>
                  </a:lnTo>
                  <a:lnTo>
                    <a:pt x="352" y="994"/>
                  </a:lnTo>
                  <a:lnTo>
                    <a:pt x="355" y="1112"/>
                  </a:lnTo>
                  <a:lnTo>
                    <a:pt x="354" y="1230"/>
                  </a:lnTo>
                  <a:lnTo>
                    <a:pt x="350" y="1350"/>
                  </a:lnTo>
                  <a:lnTo>
                    <a:pt x="346" y="1445"/>
                  </a:lnTo>
                  <a:lnTo>
                    <a:pt x="339" y="1529"/>
                  </a:lnTo>
                  <a:lnTo>
                    <a:pt x="327" y="1634"/>
                  </a:lnTo>
                  <a:lnTo>
                    <a:pt x="315" y="1730"/>
                  </a:lnTo>
                  <a:lnTo>
                    <a:pt x="297" y="1837"/>
                  </a:lnTo>
                  <a:lnTo>
                    <a:pt x="277" y="1937"/>
                  </a:lnTo>
                  <a:lnTo>
                    <a:pt x="255" y="2034"/>
                  </a:lnTo>
                  <a:lnTo>
                    <a:pt x="233" y="2122"/>
                  </a:lnTo>
                  <a:lnTo>
                    <a:pt x="202" y="2216"/>
                  </a:lnTo>
                  <a:lnTo>
                    <a:pt x="170" y="2303"/>
                  </a:lnTo>
                  <a:lnTo>
                    <a:pt x="134" y="2392"/>
                  </a:lnTo>
                  <a:lnTo>
                    <a:pt x="125" y="2415"/>
                  </a:lnTo>
                  <a:lnTo>
                    <a:pt x="0" y="2359"/>
                  </a:lnTo>
                  <a:lnTo>
                    <a:pt x="36" y="2291"/>
                  </a:lnTo>
                  <a:lnTo>
                    <a:pt x="73" y="2206"/>
                  </a:lnTo>
                  <a:lnTo>
                    <a:pt x="102" y="2118"/>
                  </a:lnTo>
                  <a:lnTo>
                    <a:pt x="126" y="2023"/>
                  </a:lnTo>
                  <a:lnTo>
                    <a:pt x="154" y="1915"/>
                  </a:lnTo>
                  <a:lnTo>
                    <a:pt x="173" y="1814"/>
                  </a:lnTo>
                  <a:lnTo>
                    <a:pt x="189" y="1717"/>
                  </a:lnTo>
                  <a:lnTo>
                    <a:pt x="202" y="1602"/>
                  </a:lnTo>
                  <a:lnTo>
                    <a:pt x="213" y="1497"/>
                  </a:lnTo>
                  <a:lnTo>
                    <a:pt x="221" y="1394"/>
                  </a:lnTo>
                  <a:lnTo>
                    <a:pt x="225" y="1289"/>
                  </a:lnTo>
                  <a:lnTo>
                    <a:pt x="229" y="1206"/>
                  </a:lnTo>
                  <a:lnTo>
                    <a:pt x="227" y="1096"/>
                  </a:lnTo>
                  <a:lnTo>
                    <a:pt x="224" y="981"/>
                  </a:lnTo>
                  <a:lnTo>
                    <a:pt x="217" y="874"/>
                  </a:lnTo>
                  <a:lnTo>
                    <a:pt x="209" y="765"/>
                  </a:lnTo>
                  <a:lnTo>
                    <a:pt x="194" y="653"/>
                  </a:lnTo>
                  <a:lnTo>
                    <a:pt x="178" y="549"/>
                  </a:lnTo>
                  <a:lnTo>
                    <a:pt x="161" y="443"/>
                  </a:lnTo>
                  <a:lnTo>
                    <a:pt x="138" y="347"/>
                  </a:lnTo>
                  <a:lnTo>
                    <a:pt x="110" y="240"/>
                  </a:lnTo>
                  <a:lnTo>
                    <a:pt x="81" y="147"/>
                  </a:lnTo>
                  <a:lnTo>
                    <a:pt x="49" y="6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65840" y="4608720"/>
              <a:ext cx="35640" cy="431280"/>
            </a:xfrm>
            <a:custGeom>
              <a:avLst/>
              <a:gdLst/>
              <a:ahLst/>
              <a:rect l="l" t="t" r="r" b="b"/>
              <a:pathLst>
                <a:path w="299" h="2151">
                  <a:moveTo>
                    <a:pt x="161" y="0"/>
                  </a:moveTo>
                  <a:lnTo>
                    <a:pt x="189" y="91"/>
                  </a:lnTo>
                  <a:lnTo>
                    <a:pt x="209" y="175"/>
                  </a:lnTo>
                  <a:lnTo>
                    <a:pt x="229" y="259"/>
                  </a:lnTo>
                  <a:lnTo>
                    <a:pt x="245" y="354"/>
                  </a:lnTo>
                  <a:lnTo>
                    <a:pt x="261" y="452"/>
                  </a:lnTo>
                  <a:lnTo>
                    <a:pt x="275" y="564"/>
                  </a:lnTo>
                  <a:lnTo>
                    <a:pt x="285" y="657"/>
                  </a:lnTo>
                  <a:lnTo>
                    <a:pt x="291" y="765"/>
                  </a:lnTo>
                  <a:lnTo>
                    <a:pt x="296" y="857"/>
                  </a:lnTo>
                  <a:lnTo>
                    <a:pt x="299" y="975"/>
                  </a:lnTo>
                  <a:lnTo>
                    <a:pt x="297" y="1093"/>
                  </a:lnTo>
                  <a:lnTo>
                    <a:pt x="293" y="1213"/>
                  </a:lnTo>
                  <a:lnTo>
                    <a:pt x="289" y="1308"/>
                  </a:lnTo>
                  <a:lnTo>
                    <a:pt x="283" y="1392"/>
                  </a:lnTo>
                  <a:lnTo>
                    <a:pt x="271" y="1497"/>
                  </a:lnTo>
                  <a:lnTo>
                    <a:pt x="259" y="1593"/>
                  </a:lnTo>
                  <a:lnTo>
                    <a:pt x="241" y="1700"/>
                  </a:lnTo>
                  <a:lnTo>
                    <a:pt x="221" y="1800"/>
                  </a:lnTo>
                  <a:lnTo>
                    <a:pt x="198" y="1897"/>
                  </a:lnTo>
                  <a:lnTo>
                    <a:pt x="177" y="1985"/>
                  </a:lnTo>
                  <a:lnTo>
                    <a:pt x="146" y="2079"/>
                  </a:lnTo>
                  <a:lnTo>
                    <a:pt x="121" y="2151"/>
                  </a:lnTo>
                  <a:lnTo>
                    <a:pt x="0" y="2089"/>
                  </a:lnTo>
                  <a:lnTo>
                    <a:pt x="16" y="2069"/>
                  </a:lnTo>
                  <a:lnTo>
                    <a:pt x="46" y="1981"/>
                  </a:lnTo>
                  <a:lnTo>
                    <a:pt x="70" y="1886"/>
                  </a:lnTo>
                  <a:lnTo>
                    <a:pt x="98" y="1778"/>
                  </a:lnTo>
                  <a:lnTo>
                    <a:pt x="117" y="1677"/>
                  </a:lnTo>
                  <a:lnTo>
                    <a:pt x="133" y="1580"/>
                  </a:lnTo>
                  <a:lnTo>
                    <a:pt x="146" y="1465"/>
                  </a:lnTo>
                  <a:lnTo>
                    <a:pt x="157" y="1360"/>
                  </a:lnTo>
                  <a:lnTo>
                    <a:pt x="165" y="1257"/>
                  </a:lnTo>
                  <a:lnTo>
                    <a:pt x="169" y="1152"/>
                  </a:lnTo>
                  <a:lnTo>
                    <a:pt x="173" y="1069"/>
                  </a:lnTo>
                  <a:lnTo>
                    <a:pt x="170" y="959"/>
                  </a:lnTo>
                  <a:lnTo>
                    <a:pt x="168" y="844"/>
                  </a:lnTo>
                  <a:lnTo>
                    <a:pt x="161" y="737"/>
                  </a:lnTo>
                  <a:lnTo>
                    <a:pt x="153" y="628"/>
                  </a:lnTo>
                  <a:lnTo>
                    <a:pt x="138" y="516"/>
                  </a:lnTo>
                  <a:lnTo>
                    <a:pt x="122" y="412"/>
                  </a:lnTo>
                  <a:lnTo>
                    <a:pt x="105" y="306"/>
                  </a:lnTo>
                  <a:lnTo>
                    <a:pt x="82" y="210"/>
                  </a:lnTo>
                  <a:lnTo>
                    <a:pt x="54" y="103"/>
                  </a:lnTo>
                  <a:lnTo>
                    <a:pt x="32" y="5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232720" y="4633560"/>
              <a:ext cx="30240" cy="378720"/>
            </a:xfrm>
            <a:custGeom>
              <a:avLst/>
              <a:gdLst/>
              <a:ahLst/>
              <a:rect l="l" t="t" r="r" b="b"/>
              <a:pathLst>
                <a:path w="255" h="1889">
                  <a:moveTo>
                    <a:pt x="165" y="51"/>
                  </a:moveTo>
                  <a:lnTo>
                    <a:pt x="185" y="135"/>
                  </a:lnTo>
                  <a:lnTo>
                    <a:pt x="201" y="230"/>
                  </a:lnTo>
                  <a:lnTo>
                    <a:pt x="217" y="328"/>
                  </a:lnTo>
                  <a:lnTo>
                    <a:pt x="231" y="440"/>
                  </a:lnTo>
                  <a:lnTo>
                    <a:pt x="241" y="533"/>
                  </a:lnTo>
                  <a:lnTo>
                    <a:pt x="247" y="641"/>
                  </a:lnTo>
                  <a:lnTo>
                    <a:pt x="252" y="733"/>
                  </a:lnTo>
                  <a:lnTo>
                    <a:pt x="255" y="851"/>
                  </a:lnTo>
                  <a:lnTo>
                    <a:pt x="253" y="983"/>
                  </a:lnTo>
                  <a:lnTo>
                    <a:pt x="249" y="1089"/>
                  </a:lnTo>
                  <a:lnTo>
                    <a:pt x="245" y="1184"/>
                  </a:lnTo>
                  <a:lnTo>
                    <a:pt x="239" y="1268"/>
                  </a:lnTo>
                  <a:lnTo>
                    <a:pt x="227" y="1373"/>
                  </a:lnTo>
                  <a:lnTo>
                    <a:pt x="214" y="1469"/>
                  </a:lnTo>
                  <a:lnTo>
                    <a:pt x="197" y="1576"/>
                  </a:lnTo>
                  <a:lnTo>
                    <a:pt x="177" y="1676"/>
                  </a:lnTo>
                  <a:lnTo>
                    <a:pt x="154" y="1773"/>
                  </a:lnTo>
                  <a:lnTo>
                    <a:pt x="133" y="1861"/>
                  </a:lnTo>
                  <a:lnTo>
                    <a:pt x="121" y="1889"/>
                  </a:lnTo>
                  <a:lnTo>
                    <a:pt x="0" y="1833"/>
                  </a:lnTo>
                  <a:lnTo>
                    <a:pt x="26" y="1762"/>
                  </a:lnTo>
                  <a:lnTo>
                    <a:pt x="54" y="1654"/>
                  </a:lnTo>
                  <a:lnTo>
                    <a:pt x="73" y="1553"/>
                  </a:lnTo>
                  <a:lnTo>
                    <a:pt x="89" y="1456"/>
                  </a:lnTo>
                  <a:lnTo>
                    <a:pt x="102" y="1341"/>
                  </a:lnTo>
                  <a:lnTo>
                    <a:pt x="113" y="1236"/>
                  </a:lnTo>
                  <a:lnTo>
                    <a:pt x="121" y="1133"/>
                  </a:lnTo>
                  <a:lnTo>
                    <a:pt x="125" y="1028"/>
                  </a:lnTo>
                  <a:lnTo>
                    <a:pt x="129" y="945"/>
                  </a:lnTo>
                  <a:lnTo>
                    <a:pt x="126" y="835"/>
                  </a:lnTo>
                  <a:lnTo>
                    <a:pt x="123" y="720"/>
                  </a:lnTo>
                  <a:lnTo>
                    <a:pt x="117" y="613"/>
                  </a:lnTo>
                  <a:lnTo>
                    <a:pt x="109" y="504"/>
                  </a:lnTo>
                  <a:lnTo>
                    <a:pt x="94" y="392"/>
                  </a:lnTo>
                  <a:lnTo>
                    <a:pt x="78" y="288"/>
                  </a:lnTo>
                  <a:lnTo>
                    <a:pt x="61" y="182"/>
                  </a:lnTo>
                  <a:lnTo>
                    <a:pt x="38" y="86"/>
                  </a:lnTo>
                  <a:lnTo>
                    <a:pt x="30" y="60"/>
                  </a:lnTo>
                  <a:lnTo>
                    <a:pt x="153" y="0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1760" y="4658760"/>
              <a:ext cx="26640" cy="328320"/>
            </a:xfrm>
            <a:custGeom>
              <a:avLst/>
              <a:gdLst/>
              <a:ahLst/>
              <a:rect l="l" t="t" r="r" b="b"/>
              <a:pathLst>
                <a:path w="223" h="1638">
                  <a:moveTo>
                    <a:pt x="153" y="0"/>
                  </a:moveTo>
                  <a:lnTo>
                    <a:pt x="169" y="95"/>
                  </a:lnTo>
                  <a:lnTo>
                    <a:pt x="185" y="193"/>
                  </a:lnTo>
                  <a:lnTo>
                    <a:pt x="198" y="305"/>
                  </a:lnTo>
                  <a:lnTo>
                    <a:pt x="209" y="398"/>
                  </a:lnTo>
                  <a:lnTo>
                    <a:pt x="215" y="506"/>
                  </a:lnTo>
                  <a:lnTo>
                    <a:pt x="220" y="598"/>
                  </a:lnTo>
                  <a:lnTo>
                    <a:pt x="223" y="716"/>
                  </a:lnTo>
                  <a:lnTo>
                    <a:pt x="221" y="834"/>
                  </a:lnTo>
                  <a:lnTo>
                    <a:pt x="217" y="954"/>
                  </a:lnTo>
                  <a:lnTo>
                    <a:pt x="213" y="1049"/>
                  </a:lnTo>
                  <a:lnTo>
                    <a:pt x="206" y="1133"/>
                  </a:lnTo>
                  <a:lnTo>
                    <a:pt x="194" y="1238"/>
                  </a:lnTo>
                  <a:lnTo>
                    <a:pt x="182" y="1334"/>
                  </a:lnTo>
                  <a:lnTo>
                    <a:pt x="165" y="1441"/>
                  </a:lnTo>
                  <a:lnTo>
                    <a:pt x="145" y="1541"/>
                  </a:lnTo>
                  <a:lnTo>
                    <a:pt x="122" y="1638"/>
                  </a:lnTo>
                  <a:lnTo>
                    <a:pt x="0" y="1582"/>
                  </a:lnTo>
                  <a:lnTo>
                    <a:pt x="22" y="1519"/>
                  </a:lnTo>
                  <a:lnTo>
                    <a:pt x="41" y="1418"/>
                  </a:lnTo>
                  <a:lnTo>
                    <a:pt x="57" y="1321"/>
                  </a:lnTo>
                  <a:lnTo>
                    <a:pt x="70" y="1206"/>
                  </a:lnTo>
                  <a:lnTo>
                    <a:pt x="81" y="1101"/>
                  </a:lnTo>
                  <a:lnTo>
                    <a:pt x="89" y="998"/>
                  </a:lnTo>
                  <a:lnTo>
                    <a:pt x="93" y="893"/>
                  </a:lnTo>
                  <a:lnTo>
                    <a:pt x="97" y="810"/>
                  </a:lnTo>
                  <a:lnTo>
                    <a:pt x="94" y="700"/>
                  </a:lnTo>
                  <a:lnTo>
                    <a:pt x="91" y="585"/>
                  </a:lnTo>
                  <a:lnTo>
                    <a:pt x="85" y="478"/>
                  </a:lnTo>
                  <a:lnTo>
                    <a:pt x="77" y="369"/>
                  </a:lnTo>
                  <a:lnTo>
                    <a:pt x="62" y="257"/>
                  </a:lnTo>
                  <a:lnTo>
                    <a:pt x="46" y="153"/>
                  </a:lnTo>
                  <a:lnTo>
                    <a:pt x="26" y="5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71520" y="4683960"/>
              <a:ext cx="22320" cy="278640"/>
            </a:xfrm>
            <a:custGeom>
              <a:avLst/>
              <a:gdLst/>
              <a:ahLst/>
              <a:rect l="l" t="t" r="r" b="b"/>
              <a:pathLst>
                <a:path w="190" h="1387">
                  <a:moveTo>
                    <a:pt x="134" y="0"/>
                  </a:moveTo>
                  <a:lnTo>
                    <a:pt x="153" y="75"/>
                  </a:lnTo>
                  <a:lnTo>
                    <a:pt x="166" y="187"/>
                  </a:lnTo>
                  <a:lnTo>
                    <a:pt x="177" y="280"/>
                  </a:lnTo>
                  <a:lnTo>
                    <a:pt x="182" y="388"/>
                  </a:lnTo>
                  <a:lnTo>
                    <a:pt x="188" y="480"/>
                  </a:lnTo>
                  <a:lnTo>
                    <a:pt x="190" y="598"/>
                  </a:lnTo>
                  <a:lnTo>
                    <a:pt x="189" y="716"/>
                  </a:lnTo>
                  <a:lnTo>
                    <a:pt x="185" y="836"/>
                  </a:lnTo>
                  <a:lnTo>
                    <a:pt x="181" y="931"/>
                  </a:lnTo>
                  <a:lnTo>
                    <a:pt x="174" y="1015"/>
                  </a:lnTo>
                  <a:lnTo>
                    <a:pt x="162" y="1120"/>
                  </a:lnTo>
                  <a:lnTo>
                    <a:pt x="150" y="1216"/>
                  </a:lnTo>
                  <a:lnTo>
                    <a:pt x="133" y="1323"/>
                  </a:lnTo>
                  <a:lnTo>
                    <a:pt x="125" y="1387"/>
                  </a:lnTo>
                  <a:lnTo>
                    <a:pt x="0" y="1331"/>
                  </a:lnTo>
                  <a:lnTo>
                    <a:pt x="8" y="1300"/>
                  </a:lnTo>
                  <a:lnTo>
                    <a:pt x="25" y="1203"/>
                  </a:lnTo>
                  <a:lnTo>
                    <a:pt x="38" y="1088"/>
                  </a:lnTo>
                  <a:lnTo>
                    <a:pt x="49" y="983"/>
                  </a:lnTo>
                  <a:lnTo>
                    <a:pt x="57" y="880"/>
                  </a:lnTo>
                  <a:lnTo>
                    <a:pt x="61" y="775"/>
                  </a:lnTo>
                  <a:lnTo>
                    <a:pt x="65" y="692"/>
                  </a:lnTo>
                  <a:lnTo>
                    <a:pt x="62" y="582"/>
                  </a:lnTo>
                  <a:lnTo>
                    <a:pt x="59" y="467"/>
                  </a:lnTo>
                  <a:lnTo>
                    <a:pt x="53" y="360"/>
                  </a:lnTo>
                  <a:lnTo>
                    <a:pt x="45" y="251"/>
                  </a:lnTo>
                  <a:lnTo>
                    <a:pt x="30" y="139"/>
                  </a:lnTo>
                  <a:lnTo>
                    <a:pt x="6" y="5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41640" y="4702680"/>
              <a:ext cx="21600" cy="237600"/>
            </a:xfrm>
            <a:custGeom>
              <a:avLst/>
              <a:gdLst/>
              <a:ahLst/>
              <a:rect l="l" t="t" r="r" b="b"/>
              <a:pathLst>
                <a:path w="182" h="1184">
                  <a:moveTo>
                    <a:pt x="149" y="0"/>
                  </a:moveTo>
                  <a:lnTo>
                    <a:pt x="161" y="68"/>
                  </a:lnTo>
                  <a:lnTo>
                    <a:pt x="168" y="147"/>
                  </a:lnTo>
                  <a:lnTo>
                    <a:pt x="178" y="261"/>
                  </a:lnTo>
                  <a:lnTo>
                    <a:pt x="179" y="348"/>
                  </a:lnTo>
                  <a:lnTo>
                    <a:pt x="182" y="466"/>
                  </a:lnTo>
                  <a:lnTo>
                    <a:pt x="180" y="584"/>
                  </a:lnTo>
                  <a:lnTo>
                    <a:pt x="176" y="704"/>
                  </a:lnTo>
                  <a:lnTo>
                    <a:pt x="172" y="799"/>
                  </a:lnTo>
                  <a:lnTo>
                    <a:pt x="165" y="883"/>
                  </a:lnTo>
                  <a:lnTo>
                    <a:pt x="153" y="988"/>
                  </a:lnTo>
                  <a:lnTo>
                    <a:pt x="141" y="1084"/>
                  </a:lnTo>
                  <a:lnTo>
                    <a:pt x="124" y="1184"/>
                  </a:lnTo>
                  <a:lnTo>
                    <a:pt x="0" y="1123"/>
                  </a:lnTo>
                  <a:lnTo>
                    <a:pt x="16" y="1071"/>
                  </a:lnTo>
                  <a:lnTo>
                    <a:pt x="29" y="955"/>
                  </a:lnTo>
                  <a:lnTo>
                    <a:pt x="40" y="851"/>
                  </a:lnTo>
                  <a:lnTo>
                    <a:pt x="48" y="748"/>
                  </a:lnTo>
                  <a:lnTo>
                    <a:pt x="52" y="642"/>
                  </a:lnTo>
                  <a:lnTo>
                    <a:pt x="56" y="559"/>
                  </a:lnTo>
                  <a:lnTo>
                    <a:pt x="53" y="450"/>
                  </a:lnTo>
                  <a:lnTo>
                    <a:pt x="53" y="333"/>
                  </a:lnTo>
                  <a:lnTo>
                    <a:pt x="49" y="225"/>
                  </a:lnTo>
                  <a:lnTo>
                    <a:pt x="36" y="119"/>
                  </a:lnTo>
                  <a:lnTo>
                    <a:pt x="21" y="6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11400" y="4730400"/>
              <a:ext cx="18000" cy="185040"/>
            </a:xfrm>
            <a:custGeom>
              <a:avLst/>
              <a:gdLst/>
              <a:ahLst/>
              <a:rect l="l" t="t" r="r" b="b"/>
              <a:pathLst>
                <a:path w="153" h="925">
                  <a:moveTo>
                    <a:pt x="129" y="0"/>
                  </a:moveTo>
                  <a:lnTo>
                    <a:pt x="141" y="80"/>
                  </a:lnTo>
                  <a:lnTo>
                    <a:pt x="145" y="167"/>
                  </a:lnTo>
                  <a:lnTo>
                    <a:pt x="151" y="259"/>
                  </a:lnTo>
                  <a:lnTo>
                    <a:pt x="153" y="377"/>
                  </a:lnTo>
                  <a:lnTo>
                    <a:pt x="152" y="495"/>
                  </a:lnTo>
                  <a:lnTo>
                    <a:pt x="148" y="615"/>
                  </a:lnTo>
                  <a:lnTo>
                    <a:pt x="144" y="710"/>
                  </a:lnTo>
                  <a:lnTo>
                    <a:pt x="137" y="794"/>
                  </a:lnTo>
                  <a:lnTo>
                    <a:pt x="136" y="879"/>
                  </a:lnTo>
                  <a:lnTo>
                    <a:pt x="132" y="925"/>
                  </a:lnTo>
                  <a:lnTo>
                    <a:pt x="0" y="857"/>
                  </a:lnTo>
                  <a:lnTo>
                    <a:pt x="12" y="762"/>
                  </a:lnTo>
                  <a:lnTo>
                    <a:pt x="20" y="659"/>
                  </a:lnTo>
                  <a:lnTo>
                    <a:pt x="24" y="554"/>
                  </a:lnTo>
                  <a:lnTo>
                    <a:pt x="28" y="471"/>
                  </a:lnTo>
                  <a:lnTo>
                    <a:pt x="29" y="349"/>
                  </a:lnTo>
                  <a:lnTo>
                    <a:pt x="25" y="245"/>
                  </a:lnTo>
                  <a:lnTo>
                    <a:pt x="16" y="139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80080" y="4754520"/>
              <a:ext cx="16920" cy="134640"/>
            </a:xfrm>
            <a:custGeom>
              <a:avLst/>
              <a:gdLst/>
              <a:ahLst/>
              <a:rect l="l" t="t" r="r" b="b"/>
              <a:pathLst>
                <a:path w="145" h="673">
                  <a:moveTo>
                    <a:pt x="129" y="0"/>
                  </a:moveTo>
                  <a:lnTo>
                    <a:pt x="143" y="123"/>
                  </a:lnTo>
                  <a:lnTo>
                    <a:pt x="145" y="241"/>
                  </a:lnTo>
                  <a:lnTo>
                    <a:pt x="144" y="359"/>
                  </a:lnTo>
                  <a:lnTo>
                    <a:pt x="140" y="479"/>
                  </a:lnTo>
                  <a:lnTo>
                    <a:pt x="136" y="574"/>
                  </a:lnTo>
                  <a:lnTo>
                    <a:pt x="120" y="673"/>
                  </a:lnTo>
                  <a:lnTo>
                    <a:pt x="0" y="617"/>
                  </a:lnTo>
                  <a:lnTo>
                    <a:pt x="12" y="523"/>
                  </a:lnTo>
                  <a:lnTo>
                    <a:pt x="16" y="418"/>
                  </a:lnTo>
                  <a:lnTo>
                    <a:pt x="20" y="335"/>
                  </a:lnTo>
                  <a:lnTo>
                    <a:pt x="17" y="213"/>
                  </a:lnTo>
                  <a:lnTo>
                    <a:pt x="14" y="110"/>
                  </a:lnTo>
                  <a:lnTo>
                    <a:pt x="5" y="5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50920" y="4775040"/>
              <a:ext cx="16200" cy="90000"/>
            </a:xfrm>
            <a:custGeom>
              <a:avLst/>
              <a:gdLst/>
              <a:ahLst/>
              <a:rect l="l" t="t" r="r" b="b"/>
              <a:pathLst>
                <a:path w="138" h="450">
                  <a:moveTo>
                    <a:pt x="135" y="66"/>
                  </a:moveTo>
                  <a:lnTo>
                    <a:pt x="138" y="181"/>
                  </a:lnTo>
                  <a:lnTo>
                    <a:pt x="136" y="295"/>
                  </a:lnTo>
                  <a:lnTo>
                    <a:pt x="130" y="394"/>
                  </a:lnTo>
                  <a:lnTo>
                    <a:pt x="121" y="450"/>
                  </a:lnTo>
                  <a:lnTo>
                    <a:pt x="0" y="398"/>
                  </a:lnTo>
                  <a:lnTo>
                    <a:pt x="8" y="277"/>
                  </a:lnTo>
                  <a:lnTo>
                    <a:pt x="9" y="166"/>
                  </a:lnTo>
                  <a:lnTo>
                    <a:pt x="9" y="61"/>
                  </a:lnTo>
                  <a:lnTo>
                    <a:pt x="130" y="0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3130560" y="5734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STER2-PLM  00:10:5a:e7:b1: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ôle : Domain Controler et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39640" y="2349360"/>
            <a:ext cx="3384720" cy="3816360"/>
          </a:xfrm>
          <a:custGeom>
            <a:avLst/>
            <a:gdLst/>
            <a:ahLst/>
            <a:rect l="l" t="t" r="r" b="b"/>
            <a:pathLst>
              <a:path w="2767" h="2722">
                <a:moveTo>
                  <a:pt x="1497" y="2722"/>
                </a:moveTo>
                <a:lnTo>
                  <a:pt x="0" y="2722"/>
                </a:lnTo>
                <a:lnTo>
                  <a:pt x="0" y="0"/>
                </a:lnTo>
                <a:lnTo>
                  <a:pt x="2767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5"/>
          <a:stretch/>
        </p:blipFill>
        <p:spPr>
          <a:xfrm flipH="1" rot="21177600">
            <a:off x="6587640" y="2349000"/>
            <a:ext cx="1401840" cy="12528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6815160" y="27241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43280" y="2349360"/>
            <a:ext cx="2016360" cy="358920"/>
          </a:xfrm>
          <a:custGeom>
            <a:avLst/>
            <a:gdLst/>
            <a:ahLst/>
            <a:rect l="l" t="t" r="r" b="b"/>
            <a:pathLst>
              <a:path w="816" h="544">
                <a:moveTo>
                  <a:pt x="0" y="0"/>
                </a:moveTo>
                <a:lnTo>
                  <a:pt x="227" y="0"/>
                </a:lnTo>
                <a:lnTo>
                  <a:pt x="227" y="544"/>
                </a:lnTo>
                <a:lnTo>
                  <a:pt x="816" y="5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580000" y="2637000"/>
            <a:ext cx="503280" cy="142560"/>
          </a:xfrm>
          <a:prstGeom prst="rect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36640" y="14842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1103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5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7827120" y="6467400"/>
            <a:ext cx="9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 BE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1480" y="6445080"/>
            <a:ext cx="7714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age 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 : OUE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68360" y="1844640"/>
            <a:ext cx="792000" cy="792000"/>
            <a:chOff x="2268360" y="1844640"/>
            <a:chExt cx="792000" cy="792000"/>
          </a:xfrm>
        </p:grpSpPr>
        <p:grpSp>
          <p:nvGrpSpPr>
            <p:cNvPr id="1111" name=""/>
            <p:cNvGrpSpPr/>
            <p:nvPr/>
          </p:nvGrpSpPr>
          <p:grpSpPr>
            <a:xfrm>
              <a:off x="2268360" y="2043360"/>
              <a:ext cx="612720" cy="593280"/>
              <a:chOff x="2268360" y="2043360"/>
              <a:chExt cx="612720" cy="593280"/>
            </a:xfrm>
          </p:grpSpPr>
          <p:pic>
            <p:nvPicPr>
              <p:cNvPr id="1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2343240"/>
                <a:ext cx="61272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2693160" y="204336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2745360" y="1844640"/>
              <a:ext cx="315000" cy="385560"/>
              <a:chOff x="2745360" y="1844640"/>
              <a:chExt cx="315000" cy="385560"/>
            </a:xfrm>
          </p:grpSpPr>
          <p:sp>
            <p:nvSpPr>
              <p:cNvPr id="1115" name=""/>
              <p:cNvSpPr/>
              <p:nvPr/>
            </p:nvSpPr>
            <p:spPr>
              <a:xfrm>
                <a:off x="3014280" y="184464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79720" y="18666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43360" y="188604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909880" y="19062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876760" y="192636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44000" y="194112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811240" y="19634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777400" y="198252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745360" y="199872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2316960" y="1848960"/>
              <a:ext cx="324000" cy="387000"/>
              <a:chOff x="2316960" y="1848960"/>
              <a:chExt cx="324000" cy="387000"/>
            </a:xfrm>
          </p:grpSpPr>
          <p:sp>
            <p:nvSpPr>
              <p:cNvPr id="1125" name=""/>
              <p:cNvSpPr/>
              <p:nvPr/>
            </p:nvSpPr>
            <p:spPr>
              <a:xfrm rot="10662000">
                <a:off x="2324520" y="18493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0662000">
                <a:off x="2365920" y="18680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0662000">
                <a:off x="2408400" y="18889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0662000">
                <a:off x="2445840" y="19076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0662000">
                <a:off x="2483280" y="19256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0662000">
                <a:off x="2517120" y="19422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0662000">
                <a:off x="2553480" y="196056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0662000">
                <a:off x="2589120" y="19800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0662000">
                <a:off x="2621520" y="19980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"/>
          <p:cNvSpPr/>
          <p:nvPr/>
        </p:nvSpPr>
        <p:spPr>
          <a:xfrm>
            <a:off x="2340000" y="27082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175280" y="3429000"/>
            <a:ext cx="792000" cy="791280"/>
            <a:chOff x="4175280" y="3429000"/>
            <a:chExt cx="792000" cy="791280"/>
          </a:xfrm>
        </p:grpSpPr>
        <p:grpSp>
          <p:nvGrpSpPr>
            <p:cNvPr id="1136" name=""/>
            <p:cNvGrpSpPr/>
            <p:nvPr/>
          </p:nvGrpSpPr>
          <p:grpSpPr>
            <a:xfrm>
              <a:off x="4175280" y="3627720"/>
              <a:ext cx="612360" cy="592560"/>
              <a:chOff x="4175280" y="3627720"/>
              <a:chExt cx="612360" cy="592560"/>
            </a:xfrm>
          </p:grpSpPr>
          <p:pic>
            <p:nvPicPr>
              <p:cNvPr id="1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75280" y="392724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"/>
              <p:cNvSpPr/>
              <p:nvPr/>
            </p:nvSpPr>
            <p:spPr>
              <a:xfrm>
                <a:off x="4599720" y="362772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652280" y="3429000"/>
              <a:ext cx="315000" cy="385560"/>
              <a:chOff x="4652280" y="3429000"/>
              <a:chExt cx="315000" cy="3855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921200" y="34290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86640" y="34509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50280" y="34704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16800" y="34905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783680" y="3510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50920" y="35254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718160" y="35478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84320" y="35668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652280" y="3583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4223880" y="3433320"/>
              <a:ext cx="324000" cy="387000"/>
              <a:chOff x="4223880" y="3433320"/>
              <a:chExt cx="324000" cy="387000"/>
            </a:xfrm>
          </p:grpSpPr>
          <p:sp>
            <p:nvSpPr>
              <p:cNvPr id="1150" name=""/>
              <p:cNvSpPr/>
              <p:nvPr/>
            </p:nvSpPr>
            <p:spPr>
              <a:xfrm rot="10662000">
                <a:off x="4231440" y="34336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0662000">
                <a:off x="4272840" y="34524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0662000">
                <a:off x="4315320" y="34732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0662000">
                <a:off x="4352760" y="34920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0662000">
                <a:off x="4390200" y="3510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10662000">
                <a:off x="4424040" y="35265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0662000">
                <a:off x="4460400" y="35449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0662000">
                <a:off x="4496040" y="35643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0662000">
                <a:off x="4528440" y="3582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"/>
          <p:cNvSpPr/>
          <p:nvPr/>
        </p:nvSpPr>
        <p:spPr>
          <a:xfrm>
            <a:off x="3132000" y="198900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c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d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01:e6:94:a5:12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239800" y="380376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51:59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1162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7827120" y="6467400"/>
            <a:ext cx="9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 BE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41480" y="6445080"/>
            <a:ext cx="7714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age 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 : OUE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2195640" y="1555920"/>
            <a:ext cx="792000" cy="791280"/>
            <a:chOff x="2195640" y="1555920"/>
            <a:chExt cx="792000" cy="791280"/>
          </a:xfrm>
        </p:grpSpPr>
        <p:grpSp>
          <p:nvGrpSpPr>
            <p:cNvPr id="1170" name=""/>
            <p:cNvGrpSpPr/>
            <p:nvPr/>
          </p:nvGrpSpPr>
          <p:grpSpPr>
            <a:xfrm>
              <a:off x="2195640" y="1754640"/>
              <a:ext cx="612360" cy="592560"/>
              <a:chOff x="2195640" y="1754640"/>
              <a:chExt cx="612360" cy="592560"/>
            </a:xfrm>
          </p:grpSpPr>
          <p:pic>
            <p:nvPicPr>
              <p:cNvPr id="1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5640" y="205416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>
                <a:off x="2620080" y="175464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672640" y="1555920"/>
              <a:ext cx="315000" cy="385560"/>
              <a:chOff x="2672640" y="1555920"/>
              <a:chExt cx="315000" cy="385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2941560" y="15559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07000" y="15778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870640" y="15973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37160" y="16174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804040" y="16376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771280" y="16524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38520" y="16747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704680" y="16938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672640" y="17100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2244240" y="1560240"/>
              <a:ext cx="324000" cy="387000"/>
              <a:chOff x="2244240" y="1560240"/>
              <a:chExt cx="324000" cy="387000"/>
            </a:xfrm>
          </p:grpSpPr>
          <p:sp>
            <p:nvSpPr>
              <p:cNvPr id="1184" name=""/>
              <p:cNvSpPr/>
              <p:nvPr/>
            </p:nvSpPr>
            <p:spPr>
              <a:xfrm rot="10662000">
                <a:off x="2251800" y="15606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0662000">
                <a:off x="2293200" y="15793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0662000">
                <a:off x="2335680" y="16002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0662000">
                <a:off x="2373120" y="16189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0662000">
                <a:off x="2410560" y="16369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0662000">
                <a:off x="2444400" y="16534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0662000">
                <a:off x="2480760" y="16718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0662000">
                <a:off x="2516400" y="16912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0662000">
                <a:off x="2548800" y="17092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"/>
          <p:cNvSpPr/>
          <p:nvPr/>
        </p:nvSpPr>
        <p:spPr>
          <a:xfrm>
            <a:off x="2266920" y="241920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3564000" y="3032280"/>
            <a:ext cx="792000" cy="791280"/>
            <a:chOff x="3564000" y="3032280"/>
            <a:chExt cx="792000" cy="791280"/>
          </a:xfrm>
        </p:grpSpPr>
        <p:grpSp>
          <p:nvGrpSpPr>
            <p:cNvPr id="1195" name=""/>
            <p:cNvGrpSpPr/>
            <p:nvPr/>
          </p:nvGrpSpPr>
          <p:grpSpPr>
            <a:xfrm>
              <a:off x="3564000" y="3231000"/>
              <a:ext cx="612360" cy="592560"/>
              <a:chOff x="3564000" y="3231000"/>
              <a:chExt cx="612360" cy="592560"/>
            </a:xfrm>
          </p:grpSpPr>
          <p:pic>
            <p:nvPicPr>
              <p:cNvPr id="11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64000" y="353052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7" name=""/>
              <p:cNvSpPr/>
              <p:nvPr/>
            </p:nvSpPr>
            <p:spPr>
              <a:xfrm>
                <a:off x="3988440" y="323100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4041000" y="3032280"/>
              <a:ext cx="315000" cy="385560"/>
              <a:chOff x="4041000" y="3032280"/>
              <a:chExt cx="315000" cy="385560"/>
            </a:xfrm>
          </p:grpSpPr>
          <p:sp>
            <p:nvSpPr>
              <p:cNvPr id="1199" name=""/>
              <p:cNvSpPr/>
              <p:nvPr/>
            </p:nvSpPr>
            <p:spPr>
              <a:xfrm>
                <a:off x="4309920" y="30322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275360" y="30542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239000" y="30736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205520" y="30938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172400" y="3114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139640" y="31287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106880" y="31510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73040" y="31701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041000" y="3186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612600" y="3036600"/>
              <a:ext cx="324000" cy="387000"/>
              <a:chOff x="3612600" y="3036600"/>
              <a:chExt cx="324000" cy="387000"/>
            </a:xfrm>
          </p:grpSpPr>
          <p:sp>
            <p:nvSpPr>
              <p:cNvPr id="1209" name=""/>
              <p:cNvSpPr/>
              <p:nvPr/>
            </p:nvSpPr>
            <p:spPr>
              <a:xfrm rot="10662000">
                <a:off x="3620160" y="30369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0662000">
                <a:off x="3661560" y="3055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0662000">
                <a:off x="3704040" y="30765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0662000">
                <a:off x="3741480" y="3095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0662000">
                <a:off x="3778920" y="31132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10662000">
                <a:off x="3812760" y="3129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0662000">
                <a:off x="3849120" y="31482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0662000">
                <a:off x="3884760" y="31676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0662000">
                <a:off x="3917160" y="31856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"/>
          <p:cNvGrpSpPr/>
          <p:nvPr/>
        </p:nvGrpSpPr>
        <p:grpSpPr>
          <a:xfrm>
            <a:off x="900000" y="3716280"/>
            <a:ext cx="792000" cy="792000"/>
            <a:chOff x="900000" y="3716280"/>
            <a:chExt cx="792000" cy="792000"/>
          </a:xfrm>
        </p:grpSpPr>
        <p:grpSp>
          <p:nvGrpSpPr>
            <p:cNvPr id="1219" name=""/>
            <p:cNvGrpSpPr/>
            <p:nvPr/>
          </p:nvGrpSpPr>
          <p:grpSpPr>
            <a:xfrm>
              <a:off x="900000" y="3915000"/>
              <a:ext cx="612720" cy="593280"/>
              <a:chOff x="900000" y="3915000"/>
              <a:chExt cx="612720" cy="593280"/>
            </a:xfrm>
          </p:grpSpPr>
          <p:pic>
            <p:nvPicPr>
              <p:cNvPr id="1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00" y="4214880"/>
                <a:ext cx="61272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1" name=""/>
              <p:cNvSpPr/>
              <p:nvPr/>
            </p:nvSpPr>
            <p:spPr>
              <a:xfrm>
                <a:off x="1324800" y="391500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1377000" y="3716280"/>
              <a:ext cx="315000" cy="385560"/>
              <a:chOff x="1377000" y="3716280"/>
              <a:chExt cx="315000" cy="385560"/>
            </a:xfrm>
          </p:grpSpPr>
          <p:sp>
            <p:nvSpPr>
              <p:cNvPr id="1223" name=""/>
              <p:cNvSpPr/>
              <p:nvPr/>
            </p:nvSpPr>
            <p:spPr>
              <a:xfrm>
                <a:off x="1645920" y="37162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611360" y="37382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575000" y="37576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541520" y="37778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508400" y="3798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475640" y="38127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442880" y="38350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409040" y="38541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377000" y="3870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948600" y="3720600"/>
              <a:ext cx="324000" cy="387000"/>
              <a:chOff x="948600" y="3720600"/>
              <a:chExt cx="324000" cy="387000"/>
            </a:xfrm>
          </p:grpSpPr>
          <p:sp>
            <p:nvSpPr>
              <p:cNvPr id="1233" name=""/>
              <p:cNvSpPr/>
              <p:nvPr/>
            </p:nvSpPr>
            <p:spPr>
              <a:xfrm rot="10662000">
                <a:off x="956160" y="37209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662000">
                <a:off x="997560" y="3739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662000">
                <a:off x="1040040" y="37605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0662000">
                <a:off x="1077480" y="3779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0662000">
                <a:off x="1114920" y="37972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0662000">
                <a:off x="1148760" y="3813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0662000">
                <a:off x="1185120" y="38322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0662000">
                <a:off x="1220760" y="38516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0662000">
                <a:off x="1253160" y="38696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2" name=""/>
          <p:cNvSpPr/>
          <p:nvPr/>
        </p:nvSpPr>
        <p:spPr>
          <a:xfrm>
            <a:off x="3059280" y="17002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c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d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01:e6:94:a5:12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639320" y="340668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51:59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037600" y="40752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51:3e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619280" y="5805360"/>
            <a:ext cx="792000" cy="792000"/>
            <a:chOff x="1619280" y="5805360"/>
            <a:chExt cx="792000" cy="792000"/>
          </a:xfrm>
        </p:grpSpPr>
        <p:grpSp>
          <p:nvGrpSpPr>
            <p:cNvPr id="1246" name=""/>
            <p:cNvGrpSpPr/>
            <p:nvPr/>
          </p:nvGrpSpPr>
          <p:grpSpPr>
            <a:xfrm>
              <a:off x="1619280" y="6004080"/>
              <a:ext cx="612360" cy="593280"/>
              <a:chOff x="1619280" y="6004080"/>
              <a:chExt cx="612360" cy="59328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19280" y="6303960"/>
                <a:ext cx="61236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"/>
              <p:cNvSpPr/>
              <p:nvPr/>
            </p:nvSpPr>
            <p:spPr>
              <a:xfrm>
                <a:off x="2043720" y="600408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2096280" y="5805360"/>
              <a:ext cx="315000" cy="385560"/>
              <a:chOff x="2096280" y="5805360"/>
              <a:chExt cx="315000" cy="385560"/>
            </a:xfrm>
          </p:grpSpPr>
          <p:sp>
            <p:nvSpPr>
              <p:cNvPr id="1250" name=""/>
              <p:cNvSpPr/>
              <p:nvPr/>
            </p:nvSpPr>
            <p:spPr>
              <a:xfrm>
                <a:off x="2365200" y="58053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330640" y="58273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294280" y="58467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260800" y="58669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227680" y="58870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194920" y="5901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162160" y="592416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128320" y="59432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096280" y="59594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1667880" y="5809680"/>
              <a:ext cx="324000" cy="387000"/>
              <a:chOff x="1667880" y="5809680"/>
              <a:chExt cx="324000" cy="387000"/>
            </a:xfrm>
          </p:grpSpPr>
          <p:sp>
            <p:nvSpPr>
              <p:cNvPr id="1260" name=""/>
              <p:cNvSpPr/>
              <p:nvPr/>
            </p:nvSpPr>
            <p:spPr>
              <a:xfrm rot="10662000">
                <a:off x="1675440" y="581004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10662000">
                <a:off x="1716840" y="58287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0662000">
                <a:off x="1759320" y="584964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0662000">
                <a:off x="1796760" y="58683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0662000">
                <a:off x="1834200" y="588636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0662000">
                <a:off x="1868040" y="590292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0662000">
                <a:off x="1904400" y="59212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0662000">
                <a:off x="1940040" y="594072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0662000">
                <a:off x="1972440" y="595872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9" name=""/>
          <p:cNvSpPr/>
          <p:nvPr/>
        </p:nvSpPr>
        <p:spPr>
          <a:xfrm>
            <a:off x="2814840" y="623736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2f:85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708360" y="4869000"/>
            <a:ext cx="792000" cy="791280"/>
            <a:chOff x="3708360" y="4869000"/>
            <a:chExt cx="792000" cy="791280"/>
          </a:xfrm>
        </p:grpSpPr>
        <p:grpSp>
          <p:nvGrpSpPr>
            <p:cNvPr id="1271" name=""/>
            <p:cNvGrpSpPr/>
            <p:nvPr/>
          </p:nvGrpSpPr>
          <p:grpSpPr>
            <a:xfrm>
              <a:off x="3708360" y="5067720"/>
              <a:ext cx="612720" cy="592560"/>
              <a:chOff x="3708360" y="5067720"/>
              <a:chExt cx="612720" cy="592560"/>
            </a:xfrm>
          </p:grpSpPr>
          <p:pic>
            <p:nvPicPr>
              <p:cNvPr id="12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5367240"/>
                <a:ext cx="61272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3" name=""/>
              <p:cNvSpPr/>
              <p:nvPr/>
            </p:nvSpPr>
            <p:spPr>
              <a:xfrm>
                <a:off x="4133160" y="506772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4185360" y="4869000"/>
              <a:ext cx="315000" cy="385560"/>
              <a:chOff x="4185360" y="4869000"/>
              <a:chExt cx="315000" cy="385560"/>
            </a:xfrm>
          </p:grpSpPr>
          <p:sp>
            <p:nvSpPr>
              <p:cNvPr id="1275" name=""/>
              <p:cNvSpPr/>
              <p:nvPr/>
            </p:nvSpPr>
            <p:spPr>
              <a:xfrm>
                <a:off x="4454280" y="48690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419720" y="48909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383360" y="49104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349880" y="49305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316760" y="4950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284000" y="49654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251240" y="49878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217400" y="50068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185360" y="5023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3756960" y="4873320"/>
              <a:ext cx="324000" cy="387000"/>
              <a:chOff x="3756960" y="4873320"/>
              <a:chExt cx="324000" cy="387000"/>
            </a:xfrm>
          </p:grpSpPr>
          <p:sp>
            <p:nvSpPr>
              <p:cNvPr id="1285" name=""/>
              <p:cNvSpPr/>
              <p:nvPr/>
            </p:nvSpPr>
            <p:spPr>
              <a:xfrm rot="10662000">
                <a:off x="3764520" y="48736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0662000">
                <a:off x="3805920" y="48924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0662000">
                <a:off x="3848400" y="49132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0662000">
                <a:off x="3885840" y="49320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0662000">
                <a:off x="3923280" y="4950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0662000">
                <a:off x="3957120" y="49665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0662000">
                <a:off x="3993480" y="49849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0662000">
                <a:off x="4029120" y="50043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0662000">
                <a:off x="4061520" y="5022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4" name=""/>
          <p:cNvSpPr/>
          <p:nvPr/>
        </p:nvSpPr>
        <p:spPr>
          <a:xfrm>
            <a:off x="4818600" y="5227560"/>
            <a:ext cx="31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2f:a1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1296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8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7827120" y="6467400"/>
            <a:ext cx="9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 BE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 : OUE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195640" y="1555920"/>
            <a:ext cx="792000" cy="791280"/>
            <a:chOff x="2195640" y="1555920"/>
            <a:chExt cx="792000" cy="791280"/>
          </a:xfrm>
        </p:grpSpPr>
        <p:grpSp>
          <p:nvGrpSpPr>
            <p:cNvPr id="1303" name=""/>
            <p:cNvGrpSpPr/>
            <p:nvPr/>
          </p:nvGrpSpPr>
          <p:grpSpPr>
            <a:xfrm>
              <a:off x="2195640" y="1754640"/>
              <a:ext cx="612360" cy="592560"/>
              <a:chOff x="2195640" y="1754640"/>
              <a:chExt cx="612360" cy="592560"/>
            </a:xfrm>
          </p:grpSpPr>
          <p:pic>
            <p:nvPicPr>
              <p:cNvPr id="1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5640" y="205416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"/>
              <p:cNvSpPr/>
              <p:nvPr/>
            </p:nvSpPr>
            <p:spPr>
              <a:xfrm>
                <a:off x="2620080" y="175464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672640" y="1555920"/>
              <a:ext cx="315000" cy="385560"/>
              <a:chOff x="2672640" y="1555920"/>
              <a:chExt cx="315000" cy="3855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41560" y="15559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907000" y="15778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0640" y="15973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37160" y="16174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04040" y="16376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771280" y="16524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738520" y="16747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04680" y="16938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672640" y="17100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2244240" y="1560240"/>
              <a:ext cx="324000" cy="387000"/>
              <a:chOff x="2244240" y="1560240"/>
              <a:chExt cx="324000" cy="387000"/>
            </a:xfrm>
          </p:grpSpPr>
          <p:sp>
            <p:nvSpPr>
              <p:cNvPr id="1317" name=""/>
              <p:cNvSpPr/>
              <p:nvPr/>
            </p:nvSpPr>
            <p:spPr>
              <a:xfrm rot="10662000">
                <a:off x="2251800" y="15606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0662000">
                <a:off x="2293200" y="15793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0662000">
                <a:off x="2335680" y="16002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0662000">
                <a:off x="2373120" y="16189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0662000">
                <a:off x="2410560" y="16369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0662000">
                <a:off x="2444400" y="16534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0662000">
                <a:off x="2480760" y="16718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0662000">
                <a:off x="2516400" y="16912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10662000">
                <a:off x="2548800" y="17092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6" name=""/>
          <p:cNvSpPr/>
          <p:nvPr/>
        </p:nvSpPr>
        <p:spPr>
          <a:xfrm>
            <a:off x="2266920" y="241920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564000" y="3032280"/>
            <a:ext cx="792000" cy="791280"/>
            <a:chOff x="3564000" y="3032280"/>
            <a:chExt cx="792000" cy="791280"/>
          </a:xfrm>
        </p:grpSpPr>
        <p:grpSp>
          <p:nvGrpSpPr>
            <p:cNvPr id="1328" name=""/>
            <p:cNvGrpSpPr/>
            <p:nvPr/>
          </p:nvGrpSpPr>
          <p:grpSpPr>
            <a:xfrm>
              <a:off x="3564000" y="3231000"/>
              <a:ext cx="612360" cy="592560"/>
              <a:chOff x="3564000" y="3231000"/>
              <a:chExt cx="612360" cy="592560"/>
            </a:xfrm>
          </p:grpSpPr>
          <p:pic>
            <p:nvPicPr>
              <p:cNvPr id="13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64000" y="353052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0" name=""/>
              <p:cNvSpPr/>
              <p:nvPr/>
            </p:nvSpPr>
            <p:spPr>
              <a:xfrm>
                <a:off x="3988440" y="323100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041000" y="3032280"/>
              <a:ext cx="315000" cy="385560"/>
              <a:chOff x="4041000" y="3032280"/>
              <a:chExt cx="315000" cy="385560"/>
            </a:xfrm>
          </p:grpSpPr>
          <p:sp>
            <p:nvSpPr>
              <p:cNvPr id="1332" name=""/>
              <p:cNvSpPr/>
              <p:nvPr/>
            </p:nvSpPr>
            <p:spPr>
              <a:xfrm>
                <a:off x="4309920" y="30322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275360" y="30542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239000" y="30736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205520" y="30938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172400" y="3114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139640" y="31287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106880" y="31510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073040" y="31701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041000" y="3186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3612600" y="3036600"/>
              <a:ext cx="324000" cy="387000"/>
              <a:chOff x="3612600" y="3036600"/>
              <a:chExt cx="324000" cy="387000"/>
            </a:xfrm>
          </p:grpSpPr>
          <p:sp>
            <p:nvSpPr>
              <p:cNvPr id="1342" name=""/>
              <p:cNvSpPr/>
              <p:nvPr/>
            </p:nvSpPr>
            <p:spPr>
              <a:xfrm rot="10662000">
                <a:off x="3620160" y="30369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0662000">
                <a:off x="3661560" y="3055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0662000">
                <a:off x="3704040" y="30765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0662000">
                <a:off x="3741480" y="3095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0662000">
                <a:off x="3778920" y="31132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0662000">
                <a:off x="3812760" y="3129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0662000">
                <a:off x="3849120" y="31482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0662000">
                <a:off x="3884760" y="31676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0662000">
                <a:off x="3917160" y="31856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1" name=""/>
          <p:cNvGrpSpPr/>
          <p:nvPr/>
        </p:nvGrpSpPr>
        <p:grpSpPr>
          <a:xfrm>
            <a:off x="898560" y="3790800"/>
            <a:ext cx="792000" cy="792000"/>
            <a:chOff x="898560" y="3790800"/>
            <a:chExt cx="792000" cy="792000"/>
          </a:xfrm>
        </p:grpSpPr>
        <p:grpSp>
          <p:nvGrpSpPr>
            <p:cNvPr id="1352" name=""/>
            <p:cNvGrpSpPr/>
            <p:nvPr/>
          </p:nvGrpSpPr>
          <p:grpSpPr>
            <a:xfrm>
              <a:off x="898560" y="3989520"/>
              <a:ext cx="612360" cy="593280"/>
              <a:chOff x="898560" y="3989520"/>
              <a:chExt cx="612360" cy="593280"/>
            </a:xfrm>
          </p:grpSpPr>
          <p:pic>
            <p:nvPicPr>
              <p:cNvPr id="13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98560" y="4289400"/>
                <a:ext cx="61236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4" name=""/>
              <p:cNvSpPr/>
              <p:nvPr/>
            </p:nvSpPr>
            <p:spPr>
              <a:xfrm>
                <a:off x="1323000" y="398952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1375560" y="3790800"/>
              <a:ext cx="315000" cy="385560"/>
              <a:chOff x="1375560" y="3790800"/>
              <a:chExt cx="315000" cy="385560"/>
            </a:xfrm>
          </p:grpSpPr>
          <p:sp>
            <p:nvSpPr>
              <p:cNvPr id="1356" name=""/>
              <p:cNvSpPr/>
              <p:nvPr/>
            </p:nvSpPr>
            <p:spPr>
              <a:xfrm>
                <a:off x="1644480" y="37908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609920" y="38127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573560" y="38322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540080" y="38523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506960" y="38725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474200" y="38872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441440" y="39096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07600" y="39286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375560" y="39448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947160" y="3795120"/>
              <a:ext cx="324000" cy="387000"/>
              <a:chOff x="947160" y="3795120"/>
              <a:chExt cx="324000" cy="387000"/>
            </a:xfrm>
          </p:grpSpPr>
          <p:sp>
            <p:nvSpPr>
              <p:cNvPr id="1366" name=""/>
              <p:cNvSpPr/>
              <p:nvPr/>
            </p:nvSpPr>
            <p:spPr>
              <a:xfrm rot="10662000">
                <a:off x="954720" y="37954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0662000">
                <a:off x="996120" y="38142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0662000">
                <a:off x="1038600" y="38350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0662000">
                <a:off x="1076040" y="38538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0662000">
                <a:off x="1113480" y="38718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0662000">
                <a:off x="1147320" y="38883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0662000">
                <a:off x="1183680" y="39067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0662000">
                <a:off x="1219320" y="39261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0662000">
                <a:off x="1251720" y="39441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"/>
          <p:cNvSpPr/>
          <p:nvPr/>
        </p:nvSpPr>
        <p:spPr>
          <a:xfrm>
            <a:off x="3059280" y="17002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c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20:a6:49:85:ad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00:01:e6:94:a5:12 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39320" y="340668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51:59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036160" y="414972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51:3e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708360" y="4869000"/>
            <a:ext cx="792000" cy="791280"/>
            <a:chOff x="3708360" y="4869000"/>
            <a:chExt cx="792000" cy="791280"/>
          </a:xfrm>
        </p:grpSpPr>
        <p:grpSp>
          <p:nvGrpSpPr>
            <p:cNvPr id="1379" name=""/>
            <p:cNvGrpSpPr/>
            <p:nvPr/>
          </p:nvGrpSpPr>
          <p:grpSpPr>
            <a:xfrm>
              <a:off x="3708360" y="5067720"/>
              <a:ext cx="612720" cy="592560"/>
              <a:chOff x="3708360" y="5067720"/>
              <a:chExt cx="612720" cy="59256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8360" y="5367240"/>
                <a:ext cx="61272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1" name=""/>
              <p:cNvSpPr/>
              <p:nvPr/>
            </p:nvSpPr>
            <p:spPr>
              <a:xfrm>
                <a:off x="4133160" y="506772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4185360" y="4869000"/>
              <a:ext cx="315000" cy="385560"/>
              <a:chOff x="4185360" y="4869000"/>
              <a:chExt cx="315000" cy="385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4454280" y="48690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19720" y="48909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83360" y="49104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49880" y="49305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316760" y="4950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000" y="49654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240" y="49878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17400" y="50068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185360" y="5023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3756960" y="4873320"/>
              <a:ext cx="324000" cy="387000"/>
              <a:chOff x="3756960" y="4873320"/>
              <a:chExt cx="324000" cy="387000"/>
            </a:xfrm>
          </p:grpSpPr>
          <p:sp>
            <p:nvSpPr>
              <p:cNvPr id="1393" name=""/>
              <p:cNvSpPr/>
              <p:nvPr/>
            </p:nvSpPr>
            <p:spPr>
              <a:xfrm rot="10662000">
                <a:off x="3764520" y="48736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0662000">
                <a:off x="3805920" y="48924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0662000">
                <a:off x="3848400" y="49132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0662000">
                <a:off x="3885840" y="49320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0662000">
                <a:off x="3923280" y="4950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0662000">
                <a:off x="3957120" y="49665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0662000">
                <a:off x="3993480" y="49849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0662000">
                <a:off x="4029120" y="50043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0662000">
                <a:off x="4061520" y="5022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2" name=""/>
          <p:cNvSpPr/>
          <p:nvPr/>
        </p:nvSpPr>
        <p:spPr>
          <a:xfrm>
            <a:off x="4818600" y="5227560"/>
            <a:ext cx="31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q 99:2f:a1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"/>
          <p:cNvGrpSpPr/>
          <p:nvPr/>
        </p:nvGrpSpPr>
        <p:grpSpPr>
          <a:xfrm>
            <a:off x="250920" y="260280"/>
            <a:ext cx="1598400" cy="1016640"/>
            <a:chOff x="250920" y="260280"/>
            <a:chExt cx="1598400" cy="1016640"/>
          </a:xfrm>
        </p:grpSpPr>
        <p:sp>
          <p:nvSpPr>
            <p:cNvPr id="1404" name=""/>
            <p:cNvSpPr/>
            <p:nvPr/>
          </p:nvSpPr>
          <p:spPr>
            <a:xfrm>
              <a:off x="250920" y="260280"/>
              <a:ext cx="1598400" cy="91404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3640" y="312480"/>
              <a:ext cx="1452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6" name="" descr=""/>
            <p:cNvPicPr/>
            <p:nvPr/>
          </p:nvPicPr>
          <p:blipFill>
            <a:blip r:embed="rId1"/>
            <a:stretch/>
          </p:blipFill>
          <p:spPr>
            <a:xfrm>
              <a:off x="323640" y="312480"/>
              <a:ext cx="14522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322200" y="801360"/>
              <a:ext cx="145044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b9b695"/>
                  </a:solidFill>
                  <a:latin typeface="Times New Roman"/>
                </a:rPr>
                <a:t>UNIVERSITE D’EV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b9b695"/>
                  </a:solidFill>
                  <a:latin typeface="Arial Narrow"/>
                </a:rPr>
                <a:t>VAL D’ESSON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7827120" y="6467400"/>
            <a:ext cx="9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 BE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1480" y="6445080"/>
            <a:ext cx="7714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age #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PT : 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340000" y="1268280"/>
            <a:ext cx="792000" cy="792000"/>
            <a:chOff x="2340000" y="1268280"/>
            <a:chExt cx="792000" cy="792000"/>
          </a:xfrm>
        </p:grpSpPr>
        <p:grpSp>
          <p:nvGrpSpPr>
            <p:cNvPr id="1412" name=""/>
            <p:cNvGrpSpPr/>
            <p:nvPr/>
          </p:nvGrpSpPr>
          <p:grpSpPr>
            <a:xfrm>
              <a:off x="2340000" y="1467000"/>
              <a:ext cx="612360" cy="593280"/>
              <a:chOff x="2340000" y="1467000"/>
              <a:chExt cx="612360" cy="593280"/>
            </a:xfrm>
          </p:grpSpPr>
          <p:pic>
            <p:nvPicPr>
              <p:cNvPr id="14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1766880"/>
                <a:ext cx="61236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4" name=""/>
              <p:cNvSpPr/>
              <p:nvPr/>
            </p:nvSpPr>
            <p:spPr>
              <a:xfrm>
                <a:off x="2764440" y="146700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2817000" y="1268280"/>
              <a:ext cx="315000" cy="385560"/>
              <a:chOff x="2817000" y="1268280"/>
              <a:chExt cx="315000" cy="385560"/>
            </a:xfrm>
          </p:grpSpPr>
          <p:sp>
            <p:nvSpPr>
              <p:cNvPr id="1416" name=""/>
              <p:cNvSpPr/>
              <p:nvPr/>
            </p:nvSpPr>
            <p:spPr>
              <a:xfrm>
                <a:off x="3085920" y="12682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051360" y="12902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015000" y="13096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981520" y="13298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948400" y="13500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915640" y="13647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82880" y="13870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49040" y="14061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817000" y="14223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2388600" y="1272600"/>
              <a:ext cx="324000" cy="387000"/>
              <a:chOff x="2388600" y="1272600"/>
              <a:chExt cx="324000" cy="387000"/>
            </a:xfrm>
          </p:grpSpPr>
          <p:sp>
            <p:nvSpPr>
              <p:cNvPr id="1426" name=""/>
              <p:cNvSpPr/>
              <p:nvPr/>
            </p:nvSpPr>
            <p:spPr>
              <a:xfrm rot="10662000">
                <a:off x="2396160" y="12729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0662000">
                <a:off x="2437560" y="1291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0662000">
                <a:off x="2480040" y="13125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0662000">
                <a:off x="2517480" y="1331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0662000">
                <a:off x="2554920" y="13492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0662000">
                <a:off x="2588760" y="1365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0662000">
                <a:off x="2625120" y="13842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0662000">
                <a:off x="2660760" y="14036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0662000">
                <a:off x="2693160" y="14216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5" name=""/>
          <p:cNvSpPr/>
          <p:nvPr/>
        </p:nvSpPr>
        <p:spPr>
          <a:xfrm>
            <a:off x="2394000" y="190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3546360" y="1830240"/>
            <a:ext cx="792000" cy="792000"/>
            <a:chOff x="3546360" y="1830240"/>
            <a:chExt cx="792000" cy="792000"/>
          </a:xfrm>
        </p:grpSpPr>
        <p:grpSp>
          <p:nvGrpSpPr>
            <p:cNvPr id="1437" name=""/>
            <p:cNvGrpSpPr/>
            <p:nvPr/>
          </p:nvGrpSpPr>
          <p:grpSpPr>
            <a:xfrm>
              <a:off x="3546360" y="2028960"/>
              <a:ext cx="612720" cy="593280"/>
              <a:chOff x="3546360" y="2028960"/>
              <a:chExt cx="612720" cy="593280"/>
            </a:xfrm>
          </p:grpSpPr>
          <p:pic>
            <p:nvPicPr>
              <p:cNvPr id="14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6360" y="2328840"/>
                <a:ext cx="61272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9" name=""/>
              <p:cNvSpPr/>
              <p:nvPr/>
            </p:nvSpPr>
            <p:spPr>
              <a:xfrm>
                <a:off x="3971160" y="202896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4023360" y="1830240"/>
              <a:ext cx="315000" cy="385560"/>
              <a:chOff x="4023360" y="1830240"/>
              <a:chExt cx="315000" cy="385560"/>
            </a:xfrm>
          </p:grpSpPr>
          <p:sp>
            <p:nvSpPr>
              <p:cNvPr id="1441" name=""/>
              <p:cNvSpPr/>
              <p:nvPr/>
            </p:nvSpPr>
            <p:spPr>
              <a:xfrm>
                <a:off x="4292280" y="183024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257720" y="185220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221360" y="187164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187880" y="189180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154760" y="191196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22000" y="192672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089240" y="19490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55400" y="196812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023360" y="198432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3594960" y="1834560"/>
              <a:ext cx="324000" cy="387000"/>
              <a:chOff x="3594960" y="1834560"/>
              <a:chExt cx="324000" cy="387000"/>
            </a:xfrm>
          </p:grpSpPr>
          <p:sp>
            <p:nvSpPr>
              <p:cNvPr id="1451" name=""/>
              <p:cNvSpPr/>
              <p:nvPr/>
            </p:nvSpPr>
            <p:spPr>
              <a:xfrm rot="10662000">
                <a:off x="3602520" y="18349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0662000">
                <a:off x="3643920" y="18536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0662000">
                <a:off x="3686400" y="18745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0662000">
                <a:off x="3723840" y="18932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0662000">
                <a:off x="3761280" y="19112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0662000">
                <a:off x="3795120" y="19278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0662000">
                <a:off x="3831480" y="194616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0662000">
                <a:off x="3867120" y="19656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0662000">
                <a:off x="3899520" y="19836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1027080" y="2405160"/>
            <a:ext cx="792000" cy="791280"/>
            <a:chOff x="1027080" y="2405160"/>
            <a:chExt cx="792000" cy="791280"/>
          </a:xfrm>
        </p:grpSpPr>
        <p:grpSp>
          <p:nvGrpSpPr>
            <p:cNvPr id="1461" name=""/>
            <p:cNvGrpSpPr/>
            <p:nvPr/>
          </p:nvGrpSpPr>
          <p:grpSpPr>
            <a:xfrm>
              <a:off x="1027080" y="2603880"/>
              <a:ext cx="612720" cy="592560"/>
              <a:chOff x="1027080" y="2603880"/>
              <a:chExt cx="612720" cy="592560"/>
            </a:xfrm>
          </p:grpSpPr>
          <p:pic>
            <p:nvPicPr>
              <p:cNvPr id="14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7080" y="2903400"/>
                <a:ext cx="61272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3" name=""/>
              <p:cNvSpPr/>
              <p:nvPr/>
            </p:nvSpPr>
            <p:spPr>
              <a:xfrm>
                <a:off x="1451880" y="260388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1504080" y="2405160"/>
              <a:ext cx="315000" cy="385560"/>
              <a:chOff x="1504080" y="2405160"/>
              <a:chExt cx="315000" cy="385560"/>
            </a:xfrm>
          </p:grpSpPr>
          <p:sp>
            <p:nvSpPr>
              <p:cNvPr id="1465" name=""/>
              <p:cNvSpPr/>
              <p:nvPr/>
            </p:nvSpPr>
            <p:spPr>
              <a:xfrm>
                <a:off x="1773000" y="24051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8440" y="24271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02080" y="24465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668600" y="24667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635480" y="24868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602720" y="25016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569960" y="252396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536120" y="25430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504080" y="25592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1075680" y="2409480"/>
              <a:ext cx="324000" cy="387000"/>
              <a:chOff x="1075680" y="2409480"/>
              <a:chExt cx="324000" cy="387000"/>
            </a:xfrm>
          </p:grpSpPr>
          <p:sp>
            <p:nvSpPr>
              <p:cNvPr id="1475" name=""/>
              <p:cNvSpPr/>
              <p:nvPr/>
            </p:nvSpPr>
            <p:spPr>
              <a:xfrm rot="10662000">
                <a:off x="1083240" y="240984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10662000">
                <a:off x="1124640" y="24285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10662000">
                <a:off x="1167120" y="244944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10662000">
                <a:off x="1204560" y="24681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0662000">
                <a:off x="1242000" y="248616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0662000">
                <a:off x="1275840" y="250272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0662000">
                <a:off x="1312200" y="25210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0662000">
                <a:off x="1347840" y="254052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0662000">
                <a:off x="1380240" y="255852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4" name=""/>
          <p:cNvSpPr/>
          <p:nvPr/>
        </p:nvSpPr>
        <p:spPr>
          <a:xfrm>
            <a:off x="3203640" y="141300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gere 1b:39:cb     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605840" y="2205000"/>
            <a:ext cx="31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ironet b3:8a:e3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254680" y="2763720"/>
            <a:ext cx="40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NI:5b:’a:50 [dlink texas] 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971640" y="3573360"/>
            <a:ext cx="792000" cy="792000"/>
            <a:chOff x="971640" y="3573360"/>
            <a:chExt cx="792000" cy="792000"/>
          </a:xfrm>
        </p:grpSpPr>
        <p:grpSp>
          <p:nvGrpSpPr>
            <p:cNvPr id="1488" name=""/>
            <p:cNvGrpSpPr/>
            <p:nvPr/>
          </p:nvGrpSpPr>
          <p:grpSpPr>
            <a:xfrm>
              <a:off x="971640" y="3772080"/>
              <a:ext cx="612360" cy="593280"/>
              <a:chOff x="971640" y="3772080"/>
              <a:chExt cx="612360" cy="593280"/>
            </a:xfrm>
          </p:grpSpPr>
          <p:pic>
            <p:nvPicPr>
              <p:cNvPr id="14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71640" y="4071960"/>
                <a:ext cx="61236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0" name=""/>
              <p:cNvSpPr/>
              <p:nvPr/>
            </p:nvSpPr>
            <p:spPr>
              <a:xfrm>
                <a:off x="1396080" y="377208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448640" y="3573360"/>
              <a:ext cx="315000" cy="385560"/>
              <a:chOff x="1448640" y="3573360"/>
              <a:chExt cx="315000" cy="385560"/>
            </a:xfrm>
          </p:grpSpPr>
          <p:sp>
            <p:nvSpPr>
              <p:cNvPr id="1492" name=""/>
              <p:cNvSpPr/>
              <p:nvPr/>
            </p:nvSpPr>
            <p:spPr>
              <a:xfrm>
                <a:off x="1717560" y="35733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683000" y="35953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646640" y="36147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613160" y="36349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80040" y="36550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547280" y="36698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514520" y="369216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480680" y="37112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448640" y="37274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1020240" y="3577680"/>
              <a:ext cx="324000" cy="387000"/>
              <a:chOff x="1020240" y="3577680"/>
              <a:chExt cx="324000" cy="387000"/>
            </a:xfrm>
          </p:grpSpPr>
          <p:sp>
            <p:nvSpPr>
              <p:cNvPr id="1502" name=""/>
              <p:cNvSpPr/>
              <p:nvPr/>
            </p:nvSpPr>
            <p:spPr>
              <a:xfrm rot="10662000">
                <a:off x="1027800" y="357804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0662000">
                <a:off x="1069200" y="359676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0662000">
                <a:off x="1111680" y="361764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10662000">
                <a:off x="1149120" y="363636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10662000">
                <a:off x="1186560" y="365436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10662000">
                <a:off x="1220400" y="367092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0662000">
                <a:off x="1256760" y="36892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0662000">
                <a:off x="1292400" y="370872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0662000">
                <a:off x="1324800" y="372672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1" name=""/>
          <p:cNvSpPr/>
          <p:nvPr/>
        </p:nvSpPr>
        <p:spPr>
          <a:xfrm>
            <a:off x="2257920" y="400536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-Link: 1b:22:89 [défault]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2193840" y="3141720"/>
            <a:ext cx="792000" cy="791280"/>
            <a:chOff x="2193840" y="3141720"/>
            <a:chExt cx="792000" cy="791280"/>
          </a:xfrm>
        </p:grpSpPr>
        <p:grpSp>
          <p:nvGrpSpPr>
            <p:cNvPr id="1513" name=""/>
            <p:cNvGrpSpPr/>
            <p:nvPr/>
          </p:nvGrpSpPr>
          <p:grpSpPr>
            <a:xfrm>
              <a:off x="2193840" y="3340440"/>
              <a:ext cx="612720" cy="592560"/>
              <a:chOff x="2193840" y="3340440"/>
              <a:chExt cx="612720" cy="592560"/>
            </a:xfrm>
          </p:grpSpPr>
          <p:pic>
            <p:nvPicPr>
              <p:cNvPr id="15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93840" y="3639960"/>
                <a:ext cx="61272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>
                <a:off x="2618640" y="334044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2670840" y="3141720"/>
              <a:ext cx="315000" cy="385560"/>
              <a:chOff x="2670840" y="3141720"/>
              <a:chExt cx="315000" cy="385560"/>
            </a:xfrm>
          </p:grpSpPr>
          <p:sp>
            <p:nvSpPr>
              <p:cNvPr id="1517" name=""/>
              <p:cNvSpPr/>
              <p:nvPr/>
            </p:nvSpPr>
            <p:spPr>
              <a:xfrm>
                <a:off x="2939760" y="31417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05200" y="3163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68840" y="31831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5360" y="3203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02240" y="32234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769480" y="32382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736720" y="32605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702880" y="32796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670840" y="32958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2242440" y="3146040"/>
              <a:ext cx="324000" cy="387000"/>
              <a:chOff x="2242440" y="3146040"/>
              <a:chExt cx="324000" cy="387000"/>
            </a:xfrm>
          </p:grpSpPr>
          <p:sp>
            <p:nvSpPr>
              <p:cNvPr id="1527" name=""/>
              <p:cNvSpPr/>
              <p:nvPr/>
            </p:nvSpPr>
            <p:spPr>
              <a:xfrm rot="10662000">
                <a:off x="2250000" y="31464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0662000">
                <a:off x="2291400" y="31651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0662000">
                <a:off x="2333880" y="31860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0662000">
                <a:off x="2371320" y="32047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0662000">
                <a:off x="2408760" y="3222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0662000">
                <a:off x="2442600" y="32392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0662000">
                <a:off x="2478960" y="32576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0662000">
                <a:off x="2514600" y="32770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0662000">
                <a:off x="2547000" y="3295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6" name=""/>
          <p:cNvSpPr/>
          <p:nvPr/>
        </p:nvSpPr>
        <p:spPr>
          <a:xfrm>
            <a:off x="3371760" y="3500280"/>
            <a:ext cx="42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eltaNet 17:9c:51 [Netgear]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2122560" y="4365720"/>
            <a:ext cx="792000" cy="791280"/>
            <a:chOff x="2122560" y="4365720"/>
            <a:chExt cx="792000" cy="791280"/>
          </a:xfrm>
        </p:grpSpPr>
        <p:grpSp>
          <p:nvGrpSpPr>
            <p:cNvPr id="1538" name=""/>
            <p:cNvGrpSpPr/>
            <p:nvPr/>
          </p:nvGrpSpPr>
          <p:grpSpPr>
            <a:xfrm>
              <a:off x="2122560" y="4564440"/>
              <a:ext cx="612360" cy="592560"/>
              <a:chOff x="2122560" y="4564440"/>
              <a:chExt cx="612360" cy="592560"/>
            </a:xfrm>
          </p:grpSpPr>
          <p:pic>
            <p:nvPicPr>
              <p:cNvPr id="15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22560" y="486396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0" name=""/>
              <p:cNvSpPr/>
              <p:nvPr/>
            </p:nvSpPr>
            <p:spPr>
              <a:xfrm>
                <a:off x="2547000" y="456444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2599560" y="4365720"/>
              <a:ext cx="315000" cy="385560"/>
              <a:chOff x="2599560" y="4365720"/>
              <a:chExt cx="315000" cy="385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2868480" y="43657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33920" y="4387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797560" y="44071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764080" y="4427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730960" y="44474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698200" y="44622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665440" y="44845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631600" y="45036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599560" y="45198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171160" y="4370040"/>
              <a:ext cx="324000" cy="387000"/>
              <a:chOff x="2171160" y="4370040"/>
              <a:chExt cx="324000" cy="387000"/>
            </a:xfrm>
          </p:grpSpPr>
          <p:sp>
            <p:nvSpPr>
              <p:cNvPr id="1552" name=""/>
              <p:cNvSpPr/>
              <p:nvPr/>
            </p:nvSpPr>
            <p:spPr>
              <a:xfrm rot="10662000">
                <a:off x="2178720" y="43704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0662000">
                <a:off x="2220120" y="43891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0662000">
                <a:off x="2262600" y="44100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0662000">
                <a:off x="2300040" y="44287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0662000">
                <a:off x="2337480" y="4446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0662000">
                <a:off x="2371320" y="44632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0662000">
                <a:off x="2407680" y="44816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0662000">
                <a:off x="2443320" y="45010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0662000">
                <a:off x="2475720" y="4519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1" name=""/>
          <p:cNvSpPr/>
          <p:nvPr/>
        </p:nvSpPr>
        <p:spPr>
          <a:xfrm>
            <a:off x="3404160" y="4797360"/>
            <a:ext cx="38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-Link: 1b:22:89  (dlinkG]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044720" y="4941720"/>
            <a:ext cx="792000" cy="792000"/>
            <a:chOff x="1044720" y="4941720"/>
            <a:chExt cx="792000" cy="792000"/>
          </a:xfrm>
        </p:grpSpPr>
        <p:grpSp>
          <p:nvGrpSpPr>
            <p:cNvPr id="1563" name=""/>
            <p:cNvGrpSpPr/>
            <p:nvPr/>
          </p:nvGrpSpPr>
          <p:grpSpPr>
            <a:xfrm>
              <a:off x="1044720" y="5140440"/>
              <a:ext cx="612360" cy="593280"/>
              <a:chOff x="1044720" y="5140440"/>
              <a:chExt cx="612360" cy="593280"/>
            </a:xfrm>
          </p:grpSpPr>
          <p:pic>
            <p:nvPicPr>
              <p:cNvPr id="15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44720" y="5440320"/>
                <a:ext cx="612360" cy="2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5" name=""/>
              <p:cNvSpPr/>
              <p:nvPr/>
            </p:nvSpPr>
            <p:spPr>
              <a:xfrm>
                <a:off x="1469160" y="5140440"/>
                <a:ext cx="0" cy="14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1521720" y="4941720"/>
              <a:ext cx="315000" cy="385560"/>
              <a:chOff x="1521720" y="4941720"/>
              <a:chExt cx="315000" cy="385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1790640" y="494172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756080" y="49636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719720" y="498312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686240" y="50032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653120" y="502344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620360" y="503820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87600" y="506052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53760" y="507960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521720" y="509580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1093320" y="4946040"/>
              <a:ext cx="324000" cy="387000"/>
              <a:chOff x="1093320" y="4946040"/>
              <a:chExt cx="324000" cy="387000"/>
            </a:xfrm>
          </p:grpSpPr>
          <p:sp>
            <p:nvSpPr>
              <p:cNvPr id="1577" name=""/>
              <p:cNvSpPr/>
              <p:nvPr/>
            </p:nvSpPr>
            <p:spPr>
              <a:xfrm rot="10662000">
                <a:off x="1100880" y="494640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0662000">
                <a:off x="1142280" y="496512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0662000">
                <a:off x="1184760" y="498600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0662000">
                <a:off x="1222200" y="500472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0662000">
                <a:off x="1259640" y="502272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0662000">
                <a:off x="1293480" y="503928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0662000">
                <a:off x="1329840" y="505764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0662000">
                <a:off x="1365480" y="507708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0662000">
                <a:off x="1397880" y="509508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6" name=""/>
          <p:cNvSpPr/>
          <p:nvPr/>
        </p:nvSpPr>
        <p:spPr>
          <a:xfrm>
            <a:off x="2320560" y="5373720"/>
            <a:ext cx="39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-Link: 99:5d:fe [défault]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2195640" y="5734080"/>
            <a:ext cx="792000" cy="791280"/>
            <a:chOff x="2195640" y="5734080"/>
            <a:chExt cx="792000" cy="791280"/>
          </a:xfrm>
        </p:grpSpPr>
        <p:grpSp>
          <p:nvGrpSpPr>
            <p:cNvPr id="1588" name=""/>
            <p:cNvGrpSpPr/>
            <p:nvPr/>
          </p:nvGrpSpPr>
          <p:grpSpPr>
            <a:xfrm>
              <a:off x="2195640" y="5932800"/>
              <a:ext cx="612360" cy="592560"/>
              <a:chOff x="2195640" y="5932800"/>
              <a:chExt cx="612360" cy="592560"/>
            </a:xfrm>
          </p:grpSpPr>
          <p:pic>
            <p:nvPicPr>
              <p:cNvPr id="15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95640" y="6232320"/>
                <a:ext cx="612360" cy="2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0" name=""/>
              <p:cNvSpPr/>
              <p:nvPr/>
            </p:nvSpPr>
            <p:spPr>
              <a:xfrm>
                <a:off x="2620080" y="5932800"/>
                <a:ext cx="0" cy="14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2672640" y="5734080"/>
              <a:ext cx="315000" cy="385560"/>
              <a:chOff x="2672640" y="5734080"/>
              <a:chExt cx="315000" cy="385560"/>
            </a:xfrm>
          </p:grpSpPr>
          <p:sp>
            <p:nvSpPr>
              <p:cNvPr id="1592" name=""/>
              <p:cNvSpPr/>
              <p:nvPr/>
            </p:nvSpPr>
            <p:spPr>
              <a:xfrm>
                <a:off x="2941560" y="573408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907000" y="575604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870640" y="577548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837160" y="579564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804040" y="581580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771280" y="583056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738520" y="585288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04680" y="587196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672640" y="588816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244240" y="5738400"/>
              <a:ext cx="324000" cy="387000"/>
              <a:chOff x="2244240" y="5738400"/>
              <a:chExt cx="324000" cy="387000"/>
            </a:xfrm>
          </p:grpSpPr>
          <p:sp>
            <p:nvSpPr>
              <p:cNvPr id="1602" name=""/>
              <p:cNvSpPr/>
              <p:nvPr/>
            </p:nvSpPr>
            <p:spPr>
              <a:xfrm rot="10662000">
                <a:off x="2251800" y="5738760"/>
                <a:ext cx="46080" cy="385560"/>
              </a:xfrm>
              <a:custGeom>
                <a:avLst/>
                <a:gdLst/>
                <a:ahLst/>
                <a:rect l="l" t="t" r="r" b="b"/>
                <a:pathLst>
                  <a:path w="355" h="2415">
                    <a:moveTo>
                      <a:pt x="177" y="0"/>
                    </a:moveTo>
                    <a:lnTo>
                      <a:pt x="193" y="56"/>
                    </a:lnTo>
                    <a:lnTo>
                      <a:pt x="221" y="147"/>
                    </a:lnTo>
                    <a:lnTo>
                      <a:pt x="245" y="228"/>
                    </a:lnTo>
                    <a:lnTo>
                      <a:pt x="265" y="312"/>
                    </a:lnTo>
                    <a:lnTo>
                      <a:pt x="285" y="396"/>
                    </a:lnTo>
                    <a:lnTo>
                      <a:pt x="301" y="491"/>
                    </a:lnTo>
                    <a:lnTo>
                      <a:pt x="318" y="589"/>
                    </a:lnTo>
                    <a:lnTo>
                      <a:pt x="331" y="701"/>
                    </a:lnTo>
                    <a:lnTo>
                      <a:pt x="342" y="794"/>
                    </a:lnTo>
                    <a:lnTo>
                      <a:pt x="347" y="902"/>
                    </a:lnTo>
                    <a:lnTo>
                      <a:pt x="352" y="994"/>
                    </a:lnTo>
                    <a:lnTo>
                      <a:pt x="355" y="1112"/>
                    </a:lnTo>
                    <a:lnTo>
                      <a:pt x="354" y="1230"/>
                    </a:lnTo>
                    <a:lnTo>
                      <a:pt x="350" y="1350"/>
                    </a:lnTo>
                    <a:lnTo>
                      <a:pt x="346" y="1445"/>
                    </a:lnTo>
                    <a:lnTo>
                      <a:pt x="339" y="1529"/>
                    </a:lnTo>
                    <a:lnTo>
                      <a:pt x="327" y="1634"/>
                    </a:lnTo>
                    <a:lnTo>
                      <a:pt x="315" y="1730"/>
                    </a:lnTo>
                    <a:lnTo>
                      <a:pt x="297" y="1837"/>
                    </a:lnTo>
                    <a:lnTo>
                      <a:pt x="277" y="1937"/>
                    </a:lnTo>
                    <a:lnTo>
                      <a:pt x="255" y="2034"/>
                    </a:lnTo>
                    <a:lnTo>
                      <a:pt x="233" y="2122"/>
                    </a:lnTo>
                    <a:lnTo>
                      <a:pt x="202" y="2216"/>
                    </a:lnTo>
                    <a:lnTo>
                      <a:pt x="170" y="2303"/>
                    </a:lnTo>
                    <a:lnTo>
                      <a:pt x="134" y="2392"/>
                    </a:lnTo>
                    <a:lnTo>
                      <a:pt x="125" y="2415"/>
                    </a:lnTo>
                    <a:lnTo>
                      <a:pt x="0" y="2359"/>
                    </a:lnTo>
                    <a:lnTo>
                      <a:pt x="36" y="2291"/>
                    </a:lnTo>
                    <a:lnTo>
                      <a:pt x="73" y="2206"/>
                    </a:lnTo>
                    <a:lnTo>
                      <a:pt x="102" y="2118"/>
                    </a:lnTo>
                    <a:lnTo>
                      <a:pt x="126" y="2023"/>
                    </a:lnTo>
                    <a:lnTo>
                      <a:pt x="154" y="1915"/>
                    </a:lnTo>
                    <a:lnTo>
                      <a:pt x="173" y="1814"/>
                    </a:lnTo>
                    <a:lnTo>
                      <a:pt x="189" y="1717"/>
                    </a:lnTo>
                    <a:lnTo>
                      <a:pt x="202" y="1602"/>
                    </a:lnTo>
                    <a:lnTo>
                      <a:pt x="213" y="1497"/>
                    </a:lnTo>
                    <a:lnTo>
                      <a:pt x="221" y="1394"/>
                    </a:lnTo>
                    <a:lnTo>
                      <a:pt x="225" y="1289"/>
                    </a:lnTo>
                    <a:lnTo>
                      <a:pt x="229" y="1206"/>
                    </a:lnTo>
                    <a:lnTo>
                      <a:pt x="227" y="1096"/>
                    </a:lnTo>
                    <a:lnTo>
                      <a:pt x="224" y="981"/>
                    </a:lnTo>
                    <a:lnTo>
                      <a:pt x="217" y="874"/>
                    </a:lnTo>
                    <a:lnTo>
                      <a:pt x="209" y="765"/>
                    </a:lnTo>
                    <a:lnTo>
                      <a:pt x="194" y="653"/>
                    </a:lnTo>
                    <a:lnTo>
                      <a:pt x="178" y="549"/>
                    </a:lnTo>
                    <a:lnTo>
                      <a:pt x="161" y="443"/>
                    </a:lnTo>
                    <a:lnTo>
                      <a:pt x="138" y="347"/>
                    </a:lnTo>
                    <a:lnTo>
                      <a:pt x="110" y="240"/>
                    </a:lnTo>
                    <a:lnTo>
                      <a:pt x="81" y="147"/>
                    </a:lnTo>
                    <a:lnTo>
                      <a:pt x="49" y="64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0662000">
                <a:off x="2293200" y="5757480"/>
                <a:ext cx="38880" cy="343440"/>
              </a:xfrm>
              <a:custGeom>
                <a:avLst/>
                <a:gdLst/>
                <a:ahLst/>
                <a:rect l="l" t="t" r="r" b="b"/>
                <a:pathLst>
                  <a:path w="299" h="2151">
                    <a:moveTo>
                      <a:pt x="161" y="0"/>
                    </a:moveTo>
                    <a:lnTo>
                      <a:pt x="189" y="91"/>
                    </a:lnTo>
                    <a:lnTo>
                      <a:pt x="209" y="175"/>
                    </a:lnTo>
                    <a:lnTo>
                      <a:pt x="229" y="259"/>
                    </a:lnTo>
                    <a:lnTo>
                      <a:pt x="245" y="354"/>
                    </a:lnTo>
                    <a:lnTo>
                      <a:pt x="261" y="452"/>
                    </a:lnTo>
                    <a:lnTo>
                      <a:pt x="275" y="564"/>
                    </a:lnTo>
                    <a:lnTo>
                      <a:pt x="285" y="657"/>
                    </a:lnTo>
                    <a:lnTo>
                      <a:pt x="291" y="765"/>
                    </a:lnTo>
                    <a:lnTo>
                      <a:pt x="296" y="857"/>
                    </a:lnTo>
                    <a:lnTo>
                      <a:pt x="299" y="975"/>
                    </a:lnTo>
                    <a:lnTo>
                      <a:pt x="297" y="1093"/>
                    </a:lnTo>
                    <a:lnTo>
                      <a:pt x="293" y="1213"/>
                    </a:lnTo>
                    <a:lnTo>
                      <a:pt x="289" y="1308"/>
                    </a:lnTo>
                    <a:lnTo>
                      <a:pt x="283" y="1392"/>
                    </a:lnTo>
                    <a:lnTo>
                      <a:pt x="271" y="1497"/>
                    </a:lnTo>
                    <a:lnTo>
                      <a:pt x="259" y="1593"/>
                    </a:lnTo>
                    <a:lnTo>
                      <a:pt x="241" y="1700"/>
                    </a:lnTo>
                    <a:lnTo>
                      <a:pt x="221" y="1800"/>
                    </a:lnTo>
                    <a:lnTo>
                      <a:pt x="198" y="1897"/>
                    </a:lnTo>
                    <a:lnTo>
                      <a:pt x="177" y="1985"/>
                    </a:lnTo>
                    <a:lnTo>
                      <a:pt x="146" y="2079"/>
                    </a:lnTo>
                    <a:lnTo>
                      <a:pt x="121" y="2151"/>
                    </a:lnTo>
                    <a:lnTo>
                      <a:pt x="0" y="2089"/>
                    </a:lnTo>
                    <a:lnTo>
                      <a:pt x="16" y="2069"/>
                    </a:lnTo>
                    <a:lnTo>
                      <a:pt x="46" y="1981"/>
                    </a:lnTo>
                    <a:lnTo>
                      <a:pt x="70" y="1886"/>
                    </a:lnTo>
                    <a:lnTo>
                      <a:pt x="98" y="1778"/>
                    </a:lnTo>
                    <a:lnTo>
                      <a:pt x="117" y="1677"/>
                    </a:lnTo>
                    <a:lnTo>
                      <a:pt x="133" y="1580"/>
                    </a:lnTo>
                    <a:lnTo>
                      <a:pt x="146" y="1465"/>
                    </a:lnTo>
                    <a:lnTo>
                      <a:pt x="157" y="1360"/>
                    </a:lnTo>
                    <a:lnTo>
                      <a:pt x="165" y="1257"/>
                    </a:lnTo>
                    <a:lnTo>
                      <a:pt x="169" y="1152"/>
                    </a:lnTo>
                    <a:lnTo>
                      <a:pt x="173" y="1069"/>
                    </a:lnTo>
                    <a:lnTo>
                      <a:pt x="170" y="959"/>
                    </a:lnTo>
                    <a:lnTo>
                      <a:pt x="168" y="844"/>
                    </a:lnTo>
                    <a:lnTo>
                      <a:pt x="161" y="737"/>
                    </a:lnTo>
                    <a:lnTo>
                      <a:pt x="153" y="628"/>
                    </a:lnTo>
                    <a:lnTo>
                      <a:pt x="138" y="516"/>
                    </a:lnTo>
                    <a:lnTo>
                      <a:pt x="122" y="412"/>
                    </a:lnTo>
                    <a:lnTo>
                      <a:pt x="105" y="306"/>
                    </a:lnTo>
                    <a:lnTo>
                      <a:pt x="82" y="210"/>
                    </a:lnTo>
                    <a:lnTo>
                      <a:pt x="54" y="103"/>
                    </a:lnTo>
                    <a:lnTo>
                      <a:pt x="32" y="52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0662000">
                <a:off x="2335680" y="5778360"/>
                <a:ext cx="33120" cy="301680"/>
              </a:xfrm>
              <a:custGeom>
                <a:avLst/>
                <a:gdLst/>
                <a:ahLst/>
                <a:rect l="l" t="t" r="r" b="b"/>
                <a:pathLst>
                  <a:path w="255" h="1889">
                    <a:moveTo>
                      <a:pt x="165" y="51"/>
                    </a:moveTo>
                    <a:lnTo>
                      <a:pt x="185" y="135"/>
                    </a:lnTo>
                    <a:lnTo>
                      <a:pt x="201" y="230"/>
                    </a:lnTo>
                    <a:lnTo>
                      <a:pt x="217" y="328"/>
                    </a:lnTo>
                    <a:lnTo>
                      <a:pt x="231" y="440"/>
                    </a:lnTo>
                    <a:lnTo>
                      <a:pt x="241" y="533"/>
                    </a:lnTo>
                    <a:lnTo>
                      <a:pt x="247" y="641"/>
                    </a:lnTo>
                    <a:lnTo>
                      <a:pt x="252" y="733"/>
                    </a:lnTo>
                    <a:lnTo>
                      <a:pt x="255" y="851"/>
                    </a:lnTo>
                    <a:lnTo>
                      <a:pt x="253" y="983"/>
                    </a:lnTo>
                    <a:lnTo>
                      <a:pt x="249" y="1089"/>
                    </a:lnTo>
                    <a:lnTo>
                      <a:pt x="245" y="1184"/>
                    </a:lnTo>
                    <a:lnTo>
                      <a:pt x="239" y="1268"/>
                    </a:lnTo>
                    <a:lnTo>
                      <a:pt x="227" y="1373"/>
                    </a:lnTo>
                    <a:lnTo>
                      <a:pt x="214" y="1469"/>
                    </a:lnTo>
                    <a:lnTo>
                      <a:pt x="197" y="1576"/>
                    </a:lnTo>
                    <a:lnTo>
                      <a:pt x="177" y="1676"/>
                    </a:lnTo>
                    <a:lnTo>
                      <a:pt x="154" y="1773"/>
                    </a:lnTo>
                    <a:lnTo>
                      <a:pt x="133" y="1861"/>
                    </a:lnTo>
                    <a:lnTo>
                      <a:pt x="121" y="1889"/>
                    </a:lnTo>
                    <a:lnTo>
                      <a:pt x="0" y="1833"/>
                    </a:lnTo>
                    <a:lnTo>
                      <a:pt x="26" y="1762"/>
                    </a:lnTo>
                    <a:lnTo>
                      <a:pt x="54" y="1654"/>
                    </a:lnTo>
                    <a:lnTo>
                      <a:pt x="73" y="1553"/>
                    </a:lnTo>
                    <a:lnTo>
                      <a:pt x="89" y="1456"/>
                    </a:lnTo>
                    <a:lnTo>
                      <a:pt x="102" y="1341"/>
                    </a:lnTo>
                    <a:lnTo>
                      <a:pt x="113" y="1236"/>
                    </a:lnTo>
                    <a:lnTo>
                      <a:pt x="121" y="1133"/>
                    </a:lnTo>
                    <a:lnTo>
                      <a:pt x="125" y="1028"/>
                    </a:lnTo>
                    <a:lnTo>
                      <a:pt x="129" y="945"/>
                    </a:lnTo>
                    <a:lnTo>
                      <a:pt x="126" y="835"/>
                    </a:lnTo>
                    <a:lnTo>
                      <a:pt x="123" y="720"/>
                    </a:lnTo>
                    <a:lnTo>
                      <a:pt x="117" y="613"/>
                    </a:lnTo>
                    <a:lnTo>
                      <a:pt x="109" y="504"/>
                    </a:lnTo>
                    <a:lnTo>
                      <a:pt x="94" y="392"/>
                    </a:lnTo>
                    <a:lnTo>
                      <a:pt x="78" y="288"/>
                    </a:lnTo>
                    <a:lnTo>
                      <a:pt x="61" y="182"/>
                    </a:lnTo>
                    <a:lnTo>
                      <a:pt x="38" y="86"/>
                    </a:lnTo>
                    <a:lnTo>
                      <a:pt x="30" y="60"/>
                    </a:lnTo>
                    <a:lnTo>
                      <a:pt x="153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0662000">
                <a:off x="2373120" y="5797080"/>
                <a:ext cx="29160" cy="261360"/>
              </a:xfrm>
              <a:custGeom>
                <a:avLst/>
                <a:gdLst/>
                <a:ahLst/>
                <a:rect l="l" t="t" r="r" b="b"/>
                <a:pathLst>
                  <a:path w="223" h="1638">
                    <a:moveTo>
                      <a:pt x="153" y="0"/>
                    </a:moveTo>
                    <a:lnTo>
                      <a:pt x="169" y="95"/>
                    </a:lnTo>
                    <a:lnTo>
                      <a:pt x="185" y="193"/>
                    </a:lnTo>
                    <a:lnTo>
                      <a:pt x="198" y="305"/>
                    </a:lnTo>
                    <a:lnTo>
                      <a:pt x="209" y="398"/>
                    </a:lnTo>
                    <a:lnTo>
                      <a:pt x="215" y="506"/>
                    </a:lnTo>
                    <a:lnTo>
                      <a:pt x="220" y="598"/>
                    </a:lnTo>
                    <a:lnTo>
                      <a:pt x="223" y="716"/>
                    </a:lnTo>
                    <a:lnTo>
                      <a:pt x="221" y="834"/>
                    </a:lnTo>
                    <a:lnTo>
                      <a:pt x="217" y="954"/>
                    </a:lnTo>
                    <a:lnTo>
                      <a:pt x="213" y="1049"/>
                    </a:lnTo>
                    <a:lnTo>
                      <a:pt x="206" y="1133"/>
                    </a:lnTo>
                    <a:lnTo>
                      <a:pt x="194" y="1238"/>
                    </a:lnTo>
                    <a:lnTo>
                      <a:pt x="182" y="1334"/>
                    </a:lnTo>
                    <a:lnTo>
                      <a:pt x="165" y="1441"/>
                    </a:lnTo>
                    <a:lnTo>
                      <a:pt x="145" y="1541"/>
                    </a:lnTo>
                    <a:lnTo>
                      <a:pt x="122" y="1638"/>
                    </a:lnTo>
                    <a:lnTo>
                      <a:pt x="0" y="1582"/>
                    </a:lnTo>
                    <a:lnTo>
                      <a:pt x="22" y="1519"/>
                    </a:lnTo>
                    <a:lnTo>
                      <a:pt x="41" y="1418"/>
                    </a:lnTo>
                    <a:lnTo>
                      <a:pt x="57" y="1321"/>
                    </a:lnTo>
                    <a:lnTo>
                      <a:pt x="70" y="1206"/>
                    </a:lnTo>
                    <a:lnTo>
                      <a:pt x="81" y="1101"/>
                    </a:lnTo>
                    <a:lnTo>
                      <a:pt x="89" y="998"/>
                    </a:lnTo>
                    <a:lnTo>
                      <a:pt x="93" y="893"/>
                    </a:lnTo>
                    <a:lnTo>
                      <a:pt x="97" y="810"/>
                    </a:lnTo>
                    <a:lnTo>
                      <a:pt x="94" y="700"/>
                    </a:lnTo>
                    <a:lnTo>
                      <a:pt x="91" y="585"/>
                    </a:lnTo>
                    <a:lnTo>
                      <a:pt x="85" y="478"/>
                    </a:lnTo>
                    <a:lnTo>
                      <a:pt x="77" y="369"/>
                    </a:lnTo>
                    <a:lnTo>
                      <a:pt x="62" y="257"/>
                    </a:lnTo>
                    <a:lnTo>
                      <a:pt x="46" y="153"/>
                    </a:lnTo>
                    <a:lnTo>
                      <a:pt x="26" y="58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0662000">
                <a:off x="2410560" y="5815080"/>
                <a:ext cx="24480" cy="221760"/>
              </a:xfrm>
              <a:custGeom>
                <a:avLst/>
                <a:gdLst/>
                <a:ahLst/>
                <a:rect l="l" t="t" r="r" b="b"/>
                <a:pathLst>
                  <a:path w="190" h="1387">
                    <a:moveTo>
                      <a:pt x="134" y="0"/>
                    </a:moveTo>
                    <a:lnTo>
                      <a:pt x="153" y="75"/>
                    </a:lnTo>
                    <a:lnTo>
                      <a:pt x="166" y="187"/>
                    </a:lnTo>
                    <a:lnTo>
                      <a:pt x="177" y="280"/>
                    </a:lnTo>
                    <a:lnTo>
                      <a:pt x="182" y="388"/>
                    </a:lnTo>
                    <a:lnTo>
                      <a:pt x="188" y="480"/>
                    </a:lnTo>
                    <a:lnTo>
                      <a:pt x="190" y="598"/>
                    </a:lnTo>
                    <a:lnTo>
                      <a:pt x="189" y="716"/>
                    </a:lnTo>
                    <a:lnTo>
                      <a:pt x="185" y="836"/>
                    </a:lnTo>
                    <a:lnTo>
                      <a:pt x="181" y="931"/>
                    </a:lnTo>
                    <a:lnTo>
                      <a:pt x="174" y="1015"/>
                    </a:lnTo>
                    <a:lnTo>
                      <a:pt x="162" y="1120"/>
                    </a:lnTo>
                    <a:lnTo>
                      <a:pt x="150" y="1216"/>
                    </a:lnTo>
                    <a:lnTo>
                      <a:pt x="133" y="1323"/>
                    </a:lnTo>
                    <a:lnTo>
                      <a:pt x="125" y="1387"/>
                    </a:lnTo>
                    <a:lnTo>
                      <a:pt x="0" y="1331"/>
                    </a:lnTo>
                    <a:lnTo>
                      <a:pt x="8" y="1300"/>
                    </a:lnTo>
                    <a:lnTo>
                      <a:pt x="25" y="1203"/>
                    </a:lnTo>
                    <a:lnTo>
                      <a:pt x="38" y="1088"/>
                    </a:lnTo>
                    <a:lnTo>
                      <a:pt x="49" y="983"/>
                    </a:lnTo>
                    <a:lnTo>
                      <a:pt x="57" y="880"/>
                    </a:lnTo>
                    <a:lnTo>
                      <a:pt x="61" y="775"/>
                    </a:lnTo>
                    <a:lnTo>
                      <a:pt x="65" y="692"/>
                    </a:lnTo>
                    <a:lnTo>
                      <a:pt x="62" y="582"/>
                    </a:lnTo>
                    <a:lnTo>
                      <a:pt x="59" y="467"/>
                    </a:lnTo>
                    <a:lnTo>
                      <a:pt x="53" y="360"/>
                    </a:lnTo>
                    <a:lnTo>
                      <a:pt x="45" y="251"/>
                    </a:lnTo>
                    <a:lnTo>
                      <a:pt x="30" y="139"/>
                    </a:lnTo>
                    <a:lnTo>
                      <a:pt x="6" y="5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0662000">
                <a:off x="2444400" y="5831640"/>
                <a:ext cx="23760" cy="189000"/>
              </a:xfrm>
              <a:custGeom>
                <a:avLst/>
                <a:gdLst/>
                <a:ahLst/>
                <a:rect l="l" t="t" r="r" b="b"/>
                <a:pathLst>
                  <a:path w="182" h="1184">
                    <a:moveTo>
                      <a:pt x="149" y="0"/>
                    </a:moveTo>
                    <a:lnTo>
                      <a:pt x="161" y="68"/>
                    </a:lnTo>
                    <a:lnTo>
                      <a:pt x="168" y="147"/>
                    </a:lnTo>
                    <a:lnTo>
                      <a:pt x="178" y="261"/>
                    </a:lnTo>
                    <a:lnTo>
                      <a:pt x="179" y="348"/>
                    </a:lnTo>
                    <a:lnTo>
                      <a:pt x="182" y="466"/>
                    </a:lnTo>
                    <a:lnTo>
                      <a:pt x="180" y="584"/>
                    </a:lnTo>
                    <a:lnTo>
                      <a:pt x="176" y="704"/>
                    </a:lnTo>
                    <a:lnTo>
                      <a:pt x="172" y="799"/>
                    </a:lnTo>
                    <a:lnTo>
                      <a:pt x="165" y="883"/>
                    </a:lnTo>
                    <a:lnTo>
                      <a:pt x="153" y="988"/>
                    </a:lnTo>
                    <a:lnTo>
                      <a:pt x="141" y="1084"/>
                    </a:lnTo>
                    <a:lnTo>
                      <a:pt x="124" y="1184"/>
                    </a:lnTo>
                    <a:lnTo>
                      <a:pt x="0" y="1123"/>
                    </a:lnTo>
                    <a:lnTo>
                      <a:pt x="16" y="1071"/>
                    </a:lnTo>
                    <a:lnTo>
                      <a:pt x="29" y="955"/>
                    </a:lnTo>
                    <a:lnTo>
                      <a:pt x="40" y="851"/>
                    </a:lnTo>
                    <a:lnTo>
                      <a:pt x="48" y="748"/>
                    </a:lnTo>
                    <a:lnTo>
                      <a:pt x="52" y="642"/>
                    </a:lnTo>
                    <a:lnTo>
                      <a:pt x="56" y="559"/>
                    </a:lnTo>
                    <a:lnTo>
                      <a:pt x="53" y="450"/>
                    </a:lnTo>
                    <a:lnTo>
                      <a:pt x="53" y="333"/>
                    </a:lnTo>
                    <a:lnTo>
                      <a:pt x="49" y="225"/>
                    </a:lnTo>
                    <a:lnTo>
                      <a:pt x="36" y="119"/>
                    </a:lnTo>
                    <a:lnTo>
                      <a:pt x="21" y="6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0662000">
                <a:off x="2480760" y="5850000"/>
                <a:ext cx="19800" cy="147240"/>
              </a:xfrm>
              <a:custGeom>
                <a:avLst/>
                <a:gdLst/>
                <a:ahLst/>
                <a:rect l="l" t="t" r="r" b="b"/>
                <a:pathLst>
                  <a:path w="153" h="925">
                    <a:moveTo>
                      <a:pt x="129" y="0"/>
                    </a:moveTo>
                    <a:lnTo>
                      <a:pt x="141" y="80"/>
                    </a:lnTo>
                    <a:lnTo>
                      <a:pt x="145" y="167"/>
                    </a:lnTo>
                    <a:lnTo>
                      <a:pt x="151" y="259"/>
                    </a:lnTo>
                    <a:lnTo>
                      <a:pt x="153" y="377"/>
                    </a:lnTo>
                    <a:lnTo>
                      <a:pt x="152" y="495"/>
                    </a:lnTo>
                    <a:lnTo>
                      <a:pt x="148" y="615"/>
                    </a:lnTo>
                    <a:lnTo>
                      <a:pt x="144" y="710"/>
                    </a:lnTo>
                    <a:lnTo>
                      <a:pt x="137" y="794"/>
                    </a:lnTo>
                    <a:lnTo>
                      <a:pt x="136" y="879"/>
                    </a:lnTo>
                    <a:lnTo>
                      <a:pt x="132" y="925"/>
                    </a:lnTo>
                    <a:lnTo>
                      <a:pt x="0" y="857"/>
                    </a:lnTo>
                    <a:lnTo>
                      <a:pt x="12" y="762"/>
                    </a:lnTo>
                    <a:lnTo>
                      <a:pt x="20" y="659"/>
                    </a:lnTo>
                    <a:lnTo>
                      <a:pt x="24" y="554"/>
                    </a:lnTo>
                    <a:lnTo>
                      <a:pt x="28" y="471"/>
                    </a:lnTo>
                    <a:lnTo>
                      <a:pt x="29" y="349"/>
                    </a:lnTo>
                    <a:lnTo>
                      <a:pt x="25" y="245"/>
                    </a:lnTo>
                    <a:lnTo>
                      <a:pt x="16" y="139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0662000">
                <a:off x="2516400" y="5869440"/>
                <a:ext cx="18360" cy="107280"/>
              </a:xfrm>
              <a:custGeom>
                <a:avLst/>
                <a:gdLst/>
                <a:ahLst/>
                <a:rect l="l" t="t" r="r" b="b"/>
                <a:pathLst>
                  <a:path w="145" h="673">
                    <a:moveTo>
                      <a:pt x="129" y="0"/>
                    </a:moveTo>
                    <a:lnTo>
                      <a:pt x="143" y="123"/>
                    </a:lnTo>
                    <a:lnTo>
                      <a:pt x="145" y="241"/>
                    </a:lnTo>
                    <a:lnTo>
                      <a:pt x="144" y="359"/>
                    </a:lnTo>
                    <a:lnTo>
                      <a:pt x="140" y="479"/>
                    </a:lnTo>
                    <a:lnTo>
                      <a:pt x="136" y="574"/>
                    </a:lnTo>
                    <a:lnTo>
                      <a:pt x="120" y="673"/>
                    </a:lnTo>
                    <a:lnTo>
                      <a:pt x="0" y="617"/>
                    </a:lnTo>
                    <a:lnTo>
                      <a:pt x="12" y="523"/>
                    </a:lnTo>
                    <a:lnTo>
                      <a:pt x="16" y="418"/>
                    </a:lnTo>
                    <a:lnTo>
                      <a:pt x="20" y="335"/>
                    </a:lnTo>
                    <a:lnTo>
                      <a:pt x="17" y="213"/>
                    </a:lnTo>
                    <a:lnTo>
                      <a:pt x="14" y="110"/>
                    </a:lnTo>
                    <a:lnTo>
                      <a:pt x="5" y="5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0662000">
                <a:off x="2548800" y="5887440"/>
                <a:ext cx="18000" cy="71640"/>
              </a:xfrm>
              <a:custGeom>
                <a:avLst/>
                <a:gdLst/>
                <a:ahLst/>
                <a:rect l="l" t="t" r="r" b="b"/>
                <a:pathLst>
                  <a:path w="138" h="450">
                    <a:moveTo>
                      <a:pt x="135" y="66"/>
                    </a:moveTo>
                    <a:lnTo>
                      <a:pt x="138" y="181"/>
                    </a:lnTo>
                    <a:lnTo>
                      <a:pt x="136" y="295"/>
                    </a:lnTo>
                    <a:lnTo>
                      <a:pt x="130" y="394"/>
                    </a:lnTo>
                    <a:lnTo>
                      <a:pt x="121" y="450"/>
                    </a:lnTo>
                    <a:lnTo>
                      <a:pt x="0" y="398"/>
                    </a:lnTo>
                    <a:lnTo>
                      <a:pt x="8" y="277"/>
                    </a:lnTo>
                    <a:lnTo>
                      <a:pt x="9" y="166"/>
                    </a:lnTo>
                    <a:lnTo>
                      <a:pt x="9" y="61"/>
                    </a:lnTo>
                    <a:lnTo>
                      <a:pt x="130" y="0"/>
                    </a:lnTo>
                    <a:lnTo>
                      <a:pt x="135" y="66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1" name=""/>
          <p:cNvSpPr/>
          <p:nvPr/>
        </p:nvSpPr>
        <p:spPr>
          <a:xfrm>
            <a:off x="3450960" y="616572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-Link: 99:5d:fe (dlinkb]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6:16:37Z</dcterms:created>
  <dc:creator>mike</dc:creator>
  <dc:description/>
  <dc:language>en-US</dc:language>
  <cp:lastModifiedBy>mike</cp:lastModifiedBy>
  <dcterms:modified xsi:type="dcterms:W3CDTF">2005-01-27T18:09:38Z</dcterms:modified>
  <cp:revision>4</cp:revision>
  <dc:subject/>
  <dc:title>Diapositive 1</dc:title>
</cp:coreProperties>
</file>